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0F0-02AC-421A-93EF-FEDC5562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4F0-C90D-4796-AC5E-F638D15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31D-BC1F-40D5-908F-3FDC305A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245-34F2-44A6-99EA-37A7E490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ADC-7349-4F4D-95C2-68B43B97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877-B4D8-486B-8621-359F3AED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12A-4F00-482C-933E-29EC5CCB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8E2-7590-4757-BA20-5EBCD98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DBE-6DF6-4C18-8E64-13D2FBC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A49-C4FF-4F87-92D0-ABFC1ED1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BD8-D583-4BB7-8002-20B7BEF4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47D-1B7E-4559-B064-8B3BAB8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center Fabric Workshop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10C3F0-D512-4CE4-816F-CFB7C89BB97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17280" y="932040"/>
            <a:ext cx="37465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center Fabric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pandit@silverstorm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iable Datagram Sockets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RDS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54849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anjit Pandi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SilverStorm Technologi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pandit@silverstorm.co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ndmsg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cess =&gt; guarant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end pipe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error is catastroph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BUF returned if insufficient credits, application re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common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411-D815-4804-BB15-538B836BD3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 to UD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blocking/non-block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” receiver ports are stalled at send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activity (LRU) and memory utilization used to detect slow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alled destination port returns      EWOULDBLOCK, application can r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stalled port un-stall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5FE-B527-4009-9FA2-7724426EAB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 Availability (failov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C and on-demand connection setup allows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setup/teardown transparent to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dmsg() could result in a connect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ath fails, connection is torn down, next send can connect on an alternate path (different port or different H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AA2-A691-4C42-B6D2-567E67D3FD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proc interfa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proc/driver/rds/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and change RDS configurabl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proc/driver/rds/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 on sessions, stalled port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proc/driver/rds/st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7F4-9CF6-4B81-A679-F9E448A640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675-918A-42AC-8427-956B3D2344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ecv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8B8-74F8-4CEF-AFA5-53E4D15915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C60-3A7C-4E5E-814B-0F5E27CC3B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liable datagram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socket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code 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time-to-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5638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Keep It Simpl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138-A022-4788-B2C7-6D27985D06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015-9C8F-4A6A-A562-16181C631F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5181480"/>
            <a:ext cx="814212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Channel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280" y="4619520"/>
            <a:ext cx="473868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Band Acces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111560"/>
            <a:ext cx="213372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6440" y="3693960"/>
            <a:ext cx="198108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43320" y="1905120"/>
            <a:ext cx="90648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cle 1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400" y="1922400"/>
            <a:ext cx="133200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3200400"/>
            <a:ext cx="738000" cy="411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2880" y="3200400"/>
            <a:ext cx="738360" cy="411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8240" y="3200400"/>
            <a:ext cx="76824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3208320"/>
            <a:ext cx="76860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2600" y="3549600"/>
            <a:ext cx="320400" cy="930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514600"/>
            <a:ext cx="673200" cy="1670040"/>
          </a:xfrm>
          <a:custGeom>
            <a:avLst/>
            <a:gdLst/>
            <a:ahLst/>
            <a:rect l="l" t="t" r="r" b="b"/>
            <a:pathLst>
              <a:path w="510" h="1280">
                <a:moveTo>
                  <a:pt x="510" y="0"/>
                </a:moveTo>
                <a:cubicBezTo>
                  <a:pt x="317" y="187"/>
                  <a:pt x="124" y="375"/>
                  <a:pt x="62" y="521"/>
                </a:cubicBezTo>
                <a:cubicBezTo>
                  <a:pt x="0" y="667"/>
                  <a:pt x="85" y="751"/>
                  <a:pt x="135" y="877"/>
                </a:cubicBezTo>
                <a:cubicBezTo>
                  <a:pt x="185" y="1003"/>
                  <a:pt x="332" y="1215"/>
                  <a:pt x="364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433600"/>
            <a:ext cx="541080" cy="2075040"/>
          </a:xfrm>
          <a:custGeom>
            <a:avLst/>
            <a:gdLst/>
            <a:ahLst/>
            <a:rect l="l" t="t" r="r" b="b"/>
            <a:pathLst>
              <a:path w="264" h="1307">
                <a:moveTo>
                  <a:pt x="0" y="0"/>
                </a:moveTo>
                <a:cubicBezTo>
                  <a:pt x="106" y="133"/>
                  <a:pt x="212" y="266"/>
                  <a:pt x="238" y="484"/>
                </a:cubicBezTo>
                <a:cubicBezTo>
                  <a:pt x="264" y="702"/>
                  <a:pt x="210" y="1004"/>
                  <a:pt x="156" y="13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45280" y="2603520"/>
            <a:ext cx="166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573280"/>
            <a:ext cx="835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65400"/>
            <a:ext cx="13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874880"/>
            <a:ext cx="156060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D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600" y="2514600"/>
            <a:ext cx="525600" cy="1981080"/>
          </a:xfrm>
          <a:custGeom>
            <a:avLst/>
            <a:gdLst/>
            <a:ahLst/>
            <a:rect l="l" t="t" r="r" b="b"/>
            <a:pathLst>
              <a:path w="264" h="1307">
                <a:moveTo>
                  <a:pt x="0" y="0"/>
                </a:moveTo>
                <a:cubicBezTo>
                  <a:pt x="106" y="133"/>
                  <a:pt x="212" y="266"/>
                  <a:pt x="238" y="484"/>
                </a:cubicBezTo>
                <a:cubicBezTo>
                  <a:pt x="264" y="702"/>
                  <a:pt x="210" y="1004"/>
                  <a:pt x="156" y="13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35F-A2E0-437C-A7FD-5A60812BED1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registers with the kernel as driver for Address Family PF_INET_OFFLOAD and Type SOCK_D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reates a RDS socket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F = PF_INET_OFFLOAD (0x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ype = SOCK_D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I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, bind, ioctl, sendmsg, recvmsg, poll, getsockopt/setsock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B90-3B41-480C-802F-D5EC56EB35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A80-0C66-4313-8BA3-80508206D0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nection mod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PoIB for address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connec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-to-nod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emand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on fir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ms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on error or 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 transparent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10D-40A9-45A7-B678-041E8E0380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a and Control Chann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C 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Control QP pe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able M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copy send/re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/w 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6A2-B502-4739-B0A6-39FA014173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1:49:43Z</dcterms:created>
  <dc:creator>Ranjit Pandit</dc:creator>
  <dc:description/>
  <dc:language>en-US</dc:language>
  <cp:lastModifiedBy>Ranjit Pandit</cp:lastModifiedBy>
  <dcterms:modified xsi:type="dcterms:W3CDTF">2005-08-29T17:13:13Z</dcterms:modified>
  <cp:revision>28</cp:revision>
  <dc:subject/>
  <dc:title>Reliable Datagram Sockets (RD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7715340</vt:r8>
  </property>
  <property fmtid="{D5CDD505-2E9C-101B-9397-08002B2CF9AE}" pid="3" name="_AuthorEmail">
    <vt:lpwstr>rpandit@silverstorm.com</vt:lpwstr>
  </property>
  <property fmtid="{D5CDD505-2E9C-101B-9397-08002B2CF9AE}" pid="4" name="_AuthorEmailDisplayName">
    <vt:lpwstr>Pandit, Ranjit</vt:lpwstr>
  </property>
  <property fmtid="{D5CDD505-2E9C-101B-9397-08002B2CF9AE}" pid="5" name="_EmailSubject">
    <vt:lpwstr>RE: [openib-general] data center fabric conference presentations</vt:lpwstr>
  </property>
</Properties>
</file>