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41040" y="285840"/>
            <a:ext cx="548172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040" y="285840"/>
            <a:ext cx="548172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81280" y="6248520"/>
            <a:ext cx="154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AD4B22-A3DF-4FF9-A6F3-A7E1F771DDD7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28800" y="1332000"/>
            <a:ext cx="548496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916760" y="5764320"/>
            <a:ext cx="922320" cy="941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41120" y="5710320"/>
            <a:ext cx="196884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624852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2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624852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6DF4B6-D32C-4BE9-9A13-31BB1768900A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860640"/>
            <a:ext cx="548496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89640" y="152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44720" y="719280"/>
            <a:ext cx="518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center Fabric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01760"/>
            <a:ext cx="54817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2200" y="6095880"/>
            <a:ext cx="1430280" cy="66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772400" y="5791320"/>
            <a:ext cx="92232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3080" y="2592000"/>
            <a:ext cx="311148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P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55440" y="3102120"/>
            <a:ext cx="49942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Overview and 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1840" y="2340000"/>
            <a:ext cx="1463760" cy="145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87480" y="4281480"/>
            <a:ext cx="331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 Woodall - LA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en Shipman - LANL/U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ource Alloc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571840"/>
            <a:ext cx="184320" cy="36648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366480"/>
              <a:gd name="textAreaBottom" fmla="*/ 366120 h 366480"/>
            </a:gdLst>
            <a:ahLst/>
            <a:rect l="textAreaLeft" t="textAreaTop" r="textAreaRight" b="textAreaBottom"/>
            <a:pathLst>
              <a:path w="21600" h="42905">
                <a:moveTo>
                  <a:pt x="186" y="0"/>
                </a:moveTo>
                <a:arcTo wR="186" hR="186" stAng="16200000" swAng="-5400000"/>
                <a:lnTo>
                  <a:pt x="0" y="42719"/>
                </a:lnTo>
                <a:arcTo wR="186" hR="186" stAng="10800000" swAng="-5400000"/>
                <a:lnTo>
                  <a:pt x="21414" y="42905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1480" y="1503360"/>
            <a:ext cx="688320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RQ Scalability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480" y="1905120"/>
            <a:ext cx="8078760" cy="3022560"/>
            <a:chOff x="609480" y="1905120"/>
            <a:chExt cx="8078760" cy="3022560"/>
          </a:xfrm>
        </p:grpSpPr>
        <p:grpSp>
          <p:nvGrpSpPr>
            <p:cNvPr id="116" name=""/>
            <p:cNvGrpSpPr/>
            <p:nvPr/>
          </p:nvGrpSpPr>
          <p:grpSpPr>
            <a:xfrm>
              <a:off x="7475400" y="4424400"/>
              <a:ext cx="1211400" cy="501480"/>
              <a:chOff x="7475400" y="4424400"/>
              <a:chExt cx="1211400" cy="501480"/>
            </a:xfrm>
          </p:grpSpPr>
          <p:sp>
            <p:nvSpPr>
              <p:cNvPr id="117" name=""/>
              <p:cNvSpPr/>
              <p:nvPr/>
            </p:nvSpPr>
            <p:spPr>
              <a:xfrm>
                <a:off x="7475400" y="4424400"/>
                <a:ext cx="121140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75400" y="4424400"/>
                <a:ext cx="12114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829560" y="4424400"/>
              <a:ext cx="645840" cy="501480"/>
              <a:chOff x="6829560" y="4424400"/>
              <a:chExt cx="645840" cy="501480"/>
            </a:xfrm>
          </p:grpSpPr>
          <p:sp>
            <p:nvSpPr>
              <p:cNvPr id="120" name=""/>
              <p:cNvSpPr/>
              <p:nvPr/>
            </p:nvSpPr>
            <p:spPr>
              <a:xfrm>
                <a:off x="6829560" y="4424400"/>
                <a:ext cx="64584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29560" y="4424400"/>
                <a:ext cx="6458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890960" y="4424400"/>
              <a:ext cx="1938600" cy="501480"/>
              <a:chOff x="4890960" y="4424400"/>
              <a:chExt cx="1938600" cy="501480"/>
            </a:xfrm>
          </p:grpSpPr>
          <p:sp>
            <p:nvSpPr>
              <p:cNvPr id="123" name=""/>
              <p:cNvSpPr/>
              <p:nvPr/>
            </p:nvSpPr>
            <p:spPr>
              <a:xfrm>
                <a:off x="4890960" y="4424400"/>
                <a:ext cx="193860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90960" y="4424400"/>
                <a:ext cx="1938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5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436920" y="4424400"/>
              <a:ext cx="1454040" cy="501480"/>
              <a:chOff x="3436920" y="4424400"/>
              <a:chExt cx="1454040" cy="501480"/>
            </a:xfrm>
          </p:grpSpPr>
          <p:sp>
            <p:nvSpPr>
              <p:cNvPr id="126" name=""/>
              <p:cNvSpPr/>
              <p:nvPr/>
            </p:nvSpPr>
            <p:spPr>
              <a:xfrm>
                <a:off x="3436920" y="4424400"/>
                <a:ext cx="145404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36920" y="4424400"/>
                <a:ext cx="14540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908000" y="4424400"/>
              <a:ext cx="1528920" cy="501480"/>
              <a:chOff x="1908000" y="4424400"/>
              <a:chExt cx="1528920" cy="501480"/>
            </a:xfrm>
          </p:grpSpPr>
          <p:sp>
            <p:nvSpPr>
              <p:cNvPr id="129" name=""/>
              <p:cNvSpPr/>
              <p:nvPr/>
            </p:nvSpPr>
            <p:spPr>
              <a:xfrm>
                <a:off x="1908000" y="4424400"/>
                <a:ext cx="152892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08000" y="4424400"/>
                <a:ext cx="1528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9480" y="4424400"/>
              <a:ext cx="1300320" cy="501480"/>
              <a:chOff x="609480" y="4424400"/>
              <a:chExt cx="1300320" cy="50148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480" y="4424400"/>
                <a:ext cx="130032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9480" y="4424400"/>
                <a:ext cx="13003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02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475400" y="3924360"/>
              <a:ext cx="1211400" cy="501480"/>
              <a:chOff x="7475400" y="3924360"/>
              <a:chExt cx="1211400" cy="501480"/>
            </a:xfrm>
          </p:grpSpPr>
          <p:sp>
            <p:nvSpPr>
              <p:cNvPr id="135" name=""/>
              <p:cNvSpPr/>
              <p:nvPr/>
            </p:nvSpPr>
            <p:spPr>
              <a:xfrm>
                <a:off x="7475400" y="3924360"/>
                <a:ext cx="121140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75400" y="3924360"/>
                <a:ext cx="12114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829560" y="3924360"/>
              <a:ext cx="645840" cy="501480"/>
              <a:chOff x="6829560" y="3924360"/>
              <a:chExt cx="645840" cy="501480"/>
            </a:xfrm>
          </p:grpSpPr>
          <p:sp>
            <p:nvSpPr>
              <p:cNvPr id="138" name=""/>
              <p:cNvSpPr/>
              <p:nvPr/>
            </p:nvSpPr>
            <p:spPr>
              <a:xfrm>
                <a:off x="6829560" y="3924360"/>
                <a:ext cx="64584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29560" y="3924360"/>
                <a:ext cx="6458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890960" y="3924360"/>
              <a:ext cx="1938600" cy="501480"/>
              <a:chOff x="4890960" y="3924360"/>
              <a:chExt cx="1938600" cy="501480"/>
            </a:xfrm>
          </p:grpSpPr>
          <p:sp>
            <p:nvSpPr>
              <p:cNvPr id="141" name=""/>
              <p:cNvSpPr/>
              <p:nvPr/>
            </p:nvSpPr>
            <p:spPr>
              <a:xfrm>
                <a:off x="4890960" y="3924360"/>
                <a:ext cx="193860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90960" y="3924360"/>
                <a:ext cx="1938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25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436920" y="3924360"/>
              <a:ext cx="1454040" cy="501480"/>
              <a:chOff x="3436920" y="3924360"/>
              <a:chExt cx="1454040" cy="501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436920" y="3924360"/>
                <a:ext cx="145404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6920" y="3924360"/>
                <a:ext cx="14540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908000" y="3924360"/>
              <a:ext cx="1528920" cy="501480"/>
              <a:chOff x="1908000" y="3924360"/>
              <a:chExt cx="1528920" cy="501480"/>
            </a:xfrm>
          </p:grpSpPr>
          <p:sp>
            <p:nvSpPr>
              <p:cNvPr id="147" name=""/>
              <p:cNvSpPr/>
              <p:nvPr/>
            </p:nvSpPr>
            <p:spPr>
              <a:xfrm>
                <a:off x="1908000" y="3924360"/>
                <a:ext cx="152892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08000" y="3924360"/>
                <a:ext cx="1528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09480" y="3924360"/>
              <a:ext cx="1300320" cy="501480"/>
              <a:chOff x="609480" y="3924360"/>
              <a:chExt cx="1300320" cy="501480"/>
            </a:xfrm>
          </p:grpSpPr>
          <p:sp>
            <p:nvSpPr>
              <p:cNvPr id="150" name=""/>
              <p:cNvSpPr/>
              <p:nvPr/>
            </p:nvSpPr>
            <p:spPr>
              <a:xfrm>
                <a:off x="609480" y="3924360"/>
                <a:ext cx="130032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9480" y="3924360"/>
                <a:ext cx="13003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5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475400" y="3422520"/>
              <a:ext cx="1211400" cy="501840"/>
              <a:chOff x="7475400" y="3422520"/>
              <a:chExt cx="1211400" cy="501840"/>
            </a:xfrm>
          </p:grpSpPr>
          <p:sp>
            <p:nvSpPr>
              <p:cNvPr id="153" name=""/>
              <p:cNvSpPr/>
              <p:nvPr/>
            </p:nvSpPr>
            <p:spPr>
              <a:xfrm>
                <a:off x="7475400" y="3422520"/>
                <a:ext cx="1211400" cy="5018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75400" y="3422520"/>
                <a:ext cx="12114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829560" y="3422520"/>
              <a:ext cx="645840" cy="501840"/>
              <a:chOff x="6829560" y="3422520"/>
              <a:chExt cx="645840" cy="501840"/>
            </a:xfrm>
          </p:grpSpPr>
          <p:sp>
            <p:nvSpPr>
              <p:cNvPr id="156" name=""/>
              <p:cNvSpPr/>
              <p:nvPr/>
            </p:nvSpPr>
            <p:spPr>
              <a:xfrm>
                <a:off x="6829560" y="3422520"/>
                <a:ext cx="645840" cy="5018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29560" y="3422520"/>
                <a:ext cx="6458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890960" y="3422520"/>
              <a:ext cx="1938600" cy="501840"/>
              <a:chOff x="4890960" y="3422520"/>
              <a:chExt cx="1938600" cy="501840"/>
            </a:xfrm>
          </p:grpSpPr>
          <p:sp>
            <p:nvSpPr>
              <p:cNvPr id="159" name=""/>
              <p:cNvSpPr/>
              <p:nvPr/>
            </p:nvSpPr>
            <p:spPr>
              <a:xfrm>
                <a:off x="4890960" y="3422520"/>
                <a:ext cx="1938600" cy="5018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90960" y="3422520"/>
                <a:ext cx="1938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436920" y="3422520"/>
              <a:ext cx="1454040" cy="501840"/>
              <a:chOff x="3436920" y="3422520"/>
              <a:chExt cx="1454040" cy="501840"/>
            </a:xfrm>
          </p:grpSpPr>
          <p:sp>
            <p:nvSpPr>
              <p:cNvPr id="162" name=""/>
              <p:cNvSpPr/>
              <p:nvPr/>
            </p:nvSpPr>
            <p:spPr>
              <a:xfrm>
                <a:off x="3436920" y="3422520"/>
                <a:ext cx="1454040" cy="5018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36920" y="3422520"/>
                <a:ext cx="14540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8000" y="3422520"/>
              <a:ext cx="1528920" cy="501840"/>
              <a:chOff x="1908000" y="3422520"/>
              <a:chExt cx="1528920" cy="501840"/>
            </a:xfrm>
          </p:grpSpPr>
          <p:sp>
            <p:nvSpPr>
              <p:cNvPr id="165" name=""/>
              <p:cNvSpPr/>
              <p:nvPr/>
            </p:nvSpPr>
            <p:spPr>
              <a:xfrm>
                <a:off x="1908000" y="3422520"/>
                <a:ext cx="1528920" cy="5018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08000" y="3422520"/>
                <a:ext cx="1528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9480" y="3422520"/>
              <a:ext cx="1300320" cy="501840"/>
              <a:chOff x="609480" y="3422520"/>
              <a:chExt cx="1300320" cy="501840"/>
            </a:xfrm>
          </p:grpSpPr>
          <p:sp>
            <p:nvSpPr>
              <p:cNvPr id="168" name=""/>
              <p:cNvSpPr/>
              <p:nvPr/>
            </p:nvSpPr>
            <p:spPr>
              <a:xfrm>
                <a:off x="609480" y="3422520"/>
                <a:ext cx="1300320" cy="50184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9480" y="3422520"/>
                <a:ext cx="13003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25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475400" y="2921040"/>
              <a:ext cx="1211400" cy="501480"/>
              <a:chOff x="7475400" y="2921040"/>
              <a:chExt cx="1211400" cy="501480"/>
            </a:xfrm>
          </p:grpSpPr>
          <p:sp>
            <p:nvSpPr>
              <p:cNvPr id="171" name=""/>
              <p:cNvSpPr/>
              <p:nvPr/>
            </p:nvSpPr>
            <p:spPr>
              <a:xfrm>
                <a:off x="7475400" y="2921040"/>
                <a:ext cx="121140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75400" y="2921040"/>
                <a:ext cx="12114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29560" y="2921040"/>
              <a:ext cx="645840" cy="501480"/>
              <a:chOff x="6829560" y="2921040"/>
              <a:chExt cx="645840" cy="5014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29560" y="2921040"/>
                <a:ext cx="64584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29560" y="2921040"/>
                <a:ext cx="6458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90960" y="2921040"/>
              <a:ext cx="1938600" cy="501480"/>
              <a:chOff x="4890960" y="2921040"/>
              <a:chExt cx="1938600" cy="501480"/>
            </a:xfrm>
          </p:grpSpPr>
          <p:sp>
            <p:nvSpPr>
              <p:cNvPr id="177" name=""/>
              <p:cNvSpPr/>
              <p:nvPr/>
            </p:nvSpPr>
            <p:spPr>
              <a:xfrm>
                <a:off x="4890960" y="2921040"/>
                <a:ext cx="193860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90960" y="2921040"/>
                <a:ext cx="1938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436920" y="2921040"/>
              <a:ext cx="1454040" cy="501480"/>
              <a:chOff x="3436920" y="2921040"/>
              <a:chExt cx="1454040" cy="501480"/>
            </a:xfrm>
          </p:grpSpPr>
          <p:sp>
            <p:nvSpPr>
              <p:cNvPr id="180" name=""/>
              <p:cNvSpPr/>
              <p:nvPr/>
            </p:nvSpPr>
            <p:spPr>
              <a:xfrm>
                <a:off x="3436920" y="2921040"/>
                <a:ext cx="145404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36920" y="2921040"/>
                <a:ext cx="14540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908000" y="2921040"/>
              <a:ext cx="1528920" cy="501480"/>
              <a:chOff x="1908000" y="2921040"/>
              <a:chExt cx="1528920" cy="501480"/>
            </a:xfrm>
          </p:grpSpPr>
          <p:sp>
            <p:nvSpPr>
              <p:cNvPr id="183" name=""/>
              <p:cNvSpPr/>
              <p:nvPr/>
            </p:nvSpPr>
            <p:spPr>
              <a:xfrm>
                <a:off x="1908000" y="2921040"/>
                <a:ext cx="152892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08000" y="2921040"/>
                <a:ext cx="1528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09480" y="2921040"/>
              <a:ext cx="1300320" cy="501480"/>
              <a:chOff x="609480" y="2921040"/>
              <a:chExt cx="1300320" cy="501480"/>
            </a:xfrm>
          </p:grpSpPr>
          <p:sp>
            <p:nvSpPr>
              <p:cNvPr id="186" name=""/>
              <p:cNvSpPr/>
              <p:nvPr/>
            </p:nvSpPr>
            <p:spPr>
              <a:xfrm>
                <a:off x="609480" y="2921040"/>
                <a:ext cx="1300320" cy="5014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9480" y="2921040"/>
                <a:ext cx="13003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475400" y="1905120"/>
              <a:ext cx="1211400" cy="1015920"/>
              <a:chOff x="7475400" y="1905120"/>
              <a:chExt cx="1211400" cy="1015920"/>
            </a:xfrm>
          </p:grpSpPr>
          <p:sp>
            <p:nvSpPr>
              <p:cNvPr id="189" name=""/>
              <p:cNvSpPr/>
              <p:nvPr/>
            </p:nvSpPr>
            <p:spPr>
              <a:xfrm>
                <a:off x="7475400" y="1905120"/>
                <a:ext cx="1211400" cy="1015920"/>
              </a:xfrm>
              <a:prstGeom prst="roundRect">
                <a:avLst>
                  <a:gd name="adj" fmla="val 15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75400" y="1905120"/>
                <a:ext cx="121140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SRQ-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Mby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829560" y="1905120"/>
              <a:ext cx="645840" cy="1015920"/>
              <a:chOff x="6829560" y="1905120"/>
              <a:chExt cx="645840" cy="1015920"/>
            </a:xfrm>
          </p:grpSpPr>
          <p:sp>
            <p:nvSpPr>
              <p:cNvPr id="192" name=""/>
              <p:cNvSpPr/>
              <p:nvPr/>
            </p:nvSpPr>
            <p:spPr>
              <a:xfrm>
                <a:off x="6829560" y="1905120"/>
                <a:ext cx="645840" cy="1015920"/>
              </a:xfrm>
              <a:custGeom>
                <a:avLst/>
                <a:gdLst>
                  <a:gd name="textAreaLeft" fmla="*/ 360 w 645840"/>
                  <a:gd name="textAreaRight" fmla="*/ 645480 w 645840"/>
                  <a:gd name="textAreaTop" fmla="*/ 360 h 1015920"/>
                  <a:gd name="textAreaBottom" fmla="*/ 1015560 h 1015920"/>
                </a:gdLst>
                <a:ahLst/>
                <a:rect l="textAreaLeft" t="textAreaTop" r="textAreaRight" b="textAreaBottom"/>
                <a:pathLst>
                  <a:path w="21600" h="33970">
                    <a:moveTo>
                      <a:pt x="53" y="0"/>
                    </a:moveTo>
                    <a:arcTo wR="53" hR="53" stAng="16200000" swAng="-5400000"/>
                    <a:lnTo>
                      <a:pt x="0" y="33917"/>
                    </a:lnTo>
                    <a:arcTo wR="53" hR="53" stAng="10800000" swAng="-5400000"/>
                    <a:lnTo>
                      <a:pt x="21547" y="33970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29560" y="1905120"/>
                <a:ext cx="6458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Verdana"/>
                  </a:rPr>
                  <a:t>K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890960" y="1905120"/>
              <a:ext cx="1938600" cy="1015920"/>
              <a:chOff x="4890960" y="1905120"/>
              <a:chExt cx="1938600" cy="1015920"/>
            </a:xfrm>
          </p:grpSpPr>
          <p:sp>
            <p:nvSpPr>
              <p:cNvPr id="195" name=""/>
              <p:cNvSpPr/>
              <p:nvPr/>
            </p:nvSpPr>
            <p:spPr>
              <a:xfrm>
                <a:off x="4890960" y="1905120"/>
                <a:ext cx="1938600" cy="1015920"/>
              </a:xfrm>
              <a:prstGeom prst="roundRect">
                <a:avLst>
                  <a:gd name="adj" fmla="val 15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90960" y="1905120"/>
                <a:ext cx="193860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RQ per QP-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Mby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436920" y="1905120"/>
              <a:ext cx="1454040" cy="1015920"/>
              <a:chOff x="3436920" y="1905120"/>
              <a:chExt cx="1454040" cy="1015920"/>
            </a:xfrm>
          </p:grpSpPr>
          <p:sp>
            <p:nvSpPr>
              <p:cNvPr id="198" name=""/>
              <p:cNvSpPr/>
              <p:nvPr/>
            </p:nvSpPr>
            <p:spPr>
              <a:xfrm>
                <a:off x="3436920" y="1905120"/>
                <a:ext cx="1454040" cy="1015920"/>
              </a:xfrm>
              <a:prstGeom prst="roundRect">
                <a:avLst>
                  <a:gd name="adj" fmla="val 15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6920" y="1905120"/>
                <a:ext cx="14540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#pos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908000" y="1905120"/>
              <a:ext cx="1528920" cy="1015920"/>
              <a:chOff x="1908000" y="1905120"/>
              <a:chExt cx="1528920" cy="1015920"/>
            </a:xfrm>
          </p:grpSpPr>
          <p:sp>
            <p:nvSpPr>
              <p:cNvPr id="201" name=""/>
              <p:cNvSpPr/>
              <p:nvPr/>
            </p:nvSpPr>
            <p:spPr>
              <a:xfrm>
                <a:off x="1908000" y="1905120"/>
                <a:ext cx="1528920" cy="1015920"/>
              </a:xfrm>
              <a:prstGeom prst="roundRect">
                <a:avLst>
                  <a:gd name="adj" fmla="val 15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08000" y="1905120"/>
                <a:ext cx="152892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Frag size-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Kby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09480" y="1905120"/>
              <a:ext cx="1300320" cy="1015920"/>
              <a:chOff x="609480" y="1905120"/>
              <a:chExt cx="1300320" cy="1015920"/>
            </a:xfrm>
          </p:grpSpPr>
          <p:sp>
            <p:nvSpPr>
              <p:cNvPr id="204" name=""/>
              <p:cNvSpPr/>
              <p:nvPr/>
            </p:nvSpPr>
            <p:spPr>
              <a:xfrm>
                <a:off x="609480" y="1905120"/>
                <a:ext cx="1300320" cy="1015920"/>
              </a:xfrm>
              <a:prstGeom prst="roundRect">
                <a:avLst>
                  <a:gd name="adj" fmla="val 15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9480" y="1905120"/>
                <a:ext cx="13003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Nod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09480" y="1905120"/>
              <a:ext cx="8077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2921040"/>
              <a:ext cx="807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480" y="3422520"/>
              <a:ext cx="807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480" y="3924360"/>
              <a:ext cx="807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480" y="4424400"/>
              <a:ext cx="807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9480" y="4925880"/>
              <a:ext cx="80773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480" y="1905120"/>
              <a:ext cx="1800" cy="302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8000" y="1905120"/>
              <a:ext cx="180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6920" y="1905120"/>
              <a:ext cx="144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90960" y="1905120"/>
              <a:ext cx="180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29560" y="1905120"/>
              <a:ext cx="144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1905120"/>
              <a:ext cx="180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86800" y="1905120"/>
              <a:ext cx="1440" cy="302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90720" y="5334120"/>
            <a:ext cx="6607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ultiplier based on number of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ing information is exchanged dynamically via an OOB chan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greatly improves scalability but at the cost of increased first message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s are established with peers in the same subnet (local subnet routing only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mall Message Xf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-282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list of pre-registered fragments for send and re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grows dynamically in chunks (more efficient to regi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essages are copied to/from pre-registered buf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v descriptors are posted as needed based on min/max threshol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mall Message Perform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2057400"/>
          <a:ext cx="7848360" cy="2766960"/>
        </p:xfrm>
        <a:graphic>
          <a:graphicData uri="http://schemas.openxmlformats.org/drawingml/2006/table">
            <a:tbl>
              <a:tblPr/>
              <a:tblGrid>
                <a:gridCol w="4267080"/>
                <a:gridCol w="3581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verage Lat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MPI - OpenIB - *optim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5.13 use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MPI - OpenIB - *defa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5.43 u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MPI - Mvapi - *optim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5.64 u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MPI - Mvapi - *defa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5.94 u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Mvapich - Mvapi (rdma/mem po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4.19 u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Mvapich - Mvapi (send/rec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6.51 u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592560" y="50673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Send/Recv based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rge Message Xf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MA Write and RDMA Read are both suppo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MA Read provides better performance than RDMA Write - control messages are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MA pipeline protocol performance highly dependent on I/O Bus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1400" y="285840"/>
            <a:ext cx="16639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339840"/>
            <a:ext cx="32004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msgothic"/>
              </a:rPr>
              <a:t>OpenMPI/OpenIB -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35680" y="57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43000" y="1406520"/>
            <a:ext cx="6370560" cy="46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04920"/>
            <a:ext cx="3505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msgothic"/>
              </a:rPr>
              <a:t>OpenMPI/OpenIB - All -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95280" y="1420920"/>
            <a:ext cx="647712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304920"/>
            <a:ext cx="3809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msgothic"/>
              </a:rPr>
              <a:t>OpenMPI/OpenIB - Eag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0572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304920"/>
            <a:ext cx="3809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gothic"/>
              </a:rPr>
              <a:t>Combin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5530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41400" y="285480"/>
            <a:ext cx="54849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-to-Poi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304920"/>
            <a:ext cx="3809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gothic"/>
              </a:rPr>
              <a:t>Combined Results -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1442880"/>
            <a:ext cx="6477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enIB Opportunit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-282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level notification of VM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ching of memory registrations can be danger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he ability to detect VM changes that effect memory registrations (such as sbrk and mun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iable Multicast for coll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RQ performance, 2/10 usec penalty, but who’s count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message RDMA (using working set of peers) -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onnection management using Unreliable Dat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onnection teardown -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urce Code Ac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version reposi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clien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ubversion.tigris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.2.1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n co http://svn.open-mpi.org/svn/ompi/trunk o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nymous, read-onl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Wood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: twoodall@la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ne: 505-665-5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en Ship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: gshipman@la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172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ardware Spec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Intel Xeon 3.2 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4 KB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Gbyte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: Intel Corp. E7525/E7520/E7320 PCI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anox Technologies MT25208 InfiniHost III 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8 Port Voltair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41400" y="285480"/>
            <a:ext cx="54849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int-to-Point Architec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g-ins” for different capabilities (e.g. different netwo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nable run-tim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component frame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int-to-point messaging layer (PML) implements MPI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te Transfer Layer (BTL) abstracts network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Pool (mpool) provides for memory management/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9680" y="4390920"/>
            <a:ext cx="388620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040" y="285480"/>
            <a:ext cx="54831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ML Framewor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 PML manages multiple BTL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tains set of BTLs on a per-peer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ssage fragmentation an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s MPI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555555"/>
              </a:buClr>
              <a:buFont typeface="Arial"/>
              <a:buChar char="−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ous / buffered / ready / normal s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555555"/>
              </a:buClr>
              <a:buFont typeface="Arial"/>
              <a:buChar char="−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istent requests / Request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ger/Rendezvous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555555"/>
              </a:buClr>
              <a:buFont typeface="Arial"/>
              <a:buChar char="−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ger send of shor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555555"/>
              </a:buClr>
              <a:buFont typeface="Arial"/>
              <a:buChar char="−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able threshold (short vs. lo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555555"/>
              </a:buClr>
              <a:buFont typeface="Arial"/>
              <a:buChar char="−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lo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285480"/>
            <a:ext cx="54849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ML Protoco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/ receive pipeline to / from pre-registered buffers (non-contiguous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_Alloc_m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/black tree of memory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L associated with registration is used by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er of contiguous data with 1 RDMA (after m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pinned” run-time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on first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U cache (configurable size)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equivalent to pre-registered buffers (MPI_Alloc_m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41400" y="285480"/>
            <a:ext cx="54849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ML Protocols (Continued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memory registration/de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 message and build pipeline of RDMA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[de-]registration with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 97% of pre-registered memory at large message sizes (8Mby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ed by bus type/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41400" y="285480"/>
            <a:ext cx="54849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TL Framewor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PI 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imple API to upp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ged send/receive 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-sided put/ge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to data type engine for zero copy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TL modules natively support commodity net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(self, shared memory, myrinet GM/MX, Infiniband mvapi/OpenIB, Portals, TC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ed (LAPI, Quadrics Elan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41400" y="285480"/>
            <a:ext cx="54849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enIB BT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L module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message X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message X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41040" y="285840"/>
            <a:ext cx="5483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TL module initializ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parate BTL module is initialized for each port on each H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ML schedules across these BTL modules just as any other inter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e BTL modules exist peers establish QP connections by matching sub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cp:lastPrinted>2005-08-19T17:06:16Z</cp:lastPrinted>
  <dcterms:modified xsi:type="dcterms:W3CDTF">2005-08-22T17:40:54Z</dcterms:modified>
  <cp:revision>80</cp:revision>
  <dc:subject/>
  <dc:title>Open MPI</dc:title>
</cp:coreProperties>
</file>