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B7069-101E-4D76-9A16-A451E3CC3CD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: Socket switch selects TCP or S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rable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ket semantics: IPv4 addressing, Uses TCP port space, Connect/Accept model, Common socket options, Out of ban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protocol: InfiniBand Specification 1.2 Annex A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4B2-F52D-44A5-9411-09BD8731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D13-91A1-4131-8B11-0E337647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2C0-2356-4D83-8707-9E533A38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CA0-5453-47C7-82EE-4B44DCE0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236-391E-4BAE-B78F-DFD9232D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9E2-67BF-4D65-BBF5-758D5477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083-0C3B-4BFF-B5DF-28F0FBAD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FF9-8742-4094-867B-80E2A32D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938-8811-499C-A2BD-30F6CFA0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DF6-CFDE-4BB5-8F94-5DE5BCD9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09E-484B-4694-8244-B2DB89E1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680-37C3-401B-B7E8-CFEC76EA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infinibandta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infinibandta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center Fabric Workshop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7843F6-5928-4156-85E8-3831B00B8DF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InfiniBand(R) Trade Associ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860640"/>
            <a:ext cx="5484960" cy="7632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InfiniBand(R) Trade Associ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78200" y="414360"/>
            <a:ext cx="518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center Fabric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6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FS over RDM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28440" y="4414320"/>
            <a:ext cx="73119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Boris Shpolyan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Mellanox Technologies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boris@mellano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ad oper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1720" y="2441520"/>
            <a:ext cx="60624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03600" y="2070000"/>
            <a:ext cx="0" cy="412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7320" y="1514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46720" y="2070000"/>
            <a:ext cx="0" cy="412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66560" y="1514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603600" y="2197080"/>
            <a:ext cx="1712880" cy="525600"/>
            <a:chOff x="3603600" y="2197080"/>
            <a:chExt cx="1712880" cy="525600"/>
          </a:xfrm>
        </p:grpSpPr>
        <p:sp>
          <p:nvSpPr>
            <p:cNvPr id="185" name=""/>
            <p:cNvSpPr/>
            <p:nvPr/>
          </p:nvSpPr>
          <p:spPr>
            <a:xfrm>
              <a:off x="3603600" y="2336760"/>
              <a:ext cx="17128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70440" y="219708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d 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494320" y="3295800"/>
            <a:ext cx="531720" cy="159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03600" y="4203720"/>
            <a:ext cx="1712880" cy="660240"/>
            <a:chOff x="3603600" y="4203720"/>
            <a:chExt cx="1712880" cy="660240"/>
          </a:xfrm>
        </p:grpSpPr>
        <p:sp>
          <p:nvSpPr>
            <p:cNvPr id="189" name=""/>
            <p:cNvSpPr/>
            <p:nvPr/>
          </p:nvSpPr>
          <p:spPr>
            <a:xfrm flipH="1">
              <a:off x="3603600" y="4478400"/>
              <a:ext cx="171288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36960" y="420372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DMA W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03800" y="4503600"/>
              <a:ext cx="353880" cy="23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481720" y="2441520"/>
            <a:ext cx="606240" cy="573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0960" y="2184480"/>
            <a:ext cx="60660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94320" y="3295800"/>
            <a:ext cx="531720" cy="1590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06720" y="1927080"/>
            <a:ext cx="531720" cy="15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06720" y="1927080"/>
            <a:ext cx="531720" cy="1590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013440" y="2933640"/>
            <a:ext cx="1085760" cy="644760"/>
            <a:chOff x="6013440" y="2933640"/>
            <a:chExt cx="1085760" cy="644760"/>
          </a:xfrm>
        </p:grpSpPr>
        <p:sp>
          <p:nvSpPr>
            <p:cNvPr id="198" name=""/>
            <p:cNvSpPr/>
            <p:nvPr/>
          </p:nvSpPr>
          <p:spPr>
            <a:xfrm>
              <a:off x="6013440" y="3351240"/>
              <a:ext cx="108576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3440" y="2933640"/>
              <a:ext cx="995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d from  the 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013440" y="3616200"/>
            <a:ext cx="1147320" cy="339480"/>
            <a:chOff x="6013440" y="3616200"/>
            <a:chExt cx="1147320" cy="339480"/>
          </a:xfrm>
        </p:grpSpPr>
        <p:sp>
          <p:nvSpPr>
            <p:cNvPr id="201" name=""/>
            <p:cNvSpPr/>
            <p:nvPr/>
          </p:nvSpPr>
          <p:spPr>
            <a:xfrm flipH="1">
              <a:off x="6013440" y="3616200"/>
              <a:ext cx="108576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65720" y="3681000"/>
              <a:ext cx="99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817720" y="2155680"/>
            <a:ext cx="606600" cy="631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FS over RDM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4D4-1A4C-4D50-88D8-FE0D1CFB2B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App over kDAPL gen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ourceforge.net/projects/nfs-r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App – over kDAPL, proprietary SW/OS (not Linux-b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 – under development over kDAPL ge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– considering OpenIB gen2 API, interoperable with CITI NFS-o-RDMA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ng NFS RDMA client and server into Linux 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vendors to provide products incorporating NFS R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FS over RD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0A5-D0BB-4F86-B0C6-ADD6D7DD5D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S RDMA Problem Statement, Tom Talpey, Chet Juszcza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1.ietf.org/internet-drafts/draft-ietf-nfsv4-nfs-rdma-problem-statement-02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MA Transport for ONC RPC, Brent Callaghan, Tom Talp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iti.umich.edu/projects/nfsv4/rfc/draft-callaghan-rpc-rdma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FS over RD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276-02F7-4726-984F-581B2F6F20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S over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and server main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FS over RD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082-7AE7-4119-92ED-6ABD912F8C9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twork File System (NFS) overvie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Int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tributed file system that enables users to access files and directories located on remote computers and treat those files and directories as if they were loc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developed by Sun Micr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ly used in Unix- and Linux-based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FS over RD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43F-65C4-4AC1-BE81-651832A8E4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FS over RDMA - benefi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NFS v2/3 protocol with enhanced perform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reduced transport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I/O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interconnect utilization – greater B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erformance over 4x IB interconnect*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0MB/sec at 20% of client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improved up to almost wir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Tom Talpey, NFS/RDMA Linux Client, February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iti.umich.edu/projects/rdma/refs/NFS-RDMA_Linux_CThon_200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95880"/>
            <a:ext cx="369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FS over RD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273-F8DF-4FD5-AF15-7BBCE8D6AA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W layer struct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75120" y="1531800"/>
            <a:ext cx="3556080" cy="471672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6545160" y="4375080"/>
            <a:ext cx="1517760" cy="995400"/>
            <a:chOff x="6545160" y="4375080"/>
            <a:chExt cx="1517760" cy="99540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6545160" y="4719600"/>
              <a:ext cx="3538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6545160" y="4375080"/>
              <a:ext cx="1517760" cy="34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413480" y="5029200"/>
            <a:ext cx="573120" cy="34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870200"/>
            <a:ext cx="449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running over        TCP/UDP so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529080"/>
            <a:ext cx="449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using transport switch to support RDMA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16800" y="5810400"/>
            <a:ext cx="1417680" cy="2682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FS over RDM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2EE-78DD-44CB-A102-05229D2F07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FS over RDMA - cli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loc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to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erver in the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il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remo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s – Send with inlin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transfers – RDMA Read (by the 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mo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Write (by the 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FS over RD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B36-CA9F-492C-9F33-43A0CC3338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FS over RDMA - serv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loc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advertise public servic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to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client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fil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local shared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by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Read from the client’s buffer to a local buffer, which is used by disk controller to write the data to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local shared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data from the disk, RDMA Write to the client’s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FS over RD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6CE-0CBA-4984-8855-8ECCBA0108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11800" y="3541680"/>
            <a:ext cx="60624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rite operation - S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76600" y="2100240"/>
            <a:ext cx="0" cy="417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30640" y="15699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27480" y="2100240"/>
            <a:ext cx="0" cy="417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49120" y="1595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7720" y="2513160"/>
            <a:ext cx="606600" cy="63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7720" y="2513160"/>
            <a:ext cx="606600" cy="631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76600" y="2828880"/>
            <a:ext cx="1550880" cy="825480"/>
            <a:chOff x="3576600" y="2828880"/>
            <a:chExt cx="1550880" cy="825480"/>
          </a:xfrm>
        </p:grpSpPr>
        <p:sp>
          <p:nvSpPr>
            <p:cNvPr id="125" name=""/>
            <p:cNvSpPr/>
            <p:nvPr/>
          </p:nvSpPr>
          <p:spPr>
            <a:xfrm>
              <a:off x="3576600" y="3270240"/>
              <a:ext cx="155088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92600" y="2828880"/>
              <a:ext cx="127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d Req with inlin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70520" y="3270240"/>
              <a:ext cx="379080" cy="3841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311800" y="3541680"/>
            <a:ext cx="606240" cy="655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647040" y="3600360"/>
            <a:ext cx="1085760" cy="644760"/>
            <a:chOff x="6647040" y="3600360"/>
            <a:chExt cx="1085760" cy="644760"/>
          </a:xfrm>
        </p:grpSpPr>
        <p:sp>
          <p:nvSpPr>
            <p:cNvPr id="130" name=""/>
            <p:cNvSpPr/>
            <p:nvPr/>
          </p:nvSpPr>
          <p:spPr>
            <a:xfrm>
              <a:off x="6647040" y="4017960"/>
              <a:ext cx="108576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47040" y="3600360"/>
              <a:ext cx="995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rite to the 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76600" y="4525920"/>
            <a:ext cx="1550880" cy="603360"/>
            <a:chOff x="3576600" y="4525920"/>
            <a:chExt cx="1550880" cy="603360"/>
          </a:xfrm>
        </p:grpSpPr>
        <p:sp>
          <p:nvSpPr>
            <p:cNvPr id="133" name=""/>
            <p:cNvSpPr/>
            <p:nvPr/>
          </p:nvSpPr>
          <p:spPr>
            <a:xfrm flipH="1">
              <a:off x="3576600" y="4800600"/>
              <a:ext cx="155088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92600" y="4525920"/>
              <a:ext cx="127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e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817720" y="4197240"/>
            <a:ext cx="60660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647040" y="4282920"/>
            <a:ext cx="1147320" cy="341280"/>
            <a:chOff x="6647040" y="4282920"/>
            <a:chExt cx="1147320" cy="341280"/>
          </a:xfrm>
        </p:grpSpPr>
        <p:sp>
          <p:nvSpPr>
            <p:cNvPr id="137" name=""/>
            <p:cNvSpPr/>
            <p:nvPr/>
          </p:nvSpPr>
          <p:spPr>
            <a:xfrm flipH="1">
              <a:off x="6647040" y="4282920"/>
              <a:ext cx="108576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99320" y="4347720"/>
              <a:ext cx="99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817720" y="3367080"/>
            <a:ext cx="60660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11800" y="4349880"/>
            <a:ext cx="60624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11800" y="5075280"/>
            <a:ext cx="60624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98720" y="2255760"/>
            <a:ext cx="60624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98720" y="2255760"/>
            <a:ext cx="606240" cy="573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40440" y="3995640"/>
            <a:ext cx="60660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40440" y="3990960"/>
            <a:ext cx="606600" cy="584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FS over RDM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016-19E8-4C42-B5F5-1EB96F6966EC}" type="slidenum">
              <a:t>8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481720" y="2441520"/>
            <a:ext cx="60624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rite operation – RDM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03600" y="2070000"/>
            <a:ext cx="0" cy="412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7320" y="1514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46720" y="2070000"/>
            <a:ext cx="0" cy="412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6560" y="1514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603600" y="2197080"/>
            <a:ext cx="1712880" cy="525600"/>
            <a:chOff x="3603600" y="2197080"/>
            <a:chExt cx="1712880" cy="525600"/>
          </a:xfrm>
        </p:grpSpPr>
        <p:sp>
          <p:nvSpPr>
            <p:cNvPr id="153" name=""/>
            <p:cNvSpPr/>
            <p:nvPr/>
          </p:nvSpPr>
          <p:spPr>
            <a:xfrm>
              <a:off x="3603600" y="2336760"/>
              <a:ext cx="17128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70440" y="219708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d 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494320" y="3295800"/>
            <a:ext cx="531720" cy="159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03600" y="3157560"/>
            <a:ext cx="1712880" cy="523800"/>
            <a:chOff x="3603600" y="3157560"/>
            <a:chExt cx="1712880" cy="523800"/>
          </a:xfrm>
        </p:grpSpPr>
        <p:sp>
          <p:nvSpPr>
            <p:cNvPr id="157" name=""/>
            <p:cNvSpPr/>
            <p:nvPr/>
          </p:nvSpPr>
          <p:spPr>
            <a:xfrm flipH="1">
              <a:off x="3603600" y="3295440"/>
              <a:ext cx="17128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35880" y="31575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DMA 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603600" y="4979880"/>
            <a:ext cx="1743120" cy="503280"/>
            <a:chOff x="3603600" y="4979880"/>
            <a:chExt cx="1743120" cy="503280"/>
          </a:xfrm>
        </p:grpSpPr>
        <p:sp>
          <p:nvSpPr>
            <p:cNvPr id="160" name=""/>
            <p:cNvSpPr/>
            <p:nvPr/>
          </p:nvSpPr>
          <p:spPr>
            <a:xfrm flipH="1">
              <a:off x="3603600" y="5097600"/>
              <a:ext cx="174312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35520" y="4979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e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622680" y="3681360"/>
            <a:ext cx="1724040" cy="531720"/>
            <a:chOff x="3622680" y="3681360"/>
            <a:chExt cx="1724040" cy="531720"/>
          </a:xfrm>
        </p:grpSpPr>
        <p:sp>
          <p:nvSpPr>
            <p:cNvPr id="163" name=""/>
            <p:cNvSpPr/>
            <p:nvPr/>
          </p:nvSpPr>
          <p:spPr>
            <a:xfrm>
              <a:off x="3622680" y="3827520"/>
              <a:ext cx="172404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94480" y="368136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d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03440" y="3979800"/>
              <a:ext cx="354600" cy="233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481720" y="2441520"/>
            <a:ext cx="606240" cy="573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184480"/>
            <a:ext cx="60660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1720" y="3295800"/>
            <a:ext cx="531720" cy="1590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06720" y="1927080"/>
            <a:ext cx="531720" cy="15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927080"/>
            <a:ext cx="531720" cy="1590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026040" y="3957480"/>
            <a:ext cx="1086120" cy="644760"/>
            <a:chOff x="6026040" y="3957480"/>
            <a:chExt cx="1086120" cy="644760"/>
          </a:xfrm>
        </p:grpSpPr>
        <p:sp>
          <p:nvSpPr>
            <p:cNvPr id="172" name=""/>
            <p:cNvSpPr/>
            <p:nvPr/>
          </p:nvSpPr>
          <p:spPr>
            <a:xfrm>
              <a:off x="6026040" y="4375080"/>
              <a:ext cx="108612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6040" y="3957480"/>
              <a:ext cx="995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rite to the 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025680" y="4640400"/>
            <a:ext cx="1148400" cy="341280"/>
            <a:chOff x="6025680" y="4640400"/>
            <a:chExt cx="1148400" cy="341280"/>
          </a:xfrm>
        </p:grpSpPr>
        <p:sp>
          <p:nvSpPr>
            <p:cNvPr id="175" name=""/>
            <p:cNvSpPr/>
            <p:nvPr/>
          </p:nvSpPr>
          <p:spPr>
            <a:xfrm flipH="1">
              <a:off x="6025680" y="4640400"/>
              <a:ext cx="108612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78680" y="4705200"/>
              <a:ext cx="9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817720" y="2155680"/>
            <a:ext cx="606600" cy="631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FS over RDM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4F1-5815-4E0C-89E3-E354498D5E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18:21:09Z</dcterms:created>
  <dc:creator>Dror Goldenberg</dc:creator>
  <dc:description/>
  <dc:language>en-US</dc:language>
  <cp:lastModifiedBy>Asaf Somekh</cp:lastModifiedBy>
  <dcterms:modified xsi:type="dcterms:W3CDTF">2005-08-28T19:46:09Z</dcterms:modified>
  <cp:revision>119</cp:revision>
  <dc:subject/>
  <dc:title>SDP Windows Track</dc:title>
</cp:coreProperties>
</file>