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3CC2-2AE0-4F3A-B9AF-AF4A9A19C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E492-5B4F-4407-98F2-3F78C33C9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369C-1DCA-459C-A4D3-A7DC300C1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54AA-6054-44F9-B101-C6E42CC57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EB72-05BD-4410-8E94-6EFA27432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3DD7-B3A9-46FA-983F-047B6F3FD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4B64-6F23-4243-9C8D-904129D48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90B1-7DE9-4866-8E8F-5C82AD89D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50A9-5989-4FB0-9B86-42D75EA1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27AB-92C4-47A7-801B-D2A19C9AC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B187-747B-4779-AE6B-BD26A3B27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33DC-F49A-4FCA-AF22-FE3F8D487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0B4-7366-4BC6-81E2-8A3AC1CCF1CE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47800" y="785880"/>
            <a:ext cx="755496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DMA IP CM Service Annex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kady Kanevsky, Ph.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TA S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n Francisc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do we support IETF Protocol number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IETF post spaces are independently managed based on protocol number it is better to support it to avoid issues in the future when RDMA will be defined/used over non-TCP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col # is in SID – to maximize Consumer Privat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and complete IETF 5-tuple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38DC-CFD1-46ED-A060-231BE7054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do we need to pass Destination Por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M can do the mapping between Service IDs  and ports to provide Destination Port to a Respond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version is an API issue is outside the scope of the sp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same is true for populating Private Data CM formatted field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TA does not define CM verb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992C-F789-4430-84EE-0DA54BD07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ow to handle the use of IP addresses reserved for privileged/kernel users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 an issue since CM REQ message privileged Q-key is setup by CM appropriately. IBTA spec already covers i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d by IB security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1C55-55AE-4A60-A179-5A63E7366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lign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64 bit IP addresses align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vate data starts at 140 by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 addresses start at 144 by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8 byte align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P addresses are 8 byte align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B6E9-5206-48DA-A9EA-AD143475B5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ationship to CM APM Suppor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M connection stays the same under Alternative Path Mig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ign does not provide separate IP addresses for Alternative Pa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2E70-17EB-4428-AE73-7DE4161302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698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raging existing world IP Addressing infrastructure for RDMA C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fine mapping between TCP port space and IB Service IDs for RDMA-aware ULP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DMA-Aware ULP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licitly use RDMA semantic: memory registration, preposting recv buffers, RDMA operations and so 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DMA transport independ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on IB and iWARP without transport dependen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support for a socket-like connection model for RDMA-aware ULP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B Consumer use the socket 5-tuple for connection establish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protocol numb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urce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tination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tination 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4484-5BE8-4E9B-B506-93621EBA7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DMA IP CM Service is a layer above IBTA C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DMA IP CM Service Annex defines a protoco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MA IP CM Service uses IBTA CM REQ private dat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 and destinations IP address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 protocol ports mapping into IBTA Service I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ps IP protocol number and destination IP port into IBTA Service I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erves a range of IBTA service IDs for RDMA IP CM Serv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7CAE-06B3-4B87-BCA6-3064A9A25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M REQ Message Private Data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47976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31 –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07332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63 – 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66688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95 – 6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322360"/>
            <a:ext cx="6095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127 – 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2322360"/>
            <a:ext cx="19810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600200"/>
            <a:ext cx="2971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ource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447920"/>
            <a:ext cx="762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447920"/>
            <a:ext cx="761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0" cy="464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447920"/>
            <a:ext cx="0" cy="82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447920"/>
            <a:ext cx="0" cy="464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92436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5920" y="56386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Privat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09436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31 –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68792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63 – 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28148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95 – 6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936960"/>
            <a:ext cx="6095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127 – 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936960"/>
            <a:ext cx="1981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1447920"/>
            <a:ext cx="7009920" cy="4647960"/>
            <a:chOff x="533520" y="1447920"/>
            <a:chExt cx="7009920" cy="4647960"/>
          </a:xfrm>
        </p:grpSpPr>
        <p:sp>
          <p:nvSpPr>
            <p:cNvPr id="107" name=""/>
            <p:cNvSpPr/>
            <p:nvPr/>
          </p:nvSpPr>
          <p:spPr>
            <a:xfrm>
              <a:off x="533520" y="1447920"/>
              <a:ext cx="7009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271600"/>
              <a:ext cx="70099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520" y="2703600"/>
              <a:ext cx="7009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520" y="3135240"/>
              <a:ext cx="70099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3541680"/>
              <a:ext cx="70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6095880"/>
              <a:ext cx="700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3922560"/>
              <a:ext cx="70099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3520" y="4317480"/>
              <a:ext cx="70099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4749840"/>
              <a:ext cx="7009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520" y="5156280"/>
              <a:ext cx="7009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5562720"/>
              <a:ext cx="70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95680" y="1447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523880"/>
            <a:ext cx="82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447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1447920"/>
            <a:ext cx="762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1447920"/>
            <a:ext cx="0" cy="82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80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                    2                            1             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9 8 7 6 5 4 3 2 1 0 9 8 7 6 5 4 3 2 1 0 9 8 7 6 5 4 3 2 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8080" y="1447920"/>
            <a:ext cx="0" cy="464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880" y="838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5800" y="2362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5800" y="17524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360" y="3200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080" y="274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360" y="39625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360" y="3581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2360" y="4343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2360" y="5638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-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360" y="4800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-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2360" y="5181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5200" y="6178680"/>
            <a:ext cx="85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e  next slide for dest SID which encodes dest port number and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56DD-A999-470A-93B4-A987819F3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DMA IP CM Service IBTA SID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934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D range indicates that private data is format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I or verbs that use IETF addressing indicate that IETF protocol # and port are mapped into IB S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2819520"/>
          <a:ext cx="6095880" cy="3429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BTA A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 of RDMA-aware SID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ch byte 0x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DMA-aware ULP SID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Protocol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e 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por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LP well-known por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B6C4-10BA-44B9-90B0-9834E5BC09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rror Handling - I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800280"/>
          <a:ext cx="8305920" cy="16761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jection 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 – RDMA IP CM Ser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1 – RDMA-Aware U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yer 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ee table below for RDMA IP CM Serv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57200" y="3276720"/>
          <a:ext cx="8305920" cy="32353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jection 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 – RDMA IP CM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DMA IP CM Service layer 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next t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ggest value length in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 – no suggested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– suggested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ignment f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-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ggested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def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13160" y="280044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DMA IP CM Service Error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B57B-BF93-4929-B8A4-E29D6547A7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rror Handling – II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DMA IP CM Service layer ARI cod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701720"/>
          <a:ext cx="8458200" cy="424800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502920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I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pecified reason for RDMA IP CM Service re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fied major version not supported by remote 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or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fied minor version not supported by remote 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version not suppor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rce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at of source IP address does not match IP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at of destination IP address does not match IP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known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address does not match Server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0C3A-537F-400D-AA06-5B3E7536B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cku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ndard IBTA CM REQ with private data format exten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M REQ provides IP address and port (analog) of the requestor, and IP address of the destin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CP Port of the destination is available from receiver Service I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SID range to identify that private data is format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imize Consumer-usable privat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0607-30D6-4F15-9F07-2F5E497DC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NetApp</cp:lastModifiedBy>
  <cp:lastPrinted>1998-06-24T21:45:20Z</cp:lastPrinted>
  <dcterms:modified xsi:type="dcterms:W3CDTF">2006-08-15T21:01:04Z</dcterms:modified>
  <cp:revision>60</cp:revision>
  <dc:subject/>
  <dc:title>PowerPoint Presentation</dc:title>
</cp:coreProperties>
</file>