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C4997-BA3F-4FCC-BEAD-7FE6761DFD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461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9360" y="4105080"/>
            <a:ext cx="461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7C58B-8EC0-4A29-828E-C23BF219FA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33480" y="318924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9360" y="410508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733480" y="410508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D9CEE-F25B-462C-97B4-BCA78B11FA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1485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929240" y="3189240"/>
            <a:ext cx="1485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489480" y="3189240"/>
            <a:ext cx="1485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9360" y="4105080"/>
            <a:ext cx="1485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929240" y="4105080"/>
            <a:ext cx="1485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489480" y="4105080"/>
            <a:ext cx="1485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27A7B-5F0E-444F-8F7F-5097EFC388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69360" y="3189240"/>
            <a:ext cx="4613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4613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2251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733480" y="3189240"/>
            <a:ext cx="2251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6560" y="810720"/>
            <a:ext cx="739008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733480" y="3189240"/>
            <a:ext cx="2251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69360" y="410508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9360" y="3189240"/>
            <a:ext cx="4613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40F31-F750-42BF-80BD-E3C04C8760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2251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733480" y="318924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733480" y="410508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733480" y="318924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69360" y="4105080"/>
            <a:ext cx="461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461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69360" y="4105080"/>
            <a:ext cx="461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733480" y="318924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69360" y="410508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2733480" y="410508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1485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929240" y="3189240"/>
            <a:ext cx="1485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89480" y="3189240"/>
            <a:ext cx="1485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69360" y="4105080"/>
            <a:ext cx="1485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1929240" y="4105080"/>
            <a:ext cx="1485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3489480" y="4105080"/>
            <a:ext cx="1485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4613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C2E3B-E831-48FC-9F0A-5265BE9917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2251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733480" y="3189240"/>
            <a:ext cx="2251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46D89-090D-42D7-806A-F3D20B57AC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A6D0A-4B7D-4524-B6CA-8721A1012F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6560" y="810720"/>
            <a:ext cx="739008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DB223-77A8-4D2C-8A2F-7B0C841B6F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733480" y="3189240"/>
            <a:ext cx="2251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9360" y="410508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D9EF0-D502-452E-81E1-1B4B1ABCFF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2251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733480" y="318924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733480" y="410508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53E09-6941-48D2-A1A0-9762BA1479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733480" y="318924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9360" y="4105080"/>
            <a:ext cx="461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C7E29-B729-4BA6-AE98-B28A7B458C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360" y="6480"/>
            <a:ext cx="9125280" cy="6845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57240" y="6528960"/>
            <a:ext cx="1395360" cy="32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777777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4C5D-39F1-4587-83E7-E4B8EDD2D165}" type="slidenum">
              <a:rPr b="1" lang="en-US" sz="900" spc="-1" strike="noStrike">
                <a:solidFill>
                  <a:srgbClr val="777777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005280" y="665784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"/>
          <p:cNvSpPr/>
          <p:nvPr/>
        </p:nvSpPr>
        <p:spPr>
          <a:xfrm>
            <a:off x="1669680" y="6548400"/>
            <a:ext cx="5834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 © 2006 InfiniBand</a:t>
            </a:r>
            <a:r>
              <a:rPr b="1" lang="en-US" sz="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Trade Association.  Other names and brands are properties of their respective owner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72440" cy="6880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5560" y="1228680"/>
            <a:ext cx="8016840" cy="174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hysical Layer Update – EWG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69360" y="3855960"/>
            <a:ext cx="4999320" cy="30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senting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an Colloff, EW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Outline: Physical Layer Update Session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44080" y="1117440"/>
            <a:ext cx="87217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WG Activities Overview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DR/QD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el. 1.2 Signaling Review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pec changes since Jan.06  on Compliant Channels &amp; Copper Cabl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luggable Devic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llowing this presentation: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WG Member Company Presenta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217B7-9479-4D39-B6F0-1C650DADAA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7680" y="90000"/>
            <a:ext cx="8772480" cy="5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DDR, QDR: Compatibility &amp; Data Rat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32920" y="725400"/>
            <a:ext cx="8589960" cy="322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roperable with all previous IB por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ll copper links capable of SDR operation as well (when SDR eye opening specs are met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ptical link rules for SDR interoperability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All 1x-SX, 4x-SX, and 12x-SX SDR, DDR, and QDR devices must interoperate at SDR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All 1X-LX SDR, DDR, and QDR optical transceivers must interoperate at SDR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4X-LX (4x-SDR serialized to 10Gbps) not required to interoperate with any other speed or width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ame (intermateable) connector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ome SDR cables or backplanes may not function at the higher bit rat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ise/Crosstalk, &amp; Signal Integrity (insertion, return loss) at DDR/QD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98360" y="4276800"/>
          <a:ext cx="8686800" cy="2252520"/>
        </p:xfrm>
        <a:graphic>
          <a:graphicData uri="http://schemas.openxmlformats.org/drawingml/2006/table">
            <a:tbl>
              <a:tblPr/>
              <a:tblGrid>
                <a:gridCol w="3414600"/>
                <a:gridCol w="1339920"/>
                <a:gridCol w="1262160"/>
                <a:gridCol w="1241280"/>
                <a:gridCol w="1428840"/>
              </a:tblGrid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RA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DR (Orig.) – 2.5 Gb/s / direction / la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2.5+2.5) Gb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10+10) Gb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20+20) Gb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30+30) Gb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DR             – 5.0 Gb/s / direction / la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5+5) Gb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20+20) Gb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40+40) Gb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60+60) Gb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QDR           – 10.0 Gb/s / direction / la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10+10) Gb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40+40) Gb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80+80) Gb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120+120) Gb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71CA5-3D03-4857-BFAF-DD23C56624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Review: Rel 1.2 Signaling Approache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4440" y="1308240"/>
            <a:ext cx="2727360" cy="554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-233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pecified Transmit Characteristics at chip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3280" indent="-233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pecified Receive Characteristics at chip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3280" indent="-233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rconnect specified separatel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3280" indent="-233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oss Budget/compliance poin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3280" indent="-233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YE” open at receiv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3280" indent="-233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e-emphasis or filter for equaliz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3280" indent="-233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gnal Detec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4880" y="1308240"/>
            <a:ext cx="6099120" cy="554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pliance channel: a defined filter, inserted between Tx &amp; Rx for test and verific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3280" indent="-2332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pliant Channel: actual HW which meets defined requirements to allow operation at specified B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3280" indent="-2332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ceiver specified by transmitter, &amp; channel S-parameter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-1094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ye may be closed at receiver inpu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3280" indent="-2332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ssume pre-emphasis at Tx, &amp; DFE or similar at Rx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-1094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daptive equalization using training pattern on initializat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3280" indent="-2332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eartbeat/Latency ordered se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3280" indent="-2332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o high-speed signal detect (beacon at SDR rate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3280" indent="-2332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DR: Changes to improve Interconnect Distanc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-1094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creased loss budget by 5 dB to compensate for higher-frequency losses (skin effect, dielectric absorption) and increased crosstalk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-1094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DR copper nearly same distance as SDR copp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3280" indent="-2332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QDR: Newer materials probably needed for QDR backplan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"/>
          <p:cNvSpPr/>
          <p:nvPr/>
        </p:nvSpPr>
        <p:spPr>
          <a:xfrm>
            <a:off x="119160" y="787320"/>
            <a:ext cx="3189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DR – Defined in Rel. 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11480" y="787320"/>
            <a:ext cx="4818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DR/QDR – Defined in Rel 1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4A434-EC26-4B5D-919F-E70E377B58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76312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DR/QDR Channel: S-Parameter change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04760" y="1093680"/>
          <a:ext cx="8908920" cy="3600720"/>
        </p:xfrm>
        <a:graphic>
          <a:graphicData uri="http://schemas.openxmlformats.org/drawingml/2006/table">
            <a:tbl>
              <a:tblPr/>
              <a:tblGrid>
                <a:gridCol w="642960"/>
                <a:gridCol w="1128600"/>
                <a:gridCol w="962280"/>
                <a:gridCol w="1011240"/>
                <a:gridCol w="1077840"/>
                <a:gridCol w="1212840"/>
                <a:gridCol w="973080"/>
                <a:gridCol w="952560"/>
                <a:gridCol w="947520"/>
              </a:tblGrid>
              <a:tr h="329400">
                <a:tc>
                  <a:txBody>
                    <a:bodyPr lIns="27360" rIns="90000" tIns="27360" bIns="2736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D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QD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0360">
                <a:tc>
                  <a:txBody>
                    <a:bodyPr lIns="27360" rIns="90000" tIns="27360" bIns="2736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, M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ld Sdd21 min.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Jan. errat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ew Sdd21 min. (modifi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ld Sdd11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Jan. errat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ew Sdd11 (unchang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ld Sdd21 min.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Jan. errat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ew Sdd21 min. (modifi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ld Sdd11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Jan. errat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ew Sdd11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unchang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27360" rIns="0" tIns="0" bIns="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 *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sdd21 min./1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 *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sdd21 min./1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27360" rIns="0" tIns="0" bIns="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 *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sdd21 min./1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 *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sdd21 min./1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27360" rIns="0" tIns="0" bIns="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 *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sdd21 min./1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 *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sdd21 min./1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27360" rIns="0" tIns="0" bIns="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 *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sdd21 min./1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.5 *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sdd21 min./1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27360" rIns="0" tIns="0" bIns="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 *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sdd21 min./1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.5 *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sdd21 min./1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27360" rIns="0" tIns="0" bIns="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7 *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sdd21 min./1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 *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sdd21 min./1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27360" rIns="0" tIns="0" bIns="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7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 *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sdd21 min./1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760">
                <a:tc>
                  <a:txBody>
                    <a:bodyPr lIns="27360" rIns="0" tIns="0" bIns="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7 *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sdd21 min./1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244440" y="4986360"/>
            <a:ext cx="7782120" cy="15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caling of min. values to lower freqs. no longer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DR Common mode (sdc21, sdc11) requirements drop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hannel covers Test Points TP2 to TP4. Informative specifications for Serdes-to-Serdes S Parameters allow ~2dB margin at high-frequencies for card wi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711360"/>
            <a:ext cx="7848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DR &amp; QDR compliant channel changes from January erra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FDD6E-C1D6-42F3-8E38-4DFA91A2B7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89632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DR/QDR Cable: S-Parameter change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04760" y="1093680"/>
          <a:ext cx="8908920" cy="3156120"/>
        </p:xfrm>
        <a:graphic>
          <a:graphicData uri="http://schemas.openxmlformats.org/drawingml/2006/table">
            <a:tbl>
              <a:tblPr/>
              <a:tblGrid>
                <a:gridCol w="642960"/>
                <a:gridCol w="1128600"/>
                <a:gridCol w="962280"/>
                <a:gridCol w="1011240"/>
                <a:gridCol w="1077840"/>
                <a:gridCol w="1212840"/>
                <a:gridCol w="973080"/>
                <a:gridCol w="952560"/>
                <a:gridCol w="947520"/>
              </a:tblGrid>
              <a:tr h="329400">
                <a:tc>
                  <a:txBody>
                    <a:bodyPr lIns="27360" rIns="90000" tIns="27360" bIns="2736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D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QD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0360">
                <a:tc>
                  <a:txBody>
                    <a:bodyPr lIns="27360" rIns="90000" tIns="27360" bIns="2736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, M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ld Sdd21 min.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Jan. errat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ew Sdd21 min. (modifi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ld Sdd11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Jan. errat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ew Sdd11 (unchang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ld Sdd21 min.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Jan. errat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ew Sdd21 min. (modifi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ld Sdd11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Jan. errat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ew Sdd11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unchang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27360" rIns="90000" tIns="27360" bIns="2736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t spec.’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27360" rIns="90000" tIns="27360" bIns="2736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t spec.’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27360" rIns="90000" tIns="27360" bIns="2736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t spec.’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27360" rIns="90000" tIns="27360" bIns="2736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t spec.’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27360" rIns="90000" tIns="27360" bIns="2736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t spec.’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27360" rIns="90000" tIns="27360" bIns="2736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t spec.’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27360" rIns="90000" tIns="27360" bIns="2736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7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t spec.’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27360" rIns="90000" tIns="27360" bIns="2736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t spec.’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250920" y="4971960"/>
            <a:ext cx="814392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ax. insertion loss (envelope) limits drop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caling of min. values to lower freqs. no longer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mon mode (sdc21, sdc11) requirements drop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711360"/>
            <a:ext cx="7848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DR &amp; QDR copper cable changes from January erra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43C36-61AC-4D55-A428-20A867CD16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New Pluggable Form Factor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4440" y="1308240"/>
            <a:ext cx="3881520" cy="422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-233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4x Pluggable specified for SDR onl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3280" indent="-233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4X pluggable based on XPAK MSA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406440" indent="-586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ses XPAK mechanical and Low Speed Electrica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406440" indent="-586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ses IBTA High Speed Electrical, Optical, 4X Connector, and 4X cabl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406440" indent="-586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ww.xpak.org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3280" indent="-233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quired Port Type 2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406440" indent="-586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mproved jitter at transmitte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05040" y="1308240"/>
            <a:ext cx="4638600" cy="413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DR, DDR, .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3280" indent="-2332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ased on QSFP MSA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-1094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maller, better heat mgmnt, better electrical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3280" indent="-2332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 Port Type 2 this tim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-1094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All signal conditioning done in pluggable device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3280" indent="-2332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ultiple distance-specific device types possibl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-1094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00ff00"/>
              </a:buClr>
              <a:buSzPct val="12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Passive copper slug (part of cable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-1094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0000"/>
              </a:buClr>
              <a:buSzPct val="8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Passive copper module (no extra connector allowed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-1094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00ff00"/>
              </a:buClr>
              <a:buSzPct val="12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Active copper (extra connectors allowed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-1094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00ff00"/>
              </a:buClr>
              <a:buSzPct val="12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Active cables (copper or optical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-1094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00ff00"/>
              </a:buClr>
              <a:buSzPct val="12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Optical Transceiver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787320"/>
            <a:ext cx="3805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x Pluggable – Rel. 1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60840" y="787320"/>
            <a:ext cx="4268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x Pluggable-QSFP -- Design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3D570-5BCF-49D0-9871-64A6574908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53920" y="2203200"/>
            <a:ext cx="7389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hank you…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05920" y="5045040"/>
            <a:ext cx="4613400" cy="90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19:06:36Z</dcterms:created>
  <dc:creator>IBTA EWG Members,   A. Benner editing</dc:creator>
  <dc:description/>
  <dc:language>en-US</dc:language>
  <cp:lastModifiedBy>Alan F. Benner</cp:lastModifiedBy>
  <cp:lastPrinted>1998-06-24T21:45:20Z</cp:lastPrinted>
  <dcterms:modified xsi:type="dcterms:W3CDTF">2006-09-15T19:22:39Z</dcterms:modified>
  <cp:revision>97</cp:revision>
  <dc:subject/>
  <dc:title>EWG - Physical Layer Updates --  IBTA &amp; OFA DevCon</dc:title>
</cp:coreProperties>
</file>