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9539-6809-4CE1-AD17-91A2466A2FC1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WARP Statu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 Tu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iWARP CM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stack port space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ports consumed by native stack will be seen by the iWARP CM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D/OR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Read inbound and outbound limits exchanged in private data at connection establishment -- needs IETF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-can-do approach implemented with conn_req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2#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 events expanded to included peer’s advertised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_req parameters are absolutes and connect/accept fails if they can’t be hon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CM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mode connection establ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p_listen, llp_connect, llp_accept, llp_send, llp_recv (needed for iSER spec. compli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ket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ma_create_from_fd - returns bound rdma_cm_id from so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port Neutral 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Krishna Kumar &lt;krkumar2@in.ibm.co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patches against iWARP b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mode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v_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dma_ for all data types and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wider review,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System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ARP is not an IP protocol so it shares the TCP port space like imap, or ht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need the ability to specify when to use RDMA vs. TCP for multi-transpor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/etc/services,  portma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 proposal for RDMA services names and port numbers, e.g. “rnf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p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er Vendor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contribute more than just your device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eed our engineers under the door, but their kids at home eat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interested, let us know. There’s plenty to d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Branch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Fabrics SV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ARP in separate branch in S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with trunk as of SVN 76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two iWARP RNICs currently in the tr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lsio T3 - single and dual port 1 and 10GbE R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GC AMSO1100 - single port 1GbE R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includes all IB devices from main tr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being merged into Roland’s for-2.6.19 bra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changes to ib_verbs and rdma_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WARP Connection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SO1100 devic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Devic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of likely kernel.org inte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SO1100 1Gb R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starting point for new develop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ource driver in iWARP branch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ed for kernel.org 2.6.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and dual port 1GbE and 10GbE R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ource driver in in iWARP branch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ed for kernel.org in 2.6.2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ort 10GbE RNIC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available through Beta evaluation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Branch Merge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upstream merge into 2.6.19 kerne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-port upstream code into SVN main t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Chelsio and any other devices not upstream to main t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iWARP support in subsequent OFED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Branch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nnounced activity from other RNIC vendo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from interested develop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core support for optional devic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verbs, WR and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WARP CM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device attribute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ULP, storage and middleware applicatio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mode Transport Neutral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Featur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, well understood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can run on any device and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can take advantage of transport and/or vendor optim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 queried at run-time, not discovered by trial and err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Featur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fields in a capabilities ma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pointers (potentially null) in the device func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fields used to indicate whether a particular feature implemented as an SQ WR is present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lidate ST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 Memory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Read and Inval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Write with Immed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Pointers used for features implemented as Verb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mory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anded Device Attribu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relevant device attributes are exported currently,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MA_READ SGE limit_x0003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MA_MR siz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ttributes need to be added to the device attribute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pace clean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naming of min/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escriptiv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23:52:27Z</dcterms:created>
  <dc:creator>Tom Tucker</dc:creator>
  <dc:description/>
  <dc:language>en-US</dc:language>
  <cp:lastModifiedBy>Tom Tucker</cp:lastModifiedBy>
  <dcterms:modified xsi:type="dcterms:W3CDTF">2006-09-21T23:59:20Z</dcterms:modified>
  <cp:revision>2</cp:revision>
  <dc:subject/>
  <dc:title>iWARP Status</dc:title>
</cp:coreProperties>
</file>