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97B1-ABDF-4CD5-93D2-5F00BA9E2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744560" y="941400"/>
            <a:ext cx="3610080" cy="2708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akea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stent set of compliance tools removes guesswork from the product design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results map clearly back to specific requirements in the Test Specification (STS), and TS requirements are objectively derived from the architecture spec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result is a “chain of predictability” leading to less expensive product designs that are brought to market soo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AC62-FD09-4A8C-8F14-7B782A95E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CCB7-E392-47DC-A222-9C8F16D0D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079B-837A-49DE-A0BB-9982ADD69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DA90-183A-4F18-9F59-32C2F384C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635F-9684-4EDC-B59A-AD2321713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6CAE-5559-4A00-A3A3-ABC6639594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1799-B63D-417E-8505-E129F35F32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277D-0C3E-44FD-B249-8D0AC1B61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90D9-5DA8-45EA-BF04-735376425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F95F-73F6-4D6D-BB87-EA93EDFDC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EB6B-BB2D-4F6A-86FF-83C70A229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C71F-203E-4345-8ED9-052BE83E9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A117-9CB8-46BC-A7A8-EDD57BE2E2B7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D88B-D7EC-41E7-8038-13954793514B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finibandta.org/itinfo/I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finibandta.org/itinfo/I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6200" y="810720"/>
            <a:ext cx="7458120" cy="18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finiBand Trade Associatio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velopers Conferen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IWG Updat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33160" y="3048120"/>
            <a:ext cx="4343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uan Phamdo – CIW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pert Dance – CIW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– CIWG Activitie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50440" y="990360"/>
            <a:ext cx="78296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iance and Interoperability are essential elements for the success of InfiniBand Architecture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IWG is chartered to manage the InfiniBand Trade Association’s Compliance and Interoperability Pro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lugfest Objectiv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 industry to design for C&amp;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 confidence that InfiniBand Products are compliant and interoperable within the InfiniBand Architecture framework thru IBTA sponsored plugfes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the advance of InfiniBand Architecture technolo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lugfest Roadma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wice a year (next one in October 2006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or List updated at each PlugFe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Interoperability Test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jal Das, Mella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an Phamdo, In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pert Dance – Lamprey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A IWG Ch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518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and Execute interoperability testing policies, processes and procedures for the OpenFabrics software sta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ed on Interoperability and not comp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666880"/>
            <a:ext cx="852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IWG Deliver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3429000"/>
            <a:ext cx="8518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operability Test Spec – version 1.0 now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vendor to host Interoperability events - UNH I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Logo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ll Interop demo at SC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A IWG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1219320"/>
            <a:ext cx="8518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in April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BTA but focused on Interop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 – responsible for writing Interop Test Spec, maintaining the Logo program and promoting the use of the OFA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H IOL – responsible for test implementation and running the Interoperability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3429000"/>
            <a:ext cx="85233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IWG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4440" y="4024440"/>
            <a:ext cx="8518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Member Companies and 30 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lsio, Cisco, Flextronics, Intel, Lamprey Networks, Lawrence Livermore Labs, LSI Logic, Mellanox, Network Appliance, NetEffect, QLogic, SilverStorm, System Fabric Works, UNH IOL and Vol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316080"/>
            <a:ext cx="7162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A Membership Benefit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Membership: $10K/y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ew Hampshire-Interop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nd maintain an Interop Test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Interop Tes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 and sponsor Plugf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On-Demand testing for members who wish to test outside of Plugf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membership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scheduled events and on-demand testing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 for Logo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members can participate in the scheduled events for $5K/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ligible for on-demand testing and logo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G works with the OFA Marketing Group to promote the LOGO program that is based on Interop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8080" cy="766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838080" cy="766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143000" y="1143000"/>
            <a:ext cx="5638680" cy="251460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566768">
                  <a:alpha val="20000"/>
                </a:srgbClr>
              </a:gs>
            </a:gsLst>
            <a:lin ang="5400000"/>
          </a:gra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3809880"/>
            <a:ext cx="5638680" cy="1600200"/>
          </a:xfrm>
          <a:prstGeom prst="rect">
            <a:avLst/>
          </a:prstGeom>
          <a:gradFill rotWithShape="0">
            <a:gsLst>
              <a:gs pos="0">
                <a:srgbClr val="ffcc99">
                  <a:alpha val="20000"/>
                </a:srgbClr>
              </a:gs>
              <a:gs pos="100000">
                <a:srgbClr val="755e46">
                  <a:alpha val="20000"/>
                </a:srgbClr>
              </a:gs>
            </a:gsLst>
            <a:lin ang="5400000"/>
          </a:gra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cen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2666880"/>
            <a:ext cx="12952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133720"/>
            <a:ext cx="1676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22096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228600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3886200"/>
            <a:ext cx="15238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4800600"/>
            <a:ext cx="15238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-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4343400"/>
            <a:ext cx="15238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441972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-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3886200"/>
            <a:ext cx="1676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Swit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121932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P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1523880"/>
            <a:ext cx="304920" cy="30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1447920"/>
            <a:ext cx="30492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2743200"/>
            <a:ext cx="1218960" cy="533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1219320"/>
            <a:ext cx="1523880" cy="5331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P to Fi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581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2209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6386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048120"/>
            <a:ext cx="12193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19720" y="2819520"/>
            <a:ext cx="30456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2743200"/>
            <a:ext cx="304920" cy="30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581280" y="2666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4800600"/>
            <a:ext cx="12189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4572000"/>
            <a:ext cx="30492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4495680"/>
            <a:ext cx="30492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057400"/>
            <a:ext cx="1600200" cy="533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362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3962520"/>
            <a:ext cx="1600200" cy="5331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cc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to Fib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0120" y="2590920"/>
            <a:ext cx="1371600" cy="1066680"/>
          </a:xfrm>
          <a:prstGeom prst="ellipse">
            <a:avLst/>
          </a:prstGeom>
          <a:gradFill rotWithShape="0">
            <a:gsLst>
              <a:gs pos="0">
                <a:srgbClr val="cc99ff">
                  <a:alpha val="40000"/>
                </a:srgbClr>
              </a:gs>
              <a:gs pos="100000">
                <a:srgbClr val="5e4675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4191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3059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1447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05920" y="1447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2590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17524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182880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1828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32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6920" y="4114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5562720"/>
            <a:ext cx="914400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ility across InfiniBand and iWARP fa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ility with other fabric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5029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Fab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12193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Fab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09680" y="3048120"/>
            <a:ext cx="10670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FS-RDM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4800600"/>
            <a:ext cx="9907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FS-RDM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2666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2819520"/>
            <a:ext cx="30492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8120" y="2743200"/>
            <a:ext cx="304560" cy="30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4572000"/>
            <a:ext cx="30492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4495680"/>
            <a:ext cx="30456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057400" y="304920"/>
            <a:ext cx="5191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Fabrics Software St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286760" y="1219320"/>
          <a:ext cx="1724040" cy="4114800"/>
        </p:xfrm>
        <a:graphic>
          <a:graphicData uri="http://schemas.openxmlformats.org/drawingml/2006/table">
            <a:tbl>
              <a:tblPr/>
              <a:tblGrid>
                <a:gridCol w="542880"/>
                <a:gridCol w="1181160"/>
              </a:tblGrid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Administr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Datagr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Manager Ag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Manager Ag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I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over InfiniB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kets Direct Protoc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SI RDMA Protocol (Initiat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CSI RDMA Protocol (Initiat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le Datagram Serv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AP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Direct Access Programming Li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Channel Adap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-N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MA N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7286760" y="5372280"/>
            <a:ext cx="1724040" cy="79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16960" y="5433840"/>
            <a:ext cx="60012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716960" y="5680080"/>
            <a:ext cx="600120" cy="18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716960" y="5925960"/>
            <a:ext cx="618840" cy="184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W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86760" y="54338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1233360"/>
            <a:ext cx="7086600" cy="1629000"/>
          </a:xfrm>
          <a:prstGeom prst="rect">
            <a:avLst/>
          </a:prstGeom>
          <a:gradFill rotWithShape="0">
            <a:gsLst>
              <a:gs pos="0">
                <a:srgbClr val="6600cc">
                  <a:alpha val="20000"/>
                </a:srgbClr>
              </a:gs>
              <a:gs pos="100000">
                <a:srgbClr val="2f00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7086600" cy="2819520"/>
          </a:xfrm>
          <a:prstGeom prst="rect">
            <a:avLst/>
          </a:prstGeom>
          <a:gradFill rotWithShape="0">
            <a:gsLst>
              <a:gs pos="0">
                <a:srgbClr val="ccffcc">
                  <a:alpha val="20000"/>
                </a:srgbClr>
              </a:gs>
              <a:gs pos="100000">
                <a:srgbClr val="5e75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5791320"/>
            <a:ext cx="13716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H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5791320"/>
            <a:ext cx="3808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5791320"/>
            <a:ext cx="3808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5791320"/>
            <a:ext cx="144792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WARP R-N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5791320"/>
            <a:ext cx="38124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24280" y="5791320"/>
            <a:ext cx="38124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5257800"/>
            <a:ext cx="13716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5257800"/>
            <a:ext cx="14479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 Spec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5257800"/>
            <a:ext cx="3808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525780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525780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4295880"/>
            <a:ext cx="685800" cy="352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05320" y="5791320"/>
            <a:ext cx="3808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05320" y="5257800"/>
            <a:ext cx="3808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5791320"/>
            <a:ext cx="38124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525780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62000" y="4191120"/>
            <a:ext cx="3906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71760" y="4724280"/>
            <a:ext cx="5057640" cy="304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OpenFabrics Kernel Level Verbs / API                         iW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71760" y="4191120"/>
            <a:ext cx="3618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4286160"/>
            <a:ext cx="761760" cy="362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38560" y="3838680"/>
            <a:ext cx="1676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straction (CM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95280" y="2357280"/>
            <a:ext cx="5715000" cy="219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Fabrics User Level    Verbs / AP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iW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3271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90920" y="3271680"/>
            <a:ext cx="4572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Po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3271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19720" y="3271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32716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29040" y="2643120"/>
            <a:ext cx="55224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 L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14520" y="2033640"/>
            <a:ext cx="847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Leve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 AP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14480" y="1652760"/>
            <a:ext cx="4381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4520" y="1652760"/>
            <a:ext cx="3427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280" y="571500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51436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2280" y="37530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29955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5791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5257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80" y="4114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280" y="307512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per Layer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2300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2971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ernel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25909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User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3271680"/>
            <a:ext cx="685800" cy="381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FS-RD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3271680"/>
            <a:ext cx="609480" cy="381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lu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ile S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213372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17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1766880"/>
            <a:ext cx="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1766880"/>
            <a:ext cx="93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132552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19920" y="1766880"/>
            <a:ext cx="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1766880"/>
            <a:ext cx="0" cy="15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48320" y="176688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14800" y="3119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3119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283356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19520" y="1766880"/>
            <a:ext cx="0" cy="15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38480" y="2271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90760" y="4191120"/>
            <a:ext cx="380880" cy="447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3119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05520" y="3119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81480" y="1309680"/>
            <a:ext cx="6858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luste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B 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cke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ase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309680"/>
            <a:ext cx="53352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ario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P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1309680"/>
            <a:ext cx="60984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P Bas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1219320"/>
            <a:ext cx="7086600" cy="495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19954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64600" y="5433840"/>
            <a:ext cx="600120" cy="669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pps &amp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ethod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r using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F St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207180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DAP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191448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79096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1320" y="2209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343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754920" y="4410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6317640" y="4410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2040" y="4124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09720" y="2581200"/>
            <a:ext cx="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8080" cy="7668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838080" cy="766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143000" y="1143000"/>
            <a:ext cx="5638680" cy="251460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566768">
                  <a:alpha val="20000"/>
                </a:srgbClr>
              </a:gs>
            </a:gsLst>
            <a:lin ang="5400000"/>
          </a:gra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43000" y="3809880"/>
            <a:ext cx="5638680" cy="1600200"/>
          </a:xfrm>
          <a:prstGeom prst="rect">
            <a:avLst/>
          </a:prstGeom>
          <a:gradFill rotWithShape="0">
            <a:gsLst>
              <a:gs pos="0">
                <a:srgbClr val="ffcc99">
                  <a:alpha val="20000"/>
                </a:srgbClr>
              </a:gs>
              <a:gs pos="100000">
                <a:srgbClr val="755e46">
                  <a:alpha val="20000"/>
                </a:srgbClr>
              </a:gs>
            </a:gsLst>
            <a:lin ang="5400000"/>
          </a:gra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 Plan v1.0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2666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95480" y="2133720"/>
            <a:ext cx="1676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22096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05120" y="228600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3962520"/>
            <a:ext cx="15238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19320" y="4876920"/>
            <a:ext cx="15238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81080" y="40384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-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4419720"/>
            <a:ext cx="15238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81080" y="44956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-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00400" y="3886200"/>
            <a:ext cx="1676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Swit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121932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P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3400" y="1523880"/>
            <a:ext cx="304920" cy="30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1447920"/>
            <a:ext cx="30492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581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52680" y="3048120"/>
            <a:ext cx="12193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19720" y="2819520"/>
            <a:ext cx="30456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2743200"/>
            <a:ext cx="304920" cy="30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581280" y="2666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4800600"/>
            <a:ext cx="12189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00600" y="4572000"/>
            <a:ext cx="30492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52880" y="4495680"/>
            <a:ext cx="30492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862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19320" y="17524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05120" y="182880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828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718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4320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1460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1460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4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432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562720"/>
            <a:ext cx="914400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ility with some fabric components within fab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fabric interoperability tests in later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5029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Fab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19320" y="12193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Fab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10280" y="19051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v1.x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10280" y="41911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v2.x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523880" y="304920"/>
            <a:ext cx="5191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lan v1.0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7286760" y="1219320"/>
          <a:ext cx="1724040" cy="4114800"/>
        </p:xfrm>
        <a:graphic>
          <a:graphicData uri="http://schemas.openxmlformats.org/drawingml/2006/table">
            <a:tbl>
              <a:tblPr/>
              <a:tblGrid>
                <a:gridCol w="542880"/>
                <a:gridCol w="1181160"/>
              </a:tblGrid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Administr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Datagr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Manager Ag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Manager Ag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I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over InfiniB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kets Direct Protoc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SI RDMA Protocol (Initiat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CSI RDMA Protocol (Initiat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le Datagram Serv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AP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Direct Access Programming Li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Channel Adap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-N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MA N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"/>
          <p:cNvSpPr/>
          <p:nvPr/>
        </p:nvSpPr>
        <p:spPr>
          <a:xfrm>
            <a:off x="7286760" y="5372280"/>
            <a:ext cx="1724040" cy="79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716960" y="5433840"/>
            <a:ext cx="60012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16960" y="5680080"/>
            <a:ext cx="600120" cy="18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16960" y="5925960"/>
            <a:ext cx="618840" cy="184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W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286760" y="54338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1233360"/>
            <a:ext cx="7086600" cy="1629000"/>
          </a:xfrm>
          <a:prstGeom prst="rect">
            <a:avLst/>
          </a:prstGeom>
          <a:gradFill rotWithShape="0">
            <a:gsLst>
              <a:gs pos="0">
                <a:srgbClr val="6600cc">
                  <a:alpha val="20000"/>
                </a:srgbClr>
              </a:gs>
              <a:gs pos="100000">
                <a:srgbClr val="2f00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280" y="2895480"/>
            <a:ext cx="7086600" cy="2819520"/>
          </a:xfrm>
          <a:prstGeom prst="rect">
            <a:avLst/>
          </a:prstGeom>
          <a:gradFill rotWithShape="0">
            <a:gsLst>
              <a:gs pos="0">
                <a:srgbClr val="ccffcc">
                  <a:alpha val="20000"/>
                </a:srgbClr>
              </a:gs>
              <a:gs pos="100000">
                <a:srgbClr val="5e75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43000" y="5791320"/>
            <a:ext cx="13716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H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67280" y="5791320"/>
            <a:ext cx="121932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etEffect R-N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5257800"/>
            <a:ext cx="13716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257800"/>
            <a:ext cx="12193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 Spec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4295880"/>
            <a:ext cx="685800" cy="352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62000" y="4191120"/>
            <a:ext cx="3906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71760" y="4724280"/>
            <a:ext cx="5057640" cy="304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OpenFabrics Kernel Level Verbs / API                          iW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71760" y="4191120"/>
            <a:ext cx="3618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19720" y="4286160"/>
            <a:ext cx="761760" cy="362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38560" y="3838680"/>
            <a:ext cx="1676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straction (CM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2357280"/>
            <a:ext cx="5715000" cy="219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Fabrics User Level    Verbs / AP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iW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24080" y="3271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90920" y="3271680"/>
            <a:ext cx="4572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Po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62520" y="3271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19720" y="3271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29040" y="2643120"/>
            <a:ext cx="55224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 L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14520" y="2033640"/>
            <a:ext cx="847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Leve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 AP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14480" y="1652760"/>
            <a:ext cx="4381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14520" y="1652760"/>
            <a:ext cx="3427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2280" y="571500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51436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37530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280" y="29955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2280" y="5791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5257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4114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280" y="307512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per Layer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" y="2300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2971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ernel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1080" y="25909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User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24080" y="213372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17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43400" y="1766880"/>
            <a:ext cx="93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132552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176688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14800" y="3119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3119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283356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1766880"/>
            <a:ext cx="0" cy="15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38480" y="2271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390760" y="4191120"/>
            <a:ext cx="380880" cy="447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04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cke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ase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09680"/>
            <a:ext cx="53352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ario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P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95680" y="1309680"/>
            <a:ext cx="60984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P Bas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280" y="1219320"/>
            <a:ext cx="7086600" cy="495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2280" y="19954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64600" y="5433840"/>
            <a:ext cx="600120" cy="669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pps &amp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ethod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r using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F St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57600" y="207180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DAP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52680" y="191448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7160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343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6200000">
            <a:off x="754920" y="4410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6317640" y="4410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62040" y="4124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809720" y="2581200"/>
            <a:ext cx="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590920" y="5791320"/>
            <a:ext cx="13716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QLogic H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5257800"/>
            <a:ext cx="13716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5791320"/>
            <a:ext cx="121932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mmasso R-N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0" y="5257800"/>
            <a:ext cx="12193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 Spec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iniBand Specific Test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M (in serv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tary Subnet Managers (in switch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CMA or InfiniBand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nect/re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y, port states, error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 fai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– I/F, subnet, multicast, ping, 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ER/SRP – connection, recovery, D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7680" y="90000"/>
            <a:ext cx="852336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esentation Goal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186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5065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IWG Charter and Organiz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5065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ompliance and Interoperabilit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5065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BTA October 2006 Plugfes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5065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DR and DDR Test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5065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L Lis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WARP Specific Test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CMA or iWARP C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and multiple iWARP connections and RDMA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nect/re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speed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Independent Test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C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ER – connection, recovery, D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– netperf, FTP, SCP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PL – connection, verification, end-points, RDMA R/W, threads, pipeline, point-to-point and switched to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– benchmark tests, different SMs (IB), RDMA R/W, all-to-all connections, dynamic connections,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A Interop E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week and location as IBTA Plug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: October 11-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: UNH-IOL – Durham, 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 Test Plan v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Intel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IB HCAs and 2 iWARP R-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IB Switches and one 10 GbE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L 4.0 Updat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ED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-UNH IOL Tested Logo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781280" y="1371600"/>
            <a:ext cx="5076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A-UNH IOL Tested 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lling end-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ge vendor equipment interoperability using trusted source (UNH-I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bring-up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with log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ter end-user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aying members only ($10K/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, IWG, or UNH-IOL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, proven to work or  inter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o Program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&amp; UNH-IOL Tested”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ed to vendors that meet following three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 and complete testing in IWG and UNH-IOL hosted test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d events or on-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UNH-IOL issued test report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sure integrity of OFA &amp; UNH-IOL “Tested”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logo license agreement (administered by OFA-I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s can opt to keep results confidential by not applying fo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 signifies “tested”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l test report validates actual extent of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o Usage (Scenari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PR and marketing colla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s granting of Logo by IWG and UNH-I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logo in product and 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s with IWG-IOL 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versions, what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, fail, worka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visibility in UNH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participation in multi-vendor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nd users, SCINET organizer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A IWG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1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ember Companies and 30 particip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l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prey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rence Livermore 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I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p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verSt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abric 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H 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Backup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IWG Backu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9760" y="90360"/>
            <a:ext cx="852336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IWG Charte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0760" y="685440"/>
            <a:ext cx="8518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fine, implement and oversee an effective IBTA Compliance and Interoperability Program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143000"/>
            <a:ext cx="852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IWG Deliver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1752480"/>
            <a:ext cx="851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finiBand Compliance Test Specification and Test Su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cess for InfiniBand Compliance and Interoperability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lugf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895480"/>
            <a:ext cx="852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IWG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505320"/>
            <a:ext cx="8518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agement group – responsible for Volume 1 Spec review and writing Test Descriptions (T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hysical Group – responsible for Volume 2 Spec review and updating TDs and M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lugfest group – responsible for organizing PlugFest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amprey Networks – responsible for test implementation and running the Plugf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4967280"/>
            <a:ext cx="85233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IWG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760" y="5562720"/>
            <a:ext cx="851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2 Member Companies, 110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7680" y="275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42720" y="3365280"/>
            <a:ext cx="7521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ystem vend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etter user experience -- system “just works”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mpliant peripherals reduce support call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ipherals vend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mpliant components reduce support calls and product retur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onger peripheral sal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uilding blocks (silicon, software, etc.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onger system and peripheral sales lead to stronger “building block” sal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7621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ducts do not operate in vac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Your InfiniBand Product will operate with others in customer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ect compliance to the InfiniBand Specification leads to successful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ing with other products is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ividual product functional testing is not adequ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47680" y="90360"/>
            <a:ext cx="8523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mpor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IWG Membershi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2 Member Companies, 110 participants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isco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lextronic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oxcon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ujitsu Components America, Inc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olden Bridge Electech, Inc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ewlett-Packard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tachi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t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amprey Network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EONI Special Cable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I Logi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ellanox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olex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E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ndui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QLogi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ilverStorm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u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yco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Voltair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W.L. Gor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Key Milestones and Deliverab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WG Formed -- August 200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st Plugfest -  June 200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Specification - June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rst Integrator List Launch - June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lugfest – March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ril 2006 – Updated IL Li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http://www.infinibandta.org/itinfo/I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lugfest – October 2006 – IBTA/OFA Joint Sess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mpliance and Interoperabilit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18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finiBand Architecture specif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s the Protoc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s compliance require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success of InfiniBand Architecture depends on rolling out products th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et the architecture requirements (Complianc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 seamlessly together (Interoperabilit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18760" y="-360"/>
            <a:ext cx="7494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mpliance &amp; Interoperability Tool Mapping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09840" y="3505320"/>
            <a:ext cx="2335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1" i="1" lang="en-US" sz="2400" spc="-1" strike="noStrike">
                <a:solidFill>
                  <a:srgbClr val="339966"/>
                </a:solidFill>
                <a:latin typeface="Arial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ly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Spec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3920" y="3505320"/>
            <a:ext cx="1911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A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66"/>
                </a:solidFill>
                <a:latin typeface="Arial"/>
              </a:rPr>
              <a:t>Descri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47200" y="3505320"/>
            <a:ext cx="19969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66"/>
                </a:solidFill>
                <a:latin typeface="Arial"/>
              </a:rPr>
              <a:t>Interpr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i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339966"/>
                </a:solidFill>
                <a:latin typeface="Arial"/>
              </a:rPr>
              <a:t>Def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7520" y="4086360"/>
            <a:ext cx="1965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H/W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66"/>
                </a:solidFill>
                <a:latin typeface="Arial"/>
              </a:rPr>
              <a:t>Vali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56600" y="1830240"/>
            <a:ext cx="422280" cy="438120"/>
          </a:xfrm>
          <a:custGeom>
            <a:avLst/>
            <a:gdLst>
              <a:gd name="textAreaLeft" fmla="*/ 15120 w 422280"/>
              <a:gd name="textAreaRight" fmla="*/ 407160 w 422280"/>
              <a:gd name="textAreaTop" fmla="*/ 15120 h 438120"/>
              <a:gd name="textAreaBottom" fmla="*/ 423000 h 438120"/>
            </a:gdLst>
            <a:ahLst/>
            <a:rect l="textAreaLeft" t="textAreaTop" r="textAreaRight" b="textAreaBottom"/>
            <a:pathLst>
              <a:path w="21600" h="22410">
                <a:moveTo>
                  <a:pt x="2697" y="0"/>
                </a:moveTo>
                <a:arcTo wR="2697" hR="2697" stAng="16200000" swAng="-5400000"/>
                <a:lnTo>
                  <a:pt x="0" y="19713"/>
                </a:lnTo>
                <a:arcTo wR="2697" hR="2697" stAng="10800000" swAng="-5400000"/>
                <a:lnTo>
                  <a:pt x="18903" y="22410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85040" y="1525680"/>
            <a:ext cx="455760" cy="722160"/>
          </a:xfrm>
          <a:custGeom>
            <a:avLst/>
            <a:gdLst/>
            <a:ahLst/>
            <a:rect l="l" t="t" r="r" b="b"/>
            <a:pathLst>
              <a:path w="287" h="455">
                <a:moveTo>
                  <a:pt x="32" y="211"/>
                </a:moveTo>
                <a:lnTo>
                  <a:pt x="0" y="335"/>
                </a:lnTo>
                <a:lnTo>
                  <a:pt x="110" y="454"/>
                </a:lnTo>
                <a:lnTo>
                  <a:pt x="286" y="53"/>
                </a:lnTo>
                <a:lnTo>
                  <a:pt x="286" y="0"/>
                </a:lnTo>
                <a:lnTo>
                  <a:pt x="90" y="338"/>
                </a:lnTo>
                <a:lnTo>
                  <a:pt x="32" y="211"/>
                </a:lnTo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56600" y="2637000"/>
            <a:ext cx="422280" cy="438120"/>
          </a:xfrm>
          <a:custGeom>
            <a:avLst/>
            <a:gdLst>
              <a:gd name="textAreaLeft" fmla="*/ 15120 w 422280"/>
              <a:gd name="textAreaRight" fmla="*/ 407160 w 422280"/>
              <a:gd name="textAreaTop" fmla="*/ 15120 h 438120"/>
              <a:gd name="textAreaBottom" fmla="*/ 423000 h 438120"/>
            </a:gdLst>
            <a:ahLst/>
            <a:rect l="textAreaLeft" t="textAreaTop" r="textAreaRight" b="textAreaBottom"/>
            <a:pathLst>
              <a:path w="21600" h="22410">
                <a:moveTo>
                  <a:pt x="2693" y="0"/>
                </a:moveTo>
                <a:arcTo wR="2693" hR="2693" stAng="16200000" swAng="-5400000"/>
                <a:lnTo>
                  <a:pt x="0" y="19717"/>
                </a:lnTo>
                <a:arcTo wR="2693" hR="2693" stAng="10800000" swAng="-5400000"/>
                <a:lnTo>
                  <a:pt x="18907" y="22410"/>
                </a:lnTo>
                <a:arcTo wR="2693" hR="2693" stAng="5400000" swAng="-5400000"/>
                <a:lnTo>
                  <a:pt x="21600" y="2693"/>
                </a:lnTo>
                <a:arcTo wR="2693" hR="2693" stAng="0" swAng="-5400000"/>
                <a:close/>
              </a:path>
            </a:pathLst>
          </a:cu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35400" y="1952640"/>
            <a:ext cx="114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50880" y="2619360"/>
            <a:ext cx="97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876920" y="1600200"/>
            <a:ext cx="1447560" cy="1347840"/>
            <a:chOff x="4876920" y="1600200"/>
            <a:chExt cx="1447560" cy="1347840"/>
          </a:xfrm>
        </p:grpSpPr>
        <p:grpSp>
          <p:nvGrpSpPr>
            <p:cNvPr id="202" name=""/>
            <p:cNvGrpSpPr/>
            <p:nvPr/>
          </p:nvGrpSpPr>
          <p:grpSpPr>
            <a:xfrm>
              <a:off x="4876920" y="1871640"/>
              <a:ext cx="1022400" cy="1076400"/>
              <a:chOff x="4876920" y="1871640"/>
              <a:chExt cx="1022400" cy="1076400"/>
            </a:xfrm>
          </p:grpSpPr>
          <p:sp>
            <p:nvSpPr>
              <p:cNvPr id="203" name=""/>
              <p:cNvSpPr/>
              <p:nvPr/>
            </p:nvSpPr>
            <p:spPr>
              <a:xfrm>
                <a:off x="4897440" y="1886040"/>
                <a:ext cx="1001880" cy="1062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76920" y="1871640"/>
                <a:ext cx="1000080" cy="106056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9360" y="2246400"/>
                <a:ext cx="291960" cy="309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49880" y="2268720"/>
                <a:ext cx="250920" cy="264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89560" y="2559240"/>
                <a:ext cx="120600" cy="368280"/>
              </a:xfrm>
              <a:custGeom>
                <a:avLst/>
                <a:gdLst/>
                <a:ahLst/>
                <a:rect l="l" t="t" r="r" b="b"/>
                <a:pathLst>
                  <a:path w="76" h="232">
                    <a:moveTo>
                      <a:pt x="0" y="4"/>
                    </a:moveTo>
                    <a:lnTo>
                      <a:pt x="33" y="231"/>
                    </a:lnTo>
                    <a:lnTo>
                      <a:pt x="59" y="225"/>
                    </a:lnTo>
                    <a:lnTo>
                      <a:pt x="75" y="220"/>
                    </a:lnTo>
                    <a:lnTo>
                      <a:pt x="1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18000" y="2535480"/>
                <a:ext cx="181080" cy="374400"/>
              </a:xfrm>
              <a:custGeom>
                <a:avLst/>
                <a:gdLst/>
                <a:ahLst/>
                <a:rect l="l" t="t" r="r" b="b"/>
                <a:pathLst>
                  <a:path w="114" h="236">
                    <a:moveTo>
                      <a:pt x="0" y="15"/>
                    </a:moveTo>
                    <a:lnTo>
                      <a:pt x="17" y="8"/>
                    </a:lnTo>
                    <a:lnTo>
                      <a:pt x="26" y="0"/>
                    </a:lnTo>
                    <a:lnTo>
                      <a:pt x="113" y="213"/>
                    </a:lnTo>
                    <a:lnTo>
                      <a:pt x="83" y="226"/>
                    </a:lnTo>
                    <a:lnTo>
                      <a:pt x="58" y="23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457960" y="2521080"/>
                <a:ext cx="203040" cy="353880"/>
              </a:xfrm>
              <a:custGeom>
                <a:avLst/>
                <a:gdLst/>
                <a:ahLst/>
                <a:rect l="l" t="t" r="r" b="b"/>
                <a:pathLst>
                  <a:path w="128" h="223">
                    <a:moveTo>
                      <a:pt x="16" y="0"/>
                    </a:moveTo>
                    <a:lnTo>
                      <a:pt x="127" y="198"/>
                    </a:lnTo>
                    <a:lnTo>
                      <a:pt x="117" y="204"/>
                    </a:lnTo>
                    <a:lnTo>
                      <a:pt x="88" y="222"/>
                    </a:lnTo>
                    <a:lnTo>
                      <a:pt x="0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40160" y="1878120"/>
                <a:ext cx="120960" cy="366840"/>
              </a:xfrm>
              <a:custGeom>
                <a:avLst/>
                <a:gdLst/>
                <a:ahLst/>
                <a:rect l="l" t="t" r="r" b="b"/>
                <a:pathLst>
                  <a:path w="76" h="231">
                    <a:moveTo>
                      <a:pt x="75" y="226"/>
                    </a:moveTo>
                    <a:lnTo>
                      <a:pt x="41" y="0"/>
                    </a:lnTo>
                    <a:lnTo>
                      <a:pt x="16" y="5"/>
                    </a:lnTo>
                    <a:lnTo>
                      <a:pt x="0" y="10"/>
                    </a:lnTo>
                    <a:lnTo>
                      <a:pt x="57" y="230"/>
                    </a:lnTo>
                    <a:lnTo>
                      <a:pt x="75" y="226"/>
                    </a:lnTo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53040" y="1892520"/>
                <a:ext cx="179280" cy="376200"/>
              </a:xfrm>
              <a:custGeom>
                <a:avLst/>
                <a:gdLst/>
                <a:ahLst/>
                <a:rect l="l" t="t" r="r" b="b"/>
                <a:pathLst>
                  <a:path w="113" h="237">
                    <a:moveTo>
                      <a:pt x="112" y="221"/>
                    </a:moveTo>
                    <a:lnTo>
                      <a:pt x="94" y="229"/>
                    </a:lnTo>
                    <a:lnTo>
                      <a:pt x="85" y="236"/>
                    </a:lnTo>
                    <a:lnTo>
                      <a:pt x="0" y="22"/>
                    </a:lnTo>
                    <a:lnTo>
                      <a:pt x="28" y="11"/>
                    </a:lnTo>
                    <a:lnTo>
                      <a:pt x="55" y="0"/>
                    </a:lnTo>
                    <a:lnTo>
                      <a:pt x="112" y="221"/>
                    </a:lnTo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091120" y="1927440"/>
                <a:ext cx="200160" cy="353880"/>
              </a:xfrm>
              <a:custGeom>
                <a:avLst/>
                <a:gdLst/>
                <a:ahLst/>
                <a:rect l="l" t="t" r="r" b="b"/>
                <a:pathLst>
                  <a:path w="126" h="223">
                    <a:moveTo>
                      <a:pt x="110" y="222"/>
                    </a:moveTo>
                    <a:lnTo>
                      <a:pt x="0" y="28"/>
                    </a:lnTo>
                    <a:lnTo>
                      <a:pt x="9" y="19"/>
                    </a:lnTo>
                    <a:lnTo>
                      <a:pt x="39" y="0"/>
                    </a:lnTo>
                    <a:lnTo>
                      <a:pt x="125" y="213"/>
                    </a:lnTo>
                    <a:lnTo>
                      <a:pt x="110" y="222"/>
                    </a:lnTo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78320" y="2297160"/>
                <a:ext cx="190440" cy="206280"/>
              </a:xfrm>
              <a:prstGeom prst="ellipse">
                <a:avLst/>
              </a:pr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5248440" y="1600200"/>
              <a:ext cx="1076040" cy="1024200"/>
              <a:chOff x="5248440" y="1600200"/>
              <a:chExt cx="1076040" cy="1024200"/>
            </a:xfrm>
          </p:grpSpPr>
          <p:sp>
            <p:nvSpPr>
              <p:cNvPr id="215" name=""/>
              <p:cNvSpPr/>
              <p:nvPr/>
            </p:nvSpPr>
            <p:spPr>
              <a:xfrm>
                <a:off x="5262480" y="1600200"/>
                <a:ext cx="1062000" cy="1001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48440" y="1623960"/>
                <a:ext cx="1060200" cy="10004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624640" y="1978200"/>
                <a:ext cx="309600" cy="291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46600" y="1998720"/>
                <a:ext cx="265320" cy="250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35680" y="1990800"/>
                <a:ext cx="368280" cy="120600"/>
              </a:xfrm>
              <a:custGeom>
                <a:avLst/>
                <a:gdLst/>
                <a:ahLst/>
                <a:rect l="l" t="t" r="r" b="b"/>
                <a:pathLst>
                  <a:path w="232" h="76">
                    <a:moveTo>
                      <a:pt x="4" y="75"/>
                    </a:moveTo>
                    <a:lnTo>
                      <a:pt x="231" y="42"/>
                    </a:lnTo>
                    <a:lnTo>
                      <a:pt x="225" y="16"/>
                    </a:lnTo>
                    <a:lnTo>
                      <a:pt x="220" y="0"/>
                    </a:lnTo>
                    <a:lnTo>
                      <a:pt x="0" y="57"/>
                    </a:lnTo>
                    <a:lnTo>
                      <a:pt x="4" y="75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911920" y="1901880"/>
                <a:ext cx="374760" cy="181080"/>
              </a:xfrm>
              <a:custGeom>
                <a:avLst/>
                <a:gdLst/>
                <a:ahLst/>
                <a:rect l="l" t="t" r="r" b="b"/>
                <a:pathLst>
                  <a:path w="236" h="114">
                    <a:moveTo>
                      <a:pt x="15" y="113"/>
                    </a:moveTo>
                    <a:lnTo>
                      <a:pt x="8" y="96"/>
                    </a:lnTo>
                    <a:lnTo>
                      <a:pt x="0" y="87"/>
                    </a:lnTo>
                    <a:lnTo>
                      <a:pt x="213" y="0"/>
                    </a:lnTo>
                    <a:lnTo>
                      <a:pt x="226" y="30"/>
                    </a:lnTo>
                    <a:lnTo>
                      <a:pt x="235" y="55"/>
                    </a:lnTo>
                    <a:lnTo>
                      <a:pt x="15" y="113"/>
                    </a:lnTo>
                  </a:path>
                </a:pathLst>
              </a:cu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97520" y="1839960"/>
                <a:ext cx="353880" cy="203400"/>
              </a:xfrm>
              <a:custGeom>
                <a:avLst/>
                <a:gdLst/>
                <a:ahLst/>
                <a:rect l="l" t="t" r="r" b="b"/>
                <a:pathLst>
                  <a:path w="223" h="128">
                    <a:moveTo>
                      <a:pt x="0" y="111"/>
                    </a:moveTo>
                    <a:lnTo>
                      <a:pt x="198" y="0"/>
                    </a:lnTo>
                    <a:lnTo>
                      <a:pt x="204" y="10"/>
                    </a:lnTo>
                    <a:lnTo>
                      <a:pt x="222" y="39"/>
                    </a:lnTo>
                    <a:lnTo>
                      <a:pt x="10" y="127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54560" y="2140200"/>
                <a:ext cx="366840" cy="120600"/>
              </a:xfrm>
              <a:custGeom>
                <a:avLst/>
                <a:gdLst/>
                <a:ahLst/>
                <a:rect l="l" t="t" r="r" b="b"/>
                <a:pathLst>
                  <a:path w="231" h="76">
                    <a:moveTo>
                      <a:pt x="226" y="0"/>
                    </a:moveTo>
                    <a:lnTo>
                      <a:pt x="0" y="34"/>
                    </a:lnTo>
                    <a:lnTo>
                      <a:pt x="5" y="59"/>
                    </a:lnTo>
                    <a:lnTo>
                      <a:pt x="10" y="75"/>
                    </a:lnTo>
                    <a:lnTo>
                      <a:pt x="230" y="18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68960" y="2170080"/>
                <a:ext cx="376200" cy="179640"/>
              </a:xfrm>
              <a:custGeom>
                <a:avLst/>
                <a:gdLst/>
                <a:ahLst/>
                <a:rect l="l" t="t" r="r" b="b"/>
                <a:pathLst>
                  <a:path w="237" h="113">
                    <a:moveTo>
                      <a:pt x="221" y="0"/>
                    </a:moveTo>
                    <a:lnTo>
                      <a:pt x="229" y="18"/>
                    </a:lnTo>
                    <a:lnTo>
                      <a:pt x="236" y="27"/>
                    </a:lnTo>
                    <a:lnTo>
                      <a:pt x="22" y="112"/>
                    </a:lnTo>
                    <a:lnTo>
                      <a:pt x="11" y="84"/>
                    </a:lnTo>
                    <a:lnTo>
                      <a:pt x="0" y="57"/>
                    </a:lnTo>
                    <a:lnTo>
                      <a:pt x="221" y="0"/>
                    </a:lnTo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3880" y="2210040"/>
                <a:ext cx="353880" cy="199800"/>
              </a:xfrm>
              <a:custGeom>
                <a:avLst/>
                <a:gdLst/>
                <a:ahLst/>
                <a:rect l="l" t="t" r="r" b="b"/>
                <a:pathLst>
                  <a:path w="223" h="126">
                    <a:moveTo>
                      <a:pt x="222" y="15"/>
                    </a:moveTo>
                    <a:lnTo>
                      <a:pt x="28" y="125"/>
                    </a:lnTo>
                    <a:lnTo>
                      <a:pt x="19" y="116"/>
                    </a:lnTo>
                    <a:lnTo>
                      <a:pt x="0" y="86"/>
                    </a:lnTo>
                    <a:lnTo>
                      <a:pt x="213" y="0"/>
                    </a:lnTo>
                    <a:lnTo>
                      <a:pt x="222" y="15"/>
                    </a:lnTo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73600" y="2032200"/>
                <a:ext cx="206640" cy="190440"/>
              </a:xfrm>
              <a:prstGeom prst="ellipse">
                <a:avLst/>
              </a:pr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4944960" y="3505320"/>
            <a:ext cx="980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600200"/>
            <a:ext cx="1228680" cy="1788840"/>
            <a:chOff x="228600" y="1600200"/>
            <a:chExt cx="1228680" cy="1788840"/>
          </a:xfrm>
        </p:grpSpPr>
        <p:sp>
          <p:nvSpPr>
            <p:cNvPr id="228" name=""/>
            <p:cNvSpPr/>
            <p:nvPr/>
          </p:nvSpPr>
          <p:spPr>
            <a:xfrm>
              <a:off x="228600" y="1814400"/>
              <a:ext cx="1228680" cy="1574640"/>
            </a:xfrm>
            <a:prstGeom prst="rect">
              <a:avLst/>
            </a:prstGeom>
            <a:solidFill>
              <a:srgbClr val="339933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B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04880" y="1155600"/>
              <a:ext cx="187200" cy="1076400"/>
            </a:xfrm>
            <a:prstGeom prst="rtTriangl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521080" y="1600200"/>
            <a:ext cx="1222200" cy="1788840"/>
            <a:chOff x="2521080" y="1600200"/>
            <a:chExt cx="1222200" cy="1788840"/>
          </a:xfrm>
        </p:grpSpPr>
        <p:sp>
          <p:nvSpPr>
            <p:cNvPr id="231" name=""/>
            <p:cNvSpPr/>
            <p:nvPr/>
          </p:nvSpPr>
          <p:spPr>
            <a:xfrm>
              <a:off x="2521080" y="1814400"/>
              <a:ext cx="1222200" cy="1574640"/>
            </a:xfrm>
            <a:prstGeom prst="rect">
              <a:avLst/>
            </a:prstGeom>
            <a:solidFill>
              <a:srgbClr val="339933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2994120" y="1158840"/>
              <a:ext cx="187200" cy="1069920"/>
            </a:xfrm>
            <a:prstGeom prst="rtTriangl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962520" y="2152800"/>
            <a:ext cx="685800" cy="819000"/>
          </a:xfrm>
          <a:prstGeom prst="rightArrow">
            <a:avLst>
              <a:gd name="adj1" fmla="val 50000"/>
              <a:gd name="adj2" fmla="val 45218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152800"/>
            <a:ext cx="685800" cy="819000"/>
          </a:xfrm>
          <a:prstGeom prst="rightArrow">
            <a:avLst>
              <a:gd name="adj1" fmla="val 50000"/>
              <a:gd name="adj2" fmla="val 47514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77120" y="2152800"/>
            <a:ext cx="685800" cy="81900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41400" y="5931000"/>
            <a:ext cx="5545080" cy="544320"/>
          </a:xfrm>
          <a:prstGeom prst="rect">
            <a:avLst/>
          </a:prstGeom>
          <a:solidFill>
            <a:srgbClr val="339966"/>
          </a:solidFill>
          <a:ln w="25560">
            <a:solidFill>
              <a:srgbClr val="800080"/>
            </a:solidFill>
            <a:miter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5951520"/>
            <a:ext cx="411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ictable Path to C&amp;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545B-3DB9-4E57-91B7-EE2D1C5155ED}" type="slidenum">
              <a:t>6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TA Plugfes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18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BTA Plugfest will be held October 9-10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liance testing based on IBTA Spec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ysical Layer tests suites are being updated to Volume 2 v 1.2.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 and management tests are being updated to Volume 1 v 1.2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operability testing based on updated OFA Interop Test Pla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DR and DDR testing availab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ble testing will include both SDR and DDR tes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ysical Layer DDR Device testing will be conducted using the latest techniques and Tektronix equi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7680" y="90000"/>
            <a:ext cx="8523360" cy="7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DR and DDR testing detail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ysical layer tes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ble testing will include both SDR and DDR tes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DR and DDR Device testing will be conducted using the latest techniques and Tektronix equipment.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ugene Mayevskiy - Tektronix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Jay Diepenbrock - IB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John Calvin – Tektronix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col Layer Tes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sting will be conducted using the Agilent E2954 SDR Generat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re is currently no DDR generator availa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dressing, Management, Network and Transport tests are not affected by DD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ink Layer tes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7 of 42 tests are not affected by SDR/DDR issu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7-053 and C7-070 will only be verified at SDR ra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egrators Lis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518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990720"/>
            <a:ext cx="7947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inition of the Integrators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List includes a set of devices that passed the specified testing suite at a certain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IWG defines the testing process and the actual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grators List has been up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urrent – this list includes all and devices which passed at the most recent Plugf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chives - An Integrators' List has been published for each Plugfest since the first one in June 200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http://www.infinibandta.org/itinfo/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eri Winterberg</cp:lastModifiedBy>
  <dcterms:modified xsi:type="dcterms:W3CDTF">2006-09-25T03:16:1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