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336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955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919320" y="-360"/>
            <a:ext cx="29955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53800" y="690480"/>
            <a:ext cx="4608360" cy="34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20520" y="4378320"/>
            <a:ext cx="5072040" cy="4145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751600"/>
            <a:ext cx="29955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919320" y="8751600"/>
            <a:ext cx="29955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FDD9A46-2998-4471-B269-11A1A1D72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4160" y="69048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0520" y="4378320"/>
            <a:ext cx="5072040" cy="4145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hanging the “SL to VL Mapping Table values” and the “Forwarding Tables” too difficult, due to cyclic loop problem?  Due to overload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54160" y="69048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0520" y="4378320"/>
            <a:ext cx="5072040" cy="4145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tch Goal: Defining the communication mechanism between the QoS Manager and other managers (e.g. Congestion Control Manager, Device Manager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448DD-E929-47BD-A234-9345EF13B6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947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520" y="3962160"/>
            <a:ext cx="7947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71542-EE03-463C-903D-8506EAB8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877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52840" y="1295280"/>
            <a:ext cx="3877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520" y="3962160"/>
            <a:ext cx="3877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52840" y="3962160"/>
            <a:ext cx="3877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15C6F-5A9E-4678-BB2A-AC9DC918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585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67200" y="1295280"/>
            <a:ext cx="25585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54240" y="1295280"/>
            <a:ext cx="25585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520" y="3962160"/>
            <a:ext cx="25585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67200" y="3962160"/>
            <a:ext cx="25585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54240" y="3962160"/>
            <a:ext cx="25585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C48B8-4ACC-4E83-A671-AD93B046A3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947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947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877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52840" y="1295280"/>
            <a:ext cx="3877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75840" y="119160"/>
            <a:ext cx="785340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877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52840" y="1295280"/>
            <a:ext cx="3877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3962160"/>
            <a:ext cx="3877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947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B519B-7627-4B57-B268-1A64183F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877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52840" y="1295280"/>
            <a:ext cx="3877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452840" y="3962160"/>
            <a:ext cx="3877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877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52840" y="1295280"/>
            <a:ext cx="3877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3962160"/>
            <a:ext cx="7947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947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520" y="3962160"/>
            <a:ext cx="7947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877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52840" y="1295280"/>
            <a:ext cx="3877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520" y="3962160"/>
            <a:ext cx="3877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452840" y="3962160"/>
            <a:ext cx="3877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585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67200" y="1295280"/>
            <a:ext cx="25585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754240" y="1295280"/>
            <a:ext cx="25585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520" y="3962160"/>
            <a:ext cx="25585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67200" y="3962160"/>
            <a:ext cx="25585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754240" y="3962160"/>
            <a:ext cx="25585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947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D5C14-ACF9-40D9-9BBC-7CB77C74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877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52840" y="1295280"/>
            <a:ext cx="3877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49803-BE2E-40B0-8056-2AB3829C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2955E-0294-4D16-94EA-F35E5F4EA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75840" y="119160"/>
            <a:ext cx="785340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5ED19-D70F-40B6-94E9-7E80079BF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877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52840" y="1295280"/>
            <a:ext cx="3877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520" y="3962160"/>
            <a:ext cx="3877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6ED04-946C-4425-A6BD-8043736C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877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52840" y="1295280"/>
            <a:ext cx="3877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52840" y="3962160"/>
            <a:ext cx="3877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7F658-4C31-4F5F-AE3B-114F696E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877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52840" y="1295280"/>
            <a:ext cx="3877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520" y="3962160"/>
            <a:ext cx="7947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7943B-E455-4881-992D-663547AC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584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748640" y="6528960"/>
            <a:ext cx="1395360" cy="32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C39E-2CC8-45D0-8E70-6082C5EA0884}" type="slidenum">
              <a:rPr b="0" lang="en-US" sz="9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2"/>
          </p:nvPr>
        </p:nvSpPr>
        <p:spPr>
          <a:xfrm>
            <a:off x="-360" y="6552720"/>
            <a:ext cx="13143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699A-8F24-4634-A0C6-7A3C62D49A68}" type="datetime">
              <a:rPr b="1" lang="en-US" sz="900" spc="-1" strike="noStrike">
                <a:solidFill>
                  <a:srgbClr val="333399"/>
                </a:solidFill>
                <a:latin typeface="Tahoma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66120" y="6657840"/>
            <a:ext cx="2992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Copyright © 2004 – 2006 InfiniBand</a:t>
            </a:r>
            <a:r>
              <a:rPr b="1" lang="en-US" sz="800" spc="-1" strike="noStrike" baseline="30000">
                <a:solidFill>
                  <a:srgbClr val="000000"/>
                </a:solidFill>
                <a:latin typeface="Tahoma"/>
              </a:rPr>
              <a:t>SM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 Trade Associati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54920" y="0"/>
            <a:ext cx="1184400" cy="1390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380520" y="1295280"/>
            <a:ext cx="7947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199"/>
              </a:spcBef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93000"/>
              </a:lnSpc>
              <a:spcBef>
                <a:spcPts val="1199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28880" indent="-228600">
              <a:lnSpc>
                <a:spcPct val="93000"/>
              </a:lnSpc>
              <a:spcBef>
                <a:spcPts val="1199"/>
              </a:spcBef>
              <a:buClr>
                <a:srgbClr val="333399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3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3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93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93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58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127320" y="6657840"/>
            <a:ext cx="289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 © 2004 – 2006 InfiniBand</a:t>
            </a:r>
            <a:r>
              <a:rPr b="1" lang="en-US" sz="800" spc="-1" strike="noStrike" baseline="30000">
                <a:solidFill>
                  <a:srgbClr val="000000"/>
                </a:solidFill>
                <a:latin typeface="Tahoma"/>
              </a:rPr>
              <a:t>SM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Trade Associ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959600" y="0"/>
            <a:ext cx="1184400" cy="1390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03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3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lnSpc>
                <a:spcPct val="9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ebdings" charset="2"/>
              <a:buChar char="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03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BTA Developers’ Conference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ink Working Group - QoS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3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tember 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200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3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tan Zahav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3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WG-Q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Knobs Available to the QoS Manage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55627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3000"/>
              </a:lnSpc>
              <a:spcBef>
                <a:spcPts val="751"/>
              </a:spcBef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net Administration (*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8080" indent="-219240">
              <a:lnSpc>
                <a:spcPct val="83000"/>
              </a:lnSpc>
              <a:spcBef>
                <a:spcPts val="675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lecting the SL the client should u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87480" indent="-219240">
              <a:lnSpc>
                <a:spcPct val="83000"/>
              </a:lnSpc>
              <a:spcBef>
                <a:spcPts val="601"/>
              </a:spcBef>
              <a:buClr>
                <a:srgbClr val="333399"/>
              </a:buClr>
              <a:buSzPct val="75000"/>
              <a:buFont typeface="Webdings" charset="2"/>
              <a:buChar char="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 eventually TCla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58080" indent="-219240">
              <a:lnSpc>
                <a:spcPct val="83000"/>
              </a:lnSpc>
              <a:spcBef>
                <a:spcPts val="675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h choices among existing paths (LM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3000"/>
              </a:lnSpc>
              <a:spcBef>
                <a:spcPts val="751"/>
              </a:spcBef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net Management (*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8080" indent="-219240">
              <a:lnSpc>
                <a:spcPct val="83000"/>
              </a:lnSpc>
              <a:spcBef>
                <a:spcPts val="675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LtoVLMappingTable val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8080" indent="-219240">
              <a:lnSpc>
                <a:spcPct val="83000"/>
              </a:lnSpc>
              <a:spcBef>
                <a:spcPts val="675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LArbitrationTable val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8080" indent="-219240">
              <a:lnSpc>
                <a:spcPct val="83000"/>
              </a:lnSpc>
              <a:spcBef>
                <a:spcPts val="675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-routing of the network (forwarding tabl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3000"/>
              </a:lnSpc>
              <a:spcBef>
                <a:spcPts val="751"/>
              </a:spcBef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Control (†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8080" indent="-219240">
              <a:lnSpc>
                <a:spcPct val="83000"/>
              </a:lnSpc>
              <a:spcBef>
                <a:spcPts val="675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CT Time Interval (decay tim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8080" indent="-219240">
              <a:lnSpc>
                <a:spcPct val="83000"/>
              </a:lnSpc>
              <a:spcBef>
                <a:spcPts val="675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CN Index Increa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8080" indent="-219240">
              <a:lnSpc>
                <a:spcPct val="83000"/>
              </a:lnSpc>
              <a:spcBef>
                <a:spcPts val="675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CTI_min (lowest CCTI allowe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8080" indent="-219240">
              <a:lnSpc>
                <a:spcPct val="83000"/>
              </a:lnSpc>
              <a:spcBef>
                <a:spcPts val="675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gestion control table val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3000"/>
              </a:lnSpc>
              <a:spcBef>
                <a:spcPts val="751"/>
              </a:spcBef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guration Management (†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8080" indent="-219240">
              <a:lnSpc>
                <a:spcPct val="83000"/>
              </a:lnSpc>
              <a:spcBef>
                <a:spcPts val="675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L Enforc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8080" indent="-219240">
              <a:lnSpc>
                <a:spcPct val="83000"/>
              </a:lnSpc>
              <a:spcBef>
                <a:spcPts val="675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Prior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3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5056200" y="5746680"/>
            <a:ext cx="249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 Release 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†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ease 1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BBB8B-08B8-425C-8E4E-E11B71833DD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1/24/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at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199"/>
              </a:spcBef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ng the communication mechanism between the fabric client and the QoS Mana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3000"/>
              </a:lnSpc>
              <a:spcBef>
                <a:spcPts val="1199"/>
              </a:spcBef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ope includes Passive and Active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3000"/>
              </a:lnSpc>
              <a:spcBef>
                <a:spcPts val="1199"/>
              </a:spcBef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ope limited to Relative Priority On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93000"/>
              </a:lnSpc>
              <a:spcBef>
                <a:spcPts val="1049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andwidth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BAAC3-AFB6-4AE8-8C02-D7C006D645D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1/24/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QoS v. Congestion Contro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947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3000"/>
              </a:lnSpc>
              <a:spcBef>
                <a:spcPts val="751"/>
              </a:spcBef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3000"/>
              </a:lnSpc>
              <a:spcBef>
                <a:spcPts val="675"/>
              </a:spcBef>
              <a:spcAft>
                <a:spcPts val="1301"/>
              </a:spcAft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bjective of congestion control is to avoid if possible, and eliminate if it has already occurred, congestion spreading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3000"/>
              </a:lnSpc>
              <a:spcBef>
                <a:spcPts val="675"/>
              </a:spcBef>
              <a:spcAft>
                <a:spcPts val="1301"/>
              </a:spcAft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is in “hardware” 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880" indent="-228600">
              <a:lnSpc>
                <a:spcPct val="83000"/>
              </a:lnSpc>
              <a:spcBef>
                <a:spcPts val="601"/>
              </a:spcBef>
              <a:spcAft>
                <a:spcPts val="1301"/>
              </a:spcAft>
              <a:buClr>
                <a:srgbClr val="333399"/>
              </a:buClr>
              <a:buSzPct val="75000"/>
              <a:buFont typeface="Webdings" charset="2"/>
              <a:buChar char="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s a hardware solu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28880" indent="-228600">
              <a:lnSpc>
                <a:spcPct val="83000"/>
              </a:lnSpc>
              <a:spcBef>
                <a:spcPts val="601"/>
              </a:spcBef>
              <a:spcAft>
                <a:spcPts val="1301"/>
              </a:spcAft>
              <a:buClr>
                <a:srgbClr val="333399"/>
              </a:buClr>
              <a:buSzPct val="75000"/>
              <a:buFont typeface="Webdings" charset="2"/>
              <a:buChar char="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s no knowledge of relative priorities, response time goals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3000"/>
              </a:lnSpc>
              <a:spcBef>
                <a:spcPts val="751"/>
              </a:spcBef>
              <a:spcAft>
                <a:spcPts val="1301"/>
              </a:spcAft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3000"/>
              </a:lnSpc>
              <a:spcBef>
                <a:spcPts val="675"/>
              </a:spcBef>
              <a:spcAft>
                <a:spcPts val="1301"/>
              </a:spcAft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bjective of QoS is to allow a host to control the performance attributes of the work it manages, within bounds specified by an administrato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3000"/>
              </a:lnSpc>
              <a:spcBef>
                <a:spcPts val="675"/>
              </a:spcBef>
              <a:spcAft>
                <a:spcPts val="1301"/>
              </a:spcAft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may be measured in seco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880" indent="-228600">
              <a:lnSpc>
                <a:spcPct val="83000"/>
              </a:lnSpc>
              <a:spcBef>
                <a:spcPts val="601"/>
              </a:spcBef>
              <a:spcAft>
                <a:spcPts val="1301"/>
              </a:spcAft>
              <a:buClr>
                <a:srgbClr val="333399"/>
              </a:buClr>
              <a:buSzPct val="75000"/>
              <a:buFont typeface="Webdings" charset="2"/>
              <a:buChar char="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 for a software solu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28880" indent="-228600">
              <a:lnSpc>
                <a:spcPct val="83000"/>
              </a:lnSpc>
              <a:spcBef>
                <a:spcPts val="601"/>
              </a:spcBef>
              <a:spcAft>
                <a:spcPts val="1301"/>
              </a:spcAft>
              <a:buClr>
                <a:srgbClr val="333399"/>
              </a:buClr>
              <a:buSzPct val="75000"/>
              <a:buFont typeface="Webdings" charset="2"/>
              <a:buChar char="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ires knowledge of relative priorities, response time goals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719B6-2052-4210-BCCE-67E69961A1C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1/24/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orkload Typ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947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3000"/>
              </a:lnSpc>
              <a:spcBef>
                <a:spcPts val="1049"/>
              </a:spcBef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: Respons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 requirements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nt of j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via Relative 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3000"/>
              </a:lnSpc>
              <a:spcBef>
                <a:spcPts val="1049"/>
              </a:spcBef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: Quality of sound or pi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 requirements typically 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sitive to bandwidth, latency and j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by reserving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3000"/>
              </a:lnSpc>
              <a:spcBef>
                <a:spcPts val="1049"/>
              </a:spcBef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are focusing on Relative Priority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0">
              <a:lnSpc>
                <a:spcPct val="83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20F74-DAAD-4BF3-97A5-2017E404B6B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1/24/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QoS in InfiniBand Toda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47600" y="2057400"/>
            <a:ext cx="5796000" cy="3126240"/>
            <a:chOff x="147600" y="2057400"/>
            <a:chExt cx="5796000" cy="3126240"/>
          </a:xfrm>
        </p:grpSpPr>
        <p:grpSp>
          <p:nvGrpSpPr>
            <p:cNvPr id="99" name=""/>
            <p:cNvGrpSpPr/>
            <p:nvPr/>
          </p:nvGrpSpPr>
          <p:grpSpPr>
            <a:xfrm>
              <a:off x="147600" y="2057400"/>
              <a:ext cx="5796000" cy="3126240"/>
              <a:chOff x="147600" y="2057400"/>
              <a:chExt cx="5796000" cy="3126240"/>
            </a:xfrm>
          </p:grpSpPr>
          <p:sp>
            <p:nvSpPr>
              <p:cNvPr id="100" name=""/>
              <p:cNvSpPr/>
              <p:nvPr/>
            </p:nvSpPr>
            <p:spPr>
              <a:xfrm>
                <a:off x="3200400" y="2057400"/>
                <a:ext cx="2743200" cy="2743200"/>
              </a:xfrm>
              <a:prstGeom prst="ellipse">
                <a:avLst/>
              </a:prstGeom>
              <a:solidFill>
                <a:srgbClr val="8b8b8b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657600" y="2362320"/>
                <a:ext cx="914400" cy="914400"/>
              </a:xfrm>
              <a:prstGeom prst="ellipse">
                <a:avLst/>
              </a:prstGeom>
              <a:solidFill>
                <a:srgbClr val="a7a7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ahoma"/>
                  </a:rPr>
                  <a:t>VL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064040" y="3352680"/>
                <a:ext cx="1371600" cy="1371600"/>
              </a:xfrm>
              <a:prstGeom prst="ellipse">
                <a:avLst/>
              </a:prstGeom>
              <a:solidFill>
                <a:srgbClr val="00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ahoma"/>
                  </a:rPr>
                  <a:t>VL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800600" y="2362320"/>
                <a:ext cx="685800" cy="685800"/>
              </a:xfrm>
              <a:prstGeom prst="ellipse">
                <a:avLst/>
              </a:prstGeom>
              <a:solidFill>
                <a:srgbClr val="b2b2b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ahoma"/>
                  </a:rPr>
                  <a:t>VL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390840" y="3517920"/>
                <a:ext cx="609840" cy="60948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ahoma"/>
                  </a:rPr>
                  <a:t>VL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47600" y="4479840"/>
                <a:ext cx="26859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ahoma"/>
                  </a:rPr>
                  <a:t>Virtual Lanes: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Tahoma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ahoma"/>
                  </a:rPr>
                  <a:t>VLArbitrationTab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5257800" y="3009960"/>
              <a:ext cx="609480" cy="60948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VL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1280" y="2341440"/>
            <a:ext cx="7664760" cy="3848760"/>
            <a:chOff x="161280" y="2341440"/>
            <a:chExt cx="7664760" cy="3848760"/>
          </a:xfrm>
        </p:grpSpPr>
        <p:sp>
          <p:nvSpPr>
            <p:cNvPr id="108" name=""/>
            <p:cNvSpPr/>
            <p:nvPr/>
          </p:nvSpPr>
          <p:spPr>
            <a:xfrm>
              <a:off x="5181480" y="2514600"/>
              <a:ext cx="19814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28000" y="2341440"/>
              <a:ext cx="637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L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L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L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280040"/>
              <a:ext cx="228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88120" y="4095720"/>
              <a:ext cx="637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L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L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L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L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1981080" y="2590920"/>
              <a:ext cx="198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440720" y="2413080"/>
              <a:ext cx="522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L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L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L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47920" y="3517920"/>
              <a:ext cx="637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L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L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1980720" y="3657600"/>
              <a:ext cx="175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1280" y="5486400"/>
              <a:ext cx="2937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ervice Level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LtoVLMapping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867F8-1EB8-4C73-B2C9-23212FD044C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1/24/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QoS in InfiniBand Toda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434340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160020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7120" y="5645160"/>
            <a:ext cx="2515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h Se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LID Mask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29120" y="2333520"/>
            <a:ext cx="762120" cy="6858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428640" y="2333520"/>
            <a:ext cx="762120" cy="6858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95720" y="35053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971600" y="3800520"/>
            <a:ext cx="685800" cy="76212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48080" y="3828960"/>
            <a:ext cx="762120" cy="68580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93920" y="3505320"/>
            <a:ext cx="38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00600" y="2462040"/>
            <a:ext cx="762120" cy="6858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561840" y="2452680"/>
            <a:ext cx="762120" cy="6858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93920" y="3505320"/>
            <a:ext cx="384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93920" y="3505320"/>
            <a:ext cx="384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ahoma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Tahoma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3429000"/>
            <a:ext cx="182880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30240" y="3398760"/>
            <a:ext cx="914400" cy="61920"/>
            <a:chOff x="1830240" y="3398760"/>
            <a:chExt cx="914400" cy="61920"/>
          </a:xfrm>
        </p:grpSpPr>
        <p:sp>
          <p:nvSpPr>
            <p:cNvPr id="133" name=""/>
            <p:cNvSpPr/>
            <p:nvPr/>
          </p:nvSpPr>
          <p:spPr>
            <a:xfrm flipH="1">
              <a:off x="1830240" y="3398760"/>
              <a:ext cx="91440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830240" y="3419280"/>
              <a:ext cx="91440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1830240" y="3460680"/>
              <a:ext cx="914400" cy="0"/>
            </a:xfrm>
            <a:prstGeom prst="line">
              <a:avLst/>
            </a:prstGeom>
            <a:ln w="190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830240" y="3439800"/>
              <a:ext cx="914400" cy="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743200" y="297180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2514600"/>
            <a:ext cx="685800" cy="18288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ha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dapter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399360" y="3392640"/>
            <a:ext cx="914400" cy="61920"/>
            <a:chOff x="6399360" y="3392640"/>
            <a:chExt cx="914400" cy="61920"/>
          </a:xfrm>
        </p:grpSpPr>
        <p:sp>
          <p:nvSpPr>
            <p:cNvPr id="140" name=""/>
            <p:cNvSpPr/>
            <p:nvPr/>
          </p:nvSpPr>
          <p:spPr>
            <a:xfrm flipH="1">
              <a:off x="6399360" y="3392640"/>
              <a:ext cx="91440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6399360" y="3413160"/>
              <a:ext cx="91440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6399360" y="3454560"/>
              <a:ext cx="914400" cy="0"/>
            </a:xfrm>
            <a:prstGeom prst="line">
              <a:avLst/>
            </a:prstGeom>
            <a:ln w="190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6399360" y="3433680"/>
              <a:ext cx="914400" cy="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7315200" y="2514600"/>
            <a:ext cx="685800" cy="18288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ha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dapter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86400" y="297180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E9F48-737B-488E-BF7C-8450DD28CEA1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1/24/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y a QoS Manager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947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3000"/>
              </a:lnSpc>
              <a:spcBef>
                <a:spcPts val="1199"/>
              </a:spcBef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all workloads are of equal import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3000"/>
              </a:lnSpc>
              <a:spcBef>
                <a:spcPts val="1199"/>
              </a:spcBef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all servers’ high importance workloads are eq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3000"/>
              </a:lnSpc>
              <a:spcBef>
                <a:spcPts val="1199"/>
              </a:spcBef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fail a request, rather than impact existing workload on fabric (streami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3000"/>
              </a:lnSpc>
              <a:spcBef>
                <a:spcPts val="1199"/>
              </a:spcBef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merous knobs and dials must be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3000"/>
              </a:lnSpc>
              <a:spcBef>
                <a:spcPts val="1199"/>
              </a:spcBef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settings need to be adju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244C4-3FD9-4108-8E28-3F0BD2F0A58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1/24/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unctions of QoS Manage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947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3000"/>
              </a:lnSpc>
              <a:spcBef>
                <a:spcPts val="1049"/>
              </a:spcBef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s that meet requester’s QoS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1760" indent="-223920">
              <a:lnSpc>
                <a:spcPct val="8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(S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1760" indent="-223920">
              <a:lnSpc>
                <a:spcPct val="8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lass (TCla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1760" indent="-223920">
              <a:lnSpc>
                <a:spcPct val="8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3000"/>
              </a:lnSpc>
              <a:spcBef>
                <a:spcPts val="1049"/>
              </a:spcBef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vent over commitment of VLs by streaming work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3000"/>
              </a:lnSpc>
              <a:spcBef>
                <a:spcPts val="1049"/>
              </a:spcBef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1760" indent="-223920">
              <a:lnSpc>
                <a:spcPct val="8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workloads still receiving requested QoS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3000"/>
              </a:lnSpc>
              <a:spcBef>
                <a:spcPts val="1049"/>
              </a:spcBef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fabr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1760" indent="-223920">
              <a:lnSpc>
                <a:spcPct val="8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rn knobs and dials to maintain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1760" indent="-223920">
              <a:lnSpc>
                <a:spcPct val="8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set some initial configuration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6A2AA-067F-49C3-A422-6724F1488EF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1/24/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QoS Philosoph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947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3000"/>
              </a:lnSpc>
              <a:spcBef>
                <a:spcPts val="1049"/>
              </a:spcBef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esents QoS Manager with its required path attrib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oS Manager selects potential path(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edefined meaning to SLs and T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actional and streaming workloads do not share V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3000"/>
              </a:lnSpc>
              <a:spcBef>
                <a:spcPts val="1049"/>
              </a:spcBef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 workgroup on how QoS Manager will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xisting functions, performance counters, and M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only where necess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3000"/>
              </a:lnSpc>
              <a:spcBef>
                <a:spcPts val="1049"/>
              </a:spcBef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for various levels of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3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47E88-B1E6-475F-9178-30233557A48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1/24/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assive vs. Active Managemen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947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3000"/>
              </a:lnSpc>
              <a:spcBef>
                <a:spcPts val="1049"/>
              </a:spcBef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ssive QoS Manag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bric configuration is relatively sta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rtain SLs are defined as “high priority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s requests based on requested 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880" indent="-228600">
              <a:lnSpc>
                <a:spcPct val="83000"/>
              </a:lnSpc>
              <a:spcBef>
                <a:spcPts val="751"/>
              </a:spcBef>
              <a:buClr>
                <a:srgbClr val="333399"/>
              </a:buClr>
              <a:buSzPct val="75000"/>
              <a:buFont typeface="Webdings" charset="2"/>
              <a:buChar char="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ly limiting servers to a range of prior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3000"/>
              </a:lnSpc>
              <a:spcBef>
                <a:spcPts val="1049"/>
              </a:spcBef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Active QoS Manag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figures fabr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s requests based on requested 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880" indent="-228600">
              <a:lnSpc>
                <a:spcPct val="83000"/>
              </a:lnSpc>
              <a:spcBef>
                <a:spcPts val="751"/>
              </a:spcBef>
              <a:buClr>
                <a:srgbClr val="333399"/>
              </a:buClr>
              <a:buSzPct val="75000"/>
              <a:buFont typeface="Webdings" charset="2"/>
              <a:buChar char="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ly limiting servers to a range of prior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itors fabr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s with other managers to modify fabric and assure relative priorities are mainta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8C5AE-4F26-48F9-8D89-E53EE54F8FD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1/24/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17:59:44Z</dcterms:created>
  <dc:creator>William J. Rooney</dc:creator>
  <dc:description/>
  <cp:keywords/>
  <dc:language>en-US</dc:language>
  <cp:lastModifiedBy>pgrun</cp:lastModifiedBy>
  <dcterms:modified xsi:type="dcterms:W3CDTF">2006-09-21T20:42:56Z</dcterms:modified>
  <cp:revision>725</cp:revision>
  <dc:subject>Link Working Group - QoS</dc:subject>
  <dc:title>IBTA Developers' Conference</dc:title>
</cp:coreProperties>
</file>