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0BB-E5A2-4F2D-9C3F-6E96A9B1721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imple Connectivity Between InfiniBand Subne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3962520"/>
            <a:ext cx="74674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ing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3440" y="1600200"/>
            <a:ext cx="8377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M REQ message incorporate Local &amp; Remo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side use the CM REQ LIDs to resp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hange the Passive side, make sure it lookups up the return path rather than use the CM REQ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81200" y="3997440"/>
            <a:ext cx="7143480" cy="1260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81200" y="5334120"/>
            <a:ext cx="7099200" cy="1079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358128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M REQ Fields (from IB Sp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4495680"/>
            <a:ext cx="54864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Path &amp; HA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234200" cy="254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3049560" cy="1158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1218960" cy="1103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76720" y="441972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160020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ure Detection and Fail-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Initiator is key in determining failures, it should migrate to alternate path, and inform others/SM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00640" cy="204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2920" y="3216240"/>
            <a:ext cx="840564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d Host &amp; SM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path request is local or remote, retrieve path attributes from cache or manual entries, or from SM (in such case no change to 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M to resolve returned path dynamically rather than us CM REQ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ULPs/CM use GRH Header and provide relevant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ULPs/CM use PathRecords and the returned values (MTU, SL, PKey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distinguish global PathRecord queries from local, and provide path information based on manual tables and possibly allow multi-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figuration of routing tables by users and external scripts/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insertion/update of IB routing tables via standard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xception handling (e.g. MTU Problems, unreachable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 can address automated SM-Router interaction to minimize configu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nd leverage on IPv6 later on to allow automated/simpler configur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 and 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o the other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names/IPs to G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tables and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ath &amp; 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, SM implementati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/Administr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9711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for Simple Inter Subnet Conne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638360"/>
            <a:ext cx="8915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wo IB islands, next to or far apart from each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native IB protocols (Lustre, iSER, MPI, SDP, ..) at high-sp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slands isolated from each other for scalability, stability,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bandwidth aggregation over multiple link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highly reliable intermediate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ordering, no deadlo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few remote sites, not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ome manual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t addressing dynamic routing protocols for now !, well known M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To The Other Sub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77840" y="423864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3680" y="469116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3760" y="502920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920" y="5827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920" y="5421240"/>
            <a:ext cx="122580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972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7440" y="43610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8080" y="471816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68800" y="5057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42120" y="55087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83080" y="6234120"/>
            <a:ext cx="314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9640" y="591192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nd Bac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 Addresses &amp; Part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PKey is a QP (Transport)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to have IP subnets that map over both IB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IB routers split IP subnets (be also IP routers) is challenging, require CMA changes, and use of GI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752480"/>
            <a:ext cx="1524240" cy="2514600"/>
          </a:xfrm>
          <a:prstGeom prst="ellipse">
            <a:avLst/>
          </a:prstGeom>
          <a:solidFill>
            <a:srgbClr val="96b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752480"/>
            <a:ext cx="1523880" cy="2514600"/>
          </a:xfrm>
          <a:prstGeom prst="ellipse">
            <a:avLst/>
          </a:prstGeom>
          <a:solidFill>
            <a:srgbClr val="96b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81080"/>
            <a:ext cx="4267440" cy="914400"/>
          </a:xfrm>
          <a:prstGeom prst="ellipse">
            <a:avLst/>
          </a:prstGeom>
          <a:solidFill>
            <a:srgbClr val="ff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048120"/>
            <a:ext cx="4267440" cy="914400"/>
          </a:xfrm>
          <a:prstGeom prst="ellipse">
            <a:avLst/>
          </a:prstGeom>
          <a:solidFill>
            <a:srgbClr val="ff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4479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 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P Subnet X (Partition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4479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 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352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P Subnet Y (Partition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9711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ARP Across Subne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8032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3680" y="429264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3760" y="4630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0920" y="52228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8840" y="39625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RP Request (Multi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8080" y="4319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8080" y="465948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MLI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42120" y="49039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617220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586728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RP Response (Uni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478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* Assume router register to the multicas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9560" y="5692680"/>
            <a:ext cx="944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21440" y="533412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228600" y="54388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gister IP to GI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Path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LP or CMA issue SA PathRecord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S/DGID + TClass to destination LID, MTU, S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can be returned locally based on GID Prefi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not the same as local), by looking into a local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M ac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e sent to SA (like today), and SA will retur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entral management, potentially us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lect between multiple routers based on S/DGID+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971800" y="4800600"/>
          <a:ext cx="5410080" cy="1460520"/>
        </p:xfrm>
        <a:graphic>
          <a:graphicData uri="http://schemas.openxmlformats.org/drawingml/2006/table">
            <a:tbl>
              <a:tblPr/>
              <a:tblGrid>
                <a:gridCol w="1189080"/>
                <a:gridCol w="1082520"/>
                <a:gridCol w="1515960"/>
                <a:gridCol w="649440"/>
                <a:gridCol w="97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G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066680" y="51055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ample Host/SM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362320" y="1447920"/>
            <a:ext cx="5257800" cy="457200"/>
            <a:chOff x="2362320" y="1447920"/>
            <a:chExt cx="5257800" cy="457200"/>
          </a:xfrm>
        </p:grpSpPr>
        <p:sp>
          <p:nvSpPr>
            <p:cNvPr id="177" name=""/>
            <p:cNvSpPr/>
            <p:nvPr/>
          </p:nvSpPr>
          <p:spPr>
            <a:xfrm>
              <a:off x="2362320" y="1447920"/>
              <a:ext cx="838080" cy="4572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L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1447920"/>
              <a:ext cx="762120" cy="4572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Variant C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1447920"/>
              <a:ext cx="838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G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38480" y="1447920"/>
              <a:ext cx="91440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Transport Header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1447920"/>
              <a:ext cx="106704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Packet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9920" y="1447920"/>
              <a:ext cx="838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Invariant C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L2-3 Headers 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50840" y="2357280"/>
            <a:ext cx="7135920" cy="90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39680" y="3679920"/>
            <a:ext cx="7101000" cy="2792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81080" y="20559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RH (Local Hea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3800" y="3373560"/>
            <a:ext cx="41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RH (Global Header), just like 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2666880"/>
            <a:ext cx="2255760" cy="639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1840" y="2697120"/>
            <a:ext cx="588960" cy="309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44640" y="2711520"/>
            <a:ext cx="588960" cy="309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3120" y="4046400"/>
            <a:ext cx="838080" cy="29556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0800" y="5396040"/>
            <a:ext cx="1768680" cy="114768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0320" y="4294080"/>
            <a:ext cx="838080" cy="295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0080" y="1371600"/>
            <a:ext cx="838080" cy="58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Router 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88320" y="4282920"/>
            <a:ext cx="167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97600" y="397836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73920" y="405432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44920" y="2454120"/>
            <a:ext cx="1066680" cy="252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out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720" y="27208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GID (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1720" y="392436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TClass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80160" y="505620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Hop Limit’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920" y="430524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11600" y="538812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11600" y="268272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98080" y="4446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Egress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1600" y="306396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63160" y="2743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SL’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1720" y="23623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LID’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90640" y="396252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SLID’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68120" y="329256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VL’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11600" y="482760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360" y="50673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Hop Limit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44920" y="5159520"/>
            <a:ext cx="1066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op Limit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49880" y="4130640"/>
            <a:ext cx="1067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ortInf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705720" y="452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75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83200" y="329256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59520" y="336852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35480" y="3444840"/>
            <a:ext cx="1067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L to VL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15000" y="383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475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2520" y="3597120"/>
            <a:ext cx="2361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78280" y="35971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778280" y="306360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2987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920" y="538812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0258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Longest-match prefix (0-64 or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10212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70000" y="55627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94360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571500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RC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00400" y="1828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89480" y="14619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Yaron Haviv</cp:lastModifiedBy>
  <dcterms:modified xsi:type="dcterms:W3CDTF">2006-09-22T22:19:42Z</dcterms:modified>
  <cp:revision>16</cp:revision>
  <dc:subject/>
  <dc:title>Slide 1</dc:title>
</cp:coreProperties>
</file>