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7078-83C5-4FE5-9A60-AD11876AD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0904-576F-445C-83CE-97984CF5D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CF10-8DF1-46C6-9590-CE9B5B7FD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77ED-5FE9-4E6D-9258-3FA8282A0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A6D9-FA47-40F4-98C6-4C5D81A72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50EF-FCE2-42CD-8986-1E8E08B5E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3DDD-59B0-4276-AAA6-78BBA9C67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1189-6874-4872-BCDA-93A435A24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5AA3-59AD-4A8D-8352-82E9A9E3A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CFB2-E284-4A8E-91FE-9E862557F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F325-4886-47D2-8C1D-41AC67CA3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58F7-A603-40C1-BBAB-15C17BA4A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7222-C4AE-4F0A-AD4A-A47BC3C9F596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ngestion Contro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69360" y="2630520"/>
            <a:ext cx="4613400" cy="23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an Collof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WG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ptember 25,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 Congestion Control scheme is perfe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a very flexible mechanism to help control cong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ons to help control legacy endpoi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 a coarse w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ively easy to impl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ulation indicates that the scheme can successfully control congestion (under the trial condition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7CCD-E4C4-4F8B-AE72-5AC14CABDF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314D-8963-48AB-95CD-88D33CFF96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gestion Avoidanc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ver provision the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paths between endpoi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 balancing techniq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der links within the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gher link speeds within the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a fabric that has the blocking characteristics of a single swi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re expensive than a conventional CCB Fat Tre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ad balanc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multiple paths through the fabric between two endpoi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909D-814D-49A5-9641-37D7D4D6D8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gestion Control Agend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is conges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rol of Conges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gacy Device suppo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9579-CC45-4AE7-BC2B-C5481D9275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is Conges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thin the switching fabric:-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wo or more ports target a single port with a sustained flow that is greater than the link bandwidt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ffers fill, limits credit return to neighbor devi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: head of line 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 long link in the fabri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link capacity is close to or greater than the maximum buffer credits at one or both end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dit “starvation”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 is not able to run at full rate, head of line 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form, but needs to be considered in a gener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t an Endpoi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n an endpoint can’t receive data at full link r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imits credit return to its connecting switch po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: head of line 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94FB-4CDF-436E-AEF2-C25E93AE5F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14800" y="3276720"/>
            <a:ext cx="76320" cy="7617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2286000"/>
            <a:ext cx="2590920" cy="2971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800240" y="2209680"/>
            <a:ext cx="2438280" cy="281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219320" y="2286000"/>
            <a:ext cx="2666880" cy="2743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133720"/>
            <a:ext cx="2666880" cy="2971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743200"/>
            <a:ext cx="1752840" cy="18288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iagram of a Congestion Situ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2819520"/>
            <a:ext cx="1752480" cy="18288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0560" y="1600200"/>
            <a:ext cx="41857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lows in the middle of a fabr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6576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3657600"/>
            <a:ext cx="990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990720" y="3657600"/>
            <a:ext cx="761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572000"/>
            <a:ext cx="0" cy="990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1981080"/>
            <a:ext cx="0" cy="838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648320"/>
            <a:ext cx="0" cy="914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981080"/>
            <a:ext cx="6400800" cy="2971800"/>
          </a:xfrm>
          <a:custGeom>
            <a:avLst/>
            <a:gdLst/>
            <a:ahLst/>
            <a:rect l="l" t="t" r="r" b="b"/>
            <a:pathLst>
              <a:path w="4032" h="1872">
                <a:moveTo>
                  <a:pt x="0" y="0"/>
                </a:moveTo>
                <a:cubicBezTo>
                  <a:pt x="228" y="388"/>
                  <a:pt x="456" y="776"/>
                  <a:pt x="960" y="960"/>
                </a:cubicBezTo>
                <a:cubicBezTo>
                  <a:pt x="1464" y="1144"/>
                  <a:pt x="2512" y="952"/>
                  <a:pt x="3024" y="1104"/>
                </a:cubicBezTo>
                <a:cubicBezTo>
                  <a:pt x="3536" y="1256"/>
                  <a:pt x="3864" y="1744"/>
                  <a:pt x="4032" y="187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2133720"/>
            <a:ext cx="1219320" cy="2743200"/>
          </a:xfrm>
          <a:custGeom>
            <a:avLst/>
            <a:gdLst/>
            <a:ahLst/>
            <a:rect l="l" t="t" r="r" b="b"/>
            <a:pathLst>
              <a:path w="824" h="1776">
                <a:moveTo>
                  <a:pt x="824" y="0"/>
                </a:moveTo>
                <a:cubicBezTo>
                  <a:pt x="420" y="308"/>
                  <a:pt x="16" y="616"/>
                  <a:pt x="8" y="912"/>
                </a:cubicBezTo>
                <a:cubicBezTo>
                  <a:pt x="0" y="1208"/>
                  <a:pt x="648" y="1632"/>
                  <a:pt x="776" y="1776"/>
                </a:cubicBezTo>
              </a:path>
            </a:pathLst>
          </a:custGeom>
          <a:noFill/>
          <a:ln w="38160">
            <a:solidFill>
              <a:srgbClr val="cc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3670200"/>
            <a:ext cx="5943600" cy="1511280"/>
          </a:xfrm>
          <a:custGeom>
            <a:avLst/>
            <a:gdLst/>
            <a:ahLst/>
            <a:rect l="l" t="t" r="r" b="b"/>
            <a:pathLst>
              <a:path w="3744" h="952">
                <a:moveTo>
                  <a:pt x="0" y="808"/>
                </a:moveTo>
                <a:cubicBezTo>
                  <a:pt x="104" y="528"/>
                  <a:pt x="208" y="248"/>
                  <a:pt x="672" y="136"/>
                </a:cubicBezTo>
                <a:cubicBezTo>
                  <a:pt x="1136" y="24"/>
                  <a:pt x="2272" y="0"/>
                  <a:pt x="2784" y="136"/>
                </a:cubicBezTo>
                <a:cubicBezTo>
                  <a:pt x="3296" y="272"/>
                  <a:pt x="3584" y="816"/>
                  <a:pt x="3744" y="95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905120"/>
            <a:ext cx="1295280" cy="1143000"/>
          </a:xfrm>
          <a:custGeom>
            <a:avLst/>
            <a:gdLst/>
            <a:ahLst/>
            <a:rect l="l" t="t" r="r" b="b"/>
            <a:pathLst>
              <a:path w="816" h="832">
                <a:moveTo>
                  <a:pt x="0" y="0"/>
                </a:moveTo>
                <a:cubicBezTo>
                  <a:pt x="268" y="400"/>
                  <a:pt x="536" y="800"/>
                  <a:pt x="672" y="816"/>
                </a:cubicBezTo>
                <a:cubicBezTo>
                  <a:pt x="808" y="832"/>
                  <a:pt x="792" y="216"/>
                  <a:pt x="816" y="9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0800" y="5219640"/>
            <a:ext cx="315684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ource” of con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428640" y="3962520"/>
            <a:ext cx="1523880" cy="1600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480" y="5600880"/>
            <a:ext cx="489564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Backup if Switch B input buffer fi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828800"/>
            <a:ext cx="6019560" cy="1828800"/>
          </a:xfrm>
          <a:custGeom>
            <a:avLst/>
            <a:gdLst/>
            <a:ahLst/>
            <a:rect l="l" t="t" r="r" b="b"/>
            <a:pathLst>
              <a:path w="3744" h="1168">
                <a:moveTo>
                  <a:pt x="0" y="48"/>
                </a:moveTo>
                <a:cubicBezTo>
                  <a:pt x="284" y="424"/>
                  <a:pt x="568" y="800"/>
                  <a:pt x="1056" y="960"/>
                </a:cubicBezTo>
                <a:cubicBezTo>
                  <a:pt x="1544" y="1120"/>
                  <a:pt x="2480" y="1168"/>
                  <a:pt x="2928" y="1008"/>
                </a:cubicBezTo>
                <a:cubicBezTo>
                  <a:pt x="3376" y="848"/>
                  <a:pt x="3608" y="168"/>
                  <a:pt x="3744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4160" y="3505320"/>
            <a:ext cx="119088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witch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08280" y="3505320"/>
            <a:ext cx="11865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witch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34AB-58C7-4B69-86EE-002307D4C9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erminolog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CN : 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gnal from the switch to the destination endpoint of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CN : 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gnal from the destination endpoint to the source of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ot of Congestion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ues or buffers fill, directed to an output port, but the data flows at link rat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ctim of Conges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ues or buffers fill, directed to an output port, but the data can’t run at link rate due to lack of cred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F8A1-2857-4637-9CC5-621337D214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gestion Control Specific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gestion control is in Annex 10 in Volume 1 version 1.2 of the InfiniBand Spec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unctionality is Option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define a Congestion Manag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s the base mechanisms a Congestion Manager may use to control cong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sic mechanisms to:-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rol injection rate in “Hardware” time fr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73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ittle or no software intervention requir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able comprehensive Management features to be developed using the contro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be used by a QoS Manager to control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ance metrics, for congestion analys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5CA5-59C5-407C-9A12-F73F75ADE3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trol of Congestion I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mited by protocol &amp; device complex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rol Flows at endpoints on: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08000" indent="-223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P or Port/SL basis (mutually exclusive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FEC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08000" indent="-223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witches mark congested flows randomly at a Root of congestion (identification and marking is configurable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ride to mark on a Vic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hibitive cost of issuing a BECN directly from a switch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point receiving a FECN returns a BEC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08000" indent="-223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ither in a Congestion Notification Packet or ACK(optional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point receiving a BEC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08000" indent="-223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the rate of injection for a flow into the fabri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is increased ov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F913-4F46-4975-A1E2-6A838B0C20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trol of Congestion II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t the source endpoi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2608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te reduc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ble per port each has 128 or more entri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s are configur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entry contains an inter-packet delay value for a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quent entries in the table should reduce the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control rates between 100% and 0.006% of lin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8440" indent="-22608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ceipt of a BECN increases index into the tabl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per QP or SL/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crease is configurable, and each SL can be 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te incre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mer (configurable on an SL/Port basi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expiry, an index into the table is reduced by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echanism is flexible and highly configur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 be used for linear and non-linear response func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FEA6-AE0B-4033-90CD-EE7FF2F5F7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egacy Devi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action with Legacy Devi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ongestion Notification Pack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packet to be silently dropped (op-cod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witch: control credit return (optiona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redit starv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“buffer occupancy” threshold breached, Limit rate of credit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trolled on a VL basi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VL’s for a port have the same threshold, and rate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ports may have different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ffect flows that don’t contribute to conges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CEDB-124B-4763-AF53-B59F4699DA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20:15:46Z</dcterms:created>
  <dc:creator>kristink</dc:creator>
  <dc:description/>
  <cp:keywords/>
  <dc:language>en-US</dc:language>
  <cp:lastModifiedBy>Ian Colloff</cp:lastModifiedBy>
  <cp:lastPrinted>1998-06-24T21:45:20Z</cp:lastPrinted>
  <dcterms:modified xsi:type="dcterms:W3CDTF">2006-09-05T19:02:08Z</dcterms:modified>
  <cp:revision>58</cp:revision>
  <dc:subject/>
  <dc:title>PowerPoint Presentation</dc:title>
</cp:coreProperties>
</file>