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1B34-7A92-45E2-BBC8-DFBC3E5B984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vn.open-mpi.org/svn/ompi/trunk/NEWS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openfabrics-ewg@openib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openfabrics-ewg@openib.org" TargetMode="External"/><Relationship Id="rId2" Type="http://schemas.openxmlformats.org/officeDocument/2006/relationships/hyperlink" Target="https://openib.org/svn/gen2/branches/1.1/src/" TargetMode="External"/><Relationship Id="rId3" Type="http://schemas.openxmlformats.org/officeDocument/2006/relationships/hyperlink" Target="http://openib.org/bugzilla/" TargetMode="External"/><Relationship Id="rId4" Type="http://schemas.openxmlformats.org/officeDocument/2006/relationships/hyperlink" Target="http://openib.org/bugzilla/" TargetMode="External"/><Relationship Id="rId5" Type="http://schemas.openxmlformats.org/officeDocument/2006/relationships/hyperlink" Target="http://openib.org/bugzilla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penFabrics Enterprise Distribution (OFED) Updat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ie Riotto, 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jal Das, Mella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TA-OFA DevCon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3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523880"/>
          <a:ext cx="8077320" cy="46976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U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rate impr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svn.open-mpi.org/svn/ompi/trunk/NEW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 tests/ bench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allas, Presta, OSU (new vers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BW, latency, stability, OOB Snd/Rc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 Query, Grouping in IB Net Discover, IB Utilities (Port error/performance counters check/dump, Link width and link speed check by flag), Mad 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v1.1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6 regression testing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imminent – End of Sep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used for OFA Interoperability Event at UNH (week of Oct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mprovement discussions / post mortem planned after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S and RHEL updates with OFED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Fu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availability improvements: IPoIB, S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scalability improvements: IPoIB, SDP, 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open source 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S-RDM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send feature requirements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fabrics-ewg@openi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supp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FED part of your core o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“enterprise readin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full interoperability and help accelerate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supp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, open source your drivers and integrate with OF S/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Vend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for adopting, please upgrade with new OF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s and End-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provide feedback on what is l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age proprietary stacks – let’s move quickly toward standardized RDMA s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– background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v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,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work group formed – April, ’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mong InfiniBand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IBM, Mellanox, QLogic, SilverStorm, 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upport from Sandia, Intel, OS vendors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tack, commercially sup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ergy with kernel and OS vendo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0 released 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s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fabrics-ewg@openib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ele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agreements, process discussions, test status reporting, release candidates, source freeze,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pac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openib.org/svn/gen2/branches/1.1/src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: git://www.mellanox.co.il/~git/infiniband  ofed_1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reporting: bugzill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enib.org/bugzill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cess Story – OFED 1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collaborative development and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, schedules work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testing, adoption of OFED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, Server OEMs, Red Hat, Novell/S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ization software and ISV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ublic announcements show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38088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Fabrics Softwa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286760" y="137160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286760" y="552456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16960" y="5586480"/>
            <a:ext cx="6001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16960" y="583236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16960" y="6078600"/>
            <a:ext cx="618840" cy="183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86760" y="55864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8600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048120"/>
            <a:ext cx="7086600" cy="281916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943600"/>
            <a:ext cx="14479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WARP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410080"/>
            <a:ext cx="14479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44816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2000" y="434340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1760" y="4876920"/>
            <a:ext cx="5057640" cy="304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71760" y="434340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438800"/>
            <a:ext cx="76176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8560" y="399096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509920"/>
            <a:ext cx="5715000" cy="21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424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424320"/>
            <a:ext cx="4572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424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4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424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29040" y="279576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4520" y="218592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1805040"/>
            <a:ext cx="4381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4520" y="1805040"/>
            <a:ext cx="342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86728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2959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905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1478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943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41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32274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452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424320"/>
            <a:ext cx="6858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FS-RD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424320"/>
            <a:ext cx="6094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 S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2860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1919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91916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91916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47780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1919160"/>
            <a:ext cx="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1919160"/>
            <a:ext cx="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9191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27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862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1919160"/>
            <a:ext cx="0" cy="15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4242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0760" y="4343400"/>
            <a:ext cx="380880" cy="447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271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1461960"/>
            <a:ext cx="685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B 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461960"/>
            <a:ext cx="53352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461960"/>
            <a:ext cx="6098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37160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1477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64600" y="558648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22408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06676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79096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492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631764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2040" y="427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09720" y="2733840"/>
            <a:ext cx="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8088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1.0 and 1.1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286760" y="137160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286760" y="552456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16960" y="5586480"/>
            <a:ext cx="6001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16960" y="583236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16960" y="6078600"/>
            <a:ext cx="618840" cy="183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86760" y="55864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138600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3048120"/>
            <a:ext cx="7086600" cy="281916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BM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4448160"/>
            <a:ext cx="685800" cy="35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4343400"/>
            <a:ext cx="390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1760" y="4876920"/>
            <a:ext cx="39909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71760" y="4343400"/>
            <a:ext cx="361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38560" y="399096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09920"/>
            <a:ext cx="4191120" cy="21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4243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424320"/>
            <a:ext cx="4572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424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3424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29040" y="2795760"/>
            <a:ext cx="552240" cy="19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14520" y="218592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4480" y="1805040"/>
            <a:ext cx="4381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4520" y="1805040"/>
            <a:ext cx="342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86728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52959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905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1478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5943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41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2274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452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22860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1919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191916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47780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19191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27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9862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919160"/>
            <a:ext cx="0" cy="15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4242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90760" y="4343400"/>
            <a:ext cx="380880" cy="44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1461960"/>
            <a:ext cx="53352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137160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1477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64600" y="558648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22408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206676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75492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62040" y="427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09720" y="2733840"/>
            <a:ext cx="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1461960"/>
            <a:ext cx="6098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llanox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Logic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3424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1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600200"/>
          <a:ext cx="8077320" cy="43592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ernel 2.6.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S 9 SP3, SLES 10, RHEL 4 U3 and U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86_64, x86, IA64, PPC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 libr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x86_64 and PPC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rs/H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, Mellanox, QLog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hot plug support in u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2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523880"/>
          <a:ext cx="8077320" cy="47354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 manager, pre-computed routing lo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vailability (HA) using user level dae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 fixes, HA with DM, MPP, X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, performance, PPC64 and IA64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 for Intel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Sujal</cp:lastModifiedBy>
  <dcterms:modified xsi:type="dcterms:W3CDTF">2006-09-25T03:11:38Z</dcterms:modified>
  <cp:revision>39</cp:revision>
  <dc:subject/>
  <dc:title>iWARP Status</dc:title>
</cp:coreProperties>
</file>