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D284-8CA5-4698-A4A0-5DE585EA5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F666-C4CB-4B16-A5E2-65CC5957D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8760-0090-4407-8AC1-D94D7A074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8B05-82FE-4750-AD9C-A6D85270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D098-8F18-4F5C-AEA1-0A88B99A0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0FA8-C6CB-4529-93FE-445740237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46AC-8CC5-46CD-BA47-AE35B6286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EF98-B10A-4946-B0B9-8E216B42F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4F2B-25E9-4804-96A6-477960CDF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E679-A5F3-4EE1-AED3-12AF646ED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ED23-6839-4BD4-93CC-062C02BA4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8A3D-90A3-4933-9953-A01DE599C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B6BA-36E9-43D1-B42F-0C0928E44346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ietf-ips-iser-05.tx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47800" y="785880"/>
            <a:ext cx="755496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SER Support Annex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kady Kanevsky, Ph.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S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850680"/>
            <a:ext cx="844560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an option to support iSER on IB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support for iSCSI extension for RDM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ETF draft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Arial Narrow"/>
                <a:hlinkClick r:id="rId1"/>
              </a:rPr>
              <a:t>http://www.ietf.org/internet-drafts/draft-ietf-ips-iser-05.t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able RDMA Read and Write to be used to transfer SCSI I/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ETF draft requires features that are optional in IBTA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ero-Based Virtual Address (ZBV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nd with Invalid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to do when optional semantics not supporte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5E42-7EFA-4D5D-8119-711DE4BB2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571320"/>
            <a:ext cx="8636040" cy="60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tocol to negotiate IBTA optional iSER functionality during IBTA connection set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 Initiator advertises its capabilities for optional functionality in CM REQ that iSER exp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 Target responds with CM REP stating which optional functionality it will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extension header for V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RDMA IP CM Service for iSER connection establish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IP address and IP port shall be filled by privileged kernel mode. Privileged Q-key is 0x80010000 (to prevent spoofing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rget first checks IB and IP connection information correctn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destination does not support iSER, IP protocol, or destination port – generate CM REJ with Invalid Service ID (reason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can attempt to use iSCSI over IPo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75B4-9F97-4D17-B63D-B2BC2D5C1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Service ID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31840" y="1562040"/>
          <a:ext cx="8518320" cy="3341520"/>
        </p:xfrm>
        <a:graphic>
          <a:graphicData uri="http://schemas.openxmlformats.org/drawingml/2006/table">
            <a:tbl>
              <a:tblPr/>
              <a:tblGrid>
                <a:gridCol w="2840040"/>
                <a:gridCol w="2838240"/>
                <a:gridCol w="28400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ice ID for an RDMA-Aware U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00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Protoco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6 (TC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isting values used for iSCSI/i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3FF0-61F2-4216-AE9B-DD29C9327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CM REQ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4440" y="952560"/>
          <a:ext cx="8518680" cy="5325840"/>
        </p:xfrm>
        <a:graphic>
          <a:graphicData uri="http://schemas.openxmlformats.org/drawingml/2006/table">
            <a:tbl>
              <a:tblPr/>
              <a:tblGrid>
                <a:gridCol w="1241640"/>
                <a:gridCol w="1218960"/>
                <a:gridCol w="3149640"/>
                <a:gridCol w="2908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M REQ Message Exte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ed by RDMA IP CM Service Ann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-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-Based Virtual Address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upports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– Initiator does not support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d with Invalidate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upports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 Initiator does not support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Initiator side and ignored by iSER Target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-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Initiator side and ignored by iSER Target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9854-3EFC-41C9-B2D2-8C4CB5A534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CM REP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4440" y="952560"/>
          <a:ext cx="8518680" cy="3624120"/>
        </p:xfrm>
        <a:graphic>
          <a:graphicData uri="http://schemas.openxmlformats.org/drawingml/2006/table">
            <a:tbl>
              <a:tblPr/>
              <a:tblGrid>
                <a:gridCol w="1241640"/>
                <a:gridCol w="1218960"/>
                <a:gridCol w="3149640"/>
                <a:gridCol w="2908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-Based Virtual Address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hall use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– Initiator shall use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d with Invalidate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Target  will use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 Target will use Send and NOT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Target side and ignored by iSER Initiator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E1E0-102D-495E-AF5F-FEF09BD10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SER Connection establishment - Extra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4080" y="86364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Connection establishment - Extr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 IB connection establishment do iSCSI login exchan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gotiate RDMAExtension to Y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IB CM negotiated RDMA Read Responder Resources and Initiator Depth for negotiating iSER RDMA parame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protocol extension to handle lack of optional semant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either side does not support Send with Invalidate then only Send will be u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the Initiator to invalidate STag(s) (R-key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either side does not support ZBVA then VA will be used inste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tended iSER header for VA to be used by both iSER Initiator and Targ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25AC-98EA-4E31-94F8-4B879ABD01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tension iSER Header for VA suppor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5240" y="812880"/>
          <a:ext cx="8597880" cy="5683320"/>
        </p:xfrm>
        <a:graphic>
          <a:graphicData uri="http://schemas.openxmlformats.org/drawingml/2006/table">
            <a:tbl>
              <a:tblPr/>
              <a:tblGrid>
                <a:gridCol w="761760"/>
                <a:gridCol w="711360"/>
                <a:gridCol w="2044800"/>
                <a:gridCol w="5079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SCSI control type P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STag Valid (WS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ndicates that Write Stag and Write VAs are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STag Valid (RS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ndicates that Read Stag and Read VAs are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S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ins IB R-key for SCSI Write command when WSV is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VA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WSV is set contains IB VA bits 63-32 for SCSI Writ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VA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WSV is set contains IB VA bits 31-0 for SCSI Writ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S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ins IB R-key for SCSI Read command when RSV is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VA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RSV is set contains IB VA bits 63-32 for SCSI Read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VA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RSV is set contains IB VA bits 31-0 for SCSI Read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EF0F-F4F0-430B-B830-05C470B71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NetApp</cp:lastModifiedBy>
  <cp:lastPrinted>1998-06-24T21:45:20Z</cp:lastPrinted>
  <dcterms:modified xsi:type="dcterms:W3CDTF">2006-08-15T21:27:57Z</dcterms:modified>
  <cp:revision>67</cp:revision>
  <dc:subject/>
  <dc:title>PowerPoint Presentation</dc:title>
</cp:coreProperties>
</file>