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BED98-6CDF-4FBE-8F9C-098E40925A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240" y="21168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28240" y="3818160"/>
            <a:ext cx="8458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8C666-758B-46CE-9423-05FA01C601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240" y="21168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2824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228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E90F7-27E8-40FB-BE75-3B61A7B3CD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240" y="21168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88080" y="129492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8280" y="129492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28240" y="381816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88080" y="381816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8280" y="381816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416EC-622E-4836-A332-D8B1F6221F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21168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240" y="21168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21168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21168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716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21168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2824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21168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CBE60-275C-40AB-9753-92EF9E6AA6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240" y="21168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6228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240" y="21168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28240" y="3818160"/>
            <a:ext cx="8458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240" y="21168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28240" y="3818160"/>
            <a:ext cx="8458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21168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2824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6228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21168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088080" y="129492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8280" y="129492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28240" y="381816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088080" y="381816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8280" y="381816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21168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21168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21168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240" y="21168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21168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F5679-6E6E-495C-B5ED-0C606D372D5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716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21168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22824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240" y="21168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228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21168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228240" y="3818160"/>
            <a:ext cx="8458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240" y="21168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228240" y="3818160"/>
            <a:ext cx="8458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240" y="21168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22824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6228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240" y="21168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088080" y="129492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48280" y="129492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228240" y="381816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088080" y="381816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48280" y="381816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21168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240" y="21168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21168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283BC-47CE-453A-82AA-3066C29E6EB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240" y="21168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240" y="21168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716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240" y="21168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22824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240" y="21168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6228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240" y="21168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228240" y="3818160"/>
            <a:ext cx="8458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240" y="21168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228240" y="3818160"/>
            <a:ext cx="8458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240" y="21168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22824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6228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240" y="21168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088080" y="129492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48280" y="129492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228240" y="381816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088080" y="381816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48280" y="381816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21168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44BDC-76CC-418D-A9FC-9BF1A31962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716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43B61-7732-4591-AC9F-F04702AEC2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21168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2824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74181-1B52-4E77-8F42-6C0EB75557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240" y="21168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228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72A80-1591-4672-89E5-C164F15242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240" y="21168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28240" y="3818160"/>
            <a:ext cx="8458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7EC76-B211-4A0C-B7E1-0EEB94F3A5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9360" y="6480"/>
            <a:ext cx="9125280" cy="68450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57240" y="6528960"/>
            <a:ext cx="1395360" cy="32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777777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7EBAA-66A1-4EC7-B49F-7BD62B0B19ED}" type="slidenum">
              <a:rPr b="1" lang="en-US" sz="900" spc="-1" strike="noStrike">
                <a:solidFill>
                  <a:srgbClr val="777777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005280" y="6657840"/>
            <a:ext cx="1839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"/>
          <p:cNvSpPr/>
          <p:nvPr/>
        </p:nvSpPr>
        <p:spPr>
          <a:xfrm>
            <a:off x="1669680" y="6548400"/>
            <a:ext cx="58345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pyright © 2006 InfiniBand</a:t>
            </a:r>
            <a:r>
              <a:rPr b="1" lang="en-US" sz="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Trade Association.  Other names and brands are properties of their respective owner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72440" cy="6880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6560" y="810720"/>
            <a:ext cx="73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0" y="152280"/>
            <a:ext cx="91440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8229600" y="6400800"/>
            <a:ext cx="685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09784-62D8-48FF-9D40-01CC4D5512A5}" type="slidenum">
              <a:rPr b="1" lang="en-US" sz="14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7391520" y="228600"/>
            <a:ext cx="1662120" cy="6127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80880" y="647712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openfabrics.or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702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2971800" y="1905120"/>
            <a:ext cx="3200400" cy="29178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647712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openfabrics.or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904760" y="5105520"/>
            <a:ext cx="5484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nia Pignorel, Microso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ilad Shainer, Mellan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914040" y="3808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OpenFabrics Windows Development and Microsoft Windows CCS 2003</a:t>
            </a:r>
            <a:br>
              <a:rPr sz="3300"/>
            </a:b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Part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ndows Development Go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stry standard software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s adoption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reases development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ad range of upper level proto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ght integration into the Windows 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ows Server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86, x64, and Itan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ows Compute Cluster Server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ows X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86, x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ho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onents &amp; Maintain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38240" y="1162080"/>
          <a:ext cx="8838720" cy="4475160"/>
        </p:xfrm>
        <a:graphic>
          <a:graphicData uri="http://schemas.openxmlformats.org/drawingml/2006/table">
            <a:tbl>
              <a:tblPr/>
              <a:tblGrid>
                <a:gridCol w="3115440"/>
                <a:gridCol w="5723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n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2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tain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2e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s Drivers/Access Lay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b Tillier (SilverStorm), Yossi Leybovich (Mellano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CA driv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onid Keller (Mellano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Po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b Tillier (SilverStorm), Yossi Leybovich (Mellano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sock Direct Provider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b Tillier (SilverStorm), Tzachi Dar (Mellano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RP Initiator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b Tillier (SilverStorm), Yossi Leybovich (Mellano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DP*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zachi Dar (Mellanox), Fab Tillier (SilverStor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nS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itan Zahavi (Mellano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DAP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NIC*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ex Estrin (SilverStor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"/>
          <p:cNvSpPr/>
          <p:nvPr/>
        </p:nvSpPr>
        <p:spPr>
          <a:xfrm>
            <a:off x="228600" y="5686560"/>
            <a:ext cx="298944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Not available on Windows X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* Not available on Windows XP 32 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** Will be available in the fu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3886200" y="4038480"/>
            <a:ext cx="1011240" cy="1143000"/>
            <a:chOff x="3886200" y="4038480"/>
            <a:chExt cx="1011240" cy="1143000"/>
          </a:xfrm>
        </p:grpSpPr>
        <p:sp>
          <p:nvSpPr>
            <p:cNvPr id="176" name=""/>
            <p:cNvSpPr/>
            <p:nvPr/>
          </p:nvSpPr>
          <p:spPr>
            <a:xfrm>
              <a:off x="3886200" y="4572000"/>
              <a:ext cx="1011240" cy="609480"/>
            </a:xfrm>
            <a:prstGeom prst="rect">
              <a:avLst/>
            </a:prstGeom>
            <a:gradFill rotWithShape="0">
              <a:gsLst>
                <a:gs pos="0">
                  <a:srgbClr val="f67e3c"/>
                </a:gs>
                <a:gs pos="50000">
                  <a:srgbClr val="f9b895"/>
                </a:gs>
                <a:gs pos="100000">
                  <a:srgbClr val="f67e3c"/>
                </a:gs>
              </a:gsLst>
              <a:lin ang="135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R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nipo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86200" y="4038480"/>
              <a:ext cx="1011240" cy="492120"/>
            </a:xfrm>
            <a:prstGeom prst="rect">
              <a:avLst/>
            </a:prstGeom>
            <a:gradFill rotWithShape="0">
              <a:gsLst>
                <a:gs pos="0">
                  <a:srgbClr val="5e91e4"/>
                </a:gs>
                <a:gs pos="50000">
                  <a:srgbClr val="a7c3ef"/>
                </a:gs>
                <a:gs pos="100000">
                  <a:srgbClr val="5e91e4"/>
                </a:gs>
              </a:gsLst>
              <a:lin ang="135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orPo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727200" y="3970440"/>
            <a:ext cx="4911480" cy="0"/>
          </a:xfrm>
          <a:prstGeom prst="line">
            <a:avLst/>
          </a:prstGeom>
          <a:ln w="38160">
            <a:solidFill>
              <a:srgbClr val="ff5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638680" y="3962520"/>
            <a:ext cx="0" cy="1895400"/>
          </a:xfrm>
          <a:prstGeom prst="line">
            <a:avLst/>
          </a:prstGeom>
          <a:ln w="38160">
            <a:solidFill>
              <a:srgbClr val="ff5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895480" y="2666880"/>
            <a:ext cx="914040" cy="2514600"/>
            <a:chOff x="2895480" y="2666880"/>
            <a:chExt cx="914040" cy="2514600"/>
          </a:xfrm>
        </p:grpSpPr>
        <p:sp>
          <p:nvSpPr>
            <p:cNvPr id="181" name=""/>
            <p:cNvSpPr/>
            <p:nvPr/>
          </p:nvSpPr>
          <p:spPr>
            <a:xfrm>
              <a:off x="2895480" y="4038480"/>
              <a:ext cx="914040" cy="1143000"/>
            </a:xfrm>
            <a:prstGeom prst="rect">
              <a:avLst/>
            </a:prstGeom>
            <a:gradFill rotWithShape="0">
              <a:gsLst>
                <a:gs pos="0">
                  <a:srgbClr val="f67e3c"/>
                </a:gs>
                <a:gs pos="50000">
                  <a:srgbClr val="f9b895"/>
                </a:gs>
                <a:gs pos="100000">
                  <a:srgbClr val="f67e3c"/>
                </a:gs>
              </a:gsLst>
              <a:lin ang="135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DP**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900160" y="2666880"/>
              <a:ext cx="899640" cy="1217880"/>
            </a:xfrm>
            <a:prstGeom prst="rect">
              <a:avLst/>
            </a:prstGeom>
            <a:gradFill rotWithShape="0">
              <a:gsLst>
                <a:gs pos="0">
                  <a:srgbClr val="f67e3c"/>
                </a:gs>
                <a:gs pos="50000">
                  <a:srgbClr val="f9b895"/>
                </a:gs>
                <a:gs pos="100000">
                  <a:srgbClr val="f67e3c"/>
                </a:gs>
              </a:gsLst>
              <a:lin ang="135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D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I**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914400" y="1523880"/>
            <a:ext cx="5486400" cy="324000"/>
          </a:xfrm>
          <a:prstGeom prst="rect">
            <a:avLst/>
          </a:prstGeom>
          <a:gradFill rotWithShape="0">
            <a:gsLst>
              <a:gs pos="0">
                <a:srgbClr val="66cc66"/>
              </a:gs>
              <a:gs pos="50000">
                <a:srgbClr val="ace2ac"/>
              </a:gs>
              <a:gs pos="100000">
                <a:srgbClr val="66cc66"/>
              </a:gs>
            </a:gsLst>
            <a:lin ang="13500000"/>
          </a:gra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16200000">
            <a:off x="479160" y="2477880"/>
            <a:ext cx="5508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Us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rot="16200000">
            <a:off x="406080" y="4937760"/>
            <a:ext cx="6969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Kern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6754680" y="2556000"/>
            <a:ext cx="1473120" cy="2463480"/>
            <a:chOff x="6754680" y="2556000"/>
            <a:chExt cx="1473120" cy="2463480"/>
          </a:xfrm>
        </p:grpSpPr>
        <p:grpSp>
          <p:nvGrpSpPr>
            <p:cNvPr id="187" name=""/>
            <p:cNvGrpSpPr/>
            <p:nvPr/>
          </p:nvGrpSpPr>
          <p:grpSpPr>
            <a:xfrm>
              <a:off x="6754680" y="2556000"/>
              <a:ext cx="1473120" cy="1458720"/>
              <a:chOff x="6754680" y="2556000"/>
              <a:chExt cx="1473120" cy="1458720"/>
            </a:xfrm>
          </p:grpSpPr>
          <p:sp>
            <p:nvSpPr>
              <p:cNvPr id="188" name=""/>
              <p:cNvSpPr/>
              <p:nvPr/>
            </p:nvSpPr>
            <p:spPr>
              <a:xfrm>
                <a:off x="6754680" y="2556000"/>
                <a:ext cx="1473120" cy="1458720"/>
              </a:xfrm>
              <a:prstGeom prst="roundRect">
                <a:avLst>
                  <a:gd name="adj" fmla="val 8972"/>
                </a:avLst>
              </a:prstGeom>
              <a:solidFill>
                <a:srgbClr val="808080">
                  <a:alpha val="20000"/>
                </a:srgbClr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825960" y="2627280"/>
                <a:ext cx="226440" cy="222120"/>
              </a:xfrm>
              <a:prstGeom prst="rect">
                <a:avLst/>
              </a:prstGeom>
              <a:gradFill rotWithShape="0">
                <a:gsLst>
                  <a:gs pos="0">
                    <a:srgbClr val="66cc66"/>
                  </a:gs>
                  <a:gs pos="50000">
                    <a:srgbClr val="ace2ac"/>
                  </a:gs>
                  <a:gs pos="100000">
                    <a:srgbClr val="66cc66"/>
                  </a:gs>
                </a:gsLst>
                <a:lin ang="13500000"/>
              </a:gra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825960" y="3371760"/>
                <a:ext cx="226440" cy="212760"/>
              </a:xfrm>
              <a:prstGeom prst="rect">
                <a:avLst/>
              </a:prstGeom>
              <a:gradFill rotWithShape="0">
                <a:gsLst>
                  <a:gs pos="0">
                    <a:srgbClr val="f67e3c"/>
                  </a:gs>
                  <a:gs pos="50000">
                    <a:srgbClr val="f9b895"/>
                  </a:gs>
                  <a:gs pos="100000">
                    <a:srgbClr val="f67e3c"/>
                  </a:gs>
                </a:gsLst>
                <a:lin ang="13500000"/>
              </a:gra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825960" y="3735360"/>
                <a:ext cx="226440" cy="216000"/>
              </a:xfrm>
              <a:prstGeom prst="rect">
                <a:avLst/>
              </a:prstGeom>
              <a:gradFill rotWithShape="0">
                <a:gsLst>
                  <a:gs pos="0">
                    <a:srgbClr val="ffb601"/>
                  </a:gs>
                  <a:gs pos="50000">
                    <a:srgbClr val="fed676"/>
                  </a:gs>
                  <a:gs pos="100000">
                    <a:srgbClr val="ffb601"/>
                  </a:gs>
                </a:gsLst>
                <a:lin ang="13500000"/>
              </a:gra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043400" y="2981160"/>
                <a:ext cx="90756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indow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7044480" y="2617920"/>
                <a:ext cx="117252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plication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044480" y="3348000"/>
                <a:ext cx="118188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 Window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7041960" y="3713040"/>
                <a:ext cx="93492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ardwar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825960" y="3000240"/>
                <a:ext cx="226440" cy="220680"/>
              </a:xfrm>
              <a:prstGeom prst="rect">
                <a:avLst/>
              </a:prstGeom>
              <a:gradFill rotWithShape="0">
                <a:gsLst>
                  <a:gs pos="0">
                    <a:srgbClr val="5e91e4"/>
                  </a:gs>
                  <a:gs pos="50000">
                    <a:srgbClr val="a7c3ef"/>
                  </a:gs>
                  <a:gs pos="100000">
                    <a:srgbClr val="5e91e4"/>
                  </a:gs>
                </a:gsLst>
                <a:lin ang="13500000"/>
              </a:gra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7" name=""/>
            <p:cNvSpPr/>
            <p:nvPr/>
          </p:nvSpPr>
          <p:spPr>
            <a:xfrm>
              <a:off x="6755040" y="4317840"/>
              <a:ext cx="14454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* Windows Comput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uster Server 200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** Will be available i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futu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3886200" y="2666880"/>
            <a:ext cx="1096920" cy="490680"/>
          </a:xfrm>
          <a:prstGeom prst="rect">
            <a:avLst/>
          </a:prstGeom>
          <a:gradFill rotWithShape="0">
            <a:gsLst>
              <a:gs pos="0">
                <a:srgbClr val="f67e3c"/>
              </a:gs>
              <a:gs pos="50000">
                <a:srgbClr val="f9b895"/>
              </a:gs>
              <a:gs pos="100000">
                <a:srgbClr val="f67e3c"/>
              </a:gs>
            </a:gsLst>
            <a:lin ang="13500000"/>
          </a:gra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SD S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ovi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059440" y="2666880"/>
            <a:ext cx="1341360" cy="493920"/>
          </a:xfrm>
          <a:prstGeom prst="rect">
            <a:avLst/>
          </a:prstGeom>
          <a:gradFill rotWithShape="0">
            <a:gsLst>
              <a:gs pos="0">
                <a:srgbClr val="f67e3c"/>
              </a:gs>
              <a:gs pos="50000">
                <a:srgbClr val="f9b895"/>
              </a:gs>
              <a:gs pos="100000">
                <a:srgbClr val="f67e3c"/>
              </a:gs>
            </a:gsLst>
            <a:lin ang="13500000"/>
          </a:gra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914400" y="3219480"/>
            <a:ext cx="5486400" cy="2952720"/>
            <a:chOff x="914400" y="3219480"/>
            <a:chExt cx="5486400" cy="2952720"/>
          </a:xfrm>
        </p:grpSpPr>
        <p:sp>
          <p:nvSpPr>
            <p:cNvPr id="201" name=""/>
            <p:cNvSpPr/>
            <p:nvPr/>
          </p:nvSpPr>
          <p:spPr>
            <a:xfrm>
              <a:off x="914400" y="5907240"/>
              <a:ext cx="5486400" cy="264960"/>
            </a:xfrm>
            <a:prstGeom prst="rect">
              <a:avLst/>
            </a:prstGeom>
            <a:gradFill rotWithShape="0">
              <a:gsLst>
                <a:gs pos="0">
                  <a:srgbClr val="ffb601"/>
                </a:gs>
                <a:gs pos="50000">
                  <a:srgbClr val="fed676"/>
                </a:gs>
                <a:gs pos="100000">
                  <a:srgbClr val="ffb601"/>
                </a:gs>
              </a:gsLst>
              <a:lin ang="135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HCA Hardwa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2" name=""/>
            <p:cNvGrpSpPr/>
            <p:nvPr/>
          </p:nvGrpSpPr>
          <p:grpSpPr>
            <a:xfrm>
              <a:off x="914400" y="5240160"/>
              <a:ext cx="4572000" cy="597240"/>
              <a:chOff x="914400" y="5240160"/>
              <a:chExt cx="4572000" cy="597240"/>
            </a:xfrm>
          </p:grpSpPr>
          <p:sp>
            <p:nvSpPr>
              <p:cNvPr id="203" name=""/>
              <p:cNvSpPr/>
              <p:nvPr/>
            </p:nvSpPr>
            <p:spPr>
              <a:xfrm>
                <a:off x="914400" y="5240160"/>
                <a:ext cx="4570920" cy="264240"/>
              </a:xfrm>
              <a:prstGeom prst="rect">
                <a:avLst/>
              </a:prstGeom>
              <a:gradFill rotWithShape="0">
                <a:gsLst>
                  <a:gs pos="0">
                    <a:srgbClr val="f67e3c"/>
                  </a:gs>
                  <a:gs pos="50000">
                    <a:srgbClr val="f9b895"/>
                  </a:gs>
                  <a:gs pos="100000">
                    <a:srgbClr val="f67e3c"/>
                  </a:gs>
                </a:gsLst>
                <a:lin ang="13500000"/>
              </a:gra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ccess Lay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914400" y="5572800"/>
                <a:ext cx="4572000" cy="264600"/>
              </a:xfrm>
              <a:prstGeom prst="rect">
                <a:avLst/>
              </a:prstGeom>
              <a:gradFill rotWithShape="0">
                <a:gsLst>
                  <a:gs pos="0">
                    <a:srgbClr val="f67e3c"/>
                  </a:gs>
                  <a:gs pos="50000">
                    <a:srgbClr val="f9b895"/>
                  </a:gs>
                  <a:gs pos="100000">
                    <a:srgbClr val="f67e3c"/>
                  </a:gs>
                </a:gsLst>
                <a:lin ang="13500000"/>
              </a:gra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erbs Provider Driv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3886200" y="3219480"/>
              <a:ext cx="2514240" cy="666720"/>
              <a:chOff x="3886200" y="3219480"/>
              <a:chExt cx="2514240" cy="666720"/>
            </a:xfrm>
          </p:grpSpPr>
          <p:sp>
            <p:nvSpPr>
              <p:cNvPr id="206" name=""/>
              <p:cNvSpPr/>
              <p:nvPr/>
            </p:nvSpPr>
            <p:spPr>
              <a:xfrm>
                <a:off x="3888000" y="3598920"/>
                <a:ext cx="2512440" cy="287280"/>
              </a:xfrm>
              <a:prstGeom prst="rect">
                <a:avLst/>
              </a:prstGeom>
              <a:gradFill rotWithShape="0">
                <a:gsLst>
                  <a:gs pos="0">
                    <a:srgbClr val="f67e3c"/>
                  </a:gs>
                  <a:gs pos="50000">
                    <a:srgbClr val="f9b895"/>
                  </a:gs>
                  <a:gs pos="100000">
                    <a:srgbClr val="f67e3c"/>
                  </a:gs>
                </a:gsLst>
                <a:lin ang="13500000"/>
              </a:gra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erbs Provider Library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886200" y="3219480"/>
                <a:ext cx="2514240" cy="287280"/>
              </a:xfrm>
              <a:prstGeom prst="rect">
                <a:avLst/>
              </a:prstGeom>
              <a:gradFill rotWithShape="0">
                <a:gsLst>
                  <a:gs pos="0">
                    <a:srgbClr val="f67e3c"/>
                  </a:gs>
                  <a:gs pos="50000">
                    <a:srgbClr val="f9b895"/>
                  </a:gs>
                  <a:gs pos="100000">
                    <a:srgbClr val="f67e3c"/>
                  </a:gs>
                </a:gsLst>
                <a:lin ang="13500000"/>
              </a:gra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ccess Layer Library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5241960" y="3889440"/>
              <a:ext cx="881280" cy="1973160"/>
              <a:chOff x="5241960" y="3889440"/>
              <a:chExt cx="881280" cy="197316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832720" y="3889440"/>
                <a:ext cx="290520" cy="1973160"/>
                <a:chOff x="5832720" y="3889440"/>
                <a:chExt cx="290520" cy="197316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6114240" y="3889440"/>
                  <a:ext cx="0" cy="197316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rot="16200000">
                  <a:off x="5313960" y="4503240"/>
                  <a:ext cx="132804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Kernel Bypass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2" name=""/>
              <p:cNvSpPr/>
              <p:nvPr/>
            </p:nvSpPr>
            <p:spPr>
              <a:xfrm>
                <a:off x="5241960" y="3889440"/>
                <a:ext cx="0" cy="12920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3" name=""/>
          <p:cNvGrpSpPr/>
          <p:nvPr/>
        </p:nvGrpSpPr>
        <p:grpSpPr>
          <a:xfrm>
            <a:off x="914400" y="1927080"/>
            <a:ext cx="4038480" cy="3254400"/>
            <a:chOff x="914400" y="1927080"/>
            <a:chExt cx="4038480" cy="3254400"/>
          </a:xfrm>
        </p:grpSpPr>
        <p:sp>
          <p:nvSpPr>
            <p:cNvPr id="214" name=""/>
            <p:cNvSpPr/>
            <p:nvPr/>
          </p:nvSpPr>
          <p:spPr>
            <a:xfrm>
              <a:off x="914400" y="2262240"/>
              <a:ext cx="4038480" cy="328680"/>
            </a:xfrm>
            <a:prstGeom prst="rect">
              <a:avLst/>
            </a:prstGeom>
            <a:gradFill rotWithShape="0">
              <a:gsLst>
                <a:gs pos="0">
                  <a:srgbClr val="5e91e4"/>
                </a:gs>
                <a:gs pos="50000">
                  <a:srgbClr val="a7c3ef"/>
                </a:gs>
                <a:gs pos="100000">
                  <a:srgbClr val="5e91e4"/>
                </a:gs>
              </a:gsLst>
              <a:lin ang="135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Winsock Socket Swit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914400" y="2666880"/>
              <a:ext cx="1905120" cy="1219320"/>
            </a:xfrm>
            <a:prstGeom prst="rect">
              <a:avLst/>
            </a:prstGeom>
            <a:gradFill rotWithShape="0">
              <a:gsLst>
                <a:gs pos="0">
                  <a:srgbClr val="5e91e4"/>
                </a:gs>
                <a:gs pos="50000">
                  <a:srgbClr val="a7c3ef"/>
                </a:gs>
                <a:gs pos="100000">
                  <a:srgbClr val="5e91e4"/>
                </a:gs>
              </a:gsLst>
              <a:lin ang="135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WinSo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vi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886200" y="1927080"/>
              <a:ext cx="914400" cy="282600"/>
            </a:xfrm>
            <a:prstGeom prst="rect">
              <a:avLst/>
            </a:prstGeom>
            <a:gradFill rotWithShape="0">
              <a:gsLst>
                <a:gs pos="0">
                  <a:srgbClr val="5e91e4"/>
                </a:gs>
                <a:gs pos="50000">
                  <a:srgbClr val="a7c3ef"/>
                </a:gs>
                <a:gs pos="100000">
                  <a:srgbClr val="5e91e4"/>
                </a:gs>
              </a:gsLst>
              <a:lin ang="135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PI2*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914400" y="4876920"/>
              <a:ext cx="914400" cy="304560"/>
            </a:xfrm>
            <a:prstGeom prst="rect">
              <a:avLst/>
            </a:prstGeom>
            <a:gradFill rotWithShape="0">
              <a:gsLst>
                <a:gs pos="0">
                  <a:srgbClr val="f67e3c"/>
                </a:gs>
                <a:gs pos="50000">
                  <a:srgbClr val="f9b895"/>
                </a:gs>
                <a:gs pos="100000">
                  <a:srgbClr val="f67e3c"/>
                </a:gs>
              </a:gsLst>
              <a:lin ang="135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PoI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914400" y="4572000"/>
              <a:ext cx="1905120" cy="263520"/>
            </a:xfrm>
            <a:prstGeom prst="rect">
              <a:avLst/>
            </a:prstGeom>
            <a:gradFill rotWithShape="0">
              <a:gsLst>
                <a:gs pos="0">
                  <a:srgbClr val="5e91e4"/>
                </a:gs>
                <a:gs pos="50000">
                  <a:srgbClr val="a7c3ef"/>
                </a:gs>
                <a:gs pos="100000">
                  <a:srgbClr val="5e91e4"/>
                </a:gs>
              </a:gsLst>
              <a:lin ang="135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ND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914400" y="4038480"/>
              <a:ext cx="1905120" cy="506520"/>
            </a:xfrm>
            <a:prstGeom prst="rect">
              <a:avLst/>
            </a:prstGeom>
            <a:gradFill rotWithShape="0">
              <a:gsLst>
                <a:gs pos="0">
                  <a:srgbClr val="5e91e4"/>
                </a:gs>
                <a:gs pos="50000">
                  <a:srgbClr val="a7c3ef"/>
                </a:gs>
                <a:gs pos="100000">
                  <a:srgbClr val="5e91e4"/>
                </a:gs>
              </a:gsLst>
              <a:lin ang="135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CP/UDP/ICM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1905120" y="4876920"/>
            <a:ext cx="914400" cy="304560"/>
          </a:xfrm>
          <a:prstGeom prst="rect">
            <a:avLst/>
          </a:prstGeom>
          <a:gradFill rotWithShape="0">
            <a:gsLst>
              <a:gs pos="0">
                <a:srgbClr val="f67e3c"/>
              </a:gs>
              <a:gs pos="50000">
                <a:srgbClr val="f9b895"/>
              </a:gs>
              <a:gs pos="100000">
                <a:srgbClr val="f67e3c"/>
              </a:gs>
            </a:gsLst>
            <a:lin ang="13500000"/>
          </a:gra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NIC*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nt Development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240" y="14173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THCA replaced TVP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all Mellanox InfiniBand HCAs including MemFree and DD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bilization of IBAL, MTHCA, IPoIB and W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 tu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ng support for Windows 2003 R2 (virtualiz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s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level performance t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 to the Linux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ion quality compon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o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soft WHQL cer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oIB – passes Microsoft WHQL t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SD – several issues are 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crosoft and OpenFabrics collaborate for resol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est build available from OpenFabrics websi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indows.openib.org/downloads/bin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0 release 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VN revision number included in release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est as of September 21, 2006: 1.0.0.5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ll for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IB Wi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openib.org/tiki/tiki-index.php?page=OpenIB+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ib-windows mailing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openib.org/mailman/listinfo/openib-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 up to contrib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indows.openib.org/openib/contribute.asp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n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indows.openib.org/downloads/bin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or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ibute, contribute and contrib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 toward “enterprise readines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8T10:03:17Z</dcterms:created>
  <dc:creator>erezc</dc:creator>
  <dc:description/>
  <dc:language>en-US</dc:language>
  <cp:lastModifiedBy>shainer</cp:lastModifiedBy>
  <dcterms:modified xsi:type="dcterms:W3CDTF">2006-09-22T22:28:06Z</dcterms:modified>
  <cp:revision>26</cp:revision>
  <dc:subject/>
  <dc:title>MemFree Techn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