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0FB-2659-4C16-B43D-C1BAC007A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043D-82E2-4D12-9CE1-F4F8DA9987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9F80-B1B7-4ABF-94FB-5A700D14AB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7D5-994A-4A99-9AC5-AD04B4DA33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9E6D-75C0-4D1D-9C91-4851D0D516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EDCE067-36AF-4E56-B915-F7566DA5D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7523-8583-478B-AF99-19A9582A11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800A-F2E9-4353-9167-B4925B9A50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 Services on each Compute Node, allowing you to basically send a whole workbook to each compute node (for Long-Running Workbooks)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AAD4-C1DD-4797-949A-55FF49F686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AADE-4B16-4800-A03F-10524F8042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ms-logo_small"/>
          <p:cNvPicPr/>
          <p:nvPr/>
        </p:nvPicPr>
        <p:blipFill>
          <a:blip r:embed="rId3"/>
          <a:stretch/>
        </p:blipFill>
        <p:spPr>
          <a:xfrm>
            <a:off x="7524720" y="6421320"/>
            <a:ext cx="1343160" cy="247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6" descr="ms-logo_small"/>
          <p:cNvPicPr/>
          <p:nvPr/>
        </p:nvPicPr>
        <p:blipFill>
          <a:blip r:embed="rId10"/>
          <a:stretch/>
        </p:blipFill>
        <p:spPr>
          <a:xfrm>
            <a:off x="7354800" y="6291360"/>
            <a:ext cx="1343160" cy="24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1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Fabrics Windows Developm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icrosoft Windows CCS 2003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Performance Tuning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application is different (parallel, small messages passing, large messages passing) and is sensitive to different critical factors. A unique set of mechanisms and parameters need to be applied to each application for optimal perform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Fac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Network bandwidth, Network latency, Physical RAM, CP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, Number of CPUs per node, File system speed, Job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chanis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 RDMA zero copy for better throughpu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en long transf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Offloads (TCP, checksum, 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s paramet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MPICH_SOCKET_SBUFFER_SIZE to zero for bett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BWSD_POLL ~500 for low laten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GigE: CPU interrupt modulation off for low cpu u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InfiniBand in Microsoft’s Lab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PC te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6 clusters [6-20 nodes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IB equipment for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eams with smaller scale cluster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ndows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ndows Servic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ndows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ql Ser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WHQL for InfiniBand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22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QL = Windows Hardware Quality Lab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HQL? High quality set of drivers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n by Windows Networking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microsoft.com/whdc/whql/default.m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5000" y="1417320"/>
            <a:ext cx="41022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st suite for WSD providers and IP over IB Miniport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functional test only (no code cover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 covers networking only (no stor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High Speed Networking: Next Step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e back to open-source project (MPICH2/Argonne National Laboratory) with MPI perf enhancements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PC is the first team at Microsoft contributing to an open-source project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0-6 month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tuning whitepaper coming soon. [0-3 month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Networking releases QFE with perf enhancements .[0-3 month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perf work in general for WSD, MS-MPI, openI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network diagnosis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xternal Resources</a:t>
            </a:r>
            <a:br>
              <a:rPr sz="3200"/>
            </a:b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72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HPC Web Sit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ttp://www.microsoft.com/hp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HPC Community Si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http://windowshpc.net/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 Information </a:t>
            </a: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www.microsoft.com/windowsserver2003/ccs/partners/partnerlist.m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Turbocharged Apps for Windows Compute Cluster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msdn.microsoft.com/msdnmag/issues/06/04/ClusterComputing/default.asp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gonne National Lab’s MPI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www-unix.mcs.anl.gov/mpi/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ning MPI Programs for Peak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mpc.uci.edu/wget/www-unix.mcs.anl.gov/mpi/tutorial/perf/mpiperf/index.ht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sock Direct Stability P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support.microsoft.com/kb/9104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www.microsoft.com/downloads/details.aspx?familyid=A747A23D-CF52-493C-943B-B95051F42D68&amp;displaylang=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2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 &amp;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05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Microsoft logo and tagline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op500 with InfiniBand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ked 130 on the Top500 list – April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Cluster Server V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n 896 processors Dell PowerEdge 185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-  openIB + open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ax = 4.1 TFlo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72% Efficiency (Rmax/Rpe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Rpeak = Nproc x cpu speed x n flops/cl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896 x 3.2 Ghz x 2 = 5.734 TFlo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gt;&gt; But goal = not Top500 but to create a product that responds to Industry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8-00003_Partners-logo06"/>
          <p:cNvPicPr/>
          <p:nvPr/>
        </p:nvPicPr>
        <p:blipFill>
          <a:blip r:embed="rId2"/>
          <a:stretch/>
        </p:blipFill>
        <p:spPr>
          <a:xfrm>
            <a:off x="0" y="4842000"/>
            <a:ext cx="9144000" cy="65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8-00003_Partners-logo01"/>
          <p:cNvPicPr/>
          <p:nvPr/>
        </p:nvPicPr>
        <p:blipFill>
          <a:blip r:embed="rId3"/>
          <a:stretch/>
        </p:blipFill>
        <p:spPr>
          <a:xfrm>
            <a:off x="0" y="985680"/>
            <a:ext cx="9144000" cy="66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8-00003_Partners-logo02"/>
          <p:cNvPicPr/>
          <p:nvPr/>
        </p:nvPicPr>
        <p:blipFill>
          <a:blip r:embed="rId4"/>
          <a:stretch/>
        </p:blipFill>
        <p:spPr>
          <a:xfrm>
            <a:off x="0" y="1779480"/>
            <a:ext cx="9144000" cy="69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8-00003_Partners-logo03"/>
          <p:cNvPicPr/>
          <p:nvPr/>
        </p:nvPicPr>
        <p:blipFill>
          <a:blip r:embed="rId5"/>
          <a:stretch/>
        </p:blipFill>
        <p:spPr>
          <a:xfrm>
            <a:off x="0" y="2610000"/>
            <a:ext cx="9144000" cy="58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8-00003_Partners-logo04"/>
          <p:cNvPicPr/>
          <p:nvPr/>
        </p:nvPicPr>
        <p:blipFill>
          <a:blip r:embed="rId6"/>
          <a:stretch/>
        </p:blipFill>
        <p:spPr>
          <a:xfrm>
            <a:off x="0" y="3332160"/>
            <a:ext cx="9144000" cy="615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8-00003_Partners-logo05"/>
          <p:cNvPicPr/>
          <p:nvPr/>
        </p:nvPicPr>
        <p:blipFill>
          <a:blip r:embed="rId7"/>
          <a:stretch/>
        </p:blipFill>
        <p:spPr>
          <a:xfrm>
            <a:off x="0" y="4081320"/>
            <a:ext cx="9144000" cy="625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artner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arket Perspective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060560"/>
          <a:ext cx="8534160" cy="4773600"/>
        </p:xfrm>
        <a:graphic>
          <a:graphicData uri="http://schemas.openxmlformats.org/drawingml/2006/table">
            <a:tbl>
              <a:tblPr/>
              <a:tblGrid>
                <a:gridCol w="1447560"/>
                <a:gridCol w="2057400"/>
                <a:gridCol w="2362320"/>
                <a:gridCol w="26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Cray Y-MP C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Sun HPC1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Small Form Factor P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Architect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16 x Vecto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4GB, B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24 x 333MHz Ultra-SPARCII, 24GB, SB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4 x 2.2GHz Athlon64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4GB, Gi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UNIC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Solaris 2.5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Windows Server 2003 SP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~10 GFlo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~10 GFlo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~10 GFlo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Top500 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$40,0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$1,000,000 (40x dro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&lt; $4,000 (250x dro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Custom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Government Lab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Large Enterpri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Every Engineer &amp; Scientis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Classified, Climate, Physics Resear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Manufacturing, Energy, Finance, Telec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Bioinformatics, Materials Sciences, Digital 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Group 55"/>
          <p:cNvGrpSpPr/>
          <p:nvPr/>
        </p:nvGrpSpPr>
        <p:grpSpPr>
          <a:xfrm>
            <a:off x="6516720" y="1898640"/>
            <a:ext cx="2169720" cy="1249200"/>
            <a:chOff x="6516720" y="1898640"/>
            <a:chExt cx="2169720" cy="1249200"/>
          </a:xfrm>
        </p:grpSpPr>
        <p:pic>
          <p:nvPicPr>
            <p:cNvPr id="98" name="Picture 56" descr=""/>
            <p:cNvPicPr/>
            <p:nvPr/>
          </p:nvPicPr>
          <p:blipFill>
            <a:blip r:embed="rId2"/>
            <a:stretch/>
          </p:blipFill>
          <p:spPr>
            <a:xfrm>
              <a:off x="6516720" y="1898640"/>
              <a:ext cx="174996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Group 57"/>
            <p:cNvGrpSpPr/>
            <p:nvPr/>
          </p:nvGrpSpPr>
          <p:grpSpPr>
            <a:xfrm>
              <a:off x="7566480" y="1973880"/>
              <a:ext cx="1119960" cy="936360"/>
              <a:chOff x="7566480" y="1973880"/>
              <a:chExt cx="1119960" cy="936360"/>
            </a:xfrm>
          </p:grpSpPr>
          <p:pic>
            <p:nvPicPr>
              <p:cNvPr id="100" name="Picture 58" descr=""/>
              <p:cNvPicPr/>
              <p:nvPr/>
            </p:nvPicPr>
            <p:blipFill>
              <a:blip r:embed="rId3"/>
              <a:stretch/>
            </p:blipFill>
            <p:spPr>
              <a:xfrm>
                <a:off x="7566480" y="1973880"/>
                <a:ext cx="579240" cy="5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7200" y="1973880"/>
                <a:ext cx="579240" cy="5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60" descr=""/>
              <p:cNvPicPr/>
              <p:nvPr/>
            </p:nvPicPr>
            <p:blipFill>
              <a:blip r:embed="rId5"/>
              <a:stretch/>
            </p:blipFill>
            <p:spPr>
              <a:xfrm>
                <a:off x="7566480" y="2409840"/>
                <a:ext cx="579240" cy="5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61" descr=""/>
              <p:cNvPicPr/>
              <p:nvPr/>
            </p:nvPicPr>
            <p:blipFill>
              <a:blip r:embed="rId6"/>
              <a:stretch/>
            </p:blipFill>
            <p:spPr>
              <a:xfrm>
                <a:off x="8107200" y="2409840"/>
                <a:ext cx="579240" cy="50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4" name="Picture 62" descr=""/>
          <p:cNvPicPr/>
          <p:nvPr/>
        </p:nvPicPr>
        <p:blipFill>
          <a:blip r:embed="rId7"/>
          <a:stretch/>
        </p:blipFill>
        <p:spPr>
          <a:xfrm>
            <a:off x="4626000" y="1898640"/>
            <a:ext cx="842760" cy="1320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8"/>
          <a:stretch/>
        </p:blipFill>
        <p:spPr>
          <a:xfrm>
            <a:off x="1881360" y="1847880"/>
            <a:ext cx="175392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ustomers Needs Today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Custom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integrated supported solution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ified job submission, status and progress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compute performance and scal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ified environment from desktops to HPC clus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dministrato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cluster monitoring and management for maximum resource uti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extensible, policy-driven job scheduling and resource al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node up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e process startup and complete clean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Develop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environment that enables maximum 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ailability and optimized compilers (Fortran) and math libra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 debugger, profiler, and visualization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 programming models (MP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6184800" y="360360"/>
            <a:ext cx="2130120" cy="1694880"/>
            <a:chOff x="6184800" y="360360"/>
            <a:chExt cx="2130120" cy="1694880"/>
          </a:xfrm>
        </p:grpSpPr>
        <p:pic>
          <p:nvPicPr>
            <p:cNvPr id="109" name="Picture 5" descr="gray-disc"/>
            <p:cNvPicPr/>
            <p:nvPr/>
          </p:nvPicPr>
          <p:blipFill>
            <a:blip r:embed="rId14">
              <a:lum bright="12000"/>
            </a:blip>
            <a:stretch/>
          </p:blipFill>
          <p:spPr>
            <a:xfrm>
              <a:off x="6184800" y="703080"/>
              <a:ext cx="2130120" cy="135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blue 3d disc with glow"/>
            <p:cNvPicPr/>
            <p:nvPr/>
          </p:nvPicPr>
          <p:blipFill>
            <a:blip r:embed="rId15">
              <a:lum bright="12000"/>
            </a:blip>
            <a:stretch/>
          </p:blipFill>
          <p:spPr>
            <a:xfrm>
              <a:off x="7331040" y="795600"/>
              <a:ext cx="687600" cy="5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7" descr="Host Integration Server (HIS) sm"/>
            <p:cNvPicPr/>
            <p:nvPr/>
          </p:nvPicPr>
          <p:blipFill>
            <a:blip r:embed="rId16">
              <a:lum bright="18000"/>
            </a:blip>
            <a:stretch/>
          </p:blipFill>
          <p:spPr>
            <a:xfrm>
              <a:off x="7437600" y="360360"/>
              <a:ext cx="480600" cy="84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Group 8"/>
            <p:cNvGrpSpPr/>
            <p:nvPr/>
          </p:nvGrpSpPr>
          <p:grpSpPr>
            <a:xfrm>
              <a:off x="6485760" y="604800"/>
              <a:ext cx="377280" cy="473400"/>
              <a:chOff x="6485760" y="604800"/>
              <a:chExt cx="377280" cy="473400"/>
            </a:xfrm>
          </p:grpSpPr>
          <p:pic>
            <p:nvPicPr>
              <p:cNvPr id="113" name="Picture 9" descr="blue 3d disc with glow"/>
              <p:cNvPicPr/>
              <p:nvPr/>
            </p:nvPicPr>
            <p:blipFill>
              <a:blip r:embed="rId17">
                <a:lum bright="12000"/>
              </a:blip>
              <a:stretch/>
            </p:blipFill>
            <p:spPr>
              <a:xfrm>
                <a:off x="6485760" y="785880"/>
                <a:ext cx="37728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0" descr="Server sm"/>
              <p:cNvPicPr/>
              <p:nvPr/>
            </p:nvPicPr>
            <p:blipFill>
              <a:blip r:embed="rId18">
                <a:lum bright="12000"/>
              </a:blip>
              <a:stretch/>
            </p:blipFill>
            <p:spPr>
              <a:xfrm>
                <a:off x="6566760" y="604800"/>
                <a:ext cx="222120" cy="39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Group 11"/>
            <p:cNvGrpSpPr/>
            <p:nvPr/>
          </p:nvGrpSpPr>
          <p:grpSpPr>
            <a:xfrm>
              <a:off x="6821640" y="639360"/>
              <a:ext cx="377280" cy="473760"/>
              <a:chOff x="6821640" y="639360"/>
              <a:chExt cx="377280" cy="473760"/>
            </a:xfrm>
          </p:grpSpPr>
          <p:pic>
            <p:nvPicPr>
              <p:cNvPr id="116" name="Picture 12" descr="blue 3d disc with glow"/>
              <p:cNvPicPr/>
              <p:nvPr/>
            </p:nvPicPr>
            <p:blipFill>
              <a:blip r:embed="rId19">
                <a:lum bright="12000"/>
              </a:blip>
              <a:stretch/>
            </p:blipFill>
            <p:spPr>
              <a:xfrm>
                <a:off x="6821640" y="820080"/>
                <a:ext cx="377280" cy="29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13" descr="Server sm"/>
              <p:cNvPicPr/>
              <p:nvPr/>
            </p:nvPicPr>
            <p:blipFill>
              <a:blip r:embed="rId20">
                <a:lum bright="12000"/>
              </a:blip>
              <a:stretch/>
            </p:blipFill>
            <p:spPr>
              <a:xfrm>
                <a:off x="6910200" y="639360"/>
                <a:ext cx="222120" cy="39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" name="Group 14"/>
            <p:cNvGrpSpPr/>
            <p:nvPr/>
          </p:nvGrpSpPr>
          <p:grpSpPr>
            <a:xfrm>
              <a:off x="6949080" y="982440"/>
              <a:ext cx="377280" cy="480960"/>
              <a:chOff x="6949080" y="982440"/>
              <a:chExt cx="377280" cy="480960"/>
            </a:xfrm>
          </p:grpSpPr>
          <p:pic>
            <p:nvPicPr>
              <p:cNvPr id="119" name="Picture 15" descr="blue 3d disc with glow"/>
              <p:cNvPicPr/>
              <p:nvPr/>
            </p:nvPicPr>
            <p:blipFill>
              <a:blip r:embed="rId21">
                <a:lum bright="12000"/>
              </a:blip>
              <a:stretch/>
            </p:blipFill>
            <p:spPr>
              <a:xfrm>
                <a:off x="6949080" y="1170360"/>
                <a:ext cx="377280" cy="29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16" descr="Server sm"/>
              <p:cNvPicPr/>
              <p:nvPr/>
            </p:nvPicPr>
            <p:blipFill>
              <a:blip r:embed="rId22">
                <a:lum bright="12000"/>
              </a:blip>
              <a:stretch/>
            </p:blipFill>
            <p:spPr>
              <a:xfrm>
                <a:off x="7030080" y="982440"/>
                <a:ext cx="222120" cy="39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Group 17"/>
            <p:cNvGrpSpPr/>
            <p:nvPr/>
          </p:nvGrpSpPr>
          <p:grpSpPr>
            <a:xfrm>
              <a:off x="6598800" y="882360"/>
              <a:ext cx="375480" cy="480960"/>
              <a:chOff x="6598800" y="882360"/>
              <a:chExt cx="375480" cy="480960"/>
            </a:xfrm>
          </p:grpSpPr>
          <p:pic>
            <p:nvPicPr>
              <p:cNvPr id="122" name="Picture 18" descr="blue 3d disc with glow"/>
              <p:cNvPicPr/>
              <p:nvPr/>
            </p:nvPicPr>
            <p:blipFill>
              <a:blip r:embed="rId23">
                <a:lum bright="12000"/>
              </a:blip>
              <a:stretch/>
            </p:blipFill>
            <p:spPr>
              <a:xfrm>
                <a:off x="6598800" y="1070640"/>
                <a:ext cx="375480" cy="29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9" descr="Server sm"/>
              <p:cNvPicPr/>
              <p:nvPr/>
            </p:nvPicPr>
            <p:blipFill>
              <a:blip r:embed="rId24">
                <a:lum bright="12000"/>
              </a:blip>
              <a:stretch/>
            </p:blipFill>
            <p:spPr>
              <a:xfrm>
                <a:off x="6679440" y="882360"/>
                <a:ext cx="221040" cy="392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184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CS Key Feature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103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Integration with existing Windows and management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grates with AD, Windows security and existing systems management  and deployment to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Node Deployment and Administ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ute nodes automatically imaged and added to clu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de Management through UI and command l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o List to configure head n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Extensible job schedu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arty extensibility at job submission and/or job assig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s: admission policies and license verific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mit jobs from command line, UI, or directly from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e management, similar to print queue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Secure M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credentials secured in job scheduler and compute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ized MPI st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crosoft provided stack reduces application/MPI incompatibility iss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Integration with new App Development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cel 12</a:t>
            </a: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, Mat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xcel 12 and 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CS integration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-762120" y="762120"/>
            <a:ext cx="879480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611280" y="1268280"/>
            <a:ext cx="7407360" cy="4192560"/>
          </a:xfrm>
          <a:prstGeom prst="pie">
            <a:avLst/>
          </a:prstGeom>
          <a:noFill/>
          <a:ln cap="rnd" w="39600">
            <a:solidFill>
              <a:srgbClr val="b409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curved arrow long thin blue"/>
          <p:cNvPicPr/>
          <p:nvPr/>
        </p:nvPicPr>
        <p:blipFill>
          <a:blip r:embed="rId2"/>
          <a:stretch/>
        </p:blipFill>
        <p:spPr>
          <a:xfrm>
            <a:off x="684360" y="1197000"/>
            <a:ext cx="8001000" cy="4000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P Compaq Proliant ML server"/>
          <p:cNvPicPr/>
          <p:nvPr/>
        </p:nvPicPr>
        <p:blipFill>
          <a:blip r:embed="rId3"/>
          <a:stretch/>
        </p:blipFill>
        <p:spPr>
          <a:xfrm>
            <a:off x="3886200" y="2743200"/>
            <a:ext cx="62856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P Compaq d530 Ultra slim with bliss"/>
          <p:cNvPicPr/>
          <p:nvPr/>
        </p:nvPicPr>
        <p:blipFill>
          <a:blip r:embed="rId4"/>
          <a:stretch/>
        </p:blipFill>
        <p:spPr>
          <a:xfrm>
            <a:off x="1066680" y="3809880"/>
            <a:ext cx="1249560" cy="1163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209600" y="56386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710520" y="5661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014160" y="5661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us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84360" y="2133720"/>
            <a:ext cx="23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C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348000" y="189000"/>
            <a:ext cx="458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 Calculation on Compute Cluster Server 2003 (workbook with ECS or formula with ex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914040" y="31719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 “12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932360" y="907920"/>
            <a:ext cx="2316240" cy="1695600"/>
            <a:chOff x="4932360" y="907920"/>
            <a:chExt cx="2316240" cy="1695600"/>
          </a:xfrm>
        </p:grpSpPr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4932360" y="2039760"/>
              <a:ext cx="38412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6"/>
            <a:stretch/>
          </p:blipFill>
          <p:spPr>
            <a:xfrm>
              <a:off x="5327640" y="2039760"/>
              <a:ext cx="38412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5688000" y="2039760"/>
              <a:ext cx="38412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6083280" y="2039760"/>
              <a:ext cx="38412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tretch/>
          </p:blipFill>
          <p:spPr>
            <a:xfrm>
              <a:off x="6476760" y="2030400"/>
              <a:ext cx="384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0"/>
            <a:stretch/>
          </p:blipFill>
          <p:spPr>
            <a:xfrm>
              <a:off x="6864120" y="2030400"/>
              <a:ext cx="384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1"/>
            <a:stretch/>
          </p:blipFill>
          <p:spPr>
            <a:xfrm>
              <a:off x="5673600" y="907920"/>
              <a:ext cx="6876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2"/>
            <a:stretch/>
          </p:blipFill>
          <p:spPr>
            <a:xfrm>
              <a:off x="6146640" y="1522440"/>
              <a:ext cx="36504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4716360" y="39337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enario 1: entire workbooks sent 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des where there is an ECS that does the computation and post back on 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enario 2:  job submit of exe containing excel formula on node. More granular but more dev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High- Performance Networking Option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5508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buSzPct val="1439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-MPI: based on MPICH2 implementation by Argonne of MPI spec (open-sour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340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which is why not 100% comp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340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msmpi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orts any interconnec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hat plugs into windows at the same time thanks to windows networking stack. Mpiexec cmd with different network mask to switch fabri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340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y MPI works on CC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not restricted to msm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buSzPct val="1439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ock Dire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 exploits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DM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pability in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fferent interconnec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t the same time with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chan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wsd, app, M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grad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erconnect (ex:IB driver) no 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tter thoughput/lat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all app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 not just MPI a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plug custom fabric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devel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buSzPct val="1439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conn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IB 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-latency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gE, Myrinet, etc 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 flipV="1">
            <a:off x="6443640" y="3499920"/>
            <a:ext cx="1528920" cy="972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 flipV="1">
            <a:off x="6516720" y="4436640"/>
            <a:ext cx="1528560" cy="972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7524720" y="1916280"/>
            <a:ext cx="0" cy="792000"/>
          </a:xfrm>
          <a:prstGeom prst="line">
            <a:avLst/>
          </a:prstGeom>
          <a:ln w="12600">
            <a:solidFill>
              <a:srgbClr val="e78e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7164000" y="3573360"/>
            <a:ext cx="9720" cy="831960"/>
          </a:xfrm>
          <a:prstGeom prst="line">
            <a:avLst/>
          </a:prstGeom>
          <a:ln w="12600">
            <a:solidFill>
              <a:srgbClr val="e78e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8029080" y="26370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MS-M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8015400" y="3860640"/>
            <a:ext cx="96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In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Conn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8115120" y="335772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WS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330240" y="1486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6659640" y="1916280"/>
            <a:ext cx="0" cy="1366560"/>
          </a:xfrm>
          <a:prstGeom prst="line">
            <a:avLst/>
          </a:prstGeom>
          <a:ln w="12600">
            <a:solidFill>
              <a:srgbClr val="e78e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7093080" y="2852640"/>
            <a:ext cx="87948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>
            <a:off x="7524720" y="2924280"/>
            <a:ext cx="0" cy="433440"/>
          </a:xfrm>
          <a:prstGeom prst="line">
            <a:avLst/>
          </a:prstGeom>
          <a:ln w="12600">
            <a:solidFill>
              <a:srgbClr val="e78e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1066680" y="3809880"/>
            <a:ext cx="5677200" cy="1981440"/>
          </a:xfrm>
          <a:prstGeom prst="pie">
            <a:avLst/>
          </a:prstGeom>
          <a:gradFill rotWithShape="0">
            <a:gsLst>
              <a:gs pos="0">
                <a:srgbClr val="15485f">
                  <a:alpha val="80000"/>
                </a:srgbClr>
              </a:gs>
              <a:gs pos="50000">
                <a:srgbClr val="206d90">
                  <a:alpha val="80000"/>
                </a:srgbClr>
              </a:gs>
              <a:gs pos="100000">
                <a:srgbClr val="15485f">
                  <a:alpha val="80000"/>
                </a:srgbClr>
              </a:gs>
            </a:gsLst>
            <a:lin ang="2700000"/>
          </a:gradFill>
          <a:ln w="12600">
            <a:solidFill>
              <a:srgbClr val="5bb3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1066680" y="1154160"/>
            <a:ext cx="5677200" cy="3354480"/>
          </a:xfrm>
          <a:prstGeom prst="pie">
            <a:avLst/>
          </a:prstGeom>
          <a:gradFill rotWithShape="0">
            <a:gsLst>
              <a:gs pos="0">
                <a:srgbClr val="15485f">
                  <a:alpha val="80000"/>
                </a:srgbClr>
              </a:gs>
              <a:gs pos="50000">
                <a:srgbClr val="206d90">
                  <a:alpha val="80000"/>
                </a:srgbClr>
              </a:gs>
              <a:gs pos="100000">
                <a:srgbClr val="15485f">
                  <a:alpha val="80000"/>
                </a:srgbClr>
              </a:gs>
            </a:gsLst>
            <a:lin ang="2700000"/>
          </a:gradFill>
          <a:ln w="12600">
            <a:solidFill>
              <a:srgbClr val="5bb3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S MPI Leverages Winsock Direct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074600" y="5815080"/>
            <a:ext cx="5672160" cy="28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a26120">
                  <a:alpha val="70196"/>
                </a:srgbClr>
              </a:gs>
              <a:gs pos="50000">
                <a:srgbClr val="ff9933">
                  <a:alpha val="70196"/>
                </a:srgbClr>
              </a:gs>
              <a:gs pos="100000">
                <a:srgbClr val="a26120">
                  <a:alpha val="70196"/>
                </a:srgbClr>
              </a:gs>
            </a:gsLst>
            <a:lin ang="2700000"/>
          </a:gra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Networking Hardw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231920" y="5433840"/>
            <a:ext cx="266688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Virtual Bus Driv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2222640" y="4290840"/>
            <a:ext cx="167616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2222640" y="4010040"/>
            <a:ext cx="1676160" cy="28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TC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194440" y="3936960"/>
            <a:ext cx="147780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User Host Channel Adapter Driv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4127400" y="3173400"/>
            <a:ext cx="173700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IB WinSock Provider D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2832120" y="2590920"/>
            <a:ext cx="1308240" cy="52056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2832120" y="2590920"/>
            <a:ext cx="152280" cy="144756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5029200" y="3870360"/>
            <a:ext cx="12600" cy="1235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222640" y="4896000"/>
            <a:ext cx="83808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Miniport (GigE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3060720" y="4896000"/>
            <a:ext cx="83808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Miniport (IPoIB)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4280040" y="5141880"/>
            <a:ext cx="198108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Kernel API (verbs base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4127400" y="3594240"/>
            <a:ext cx="1739880" cy="28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User API (verbs base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280040" y="5486400"/>
            <a:ext cx="201276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Host Channel Adapter Driv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1231920" y="3581280"/>
            <a:ext cx="914400" cy="1752840"/>
          </a:xfrm>
          <a:prstGeom prst="cube">
            <a:avLst>
              <a:gd name="adj" fmla="val 10898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GigE RDMA WinSock Provider D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0"/>
          <p:cNvSpPr/>
          <p:nvPr/>
        </p:nvSpPr>
        <p:spPr>
          <a:xfrm flipH="1">
            <a:off x="1917720" y="2590920"/>
            <a:ext cx="914400" cy="106668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7264440" y="5757840"/>
            <a:ext cx="110808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IHV-provided compon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7264440" y="5249880"/>
            <a:ext cx="112392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OS compon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222640" y="4595760"/>
            <a:ext cx="167616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ND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2235240" y="1900080"/>
            <a:ext cx="1371600" cy="592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WinSock Swit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3092760" y="2841480"/>
            <a:ext cx="875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IB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w/ R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1395720" y="2908440"/>
            <a:ext cx="8755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Gi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w/ R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2916360" y="3429000"/>
            <a:ext cx="801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IP pa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28"/>
          <p:cNvSpPr/>
          <p:nvPr/>
        </p:nvSpPr>
        <p:spPr>
          <a:xfrm>
            <a:off x="3822840" y="5029200"/>
            <a:ext cx="761760" cy="152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2603520" y="53341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H="1">
            <a:off x="5730480" y="3822840"/>
            <a:ext cx="12600" cy="190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5062320" y="1112760"/>
            <a:ext cx="126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c811"/>
                </a:solidFill>
                <a:latin typeface="Segoe Semibold"/>
              </a:rPr>
              <a:t>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5042520" y="4567320"/>
            <a:ext cx="1459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c811"/>
                </a:solidFill>
                <a:latin typeface="Segoe Semibold"/>
              </a:rPr>
              <a:t>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33"/>
          <p:cNvSpPr/>
          <p:nvPr/>
        </p:nvSpPr>
        <p:spPr>
          <a:xfrm>
            <a:off x="4203720" y="1892160"/>
            <a:ext cx="1684440" cy="498600"/>
          </a:xfrm>
          <a:prstGeom prst="borderCallout1">
            <a:avLst>
              <a:gd name="adj1" fmla="val 18750"/>
              <a:gd name="adj2" fmla="val -8333"/>
              <a:gd name="adj3" fmla="val 86625"/>
              <a:gd name="adj4" fmla="val -3920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Switch traffic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based on sub-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4"/>
          <p:cNvSpPr/>
          <p:nvPr/>
        </p:nvSpPr>
        <p:spPr>
          <a:xfrm>
            <a:off x="6896160" y="3683160"/>
            <a:ext cx="1584360" cy="1028520"/>
          </a:xfrm>
          <a:prstGeom prst="borderCallout1">
            <a:avLst>
              <a:gd name="adj1" fmla="val 18750"/>
              <a:gd name="adj2" fmla="val -8333"/>
              <a:gd name="adj3" fmla="val 44444"/>
              <a:gd name="adj4" fmla="val -22046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Manage hardware resources in user space (eg., Send and receive queu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6477120" y="4416480"/>
            <a:ext cx="12600" cy="1425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6"/>
          <p:cNvSpPr/>
          <p:nvPr/>
        </p:nvSpPr>
        <p:spPr>
          <a:xfrm>
            <a:off x="2235240" y="1230480"/>
            <a:ext cx="1351080" cy="264960"/>
          </a:xfrm>
          <a:prstGeom prst="cube">
            <a:avLst>
              <a:gd name="adj" fmla="val 17995"/>
            </a:avLst>
          </a:prstGeom>
          <a:gradFill rotWithShape="0">
            <a:gsLst>
              <a:gs pos="0">
                <a:srgbClr val="587989">
                  <a:alpha val="70196"/>
                </a:srgbClr>
              </a:gs>
              <a:gs pos="50000">
                <a:srgbClr val="a3dffe">
                  <a:alpha val="70196"/>
                </a:srgbClr>
              </a:gs>
              <a:gs pos="100000">
                <a:srgbClr val="587989">
                  <a:alpha val="70196"/>
                </a:srgbClr>
              </a:gs>
            </a:gsLst>
            <a:lin ang="2700000"/>
          </a:gradFill>
          <a:ln w="12600">
            <a:solidFill>
              <a:srgbClr val="a3d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HPC Appli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7"/>
          <p:cNvSpPr/>
          <p:nvPr/>
        </p:nvSpPr>
        <p:spPr>
          <a:xfrm>
            <a:off x="2235240" y="1563840"/>
            <a:ext cx="1371600" cy="28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MP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0:45:11Z</dcterms:created>
  <dc:creator>Tabatha Shaddick</dc:creator>
  <dc:description/>
  <dc:language>en-US</dc:language>
  <cp:lastModifiedBy>Sonia Pignorel</cp:lastModifiedBy>
  <dcterms:modified xsi:type="dcterms:W3CDTF">2006-09-23T00:02:56Z</dcterms:modified>
  <cp:revision>116</cp:revision>
  <dc:subject/>
  <dc:title>Slide 1</dc:title>
</cp:coreProperties>
</file>