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4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12.png" ContentType="image/png"/>
  <Override PartName="/ppt/media/image49.png" ContentType="image/png"/>
  <Override PartName="/ppt/media/image47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30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66.png" ContentType="image/png"/>
  <Override PartName="/ppt/media/image29.png" ContentType="image/png"/>
  <Override PartName="/ppt/media/image63.png" ContentType="image/png"/>
  <Override PartName="/ppt/media/image26.png" ContentType="image/png"/>
  <Override PartName="/ppt/media/image62.png" ContentType="image/png"/>
  <Override PartName="/ppt/media/image25.png" ContentType="image/png"/>
  <Override PartName="/ppt/media/image59.png" ContentType="image/png"/>
  <Override PartName="/ppt/media/image22.png" ContentType="image/png"/>
  <Override PartName="/ppt/media/image24.png" ContentType="image/png"/>
  <Override PartName="/ppt/media/image60.png" ContentType="image/png"/>
  <Override PartName="/ppt/media/image18.png" ContentType="image/png"/>
  <Override PartName="/ppt/media/image23.png" ContentType="image/png"/>
  <Override PartName="/ppt/media/image4.png" ContentType="image/png"/>
  <Override PartName="/ppt/media/image16.png" ContentType="image/png"/>
  <Override PartName="/ppt/media/image7.jpeg" ContentType="image/jpeg"/>
  <Override PartName="/ppt/media/image28.png" ContentType="image/png"/>
  <Override PartName="/ppt/media/image6.wmf" ContentType="image/x-wmf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929040" y="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3"/>
          </p:nvPr>
        </p:nvSpPr>
        <p:spPr>
          <a:xfrm>
            <a:off x="-14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4"/>
          </p:nvPr>
        </p:nvSpPr>
        <p:spPr>
          <a:xfrm>
            <a:off x="39290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467E-C395-41F2-81F3-353270E80B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31400" y="878220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E2665BD-C4B4-4F13-B462-08FBF1253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Img"/>
          </p:nvPr>
        </p:nvSpPr>
        <p:spPr>
          <a:xfrm>
            <a:off x="1079640" y="815760"/>
            <a:ext cx="4605120" cy="345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8360" y="8508960"/>
            <a:ext cx="649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5040" y="212760"/>
            <a:ext cx="444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l Corporate Standard for color overhead presen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7160" y="612720"/>
            <a:ext cx="649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body"/>
          </p:nvPr>
        </p:nvSpPr>
        <p:spPr>
          <a:xfrm>
            <a:off x="289080" y="4397400"/>
            <a:ext cx="6395760" cy="39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9290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AFC5-C404-4F30-9673-4E637935D2D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14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1440" y="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635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9290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1DD2-8F82-41EC-A3CD-6F4515E8B62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14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1440" y="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635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27000" y="4381560"/>
            <a:ext cx="508176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9290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8E6F-CC26-4D91-B5C9-45AAF44B747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14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1440" y="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635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9290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508C-3E72-4D36-9193-3542D999631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14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1440" y="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LSI Logic’s leadership position in the industry.  Blue text indicates areas where LSI provides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9290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3453-679C-4366-8285-AEC88A9DD52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14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1440" y="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635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25560" y="437796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interfaces and technology have always driven change, and that trend continues today and into the foreseeabl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e channel continues to evolve with 4 Gb/s products recently being released.  8 Gb/s is being investigated in the industry committee and will likely play a role as a SAN interface, particularly in Price Bands 4 and above  (storage systems costing &gt; $15,000 as defined by IDC) but it is yet to be determined if or when it appears as a disk or device interface.  Fibre Channel will continue to be a major part of the SAN infrastructure, as well as a disk/device interface in the upper part of Price Band 4 and above (storage systems costing &gt; $25,000 as defined by IDC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CSI is emerging as a viable SAN interface for entry-level systems (Price Bands 1 – 3, systems costing &lt; $15,000 as defined by IDC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 Attach SCSI (SAS) is starting to appear and will quickly ramp as an interface for Direct Attach Storage (DAS) as a parallel SCSI replacement, as well as a disk/device interface – also as a parallel SCSI replacement.   SAS will appear first internal to servers and will eventually move into external storage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 ATA (SATA) continues to penetrate the market, both in entry level systems and in secondary storage applications.  SATA has found a home in non-mission critical systems and in application environments where high IOP performance is not requ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iniBand (IB) is making a resurgence, particularly in high performance computing requirements.  Initially being deployed as a high-bandwidth, low-latency cluster interconnect, IB is now being strongly considered as a direct storage interface into these clusters.  Expect to see native IB storage interfaces in late 2005 and early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9290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9CC1-C094-45BD-82D1-F467AEE05F4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14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1440" y="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0FD7-045C-43BB-90AF-8F4E2436C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9360" y="410508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0B625-7B9E-487D-B1A7-E544FC3D9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3348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38F7-1B9E-4442-9598-208EB23B4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2924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48948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936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2924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48948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B5AD-F9AA-45D4-BDE4-5A3F73369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69360" y="3189240"/>
            <a:ext cx="4613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461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6560" y="810720"/>
            <a:ext cx="73900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9360" y="3189240"/>
            <a:ext cx="4613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85B1-0351-4360-8664-DF6B477E2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73348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69360" y="410508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73348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2924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8948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936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92924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348948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461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24F1-281B-4098-8639-15A186CFC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2434-2E5B-4D86-AD73-520CBB894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5F1F-16B6-4B82-B77A-87E1D562E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6560" y="810720"/>
            <a:ext cx="73900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64FA-587D-4305-8050-562E828CA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5F8E-ABBE-4025-9AAF-78E6A69EC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3348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BDF8-98F4-4C51-A270-E6973426E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D22B-40CD-4F18-9BDE-2E7D7C876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360" y="6480"/>
            <a:ext cx="9125280" cy="6845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57240" y="6528960"/>
            <a:ext cx="139536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777777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197E-1AD6-4EA1-9C91-8ACF7E87F2A3}" type="slidenum">
              <a:rPr b="1" lang="en-US" sz="900" spc="-1" strike="noStrike">
                <a:solidFill>
                  <a:srgbClr val="777777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05280" y="66578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1669680" y="6548400"/>
            <a:ext cx="583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6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de Association.  Other names and brands are properties of their respective own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80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9.pn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17.png"/><Relationship Id="rId12" Type="http://schemas.openxmlformats.org/officeDocument/2006/relationships/image" Target="../media/image21.png"/><Relationship Id="rId13" Type="http://schemas.openxmlformats.org/officeDocument/2006/relationships/image" Target="../media/image20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0.png"/><Relationship Id="rId17" Type="http://schemas.openxmlformats.org/officeDocument/2006/relationships/image" Target="../media/image24.png"/><Relationship Id="rId18" Type="http://schemas.openxmlformats.org/officeDocument/2006/relationships/image" Target="../media/image21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1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7.png"/><Relationship Id="rId25" Type="http://schemas.openxmlformats.org/officeDocument/2006/relationships/image" Target="../media/image20.png"/><Relationship Id="rId26" Type="http://schemas.openxmlformats.org/officeDocument/2006/relationships/image" Target="../media/image27.png"/><Relationship Id="rId27" Type="http://schemas.openxmlformats.org/officeDocument/2006/relationships/image" Target="../media/image18.png"/><Relationship Id="rId28" Type="http://schemas.openxmlformats.org/officeDocument/2006/relationships/image" Target="../media/image28.png"/><Relationship Id="rId29" Type="http://schemas.openxmlformats.org/officeDocument/2006/relationships/image" Target="../media/image25.png"/><Relationship Id="rId30" Type="http://schemas.openxmlformats.org/officeDocument/2006/relationships/image" Target="../media/image27.png"/><Relationship Id="rId31" Type="http://schemas.openxmlformats.org/officeDocument/2006/relationships/image" Target="../media/image25.png"/><Relationship Id="rId32" Type="http://schemas.openxmlformats.org/officeDocument/2006/relationships/image" Target="../media/image27.png"/><Relationship Id="rId33" Type="http://schemas.openxmlformats.org/officeDocument/2006/relationships/image" Target="../media/image25.png"/><Relationship Id="rId34" Type="http://schemas.openxmlformats.org/officeDocument/2006/relationships/image" Target="../media/image26.png"/><Relationship Id="rId35" Type="http://schemas.openxmlformats.org/officeDocument/2006/relationships/image" Target="../media/image21.png"/><Relationship Id="rId36" Type="http://schemas.openxmlformats.org/officeDocument/2006/relationships/image" Target="../media/image29.png"/><Relationship Id="rId37" Type="http://schemas.openxmlformats.org/officeDocument/2006/relationships/image" Target="../media/image30.png"/><Relationship Id="rId38" Type="http://schemas.openxmlformats.org/officeDocument/2006/relationships/image" Target="../media/image31.png"/><Relationship Id="rId39" Type="http://schemas.openxmlformats.org/officeDocument/2006/relationships/image" Target="../media/image32.png"/><Relationship Id="rId40" Type="http://schemas.openxmlformats.org/officeDocument/2006/relationships/image" Target="../media/image33.png"/><Relationship Id="rId41" Type="http://schemas.openxmlformats.org/officeDocument/2006/relationships/image" Target="../media/image34.png"/><Relationship Id="rId42" Type="http://schemas.openxmlformats.org/officeDocument/2006/relationships/image" Target="../media/image35.png"/><Relationship Id="rId43" Type="http://schemas.openxmlformats.org/officeDocument/2006/relationships/image" Target="../media/image36.png"/><Relationship Id="rId44" Type="http://schemas.openxmlformats.org/officeDocument/2006/relationships/image" Target="../media/image37.png"/><Relationship Id="rId45" Type="http://schemas.openxmlformats.org/officeDocument/2006/relationships/image" Target="../media/image38.png"/><Relationship Id="rId46" Type="http://schemas.openxmlformats.org/officeDocument/2006/relationships/image" Target="../media/image39.png"/><Relationship Id="rId47" Type="http://schemas.openxmlformats.org/officeDocument/2006/relationships/image" Target="../media/image40.png"/><Relationship Id="rId48" Type="http://schemas.openxmlformats.org/officeDocument/2006/relationships/image" Target="../media/image41.png"/><Relationship Id="rId49" Type="http://schemas.openxmlformats.org/officeDocument/2006/relationships/image" Target="../media/image42.png"/><Relationship Id="rId50" Type="http://schemas.openxmlformats.org/officeDocument/2006/relationships/image" Target="../media/image43.png"/><Relationship Id="rId51" Type="http://schemas.openxmlformats.org/officeDocument/2006/relationships/image" Target="../media/image44.png"/><Relationship Id="rId52" Type="http://schemas.openxmlformats.org/officeDocument/2006/relationships/image" Target="../media/image45.png"/><Relationship Id="rId53" Type="http://schemas.openxmlformats.org/officeDocument/2006/relationships/image" Target="../media/image46.png"/><Relationship Id="rId54" Type="http://schemas.openxmlformats.org/officeDocument/2006/relationships/image" Target="../media/image47.png"/><Relationship Id="rId55" Type="http://schemas.openxmlformats.org/officeDocument/2006/relationships/image" Target="../media/image48.png"/><Relationship Id="rId56" Type="http://schemas.openxmlformats.org/officeDocument/2006/relationships/image" Target="../media/image49.png"/><Relationship Id="rId57" Type="http://schemas.openxmlformats.org/officeDocument/2006/relationships/image" Target="../media/image50.png"/><Relationship Id="rId58" Type="http://schemas.openxmlformats.org/officeDocument/2006/relationships/image" Target="../media/image51.png"/><Relationship Id="rId59" Type="http://schemas.openxmlformats.org/officeDocument/2006/relationships/image" Target="../media/image52.png"/><Relationship Id="rId60" Type="http://schemas.openxmlformats.org/officeDocument/2006/relationships/image" Target="../media/image53.png"/><Relationship Id="rId61" Type="http://schemas.openxmlformats.org/officeDocument/2006/relationships/image" Target="../media/image54.png"/><Relationship Id="rId62" Type="http://schemas.openxmlformats.org/officeDocument/2006/relationships/image" Target="../media/image55.png"/><Relationship Id="rId63" Type="http://schemas.openxmlformats.org/officeDocument/2006/relationships/image" Target="../media/image56.png"/><Relationship Id="rId64" Type="http://schemas.openxmlformats.org/officeDocument/2006/relationships/image" Target="../media/image57.png"/><Relationship Id="rId65" Type="http://schemas.openxmlformats.org/officeDocument/2006/relationships/image" Target="../media/image58.png"/><Relationship Id="rId66" Type="http://schemas.openxmlformats.org/officeDocument/2006/relationships/image" Target="../media/image59.png"/><Relationship Id="rId67" Type="http://schemas.openxmlformats.org/officeDocument/2006/relationships/image" Target="../media/image60.png"/><Relationship Id="rId68" Type="http://schemas.openxmlformats.org/officeDocument/2006/relationships/image" Target="../media/image61.png"/><Relationship Id="rId69" Type="http://schemas.openxmlformats.org/officeDocument/2006/relationships/image" Target="../media/image62.png"/><Relationship Id="rId70" Type="http://schemas.openxmlformats.org/officeDocument/2006/relationships/image" Target="../media/image63.png"/><Relationship Id="rId71" Type="http://schemas.openxmlformats.org/officeDocument/2006/relationships/image" Target="../media/image3.jpeg"/><Relationship Id="rId72" Type="http://schemas.openxmlformats.org/officeDocument/2006/relationships/slideLayout" Target="../slideLayouts/slideLayout1.xml"/><Relationship Id="rId7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39480" y="519120"/>
            <a:ext cx="8646840" cy="17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ative InfiniBand Storag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eployment &amp; Customer Experienc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2320" y="2579400"/>
            <a:ext cx="5019480" cy="29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ave Elli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rector, HPC Architectu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SI Log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BTA &amp; OFA DevCon San Francisc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ptember 25, 2006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1520" y="5557680"/>
            <a:ext cx="97164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5680" y="85320"/>
            <a:ext cx="905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InfiniBand – Development Experienc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BTA Plugfest – Spring 2006 – University of New Hampshi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orage array was connected, configured, and simply worked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mercial customers attended to observer the technology exchan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aluable relationships form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05 – Nov 2005, Seattle, W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orCloud – Interoperability pushed to the limi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oth activity with many of our Partn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Customer intere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st-SC05 Customer engagements ongo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76040" y="5907240"/>
            <a:ext cx="971640" cy="61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0BB6-393F-4FE6-AB5E-507007C4E8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5680" y="85320"/>
            <a:ext cx="905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InfiniBand – Development Continu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river Develop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ongoing activity with the IB component vendors to ensure interoperabilit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ongoing activity with our Partners to develop host-side device driv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roducing “Enterprise Ready” Storage concepts to component suppliers who have not worked in this area befo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-path I/O Driv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ailover Driv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ing years of FC Enterprise Experience to the IB community to ensure that IB Storage is a viable unified wire op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ving to OFED 1.1 SRP driv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76040" y="5907240"/>
            <a:ext cx="971640" cy="61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90F8-4907-45AA-BC12-5C7250BDC6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5680" y="85320"/>
            <a:ext cx="905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InfiniBand – Upcoming Committ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BTA Plugfest – Fall 2006 – University of New Hampshi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e will attend and continue to support the IB communit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06 – Nov 2006, Tampa, F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e will attend and continue to support our Partners and the IB communit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76040" y="5907240"/>
            <a:ext cx="971640" cy="61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EBAD-9C7C-4A5C-9C39-173C0790B0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2000" y="2154240"/>
            <a:ext cx="738972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Questions?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ontact Info: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Dave Ellis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Director, HPC Architecture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SI Logic, Engenio Storage Group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770-330-9486 (Cell)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56-895-0517 (Office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72720"/>
            <a:ext cx="74674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Disclaim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7520" y="107928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material contains LSI Logic,  Engenio Storage Group technology overview inform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46960" indent="-24696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ferenced features, functionality and capabilit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y not all be supported by all LSI ESG Partn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46960" indent="-24696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ates contained here do not reflect product testing/qualification conducted by LSI ESG Partn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46960" indent="-24696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ates and features are subject to chang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46960" indent="-24696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opinions of the speaker do not reflect the opinions or policies of LSI Log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469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115480" y="236520"/>
            <a:ext cx="971280" cy="6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9D75-5548-4ECA-85CE-AA3D882F993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49440" y="5435640"/>
            <a:ext cx="7594560" cy="14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-12600" y="380880"/>
            <a:ext cx="8381880" cy="5950080"/>
            <a:chOff x="-12600" y="380880"/>
            <a:chExt cx="8381880" cy="5950080"/>
          </a:xfrm>
        </p:grpSpPr>
        <p:grpSp>
          <p:nvGrpSpPr>
            <p:cNvPr id="100" name=""/>
            <p:cNvGrpSpPr/>
            <p:nvPr/>
          </p:nvGrpSpPr>
          <p:grpSpPr>
            <a:xfrm>
              <a:off x="1739880" y="833400"/>
              <a:ext cx="3200400" cy="551160"/>
              <a:chOff x="1739880" y="833400"/>
              <a:chExt cx="3200400" cy="551160"/>
            </a:xfrm>
          </p:grpSpPr>
          <p:sp>
            <p:nvSpPr>
              <p:cNvPr id="101" name=""/>
              <p:cNvSpPr/>
              <p:nvPr/>
            </p:nvSpPr>
            <p:spPr>
              <a:xfrm>
                <a:off x="1739880" y="833400"/>
                <a:ext cx="297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o-wrote SCSI industry specif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73400" y="985680"/>
                <a:ext cx="2666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eveloped first SCSI protocol chi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730600" y="1138320"/>
                <a:ext cx="1593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irst SCSI macro 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435480" y="3119400"/>
              <a:ext cx="4933800" cy="2673360"/>
              <a:chOff x="3435480" y="3119400"/>
              <a:chExt cx="4933800" cy="2673360"/>
            </a:xfrm>
          </p:grpSpPr>
          <p:sp>
            <p:nvSpPr>
              <p:cNvPr id="105" name=""/>
              <p:cNvSpPr/>
              <p:nvPr/>
            </p:nvSpPr>
            <p:spPr>
              <a:xfrm>
                <a:off x="4051440" y="3119400"/>
                <a:ext cx="205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irst PCI-Ultra2 SCSI chi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049640" y="3271680"/>
                <a:ext cx="3200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irst dual channel PCI-Ultra2 SCSI chi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3435480" y="3424320"/>
                <a:ext cx="4933800" cy="2368440"/>
                <a:chOff x="3435480" y="3424320"/>
                <a:chExt cx="4933800" cy="23684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3816360" y="4713120"/>
                  <a:ext cx="3429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Achieved SNIA certification for SMI-S provid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025880" y="3881520"/>
                  <a:ext cx="4343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Industry’s first complete line of enterprise-clas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943440" y="4209840"/>
                  <a:ext cx="2819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SANmark 2003 certif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911760" y="4383000"/>
                  <a:ext cx="3429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Industry’s first serial ATA enterprise storag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057560" y="3424320"/>
                  <a:ext cx="228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Debuted Hotscale™ technolog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044960" y="3728880"/>
                  <a:ext cx="2743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Native InfiniBand demonstr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873600" y="4554360"/>
                  <a:ext cx="1600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First SPC-1 resul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746520" y="4878360"/>
                  <a:ext cx="403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Shipped first production SAS silicon to leading OEM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060800" y="3576600"/>
                  <a:ext cx="2666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First single chip RAID controll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992400" y="4046400"/>
                  <a:ext cx="289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First to validate Ultra320 interoperabilit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689280" y="5043600"/>
                  <a:ext cx="3733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Industry’s first 4 Gb/s Fibre Channel storage syst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594240" y="5208480"/>
                  <a:ext cx="4267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Shipped first SAS solution to the channe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505320" y="5379840"/>
                  <a:ext cx="4647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Achieved industry’s first SAS Windows qualif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435480" y="5546520"/>
                  <a:ext cx="3294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Sampled industry’s first PCI Express SAS controll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" name=""/>
            <p:cNvGrpSpPr/>
            <p:nvPr/>
          </p:nvGrpSpPr>
          <p:grpSpPr>
            <a:xfrm>
              <a:off x="2959200" y="1290600"/>
              <a:ext cx="4768560" cy="1922760"/>
              <a:chOff x="2959200" y="1290600"/>
              <a:chExt cx="4768560" cy="1922760"/>
            </a:xfrm>
          </p:grpSpPr>
          <p:sp>
            <p:nvSpPr>
              <p:cNvPr id="123" name=""/>
              <p:cNvSpPr/>
              <p:nvPr/>
            </p:nvSpPr>
            <p:spPr>
              <a:xfrm>
                <a:off x="2959200" y="1290600"/>
                <a:ext cx="1904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irst RISC-based SCSI chi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3263760" y="1442880"/>
                <a:ext cx="4464000" cy="1770480"/>
                <a:chOff x="3263760" y="1442880"/>
                <a:chExt cx="4464000" cy="17704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263760" y="1442880"/>
                  <a:ext cx="167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RAID Storage Syst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537000" y="1747800"/>
                  <a:ext cx="228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Industry’s first RAID-assist chip se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854520" y="2205000"/>
                  <a:ext cx="2057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Dual active RAID controll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025880" y="2814480"/>
                  <a:ext cx="2666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Industry’s first Fibre channel RAID syst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416400" y="1595520"/>
                  <a:ext cx="396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Industry’s first multi-mode RAID (0, 1, 3, 5) controller and syst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676680" y="1900080"/>
                  <a:ext cx="2362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Industry’s first wide SCSI interfac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013280" y="2662200"/>
                  <a:ext cx="1600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Caching RAID controll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771720" y="2052720"/>
                  <a:ext cx="259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First fully functional PCI-Fast SCSI chi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962520" y="2509920"/>
                  <a:ext cx="2514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First fully functional PCI-Ultra SCSI chi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051440" y="2967120"/>
                  <a:ext cx="3276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First Multi-function dual channel PCI-Ultra SCSI chi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917880" y="2357280"/>
                  <a:ext cx="3809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First intelligent transportable battery backup modu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" name=""/>
            <p:cNvGrpSpPr/>
            <p:nvPr/>
          </p:nvGrpSpPr>
          <p:grpSpPr>
            <a:xfrm>
              <a:off x="-12600" y="380880"/>
              <a:ext cx="4572000" cy="5950080"/>
              <a:chOff x="-12600" y="380880"/>
              <a:chExt cx="4572000" cy="5950080"/>
            </a:xfrm>
          </p:grpSpPr>
          <p:pic>
            <p:nvPicPr>
              <p:cNvPr id="137" name="" descr=""/>
              <p:cNvPicPr/>
              <p:nvPr/>
            </p:nvPicPr>
            <p:blipFill>
              <a:blip r:embed="rId1"/>
              <a:srcRect l="0" t="0" r="0" b="7064"/>
              <a:stretch/>
            </p:blipFill>
            <p:spPr>
              <a:xfrm>
                <a:off x="-12600" y="380880"/>
                <a:ext cx="4572000" cy="595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1451160" y="946080"/>
                <a:ext cx="457200" cy="231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7474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98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46520" y="1101600"/>
                <a:ext cx="609480" cy="246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7474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98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78160" y="1295280"/>
                <a:ext cx="609480" cy="246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7474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98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695680" y="152388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7474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98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924280" y="173988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7474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9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06720" y="194004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7474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99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114720" y="2298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7474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99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76560" y="2757600"/>
                <a:ext cx="1067040" cy="444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7474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996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924280" y="329076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7474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99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95680" y="3854520"/>
                <a:ext cx="140004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00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52520" y="4559400"/>
                <a:ext cx="1424160" cy="764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003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59000" y="5318280"/>
                <a:ext cx="2070000" cy="10083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005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>
            <a:off x="63360" y="76320"/>
            <a:ext cx="76456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25 Years of Storage Inno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6320" y="6238800"/>
            <a:ext cx="8210520" cy="619200"/>
            <a:chOff x="76320" y="6238800"/>
            <a:chExt cx="8210520" cy="619200"/>
          </a:xfrm>
        </p:grpSpPr>
        <p:graphicFrame>
          <p:nvGraphicFramePr>
            <p:cNvPr id="152" name=""/>
            <p:cNvGraphicFramePr/>
            <p:nvPr/>
          </p:nvGraphicFramePr>
          <p:xfrm>
            <a:off x="4043520" y="6272280"/>
            <a:ext cx="757080" cy="585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43520" y="6272280"/>
                      <a:ext cx="75708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3124440" y="6248520"/>
              <a:ext cx="6858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5"/>
            <a:stretch/>
          </p:blipFill>
          <p:spPr>
            <a:xfrm>
              <a:off x="76320" y="6429240"/>
              <a:ext cx="83808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1371600" y="6427800"/>
              <a:ext cx="1447920" cy="4302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57" name=""/>
            <p:cNvGraphicFramePr/>
            <p:nvPr/>
          </p:nvGraphicFramePr>
          <p:xfrm>
            <a:off x="5257800" y="6238800"/>
            <a:ext cx="1828800" cy="542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57800" y="6238800"/>
                      <a:ext cx="18288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9" name="" descr=""/>
            <p:cNvPicPr/>
            <p:nvPr/>
          </p:nvPicPr>
          <p:blipFill>
            <a:blip r:embed="rId9"/>
            <a:stretch/>
          </p:blipFill>
          <p:spPr>
            <a:xfrm>
              <a:off x="7315200" y="6243480"/>
              <a:ext cx="97164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939960" y="656604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43200" y="6566040"/>
              <a:ext cx="381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10240" y="656604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26160" y="656604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34320" y="656604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287880" y="5829480"/>
            <a:ext cx="517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ame technology, same partners, different name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670572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960" y="2286000"/>
            <a:ext cx="28954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re than 180 Storage related patents issued and another 160 pend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hipped over 300,000 storage system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8115480" y="223920"/>
            <a:ext cx="971280" cy="61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B8FD-49B7-4F7A-9D4C-B26A20CAB5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SI Logic Products and Marke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97760" y="5132520"/>
            <a:ext cx="17524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 Products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16120" y="5132520"/>
            <a:ext cx="17528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age  Components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44920" y="5132520"/>
            <a:ext cx="17528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 Solutions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115480" y="249120"/>
            <a:ext cx="971280" cy="614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38080" y="851040"/>
            <a:ext cx="7099560" cy="4192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51040" y="5132520"/>
            <a:ext cx="17524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enio  Storage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5920" y="603900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Silicon to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F555-4734-4AFE-B326-1D5C4A91E70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07160" y="5118120"/>
            <a:ext cx="15368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71520" y="41385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086520" y="55101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086520" y="48243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086520" y="517680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1895400" y="586260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2809800" y="5862600"/>
            <a:ext cx="885960" cy="2761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0920" y="856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The Storage Landscap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84600" y="3195720"/>
            <a:ext cx="83844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041440" y="35002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41800" y="349416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94240" y="2585880"/>
            <a:ext cx="9903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4280040" y="2967120"/>
            <a:ext cx="631800" cy="415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956200" y="4033800"/>
            <a:ext cx="5335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642000" y="39574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18320" y="441468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6108840" y="4338720"/>
            <a:ext cx="806400" cy="365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6870600" y="3424320"/>
            <a:ext cx="978120" cy="911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0">
            <a:grayscl/>
          </a:blip>
          <a:stretch/>
        </p:blipFill>
        <p:spPr>
          <a:xfrm>
            <a:off x="7099200" y="4414680"/>
            <a:ext cx="414360" cy="1057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1">
            <a:grayscl/>
          </a:blip>
          <a:stretch/>
        </p:blipFill>
        <p:spPr>
          <a:xfrm>
            <a:off x="5575320" y="3805200"/>
            <a:ext cx="631800" cy="415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2"/>
          <a:srcRect l="0" t="0" r="0" b="47557"/>
          <a:stretch/>
        </p:blipFill>
        <p:spPr>
          <a:xfrm>
            <a:off x="6718320" y="3881520"/>
            <a:ext cx="431640" cy="304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81000"/>
              </a:srgbClr>
            </a:outerShdw>
          </a:effectLst>
        </p:spPr>
      </p:pic>
      <p:sp>
        <p:nvSpPr>
          <p:cNvPr id="198" name=""/>
          <p:cNvSpPr/>
          <p:nvPr/>
        </p:nvSpPr>
        <p:spPr>
          <a:xfrm>
            <a:off x="7451640" y="4398840"/>
            <a:ext cx="66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Storag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38760" y="31035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76840" y="35766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57800" y="4475160"/>
            <a:ext cx="89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C Swi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08800" y="3421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34200" y="3905280"/>
            <a:ext cx="48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H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720" y="909720"/>
            <a:ext cx="7653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698040" y="15955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3">
            <a:grayscl/>
          </a:blip>
          <a:stretch/>
        </p:blipFill>
        <p:spPr>
          <a:xfrm>
            <a:off x="469800" y="1824120"/>
            <a:ext cx="414360" cy="1057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41360" y="2874960"/>
            <a:ext cx="663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Storag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28880" y="909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4">
            <a:grayscl/>
          </a:blip>
          <a:stretch/>
        </p:blipFill>
        <p:spPr>
          <a:xfrm>
            <a:off x="723960" y="1062000"/>
            <a:ext cx="823680" cy="882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3080" y="9856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043520" y="909720"/>
            <a:ext cx="1204920" cy="1743120"/>
            <a:chOff x="4043520" y="909720"/>
            <a:chExt cx="1204920" cy="1743120"/>
          </a:xfrm>
        </p:grpSpPr>
        <p:sp>
          <p:nvSpPr>
            <p:cNvPr id="212" name=""/>
            <p:cNvSpPr/>
            <p:nvPr/>
          </p:nvSpPr>
          <p:spPr>
            <a:xfrm>
              <a:off x="4356360" y="90972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15">
              <a:grayscl/>
            </a:blip>
            <a:stretch/>
          </p:blipFill>
          <p:spPr>
            <a:xfrm>
              <a:off x="4043520" y="1214640"/>
              <a:ext cx="69372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6">
              <a:grayscl/>
            </a:blip>
            <a:stretch/>
          </p:blipFill>
          <p:spPr>
            <a:xfrm>
              <a:off x="4203720" y="1595520"/>
              <a:ext cx="41436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405320" y="9702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84960" y="2229120"/>
              <a:ext cx="663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ff"/>
                  </a:solidFill>
                  <a:latin typeface="Arial"/>
                </a:rPr>
                <a:t>Storage 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832120" y="884160"/>
            <a:ext cx="1128240" cy="1177920"/>
            <a:chOff x="2832120" y="884160"/>
            <a:chExt cx="1128240" cy="1177920"/>
          </a:xfrm>
        </p:grpSpPr>
        <p:sp>
          <p:nvSpPr>
            <p:cNvPr id="218" name=""/>
            <p:cNvSpPr/>
            <p:nvPr/>
          </p:nvSpPr>
          <p:spPr>
            <a:xfrm>
              <a:off x="3136680" y="90936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17"/>
            <a:stretch/>
          </p:blipFill>
          <p:spPr>
            <a:xfrm>
              <a:off x="2832120" y="1062000"/>
              <a:ext cx="990360" cy="9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18"/>
            <a:srcRect l="0" t="0" r="0" b="47557"/>
            <a:stretch/>
          </p:blipFill>
          <p:spPr>
            <a:xfrm>
              <a:off x="2832120" y="1747800"/>
              <a:ext cx="431640" cy="304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>
                  <a:alpha val="81000"/>
                </a:srgbClr>
              </a:outerShdw>
            </a:effectLst>
          </p:spPr>
        </p:pic>
        <p:sp>
          <p:nvSpPr>
            <p:cNvPr id="221" name=""/>
            <p:cNvSpPr/>
            <p:nvPr/>
          </p:nvSpPr>
          <p:spPr>
            <a:xfrm>
              <a:off x="3180960" y="884160"/>
              <a:ext cx="68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74920" y="1815840"/>
              <a:ext cx="68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ff"/>
                  </a:solidFill>
                  <a:latin typeface="Arial"/>
                </a:rPr>
                <a:t>HB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324160" y="18381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H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98600" y="9097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98600" y="934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9"/>
          <a:stretch/>
        </p:blipFill>
        <p:spPr>
          <a:xfrm>
            <a:off x="1994040" y="1087560"/>
            <a:ext cx="990360" cy="906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0">
            <a:grayscl/>
          </a:blip>
          <a:stretch/>
        </p:blipFill>
        <p:spPr>
          <a:xfrm>
            <a:off x="1536840" y="2459160"/>
            <a:ext cx="838080" cy="307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flipH="1">
            <a:off x="1993680" y="1849320"/>
            <a:ext cx="15228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1"/>
          <a:srcRect l="0" t="0" r="0" b="47557"/>
          <a:stretch/>
        </p:blipFill>
        <p:spPr>
          <a:xfrm>
            <a:off x="1917720" y="1697040"/>
            <a:ext cx="431640" cy="30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81000"/>
              </a:srgbClr>
            </a:outerShdw>
          </a:effectLst>
        </p:spPr>
      </p:pic>
      <p:sp>
        <p:nvSpPr>
          <p:cNvPr id="230" name=""/>
          <p:cNvSpPr/>
          <p:nvPr/>
        </p:nvSpPr>
        <p:spPr>
          <a:xfrm>
            <a:off x="1028880" y="2281320"/>
            <a:ext cx="685800" cy="4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SC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F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S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16120" y="2732040"/>
            <a:ext cx="66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JB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146320" y="2585880"/>
            <a:ext cx="9144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841400" y="3195720"/>
            <a:ext cx="441000" cy="685080"/>
            <a:chOff x="1841400" y="3195720"/>
            <a:chExt cx="441000" cy="685080"/>
          </a:xfrm>
        </p:grpSpPr>
        <p:pic>
          <p:nvPicPr>
            <p:cNvPr id="234" name="" descr=""/>
            <p:cNvPicPr/>
            <p:nvPr/>
          </p:nvPicPr>
          <p:blipFill>
            <a:blip r:embed="rId22">
              <a:grayscl/>
            </a:blip>
            <a:stretch/>
          </p:blipFill>
          <p:spPr>
            <a:xfrm>
              <a:off x="1841400" y="3540960"/>
              <a:ext cx="4410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3">
              <a:grayscl/>
            </a:blip>
            <a:stretch/>
          </p:blipFill>
          <p:spPr>
            <a:xfrm>
              <a:off x="1841400" y="3369600"/>
              <a:ext cx="4410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4">
              <a:grayscl/>
            </a:blip>
            <a:stretch/>
          </p:blipFill>
          <p:spPr>
            <a:xfrm>
              <a:off x="1841400" y="3195720"/>
              <a:ext cx="441000" cy="34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"/>
          <p:cNvSpPr/>
          <p:nvPr/>
        </p:nvSpPr>
        <p:spPr>
          <a:xfrm>
            <a:off x="1181160" y="334800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External 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908440" y="2662200"/>
            <a:ext cx="30456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5">
            <a:grayscl/>
          </a:blip>
          <a:stretch/>
        </p:blipFill>
        <p:spPr>
          <a:xfrm>
            <a:off x="2755800" y="3348000"/>
            <a:ext cx="478080" cy="12193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6">
            <a:grayscl/>
          </a:blip>
          <a:stretch/>
        </p:blipFill>
        <p:spPr>
          <a:xfrm>
            <a:off x="2755800" y="3500280"/>
            <a:ext cx="290520" cy="223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81000"/>
              </a:srgbClr>
            </a:outerShdw>
          </a:effectLst>
        </p:spPr>
      </p:pic>
      <p:sp>
        <p:nvSpPr>
          <p:cNvPr id="241" name=""/>
          <p:cNvSpPr/>
          <p:nvPr/>
        </p:nvSpPr>
        <p:spPr>
          <a:xfrm>
            <a:off x="3009960" y="2967120"/>
            <a:ext cx="663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Storag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32080" y="3494160"/>
            <a:ext cx="663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k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908440" y="1900080"/>
            <a:ext cx="1113840" cy="974880"/>
            <a:chOff x="2908440" y="1900080"/>
            <a:chExt cx="1113840" cy="974880"/>
          </a:xfrm>
        </p:grpSpPr>
        <p:sp>
          <p:nvSpPr>
            <p:cNvPr id="244" name=""/>
            <p:cNvSpPr/>
            <p:nvPr/>
          </p:nvSpPr>
          <p:spPr>
            <a:xfrm>
              <a:off x="3060360" y="1900080"/>
              <a:ext cx="228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27"/>
            <a:stretch/>
          </p:blipFill>
          <p:spPr>
            <a:xfrm>
              <a:off x="2908440" y="2509560"/>
              <a:ext cx="80604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179520" y="2317680"/>
              <a:ext cx="84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C Swi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441600" y="2679840"/>
            <a:ext cx="45720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8"/>
          <a:stretch/>
        </p:blipFill>
        <p:spPr>
          <a:xfrm>
            <a:off x="3517920" y="3670200"/>
            <a:ext cx="838080" cy="265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300560" y="3713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95840" y="9270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9"/>
          <a:stretch/>
        </p:blipFill>
        <p:spPr>
          <a:xfrm>
            <a:off x="5295960" y="1071720"/>
            <a:ext cx="990720" cy="9064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610600" y="88416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0">
            <a:grayscl/>
          </a:blip>
          <a:stretch/>
        </p:blipFill>
        <p:spPr>
          <a:xfrm>
            <a:off x="5445000" y="1539720"/>
            <a:ext cx="290520" cy="223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81000"/>
              </a:srgbClr>
            </a:outerShdw>
          </a:effectLst>
        </p:spPr>
      </p:pic>
      <p:sp>
        <p:nvSpPr>
          <p:cNvPr id="254" name=""/>
          <p:cNvSpPr/>
          <p:nvPr/>
        </p:nvSpPr>
        <p:spPr>
          <a:xfrm>
            <a:off x="4937040" y="1579680"/>
            <a:ext cx="66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k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743960" y="9190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1"/>
          <a:stretch/>
        </p:blipFill>
        <p:spPr>
          <a:xfrm>
            <a:off x="7443720" y="1063800"/>
            <a:ext cx="990720" cy="906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758360" y="87624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2">
            <a:grayscl/>
          </a:blip>
          <a:stretch/>
        </p:blipFill>
        <p:spPr>
          <a:xfrm>
            <a:off x="7593120" y="1531800"/>
            <a:ext cx="290520" cy="223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81000"/>
              </a:srgbClr>
            </a:outerShdw>
          </a:effectLst>
        </p:spPr>
      </p:pic>
      <p:sp>
        <p:nvSpPr>
          <p:cNvPr id="259" name=""/>
          <p:cNvSpPr/>
          <p:nvPr/>
        </p:nvSpPr>
        <p:spPr>
          <a:xfrm>
            <a:off x="7962840" y="1290600"/>
            <a:ext cx="663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k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280640" y="1960560"/>
            <a:ext cx="148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PCI R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RAID on Mother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08880" y="91584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33"/>
          <a:stretch/>
        </p:blipFill>
        <p:spPr>
          <a:xfrm>
            <a:off x="6303960" y="1068480"/>
            <a:ext cx="990720" cy="9064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4">
            <a:grayscl/>
          </a:blip>
          <a:stretch/>
        </p:blipFill>
        <p:spPr>
          <a:xfrm>
            <a:off x="5846760" y="2440080"/>
            <a:ext cx="838080" cy="307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 flipH="1">
            <a:off x="6303600" y="1830240"/>
            <a:ext cx="15228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5"/>
          <a:srcRect l="0" t="0" r="0" b="47557"/>
          <a:stretch/>
        </p:blipFill>
        <p:spPr>
          <a:xfrm>
            <a:off x="6227640" y="1677960"/>
            <a:ext cx="432000" cy="30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81000"/>
              </a:srgbClr>
            </a:outerShdw>
          </a:effectLst>
        </p:spPr>
      </p:pic>
      <p:sp>
        <p:nvSpPr>
          <p:cNvPr id="266" name=""/>
          <p:cNvSpPr/>
          <p:nvPr/>
        </p:nvSpPr>
        <p:spPr>
          <a:xfrm>
            <a:off x="5910120" y="1947960"/>
            <a:ext cx="68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SC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S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6040" y="2712960"/>
            <a:ext cx="66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JB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59280" y="18018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PCI R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20120" y="89388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98600" y="1900080"/>
            <a:ext cx="76212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6"/>
          <a:stretch/>
        </p:blipFill>
        <p:spPr>
          <a:xfrm>
            <a:off x="3676680" y="5910120"/>
            <a:ext cx="1085760" cy="181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7"/>
          <a:stretch/>
        </p:blipFill>
        <p:spPr>
          <a:xfrm>
            <a:off x="419040" y="5850000"/>
            <a:ext cx="1371600" cy="3175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8"/>
          <a:stretch/>
        </p:blipFill>
        <p:spPr>
          <a:xfrm>
            <a:off x="419040" y="48243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9"/>
          <a:stretch/>
        </p:blipFill>
        <p:spPr>
          <a:xfrm>
            <a:off x="419040" y="449100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0"/>
          <a:stretch/>
        </p:blipFill>
        <p:spPr>
          <a:xfrm>
            <a:off x="1362240" y="4491000"/>
            <a:ext cx="885600" cy="2761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1"/>
          <a:stretch/>
        </p:blipFill>
        <p:spPr>
          <a:xfrm>
            <a:off x="3390840" y="4130640"/>
            <a:ext cx="1067040" cy="331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2"/>
          <a:stretch/>
        </p:blipFill>
        <p:spPr>
          <a:xfrm>
            <a:off x="1362240" y="4824360"/>
            <a:ext cx="885600" cy="276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3"/>
          <a:stretch/>
        </p:blipFill>
        <p:spPr>
          <a:xfrm>
            <a:off x="4867200" y="586260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4"/>
          <a:stretch/>
        </p:blipFill>
        <p:spPr>
          <a:xfrm>
            <a:off x="419040" y="517680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5"/>
          <a:stretch/>
        </p:blipFill>
        <p:spPr>
          <a:xfrm>
            <a:off x="1346040" y="4152960"/>
            <a:ext cx="914400" cy="2858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6"/>
          <a:stretch/>
        </p:blipFill>
        <p:spPr>
          <a:xfrm>
            <a:off x="3343320" y="517680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7"/>
          <a:stretch/>
        </p:blipFill>
        <p:spPr>
          <a:xfrm>
            <a:off x="2352600" y="517680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8"/>
          <a:stretch/>
        </p:blipFill>
        <p:spPr>
          <a:xfrm>
            <a:off x="1362240" y="5510160"/>
            <a:ext cx="885600" cy="2761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9"/>
          <a:stretch/>
        </p:blipFill>
        <p:spPr>
          <a:xfrm>
            <a:off x="1362240" y="5176800"/>
            <a:ext cx="885600" cy="2761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0"/>
          <a:stretch/>
        </p:blipFill>
        <p:spPr>
          <a:xfrm>
            <a:off x="3343320" y="48243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51"/>
          <a:stretch/>
        </p:blipFill>
        <p:spPr>
          <a:xfrm>
            <a:off x="4305240" y="48243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2"/>
          <a:stretch/>
        </p:blipFill>
        <p:spPr>
          <a:xfrm>
            <a:off x="4305240" y="517680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3"/>
          <a:stretch/>
        </p:blipFill>
        <p:spPr>
          <a:xfrm>
            <a:off x="5295960" y="5176800"/>
            <a:ext cx="885600" cy="2761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4"/>
          <a:stretch/>
        </p:blipFill>
        <p:spPr>
          <a:xfrm>
            <a:off x="4305240" y="55101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55"/>
          <a:stretch/>
        </p:blipFill>
        <p:spPr>
          <a:xfrm>
            <a:off x="3343320" y="449100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6"/>
          <a:stretch/>
        </p:blipFill>
        <p:spPr>
          <a:xfrm>
            <a:off x="4305240" y="4519440"/>
            <a:ext cx="885960" cy="276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7"/>
          <a:stretch/>
        </p:blipFill>
        <p:spPr>
          <a:xfrm>
            <a:off x="5295960" y="4519440"/>
            <a:ext cx="885600" cy="276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8"/>
          <a:stretch/>
        </p:blipFill>
        <p:spPr>
          <a:xfrm>
            <a:off x="5829480" y="5862600"/>
            <a:ext cx="885600" cy="276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9"/>
          <a:stretch/>
        </p:blipFill>
        <p:spPr>
          <a:xfrm>
            <a:off x="5295960" y="4824360"/>
            <a:ext cx="885600" cy="276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0"/>
          <a:stretch/>
        </p:blipFill>
        <p:spPr>
          <a:xfrm>
            <a:off x="7734240" y="587844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61"/>
          <a:stretch/>
        </p:blipFill>
        <p:spPr>
          <a:xfrm>
            <a:off x="6784920" y="586260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62"/>
          <a:stretch/>
        </p:blipFill>
        <p:spPr>
          <a:xfrm>
            <a:off x="2352600" y="55101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63"/>
          <a:stretch/>
        </p:blipFill>
        <p:spPr>
          <a:xfrm>
            <a:off x="3343320" y="55101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64"/>
          <a:stretch/>
        </p:blipFill>
        <p:spPr>
          <a:xfrm>
            <a:off x="419040" y="55101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65"/>
          <a:stretch/>
        </p:blipFill>
        <p:spPr>
          <a:xfrm>
            <a:off x="6772320" y="55101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66"/>
          <a:stretch/>
        </p:blipFill>
        <p:spPr>
          <a:xfrm>
            <a:off x="7734240" y="55101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67"/>
          <a:stretch/>
        </p:blipFill>
        <p:spPr>
          <a:xfrm>
            <a:off x="2352600" y="48243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68"/>
          <a:stretch/>
        </p:blipFill>
        <p:spPr>
          <a:xfrm>
            <a:off x="5324400" y="55101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69"/>
          <a:stretch/>
        </p:blipFill>
        <p:spPr>
          <a:xfrm>
            <a:off x="7734240" y="517680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70"/>
          <a:stretch/>
        </p:blipFill>
        <p:spPr>
          <a:xfrm>
            <a:off x="7734240" y="4871880"/>
            <a:ext cx="885960" cy="2764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71"/>
          <a:stretch/>
        </p:blipFill>
        <p:spPr>
          <a:xfrm>
            <a:off x="8115480" y="249120"/>
            <a:ext cx="971280" cy="61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37683-490E-4DE3-B502-8B349F2BBD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1484280"/>
            <a:ext cx="9144000" cy="5373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68560" y="4510080"/>
            <a:ext cx="674640" cy="290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92320" y="3505320"/>
            <a:ext cx="674640" cy="304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66760" y="1176480"/>
            <a:ext cx="7977240" cy="28260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6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200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2008                    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960" y="11448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Technology Roadmap – Industry View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160" y="4857840"/>
            <a:ext cx="10555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k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rive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2378160"/>
            <a:ext cx="990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st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12240" y="1206360"/>
            <a:ext cx="4680" cy="5643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840280" y="1228680"/>
            <a:ext cx="7920" cy="5585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49600" y="1193760"/>
            <a:ext cx="0" cy="558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7097760" y="1447920"/>
            <a:ext cx="9360" cy="53575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441160" y="1422360"/>
            <a:ext cx="12600" cy="53974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53080" y="1413000"/>
            <a:ext cx="0" cy="54165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161720" y="1417680"/>
            <a:ext cx="11160" cy="539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749760"/>
            <a:ext cx="1108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pansion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480" y="5942160"/>
            <a:ext cx="10918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ternal D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m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19440" y="1498680"/>
            <a:ext cx="7324560" cy="337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 Gb F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77920" y="1500120"/>
            <a:ext cx="674640" cy="336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51120" y="3959280"/>
            <a:ext cx="6364440" cy="30708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Gb 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86640" y="3956040"/>
            <a:ext cx="2397240" cy="316080"/>
          </a:xfrm>
          <a:prstGeom prst="rtTriangl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78040" y="4513320"/>
            <a:ext cx="7365960" cy="3070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 Gb F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143720" y="4511520"/>
            <a:ext cx="638280" cy="301680"/>
          </a:xfrm>
          <a:prstGeom prst="rtTriangl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71440" y="5423040"/>
            <a:ext cx="409680" cy="301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85840" y="4970520"/>
            <a:ext cx="2560680" cy="307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98440" y="6062760"/>
            <a:ext cx="6907320" cy="30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3.5” Low Profile (7.2K – 15K RP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97000" y="2576520"/>
            <a:ext cx="3498840" cy="307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Gb iSC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99000" y="6458040"/>
            <a:ext cx="364500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2.5” High R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197080" y="6453360"/>
            <a:ext cx="3300480" cy="338040"/>
          </a:xfrm>
          <a:prstGeom prst="rtTriangl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97000" y="2209680"/>
            <a:ext cx="749160" cy="274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173960" y="2200320"/>
            <a:ext cx="692280" cy="287280"/>
          </a:xfrm>
          <a:prstGeom prst="rtTriangle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73520" y="2576520"/>
            <a:ext cx="447048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352600" y="2570040"/>
            <a:ext cx="2330640" cy="317520"/>
          </a:xfrm>
          <a:prstGeom prst="rtTriangl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18120" y="257328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Gb iSC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rot="21576600">
            <a:off x="5547960" y="1487160"/>
            <a:ext cx="3594240" cy="342720"/>
          </a:xfrm>
          <a:prstGeom prst="rtTriangle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54360" y="2212920"/>
            <a:ext cx="7289640" cy="2746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2146320"/>
            <a:ext cx="203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Gb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02080" y="2219400"/>
            <a:ext cx="47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Gb DDR 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rot="21576600">
            <a:off x="4825440" y="3963600"/>
            <a:ext cx="3273120" cy="301680"/>
          </a:xfrm>
          <a:prstGeom prst="rtTriangl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00360" y="4959360"/>
            <a:ext cx="6443640" cy="30708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Gb 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1184400" y="4951440"/>
            <a:ext cx="1549440" cy="320760"/>
          </a:xfrm>
          <a:prstGeom prst="rtTriangl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rot="21576600">
            <a:off x="4957200" y="4960440"/>
            <a:ext cx="3147840" cy="301320"/>
          </a:xfrm>
          <a:prstGeom prst="rtTriangl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166040" y="1490760"/>
            <a:ext cx="701640" cy="345960"/>
          </a:xfrm>
          <a:prstGeom prst="rtTriangl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778120" y="2959200"/>
            <a:ext cx="5832360" cy="30708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Gb 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195560" y="2955960"/>
            <a:ext cx="1606320" cy="306360"/>
          </a:xfrm>
          <a:prstGeom prst="rtTriangl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rot="21576600">
            <a:off x="5262480" y="2970360"/>
            <a:ext cx="2889360" cy="303120"/>
          </a:xfrm>
          <a:prstGeom prst="rtTriangl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3703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44211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80" y="582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93120" y="151596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 Gb F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78040" y="3505320"/>
            <a:ext cx="7365960" cy="3070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 Gb F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219320" y="3505320"/>
            <a:ext cx="636480" cy="304560"/>
          </a:xfrm>
          <a:prstGeom prst="rtTriangl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158840" y="5423040"/>
            <a:ext cx="434880" cy="311040"/>
          </a:xfrm>
          <a:prstGeom prst="rtTriangl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55920" y="5424480"/>
            <a:ext cx="6597360" cy="3070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Gb S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rot="21576600">
            <a:off x="5624280" y="3503520"/>
            <a:ext cx="3517920" cy="342720"/>
          </a:xfrm>
          <a:prstGeom prst="rtTriangle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88160" y="3535200"/>
            <a:ext cx="13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 Gb F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rot="21576600">
            <a:off x="4956120" y="5443200"/>
            <a:ext cx="3144960" cy="301680"/>
          </a:xfrm>
          <a:prstGeom prst="rtTriangle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7640" y="143676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 G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0920" y="5367240"/>
            <a:ext cx="126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.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b 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096400" y="6058080"/>
            <a:ext cx="1047600" cy="314280"/>
          </a:xfrm>
          <a:prstGeom prst="rtTriangl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091360" y="4950000"/>
            <a:ext cx="1052640" cy="307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Gb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091360" y="3959280"/>
            <a:ext cx="1052640" cy="304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Gb 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091360" y="5425920"/>
            <a:ext cx="1052640" cy="3049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Gb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S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091360" y="2940120"/>
            <a:ext cx="1052640" cy="336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Gb 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5040" y="446580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 G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4640" y="344340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 G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8115480" y="249120"/>
            <a:ext cx="971280" cy="61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30595-1A49-4D60-9DEE-31FB13E02F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36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SI 6498 Overview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1520" y="1469880"/>
            <a:ext cx="6889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tion Redundant XBB architecture with Nativ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Band Host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10 Gb/s InfiniB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-side interfac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ht 4 Gb/s Fibre 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-side interfaces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up to 224 FC and/or SATA disk driv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 TB Capaci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d drive modules reduce latency and improve RA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SI storage systems technologies are available through OEM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Management Interfa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6943680" y="1398600"/>
            <a:ext cx="1711440" cy="39117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3405240" y="1868400"/>
            <a:ext cx="2886120" cy="12574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4143240" y="4653000"/>
            <a:ext cx="2133720" cy="16635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8115480" y="249120"/>
            <a:ext cx="971280" cy="6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2262-4476-46A9-95ED-D61A258BD47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5680" y="8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InfiniBand – Customer Experienc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arly Adopt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ong opinions about dire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isted on co-development or alpha-level tes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ut resulting product into production and have not upgrad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overnment Agencies and/or Lab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-development with very large test be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tinue to push the technology to the limi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ave vision beyond capabilities of current generation of produ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76040" y="5907240"/>
            <a:ext cx="971640" cy="61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57CE-6AF4-4CD9-AD25-70A21BC3F3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5680" y="8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InfiniBand – Customer Experienc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mercial Custom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less expensive alternativ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performance enhancements beyond existing alternativ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rid systems becoming more viable as applications are develop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rass-roots Effor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y OEM Partners are just now deciding it is a viable solu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ome Partners’ internal labs have been testing for month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nerating demand from with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6040" y="5907240"/>
            <a:ext cx="971640" cy="61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6FE0-A06A-404B-A1DE-A95C1C8A8F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20:15:46Z</dcterms:created>
  <dc:creator>kristink</dc:creator>
  <dc:description/>
  <cp:keywords/>
  <dc:language>en-US</dc:language>
  <cp:lastModifiedBy>dellis</cp:lastModifiedBy>
  <cp:lastPrinted>1998-06-24T21:45:20Z</cp:lastPrinted>
  <dcterms:modified xsi:type="dcterms:W3CDTF">2006-09-22T22:23:19Z</dcterms:modified>
  <cp:revision>70</cp:revision>
  <dc:subject/>
  <dc:title>PowerPoint Presentation</dc:title>
</cp:coreProperties>
</file>