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28240" y="152280"/>
            <a:ext cx="762012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28240" y="152280"/>
            <a:ext cx="762012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image" Target="../media/image3.png"/><Relationship Id="rId5" Type="http://schemas.openxmlformats.org/officeDocument/2006/relationships/hyperlink" Target="http://www.openfabrics.org/" TargetMode="External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3716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0" y="152280"/>
            <a:ext cx="914400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3"/>
          <a:stretch/>
        </p:blipFill>
        <p:spPr>
          <a:xfrm>
            <a:off x="7696080" y="152280"/>
            <a:ext cx="1067040" cy="973080"/>
          </a:xfrm>
          <a:prstGeom prst="rect">
            <a:avLst/>
          </a:prstGeom>
          <a:ln w="0">
            <a:noFill/>
          </a:ln>
        </p:spPr>
      </p:pic>
      <p:pic>
        <p:nvPicPr>
          <p:cNvPr id="4" name="" descr=""/>
          <p:cNvPicPr/>
          <p:nvPr/>
        </p:nvPicPr>
        <p:blipFill>
          <a:blip r:embed="rId4"/>
          <a:stretch/>
        </p:blipFill>
        <p:spPr>
          <a:xfrm>
            <a:off x="0" y="6400800"/>
            <a:ext cx="9144000" cy="4572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229600" y="6400800"/>
            <a:ext cx="6858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32FF1-0569-4DBB-8528-8371C86C345F}" type="slidenum">
              <a:rPr b="1" lang="en-US" sz="14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380880" y="6477120"/>
            <a:ext cx="17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ccff"/>
                </a:solidFill>
                <a:uFillTx/>
                <a:latin typeface="Arial"/>
                <a:hlinkClick r:id="rId5"/>
              </a:rPr>
              <a:t>www.openfabrics.org</a:t>
            </a:r>
            <a:r>
              <a:rPr b="0" lang="en-US" sz="12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8702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0" y="6400800"/>
            <a:ext cx="9144000" cy="4572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2971800" y="1905120"/>
            <a:ext cx="3200400" cy="29178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7620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80880" y="6477120"/>
            <a:ext cx="17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openfabrics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Linux Kernel Core Enhancements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6160" y="510516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an Hef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ath Failov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670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B CM – alternate path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P / APR messages, modify QP attribu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 – asynchronous event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ormInfo / Notice repor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DMA CM – quality of serv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sp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038480" y="5562720"/>
            <a:ext cx="4724640" cy="8380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Expected Initial Release</a:t>
            </a:r>
            <a:br>
              <a:rPr sz="2400"/>
            </a:b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(posting of patches for revie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162920" y="1714680"/>
            <a:ext cx="1600200" cy="3808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162920" y="3276720"/>
            <a:ext cx="1600200" cy="3808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Dec 20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162920" y="4343400"/>
            <a:ext cx="1600200" cy="3808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B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162920" y="4952880"/>
            <a:ext cx="1600200" cy="38124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Jan 20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atic IB Routing Infrastruct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670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 router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st stack infra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ulated router 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testing purposes on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666880" y="5334120"/>
            <a:ext cx="3962520" cy="8380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dditional details will be provided by H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162920" y="1739880"/>
            <a:ext cx="1600200" cy="3808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Dec 20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162920" y="2336760"/>
            <a:ext cx="1600200" cy="3808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Feb 20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162920" y="3365640"/>
            <a:ext cx="1600200" cy="3808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Feb 20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A Path Record Scalabil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670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e up 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rove path record query 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c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athRecord que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43000" y="5257800"/>
            <a:ext cx="6781680" cy="8380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Need to re-examine caching, SA QoS, SA path record query response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162920" y="1739880"/>
            <a:ext cx="1600200" cy="3808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Ongo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162920" y="3429000"/>
            <a:ext cx="1600200" cy="3808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pr 20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162920" y="2819520"/>
            <a:ext cx="1600200" cy="3808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162920" y="2286000"/>
            <a:ext cx="1600200" cy="3808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B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serspace RDMA C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670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rnel chan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cast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brary upd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I changes from OFED 1.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ires verbs 1.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e to support OFED rele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anch for rele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162920" y="2209680"/>
            <a:ext cx="1600200" cy="38124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162920" y="3276720"/>
            <a:ext cx="1600200" cy="3808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162920" y="3809880"/>
            <a:ext cx="1600200" cy="38124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B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162920" y="5562720"/>
            <a:ext cx="1600200" cy="3808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Dec 20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02T20:45:04Z</dcterms:created>
  <dc:creator>Gabriela</dc:creator>
  <dc:description/>
  <dc:language>en-US</dc:language>
  <cp:lastModifiedBy>Sean Hefty</cp:lastModifiedBy>
  <dcterms:modified xsi:type="dcterms:W3CDTF">2006-11-16T14:44:52Z</dcterms:modified>
  <cp:revision>18</cp:revision>
  <dc:subject/>
  <dc:title>Slide 1</dc:title>
</cp:coreProperties>
</file>