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ar-SA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004C3-317F-4738-BE89-E629AF4981FA}" type="slidenum">
              <a:rPr b="0" lang="ar-SA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lain that this is one possible multipath tool (There are also MPP and XV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 the target think that both connection are the same and they can not co-ex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tarts a ping-pong between them (Connecting one and disconnecting the seco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hape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49327-3758-4FB9-A20A-1E8361DF826B}" type="slidenum">
              <a:rPr b="0" lang="ar-SA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To explain that in this example there are 4 different paths between each initiator and targ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ay that by all possible paths we mean paths according to current SM rou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A786-D08E-43B5-BFB6-1C7F7FCF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7567-59EF-4496-B9F6-965400F7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55D5-CEE9-4928-899F-23F414F6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8AC9-59EE-4CD5-B93F-BEAC6433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7B2D4-4D3E-4D8E-B109-C03C3BBA88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47AC6-25A3-41A4-A789-A75D9242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25E1D-2C4B-4B9B-92C0-551A5B45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9F48F-80C2-4DC6-B139-A84141CD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13AA0-7F64-4509-8F7F-5E9D0B36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4EF7D-4272-40A3-9C67-62CD60E0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03F11-9D06-429D-939A-0A359C0A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61ED-E908-4381-A136-4653A8A2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E0225-0C1D-4E31-B387-DAF9425C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2F405-BA40-4796-8A0B-85EC7186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F50C6-28C7-44B3-B5C5-087C68FE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E70F4-38B5-46D9-980F-069C79E6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999CA-267A-4118-9551-A7F12A1F48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7337B-1F66-456A-87D0-5CEA3B1C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02485-6930-4E62-9C5E-D56925AD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82A0C4-723B-44DD-906B-DC42E87C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FB767D-09BE-4C9D-93D5-91753B2A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21111D-975E-43B1-AC8B-814818E2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7621-B69E-4C35-B1B7-EB3128FF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0EE93-1EB6-486A-ACAF-7CF2BBD1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F2CE88-9CD9-495D-9657-3B67298C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7D58A8-0FB7-4F9E-BFC2-D4CEC2E2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25290C-CE6B-4DBF-9CFD-76D3C547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3880F4-7759-414C-8EA6-29C9801D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A57F0-A45F-4C09-A8F0-0C84CFFF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4665E8-A4BA-4C75-88F4-3759FE98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A8F944-0BFB-439F-8F3C-E322604B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25F70F-1A98-4444-BA99-ABAF4BC2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1C7157-E461-43D0-BCAE-83E94F6E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D0F9-F423-472B-B776-87AC7DFC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4C64BE-8297-431D-B7B8-71E5402C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83D854-15B1-454B-9BD9-8F5C9160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D189F7-99E3-4AE6-BF23-88D90C08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0462C0-600B-4BBA-949B-20431CEA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05F8BC-2B55-4D0F-BE36-10E74E0D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AD45BB-08AF-4EFD-B65A-D82A2BE1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89F3D4-CA2F-48BB-B349-2FBD030B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07D813-0941-41D3-ADA9-02EE3C46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C469EB-DC21-41C2-B27F-4CFF3908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5886-D0A5-49F2-8782-67BC7858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16B8-1776-49F1-8893-BA3FDB58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B58A-6C28-4DAD-B7FF-A53D816C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9F6E-A7AA-4D23-90E3-229AB1C4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D9DD-F01B-481F-B13E-E3AF2809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599D-23A0-4551-A843-29E334FFABA9}" type="datetime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1B5CE18-179E-46A5-A144-A26236E6F2BB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7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1828800" y="3860640"/>
            <a:ext cx="5484960" cy="7632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978200" y="414360"/>
            <a:ext cx="51861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Fabric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ummit SC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ectangle 8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33200" y="119160"/>
            <a:ext cx="1362240" cy="16002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9" descr=""/>
          <p:cNvPicPr/>
          <p:nvPr/>
        </p:nvPicPr>
        <p:blipFill>
          <a:blip r:embed="rId3"/>
          <a:stretch/>
        </p:blipFill>
        <p:spPr>
          <a:xfrm>
            <a:off x="7286760" y="114480"/>
            <a:ext cx="1628640" cy="162864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10" descr=""/>
          <p:cNvPicPr/>
          <p:nvPr/>
        </p:nvPicPr>
        <p:blipFill>
          <a:blip r:embed="rId4"/>
          <a:stretch/>
        </p:blipFill>
        <p:spPr>
          <a:xfrm>
            <a:off x="3568680" y="4898880"/>
            <a:ext cx="1994040" cy="1525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DEF1-A2FF-496C-A266-2759340552BF}" type="datetime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7454ACD-9C75-4C21-AE5D-24B5B28FDB76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94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3"/>
          <p:cNvSpPr>
            <a:spLocks noGrp="1"/>
          </p:cNvSpPr>
          <p:nvPr>
            <p:ph type="dt" idx="6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C12F-5502-4632-92A5-842FAE86FCCB}" type="datetime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7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8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0B94055-A252-4625-A686-972474B3BD24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510000" y="6122880"/>
          <a:ext cx="1724040" cy="60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10000" y="6122880"/>
                    <a:ext cx="17240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140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3"/>
          <p:cNvSpPr>
            <a:spLocks noGrp="1"/>
          </p:cNvSpPr>
          <p:nvPr>
            <p:ph type="dt" idx="9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B986-5AE9-4290-98FA-E6F2F72F9E4E}" type="datetime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0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9A8A513-E87E-47FE-A44F-2F7E099FCF17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68400" y="2546280"/>
            <a:ext cx="748188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SR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1978200" y="414360"/>
            <a:ext cx="51861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Fabric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ummit SC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hape 1238020"/>
          <p:cNvSpPr/>
          <p:nvPr/>
        </p:nvSpPr>
        <p:spPr>
          <a:xfrm>
            <a:off x="1066680" y="3941640"/>
            <a:ext cx="708192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ed by: Madhu Lakshmanan, QLogic Corpor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behalf of: Ishai Rabinovitz, Mellanox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and Dreier, Cisco Systems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dhu Lakshmanan, QLogi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Cisco Systems, Inc., Mellanox Technologies, QLogic Corporation – Developers Summit @ SC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E41608-FA2D-4DD7-8D3E-E07EC1F90F5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CCEFA893-040A-4FD7-88A1-C838209BBBA0}" type="datetime1">
              <a:rPr lang="en-US"/>
              <a:t>07/29/26</a:t>
            </a:fld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vice Mapper (DM) multipath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 Mapper (DM) driver is in vanilla linux kernel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m-multipath + udev provide persistent binding and 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m-multipath identifies different paths to the same device and group them toge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the device scsi_id – a unique identifier for each SCSI dev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Cisco Systems, Inc., Mellanox Technologies, QLogic Corporation – Developers Summit @ SC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6D1FBF-93D0-4D83-9C97-01C523E4D4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B53D9CB5-4071-4D47-B473-2543B8C95C13}" type="datetime1">
              <a:rPr lang="en-US"/>
              <a:t>07/29/26</a:t>
            </a:fld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M-multipath (cont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M-multipath operates on active-passive m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. there should be at most one active path to access a l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current active path fai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m-multipath switches to the next passive path in its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first path res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m-multipath fails back to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ossible to tune dm-multipath to use different paths for different devices gaining some load balanc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Cisco Systems, Inc., Mellanox Technologies, QLogic Corporation – Developers Summit @ SC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137F7F-404C-4CE2-A6F1-84BD7BF6198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52459475-3516-42E8-9AA9-4B0DD37635EE}" type="datetime1">
              <a:rPr lang="en-US"/>
              <a:t>07/29/26</a:t>
            </a:fld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ssue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42800" y="1458720"/>
            <a:ext cx="82296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set the initiator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onnections between Target and Initi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P Target_port is the same on both pa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have different initiator extensions depending on the Target 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target port guid as the initiator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tion can be overridden by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876240" y="2027160"/>
            <a:ext cx="7053120" cy="1133640"/>
            <a:chOff x="876240" y="2027160"/>
            <a:chExt cx="7053120" cy="1133640"/>
          </a:xfrm>
        </p:grpSpPr>
        <p:sp>
          <p:nvSpPr>
            <p:cNvPr id="258" name="computr1"/>
            <p:cNvSpPr/>
            <p:nvPr/>
          </p:nvSpPr>
          <p:spPr>
            <a:xfrm>
              <a:off x="876240" y="2027160"/>
              <a:ext cx="1717920" cy="9324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iti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computr1"/>
            <p:cNvSpPr/>
            <p:nvPr/>
          </p:nvSpPr>
          <p:spPr>
            <a:xfrm>
              <a:off x="6211440" y="2027160"/>
              <a:ext cx="1717920" cy="9324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Cloud"/>
            <p:cNvSpPr/>
            <p:nvPr/>
          </p:nvSpPr>
          <p:spPr>
            <a:xfrm>
              <a:off x="3344760" y="2211120"/>
              <a:ext cx="2043720" cy="94968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585160" y="2414520"/>
              <a:ext cx="95832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43760" y="2375640"/>
              <a:ext cx="939960" cy="38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5062680" y="2875680"/>
              <a:ext cx="1157400" cy="11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Cisco Systems, Inc., Mellanox Technologies, QLogic Corporation – Developers Summit @ SC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5044EF-F6D4-44F1-A279-6CB5E04B47A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8F1D0D13-1089-4C16-8121-3CF7077A44EE}" type="datetime1">
              <a:rPr lang="en-US"/>
              <a:t>07/29/26</a:t>
            </a:fld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ssues (2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SRP HA support for RHEL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son: RHEL4 does not support DM-multi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DM-multipath prerequisites is udev version &gt; 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EL4 has udev 0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m-multipath and our solution uses the “RUN+=“ option of udev that is not supported in early versions of ud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Cisco Systems, Inc., Mellanox Technologies, QLogic Corporation – Developers Summit @ SC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0C2F2D-87DB-4DFB-88D6-E579A92EA05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8D75A0F9-DC52-4E48-B2A3-BD4276E659C0}" type="datetime1">
              <a:rPr lang="en-US"/>
              <a:t>07/29/26</a:t>
            </a:fld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uture pla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Engenio's MultiPath Proxy Driver (MP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P is Engenio's proprietary multipath solution which only work with Engenio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also fail-over/fail-back between two target controllers, working with Engenio's out-of-band storage management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fy SRP HA from Beta to 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migrate DM-multipath solution to Red-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error handling and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support for hot-swappable SRP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Cisco Systems, Inc., Mellanox Technologies, QLogic Corporation – Developers Summit @ SC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D2EBC6-0225-4F5E-88C3-EDEBE75BD59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4AE9F6E6-5ACF-4958-9655-3D2AA6360AF6}" type="datetime1">
              <a:rPr lang="en-US"/>
              <a:t>07/29/26</a:t>
            </a:fld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671480" y="515880"/>
            <a:ext cx="565488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RP – SCSI RDMA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Rectangle 1031" descr="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192" name="Rectangle 1032" descr=""/>
          <p:cNvPicPr/>
          <p:nvPr/>
        </p:nvPicPr>
        <p:blipFill>
          <a:blip r:embed="rId2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12880" y="1932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2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shed T10 standard for SCSI over RDMA  transport – supported version SRP v2 r00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RP Initiator currently suppo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SCSI Primary Commands -3 (SPC-3) r2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SCSI Block Commands -2 (SBC-2) r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functionalities, task management and limited error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Cisco Systems, Inc., Mellanox Technologies, QLogic Corporation – Developers Summit @ SC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EE5D9D-23F9-4995-9FBA-4D76B395FA3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53464AAD-247C-4F68-A69C-BC31CAE47308}" type="datetime1">
              <a:rPr lang="en-US"/>
              <a:t>07/29/26</a:t>
            </a:fld>
          </a:p>
        </p:txBody>
      </p:sp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671480" y="515880"/>
            <a:ext cx="565488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RP – Basics of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Rectangle 1031" descr="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198" name="Rectangle 1032" descr=""/>
          <p:cNvPicPr/>
          <p:nvPr/>
        </p:nvPicPr>
        <p:blipFill>
          <a:blip r:embed="rId2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12880" y="1932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SCSI commands/responses over RDMA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movement done via RDMA operations initiated by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IB SRP initiator in Linux kernel 2.6.15 and on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discovery done in userspace – ibsrpdm or srp_dae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Cisco Systems, Inc., Mellanox Technologies, QLogic Corporation – Developers Summit @ SC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42A9B3-C335-4F6F-ACA4-201C95E58CD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0A71FADF-1A4E-47EB-9943-985DA79DEC35}" type="datetime1">
              <a:rPr lang="en-US"/>
              <a:t>07/29/26</a:t>
            </a:fld>
          </a:p>
        </p:txBody>
      </p:sp>
    </p:spTree>
  </p:cSld>
  <p:transition spd="med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671480" y="515880"/>
            <a:ext cx="565488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RP – Supported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Rectangle 1031" descr="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204" name="Rectangle 1032" descr=""/>
          <p:cNvPicPr/>
          <p:nvPr/>
        </p:nvPicPr>
        <p:blipFill>
          <a:blip r:embed="rId2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12880" y="1932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P has been tested and verified with the following targ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SFS 3000 InfiniBand-to-Fibre Channel Gateway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lanox SRP target - reference implementation development platform MTD1000/MTD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Logic Fibre Channel Virtual I/O Controller (VFx, FV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enio 6498 controller and storag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ove SRP targets attach to a wide variety of industry standard storage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Cisco Systems, Inc., Mellanox Technologies, QLogic Corporation – Developers Summit @ SC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147044-FE3D-4513-915E-789406CE0E5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15D6652C-6C2A-42B3-8A25-AB7AAF04DFC1}" type="datetime1">
              <a:rPr lang="en-US"/>
              <a:t>07/29/26</a:t>
            </a:fld>
          </a:p>
        </p:txBody>
      </p:sp>
    </p:spTree>
  </p:cSld>
  <p:transition spd="med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3800" y="1641240"/>
            <a:ext cx="6499080" cy="20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SRP High Availability (SRP HA)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820880" y="3941280"/>
            <a:ext cx="5392800" cy="1360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hai Rabinovit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lanox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DF81C-728A-41BA-8C44-BD9530A88AB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8AC1FA4-879F-44B3-A624-BBCD99151D88}" type="datetime1">
              <a:rPr lang="en-US"/>
              <a:t>07/29/26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RP without H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ing there are two physical paths from port A to por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is a fail in the pa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P switches to the second path (After SM reroute the fabr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or B f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379680" y="3852720"/>
            <a:ext cx="4831920" cy="2345040"/>
            <a:chOff x="3379680" y="3852720"/>
            <a:chExt cx="4831920" cy="2345040"/>
          </a:xfrm>
        </p:grpSpPr>
        <p:sp>
          <p:nvSpPr>
            <p:cNvPr id="213" name="computr1"/>
            <p:cNvSpPr/>
            <p:nvPr/>
          </p:nvSpPr>
          <p:spPr>
            <a:xfrm>
              <a:off x="3379680" y="4531320"/>
              <a:ext cx="1003320" cy="9086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i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computr1"/>
            <p:cNvSpPr/>
            <p:nvPr/>
          </p:nvSpPr>
          <p:spPr>
            <a:xfrm>
              <a:off x="7116120" y="4464000"/>
              <a:ext cx="1095480" cy="10656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80560" y="5591880"/>
              <a:ext cx="807480" cy="605880"/>
            </a:xfrm>
            <a:prstGeom prst="hexagon">
              <a:avLst>
                <a:gd name="adj" fmla="val 33318"/>
                <a:gd name="vf" fmla="val 115470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3080" y="4761360"/>
              <a:ext cx="807120" cy="605880"/>
            </a:xfrm>
            <a:prstGeom prst="hexagon">
              <a:avLst>
                <a:gd name="adj" fmla="val 33304"/>
                <a:gd name="vf" fmla="val 115470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15120" y="3852720"/>
              <a:ext cx="807120" cy="605880"/>
            </a:xfrm>
            <a:prstGeom prst="hexagon">
              <a:avLst>
                <a:gd name="adj" fmla="val 33304"/>
                <a:gd name="vf" fmla="val 115470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57160" y="4682880"/>
              <a:ext cx="807120" cy="605880"/>
            </a:xfrm>
            <a:prstGeom prst="hexagon">
              <a:avLst>
                <a:gd name="adj" fmla="val 33304"/>
                <a:gd name="vf" fmla="val 115470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96600" y="4840200"/>
              <a:ext cx="334440" cy="11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4953960" y="4278600"/>
              <a:ext cx="553320" cy="47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11560" y="5344920"/>
              <a:ext cx="484200" cy="35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18560" y="4290120"/>
              <a:ext cx="530280" cy="403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095520" y="5277240"/>
              <a:ext cx="541800" cy="48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937560" y="4682520"/>
              <a:ext cx="276480" cy="7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222800" y="457992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69080" y="44258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252760" y="5437080"/>
            <a:ext cx="520200" cy="623880"/>
            <a:chOff x="5252760" y="5437080"/>
            <a:chExt cx="520200" cy="623880"/>
          </a:xfrm>
        </p:grpSpPr>
        <p:sp>
          <p:nvSpPr>
            <p:cNvPr id="228" name=""/>
            <p:cNvSpPr/>
            <p:nvPr/>
          </p:nvSpPr>
          <p:spPr>
            <a:xfrm>
              <a:off x="5304960" y="5437080"/>
              <a:ext cx="415800" cy="623880"/>
            </a:xfrm>
            <a:prstGeom prst="line">
              <a:avLst/>
            </a:prstGeom>
            <a:ln w="507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5252760" y="5474880"/>
              <a:ext cx="520200" cy="510480"/>
            </a:xfrm>
            <a:prstGeom prst="line">
              <a:avLst/>
            </a:prstGeom>
            <a:ln w="507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Cisco Systems, Inc., Mellanox Technologies, QLogic Corporation – Developers Summit @ SC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07B8B8-9E15-46FF-9231-88643D82E7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92EFE13B-7E41-4FC2-A790-D87AAF70165F}" type="datetime1">
              <a:rPr lang="en-US"/>
              <a:t>07/29/26</a:t>
            </a:fld>
          </a:p>
        </p:txBody>
      </p:sp>
    </p:spTree>
  </p:cSld>
  <p:transition spd="med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RP H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ultiple paths (thru multiple ports/HCA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or B fails, there is no path from A t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P HA automatically switches to another path using other port(s)/HCA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397160" y="3389400"/>
            <a:ext cx="6803640" cy="2606400"/>
            <a:chOff x="1397160" y="3389400"/>
            <a:chExt cx="6803640" cy="2606400"/>
          </a:xfrm>
        </p:grpSpPr>
        <p:sp>
          <p:nvSpPr>
            <p:cNvPr id="233" name="computr1"/>
            <p:cNvSpPr/>
            <p:nvPr/>
          </p:nvSpPr>
          <p:spPr>
            <a:xfrm>
              <a:off x="1397160" y="4848840"/>
              <a:ext cx="1527840" cy="11469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i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computr1"/>
            <p:cNvSpPr/>
            <p:nvPr/>
          </p:nvSpPr>
          <p:spPr>
            <a:xfrm>
              <a:off x="6472800" y="3851280"/>
              <a:ext cx="1728000" cy="14148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Cloud"/>
            <p:cNvSpPr/>
            <p:nvPr/>
          </p:nvSpPr>
          <p:spPr>
            <a:xfrm>
              <a:off x="3588840" y="4130280"/>
              <a:ext cx="2219400" cy="144072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witching fabr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916000" y="5288040"/>
              <a:ext cx="964080" cy="49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35520" y="4513680"/>
              <a:ext cx="709560" cy="44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335560" y="5139360"/>
              <a:ext cx="1145880" cy="25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computr1"/>
            <p:cNvSpPr/>
            <p:nvPr/>
          </p:nvSpPr>
          <p:spPr>
            <a:xfrm>
              <a:off x="1415160" y="3389400"/>
              <a:ext cx="1527840" cy="11469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i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06920" y="3634920"/>
              <a:ext cx="1091520" cy="68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88560" y="3947760"/>
              <a:ext cx="982080" cy="52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752200" y="4900680"/>
              <a:ext cx="873000" cy="16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843280" y="343548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67040" y="403056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86520" y="450216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58080" y="525636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Cisco Systems, Inc., Mellanox Technologies, QLogic Corporation – Developers Summit @ SC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53C817-C644-40EB-8199-EDE74E60C7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53AE6F60-D7B9-4C21-942D-2BBE9F4F6548}" type="datetime1">
              <a:rPr lang="en-US"/>
              <a:t>07/29/26</a:t>
            </a:fld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A stuctu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 is build of two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p_daemon – Discovers and sets up connections for all possible paths to SRP targets on the fa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ath tool – Switches to a different path when a path fails. Current version uses Device Mapper multi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Cisco Systems, Inc., Mellanox Technologies, QLogic Corporation – Developers Summit @ SC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24B4F2-8A5A-41BC-AFB3-6C2D1D7B1A8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25DA3795-9585-4B54-9D0D-30F0CDD2F821}" type="datetime1">
              <a:rPr lang="en-US"/>
              <a:t>07/29/26</a:t>
            </a:fld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rp_daem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ibsrpd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boot scans the fabric and sets up connection for all possible paths to SRP targets on the fabr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to monitor the fabric, and sets up connection to new SRP targets that joins the fabr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more features (Details in man p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Cisco Systems, Inc., Mellanox Technologies, QLogic Corporation – Developers Summit @ SC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D9AEF7-08B4-4F0C-B18A-7DFF2D54ADD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fld id="{FB4B89BB-62BF-4CBA-A61C-E076EC609DD0}" type="datetime1">
              <a:rPr lang="en-US"/>
              <a:t>07/29/26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4T01:44:58Z</dcterms:created>
  <dc:creator>Ishai Rabinovitz, Mellanox; Roland Dreier, Cisco and Madhu Lakshmanan, QLogic</dc:creator>
  <dc:description/>
  <dc:language>en-US</dc:language>
  <cp:lastModifiedBy> </cp:lastModifiedBy>
  <dcterms:modified xsi:type="dcterms:W3CDTF">2006-11-17T12:11:08Z</dcterms:modified>
  <cp:revision>1469</cp:revision>
  <dc:subject/>
  <dc:title>OpenFabrics SR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