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hyperlink" Target="http://www.openfabrics.org/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96080" y="152280"/>
            <a:ext cx="1067040" cy="9730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7814-580E-4D05-A949-07BE4054ED63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ff"/>
                </a:solidFill>
                <a:uFillTx/>
                <a:latin typeface="Arial"/>
                <a:hlinkClick r:id="rId5"/>
              </a:rPr>
              <a:t>www.openfabrics.org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Linux Kernel Core Enhancem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l Rosen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logo_voltair_top" descr=""/>
          <p:cNvPicPr/>
          <p:nvPr/>
        </p:nvPicPr>
        <p:blipFill>
          <a:blip r:embed="rId1"/>
          <a:stretch/>
        </p:blipFill>
        <p:spPr>
          <a:xfrm>
            <a:off x="6324480" y="5029200"/>
            <a:ext cx="25941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sh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 IBA 1.2 and beyond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B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FM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rging loopback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nchronous get_user_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back when page is mappe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stage idea from Gl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MPI comainta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discussed on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ync get_user_p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registration verb calls get_user_pages() to pin existing pages in the memory and b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into memory if needed and then it uploads addresses of pinned pagesto MTT/MPT. What can be done in the async way is uploading of MTT/MPT. It would be nice to have async get_user_pages() too i.e if swap in is needed set up all needed stuff and return to the caller, but don't think there is such an interface in the kernel right now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serspace interface might look something like thi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v_reg_mem_async(hca, mem, len, cookie); /* setup stuff and exi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                                    as quick as possible */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v_get_reg_mem_async(hca, &amp;cookie); /* when registration is ready we can retrieve it with this call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hal</cp:lastModifiedBy>
  <dcterms:modified xsi:type="dcterms:W3CDTF">2006-11-17T13:28:54Z</dcterms:modified>
  <cp:revision>25</cp:revision>
  <dc:subject/>
  <dc:title>Slide 1</dc:title>
</cp:coreProperties>
</file>