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D980-B3C6-4B90-B280-A4501E88F9B4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WARP Statu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 Tu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WARP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kernel.org 2.6.19.y git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hanges to ib_verbs and rdma_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ARP Connection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SO1100 device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Fabrics SV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lsio T3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Effect driver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WARP Devic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SO1100 1Gb RN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.6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ls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ted to openib/netdev, targeted for 2.6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driver posted to open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65520" y="2587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f iWARP Bra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WARP branch no longer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s native in the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iWARP device support follows same process as IB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23:52:27Z</dcterms:created>
  <dc:creator>Tom Tucker</dc:creator>
  <dc:description/>
  <dc:language>en-US</dc:language>
  <cp:lastModifiedBy>Tom Tucker</cp:lastModifiedBy>
  <dcterms:modified xsi:type="dcterms:W3CDTF">2006-11-16T19:00:11Z</dcterms:modified>
  <cp:revision>5</cp:revision>
  <dc:subject/>
  <dc:title>iWARP Status</dc:title>
</cp:coreProperties>
</file>