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3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3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65576-C149-4DAF-8942-3B9F5641465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A426D-D022-4F23-89B7-9C181F3579E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EAE30-CF18-478F-ADCD-2DEDD425367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ACF27-5129-4DD7-BE48-081BF305C44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165-EAA4-4BC6-88C2-58D3B63D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4CB-C615-4502-A9B1-741CE79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7A85F-6133-4B5F-9A64-E9625C82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B1D70-CB72-4C71-B747-A8C083AE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4B304-D26B-4A51-916B-548CFDA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578271-AF5E-472E-B2A9-0F70312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D414C-4F0E-4816-B76D-3B9332B6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FC86F1-E0CE-4DB4-B61A-6589A08C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E8AFC-8610-4C0F-A1EC-2A03B770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36A8B-2688-4838-9DF3-04820C58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0CA4A6-CEA9-4A35-B2E1-485F5E53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1DDA3-7F33-4702-8698-99D742AA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F79-DEAA-446E-80F8-179BA877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412E25-9792-45ED-B5C7-7CAAD62A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728BB5-28E8-4622-910F-DCEAE144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7FAC9E-C399-4DA3-80A8-00FBD98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3D8A10-5FAC-4632-B7DA-7343684C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A767B8-4971-4DEC-8418-4B242A4D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0B329F-DF3D-4D2A-8FF6-084C219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879301-94EF-4C7E-B13B-037A3DF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60CFC9-524F-406D-AC05-9A9B6E6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DD7781-BE11-4FB5-9436-C52D2D87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76C89F-4F53-496B-87A8-FA287C2F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2B4-1186-4232-BD21-646591B9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74C30C-4A88-4299-B00F-1EB1E0BE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09D77D-3D80-4BEA-AFDA-22F1BFC1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6E6E3B-72E0-49E3-B93A-995D457F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047BE4-12CE-4778-94B8-68372FB7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B25D2B-7A18-4A9E-8C73-6257D695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E96BCB-9199-41B8-B767-34E79D5A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235519-2951-4642-BE48-B24F084D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089399-684E-49F6-A052-B96D4D4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A6E343-0D9B-46D9-8AED-A290564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6C5E04-A6BC-49B8-B013-DBFBF585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AE503-8072-459B-BE34-94612CF58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85FD23-764B-4B37-B0E4-763A4FFC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0680B9-A9BF-40FA-A474-B8F0CD77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E2C8B5-32E9-40C4-84C4-CF5DD15D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31C95-60A1-4537-BA10-B5345B9A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FB3D8-DEBC-48E3-B123-6219BBA2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FA313-45B1-4D49-B4CF-292AD900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A1D14-401B-4305-8502-B986E1C5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70899-1827-4A47-BAB0-13B3F3DE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90A16-63DC-4D92-BCD0-F3E815B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A1C-C6F0-4248-B9E0-9593C3C4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93CC3-7987-4438-8F0F-8AE88166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C9881-F80C-4ED1-8B19-D7E9F43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4383D-1B34-4DDD-AACF-24858D9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27CFD-BCE2-4FA3-91F4-6C7A10E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8DB4E-BF42-4263-AD55-90F3EE303A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E667E-D7F9-42B6-99B0-0D1A90AA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2AD9F-B59B-4130-A2A0-1182E289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C734B-8C9C-4116-8170-9AA0687A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F072E-71C9-44E0-89C4-60F59AE7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32AC2-9CDC-4470-9464-99B515EA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423-711E-46FD-8B05-2012900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5647F-40E9-4E4C-B711-99E6E5E9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39945-D7E0-47D4-8099-5CFE567B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C0190-2F94-4741-B00F-ED46519D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D9327-49BD-42E6-A9AE-B89C687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A2B77-62D7-4880-A050-447CCD69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329D7-66F4-4566-8B16-88225896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A3206-C193-4AAC-882A-24E0ADF8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D8D42-A5EA-442F-B8F9-67E548A6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C01CF-7D5E-49E1-8149-C40324FF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F4350-7F95-427A-916D-7C703341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E6C-F84E-4AAB-B192-3DD2EE9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7710E-0C7A-4454-A600-86261A0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08523-0B56-4DCB-B46C-367842D0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86C65-A127-4A55-98A1-C18499E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88BC1-2CFD-405B-BCF6-4EACC08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A21FC-C00E-478B-BB7A-1AC1DB7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6074C-944C-4058-88F5-70F1950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75240-4BC2-49B0-BB60-78D74A6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AA076-E925-4E85-B49F-4C081309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DA941-D97C-40F0-99BE-F1758597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0DB7B-720E-4C5F-A37A-435DFD14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57D-6C50-462B-8100-8B68EBA7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5CA0E-6D05-4FF6-A672-76204640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AF1DB-025C-4303-B040-D67E6594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DEEE4-7853-470C-B105-D449C3B8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1C82D-7C39-4590-A82E-B179DBA7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346F5-80FC-4C35-962A-EF8F60EB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0630F-018E-4E29-B4D6-F43C060B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74EA8-12F3-4ACD-A37D-0C495B5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DEDF7-EA04-4954-AAE3-246DEDD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3FD7D-7A8B-4E95-AD8F-F75B9DA1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985A2-995B-454A-899F-A44A874A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8F8-279E-4F29-B788-2604F41A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3E88E-F566-4EBD-A0E9-3C373132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79E09-2DD8-4CD5-9C40-4BE58232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8B832-0FD8-4A4D-922D-B4AD09EA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8CDC9-8A17-4856-B6A2-65D3717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DE5D3-79CF-4E95-B917-E1E3A769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F38DD-0813-4B0A-B47B-B0A92EB3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D4457-857F-4C8D-8D96-089A3BD9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FCF31-5A7B-43E0-B9D3-3918177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4AB73-2C34-4E45-9D8C-13697DF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0257D-871B-4925-8A5B-F9AEADEF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7D4-4AE5-440F-8675-026634C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7B7F8-40A6-40A0-80CC-BB8889D2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3ABF2-53EC-4250-81EF-E8889864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41854-E141-4CA6-BFD2-8C97F431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73344-E12C-46ED-AABF-9969A281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2EA53-0203-4AD1-961A-FCB4F194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89D04-652C-4BB3-AE4B-16313EB3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01058-3FE8-4AD8-8817-76973341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56690-F347-4F03-9290-51E91145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4B14E-573B-4F19-95BE-2CF0B232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B92E2D-9155-419A-8CAF-65E0E96E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82C-8F68-4489-8C5E-BAF7F62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3AFE6-7911-4EE1-9B41-73A0C44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1DE13-4FD1-4B88-8BF6-4C69FE9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70A6C-7A6F-4583-B5F3-956D859C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1AFDD-769A-41CA-B9F2-421168C5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7FAC6-E66F-4AF4-9B51-067FC15A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02D2F-1150-4266-848D-21FA8FBD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60B1D-06FB-4CE6-A8F1-696F293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C2D650-97AE-448D-AE26-D6B740E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56EC4A-E1E6-4B26-B27F-45B705DD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9AAF9-722B-432A-9BA2-DE2440E7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E06-E869-4F10-AD3B-C67FAE2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F3FBE-44AC-42E5-9DC6-261DCD98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7338B-875E-44AD-B7A7-148E135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483EF-04BD-4B76-9846-37F4B03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AA336-5751-47A6-B47B-090BB3C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7905D6-96A6-4427-BB02-DC8E313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12C7F-D73D-4DE0-B053-FEE4F294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2AAF7-547E-4B15-8BC4-0C9726EC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A9B95E-B86F-4BB5-BD27-C9C481E1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5D899F-8E39-446D-9681-3D90EE9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FD19E5-EAB0-4A6D-867A-2D0D68C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1F597A-35FE-4697-8FDC-0EB2967CD86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3"/>
          <p:cNvSpPr>
            <a:spLocks noGrp="1"/>
          </p:cNvSpPr>
          <p:nvPr>
            <p:ph type="dt" idx="27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8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AC5DF0-3BE6-4B36-A610-6C715092E14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3"/>
          <p:cNvSpPr>
            <a:spLocks noGrp="1"/>
          </p:cNvSpPr>
          <p:nvPr>
            <p:ph type="dt" idx="30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1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2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C08809-1AB8-4CDA-A23F-DCE943C6016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3568680" y="4898880"/>
            <a:ext cx="1994040" cy="1525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871640" y="541440"/>
            <a:ext cx="5186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Fabr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ummit SC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9" descr="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133200" y="119160"/>
            <a:ext cx="136224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0" descr=""/>
          <p:cNvPicPr/>
          <p:nvPr/>
        </p:nvPicPr>
        <p:blipFill>
          <a:blip r:embed="rId4"/>
          <a:stretch/>
        </p:blipFill>
        <p:spPr>
          <a:xfrm>
            <a:off x="7286760" y="114480"/>
            <a:ext cx="1628640" cy="16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5C7938-27A1-4778-B73F-60FD06A74AC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6F4EA0-DA3B-4089-B5DA-75510678154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247B3B-BB22-433F-9DD9-5017E8C5B40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3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4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3E59B4-11BB-4D2B-8D25-5EACBCF339C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D2DFAE-FBAD-4CBF-BD53-507C0744E9F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3"/>
          <p:cNvSpPr>
            <a:spLocks noGrp="1"/>
          </p:cNvSpPr>
          <p:nvPr>
            <p:ph type="dt" idx="18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9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0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33F7712-735F-423F-B738-74401C04AFF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13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3"/>
          <p:cNvSpPr>
            <a:spLocks noGrp="1"/>
          </p:cNvSpPr>
          <p:nvPr>
            <p:ph type="dt" idx="2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1D0170-8297-41D6-9985-FBAF93F39AD3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30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0000">
                  <a:alpha val="72156"/>
                </a:srgbClr>
              </a:gs>
              <a:gs pos="100000">
                <a:srgbClr val="0066ff">
                  <a:alpha val="98039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Rectangle 1031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52280" y="142920"/>
            <a:ext cx="1190880" cy="1322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1032" descr=""/>
          <p:cNvPicPr/>
          <p:nvPr/>
        </p:nvPicPr>
        <p:blipFill>
          <a:blip r:embed="rId3"/>
          <a:stretch/>
        </p:blipFill>
        <p:spPr>
          <a:xfrm>
            <a:off x="7496280" y="11448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B7C8E3-D260-45CE-87AB-D17AA395ADB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03280" y="2141280"/>
            <a:ext cx="6499440" cy="1191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BDiag Update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858680" y="4000320"/>
            <a:ext cx="5321160" cy="1360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an Zah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is new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diag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oS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 and MTU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diagui – GUI for ibdiag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28600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28600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38B610-D3A0-4141-A38D-2786A817C58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Rectangle 13317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82520" y="3157560"/>
            <a:ext cx="87361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is next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47840" y="159984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237240" indent="-18972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GOT REQUETS – LET M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7240" indent="-18972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di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48600" indent="-18972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rt which nods are at which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48600" indent="-18972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lyze Missmatches between switch and HCA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48600" indent="-18972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ck for default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diag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48600" indent="-18972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ort P_Keys that are common on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48600" indent="-18972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lidate optional given P_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7240" indent="-189720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D59731-DB5D-484F-A2D4-C838610E2AC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is next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7840" y="159984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di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rt SL2VL mapping to non-used V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oIB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IP subnets, members and broadcast group parame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28600">
              <a:lnSpc>
                <a:spcPct val="150000"/>
              </a:lnSpc>
              <a:buClr>
                <a:srgbClr val="000000"/>
              </a:buClr>
              <a:buFont typeface="Arial"/>
              <a:buChar char="–"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hape 3"/>
          <p:cNvSpPr/>
          <p:nvPr/>
        </p:nvSpPr>
        <p:spPr>
          <a:xfrm>
            <a:off x="45720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7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4"/>
          <p:cNvSpPr/>
          <p:nvPr/>
        </p:nvSpPr>
        <p:spPr>
          <a:xfrm>
            <a:off x="2101680" y="6216480"/>
            <a:ext cx="5029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llanox Technologies – Developers Summit @ SC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hape 5"/>
          <p:cNvSpPr/>
          <p:nvPr/>
        </p:nvSpPr>
        <p:spPr>
          <a:xfrm>
            <a:off x="7137360" y="6245280"/>
            <a:ext cx="1549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238D97-7ECD-4EE6-B887-72BBF3920B5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Hal Rosenstock, Eitan Zahavi</dc:creator>
  <dc:description/>
  <dc:language>en-US</dc:language>
  <cp:lastModifiedBy>Eitan Zahavi</cp:lastModifiedBy>
  <dcterms:modified xsi:type="dcterms:W3CDTF">2006-11-17T11:44:30Z</dcterms:modified>
  <cp:revision>1525</cp:revision>
  <dc:subject/>
  <dc:title>OpenIB OpenSM and Diags</dc:title>
</cp:coreProperties>
</file>