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794088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9720" y="4359960"/>
            <a:ext cx="794088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8800" y="339048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9720" y="435996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0" y="435996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255672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24600" y="3390480"/>
            <a:ext cx="255672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09480" y="3390480"/>
            <a:ext cx="255672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39720" y="4359960"/>
            <a:ext cx="255672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24600" y="4359960"/>
            <a:ext cx="255672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09480" y="4359960"/>
            <a:ext cx="255672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387504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8800" y="3390480"/>
            <a:ext cx="387504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39360" y="1312920"/>
            <a:ext cx="3551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8800" y="3390480"/>
            <a:ext cx="387504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9720" y="435996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387504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8800" y="339048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8800" y="435996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8800" y="339048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9720" y="4359960"/>
            <a:ext cx="794088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794088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39720" y="4359960"/>
            <a:ext cx="794088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8800" y="339048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9720" y="435996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8800" y="435996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255672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4600" y="3390480"/>
            <a:ext cx="255672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09480" y="3390480"/>
            <a:ext cx="255672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39720" y="4359960"/>
            <a:ext cx="255672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4600" y="4359960"/>
            <a:ext cx="255672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09480" y="4359960"/>
            <a:ext cx="255672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387504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08800" y="3390480"/>
            <a:ext cx="387504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39360" y="1312920"/>
            <a:ext cx="3551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08800" y="3390480"/>
            <a:ext cx="387504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39720" y="435996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387504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08800" y="339048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08800" y="435996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08800" y="339048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39720" y="4359960"/>
            <a:ext cx="794088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794088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39720" y="4359960"/>
            <a:ext cx="794088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08800" y="339048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39720" y="435996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08800" y="435996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255672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24600" y="3390480"/>
            <a:ext cx="255672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09480" y="3390480"/>
            <a:ext cx="255672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39720" y="4359960"/>
            <a:ext cx="255672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24600" y="4359960"/>
            <a:ext cx="255672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09480" y="4359960"/>
            <a:ext cx="255672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387504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8800" y="3390480"/>
            <a:ext cx="387504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39360" y="1312920"/>
            <a:ext cx="3551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8800" y="3390480"/>
            <a:ext cx="387504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39720" y="435996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387504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8800" y="339048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8800" y="435996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8800" y="3390480"/>
            <a:ext cx="387504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39720" y="4359960"/>
            <a:ext cx="7940880" cy="88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174840" y="6672240"/>
            <a:ext cx="8751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41248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FC5F894B-F882-4C8E-9F3E-7C823972AEF6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4840" y="6672240"/>
            <a:ext cx="8751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41248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910EE0D3-1732-497D-8E06-81680C4F34EB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3440" y="1630440"/>
            <a:ext cx="4570560" cy="2743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74840" y="6672240"/>
            <a:ext cx="8751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40924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639C41B-76BC-4FA0-8B49-E5322C6E1D7C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FED 1.x Process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d Beyon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50520" y="4734000"/>
            <a:ext cx="6940440" cy="419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Jeff Squyres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0" y="0"/>
            <a:ext cx="9144000" cy="3144960"/>
            <a:chOff x="0" y="0"/>
            <a:chExt cx="9144000" cy="3144960"/>
          </a:xfrm>
        </p:grpSpPr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3581280" y="0"/>
              <a:ext cx="5562720" cy="314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0" y="0"/>
              <a:ext cx="3575160" cy="3124080"/>
            </a:xfrm>
            <a:prstGeom prst="rect">
              <a:avLst/>
            </a:pr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29415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F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Open MPI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CU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not just information broad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eting starts the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e on what the processes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th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sh th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Open MPI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55560" y="1780920"/>
            <a:ext cx="7940880" cy="4771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O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nsus dr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administrative and technic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Open MPI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4619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managers: determine when a release is made, what patches go i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keepers: minions of the RM’s that do the technical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v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invoked upon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l, marketing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lict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Open MPI developmen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833616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code SV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occurs at the trunk -- free for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le release branches, all commits are reviewed and ap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t temporary branches for destabilization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tracking, milestones, wiki: Tr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ticket for every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managers prioritize and decide what go into each release / milest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t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ekly developer teleconferences, e-mails, 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 not rely on e-mai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archived information: SVN, web sit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Open MPI releas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5560" y="1780920"/>
            <a:ext cx="7940880" cy="4848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 meeting at the beginning of a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feature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priorities of each priority (e.g., 1-5 scale, 5 = “blocker” meaning if not complete/fixed, holds up the rele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how long each feature takes, make a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milestones for when to drop testable pre-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Processes to discus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780920"/>
            <a:ext cx="7940880" cy="4771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features of a rele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decides / how do we dec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phases of the rele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exact schedu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decides / how do we dec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levels of changes are acceptable at each ph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big / little / when / where / etc.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flow from OFA development to rele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es one submit a pat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decide what version of what goes into OF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Processes to discus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5560" y="1780920"/>
            <a:ext cx="7940880" cy="4771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release criteria for a rele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dec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testing matrix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is testing wh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guarantees are we providing to the custo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You talk now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19:51:02Z</dcterms:created>
  <dc:creator>Cisco Systems, Inc.</dc:creator>
  <dc:description/>
  <cp:keywords/>
  <dc:language>en-US</dc:language>
  <cp:lastModifiedBy>Jeff Squyres</cp:lastModifiedBy>
  <cp:lastPrinted>1999-01-27T00:54:54Z</cp:lastPrinted>
  <dcterms:modified xsi:type="dcterms:W3CDTF">2006-11-16T22:34:56Z</dcterms:modified>
  <cp:revision>36</cp:revision>
  <dc:subject>Guide for Creating Powerpoint Presentations</dc:subject>
  <dc:title>Presentation Title Size 30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