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BAE5-2D65-43A1-A64C-D7000FB004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2645-1F08-4B45-85C2-B39860E7B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3EA3-F03C-4BC3-BAFC-53805A5FE2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6CB0-539A-4F80-9533-0BC6E23E7D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age Longhorn, TCP IP benefits, new deployment technologi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47F1-5AAD-476D-A321-E9B295A417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29EA-F43D-4956-A172-0FBE751FF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337A-1F8A-4895-8D6A-CE1BDB2A9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5889600"/>
            <a:ext cx="36716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 Hans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of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5680" y="78840"/>
            <a:ext cx="839304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s Compute Cluster Server 20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7667640" y="1287360"/>
            <a:ext cx="1152360" cy="917280"/>
            <a:chOff x="7667640" y="1287360"/>
            <a:chExt cx="1152360" cy="917280"/>
          </a:xfrm>
        </p:grpSpPr>
        <p:pic>
          <p:nvPicPr>
            <p:cNvPr id="86" name="Picture 4" descr="gray-disc"/>
            <p:cNvPicPr/>
            <p:nvPr/>
          </p:nvPicPr>
          <p:blipFill>
            <a:blip r:embed="rId1"/>
            <a:stretch/>
          </p:blipFill>
          <p:spPr>
            <a:xfrm>
              <a:off x="7667640" y="1472760"/>
              <a:ext cx="115236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blue 3d disc with glow"/>
            <p:cNvPicPr/>
            <p:nvPr/>
          </p:nvPicPr>
          <p:blipFill>
            <a:blip r:embed="rId2"/>
            <a:stretch/>
          </p:blipFill>
          <p:spPr>
            <a:xfrm>
              <a:off x="8287560" y="1522800"/>
              <a:ext cx="3718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6" descr="Host Integration Server (HIS) sm"/>
            <p:cNvPicPr/>
            <p:nvPr/>
          </p:nvPicPr>
          <p:blipFill>
            <a:blip r:embed="rId3"/>
            <a:stretch/>
          </p:blipFill>
          <p:spPr>
            <a:xfrm>
              <a:off x="8345520" y="1287360"/>
              <a:ext cx="259920" cy="45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7"/>
            <p:cNvGrpSpPr/>
            <p:nvPr/>
          </p:nvGrpSpPr>
          <p:grpSpPr>
            <a:xfrm>
              <a:off x="7830360" y="1419480"/>
              <a:ext cx="203760" cy="255960"/>
              <a:chOff x="7830360" y="1419480"/>
              <a:chExt cx="203760" cy="255960"/>
            </a:xfrm>
          </p:grpSpPr>
          <p:pic>
            <p:nvPicPr>
              <p:cNvPr id="90" name="Picture 8" descr="blue 3d disc with glow"/>
              <p:cNvPicPr/>
              <p:nvPr/>
            </p:nvPicPr>
            <p:blipFill>
              <a:blip r:embed="rId4"/>
              <a:stretch/>
            </p:blipFill>
            <p:spPr>
              <a:xfrm>
                <a:off x="7830360" y="1517400"/>
                <a:ext cx="203760" cy="15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9" descr="Server sm"/>
              <p:cNvPicPr/>
              <p:nvPr/>
            </p:nvPicPr>
            <p:blipFill>
              <a:blip r:embed="rId5"/>
              <a:stretch/>
            </p:blipFill>
            <p:spPr>
              <a:xfrm>
                <a:off x="7873920" y="1419480"/>
                <a:ext cx="119880" cy="21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" name="Group 10"/>
            <p:cNvGrpSpPr/>
            <p:nvPr/>
          </p:nvGrpSpPr>
          <p:grpSpPr>
            <a:xfrm>
              <a:off x="8012160" y="1438200"/>
              <a:ext cx="203760" cy="255960"/>
              <a:chOff x="8012160" y="1438200"/>
              <a:chExt cx="203760" cy="255960"/>
            </a:xfrm>
          </p:grpSpPr>
          <p:pic>
            <p:nvPicPr>
              <p:cNvPr id="93" name="Picture 11" descr="blue 3d disc with glow"/>
              <p:cNvPicPr/>
              <p:nvPr/>
            </p:nvPicPr>
            <p:blipFill>
              <a:blip r:embed="rId6"/>
              <a:stretch/>
            </p:blipFill>
            <p:spPr>
              <a:xfrm>
                <a:off x="8012160" y="1535760"/>
                <a:ext cx="203760" cy="1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2" descr="Server sm"/>
              <p:cNvPicPr/>
              <p:nvPr/>
            </p:nvPicPr>
            <p:blipFill>
              <a:blip r:embed="rId7"/>
              <a:stretch/>
            </p:blipFill>
            <p:spPr>
              <a:xfrm>
                <a:off x="8060040" y="1438200"/>
                <a:ext cx="119880" cy="21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" name="Group 13"/>
            <p:cNvGrpSpPr/>
            <p:nvPr/>
          </p:nvGrpSpPr>
          <p:grpSpPr>
            <a:xfrm>
              <a:off x="8080920" y="1623960"/>
              <a:ext cx="203760" cy="260640"/>
              <a:chOff x="8080920" y="1623960"/>
              <a:chExt cx="203760" cy="260640"/>
            </a:xfrm>
          </p:grpSpPr>
          <p:pic>
            <p:nvPicPr>
              <p:cNvPr id="96" name="Picture 14" descr="blue 3d disc with glow"/>
              <p:cNvPicPr/>
              <p:nvPr/>
            </p:nvPicPr>
            <p:blipFill>
              <a:blip r:embed="rId8"/>
              <a:stretch/>
            </p:blipFill>
            <p:spPr>
              <a:xfrm>
                <a:off x="8080920" y="1725840"/>
                <a:ext cx="203760" cy="15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" descr="Server sm"/>
              <p:cNvPicPr/>
              <p:nvPr/>
            </p:nvPicPr>
            <p:blipFill>
              <a:blip r:embed="rId9"/>
              <a:stretch/>
            </p:blipFill>
            <p:spPr>
              <a:xfrm>
                <a:off x="8124480" y="1623960"/>
                <a:ext cx="119880" cy="21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8" name="Group 16"/>
            <p:cNvGrpSpPr/>
            <p:nvPr/>
          </p:nvGrpSpPr>
          <p:grpSpPr>
            <a:xfrm>
              <a:off x="7891560" y="1569960"/>
              <a:ext cx="203040" cy="260280"/>
              <a:chOff x="7891560" y="1569960"/>
              <a:chExt cx="203040" cy="260280"/>
            </a:xfrm>
          </p:grpSpPr>
          <p:pic>
            <p:nvPicPr>
              <p:cNvPr id="99" name="Picture 17" descr="blue 3d disc with glow"/>
              <p:cNvPicPr/>
              <p:nvPr/>
            </p:nvPicPr>
            <p:blipFill>
              <a:blip r:embed="rId10"/>
              <a:stretch/>
            </p:blipFill>
            <p:spPr>
              <a:xfrm>
                <a:off x="7891560" y="1671840"/>
                <a:ext cx="203040" cy="1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8" descr="Server sm"/>
              <p:cNvPicPr/>
              <p:nvPr/>
            </p:nvPicPr>
            <p:blipFill>
              <a:blip r:embed="rId11"/>
              <a:stretch/>
            </p:blipFill>
            <p:spPr>
              <a:xfrm>
                <a:off x="7935120" y="1569960"/>
                <a:ext cx="119520" cy="212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" name="Text Box 19"/>
          <p:cNvSpPr/>
          <p:nvPr/>
        </p:nvSpPr>
        <p:spPr>
          <a:xfrm>
            <a:off x="182520" y="909720"/>
            <a:ext cx="880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 scientist and researcher to focus on Science, no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233280" y="2133720"/>
            <a:ext cx="2492280" cy="916920"/>
          </a:xfrm>
          <a:prstGeom prst="rect">
            <a:avLst/>
          </a:prstGeom>
          <a:gradFill rotWithShape="0">
            <a:gsLst>
              <a:gs pos="0">
                <a:srgbClr val="ff6600">
                  <a:alpha val="80000"/>
                </a:srgbClr>
              </a:gs>
              <a:gs pos="100000">
                <a:srgbClr val="ff8e43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Server 2003, Compute Cluster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3157560" y="2379600"/>
            <a:ext cx="256860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>
                  <a:alpha val="80000"/>
                </a:srgbClr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 Cluster 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2730600" y="227664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5765760" y="227664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6342120" y="2209680"/>
            <a:ext cx="2619360" cy="916920"/>
          </a:xfrm>
          <a:prstGeom prst="rect">
            <a:avLst/>
          </a:prstGeom>
          <a:gradFill rotWithShape="0">
            <a:gsLst>
              <a:gs pos="0">
                <a:srgbClr val="0000ff">
                  <a:alpha val="80000"/>
                </a:srgbClr>
              </a:gs>
              <a:gs pos="100000">
                <a:srgbClr val="4343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indows Compute Cluster Serve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214200" y="3214800"/>
            <a:ext cx="2462400" cy="2051640"/>
          </a:xfrm>
          <a:prstGeom prst="rect">
            <a:avLst/>
          </a:prstGeom>
          <a:gradFill rotWithShape="0">
            <a:gsLst>
              <a:gs pos="0">
                <a:srgbClr val="ff6600">
                  <a:alpha val="80000"/>
                </a:srgbClr>
              </a:gs>
              <a:gs pos="100000">
                <a:srgbClr val="ff8e43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 HPC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utationally intense and scale-out work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verage strengths of Windows Server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3157560" y="3213000"/>
            <a:ext cx="2606760" cy="15541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>
                  <a:alpha val="80000"/>
                </a:srgbClr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tional 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s MS-M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Job Schedul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uster Resource Management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6329520" y="3213000"/>
            <a:ext cx="2644560" cy="2284200"/>
          </a:xfrm>
          <a:prstGeom prst="rect">
            <a:avLst/>
          </a:prstGeom>
          <a:gradFill rotWithShape="0">
            <a:gsLst>
              <a:gs pos="0">
                <a:srgbClr val="0000ff">
                  <a:alpha val="80000"/>
                </a:srgbClr>
              </a:gs>
              <a:gs pos="100000">
                <a:srgbClr val="4343ff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olution out-of-the-b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verages investment in Windows administration and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kes cluster operation easy and secure as a sing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Support for OpenFab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RDMA stack with vendor collaboration, ope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ing beyond MPI over W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WHQL Cer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d on individual vendo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IPoIB and W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ping via all Tier 1 OEM vend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veloper-roadmap-narrower-"/>
          <p:cNvPicPr/>
          <p:nvPr/>
        </p:nvPicPr>
        <p:blipFill>
          <a:blip r:embed="rId1"/>
          <a:srcRect l="0" t="22185" r="0" b="0"/>
          <a:stretch/>
        </p:blipFill>
        <p:spPr>
          <a:xfrm>
            <a:off x="0" y="1254240"/>
            <a:ext cx="9144000" cy="56163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971640" y="3130560"/>
            <a:ext cx="1523880" cy="914400"/>
            <a:chOff x="971640" y="3130560"/>
            <a:chExt cx="1523880" cy="914400"/>
          </a:xfrm>
        </p:grpSpPr>
        <p:pic>
          <p:nvPicPr>
            <p:cNvPr id="114" name="Picture 7" descr="green-road-sign-horizontal"/>
            <p:cNvPicPr/>
            <p:nvPr/>
          </p:nvPicPr>
          <p:blipFill>
            <a:blip r:embed="rId2"/>
            <a:stretch/>
          </p:blipFill>
          <p:spPr>
            <a:xfrm>
              <a:off x="971640" y="3130560"/>
              <a:ext cx="1523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8"/>
            <p:cNvSpPr/>
            <p:nvPr/>
          </p:nvSpPr>
          <p:spPr>
            <a:xfrm>
              <a:off x="1112400" y="3196800"/>
              <a:ext cx="10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egoe"/>
                  <a:ea typeface="Arial"/>
                </a:rPr>
                <a:t>200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9"/>
          <p:cNvGrpSpPr/>
          <p:nvPr/>
        </p:nvGrpSpPr>
        <p:grpSpPr>
          <a:xfrm>
            <a:off x="2629080" y="2320920"/>
            <a:ext cx="1523880" cy="822240"/>
            <a:chOff x="2629080" y="2320920"/>
            <a:chExt cx="1523880" cy="822240"/>
          </a:xfrm>
        </p:grpSpPr>
        <p:pic>
          <p:nvPicPr>
            <p:cNvPr id="117" name="Picture 10" descr="green-road-sign-horizontal"/>
            <p:cNvPicPr/>
            <p:nvPr/>
          </p:nvPicPr>
          <p:blipFill>
            <a:blip r:embed="rId3"/>
            <a:stretch/>
          </p:blipFill>
          <p:spPr>
            <a:xfrm>
              <a:off x="2629080" y="2320920"/>
              <a:ext cx="15238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1"/>
            <p:cNvSpPr/>
            <p:nvPr/>
          </p:nvSpPr>
          <p:spPr>
            <a:xfrm>
              <a:off x="2769840" y="23806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egoe"/>
                  <a:ea typeface="Arial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2"/>
          <p:cNvGrpSpPr/>
          <p:nvPr/>
        </p:nvGrpSpPr>
        <p:grpSpPr>
          <a:xfrm>
            <a:off x="4029120" y="1644480"/>
            <a:ext cx="1523880" cy="762120"/>
            <a:chOff x="4029120" y="1644480"/>
            <a:chExt cx="1523880" cy="762120"/>
          </a:xfrm>
        </p:grpSpPr>
        <p:pic>
          <p:nvPicPr>
            <p:cNvPr id="120" name="Picture 13" descr="green-road-sign-horizontal"/>
            <p:cNvPicPr/>
            <p:nvPr/>
          </p:nvPicPr>
          <p:blipFill>
            <a:blip r:embed="rId4"/>
            <a:stretch/>
          </p:blipFill>
          <p:spPr>
            <a:xfrm>
              <a:off x="4029120" y="1644480"/>
              <a:ext cx="1523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4"/>
            <p:cNvSpPr/>
            <p:nvPr/>
          </p:nvSpPr>
          <p:spPr>
            <a:xfrm>
              <a:off x="4168440" y="1698840"/>
              <a:ext cx="1081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egoe"/>
                  <a:ea typeface="Arial"/>
                </a:rPr>
                <a:t>2008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5"/>
          <p:cNvSpPr/>
          <p:nvPr/>
        </p:nvSpPr>
        <p:spPr>
          <a:xfrm>
            <a:off x="67680" y="-49320"/>
            <a:ext cx="70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Segoe"/>
                <a:ea typeface="Arial"/>
              </a:rPr>
              <a:t>Compute Cluster Solution Roa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17"/>
          <p:cNvCxnSpPr/>
          <p:nvPr/>
        </p:nvCxnSpPr>
        <p:spPr>
          <a:xfrm flipH="1" rot="16200000">
            <a:off x="1760400" y="3589920"/>
            <a:ext cx="246960" cy="461160"/>
          </a:xfrm>
          <a:prstGeom prst="bentConnector2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24" name="AutoShape 18"/>
          <p:cNvCxnSpPr>
            <a:stCxn id="118" idx="2"/>
          </p:cNvCxnSpPr>
          <p:nvPr/>
        </p:nvCxnSpPr>
        <p:spPr>
          <a:xfrm flipH="1" rot="16200000">
            <a:off x="3376440" y="2772360"/>
            <a:ext cx="253080" cy="384840"/>
          </a:xfrm>
          <a:prstGeom prst="bentConnector2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25" name="AutoShape 19"/>
          <p:cNvCxnSpPr>
            <a:stCxn id="121" idx="2"/>
          </p:cNvCxnSpPr>
          <p:nvPr/>
        </p:nvCxnSpPr>
        <p:spPr>
          <a:xfrm flipH="1" rot="16200000">
            <a:off x="4679280" y="2156400"/>
            <a:ext cx="219600" cy="157680"/>
          </a:xfrm>
          <a:prstGeom prst="bentConnector2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126" name="Text Box 20"/>
          <p:cNvSpPr/>
          <p:nvPr/>
        </p:nvSpPr>
        <p:spPr>
          <a:xfrm>
            <a:off x="2732040" y="3611520"/>
            <a:ext cx="50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5f19"/>
              </a:buClr>
              <a:buSzPct val="85000"/>
              <a:buFont typeface="Arial Narrow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"/>
                <a:ea typeface="Arial"/>
              </a:rPr>
              <a:t>Q1 2007: Windows CCS S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15f19"/>
              </a:buClr>
              <a:buSzPct val="85000"/>
              <a:buFont typeface="Arial Narrow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"/>
                <a:ea typeface="Arial"/>
              </a:rPr>
              <a:t>Coincides with Windows 2003 Server S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1589040" y="4519440"/>
            <a:ext cx="58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5f19"/>
              </a:buClr>
              <a:buSzPct val="85000"/>
              <a:buFont typeface="Arial Narrow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"/>
                <a:ea typeface="Arial"/>
              </a:rPr>
              <a:t>Released: August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2"/>
          <p:cNvGrpSpPr/>
          <p:nvPr/>
        </p:nvGrpSpPr>
        <p:grpSpPr>
          <a:xfrm>
            <a:off x="7854840" y="60480"/>
            <a:ext cx="1152720" cy="916920"/>
            <a:chOff x="7854840" y="60480"/>
            <a:chExt cx="1152720" cy="916920"/>
          </a:xfrm>
        </p:grpSpPr>
        <p:pic>
          <p:nvPicPr>
            <p:cNvPr id="129" name="Picture 23" descr="gray-disc"/>
            <p:cNvPicPr/>
            <p:nvPr/>
          </p:nvPicPr>
          <p:blipFill>
            <a:blip r:embed="rId5"/>
            <a:stretch/>
          </p:blipFill>
          <p:spPr>
            <a:xfrm>
              <a:off x="7854840" y="245880"/>
              <a:ext cx="115272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4" descr="blue 3d disc with glow"/>
            <p:cNvPicPr/>
            <p:nvPr/>
          </p:nvPicPr>
          <p:blipFill>
            <a:blip r:embed="rId6"/>
            <a:stretch/>
          </p:blipFill>
          <p:spPr>
            <a:xfrm>
              <a:off x="8475120" y="295920"/>
              <a:ext cx="3718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5" descr="Host Integration Server (HIS) sm"/>
            <p:cNvPicPr/>
            <p:nvPr/>
          </p:nvPicPr>
          <p:blipFill>
            <a:blip r:embed="rId7"/>
            <a:stretch/>
          </p:blipFill>
          <p:spPr>
            <a:xfrm>
              <a:off x="8532720" y="60480"/>
              <a:ext cx="259920" cy="45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26"/>
            <p:cNvGrpSpPr/>
            <p:nvPr/>
          </p:nvGrpSpPr>
          <p:grpSpPr>
            <a:xfrm>
              <a:off x="8017560" y="192600"/>
              <a:ext cx="204120" cy="255960"/>
              <a:chOff x="8017560" y="192600"/>
              <a:chExt cx="204120" cy="255960"/>
            </a:xfrm>
          </p:grpSpPr>
          <p:pic>
            <p:nvPicPr>
              <p:cNvPr id="133" name="Picture 27" descr="blue 3d disc with glow"/>
              <p:cNvPicPr/>
              <p:nvPr/>
            </p:nvPicPr>
            <p:blipFill>
              <a:blip r:embed="rId8"/>
              <a:stretch/>
            </p:blipFill>
            <p:spPr>
              <a:xfrm>
                <a:off x="8017560" y="290520"/>
                <a:ext cx="204120" cy="15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28" descr="Server sm"/>
              <p:cNvPicPr/>
              <p:nvPr/>
            </p:nvPicPr>
            <p:blipFill>
              <a:blip r:embed="rId9"/>
              <a:stretch/>
            </p:blipFill>
            <p:spPr>
              <a:xfrm>
                <a:off x="8061480" y="192600"/>
                <a:ext cx="120240" cy="21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oup 29"/>
            <p:cNvGrpSpPr/>
            <p:nvPr/>
          </p:nvGrpSpPr>
          <p:grpSpPr>
            <a:xfrm>
              <a:off x="8199360" y="211320"/>
              <a:ext cx="204120" cy="255960"/>
              <a:chOff x="8199360" y="211320"/>
              <a:chExt cx="204120" cy="255960"/>
            </a:xfrm>
          </p:grpSpPr>
          <p:pic>
            <p:nvPicPr>
              <p:cNvPr id="136" name="Picture 30" descr="blue 3d disc with glow"/>
              <p:cNvPicPr/>
              <p:nvPr/>
            </p:nvPicPr>
            <p:blipFill>
              <a:blip r:embed="rId10"/>
              <a:stretch/>
            </p:blipFill>
            <p:spPr>
              <a:xfrm>
                <a:off x="8199360" y="308880"/>
                <a:ext cx="204120" cy="1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31" descr="Server sm"/>
              <p:cNvPicPr/>
              <p:nvPr/>
            </p:nvPicPr>
            <p:blipFill>
              <a:blip r:embed="rId11"/>
              <a:stretch/>
            </p:blipFill>
            <p:spPr>
              <a:xfrm>
                <a:off x="8247240" y="211320"/>
                <a:ext cx="120240" cy="21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" name="Group 32"/>
            <p:cNvGrpSpPr/>
            <p:nvPr/>
          </p:nvGrpSpPr>
          <p:grpSpPr>
            <a:xfrm>
              <a:off x="8268120" y="397080"/>
              <a:ext cx="204120" cy="259920"/>
              <a:chOff x="8268120" y="397080"/>
              <a:chExt cx="204120" cy="259920"/>
            </a:xfrm>
          </p:grpSpPr>
          <p:pic>
            <p:nvPicPr>
              <p:cNvPr id="139" name="Picture 33" descr="blue 3d disc with glow"/>
              <p:cNvPicPr/>
              <p:nvPr/>
            </p:nvPicPr>
            <p:blipFill>
              <a:blip r:embed="rId12"/>
              <a:stretch/>
            </p:blipFill>
            <p:spPr>
              <a:xfrm>
                <a:off x="8268120" y="498600"/>
                <a:ext cx="204120" cy="1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34" descr="Server sm"/>
              <p:cNvPicPr/>
              <p:nvPr/>
            </p:nvPicPr>
            <p:blipFill>
              <a:blip r:embed="rId13"/>
              <a:stretch/>
            </p:blipFill>
            <p:spPr>
              <a:xfrm>
                <a:off x="8311680" y="397080"/>
                <a:ext cx="120240" cy="21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35"/>
            <p:cNvGrpSpPr/>
            <p:nvPr/>
          </p:nvGrpSpPr>
          <p:grpSpPr>
            <a:xfrm>
              <a:off x="8078760" y="342720"/>
              <a:ext cx="203040" cy="260280"/>
              <a:chOff x="8078760" y="342720"/>
              <a:chExt cx="203040" cy="260280"/>
            </a:xfrm>
          </p:grpSpPr>
          <p:pic>
            <p:nvPicPr>
              <p:cNvPr id="142" name="Picture 36" descr="blue 3d disc with glow"/>
              <p:cNvPicPr/>
              <p:nvPr/>
            </p:nvPicPr>
            <p:blipFill>
              <a:blip r:embed="rId14"/>
              <a:stretch/>
            </p:blipFill>
            <p:spPr>
              <a:xfrm>
                <a:off x="8078760" y="444600"/>
                <a:ext cx="203040" cy="1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37" descr="Server sm"/>
              <p:cNvPicPr/>
              <p:nvPr/>
            </p:nvPicPr>
            <p:blipFill>
              <a:blip r:embed="rId15"/>
              <a:stretch/>
            </p:blipFill>
            <p:spPr>
              <a:xfrm>
                <a:off x="8122320" y="342720"/>
                <a:ext cx="119520" cy="21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Text Box 38"/>
          <p:cNvSpPr/>
          <p:nvPr/>
        </p:nvSpPr>
        <p:spPr>
          <a:xfrm>
            <a:off x="4181400" y="2505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5f19"/>
              </a:buClr>
              <a:buSzPct val="85000"/>
              <a:buFont typeface="Arial Narrow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"/>
                <a:ea typeface="Arial"/>
              </a:rPr>
              <a:t>Longhorn-based V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228600" y="6629400"/>
            <a:ext cx="83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4EDF-CA64-45A3-8843-935E8BE65D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t Benchmarks – s1, s2, s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57760" y="6245280"/>
            <a:ext cx="48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Benchmark Configuration:  HP Cluster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Picture1"/>
          <p:cNvPicPr/>
          <p:nvPr/>
        </p:nvPicPr>
        <p:blipFill>
          <a:blip r:embed="rId1"/>
          <a:stretch/>
        </p:blipFill>
        <p:spPr>
          <a:xfrm>
            <a:off x="380880" y="1243080"/>
            <a:ext cx="838224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2"/>
          <p:cNvSpPr/>
          <p:nvPr/>
        </p:nvSpPr>
        <p:spPr>
          <a:xfrm>
            <a:off x="228600" y="6629400"/>
            <a:ext cx="83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1CAC-E871-426F-AA49-0A72D6D3A9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 InfiniBand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3886200" y="3710160"/>
            <a:ext cx="1011240" cy="1143000"/>
            <a:chOff x="3886200" y="3710160"/>
            <a:chExt cx="1011240" cy="1143000"/>
          </a:xfrm>
        </p:grpSpPr>
        <p:sp>
          <p:nvSpPr>
            <p:cNvPr id="152" name="Rectangle 4"/>
            <p:cNvSpPr/>
            <p:nvPr/>
          </p:nvSpPr>
          <p:spPr>
            <a:xfrm>
              <a:off x="3886200" y="4243680"/>
              <a:ext cx="1011240" cy="60948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aba96"/>
                </a:gs>
                <a:gs pos="100000">
                  <a:srgbClr val="f67e3c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3886200" y="3710160"/>
              <a:ext cx="1011240" cy="4921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9c4f0"/>
                </a:gs>
                <a:gs pos="100000">
                  <a:srgbClr val="5e91e4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Line 6"/>
          <p:cNvSpPr/>
          <p:nvPr/>
        </p:nvSpPr>
        <p:spPr>
          <a:xfrm>
            <a:off x="727200" y="3641760"/>
            <a:ext cx="4911480" cy="0"/>
          </a:xfrm>
          <a:prstGeom prst="line">
            <a:avLst/>
          </a:prstGeom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5638680" y="3633840"/>
            <a:ext cx="0" cy="1895400"/>
          </a:xfrm>
          <a:prstGeom prst="line">
            <a:avLst/>
          </a:prstGeom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2895480" y="2338560"/>
            <a:ext cx="914040" cy="2514600"/>
            <a:chOff x="2895480" y="2338560"/>
            <a:chExt cx="914040" cy="2514600"/>
          </a:xfrm>
        </p:grpSpPr>
        <p:sp>
          <p:nvSpPr>
            <p:cNvPr id="157" name="Rectangle 9"/>
            <p:cNvSpPr/>
            <p:nvPr/>
          </p:nvSpPr>
          <p:spPr>
            <a:xfrm>
              <a:off x="2895480" y="3710160"/>
              <a:ext cx="914040" cy="114300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aba96"/>
                </a:gs>
                <a:gs pos="100000">
                  <a:srgbClr val="f67e3c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DP*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900160" y="2338560"/>
              <a:ext cx="899640" cy="121788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aba96"/>
                </a:gs>
                <a:gs pos="100000">
                  <a:srgbClr val="f67e3c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D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I*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1"/>
          <p:cNvSpPr/>
          <p:nvPr/>
        </p:nvSpPr>
        <p:spPr>
          <a:xfrm>
            <a:off x="914400" y="1195560"/>
            <a:ext cx="5486400" cy="323640"/>
          </a:xfrm>
          <a:prstGeom prst="rect">
            <a:avLst/>
          </a:prstGeom>
          <a:gradFill rotWithShape="0">
            <a:gsLst>
              <a:gs pos="0">
                <a:srgbClr val="66cc66"/>
              </a:gs>
              <a:gs pos="50000">
                <a:srgbClr val="ade4ad"/>
              </a:gs>
              <a:gs pos="100000">
                <a:srgbClr val="66cc66"/>
              </a:gs>
            </a:gsLst>
            <a:lin ang="27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 rot="16200000">
            <a:off x="479160" y="2149200"/>
            <a:ext cx="550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 rot="16200000">
            <a:off x="406080" y="4609080"/>
            <a:ext cx="696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Kern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4"/>
          <p:cNvGrpSpPr/>
          <p:nvPr/>
        </p:nvGrpSpPr>
        <p:grpSpPr>
          <a:xfrm>
            <a:off x="6983280" y="3608280"/>
            <a:ext cx="1473120" cy="2463480"/>
            <a:chOff x="6983280" y="3608280"/>
            <a:chExt cx="1473120" cy="2463480"/>
          </a:xfrm>
        </p:grpSpPr>
        <p:grpSp>
          <p:nvGrpSpPr>
            <p:cNvPr id="163" name="Group 15"/>
            <p:cNvGrpSpPr/>
            <p:nvPr/>
          </p:nvGrpSpPr>
          <p:grpSpPr>
            <a:xfrm>
              <a:off x="6983280" y="3608280"/>
              <a:ext cx="1473120" cy="1458720"/>
              <a:chOff x="6983280" y="3608280"/>
              <a:chExt cx="1473120" cy="1458720"/>
            </a:xfrm>
          </p:grpSpPr>
          <p:sp>
            <p:nvSpPr>
              <p:cNvPr id="164" name="AutoShape 16"/>
              <p:cNvSpPr/>
              <p:nvPr/>
            </p:nvSpPr>
            <p:spPr>
              <a:xfrm>
                <a:off x="6983280" y="3608280"/>
                <a:ext cx="1473120" cy="1458720"/>
              </a:xfrm>
              <a:prstGeom prst="roundRect">
                <a:avLst>
                  <a:gd name="adj" fmla="val 8972"/>
                </a:avLst>
              </a:prstGeom>
              <a:solidFill>
                <a:srgbClr val="808080">
                  <a:alpha val="20000"/>
                </a:srgbClr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7"/>
              <p:cNvSpPr/>
              <p:nvPr/>
            </p:nvSpPr>
            <p:spPr>
              <a:xfrm>
                <a:off x="7054560" y="3679560"/>
                <a:ext cx="226440" cy="222120"/>
              </a:xfrm>
              <a:prstGeom prst="rect">
                <a:avLst/>
              </a:prstGeom>
              <a:gradFill rotWithShape="0">
                <a:gsLst>
                  <a:gs pos="0">
                    <a:srgbClr val="66cc66"/>
                  </a:gs>
                  <a:gs pos="50000">
                    <a:srgbClr val="ade4ad"/>
                  </a:gs>
                  <a:gs pos="100000">
                    <a:srgbClr val="66cc66"/>
                  </a:gs>
                </a:gsLst>
                <a:lin ang="27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8"/>
              <p:cNvSpPr/>
              <p:nvPr/>
            </p:nvSpPr>
            <p:spPr>
              <a:xfrm>
                <a:off x="7054560" y="4424040"/>
                <a:ext cx="226440" cy="21276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aba96"/>
                  </a:gs>
                  <a:gs pos="100000">
                    <a:srgbClr val="f67e3c"/>
                  </a:gs>
                </a:gsLst>
                <a:lin ang="27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9"/>
              <p:cNvSpPr/>
              <p:nvPr/>
            </p:nvSpPr>
            <p:spPr>
              <a:xfrm>
                <a:off x="7054560" y="4787640"/>
                <a:ext cx="226440" cy="216000"/>
              </a:xfrm>
              <a:prstGeom prst="rect">
                <a:avLst/>
              </a:prstGeom>
              <a:gradFill rotWithShape="0">
                <a:gsLst>
                  <a:gs pos="0">
                    <a:srgbClr val="ffb601"/>
                  </a:gs>
                  <a:gs pos="50000">
                    <a:srgbClr val="ffd877"/>
                  </a:gs>
                  <a:gs pos="100000">
                    <a:srgbClr val="ffb601"/>
                  </a:gs>
                </a:gsLst>
                <a:lin ang="27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20"/>
              <p:cNvSpPr/>
              <p:nvPr/>
            </p:nvSpPr>
            <p:spPr>
              <a:xfrm>
                <a:off x="7272000" y="4033440"/>
                <a:ext cx="90756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ndow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21"/>
              <p:cNvSpPr/>
              <p:nvPr/>
            </p:nvSpPr>
            <p:spPr>
              <a:xfrm>
                <a:off x="7273080" y="3670200"/>
                <a:ext cx="1172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plicati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22"/>
              <p:cNvSpPr/>
              <p:nvPr/>
            </p:nvSpPr>
            <p:spPr>
              <a:xfrm>
                <a:off x="7273080" y="4400280"/>
                <a:ext cx="11818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Window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23"/>
              <p:cNvSpPr/>
              <p:nvPr/>
            </p:nvSpPr>
            <p:spPr>
              <a:xfrm>
                <a:off x="7270560" y="4765320"/>
                <a:ext cx="9349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rdwar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24"/>
              <p:cNvSpPr/>
              <p:nvPr/>
            </p:nvSpPr>
            <p:spPr>
              <a:xfrm>
                <a:off x="7054560" y="4052520"/>
                <a:ext cx="226440" cy="220680"/>
              </a:xfrm>
              <a:prstGeom prst="rect">
                <a:avLst/>
              </a:prstGeom>
              <a:gradFill rotWithShape="0">
                <a:gsLst>
                  <a:gs pos="0">
                    <a:srgbClr val="5e91e4"/>
                  </a:gs>
                  <a:gs pos="50000">
                    <a:srgbClr val="a9c4f0"/>
                  </a:gs>
                  <a:gs pos="100000">
                    <a:srgbClr val="5e91e4"/>
                  </a:gs>
                </a:gsLst>
                <a:lin ang="27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Rectangle 25"/>
            <p:cNvSpPr/>
            <p:nvPr/>
          </p:nvSpPr>
          <p:spPr>
            <a:xfrm>
              <a:off x="6983640" y="5370120"/>
              <a:ext cx="1445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Windows Compu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erver 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** Will be available 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26"/>
          <p:cNvSpPr/>
          <p:nvPr/>
        </p:nvSpPr>
        <p:spPr>
          <a:xfrm>
            <a:off x="3886200" y="2338560"/>
            <a:ext cx="1096920" cy="490320"/>
          </a:xfrm>
          <a:prstGeom prst="rect">
            <a:avLst/>
          </a:prstGeom>
          <a:gradFill rotWithShape="0">
            <a:gsLst>
              <a:gs pos="0">
                <a:srgbClr val="f67e3c"/>
              </a:gs>
              <a:gs pos="50000">
                <a:srgbClr val="faba96"/>
              </a:gs>
              <a:gs pos="100000">
                <a:srgbClr val="f67e3c"/>
              </a:gs>
            </a:gsLst>
            <a:lin ang="27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SD S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5059440" y="2338560"/>
            <a:ext cx="1341360" cy="493560"/>
          </a:xfrm>
          <a:prstGeom prst="rect">
            <a:avLst/>
          </a:prstGeom>
          <a:gradFill rotWithShape="0">
            <a:gsLst>
              <a:gs pos="0">
                <a:srgbClr val="f67e3c"/>
              </a:gs>
              <a:gs pos="50000">
                <a:srgbClr val="faba96"/>
              </a:gs>
              <a:gs pos="100000">
                <a:srgbClr val="f67e3c"/>
              </a:gs>
            </a:gsLst>
            <a:lin ang="27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8"/>
          <p:cNvGrpSpPr/>
          <p:nvPr/>
        </p:nvGrpSpPr>
        <p:grpSpPr>
          <a:xfrm>
            <a:off x="914400" y="2890800"/>
            <a:ext cx="5486400" cy="2952720"/>
            <a:chOff x="914400" y="2890800"/>
            <a:chExt cx="5486400" cy="2952720"/>
          </a:xfrm>
        </p:grpSpPr>
        <p:sp>
          <p:nvSpPr>
            <p:cNvPr id="177" name="Rectangle 29"/>
            <p:cNvSpPr/>
            <p:nvPr/>
          </p:nvSpPr>
          <p:spPr>
            <a:xfrm>
              <a:off x="914400" y="5578560"/>
              <a:ext cx="5486400" cy="264960"/>
            </a:xfrm>
            <a:prstGeom prst="rect">
              <a:avLst/>
            </a:prstGeom>
            <a:gradFill rotWithShape="0">
              <a:gsLst>
                <a:gs pos="0">
                  <a:srgbClr val="ffb601"/>
                </a:gs>
                <a:gs pos="50000">
                  <a:srgbClr val="ffd877"/>
                </a:gs>
                <a:gs pos="100000">
                  <a:srgbClr val="ffb601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CA Hard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30"/>
            <p:cNvGrpSpPr/>
            <p:nvPr/>
          </p:nvGrpSpPr>
          <p:grpSpPr>
            <a:xfrm>
              <a:off x="914400" y="4911480"/>
              <a:ext cx="4572000" cy="597240"/>
              <a:chOff x="914400" y="4911480"/>
              <a:chExt cx="4572000" cy="597240"/>
            </a:xfrm>
          </p:grpSpPr>
          <p:sp>
            <p:nvSpPr>
              <p:cNvPr id="179" name="Rectangle 31"/>
              <p:cNvSpPr/>
              <p:nvPr/>
            </p:nvSpPr>
            <p:spPr>
              <a:xfrm>
                <a:off x="914400" y="4911480"/>
                <a:ext cx="4570920" cy="26424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aba96"/>
                  </a:gs>
                  <a:gs pos="100000">
                    <a:srgbClr val="f67e3c"/>
                  </a:gs>
                </a:gsLst>
                <a:lin ang="27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ess Lay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32"/>
              <p:cNvSpPr/>
              <p:nvPr/>
            </p:nvSpPr>
            <p:spPr>
              <a:xfrm>
                <a:off x="914400" y="5244120"/>
                <a:ext cx="4572000" cy="26460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aba96"/>
                  </a:gs>
                  <a:gs pos="100000">
                    <a:srgbClr val="f67e3c"/>
                  </a:gs>
                </a:gsLst>
                <a:lin ang="27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bs Provider Dri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33"/>
            <p:cNvGrpSpPr/>
            <p:nvPr/>
          </p:nvGrpSpPr>
          <p:grpSpPr>
            <a:xfrm>
              <a:off x="3886200" y="2890800"/>
              <a:ext cx="2514240" cy="666720"/>
              <a:chOff x="3886200" y="2890800"/>
              <a:chExt cx="2514240" cy="666720"/>
            </a:xfrm>
          </p:grpSpPr>
          <p:sp>
            <p:nvSpPr>
              <p:cNvPr id="182" name="Rectangle 34"/>
              <p:cNvSpPr/>
              <p:nvPr/>
            </p:nvSpPr>
            <p:spPr>
              <a:xfrm>
                <a:off x="3888000" y="3270240"/>
                <a:ext cx="2512440" cy="28728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aba96"/>
                  </a:gs>
                  <a:gs pos="100000">
                    <a:srgbClr val="f67e3c"/>
                  </a:gs>
                </a:gsLst>
                <a:lin ang="27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bs Provider Libra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35"/>
              <p:cNvSpPr/>
              <p:nvPr/>
            </p:nvSpPr>
            <p:spPr>
              <a:xfrm>
                <a:off x="3886200" y="2890800"/>
                <a:ext cx="2514240" cy="28728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aba96"/>
                  </a:gs>
                  <a:gs pos="100000">
                    <a:srgbClr val="f67e3c"/>
                  </a:gs>
                </a:gsLst>
                <a:lin ang="27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ess Layer Libra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36"/>
            <p:cNvGrpSpPr/>
            <p:nvPr/>
          </p:nvGrpSpPr>
          <p:grpSpPr>
            <a:xfrm>
              <a:off x="5241960" y="3560760"/>
              <a:ext cx="881280" cy="1973160"/>
              <a:chOff x="5241960" y="3560760"/>
              <a:chExt cx="881280" cy="1973160"/>
            </a:xfrm>
          </p:grpSpPr>
          <p:grpSp>
            <p:nvGrpSpPr>
              <p:cNvPr id="185" name="Group 37"/>
              <p:cNvGrpSpPr/>
              <p:nvPr/>
            </p:nvGrpSpPr>
            <p:grpSpPr>
              <a:xfrm>
                <a:off x="5832720" y="3560760"/>
                <a:ext cx="290520" cy="1973160"/>
                <a:chOff x="5832720" y="3560760"/>
                <a:chExt cx="290520" cy="1973160"/>
              </a:xfrm>
            </p:grpSpPr>
            <p:sp>
              <p:nvSpPr>
                <p:cNvPr id="186" name="Line 38"/>
                <p:cNvSpPr/>
                <p:nvPr/>
              </p:nvSpPr>
              <p:spPr>
                <a:xfrm>
                  <a:off x="6114240" y="3560760"/>
                  <a:ext cx="0" cy="197316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39"/>
                <p:cNvSpPr/>
                <p:nvPr/>
              </p:nvSpPr>
              <p:spPr>
                <a:xfrm rot="16200000">
                  <a:off x="5313960" y="4174560"/>
                  <a:ext cx="13280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ernel Bypas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0"/>
              <p:cNvSpPr/>
              <p:nvPr/>
            </p:nvSpPr>
            <p:spPr>
              <a:xfrm>
                <a:off x="5241960" y="3560760"/>
                <a:ext cx="0" cy="12920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1"/>
          <p:cNvGrpSpPr/>
          <p:nvPr/>
        </p:nvGrpSpPr>
        <p:grpSpPr>
          <a:xfrm>
            <a:off x="914400" y="1598760"/>
            <a:ext cx="4038480" cy="3254400"/>
            <a:chOff x="914400" y="1598760"/>
            <a:chExt cx="4038480" cy="3254400"/>
          </a:xfrm>
        </p:grpSpPr>
        <p:sp>
          <p:nvSpPr>
            <p:cNvPr id="190" name="Rectangle 42"/>
            <p:cNvSpPr/>
            <p:nvPr/>
          </p:nvSpPr>
          <p:spPr>
            <a:xfrm>
              <a:off x="914400" y="1933920"/>
              <a:ext cx="4038480" cy="32868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9c4f0"/>
                </a:gs>
                <a:gs pos="100000">
                  <a:srgbClr val="5e91e4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nsock Socket 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3"/>
            <p:cNvSpPr/>
            <p:nvPr/>
          </p:nvSpPr>
          <p:spPr>
            <a:xfrm>
              <a:off x="914400" y="2338560"/>
              <a:ext cx="1905120" cy="12193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9c4f0"/>
                </a:gs>
                <a:gs pos="100000">
                  <a:srgbClr val="5e91e4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nSo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4"/>
            <p:cNvSpPr/>
            <p:nvPr/>
          </p:nvSpPr>
          <p:spPr>
            <a:xfrm>
              <a:off x="3886200" y="1598760"/>
              <a:ext cx="914400" cy="28260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9c4f0"/>
                </a:gs>
                <a:gs pos="100000">
                  <a:srgbClr val="5e91e4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PI2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5"/>
            <p:cNvSpPr/>
            <p:nvPr/>
          </p:nvSpPr>
          <p:spPr>
            <a:xfrm>
              <a:off x="914400" y="4548600"/>
              <a:ext cx="914400" cy="30456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aba96"/>
                </a:gs>
                <a:gs pos="100000">
                  <a:srgbClr val="f67e3c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oI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6"/>
            <p:cNvSpPr/>
            <p:nvPr/>
          </p:nvSpPr>
          <p:spPr>
            <a:xfrm>
              <a:off x="914400" y="4243680"/>
              <a:ext cx="1905120" cy="2635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9c4f0"/>
                </a:gs>
                <a:gs pos="100000">
                  <a:srgbClr val="5e91e4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7"/>
            <p:cNvSpPr/>
            <p:nvPr/>
          </p:nvSpPr>
          <p:spPr>
            <a:xfrm>
              <a:off x="914400" y="3710160"/>
              <a:ext cx="1905120" cy="5065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9c4f0"/>
                </a:gs>
                <a:gs pos="100000">
                  <a:srgbClr val="5e91e4"/>
                </a:gs>
              </a:gsLst>
              <a:lin ang="27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/UDP/ICM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48"/>
          <p:cNvSpPr/>
          <p:nvPr/>
        </p:nvSpPr>
        <p:spPr>
          <a:xfrm>
            <a:off x="1905120" y="4548240"/>
            <a:ext cx="914400" cy="304920"/>
          </a:xfrm>
          <a:prstGeom prst="rect">
            <a:avLst/>
          </a:prstGeom>
          <a:gradFill rotWithShape="0">
            <a:gsLst>
              <a:gs pos="0">
                <a:srgbClr val="f67e3c"/>
              </a:gs>
              <a:gs pos="50000">
                <a:srgbClr val="faba96"/>
              </a:gs>
              <a:gs pos="100000">
                <a:srgbClr val="f67e3c"/>
              </a:gs>
            </a:gsLst>
            <a:lin ang="27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NIC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Compute Cluster Server 2003 removes administrative barriers preventing broad adoption of HPC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ar environment and integration with standar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t job schedu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debugging capabilities and full support of MPI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Compute Cluster Server 2003 makes HPC accessible to all scientists, engineers, and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135080"/>
            <a:ext cx="841068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HPC Web 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238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microsoft.com/hpc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s Server x64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238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microsoft.com/64bi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238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microsoft.com/x64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s Server System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238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microsoft.com/ws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the Facts Web 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2383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microsoft.com/getthe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5 Microsoft Corporatio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Microsoft logo and tagline"/>
          <p:cNvPicPr/>
          <p:nvPr/>
        </p:nvPicPr>
        <p:blipFill>
          <a:blip r:embed="rId1">
            <a:lum bright="-100000"/>
          </a:blip>
          <a:stretch/>
        </p:blipFill>
        <p:spPr>
          <a:xfrm>
            <a:off x="1916280" y="2639880"/>
            <a:ext cx="4979880" cy="107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10:45:11Z</dcterms:created>
  <dc:creator>Peter Meister</dc:creator>
  <dc:description>Copyright - 1995-2005 - Microsoft Corporation - All rights reserved</dc:description>
  <cp:keywords>Windows High-Performance Computing; Windows Compute Cluster Server 2003; HPC; CCS</cp:keywords>
  <dc:language>en-US</dc:language>
  <cp:lastModifiedBy>shawnha</cp:lastModifiedBy>
  <dcterms:modified xsi:type="dcterms:W3CDTF">2006-11-20T17:42:04Z</dcterms:modified>
  <cp:revision>129</cp:revision>
  <dc:subject>Windows Compute Cluster Server 2003 - BDM Deck</dc:subject>
  <dc:title>Windows Compute Cluster Server 2003 - BDM Deck</dc:title>
</cp:coreProperties>
</file>