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6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8799480"/>
            <a:ext cx="665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929200" y="8679960"/>
            <a:ext cx="812880" cy="287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8AD3888-927B-4877-8106-CFA50BC5F75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929200" y="8679960"/>
            <a:ext cx="812880" cy="287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06BB7BD-BBCE-42FC-A103-24F9523F55D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9720" y="435996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460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0948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3972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460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0948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39360" y="1312920"/>
            <a:ext cx="3551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880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39720" y="435996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880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460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0948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3972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460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0948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39360" y="1312920"/>
            <a:ext cx="3551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0880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39720" y="435996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0880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2460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0948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3972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2460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0948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9360" y="1312920"/>
            <a:ext cx="3551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880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40200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OFA Open MP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236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2509872-CC41-4C22-8028-770747A35F1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200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OFA Open MP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218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1DD9F53-AFEC-461A-93AA-963069795BA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3440" y="1630440"/>
            <a:ext cx="45705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2040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7DC6059-53FD-4347-9881-19BD4897DA5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en MPI Progr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Jeff Squyres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ommunity member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97360" cy="4238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 algn="ctr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ademia /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ia National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Alamos National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University of Dres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Hou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Tennes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9080" y="1781280"/>
            <a:ext cx="38973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Myr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Q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cademic / research involvem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54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influence the project in research-driven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contribute code / engineering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ccess to large testing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eding edge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approaches, new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sue directions that vendors do not have resource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s directly into vendor produc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Dramatically] Shorten the time between research and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Vendor involvem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54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influence the project in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riven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contribute code / engineer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s provide large influx of QA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vendor-specific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1.2 contains lots of little fixes as a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in-house expertise to support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urrent statu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1.1.2 is current 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1.1.3 expected “soon” (bug fix release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1.2 expected Q1’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B vendors involved in development an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al need to discuss specific featur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 on scalability, stability, reliability, repea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s strong vendor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fully in time for OFED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Distributed automated tes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ghtly regression testing at member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testing ha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and maintained by Cisco, Sun, Indian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d tracking of al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mendous improvement in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managers rely on thi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MPI wish lis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tem: cheap memory register / de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rue hardware-provided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complicated pipelin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h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emory registration is cheap enough, moot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re-register without de-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ibverbs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9144000" cy="3144960"/>
            <a:chOff x="0" y="0"/>
            <a:chExt cx="9144000" cy="314496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3581280" y="0"/>
              <a:ext cx="5562720" cy="31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3575160" cy="3124080"/>
            </a:xfrm>
            <a:prstGeom prst="rect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29415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9:51:02Z</dcterms:created>
  <dc:creator>Cisco Systems, Inc.</dc:creator>
  <dc:description/>
  <cp:keywords/>
  <dc:language>en-US</dc:language>
  <cp:lastModifiedBy>Jeff Squyres</cp:lastModifiedBy>
  <cp:lastPrinted>1999-01-27T00:54:54Z</cp:lastPrinted>
  <dcterms:modified xsi:type="dcterms:W3CDTF">2006-11-17T15:37:44Z</dcterms:modified>
  <cp:revision>29</cp:revision>
  <dc:subject>Guide for Creating Powerpoint Presentations</dc:subject>
  <dc:title>Presentation Title Size 30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