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272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8928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7616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272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48928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762012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8272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8928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67616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8272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48928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762012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AC1C-1034-49E9-BCDF-608AB55146E3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1662120" cy="612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uDAPL statu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kady Kanev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pp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 2.0 spec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 is basically ready for ra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rs compiled and synchronized with OFA headers (minor sync lef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WARP extensions headers need to be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document for users to help with application transition to uDAPL 2.0 since it is not backward source compa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PL 2.0 spec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Connec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 extensions including load-bal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 and iWARP extension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: RDMA Write with Immediate &amp;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WARP: Socket connec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PL core extension support: event 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Descriptor CNO and EVD exten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PL 2.0 spec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ining iWARP and IB verbs extens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with invali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address type for LMR and RMR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R scope (single vs all conne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Read to locally specified RM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s ad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er changes for perf &amp;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er completion event additions: operation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MR &amp; RMR triplet formats aligned with O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MR_handle for RMR_bind as well as LMR_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, signal, blocking and exception handler safety function cla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30 errata cl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_reject private_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rnel features not exposed in uDAP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-based virtual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M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MR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memory &amp; Reserved LM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bout DAT 2.0 in OF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to uDAPL maintainers: Arlin and J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do placeholders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rue implementation verbs are needed to be done first (IBTA 1.2 extension &amp; iWAR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ize the feature lis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NetApp</cp:lastModifiedBy>
  <dcterms:modified xsi:type="dcterms:W3CDTF">2006-11-17T18:14:10Z</dcterms:modified>
  <cp:revision>48</cp:revision>
  <dc:subject/>
  <dc:title>Slide 1</dc:title>
</cp:coreProperties>
</file>