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3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19C52-4FA7-489C-9D3F-C6E73971FFE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A1AFA-14D1-4727-B85F-2F55DCCC6A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8C540-62A5-4EF6-8F66-A17BA8EED41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about how Netstat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06EE0-63F1-4BC1-B9FC-7A7EF619C7C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45BEB-C1E7-45FB-88E9-128E25D26C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AB6-FE20-42B6-AF04-875BD8B3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125-EE47-47CD-8BF8-345556D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3EEF91-FA1C-4815-B1CC-40E7817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B3E77-DB54-46F1-9A87-24DC9909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F8EAE-5274-4CB9-9A9D-75923B50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5C4E7-FA8B-4FDC-8C5F-D4AA1A2B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4AE574-E937-49DA-9A06-4961393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CFAF7-AC5F-4084-B6B6-EB973F4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9415C-7F66-4C61-BB5D-48B649A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58C28-919C-435C-8722-966C6981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0E04B-6D9D-46F5-B10B-F019795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E990F-ED8C-48F8-A09C-471A5028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E3C-C98D-49D1-AD26-A5764843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681D74-90B2-4D94-BE35-D515ADDE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580BF-C197-4C26-85B2-19A8F35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5EF7DD-4CCC-487C-B6FE-8011ECFD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60BEF-1936-43BA-997D-C3D8EBC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91FFD2-ABE1-44F5-994B-5F1A165F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513475-5C25-4474-B8F6-BD22046E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347B5-789D-45BF-A610-AE34EA79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D0256-D2ED-4535-9471-3DD7456E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34FF09-A2B1-4964-98E0-5B74F33B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B5B2B8-6287-411E-A8C7-EF5A4EF1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3DD-3F83-4920-BEBC-2AEA87DE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9C210-1383-485A-A071-CB09C066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90590-8C3F-4A66-8129-434B3033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CC6598-233E-494D-A103-AE1EDDA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3962DA-F8F5-402A-9A5A-C6767C0F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46EB80-8229-4B88-B4DC-FA5BF092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C627A7-B999-4892-8ADC-B461BFC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C5CC79-BB5B-4B3B-893F-7AE6EFAA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87CB41-04AA-4FE2-A878-0069FBC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532515-5F99-4382-ADBE-28D12AA7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51CA55-8C7D-4305-90C8-ABDC094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B9EF0-3D43-41AB-BB7F-8D910F2A1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AC2FF2-EA40-41CF-808D-9A07E41D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608937-4443-4080-94ED-3517B1E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AA3ECA-C195-4C96-A620-63DD45B4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D23D1-B4B5-461C-BF6E-4AAE467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6E277-E89E-455B-A85D-F9D58A7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BF123-04E1-4250-940F-E16DBE8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CBA74-6811-4CE7-B4A5-4887CCE4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B7EBF-7359-4E29-8CD7-30D6F923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2FEB-D090-457C-945B-6E8009E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7AF-6EB2-4BEF-A0A0-782EC0B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93B9-B62B-4219-BF92-974D252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B2AD0-5A0D-4713-AF15-26BD2D91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E2D56-282E-4521-B47E-1C591E9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7595-297B-482B-B48A-1BC56C4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12E5-DA43-4F51-BFC3-88FBE112C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8189A-A4EA-49C4-9000-2CC29755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04FB0-C7E3-4DAF-B7A0-7FC4B4E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35F1F-ABD6-4DF8-850F-8905DB4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A8B38-F5EA-41BA-8EA9-25760022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AF645-F8D8-4778-B743-F9A0310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4A1-6CD4-41AF-B2D3-A7C9C0D4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5BA46-1F5B-4FD4-8903-C7E72B7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A33E2-F179-4684-AD9B-3AC0E4B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02389-12DF-48ED-B8CB-AC3460EF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34381-2B72-4AE6-8887-17D9112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1AD68-A751-4D47-92A9-78B2DC5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04FEB-EE7B-4BC3-A387-E505A76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435ED-2A6D-4974-A4E2-20FF8BA8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9A3BC-8EB3-4E04-BB5B-77DC7DAA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0C72A-3E38-4D89-97A1-9E25103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7450A-802D-4A8C-B7E9-46F65ED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2EB-F0AC-4A16-9D58-E2660AB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45C66-F8FA-42C8-884C-7E3A2FA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C553D-DC77-4004-80D9-E1282D75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0FA4F-BB3B-447A-AC0E-474A6F8A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5CB08-6DF0-4412-AB12-6B141BD9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E43E5-6CA7-4F0D-85EC-12A5DCF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6DF5D-1EBB-4157-92A4-8146A0C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A44F9-B95F-4D25-9D2F-F7FED70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316E1-39AD-4C14-826D-764E7EB9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3642E-9C86-4B85-B289-2F5D4432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23DC1-D11F-4154-B54F-613EAC48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2E7-8C7A-43A9-A371-65EB4A6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6DB2C-F9B2-4F68-B4A5-3B63A1B5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60224-1026-402C-8BA6-2E0EB402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79FBB-ECFD-44A9-9782-70A4C04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76022-D560-4D25-B38C-1E83497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71A5F-0435-4219-972E-15381C7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16CC5-FA42-49C0-9847-924DF61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33865-D33B-4920-A6DF-306A5DC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C9B2D-AF1E-4583-A734-CC6A512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1CC69-4451-4E3E-995A-90D02C77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098F7-28E9-4AE4-A1AF-2BD74AF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B91-EB82-45B9-AE0F-1C2F968B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CD194-705D-4DE0-9C2C-11123453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BE719-7F23-4184-BF4D-F4FAB660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8432E-1874-4CE2-8FA4-89B28961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E9D85-A868-4508-915E-FAEF147F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BF1F9-7E2F-44AF-9C88-70524F59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FAAB7-16F2-4C13-B3C8-F5EF4F1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42D1C-D701-477E-A83B-7C0E5A79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B4A75-EDFF-4D10-93C5-EF65CFD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4616D-755F-42E4-BFF4-006B9C3E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8CE37-C996-401F-9140-250FFBA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52C-0AEA-4976-9AF1-100B880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E3213-A4DE-4164-8FE2-02AB5D91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FA21F-5A8E-4E35-93E0-600A4E24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354E9-8E3A-4A66-8B9F-C30876DB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99C73-EE9C-4633-AD1E-7866A867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5DF4E-60BE-4EB1-A571-E9D4EF1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0DB3E-A7B3-4FD9-9D1C-15397440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B3FD0-B736-4A17-8B57-1986017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C786E-4ABE-43DA-8486-29F9DA03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3C129-F561-4392-9E8F-302873F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2122F-BFEA-4181-9917-5559837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745-F81B-4B2E-A35E-82AE046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19894-F6B6-46DE-8998-738A13F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FC440-D71E-4717-A469-7F5581F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C0D91-E797-4B6D-91EF-0753C640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3488F-97C0-48D1-A5CF-011B8B73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1107E-575A-43B0-8A1B-03D99632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FEC04-16C5-495B-A104-52DB7242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28F3F-7EB8-45B3-8BFD-45EBCA69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A48A2-DC07-4773-BDE1-2CC7E312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172AB-8A8D-4739-AD0B-68B7CC84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EBB6C-91CE-4912-AAAE-F41C3917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968-6AC1-4B30-8D00-0E8B5136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064E0-0D25-45CA-AB80-99AC638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50E3C-BE43-4FBC-B703-78041442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FB2DB-01C5-495A-B831-09D8152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65B8A-D47E-4749-8D57-7B9A6129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31EA8-3DCC-4D13-96D7-5C47700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56360-FD3D-4F35-9631-16514607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48C89-4FFF-402F-89B6-6FCA7C77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A7295E-B643-4424-B398-55FA19C9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7A5050-0DBC-4082-B108-D4B63E88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6087C-7841-47CB-A77A-3DE5AC1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84BEB7-3648-4147-8B08-BAF42A6A64C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59175B-0B15-46B9-AE63-FA8B116E4BF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1223AC-7841-4F8C-BD4C-9119D071F83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3568680" y="4898880"/>
            <a:ext cx="1994040" cy="1525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871640" y="541440"/>
            <a:ext cx="5186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9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133200" y="1191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0" descr=""/>
          <p:cNvPicPr/>
          <p:nvPr/>
        </p:nvPicPr>
        <p:blipFill>
          <a:blip r:embed="rId4"/>
          <a:stretch/>
        </p:blipFill>
        <p:spPr>
          <a:xfrm>
            <a:off x="7286760" y="114480"/>
            <a:ext cx="1628640" cy="16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19D99B-5972-4A95-86E5-6B23462D8DB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55531B-72EE-49CF-99EF-B76E5BB6B0A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DAAA62-C25A-4120-9E3B-0843C9DCE4F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F6EB53-B4A9-4589-A0F2-73A36CAF8FD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21B4BB-AFC8-494D-A883-0CD50FC97A1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DD09AD-3EB7-4B8D-ACCC-39F5FDB315A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E49FFB-B6E0-4EDA-B50C-EB789FB364D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CE8878-6F93-43A0-B6DC-C2DC63D252E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03280" y="2141280"/>
            <a:ext cx="6499440" cy="1191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DP Update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859040" y="4000320"/>
            <a:ext cx="5392800" cy="136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Tsirkin, Eitan Zahav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FED 1.1 SDP Perf’ Stat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478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0us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960MBs/DDR 64k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W CPU bound and goes down linearly with Msg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gle in OFED does not help as ACKs arrive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gle = When to send = LEN&gt;MSS or all packets were A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rk: is a socket option that cancels the second criteria such that only len&gt;MSS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AC469D-7D70-49F9-A3A6-B2BB17F7D3D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FED 1.1 SDP Perf’ Stat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7840" y="16002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small Msg BW by new module parame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_pol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300MB/sec for ½KB Ms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ing the send completion by waiting for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ops polling on sender – thus send completion l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77B1C3-2F78-4865-9B1A-A73A3A14602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200320" y="3352680"/>
            <a:ext cx="4736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17280" y="395280"/>
            <a:ext cx="59943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Future Wor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daptiv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o tighten memory allocation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sted buffers reclaim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one side to reclaim posted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quire other side to NOP 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A0A6A0-D332-44C5-8AD6-69992037979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38160" y="395280"/>
            <a:ext cx="59738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Future Work (Cont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essage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messages waiting on sen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-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end-fil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to Send-Side-Zero-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fo on active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active connections, user, src/dst IP and ports in /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migrating AF_INET_SDP to PROTO_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s netstat 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00BABF-7DEE-45E7-9C5F-91C83AF00A9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38160" y="395280"/>
            <a:ext cx="59738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topic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lanox published Gen1 based ZCopy imple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P protocol limits BW improvements to &gt;4K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delayed as low ROI (complex imple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ms like Linux implementation is under ret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mail threads: “kevent: network AIO, socket notifica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ate and proposal for new API on OL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A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: A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FAA733-5FFB-46AB-A830-9578519C898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Hal Rosenstock, Eitan Zahavi</dc:creator>
  <dc:description/>
  <dc:language>en-US</dc:language>
  <cp:lastModifiedBy>Eitan Zahavi</cp:lastModifiedBy>
  <dcterms:modified xsi:type="dcterms:W3CDTF">2006-11-17T11:12:04Z</dcterms:modified>
  <cp:revision>1486</cp:revision>
  <dc:subject/>
  <dc:title>OpenIB OpenSM and Diags</dc:title>
</cp:coreProperties>
</file>