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3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ftr" idx="3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 type="sldNum" idx="3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471D8-672C-4DE6-9A2B-E43B6688788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037E7-9B0F-49C8-A206-65B01B6A252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7D7F8-6DCF-4903-B294-C724A475473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:4 parallel netperf, TCP_STREAM, MSIX, 2.6.17.1, 8 Intel core 2.4GHz, 4xDDR MT252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FA576-557C-4F9E-A75B-FA6FBB72FA6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 about how Netstat is imple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F5E66-85D1-428D-B96B-2E2B76FA42D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 about how Netstat is imple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BFE90-5A46-4C88-B249-6B3045321DD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FCA-677E-4BC5-82EB-7F477221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F7A-D322-4CB8-943A-E52A2AE8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09E2B6-A55A-4269-899F-8EE5768D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CAEA6C-ADD0-4603-A580-9AEE6DFE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606A22-3959-4441-BF95-D8B563ED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86383-3B41-4631-8EB4-16F0419B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9D9076-5B58-447A-A2CE-2454466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755C5-525B-453B-984F-7C4D036F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465CE0-D34B-4F85-8787-7B7A7820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46909A-8156-4FAB-B6BA-C662F17C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D58E08-F27A-4243-9EC9-8F857758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396418-387E-43E9-8EB0-1F54A1A8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BA2-2594-4367-8FD5-49C0193D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A0F0DF-6522-4601-8258-81815E54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C168AD-CB35-4AD1-9ED8-75F6D9EA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314146-C8B5-4398-AEE3-3E65DD3F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7024C-EA77-4E38-89A0-AE495557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795F4-17E1-4AB4-9C48-D763818D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422CAF-E4A6-439A-A9F7-BEE58490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F501CD-CF5A-4D6D-B4D7-F3A6E329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85468E-F098-4598-B638-8696D195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633306-9CED-4AAF-B286-14607127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C7FB7A-4B2D-4277-B1BF-7B3FFC38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9EF-AD15-43F8-B8F8-CFB66AC9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09A742-8F91-43D7-8699-E22209F0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3E7BC5-013C-447E-BAF2-8678782D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63344F-9000-4880-B778-D5C1EF87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CB2C15-1831-4FCF-A3B8-27012094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A29426-F146-4F68-8CE3-4100063E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2242B7-F052-4AC5-BCF6-E1C9EA24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5481F9-DB5A-4836-9657-85AE23E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BB5503-8B27-4019-99DF-ACBA6237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F3EF9D-2ADD-453D-B3B7-3081651F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12A48E-EB50-4C62-9093-A9C6EF7E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885D5-EEB1-43A1-BA6C-7EDB8E877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39F686-014F-4F3E-9BE8-8A01CF1C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212636-E843-4A49-B657-B39D4BA7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1DDE8E-3906-467B-8CC4-DC9292FA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9F50B-9D34-4610-8BB5-6D822C38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4310E-661F-4D8C-A0D9-9B7294C3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6CE97-5B39-47EF-AF6F-A0F51EF3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DC0FC-F47C-4FC1-B865-B2369267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E308E-2063-420F-8C81-7C48A57B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91CCA-54B4-4130-A645-2C03C987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07B-0FFC-4B26-AEF2-8A104BE1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111A-99EC-4814-B1AE-6B68EA88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C1271-443D-4DCE-BF5B-3F06E392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0916C-A930-4F4A-9FA4-160E9A48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7E6C3-4065-48E0-B508-899C396A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4FEA7-AAB8-4350-9084-6953218A0C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E6129-E913-4192-B8A7-C8141DE1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CB23D-E28C-4ECF-B4E2-71D120BA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64751-FE8A-4785-9C8A-47DF5564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53D24-8580-4CB0-AB93-5DFD9D84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936AA-A8A8-4720-9C9E-9CD77FBF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503-EF53-41D5-AF83-A81622F9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EF3C5-F0D0-41F9-8842-FC9C7898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E2DAF-4FED-47A8-9150-2EF950C1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76748-F695-4031-8783-C1089AC3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9CCC7-1B8B-4C90-BD40-2FBEF933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65B89-DD33-4CC0-A8AE-299F2A4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E5830-363B-4A06-BB9A-B2940E8E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878F9-1457-456A-9E7A-7ADC8A46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B6C94-175F-4BA2-921C-10EA1718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6435B-27E4-4427-87F3-99C979E7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EBCDF-6A9B-400E-90B8-AE1AB7E1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013-E650-47D7-B896-57C2C078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FA5D5-E596-47A1-9271-804EC9A3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190A7-5A76-4062-A636-06AA3CE0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21DAF-5301-4845-B524-0D209124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FEE29-A90D-425E-85B5-C8914D1F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8EF78-8AEF-4119-A457-CCFE914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81A1B-1C0E-4838-94AD-0F9616C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E4E9C-458E-4C49-8F57-18DCBA4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F7BA1-E99B-4E03-8AF0-9986BD3C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8E1EB-A616-465A-BA56-1335CC82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2FFD0-2572-4ED0-B466-82788B96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8F7-4C25-4FCA-8A0C-DF12DA4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A9C60-EE65-427E-8C97-0E6EEB08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B77A7-D6FE-4E9F-B181-8CE91E42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DE5B7-221F-461E-85D5-3B98D38A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5EC56-EDC0-40D7-93F2-CD4AA90A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B1734-E618-42B1-97C2-B90639F8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81917-8559-408F-B5C8-2B14B617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6444C-B0FE-4FF2-A58F-3D22681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417F2-355D-451C-BE8D-F2DDB550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0B265-F10A-46D8-9C30-9C320918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97398-245F-459D-A5BC-2AF57B78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E85-7FC8-4092-8289-04D84572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5B219-BA95-4470-95F3-449F14AD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EBCC4-3306-436D-AF5D-0A6BDF46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7456A-9AC3-4A6E-81E1-5DD4111E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5EE6A-2A79-437C-BF14-7FD968B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675F7-8ED2-401D-8F30-37FB55F6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CF4D8-561E-4479-A2A8-F12154EB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FCA5B-5AA0-4F35-BCF4-1DFA29BC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FFFBD-BC37-49CB-9B6A-2D6B70D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968CB-C499-474A-9F5B-47E9077C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09771-021E-4A1F-97F2-3FA7D681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4A5-1442-4311-A8FF-9AB86F58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F1A19-E931-480C-9776-A1D6BB3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3681E-DA04-40BD-8AFC-B7D9DB3F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8B97A-E1C0-4A65-89B7-D0B75A48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54430-13EC-498E-BD81-8BEBA4B1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E0A34-B0FB-41B4-83EA-978CFD6D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B56F5-1428-4B0C-BB94-118CE653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79C15-2F85-4687-9D7C-B6BC7BB4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367C7-D880-4B75-B6E2-B16BE747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05359-89BF-42C5-9879-6A05A17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EE7AD-27B1-4D17-BF29-E80C0451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ABD-3F90-4D7B-969B-CF10E256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72DAF-4053-49D0-A036-BBC346EB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12D69-CF38-48BF-86C3-6DA92713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06182-DBE1-4DF9-B86D-43840394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1E94A-3111-490D-A15A-D9614ED6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94C38-86B3-464C-8CF0-EA6EE63E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4D8B35-8CC9-4D5C-B1F0-D36F672C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B162F-82AA-4591-96F9-7F3AB419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33E6DB-B775-40D7-AC1A-EE44986F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ED81F-2257-445E-B41A-68922706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E4E94D-BEE3-4BE8-969E-4C3D2AFC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89D-1D67-431C-AACC-32AFFF0A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3640C7-7148-44EC-B3DE-E0598E47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28FD5-2511-4956-85A0-91B623B9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3464B9-E0C0-4650-BDDD-9D71CE5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EAE70-FD8D-411F-BA88-2A3FC8F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CFB150-D192-4885-9E51-DEEC002C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52492-C501-4E99-9F62-6BEAD20B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65E945-A0FC-4CD7-A9EA-18239594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84DAB7-C698-44CA-9B58-D9F95021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19EE74-AACB-42D8-B2B3-DCA38D3E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7048B4-D8B6-4D38-9391-10A5E711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F52116-2157-4975-8537-EBA531CD5DF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3"/>
          <p:cNvSpPr>
            <a:spLocks noGrp="1"/>
          </p:cNvSpPr>
          <p:nvPr>
            <p:ph type="dt" idx="27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8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9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18B807-9C1A-4010-BB3B-D0DF26559D3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445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3"/>
          <p:cNvSpPr>
            <a:spLocks noGrp="1"/>
          </p:cNvSpPr>
          <p:nvPr>
            <p:ph type="dt" idx="30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1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2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DFA275-02D3-47E6-9FBD-4DB12C6A474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6" descr=""/>
          <p:cNvPicPr/>
          <p:nvPr/>
        </p:nvPicPr>
        <p:blipFill>
          <a:blip r:embed="rId2"/>
          <a:stretch/>
        </p:blipFill>
        <p:spPr>
          <a:xfrm>
            <a:off x="3568680" y="4898880"/>
            <a:ext cx="1994040" cy="1525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871640" y="541440"/>
            <a:ext cx="51865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Fabr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ummit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9" descr="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133200" y="119160"/>
            <a:ext cx="136224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0" descr=""/>
          <p:cNvPicPr/>
          <p:nvPr/>
        </p:nvPicPr>
        <p:blipFill>
          <a:blip r:embed="rId4"/>
          <a:stretch/>
        </p:blipFill>
        <p:spPr>
          <a:xfrm>
            <a:off x="7286760" y="114480"/>
            <a:ext cx="1628640" cy="162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2F2CC3-530F-4E77-B97D-FFA058265E6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528CC8-84E2-4090-A8FD-5743E231523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9A481A-BFF4-4104-9CE3-26ACDC5D658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 type="dt" idx="12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3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4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F5BDA3-1BD5-46AD-BDD8-5B1C9BA8121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0D11F8-6537-48FC-AD22-49D8C4A6AB9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3"/>
          <p:cNvSpPr>
            <a:spLocks noGrp="1"/>
          </p:cNvSpPr>
          <p:nvPr>
            <p:ph type="dt" idx="18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9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0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228733-1729-402F-BCE7-70E1AFAA30F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313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3"/>
          <p:cNvSpPr>
            <a:spLocks noGrp="1"/>
          </p:cNvSpPr>
          <p:nvPr>
            <p:ph type="dt" idx="2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A64BB4-9D07-4195-98FA-F86D161525A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77F297-9405-43B1-A157-7E742D956BC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03280" y="2141280"/>
            <a:ext cx="6499440" cy="1191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PoIB Update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858680" y="4000320"/>
            <a:ext cx="5321160" cy="1360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Tsirkin, Eli Cohen, Roland Drier, Eitan Zah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is NAPI 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 switch from interrupt driven mode to polling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: First interrupt switches to polling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errupts are disabl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gister with NAPI for po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PI: calls device driver for polling for incoming pack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p to a predefined 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X interrupts are optionally handled here as w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430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is is done in the same kernel thread the IP layer 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: when quota is finished or nothing more to poll, switch back to interrup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D2E44B-EA5F-44F2-A339-63582602BC3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PoIB NAPI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47840" y="159984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277200" indent="-2214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utilized at high packet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214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higher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214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hurt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214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CPU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214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rate significantly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64920" indent="-2214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CPU time is wasted on contex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214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and’s implementation went up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200" indent="-221400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ABA4FD-D28B-4CA4-87FE-98227186C8F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17280" y="395280"/>
            <a:ext cx="59943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PI Performa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787486-0DD9-446D-8C3F-C1742553BC4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Rectangle 15364" descr=""/>
          <p:cNvPicPr/>
          <p:nvPr/>
        </p:nvPicPr>
        <p:blipFill>
          <a:blip r:embed="rId1"/>
          <a:stretch/>
        </p:blipFill>
        <p:spPr>
          <a:xfrm>
            <a:off x="390600" y="2073240"/>
            <a:ext cx="4371840" cy="314496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15365" descr=""/>
          <p:cNvPicPr/>
          <p:nvPr/>
        </p:nvPicPr>
        <p:blipFill>
          <a:blip r:embed="rId2"/>
          <a:stretch/>
        </p:blipFill>
        <p:spPr>
          <a:xfrm>
            <a:off x="4916520" y="2089080"/>
            <a:ext cx="38718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838160" y="395280"/>
            <a:ext cx="59738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PoIB CM - Roadmap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available as IETF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implementation show &gt; 800MB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network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unicast only and does not fall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by 1 Jan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interface that handles IPoIB (CM with fall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1Q 07 (with higher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7E4113-82FE-486B-9BB8-9F7372323EE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38160" y="395280"/>
            <a:ext cx="597384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PoIB CM -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based M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argets might require a different M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or just legacy IPo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sp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 Linux to obtain path MTU from neigh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y on Path MTU discovery – not clear if fea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acket fra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Q for 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IBTA s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and impl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EECD07-98FE-4758-8959-E743A58C123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1:44:58Z</dcterms:created>
  <dc:creator>Hal Rosenstock, Eitan Zahavi</dc:creator>
  <dc:description/>
  <dc:language>en-US</dc:language>
  <cp:lastModifiedBy>Eitan Zahavi</cp:lastModifiedBy>
  <dcterms:modified xsi:type="dcterms:W3CDTF">2006-11-17T11:29:14Z</dcterms:modified>
  <cp:revision>1520</cp:revision>
  <dc:subject/>
  <dc:title>OpenIB OpenSM and Diags</dc:title>
</cp:coreProperties>
</file>