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E843-A4DD-4B4E-9110-554B0D29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374-DCDD-4CEC-966E-D996A7D8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FD26-F15A-43D5-BC54-7FCADB82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F73-A0B2-4BEA-BD61-3D4543AA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F566-D55C-48D3-83FA-806FE22C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C8F5-3612-49FC-9A1D-C05A33F2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8D28-ADEF-4E5D-99CB-1793D174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1494-0AC9-4213-A8A4-56748A5A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4054-B499-4F23-84F7-69BA2658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1AF0-C74B-41F9-B74E-62E9618C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03BB-46A6-4E12-8D86-B9AAB87F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C1A-DFC6-498F-81D6-E3704B08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A89C-95B2-4424-9E97-A2A5C402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21FF-E9A8-47E3-9A7C-5DC70EA7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5D91-0E46-420B-8876-A45F4336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9977-D591-40AE-83CD-96D23165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5245-0F70-4B34-A73B-B2EA4A51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4FD70-CEDA-418A-8F86-3D684B68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A71F9-CD12-409E-A64A-7D5777C9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D65D2-EA1E-491B-9826-8E28F552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6938D-990E-4EAB-8E40-ADEA755D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10FA2-2AAE-4449-9DD5-C66A0DF2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81F4-6352-4A69-915E-245E516A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A85FF-9218-4089-963A-A4916153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F7B19-9CD4-46B0-A099-0F84F0AB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74317-7F67-49EF-AAC6-55F35FAB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B319A-BE7D-4E14-A176-084E5958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08ED2-75E7-4013-BF94-047C4764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FFE93-09F1-4B0F-BB74-50D6C84A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19E95-5FDA-4487-9559-422EC922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07AE-853A-4D68-BC7B-4A7070DE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EAF3-614E-40CA-B72F-C44CF891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AAE7-CDE7-4004-BAB2-DD02173A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A9A0-0C1B-4148-BE8E-9CDECF92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0142-4A36-466C-A117-6365669E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A722-B029-4EAD-8F62-FE17925F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DE77-4ABB-44D2-837F-CBDC3AA14977}" type="datetime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D811A8E-B862-40AC-899E-01255027958B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7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479E-BFF0-47E6-A372-C39FB26FE08E}" type="datetime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B04D824-424B-4289-B862-05A4014DA401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510000" y="6122880"/>
          <a:ext cx="1724040" cy="60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10000" y="6122880"/>
                    <a:ext cx="17240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E971-B922-4712-945D-9C2436289538}" type="datetime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8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33A1AFE-9196-402C-8104-7D7D25047A7D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9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68400" y="2274840"/>
            <a:ext cx="748188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VN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978200" y="414360"/>
            <a:ext cx="51861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Fabric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ummit SC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93880" y="3767040"/>
            <a:ext cx="4273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machandra Kuchiman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logic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d by: Madhu Lakshmanan, Qlogic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QLogic Corporation – Developers Summit @ SC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281B9-E6BF-4879-B825-77442A1DF9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CB97EFA6-836C-4261-8B92-65359847765C}" type="datetime1">
              <a:rPr lang="en-US"/>
              <a:t>07/29/26</a:t>
            </a:fld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71480" y="515880"/>
            <a:ext cx="565488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NIC – Ethernet Virtual I/O Controller Device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Rectangle 1031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140" name="Rectangle 1032" descr=""/>
          <p:cNvPicPr/>
          <p:nvPr/>
        </p:nvPicPr>
        <p:blipFill>
          <a:blip r:embed="rId2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12880" y="193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2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QLogic Virtual Ethernet I/O Control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x (1GE), EVIC (10GE) and IBM Blade Center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Customer installations since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NIC is device driver for Virtual I/O Controller (VIC)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C card presented as true Ethernet NIC via VNIC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 treated as an IO bus path from Host to V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Ethernet NIC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 is a remote fabric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QLogic Corporation – Developers Summit @ SC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66DAA-472D-430E-B8AE-BFB277B1AEB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3020C0BB-B319-48ED-88D1-196A93600612}" type="datetime1">
              <a:rPr lang="en-US"/>
              <a:t>07/29/26</a:t>
            </a:fld>
          </a:p>
        </p:txBody>
      </p: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31800" y="3241800"/>
            <a:ext cx="4554720" cy="0"/>
          </a:xfrm>
          <a:prstGeom prst="line">
            <a:avLst/>
          </a:prstGeom>
          <a:ln w="7632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409840" y="4437000"/>
            <a:ext cx="4331520" cy="553320"/>
            <a:chOff x="2409840" y="4437000"/>
            <a:chExt cx="4331520" cy="553320"/>
          </a:xfrm>
        </p:grpSpPr>
        <p:grpSp>
          <p:nvGrpSpPr>
            <p:cNvPr id="146" name=""/>
            <p:cNvGrpSpPr/>
            <p:nvPr/>
          </p:nvGrpSpPr>
          <p:grpSpPr>
            <a:xfrm>
              <a:off x="2409840" y="4437000"/>
              <a:ext cx="2940480" cy="553320"/>
              <a:chOff x="2409840" y="4437000"/>
              <a:chExt cx="2940480" cy="553320"/>
            </a:xfrm>
          </p:grpSpPr>
          <p:sp>
            <p:nvSpPr>
              <p:cNvPr id="147" name=""/>
              <p:cNvSpPr/>
              <p:nvPr/>
            </p:nvSpPr>
            <p:spPr>
              <a:xfrm>
                <a:off x="2409840" y="4437000"/>
                <a:ext cx="2940480" cy="553320"/>
              </a:xfrm>
              <a:prstGeom prst="rect">
                <a:avLst/>
              </a:prstGeom>
              <a:solidFill>
                <a:srgbClr val="99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2571480" y="4738320"/>
                <a:ext cx="2585880" cy="230760"/>
                <a:chOff x="2571480" y="4738320"/>
                <a:chExt cx="2585880" cy="230760"/>
              </a:xfrm>
            </p:grpSpPr>
            <p:pic>
              <p:nvPicPr>
                <p:cNvPr id="149" name="" descr=""/>
                <p:cNvPicPr/>
                <p:nvPr/>
              </p:nvPicPr>
              <p:blipFill>
                <a:blip r:embed="rId1"/>
                <a:srcRect l="11646" t="54907" r="11408" b="4867"/>
                <a:stretch/>
              </p:blipFill>
              <p:spPr>
                <a:xfrm>
                  <a:off x="2571480" y="4738320"/>
                  <a:ext cx="2282760" cy="230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" name="" descr=""/>
                <p:cNvPicPr/>
                <p:nvPr/>
              </p:nvPicPr>
              <p:blipFill>
                <a:blip r:embed="rId2"/>
                <a:srcRect l="13073" t="54907" r="75110" b="4867"/>
                <a:stretch/>
              </p:blipFill>
              <p:spPr>
                <a:xfrm>
                  <a:off x="4806360" y="4738320"/>
                  <a:ext cx="351000" cy="230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51" name="" descr=""/>
              <p:cNvPicPr/>
              <p:nvPr/>
            </p:nvPicPr>
            <p:blipFill>
              <a:blip r:embed="rId3"/>
              <a:srcRect l="50391" t="58568" r="12122" b="13435"/>
              <a:stretch/>
            </p:blipFill>
            <p:spPr>
              <a:xfrm>
                <a:off x="3361680" y="4569840"/>
                <a:ext cx="111204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4"/>
              <a:srcRect l="9939" t="3660" r="16089" b="81738"/>
              <a:stretch/>
            </p:blipFill>
            <p:spPr>
              <a:xfrm>
                <a:off x="2797560" y="4457880"/>
                <a:ext cx="2205360" cy="83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3" name=""/>
              <p:cNvGrpSpPr/>
              <p:nvPr/>
            </p:nvGrpSpPr>
            <p:grpSpPr>
              <a:xfrm>
                <a:off x="4524480" y="4555080"/>
                <a:ext cx="759960" cy="167400"/>
                <a:chOff x="4524480" y="4555080"/>
                <a:chExt cx="759960" cy="167400"/>
              </a:xfrm>
            </p:grpSpPr>
            <p:sp>
              <p:nvSpPr>
                <p:cNvPr id="154" name=""/>
                <p:cNvSpPr/>
                <p:nvPr/>
              </p:nvSpPr>
              <p:spPr>
                <a:xfrm flipH="1" flipV="1" rot="10800000">
                  <a:off x="4524120" y="4554720"/>
                  <a:ext cx="759960" cy="167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ffff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 rot="10800000">
                  <a:off x="4628520" y="4578480"/>
                  <a:ext cx="213480" cy="3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b2b2b"/>
                    </a:gs>
                    <a:gs pos="50000">
                      <a:srgbClr val="5f5f5f"/>
                    </a:gs>
                    <a:gs pos="100000">
                      <a:srgbClr val="2b2b2b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 flipV="1" rot="10800000">
                  <a:off x="4965840" y="4578480"/>
                  <a:ext cx="207720" cy="3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b2b2b"/>
                    </a:gs>
                    <a:gs pos="50000">
                      <a:srgbClr val="5f5f5f"/>
                    </a:gs>
                    <a:gs pos="100000">
                      <a:srgbClr val="2b2b2b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 flipV="1">
                  <a:off x="5058360" y="4684680"/>
                  <a:ext cx="129600" cy="313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 flipV="1">
                  <a:off x="4635360" y="4684680"/>
                  <a:ext cx="129600" cy="313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 flipV="1" rot="10800000">
                  <a:off x="4629600" y="4599360"/>
                  <a:ext cx="552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b2b2b"/>
                    </a:gs>
                    <a:gs pos="50000">
                      <a:srgbClr val="5f5f5f"/>
                    </a:gs>
                    <a:gs pos="100000">
                      <a:srgbClr val="2b2b2b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2493360" y="4555080"/>
                <a:ext cx="759960" cy="167400"/>
                <a:chOff x="2493360" y="4555080"/>
                <a:chExt cx="759960" cy="167400"/>
              </a:xfrm>
            </p:grpSpPr>
            <p:sp>
              <p:nvSpPr>
                <p:cNvPr id="161" name=""/>
                <p:cNvSpPr/>
                <p:nvPr/>
              </p:nvSpPr>
              <p:spPr>
                <a:xfrm flipH="1" flipV="1" rot="10800000">
                  <a:off x="2493000" y="4554720"/>
                  <a:ext cx="759960" cy="167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ffff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 flipV="1" rot="10800000">
                  <a:off x="2597400" y="4578480"/>
                  <a:ext cx="213480" cy="3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b2b2b"/>
                    </a:gs>
                    <a:gs pos="50000">
                      <a:srgbClr val="5f5f5f"/>
                    </a:gs>
                    <a:gs pos="100000">
                      <a:srgbClr val="2b2b2b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 flipV="1" rot="10800000">
                  <a:off x="2934720" y="4578480"/>
                  <a:ext cx="207720" cy="3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b2b2b"/>
                    </a:gs>
                    <a:gs pos="50000">
                      <a:srgbClr val="5f5f5f"/>
                    </a:gs>
                    <a:gs pos="100000">
                      <a:srgbClr val="2b2b2b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 flipV="1">
                  <a:off x="3027240" y="4684680"/>
                  <a:ext cx="129600" cy="313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 flipV="1">
                  <a:off x="2604240" y="4684680"/>
                  <a:ext cx="129600" cy="313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flipV="1" rot="10800000">
                  <a:off x="2598480" y="4599360"/>
                  <a:ext cx="552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2b2b2b"/>
                    </a:gs>
                    <a:gs pos="50000">
                      <a:srgbClr val="5f5f5f"/>
                    </a:gs>
                    <a:gs pos="100000">
                      <a:srgbClr val="2b2b2b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7" name=""/>
            <p:cNvSpPr/>
            <p:nvPr/>
          </p:nvSpPr>
          <p:spPr>
            <a:xfrm>
              <a:off x="5946120" y="4461120"/>
              <a:ext cx="795240" cy="5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Q05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671480" y="515880"/>
            <a:ext cx="56548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Ex – Basics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Rectangle 1031" descr=""/>
          <p:cNvPicPr/>
          <p:nvPr/>
        </p:nvPicPr>
        <p:blipFill>
          <a:blip r:embed="rId5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170" name="Rectangle 1032" descr=""/>
          <p:cNvPicPr/>
          <p:nvPr/>
        </p:nvPicPr>
        <p:blipFill>
          <a:blip r:embed="rId6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12880" y="193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ower"/>
          <p:cNvSpPr/>
          <p:nvPr/>
        </p:nvSpPr>
        <p:spPr>
          <a:xfrm>
            <a:off x="622440" y="2284560"/>
            <a:ext cx="904680" cy="1809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loud"/>
          <p:cNvSpPr/>
          <p:nvPr/>
        </p:nvSpPr>
        <p:spPr>
          <a:xfrm>
            <a:off x="6045120" y="232236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75520" y="258444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68960" y="4641840"/>
            <a:ext cx="1096920" cy="11160"/>
          </a:xfrm>
          <a:custGeom>
            <a:avLst/>
            <a:gdLst/>
            <a:ahLst/>
            <a:rect l="l" t="t" r="r" b="b"/>
            <a:pathLst>
              <a:path w="691" h="7">
                <a:moveTo>
                  <a:pt x="691" y="7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4560" bIns="-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1200" y="4457880"/>
            <a:ext cx="10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58960" y="3699000"/>
            <a:ext cx="17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00600" y="37530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32400" y="4551480"/>
            <a:ext cx="743040" cy="18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49280" y="285444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5400" y="422928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 VNIC dr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73" idx="10"/>
            <a:endCxn id="151" idx="0"/>
          </p:cNvCxnSpPr>
          <p:nvPr/>
        </p:nvCxnSpPr>
        <p:spPr>
          <a:xfrm>
            <a:off x="1527120" y="3260880"/>
            <a:ext cx="2393280" cy="131040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4" name=""/>
          <p:cNvCxnSpPr>
            <a:stCxn id="180" idx="0"/>
          </p:cNvCxnSpPr>
          <p:nvPr/>
        </p:nvCxnSpPr>
        <p:spPr>
          <a:xfrm flipH="1" flipV="1" rot="5400000">
            <a:off x="4827240" y="3325680"/>
            <a:ext cx="1302480" cy="1149840"/>
          </a:xfrm>
          <a:prstGeom prst="bentConnector3">
            <a:avLst>
              <a:gd name="adj1" fmla="val 100470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QLogic Corporation – Developers Summit @ SC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215208-63D3-4A52-BAE9-48C2606C6BF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349FBB0C-5B83-44A0-B642-C08907F40E48}" type="datetime1">
              <a:rPr lang="en-US"/>
              <a:t>07/29/26</a:t>
            </a:fld>
          </a:p>
        </p:txBody>
      </p: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22222E-006 L -0.37014 -0.27384 E">
                                      <p:cBhvr>
                                        <p:cTn id="41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7037E-007 L -0.18246 -0.14815 E">
                                      <p:cBhvr>
                                        <p:cTn id="44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Rectangle 1031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186" name="Rectangle 1032" descr=""/>
          <p:cNvPicPr/>
          <p:nvPr/>
        </p:nvPicPr>
        <p:blipFill>
          <a:blip r:embed="rId2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1755720"/>
            <a:ext cx="80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2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VNIC driver runs on the host as a Linux Kernel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rovides a standard Ethernet interface to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communicates with the VIC card via 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 and Ethernet data transfered via IB “bu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550880" y="674640"/>
            <a:ext cx="5942160" cy="3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he VNIC driv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QLogic Corporation – Developers Summit @ SC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4F900-C928-4B06-9FCF-637C38F042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8E139EF9-9BCE-42EB-8E9E-62834E2CFD79}" type="datetime1">
              <a:rPr lang="en-US"/>
              <a:t>07/29/26</a:t>
            </a:fld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Rectangle 1031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192" name="Rectangle 1032" descr=""/>
          <p:cNvPicPr/>
          <p:nvPr/>
        </p:nvPicPr>
        <p:blipFill>
          <a:blip r:embed="rId2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1755720"/>
            <a:ext cx="80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2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loads the VNIC kernel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runs a tool to discover VIC controllers available on the fa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creates a virtual Ethernet interface using the driver by specifying a target VIC Ethernet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can configure the virtual Ethernet interface like any oth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config, vconfig  for VLAN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s any ethernet protocol: IPv4, IPv6, netware, custom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virtual Ethernet interface operates normally like any oth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ng, ssh, scp, netperf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550880" y="674640"/>
            <a:ext cx="5942160" cy="3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VNIC – Operation (on OFED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QLogic Corporation – Developers Summit @ SC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0070C-795C-436E-B69C-680EC9B2D4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3629783D-ED9C-4F07-B515-808908B1BCB7}" type="datetime1">
              <a:rPr lang="en-US"/>
              <a:t>07/29/26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Rectangle 1031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1032" descr=""/>
          <p:cNvPicPr/>
          <p:nvPr/>
        </p:nvPicPr>
        <p:blipFill>
          <a:blip r:embed="rId2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4360" y="1755720"/>
            <a:ext cx="80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50880" y="674640"/>
            <a:ext cx="5942160" cy="3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VNIC driver - Desig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85800" y="1784520"/>
            <a:ext cx="8001000" cy="442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QLogic Corporation – Developers Summit @ SC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898BB-7ADE-4A78-8282-3972C72C89E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7ADE0DF7-A768-42C9-9594-B5DC800C974C}" type="datetime1">
              <a:rPr lang="en-US"/>
              <a:t>07/29/26</a:t>
            </a:fld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Rectangle 1031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204" name="Rectangle 1032" descr=""/>
          <p:cNvPicPr/>
          <p:nvPr/>
        </p:nvPicPr>
        <p:blipFill>
          <a:blip r:embed="rId2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1755720"/>
            <a:ext cx="80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2004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NIC software undergoing extensive Beta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ed for inclusion in the OFED 1.2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ing Linux kernel version 2.6.20 or later for i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y for inclusion into any OFED 1.1.x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550880" y="674640"/>
            <a:ext cx="5942160" cy="3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ncluding Remark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QLogic Corporation – Developers Summit @ SC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A595C-97AA-4F25-9DCC-640DC998D9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521D13D2-5FA8-41BA-BFBE-7933052BE158}" type="datetime1">
              <a:rPr lang="en-US"/>
              <a:t>07/29/26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4T01:44:58Z</dcterms:created>
  <dc:creator>Ramachandra Kuchimanchi, Madhu Lakshmanan - Qlogic </dc:creator>
  <dc:description/>
  <dc:language>en-US</dc:language>
  <cp:lastModifiedBy> </cp:lastModifiedBy>
  <dcterms:modified xsi:type="dcterms:W3CDTF">2006-11-14T19:25:47Z</dcterms:modified>
  <cp:revision>1520</cp:revision>
  <dc:subject/>
  <dc:title>VNIC - Device Driver for Silverstorm VEx hardw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