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3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ftr" idx="3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 type="sldNum" idx="3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BB5C0-7C90-4B22-99AE-5A11FDC5174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64E8F-93DC-4FC4-BF11-D433ED0D6CB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F68-CA91-4CE2-9E79-EA2620EB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407-B14A-41F9-A720-9A43588D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92F5C-5D57-4AEF-87CE-10A7166E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B25DB-37D2-475C-8BE9-940C3BE4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31E1EF-69AC-4983-AADA-10B273DC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6961CD-7ED5-4F0F-8D08-16F3E1B8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C16633-EB3C-47BD-96E5-9AA28F7E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ABC2E5-BB61-4260-BF1E-C7FE2ACB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83B15A-EC68-4015-8A55-3ACA4F1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37883-F4DC-46BC-A515-2F38CD45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91A610-9DF2-4268-BC9B-5818C8C9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75682A-DD4E-4DF2-A64F-182DCF85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E92-7D30-4656-AD38-7466C89B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415F74-A0F5-42F1-9067-FF4E4C9A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695DA2-2C50-46CE-9DC3-96A6AF77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F4E90F-EB89-4388-A23D-AFDCD99C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A20771-D886-4C8E-844E-17E50E57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79112F-FD0B-47E2-85C4-F7EF5A2B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509632-5465-49A8-893C-82EDDFBF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6426E7-7BF4-4C83-A0FD-20E7AB21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5BAEA6-E968-4868-9A88-38405227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444A2A-2E6A-460F-8206-E8BD059A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337A55-DF4E-44BB-BA9D-18443D6C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EC9-8E91-41F5-B8AE-6032AFDB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A8A6D9-409A-40FD-A15B-FBCD5B20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39EABD-F3D0-439B-884B-344E4007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0CF0DA-FD62-4B64-92B4-EC9DF15A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4F5AD2-8AB2-4FF5-BB92-CC82097C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764A84-7408-41CE-8586-54A27829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840E6E-1391-4794-9309-14FF6660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7CFAF5-DF9F-40D2-9E25-22D7E51D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F8533F-40D4-48AB-97A8-E13C48CD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04D553-AFEC-42CA-8FE0-B7293628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C68122-A194-403C-B1EF-E24B16A1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17281-DCB8-4ECB-9C89-F20ED4308B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683EA8-C8A5-41A6-A7EF-4B05959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880985-CC13-4F3C-AA43-CDE37F07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ED67A3-7E6A-42AB-8C55-5E5DDA47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5CC84-376D-4750-9FBB-5E7D4BD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83396-474F-4DDE-A627-0747015E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52A4F-74CB-4072-BA4D-12D10A49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F006C-1A71-4FCF-9D9F-37F61A09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0E9AC-CECF-436A-8069-3A3D004D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53C40-A429-4C2F-964D-4E41D058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930-0D96-4E81-BD8C-EA9BFB05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8FB45-428C-4002-BD2A-AE7AB734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704FB-18CC-4AC6-9151-292817A5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58A2F-9D6E-47D2-95F8-35A73E48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73093-806F-42C5-83A6-A40DF9E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B8547-2A8A-4EA0-8176-555F120658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44499-DC8D-4029-ACC8-082343A3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BE8A8-49C7-41FF-8C73-251E180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93560-4670-4440-B0E6-D0744BE8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70BD4-153C-41EB-9121-D6EE2F36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C0EA5-174A-4A73-ADC1-0B71ABE3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496-FAB0-46B9-B974-AE3ABB5F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677B3-C8BA-4550-BA6F-03AA3A8B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3A380-3C91-4D51-9033-A7A9CC80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2EE1D-9E9E-41C5-B83E-217C7B3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BC0C1-7309-4C72-A335-E451E81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66DF1-169D-472B-8FF9-F3001397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DB712-0CB6-4136-B5D4-88E40063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8AA46-79FB-4746-B150-E20421C3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DED92-F53F-46D4-A841-3C67B3CF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DF772-0A0C-4BCB-94B4-85DCBEA6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86A26-B87C-4286-9E05-04B04D0F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960-56C4-4EA9-B514-CA9C3B9C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3F591-DEFA-422E-A1EA-FDEE5363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B2110-2425-47B8-8F28-77AE5428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AA246-DBB2-46CD-A98C-83A7E9A6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1BB6E-1D31-4C64-964E-95CD753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A8C506-D8F1-4DD2-8BFA-79690D43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83589-214C-4893-A162-B055E811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1AE24-D033-49A4-B74B-F117391F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9C3A3-3CE0-44BB-AD77-2FE7FC7B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CC302-85E6-4C06-828E-354397AD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069A4-12EE-452C-9E98-9AD37FD0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886-3295-47D3-9BD7-95C705B7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16D39-249D-44BD-9FD5-0237B25D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7B7A8-F774-4B9A-86A2-A46CDBB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69073-B731-48B6-A80C-42653CCA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3F2DC-6B88-45B8-8986-CB8493D1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B3CE1-7EDC-4893-80DE-A866AFF0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C0352-9E04-42F8-9CBE-E7069DF3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BE23B-CE6A-4C1D-A1A0-9D49A91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2833B-7BA4-498D-B5EF-2D3CBFD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50CE7-5AC0-4B33-9944-833146D8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CADBC-93FB-4B83-BA16-CAF4BECF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C8C-48DF-42FA-94C2-5F57A9F1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C9380-3DDE-49E1-B929-C978E91B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4CE31-ED1F-4088-94CC-D228C047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4A05E-D124-4787-8080-FACDD758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80FCD-4FDD-460A-84AF-84660222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71450-B0DB-4F4A-894E-EB7F5331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0AE3F-F300-4D75-877F-6F930CE3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FD867-7E80-44FF-86FB-82AC3A63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507B08-C90C-4500-9848-8E71EA6D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EB35F-4910-4995-8226-B2702676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B7FB1-61E0-4FBC-B8A4-A599291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123-E410-46E2-A05A-301C62C6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E328E-4445-45F7-9AAA-FABA3C51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61851-18BB-49CD-9F69-A84366BB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25A50-5E4F-4E88-9C1D-C04C07C8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080FB-E1DB-4C09-8137-20E8972D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18088-D901-4BB8-8675-5D6DBE5D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6C8DC-C77C-4A34-AD6A-C9B89A96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942D6-8F4F-4122-AF6B-52716502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EA9F0-7ABA-4E46-B6A6-3737261F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E0A0C-1729-41E9-B022-FC0D6369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1FFA4-0F4F-42E5-9665-68D3E44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F94-4413-4F3E-8AE5-AF26FF0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38485-585B-4824-BCAF-0B9B12DE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B013C-75C7-4F0C-8CB2-3A6B00CB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CF91D-0446-474F-8BD5-097FA477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8E188-DEAC-4023-8303-E343AF22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733E9-1B90-4550-A61C-5B0E0D31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38582F-2B80-446D-92AB-C517BFEF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0B283E-9FF3-440D-A65A-B3D33A58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8DE8E8-1911-4DC6-B468-C9736115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0541D-33DB-40A6-8A23-A6AE4511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6259C-C650-48EB-944C-BFFABA51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D0F-50F0-43E4-AEB8-A711C18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8A9E19-7748-4898-8826-5914AD53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58EC0-BB4D-45B6-BBCF-1E3254AF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306FD-6477-4B2B-A896-51E1A889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DDF990-B003-4633-B380-B72DE23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D9416-A4A4-4EF6-90B6-F461413F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FAC04D-EA6B-43E5-BEC8-6C6A5007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EFD3A5-6ABD-4DED-A154-1AA7CACB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519B6-F587-4592-AA40-BEA89C8A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DBCF55-6BA9-41D5-93FD-B7E1FC0C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3026E2-236F-4ED0-BC43-B38DC3F1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57F39D-8C9D-4E07-82C5-5EE1D76FC0A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3"/>
          <p:cNvSpPr>
            <a:spLocks noGrp="1"/>
          </p:cNvSpPr>
          <p:nvPr>
            <p:ph type="dt" idx="27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8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9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7C92E5-450B-49C5-9ABD-81B64CDA08C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445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3"/>
          <p:cNvSpPr>
            <a:spLocks noGrp="1"/>
          </p:cNvSpPr>
          <p:nvPr>
            <p:ph type="dt" idx="30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1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2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6F4326-0F81-41D6-A116-5A14AC58A17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978200" y="414360"/>
            <a:ext cx="51861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Fabr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ummit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8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33200" y="119160"/>
            <a:ext cx="136224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9" descr=""/>
          <p:cNvPicPr/>
          <p:nvPr/>
        </p:nvPicPr>
        <p:blipFill>
          <a:blip r:embed="rId3"/>
          <a:stretch/>
        </p:blipFill>
        <p:spPr>
          <a:xfrm>
            <a:off x="7286760" y="114480"/>
            <a:ext cx="1628640" cy="16286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0" descr=""/>
          <p:cNvPicPr/>
          <p:nvPr/>
        </p:nvPicPr>
        <p:blipFill>
          <a:blip r:embed="rId4"/>
          <a:stretch/>
        </p:blipFill>
        <p:spPr>
          <a:xfrm>
            <a:off x="3568680" y="4898880"/>
            <a:ext cx="1994040" cy="1525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4B8219-3B17-4841-92D8-4A220C2DCC8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1BD24C-5CE4-47FF-9718-67C11EE9B59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28D140-5095-4E0A-BF1F-982AA109AFE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 type="dt" idx="12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3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4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98D67F-D5D8-43EB-9295-126DA1F9DE1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5C30482-FED6-41B7-864F-7C3A96F8F6C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3"/>
          <p:cNvSpPr>
            <a:spLocks noGrp="1"/>
          </p:cNvSpPr>
          <p:nvPr>
            <p:ph type="dt" idx="18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9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0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E254B8-878E-419A-989C-F1F8761CC36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313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3"/>
          <p:cNvSpPr>
            <a:spLocks noGrp="1"/>
          </p:cNvSpPr>
          <p:nvPr>
            <p:ph type="dt" idx="2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FBF420-DBDF-48A5-9275-1E08A322208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5D5CC4-159A-4D3E-BD0A-5851F7CE294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23800" y="1641240"/>
            <a:ext cx="6499080" cy="20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QoS Update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mplementation RFC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881000" y="4001760"/>
            <a:ext cx="5392440" cy="1360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an Zahav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65632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BTA QoS Annex Up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366547-5A60-4F94-AEA9-9F507E78718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ounded Rectangle 6"/>
          <p:cNvSpPr/>
          <p:nvPr/>
        </p:nvSpPr>
        <p:spPr>
          <a:xfrm>
            <a:off x="990720" y="4660920"/>
            <a:ext cx="1041120" cy="93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cap="rnd" w="6480">
            <a:solidFill>
              <a:srgbClr val="b6dcdf"/>
            </a:solidFill>
            <a:miter/>
          </a:ln>
          <a:effectLst>
            <a:outerShdw dist="153753" dir="270000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ounded Rectangle 9"/>
          <p:cNvSpPr/>
          <p:nvPr/>
        </p:nvSpPr>
        <p:spPr>
          <a:xfrm>
            <a:off x="2502000" y="4660920"/>
            <a:ext cx="1041480" cy="93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cap="rnd" w="6480">
            <a:solidFill>
              <a:srgbClr val="2f2f98"/>
            </a:solidFill>
            <a:miter/>
          </a:ln>
          <a:effectLst>
            <a:outerShdw dist="153753" dir="270000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A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eft-Right Arrow 11"/>
          <p:cNvSpPr/>
          <p:nvPr/>
        </p:nvSpPr>
        <p:spPr>
          <a:xfrm>
            <a:off x="2052720" y="5070600"/>
            <a:ext cx="438120" cy="114120"/>
          </a:xfrm>
          <a:prstGeom prst="leftRight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749b9e"/>
              </a:gs>
              <a:gs pos="100000">
                <a:srgbClr val="ace4e9"/>
              </a:gs>
            </a:gsLst>
            <a:lin ang="16200000"/>
          </a:gradFill>
          <a:ln cap="rnd" w="6480">
            <a:solidFill>
              <a:srgbClr val="b6dcd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ounded Rectangle 12"/>
          <p:cNvSpPr/>
          <p:nvPr/>
        </p:nvSpPr>
        <p:spPr>
          <a:xfrm>
            <a:off x="5748480" y="4660920"/>
            <a:ext cx="1041120" cy="931680"/>
          </a:xfrm>
          <a:prstGeom prst="roundRect">
            <a:avLst>
              <a:gd name="adj" fmla="val 16667"/>
            </a:avLst>
          </a:prstGeom>
          <a:solidFill>
            <a:srgbClr val="e9eeee"/>
          </a:solidFill>
          <a:ln cap="rnd" w="6480">
            <a:solidFill>
              <a:srgbClr val="2f2f98"/>
            </a:solidFill>
            <a:miter/>
          </a:ln>
          <a:effectLst>
            <a:outerShdw dist="153753" dir="270000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/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ounded Rectangle 13"/>
          <p:cNvSpPr/>
          <p:nvPr/>
        </p:nvSpPr>
        <p:spPr>
          <a:xfrm>
            <a:off x="6800760" y="4660920"/>
            <a:ext cx="1041480" cy="931680"/>
          </a:xfrm>
          <a:prstGeom prst="roundRect">
            <a:avLst>
              <a:gd name="adj" fmla="val 16667"/>
            </a:avLst>
          </a:prstGeom>
          <a:solidFill>
            <a:srgbClr val="fcfc84"/>
          </a:solidFill>
          <a:ln cap="rnd" w="6480">
            <a:solidFill>
              <a:srgbClr val="292989"/>
            </a:solidFill>
            <a:miter/>
          </a:ln>
          <a:effectLst>
            <a:outerShdw dist="153753" dir="2700000" blurRad="0" rotWithShape="0">
              <a:srgbClr val="000000">
                <a:alpha val="6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eft-Right Arrow 14"/>
          <p:cNvSpPr/>
          <p:nvPr/>
        </p:nvSpPr>
        <p:spPr>
          <a:xfrm>
            <a:off x="3556080" y="5018040"/>
            <a:ext cx="2181240" cy="166680"/>
          </a:xfrm>
          <a:prstGeom prst="leftRightArrow">
            <a:avLst>
              <a:gd name="adj1" fmla="val 50000"/>
              <a:gd name="adj2" fmla="val 49983"/>
            </a:avLst>
          </a:prstGeom>
          <a:solidFill>
            <a:srgbClr val="0070c0"/>
          </a:solidFill>
          <a:ln cap="rnd" w="6480">
            <a:solidFill>
              <a:srgbClr val="b6dcd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7520" y="163980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annex is in LWG final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6280" indent="-34632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A IBTA 1.2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ease Q1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oS enforcement by Client to QM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mechanism is for QM to hide behind SA Path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lowchart: Document 16"/>
          <p:cNvSpPr/>
          <p:nvPr/>
        </p:nvSpPr>
        <p:spPr>
          <a:xfrm>
            <a:off x="3944880" y="5251320"/>
            <a:ext cx="1214640" cy="459000"/>
          </a:xfrm>
          <a:prstGeom prst="flowChartDocument">
            <a:avLst/>
          </a:pr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7"/>
          <p:cNvSpPr/>
          <p:nvPr/>
        </p:nvSpPr>
        <p:spPr>
          <a:xfrm>
            <a:off x="3975120" y="529128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BTA QoS Annex Detai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7760" y="1657080"/>
            <a:ext cx="8296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oS PathRecord/MultiPathRec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query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ype, TClass]: requested priority (if the client kn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== 0 means TClass is DS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ID (same as the one used in CM RE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status: granted or failed due to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67747D-1F9F-4208-BB43-DDA1FBB2752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PoIB QoS Suppor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37760" y="1657080"/>
            <a:ext cx="8296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today (OFED 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d by IETF IPoIB RFC: 4391/43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is assigned by SM per IPoIB sub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 Subnet = P_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 uses broadcast group parameters for UD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, MTU, RATE, 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C0C8CD-9F89-4CFA-96F9-F8202E20BCF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MA Enhanc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37760" y="1657080"/>
            <a:ext cx="8296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SA for QoS cap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 ClassPortInfo.CapabilityMask.IsQoS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QoS fields in Path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ID – availabl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s rdma_resolve_addr args: dst_addr.sin_port, id.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ass – if optionally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(sockaddr_in6*)&amp;dst_addr-&gt;t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error code in case path is not 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6C393D-959A-4E23-A9CB-0F8AFC4F14D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LP Enhanc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37760" y="1657080"/>
            <a:ext cx="8296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Ps using CMA already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, iSER, 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Ps owning their CM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, MPI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ULP specific Servic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DSCP if specific one is defined in 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 is ULP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2A7312-531A-4759-9394-EEAE1112A80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enSM Enhanc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37760" y="1657080"/>
            <a:ext cx="8296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integrated “Passive Q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QoS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 setup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ing rule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Fabric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 requested policy is rea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etup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incoming PathRecord/MultiPath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against predefined QoS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ack QoS level: SL, LID, MTU,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197E34-1E62-4DF9-839E-23EFEC1B0D6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1:44:58Z</dcterms:created>
  <dc:creator>Hal Rosenstock, Eitan Zahavi</dc:creator>
  <dc:description/>
  <dc:language>en-US</dc:language>
  <cp:lastModifiedBy>Eitan Zahavi</cp:lastModifiedBy>
  <dcterms:modified xsi:type="dcterms:W3CDTF">2006-11-06T08:57:01Z</dcterms:modified>
  <cp:revision>1417</cp:revision>
  <dc:subject/>
  <dc:title>OpenIB OpenSM and Diags</dc:title>
</cp:coreProperties>
</file>