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openfabrics.org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67040" cy="97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34F9-29CC-4251-8EA6-B6FC3B7DDC5B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5"/>
              </a:rPr>
              <a:t>www.openfabrics.org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SER updat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Gerl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gerlitz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logo_voltair_top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2593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d into Linux kernel 2.6.18 and OF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oint effort of the IB and iSCSI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thanks to Roland, Sean and Mike Chris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push accompanied by the RDMA CM and the iSCSI kernel libr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dma_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bisc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e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are of use for other RDMA ULPs and iSCSI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MA CM IP &amp; iSER annexes approved by IB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R RFC soon to be published by the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ad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within the Linux open-iscsi initiator framework into distributions to be released at H1/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side integration with commercial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y storage vend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work on open source iSER target within the Linux STGT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ly implemented in user spac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prototype exists for INET (tcp) isc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TA iSER annex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I transfer (bi-directional scsi comma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by object storag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rly RF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planned in all levels: open-iscsi, scsi midlayer. and 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TA 1.2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List, ZBVA, Send with In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ing HW (e.g. Hermon), FW, and SW (verbs)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-Availability / Multi Pa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-iscsi and iSER comply well into standard multipathing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hing special is plan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P / iS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needed, but at the open-iscsi / distribu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hal</cp:lastModifiedBy>
  <dcterms:modified xsi:type="dcterms:W3CDTF">2006-11-17T13:29:40Z</dcterms:modified>
  <cp:revision>31</cp:revision>
  <dc:subject/>
  <dc:title>Slide 1</dc:title>
</cp:coreProperties>
</file>