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28E0-0D18-4973-BB0F-D9DFC566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hap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29E9-D207-4413-9CF4-1909AC405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81440"/>
            <a:ext cx="716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0A58-4C9E-4D0B-8150-F064B6C5DEB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4"/>
          <p:cNvSpPr/>
          <p:nvPr/>
        </p:nvSpPr>
        <p:spPr>
          <a:xfrm>
            <a:off x="2133720" y="646740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penfabrics.org/bugzilla/" TargetMode="External"/><Relationship Id="rId2" Type="http://schemas.openxmlformats.org/officeDocument/2006/relationships/hyperlink" Target="http://openfabrics.org/bugzilla/" TargetMode="External"/><Relationship Id="rId3" Type="http://schemas.openxmlformats.org/officeDocument/2006/relationships/hyperlink" Target="http://openfabrics.org/bugzilla/" TargetMode="External"/><Relationship Id="rId4" Type="http://schemas.openxmlformats.org/officeDocument/2006/relationships/hyperlink" Target="https://openib.org/tiki/tiki-index.php?page=OFED+Support" TargetMode="External"/><Relationship Id="rId5" Type="http://schemas.openxmlformats.org/officeDocument/2006/relationships/hyperlink" Target="https://openib.org/svn/gen2/branches/1.1/ofed/support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FED 1.x Roadmap &amp;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Release Proces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830840"/>
            <a:ext cx="5639040" cy="134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quyres, Woodruff, Robert J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sy Zeller, Tziporet Kor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10" descr=""/>
          <p:cNvPicPr/>
          <p:nvPr/>
        </p:nvPicPr>
        <p:blipFill>
          <a:blip r:embed="rId1"/>
          <a:stretch/>
        </p:blipFill>
        <p:spPr>
          <a:xfrm>
            <a:off x="7467480" y="5173560"/>
            <a:ext cx="13082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OS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Matrix closure: 4 weeks before the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.org: latest kernel available + previous release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9 S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S 10 (SP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4 (up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EL 5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free distros (e.g. Fedora, SuSE Pro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was not to QA any free d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based on Roland’s tree for 2.6.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o move to 2.6.20 when first RC is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port – port to supported kernels (added by OF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ut of kernel modules: SDP, RDS?, uC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t tree under the new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set next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 based on user tru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svn and move to git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official releases provided by mai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build of both kernel and user on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easy develope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ression testing run daily – does companies committed to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x 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n release featu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ly after a release is d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 / feature freeze: 11 weeks ahead the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: 3 weeks after 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 RC: 4 weeks after 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 RC: 2 weeks after R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: 2 weeks after R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Timeline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: Apr 18 (beginning Q2’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 RC: Ap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 RC: Mar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: Feb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 / feature freeze: Jan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list agreed Dec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x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reporting on bugzil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penfabrics.or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bugzill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n Wiki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openib.org/tiki/tiki-index.php?page=OFED+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a page on openfabrics.org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tches can be placed unde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openib.org/svn/gen2/branches/1.1/ofed/suppor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version can be provided by an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OFED 1.1.1 by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: Do we want common 1.1.x release for major bug fixes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libibverbs 1.0.4, IPoIB HA oop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es who is going to QA such a rel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x Release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: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list of features and see what can fit to Q1 tim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o consensus on priorities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intainers send estimation by Dec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features list in Dec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 Level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ncorporated into enterprise d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Hat EL5, SL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integration effort int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distributio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regression tests (at least for comp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nd agreed on releas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 (# nodes, # conn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vailability (define for each compon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end-user customization (e.g., patc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Features - 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Features - Libr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able release that each maintainer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a stable release for libibcm, librdmacm and libum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ibverbs 1.1: (Ro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k support (requires apps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register memory region (incl. extend without unregister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ABI extensions for new low-leve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low-level driver handling, including multiple drivers linked in statical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we want libibverbs 1.0 included to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ibcm 1.0 (S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dmacm 1.0 (S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umad 1.0 (H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1.2 Features - U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IB: NAPI, Connected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: Netstat, scalability, small messages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: No 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P: MPP integration for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S: First integration (assuming dual lic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PL: No major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D 1.2 Features -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S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 tree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Q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1.2 Features - M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PI setup 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vars.sh / mpivars.c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APICH: Version 0.9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MPI: depends on the OFA code freeze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: v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ossible: v1.1.3 and v1.2b&lt;something&gt; as tech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9:13:54Z</dcterms:created>
  <dc:creator>tziporet</dc:creator>
  <dc:description/>
  <dc:language>en-US</dc:language>
  <cp:lastModifiedBy>tziporet</cp:lastModifiedBy>
  <dcterms:modified xsi:type="dcterms:W3CDTF">2006-11-21T09:12:07Z</dcterms:modified>
  <cp:revision>1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36148047</vt:r8>
  </property>
  <property fmtid="{D5CDD505-2E9C-101B-9397-08002B2CF9AE}" pid="3" name="_AuthorEmailDisplayName">
    <vt:lpwstr>Tziporet Koren</vt:lpwstr>
  </property>
  <property fmtid="{D5CDD505-2E9C-101B-9397-08002B2CF9AE}" pid="4" name="_EmailSubject">
    <vt:lpwstr>my foils for OFED 1.x release plan</vt:lpwstr>
  </property>
  <property fmtid="{D5CDD505-2E9C-101B-9397-08002B2CF9AE}" pid="5" name="_NewReviewCycle">
    <vt:lpwstr/>
  </property>
</Properties>
</file>