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hyperlink" Target="http://www.openfabrics.org/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696080" y="152280"/>
            <a:ext cx="1067040" cy="9730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9D57-F2B2-491E-A8A3-81C3A72E1273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ff"/>
                </a:solidFill>
                <a:uFillTx/>
                <a:latin typeface="Arial"/>
                <a:hlinkClick r:id="rId5"/>
              </a:rPr>
              <a:t>www.openfabrics.org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971800" y="1905120"/>
            <a:ext cx="3200400" cy="2917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Linux Management Enhanceme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l Rosenst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logo_voltair_top" descr=""/>
          <p:cNvPicPr/>
          <p:nvPr/>
        </p:nvPicPr>
        <p:blipFill>
          <a:blip r:embed="rId1"/>
          <a:stretch/>
        </p:blipFill>
        <p:spPr>
          <a:xfrm>
            <a:off x="6400800" y="5029200"/>
            <a:ext cx="25938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SM Command Line Interf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ication with diags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getopt() wrap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fied extension per utility for specific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ine/config for Open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 line options/config parameters unification into single config module with different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pos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pt() wrapper (as command line interf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 parser, loader, and relo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dynamic config parameter changing in Open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umptions for IB Router Simplif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s for simplest static ro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P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S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 known MG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M Axi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8600" y="2743200"/>
            <a:ext cx="73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 problems are SM problems until proven other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4628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 router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 port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PathRecord &amp; MCMember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net Administration (SA)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 database dump/res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Info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Info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y other optional records currently not supported (SMInfoRecord, SwitchInfo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athRecord 1.2 errata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162920" y="2057400"/>
            <a:ext cx="1600200" cy="3808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162920" y="4114800"/>
            <a:ext cx="1600200" cy="3808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Jan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162920" y="2514600"/>
            <a:ext cx="1600200" cy="3808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c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162920" y="4648320"/>
            <a:ext cx="1600200" cy="3808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Jan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62920" y="5181480"/>
            <a:ext cx="1600200" cy="3812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2920" y="6019920"/>
            <a:ext cx="1600200" cy="3808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ug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3657600"/>
            <a:ext cx="1600200" cy="3808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ar routing for multi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routing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tan’s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 (torus rou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ing support for link load bala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DR/DDR, 1x/4x/1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emon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events handling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Description changed trap ha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162920" y="2514600"/>
            <a:ext cx="1600200" cy="3808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162920" y="3048120"/>
            <a:ext cx="1600200" cy="3808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62920" y="1676520"/>
            <a:ext cx="1600200" cy="3808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c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162920" y="4267080"/>
            <a:ext cx="1600200" cy="3812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r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62920" y="4724280"/>
            <a:ext cx="1600200" cy="3812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Jun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62920" y="5181480"/>
            <a:ext cx="1600200" cy="3812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62920" y="3733920"/>
            <a:ext cx="1600200" cy="3808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162920" y="5715000"/>
            <a:ext cx="1600200" cy="3808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of Service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Fail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keley DB as backen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62920" y="2362320"/>
            <a:ext cx="1600200" cy="3808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ug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162920" y="1752480"/>
            <a:ext cx="1600200" cy="3812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62920" y="2971800"/>
            <a:ext cx="1600200" cy="3808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agno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D and GUID on output of diag to make it easier to gr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er port characteristic 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portstate enhanc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ct additional fabric inconsist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diag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Mellanox con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15200" y="1828800"/>
            <a:ext cx="1600200" cy="3808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pr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15200" y="5029200"/>
            <a:ext cx="1600200" cy="3808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15200" y="2743200"/>
            <a:ext cx="1600200" cy="3808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pr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15200" y="3352680"/>
            <a:ext cx="1600200" cy="3812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15200" y="4038480"/>
            <a:ext cx="1600200" cy="3812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pr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and Shameless Plu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good fortune for over 2 ½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t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 and other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coming year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onsumers/testers/environments now and growing all th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(developer) contributor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SM Daemon M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dout/stderr re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ge with lo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emon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 deta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ssion lead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orking to 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e log rotation while ru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ied and refreshable configu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her than cached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threads handling especially termination and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45:04Z</dcterms:created>
  <dc:creator>Gabriela</dc:creator>
  <dc:description/>
  <dc:language>en-US</dc:language>
  <cp:lastModifiedBy>hal</cp:lastModifiedBy>
  <dcterms:modified xsi:type="dcterms:W3CDTF">2006-11-17T13:28:03Z</dcterms:modified>
  <cp:revision>60</cp:revision>
  <dc:subject/>
  <dc:title>Slide 1</dc:title>
</cp:coreProperties>
</file>