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9F26-6B71-4DE7-88CF-BE516FD6E1EC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ore Change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 T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Featu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, well understood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an run on any device and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an take advantage of transport and/or vendor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 queried at run-time, not discovered by trial and err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Featu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fields in a capabilities m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pointers (potentially null) in the device func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fields used to indicate whether a particular feature implemented as an SQ WR is present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ate ST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 Memor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and In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 with 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Pointers used for features implemented as Verb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mor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ed Device Attribu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relevant device attributes are exported currently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MA_READ SGE limit_x0003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A_MR siz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ttributes need to be added to the device attribute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 clean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naming of min/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scriptiv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WARP CM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stack port spac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ports consumed by native stack will be seen by the iWARP CM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D/OR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inbound and outbound limits exchanged in private data at connection establishment -- needs IETF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can-do approach implemented with conn_req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2#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 events expanded to included peer’s advertised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_req parameters are absolutes and connect/accept fails if they can’t be hon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mode connection 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p_listen, llp_connect, llp_accept, llp_send, llp_recv (needed for iSER spec. comp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et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ma_create_from_fd - returns bound rdma_cm_id from 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I 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mod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v_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dma_ for all data types and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wider review,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System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 is not an IP protocol so it shares the TCP port space like imap, or 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need the ability to specify when to use RDMA vs. TCP for multi-transpor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/etc/services,  portm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proposal for RDMA services names and port numbers, e.g. “rnf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er Vend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contribute more than just your device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eed our engineers under the door, but their kids at home eat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interested, let us know. There’s plenty to 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3:52:27Z</dcterms:created>
  <dc:creator>Tom Tucker</dc:creator>
  <dc:description/>
  <dc:language>en-US</dc:language>
  <cp:lastModifiedBy>Tom Tucker</cp:lastModifiedBy>
  <dcterms:modified xsi:type="dcterms:W3CDTF">2006-11-17T16:16:15Z</dcterms:modified>
  <cp:revision>6</cp:revision>
  <dc:subject/>
  <dc:title>iWARP Status</dc:title>
</cp:coreProperties>
</file>