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294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8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5004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81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11400" y="6956280"/>
            <a:ext cx="5108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A54BC-A5EC-46D1-AC29-634B50AFB2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04680" y="627120"/>
            <a:ext cx="7543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OFED Management Tools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36480" y="3141720"/>
            <a:ext cx="760716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a We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wrence Livermore National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ED Developer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vember 16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81000" y="179280"/>
            <a:ext cx="76932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Where's the co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00360" y="1473120"/>
            <a:ext cx="787392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ill can be hard to determine actual source for OFED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ed_makedist.sh is a BIG hel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how do we know if it is pulling the correct OFED ver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18880" y="517680"/>
            <a:ext cx="69008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Thanks to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80880" y="2158560"/>
            <a:ext cx="66913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l Rosenstock (Xsi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sha Khapyorsky (Volta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im Meier (LLN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 Chu (LLN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5080" y="1047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Clusters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20800" y="1999800"/>
            <a:ext cx="7880400" cy="32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eloton: Zeus 288; Rhea 576; Atlas 1152; Minos 86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isualization: Gauss 257; Prism 129; Mobius 17; Vertex 17; Stagg 10; Boole 6; Grant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otal Infiniband connected nodes at LLNL: 332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ot including test re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more on the way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22200" y="228600"/>
            <a:ext cx="76932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LLNL OFED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147312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de-name-map support in diags/Open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nSM event plugin (libopensmskummeeplu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nSM console (working on secure conn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28600" y="-158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68580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node-name-map for better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SUBN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3 Xmit Discards in 5 sec on node 0x2c90200219e64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2 Xmit Discards in 5 sec on node 0x2c90200222728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2 Xmit Discards in 5 sec on node 0x2c902002265ec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SUBN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3 Xmit Discards in 5 sec on wopri (0x2c90200219e64)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2 Xmit Discards in 5 sec on wopr4 (0x2c90200222728)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...Found 2 Xmit Discards in 5 sec on wopr3 (0x2c902002265ec) po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12880" y="685800"/>
            <a:ext cx="81169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OpenSM PerfMgr</a:t>
            </a:r>
            <a:br>
              <a:rPr sz="4400"/>
            </a:br>
            <a:br>
              <a:rPr sz="1600"/>
            </a:b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OpenSM $ perfmg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Performance Manager statu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state                   :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sweep state             : Sl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sweep time              :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outstanding queries/max : 0/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loaded event plugin     : opensmskummeeplu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OpenSM $ help perfm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perfmgr [enable|disable|clear_counters|dump_counters|sweep_time[seconds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perfmgr -- print the performance manager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[enable|disable] -- change the perfmgr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[sweep_time] -- change the perfmgr sweep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[clear_counters] -- clear the counters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[dump_counters [mach]] -- dump the counters (optionall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[mach]ine readable form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3366"/>
                </a:solidFill>
                <a:latin typeface="Courier New"/>
                <a:ea typeface="Courier New"/>
              </a:rPr>
              <a:t>OpenSM 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307800"/>
            <a:ext cx="8116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Skummee</a:t>
            </a:r>
            <a:br>
              <a:rPr sz="1000"/>
            </a:br>
            <a:br>
              <a:rPr sz="1000"/>
            </a:br>
            <a:r>
              <a:rPr b="1" lang="en-GB" sz="2000" spc="-1" strike="noStrike">
                <a:solidFill>
                  <a:srgbClr val="333366"/>
                </a:solidFill>
                <a:latin typeface="Times New Roman"/>
              </a:rPr>
              <a:t>Skummee is an open source, web based cluster monitoring packag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2480" y="1649520"/>
            <a:ext cx="5554800" cy="44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94200" y="2878200"/>
            <a:ext cx="5486400" cy="420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6400800"/>
            <a:ext cx="48006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1600" spc="-1" strike="noStrike">
                <a:solidFill>
                  <a:srgbClr val="333366"/>
                </a:solidFill>
                <a:latin typeface="Times New Roman"/>
              </a:rPr>
              <a:t>http://sourceforge.net/projects/skumme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138240"/>
            <a:ext cx="8345520" cy="74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libopensmskummeeplugin</a:t>
            </a:r>
            <a:br>
              <a:rPr sz="1000"/>
            </a:br>
            <a:br>
              <a:rPr sz="1000"/>
            </a:b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mysql&gt; select name,port,xmit_data,rcv_data from port_data_counters,nodes where port_data_counters.guid=nodes.gu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+--------------------------------------------+------+-------------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name                                       | port | xmit_data   | rcv_data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+--------------------------------------------+------+-------------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wopri                                      |    1 |  5039089238 |  5039201617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MT25218 InfiniHostEx Mellanox Technologies |    1 |       36936 |       36996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wopr4                                      |    1 | 20104882471 | 19682066922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MT25218 InfiniHostEx Mellanox Technologies |    1 |       36792 |       36852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wopr3                                      |    1 |  5038101616 |  5037953444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wopr5                                      |    1 | 19682162591 | 20104971945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1 |       37140 |       3708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2 |       36996 |       36936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3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4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5 |  5037943084 |  5038089256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6 | 20104833780 | 19681956046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7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8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 9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0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1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2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3 |  5039043380 |  5038892151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4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5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6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7 | 19681300979 | 20104381517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8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19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20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21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22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23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| SW1 wopr ISR9024D (MLX4 FW)                |   24 |           0 |           0 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+--------------------------------------------+------+-------------+-----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66"/>
                </a:solidFill>
                <a:latin typeface="Courier New"/>
                <a:ea typeface="Courier New"/>
              </a:rPr>
              <a:t>30 rows in set (0.00 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8640" y="150840"/>
            <a:ext cx="599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Issues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1371600"/>
            <a:ext cx="7897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s are better now, but still ne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quire sweeping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k for diagnosing some problems but can be time consuming and increase load for normal monit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net must be “up” for tools to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9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66"/>
                </a:solidFill>
                <a:latin typeface="Times New Roman"/>
              </a:rPr>
              <a:t>Possible Solutions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487520"/>
            <a:ext cx="78976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e more with Open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SM knows more about the subnet, leverage this information for “normal”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event plugin and cons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 diags through the use of out of ba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LLNL this involves the use of an ethernet “management”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solutions may be to use known subnet configuration to compare agai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