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11.jpeg" ContentType="image/jpeg"/>
  <Override PartName="/ppt/media/image24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2.png" ContentType="image/png"/>
  <Override PartName="/ppt/media/image27.png" ContentType="image/png"/>
  <Override PartName="/ppt/media/image61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4.png" ContentType="image/png"/>
  <Override PartName="/ppt/media/image41.png" ContentType="image/png"/>
  <Override PartName="/ppt/media/image4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3A88-F349-4E7E-A53F-FF3F3A783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6D0B-20B9-4FFF-89AE-56B4ACED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A3A-39A0-49D9-82F2-FA5B9E77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003-23E8-433F-8951-40E3FF64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443-DFB4-417D-9284-62E114BC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2D1-48C4-4FC9-905E-B93886EB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CBF8-E55A-4456-8369-D01573D0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FAAB-4A0A-4C64-B954-46B3730B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DA75-4B42-45FD-BB2F-325A51AC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0FF9-CF97-4306-BCE2-F06F42CC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CB5B-C2EA-4037-9248-11EB14AE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0819-2E27-4DF0-9A5F-804D2058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8C75-6BDC-487B-9640-0F207AE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CB9-BCA7-45DD-B5F6-8042F45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493C-446A-4D12-B143-6BE184D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B3E2-035D-4E30-A2F0-82F24ACD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035D-E145-4ED4-A8B1-8F885BB5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141E-EC37-4AF6-8C42-79DA1899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1BF-8AD2-4F20-B522-EF10177B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D7A1-9D7F-4CA3-8919-2D6AA4E3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4D54-E574-425F-8F59-17A707D2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70DA-95F0-4D89-BBA1-D17BE58B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FBBD-813A-40CF-9D01-56159063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491A-D8EA-46DE-9D13-ECD13D70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22E-F983-4B5E-8C72-7D916CA5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A9FB-4466-4EBA-A295-A9D57CFC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3A58-7ACE-4634-8ADD-EF041A96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518E-160E-4780-B4FA-440983B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897F-9E60-4B99-9BA6-149BB3C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599A-576E-46EC-8C84-6FB4E247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35ED-9E06-481D-89E3-8DC5483F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C09A-E04B-4435-85A2-3A4E6E57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9FED4-1F25-40CE-B03F-B31612C6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FE94-D328-4FC7-889B-EBDB6ACC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C76B0-C29E-40C0-8BC0-D46418AF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E63-3683-454D-900F-2973C524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8218E-6C27-4189-999A-B8A88C0C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33825-6E4D-49A9-87A7-ABAA9832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F70EF-F8DF-40BB-BEC0-742113E0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C9444-5440-4E09-97BF-F80F955B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9258-1550-4BA9-A3A0-6320C47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4572-00D0-432C-B88F-EC4C1347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F3C5-FD68-4F88-9369-C9AB2EFF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91E6-21AB-4BC8-B05A-5DBF4A91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8060-3E08-4179-94AB-241B2587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1EF2-7D29-4A1A-AF68-545511BD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74B-27A4-4F98-80B7-6F67E577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3FA6E-4853-4FB7-965B-C59FFF96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0F9AD-3886-4F64-B8C7-2520EAB4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E3E2-4FAA-4802-AAAF-1EDE3E6C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F0379-02D9-4137-9F07-1F81654E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7C00F-157C-42AF-B6F9-20E57837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90C6C-6F8A-41D8-B1FC-D462C844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2C8E9-0A49-4DF8-BD20-17F55B6C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C45D-52CB-4C99-8DFE-E1F33BE1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8E14-0CB2-4D79-93E7-A84D7E26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0FB6-6A9E-48CA-A716-05E6AC61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675-FCBE-4F45-8182-2B2E2E37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199F7-007E-486C-A596-964CAB2A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12D-4B8D-4354-8D2F-16509834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01D-8719-4C0F-9871-7A968B9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D7C-2863-41B2-B4E0-2E92898E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AC9-DF73-4550-849B-A8E4180681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EA69-FC3A-476D-96E3-00A61C893F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4D86-45FB-41B3-8FAD-95BAAF6305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4C9E-5FAF-4BF4-9F04-B6FA839AA4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9CE3-0429-400F-B094-409093AA7AE8}" type="datetime">
              <a:rPr b="0" lang="en-US" sz="11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5c75"/>
                </a:solidFill>
                <a:latin typeface="Times New Roman"/>
              </a:rPr>
              <a:t>F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5c75"/>
                </a:solidFill>
                <a:latin typeface="Times New Roman"/>
              </a:rPr>
              <a:t>‹</a:t>
            </a:r>
            <a:r>
              <a:rPr b="0" lang="en-US" sz="1000" spc="-1" strike="noStrike">
                <a:solidFill>
                  <a:srgbClr val="045c75"/>
                </a:solidFill>
                <a:latin typeface="Times New Roman"/>
              </a:rPr>
              <a:t>#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45.png"/><Relationship Id="rId32" Type="http://schemas.openxmlformats.org/officeDocument/2006/relationships/image" Target="../media/image46.png"/><Relationship Id="rId3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image" Target="../media/image61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68.png"/><Relationship Id="rId5" Type="http://schemas.openxmlformats.org/officeDocument/2006/relationships/image" Target="../media/image70.png"/><Relationship Id="rId6" Type="http://schemas.openxmlformats.org/officeDocument/2006/relationships/image" Target="../media/image70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image" Target="../media/image6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304920" y="1365120"/>
            <a:ext cx="8521560" cy="1901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 brief overview with emphasis on cluster perform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418680" y="5638680"/>
            <a:ext cx="406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ic Lantz  (elantz@microsoft.co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ead Program Manager , HPC Tea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soft Corp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4510440" y="5638680"/>
            <a:ext cx="403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ab Tillier (ftillier@microsoft.com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veloper, HPC Tea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soft Corp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4617b"/>
                </a:solidFill>
                <a:latin typeface="Calibri"/>
              </a:rPr>
              <a:t>Multi-Core is Key</a:t>
            </a:r>
            <a:br>
              <a:rPr sz="3600"/>
            </a:b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Big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 improvements in MS-MPI shared memory communications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S-MPI automatically routes betwe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red Memory: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etween processes on a single [multi-proc] no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twork: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CP, RDMA (WinsockDirect, NetworkDirect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S-MPIv1 monitored incoming shmem traffic by aggressively polling [for low latency] which caused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ratic latency measureme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igh CPU utiliz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S-MPIv2 uses entirely new shmem approa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irect process-to-process copy to increase shm throughpu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dvanced algorithms to get the best shm latency while keeping CPU utilization low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0864-33E3-40A2-A578-69C16834B76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5967360" y="1962000"/>
            <a:ext cx="25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Preli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hmem resul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Table 7" descr=""/>
          <p:cNvPicPr/>
          <p:nvPr/>
        </p:nvPicPr>
        <p:blipFill>
          <a:blip r:embed="rId1"/>
          <a:stretch/>
        </p:blipFill>
        <p:spPr>
          <a:xfrm>
            <a:off x="6022800" y="2212920"/>
            <a:ext cx="27864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NetworkDirect</a:t>
            </a:r>
            <a:br>
              <a:rPr sz="36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new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 RDMA networking interface built for speed and stability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5360" y="1399680"/>
            <a:ext cx="450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rior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714600" indent="-27576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qual toHardware-Optimized stacks for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MP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micro-benchmark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275760">
              <a:lnSpc>
                <a:spcPct val="90000"/>
              </a:lnSpc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Focus on </a:t>
            </a:r>
            <a:r>
              <a:rPr b="1" lang="en-US" sz="1300" spc="-1" strike="noStrike">
                <a:solidFill>
                  <a:srgbClr val="000000"/>
                </a:solidFill>
                <a:latin typeface="Constantia"/>
              </a:rPr>
              <a:t>MPI-Only Solution for CCSv2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714600" indent="-27576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Verbs-based design for close fit with native, high-perf networking interfac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714600" indent="-27576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ordinated w/ Win Networking team’s long-term plan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714600" indent="-27576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S-MPIv2 capable of 4 networking paths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275760">
              <a:lnSpc>
                <a:spcPct val="90000"/>
              </a:lnSpc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Shared Memory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between processors on a motherboard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275760">
              <a:lnSpc>
                <a:spcPct val="90000"/>
              </a:lnSpc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TCP/IP Stack (“normal” Ethernet)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275760">
              <a:lnSpc>
                <a:spcPct val="90000"/>
              </a:lnSpc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Winsock Direc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for sockets-based RDMA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275760">
              <a:lnSpc>
                <a:spcPct val="90000"/>
              </a:lnSpc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New NetworkDirect interfac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714600" indent="-27576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PC team partnering with networking IHVs to develop/distribute drivers for this new interfac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5" name="Group 9"/>
          <p:cNvGrpSpPr/>
          <p:nvPr/>
        </p:nvGrpSpPr>
        <p:grpSpPr>
          <a:xfrm>
            <a:off x="4800600" y="3713040"/>
            <a:ext cx="4187880" cy="938160"/>
            <a:chOff x="4800600" y="3713040"/>
            <a:chExt cx="4187880" cy="938160"/>
          </a:xfrm>
        </p:grpSpPr>
        <p:sp>
          <p:nvSpPr>
            <p:cNvPr id="286" name="Line 10"/>
            <p:cNvSpPr/>
            <p:nvPr/>
          </p:nvSpPr>
          <p:spPr>
            <a:xfrm>
              <a:off x="4800600" y="4100400"/>
              <a:ext cx="4096800" cy="0"/>
            </a:xfrm>
            <a:prstGeom prst="line">
              <a:avLst/>
            </a:prstGeom>
            <a:ln w="255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8465760" y="3713040"/>
              <a:ext cx="522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nstantia"/>
                </a:rPr>
                <a:t>User Mode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8" name="Text Box 12"/>
            <p:cNvSpPr/>
            <p:nvPr/>
          </p:nvSpPr>
          <p:spPr>
            <a:xfrm>
              <a:off x="8429040" y="4100400"/>
              <a:ext cx="542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nstantia"/>
                </a:rPr>
                <a:t>Kernel Mode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89" name="Text Box 43"/>
          <p:cNvSpPr/>
          <p:nvPr/>
        </p:nvSpPr>
        <p:spPr>
          <a:xfrm>
            <a:off x="4828320" y="3352680"/>
            <a:ext cx="925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TCP/Ethernet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Networking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 Box 48"/>
          <p:cNvSpPr/>
          <p:nvPr/>
        </p:nvSpPr>
        <p:spPr>
          <a:xfrm rot="16200000">
            <a:off x="7536240" y="4723200"/>
            <a:ext cx="116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Kernel By-Pass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91" name="Rectangle 68"/>
          <p:cNvGrpSpPr/>
          <p:nvPr/>
        </p:nvGrpSpPr>
        <p:grpSpPr>
          <a:xfrm>
            <a:off x="6254640" y="1566720"/>
            <a:ext cx="2273400" cy="524160"/>
            <a:chOff x="6254640" y="1566720"/>
            <a:chExt cx="2273400" cy="524160"/>
          </a:xfrm>
        </p:grpSpPr>
        <p:pic>
          <p:nvPicPr>
            <p:cNvPr id="292" name="Rectangle 68" descr=""/>
            <p:cNvPicPr/>
            <p:nvPr/>
          </p:nvPicPr>
          <p:blipFill>
            <a:blip r:embed="rId1"/>
            <a:stretch/>
          </p:blipFill>
          <p:spPr>
            <a:xfrm>
              <a:off x="6254640" y="1566720"/>
              <a:ext cx="22734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327720" y="160020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nstantia"/>
                </a:rPr>
                <a:t>MPI App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4" name="Rectangle 69"/>
          <p:cNvGrpSpPr/>
          <p:nvPr/>
        </p:nvGrpSpPr>
        <p:grpSpPr>
          <a:xfrm>
            <a:off x="5187960" y="1566720"/>
            <a:ext cx="1066680" cy="524160"/>
            <a:chOff x="5187960" y="1566720"/>
            <a:chExt cx="1066680" cy="524160"/>
          </a:xfrm>
        </p:grpSpPr>
        <p:pic>
          <p:nvPicPr>
            <p:cNvPr id="295" name="Rectangle 69" descr=""/>
            <p:cNvPicPr/>
            <p:nvPr/>
          </p:nvPicPr>
          <p:blipFill>
            <a:blip r:embed="rId2"/>
            <a:stretch/>
          </p:blipFill>
          <p:spPr>
            <a:xfrm>
              <a:off x="5187960" y="1566720"/>
              <a:ext cx="106668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261040" y="16002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nstantia"/>
                </a:rPr>
                <a:t>Socket-Based App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7" name="Rectangle 70"/>
          <p:cNvGrpSpPr/>
          <p:nvPr/>
        </p:nvGrpSpPr>
        <p:grpSpPr>
          <a:xfrm>
            <a:off x="6254640" y="2023920"/>
            <a:ext cx="2273400" cy="451080"/>
            <a:chOff x="6254640" y="2023920"/>
            <a:chExt cx="2273400" cy="451080"/>
          </a:xfrm>
        </p:grpSpPr>
        <p:pic>
          <p:nvPicPr>
            <p:cNvPr id="298" name="Rectangle 70" descr=""/>
            <p:cNvPicPr/>
            <p:nvPr/>
          </p:nvPicPr>
          <p:blipFill>
            <a:blip r:embed="rId3"/>
            <a:stretch/>
          </p:blipFill>
          <p:spPr>
            <a:xfrm>
              <a:off x="6254640" y="2023920"/>
              <a:ext cx="2273400" cy="4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327720" y="2057400"/>
              <a:ext cx="2133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nstantia"/>
                </a:rPr>
                <a:t>MS-MPI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0" name="Rectangle 71"/>
          <p:cNvGrpSpPr/>
          <p:nvPr/>
        </p:nvGrpSpPr>
        <p:grpSpPr>
          <a:xfrm>
            <a:off x="5267160" y="2401920"/>
            <a:ext cx="2121120" cy="603360"/>
            <a:chOff x="5267160" y="2401920"/>
            <a:chExt cx="2121120" cy="603360"/>
          </a:xfrm>
        </p:grpSpPr>
        <p:pic>
          <p:nvPicPr>
            <p:cNvPr id="301" name="Rectangle 71" descr=""/>
            <p:cNvPicPr/>
            <p:nvPr/>
          </p:nvPicPr>
          <p:blipFill>
            <a:blip r:embed="rId4"/>
            <a:stretch/>
          </p:blipFill>
          <p:spPr>
            <a:xfrm>
              <a:off x="5267160" y="2401920"/>
              <a:ext cx="2121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5337000" y="2438280"/>
              <a:ext cx="198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12"/>
                </a:spcBef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nstantia"/>
                </a:rPr>
                <a:t>Windows Socket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Constantia"/>
                </a:rPr>
                <a:t>  (Winsock + WSD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3" name="Group 76"/>
          <p:cNvGrpSpPr/>
          <p:nvPr/>
        </p:nvGrpSpPr>
        <p:grpSpPr>
          <a:xfrm>
            <a:off x="5261040" y="5761080"/>
            <a:ext cx="3276360" cy="411120"/>
            <a:chOff x="5261040" y="5761080"/>
            <a:chExt cx="3276360" cy="411120"/>
          </a:xfrm>
        </p:grpSpPr>
        <p:grpSp>
          <p:nvGrpSpPr>
            <p:cNvPr id="304" name="Rectangle 73"/>
            <p:cNvGrpSpPr/>
            <p:nvPr/>
          </p:nvGrpSpPr>
          <p:grpSpPr>
            <a:xfrm>
              <a:off x="5307480" y="5761080"/>
              <a:ext cx="3229920" cy="330840"/>
              <a:chOff x="5307480" y="5761080"/>
              <a:chExt cx="3229920" cy="330840"/>
            </a:xfrm>
          </p:grpSpPr>
          <p:pic>
            <p:nvPicPr>
              <p:cNvPr id="305" name="Rectangle 73" descr=""/>
              <p:cNvPicPr/>
              <p:nvPr/>
            </p:nvPicPr>
            <p:blipFill>
              <a:blip r:embed="rId5"/>
              <a:stretch/>
            </p:blipFill>
            <p:spPr>
              <a:xfrm>
                <a:off x="5307480" y="5761080"/>
                <a:ext cx="322992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5374800" y="5788080"/>
                <a:ext cx="30960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7" name="Rectangle 74"/>
            <p:cNvGrpSpPr/>
            <p:nvPr/>
          </p:nvGrpSpPr>
          <p:grpSpPr>
            <a:xfrm>
              <a:off x="5284080" y="5796720"/>
              <a:ext cx="3229920" cy="330840"/>
              <a:chOff x="5284080" y="5796720"/>
              <a:chExt cx="3229920" cy="330840"/>
            </a:xfrm>
          </p:grpSpPr>
          <p:pic>
            <p:nvPicPr>
              <p:cNvPr id="308" name="Rectangle 74" descr=""/>
              <p:cNvPicPr/>
              <p:nvPr/>
            </p:nvPicPr>
            <p:blipFill>
              <a:blip r:embed="rId6"/>
              <a:stretch/>
            </p:blipFill>
            <p:spPr>
              <a:xfrm>
                <a:off x="5284080" y="5796720"/>
                <a:ext cx="322992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5351400" y="5825520"/>
                <a:ext cx="30960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0" name="Rectangle 75"/>
            <p:cNvGrpSpPr/>
            <p:nvPr/>
          </p:nvGrpSpPr>
          <p:grpSpPr>
            <a:xfrm>
              <a:off x="5261040" y="5841360"/>
              <a:ext cx="3229920" cy="330840"/>
              <a:chOff x="5261040" y="5841360"/>
              <a:chExt cx="3229920" cy="330840"/>
            </a:xfrm>
          </p:grpSpPr>
          <p:pic>
            <p:nvPicPr>
              <p:cNvPr id="311" name="Rectangle 75" descr=""/>
              <p:cNvPicPr/>
              <p:nvPr/>
            </p:nvPicPr>
            <p:blipFill>
              <a:blip r:embed="rId7"/>
              <a:stretch/>
            </p:blipFill>
            <p:spPr>
              <a:xfrm>
                <a:off x="5261040" y="5841360"/>
                <a:ext cx="322992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5331600" y="5865840"/>
                <a:ext cx="30960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313" name="Group 76"/>
          <p:cNvGrpSpPr/>
          <p:nvPr/>
        </p:nvGrpSpPr>
        <p:grpSpPr>
          <a:xfrm>
            <a:off x="5261040" y="5389560"/>
            <a:ext cx="2819160" cy="411120"/>
            <a:chOff x="5261040" y="5389560"/>
            <a:chExt cx="2819160" cy="411120"/>
          </a:xfrm>
        </p:grpSpPr>
        <p:grpSp>
          <p:nvGrpSpPr>
            <p:cNvPr id="314" name="Rectangle 77"/>
            <p:cNvGrpSpPr/>
            <p:nvPr/>
          </p:nvGrpSpPr>
          <p:grpSpPr>
            <a:xfrm>
              <a:off x="5301360" y="5389560"/>
              <a:ext cx="2778840" cy="334440"/>
              <a:chOff x="5301360" y="5389560"/>
              <a:chExt cx="2778840" cy="334440"/>
            </a:xfrm>
          </p:grpSpPr>
          <p:pic>
            <p:nvPicPr>
              <p:cNvPr id="315" name="Rectangle 77" descr=""/>
              <p:cNvPicPr/>
              <p:nvPr/>
            </p:nvPicPr>
            <p:blipFill>
              <a:blip r:embed="rId8"/>
              <a:stretch/>
            </p:blipFill>
            <p:spPr>
              <a:xfrm>
                <a:off x="5301360" y="5389560"/>
                <a:ext cx="2778840" cy="33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5367960" y="5416560"/>
                <a:ext cx="26460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7" name="Rectangle 78"/>
            <p:cNvGrpSpPr/>
            <p:nvPr/>
          </p:nvGrpSpPr>
          <p:grpSpPr>
            <a:xfrm>
              <a:off x="5278320" y="5425560"/>
              <a:ext cx="2778840" cy="334440"/>
              <a:chOff x="5278320" y="5425560"/>
              <a:chExt cx="2778840" cy="334440"/>
            </a:xfrm>
          </p:grpSpPr>
          <p:pic>
            <p:nvPicPr>
              <p:cNvPr id="318" name="Rectangle 78" descr=""/>
              <p:cNvPicPr/>
              <p:nvPr/>
            </p:nvPicPr>
            <p:blipFill>
              <a:blip r:embed="rId9"/>
              <a:stretch/>
            </p:blipFill>
            <p:spPr>
              <a:xfrm>
                <a:off x="5278320" y="5425560"/>
                <a:ext cx="2778840" cy="33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5348160" y="5454360"/>
                <a:ext cx="26460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20" name="Rectangle 79"/>
            <p:cNvGrpSpPr/>
            <p:nvPr/>
          </p:nvGrpSpPr>
          <p:grpSpPr>
            <a:xfrm>
              <a:off x="5261040" y="5466240"/>
              <a:ext cx="2778840" cy="334440"/>
              <a:chOff x="5261040" y="5466240"/>
              <a:chExt cx="2778840" cy="334440"/>
            </a:xfrm>
          </p:grpSpPr>
          <p:pic>
            <p:nvPicPr>
              <p:cNvPr id="321" name="Rectangle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5261040" y="5466240"/>
                <a:ext cx="2778840" cy="33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5330880" y="5495400"/>
                <a:ext cx="26460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Hardware Driver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323" name="Group 81"/>
          <p:cNvGrpSpPr/>
          <p:nvPr/>
        </p:nvGrpSpPr>
        <p:grpSpPr>
          <a:xfrm>
            <a:off x="5261040" y="4889520"/>
            <a:ext cx="969840" cy="566640"/>
            <a:chOff x="5261040" y="4889520"/>
            <a:chExt cx="969840" cy="566640"/>
          </a:xfrm>
        </p:grpSpPr>
        <p:grpSp>
          <p:nvGrpSpPr>
            <p:cNvPr id="324" name="Rectangle 81"/>
            <p:cNvGrpSpPr/>
            <p:nvPr/>
          </p:nvGrpSpPr>
          <p:grpSpPr>
            <a:xfrm>
              <a:off x="5319360" y="4889520"/>
              <a:ext cx="911520" cy="474840"/>
              <a:chOff x="5319360" y="4889520"/>
              <a:chExt cx="911520" cy="474840"/>
            </a:xfrm>
          </p:grpSpPr>
          <p:pic>
            <p:nvPicPr>
              <p:cNvPr id="325" name="Rectangle 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5319360" y="4889520"/>
                <a:ext cx="91152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5384160" y="4918680"/>
                <a:ext cx="78876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27" name="Rectangle 82"/>
            <p:cNvGrpSpPr/>
            <p:nvPr/>
          </p:nvGrpSpPr>
          <p:grpSpPr>
            <a:xfrm>
              <a:off x="5292720" y="4933080"/>
              <a:ext cx="911520" cy="474840"/>
              <a:chOff x="5292720" y="4933080"/>
              <a:chExt cx="911520" cy="474840"/>
            </a:xfrm>
          </p:grpSpPr>
          <p:pic>
            <p:nvPicPr>
              <p:cNvPr id="328" name="Rectangle 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292720" y="4933080"/>
                <a:ext cx="91152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5356080" y="4962240"/>
                <a:ext cx="78876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30" name="Rectangle 83"/>
            <p:cNvGrpSpPr/>
            <p:nvPr/>
          </p:nvGrpSpPr>
          <p:grpSpPr>
            <a:xfrm>
              <a:off x="5261040" y="4981320"/>
              <a:ext cx="911520" cy="474840"/>
              <a:chOff x="5261040" y="4981320"/>
              <a:chExt cx="911520" cy="474840"/>
            </a:xfrm>
          </p:grpSpPr>
          <p:pic>
            <p:nvPicPr>
              <p:cNvPr id="331" name="Rectangle 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261040" y="4981320"/>
                <a:ext cx="91152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5325120" y="5009760"/>
                <a:ext cx="78876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Mini-port Driver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333" name="Group 71"/>
          <p:cNvGrpSpPr/>
          <p:nvPr/>
        </p:nvGrpSpPr>
        <p:grpSpPr>
          <a:xfrm>
            <a:off x="5261040" y="4219560"/>
            <a:ext cx="888840" cy="750960"/>
            <a:chOff x="5261040" y="4219560"/>
            <a:chExt cx="888840" cy="750960"/>
          </a:xfrm>
        </p:grpSpPr>
        <p:grpSp>
          <p:nvGrpSpPr>
            <p:cNvPr id="334" name="Rectangle 85"/>
            <p:cNvGrpSpPr/>
            <p:nvPr/>
          </p:nvGrpSpPr>
          <p:grpSpPr>
            <a:xfrm>
              <a:off x="5261040" y="4219560"/>
              <a:ext cx="888840" cy="316800"/>
              <a:chOff x="5261040" y="4219560"/>
              <a:chExt cx="888840" cy="316800"/>
            </a:xfrm>
          </p:grpSpPr>
          <p:pic>
            <p:nvPicPr>
              <p:cNvPr id="335" name="Rectangle 85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61040" y="4219560"/>
                <a:ext cx="8888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5324400" y="4250880"/>
                <a:ext cx="76716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TCP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37" name="Rectangle 86"/>
            <p:cNvGrpSpPr/>
            <p:nvPr/>
          </p:nvGrpSpPr>
          <p:grpSpPr>
            <a:xfrm>
              <a:off x="5261040" y="4658760"/>
              <a:ext cx="888840" cy="311760"/>
              <a:chOff x="5261040" y="4658760"/>
              <a:chExt cx="888840" cy="311760"/>
            </a:xfrm>
          </p:grpSpPr>
          <p:pic>
            <p:nvPicPr>
              <p:cNvPr id="338" name="Rectangle 86" descr=""/>
              <p:cNvPicPr/>
              <p:nvPr/>
            </p:nvPicPr>
            <p:blipFill>
              <a:blip r:embed="rId15"/>
              <a:stretch/>
            </p:blipFill>
            <p:spPr>
              <a:xfrm>
                <a:off x="5261040" y="4658760"/>
                <a:ext cx="888840" cy="31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5324400" y="4688640"/>
                <a:ext cx="76716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NDIS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40" name="Rectangle 87"/>
            <p:cNvGrpSpPr/>
            <p:nvPr/>
          </p:nvGrpSpPr>
          <p:grpSpPr>
            <a:xfrm>
              <a:off x="5261040" y="4439160"/>
              <a:ext cx="888840" cy="311760"/>
              <a:chOff x="5261040" y="4439160"/>
              <a:chExt cx="888840" cy="311760"/>
            </a:xfrm>
          </p:grpSpPr>
          <p:pic>
            <p:nvPicPr>
              <p:cNvPr id="341" name="Rectangle 87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61040" y="4439160"/>
                <a:ext cx="888840" cy="31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5324400" y="4469040"/>
                <a:ext cx="76716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IP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343" name="Group 76"/>
          <p:cNvGrpSpPr/>
          <p:nvPr/>
        </p:nvGrpSpPr>
        <p:grpSpPr>
          <a:xfrm>
            <a:off x="6327720" y="3589200"/>
            <a:ext cx="2146320" cy="411480"/>
            <a:chOff x="6327720" y="3589200"/>
            <a:chExt cx="2146320" cy="411480"/>
          </a:xfrm>
        </p:grpSpPr>
        <p:grpSp>
          <p:nvGrpSpPr>
            <p:cNvPr id="344" name="Rectangle 89"/>
            <p:cNvGrpSpPr/>
            <p:nvPr/>
          </p:nvGrpSpPr>
          <p:grpSpPr>
            <a:xfrm>
              <a:off x="6356160" y="3589200"/>
              <a:ext cx="2117880" cy="334800"/>
              <a:chOff x="6356160" y="3589200"/>
              <a:chExt cx="2117880" cy="334800"/>
            </a:xfrm>
          </p:grpSpPr>
          <p:pic>
            <p:nvPicPr>
              <p:cNvPr id="345" name="Rectangle 89" descr=""/>
              <p:cNvPicPr/>
              <p:nvPr/>
            </p:nvPicPr>
            <p:blipFill>
              <a:blip r:embed="rId17"/>
              <a:stretch/>
            </p:blipFill>
            <p:spPr>
              <a:xfrm>
                <a:off x="6356160" y="3589200"/>
                <a:ext cx="211788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6424560" y="3615480"/>
                <a:ext cx="1987560" cy="2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47" name="Rectangle 90"/>
            <p:cNvGrpSpPr/>
            <p:nvPr/>
          </p:nvGrpSpPr>
          <p:grpSpPr>
            <a:xfrm>
              <a:off x="6338880" y="3625200"/>
              <a:ext cx="2123640" cy="334800"/>
              <a:chOff x="6338880" y="3625200"/>
              <a:chExt cx="2123640" cy="334800"/>
            </a:xfrm>
          </p:grpSpPr>
          <p:pic>
            <p:nvPicPr>
              <p:cNvPr id="348" name="Rectangle 90" descr=""/>
              <p:cNvPicPr/>
              <p:nvPr/>
            </p:nvPicPr>
            <p:blipFill>
              <a:blip r:embed="rId18"/>
              <a:stretch/>
            </p:blipFill>
            <p:spPr>
              <a:xfrm>
                <a:off x="6338880" y="3625200"/>
                <a:ext cx="21236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6409440" y="3653280"/>
                <a:ext cx="1987560" cy="2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0" name="Rectangle 91"/>
            <p:cNvGrpSpPr/>
            <p:nvPr/>
          </p:nvGrpSpPr>
          <p:grpSpPr>
            <a:xfrm>
              <a:off x="6327720" y="3665880"/>
              <a:ext cx="2117880" cy="334800"/>
              <a:chOff x="6327720" y="3665880"/>
              <a:chExt cx="2117880" cy="334800"/>
            </a:xfrm>
          </p:grpSpPr>
          <p:pic>
            <p:nvPicPr>
              <p:cNvPr id="351" name="Rectangle 91" descr=""/>
              <p:cNvPicPr/>
              <p:nvPr/>
            </p:nvPicPr>
            <p:blipFill>
              <a:blip r:embed="rId19"/>
              <a:stretch/>
            </p:blipFill>
            <p:spPr>
              <a:xfrm>
                <a:off x="6327720" y="3665880"/>
                <a:ext cx="211788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6396840" y="3693960"/>
                <a:ext cx="1987560" cy="2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User Mode Access Layer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53" name="Line 17" descr=""/>
          <p:cNvPicPr/>
          <p:nvPr/>
        </p:nvPicPr>
        <p:blipFill>
          <a:blip r:embed="rId20"/>
          <a:stretch/>
        </p:blipFill>
        <p:spPr>
          <a:xfrm>
            <a:off x="7589880" y="3956040"/>
            <a:ext cx="206280" cy="163368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81"/>
          <p:cNvGrpSpPr/>
          <p:nvPr/>
        </p:nvGrpSpPr>
        <p:grpSpPr>
          <a:xfrm>
            <a:off x="6327720" y="3022560"/>
            <a:ext cx="1054080" cy="566640"/>
            <a:chOff x="6327720" y="3022560"/>
            <a:chExt cx="1054080" cy="566640"/>
          </a:xfrm>
        </p:grpSpPr>
        <p:grpSp>
          <p:nvGrpSpPr>
            <p:cNvPr id="355" name="Rectangle 94"/>
            <p:cNvGrpSpPr/>
            <p:nvPr/>
          </p:nvGrpSpPr>
          <p:grpSpPr>
            <a:xfrm>
              <a:off x="6392160" y="3022560"/>
              <a:ext cx="989640" cy="474840"/>
              <a:chOff x="6392160" y="3022560"/>
              <a:chExt cx="989640" cy="474840"/>
            </a:xfrm>
          </p:grpSpPr>
          <p:pic>
            <p:nvPicPr>
              <p:cNvPr id="356" name="Rectangle 94" descr=""/>
              <p:cNvPicPr/>
              <p:nvPr/>
            </p:nvPicPr>
            <p:blipFill>
              <a:blip r:embed="rId21"/>
              <a:stretch/>
            </p:blipFill>
            <p:spPr>
              <a:xfrm>
                <a:off x="6392160" y="3022560"/>
                <a:ext cx="98964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6457320" y="3050280"/>
                <a:ext cx="86544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75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9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8" name="Rectangle 95"/>
            <p:cNvGrpSpPr/>
            <p:nvPr/>
          </p:nvGrpSpPr>
          <p:grpSpPr>
            <a:xfrm>
              <a:off x="6359760" y="3066120"/>
              <a:ext cx="989640" cy="474840"/>
              <a:chOff x="6359760" y="3066120"/>
              <a:chExt cx="989640" cy="474840"/>
            </a:xfrm>
          </p:grpSpPr>
          <p:pic>
            <p:nvPicPr>
              <p:cNvPr id="359" name="Rectangle 95" descr=""/>
              <p:cNvPicPr/>
              <p:nvPr/>
            </p:nvPicPr>
            <p:blipFill>
              <a:blip r:embed="rId22"/>
              <a:stretch/>
            </p:blipFill>
            <p:spPr>
              <a:xfrm>
                <a:off x="6359760" y="3066120"/>
                <a:ext cx="98964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6426720" y="3094200"/>
                <a:ext cx="86544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75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9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1" name="Rectangle 96"/>
            <p:cNvGrpSpPr/>
            <p:nvPr/>
          </p:nvGrpSpPr>
          <p:grpSpPr>
            <a:xfrm>
              <a:off x="6327720" y="3114360"/>
              <a:ext cx="989640" cy="474840"/>
              <a:chOff x="6327720" y="3114360"/>
              <a:chExt cx="989640" cy="474840"/>
            </a:xfrm>
          </p:grpSpPr>
          <p:pic>
            <p:nvPicPr>
              <p:cNvPr id="362" name="Rectangle 96" descr=""/>
              <p:cNvPicPr/>
              <p:nvPr/>
            </p:nvPicPr>
            <p:blipFill>
              <a:blip r:embed="rId23"/>
              <a:stretch/>
            </p:blipFill>
            <p:spPr>
              <a:xfrm>
                <a:off x="6327720" y="3114360"/>
                <a:ext cx="98964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6392520" y="3141720"/>
                <a:ext cx="86544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75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nstantia"/>
                  </a:rPr>
                  <a:t>WinSock Direct Provider</a:t>
                </a:r>
                <a:endParaRPr b="0" lang="en-US" sz="9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364" name="Group 81"/>
          <p:cNvGrpSpPr/>
          <p:nvPr/>
        </p:nvGrpSpPr>
        <p:grpSpPr>
          <a:xfrm>
            <a:off x="7407360" y="3162240"/>
            <a:ext cx="1066680" cy="425520"/>
            <a:chOff x="7407360" y="3162240"/>
            <a:chExt cx="1066680" cy="425520"/>
          </a:xfrm>
        </p:grpSpPr>
        <p:grpSp>
          <p:nvGrpSpPr>
            <p:cNvPr id="365" name="Rectangle 98"/>
            <p:cNvGrpSpPr/>
            <p:nvPr/>
          </p:nvGrpSpPr>
          <p:grpSpPr>
            <a:xfrm>
              <a:off x="7471800" y="3162240"/>
              <a:ext cx="1002240" cy="360000"/>
              <a:chOff x="7471800" y="3162240"/>
              <a:chExt cx="1002240" cy="360000"/>
            </a:xfrm>
          </p:grpSpPr>
          <p:pic>
            <p:nvPicPr>
              <p:cNvPr id="366" name="Rectangle 98" descr=""/>
              <p:cNvPicPr/>
              <p:nvPr/>
            </p:nvPicPr>
            <p:blipFill>
              <a:blip r:embed="rId24"/>
              <a:stretch/>
            </p:blipFill>
            <p:spPr>
              <a:xfrm>
                <a:off x="7471800" y="3162240"/>
                <a:ext cx="100224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7538400" y="3200400"/>
                <a:ext cx="8773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8" name="Rectangle 99"/>
            <p:cNvGrpSpPr/>
            <p:nvPr/>
          </p:nvGrpSpPr>
          <p:grpSpPr>
            <a:xfrm>
              <a:off x="7444800" y="3192840"/>
              <a:ext cx="996840" cy="360000"/>
              <a:chOff x="7444800" y="3192840"/>
              <a:chExt cx="996840" cy="360000"/>
            </a:xfrm>
          </p:grpSpPr>
          <p:pic>
            <p:nvPicPr>
              <p:cNvPr id="369" name="Rectangle 99" descr=""/>
              <p:cNvPicPr/>
              <p:nvPr/>
            </p:nvPicPr>
            <p:blipFill>
              <a:blip r:embed="rId25"/>
              <a:stretch/>
            </p:blipFill>
            <p:spPr>
              <a:xfrm>
                <a:off x="7444800" y="3192840"/>
                <a:ext cx="99684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7507080" y="3229920"/>
                <a:ext cx="8773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312"/>
                  </a:spcBef>
                  <a:spcAft>
                    <a:spcPts val="1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nstantia"/>
                  </a:rPr>
                  <a:t>Networking Hardwar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71" name="Rectangle 100"/>
            <p:cNvGrpSpPr/>
            <p:nvPr/>
          </p:nvGrpSpPr>
          <p:grpSpPr>
            <a:xfrm>
              <a:off x="7407360" y="3236760"/>
              <a:ext cx="1002240" cy="351000"/>
              <a:chOff x="7407360" y="3236760"/>
              <a:chExt cx="1002240" cy="351000"/>
            </a:xfrm>
          </p:grpSpPr>
          <p:pic>
            <p:nvPicPr>
              <p:cNvPr id="372" name="Rectangle 100" descr=""/>
              <p:cNvPicPr/>
              <p:nvPr/>
            </p:nvPicPr>
            <p:blipFill>
              <a:blip r:embed="rId26"/>
              <a:stretch/>
            </p:blipFill>
            <p:spPr>
              <a:xfrm>
                <a:off x="7407360" y="3236760"/>
                <a:ext cx="100224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7472880" y="3262680"/>
                <a:ext cx="8773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75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nstantia"/>
                  </a:rPr>
                  <a:t>NetworkDirect Provider</a:t>
                </a:r>
                <a:endParaRPr b="0" lang="en-US" sz="9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74" name="Text Box 42"/>
          <p:cNvSpPr/>
          <p:nvPr/>
        </p:nvSpPr>
        <p:spPr>
          <a:xfrm>
            <a:off x="7788240" y="2635200"/>
            <a:ext cx="74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nstantia"/>
              </a:rPr>
              <a:t>RDMA Networking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5" name="Line 46" descr=""/>
          <p:cNvPicPr/>
          <p:nvPr/>
        </p:nvPicPr>
        <p:blipFill>
          <a:blip r:embed="rId27"/>
          <a:stretch/>
        </p:blipFill>
        <p:spPr>
          <a:xfrm>
            <a:off x="8137440" y="3986280"/>
            <a:ext cx="220680" cy="1938240"/>
          </a:xfrm>
          <a:prstGeom prst="rect">
            <a:avLst/>
          </a:prstGeom>
          <a:ln w="0">
            <a:noFill/>
          </a:ln>
        </p:spPr>
      </p:pic>
      <p:pic>
        <p:nvPicPr>
          <p:cNvPr id="376" name="Line 15" descr=""/>
          <p:cNvPicPr/>
          <p:nvPr/>
        </p:nvPicPr>
        <p:blipFill>
          <a:blip r:embed="rId28"/>
          <a:stretch/>
        </p:blipFill>
        <p:spPr>
          <a:xfrm>
            <a:off x="5522760" y="1938240"/>
            <a:ext cx="171720" cy="573120"/>
          </a:xfrm>
          <a:prstGeom prst="rect">
            <a:avLst/>
          </a:prstGeom>
          <a:ln w="0">
            <a:noFill/>
          </a:ln>
        </p:spPr>
      </p:pic>
      <p:cxnSp>
        <p:nvCxnSpPr>
          <p:cNvPr id="377" name="Straight Arrow Connector 104"/>
          <p:cNvCxnSpPr/>
          <p:nvPr/>
        </p:nvCxnSpPr>
        <p:spPr>
          <a:xfrm flipH="1">
            <a:off x="6817680" y="2889360"/>
            <a:ext cx="5400" cy="248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sm" type="oval" w="sm"/>
            <a:tailEnd len="med" type="triangle" w="med"/>
          </a:ln>
        </p:spPr>
      </p:cxnSp>
      <p:cxnSp>
        <p:nvCxnSpPr>
          <p:cNvPr id="378" name="Straight Arrow Connector 105"/>
          <p:cNvCxnSpPr/>
          <p:nvPr/>
        </p:nvCxnSpPr>
        <p:spPr>
          <a:xfrm flipH="1">
            <a:off x="7838280" y="2331720"/>
            <a:ext cx="2520" cy="92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sm" type="oval" w="sm"/>
            <a:tailEnd len="med" type="triangle" w="med"/>
          </a:ln>
        </p:spPr>
      </p:cxnSp>
      <p:cxnSp>
        <p:nvCxnSpPr>
          <p:cNvPr id="379" name="Straight Arrow Connector 106"/>
          <p:cNvCxnSpPr/>
          <p:nvPr/>
        </p:nvCxnSpPr>
        <p:spPr>
          <a:xfrm flipH="1">
            <a:off x="5641200" y="3033360"/>
            <a:ext cx="2520" cy="117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sm" type="oval" w="sm"/>
            <a:tailEnd len="med" type="triangle" w="med"/>
          </a:ln>
        </p:spPr>
      </p:cxnSp>
      <p:grpSp>
        <p:nvGrpSpPr>
          <p:cNvPr id="380" name="Rectangle 107"/>
          <p:cNvGrpSpPr/>
          <p:nvPr/>
        </p:nvGrpSpPr>
        <p:grpSpPr>
          <a:xfrm>
            <a:off x="7327800" y="6345360"/>
            <a:ext cx="878040" cy="420480"/>
            <a:chOff x="7327800" y="6345360"/>
            <a:chExt cx="878040" cy="420480"/>
          </a:xfrm>
        </p:grpSpPr>
        <p:pic>
          <p:nvPicPr>
            <p:cNvPr id="381" name="Rectangle 107" descr=""/>
            <p:cNvPicPr/>
            <p:nvPr/>
          </p:nvPicPr>
          <p:blipFill>
            <a:blip r:embed="rId29"/>
            <a:stretch/>
          </p:blipFill>
          <p:spPr>
            <a:xfrm>
              <a:off x="7327800" y="6345360"/>
              <a:ext cx="8780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397640" y="6400800"/>
              <a:ext cx="7430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49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nstantia"/>
                </a:rPr>
                <a:t>OS Component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83" name="Rectangle 108"/>
          <p:cNvGrpSpPr/>
          <p:nvPr/>
        </p:nvGrpSpPr>
        <p:grpSpPr>
          <a:xfrm>
            <a:off x="6540480" y="6345360"/>
            <a:ext cx="884160" cy="420480"/>
            <a:chOff x="6540480" y="6345360"/>
            <a:chExt cx="884160" cy="420480"/>
          </a:xfrm>
        </p:grpSpPr>
        <p:pic>
          <p:nvPicPr>
            <p:cNvPr id="384" name="Rectangle 108" descr=""/>
            <p:cNvPicPr/>
            <p:nvPr/>
          </p:nvPicPr>
          <p:blipFill>
            <a:blip r:embed="rId30"/>
            <a:stretch/>
          </p:blipFill>
          <p:spPr>
            <a:xfrm>
              <a:off x="6540480" y="6345360"/>
              <a:ext cx="884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6613560" y="6400800"/>
              <a:ext cx="7430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nstantia"/>
                </a:rPr>
                <a:t>CCP Component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86" name="Rectangle 109"/>
          <p:cNvGrpSpPr/>
          <p:nvPr/>
        </p:nvGrpSpPr>
        <p:grpSpPr>
          <a:xfrm>
            <a:off x="8107200" y="6345360"/>
            <a:ext cx="884520" cy="420480"/>
            <a:chOff x="8107200" y="6345360"/>
            <a:chExt cx="884520" cy="420480"/>
          </a:xfrm>
        </p:grpSpPr>
        <p:pic>
          <p:nvPicPr>
            <p:cNvPr id="387" name="Rectangle 109" descr=""/>
            <p:cNvPicPr/>
            <p:nvPr/>
          </p:nvPicPr>
          <p:blipFill>
            <a:blip r:embed="rId31"/>
            <a:stretch/>
          </p:blipFill>
          <p:spPr>
            <a:xfrm>
              <a:off x="8107200" y="6345360"/>
              <a:ext cx="88452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8182080" y="6400800"/>
              <a:ext cx="742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49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nstantia"/>
                </a:rPr>
                <a:t>IHV Component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89" name="Rectangle 110"/>
          <p:cNvGrpSpPr/>
          <p:nvPr/>
        </p:nvGrpSpPr>
        <p:grpSpPr>
          <a:xfrm>
            <a:off x="5754600" y="6364440"/>
            <a:ext cx="884160" cy="401400"/>
            <a:chOff x="5754600" y="6364440"/>
            <a:chExt cx="884160" cy="401400"/>
          </a:xfrm>
        </p:grpSpPr>
        <p:pic>
          <p:nvPicPr>
            <p:cNvPr id="390" name="Rectangle 110" descr=""/>
            <p:cNvPicPr/>
            <p:nvPr/>
          </p:nvPicPr>
          <p:blipFill>
            <a:blip r:embed="rId32"/>
            <a:stretch/>
          </p:blipFill>
          <p:spPr>
            <a:xfrm>
              <a:off x="5754600" y="6364440"/>
              <a:ext cx="88416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829480" y="6400800"/>
              <a:ext cx="742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nstantia"/>
                </a:rPr>
                <a:t>(ISV) App</a:t>
              </a:r>
              <a:endParaRPr b="0" lang="en-US" sz="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mbria"/>
                <a:ea typeface="Times New Roman"/>
              </a:rPr>
              <a:t>NetworkDirect  -</a:t>
            </a:r>
            <a:br>
              <a:rPr sz="2800"/>
            </a:br>
            <a:r>
              <a:rPr b="1" lang="en-US" sz="2800" spc="-1" strike="noStrike">
                <a:solidFill>
                  <a:srgbClr val="4f81bd"/>
                </a:solidFill>
                <a:latin typeface="Cambria"/>
                <a:ea typeface="Times New Roman"/>
              </a:rPr>
              <a:t>  Some </a:t>
            </a:r>
            <a:r>
              <a:rPr b="1" lang="en-US" sz="2800" spc="-1" strike="noStrike">
                <a:solidFill>
                  <a:srgbClr val="8adfff"/>
                </a:solidFill>
                <a:latin typeface="Cambria"/>
                <a:ea typeface="Times New Roman"/>
              </a:rPr>
              <a:t>Preliminary</a:t>
            </a:r>
            <a:r>
              <a:rPr b="1" lang="en-US" sz="2800" spc="-1" strike="noStrike">
                <a:solidFill>
                  <a:srgbClr val="4f81bd"/>
                </a:solidFill>
                <a:latin typeface="Cambria"/>
                <a:ea typeface="Times New Roman"/>
              </a:rPr>
              <a:t> Performance Comparis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419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w-latency, high-bandwidth connectiv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esigned for compatibility with all leading high-performance networking gear including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finiban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WARP Etherne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yrinet and other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7" descr="Tabletop-2a.png"/>
          <p:cNvPicPr/>
          <p:nvPr/>
        </p:nvPicPr>
        <p:blipFill>
          <a:blip r:embed="rId1"/>
          <a:stretch/>
        </p:blipFill>
        <p:spPr>
          <a:xfrm>
            <a:off x="355680" y="2971800"/>
            <a:ext cx="4216320" cy="3598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Tabletop-2b.png"/>
          <p:cNvPicPr/>
          <p:nvPr/>
        </p:nvPicPr>
        <p:blipFill>
          <a:blip r:embed="rId2"/>
          <a:stretch/>
        </p:blipFill>
        <p:spPr>
          <a:xfrm>
            <a:off x="4648320" y="2025720"/>
            <a:ext cx="4143240" cy="35463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6"/>
          <p:cNvSpPr/>
          <p:nvPr/>
        </p:nvSpPr>
        <p:spPr>
          <a:xfrm>
            <a:off x="5029200" y="6095880"/>
            <a:ext cx="396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mbria"/>
                <a:ea typeface="Times New Roman"/>
              </a:rPr>
              <a:t>Micro-benchmarks:  NetworkDirect Compared with GigE and Winsock Direc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evs can't tune what they can't see</a:t>
            </a:r>
            <a:br>
              <a:rPr sz="36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MS-MPI integrated with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Event Tracing for Windows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90600" y="1590840"/>
            <a:ext cx="3952800" cy="50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ngle, time-correlated log of: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OS, driver, MPI, and app ev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CS-specific addi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igh-precision CPU clock correcti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g consolidation from multiple compute nodes into a single record of parallel app executio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2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al purpos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2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erformance Analysi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2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pplication Trouble-Shoot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2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ce Data Displ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2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Visual Studio &amp; Windows ETW too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2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!Soon! Vampir Viewer for Window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276960" y="6022800"/>
            <a:ext cx="21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2557-55A8-4DF7-8D15-62DF9F50167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0" name="Rounded Rectangle 6"/>
          <p:cNvGrpSpPr/>
          <p:nvPr/>
        </p:nvGrpSpPr>
        <p:grpSpPr>
          <a:xfrm>
            <a:off x="5614920" y="1695600"/>
            <a:ext cx="1328760" cy="938160"/>
            <a:chOff x="5614920" y="1695600"/>
            <a:chExt cx="1328760" cy="938160"/>
          </a:xfrm>
        </p:grpSpPr>
        <p:pic>
          <p:nvPicPr>
            <p:cNvPr id="401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5614920" y="1695600"/>
              <a:ext cx="13287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724360" y="1771560"/>
              <a:ext cx="11052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MS-MPI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03" name="Rounded Rectangle 7"/>
          <p:cNvGrpSpPr/>
          <p:nvPr/>
        </p:nvGrpSpPr>
        <p:grpSpPr>
          <a:xfrm>
            <a:off x="5614920" y="2610000"/>
            <a:ext cx="1986120" cy="968400"/>
            <a:chOff x="5614920" y="2610000"/>
            <a:chExt cx="1986120" cy="968400"/>
          </a:xfrm>
        </p:grpSpPr>
        <p:pic>
          <p:nvPicPr>
            <p:cNvPr id="40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5614920" y="2610000"/>
              <a:ext cx="19861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726160" y="2687760"/>
              <a:ext cx="175896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Windows ETW Infrastructur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06" name="Rounded Rectangle 8"/>
          <p:cNvGrpSpPr/>
          <p:nvPr/>
        </p:nvGrpSpPr>
        <p:grpSpPr>
          <a:xfrm>
            <a:off x="4248000" y="1841400"/>
            <a:ext cx="1341720" cy="652680"/>
            <a:chOff x="4248000" y="1841400"/>
            <a:chExt cx="1341720" cy="652680"/>
          </a:xfrm>
        </p:grpSpPr>
        <p:pic>
          <p:nvPicPr>
            <p:cNvPr id="40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248000" y="1841400"/>
              <a:ext cx="13417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348080" y="1909800"/>
              <a:ext cx="11430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mpiexec.exe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-trace args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09" name="Rounded Rectangle 10"/>
          <p:cNvGrpSpPr/>
          <p:nvPr/>
        </p:nvGrpSpPr>
        <p:grpSpPr>
          <a:xfrm>
            <a:off x="4230720" y="2535120"/>
            <a:ext cx="1231920" cy="416160"/>
            <a:chOff x="4230720" y="2535120"/>
            <a:chExt cx="1231920" cy="416160"/>
          </a:xfrm>
        </p:grpSpPr>
        <p:pic>
          <p:nvPicPr>
            <p:cNvPr id="41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230720" y="2535120"/>
              <a:ext cx="1231920" cy="4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316400" y="2611440"/>
              <a:ext cx="10638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logman.exe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12" name="Flowchart: Document 11"/>
          <p:cNvGrpSpPr/>
          <p:nvPr/>
        </p:nvGrpSpPr>
        <p:grpSpPr>
          <a:xfrm>
            <a:off x="6967440" y="1792440"/>
            <a:ext cx="1560600" cy="701640"/>
            <a:chOff x="6967440" y="1792440"/>
            <a:chExt cx="1560600" cy="701640"/>
          </a:xfrm>
        </p:grpSpPr>
        <p:pic>
          <p:nvPicPr>
            <p:cNvPr id="413" name="Flowchart: Document 11" descr=""/>
            <p:cNvPicPr/>
            <p:nvPr/>
          </p:nvPicPr>
          <p:blipFill>
            <a:blip r:embed="rId5"/>
            <a:stretch/>
          </p:blipFill>
          <p:spPr>
            <a:xfrm>
              <a:off x="6967440" y="1792440"/>
              <a:ext cx="15606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039080" y="1876320"/>
              <a:ext cx="14191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Trace settings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(mpitrace.mof)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15" name="Flowchart: Magnetic Disk 12"/>
          <p:cNvGrpSpPr/>
          <p:nvPr/>
        </p:nvGrpSpPr>
        <p:grpSpPr>
          <a:xfrm>
            <a:off x="5499000" y="3498840"/>
            <a:ext cx="1054080" cy="804960"/>
            <a:chOff x="5499000" y="3498840"/>
            <a:chExt cx="1054080" cy="804960"/>
          </a:xfrm>
        </p:grpSpPr>
        <p:pic>
          <p:nvPicPr>
            <p:cNvPr id="416" name="Flowchart: Magnetic Disk 12" descr=""/>
            <p:cNvPicPr/>
            <p:nvPr/>
          </p:nvPicPr>
          <p:blipFill>
            <a:blip r:embed="rId6"/>
            <a:stretch/>
          </p:blipFill>
          <p:spPr>
            <a:xfrm>
              <a:off x="5499000" y="3498840"/>
              <a:ext cx="10540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572080" y="3753000"/>
              <a:ext cx="90504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Trace Log File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18" name="Group 15"/>
          <p:cNvGrpSpPr/>
          <p:nvPr/>
        </p:nvGrpSpPr>
        <p:grpSpPr>
          <a:xfrm>
            <a:off x="6818400" y="3743280"/>
            <a:ext cx="1255320" cy="457200"/>
            <a:chOff x="6818400" y="3743280"/>
            <a:chExt cx="1255320" cy="457200"/>
          </a:xfrm>
        </p:grpSpPr>
        <p:sp>
          <p:nvSpPr>
            <p:cNvPr id="419" name="TextBox 13"/>
            <p:cNvSpPr/>
            <p:nvPr/>
          </p:nvSpPr>
          <p:spPr>
            <a:xfrm>
              <a:off x="6818400" y="3743280"/>
              <a:ext cx="125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Convert to text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20" name="TextBox 14"/>
            <p:cNvSpPr/>
            <p:nvPr/>
          </p:nvSpPr>
          <p:spPr>
            <a:xfrm>
              <a:off x="6851160" y="3924000"/>
              <a:ext cx="84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Live feed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21" name="Rounded Rectangle 16"/>
          <p:cNvSpPr/>
          <p:nvPr/>
        </p:nvSpPr>
        <p:spPr>
          <a:xfrm>
            <a:off x="4267080" y="1619280"/>
            <a:ext cx="4496040" cy="2705040"/>
          </a:xfrm>
          <a:prstGeom prst="roundRect">
            <a:avLst>
              <a:gd name="adj" fmla="val 11630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22" name="Straight Arrow Connector 19"/>
          <p:cNvCxnSpPr>
            <a:stCxn id="413" idx="1"/>
            <a:endCxn id="401" idx="3"/>
          </p:cNvCxnSpPr>
          <p:nvPr/>
        </p:nvCxnSpPr>
        <p:spPr>
          <a:xfrm flipH="1" flipV="1">
            <a:off x="6866640" y="2128320"/>
            <a:ext cx="17244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Straight Arrow Connector 21"/>
          <p:cNvCxnSpPr>
            <a:stCxn id="407" idx="3"/>
            <a:endCxn id="401" idx="1"/>
          </p:cNvCxnSpPr>
          <p:nvPr/>
        </p:nvCxnSpPr>
        <p:spPr>
          <a:xfrm flipV="1">
            <a:off x="5514480" y="2128320"/>
            <a:ext cx="17244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4" name="Elbow Connector 29"/>
          <p:cNvCxnSpPr>
            <a:stCxn id="410" idx="3"/>
            <a:endCxn id="404" idx="1"/>
          </p:cNvCxnSpPr>
          <p:nvPr/>
        </p:nvCxnSpPr>
        <p:spPr>
          <a:xfrm>
            <a:off x="5390640" y="2719080"/>
            <a:ext cx="296280" cy="3387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Straight Arrow Connector 43"/>
          <p:cNvCxnSpPr/>
          <p:nvPr/>
        </p:nvCxnSpPr>
        <p:spPr>
          <a:xfrm flipH="1">
            <a:off x="6275160" y="2409840"/>
            <a:ext cx="2160" cy="411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6" name="Straight Arrow Connector 46"/>
          <p:cNvCxnSpPr>
            <a:endCxn id="416" idx="0"/>
          </p:cNvCxnSpPr>
          <p:nvPr/>
        </p:nvCxnSpPr>
        <p:spPr>
          <a:xfrm flipH="1">
            <a:off x="6023880" y="3447720"/>
            <a:ext cx="54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7" name="Shape 53"/>
          <p:cNvCxnSpPr>
            <a:stCxn id="404" idx="2"/>
          </p:cNvCxnSpPr>
          <p:nvPr/>
        </p:nvCxnSpPr>
        <p:spPr>
          <a:xfrm flipH="1" rot="16200000">
            <a:off x="6538680" y="3533400"/>
            <a:ext cx="415080" cy="281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Shape 55"/>
          <p:cNvCxnSpPr>
            <a:stCxn id="404" idx="2"/>
          </p:cNvCxnSpPr>
          <p:nvPr/>
        </p:nvCxnSpPr>
        <p:spPr>
          <a:xfrm flipH="1" rot="16200000">
            <a:off x="6456960" y="3614400"/>
            <a:ext cx="595800" cy="300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29" name="Rounded Rectangle 61"/>
          <p:cNvGrpSpPr/>
          <p:nvPr/>
        </p:nvGrpSpPr>
        <p:grpSpPr>
          <a:xfrm>
            <a:off x="4511520" y="4687920"/>
            <a:ext cx="1352880" cy="920880"/>
            <a:chOff x="4511520" y="4687920"/>
            <a:chExt cx="1352880" cy="920880"/>
          </a:xfrm>
        </p:grpSpPr>
        <p:pic>
          <p:nvPicPr>
            <p:cNvPr id="430" name="Rounded Rectangle 61" descr=""/>
            <p:cNvPicPr/>
            <p:nvPr/>
          </p:nvPicPr>
          <p:blipFill>
            <a:blip r:embed="rId7"/>
            <a:stretch/>
          </p:blipFill>
          <p:spPr>
            <a:xfrm>
              <a:off x="4511520" y="4687920"/>
              <a:ext cx="13528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619520" y="4762440"/>
              <a:ext cx="1131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MS-MPI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32" name="Rounded Rectangle 62"/>
          <p:cNvGrpSpPr/>
          <p:nvPr/>
        </p:nvGrpSpPr>
        <p:grpSpPr>
          <a:xfrm>
            <a:off x="6089760" y="4668840"/>
            <a:ext cx="2023920" cy="963720"/>
            <a:chOff x="6089760" y="4668840"/>
            <a:chExt cx="2023920" cy="963720"/>
          </a:xfrm>
        </p:grpSpPr>
        <p:pic>
          <p:nvPicPr>
            <p:cNvPr id="433" name="Rounded Rectangle 62" descr=""/>
            <p:cNvPicPr/>
            <p:nvPr/>
          </p:nvPicPr>
          <p:blipFill>
            <a:blip r:embed="rId8"/>
            <a:stretch/>
          </p:blipFill>
          <p:spPr>
            <a:xfrm>
              <a:off x="6089760" y="4668840"/>
              <a:ext cx="2023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202440" y="4745160"/>
              <a:ext cx="179856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Windows ETW Infrastructur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435" name="Flowchart: Magnetic Disk 66"/>
          <p:cNvGrpSpPr/>
          <p:nvPr/>
        </p:nvGrpSpPr>
        <p:grpSpPr>
          <a:xfrm>
            <a:off x="6297480" y="5572080"/>
            <a:ext cx="1073160" cy="749520"/>
            <a:chOff x="6297480" y="5572080"/>
            <a:chExt cx="1073160" cy="749520"/>
          </a:xfrm>
        </p:grpSpPr>
        <p:pic>
          <p:nvPicPr>
            <p:cNvPr id="436" name="Flowchart: Magnetic Disk 66" descr=""/>
            <p:cNvPicPr/>
            <p:nvPr/>
          </p:nvPicPr>
          <p:blipFill>
            <a:blip r:embed="rId9"/>
            <a:stretch/>
          </p:blipFill>
          <p:spPr>
            <a:xfrm>
              <a:off x="6297480" y="5572080"/>
              <a:ext cx="10731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6372360" y="5810400"/>
              <a:ext cx="925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nstantia"/>
                </a:rPr>
                <a:t>Trace Log File</a:t>
              </a:r>
              <a:endParaRPr b="0" lang="en-US" sz="1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38" name="Rounded Rectangle 70"/>
          <p:cNvSpPr/>
          <p:nvPr/>
        </p:nvSpPr>
        <p:spPr>
          <a:xfrm>
            <a:off x="4371840" y="4505400"/>
            <a:ext cx="4400640" cy="1771560"/>
          </a:xfrm>
          <a:prstGeom prst="roundRect">
            <a:avLst>
              <a:gd name="adj" fmla="val 11630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39" name="Straight Arrow Connector 75"/>
          <p:cNvCxnSpPr>
            <a:stCxn id="430" idx="3"/>
            <a:endCxn id="433" idx="1"/>
          </p:cNvCxnSpPr>
          <p:nvPr/>
        </p:nvCxnSpPr>
        <p:spPr>
          <a:xfrm>
            <a:off x="5787720" y="5109840"/>
            <a:ext cx="3754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0" name="Straight Arrow Connector 76"/>
          <p:cNvCxnSpPr>
            <a:endCxn id="436" idx="0"/>
          </p:cNvCxnSpPr>
          <p:nvPr/>
        </p:nvCxnSpPr>
        <p:spPr>
          <a:xfrm>
            <a:off x="6828480" y="5466960"/>
            <a:ext cx="5400" cy="343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441" name="Group 98"/>
          <p:cNvGrpSpPr/>
          <p:nvPr/>
        </p:nvGrpSpPr>
        <p:grpSpPr>
          <a:xfrm>
            <a:off x="7658280" y="2895480"/>
            <a:ext cx="1037880" cy="885960"/>
            <a:chOff x="7658280" y="2895480"/>
            <a:chExt cx="1037880" cy="885960"/>
          </a:xfrm>
        </p:grpSpPr>
        <p:grpSp>
          <p:nvGrpSpPr>
            <p:cNvPr id="442" name="Flowchart: Magnetic Disk 79"/>
            <p:cNvGrpSpPr/>
            <p:nvPr/>
          </p:nvGrpSpPr>
          <p:grpSpPr>
            <a:xfrm>
              <a:off x="7775280" y="3031560"/>
              <a:ext cx="920880" cy="749880"/>
              <a:chOff x="7775280" y="3031560"/>
              <a:chExt cx="920880" cy="749880"/>
            </a:xfrm>
          </p:grpSpPr>
          <p:pic>
            <p:nvPicPr>
              <p:cNvPr id="443" name="Flowchart: Magnetic Disk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75280" y="3031560"/>
                <a:ext cx="92088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7839720" y="3273120"/>
                <a:ext cx="79020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nstantia"/>
                  </a:rPr>
                  <a:t>Trace Log Files</a:t>
                </a:r>
                <a:endParaRPr b="0" lang="en-US" sz="1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45" name="Flowchart: Magnetic Disk 80"/>
            <p:cNvGrpSpPr/>
            <p:nvPr/>
          </p:nvGrpSpPr>
          <p:grpSpPr>
            <a:xfrm>
              <a:off x="7716600" y="2963520"/>
              <a:ext cx="920880" cy="749880"/>
              <a:chOff x="7716600" y="2963520"/>
              <a:chExt cx="920880" cy="749880"/>
            </a:xfrm>
          </p:grpSpPr>
          <p:pic>
            <p:nvPicPr>
              <p:cNvPr id="446" name="Flowchart: Magnetic Disk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16600" y="2963520"/>
                <a:ext cx="92088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781400" y="3204000"/>
                <a:ext cx="79020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nstantia"/>
                  </a:rPr>
                  <a:t>Trace Log Files</a:t>
                </a:r>
                <a:endParaRPr b="0" lang="en-US" sz="1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48" name="Flowchart: Magnetic Disk 81"/>
            <p:cNvGrpSpPr/>
            <p:nvPr/>
          </p:nvGrpSpPr>
          <p:grpSpPr>
            <a:xfrm>
              <a:off x="7658280" y="2895480"/>
              <a:ext cx="920880" cy="749880"/>
              <a:chOff x="7658280" y="2895480"/>
              <a:chExt cx="920880" cy="749880"/>
            </a:xfrm>
          </p:grpSpPr>
          <p:pic>
            <p:nvPicPr>
              <p:cNvPr id="449" name="Flowchart: Magnetic Disk 81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58280" y="2895480"/>
                <a:ext cx="92088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7723440" y="3134520"/>
                <a:ext cx="79020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nstantia"/>
                  </a:rPr>
                  <a:t>Trace Log Files</a:t>
                </a:r>
                <a:endParaRPr b="0" lang="en-US" sz="1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cxnSp>
        <p:nvCxnSpPr>
          <p:cNvPr id="451" name="Shape 83"/>
          <p:cNvCxnSpPr/>
          <p:nvPr/>
        </p:nvCxnSpPr>
        <p:spPr>
          <a:xfrm flipV="1">
            <a:off x="7297200" y="3780720"/>
            <a:ext cx="947160" cy="2129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84"/>
          <p:cNvCxnSpPr>
            <a:stCxn id="430" idx="2"/>
            <a:endCxn id="401" idx="0"/>
          </p:cNvCxnSpPr>
          <p:nvPr/>
        </p:nvCxnSpPr>
        <p:spPr>
          <a:xfrm flipH="1" flipV="1" rot="5400000">
            <a:off x="3849480" y="3067920"/>
            <a:ext cx="3763080" cy="1092960"/>
          </a:xfrm>
          <a:prstGeom prst="bentConnector5">
            <a:avLst>
              <a:gd name="adj1" fmla="val -23545"/>
              <a:gd name="adj2" fmla="val 342504"/>
              <a:gd name="adj3" fmla="val 106065"/>
            </a:avLst>
          </a:prstGeom>
          <a:ln w="38160">
            <a:solidFill>
              <a:srgbClr val="a5c249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453" name="TextBox 87" descr=""/>
          <p:cNvPicPr/>
          <p:nvPr/>
        </p:nvPicPr>
        <p:blipFill>
          <a:blip r:embed="rId13"/>
          <a:stretch/>
        </p:blipFill>
        <p:spPr>
          <a:xfrm>
            <a:off x="6497640" y="1231920"/>
            <a:ext cx="2311560" cy="32220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34" descr=""/>
          <p:cNvPicPr/>
          <p:nvPr/>
        </p:nvPicPr>
        <p:blipFill>
          <a:blip r:embed="rId14"/>
          <a:stretch/>
        </p:blipFill>
        <p:spPr>
          <a:xfrm>
            <a:off x="8137440" y="4211640"/>
            <a:ext cx="384120" cy="1371600"/>
          </a:xfrm>
          <a:prstGeom prst="rect">
            <a:avLst/>
          </a:prstGeom>
          <a:ln w="0">
            <a:noFill/>
          </a:ln>
        </p:spPr>
      </p:pic>
      <p:pic>
        <p:nvPicPr>
          <p:cNvPr id="455" name="TextBox 135" descr=""/>
          <p:cNvPicPr/>
          <p:nvPr/>
        </p:nvPicPr>
        <p:blipFill>
          <a:blip r:embed="rId15"/>
          <a:stretch/>
        </p:blipFill>
        <p:spPr>
          <a:xfrm>
            <a:off x="8278920" y="4243320"/>
            <a:ext cx="384120" cy="1316160"/>
          </a:xfrm>
          <a:prstGeom prst="rect">
            <a:avLst/>
          </a:prstGeom>
          <a:ln w="0">
            <a:noFill/>
          </a:ln>
        </p:spPr>
      </p:pic>
      <p:cxnSp>
        <p:nvCxnSpPr>
          <p:cNvPr id="456" name="Elbow Connector 137"/>
          <p:cNvCxnSpPr>
            <a:stCxn id="416" idx="3"/>
            <a:endCxn id="443" idx="3"/>
          </p:cNvCxnSpPr>
          <p:nvPr/>
        </p:nvCxnSpPr>
        <p:spPr>
          <a:xfrm flipH="1" flipV="1" rot="5400000">
            <a:off x="6928200" y="2876040"/>
            <a:ext cx="410400" cy="2220120"/>
          </a:xfrm>
          <a:prstGeom prst="bentConnector3">
            <a:avLst>
              <a:gd name="adj1" fmla="val -55750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erf takes a village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Partnering for perf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tworking Hardware vend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tworkDirect design revie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tworkDirect &amp; WinsockDirect provider develop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dows Core Networking Te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mercial Software Vend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in64 best practi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PI usage patter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llaborative performance tun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3 ISVs and counting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 benchmarking centers on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BM, HP, Dell, SG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29E1-10F5-4CED-AF3F-6A2231A6D7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0" name="Picture 2" descr="http://www.atp.nist.gov/www/images/icons/misc/crowd.jpg"/>
          <p:cNvPicPr/>
          <p:nvPr/>
        </p:nvPicPr>
        <p:blipFill>
          <a:blip r:embed="rId1"/>
          <a:stretch/>
        </p:blipFill>
        <p:spPr>
          <a:xfrm>
            <a:off x="6394320" y="3981600"/>
            <a:ext cx="26100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Regular Top500 run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342800"/>
            <a:ext cx="373392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S HPC team just completed a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entry to the  Top500 li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sing our dev/test scale cluster (Rainier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urrently </a:t>
            </a: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#116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n Top50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Best efficiency of any Clovertown with SDR IB (77.1%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earnings incorporated into white papers &amp; CCS produc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5653-C1B6-4C59-8E90-33C41C1A14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TextBox 7"/>
          <p:cNvSpPr/>
          <p:nvPr/>
        </p:nvSpPr>
        <p:spPr>
          <a:xfrm>
            <a:off x="523800" y="3971880"/>
            <a:ext cx="221004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Configuration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260 Dell Blade Servers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1 Head nod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256 compute nodes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1 IIS server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1 File Server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App/MPI: Infiniband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Private: Gb-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Public: Gb-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TextBox 8"/>
          <p:cNvSpPr/>
          <p:nvPr/>
        </p:nvSpPr>
        <p:spPr>
          <a:xfrm>
            <a:off x="4619520" y="3753000"/>
            <a:ext cx="16765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Constantia"/>
              </a:rPr>
              <a:t>Location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Microsoft Tukwila Data cente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(22 miles from Redmond campus)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6" name="Picture 9" descr="PIC-0091.jpg"/>
          <p:cNvPicPr/>
          <p:nvPr/>
        </p:nvPicPr>
        <p:blipFill>
          <a:blip r:embed="rId1"/>
          <a:stretch/>
        </p:blipFill>
        <p:spPr>
          <a:xfrm>
            <a:off x="4514760" y="1028880"/>
            <a:ext cx="3638520" cy="27288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C:\Users\dougli\Desktop\Tukwila_20070410\PIC-0085.jpg"/>
          <p:cNvPicPr/>
          <p:nvPr/>
        </p:nvPicPr>
        <p:blipFill>
          <a:blip r:embed="rId2"/>
          <a:srcRect l="26449" t="-698" r="18817" b="-344"/>
          <a:stretch/>
        </p:blipFill>
        <p:spPr>
          <a:xfrm>
            <a:off x="6553080" y="3962520"/>
            <a:ext cx="1905120" cy="2638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68" name="TextBox 11"/>
          <p:cNvSpPr/>
          <p:nvPr/>
        </p:nvSpPr>
        <p:spPr>
          <a:xfrm>
            <a:off x="2333520" y="4248000"/>
            <a:ext cx="19432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Each compute node has two quad-core Intel 5320 Clovertown, 1.86GHz, 8GB RAM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nstantia"/>
              </a:rPr>
              <a:t>Total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nstantia"/>
              </a:rPr>
              <a:t>2080 Cores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nstantia"/>
              </a:rPr>
              <a:t>2+TB RAM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Network Direc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at Verbs should look like for Wind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rvice Provider Interface (SP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rbs Specifications are not APIs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igned with industry-standard Ver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changes for simplic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changes for convergence of IB and iWAR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ndows-centric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verage Windows asynchronous I/O capabi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D 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74" name="Content Placeholder 3" descr=""/>
          <p:cNvPicPr/>
          <p:nvPr/>
        </p:nvPicPr>
        <p:blipFill>
          <a:blip r:embed="rId1"/>
          <a:stretch/>
        </p:blipFill>
        <p:spPr>
          <a:xfrm>
            <a:off x="324000" y="1566720"/>
            <a:ext cx="84294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 Explai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57200" y="1600200"/>
          <a:ext cx="7543800" cy="4297320"/>
        </p:xfrm>
        <a:graphic>
          <a:graphicData uri="http://schemas.openxmlformats.org/drawingml/2006/table">
            <a:tbl>
              <a:tblPr/>
              <a:tblGrid>
                <a:gridCol w="3233880"/>
                <a:gridCol w="4309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vi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presents the IHV d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ap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presents an RDMA 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tainer for all other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letion Queue (C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ed to get I/O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dpoint (E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ed to initiate I/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ed to establish and manage conn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ry Registration (M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ke buffers accessible to HW for local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ry Window (M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ke buffers accessible for remote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4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5088-B26C-4872-86AE-47202B1D1B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3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 Brief Overview of this second release from Microsoft’s HPC team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D to Verbs Resource Mapp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990720" y="1819440"/>
          <a:ext cx="6324480" cy="2863800"/>
        </p:xfrm>
        <a:graphic>
          <a:graphicData uri="http://schemas.openxmlformats.org/drawingml/2006/table">
            <a:tbl>
              <a:tblPr/>
              <a:tblGrid>
                <a:gridCol w="3047760"/>
                <a:gridCol w="327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etwork Di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vi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ap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CA/R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letion Queue (C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letion Queue (C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dpoint (E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eue Pair (Q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ry Registration (M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ry Region (M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ry Window 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ry Window 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D SPI Tra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plicit resource manage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pplication manages memory registr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pplications manages CQ to Endpoint binding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ly asynchronous data transf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itiate requests on an Endpoi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et request results from the associated C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plication can use event driven and/or polling I/O mod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verage Win32 asynchronous I/O for event driven oper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kernel transitions for polling mo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mple” Memory Management Mod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mory Registrations are used for local acce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mory Windows are used for remote acce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P Address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 proprietary address management requir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C708-E804-400E-A54A-86D808DDDBF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D SPI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ection of COM interf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COM runtime dependen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Use the interface model onl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ollows model adopted by the UMD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ead-less provid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callbac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igned with industry standard Ver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cilitates IHV adop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COM Interface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ll understood programming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sily extensible via IUnknown::QueryInterf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ows retrieving any interface supported by an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ject orie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/C++ language indepen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lers and providers can be independently implemented in C or C++ without impact on one anot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faces support native code syntax - no wrap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ynchronous Ope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n32 Overlapped operations used fo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mory Regist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Q Notif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ent controls threading and completion mech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/O Completion Port or GetOverlappedResul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pler for kernel drivers to 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CompleteRequest – I/O manager handles the re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Title 68609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583840" cy="86544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762120" y="1590480"/>
            <a:ext cx="750888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5400" indent="-275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crosof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PC web site -  HPC Server 2008 (beta) Available Now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04000" indent="-227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6fc6"/>
                </a:solidFill>
                <a:latin typeface="Constantia"/>
              </a:rPr>
              <a:t>http://www.microsoft.com/hpc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5400" indent="-275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twork Direct SPI documentation, header and test executab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04000" indent="-227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n the HPC Server 2008 (beta) SD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04000" indent="-227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6fc6"/>
                </a:solidFill>
                <a:latin typeface="Constantia"/>
              </a:rPr>
              <a:t>http://www.microsoft.com/hpc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5400" indent="-275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soft HPC Community Si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04000" indent="-227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17b"/>
                </a:solidFill>
                <a:latin typeface="Constantia"/>
              </a:rPr>
              <a:t>http://windowshpc.net/default.asp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5400" indent="-2754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gonne National Lab’s MPI websi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04000" indent="-227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d5ea"/>
                </a:solidFill>
                <a:latin typeface="Constantia"/>
              </a:rPr>
              <a:t>http://www-unix.mcs.anl.gov/mpi/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5400" indent="-275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CS 2003 Performance Tuning Whitepap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04000" indent="-227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icrosoft.com/downloads/details.aspx?FamilyID=40cd8152-f89d-4abf-ab1c-a467e180cce4&amp;DisplayLang=e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04000" indent="-227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r go to http://www.microsoft.com/download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search for </a:t>
            </a:r>
            <a:r>
              <a:rPr b="0" lang="en-US" sz="1800" spc="-1" strike="noStrike">
                <a:solidFill>
                  <a:srgbClr val="083763"/>
                </a:solidFill>
                <a:latin typeface="Constantia"/>
              </a:rPr>
              <a:t>CCS Performan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3" descr=""/>
          <p:cNvPicPr/>
          <p:nvPr/>
        </p:nvPicPr>
        <p:blipFill>
          <a:blip r:embed="rId1"/>
          <a:stretch/>
        </p:blipFill>
        <p:spPr>
          <a:xfrm>
            <a:off x="55440" y="731880"/>
            <a:ext cx="8253360" cy="19558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Socrates software boosts performance by 30% on Microsoft cluster to achieve 77.1% overall cluster efficienc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4" name="Picture 5" descr="Tabletop-3.png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4617b"/>
                </a:solidFill>
                <a:latin typeface="Calibri"/>
              </a:rPr>
              <a:t>Performance improvement was demonstrated with exactly the same hardware and is attributed to : 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mproved networking performance of MS-MPI’s NetworkDirect interf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tirely new MS-MPI implementation for shared memory communic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ols and scripts to optimize process placement and tune the Linpack parameters for this 256-node, 2048-processor clus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ndows Server 2008 improvements in querying completion port stat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se of Visual Studio’s Profile Guided Optimization (POGO) on the Linpack, MS-MPI, and the ND provider binar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me Applicable Market D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IDC Cluster Study (113 sites, 303 clusters, 29/35/36 GIA split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Industry self-reports average of 85 nodes per cluste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When needing more computing power: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~50% buy a new cluster, ~50% add nodes to existing cluster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When purchasing: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61% buy direct from vendor, 67% have integration from vendor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51% use a standard benchmark in purchase decision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Premium paid for lower network latency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s well as power and cooling solution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Applications Study (IDC Cluster Study, IDC App Study (250 codes, 112 vendors, 11 countries) - Visits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Application usag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Apps use 4-128 CPUs and are majority In-house developed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Majority multi-threaded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Only 15% use whole cluster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3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In practice 82% are run at 32 processors or below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Excel running in parallel is an application of broad interest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Top challenges for implementing clusters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Facility issues with power and cooling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System management capability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omplexity implementing parallel algorithms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Interconnect latency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Complexity of system purchase and deploymen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Chart 1" descr=""/>
          <p:cNvPicPr/>
          <p:nvPr/>
        </p:nvPicPr>
        <p:blipFill>
          <a:blip r:embed="rId1"/>
          <a:stretch/>
        </p:blipFill>
        <p:spPr>
          <a:xfrm>
            <a:off x="5327640" y="3578400"/>
            <a:ext cx="3438360" cy="23716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7086600" y="5940360"/>
            <a:ext cx="1600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nstantia"/>
              </a:rPr>
              <a:t>Sources: 2006 IDC Cluster Study, HECMS, 2006 Microsoft HEWS Study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5c75"/>
                </a:solidFill>
                <a:latin typeface="Constantia"/>
              </a:rPr>
              <a:t>Page</a:t>
            </a:r>
            <a:fld id="{235BCD5F-22B0-47DB-A30D-0938DDD0D54C}" type="slidenum">
              <a:rPr b="0" lang="en-US" sz="10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arkets Addressed by HPCS2008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Group 3" descr=""/>
          <p:cNvPicPr/>
          <p:nvPr/>
        </p:nvPicPr>
        <p:blipFill>
          <a:blip r:embed="rId1"/>
          <a:stretch/>
        </p:blipFill>
        <p:spPr>
          <a:xfrm>
            <a:off x="384120" y="1616040"/>
            <a:ext cx="82234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ical Customer Pain Poin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eploying, patching, re-installing clusters should be better automate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3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Base image, image updates, patches, drivers, application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o bigger: last year’s cluster was small, this year it’s big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ot all nodes are the same: hardware, software, and usage differen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Us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eed validation tools to prove the cluster is running initially and in produc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iagnostics and troubleshooting tools when errors ari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Push forward on cluster integration with end user apps and workflow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ate using UI: complex management and job submission requires scripting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ove using UI: not a systems genius and need help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nteroper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etter integration with enterprise management (patch management, license management, monitoring, etc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teroperate with my other job scheduler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on’t want to work with multiple vendors to build a complete working solu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efense customers have unique security interop requiremen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eed more storage, particularly parallel/cluster file system interop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5c75"/>
                </a:solidFill>
                <a:latin typeface="Constantia"/>
              </a:rPr>
              <a:t>Page</a:t>
            </a:r>
            <a:fld id="{6456A611-F39F-46CC-A122-F278BCA381CD}" type="slidenum">
              <a:rPr b="0" lang="en-US" sz="10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Key HPC Server 2008 Feat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Systems Managemen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ew admin console based on </a:t>
            </a: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System Center  UI framework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integrates every aspect of cluster managemen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onitoring heat map allows viewing cluster status at-a-glanc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High availability for multiple head nod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Improved compute node provisioning using Windows Deployment Service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Built-in system diagnostics and cluster reportin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Job Scheduling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Integration with the </a:t>
            </a: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Windows Communication Foundation, allowing SOA application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developers to harness the power of parallel computing offered by HPC solution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Job scheduling granularity at processor core, processor socket, and compute node level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Support for Open Grid Forum’s HPC-Basic Profile interface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Networking and MP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onstantia"/>
              </a:rPr>
              <a:t>Network Direct, providing dramatic RDMA network performance improvements for MPI application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Improved Network Configuration Wizard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ew shared memory MS-MPI implementation for multicore server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S-MPI integrated with Event Tracing for Windows and Open Trace Format translation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Storag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Improved iSCSI SAN and Server Message Block (SMB) v2 support in Windows Server 2008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ew parallel file system support and vendor partnerships for clusters with high-performance storage need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ew memory cache vendor partnership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5" descr=""/>
          <p:cNvPicPr/>
          <p:nvPr/>
        </p:nvPicPr>
        <p:blipFill>
          <a:blip r:embed="rId1"/>
          <a:stretch/>
        </p:blipFill>
        <p:spPr>
          <a:xfrm>
            <a:off x="73080" y="208080"/>
            <a:ext cx="8772480" cy="792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ecosystem-final"/>
          <p:cNvPicPr/>
          <p:nvPr/>
        </p:nvPicPr>
        <p:blipFill>
          <a:blip r:embed="rId2"/>
          <a:stretch/>
        </p:blipFill>
        <p:spPr>
          <a:xfrm>
            <a:off x="990720" y="998640"/>
            <a:ext cx="69339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5" descr=""/>
          <p:cNvPicPr/>
          <p:nvPr/>
        </p:nvPicPr>
        <p:blipFill>
          <a:blip r:embed="rId1"/>
          <a:stretch/>
        </p:blipFill>
        <p:spPr>
          <a:xfrm>
            <a:off x="182520" y="3449520"/>
            <a:ext cx="8205840" cy="1708200"/>
          </a:xfrm>
          <a:prstGeom prst="rect">
            <a:avLst/>
          </a:prstGeom>
          <a:ln w="0">
            <a:noFill/>
          </a:ln>
        </p:spPr>
      </p:pic>
      <p:sp>
        <p:nvSpPr>
          <p:cNvPr id="273" name="Slide Number Placehold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0E73-AE54-474B-B7CC-620D9D5AB18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8" descr="blueAngels2.bmp"/>
          <p:cNvPicPr/>
          <p:nvPr/>
        </p:nvPicPr>
        <p:blipFill>
          <a:blip r:embed="rId2"/>
          <a:stretch/>
        </p:blipFill>
        <p:spPr>
          <a:xfrm>
            <a:off x="4151160" y="817560"/>
            <a:ext cx="49197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89532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nd-To-End Approach To Performanc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1904760"/>
            <a:ext cx="7924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ulti-Core is K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Big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mprovements in MS-MPI shared memory communic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tworkDir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RDMA networking interface built for speed and stabili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s can't tune what they can't s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S-MPI integrated with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Event Tracing for Window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f takes a vill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artnering for per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ular Top500 ru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rformed by the HPCS2008 product team on a permanent, scale-testing clus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4752-58B4-4EB5-A641-3DEC9B163B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9:03:45Z</dcterms:created>
  <dc:creator>Eric Lantz</dc:creator>
  <dc:description/>
  <dc:language>en-US</dc:language>
  <cp:lastModifiedBy>Eric Lantz</cp:lastModifiedBy>
  <dcterms:modified xsi:type="dcterms:W3CDTF">2007-11-16T05:59:13Z</dcterms:modified>
  <cp:revision>43</cp:revision>
  <dc:subject/>
  <dc:title>Microsoft HPC Server 2008</dc:title>
</cp:coreProperties>
</file>