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C5B4-093D-4D70-8049-FFA2A9A1E294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ntel MPI OFA Experienc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.Supalov@int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.Voronov@int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n Hefty (don’t shoot the messen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OFA uDAPL is the best fit for Intel 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PL within 10% of native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lanox: 2.8 vs. 2.6 us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logic: 4.5 vs 4.1 us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are NetPipe uDAPL vs.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PL compatibility required between Linux and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conventions mus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testing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know Endianess and size of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PL requires IPo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do with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connection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time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connection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fewer user controls settable only by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way to speed up distros adoption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PL provider behavior differs from vendor to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MPI needs special treatment for eac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terpretations of the DA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: active side of connection must send the data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support for uDAPL 2.0 spec with 1.x compatibl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21:29Z</dcterms:created>
  <dc:creator>Jason Gunthorpe</dc:creator>
  <dc:description/>
  <dc:language>en-US</dc:language>
  <cp:lastModifiedBy>mshefty</cp:lastModifiedBy>
  <dcterms:modified xsi:type="dcterms:W3CDTF">2007-11-13T22:32:59Z</dcterms:modified>
  <cp:revision>58</cp:revision>
  <dc:subject/>
  <dc:title>InfiniBand Routing</dc:title>
</cp:coreProperties>
</file>