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D0C6-7E4D-4BF8-967E-BF63D705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82C-A2C8-4BC2-B437-F42F6D18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D44-97B6-4325-880F-C0E5019AF41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4 Pla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4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releas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OS matrix and kernel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arge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base: 2.6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S-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igo's host dri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NIC and H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Qs to best fit multi-cor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Cac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ad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– the new versions that will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: Features Hal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ugg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4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.org: kernel 2.6.25 and 2.6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– can we drop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S 10 S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4 (up4 and up5) – can we drop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 (up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4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7 months after OFED 1.3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3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ate to be decided after the 1.3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7-11-16T18:43:36Z</dcterms:modified>
  <cp:revision>2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