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0824-45CC-44B0-9A2E-1FD3970C06C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48769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ady Kanevsky – Network Ap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Wise – O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k Girmay – Chel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nn Grundstrom – Net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hing Major – Steady Pro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io T3 support is in Linux kernel 2.6.21 and up, OFED 1.2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Effect support is in OFED 1.3 alpha and up; work on OFA stack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Oct interop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WARP tests, uDAPL, and MPI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issues were found which will be discussed on iWARP panel (next s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iWARP vendor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active participation in iWARP stack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interop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issing verbs for both iWARP and IB (will discuss at the next 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Arkady Kanevsky</dc:creator>
  <dc:description/>
  <dc:language>en-US</dc:language>
  <cp:lastModifiedBy>NetApp</cp:lastModifiedBy>
  <dcterms:modified xsi:type="dcterms:W3CDTF">2007-11-11T14:42:58Z</dcterms:modified>
  <cp:revision>83</cp:revision>
  <dc:subject/>
  <dc:title>OFA dev conference iWARP status</dc:title>
</cp:coreProperties>
</file>