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FFEA-0285-4F9D-82DC-61E8DB3B0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hap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B041-6757-4A9F-AE17-0789C8DB2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D0AC-5CC0-4575-B796-10D506BB7638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391520" y="228600"/>
            <a:ext cx="1662120" cy="612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hape 4"/>
          <p:cNvSpPr/>
          <p:nvPr/>
        </p:nvSpPr>
        <p:spPr>
          <a:xfrm>
            <a:off x="2133720" y="6467400"/>
            <a:ext cx="5029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llanox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openfabrics.org/builds/ofed-1.3/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OFED - Status and Proces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80880" y="4830840"/>
            <a:ext cx="5639040" cy="1342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vember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ziporet Ko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Rectangle 10" descr=""/>
          <p:cNvPicPr/>
          <p:nvPr/>
        </p:nvPicPr>
        <p:blipFill>
          <a:blip r:embed="rId1"/>
          <a:stretch/>
        </p:blipFill>
        <p:spPr>
          <a:xfrm>
            <a:off x="7467480" y="5173560"/>
            <a:ext cx="130824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New Features - M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VAPICH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ynchronous prog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exible message coales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M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hanced mpirun_rsh for scalable laun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D-based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timized and tuned collec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for Connec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for QLogic/P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 MPI 1.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nectX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VAPICH2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age Coales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t-spot avoid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-initiated systems-level checkpoin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M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-rail support for iWAR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-demand connection management for iWARP and uDA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MA 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1.3 Release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 freeze: Oct 10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pha: Oct 15, 2007– kernel base: 2.6.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: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v 20, 200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kernel base: 2.6.24-rc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1: Dec 4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2: Dec 18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3: Jan 8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4: Jan 22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ase: Jan 29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The delay mainly caused by the move to kernel 2.6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3 OS Matr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.org: kernel 2.6.23 and 2.6.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S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S 10 SP1 (up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HEL 4 (up4 and up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HEL 5 (up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dis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al support only (no Q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SuSE 10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ore C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buntu 6.06 (with RPM package install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: OSVs plans to pick up OFED 1.3, or even 1.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ED 1.3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FED Developmen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ED Future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– Developmen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– release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 on release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 on OS matrix and kernel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e on target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ase definition is placed on the Wiki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wiki.openfabrics.org/tiki-index.php?page=OFED+Development+W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ll OFED releases there were changes in the above that caused release sl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ing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-weekly meetings during the development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ekly meetings on the release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 summaries are placed on the Wik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wiki.openfabrics.org/tiki-index.php?page=Meeting+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g tracking in bugzi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bugs.openfabrics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rnel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one kernel git tree that is maintained by V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t://git.openfabrics.org/ofed_1_3/linux-2.6.g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ned from Linux git tr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-on components (e.g., SDP) are added to the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eatures and bug fixes are added as patches under the fixes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ch convention name: &lt;module&gt;_&lt;number&gt;_&lt;text&gt;.patc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, ipoib_0010_cq_coalescing.pat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 distros and previous kern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port directory for each kernel OFED can compile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-on directory for headers from 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ke-dist script applies first the “fixes” patches and then the appropriate backport p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r Space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maintainer has a separate git tree on the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t://git.openfabrics.org/~sashak/management.g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t://git.openfabrics.org/~shefty/libibcm.g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ackage has its own RPM SPEC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ackages should also be released to the ofa download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openfabrics.org/downloads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ing a release – a branch with the release name is o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pace component fixes must be committed -- no patching scheme i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ternal Packages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packages are provided as source RP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external package has a directory on the ofa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– the bonding packag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home/monis/public_html/ofed_1_3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st.txt file points to the package that should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: ib-bonding-0.9.0-19.src.r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Daily Bui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FED package is created everyday at 6am P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openfabrics.org/builds/ofed-1.3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ackage can be used by all to test the daily cha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ackage incl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RPMs for kernel, all user space components, external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ED scripts (install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ED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hase: the build uses the master branch of all git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 phase: the build is based on the release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Release Ph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s after the alpha rel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 tracking of components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pha, beta and RC are done according to the package mat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gs severity tracking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ich bugs must be fixed for the rel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of all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FED 1.3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ED Developmen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ED Future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ED 1.3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ED Developmen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FED Future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ED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prise Working Group within Open Fabrics Alliance (OF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D has become a brand name in the industry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ve effort to test &amp; release OFA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r test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 – Kernel &amp; User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-on components for vendors to differentiate above O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54244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Reduces deployment complexity an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sons to Continue OF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y synchronization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kernel modules, libraries and applications that are tested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tests by many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Vs rely on our qualification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er new feature development and deploy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drivers for new IHV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P updates for new ISV software packages, e.g., Oracle 11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s support of new features in existing 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: Bonding to work on Redhat EL4 up5, SLES 10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-based and OS Distro-bas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D-based and OS Distro-based distribution of OFA software – one or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ly, some people intended OFED to be a short-term distribution until mainstream Linux distributions caught up and were able to distribute IB/iWARP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 there is synergy between OFED and OS vendors as they rely on the OFED quall and support benefits delivered by commercial IB/iWARP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OSV’s ready to take more quall and support responsibilities at this tim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Fabrics Software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111320"/>
          <a:ext cx="8153280" cy="52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11320"/>
                    <a:ext cx="8153280" cy="52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– Update Since Sono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ED 1.2 was released on 22-J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base: 2.6.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ED 1.2.5 was released on 16-A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base 2.6.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X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ED 1.2.5.3 was released on 14-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S in GA for Oracle 11g RA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ED 1.3 – in middle of release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base 2.6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1.3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714680"/>
            <a:ext cx="4267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CA/NIC Driv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llanox, QLogic, IBM, Chelsio,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NetEff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: verbs, mad, SMA, CMA, SA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o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P, 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RP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logic_V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D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FS-RDMA – still op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33840" y="1828800"/>
            <a:ext cx="42292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nding mo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PI Compon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VAPI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M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VAPICH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chmark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rietary MPIs: Intel, HP, Scal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rietary SMs: Cisco, Voltaire, Q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1430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41172"/>
                </a:solidFill>
                <a:uFillTx/>
                <a:latin typeface="Arial Narrow"/>
              </a:rPr>
              <a:t>OFA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1430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41172"/>
                </a:solidFill>
                <a:uFillTx/>
                <a:latin typeface="Arial Narrow"/>
              </a:rPr>
              <a:t>Add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12952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114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41172"/>
                </a:solidFill>
                <a:uFillTx/>
                <a:latin typeface="Arial Narrow"/>
              </a:rPr>
              <a:t>Tested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 New Features - Gen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kernel: 2.6.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ize integration effort into OS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level split into separately-installable RP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feedback from Novell and Red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 arrangement for the end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the make-dist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 compilation warnings of back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l Features –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M, CM &amp; CMA, ULPs: SRP, SDP, iSER, IPo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d SA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with sa_query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SA events (GID up/down) to provide additional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-space control for dynamic enable/disable and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RC (XRC)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verbs to enable X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 (NetEffect dri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P Target: Based on Mellanox IBGD SRPT and interfaces with SCST scsi target middle level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New Features – UL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o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less offloads – for Datagram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message performance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S: RDMA with Zero copy (API version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P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 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Zero 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APL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 to uDAPL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76320" y="228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 New Features –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188720"/>
            <a:ext cx="8915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of Servic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oS implementation of the IBTA ann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oS policy parser and support for SA (PR, MP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ability/stability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improvements of the routing algorithms (min-hops, up/down,  la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ed port and switch tables update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ve” daemo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tches and stores performance cou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SM integrated, work in any OpenSM state (standby, disabl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g-in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 tools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SIM – IB fabric simulator (ne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ulates user_mad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for OpenSM and management tools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9:13:54Z</dcterms:created>
  <dc:creator>tziporet</dc:creator>
  <dc:description/>
  <dc:language>en-US</dc:language>
  <cp:lastModifiedBy>tziporet</cp:lastModifiedBy>
  <dcterms:modified xsi:type="dcterms:W3CDTF">2007-11-15T23:09:50Z</dcterms:modified>
  <cp:revision>2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