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DE6A-58D4-4177-918B-56AC22215B29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Quality of Service Suppor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r Goldenberg - Mella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n Hefty – 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ing SL and VL 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/VL Table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 to VL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 arbitrati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24560" y="3733920"/>
            <a:ext cx="7053840" cy="22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# QoS default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max_vls 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high_limit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vlarb_high 0:4,1:0,2:0,3:0,4:0,5:0,6:0,7:0,8:0,9:0,10:0,11:0,12:0,13:0,14: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vlarb_low 0:0,1:4,2:4,3:4,4:4,5:4,6:4,7:4,8:4,9:4,10:4,11:4,12:4,13:4,14: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sl2vl 0,1,2,3,4,5,6,7,8,9,10,11,12,13,14,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# QoS CA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max_vls 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high_limit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vlarb_high 0:4,1:0,2:0,3:0,4:0,5:0,6:0,7:0,8:0,9:0,10:0,11:0,12:0,13:0,14: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vlarb_low 0:0,1:4,2:4,3:4,4:4,5:4,6:4,7:4,8:4,9:4,10:4,11:4,12:4,13:4,14: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(W1)"/>
                <a:ea typeface="Arial"/>
              </a:rPr>
              <a:t>qos_ca_sl2vl 0,1,2,3,4,5,6,7,8,9,10,11,12,13,14,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6320" y="4703760"/>
            <a:ext cx="1523880" cy="1620720"/>
            <a:chOff x="76320" y="4703760"/>
            <a:chExt cx="1523880" cy="1620720"/>
          </a:xfrm>
        </p:grpSpPr>
        <p:sp>
          <p:nvSpPr>
            <p:cNvPr id="178" name=""/>
            <p:cNvSpPr/>
            <p:nvPr/>
          </p:nvSpPr>
          <p:spPr>
            <a:xfrm>
              <a:off x="76320" y="5389560"/>
              <a:ext cx="6094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4703760"/>
              <a:ext cx="60948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LArb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L2V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5389560"/>
              <a:ext cx="6094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9480" y="5943600"/>
              <a:ext cx="6098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li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066680" y="57700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295280" y="508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56840" y="57700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712760" y="6080040"/>
            <a:ext cx="434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Currently in /var/cache/opensm/opensm.o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ng QoS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PathRecord attributes per QoS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35080" y="1666800"/>
            <a:ext cx="3350520" cy="425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lev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name: DEFAUL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use: default QoS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sl: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qos-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name: Low Prior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use: for the lowest p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sl: 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qos-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name: Whole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sl: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mtu-limit: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rate-limit: 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packet-life: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qos-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qos-lev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6320" y="4703760"/>
            <a:ext cx="1523880" cy="1620720"/>
            <a:chOff x="76320" y="4703760"/>
            <a:chExt cx="1523880" cy="1620720"/>
          </a:xfrm>
        </p:grpSpPr>
        <p:sp>
          <p:nvSpPr>
            <p:cNvPr id="190" name=""/>
            <p:cNvSpPr/>
            <p:nvPr/>
          </p:nvSpPr>
          <p:spPr>
            <a:xfrm>
              <a:off x="76320" y="5389560"/>
              <a:ext cx="6094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90720" y="4703760"/>
              <a:ext cx="6094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LArb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L2V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0720" y="5389560"/>
              <a:ext cx="60948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9480" y="5943600"/>
              <a:ext cx="6098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li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066680" y="57700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95280" y="508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456840" y="57700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oS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por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 por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460520"/>
            <a:ext cx="4419360" cy="48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match-ru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match-r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use: by class 7-9 or 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class: 7-9,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level-name: Whole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qos-match-r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match-r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use: Storage targe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destination: Stor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service-id: 22,4719-5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level-name: DEFAUL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qos-match-r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match-r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use: match by all parameters (AN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class: 7-9,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source: Virtual Serv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destination: Stor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service-id: 22,4719-5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pkey: 0x0F00-0x0FF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level-name: Whole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qos-match-r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qos-match-ru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6320" y="4703760"/>
            <a:ext cx="1523880" cy="1620720"/>
            <a:chOff x="76320" y="4703760"/>
            <a:chExt cx="1523880" cy="1620720"/>
          </a:xfrm>
        </p:grpSpPr>
        <p:sp>
          <p:nvSpPr>
            <p:cNvPr id="201" name=""/>
            <p:cNvSpPr/>
            <p:nvPr/>
          </p:nvSpPr>
          <p:spPr>
            <a:xfrm>
              <a:off x="76320" y="5389560"/>
              <a:ext cx="6094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90720" y="4703760"/>
              <a:ext cx="6094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LArb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L2V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90720" y="5389560"/>
              <a:ext cx="6094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5943600"/>
              <a:ext cx="60984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li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066680" y="57700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295280" y="508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456840" y="57700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into OFED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d for OFED 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policy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VL arbitration into qos-policy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based Q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queues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interface for VL arbitrati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VL arbitration setup in the fabric (e.g. port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ake questions for the next 23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o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5715000"/>
            <a:ext cx="4876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ice reservation outside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99036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19520"/>
            <a:ext cx="5029200" cy="19810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2971800"/>
            <a:ext cx="3733920" cy="1219320"/>
          </a:xfrm>
          <a:custGeom>
            <a:avLst/>
            <a:gdLst/>
            <a:ahLst/>
            <a:rect l="l" t="t" r="r" b="b"/>
            <a:pathLst>
              <a:path w="3552" h="952">
                <a:moveTo>
                  <a:pt x="0" y="40"/>
                </a:moveTo>
                <a:cubicBezTo>
                  <a:pt x="648" y="20"/>
                  <a:pt x="1296" y="0"/>
                  <a:pt x="1728" y="40"/>
                </a:cubicBezTo>
                <a:cubicBezTo>
                  <a:pt x="2160" y="80"/>
                  <a:pt x="2360" y="152"/>
                  <a:pt x="2592" y="280"/>
                </a:cubicBezTo>
                <a:cubicBezTo>
                  <a:pt x="2824" y="408"/>
                  <a:pt x="2960" y="696"/>
                  <a:pt x="3120" y="808"/>
                </a:cubicBezTo>
                <a:cubicBezTo>
                  <a:pt x="3280" y="920"/>
                  <a:pt x="3416" y="936"/>
                  <a:pt x="3552" y="952"/>
                </a:cubicBezTo>
              </a:path>
            </a:pathLst>
          </a:custGeom>
          <a:noFill/>
          <a:ln w="572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3492360"/>
            <a:ext cx="4952880" cy="393840"/>
          </a:xfrm>
          <a:custGeom>
            <a:avLst/>
            <a:gdLst/>
            <a:ahLst/>
            <a:rect l="l" t="t" r="r" b="b"/>
            <a:pathLst>
              <a:path w="3120" h="248">
                <a:moveTo>
                  <a:pt x="0" y="200"/>
                </a:moveTo>
                <a:cubicBezTo>
                  <a:pt x="604" y="100"/>
                  <a:pt x="1208" y="0"/>
                  <a:pt x="1728" y="8"/>
                </a:cubicBezTo>
                <a:cubicBezTo>
                  <a:pt x="2248" y="16"/>
                  <a:pt x="2684" y="132"/>
                  <a:pt x="3120" y="24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3200400"/>
            <a:ext cx="5105520" cy="1384200"/>
          </a:xfrm>
          <a:custGeom>
            <a:avLst/>
            <a:gdLst/>
            <a:ahLst/>
            <a:rect l="l" t="t" r="r" b="b"/>
            <a:pathLst>
              <a:path w="2832" h="680">
                <a:moveTo>
                  <a:pt x="2832" y="0"/>
                </a:moveTo>
                <a:cubicBezTo>
                  <a:pt x="2540" y="284"/>
                  <a:pt x="2248" y="568"/>
                  <a:pt x="1920" y="624"/>
                </a:cubicBezTo>
                <a:cubicBezTo>
                  <a:pt x="1592" y="680"/>
                  <a:pt x="1184" y="352"/>
                  <a:pt x="864" y="336"/>
                </a:cubicBezTo>
                <a:cubicBezTo>
                  <a:pt x="544" y="320"/>
                  <a:pt x="272" y="424"/>
                  <a:pt x="0" y="5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2971800"/>
            <a:ext cx="5638680" cy="1676520"/>
          </a:xfrm>
          <a:custGeom>
            <a:avLst/>
            <a:gdLst/>
            <a:ahLst/>
            <a:rect l="l" t="t" r="r" b="b"/>
            <a:pathLst>
              <a:path w="3504" h="1056">
                <a:moveTo>
                  <a:pt x="0" y="0"/>
                </a:moveTo>
                <a:cubicBezTo>
                  <a:pt x="144" y="104"/>
                  <a:pt x="288" y="208"/>
                  <a:pt x="576" y="240"/>
                </a:cubicBezTo>
                <a:cubicBezTo>
                  <a:pt x="864" y="272"/>
                  <a:pt x="1384" y="96"/>
                  <a:pt x="1728" y="192"/>
                </a:cubicBezTo>
                <a:cubicBezTo>
                  <a:pt x="2072" y="288"/>
                  <a:pt x="2344" y="672"/>
                  <a:pt x="2640" y="816"/>
                </a:cubicBezTo>
                <a:cubicBezTo>
                  <a:pt x="2936" y="960"/>
                  <a:pt x="3220" y="1008"/>
                  <a:pt x="3504" y="1056"/>
                </a:cubicBezTo>
              </a:path>
            </a:pathLst>
          </a:custGeom>
          <a:noFill/>
          <a:ln w="7632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4267080"/>
            <a:ext cx="99072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2362320"/>
            <a:ext cx="99072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1523880"/>
            <a:ext cx="38098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bric programmed with different service levels (BW/latency abil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4572000"/>
            <a:ext cx="34290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tain path meeting servic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tion for Q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s a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networks over a single wi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 consolidation Qo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classes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re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Provis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2743200"/>
            <a:ext cx="3962520" cy="3048120"/>
          </a:xfrm>
          <a:custGeom>
            <a:avLst/>
            <a:gdLst/>
            <a:ahLst/>
            <a:rect l="l" t="t" r="r" b="b"/>
            <a:pathLst>
              <a:path w="3310" h="1086">
                <a:moveTo>
                  <a:pt x="336" y="372"/>
                </a:moveTo>
                <a:cubicBezTo>
                  <a:pt x="334" y="98"/>
                  <a:pt x="1016" y="130"/>
                  <a:pt x="1069" y="181"/>
                </a:cubicBezTo>
                <a:cubicBezTo>
                  <a:pt x="1285" y="22"/>
                  <a:pt x="1513" y="100"/>
                  <a:pt x="1684" y="133"/>
                </a:cubicBezTo>
                <a:cubicBezTo>
                  <a:pt x="1904" y="6"/>
                  <a:pt x="2100" y="68"/>
                  <a:pt x="2208" y="118"/>
                </a:cubicBezTo>
                <a:cubicBezTo>
                  <a:pt x="2248" y="68"/>
                  <a:pt x="2680" y="0"/>
                  <a:pt x="2814" y="180"/>
                </a:cubicBezTo>
                <a:cubicBezTo>
                  <a:pt x="3018" y="208"/>
                  <a:pt x="3166" y="288"/>
                  <a:pt x="3064" y="392"/>
                </a:cubicBezTo>
                <a:cubicBezTo>
                  <a:pt x="3310" y="520"/>
                  <a:pt x="3072" y="680"/>
                  <a:pt x="2754" y="704"/>
                </a:cubicBezTo>
                <a:cubicBezTo>
                  <a:pt x="2722" y="812"/>
                  <a:pt x="2506" y="922"/>
                  <a:pt x="2114" y="850"/>
                </a:cubicBezTo>
                <a:cubicBezTo>
                  <a:pt x="2024" y="910"/>
                  <a:pt x="1756" y="1086"/>
                  <a:pt x="1244" y="896"/>
                </a:cubicBezTo>
                <a:cubicBezTo>
                  <a:pt x="1018" y="938"/>
                  <a:pt x="732" y="972"/>
                  <a:pt x="478" y="814"/>
                </a:cubicBezTo>
                <a:cubicBezTo>
                  <a:pt x="146" y="812"/>
                  <a:pt x="52" y="766"/>
                  <a:pt x="176" y="610"/>
                </a:cubicBezTo>
                <a:cubicBezTo>
                  <a:pt x="36" y="548"/>
                  <a:pt x="0" y="364"/>
                  <a:pt x="336" y="372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1f1fe"/>
              </a:gs>
              <a:gs pos="100000">
                <a:srgbClr val="ccccff"/>
              </a:gs>
            </a:gsLst>
            <a:lin ang="8100000"/>
          </a:gradFill>
          <a:ln w="12600">
            <a:solidFill>
              <a:srgbClr val="ccccff"/>
            </a:solidFill>
            <a:round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01760" cy="455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401760" cy="4554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7391520" y="5410080"/>
            <a:ext cx="455400" cy="304920"/>
            <a:chOff x="7391520" y="5410080"/>
            <a:chExt cx="455400" cy="304920"/>
          </a:xfrm>
        </p:grpSpPr>
        <p:sp>
          <p:nvSpPr>
            <p:cNvPr id="94" name=""/>
            <p:cNvSpPr/>
            <p:nvPr/>
          </p:nvSpPr>
          <p:spPr>
            <a:xfrm>
              <a:off x="7391520" y="5410080"/>
              <a:ext cx="455400" cy="304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>
                    <a:alpha val="75294"/>
                  </a:srgbClr>
                </a:gs>
                <a:gs pos="100000">
                  <a:srgbClr val="b5b5b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96080" y="5562360"/>
              <a:ext cx="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43440" y="5562360"/>
              <a:ext cx="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19760" y="5562360"/>
              <a:ext cx="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7931160" y="2309760"/>
            <a:ext cx="984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Administr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248520" y="1981080"/>
            <a:ext cx="401400" cy="45576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7543800" y="5562720"/>
            <a:ext cx="455760" cy="304560"/>
            <a:chOff x="7543800" y="5562720"/>
            <a:chExt cx="455760" cy="304560"/>
          </a:xfrm>
        </p:grpSpPr>
        <p:sp>
          <p:nvSpPr>
            <p:cNvPr id="101" name=""/>
            <p:cNvSpPr/>
            <p:nvPr/>
          </p:nvSpPr>
          <p:spPr>
            <a:xfrm>
              <a:off x="7543800" y="5562720"/>
              <a:ext cx="455760" cy="304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>
                    <a:alpha val="75294"/>
                  </a:srgbClr>
                </a:gs>
                <a:gs pos="100000">
                  <a:srgbClr val="b5b5b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57146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57146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2400" y="57146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772400" y="5715000"/>
            <a:ext cx="455760" cy="304920"/>
            <a:chOff x="7772400" y="5715000"/>
            <a:chExt cx="455760" cy="304920"/>
          </a:xfrm>
        </p:grpSpPr>
        <p:sp>
          <p:nvSpPr>
            <p:cNvPr id="106" name=""/>
            <p:cNvSpPr/>
            <p:nvPr/>
          </p:nvSpPr>
          <p:spPr>
            <a:xfrm>
              <a:off x="7772400" y="5715000"/>
              <a:ext cx="455760" cy="304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8080">
                    <a:alpha val="75294"/>
                  </a:srgbClr>
                </a:gs>
                <a:gs pos="100000">
                  <a:srgbClr val="b5b5b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77320" y="5867280"/>
              <a:ext cx="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24680" y="5867280"/>
              <a:ext cx="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1000" y="5867280"/>
              <a:ext cx="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56040" y="5486400"/>
            <a:ext cx="1011240" cy="6048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5181480" y="2362320"/>
            <a:ext cx="3276720" cy="3047760"/>
            <a:chOff x="5181480" y="2362320"/>
            <a:chExt cx="3276720" cy="3047760"/>
          </a:xfrm>
        </p:grpSpPr>
        <p:grpSp>
          <p:nvGrpSpPr>
            <p:cNvPr id="112" name=""/>
            <p:cNvGrpSpPr/>
            <p:nvPr/>
          </p:nvGrpSpPr>
          <p:grpSpPr>
            <a:xfrm>
              <a:off x="7010280" y="3276720"/>
              <a:ext cx="1143000" cy="1066680"/>
              <a:chOff x="7010280" y="3276720"/>
              <a:chExt cx="1143000" cy="1066680"/>
            </a:xfrm>
          </p:grpSpPr>
          <p:sp>
            <p:nvSpPr>
              <p:cNvPr id="113" name=""/>
              <p:cNvSpPr/>
              <p:nvPr/>
            </p:nvSpPr>
            <p:spPr>
              <a:xfrm>
                <a:off x="7010280" y="327672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3310" h="1086">
                    <a:moveTo>
                      <a:pt x="336" y="372"/>
                    </a:moveTo>
                    <a:cubicBezTo>
                      <a:pt x="334" y="98"/>
                      <a:pt x="1016" y="130"/>
                      <a:pt x="1069" y="181"/>
                    </a:cubicBezTo>
                    <a:cubicBezTo>
                      <a:pt x="1285" y="22"/>
                      <a:pt x="1513" y="100"/>
                      <a:pt x="1684" y="133"/>
                    </a:cubicBezTo>
                    <a:cubicBezTo>
                      <a:pt x="1904" y="6"/>
                      <a:pt x="2100" y="68"/>
                      <a:pt x="2208" y="118"/>
                    </a:cubicBezTo>
                    <a:cubicBezTo>
                      <a:pt x="2248" y="68"/>
                      <a:pt x="2680" y="0"/>
                      <a:pt x="2814" y="180"/>
                    </a:cubicBezTo>
                    <a:cubicBezTo>
                      <a:pt x="3018" y="208"/>
                      <a:pt x="3166" y="288"/>
                      <a:pt x="3064" y="392"/>
                    </a:cubicBezTo>
                    <a:cubicBezTo>
                      <a:pt x="3310" y="520"/>
                      <a:pt x="3072" y="680"/>
                      <a:pt x="2754" y="704"/>
                    </a:cubicBezTo>
                    <a:cubicBezTo>
                      <a:pt x="2722" y="812"/>
                      <a:pt x="2506" y="922"/>
                      <a:pt x="2114" y="850"/>
                    </a:cubicBezTo>
                    <a:cubicBezTo>
                      <a:pt x="2024" y="910"/>
                      <a:pt x="1756" y="1086"/>
                      <a:pt x="1244" y="896"/>
                    </a:cubicBezTo>
                    <a:cubicBezTo>
                      <a:pt x="1018" y="938"/>
                      <a:pt x="732" y="972"/>
                      <a:pt x="478" y="814"/>
                    </a:cubicBezTo>
                    <a:cubicBezTo>
                      <a:pt x="146" y="812"/>
                      <a:pt x="52" y="766"/>
                      <a:pt x="176" y="610"/>
                    </a:cubicBezTo>
                    <a:cubicBezTo>
                      <a:pt x="36" y="548"/>
                      <a:pt x="0" y="364"/>
                      <a:pt x="336" y="372"/>
                    </a:cubicBezTo>
                    <a:close/>
                  </a:path>
                </a:pathLst>
              </a:custGeom>
              <a:solidFill>
                <a:srgbClr val="33cccc"/>
              </a:solidFill>
              <a:ln w="12600">
                <a:solidFill>
                  <a:srgbClr val="ccccff"/>
                </a:solidFill>
                <a:round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223040" y="3641760"/>
                <a:ext cx="777960" cy="276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8001000" y="3962520"/>
              <a:ext cx="457200" cy="83808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53080" y="2362320"/>
              <a:ext cx="1143000" cy="106668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91320" y="2514600"/>
              <a:ext cx="1523880" cy="91440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480" y="2666880"/>
              <a:ext cx="1981440" cy="91440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20120" y="4191120"/>
              <a:ext cx="0" cy="121896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153280" y="2209680"/>
            <a:ext cx="978120" cy="1143000"/>
          </a:xfrm>
          <a:custGeom>
            <a:avLst/>
            <a:gdLst/>
            <a:ahLst/>
            <a:rect l="l" t="t" r="r" b="b"/>
            <a:pathLst>
              <a:path w="568" h="576">
                <a:moveTo>
                  <a:pt x="240" y="0"/>
                </a:moveTo>
                <a:cubicBezTo>
                  <a:pt x="404" y="72"/>
                  <a:pt x="568" y="144"/>
                  <a:pt x="528" y="240"/>
                </a:cubicBezTo>
                <a:cubicBezTo>
                  <a:pt x="488" y="336"/>
                  <a:pt x="244" y="456"/>
                  <a:pt x="0" y="57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952880" y="2362320"/>
            <a:ext cx="1599840" cy="3200400"/>
            <a:chOff x="4952880" y="2362320"/>
            <a:chExt cx="1599840" cy="3200400"/>
          </a:xfrm>
        </p:grpSpPr>
        <p:grpSp>
          <p:nvGrpSpPr>
            <p:cNvPr id="122" name=""/>
            <p:cNvGrpSpPr/>
            <p:nvPr/>
          </p:nvGrpSpPr>
          <p:grpSpPr>
            <a:xfrm>
              <a:off x="5105520" y="4343400"/>
              <a:ext cx="1143000" cy="762120"/>
              <a:chOff x="5105520" y="4343400"/>
              <a:chExt cx="1143000" cy="762120"/>
            </a:xfrm>
          </p:grpSpPr>
          <p:sp>
            <p:nvSpPr>
              <p:cNvPr id="123" name=""/>
              <p:cNvSpPr/>
              <p:nvPr/>
            </p:nvSpPr>
            <p:spPr>
              <a:xfrm>
                <a:off x="5105520" y="4343400"/>
                <a:ext cx="1143000" cy="762120"/>
              </a:xfrm>
              <a:custGeom>
                <a:avLst/>
                <a:gdLst/>
                <a:ahLst/>
                <a:rect l="l" t="t" r="r" b="b"/>
                <a:pathLst>
                  <a:path w="3310" h="1086">
                    <a:moveTo>
                      <a:pt x="336" y="372"/>
                    </a:moveTo>
                    <a:cubicBezTo>
                      <a:pt x="334" y="98"/>
                      <a:pt x="1016" y="130"/>
                      <a:pt x="1069" y="181"/>
                    </a:cubicBezTo>
                    <a:cubicBezTo>
                      <a:pt x="1285" y="22"/>
                      <a:pt x="1513" y="100"/>
                      <a:pt x="1684" y="133"/>
                    </a:cubicBezTo>
                    <a:cubicBezTo>
                      <a:pt x="1904" y="6"/>
                      <a:pt x="2100" y="68"/>
                      <a:pt x="2208" y="118"/>
                    </a:cubicBezTo>
                    <a:cubicBezTo>
                      <a:pt x="2248" y="68"/>
                      <a:pt x="2680" y="0"/>
                      <a:pt x="2814" y="180"/>
                    </a:cubicBezTo>
                    <a:cubicBezTo>
                      <a:pt x="3018" y="208"/>
                      <a:pt x="3166" y="288"/>
                      <a:pt x="3064" y="392"/>
                    </a:cubicBezTo>
                    <a:cubicBezTo>
                      <a:pt x="3310" y="520"/>
                      <a:pt x="3072" y="680"/>
                      <a:pt x="2754" y="704"/>
                    </a:cubicBezTo>
                    <a:cubicBezTo>
                      <a:pt x="2722" y="812"/>
                      <a:pt x="2506" y="922"/>
                      <a:pt x="2114" y="850"/>
                    </a:cubicBezTo>
                    <a:cubicBezTo>
                      <a:pt x="2024" y="910"/>
                      <a:pt x="1756" y="1086"/>
                      <a:pt x="1244" y="896"/>
                    </a:cubicBezTo>
                    <a:cubicBezTo>
                      <a:pt x="1018" y="938"/>
                      <a:pt x="732" y="972"/>
                      <a:pt x="478" y="814"/>
                    </a:cubicBezTo>
                    <a:cubicBezTo>
                      <a:pt x="146" y="812"/>
                      <a:pt x="52" y="766"/>
                      <a:pt x="176" y="610"/>
                    </a:cubicBezTo>
                    <a:cubicBezTo>
                      <a:pt x="36" y="548"/>
                      <a:pt x="0" y="364"/>
                      <a:pt x="336" y="372"/>
                    </a:cubicBezTo>
                    <a:close/>
                  </a:path>
                </a:pathLst>
              </a:custGeom>
              <a:solidFill>
                <a:srgbClr val="800080"/>
              </a:solidFill>
              <a:ln w="12600">
                <a:solidFill>
                  <a:srgbClr val="ccccff"/>
                </a:solidFill>
                <a:round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18280" y="4604040"/>
                <a:ext cx="777960" cy="2764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t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>
              <a:off x="6019560" y="2362320"/>
              <a:ext cx="533160" cy="205740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486040" y="2514600"/>
              <a:ext cx="228600" cy="19810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52880" y="2743200"/>
              <a:ext cx="304920" cy="182880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486400" y="5029200"/>
              <a:ext cx="152280" cy="5335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105520" y="2362320"/>
            <a:ext cx="1904760" cy="1904400"/>
            <a:chOff x="5105520" y="2362320"/>
            <a:chExt cx="1904760" cy="1904400"/>
          </a:xfrm>
        </p:grpSpPr>
        <p:grpSp>
          <p:nvGrpSpPr>
            <p:cNvPr id="130" name=""/>
            <p:cNvGrpSpPr/>
            <p:nvPr/>
          </p:nvGrpSpPr>
          <p:grpSpPr>
            <a:xfrm>
              <a:off x="5867280" y="3561480"/>
              <a:ext cx="1143000" cy="705240"/>
              <a:chOff x="5867280" y="3561480"/>
              <a:chExt cx="1143000" cy="705240"/>
            </a:xfrm>
          </p:grpSpPr>
          <p:sp>
            <p:nvSpPr>
              <p:cNvPr id="131" name=""/>
              <p:cNvSpPr/>
              <p:nvPr/>
            </p:nvSpPr>
            <p:spPr>
              <a:xfrm>
                <a:off x="5867280" y="3561480"/>
                <a:ext cx="1143000" cy="705240"/>
              </a:xfrm>
              <a:custGeom>
                <a:avLst/>
                <a:gdLst/>
                <a:ahLst/>
                <a:rect l="l" t="t" r="r" b="b"/>
                <a:pathLst>
                  <a:path w="3310" h="1086">
                    <a:moveTo>
                      <a:pt x="336" y="372"/>
                    </a:moveTo>
                    <a:cubicBezTo>
                      <a:pt x="334" y="98"/>
                      <a:pt x="1016" y="130"/>
                      <a:pt x="1069" y="181"/>
                    </a:cubicBezTo>
                    <a:cubicBezTo>
                      <a:pt x="1285" y="22"/>
                      <a:pt x="1513" y="100"/>
                      <a:pt x="1684" y="133"/>
                    </a:cubicBezTo>
                    <a:cubicBezTo>
                      <a:pt x="1904" y="6"/>
                      <a:pt x="2100" y="68"/>
                      <a:pt x="2208" y="118"/>
                    </a:cubicBezTo>
                    <a:cubicBezTo>
                      <a:pt x="2248" y="68"/>
                      <a:pt x="2680" y="0"/>
                      <a:pt x="2814" y="180"/>
                    </a:cubicBezTo>
                    <a:cubicBezTo>
                      <a:pt x="3018" y="208"/>
                      <a:pt x="3166" y="288"/>
                      <a:pt x="3064" y="392"/>
                    </a:cubicBezTo>
                    <a:cubicBezTo>
                      <a:pt x="3310" y="520"/>
                      <a:pt x="3072" y="680"/>
                      <a:pt x="2754" y="704"/>
                    </a:cubicBezTo>
                    <a:cubicBezTo>
                      <a:pt x="2722" y="812"/>
                      <a:pt x="2506" y="922"/>
                      <a:pt x="2114" y="850"/>
                    </a:cubicBezTo>
                    <a:cubicBezTo>
                      <a:pt x="2024" y="910"/>
                      <a:pt x="1756" y="1086"/>
                      <a:pt x="1244" y="896"/>
                    </a:cubicBezTo>
                    <a:cubicBezTo>
                      <a:pt x="1018" y="938"/>
                      <a:pt x="732" y="972"/>
                      <a:pt x="478" y="814"/>
                    </a:cubicBezTo>
                    <a:cubicBezTo>
                      <a:pt x="146" y="812"/>
                      <a:pt x="52" y="766"/>
                      <a:pt x="176" y="610"/>
                    </a:cubicBezTo>
                    <a:cubicBezTo>
                      <a:pt x="36" y="548"/>
                      <a:pt x="0" y="364"/>
                      <a:pt x="336" y="372"/>
                    </a:cubicBez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ccccff"/>
                </a:solidFill>
                <a:round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80040" y="3802680"/>
                <a:ext cx="77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5105520" y="2714760"/>
              <a:ext cx="990360" cy="9874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5000" y="2503080"/>
              <a:ext cx="685800" cy="11286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77120" y="2362320"/>
              <a:ext cx="152280" cy="1269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876920" y="5738760"/>
            <a:ext cx="984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00800" y="4572000"/>
            <a:ext cx="838080" cy="609480"/>
            <a:chOff x="6400800" y="4572000"/>
            <a:chExt cx="838080" cy="609480"/>
          </a:xfrm>
        </p:grpSpPr>
        <p:sp>
          <p:nvSpPr>
            <p:cNvPr id="138" name=""/>
            <p:cNvSpPr/>
            <p:nvPr/>
          </p:nvSpPr>
          <p:spPr>
            <a:xfrm>
              <a:off x="6400800" y="4572000"/>
              <a:ext cx="838080" cy="609480"/>
            </a:xfrm>
            <a:custGeom>
              <a:avLst/>
              <a:gdLst/>
              <a:ahLst/>
              <a:rect l="l" t="t" r="r" b="b"/>
              <a:pathLst>
                <a:path w="3310" h="1086">
                  <a:moveTo>
                    <a:pt x="336" y="372"/>
                  </a:moveTo>
                  <a:cubicBezTo>
                    <a:pt x="334" y="98"/>
                    <a:pt x="1016" y="130"/>
                    <a:pt x="1069" y="181"/>
                  </a:cubicBezTo>
                  <a:cubicBezTo>
                    <a:pt x="1285" y="22"/>
                    <a:pt x="1513" y="100"/>
                    <a:pt x="1684" y="133"/>
                  </a:cubicBezTo>
                  <a:cubicBezTo>
                    <a:pt x="1904" y="6"/>
                    <a:pt x="2100" y="68"/>
                    <a:pt x="2208" y="118"/>
                  </a:cubicBezTo>
                  <a:cubicBezTo>
                    <a:pt x="2248" y="68"/>
                    <a:pt x="2680" y="0"/>
                    <a:pt x="2814" y="180"/>
                  </a:cubicBezTo>
                  <a:cubicBezTo>
                    <a:pt x="3018" y="208"/>
                    <a:pt x="3166" y="288"/>
                    <a:pt x="3064" y="392"/>
                  </a:cubicBezTo>
                  <a:cubicBezTo>
                    <a:pt x="3310" y="520"/>
                    <a:pt x="3072" y="680"/>
                    <a:pt x="2754" y="704"/>
                  </a:cubicBezTo>
                  <a:cubicBezTo>
                    <a:pt x="2722" y="812"/>
                    <a:pt x="2506" y="922"/>
                    <a:pt x="2114" y="850"/>
                  </a:cubicBezTo>
                  <a:cubicBezTo>
                    <a:pt x="2024" y="910"/>
                    <a:pt x="1756" y="1086"/>
                    <a:pt x="1244" y="896"/>
                  </a:cubicBezTo>
                  <a:cubicBezTo>
                    <a:pt x="1018" y="938"/>
                    <a:pt x="732" y="972"/>
                    <a:pt x="478" y="814"/>
                  </a:cubicBezTo>
                  <a:cubicBezTo>
                    <a:pt x="146" y="812"/>
                    <a:pt x="52" y="766"/>
                    <a:pt x="176" y="610"/>
                  </a:cubicBezTo>
                  <a:cubicBezTo>
                    <a:pt x="36" y="548"/>
                    <a:pt x="0" y="364"/>
                    <a:pt x="336" y="372"/>
                  </a:cubicBez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6680" y="4779360"/>
              <a:ext cx="571320" cy="276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g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8007480" y="1700280"/>
            <a:ext cx="758520" cy="761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05520" y="1828800"/>
            <a:ext cx="984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Serv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5257800"/>
            <a:ext cx="984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Fi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8720" y="5967360"/>
            <a:ext cx="130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Block Stor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7440" y="4267080"/>
            <a:ext cx="1898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finiBand Sub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46160" y="149220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gic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8037360" y="4724280"/>
            <a:ext cx="954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o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can be divided into differen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BW and latency, dedicated BW, best effort, low priority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re assigned to high/low priority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s are given to traffic sharing a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5105520"/>
            <a:ext cx="6172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B supports QoS through VLs and high/low priority VL arbi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to Q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rvice ID R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GID, DGID, PKe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GID, DGID, PKe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ffic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GID, DGID, PKe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LID, DLID, PKe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TU, Rate, Packet Life Time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562720"/>
            <a:ext cx="55623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cate desired QoS to 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t Softwa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record adds QoS and service ID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left up to 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service ID to path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lobal multicast group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traffic class to path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/ i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DMA CM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t Softwa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MA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transport neutral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QoS as Type of Service (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iniband QoS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4 – new interface to set 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s directly to IB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– uses traffic class i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service ID with IB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already supports traffic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 Configu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etc/ofa/opensm-qos-policy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model ULP/application -&gt; 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sticat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s dyna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 will reconfigure when config fil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M Policy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QoS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ULP mapping into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rule takes prece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7440" y="1590840"/>
            <a:ext cx="434124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qos-ul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sdp, port-num 30000           :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sdp, port-num 10000-20000     :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sdp                           :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srp, service-id 0x1234-0x1235 :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rds, port-num 25000           :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rds                           :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iser                          :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ipoib, pkey 0x0001            : 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ipoib                         : 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any, service-id 0x6234        :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any, pkey 0x0ABC              :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default                       : 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qos-ul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0760" y="604980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 Not supported yet in OFED 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ing Port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Groups bas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description/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(CA/Switch/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12160" y="1447920"/>
            <a:ext cx="4638240" cy="48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port-grou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port-gro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name: Stor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use: SRP storage targe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port-guid: 0x100000000000FFF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port-gro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port-gro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name: Virtual Serv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use: node desc and IB port nu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port-name: vs1 HCA-1/P1, vs2 HCA-1/P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port-gro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port-gro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name: Group for Partition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partition: Part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port-gro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port-gro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name: Switches and S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node-type: SWITCH, SEL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port-gro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(W1)"/>
                <a:ea typeface="Arial"/>
              </a:rPr>
              <a:t>end-port-grou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6320" y="4703760"/>
            <a:ext cx="1523880" cy="1620720"/>
            <a:chOff x="76320" y="4703760"/>
            <a:chExt cx="1523880" cy="1620720"/>
          </a:xfrm>
        </p:grpSpPr>
        <p:sp>
          <p:nvSpPr>
            <p:cNvPr id="167" name=""/>
            <p:cNvSpPr/>
            <p:nvPr/>
          </p:nvSpPr>
          <p:spPr>
            <a:xfrm>
              <a:off x="76320" y="5389560"/>
              <a:ext cx="60948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720" y="4703760"/>
              <a:ext cx="6094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LArb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L2V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0720" y="5389560"/>
              <a:ext cx="6094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480" y="5943600"/>
              <a:ext cx="6098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li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066680" y="57700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295280" y="508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456840" y="57700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/>
  <dc:description/>
  <dc:language>en-US</dc:language>
  <cp:lastModifiedBy>mshefty</cp:lastModifiedBy>
  <dcterms:modified xsi:type="dcterms:W3CDTF">2007-11-15T17:43:02Z</dcterms:modified>
  <cp:revision>63</cp:revision>
  <dc:subject/>
  <dc:title>Quality of Service Sup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