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C82F9-F779-4463-9040-2A7DC700BA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D9431-60EC-44A7-B492-0170D493AF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71E5C-779A-4633-A662-167186845A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4B277-7304-489A-942C-3CE85474DE4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5002200" y="663480"/>
            <a:ext cx="1913040" cy="1435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53880" y="2225160"/>
            <a:ext cx="6685200" cy="66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51051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5463360"/>
            <a:ext cx="27478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54633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5105160"/>
            <a:ext cx="4164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463360"/>
            <a:ext cx="8534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04EC-5911-41E6-BD9B-66F507C17BC9}" type="slidenum">
              <a:rPr b="1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Windows OpenFabrics (WinOF) Updat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lad Shainer, Mellanox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HPC Server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400800" cy="47322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BDD-5BAA-4B50-A711-88EB78CB7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5967360"/>
            <a:ext cx="9144000" cy="43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ing InfiniBand Features For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HPC Server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2195-66F4-4CCD-B96D-5243779B37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0" y="5967360"/>
            <a:ext cx="9144000" cy="43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ing InfiniBand Features For HPC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3720" y="1201680"/>
            <a:ext cx="51577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OpenFabrics (Win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effort to develop, te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release OFA software fo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– Kernel &amp; Us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r test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-on components for vendors to differentiate above Win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ed Plat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86, x86_64, IA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P 32&amp;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Cluster Compute Serv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HPC Server 2008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QL’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Cluster Compute Serv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OF Softwar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2120" y="1752480"/>
            <a:ext cx="7081560" cy="4571640"/>
            <a:chOff x="762120" y="1752480"/>
            <a:chExt cx="7081560" cy="4571640"/>
          </a:xfrm>
        </p:grpSpPr>
        <p:sp>
          <p:nvSpPr>
            <p:cNvPr id="101" name=""/>
            <p:cNvSpPr/>
            <p:nvPr/>
          </p:nvSpPr>
          <p:spPr>
            <a:xfrm>
              <a:off x="766800" y="5361120"/>
              <a:ext cx="7072200" cy="250560"/>
            </a:xfrm>
            <a:prstGeom prst="rect">
              <a:avLst/>
            </a:prstGeom>
            <a:solidFill>
              <a:srgbClr val="5e5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6800" y="4757760"/>
              <a:ext cx="7072200" cy="603360"/>
            </a:xfrm>
            <a:custGeom>
              <a:avLst/>
              <a:gdLst/>
              <a:ahLst/>
              <a:rect l="l" t="t" r="r" b="b"/>
              <a:pathLst>
                <a:path w="4455" h="380">
                  <a:moveTo>
                    <a:pt x="4455" y="380"/>
                  </a:moveTo>
                  <a:lnTo>
                    <a:pt x="0" y="380"/>
                  </a:lnTo>
                  <a:lnTo>
                    <a:pt x="0" y="0"/>
                  </a:lnTo>
                  <a:lnTo>
                    <a:pt x="4455" y="3"/>
                  </a:lnTo>
                  <a:lnTo>
                    <a:pt x="4455" y="380"/>
                  </a:lnTo>
                  <a:close/>
                </a:path>
              </a:pathLst>
            </a:custGeom>
            <a:solidFill>
              <a:srgbClr val="3c3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6800" y="3571920"/>
              <a:ext cx="7072200" cy="1190520"/>
            </a:xfrm>
            <a:custGeom>
              <a:avLst/>
              <a:gdLst/>
              <a:ahLst/>
              <a:rect l="l" t="t" r="r" b="b"/>
              <a:pathLst>
                <a:path w="4455" h="750">
                  <a:moveTo>
                    <a:pt x="4455" y="747"/>
                  </a:moveTo>
                  <a:lnTo>
                    <a:pt x="0" y="750"/>
                  </a:lnTo>
                  <a:lnTo>
                    <a:pt x="0" y="3"/>
                  </a:lnTo>
                  <a:lnTo>
                    <a:pt x="4455" y="0"/>
                  </a:lnTo>
                  <a:lnTo>
                    <a:pt x="4455" y="747"/>
                  </a:lnTo>
                  <a:close/>
                </a:path>
              </a:pathLst>
            </a:custGeom>
            <a:solidFill>
              <a:srgbClr val="fe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800" y="4765680"/>
              <a:ext cx="7072200" cy="1440"/>
            </a:xfrm>
            <a:custGeom>
              <a:avLst/>
              <a:gdLst/>
              <a:ahLst/>
              <a:rect l="l" t="t" r="r" b="b"/>
              <a:pathLst>
                <a:path w="4455" h="0">
                  <a:moveTo>
                    <a:pt x="0" y="0"/>
                  </a:moveTo>
                  <a:lnTo>
                    <a:pt x="44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6800" y="4765680"/>
              <a:ext cx="7072200" cy="1440"/>
            </a:xfrm>
            <a:prstGeom prst="line">
              <a:avLst/>
            </a:prstGeom>
            <a:ln w="34920">
              <a:solidFill>
                <a:srgbClr val="9395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6800" y="2558880"/>
              <a:ext cx="7072200" cy="1017720"/>
            </a:xfrm>
            <a:custGeom>
              <a:avLst/>
              <a:gdLst/>
              <a:ahLst/>
              <a:rect l="l" t="t" r="r" b="b"/>
              <a:pathLst>
                <a:path w="4455" h="641">
                  <a:moveTo>
                    <a:pt x="4455" y="638"/>
                  </a:moveTo>
                  <a:lnTo>
                    <a:pt x="0" y="641"/>
                  </a:lnTo>
                  <a:lnTo>
                    <a:pt x="0" y="0"/>
                  </a:lnTo>
                  <a:lnTo>
                    <a:pt x="4455" y="0"/>
                  </a:lnTo>
                  <a:lnTo>
                    <a:pt x="4455" y="638"/>
                  </a:lnTo>
                  <a:close/>
                </a:path>
              </a:pathLst>
            </a:custGeom>
            <a:solidFill>
              <a:srgbClr val="dc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1752480"/>
              <a:ext cx="938160" cy="25560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4040" y="1752480"/>
              <a:ext cx="938160" cy="25560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Embedd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9160" y="1752480"/>
              <a:ext cx="682560" cy="25560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Lega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48320" y="1752480"/>
              <a:ext cx="687240" cy="25560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Sto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05400" y="1752480"/>
              <a:ext cx="1528920" cy="25560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Fabric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11240" y="1752480"/>
              <a:ext cx="1811520" cy="25560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Data cen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6520" y="18097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HP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2060640"/>
              <a:ext cx="938160" cy="33984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HPC (MPI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94040" y="2060640"/>
              <a:ext cx="938160" cy="33984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yriad Roman"/>
                </a:rPr>
                <a:t>Video, medical, commun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9160" y="2060640"/>
              <a:ext cx="682560" cy="33984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IP/LA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48320" y="2060640"/>
              <a:ext cx="687240" cy="33984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yriad Roman"/>
                </a:rPr>
                <a:t>Block Stor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05400" y="2060640"/>
              <a:ext cx="1528920" cy="33984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IB admin too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11240" y="2060640"/>
              <a:ext cx="855720" cy="33984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Databa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0040" y="5356080"/>
              <a:ext cx="7068960" cy="1800"/>
            </a:xfrm>
            <a:custGeom>
              <a:avLst/>
              <a:gdLst/>
              <a:ahLst/>
              <a:rect l="l" t="t" r="r" b="b"/>
              <a:pathLst>
                <a:path w="4453" h="0">
                  <a:moveTo>
                    <a:pt x="0" y="0"/>
                  </a:moveTo>
                  <a:lnTo>
                    <a:pt x="44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0040" y="5356080"/>
              <a:ext cx="7068960" cy="1800"/>
            </a:xfrm>
            <a:prstGeom prst="line">
              <a:avLst/>
            </a:prstGeom>
            <a:ln w="34920">
              <a:solidFill>
                <a:srgbClr val="919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63800" y="2060640"/>
              <a:ext cx="855720" cy="33984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App ti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12880" y="2717640"/>
              <a:ext cx="511200" cy="285840"/>
            </a:xfrm>
            <a:prstGeom prst="rect">
              <a:avLst/>
            </a:prstGeom>
            <a:solidFill>
              <a:srgbClr val="d98d72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5120" y="2717640"/>
              <a:ext cx="2415960" cy="103032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2040" y="3747960"/>
              <a:ext cx="422280" cy="23364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2360" y="3747960"/>
              <a:ext cx="409680" cy="23364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51240" y="3747960"/>
              <a:ext cx="411120" cy="23364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1240" y="3973680"/>
              <a:ext cx="1243080" cy="23328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8480" y="4206960"/>
              <a:ext cx="577800" cy="25092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13480" y="4206960"/>
              <a:ext cx="590400" cy="55080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0040" y="27925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MPI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80160" y="2717640"/>
              <a:ext cx="727200" cy="28584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00400" y="279252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OpenS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3440" y="3003480"/>
              <a:ext cx="788760" cy="28728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5720" y="3079800"/>
              <a:ext cx="43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uDAP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75120" y="3003480"/>
              <a:ext cx="679320" cy="28728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75120" y="3378240"/>
              <a:ext cx="679320" cy="138744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4400" y="30798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W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440" y="3908520"/>
              <a:ext cx="26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S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13400" y="362592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Kern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1120" y="45687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yriad Roman"/>
                </a:rPr>
                <a:t>Kernel AP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1440" y="2581200"/>
              <a:ext cx="30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Us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2895480"/>
              <a:ext cx="1295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WinSock Direct Socket Swit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05240" y="37893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TC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72160" y="3789360"/>
              <a:ext cx="29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34800" y="40132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56320" y="424332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ND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8480" y="4457880"/>
              <a:ext cx="577800" cy="30456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78280" y="4313160"/>
              <a:ext cx="531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SRP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Initia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55200" y="37893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ICM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8160" y="410688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SCSI Mid lay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4720" y="3290760"/>
              <a:ext cx="1617480" cy="28116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User access lay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2819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0" y="0"/>
                  </a:moveTo>
                  <a:lnTo>
                    <a:pt x="20" y="75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174680" y="2437920"/>
              <a:ext cx="324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4440" y="240048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9" y="75"/>
                  </a:moveTo>
                  <a:lnTo>
                    <a:pt x="20" y="0"/>
                  </a:lnTo>
                  <a:lnTo>
                    <a:pt x="0" y="75"/>
                  </a:lnTo>
                  <a:lnTo>
                    <a:pt x="3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5840" y="2593800"/>
              <a:ext cx="66960" cy="1191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0" y="0"/>
                  </a:moveTo>
                  <a:lnTo>
                    <a:pt x="19" y="7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286080" y="2464920"/>
              <a:ext cx="18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5840" y="2400480"/>
              <a:ext cx="66960" cy="11880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42" y="75"/>
                  </a:moveTo>
                  <a:lnTo>
                    <a:pt x="19" y="0"/>
                  </a:lnTo>
                  <a:lnTo>
                    <a:pt x="0" y="75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06600" y="5423040"/>
              <a:ext cx="61920" cy="1238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0"/>
                  </a:moveTo>
                  <a:lnTo>
                    <a:pt x="19" y="78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6600" y="35766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9" y="75"/>
                  </a:moveTo>
                  <a:lnTo>
                    <a:pt x="19" y="0"/>
                  </a:lnTo>
                  <a:lnTo>
                    <a:pt x="0" y="75"/>
                  </a:lnTo>
                  <a:lnTo>
                    <a:pt x="3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536840" y="3643200"/>
              <a:ext cx="1440" cy="18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33960" y="2593800"/>
              <a:ext cx="66600" cy="1191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0" y="0"/>
                  </a:moveTo>
                  <a:lnTo>
                    <a:pt x="20" y="7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265640" y="2464920"/>
              <a:ext cx="144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3960" y="2400480"/>
              <a:ext cx="66600" cy="11880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42" y="75"/>
                  </a:moveTo>
                  <a:lnTo>
                    <a:pt x="20" y="0"/>
                  </a:lnTo>
                  <a:lnTo>
                    <a:pt x="0" y="75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11640" y="2593800"/>
              <a:ext cx="65160" cy="11916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0" y="0"/>
                  </a:moveTo>
                  <a:lnTo>
                    <a:pt x="19" y="75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141880" y="2464920"/>
              <a:ext cx="18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1640" y="2400480"/>
              <a:ext cx="65160" cy="11880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41" y="75"/>
                  </a:moveTo>
                  <a:lnTo>
                    <a:pt x="19" y="0"/>
                  </a:lnTo>
                  <a:lnTo>
                    <a:pt x="0" y="75"/>
                  </a:lnTo>
                  <a:lnTo>
                    <a:pt x="4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2593800"/>
              <a:ext cx="66960" cy="1191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0" y="0"/>
                  </a:moveTo>
                  <a:lnTo>
                    <a:pt x="20" y="7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42320" y="2475000"/>
              <a:ext cx="14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2408400"/>
              <a:ext cx="66960" cy="11880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42" y="75"/>
                  </a:moveTo>
                  <a:lnTo>
                    <a:pt x="20" y="0"/>
                  </a:lnTo>
                  <a:lnTo>
                    <a:pt x="0" y="75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6480" y="3179880"/>
              <a:ext cx="66600" cy="11880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0" y="0"/>
                  </a:moveTo>
                  <a:lnTo>
                    <a:pt x="22" y="7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21400" y="2475000"/>
              <a:ext cx="180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6480" y="2408400"/>
              <a:ext cx="66600" cy="11880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42" y="75"/>
                  </a:moveTo>
                  <a:lnTo>
                    <a:pt x="22" y="0"/>
                  </a:lnTo>
                  <a:lnTo>
                    <a:pt x="0" y="75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97240" y="3373560"/>
              <a:ext cx="122040" cy="7920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58" y="0"/>
                  </a:moveTo>
                  <a:lnTo>
                    <a:pt x="0" y="50"/>
                  </a:lnTo>
                  <a:lnTo>
                    <a:pt x="77" y="3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454120" y="3166920"/>
              <a:ext cx="55584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48040" y="313704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19" y="52"/>
                  </a:moveTo>
                  <a:lnTo>
                    <a:pt x="78" y="0"/>
                  </a:lnTo>
                  <a:lnTo>
                    <a:pt x="0" y="13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43040" y="2413080"/>
              <a:ext cx="122400" cy="7920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77" y="14"/>
                  </a:moveTo>
                  <a:lnTo>
                    <a:pt x="0" y="0"/>
                  </a:lnTo>
                  <a:lnTo>
                    <a:pt x="58" y="50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5600" y="2435400"/>
              <a:ext cx="49356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27240" y="2633760"/>
              <a:ext cx="119160" cy="8388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0" y="39"/>
                  </a:moveTo>
                  <a:lnTo>
                    <a:pt x="75" y="53"/>
                  </a:lnTo>
                  <a:lnTo>
                    <a:pt x="17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1040" y="4075200"/>
              <a:ext cx="66960" cy="1238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0"/>
                  </a:moveTo>
                  <a:lnTo>
                    <a:pt x="20" y="7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923080" y="2469960"/>
              <a:ext cx="1440" cy="16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08120" y="2489040"/>
              <a:ext cx="863640" cy="387360"/>
            </a:xfrm>
            <a:custGeom>
              <a:avLst/>
              <a:gdLst/>
              <a:ahLst/>
              <a:rect l="l" t="t" r="r" b="b"/>
              <a:pathLst>
                <a:path w="544" h="244">
                  <a:moveTo>
                    <a:pt x="0" y="0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5" y="38"/>
                  </a:lnTo>
                  <a:lnTo>
                    <a:pt x="42" y="55"/>
                  </a:lnTo>
                  <a:lnTo>
                    <a:pt x="61" y="77"/>
                  </a:lnTo>
                  <a:lnTo>
                    <a:pt x="86" y="99"/>
                  </a:lnTo>
                  <a:lnTo>
                    <a:pt x="114" y="122"/>
                  </a:lnTo>
                  <a:lnTo>
                    <a:pt x="147" y="144"/>
                  </a:lnTo>
                  <a:lnTo>
                    <a:pt x="186" y="166"/>
                  </a:lnTo>
                  <a:lnTo>
                    <a:pt x="230" y="188"/>
                  </a:lnTo>
                  <a:lnTo>
                    <a:pt x="280" y="205"/>
                  </a:lnTo>
                  <a:lnTo>
                    <a:pt x="339" y="222"/>
                  </a:lnTo>
                  <a:lnTo>
                    <a:pt x="400" y="236"/>
                  </a:lnTo>
                  <a:lnTo>
                    <a:pt x="469" y="241"/>
                  </a:lnTo>
                  <a:lnTo>
                    <a:pt x="544" y="2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49440" y="2844720"/>
              <a:ext cx="123840" cy="6660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42"/>
                  </a:moveTo>
                  <a:lnTo>
                    <a:pt x="78" y="20"/>
                  </a:lnTo>
                  <a:lnTo>
                    <a:pt x="0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63840" y="2400480"/>
              <a:ext cx="79200" cy="118800"/>
            </a:xfrm>
            <a:custGeom>
              <a:avLst/>
              <a:gdLst/>
              <a:ahLst/>
              <a:rect l="l" t="t" r="r" b="b"/>
              <a:pathLst>
                <a:path w="50" h="75">
                  <a:moveTo>
                    <a:pt x="50" y="58"/>
                  </a:moveTo>
                  <a:lnTo>
                    <a:pt x="0" y="0"/>
                  </a:lnTo>
                  <a:lnTo>
                    <a:pt x="14" y="75"/>
                  </a:lnTo>
                  <a:lnTo>
                    <a:pt x="5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99000" y="2722680"/>
              <a:ext cx="1800" cy="1030320"/>
            </a:xfrm>
            <a:custGeom>
              <a:avLst/>
              <a:gdLst/>
              <a:ahLst/>
              <a:rect l="l" t="t" r="r" b="b"/>
              <a:pathLst>
                <a:path w="0" h="649">
                  <a:moveTo>
                    <a:pt x="0" y="0"/>
                  </a:moveTo>
                  <a:lnTo>
                    <a:pt x="0" y="6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1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99000" y="2722680"/>
              <a:ext cx="1800" cy="1030320"/>
            </a:xfrm>
            <a:prstGeom prst="line">
              <a:avLst/>
            </a:prstGeom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4720" y="3313080"/>
              <a:ext cx="1305000" cy="26820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ser access 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5320" y="3184560"/>
              <a:ext cx="66600" cy="119160"/>
            </a:xfrm>
            <a:custGeom>
              <a:avLst/>
              <a:gdLst/>
              <a:ahLst/>
              <a:rect l="l" t="t" r="r" b="b"/>
              <a:pathLst>
                <a:path w="42" h="75">
                  <a:moveTo>
                    <a:pt x="0" y="0"/>
                  </a:moveTo>
                  <a:lnTo>
                    <a:pt x="20" y="75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047000" y="3070080"/>
              <a:ext cx="14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15320" y="3000240"/>
              <a:ext cx="66600" cy="12240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42" y="77"/>
                  </a:moveTo>
                  <a:lnTo>
                    <a:pt x="20" y="0"/>
                  </a:lnTo>
                  <a:lnTo>
                    <a:pt x="0" y="77"/>
                  </a:lnTo>
                  <a:lnTo>
                    <a:pt x="4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54560" y="5886360"/>
              <a:ext cx="65160" cy="11916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0" y="0"/>
                  </a:moveTo>
                  <a:lnTo>
                    <a:pt x="19" y="75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384800" y="5678280"/>
              <a:ext cx="144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54560" y="5613480"/>
              <a:ext cx="65160" cy="11916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41" y="75"/>
                  </a:moveTo>
                  <a:lnTo>
                    <a:pt x="19" y="0"/>
                  </a:lnTo>
                  <a:lnTo>
                    <a:pt x="0" y="75"/>
                  </a:lnTo>
                  <a:lnTo>
                    <a:pt x="4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18160" y="4199040"/>
              <a:ext cx="903240" cy="1440"/>
            </a:xfrm>
            <a:custGeom>
              <a:avLst/>
              <a:gdLst/>
              <a:ahLst/>
              <a:rect l="l" t="t" r="r" b="b"/>
              <a:pathLst>
                <a:path w="569" h="0">
                  <a:moveTo>
                    <a:pt x="0" y="0"/>
                  </a:moveTo>
                  <a:lnTo>
                    <a:pt x="5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18160" y="4199040"/>
              <a:ext cx="9032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8160" y="4199040"/>
              <a:ext cx="7128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42000" y="4199040"/>
              <a:ext cx="6984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5840" y="4199040"/>
              <a:ext cx="6984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87880" y="4199040"/>
              <a:ext cx="7164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1720" y="4199040"/>
              <a:ext cx="7164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35560" y="4199040"/>
              <a:ext cx="6984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59400" y="4199040"/>
              <a:ext cx="6984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1800" y="4199040"/>
              <a:ext cx="39600" cy="1440"/>
            </a:xfrm>
            <a:prstGeom prst="line">
              <a:avLst/>
            </a:prstGeom>
            <a:ln w="17640">
              <a:solidFill>
                <a:srgbClr val="9d9f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73160" y="5094360"/>
              <a:ext cx="140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HCA Low Level Dri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79800" y="5415120"/>
              <a:ext cx="973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HCA Hardwa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2840" y="5776920"/>
              <a:ext cx="53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Marke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480" y="5008680"/>
              <a:ext cx="7072200" cy="1440"/>
            </a:xfrm>
            <a:custGeom>
              <a:avLst/>
              <a:gdLst/>
              <a:ahLst/>
              <a:rect l="l" t="t" r="r" b="b"/>
              <a:pathLst>
                <a:path w="4455" h="0">
                  <a:moveTo>
                    <a:pt x="0" y="0"/>
                  </a:moveTo>
                  <a:lnTo>
                    <a:pt x="44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480" y="5008680"/>
              <a:ext cx="7072200" cy="1440"/>
            </a:xfrm>
            <a:prstGeom prst="line">
              <a:avLst/>
            </a:prstGeom>
            <a:ln w="17640">
              <a:solidFill>
                <a:srgbClr val="8082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480" y="5797440"/>
              <a:ext cx="236520" cy="114480"/>
            </a:xfrm>
            <a:prstGeom prst="rect">
              <a:avLst/>
            </a:prstGeom>
            <a:solidFill>
              <a:srgbClr val="faaf75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16000" y="5961240"/>
              <a:ext cx="81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Applic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1480" y="5983200"/>
              <a:ext cx="236520" cy="114480"/>
            </a:xfrm>
            <a:prstGeom prst="rect">
              <a:avLst/>
            </a:prstGeom>
            <a:solidFill>
              <a:srgbClr val="c6c8ca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47200" y="5767560"/>
              <a:ext cx="170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Windows server 2003 C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8200" y="5789520"/>
              <a:ext cx="237960" cy="114480"/>
            </a:xfrm>
            <a:prstGeom prst="rect">
              <a:avLst/>
            </a:prstGeom>
            <a:solidFill>
              <a:srgbClr val="d98d72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78200" y="5973840"/>
              <a:ext cx="237960" cy="114120"/>
            </a:xfrm>
            <a:prstGeom prst="rect">
              <a:avLst/>
            </a:prstGeom>
            <a:solidFill>
              <a:srgbClr val="c25336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41560" y="6156360"/>
              <a:ext cx="43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WinO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480" y="6176880"/>
              <a:ext cx="236520" cy="114480"/>
            </a:xfrm>
            <a:prstGeom prst="rect">
              <a:avLst/>
            </a:prstGeom>
            <a:solidFill>
              <a:srgbClr val="3a367f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080" y="3809880"/>
              <a:ext cx="685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Kernel bypa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27040" y="5943600"/>
              <a:ext cx="141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Windows server 20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49120" y="6095880"/>
              <a:ext cx="112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yriad Roman"/>
                </a:rPr>
                <a:t>InfiniBand Fabr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9440" y="4768920"/>
              <a:ext cx="101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Access Lay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8240" y="2997360"/>
              <a:ext cx="838440" cy="304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636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M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51560" y="4529160"/>
              <a:ext cx="35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Myriad Roman"/>
                </a:rPr>
                <a:t>IPoI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7920" y="24382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OF 1.0.1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942920"/>
            <a:ext cx="3962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A Dri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HCA (Mellano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Layer (I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IS 5.1 (IPo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 provid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initiat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I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s perf Benc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W updat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33840" y="2057400"/>
            <a:ext cx="4229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 C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uster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32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325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ADD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1213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mponents supported by individual vendors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360" y="6032520"/>
            <a:ext cx="244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* Not available on Windows X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yriad Roman"/>
              </a:rPr>
              <a:t>** Not available on Windows XP 32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have binary version available in WinOF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Copy only, limited set of A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oft WH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qualification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QL can be obtained only by I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get WinOF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WHQL includes IPoIB and W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evel drivers and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OF 1.0 - WHQL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OF Application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81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OF 1.1 planed for March-April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X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Serv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HPC Serv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NetworkDirect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optimization Windows HPC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Server 2008 WH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hainer</cp:lastModifiedBy>
  <dcterms:modified xsi:type="dcterms:W3CDTF">2007-11-16T07:02:02Z</dcterms:modified>
  <cp:revision>1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