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793A-8802-4F91-9093-343CE0B26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 Rosenstock &lt;hal@xsig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2E23-75B4-41CE-9E4A-DACE3FB409A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5032440"/>
            <a:ext cx="9144000" cy="1139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FED 1.3 InfiniBand Management Update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76520" y="51814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 Rosen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coming (beyond OFED 1.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anager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Key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 Failover/Handov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engin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m -R ftree –R updn -R minhop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Description changed trap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“Selected” IBA 1.2.1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SL2VLMapping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IPv6 solicited node multicast (SNM)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roups share same M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local even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r N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interfaces/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 DB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-diags 1.3.3 (Maintainer: Sasha Khapyorsky, Volt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ork on any CA/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name support for additional di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ments to support ro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need more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query fixes/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M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single port CAs without all port select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etdis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ology output format now contains port GU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ing for Xsigo chas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_nodedesc.sh rather than set_mthca_nodedesc.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utils 1.2 (Maintainer: Oren Kladnitsky, Mellan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coming for 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ied diag tools command line/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sim 0.4 (Maintainer: Sasha Khapyorsky, Volta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M and infiniband-diags work unmodified with this sim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ibnetdiscover format for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t://git.openfabrics.org/~sashak/ibsim.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is neede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like to see adde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@lists.openfabric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62320" y="266688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109320" y="2925720"/>
            <a:ext cx="293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Router Enab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_EXP not enabled in build by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of IBA missing for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handling of router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off subnet GIDs in SA Path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non link-local scope in MGID in SA MCMember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mension Order Ro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mension Order Routing algorithm is based on the Min H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algorithm and so uses shortest paths.  Instead of spreading traff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out across different paths with the same shortest distance, it choo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among the available shortest paths based on an ordering of dimension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Each port must be consistently cabled to represent a hypercu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dimension or a mesh dimension.  Paths are grown from a destin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back to a source using the lowest dimension (port) of available path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at each step.  This provides the ordering necessary to avoid deadlock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When there are multiple links between any two switches, they sti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represent only one dimension and traffic is balanced across th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unless port equalization is turned off.  In the case of hypercub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the same port must be used throughout the fabric to represent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hypercube dimension and match on both ends of the cable.  In the c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of meshes, the dimension should consistently use the same pair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ports, one port on one end of the cable, and the other port on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other end, continuing along the mesh dimens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scape”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Forward program as relates to OpenIB/OpenFabrics has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ed much of the IB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hing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of maintai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(libraries, OpenSM, infiniband-di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me to Sas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Eitan to 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rnel Related Develop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SMI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AD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mask work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ordering and 32 on 64 issue on big endian 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route support in MA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ly needed for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e Management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ibcommon 1.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ibumad 1.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multiple o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gri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 is now thread 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mask work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 ordering and 32 on 64 issue on big endian arc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be bumped to 6 in Sept 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layout will be def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Key ioctl to be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ibmad 1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IB_DEVICE_MGMT_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SM for OFED 1.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t://git.openfabrics.org/~ofed_1_3/management.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m-3.1.6 (OFED 1.3 Be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er: Sasha Khapyorsky (Volta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used as core fo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word on equivalent Windows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Functi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of service manager – experimental (Mellanox contri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IBTA ann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vered in Dror’s 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oS Policy 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 PathRecord/MultiPathRecord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SL2VL/VLArb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qos rather than no-qos o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management – 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supports when SM not master (or no 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” daemon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performance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routing speed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 hops, up/down, 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 port and switch tables update poli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 speed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packaging/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Functi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cation of node name map with infiniband-di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on order routing (SGI contri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H performance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at tre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mands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back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policy support for link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bbling” ports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ression of trap storms for non-conformant S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d GUID/moved port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g Fixes (since OFED 1.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OFED 1.3 OpenSM release notes fo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for non compli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coming (beyond OFED 1.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restandard IBA router enab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routing table needed for more flexible top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” OpenSM cons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progress at LL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S/Part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groups definition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QoS setup (VLArb, SL2V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Hal Rosenstock</dc:creator>
  <dc:description/>
  <dc:language>en-US</dc:language>
  <cp:lastModifiedBy>hrosenstock</cp:lastModifiedBy>
  <dcterms:modified xsi:type="dcterms:W3CDTF">2007-11-15T12:25:13Z</dcterms:modified>
  <cp:revision>165</cp:revision>
  <dc:subject/>
  <dc:title>OFED 1.3 Management Update</dc:title>
</cp:coreProperties>
</file>