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51B5-D421-4A84-9BA1-1A222014B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2.3 and 2.0.2 releases are targeted for OFED 1.3 beta (there may be another release before final OFED 1.3 rele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1.2 and 2.0 releases can co-exist when installing packages as stated above for any distribution. If you install ALL rpm packages from 1.2, along with 2.0, then there will be a conflict with the libdat.so. Note: We could remove libdat.so from 1.2 package to avoid this conflict between packages but then the complete standalone 1.2 package (base,devel,utils,debuginfo) would be missing libdat.s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a For sends and writes you can build QP work entry space for inline data and set work request send_flags for inline. uDAPL sets up QP’s (dat_ep_create) for 128 bytes by default (no query attribute available from verbs) which fails with INSUFFICIENT_RESOURCES from some adapters. Reducing to a default of 64 worked for all IB and iWARP adapters at event. This was done with environment variable DAPL_MAX_INLINE=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b rping sets rdma_in/out to 1 so it works on iwarp devices. The dtest sets rdma_in/out default to 4 so this works. If none is specified during dat_ep_create then dapl provider sets default to 8 which is greater then most devices. This is a bug in the dapl common provider code, should verifiy defaults do not exceed max suppor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CA queries – iWARP versus I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WARP re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y_hca: (ver=4) ep 8128 ep_q 510 evd 8128 evd_q 3276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y_hca: msg 2147483648 iov 4 lmr 65536 rmr 65536 rd_io 3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 re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y_hca: (ver=a0) ep 64512 ep_q 65535 evd 65408 evd_q 1310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y_hca: msg 2147483648 dto 65535 iov 59 rdma i4,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openfabrics.org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96080" y="152280"/>
            <a:ext cx="1067040" cy="973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B686-407F-4FDA-B4DA-EE4A4776BAA9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50021"/>
                </a:solidFill>
                <a:uFillTx/>
                <a:latin typeface="Arial"/>
                <a:hlinkClick r:id="rId5"/>
              </a:rPr>
              <a:t>www.openfabrics.org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atcollaborative.org/" TargetMode="External"/><Relationship Id="rId2" Type="http://schemas.openxmlformats.org/officeDocument/2006/relationships/hyperlink" Target="http://sourceforge.net/projects/dapl" TargetMode="External"/><Relationship Id="rId3" Type="http://schemas.openxmlformats.org/officeDocument/2006/relationships/hyperlink" Target="http://sourceforge.net/projects/dapl" TargetMode="External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penfabrics.org/downloads/dapl/dapl-1.2.3.tar.gz" TargetMode="External"/><Relationship Id="rId2" Type="http://schemas.openxmlformats.org/officeDocument/2006/relationships/hyperlink" Target="http://www.openfabrics.org/downloads/dapl/dapl-2.0.2.tar.gz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penfabrics.org/downloads/dapl/documentation/transition_to_dat20.pdf" TargetMode="External"/><Relationship Id="rId2" Type="http://schemas.openxmlformats.org/officeDocument/2006/relationships/hyperlink" Target="http://www.openfabrics.org/downloads/dapl/documentation/" TargetMode="External"/><Relationship Id="rId3" Type="http://schemas.openxmlformats.org/officeDocument/2006/relationships/hyperlink" Target="http://www.openfabrics.org/downloads/dapl/documentation/" TargetMode="External"/><Relationship Id="rId4" Type="http://schemas.openxmlformats.org/officeDocument/2006/relationships/hyperlink" Target="http://www.openfabrics.org/downloads/dapl/documentation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pringerlink.com/content/105633/" TargetMode="External"/><Relationship Id="rId2" Type="http://schemas.openxmlformats.org/officeDocument/2006/relationships/hyperlink" Target="http://www.springerlink.com/computer-science/" TargetMode="External"/><Relationship Id="rId3" Type="http://schemas.openxmlformats.org/officeDocument/2006/relationships/hyperlink" Target="http://www.springerlink.com/content/978-3-540-29009-4/" TargetMode="External"/><Relationship Id="rId4" Type="http://schemas.openxmlformats.org/officeDocument/2006/relationships/hyperlink" Target="http://www.springerlink.com/content/dx8uw0gdn09j/" TargetMode="Externa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P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76160" y="48769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kady Kanevsky – Network Ap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Lentini – Network Ap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lin Davis – In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PL API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 Object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ny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O – consumer notificatio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 – connection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 – end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D – event dispa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 – interface ad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R – local memory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P – public servic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Z – protection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MR – remote memory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SP – reserved servic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l Resource Mgm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Ad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s to a hardware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red to a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objects are descendants of the interface ad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ed using names stored in a DAT registry provider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l Resource Mgm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Ad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ia_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 an interface adapter of a given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the size of the associated event dispatcher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ia_c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s an interface ad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utomatically cleanup all associate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l Resource Mgm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Ad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ia_qu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attributes for the interface adapter and the provider of the ad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rs can specific which attributes to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l Resource Mgm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defined context may be associated with most DA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 of context is done separately from object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l Resource Mgm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set_consumer_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s a user-defined context with a DAT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get_consumer_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the user’s context for a DAT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get_handle_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s the type of DAT object associated with a given h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vent dispatcher deliver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 streams feed into the event dispat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is maintained separately for each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ing between streams is defined by the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 streams exist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ment, disconnect, time-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nchronous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not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Notification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an operating system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to a single interface ad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event dispatchers may be mapped to a single notificatio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Os may be associated with wait proxy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proxy agents are signaled when the CNO is signa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NOs per wait agent is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proxy agent implementation is OS-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PL -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op event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Notification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_cno_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a new notificatio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s an optional wait proxy agent with the C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_cno_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oys a C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_cno_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s a specified time for an event to occur on an event dispatcher associated with the C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Notification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cno_modify_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the wait proxy agent associated with a C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cno_qu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user-specified information about the C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ispa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vd_cre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new event dispa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specifies the size and type of events reported by the dispa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atcher may be associated with a C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vd_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oys an event dispa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ispa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vd_qu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user-specified information on the event dispa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vd_modify_c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which CNO is associated with the event dispa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ispa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vd_e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s that the event dispatcher should trigger the associated CNO when an event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vd_di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s the event dispatcher from signaling its associated CNO when an event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ispa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vd_set_unwa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s the event dispatcher into an unwaitabl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calls to dat_evd_wait fa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affect event generation or signaling of the C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vd_clear_unwa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waiting on the event dispa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ispa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vd_re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the size of the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vd_w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he user to wait on the EVD for a specific number of events to occur or until the wait time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event information, if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the number of events still on the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ispa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vd_de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es information about an event, if available, from the event dispa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vd_post_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s a user-defined software event to the event dispa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client/server and peer-to-peer connection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s to interface adapters are standard socke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 sockaddr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 sockaddr_net6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t to DAT_IA_ADDRESS_PTR when used with DAPL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qualifiers are used to associate connection requests with the provid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ervic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onsumers to listen for connection requests on a specified connection qual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qualifier is advertised by a nam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request is per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multipl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outstanding connections is limited by associated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PL -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 (direct access transport) DAPL (direct access programming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 collaborative - Industry group formed in 2001,  50+ members (</a:t>
            </a:r>
            <a:r>
              <a:rPr b="0" lang="de-DE" sz="1800" spc="-1" strike="noStrike" u="sng">
                <a:solidFill>
                  <a:srgbClr val="a50021"/>
                </a:solidFill>
                <a:uFillTx/>
                <a:latin typeface="Arial"/>
                <a:hlinkClick r:id="rId1"/>
              </a:rPr>
              <a:t>http://www.datcollaborative.or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rnel/User API‘s defined. uDAPL 1.0, 1.1, 1.2, 2.0 (2002-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t of API‘s that exploit RDMA capable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ort (VI, IB, iWARP) and Platform (O/S) in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sider extensions beyond current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en source reference (</a:t>
            </a:r>
            <a:r>
              <a:rPr b="0" lang="en-US" sz="1800" spc="-1" strike="noStrike" u="sng">
                <a:solidFill>
                  <a:srgbClr val="a50021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a50021"/>
                </a:solidFill>
                <a:uFillTx/>
                <a:latin typeface="Arial"/>
                <a:hlinkClick r:id="rId3"/>
              </a:rPr>
              <a:t>sourceforge.net/projects/da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ucture lightweight, low overhead, members have all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cifications/actions ratified by vote, one vote per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ility - library support for Linux, Windows, So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ability - IHV support goes beyond IB and iW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ibility - platform/transport extension support built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- comparable to ver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5257800" y="5943600"/>
            <a:ext cx="380880" cy="266760"/>
          </a:xfrm>
          <a:custGeom>
            <a:avLst/>
            <a:gdLst>
              <a:gd name="textAreaLeft" fmla="*/ 17280 w 380880"/>
              <a:gd name="textAreaRight" fmla="*/ 363600 w 38088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0828" h="21600">
                <a:moveTo>
                  <a:pt x="0" y="0"/>
                </a:moveTo>
                <a:lnTo>
                  <a:pt x="30828" y="0"/>
                </a:lnTo>
                <a:lnTo>
                  <a:pt x="30828" y="21600"/>
                </a:lnTo>
                <a:lnTo>
                  <a:pt x="0" y="21600"/>
                </a:lnTo>
                <a:close/>
              </a:path>
              <a:path fill="lightenLess" w="30828" h="21600">
                <a:moveTo>
                  <a:pt x="0" y="0"/>
                </a:moveTo>
                <a:lnTo>
                  <a:pt x="30828" y="0"/>
                </a:lnTo>
                <a:lnTo>
                  <a:pt x="29428" y="1400"/>
                </a:lnTo>
                <a:lnTo>
                  <a:pt x="1400" y="1400"/>
                </a:lnTo>
                <a:close/>
              </a:path>
              <a:path fill="darken" w="30828" h="21600">
                <a:moveTo>
                  <a:pt x="30828" y="0"/>
                </a:moveTo>
                <a:lnTo>
                  <a:pt x="30828" y="21600"/>
                </a:lnTo>
                <a:lnTo>
                  <a:pt x="29428" y="20200"/>
                </a:lnTo>
                <a:lnTo>
                  <a:pt x="29428" y="1400"/>
                </a:lnTo>
                <a:close/>
              </a:path>
              <a:path fill="darkenLess" w="30828" h="21600">
                <a:moveTo>
                  <a:pt x="30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28" y="20200"/>
                </a:lnTo>
                <a:close/>
              </a:path>
              <a:path fill="lighten" w="30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28" h="21600">
                <a:moveTo>
                  <a:pt x="8408" y="3794"/>
                </a:moveTo>
                <a:lnTo>
                  <a:pt x="22420" y="10800"/>
                </a:lnTo>
                <a:lnTo>
                  <a:pt x="8408" y="17806"/>
                </a:lnTo>
                <a:close/>
              </a:path>
            </a:pathLst>
          </a:custGeom>
          <a:solidFill>
            <a:srgbClr val="00669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ervic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psp_cre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public service point to listen for incoming connection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P is limited to a single interface ad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specifies if endpoints should be automatically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or DAPL provider can allocate endpoints with each connectio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PL allocated endpoints are not associated with protection zones or event dispat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ervic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psp_create_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dat_psp_create, except that the DAPL provider selects the connection qualifier from the list of available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psp_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ls listening for connection requests on a public servic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psp_qu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user-specified information about the P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 Servic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peer-to-peer connection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qualifiers are not advertised by a nam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must determine connection qualifiers before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single connection is established per reserved servic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create auxiliary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 Servic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rsp_cre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dat_psp_create, except user specifies local endpoint to use when establishing the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rsp_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ls listening for connection requests on a reserved servic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rsp_qu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user-specified information about the R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requests are given to the consumer through a connection request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cr_qu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user-specified information about a connection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_cr_hand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s a connection request to a specified connection qua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cr_ac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s a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oys connection reques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specifies the endpoint, unless it is specified by the connection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ay pass private data to the remote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cr_re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s a connection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point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p_cre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n endpoint with specified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points belong within a protection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specifies event dispatchers for receive completions, send completions, and connection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p_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s an end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point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p_get_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an endpoint’s state and whether data transfer operations are out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p_qu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user-specified information about an end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p_mod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endpoint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zone, event dispatchers,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point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_ep_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s a connection request to a specified remote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interface adapter and connection qua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_ep_dup_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a new connection to the same remote service specified by a prior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calling dat_ep_connect using the same remote interface adapter and connection qua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point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p_dis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nnects an end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graceful and abrupt dis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p_r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s an endpoint to the unconnec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PL - release 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lease packages built to co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50021"/>
                </a:solidFill>
                <a:uFillTx/>
                <a:latin typeface="Arial"/>
                <a:hlinkClick r:id="rId1"/>
              </a:rPr>
              <a:t>1.2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–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50021"/>
                </a:solidFill>
                <a:uFillTx/>
                <a:latin typeface="Arial"/>
                <a:hlinkClick r:id="rId2"/>
              </a:rPr>
              <a:t>2.0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– base, devel, utils, debug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.conf is backward 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v1.2 entries unchang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ntries for v2.0 using ofa-v2 pref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utils and development files are v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estx added for IB extens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usr/include/dat2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point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p_post_s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p_post_re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p_post_rdma_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ep_post_rdma_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pz_cre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s a protection zone on an interface ad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s endpoints with local and remote memory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pz_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_pz_qu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/Remote Memory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_lmr_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s memory with a protection zone for use with an end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_rmr_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s a remote memory region within a protectio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emory is associated with the RMR until b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_lmr_free / dat_rmr_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_lmr_query / dat_rmr_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_rmr_b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a section of an LMR for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PL - v2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ackward compatible (see </a:t>
            </a:r>
            <a:r>
              <a:rPr b="0" lang="en-US" sz="2400" spc="-1" strike="noStrike" u="sng">
                <a:solidFill>
                  <a:srgbClr val="a50021"/>
                </a:solidFill>
                <a:uFillTx/>
                <a:latin typeface="Arial"/>
                <a:hlinkClick r:id="rId1"/>
              </a:rPr>
              <a:t>transition gu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 spec er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 and iWARP extensi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and latest errata on down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50021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a50021"/>
                </a:solidFill>
                <a:uFillTx/>
                <a:latin typeface="Arial"/>
                <a:hlinkClick r:id="rId3"/>
              </a:rPr>
              <a:t>www.openfabrics.org/downloads/dapl/documentation</a:t>
            </a:r>
            <a:r>
              <a:rPr b="0" lang="en-US" sz="1800" spc="-1" strike="noStrike" u="sng">
                <a:solidFill>
                  <a:srgbClr val="a50021"/>
                </a:solidFill>
                <a:uFillTx/>
                <a:latin typeface="Arial"/>
                <a:hlinkClick r:id="rId4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PL – Interop event - Fall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pl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 send/write inline data = 128 bytes, 64 is max for some adap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ma_in/out default setting is 8 in provider, 4 is max for most adapters (dapl bu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sends data from server side first – iWARP protocol 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ed max adapter attributes incorrect (qp depth 16 million reported, 1024 support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MPI over uDA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 request queue is 1100, &lt;1024 for some adap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tel MPI didn’t adjust queue size down when queried max values less then 1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B runs on IB and iWARP, test suite issues on iWARP (err=6, status=EPRO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 overrides required to run IMB on iWAR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v RDMA_DEFAULT_MAX_WQE 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v RDMA_READ_RESERVE 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v I_MPI_RDMA_RECV_QUEUE_SIZE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ke-A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WARP adapter resources less then IB HCA’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s and dapl providers should use query attributes, adapters must report correctl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ndors need pre-event validation (rping,dapltest) to insure basic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a verbs based limit test suite for max resource valid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PL – Fu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conformance test suites to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extensions – xRC, multicast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 sRQ and add new test ut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 between OFED and Win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_cm support in WinOF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back openib_scm sup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PL – Backup Sl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PI performance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3770280"/>
            <a:ext cx="849312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gning a Portable MPI-2 over Modern Interconnects Using uDAPL Interfac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ook Series 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Verdana"/>
                <a:hlinkClick r:id="rId1"/>
              </a:rPr>
              <a:t>Lecture Notes in Computer Scienc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ublisher Springer Berlin / Heidelberg ISSN0302-974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bject 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Verdana"/>
                <a:hlinkClick r:id="rId2"/>
              </a:rPr>
              <a:t>Computer Scienc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olume 3666/2005 Book 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Verdana"/>
                <a:hlinkClick r:id="rId3"/>
              </a:rPr>
              <a:t>Recent Advances in Parallel Virtual Machine and Message Passing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I10.1007/11557265 Copyright 2005 ISBN 978-3-540-29009-4DOI10.1007/11557265_28 Pages200-2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Date Sunday, October 02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50021"/>
                </a:solidFill>
                <a:uFillTx/>
                <a:latin typeface="Verdana"/>
                <a:hlinkClick r:id="rId4"/>
              </a:rPr>
              <a:t>http://www.springerlink.com/content/dx8uw0gdn09j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1521360"/>
            <a:ext cx="849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ion with micro-benchmarks and applications on InfiniBand shows that the implementation with uDAPL performs comparably with that of MVAPICH2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. Panda - O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5" action="ppaction://hlinksldjump"/>
          </p:cNvPr>
          <p:cNvSpPr/>
          <p:nvPr/>
        </p:nvSpPr>
        <p:spPr>
          <a:xfrm>
            <a:off x="8534520" y="1600200"/>
            <a:ext cx="320400" cy="304920"/>
          </a:xfrm>
          <a:custGeom>
            <a:avLst/>
            <a:gdLst>
              <a:gd name="textAreaLeft" fmla="*/ 19440 w 320400"/>
              <a:gd name="textAreaRight" fmla="*/ 300960 w 320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2695" h="21600">
                <a:moveTo>
                  <a:pt x="0" y="0"/>
                </a:moveTo>
                <a:lnTo>
                  <a:pt x="22695" y="0"/>
                </a:lnTo>
                <a:lnTo>
                  <a:pt x="22695" y="21600"/>
                </a:lnTo>
                <a:lnTo>
                  <a:pt x="0" y="21600"/>
                </a:lnTo>
                <a:close/>
              </a:path>
              <a:path fill="lightenLess" w="22695" h="21600">
                <a:moveTo>
                  <a:pt x="0" y="0"/>
                </a:moveTo>
                <a:lnTo>
                  <a:pt x="22695" y="0"/>
                </a:lnTo>
                <a:lnTo>
                  <a:pt x="21295" y="1400"/>
                </a:lnTo>
                <a:lnTo>
                  <a:pt x="1400" y="1400"/>
                </a:lnTo>
                <a:close/>
              </a:path>
              <a:path fill="darken" w="22695" h="21600">
                <a:moveTo>
                  <a:pt x="22695" y="0"/>
                </a:moveTo>
                <a:lnTo>
                  <a:pt x="22695" y="21600"/>
                </a:lnTo>
                <a:lnTo>
                  <a:pt x="21295" y="20200"/>
                </a:lnTo>
                <a:lnTo>
                  <a:pt x="21295" y="1400"/>
                </a:lnTo>
                <a:close/>
              </a:path>
              <a:path fill="darkenLess" w="22695" h="21600">
                <a:moveTo>
                  <a:pt x="22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5" y="20200"/>
                </a:lnTo>
                <a:close/>
              </a:path>
              <a:path fill="lighten" w="22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5" h="21600">
                <a:moveTo>
                  <a:pt x="4341" y="7493"/>
                </a:moveTo>
                <a:lnTo>
                  <a:pt x="7849" y="7493"/>
                </a:lnTo>
                <a:lnTo>
                  <a:pt x="7849" y="12828"/>
                </a:lnTo>
                <a:cubicBezTo>
                  <a:pt x="7849" y="13751"/>
                  <a:pt x="8649" y="14482"/>
                  <a:pt x="9685" y="14482"/>
                </a:cubicBezTo>
                <a:lnTo>
                  <a:pt x="11348" y="14482"/>
                </a:lnTo>
                <a:cubicBezTo>
                  <a:pt x="12383" y="14482"/>
                  <a:pt x="13184" y="13751"/>
                  <a:pt x="13184" y="12828"/>
                </a:cubicBezTo>
                <a:lnTo>
                  <a:pt x="13184" y="7493"/>
                </a:lnTo>
                <a:lnTo>
                  <a:pt x="11348" y="7493"/>
                </a:lnTo>
                <a:lnTo>
                  <a:pt x="14855" y="3985"/>
                </a:lnTo>
                <a:lnTo>
                  <a:pt x="18528" y="7493"/>
                </a:lnTo>
                <a:lnTo>
                  <a:pt x="16692" y="7493"/>
                </a:lnTo>
                <a:lnTo>
                  <a:pt x="16692" y="12828"/>
                </a:lnTo>
                <a:cubicBezTo>
                  <a:pt x="16692" y="15596"/>
                  <a:pt x="14115" y="18155"/>
                  <a:pt x="11348" y="18155"/>
                </a:cubicBezTo>
                <a:lnTo>
                  <a:pt x="9685" y="18155"/>
                </a:lnTo>
                <a:cubicBezTo>
                  <a:pt x="6917" y="18155"/>
                  <a:pt x="4341" y="15596"/>
                  <a:pt x="4341" y="12828"/>
                </a:cubicBezTo>
                <a:close/>
              </a:path>
            </a:pathLst>
          </a:custGeom>
          <a:solidFill>
            <a:srgbClr val="00669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21:29Z</dcterms:created>
  <dc:creator>Jason Gunthorpe</dc:creator>
  <dc:description/>
  <dc:language>en-US</dc:language>
  <cp:lastModifiedBy>ardavis</cp:lastModifiedBy>
  <dcterms:modified xsi:type="dcterms:W3CDTF">2007-11-06T00:24:44Z</dcterms:modified>
  <cp:revision>80</cp:revision>
  <dc:subject/>
  <dc:title>InfiniBand Routing</dc:title>
</cp:coreProperties>
</file>