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513-24B6-4A06-A704-BE7CFD83A3A6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IPoIB support of the Linux bonding driver - update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952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pstream push upd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etwork configuration tool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guration examp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ED deploy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tribution deploy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stream push updat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ches to bonding and ipoib were pushed and accepted into 2.6.24-rc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steam push done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 Shoua of Volt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y Vosburgh  of IB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 you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l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the help and coaching through the proces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configuration tool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ing scheme (both master and slaves) is configured via the standard network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Red Hat - initscri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SLES – sys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nges for IPoIB/Bonding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5 and SLES10 –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4 – some patch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scripts, eg to avoi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ensl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ript come in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 example - Red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/etc/modeprobe.conf add th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ias bond0 b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tions bond0 miimon=100 mode=1 max_bonds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sysconfig/network-scripts/ifcfg-bond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VICE=bon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PADDR=192.168.10.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TMASK=255.255.25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BOOT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TPROTO=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RCTL=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sysconfig/network-scripts/ifcfg-ib0/i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VICE=ib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BOOT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TPROTO=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STER=bon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AV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RCTL=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 example – SLES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sysconfig/network/ifcfg-bond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PROTO="stati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PADDR="192.168.10.63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TMASK=255.255.25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_IPADDR=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MODE="onboo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DING_MASTER="ye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DING_MODULE_OPTS="mode=active-backup miimon=1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DING_SLAVE0=ib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NDING_SLAVE1=i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sysconfig/network/ifcfg-ib0/i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TPROTO='non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MODE='off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ED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b-bonding package was introduced at  OFED 1.2, its provides the binary bonding module and a helper configuration script based on the bonding sysfs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ased in OFED 1.3 to 2.6.24-rc1, no need to use the helper script any more for RH5 and SLES10 and some RH4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to discuss the plan with the distributions, status unclear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ogerlitz</cp:lastModifiedBy>
  <dcterms:modified xsi:type="dcterms:W3CDTF">2007-11-14T21:52:34Z</dcterms:modified>
  <cp:revision>34</cp:revision>
  <dc:subject/>
  <dc:title>Slide 1</dc:title>
</cp:coreProperties>
</file>