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2315-5C01-47F2-8EEA-BEDE8D5A56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pltest: dapl/common/dapl_ep_free.c:114: dapl_ep_free: Assertion `ep_ptr-&gt;param.ep_state == DAT_EP_STATE_DISCONNECTED || ep_ptr-&gt;param.ep_state == DAT_EP_STATE_UNCONNECTED' fail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Error: Send-reaping DTO problem, status = FAIL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Error: Recv-reaping DTO problem, status = FAIL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ngth mismatch (xfer 0x1000 wanted 0x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ning: conn_event_wait DAT_CONNECTION_EVENT_NON_PEER_REJ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T_cs_Client: bad connection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618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618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E5458-307C-45A0-B0CF-AFF453D23693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183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interoplist/interoplist.php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op WG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160" y="48769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kady Kanevsky – Network Ap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pert Dance – Lampre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Noseworthy – UNH-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G -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’07 interop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WG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and Execute interoperability testing policies, processes and procedures of the OpenFabrics softwar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 Test Plan v1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suit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categori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specific to each product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WG Overview -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WG interop event is preceded by IBTA conformance/interop event and iWARP conformance/interop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are applicable to both Linux (OFED) and Windows (OF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latforms/OSes can be tested as black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op event Oct’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latest Linux OFED 1.2.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ly next interop event March ’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WG 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is granted to a product when it passes all the interop tests in its product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is held at UNH-IOL and is cross listed with OFA web site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ol.unh.edu/services/testing/ofa/interoplist/interoplist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is granted for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oblems with the tests are found then product need to be re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 is specific for OFED version and lists which test plan version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Procedures Perfor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5264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Link Initi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Fabric Initi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S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S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MPI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 uD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ARP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e Channel Gateway (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 – Transport Independ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657600" y="1676520"/>
          <a:ext cx="5181120" cy="3162240"/>
        </p:xfrm>
        <a:graphic>
          <a:graphicData uri="http://schemas.openxmlformats.org/drawingml/2006/table">
            <a:tbl>
              <a:tblPr/>
              <a:tblGrid>
                <a:gridCol w="1377000"/>
                <a:gridCol w="1213560"/>
                <a:gridCol w="1215000"/>
                <a:gridCol w="1375560"/>
              </a:tblGrid>
              <a:tr h="20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est Proced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nfiniBand De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WARP De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ransport Independ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B Link Initi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B Fabric Initi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B IPo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I iS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B SR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I SD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B SM Failover/Hando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I MPI - OS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I MPI Int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TI uDA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WARP Conne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Lucida Sans Unicode"/>
                        </a:rPr>
                        <a:t>Manda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Fibre Channel Gateway (I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Ethernet Gateway (I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Be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Lucida Sans Unicode"/>
                        </a:rPr>
                        <a:t>Not 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go Tests By Equipme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9920" y="1438200"/>
          <a:ext cx="8861400" cy="4784760"/>
        </p:xfrm>
        <a:graphic>
          <a:graphicData uri="http://schemas.openxmlformats.org/drawingml/2006/table">
            <a:tbl>
              <a:tblPr/>
              <a:tblGrid>
                <a:gridCol w="1238040"/>
                <a:gridCol w="851040"/>
                <a:gridCol w="730440"/>
                <a:gridCol w="755640"/>
                <a:gridCol w="766440"/>
                <a:gridCol w="766800"/>
                <a:gridCol w="1325520"/>
                <a:gridCol w="581040"/>
                <a:gridCol w="870120"/>
                <a:gridCol w="97632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ment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nk / Conn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PoIB / V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pen SM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D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FS-RD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-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lso OEM 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FA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P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ER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-Eth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-FC G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FS-RDMA Ser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EM SM Server (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 Link Initi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nteroperability issues observed with prototype active 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 Fabric 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penSM stability issue observed with a fabric swit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 IPo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sue observed with a device support for IP frames &gt; than 2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Sto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n issue observed with simultaneous disk access from multiple initi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sues observed with uDAPL support in 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 uDA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issue(abov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3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errors on IB in 3.1 test (multiple threads, RDMA Read and Write). Remaining tests fail from the start aft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1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iSER and Fiber Channel Gateway (IB) testing performed smoothly.  Additional input to test plan generated to improve test proc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that these two tests will advance to Mandatory, enabling Logo qualification for these devic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uDAPL and dependent elements (MPI) to remain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t IPoIB tests to CM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W for nex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son Gunthorpe</dc:creator>
  <dc:description/>
  <dc:language>en-US</dc:language>
  <cp:lastModifiedBy>NetApp</cp:lastModifiedBy>
  <dcterms:modified xsi:type="dcterms:W3CDTF">2007-11-15T16:46:31Z</dcterms:modified>
  <cp:revision>6</cp:revision>
  <dc:subject/>
  <dc:title>InfiniBand Routing</dc:title>
</cp:coreProperties>
</file>