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8FD7-FDA2-462B-B972-DD6A6B05486C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n Hefty – 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-to-Many 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GID of remote end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MA CM uses ARP for address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 message sent over IPoIB broadcast multica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obtains path record to D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path record (PR) to end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QP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way CM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 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P messages are sent over IPoIB’s broadcast multicas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RP st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starts dropping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time-outs and deeper queues help, so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1000 no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 million ARP entries fabric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inute timeou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 entries timeout /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hour timeou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2 entries timeout /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ute 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path record to end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, didn’t IPoIB just do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it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path records were cached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tak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n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nodes hit SA with 500,000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 caching is provided by QLogic and Cisco stacks – Voltai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562720"/>
            <a:ext cx="71625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h record caching is critical for 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 message exchanges occur within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s may be slow to respond to CM messages during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A patch added to addres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523880"/>
            <a:ext cx="601992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 protocol time is relatively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less using ARP and PR c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P only works within a single IP sub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routers separating IP subnets will call for a different mapp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 query retries use different 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equest - response pair looks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5257800"/>
            <a:ext cx="5257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onnection scaling across subnets a requir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S makes distributing PR data more difficult (but not impos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lso increases the burden on a centralized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CM testing on larger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rage non-CM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257800"/>
            <a:ext cx="5257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A should examine vendor/application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4582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 OFED local SA solution up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record caching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support Q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still caches (but uses local 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manual redirection of SM 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local SA solution to user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non-local c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1447920"/>
            <a:ext cx="51051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uming most users prefer RDMA CM over IB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new group connection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existing connection model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address and route resolution into a single, more efficient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ARP storm, support multiple IP subne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new APIs,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with job schedulers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connect to 192.168.10.0 / 24 port 71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5715000"/>
            <a:ext cx="4952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aker is just winging it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Jason Gunthorpe</dc:creator>
  <dc:description/>
  <dc:language>en-US</dc:language>
  <cp:lastModifiedBy>mshefty</cp:lastModifiedBy>
  <dcterms:modified xsi:type="dcterms:W3CDTF">2007-11-12T19:10:50Z</dcterms:modified>
  <cp:revision>61</cp:revision>
  <dc:subject/>
  <dc:title>InfiniBand Routing</dc:title>
</cp:coreProperties>
</file>