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54FC-B7AD-4F83-AF47-0DBA2FAD5A50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iWARP Panel Discussion of Issue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040" y="49525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 Boas, System Fabric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pal Hegde, C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nn Grundstrom, Net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ck Gir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 of the Panel 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list of iWARP issues from user &amp; developer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&amp; per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volunteers for an iWARP working group to work on addressing thes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out at next OFA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 of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ARP Support for Peer-to-Pe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 interoperability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ARP + TCP host stack port spac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by IETF 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verbs (IB-only, iWARP-only, and iWARP-nonstandard) (e.g. FMR, send with invalid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P changes to take advantage of these verbs (e.g. NFS-RDMA, iS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MA connection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RDMA_CM API to support timeout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23:52:27Z</dcterms:created>
  <dc:creator>Tom Tucker</dc:creator>
  <dc:description/>
  <dc:language>en-US</dc:language>
  <cp:lastModifiedBy>Cisco Systems, Inc.</cp:lastModifiedBy>
  <dcterms:modified xsi:type="dcterms:W3CDTF">2007-11-16T03:22:32Z</dcterms:modified>
  <cp:revision>12</cp:revision>
  <dc:subject/>
  <dc:title>iWARP Status</dc:title>
</cp:coreProperties>
</file>