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22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20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83772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440" y="4096080"/>
            <a:ext cx="83772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608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33440" y="409608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6080" y="409608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5920" y="163836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040" y="163836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33440" y="409608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5920" y="409608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040" y="409608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3440" y="1638360"/>
            <a:ext cx="83772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376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83772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878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26080" y="1638360"/>
            <a:ext cx="40878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4800" y="252000"/>
            <a:ext cx="779328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376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6080" y="1638360"/>
            <a:ext cx="40878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3440" y="409608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33440" y="1638360"/>
            <a:ext cx="83772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3765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878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608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26080" y="409608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608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3440" y="4096080"/>
            <a:ext cx="83772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83772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3440" y="4096080"/>
            <a:ext cx="83772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608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3440" y="409608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26080" y="409608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65920" y="163836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8040" y="163836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3440" y="409608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65920" y="409608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8040" y="4096080"/>
            <a:ext cx="269712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83772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878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6080" y="1638360"/>
            <a:ext cx="40878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34800" y="252000"/>
            <a:ext cx="7793280" cy="33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3765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6080" y="1638360"/>
            <a:ext cx="40878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3440" y="409608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878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608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6080" y="409608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6080" y="1638360"/>
            <a:ext cx="40878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3440" y="4096080"/>
            <a:ext cx="8377200" cy="224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/imgres?imgurl=http://www.brocade.com/news/artmachine/images/mark_col.gif&amp;imgrefurl=http://www.brocade.com/news/artmachine/Logo_Usage/components.jsp&amp;h=45&amp;w=49&amp;sz=1&amp;tbnid=qsQeykuYZZMJ:&amp;tbnh=45&amp;tbnw=49&amp;hl=en&amp;start=18&amp;prev=/images%3Fq%3Dbrocade%2Bcommunication%26svnum%3D10%26hl%3Den%26lr%3D%26rls%3DGGLD,GGLD:2004-34,GGLD:en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.google.com/imgres?imgurl=http://www.brocade.com/news/artmachine/images/horz_col.gif&amp;imgrefurl=http://www.brocade.com/news/artmachine/Logo_Usage/colors.jsp&amp;h=35&amp;w=158&amp;sz=2&amp;tbnid=9vsZ5XFRVZQJ:&amp;tbnh=20&amp;tbnw=92&amp;hl=en&amp;start=17&amp;prev=/images%3Fq%3Dbrocade%2Bcommunication%26svnum%3D10%26hl%3Den%26lr%3D%26rls%3DGGLD,GGLD:2004-34,GGLD:en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00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3440" y="1638360"/>
            <a:ext cx="83772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177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d2d5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168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8800" indent="-126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c3765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8800" indent="-126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8800" indent="-1267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07080"/>
            <a:ext cx="9144000" cy="250920"/>
          </a:xfrm>
          <a:prstGeom prst="rect">
            <a:avLst/>
          </a:prstGeom>
          <a:solidFill>
            <a:srgbClr val="d2d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928960" y="6662880"/>
            <a:ext cx="330192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84b81"/>
                </a:solidFill>
                <a:latin typeface="Arial"/>
                <a:ea typeface="Arial"/>
              </a:rPr>
              <a:t>© 2004 Voltaire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0080" y="6662880"/>
            <a:ext cx="13096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84b81"/>
                </a:solidFill>
                <a:latin typeface="Arial"/>
                <a:ea typeface="Arial"/>
              </a:rPr>
              <a:t>07-07-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643960" y="6610320"/>
            <a:ext cx="40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9393-DE2F-4877-9338-B09A86291B27}" type="slidenum">
              <a:rPr b="1" lang="en-US" sz="1000" spc="-1" strike="noStrike">
                <a:solidFill>
                  <a:srgbClr val="1c376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15080" y="255600"/>
            <a:ext cx="568440" cy="5223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>
            <a:hlinkClick r:id="rId6"/>
          </p:cNvPr>
          <p:cNvPicPr/>
          <p:nvPr/>
        </p:nvPicPr>
        <p:blipFill>
          <a:blip r:embed="rId7"/>
          <a:srcRect l="24651" t="0" r="0" b="0"/>
          <a:stretch/>
        </p:blipFill>
        <p:spPr>
          <a:xfrm>
            <a:off x="7575480" y="768240"/>
            <a:ext cx="66060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8080" y="821880"/>
            <a:ext cx="6381720" cy="13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765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c3765"/>
              </a:solidFill>
              <a:latin typeface="Arial"/>
            </a:endParaRPr>
          </a:p>
          <a:p>
            <a:pPr lvl="1" marL="114480" indent="0" algn="ctr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58640" indent="227160" algn="ctr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d2d5e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92929"/>
              </a:solidFill>
              <a:latin typeface="Arial"/>
            </a:endParaRPr>
          </a:p>
          <a:p>
            <a:pPr lvl="3" marL="746280" indent="403200" algn="ctr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28880" indent="403200" algn="ctr">
              <a:lnSpc>
                <a:spcPct val="110000"/>
              </a:lnSpc>
              <a:spcBef>
                <a:spcPts val="400"/>
              </a:spcBef>
              <a:buClr>
                <a:srgbClr val="1c3765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28880" indent="403200">
              <a:spcBef>
                <a:spcPts val="4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28880" indent="403200">
              <a:spcBef>
                <a:spcPts val="4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rocade.com/news/artmachine/images/mark_col.gif&amp;imgrefurl=http://www.brocade.com/news/artmachine/Logo_Usage/components.jsp&amp;h=45&amp;w=49&amp;sz=1&amp;tbnid=qsQeykuYZZMJ:&amp;tbnh=45&amp;tbnw=49&amp;hl=en&amp;start=18&amp;prev=/images%3Fq%3Dbrocade%2Bcommunication%26svnum%3D10%26hl%3Den%26lr%3D%26rls%3DGGLD,GGLD:2004-34,GGLD:en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brocade.com/news/artmachine/images/horz_col.gif&amp;imgrefurl=http://www.brocade.com/news/artmachine/Logo_Usage/colors.jsp&amp;h=35&amp;w=158&amp;sz=2&amp;tbnid=9vsZ5XFRVZQJ:&amp;tbnh=20&amp;tbnw=92&amp;hl=en&amp;start=17&amp;prev=/images%3Fq%3Dbrocade%2Bcommunication%26svnum%3D10%26hl%3Den%26lr%3D%26rls%3DGGLD,GGLD:2004-34,GGLD:en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hyperlink" Target="mailto:yaronh@voltaire.com" TargetMode="External"/><Relationship Id="rId7" Type="http://schemas.openxmlformats.org/officeDocument/2006/relationships/hyperlink" Target="mailto:jhufferd@Brocade.COM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etf.org/internet-drafts/draft-ietf-ips-iser-05.tx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http://iscsitarget.sourceforge.net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hyperlink" Target="http://images.google.com/imgres?imgurl=http://www.ca.com/nl/evenementen/managementmaakthetverschil/pictures/logo-netapp.jpg&amp;imgrefurl=http://www.ca.com/nl/evenementen/managementmaakthetverschil/informatiemarkt.htm&amp;h=141&amp;w=190&amp;sz=17&amp;tbnid=y5j5-P3VdHq4zM:&amp;tbnh=71&amp;tbnw=97&amp;hl=en&amp;start=7&amp;prev=/images%3Fq%3Dnetapp%26svnum%3D10%26hl%3Den%26lr%3D%26rls%3DGGLD,GGLD:2004-34,GGLD:en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tf.org/rfc/rfc3720.txt" TargetMode="External"/><Relationship Id="rId2" Type="http://schemas.openxmlformats.org/officeDocument/2006/relationships/hyperlink" Target="http://www.rdmaconsortium.org/home/iSER_DA_intro.pdf" TargetMode="External"/><Relationship Id="rId3" Type="http://schemas.openxmlformats.org/officeDocument/2006/relationships/hyperlink" Target="http://www.rdmaconsortium.org/home/iSER_DA_intro.pdf" TargetMode="External"/><Relationship Id="rId4" Type="http://schemas.openxmlformats.org/officeDocument/2006/relationships/hyperlink" Target="http://www.ietf.org/internet-drafts/draft-ietf-ips-iser-05.txt" TargetMode="External"/><Relationship Id="rId5" Type="http://schemas.openxmlformats.org/officeDocument/2006/relationships/hyperlink" Target="http://www.open-iscsi.org/index.html" TargetMode="External"/><Relationship Id="rId6" Type="http://schemas.openxmlformats.org/officeDocument/2006/relationships/hyperlink" Target="http://iscsitarget.sourceforge.net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17840" y="3900600"/>
            <a:ext cx="5661000" cy="2396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3680" y="5284800"/>
            <a:ext cx="568440" cy="522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rcRect l="24651" t="0" r="0" b="0"/>
          <a:stretch/>
        </p:blipFill>
        <p:spPr>
          <a:xfrm>
            <a:off x="3664080" y="5797440"/>
            <a:ext cx="660240" cy="190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706920" y="4205160"/>
            <a:ext cx="615960" cy="792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8080" y="821880"/>
            <a:ext cx="6381720" cy="13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ER 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304800" y="2228760"/>
            <a:ext cx="52563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765"/>
                </a:solidFill>
                <a:latin typeface="Arial"/>
              </a:rPr>
              <a:t>OpenIB Workshop, Feb 2006</a:t>
            </a:r>
            <a:endParaRPr b="0" lang="en-US" sz="2800" spc="-1" strike="noStrike">
              <a:solidFill>
                <a:srgbClr val="1c3765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4040" y="4227480"/>
            <a:ext cx="4572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3765"/>
                </a:solidFill>
                <a:latin typeface="Arial"/>
              </a:rPr>
              <a:t>Yaron Haviv, Voltaire</a:t>
            </a:r>
            <a:br>
              <a:rPr sz="2400"/>
            </a:br>
            <a:r>
              <a:rPr b="0" lang="en-US" sz="2400" spc="-1" strike="noStrike" u="sng">
                <a:solidFill>
                  <a:srgbClr val="d1040a"/>
                </a:solidFill>
                <a:uFillTx/>
                <a:latin typeface="Arial"/>
                <a:hlinkClick r:id="rId6"/>
              </a:rPr>
              <a:t>yaronh@voltai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3765"/>
                </a:solidFill>
                <a:latin typeface="Arial"/>
              </a:rPr>
              <a:t>John Hufferd, Broc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1040a"/>
                </a:solidFill>
                <a:uFillTx/>
                <a:latin typeface="Arial"/>
                <a:hlinkClick r:id="rId7"/>
              </a:rPr>
              <a:t>jhufferd@Brocad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8080" y="821880"/>
            <a:ext cx="6381720" cy="130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ER Upd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231720" y="3011400"/>
            <a:ext cx="52563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3765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ER Update in IETF &amp; IBTA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83772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2840" indent="-222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Spec in IE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1191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iSER spec covers InfiniBand, iWarp, and gate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1191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: last call, expert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1191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:  </a:t>
            </a:r>
            <a:r>
              <a:rPr b="0" lang="en-US" sz="1600" spc="-1" strike="noStrike" u="sng">
                <a:solidFill>
                  <a:srgbClr val="d1040a"/>
                </a:solidFill>
                <a:uFillTx/>
                <a:latin typeface="Arial"/>
                <a:ea typeface="Times New Roman"/>
                <a:hlinkClick r:id="rId2"/>
              </a:rPr>
              <a:t>http://www.ietf.org/internet-drafts/draft-ietf-ips-iser-05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Annex in IB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1191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communication establishment (CM) and messages over 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5160" indent="-11916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he work with both 1.1 and 1.2 IB hardwa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ith and without ZBVA or FM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4"/>
          <a:srcRect l="3850" t="36829" r="3150" b="20749"/>
          <a:stretch/>
        </p:blipFill>
        <p:spPr>
          <a:xfrm>
            <a:off x="1095480" y="3871800"/>
            <a:ext cx="6750000" cy="1273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Open-iSCSI Architecture and iSER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585800" y="1222200"/>
            <a:ext cx="6315120" cy="5353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841400" y="5537160"/>
            <a:ext cx="2184480" cy="1006560"/>
          </a:xfrm>
          <a:prstGeom prst="rect">
            <a:avLst/>
          </a:prstGeom>
          <a:solidFill>
            <a:srgbClr val="ff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c3765"/>
                </a:solidFill>
                <a:latin typeface="Arial"/>
              </a:rPr>
              <a:t>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c3765"/>
                </a:solidFill>
                <a:latin typeface="Arial"/>
              </a:rPr>
              <a:t>Thin layer implementing iSCSI over RD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143000" y="2487600"/>
            <a:ext cx="6934320" cy="2062080"/>
          </a:xfrm>
          <a:prstGeom prst="rect">
            <a:avLst/>
          </a:prstGeom>
          <a:solidFill>
            <a:srgbClr val="7582a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2963880"/>
            <a:ext cx="6934320" cy="1585800"/>
          </a:xfrm>
          <a:prstGeom prst="rect">
            <a:avLst/>
          </a:prstGeom>
          <a:solidFill>
            <a:srgbClr val="7582a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kDA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3035160"/>
            <a:ext cx="2819520" cy="1514520"/>
          </a:xfrm>
          <a:prstGeom prst="rect">
            <a:avLst/>
          </a:prstGeom>
          <a:solidFill>
            <a:srgbClr val="7582a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ER Architecture Changes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(from kDAPL to CMA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4549680"/>
            <a:ext cx="6934320" cy="476280"/>
          </a:xfrm>
          <a:prstGeom prst="rect">
            <a:avLst/>
          </a:prstGeom>
          <a:solidFill>
            <a:srgbClr val="7582a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3492360"/>
            <a:ext cx="2057400" cy="1057320"/>
          </a:xfrm>
          <a:prstGeom prst="rect">
            <a:avLst/>
          </a:prstGeom>
          <a:solidFill>
            <a:srgbClr val="7582a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2011320"/>
            <a:ext cx="6934320" cy="476280"/>
          </a:xfrm>
          <a:prstGeom prst="rect">
            <a:avLst/>
          </a:prstGeom>
          <a:solidFill>
            <a:srgbClr val="7582a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scsi_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1535040"/>
            <a:ext cx="3505320" cy="476280"/>
          </a:xfrm>
          <a:prstGeom prst="rect">
            <a:avLst/>
          </a:prstGeom>
          <a:solidFill>
            <a:srgbClr val="7582a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pen_isc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1535040"/>
            <a:ext cx="3429000" cy="476280"/>
          </a:xfrm>
          <a:prstGeom prst="rect">
            <a:avLst/>
          </a:prstGeom>
          <a:solidFill>
            <a:srgbClr val="7582a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csi_mod (mid lay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560" y="6082920"/>
            <a:ext cx="9015120" cy="46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0" algn="ctr">
              <a:lnSpc>
                <a:spcPct val="80000"/>
              </a:lnSpc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shrinked significantly in the last few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970520" y="5105520"/>
            <a:ext cx="1143000" cy="761760"/>
            <a:chOff x="4970520" y="5105520"/>
            <a:chExt cx="1143000" cy="761760"/>
          </a:xfrm>
        </p:grpSpPr>
        <p:sp>
          <p:nvSpPr>
            <p:cNvPr id="330" name=""/>
            <p:cNvSpPr/>
            <p:nvPr/>
          </p:nvSpPr>
          <p:spPr>
            <a:xfrm>
              <a:off x="5090760" y="5257440"/>
              <a:ext cx="1022760" cy="5331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B H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11000" y="5790960"/>
              <a:ext cx="541440" cy="75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090760" y="5105520"/>
              <a:ext cx="0" cy="76176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970520" y="5124240"/>
              <a:ext cx="1202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92520" y="5105520"/>
            <a:ext cx="1143000" cy="761760"/>
            <a:chOff x="2792520" y="5105520"/>
            <a:chExt cx="1143000" cy="761760"/>
          </a:xfrm>
        </p:grpSpPr>
        <p:sp>
          <p:nvSpPr>
            <p:cNvPr id="335" name=""/>
            <p:cNvSpPr/>
            <p:nvPr/>
          </p:nvSpPr>
          <p:spPr>
            <a:xfrm>
              <a:off x="2912760" y="5257440"/>
              <a:ext cx="1022760" cy="5331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Warp</a:t>
              </a:r>
              <a:br>
                <a:rPr sz="14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33000" y="5790960"/>
              <a:ext cx="541440" cy="75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12760" y="5105520"/>
              <a:ext cx="0" cy="76176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792520" y="5124240"/>
              <a:ext cx="1202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11 L 3.33333E-006 0.07285 E">
                                      <p:cBhvr>
                                        <p:cTn id="16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111 L -3.33333E-006 0.07285 E">
                                      <p:cBhvr>
                                        <p:cTn id="16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ER Open Source Target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33440" y="1473120"/>
            <a:ext cx="8377200" cy="49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source package for native RDMA (IB &amp; iWarp) stor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would be simple to operate and man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can be used as a reference for storage ven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ER Open Source Target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RDMA acceleration layer under iSCSI Enterprise Target (I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3640" indent="-1778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Clr>
                <a:srgbClr val="d2d5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d1040a"/>
                </a:solidFill>
                <a:uFillTx/>
                <a:latin typeface="Arial"/>
                <a:hlinkClick r:id="rId3"/>
              </a:rPr>
              <a:t>http://iscsitarget.sourceforge.net/</a:t>
            </a:r>
            <a:endParaRPr b="1" lang="en-US" sz="1400" spc="-1" strike="noStrike">
              <a:solidFill>
                <a:srgbClr val="292929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over both IB &amp; iWarp (over C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here to Linux coding standar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Milest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version on Apr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ire, NetApp, DoE, OGC, others are welco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26200" y="4157640"/>
            <a:ext cx="1400400" cy="10238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8012160" y="5418000"/>
            <a:ext cx="714240" cy="9241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9"/>
          <a:stretch/>
        </p:blipFill>
        <p:spPr>
          <a:xfrm>
            <a:off x="6691320" y="5433840"/>
            <a:ext cx="942840" cy="94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ER Open Source Target  Architectur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33440" y="5283360"/>
            <a:ext cx="837720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2840" indent="-22284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Open source iSCSI target code as the main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SER as a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both InfiniBand and iWarp via C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30160" y="1523880"/>
            <a:ext cx="6324840" cy="35053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6666ff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54400" y="1638360"/>
            <a:ext cx="4173480" cy="313524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2257560"/>
            <a:ext cx="3959280" cy="43164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SCSI Enterprise Target (I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0360" y="4105440"/>
            <a:ext cx="3962520" cy="0"/>
          </a:xfrm>
          <a:prstGeom prst="line">
            <a:avLst/>
          </a:prstGeom>
          <a:ln w="572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8520" y="2730600"/>
            <a:ext cx="1003320" cy="50472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SCSI TC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080960" y="4191120"/>
            <a:ext cx="648360" cy="495360"/>
            <a:chOff x="4080960" y="4191120"/>
            <a:chExt cx="648360" cy="495360"/>
          </a:xfrm>
        </p:grpSpPr>
        <p:sp>
          <p:nvSpPr>
            <p:cNvPr id="352" name=""/>
            <p:cNvSpPr/>
            <p:nvPr/>
          </p:nvSpPr>
          <p:spPr>
            <a:xfrm>
              <a:off x="4149360" y="4290120"/>
              <a:ext cx="579960" cy="3466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B H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17400" y="4636800"/>
              <a:ext cx="307080" cy="49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4149360" y="4191120"/>
              <a:ext cx="0" cy="49536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080960" y="4203360"/>
              <a:ext cx="680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274560" y="4191120"/>
            <a:ext cx="648000" cy="495360"/>
            <a:chOff x="3274560" y="4191120"/>
            <a:chExt cx="648000" cy="495360"/>
          </a:xfrm>
        </p:grpSpPr>
        <p:sp>
          <p:nvSpPr>
            <p:cNvPr id="357" name=""/>
            <p:cNvSpPr/>
            <p:nvPr/>
          </p:nvSpPr>
          <p:spPr>
            <a:xfrm>
              <a:off x="3342960" y="4290120"/>
              <a:ext cx="579600" cy="3466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11000" y="4636800"/>
              <a:ext cx="306720" cy="49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342960" y="4191120"/>
              <a:ext cx="0" cy="49536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74560" y="4203360"/>
              <a:ext cx="680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455560" y="4191120"/>
            <a:ext cx="648000" cy="495360"/>
            <a:chOff x="2455560" y="4191120"/>
            <a:chExt cx="648000" cy="495360"/>
          </a:xfrm>
        </p:grpSpPr>
        <p:sp>
          <p:nvSpPr>
            <p:cNvPr id="362" name=""/>
            <p:cNvSpPr/>
            <p:nvPr/>
          </p:nvSpPr>
          <p:spPr>
            <a:xfrm>
              <a:off x="2523960" y="4290120"/>
              <a:ext cx="579600" cy="3466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9440" bIns="1944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N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92000" y="4636800"/>
              <a:ext cx="306720" cy="49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523960" y="4191120"/>
              <a:ext cx="0" cy="49536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455560" y="4203360"/>
              <a:ext cx="680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713040" y="1736640"/>
            <a:ext cx="1455840" cy="432000"/>
          </a:xfrm>
          <a:prstGeom prst="rect">
            <a:avLst/>
          </a:prstGeom>
          <a:gradFill rotWithShape="0">
            <a:gsLst>
              <a:gs pos="0">
                <a:srgbClr val="6b1811"/>
              </a:gs>
              <a:gs pos="100000">
                <a:srgbClr val="e93527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16480" y="2844720"/>
            <a:ext cx="1206360" cy="2574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93880" y="1828800"/>
            <a:ext cx="10285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  <a:ea typeface="Arial"/>
              </a:rPr>
              <a:t>Datamover 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06400" y="2184480"/>
            <a:ext cx="2286000" cy="57132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05320" y="3349800"/>
            <a:ext cx="593640" cy="35532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40360" y="3349800"/>
            <a:ext cx="593640" cy="35532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Ver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76440" y="3794040"/>
            <a:ext cx="987480" cy="27936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t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80040" y="2717640"/>
            <a:ext cx="1206360" cy="2574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CSI 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7"/>
          <a:stretch/>
        </p:blipFill>
        <p:spPr>
          <a:xfrm>
            <a:off x="5303880" y="4253040"/>
            <a:ext cx="323640" cy="4586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505320" y="3781440"/>
            <a:ext cx="1203120" cy="27936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3840" y="3336840"/>
            <a:ext cx="987480" cy="38124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29240" y="4394160"/>
            <a:ext cx="1028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  <a:ea typeface="Arial"/>
              </a:rPr>
              <a:t>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68880" y="3755880"/>
            <a:ext cx="1203480" cy="279720"/>
          </a:xfrm>
          <a:prstGeom prst="rect">
            <a:avLst/>
          </a:prstGeom>
          <a:gradFill rotWithShape="0">
            <a:gsLst>
              <a:gs pos="0">
                <a:srgbClr val="2f2f75"/>
              </a:gs>
              <a:gs pos="100000">
                <a:srgbClr val="6666ff"/>
              </a:gs>
            </a:gsLst>
            <a:lin ang="135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r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15080" y="2832120"/>
            <a:ext cx="0" cy="1930320"/>
          </a:xfrm>
          <a:prstGeom prst="line">
            <a:avLst/>
          </a:prstGeom>
          <a:ln w="57240">
            <a:solidFill>
              <a:srgbClr val="d1040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80040" y="3086280"/>
            <a:ext cx="1206360" cy="25704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/>
              </a:gs>
            </a:gsLst>
            <a:lin ang="13500000"/>
          </a:gra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LVM /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74040" y="3060720"/>
            <a:ext cx="10285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  <a:ea typeface="Arial"/>
              </a:rPr>
              <a:t>Op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477120" y="3200400"/>
            <a:ext cx="1117440" cy="2556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58760" y="4368960"/>
            <a:ext cx="10288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  <a:ea typeface="Arial"/>
              </a:rPr>
              <a:t>Adap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Example: 3</a:t>
            </a:r>
            <a:r>
              <a:rPr b="1" lang="en-US" sz="19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Party Transfer and Distributed RAID5 with iSER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44160" y="1638000"/>
            <a:ext cx="4105080" cy="95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ost sends a command to the RAID contro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95880" y="2057400"/>
            <a:ext cx="10670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91520" y="3200400"/>
            <a:ext cx="121896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5029200"/>
            <a:ext cx="609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5029200"/>
            <a:ext cx="609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5029200"/>
            <a:ext cx="609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10280" y="5029200"/>
            <a:ext cx="609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696080" y="5029200"/>
            <a:ext cx="609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29400" y="259092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57800" y="3733920"/>
            <a:ext cx="27432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01000" y="3733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6629400" y="2590560"/>
            <a:ext cx="137160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257800" y="2590560"/>
            <a:ext cx="1371600" cy="2438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257800" y="547380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8"/>
                </a:moveTo>
                <a:cubicBezTo>
                  <a:pt x="1440" y="152"/>
                  <a:pt x="1152" y="296"/>
                  <a:pt x="864" y="296"/>
                </a:cubicBezTo>
                <a:cubicBezTo>
                  <a:pt x="576" y="296"/>
                  <a:pt x="80" y="0"/>
                  <a:pt x="0" y="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2666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001000" y="4038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4191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48520" y="3200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D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594360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D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parity calcul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5160" y="2273400"/>
            <a:ext cx="375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ID controller sends commands to the targ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5160" y="2908440"/>
            <a:ext cx="375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rgets perform RDMA operations to the ho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5160" y="3594240"/>
            <a:ext cx="375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207000" indent="-20700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ID controller sends commands to recalculate the parity block (only for WRITE reques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5160" y="4711680"/>
            <a:ext cx="375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rgets calculate the new parity blo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72200" y="464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7314480" y="5486400"/>
            <a:ext cx="6858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8"/>
                </a:moveTo>
                <a:cubicBezTo>
                  <a:pt x="1440" y="152"/>
                  <a:pt x="1152" y="296"/>
                  <a:pt x="864" y="296"/>
                </a:cubicBezTo>
                <a:cubicBezTo>
                  <a:pt x="576" y="296"/>
                  <a:pt x="80" y="0"/>
                  <a:pt x="0" y="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314840" y="3733920"/>
            <a:ext cx="6858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934320" y="4419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81680" y="601992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D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parity calcul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760" y="60580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A Phd study by Erez Zilber, Israel Tech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2440" y="5511960"/>
            <a:ext cx="39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901"/>
              </a:spcBef>
              <a:spcAft>
                <a:spcPts val="4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unmodified iSER Ini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istributed RAID with iSER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54160" y="1800360"/>
            <a:ext cx="5162400" cy="33224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397160" y="1434960"/>
            <a:ext cx="33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D 5 Write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184480"/>
            <a:ext cx="1371600" cy="355680"/>
          </a:xfrm>
          <a:prstGeom prst="ellipse">
            <a:avLst/>
          </a:prstGeom>
          <a:noFill/>
          <a:ln w="38160">
            <a:solidFill>
              <a:srgbClr val="d10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71720" y="5652000"/>
            <a:ext cx="6873840" cy="703800"/>
          </a:xfrm>
          <a:prstGeom prst="rect">
            <a:avLst/>
          </a:prstGeom>
          <a:solidFill>
            <a:srgbClr val="eaeaea"/>
          </a:solidFill>
          <a:ln w="9360">
            <a:solidFill>
              <a:srgbClr val="999999"/>
            </a:solidFill>
            <a:miter/>
          </a:ln>
          <a:effectLst>
            <a:outerShdw dist="71785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000 MB/s Sustained RAID 5 Writ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Using few commodity based storage appli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5979960" y="1892160"/>
          <a:ext cx="2772000" cy="296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79960" y="1892160"/>
                    <a:ext cx="2772000" cy="29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6286680" y="13971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rcRect l="0" t="14712" r="0" b="0"/>
          <a:stretch/>
        </p:blipFill>
        <p:spPr>
          <a:xfrm>
            <a:off x="228600" y="2082960"/>
            <a:ext cx="5715000" cy="34606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rcRect l="0" t="0" r="0" b="74504"/>
          <a:stretch/>
        </p:blipFill>
        <p:spPr>
          <a:xfrm>
            <a:off x="228600" y="1778040"/>
            <a:ext cx="5715000" cy="1035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imple Diskless iSCSI/iSER Booting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5181480" y="1409760"/>
            <a:ext cx="3733920" cy="35528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6554880" y="2425680"/>
            <a:ext cx="576000" cy="293760"/>
          </a:xfrm>
          <a:prstGeom prst="rect">
            <a:avLst/>
          </a:prstGeom>
          <a:solidFill>
            <a:srgbClr val="33cccc"/>
          </a:solidFill>
          <a:ln w="190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8440" y="2530440"/>
            <a:ext cx="4432320" cy="533520"/>
          </a:xfrm>
          <a:prstGeom prst="roundRect">
            <a:avLst>
              <a:gd name="adj" fmla="val 4606"/>
            </a:avLst>
          </a:prstGeom>
          <a:noFill/>
          <a:ln w="28440">
            <a:solidFill>
              <a:srgbClr val="d10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46640" y="5861160"/>
            <a:ext cx="419400" cy="215640"/>
          </a:xfrm>
          <a:prstGeom prst="rect">
            <a:avLst/>
          </a:prstGeom>
          <a:noFill/>
          <a:ln w="28440">
            <a:solidFill>
              <a:srgbClr val="d10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42000" y="5746680"/>
            <a:ext cx="238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required with Bios that supports iSCSI or iSER Boot (Int13h BIOS Exten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51560" y="51055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Cisco iSCSI b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77320" y="2344680"/>
            <a:ext cx="644400" cy="887400"/>
          </a:xfrm>
          <a:custGeom>
            <a:avLst/>
            <a:gdLst>
              <a:gd name="textAreaLeft" fmla="*/ 31320 w 644400"/>
              <a:gd name="textAreaRight" fmla="*/ 613080 w 644400"/>
              <a:gd name="textAreaTop" fmla="*/ 31320 h 887400"/>
              <a:gd name="textAreaBottom" fmla="*/ 856080 h 887400"/>
            </a:gdLst>
            <a:ahLst/>
            <a:rect l="textAreaLeft" t="textAreaTop" r="textAreaRight" b="textAreaBottom"/>
            <a:pathLst>
              <a:path w="21600" h="29741">
                <a:moveTo>
                  <a:pt x="3600" y="0"/>
                </a:moveTo>
                <a:arcTo wR="3600" hR="3600" stAng="16200000" swAng="-5400000"/>
                <a:lnTo>
                  <a:pt x="0" y="26141"/>
                </a:lnTo>
                <a:arcTo wR="3600" hR="3600" stAng="10800000" swAng="-5400000"/>
                <a:lnTo>
                  <a:pt x="18000" y="29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10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70920" y="3568680"/>
            <a:ext cx="169848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SER Storage or iSER to FC/GbE Rout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221680" y="4257720"/>
            <a:ext cx="625320" cy="75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1960" y="5721480"/>
            <a:ext cx="56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n boot of simple PXE, or more advanced BIOS 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PXE supported by most IB vendors to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ER Development Roadmap Summary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83772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Initiator for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 to kernel starting so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additional optim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work on Open-iSCSI management u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with iWarp hard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Initiators for other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and Solaris in prog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Target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iSER Target reference code and integration with I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genda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83772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iSER in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Up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R Status in IETF and IB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R OpenIB Initi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R OpenSource Target initi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R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copy stu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ways to boot using 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OpenIB 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Resources and Link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433440" y="1638360"/>
          <a:ext cx="8377200" cy="2924280"/>
        </p:xfrm>
        <a:graphic>
          <a:graphicData uri="http://schemas.openxmlformats.org/drawingml/2006/table">
            <a:tbl>
              <a:tblPr/>
              <a:tblGrid>
                <a:gridCol w="2104920"/>
                <a:gridCol w="627228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CSI Spec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d1040a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http://www.ietf.org/rfc/rfc3720.t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ER and DA 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d1040a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http://</a:t>
                      </a:r>
                      <a:r>
                        <a:rPr b="0" lang="en-US" sz="1600" spc="-1" strike="noStrike" u="sng">
                          <a:solidFill>
                            <a:srgbClr val="d1040a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www.rdmaconsortium.org/home/iSER_DA_intro.p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st iSER Specif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d1040a"/>
                          </a:solidFill>
                          <a:uFillTx/>
                          <a:latin typeface="Arial"/>
                          <a:ea typeface="Times New Roman"/>
                          <a:hlinkClick r:id="rId4"/>
                        </a:rPr>
                        <a:t>http://www.ietf.org/internet-drafts/draft-ietf-ips-iser-05.t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n-iSCSI Proje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lnSpc>
                          <a:spcPct val="90000"/>
                        </a:lnSpc>
                        <a:spcBef>
                          <a:spcPts val="7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d1040a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http://www.open-iscsi.org/index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prise iSCSI Project (I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lnSpc>
                          <a:spcPct val="90000"/>
                        </a:lnSpc>
                        <a:spcBef>
                          <a:spcPts val="7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d1040a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http://iscsitarget.sourceforge.net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90000"/>
                        </a:lnSpc>
                        <a:spcBef>
                          <a:spcPts val="799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Why is iSER needed ?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8377200" cy="47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high speed SCSI solution for both IB &amp; 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storage networking and management capabilities derived from iSC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y, naming, security, error-recovery, booting, etc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rage on the wide following of iSC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code and storage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tools and standar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ization, Testing and protocol matur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user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CSI Mapping to iSER / RDMA Transport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3440" y="3809880"/>
            <a:ext cx="83772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eliminates the traditional iSCSI/TCP bottleneck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copy using R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C calculated by hard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message boundaries instead of stre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protocol implemented in hardware (minimal CPU cycles per 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51040" y="2401920"/>
            <a:ext cx="822240" cy="27936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51160" y="2401920"/>
            <a:ext cx="385920" cy="279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37080" y="2401920"/>
            <a:ext cx="2370240" cy="27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07320" y="2401920"/>
            <a:ext cx="387360" cy="279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78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H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73280" y="2401920"/>
            <a:ext cx="677880" cy="279360"/>
          </a:xfrm>
          <a:prstGeom prst="rect">
            <a:avLst/>
          </a:prstGeom>
          <a:solidFill>
            <a:srgbClr val="f8fd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22600" y="2459160"/>
            <a:ext cx="5796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H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528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H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08640" y="2459160"/>
            <a:ext cx="5792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10480" y="2459160"/>
            <a:ext cx="581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5104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022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42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1663560"/>
            <a:ext cx="10638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tocol frames (RDM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54200" y="2030400"/>
            <a:ext cx="159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367000"/>
            <a:ext cx="1063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SCSI P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89560" y="203040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7080" y="1968480"/>
            <a:ext cx="0" cy="12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44720" y="3070080"/>
            <a:ext cx="10652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RC 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070080"/>
            <a:ext cx="2114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RC RDMA Read/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3284640" y="2252160"/>
            <a:ext cx="183960" cy="1451160"/>
          </a:xfrm>
          <a:custGeom>
            <a:avLst/>
            <a:gdLst>
              <a:gd name="textAreaLeft" fmla="*/ 117720 w 183960"/>
              <a:gd name="textAreaRight" fmla="*/ 184320 w 183960"/>
              <a:gd name="textAreaTop" fmla="*/ 37800 h 1451160"/>
              <a:gd name="textAreaBottom" fmla="*/ 1413360 h 145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5630040" y="1841760"/>
            <a:ext cx="183960" cy="2271600"/>
          </a:xfrm>
          <a:custGeom>
            <a:avLst/>
            <a:gdLst>
              <a:gd name="textAreaLeft" fmla="*/ 117720 w 183960"/>
              <a:gd name="textAreaRight" fmla="*/ 184320 w 183960"/>
              <a:gd name="textAreaTop" fmla="*/ 59040 h 2271600"/>
              <a:gd name="textAreaBottom" fmla="*/ 2212560 h 22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21560" y="2301840"/>
            <a:ext cx="7459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S Mincho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In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08600" y="2301840"/>
            <a:ext cx="71568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S Mincho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In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715000" y="1600200"/>
            <a:ext cx="2971800" cy="3048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523880"/>
            <a:ext cx="2819520" cy="3048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ER protocol overview (Read Example)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4724280"/>
            <a:ext cx="838224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SI Re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Send Command PDU (Protocol data unit) to 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return data using RDMA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send Response PDU back when completed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receives Response and complete SCSI oper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22400" y="1676520"/>
            <a:ext cx="349200" cy="2741400"/>
          </a:xfrm>
          <a:prstGeom prst="rect">
            <a:avLst/>
          </a:prstGeom>
          <a:solidFill>
            <a:srgbClr val="7582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4880" y="1676520"/>
            <a:ext cx="273240" cy="2741400"/>
          </a:xfrm>
          <a:prstGeom prst="rect">
            <a:avLst/>
          </a:prstGeom>
          <a:solidFill>
            <a:srgbClr val="7582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1676520"/>
            <a:ext cx="304560" cy="274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30680" y="1676520"/>
            <a:ext cx="336600" cy="274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92800" y="1676520"/>
            <a:ext cx="336600" cy="2741400"/>
          </a:xfrm>
          <a:prstGeom prst="rect">
            <a:avLst/>
          </a:prstGeom>
          <a:solidFill>
            <a:srgbClr val="7582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97920" y="1676520"/>
            <a:ext cx="336600" cy="2741400"/>
          </a:xfrm>
          <a:prstGeom prst="rect">
            <a:avLst/>
          </a:prstGeom>
          <a:solidFill>
            <a:srgbClr val="7582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211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CSI Initi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207360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275940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86108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55915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ER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7528320" y="280296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1828800"/>
            <a:ext cx="13716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19810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1981080"/>
            <a:ext cx="1600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2133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2209680"/>
            <a:ext cx="13716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9051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d_Control (SCSI Read Cm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85840" y="2987640"/>
            <a:ext cx="152388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313992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MA Write for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14479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d_Control + Buffer advertis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_Not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28195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_Pu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ata-In PDU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Rea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629040" y="411480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040" y="2790720"/>
            <a:ext cx="15238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5840" y="41911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447920" y="4267080"/>
            <a:ext cx="129528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1911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886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_Noti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81680" y="41148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d_Control (SCSI Respon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80240" y="29336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97112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CSI Configuration, Discovery and Availability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55640"/>
            <a:ext cx="77724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ER leverages on iSCSI management and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-Configuration, global storage naming (SLP, iS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Notifications and active monitoring of devices and initi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Availability, and 3 levels of automated reco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athing and storage aggreg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y standard management interfaces (M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torage manag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(Partitioning, Authentication, central login control, 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iSER over IB Doesn’t require changes 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vestment protection (software, education, training, 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fear-factor of 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CSI/iSER over IB Storage Discovery Flow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2880" y="1980720"/>
            <a:ext cx="42292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5360" indent="-2253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CSI discovery map storag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+zone+user credentials to IP’s+TCP Port’s (called Port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or connect to Target using  C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2060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s mapped to Port GID by CMA through ARP (over IPoI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IB iSCSI Login and SCSI commands travel over the same iSER IB RC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87600" y="1905120"/>
            <a:ext cx="0" cy="3047760"/>
          </a:xfrm>
          <a:prstGeom prst="line">
            <a:avLst/>
          </a:prstGeom>
          <a:ln w="190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54280" y="1905120"/>
            <a:ext cx="0" cy="3047760"/>
          </a:xfrm>
          <a:prstGeom prst="line">
            <a:avLst/>
          </a:prstGeom>
          <a:ln w="190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97280" y="1905120"/>
            <a:ext cx="0" cy="3047760"/>
          </a:xfrm>
          <a:prstGeom prst="line">
            <a:avLst/>
          </a:prstGeom>
          <a:ln w="190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87600" y="2743200"/>
            <a:ext cx="22096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587600" y="2971800"/>
            <a:ext cx="22096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87600" y="3457440"/>
            <a:ext cx="10666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87240" y="3686040"/>
            <a:ext cx="10666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7600" y="4067280"/>
            <a:ext cx="220968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587600" y="421956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87600" y="4724280"/>
            <a:ext cx="2209680" cy="152640"/>
          </a:xfrm>
          <a:prstGeom prst="leftRightArrow">
            <a:avLst>
              <a:gd name="adj1" fmla="val 50000"/>
              <a:gd name="adj2" fmla="val 288188"/>
            </a:avLst>
          </a:prstGeom>
          <a:solidFill>
            <a:srgbClr val="7582ae"/>
          </a:solidFill>
          <a:ln w="190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1800" y="1600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9800" y="26668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ortal IP -&gt; GI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(IB AR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44800" y="1600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B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87800" y="14860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orage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4416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ID-&gt;LID &amp; P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54280" y="253044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63560" y="33051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A Path Record Qu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2760" y="399096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M Connect to Tar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0" y="4295880"/>
            <a:ext cx="2209680" cy="7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44800" y="480060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SER over an IB RC conn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6000" y="18892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cover Portals and Targets* (optiona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49840" y="1905120"/>
            <a:ext cx="0" cy="3047760"/>
          </a:xfrm>
          <a:prstGeom prst="line">
            <a:avLst/>
          </a:prstGeom>
          <a:ln w="190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25880" y="13716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NS or SLP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87600" y="1981080"/>
            <a:ext cx="3149640" cy="12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587240" y="2235240"/>
            <a:ext cx="3174840" cy="50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11280" y="201132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NS/SLP queries over IPoIB/G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5410080"/>
            <a:ext cx="47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Gateway can also provide iSNS/SLP services,   if the Host alread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has the gateway address this can be skipped, a client can also issu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simple iSCSI discovery (SendTargets) instead of iSNS/SL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627840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 – Subnet Admin,    CMA – Abstract Communication Manager (for IB &amp; iWar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2577960"/>
            <a:ext cx="343080" cy="2006640"/>
          </a:xfrm>
          <a:custGeom>
            <a:avLst/>
            <a:gdLst>
              <a:gd name="textAreaLeft" fmla="*/ 219240 w 343080"/>
              <a:gd name="textAreaRight" fmla="*/ 343440 w 343080"/>
              <a:gd name="textAreaTop" fmla="*/ 52200 h 2006640"/>
              <a:gd name="textAreaBottom" fmla="*/ 1954440 h 20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2320" y="3279600"/>
            <a:ext cx="393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C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CSI Discovery – Direct SLP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21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Routers discover FC 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Broadcast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xx where is my storag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iSCSI Targe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FC gateways resp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may record multiple possible targets &amp; Port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380440" y="50655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843680" y="589104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29560" y="5308560"/>
            <a:ext cx="323640" cy="459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616200" y="4363920"/>
            <a:ext cx="347760" cy="493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5127480" y="60609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4367160" y="5516640"/>
            <a:ext cx="324000" cy="458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7470720" y="5313240"/>
            <a:ext cx="593640" cy="200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4983120" y="5467320"/>
            <a:ext cx="601560" cy="195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597640" y="537696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Gb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264280" y="4627440"/>
            <a:ext cx="47520" cy="906480"/>
          </a:xfrm>
          <a:prstGeom prst="line">
            <a:avLst/>
          </a:prstGeom>
          <a:ln w="28440">
            <a:solidFill>
              <a:srgbClr val="d10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120080" y="5436720"/>
            <a:ext cx="390240" cy="65160"/>
          </a:xfrm>
          <a:prstGeom prst="line">
            <a:avLst/>
          </a:prstGeom>
          <a:ln w="28440">
            <a:solidFill>
              <a:srgbClr val="418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031240" y="5337000"/>
            <a:ext cx="371520" cy="100080"/>
          </a:xfrm>
          <a:prstGeom prst="line">
            <a:avLst/>
          </a:prstGeom>
          <a:ln w="28440">
            <a:solidFill>
              <a:srgbClr val="418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726160" y="2776680"/>
            <a:ext cx="1023480" cy="251640"/>
            <a:chOff x="5726160" y="2776680"/>
            <a:chExt cx="1023480" cy="251640"/>
          </a:xfrm>
        </p:grpSpPr>
        <p:sp>
          <p:nvSpPr>
            <p:cNvPr id="207" name=""/>
            <p:cNvSpPr/>
            <p:nvPr/>
          </p:nvSpPr>
          <p:spPr>
            <a:xfrm>
              <a:off x="5726160" y="2783160"/>
              <a:ext cx="1023480" cy="24516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333333"/>
                </a:gs>
              </a:gsLst>
              <a:lin ang="13500000"/>
            </a:gradFill>
            <a:ln w="1908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8520" y="288468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58520" y="294336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83040" y="2894400"/>
              <a:ext cx="37440" cy="74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56840" y="2848320"/>
              <a:ext cx="9360" cy="19800"/>
            </a:xfrm>
            <a:prstGeom prst="ellipse">
              <a:avLst/>
            </a:prstGeom>
            <a:solidFill>
              <a:srgbClr val="d1040a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56840" y="2900880"/>
              <a:ext cx="9360" cy="1908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6840" y="2952720"/>
              <a:ext cx="9360" cy="198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7600" y="2776680"/>
              <a:ext cx="1014120" cy="0"/>
            </a:xfrm>
            <a:prstGeom prst="line">
              <a:avLst/>
            </a:prstGeom>
            <a:ln w="3240">
              <a:solidFill>
                <a:srgbClr val="d2d5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49640" y="2796480"/>
              <a:ext cx="0" cy="21564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7600" y="3024720"/>
              <a:ext cx="1014120" cy="0"/>
            </a:xfrm>
            <a:prstGeom prst="line">
              <a:avLst/>
            </a:prstGeom>
            <a:ln w="3240">
              <a:solidFill>
                <a:srgbClr val="d2d5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78930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V="1">
            <a:off x="4703760" y="5573520"/>
            <a:ext cx="301680" cy="106200"/>
          </a:xfrm>
          <a:prstGeom prst="line">
            <a:avLst/>
          </a:prstGeom>
          <a:ln w="28440">
            <a:solidFill>
              <a:srgbClr val="d10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867800" y="4706640"/>
            <a:ext cx="377640" cy="623880"/>
          </a:xfrm>
          <a:prstGeom prst="line">
            <a:avLst/>
          </a:prstGeom>
          <a:ln w="28440">
            <a:solidFill>
              <a:srgbClr val="418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484488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210440" y="5504040"/>
            <a:ext cx="6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FC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272200" y="5636880"/>
            <a:ext cx="15840" cy="461880"/>
          </a:xfrm>
          <a:prstGeom prst="line">
            <a:avLst/>
          </a:prstGeom>
          <a:ln w="28440">
            <a:solidFill>
              <a:srgbClr val="d10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67720" y="5514840"/>
            <a:ext cx="225360" cy="379440"/>
          </a:xfrm>
          <a:prstGeom prst="line">
            <a:avLst/>
          </a:prstGeom>
          <a:ln w="28440">
            <a:solidFill>
              <a:srgbClr val="418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78320" y="43862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IB to IP </a:t>
            </a:r>
            <a:br>
              <a:rPr sz="1400"/>
            </a:br>
            <a:r>
              <a:rPr b="1" lang="en-US" sz="14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57560" y="4869000"/>
            <a:ext cx="128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Native IB R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1"/>
          <a:stretch/>
        </p:blipFill>
        <p:spPr>
          <a:xfrm>
            <a:off x="69912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894800" y="39164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IB to FC </a:t>
            </a:r>
            <a:br>
              <a:rPr sz="1400"/>
            </a:br>
            <a:r>
              <a:rPr b="1" lang="en-US" sz="14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7482960" y="4745160"/>
            <a:ext cx="219240" cy="560160"/>
          </a:xfrm>
          <a:prstGeom prst="line">
            <a:avLst/>
          </a:prstGeom>
          <a:ln w="28440">
            <a:solidFill>
              <a:srgbClr val="418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920760" y="3311640"/>
            <a:ext cx="1701720" cy="966600"/>
          </a:xfrm>
          <a:prstGeom prst="line">
            <a:avLst/>
          </a:prstGeom>
          <a:ln w="38160">
            <a:solidFill>
              <a:srgbClr val="99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23120" y="3324240"/>
            <a:ext cx="812880" cy="1081080"/>
          </a:xfrm>
          <a:prstGeom prst="line">
            <a:avLst/>
          </a:prstGeom>
          <a:ln w="38160">
            <a:solidFill>
              <a:srgbClr val="99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40640" y="3324240"/>
            <a:ext cx="1460520" cy="1106640"/>
          </a:xfrm>
          <a:prstGeom prst="line">
            <a:avLst/>
          </a:prstGeom>
          <a:ln w="38160">
            <a:solidFill>
              <a:srgbClr val="99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57680" y="212580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iSCSI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75680" y="4809960"/>
            <a:ext cx="126720" cy="4208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8035920" y="4809960"/>
            <a:ext cx="254160" cy="4334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62800" y="3336840"/>
            <a:ext cx="812880" cy="1081080"/>
          </a:xfrm>
          <a:prstGeom prst="line">
            <a:avLst/>
          </a:prstGeom>
          <a:ln w="38160">
            <a:solidFill>
              <a:srgbClr val="99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80320" y="3336840"/>
            <a:ext cx="1460520" cy="1106640"/>
          </a:xfrm>
          <a:prstGeom prst="line">
            <a:avLst/>
          </a:prstGeom>
          <a:ln w="38160">
            <a:solidFill>
              <a:srgbClr val="99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788000" y="3314880"/>
            <a:ext cx="1117440" cy="2717280"/>
            <a:chOff x="4788000" y="3314880"/>
            <a:chExt cx="1117440" cy="2717280"/>
          </a:xfrm>
        </p:grpSpPr>
        <p:grpSp>
          <p:nvGrpSpPr>
            <p:cNvPr id="238" name=""/>
            <p:cNvGrpSpPr/>
            <p:nvPr/>
          </p:nvGrpSpPr>
          <p:grpSpPr>
            <a:xfrm>
              <a:off x="4788000" y="4457880"/>
              <a:ext cx="495000" cy="1574280"/>
              <a:chOff x="4788000" y="4457880"/>
              <a:chExt cx="495000" cy="1574280"/>
            </a:xfrm>
          </p:grpSpPr>
          <p:sp>
            <p:nvSpPr>
              <p:cNvPr id="239" name=""/>
              <p:cNvSpPr/>
              <p:nvPr/>
            </p:nvSpPr>
            <p:spPr>
              <a:xfrm>
                <a:off x="4788000" y="4457880"/>
                <a:ext cx="467280" cy="1003320"/>
              </a:xfrm>
              <a:custGeom>
                <a:avLst/>
                <a:gdLst/>
                <a:ahLst/>
                <a:rect l="l" t="t" r="r" b="b"/>
                <a:pathLst>
                  <a:path w="264" h="520">
                    <a:moveTo>
                      <a:pt x="264" y="0"/>
                    </a:moveTo>
                    <a:cubicBezTo>
                      <a:pt x="258" y="136"/>
                      <a:pt x="252" y="273"/>
                      <a:pt x="208" y="360"/>
                    </a:cubicBezTo>
                    <a:cubicBezTo>
                      <a:pt x="164" y="447"/>
                      <a:pt x="82" y="483"/>
                      <a:pt x="0" y="520"/>
                    </a:cubicBezTo>
                  </a:path>
                </a:pathLst>
              </a:custGeom>
              <a:noFill/>
              <a:ln w="38160">
                <a:solidFill>
                  <a:srgbClr val="9999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226120" y="4473000"/>
                <a:ext cx="56880" cy="1559160"/>
              </a:xfrm>
              <a:custGeom>
                <a:avLst/>
                <a:gdLst/>
                <a:ahLst/>
                <a:rect l="l" t="t" r="r" b="b"/>
                <a:pathLst>
                  <a:path w="33" h="808">
                    <a:moveTo>
                      <a:pt x="25" y="0"/>
                    </a:moveTo>
                    <a:cubicBezTo>
                      <a:pt x="12" y="140"/>
                      <a:pt x="0" y="281"/>
                      <a:pt x="1" y="416"/>
                    </a:cubicBezTo>
                    <a:cubicBezTo>
                      <a:pt x="2" y="551"/>
                      <a:pt x="17" y="679"/>
                      <a:pt x="33" y="808"/>
                    </a:cubicBezTo>
                  </a:path>
                </a:pathLst>
              </a:custGeom>
              <a:noFill/>
              <a:ln w="38160">
                <a:solidFill>
                  <a:srgbClr val="999999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245200" y="3314880"/>
              <a:ext cx="660240" cy="1193760"/>
            </a:xfrm>
            <a:custGeom>
              <a:avLst/>
              <a:gdLst/>
              <a:ahLst/>
              <a:rect l="l" t="t" r="r" b="b"/>
              <a:pathLst>
                <a:path w="416" h="752">
                  <a:moveTo>
                    <a:pt x="416" y="0"/>
                  </a:moveTo>
                  <a:cubicBezTo>
                    <a:pt x="369" y="109"/>
                    <a:pt x="323" y="219"/>
                    <a:pt x="264" y="304"/>
                  </a:cubicBezTo>
                  <a:cubicBezTo>
                    <a:pt x="205" y="389"/>
                    <a:pt x="108" y="437"/>
                    <a:pt x="64" y="512"/>
                  </a:cubicBezTo>
                  <a:cubicBezTo>
                    <a:pt x="20" y="587"/>
                    <a:pt x="10" y="669"/>
                    <a:pt x="0" y="752"/>
                  </a:cubicBezTo>
                </a:path>
              </a:pathLst>
            </a:custGeom>
            <a:noFill/>
            <a:ln w="38160">
              <a:solidFill>
                <a:srgbClr val="99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43080" y="5715000"/>
            <a:ext cx="3124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– a network end-point (IP+port), indicating a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4800" y="252000"/>
            <a:ext cx="779328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iSCSI Discovery – iSN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33440" y="1638360"/>
            <a:ext cx="402120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 Routers discover FC 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CSI Targets &amp; FC gateways report to iSNS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ask iSNS Serv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’m xx where is my storag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NS responds with targets and port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may b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d to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notifi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ly (SC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8380440" y="50655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843680" y="589104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6829560" y="5308560"/>
            <a:ext cx="323640" cy="459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3616200" y="4363920"/>
            <a:ext cx="347760" cy="493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5127480" y="6060960"/>
            <a:ext cx="324000" cy="459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4367160" y="5516640"/>
            <a:ext cx="324000" cy="458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7470720" y="5313240"/>
            <a:ext cx="593640" cy="200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4983120" y="5467320"/>
            <a:ext cx="601560" cy="195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597640" y="537696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Gb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264280" y="4627440"/>
            <a:ext cx="47520" cy="906480"/>
          </a:xfrm>
          <a:prstGeom prst="line">
            <a:avLst/>
          </a:prstGeom>
          <a:ln w="28440">
            <a:solidFill>
              <a:srgbClr val="d10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120080" y="5436720"/>
            <a:ext cx="390240" cy="65160"/>
          </a:xfrm>
          <a:prstGeom prst="line">
            <a:avLst/>
          </a:prstGeom>
          <a:ln w="28440">
            <a:solidFill>
              <a:srgbClr val="418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031240" y="5337000"/>
            <a:ext cx="371520" cy="100080"/>
          </a:xfrm>
          <a:prstGeom prst="line">
            <a:avLst/>
          </a:prstGeom>
          <a:ln w="28440">
            <a:solidFill>
              <a:srgbClr val="418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7732800" y="3411360"/>
            <a:ext cx="795240" cy="99720"/>
            <a:chOff x="7732800" y="3411360"/>
            <a:chExt cx="795240" cy="99720"/>
          </a:xfrm>
        </p:grpSpPr>
        <p:sp>
          <p:nvSpPr>
            <p:cNvPr id="258" name=""/>
            <p:cNvSpPr/>
            <p:nvPr/>
          </p:nvSpPr>
          <p:spPr>
            <a:xfrm>
              <a:off x="7732800" y="3413880"/>
              <a:ext cx="795240" cy="9720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333333"/>
                </a:gs>
              </a:gsLst>
              <a:lin ang="13500000"/>
            </a:gradFill>
            <a:ln w="1908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68680" y="3454200"/>
              <a:ext cx="44496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68680" y="3477600"/>
              <a:ext cx="44496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77080" y="3458160"/>
              <a:ext cx="29160" cy="29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34320" y="3439800"/>
              <a:ext cx="7200" cy="7920"/>
            </a:xfrm>
            <a:prstGeom prst="ellipse">
              <a:avLst/>
            </a:prstGeom>
            <a:solidFill>
              <a:srgbClr val="d1040a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34320" y="3460680"/>
              <a:ext cx="7200" cy="756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34320" y="3481200"/>
              <a:ext cx="7200" cy="792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33880" y="3411360"/>
              <a:ext cx="787680" cy="0"/>
            </a:xfrm>
            <a:prstGeom prst="line">
              <a:avLst/>
            </a:prstGeom>
            <a:ln w="3240">
              <a:solidFill>
                <a:srgbClr val="d2d5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528040" y="3419280"/>
              <a:ext cx="0" cy="8568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33880" y="3510000"/>
              <a:ext cx="787680" cy="0"/>
            </a:xfrm>
            <a:prstGeom prst="line">
              <a:avLst/>
            </a:prstGeom>
            <a:ln w="3240">
              <a:solidFill>
                <a:srgbClr val="d2d5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726160" y="2776680"/>
            <a:ext cx="1023480" cy="251640"/>
            <a:chOff x="5726160" y="2776680"/>
            <a:chExt cx="1023480" cy="251640"/>
          </a:xfrm>
        </p:grpSpPr>
        <p:sp>
          <p:nvSpPr>
            <p:cNvPr id="269" name=""/>
            <p:cNvSpPr/>
            <p:nvPr/>
          </p:nvSpPr>
          <p:spPr>
            <a:xfrm>
              <a:off x="5726160" y="2783160"/>
              <a:ext cx="1023480" cy="24516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333333"/>
                </a:gs>
              </a:gsLst>
              <a:lin ang="13500000"/>
            </a:gradFill>
            <a:ln w="1908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58520" y="288468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58520" y="2943360"/>
              <a:ext cx="573120" cy="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83040" y="2894400"/>
              <a:ext cx="37440" cy="745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56840" y="2848320"/>
              <a:ext cx="9360" cy="19800"/>
            </a:xfrm>
            <a:prstGeom prst="ellipse">
              <a:avLst/>
            </a:prstGeom>
            <a:solidFill>
              <a:srgbClr val="d1040a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56840" y="2900880"/>
              <a:ext cx="9360" cy="1908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56840" y="2952720"/>
              <a:ext cx="9360" cy="19800"/>
            </a:xfrm>
            <a:prstGeom prst="ellipse">
              <a:avLst/>
            </a:prstGeom>
            <a:solidFill>
              <a:srgbClr val="00ff00"/>
            </a:solidFill>
            <a:ln w="32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27600" y="2776680"/>
              <a:ext cx="1014120" cy="0"/>
            </a:xfrm>
            <a:prstGeom prst="line">
              <a:avLst/>
            </a:prstGeom>
            <a:ln w="3240">
              <a:solidFill>
                <a:srgbClr val="d2d5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49640" y="2796480"/>
              <a:ext cx="0" cy="215640"/>
            </a:xfrm>
            <a:prstGeom prst="line">
              <a:avLst/>
            </a:prstGeom>
            <a:ln w="324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7600" y="3024720"/>
              <a:ext cx="1014120" cy="0"/>
            </a:xfrm>
            <a:prstGeom prst="line">
              <a:avLst/>
            </a:prstGeom>
            <a:ln w="3240">
              <a:solidFill>
                <a:srgbClr val="d2d5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9"/>
          <a:stretch/>
        </p:blipFill>
        <p:spPr>
          <a:xfrm>
            <a:off x="78930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flipV="1">
            <a:off x="4703760" y="5573520"/>
            <a:ext cx="301680" cy="106200"/>
          </a:xfrm>
          <a:prstGeom prst="line">
            <a:avLst/>
          </a:prstGeom>
          <a:ln w="28440">
            <a:solidFill>
              <a:srgbClr val="d10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7867800" y="4706640"/>
            <a:ext cx="377640" cy="623880"/>
          </a:xfrm>
          <a:prstGeom prst="line">
            <a:avLst/>
          </a:prstGeom>
          <a:ln w="28440">
            <a:solidFill>
              <a:srgbClr val="418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0"/>
          <a:stretch/>
        </p:blipFill>
        <p:spPr>
          <a:xfrm>
            <a:off x="484488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210440" y="5504040"/>
            <a:ext cx="6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FC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272200" y="5636880"/>
            <a:ext cx="15840" cy="461880"/>
          </a:xfrm>
          <a:prstGeom prst="line">
            <a:avLst/>
          </a:prstGeom>
          <a:ln w="28440">
            <a:solidFill>
              <a:srgbClr val="d10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67720" y="5514840"/>
            <a:ext cx="225360" cy="379440"/>
          </a:xfrm>
          <a:prstGeom prst="line">
            <a:avLst/>
          </a:prstGeom>
          <a:ln w="28440">
            <a:solidFill>
              <a:srgbClr val="418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78320" y="43862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IB to IP </a:t>
            </a:r>
            <a:br>
              <a:rPr sz="1400"/>
            </a:br>
            <a:r>
              <a:rPr b="1" lang="en-US" sz="14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57560" y="4869000"/>
            <a:ext cx="128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Native IB R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6991200" y="4554360"/>
            <a:ext cx="824040" cy="1936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894800" y="39164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IB to FC </a:t>
            </a:r>
            <a:br>
              <a:rPr sz="1400"/>
            </a:br>
            <a:r>
              <a:rPr b="1" lang="en-US" sz="14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Rou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7482960" y="4745160"/>
            <a:ext cx="219240" cy="560160"/>
          </a:xfrm>
          <a:prstGeom prst="line">
            <a:avLst/>
          </a:prstGeom>
          <a:ln w="28440">
            <a:solidFill>
              <a:srgbClr val="4182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997440" y="3502080"/>
            <a:ext cx="3403440" cy="839880"/>
          </a:xfrm>
          <a:prstGeom prst="line">
            <a:avLst/>
          </a:prstGeom>
          <a:ln w="38160">
            <a:solidFill>
              <a:srgbClr val="99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095640"/>
            <a:ext cx="812880" cy="293760"/>
          </a:xfrm>
          <a:prstGeom prst="line">
            <a:avLst/>
          </a:prstGeom>
          <a:ln w="38160">
            <a:solidFill>
              <a:srgbClr val="99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57680" y="212580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iSCSI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75680" y="4809960"/>
            <a:ext cx="126720" cy="4208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035920" y="4809960"/>
            <a:ext cx="254160" cy="433440"/>
          </a:xfrm>
          <a:prstGeom prst="line">
            <a:avLst/>
          </a:prstGeom>
          <a:ln w="57240">
            <a:solidFill>
              <a:srgbClr val="68ca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112240" y="3565440"/>
            <a:ext cx="228600" cy="966960"/>
          </a:xfrm>
          <a:prstGeom prst="line">
            <a:avLst/>
          </a:prstGeom>
          <a:ln w="38160">
            <a:solidFill>
              <a:srgbClr val="99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29560" y="2994120"/>
            <a:ext cx="812520" cy="268200"/>
          </a:xfrm>
          <a:prstGeom prst="line">
            <a:avLst/>
          </a:prstGeom>
          <a:ln w="38160">
            <a:solidFill>
              <a:srgbClr val="99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788000" y="3606840"/>
            <a:ext cx="2882880" cy="2425320"/>
            <a:chOff x="4788000" y="3606840"/>
            <a:chExt cx="2882880" cy="2425320"/>
          </a:xfrm>
        </p:grpSpPr>
        <p:grpSp>
          <p:nvGrpSpPr>
            <p:cNvPr id="299" name=""/>
            <p:cNvGrpSpPr/>
            <p:nvPr/>
          </p:nvGrpSpPr>
          <p:grpSpPr>
            <a:xfrm>
              <a:off x="4788000" y="4457880"/>
              <a:ext cx="495000" cy="1574280"/>
              <a:chOff x="4788000" y="4457880"/>
              <a:chExt cx="495000" cy="1574280"/>
            </a:xfrm>
          </p:grpSpPr>
          <p:sp>
            <p:nvSpPr>
              <p:cNvPr id="300" name=""/>
              <p:cNvSpPr/>
              <p:nvPr/>
            </p:nvSpPr>
            <p:spPr>
              <a:xfrm>
                <a:off x="4788000" y="4457880"/>
                <a:ext cx="467280" cy="1003320"/>
              </a:xfrm>
              <a:custGeom>
                <a:avLst/>
                <a:gdLst/>
                <a:ahLst/>
                <a:rect l="l" t="t" r="r" b="b"/>
                <a:pathLst>
                  <a:path w="264" h="520">
                    <a:moveTo>
                      <a:pt x="264" y="0"/>
                    </a:moveTo>
                    <a:cubicBezTo>
                      <a:pt x="258" y="136"/>
                      <a:pt x="252" y="273"/>
                      <a:pt x="208" y="360"/>
                    </a:cubicBezTo>
                    <a:cubicBezTo>
                      <a:pt x="164" y="447"/>
                      <a:pt x="82" y="483"/>
                      <a:pt x="0" y="520"/>
                    </a:cubicBezTo>
                  </a:path>
                </a:pathLst>
              </a:custGeom>
              <a:noFill/>
              <a:ln w="38160">
                <a:solidFill>
                  <a:srgbClr val="9999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26120" y="4473000"/>
                <a:ext cx="56880" cy="1559160"/>
              </a:xfrm>
              <a:custGeom>
                <a:avLst/>
                <a:gdLst/>
                <a:ahLst/>
                <a:rect l="l" t="t" r="r" b="b"/>
                <a:pathLst>
                  <a:path w="33" h="808">
                    <a:moveTo>
                      <a:pt x="25" y="0"/>
                    </a:moveTo>
                    <a:cubicBezTo>
                      <a:pt x="12" y="140"/>
                      <a:pt x="0" y="281"/>
                      <a:pt x="1" y="416"/>
                    </a:cubicBezTo>
                    <a:cubicBezTo>
                      <a:pt x="2" y="551"/>
                      <a:pt x="17" y="679"/>
                      <a:pt x="33" y="808"/>
                    </a:cubicBezTo>
                  </a:path>
                </a:pathLst>
              </a:custGeom>
              <a:noFill/>
              <a:ln w="38160">
                <a:solidFill>
                  <a:srgbClr val="999999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270400" y="3606840"/>
              <a:ext cx="2400480" cy="812880"/>
            </a:xfrm>
            <a:custGeom>
              <a:avLst/>
              <a:gdLst/>
              <a:ahLst/>
              <a:rect l="l" t="t" r="r" b="b"/>
              <a:pathLst>
                <a:path w="416" h="752">
                  <a:moveTo>
                    <a:pt x="416" y="0"/>
                  </a:moveTo>
                  <a:cubicBezTo>
                    <a:pt x="369" y="109"/>
                    <a:pt x="323" y="219"/>
                    <a:pt x="264" y="304"/>
                  </a:cubicBezTo>
                  <a:cubicBezTo>
                    <a:pt x="205" y="389"/>
                    <a:pt x="108" y="437"/>
                    <a:pt x="64" y="512"/>
                  </a:cubicBezTo>
                  <a:cubicBezTo>
                    <a:pt x="20" y="587"/>
                    <a:pt x="10" y="669"/>
                    <a:pt x="0" y="752"/>
                  </a:cubicBezTo>
                </a:path>
              </a:pathLst>
            </a:custGeom>
            <a:noFill/>
            <a:ln w="38160">
              <a:solidFill>
                <a:srgbClr val="9999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H="1">
            <a:off x="7413480" y="3616200"/>
            <a:ext cx="470160" cy="852480"/>
          </a:xfrm>
          <a:prstGeom prst="line">
            <a:avLst/>
          </a:prstGeom>
          <a:ln w="38160">
            <a:solidFill>
              <a:srgbClr val="99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440" y="5956200"/>
            <a:ext cx="353052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NS or SLP run over IPoIB or GbE, and can span both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59720" y="4876920"/>
            <a:ext cx="1247760" cy="1646280"/>
          </a:xfrm>
          <a:custGeom>
            <a:avLst/>
            <a:gdLst/>
            <a:ahLst/>
            <a:rect l="l" t="t" r="r" b="b"/>
            <a:pathLst>
              <a:path w="786" h="1037">
                <a:moveTo>
                  <a:pt x="623" y="8"/>
                </a:moveTo>
                <a:cubicBezTo>
                  <a:pt x="576" y="12"/>
                  <a:pt x="456" y="19"/>
                  <a:pt x="415" y="48"/>
                </a:cubicBezTo>
                <a:cubicBezTo>
                  <a:pt x="374" y="77"/>
                  <a:pt x="384" y="125"/>
                  <a:pt x="375" y="184"/>
                </a:cubicBezTo>
                <a:cubicBezTo>
                  <a:pt x="366" y="243"/>
                  <a:pt x="378" y="347"/>
                  <a:pt x="359" y="400"/>
                </a:cubicBezTo>
                <a:cubicBezTo>
                  <a:pt x="340" y="453"/>
                  <a:pt x="311" y="471"/>
                  <a:pt x="263" y="504"/>
                </a:cubicBezTo>
                <a:cubicBezTo>
                  <a:pt x="215" y="537"/>
                  <a:pt x="108" y="557"/>
                  <a:pt x="71" y="600"/>
                </a:cubicBezTo>
                <a:cubicBezTo>
                  <a:pt x="34" y="643"/>
                  <a:pt x="42" y="696"/>
                  <a:pt x="39" y="760"/>
                </a:cubicBezTo>
                <a:cubicBezTo>
                  <a:pt x="36" y="824"/>
                  <a:pt x="0" y="945"/>
                  <a:pt x="55" y="984"/>
                </a:cubicBezTo>
                <a:cubicBezTo>
                  <a:pt x="110" y="1023"/>
                  <a:pt x="290" y="1037"/>
                  <a:pt x="367" y="992"/>
                </a:cubicBezTo>
                <a:cubicBezTo>
                  <a:pt x="444" y="947"/>
                  <a:pt x="490" y="785"/>
                  <a:pt x="519" y="712"/>
                </a:cubicBezTo>
                <a:cubicBezTo>
                  <a:pt x="548" y="639"/>
                  <a:pt x="504" y="608"/>
                  <a:pt x="543" y="552"/>
                </a:cubicBezTo>
                <a:cubicBezTo>
                  <a:pt x="582" y="496"/>
                  <a:pt x="716" y="445"/>
                  <a:pt x="751" y="376"/>
                </a:cubicBezTo>
                <a:cubicBezTo>
                  <a:pt x="786" y="307"/>
                  <a:pt x="760" y="195"/>
                  <a:pt x="751" y="136"/>
                </a:cubicBezTo>
                <a:cubicBezTo>
                  <a:pt x="742" y="77"/>
                  <a:pt x="718" y="48"/>
                  <a:pt x="695" y="24"/>
                </a:cubicBezTo>
                <a:cubicBezTo>
                  <a:pt x="672" y="0"/>
                  <a:pt x="670" y="4"/>
                  <a:pt x="623" y="8"/>
                </a:cubicBezTo>
                <a:close/>
              </a:path>
            </a:pathLst>
          </a:custGeom>
          <a:solidFill>
            <a:srgbClr val="ffff99">
              <a:alpha val="70000"/>
            </a:srgbClr>
          </a:solidFill>
          <a:ln w="1908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580080" y="5149800"/>
            <a:ext cx="736560" cy="836640"/>
          </a:xfrm>
          <a:custGeom>
            <a:avLst/>
            <a:gdLst/>
            <a:ahLst/>
            <a:rect l="l" t="t" r="r" b="b"/>
            <a:pathLst>
              <a:path w="464" h="527">
                <a:moveTo>
                  <a:pt x="23" y="340"/>
                </a:moveTo>
                <a:cubicBezTo>
                  <a:pt x="36" y="379"/>
                  <a:pt x="44" y="465"/>
                  <a:pt x="95" y="492"/>
                </a:cubicBezTo>
                <a:cubicBezTo>
                  <a:pt x="146" y="519"/>
                  <a:pt x="268" y="527"/>
                  <a:pt x="327" y="500"/>
                </a:cubicBezTo>
                <a:cubicBezTo>
                  <a:pt x="386" y="473"/>
                  <a:pt x="430" y="396"/>
                  <a:pt x="447" y="332"/>
                </a:cubicBezTo>
                <a:cubicBezTo>
                  <a:pt x="464" y="268"/>
                  <a:pt x="455" y="169"/>
                  <a:pt x="431" y="116"/>
                </a:cubicBezTo>
                <a:cubicBezTo>
                  <a:pt x="407" y="63"/>
                  <a:pt x="356" y="24"/>
                  <a:pt x="303" y="12"/>
                </a:cubicBezTo>
                <a:cubicBezTo>
                  <a:pt x="250" y="0"/>
                  <a:pt x="159" y="3"/>
                  <a:pt x="111" y="44"/>
                </a:cubicBezTo>
                <a:cubicBezTo>
                  <a:pt x="63" y="85"/>
                  <a:pt x="30" y="213"/>
                  <a:pt x="15" y="260"/>
                </a:cubicBezTo>
                <a:cubicBezTo>
                  <a:pt x="0" y="307"/>
                  <a:pt x="10" y="301"/>
                  <a:pt x="23" y="340"/>
                </a:cubicBezTo>
                <a:close/>
              </a:path>
            </a:pathLst>
          </a:custGeom>
          <a:solidFill>
            <a:srgbClr val="ccecff">
              <a:alpha val="70000"/>
            </a:srgbClr>
          </a:solidFill>
          <a:ln w="1908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67280" y="5848200"/>
            <a:ext cx="736560" cy="836640"/>
          </a:xfrm>
          <a:custGeom>
            <a:avLst/>
            <a:gdLst/>
            <a:ahLst/>
            <a:rect l="l" t="t" r="r" b="b"/>
            <a:pathLst>
              <a:path w="464" h="527">
                <a:moveTo>
                  <a:pt x="23" y="340"/>
                </a:moveTo>
                <a:cubicBezTo>
                  <a:pt x="36" y="379"/>
                  <a:pt x="44" y="465"/>
                  <a:pt x="95" y="492"/>
                </a:cubicBezTo>
                <a:cubicBezTo>
                  <a:pt x="146" y="519"/>
                  <a:pt x="268" y="527"/>
                  <a:pt x="327" y="500"/>
                </a:cubicBezTo>
                <a:cubicBezTo>
                  <a:pt x="386" y="473"/>
                  <a:pt x="430" y="396"/>
                  <a:pt x="447" y="332"/>
                </a:cubicBezTo>
                <a:cubicBezTo>
                  <a:pt x="464" y="268"/>
                  <a:pt x="455" y="169"/>
                  <a:pt x="431" y="116"/>
                </a:cubicBezTo>
                <a:cubicBezTo>
                  <a:pt x="407" y="63"/>
                  <a:pt x="356" y="24"/>
                  <a:pt x="303" y="12"/>
                </a:cubicBezTo>
                <a:cubicBezTo>
                  <a:pt x="250" y="0"/>
                  <a:pt x="159" y="3"/>
                  <a:pt x="111" y="44"/>
                </a:cubicBezTo>
                <a:cubicBezTo>
                  <a:pt x="63" y="85"/>
                  <a:pt x="30" y="213"/>
                  <a:pt x="15" y="260"/>
                </a:cubicBezTo>
                <a:cubicBezTo>
                  <a:pt x="0" y="307"/>
                  <a:pt x="10" y="301"/>
                  <a:pt x="23" y="340"/>
                </a:cubicBezTo>
                <a:close/>
              </a:path>
            </a:pathLst>
          </a:custGeom>
          <a:solidFill>
            <a:srgbClr val="ffff99">
              <a:alpha val="70000"/>
            </a:srgbClr>
          </a:solidFill>
          <a:ln w="1908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433680" y="4191120"/>
            <a:ext cx="1470240" cy="1925640"/>
          </a:xfrm>
          <a:custGeom>
            <a:avLst/>
            <a:gdLst/>
            <a:ahLst/>
            <a:rect l="l" t="t" r="r" b="b"/>
            <a:pathLst>
              <a:path w="786" h="1037">
                <a:moveTo>
                  <a:pt x="623" y="8"/>
                </a:moveTo>
                <a:cubicBezTo>
                  <a:pt x="576" y="12"/>
                  <a:pt x="456" y="19"/>
                  <a:pt x="415" y="48"/>
                </a:cubicBezTo>
                <a:cubicBezTo>
                  <a:pt x="374" y="77"/>
                  <a:pt x="384" y="125"/>
                  <a:pt x="375" y="184"/>
                </a:cubicBezTo>
                <a:cubicBezTo>
                  <a:pt x="366" y="243"/>
                  <a:pt x="378" y="347"/>
                  <a:pt x="359" y="400"/>
                </a:cubicBezTo>
                <a:cubicBezTo>
                  <a:pt x="340" y="453"/>
                  <a:pt x="311" y="471"/>
                  <a:pt x="263" y="504"/>
                </a:cubicBezTo>
                <a:cubicBezTo>
                  <a:pt x="215" y="537"/>
                  <a:pt x="108" y="557"/>
                  <a:pt x="71" y="600"/>
                </a:cubicBezTo>
                <a:cubicBezTo>
                  <a:pt x="34" y="643"/>
                  <a:pt x="42" y="696"/>
                  <a:pt x="39" y="760"/>
                </a:cubicBezTo>
                <a:cubicBezTo>
                  <a:pt x="36" y="824"/>
                  <a:pt x="0" y="945"/>
                  <a:pt x="55" y="984"/>
                </a:cubicBezTo>
                <a:cubicBezTo>
                  <a:pt x="110" y="1023"/>
                  <a:pt x="290" y="1037"/>
                  <a:pt x="367" y="992"/>
                </a:cubicBezTo>
                <a:cubicBezTo>
                  <a:pt x="444" y="947"/>
                  <a:pt x="490" y="785"/>
                  <a:pt x="519" y="712"/>
                </a:cubicBezTo>
                <a:cubicBezTo>
                  <a:pt x="548" y="639"/>
                  <a:pt x="504" y="608"/>
                  <a:pt x="543" y="552"/>
                </a:cubicBezTo>
                <a:cubicBezTo>
                  <a:pt x="582" y="496"/>
                  <a:pt x="716" y="445"/>
                  <a:pt x="751" y="376"/>
                </a:cubicBezTo>
                <a:cubicBezTo>
                  <a:pt x="786" y="307"/>
                  <a:pt x="760" y="195"/>
                  <a:pt x="751" y="136"/>
                </a:cubicBezTo>
                <a:cubicBezTo>
                  <a:pt x="742" y="77"/>
                  <a:pt x="718" y="48"/>
                  <a:pt x="695" y="24"/>
                </a:cubicBezTo>
                <a:cubicBezTo>
                  <a:pt x="672" y="0"/>
                  <a:pt x="670" y="4"/>
                  <a:pt x="623" y="8"/>
                </a:cubicBezTo>
                <a:close/>
              </a:path>
            </a:pathLst>
          </a:custGeom>
          <a:solidFill>
            <a:srgbClr val="ffc5ff">
              <a:alpha val="70000"/>
            </a:srgbClr>
          </a:solidFill>
          <a:ln w="1908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04000" y="3044880"/>
            <a:ext cx="812880" cy="268200"/>
          </a:xfrm>
          <a:prstGeom prst="line">
            <a:avLst/>
          </a:prstGeom>
          <a:ln w="57240">
            <a:solidFill>
              <a:srgbClr val="d1040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2040" y="2862360"/>
            <a:ext cx="150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3765"/>
                </a:solidFill>
                <a:latin typeface="Times New Roman"/>
                <a:ea typeface="Times New Roman"/>
              </a:rPr>
              <a:t>iSNS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01:44:58Z</dcterms:created>
  <dc:creator>Asaf Somekh</dc:creator>
  <dc:description/>
  <dc:language>en-US</dc:language>
  <cp:lastModifiedBy>John Hufferd</cp:lastModifiedBy>
  <dcterms:modified xsi:type="dcterms:W3CDTF">2006-02-07T22:31:04Z</dcterms:modified>
  <cp:revision>934</cp:revision>
  <dc:subject/>
  <dc:title>Voltaire Grids</dc:title>
</cp:coreProperties>
</file>