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BD12-D3E3-481E-B687-878174E1C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96540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618B-40F4-4CCE-9B9B-095790D0B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328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A7AD-676C-49E8-933B-B5E1448A30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320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588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320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588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84F2-655C-4D8C-B366-603CF58A4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591B-8B46-4F92-BC11-A655189AF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8D85-2FF4-443B-A619-A92C37A9C8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64646-2214-4CAD-8DBA-685FDB0C3B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393D-A18D-4442-A4D4-6936EED113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1D6E-5722-4DB6-BFD9-B5A7A375F3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0574-2F1C-4F59-900B-4FB964915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389A-0386-401D-9C2A-5CE0BCD43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43D0-0DBD-47A0-ADCA-AE583E65C6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328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CF39E-CA2B-4E21-9264-63195819B3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7E5BE-6A9D-4E26-8492-AF48FB75B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520" y="396540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1312-E461-4FBE-A852-ADB426406B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328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1201-EAAE-421D-9E5C-DD2A3EF57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320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05880" y="121896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52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320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05880" y="3965400"/>
            <a:ext cx="267840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C1E7-826C-4134-BF39-1D5BAC18E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132CC-1A65-4D98-92D8-26356479B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35DD-8706-46B3-9F9F-CDFC8F8AB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468F-C12E-4A8A-A9F1-F5C310040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5FCF-729A-41D5-90CB-B4AC5FA65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DD1A-D67B-4AE7-AA68-87DEFA22B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3280" y="396540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DDD3-A24E-4212-A86D-D47154110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3280" y="1218960"/>
            <a:ext cx="405936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965400"/>
            <a:ext cx="8318520" cy="25077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5699-2D30-43CF-91FA-2A0332CF6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E321-A5CF-414B-B128-9350137C4B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000640" y="6640560"/>
            <a:ext cx="12193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BA0-5E18-46CE-81CA-EF8DBD037E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339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 Black"/>
              </a:rPr>
              <a:t>Next Steps for iWARP</a:t>
            </a:r>
            <a:endParaRPr b="0" lang="en-US" sz="4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aitlin Bestler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Uri Elzur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2176-78F1-4F83-B0AB-AD26CD3BA5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mplication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Remote Error Detection Varie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LP Ack can be sent before the RDMA Headers are examin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refore the sender’s work request can complete “successfully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remains constant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error will be caught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connection will be torn down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re will be no unauthorized access to memory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varies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he error is report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not to care (for core OpenSTAC code)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fine additional asynch event for connection failure from remote access violation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mpact confined to shared code and iWARP specific, since IB will not generate it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not to care (for ULPs)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on’t send invalid work reques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 prepared for error completions or asynch event errors if you do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 prepared for seeing flushed completions before seeing the asynch event that tore down the connection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9C42-87CD-426D-81CA-334CF31AA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Connection Managemen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mediate strategy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PL style connection management already defined in cma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orks for both IB and iWAR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assive side listens, receives connection requests with Private Data, accepts/reject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ve side requests connection to remote address/port with Private Data, gets accept/reject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ve IB-only modes available through IB-specific connection manager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al with TCP-specific connection establishment in later releas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ng term issu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support pre-MPA streaming mode negotia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iSCSI/iS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other new protoco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avoid inconsistencies with host stack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RP, Neighbor, MTU: already propos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MTU Maintenance (ICMP Unreachable because of fragmentation)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6F96-09E3-497D-BDEC-0DFFE1B175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P Addressing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is consta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pport of IPv4 and IPv6 addresse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var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he IP Address is translated onto the wi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WARP lacks visibility below IP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not c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ntain semantics of IP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nly fetch L2 information through L2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figure each fabric on its own ter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nly attempt to use a configured fabric in transport neutral way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2E93-E485-41E5-9713-AD2D45062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RDMA Read Target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is constant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DMA Reads specify registered memory as the Data Sink in an RDMA Read Work Request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hat varies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finiBand specifies the target of an RDMA Read as an LKey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WARP verbs define the target of an RDMA Read as equivalent of an RKey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lthough the wire protocol is compatible with an LKey equivalent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w </a:t>
            </a:r>
            <a:r>
              <a:rPr b="1" i="1" lang="en-US" sz="16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to not care in the long ru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Just post the Memory Region STag as the RDMA Read Data Sink STag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ery snoopable value that should not be exposed on an untrusted network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w to not care (OpenSTAC):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fine a method for RDMA Read to RKey (IB Providers do not have to implement)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fine an attribute to indicate support for RKey targeting (IB Providers do not have to set)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fine an attribute to indicate when targeted LKey is exposed to the wire (Never true for IB)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ow to not care (ULPs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on’t rely on having RDMA Read SGL lengths greater than one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se safe choices when possible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DMA Read to LKey if LKey is not exposed to wire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DMA Read to RKey if available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se RDMA Read to LKey if safe anyway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nooping is not a concern (network is secure)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he Memory Region will be promptly invalidated anyway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imulate RDMA Read with ULP Requests if all else fails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B370-81D2-43BB-8E5C-5304F4A1E3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upport for iWARP and IB 1.2 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Narrow Memory Window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831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arrow Memory Windows: only valid only QP used to bind it, rather than entire P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mpler caching logic when RKey is only used on a single QP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imits scope of exposure to most natural default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 proposal (iWARP branch): provider you either all wide or all narrow windows, dependent on the transport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Not terribly friendly to ULPs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oes not allow Provider to support both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ecifically allowed under IB 1.2 and RNIC-PI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w to not Care (OpenSTAC)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fine Device Attributes indicating support of each type, require that devices support at least one. 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dd mw constructor(s) that control the type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w to not care (ULP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e the default constructor when there is only one QP per PD anyway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e narrow windows when supported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se QP-specific Protection Domains and Shared Memory Regions otherwise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21320" y="1219320"/>
          <a:ext cx="3547800" cy="45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1320" y="1219320"/>
                    <a:ext cx="35478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9BDA-4ECA-4171-BAFF-2F3A42C6B2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upport for iWARP and IB 1.2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Fast Memory Register Work Reques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831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ivileged Work Request that updates a Memory Reg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uch like a window bind, but new contents supplied rather than referenced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is constant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ulting FMR is the same whether bound by work request or verb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at varie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ork Request pipelining enables fewer FMRs, but requires more SQ/CQ slot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apability must be reported to allow ULP to adjust accordingly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w to not care (for OpenSTAC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fine an optional FMR Work Request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ow to not care (for ULP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fmr pool can simulate pipelining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hen using FMR work requests, account for extra requests/completion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member that even suppressed completions require slots in the CQ after an error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xtra FMRs or Extra WQE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21320" y="1219320"/>
          <a:ext cx="3547800" cy="45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1320" y="1219320"/>
                    <a:ext cx="35478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6644-E070-4F22-B163-89F05A0F88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Support for iWARP and IB 1.2 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Bind/FMR Work Request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is constant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fter bind/fast register the RKey (RTag) can be exported to the remote pe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d it will be usable by the time the remote peer receives it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mory Window binds can be pipelin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varies: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key portion of RKey/RTag is vari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WARP and IB 1.2 specify a user controllable “key portion”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vant for FMR Work Requests, and for all iWARP B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not care (OpenSTAC)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fine a device attribute indicating when user control of “Key portion” will be honored (FMR Work Requests only, FMR and Narrow Windows, always)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icate on MR creation when FMR support will be requir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not to care (ULPs)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on’t try to control the key portion. Just inc if ownership is assigned to ULP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o so as low in the stack as possible (middleware, not application logic)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eat MRs as static or dynamic, don’t try to mix usage of any single MR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AD34-57D8-40D9-8D49-3ED2F624BB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ransport Specific Enhancement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var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finiBand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omic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rite/Send with immedia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WARP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nd with Invalida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MA Read with Invalidat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not care (OpenSTAC)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e all capabilities. Do not require any of them to be implemented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not care (ULP)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ve an alternate strategy to achieve application specific goal when the transport specific solution is not availabl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ample: ULP uses a local invalidate if the remote peer did not invalidat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ample: use RDMA Atomics to lock if available, or ULP message/response when not availabl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0F5B-F5A5-42DF-B839-F2004DDD97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methods / fields will be common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rs are not expected to emulate methods/features that are not part of their transport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port-specific capabilities are clearly labeled as suc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t not hidden or blocked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nection Management has a common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t splits to transport specific implementation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ild from current iWARP branc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lete label cleanup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cument/Educate on wider semantics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hase in Narrow Windows, FMRs, new attributes …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concentrating on what is common ULPs can write code that will work on either transpor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ithout “if (dev-&gt;type == iWARP)” lines scattered all over their cod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2950-21B5-45B6-88DA-9B4095DFE6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mpact of supporting iWARP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831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InfiniBand specific Provid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me new methods to be stubbed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 additional functionality needed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me new attributes to report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ll derivable from existing fields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IB specific OpenSTAC components: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on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Shared OpenSTAC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me new method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ome new field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xpanded semantic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 OpenSTAC us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o loss of transport specific capabilitie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fe Harbor” transport neutral practices will be highlighted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ust understand broader semantics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f you have to add apples and oranges try counting fruit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21320" y="1219320"/>
          <a:ext cx="3547800" cy="45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1320" y="1219320"/>
                    <a:ext cx="35478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DE97-CDD4-4B8B-B716-26CB5DD30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Enabling RDMA over Multiple Reliable Transport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DMA Services over reliable connections are mostly the sam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ame objects: PD, QP, CQ, SRQ, MR …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same primary messages: RDMA Write, RDMA Send, RDMA Re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Differences Exis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letion Semantics, LKey/RKey/STag, Atomics, MTU values, Send with Invalidate …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deal with that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e do not want to simply Abstract them away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t suitable for verb layer interface. Already done by DAT and IT-API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Just enumerating the differences is not enoug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LP developers do not want a thick book of rules on how to do things differently for each transport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e must highlight “Safe Harbor” techniques that can be follow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actices which enable applications to not care which underlying transport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ample: Using RDMA Send to sequence RDMA Writes *always* work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9A7B-EA0D-414B-B4C4-3F5D6D892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will be covered for each featur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is consta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at var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ow to not car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features are covere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mpletion Semantic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nection Establish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DMA Read target buffer specific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nSTAC Enhancements needed for both iWARP and InfiniBand 1.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stly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LP Strategy for using Transport Specific Capabiliti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16EB-442A-4A89-8F59-1B446B1452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The Biggest Difference: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Completion Semantics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y implications frequently listed as distinct differenc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DMA Write Ordering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WARP does not guarantee placement ordering between RDMA Writes, however completion ordering is ALWAYS guarante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low Contr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WARP requires the ULP to flow control Send/Recv exchang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WARP can truly have multiple in flight RDMA Read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mote Access Erro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 iWARP Work Request with invalid remote destination may complete successfully, with the error being reported in an RDMAP Terminat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ut they all symptoms of a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singl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ffere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only guaranteed meaning of a SendQ Work Completion is that the source buffers are no longer required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t does not mean that the peer has it, or even the peer host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F959-F256-48C1-B558-153B3FD1A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WARP/LLP Separation means SendQ Completions are Different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831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WARP does not have its own flow control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liability and Congestion management is provided by the Lower Layer Protocol (LLP)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ceive buffer management is provided by the ULP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 is what enables iWARP to be transparent to the network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 Send/RDMA Write can be completed as soon as source buffers are no longer needed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e content could have been “received” at several stops before the true destination: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: Transmit RNIC LLP Buffers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: Middlebox Buffering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: Receive RNIC LLP Buffers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only one: receive RNIC may ack before RDMA Processing has comple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9480" indent="-23508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: Processed by RDMA, but completion is not noted by peer.</a:t>
            </a: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ans it may be on the RDMA Device’s cache, not in host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true for I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621320" y="1219320"/>
          <a:ext cx="3547800" cy="456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21320" y="1219320"/>
                    <a:ext cx="3547800" cy="45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BEE3-DEC8-47A8-9F8D-E6FF57CDFE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mplication: ULP Flow Control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ta Sink ULP must pace Data Source ULP  to avoid buffer overrun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t necessary for tagged data (Write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t necessary for untagged data (Send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is is natural for typical usage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LPs establish credit limit when connection is established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rt of CM for IB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rt of Private Data for iWARP (or constant/out-of-band)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nding a request decrement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ceiving a reply restore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00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ith optional special adjustments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n sender complies with the limit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ports behave identicall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499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n sender does no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WARP may break connection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51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B may fill SendQ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931E0-8713-4264-A665-E0241A74E1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Implications: ULP Flow Control</a:t>
            </a:r>
            <a:endParaRPr b="0" lang="en-US" sz="36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0831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is constant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LP need to manage flow control at the ULP layer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LP cares about number it can post without overwhelming its peer, which covers complete span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varie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penalty for not complying with the flow control policy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not care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se end-to-end ULP flow control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ipeline can be kept full anyway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on’t violate it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f you need N, say you need N, don’t allocate N-2 and count on the transport to fudge the difference.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-connection ULP behavior shouldn’t be changed by the CQ size anyway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ere is the impact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LPs, not the core.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16280" y="1222200"/>
          <a:ext cx="4083120" cy="524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6280" y="1222200"/>
                    <a:ext cx="4083120" cy="52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754F-AEA7-4588-B616-DF511C2B17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mplication: Completions Required at the Data Sink</a:t>
            </a:r>
            <a:endParaRPr b="0" lang="en-US" sz="32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18520" cy="52578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is Constant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Using only RDMA Writes there is no way to guarantee when the remote peer will detect your message. It is inherently model specific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vari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finiBand provides more guarantees about how memory (as read back from an RDMA Read) will be updated in sequence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ow to not car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sure that there is a completion at the Data Sink when you want to be guaranteed that the data will be see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the impact i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9480" indent="-235080">
              <a:spcBef>
                <a:spcPts val="451"/>
              </a:spcBef>
              <a:buClr>
                <a:srgbClr val="ff0000"/>
              </a:buClr>
              <a:buSzPct val="120000"/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LPs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4469-E115-4F5D-B048-7A906C6970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21:49:11Z</dcterms:created>
  <dc:creator>Caitlin Bestler</dc:creator>
  <dc:description/>
  <dc:language>en-US</dc:language>
  <cp:lastModifiedBy>Caitlin Bestler</cp:lastModifiedBy>
  <dcterms:modified xsi:type="dcterms:W3CDTF">2006-02-06T20:08:24Z</dcterms:modified>
  <cp:revision>24</cp:revision>
  <dc:subject/>
  <dc:title>Evolution of “gen2”</dc:title>
</cp:coreProperties>
</file>