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DD54-B6D5-4370-B821-7A2698208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45AB-C999-4D60-97D6-76349959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47FA-A674-4427-8A1E-D9553A291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2C8F-A849-4940-AEB7-112368B2D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841400" y="395280"/>
            <a:ext cx="548496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6742-7193-4DA3-A707-6CD0DCCB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8708-232F-416E-A2FD-5FD2AC91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845C-DB3D-4768-BE58-62801B82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6776-DD0D-4046-9E1C-8D61734D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41400" y="395280"/>
            <a:ext cx="548496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7A89-151F-4343-8345-701450E8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FF19-6C0B-4599-86C9-645C6ED4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5751-B745-4060-99F8-A9F852A7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93F8-74CC-4AC7-B3DA-A39183A7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1905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onom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400" y="62449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3736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1B91F95-82B6-4C81-9236-299B0A9CE200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828800" y="1332000"/>
            <a:ext cx="5484960" cy="75960"/>
          </a:xfrm>
          <a:prstGeom prst="rect">
            <a:avLst/>
          </a:prstGeom>
          <a:gradFill rotWithShape="0">
            <a:gsLst>
              <a:gs pos="0">
                <a:srgbClr val="0066ff">
                  <a:alpha val="98039"/>
                </a:srgbClr>
              </a:gs>
              <a:gs pos="100000">
                <a:srgbClr val="000000">
                  <a:alpha val="7215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284960" y="368280"/>
            <a:ext cx="162576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28800" y="2396880"/>
            <a:ext cx="548496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onom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717280" y="932040"/>
            <a:ext cx="37465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3860640"/>
            <a:ext cx="5484960" cy="76320"/>
          </a:xfrm>
          <a:prstGeom prst="rect">
            <a:avLst/>
          </a:prstGeom>
          <a:gradFill rotWithShape="0">
            <a:gsLst>
              <a:gs pos="0">
                <a:srgbClr val="0066ff">
                  <a:alpha val="98039"/>
                </a:srgbClr>
              </a:gs>
              <a:gs pos="100000">
                <a:srgbClr val="000000">
                  <a:alpha val="7215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10280" y="368280"/>
            <a:ext cx="1900440" cy="1231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rpandit@silverstorm.com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openib.org/svn/trunk/contrib/silverstorm/rds/" TargetMode="External"/><Relationship Id="rId2" Type="http://schemas.openxmlformats.org/officeDocument/2006/relationships/hyperlink" Target="https://openib.org/svn/trunk/contrib/silverstorm/rds/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28800" y="2396880"/>
            <a:ext cx="548496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liable Datagram Sockets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(RDS)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828800" y="4114800"/>
            <a:ext cx="54849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Ranjit Pandit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8080"/>
                </a:solidFill>
                <a:latin typeface="Arial"/>
              </a:rPr>
              <a:t>SilverStorm Technologie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pandit@silverstorm.com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Feb 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ceiv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cal to UDP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vmsg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blocking/non-blocking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” receiver ports are stalled at send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ation of activity (LRU) and memory utilization used to detect slow rece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ndmsg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stalled destination port returns      EWOULDBLOCK, application can r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ing socket can wait for un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vmsg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a stalled port un-stall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A1F7-B885-4004-96E1-4E8ABE9D076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igh Availability (failover)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RC and on-demand connection setup allows 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 setup/teardown transparent to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sendmsg() could “potentially” result in a connection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path fails, connection is torn down, next send can connect on an alternate path (different port or different H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40EF-682B-441F-86F8-E73506ED623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eliminary performance Rds on Openib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021040" y="1828800"/>
          <a:ext cx="5189400" cy="4165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1040" y="1828800"/>
                    <a:ext cx="518940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7160760" y="4191120"/>
            <a:ext cx="1738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Dual 2.4GHz Xe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G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x PCI-X H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343400" y="3505320"/>
            <a:ext cx="38088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495680" y="3733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299360" y="4684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086600" y="51055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*Sdp ~3700Mb/s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CP_STR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EAF9-5941-4865-8F8D-1791BBD48919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eliminary performance Rds on OpenIB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019240" y="1828800"/>
          <a:ext cx="5143680" cy="4098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19240" y="1828800"/>
                    <a:ext cx="514368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7160760" y="4191120"/>
            <a:ext cx="1738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Dual 2.4GHz Xe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G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x PCI-X H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086600" y="51055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*Sdp ~3700Mb/s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CP_STR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F0CF-2E84-4AE6-9832-CD7228BBA734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eliminary performance Rds on OpenIB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933560" y="1916280"/>
          <a:ext cx="6191280" cy="384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3560" y="1916280"/>
                    <a:ext cx="6191280" cy="38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62C6-A68E-405C-9F59-D385436C350F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tatus in OpenIB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-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ly 98%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Netpe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Oracle unit test (crload) stable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checked into contrib/silverstorm/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openib.org/svn/trunk/contrib/silverstorm/rds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4819-7DF3-451B-A400-C8178D6FFED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utur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-co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d recv que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D706-D696-4E0A-9074-5E0A8F959EA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Q&amp;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895480" y="3014640"/>
            <a:ext cx="2595600" cy="23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7F83-9D6F-4036-8971-446BE90D6C85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Level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liminary performanc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0DD2-6471-4185-8078-F2F86851ECB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936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reliable datagram serv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 application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socket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code por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er time-to-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563868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Keep It Simple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9E2A-2EC9-472A-8FDC-B7A5F33DA29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ck Overview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65280" y="5181480"/>
            <a:ext cx="5354640" cy="3988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17174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st Channel Adap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5280" y="4619520"/>
            <a:ext cx="4738680" cy="3988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17174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nib Access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4111560"/>
            <a:ext cx="2133720" cy="3988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17174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Po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6440" y="3693960"/>
            <a:ext cx="1981080" cy="368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43320" y="1905120"/>
            <a:ext cx="906480" cy="6397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003b00"/>
              </a:gs>
              <a:gs pos="100000">
                <a:srgbClr val="008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acle 10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25400" y="1922400"/>
            <a:ext cx="1332000" cy="6397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003b00"/>
              </a:gs>
              <a:gs pos="100000">
                <a:srgbClr val="008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6440" y="3200400"/>
            <a:ext cx="738000" cy="4111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42880" y="3200400"/>
            <a:ext cx="738360" cy="4111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08240" y="3200400"/>
            <a:ext cx="768240" cy="39888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171746"/>
              </a:gs>
              <a:gs pos="100000">
                <a:srgbClr val="3333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00240" y="3208320"/>
            <a:ext cx="768600" cy="398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92600" y="3549600"/>
            <a:ext cx="320400" cy="930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2514600"/>
            <a:ext cx="673200" cy="1670040"/>
          </a:xfrm>
          <a:custGeom>
            <a:avLst/>
            <a:gdLst/>
            <a:ahLst/>
            <a:rect l="l" t="t" r="r" b="b"/>
            <a:pathLst>
              <a:path w="510" h="1280">
                <a:moveTo>
                  <a:pt x="510" y="0"/>
                </a:moveTo>
                <a:cubicBezTo>
                  <a:pt x="317" y="187"/>
                  <a:pt x="124" y="375"/>
                  <a:pt x="62" y="521"/>
                </a:cubicBezTo>
                <a:cubicBezTo>
                  <a:pt x="0" y="667"/>
                  <a:pt x="85" y="751"/>
                  <a:pt x="135" y="877"/>
                </a:cubicBezTo>
                <a:cubicBezTo>
                  <a:pt x="185" y="1003"/>
                  <a:pt x="332" y="1215"/>
                  <a:pt x="364" y="128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8120" y="2433600"/>
            <a:ext cx="541080" cy="2075040"/>
          </a:xfrm>
          <a:custGeom>
            <a:avLst/>
            <a:gdLst/>
            <a:ahLst/>
            <a:rect l="l" t="t" r="r" b="b"/>
            <a:pathLst>
              <a:path w="264" h="1307">
                <a:moveTo>
                  <a:pt x="0" y="0"/>
                </a:moveTo>
                <a:cubicBezTo>
                  <a:pt x="106" y="133"/>
                  <a:pt x="212" y="266"/>
                  <a:pt x="238" y="484"/>
                </a:cubicBezTo>
                <a:cubicBezTo>
                  <a:pt x="264" y="702"/>
                  <a:pt x="210" y="1004"/>
                  <a:pt x="156" y="130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45280" y="2603520"/>
            <a:ext cx="166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2573280"/>
            <a:ext cx="8354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165400"/>
            <a:ext cx="134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1874880"/>
            <a:ext cx="1560600" cy="6397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003b00"/>
              </a:gs>
              <a:gs pos="100000">
                <a:srgbClr val="008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DP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657600" y="2514600"/>
            <a:ext cx="525600" cy="1981080"/>
          </a:xfrm>
          <a:custGeom>
            <a:avLst/>
            <a:gdLst/>
            <a:ahLst/>
            <a:rect l="l" t="t" r="r" b="b"/>
            <a:pathLst>
              <a:path w="264" h="1307">
                <a:moveTo>
                  <a:pt x="0" y="0"/>
                </a:moveTo>
                <a:cubicBezTo>
                  <a:pt x="106" y="133"/>
                  <a:pt x="212" y="266"/>
                  <a:pt x="238" y="484"/>
                </a:cubicBezTo>
                <a:cubicBezTo>
                  <a:pt x="264" y="702"/>
                  <a:pt x="210" y="1004"/>
                  <a:pt x="156" y="130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A5D3-B8CD-453A-A166-637381C9BFF0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Level Desig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S registers with the kernel as driver for Address Family PF_INET_OFFLOAD and Type SOCK_D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creates a RDS socket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ocket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rg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PF = PF_INET_OFFLO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rg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ype = SOCK_D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ocket(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PI sup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ocket, bind, ioctl, sendmsg, recvmsg, poll, getsockopt/setsocko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F91F-E273-4FED-91B5-986BCF291C6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onnection mod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connection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s maintains node-to-node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C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demand connection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on firs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ndmsg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data rec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nnect on error or policy like in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 setup/teardown transparent to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29160" y="5638680"/>
            <a:ext cx="41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Application</a:t>
            </a:r>
            <a:r>
              <a:rPr b="1" lang="en-US" sz="18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010C-D58C-4981-86A3-493189C71C0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ata and Control Chann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RC QP for node level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and Control QPs per 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able M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-copy send/rec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/w flow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87D5-61A9-4C52-9F2A-F9B7E5E257B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828800" y="2133720"/>
            <a:ext cx="76212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78040" y="1905120"/>
            <a:ext cx="3922560" cy="350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833400" y="4191120"/>
            <a:ext cx="166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3733920"/>
            <a:ext cx="8354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165400"/>
            <a:ext cx="134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64840" y="55627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2209680"/>
            <a:ext cx="83808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56440" y="335268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msg(node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3962520"/>
            <a:ext cx="2895840" cy="1218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52840" y="24750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2133720"/>
            <a:ext cx="76176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5790960" y="1905120"/>
            <a:ext cx="1752840" cy="3581280"/>
            <a:chOff x="5790960" y="1905120"/>
            <a:chExt cx="1752840" cy="3581280"/>
          </a:xfrm>
        </p:grpSpPr>
        <p:sp>
          <p:nvSpPr>
            <p:cNvPr id="130" name=""/>
            <p:cNvSpPr/>
            <p:nvPr/>
          </p:nvSpPr>
          <p:spPr>
            <a:xfrm flipH="1">
              <a:off x="5790960" y="19051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91320" y="1905120"/>
              <a:ext cx="0" cy="358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91320" y="548640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6555960" y="55627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981080" y="4572000"/>
            <a:ext cx="5715000" cy="457200"/>
            <a:chOff x="1981080" y="4572000"/>
            <a:chExt cx="5715000" cy="457200"/>
          </a:xfrm>
        </p:grpSpPr>
        <p:grpSp>
          <p:nvGrpSpPr>
            <p:cNvPr id="135" name=""/>
            <p:cNvGrpSpPr/>
            <p:nvPr/>
          </p:nvGrpSpPr>
          <p:grpSpPr>
            <a:xfrm>
              <a:off x="1981080" y="4572000"/>
              <a:ext cx="5715000" cy="457200"/>
              <a:chOff x="1981080" y="4572000"/>
              <a:chExt cx="5715000" cy="457200"/>
            </a:xfrm>
          </p:grpSpPr>
          <p:sp>
            <p:nvSpPr>
              <p:cNvPr id="136" name=""/>
              <p:cNvSpPr/>
              <p:nvPr/>
            </p:nvSpPr>
            <p:spPr>
              <a:xfrm>
                <a:off x="3733920" y="4800600"/>
                <a:ext cx="2209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" name=""/>
              <p:cNvGrpSpPr/>
              <p:nvPr/>
            </p:nvGrpSpPr>
            <p:grpSpPr>
              <a:xfrm>
                <a:off x="1981080" y="4572000"/>
                <a:ext cx="1752480" cy="457200"/>
                <a:chOff x="1981080" y="4572000"/>
                <a:chExt cx="1752480" cy="457200"/>
              </a:xfrm>
            </p:grpSpPr>
            <p:grpSp>
              <p:nvGrpSpPr>
                <p:cNvPr id="138" name=""/>
                <p:cNvGrpSpPr/>
                <p:nvPr/>
              </p:nvGrpSpPr>
              <p:grpSpPr>
                <a:xfrm>
                  <a:off x="1981080" y="4572000"/>
                  <a:ext cx="1752480" cy="457200"/>
                  <a:chOff x="1981080" y="4572000"/>
                  <a:chExt cx="1752480" cy="45720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>
                    <a:off x="3352680" y="457200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2971800" y="457200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2590920" y="457200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2" name=""/>
                  <p:cNvGrpSpPr/>
                  <p:nvPr/>
                </p:nvGrpSpPr>
                <p:grpSpPr>
                  <a:xfrm>
                    <a:off x="1981080" y="4572000"/>
                    <a:ext cx="1752480" cy="457200"/>
                    <a:chOff x="1981080" y="4572000"/>
                    <a:chExt cx="1752480" cy="457200"/>
                  </a:xfrm>
                </p:grpSpPr>
                <p:grpSp>
                  <p:nvGrpSpPr>
                    <p:cNvPr id="143" name=""/>
                    <p:cNvGrpSpPr/>
                    <p:nvPr/>
                  </p:nvGrpSpPr>
                  <p:grpSpPr>
                    <a:xfrm>
                      <a:off x="1981080" y="4572000"/>
                      <a:ext cx="1752480" cy="457200"/>
                      <a:chOff x="1981080" y="4572000"/>
                      <a:chExt cx="1752480" cy="457200"/>
                    </a:xfrm>
                  </p:grpSpPr>
                  <p:sp>
                    <p:nvSpPr>
                      <p:cNvPr id="144" name=""/>
                      <p:cNvSpPr/>
                      <p:nvPr/>
                    </p:nvSpPr>
                    <p:spPr>
                      <a:xfrm>
                        <a:off x="1981080" y="4572000"/>
                        <a:ext cx="175248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5" name=""/>
                      <p:cNvSpPr/>
                      <p:nvPr/>
                    </p:nvSpPr>
                    <p:spPr>
                      <a:xfrm>
                        <a:off x="3733560" y="4572000"/>
                        <a:ext cx="0" cy="45720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6" name=""/>
                      <p:cNvSpPr/>
                      <p:nvPr/>
                    </p:nvSpPr>
                    <p:spPr>
                      <a:xfrm flipH="1">
                        <a:off x="1981080" y="5029200"/>
                        <a:ext cx="175248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2209680" y="457200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48" name=""/>
                <p:cNvSpPr/>
                <p:nvPr/>
              </p:nvSpPr>
              <p:spPr>
                <a:xfrm>
                  <a:off x="2592360" y="4648320"/>
                  <a:ext cx="74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RC Q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5943600" y="4572000"/>
                <a:ext cx="1752480" cy="457200"/>
                <a:chOff x="5943600" y="4572000"/>
                <a:chExt cx="1752480" cy="457200"/>
              </a:xfrm>
            </p:grpSpPr>
            <p:grpSp>
              <p:nvGrpSpPr>
                <p:cNvPr id="150" name=""/>
                <p:cNvGrpSpPr/>
                <p:nvPr/>
              </p:nvGrpSpPr>
              <p:grpSpPr>
                <a:xfrm>
                  <a:off x="5943600" y="4572000"/>
                  <a:ext cx="1752480" cy="457200"/>
                  <a:chOff x="5943600" y="4572000"/>
                  <a:chExt cx="1752480" cy="45720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 flipV="1">
                    <a:off x="6324840" y="457200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flipV="1">
                    <a:off x="6705720" y="457200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flipV="1">
                    <a:off x="7086600" y="457200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4" name=""/>
                  <p:cNvGrpSpPr/>
                  <p:nvPr/>
                </p:nvGrpSpPr>
                <p:grpSpPr>
                  <a:xfrm>
                    <a:off x="5943600" y="4572000"/>
                    <a:ext cx="1752480" cy="457200"/>
                    <a:chOff x="5943600" y="4572000"/>
                    <a:chExt cx="1752480" cy="457200"/>
                  </a:xfrm>
                </p:grpSpPr>
                <p:grpSp>
                  <p:nvGrpSpPr>
                    <p:cNvPr id="155" name=""/>
                    <p:cNvGrpSpPr/>
                    <p:nvPr/>
                  </p:nvGrpSpPr>
                  <p:grpSpPr>
                    <a:xfrm>
                      <a:off x="5943600" y="4572000"/>
                      <a:ext cx="1752480" cy="457200"/>
                      <a:chOff x="5943600" y="4572000"/>
                      <a:chExt cx="1752480" cy="457200"/>
                    </a:xfrm>
                  </p:grpSpPr>
                  <p:sp>
                    <p:nvSpPr>
                      <p:cNvPr id="156" name=""/>
                      <p:cNvSpPr/>
                      <p:nvPr/>
                    </p:nvSpPr>
                    <p:spPr>
                      <a:xfrm flipH="1">
                        <a:off x="5943600" y="5029200"/>
                        <a:ext cx="175248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" name=""/>
                      <p:cNvSpPr/>
                      <p:nvPr/>
                    </p:nvSpPr>
                    <p:spPr>
                      <a:xfrm flipV="1">
                        <a:off x="5943600" y="4572000"/>
                        <a:ext cx="0" cy="45720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" name=""/>
                      <p:cNvSpPr/>
                      <p:nvPr/>
                    </p:nvSpPr>
                    <p:spPr>
                      <a:xfrm>
                        <a:off x="5943600" y="4572000"/>
                        <a:ext cx="175248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59" name=""/>
                    <p:cNvSpPr/>
                    <p:nvPr/>
                  </p:nvSpPr>
                  <p:spPr>
                    <a:xfrm flipV="1">
                      <a:off x="7467840" y="4572000"/>
                      <a:ext cx="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0" name=""/>
                <p:cNvSpPr/>
                <p:nvPr/>
              </p:nvSpPr>
              <p:spPr>
                <a:xfrm rot="10800000">
                  <a:off x="6903000" y="4649760"/>
                  <a:ext cx="18360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" name=""/>
            <p:cNvSpPr/>
            <p:nvPr/>
          </p:nvSpPr>
          <p:spPr>
            <a:xfrm>
              <a:off x="6325920" y="4648320"/>
              <a:ext cx="74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C Q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1585080" y="3059280"/>
            <a:ext cx="369720" cy="1436400"/>
            <a:chOff x="1585080" y="3059280"/>
            <a:chExt cx="369720" cy="1436400"/>
          </a:xfrm>
        </p:grpSpPr>
        <p:sp>
          <p:nvSpPr>
            <p:cNvPr id="163" name=""/>
            <p:cNvSpPr/>
            <p:nvPr/>
          </p:nvSpPr>
          <p:spPr>
            <a:xfrm>
              <a:off x="1752480" y="335268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585080" y="305928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2118600" y="2982960"/>
            <a:ext cx="369720" cy="1512720"/>
            <a:chOff x="2118600" y="2982960"/>
            <a:chExt cx="369720" cy="1512720"/>
          </a:xfrm>
        </p:grpSpPr>
        <p:sp>
          <p:nvSpPr>
            <p:cNvPr id="166" name=""/>
            <p:cNvSpPr/>
            <p:nvPr/>
          </p:nvSpPr>
          <p:spPr>
            <a:xfrm>
              <a:off x="2209680" y="32767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18600" y="298296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277440" y="2971800"/>
            <a:ext cx="369720" cy="1523880"/>
            <a:chOff x="3277440" y="2971800"/>
            <a:chExt cx="369720" cy="1523880"/>
          </a:xfrm>
        </p:grpSpPr>
        <p:sp>
          <p:nvSpPr>
            <p:cNvPr id="169" name=""/>
            <p:cNvSpPr/>
            <p:nvPr/>
          </p:nvSpPr>
          <p:spPr>
            <a:xfrm>
              <a:off x="3429000" y="32767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77440" y="297180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6095880" y="2209680"/>
            <a:ext cx="83844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6462720" y="3059280"/>
            <a:ext cx="1577160" cy="1436040"/>
            <a:chOff x="6462720" y="3059280"/>
            <a:chExt cx="1577160" cy="1436040"/>
          </a:xfrm>
        </p:grpSpPr>
        <p:sp>
          <p:nvSpPr>
            <p:cNvPr id="173" name=""/>
            <p:cNvSpPr/>
            <p:nvPr/>
          </p:nvSpPr>
          <p:spPr>
            <a:xfrm>
              <a:off x="6462720" y="305928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6629400" y="3313080"/>
              <a:ext cx="1410480" cy="1182240"/>
              <a:chOff x="6629400" y="3313080"/>
              <a:chExt cx="1410480" cy="1182240"/>
            </a:xfrm>
          </p:grpSpPr>
          <p:sp>
            <p:nvSpPr>
              <p:cNvPr id="175" name=""/>
              <p:cNvSpPr/>
              <p:nvPr/>
            </p:nvSpPr>
            <p:spPr>
              <a:xfrm flipV="1">
                <a:off x="6629400" y="3352320"/>
                <a:ext cx="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844320" y="3313080"/>
                <a:ext cx="119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ecvmsg(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7" name=""/>
          <p:cNvSpPr/>
          <p:nvPr/>
        </p:nvSpPr>
        <p:spPr>
          <a:xfrm>
            <a:off x="2364480" y="39625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5867280" y="3962520"/>
            <a:ext cx="2210040" cy="1218960"/>
            <a:chOff x="5867280" y="3962520"/>
            <a:chExt cx="2210040" cy="1218960"/>
          </a:xfrm>
        </p:grpSpPr>
        <p:sp>
          <p:nvSpPr>
            <p:cNvPr id="179" name=""/>
            <p:cNvSpPr/>
            <p:nvPr/>
          </p:nvSpPr>
          <p:spPr>
            <a:xfrm>
              <a:off x="5867280" y="5181480"/>
              <a:ext cx="2210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5867280" y="396252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67280" y="3962520"/>
              <a:ext cx="2210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6707880" y="39625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F2B4-6ADF-47B4-AA30-E5D11048A79E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n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 established on first s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ndmsg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send pipel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OBUF returned if insufficient send buffers, application re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6C3D-A0CC-435D-A224-2B1BAF924A3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01:49:43Z</dcterms:created>
  <dc:creator>Ranjit Pandit</dc:creator>
  <dc:description/>
  <dc:language>en-US</dc:language>
  <cp:lastModifiedBy>Ranjit Pandit</cp:lastModifiedBy>
  <dcterms:modified xsi:type="dcterms:W3CDTF">2006-02-07T21:47:47Z</dcterms:modified>
  <cp:revision>53</cp:revision>
  <dc:subject/>
  <dc:title>Reliable Datagram Sockets (RDS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06106632</vt:r8>
  </property>
  <property fmtid="{D5CDD505-2E9C-101B-9397-08002B2CF9AE}" pid="3" name="_AuthorEmail">
    <vt:lpwstr>rpandit@silverstorm.com</vt:lpwstr>
  </property>
  <property fmtid="{D5CDD505-2E9C-101B-9397-08002B2CF9AE}" pid="4" name="_AuthorEmailDisplayName">
    <vt:lpwstr>Pandit, Ranjit</vt:lpwstr>
  </property>
  <property fmtid="{D5CDD505-2E9C-101B-9397-08002B2CF9AE}" pid="5" name="_EmailSubject">
    <vt:lpwstr>slides from your talk</vt:lpwstr>
  </property>
</Properties>
</file>