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Fabian Tillier" initials="F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6-02-04T10:00:46.915000000" idx="1">
    <p:pos x="10" y="10"/>
    <p:text>Are you going to put the InstallShield installer in OpenIB?  If not, we should drop it from this slide.  If so, great!
What's the IPoIB ARP bullet?  I don't remember things being broken with ARP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C0C-8AC5-487C-9F85-193812DB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5F5-5B54-4B29-8A37-162A41C0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488-F168-453E-98EF-EC9A9F5A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F01-DF28-4F18-9801-DE6FCFE9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AC9B4-8B6E-4B5B-8973-F64643FE13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7868-DA48-4415-9D6D-ED905E2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99782-CA33-490A-9C34-EA91F214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A73BB-6D18-4D8A-9B00-A18E2A2A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A24A6-DEFF-4B0A-B9D2-306F22BB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058F7-9F1D-426C-8485-CD0174CB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832C0-8E1A-4121-B080-921C6A28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151-75AA-43CF-B834-B386EE06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3630-D754-47B8-98C3-21ACD00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FAED6-C82D-4638-9CD2-CCFCFAF9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09165-DC8E-42EB-A297-1E70C82F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BEB16-2678-4314-971A-5B29DB44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C2CE1-0042-4B54-A2A1-EB2C0A0C1E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4A5-F66A-44E4-93BA-A04202C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2D1-EC1F-43B3-9875-A9C45631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2EC-C571-4E0D-98A0-8781F086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223-C0E9-43DF-A451-AB84564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6FD-B9BF-47D4-9AAB-A0CBD63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0B6-BBCD-4C16-9A02-B0355C2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129-AB75-4EBD-BE27-9EF3E087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 Sonoma Workshop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3D85F90-EA0F-4D94-A03B-564D6787612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nfiniBand(R) Trade Association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9552B9-9CE8-419B-A446-09721AB4016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429000"/>
            <a:ext cx="548460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InfiniBand(R) Trade Association"/>
          <p:cNvPicPr/>
          <p:nvPr/>
        </p:nvPicPr>
        <p:blipFill>
          <a:blip r:embed="rId2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Sonoma Worksho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al Windows Updat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04760" y="4038480"/>
            <a:ext cx="5484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lad Sh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llanox Technologies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hainer@mellano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D4771-C084-458A-9300-5E04E15E1D5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hancements for Release 1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 and bug fixes of the entir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- Better debug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vent lo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ra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WSD performance cou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 with latest Linux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the latest from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974-FE6B-4135-8CF5-554B9C9FDF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ease 1.1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2Q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’d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A driver (MTHCA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(w/ asynchronoush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E7D-17E5-4C08-9737-D10513F87D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hancements For Release 1.1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 and bug fixes of the entire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level dri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MTHCA from Linux to Windows and I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m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M as a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API to include Asynchronou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237-9628-4D61-A38F-BA83A281EC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crosoft Certific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provide digital signature (Microsoft certification)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C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h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and W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QL test suite will be ready in 9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WHQL does not fit InfiniBan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overage test will be used meanwh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B0B-67FC-4C82-B1B1-EF26F91D2A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w To Achieve Microsoft Certific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Microsoft WHQL testing 9 month from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etting 9 month temporary Microsoft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drivers to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drivers with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your local test suite and achieve more then 70% cod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the drivers and the log files to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sealed certified drivers from Micros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de change will need to pass the process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84A-0924-400D-A6E4-E060DFE5A5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ersion 2.0 Task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-mode async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all operations to be initiated from DISPATCH_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mode single threaded app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application to select completion notification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native API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ernat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02D-24E0-4DF7-B8A2-63A5B821AB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ll For A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your patches and fi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driv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new upper laye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2F1-CBE6-4473-A192-3DF273B46B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s://openib.org/tiki/tiki-index.php?page=OpenIB+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ib-windows 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openib.org/mailman/listinfo/openib-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 up to con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windows.openib.org/openib/contribute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14D-B93C-4678-9C8A-91F71C44CC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5904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60920" y="1459080"/>
            <a:ext cx="1622160" cy="393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5C3-338D-4265-9657-A9197E9312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tandard IB SW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adop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s developmen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range of upper level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integration into the Window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Serve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6, x64, and Ita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86, x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h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A30-7965-46DA-93AD-7A6EE9F7CEB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mpon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A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Drivers/Acces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P Initiator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sock Direct Provider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I (via Argon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 Available on Windows XP 32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Not availble on Windows X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CAB-C0F7-448B-AF99-2C5362EF2D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Windows Stack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1522440"/>
            <a:ext cx="6934320" cy="444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466-B32B-417A-8F28-A0EF028CD6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3520" y="1674720"/>
            <a:ext cx="7391160" cy="2745000"/>
            <a:chOff x="533520" y="1674720"/>
            <a:chExt cx="7391160" cy="2745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33520" y="1674720"/>
              <a:ext cx="7391160" cy="27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619280" y="1755720"/>
              <a:ext cx="5335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5000" y="1762200"/>
              <a:ext cx="5335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469440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Argonne National La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 over native InfiniBand (IB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llas benchma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D85-C6FF-4FAA-83F0-07923E7B12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test Buil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, 1.0.0.2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from SVN revision 2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A driver (VAPI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DA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F52-B69A-4FB2-91D9-54758DD0D4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hancements in 1.0.0.21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bilization and bug fixes of the entire 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driv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vor mode only. Based on TVPD (VAP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THCA-based driver in prog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ll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sed on InstallShie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test Linux fixes were por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ded Re-regist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5A6-A229-40C9-82C9-2876E62A53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hancements in 1.0.0.213 – Cont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D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w UL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nchronous operations on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covered Windows WSD provider bu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ed Perf_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51F-7CF4-4F93-AA1A-D716C5BE8A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ease 1.0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 end of 1Q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A’d components (conservative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A driver (TVPD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mFree Technolog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32A-283E-4395-84D5-F07E606A8D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0:03:17Z</dcterms:created>
  <dc:creator>erezc</dc:creator>
  <dc:description/>
  <dc:language>en-US</dc:language>
  <cp:lastModifiedBy>shainer</cp:lastModifiedBy>
  <dcterms:modified xsi:type="dcterms:W3CDTF">2006-02-07T07:27:54Z</dcterms:modified>
  <cp:revision>15</cp:revision>
  <dc:subject/>
  <dc:title>MemFree Techn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30425369</vt:r8>
  </property>
  <property fmtid="{D5CDD505-2E9C-101B-9397-08002B2CF9AE}" pid="3" name="_AuthorEmailDisplayName">
    <vt:lpwstr>Tillier, Fabian</vt:lpwstr>
  </property>
  <property fmtid="{D5CDD505-2E9C-101B-9397-08002B2CF9AE}" pid="4" name="_EmailSubject">
    <vt:lpwstr>OpenIB windows presentations</vt:lpwstr>
  </property>
  <property fmtid="{D5CDD505-2E9C-101B-9397-08002B2CF9AE}" pid="5" name="_NewReviewCycle">
    <vt:lpwstr/>
  </property>
  <property fmtid="{D5CDD505-2E9C-101B-9397-08002B2CF9AE}" pid="6" name="_PreviousAdHocReviewCycleID">
    <vt:r8>-1473060814</vt:r8>
  </property>
</Properties>
</file>