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53C-007D-40B9-A517-ECCE88D2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7663-418D-4B4E-8A02-77E74B4C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CF7-2EE4-4817-B2D4-6EE32640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EFF-13B9-4694-9455-AB3F52BF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AE5F-FE07-4C0C-8AEA-E808CC1B0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7A4D-9F6B-457C-85B5-F8B545EF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5267-3900-41FD-B8C5-1000D6A7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7973-DBC1-4B0B-8FF5-8B0F5CD3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F050-02B9-4D81-BEC9-FCF0963D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1F9D-0941-4DF3-97B6-3AECFDFD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BD0D-A8EF-40AC-8FC6-D9FCDAA4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841-2AFF-4328-AF50-2C943E89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2319-DDD4-492F-B096-F2B1629D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E737-48F4-4221-85CC-6C94E2CA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80E6-F05A-4D51-AA14-58BA8A34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7CC2-6195-440A-905D-10C6408F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0721-7D01-4683-866C-BE1AF901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C2D-376C-4AD3-AFB3-1EA4E36B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7B2-5612-4F7C-BAF4-30238D82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F98-BC1E-48DE-B3A6-A49FE64A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68E-D8D1-4282-8900-45463C95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A201-6110-4948-A998-56E46078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029-76D2-4C54-B6AA-04891CEB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B41D-116C-4F28-B1E2-275426E8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e11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9269-AC85-4AB9-AC50-B0B4BC7F85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e113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BFFA-9C5C-435F-840D-07D61B827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de113"/>
                </a:solidFill>
                <a:latin typeface="Arial Black"/>
              </a:rPr>
              <a:t>Scalable RDMA Software Solution</a:t>
            </a:r>
            <a:endParaRPr b="0" lang="en-US" sz="54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342900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an Hef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l Corpo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917720" y="1339920"/>
          <a:ext cx="48862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7720" y="1339920"/>
                    <a:ext cx="48862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e113"/>
                </a:solidFill>
                <a:latin typeface="Arial Black"/>
              </a:rPr>
              <a:t>Path Resolution</a:t>
            </a: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0320" y="5118120"/>
          <a:ext cx="777564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0320" y="5118120"/>
                    <a:ext cx="777564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22120" y="2592360"/>
            <a:ext cx="1428840" cy="517680"/>
          </a:xfrm>
          <a:prstGeom prst="wedgeRoundRectCallout">
            <a:avLst>
              <a:gd name="adj1" fmla="val 68111"/>
              <a:gd name="adj2" fmla="val 2454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t SA inter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21680" y="1424160"/>
            <a:ext cx="1631880" cy="771480"/>
          </a:xfrm>
          <a:prstGeom prst="wedgeRoundRectCallout">
            <a:avLst>
              <a:gd name="adj1" fmla="val -81226"/>
              <a:gd name="adj2" fmla="val -1975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x tree – w/ variable sized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97520" y="3786120"/>
            <a:ext cx="1428840" cy="517680"/>
          </a:xfrm>
          <a:prstGeom prst="wedgeRoundRectCallout">
            <a:avLst>
              <a:gd name="adj1" fmla="val -76777"/>
              <a:gd name="adj2" fmla="val 2454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ll requires scalable 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83320" y="2706840"/>
            <a:ext cx="1022400" cy="517320"/>
          </a:xfrm>
          <a:prstGeom prst="wedgeRoundRectCallout">
            <a:avLst>
              <a:gd name="adj1" fmla="val 20652"/>
              <a:gd name="adj2" fmla="val -13496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 recor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e113"/>
                </a:solidFill>
                <a:latin typeface="Arial Black"/>
              </a:rPr>
              <a:t>Multicast Support</a:t>
            </a: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 attributes outside of sp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 tracks join/leave requests per 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local reference cou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ialize operations to 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ue join/leave requ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1600200"/>
            <a:ext cx="5943600" cy="609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rchitectural support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e113"/>
                </a:solidFill>
                <a:latin typeface="Arial Black"/>
              </a:rPr>
              <a:t>Multicast Support</a:t>
            </a: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00080" y="1563840"/>
          <a:ext cx="478152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1563840"/>
                    <a:ext cx="47815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478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cast group identified by MG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p IP address to MG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send-only and full memb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matic using IPoIB for attrib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e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e113"/>
                </a:solidFill>
                <a:latin typeface="Arial Black"/>
              </a:rPr>
              <a:t>Current Status</a:t>
            </a: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DMA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ted for 2.6.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ging iWarp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 re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y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e route selection algorith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at b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e113"/>
                </a:solidFill>
                <a:latin typeface="Arial Black"/>
              </a:rPr>
              <a:t>Future Work</a:t>
            </a: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P redir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al-sided RMP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net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to sta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e113"/>
                </a:solidFill>
                <a:latin typeface="Arial Black"/>
              </a:rPr>
              <a:t>Future Work</a:t>
            </a: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DMA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lover – multiple ro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D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v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 re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able memory footpr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network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icient change de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e113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Addressing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ice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600200"/>
            <a:ext cx="5943600" cy="5335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finiband Software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48006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 Re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ast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600200"/>
            <a:ext cx="5943600" cy="5335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DMA Software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191120"/>
            <a:ext cx="5943600" cy="5331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finiband Sca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e113"/>
                </a:solidFill>
                <a:latin typeface="Arial Black"/>
              </a:rPr>
              <a:t>Common Addressing Model</a:t>
            </a: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812680"/>
            <a:ext cx="777240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fy us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it use of standard name services and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ket addresses, name service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523880"/>
            <a:ext cx="5943600" cy="990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nsistent addressing model across RDMA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895320" y="1247760"/>
          <a:ext cx="7337520" cy="54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1247760"/>
                    <a:ext cx="7337520" cy="54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e113"/>
                </a:solidFill>
                <a:latin typeface="Arial Black"/>
              </a:rPr>
              <a:t>Address Mapping Service</a:t>
            </a: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3809880"/>
            <a:ext cx="1219320" cy="533520"/>
          </a:xfrm>
          <a:prstGeom prst="wedgeRoundRectCallout">
            <a:avLst>
              <a:gd name="adj1" fmla="val -20962"/>
              <a:gd name="adj2" fmla="val -14940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MA addr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10280" y="3809880"/>
            <a:ext cx="1219320" cy="533520"/>
          </a:xfrm>
          <a:prstGeom prst="wedgeRoundRectCallout">
            <a:avLst>
              <a:gd name="adj1" fmla="val -21615"/>
              <a:gd name="adj2" fmla="val 392560"/>
              <a:gd name="adj3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MA addr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73920" y="1603440"/>
            <a:ext cx="1828800" cy="609480"/>
          </a:xfrm>
          <a:prstGeom prst="wedgeRoundRectCallout">
            <a:avLst>
              <a:gd name="adj1" fmla="val -60069"/>
              <a:gd name="adj2" fmla="val 11927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IP address to RDMA de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2714760"/>
            <a:ext cx="1295280" cy="555480"/>
          </a:xfrm>
          <a:prstGeom prst="wedgeRoundRectCallout">
            <a:avLst>
              <a:gd name="adj1" fmla="val 49754"/>
              <a:gd name="adj2" fmla="val -13256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 workque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348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e113"/>
                </a:solidFill>
                <a:latin typeface="Arial Black"/>
              </a:rPr>
              <a:t>Communication Management</a:t>
            </a: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812680"/>
            <a:ext cx="777240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ket like seman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network addr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DMA port sp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ual port space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, UDP, SDP, SC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1523880"/>
            <a:ext cx="6438960" cy="990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mmon connection interface for all RDMA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93760" y="1563840"/>
          <a:ext cx="7396200" cy="48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563840"/>
                    <a:ext cx="739620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e113"/>
                </a:solidFill>
                <a:latin typeface="Arial Black"/>
              </a:rPr>
              <a:t>RDMA CM</a:t>
            </a: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6456240" y="855720"/>
            <a:ext cx="2362320" cy="517320"/>
          </a:xfrm>
          <a:prstGeom prst="wedgeRoundRectCallout">
            <a:avLst>
              <a:gd name="adj1" fmla="val -40388"/>
              <a:gd name="adj2" fmla="val 8558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independent 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13560" y="2239920"/>
            <a:ext cx="1516320" cy="820800"/>
          </a:xfrm>
          <a:prstGeom prst="wedgeRoundRectCallout">
            <a:avLst>
              <a:gd name="adj1" fmla="val -114712"/>
              <a:gd name="adj2" fmla="val 40328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quire device before connec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960" y="3005280"/>
            <a:ext cx="1947960" cy="517320"/>
          </a:xfrm>
          <a:prstGeom prst="wedgeRoundRectCallout">
            <a:avLst>
              <a:gd name="adj1" fmla="val 71027"/>
              <a:gd name="adj2" fmla="val 3282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dcard listens across all dev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67480" y="5815080"/>
            <a:ext cx="1947960" cy="517320"/>
          </a:xfrm>
          <a:prstGeom prst="wedgeRoundRectCallout">
            <a:avLst>
              <a:gd name="adj1" fmla="val -85370"/>
              <a:gd name="adj2" fmla="val -19877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lve routing before connec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4383000"/>
            <a:ext cx="1682640" cy="517680"/>
          </a:xfrm>
          <a:prstGeom prst="wedgeRoundRectCallout">
            <a:avLst>
              <a:gd name="adj1" fmla="val 68398"/>
              <a:gd name="adj2" fmla="val -10552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 device hotplug ev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e113"/>
                </a:solidFill>
                <a:latin typeface="Arial Black"/>
              </a:rPr>
              <a:t>RDMA CM</a:t>
            </a: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928880" y="1452600"/>
          <a:ext cx="5267160" cy="50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1452600"/>
                    <a:ext cx="5267160" cy="50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978600" y="1766880"/>
            <a:ext cx="2000160" cy="517680"/>
          </a:xfrm>
          <a:prstGeom prst="wedgeRoundRectCallout">
            <a:avLst>
              <a:gd name="adj1" fmla="val -53888"/>
              <a:gd name="adj2" fmla="val 11043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ly bind to a specific de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6600" y="2325600"/>
            <a:ext cx="1428840" cy="517680"/>
          </a:xfrm>
          <a:prstGeom prst="wedgeRoundRectCallout">
            <a:avLst>
              <a:gd name="adj1" fmla="val 72555"/>
              <a:gd name="adj2" fmla="val 3190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d to local de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13240" y="3887640"/>
            <a:ext cx="1301760" cy="517680"/>
          </a:xfrm>
          <a:prstGeom prst="wedgeRoundRectCallout">
            <a:avLst>
              <a:gd name="adj1" fmla="val -21828"/>
              <a:gd name="adj2" fmla="val 13742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9520" y="5427720"/>
            <a:ext cx="1670040" cy="720720"/>
          </a:xfrm>
          <a:prstGeom prst="wedgeRoundRectCallout">
            <a:avLst>
              <a:gd name="adj1" fmla="val 62736"/>
              <a:gd name="adj2" fmla="val 3017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ialize removal with connect ev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494160"/>
            <a:ext cx="1428480" cy="517320"/>
          </a:xfrm>
          <a:prstGeom prst="wedgeRoundRectCallout">
            <a:avLst>
              <a:gd name="adj1" fmla="val 72555"/>
              <a:gd name="adj2" fmla="val 2454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fabric pa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e113"/>
                </a:solidFill>
                <a:latin typeface="Arial Black"/>
              </a:rPr>
              <a:t>Infiniband Scalability</a:t>
            </a: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scale-out to thousands of no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icient MPI collectiv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 SA st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hardware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performance 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cast endpo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al memory footpr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e113"/>
                </a:solidFill>
                <a:latin typeface="Arial Black"/>
              </a:rPr>
              <a:t>Path Resolution</a:t>
            </a:r>
            <a:endParaRPr b="0" lang="en-US" sz="4000" spc="-1" strike="noStrike">
              <a:solidFill>
                <a:srgbClr val="fde113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connection setup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 SA flood on app star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 selected ro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view MPI as an ap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ath record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h in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an Hefty</cp:lastModifiedBy>
  <dcterms:modified xsi:type="dcterms:W3CDTF">2006-02-07T07:57:10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