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9EE-5FAE-439F-88A1-9BD236F8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ACF-744B-4483-B3D3-29684470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186-1933-4BF3-96FC-CBB223AB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66A-7478-4044-B06A-96207D54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5104-0A14-40A3-9ADB-F3567A2D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F78F-C27E-42B3-9607-4B2A0DAC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5B61-89EC-4613-B3A5-BA3026B8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2AC5-0595-4F4F-A18A-75C526BE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60DF-061F-4FC4-A528-00F719DB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5947-7EC5-4631-A318-EC5B061F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1284-010B-4706-863E-829625F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B54-13F4-4AC0-970C-EB66163B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A715-1655-422E-B81F-A279BC74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827C-EFF9-465F-8424-DF28FA97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F3BE-0DCD-4B66-90B9-50D00624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5ABD-CEAD-4F61-8051-09278FE8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786B-002B-4392-A7CD-DAB857E8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4D1-D281-4AA6-8B9E-1E308942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3A1-3AAB-4B36-B2DC-4A26A86B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DB7-2D6B-497F-A0A1-8520DE29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41400" y="395280"/>
            <a:ext cx="5484960" cy="37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51D-8FB8-4083-8CE8-5288D2F6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E25-A4CC-4EAB-AC35-BD75FB5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7AA-66EA-41C2-804B-724BDFC5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6749-6BDF-4F07-BF76-A7FC969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infinibandta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infinibandta.org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8520"/>
            <a:ext cx="49528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6 Sonoma Workshop –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37360" y="6244920"/>
            <a:ext cx="154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027502-02FE-48FC-8D46-B9E42EB8F14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(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828800" y="1332000"/>
            <a:ext cx="5484960" cy="7596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InfiniBand(R) Trade Associ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17280" y="932040"/>
            <a:ext cx="37465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C47CAE-F991-407B-A1F8-326CF516FCD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of (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860640"/>
            <a:ext cx="5484960" cy="76320"/>
          </a:xfrm>
          <a:prstGeom prst="rect">
            <a:avLst/>
          </a:prstGeom>
          <a:gradFill rotWithShape="0">
            <a:gsLst>
              <a:gs pos="0">
                <a:srgbClr val="0066ff">
                  <a:alpha val="98039"/>
                </a:srgbClr>
              </a:gs>
              <a:gs pos="100000">
                <a:srgbClr val="000000">
                  <a:alpha val="7215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InfiniBand(R) Trade Associa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3280" y="189000"/>
            <a:ext cx="1190880" cy="1218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284960" y="368280"/>
            <a:ext cx="1625760" cy="86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78200" y="414360"/>
            <a:ext cx="5186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6 Sonoma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2396880"/>
            <a:ext cx="5484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B Management Experienc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828800" y="3174840"/>
            <a:ext cx="548496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’s view of Sandia T-Bird bring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22440" y="4937040"/>
            <a:ext cx="4618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d Wilc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wilcox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isco Tbird Experi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0057-8C60-403B-A321-9DF0077BD59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ringup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e bringup in manageable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introduced idea of “pods” and did bringup on individual 16-node clusters in parall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with main SM host, 1 leaf switch, and added 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added “pods” in groups of 2-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sco Tbird Experi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DA49-5437-4014-9F32-AC87E04987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eps to verify “cleanness”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ew hardware was added, first checked SM to be sure no ports were stuck in INIT, bouncing, or at wrong link wid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ran port counter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for detecting bad links, not good at finding things like flakey HW or temperature depend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sco Tbird Experi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B3E-E6FD-4246-A2CC-B6F76B51D9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mportant detail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get from IB concepts (GUID / switch port #) to user names (rack X chassis Y, port Z)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pent the first few days automating the gathering of information, and looking it up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ools need to agree (SM, standalone t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cy in log output shows up quickly in a big installation.  (“:” separated formats, endianness issues, hex vs. decimal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istent, but updatable information is very important.  (Think DB transactions, instead of either static data or current view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sco Tbird Experi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BD1-A268-4696-BF09-72C75B5718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M Performa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ing issues weren’t where we 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: # outstanding transactions / chip, depth of routing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n’t: # of threads available for discovery or routing, receive queue dep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st CPU and HCA solve a lot of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sco Tbird Experi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3F39-4C1E-4E0B-82E3-DA2DC0323B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saic items to rememb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bringup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enter of the universe; many things are going on at o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issu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mic ray induced DRAM f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problems or inconsistencies.  (Temperature delta between HPL run and idle can be hug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sues will come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rruption can happen inside CP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ough off the shelf hardware can be like herding cats.  MTBF can be lower than the time a large run takes.  This is especially true early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sco Tbird Experi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EA2-54CC-4E26-A671-9476E13F02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lationship and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more than a standard customer/vendor relationship.  We needed help from everyone: our suppliers, our OEM, and the end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ough smart people can solve most problems, but the long-term ones also take a methodical, patient process.  We are certainly not done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sco Tbird Experi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6FD-DE63-4EE0-85E5-58BB12D392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41400" y="395280"/>
            <a:ext cx="54849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jor things to fix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 –f syslog” is bad.  We need to be better at generating useful messages, and giving guidance on what events require mainten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ing port counters is central to debugging, but we shouldn’t require customers to open the IB spec to do a large instal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sco Tbird Experie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4BA-E289-4460-8C91-3B1D7E8852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1T20:13:42Z</dcterms:created>
  <dc:creator>Ted Wilcox</dc:creator>
  <dc:description/>
  <dc:language>en-US</dc:language>
  <cp:lastModifiedBy>Cisco Systems, Inc.</cp:lastModifiedBy>
  <dcterms:modified xsi:type="dcterms:W3CDTF">2006-02-07T18:59:04Z</dcterms:modified>
  <cp:revision>13</cp:revision>
  <dc:subject/>
  <dc:title>PowerPoint Presentation</dc:title>
</cp:coreProperties>
</file>