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comments/comment1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commentAuthors.xml><?xml version="1.0" encoding="utf-8"?>
<p:cmAuthorLst xmlns:p="http://schemas.openxmlformats.org/presentationml/2006/main">
  <p:cmAuthor id="0" name="Fabian Tillier" initials="FT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<Relationship Id="rId23" Type="http://schemas.openxmlformats.org/officeDocument/2006/relationships/commentAuthors" Target="commentAuthors.xml"/>
</Relationships>
</file>

<file path=ppt/comments/comment15.xml><?xml version="1.0" encoding="utf-8"?>
<p:cmLst xmlns:p="http://schemas.openxmlformats.org/presentationml/2006/main">
  <p:cm authorId="0" dt="2006-02-04T09:50:17.720000000" idx="1">
    <p:pos x="10" y="10"/>
    <p:text>Is this bidirectional bandwidth?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8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DAC49-A0B6-4F78-973D-BB989E4A68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cy: Port, Address, Applica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ket switch: TCP calls are directed to original provider (next in provider ch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DP Module: Calls are sent using ioctl system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back and ev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chronous operation (application thread blocks in kern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ynchronous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 threads sleeping in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signaling from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 pool with kernel to user shared buffer (overlap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ion state and lo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ables locking at passive level and updates at DPC/IRQ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PRELIM: Win to/from Lin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3MB/s over a single socket at 120KB message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PU utilization 120% (out of 2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for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tium 4 3.6GHz, single CPU, HT enabled, 1MB cache, 0.5GB 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 XP S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DP enables existing socket based application to transparently utilize the InfiniBand capabilities and achieve superior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t: Socket switch selects TCP or S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ministrable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ket semantics: IPv4 addressing, Uses TCP port space, Connect/Accept model, Common socket options, Out of ban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protocol: InfiniBand Specification 1.2 Annex A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WSD is supported on W2K, but IB is not supported on W2K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IHV module: IB access layer is required any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Ps that we chose for this comparison: verbs, sdp and ipo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PoIB we got up to 400MB/s with some binding to CPU tri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Copy CPU% - in gen1 implementation, with sync calls, we got much lower CPU utilization 40% compared with 370%, especially when more than one process is running i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MPI chose IB Verbs to get best latency, although its more complicated to imp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recommend a 2 phase approach, wher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eployment is SDP and then you write directly to ver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hase approach: 1) with SDP transparently do the installation, etc 2) implement over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FF5A-94BA-4B0E-B20D-5C443AFC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4F5-13EC-4887-836B-BB70C3A9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2D6C-A4CB-48E8-9416-622B16EE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73B6-5422-48A3-B9F1-A45C3A99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709F8-2909-4CBF-9271-C44630CEA2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2CBD0-657B-4515-963A-34E987D0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77688-3626-4826-8EA1-48A8E022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35D9D-2E1A-4C8A-8E30-EC8CD58E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27DB2-595C-4121-9DD4-7D9992AD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F9558-6ACF-4ED9-A7B4-B92C157B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46B85-6526-458D-8A3A-D06846BF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C787-9D86-4885-B85A-3831DB2E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83BDC-CA8A-4C54-9B06-37D13A52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E8A2C-089D-4D22-8D7A-635B9364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F1230-66AD-431C-A299-36BE4E27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676B5-5B23-4EA7-A51C-67922CCC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D665B-CCCD-4832-A365-45F9E9450E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8D35-DF8D-466E-A0FF-4D6EE73B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23F-5A9D-4BA1-B3CB-54E68A32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1275-994A-4437-A299-24A3F053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66F2-E9A1-426D-9105-E3DC2E41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6255-2ED8-4922-9DE7-69FF9B41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3A97-75B5-4653-8EBB-FB56D0A5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435D-B866-42A6-8CA4-CA0F5F7A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40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6 Sonoma Workshop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FCD709E-28F6-4862-9E64-7BD4B912B05B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66ff">
                  <a:alpha val="98039"/>
                </a:srgbClr>
              </a:gs>
              <a:gs pos="100000">
                <a:srgbClr val="000000">
                  <a:alpha val="7215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InfiniBand(R) Trade Association"/>
          <p:cNvPicPr/>
          <p:nvPr/>
        </p:nvPicPr>
        <p:blipFill>
          <a:blip r:embed="rId2"/>
          <a:stretch/>
        </p:blipFill>
        <p:spPr>
          <a:xfrm>
            <a:off x="233280" y="189000"/>
            <a:ext cx="1190880" cy="1218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284960" y="368280"/>
            <a:ext cx="1625760" cy="86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A7B498BB-B436-4EC3-8F7C-738192F9800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3429000"/>
            <a:ext cx="5484600" cy="76320"/>
          </a:xfrm>
          <a:prstGeom prst="rect">
            <a:avLst/>
          </a:prstGeom>
          <a:gradFill rotWithShape="0">
            <a:gsLst>
              <a:gs pos="0">
                <a:srgbClr val="0066ff">
                  <a:alpha val="98039"/>
                </a:srgbClr>
              </a:gs>
              <a:gs pos="100000">
                <a:srgbClr val="000000">
                  <a:alpha val="7215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InfiniBand(R) Trade Association"/>
          <p:cNvPicPr/>
          <p:nvPr/>
        </p:nvPicPr>
        <p:blipFill>
          <a:blip r:embed="rId2"/>
          <a:stretch/>
        </p:blipFill>
        <p:spPr>
          <a:xfrm>
            <a:off x="233280" y="189000"/>
            <a:ext cx="1190880" cy="1218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284960" y="368280"/>
            <a:ext cx="1625760" cy="860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78200" y="414360"/>
            <a:ext cx="5186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6 Sonoma Worksho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655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ockets Direct Protocol (SDP)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for Windows - Motivation and Pla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962520"/>
            <a:ext cx="5484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lad Sh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ellanox Technologies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hainer@mellanox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3D163-75BE-4E67-9399-E11689192FA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DP Socket Provid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-mode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s Socket Provider Interface (S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TCP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SPxxx function for each socket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ket switch implemented in the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based selection of SDP vs TC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P calls are redirected to SDP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kets Direct Protoco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527B-8D0E-42C3-8AF6-D19A67A2FC5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DP Modu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as a high level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P through IPo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 Copy for first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physical memory region for local SDP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kets Direct Protoco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56F0-3CA9-4CD3-9D2E-1353C6B4F35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ernel Implement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user socket is implemented as a struct in the kernel, composed from 3 par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ending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eceiving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ccepting new conne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369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is is a listening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all the parts are being protected by one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ill consider changing that in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kernel all operations are being implemented as Asynchro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operation is blocking, we block at the user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aviest operations are data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might consider moving it from the l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kets Direct Protoco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E22-E8C0-4317-9D2F-02CEBE5006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uffer Copy Implement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KB buffers for send and rece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ta is first copied into the buffers, and only then being 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rocess, a second thread is created for user context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data copy should be done in  interrupt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hread will be waked up – for send and receive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kets Direct Protoco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BF2A-745E-401B-B389-0A23B6BC2B0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urrent Statu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zachi Dar (Mellanox); tzchid@mellanox.co.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 Copy released Oct/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: Socket, Connect, Bind, Listen, Accept, Close, Send/Re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kernel code posted to openib.org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 Copy and API enhancements schedule T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upport overlapped (asynchronous)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upport Zero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kets Direct Protoco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D6E-C0FA-4C68-9E79-4CA5F9962F1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urrent Performan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3733920" cy="33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ockets (2 processes) bandwidth bench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800600" y="1843200"/>
            <a:ext cx="3205080" cy="4282920"/>
            <a:chOff x="4800600" y="1843200"/>
            <a:chExt cx="3205080" cy="4282920"/>
          </a:xfrm>
        </p:grpSpPr>
        <p:sp>
          <p:nvSpPr>
            <p:cNvPr id="204" name=""/>
            <p:cNvSpPr/>
            <p:nvPr/>
          </p:nvSpPr>
          <p:spPr>
            <a:xfrm>
              <a:off x="4808520" y="1851120"/>
              <a:ext cx="3186000" cy="25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08520" y="2100240"/>
              <a:ext cx="3186000" cy="4019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40560" y="1862280"/>
              <a:ext cx="1542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essage size (B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33560" y="1862280"/>
              <a:ext cx="1450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andwidth (MB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65800" y="2103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84920" y="210348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.0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65800" y="23144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84920" y="231444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.1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65800" y="25272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84920" y="25272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.2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65800" y="27385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84920" y="27385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0.6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74000" y="294948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84920" y="294948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.0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74000" y="316080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84920" y="31608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.5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74000" y="337356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84920" y="337356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4.1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84720" y="358452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2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20280" y="35845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84720" y="37958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5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84920" y="379584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5.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84720" y="400680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1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84920" y="400680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7.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92920" y="4218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02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84920" y="42181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61.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92920" y="443088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04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730640" y="443088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92920" y="464184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409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30640" y="46418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3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92920" y="485316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819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730640" y="485316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49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02560" y="5064120"/>
              <a:ext cx="45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638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30640" y="506412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57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902560" y="5276880"/>
              <a:ext cx="45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276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30640" y="527688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97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02560" y="5487840"/>
              <a:ext cx="45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65536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30640" y="54878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98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10760" y="5699160"/>
              <a:ext cx="54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3107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39200" y="569916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24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810760" y="5910120"/>
              <a:ext cx="54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6214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39200" y="5910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120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00600" y="1843200"/>
              <a:ext cx="1440" cy="428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00600" y="1843200"/>
              <a:ext cx="15840" cy="428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38880" y="1859040"/>
              <a:ext cx="1440" cy="426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38880" y="1859040"/>
              <a:ext cx="15840" cy="426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85160" y="1859040"/>
              <a:ext cx="1440" cy="4267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985160" y="1859040"/>
              <a:ext cx="15840" cy="426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16440" y="1843200"/>
              <a:ext cx="318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16440" y="1843200"/>
              <a:ext cx="3184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16440" y="2090880"/>
              <a:ext cx="318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16440" y="2090880"/>
              <a:ext cx="3184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16440" y="2303640"/>
              <a:ext cx="318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16440" y="2303640"/>
              <a:ext cx="3184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16440" y="2514600"/>
              <a:ext cx="318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16440" y="2514600"/>
              <a:ext cx="3184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16440" y="2725560"/>
              <a:ext cx="3184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16440" y="2725560"/>
              <a:ext cx="31845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16440" y="2936880"/>
              <a:ext cx="318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16440" y="2936880"/>
              <a:ext cx="3184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16440" y="3149640"/>
              <a:ext cx="318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16440" y="3149640"/>
              <a:ext cx="3184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16440" y="3360600"/>
              <a:ext cx="3184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16440" y="3360600"/>
              <a:ext cx="3184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16440" y="3571920"/>
              <a:ext cx="318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16440" y="3571920"/>
              <a:ext cx="3184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16440" y="3782880"/>
              <a:ext cx="3184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16440" y="3782880"/>
              <a:ext cx="31845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816440" y="3994200"/>
              <a:ext cx="318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16440" y="3994200"/>
              <a:ext cx="3184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16440" y="4206960"/>
              <a:ext cx="318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16440" y="4206960"/>
              <a:ext cx="3184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16440" y="4417920"/>
              <a:ext cx="3184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16440" y="4417920"/>
              <a:ext cx="3184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16440" y="4629240"/>
              <a:ext cx="318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16440" y="4629240"/>
              <a:ext cx="3184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16440" y="4840200"/>
              <a:ext cx="3184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16440" y="4840200"/>
              <a:ext cx="31845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16440" y="5052960"/>
              <a:ext cx="3184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16440" y="5052960"/>
              <a:ext cx="3184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16440" y="5264280"/>
              <a:ext cx="318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16440" y="5264280"/>
              <a:ext cx="3184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16440" y="5475240"/>
              <a:ext cx="3184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16440" y="5475240"/>
              <a:ext cx="3184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16440" y="5686560"/>
              <a:ext cx="318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16440" y="5686560"/>
              <a:ext cx="3184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16440" y="5897520"/>
              <a:ext cx="3184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16440" y="5897520"/>
              <a:ext cx="3184560" cy="17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16440" y="6110280"/>
              <a:ext cx="3184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4816440" y="6110280"/>
            <a:ext cx="31845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kets Direct Protoco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11D7-1484-4995-90CE-540B815064D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IB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https://openib.org/tiki/tiki-index.php?page=OpenIB+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ib-windows 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http://openib.org/mailman/listinfo/openib-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 up to contrib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http://windows.openib.org/openib/contribute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kets Direct Protoco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4515-8A04-4A25-974A-9D8A9641265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65904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 &amp; 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760920" y="1459080"/>
            <a:ext cx="1622160" cy="39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kets Direct Protoco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B1FF-F54B-4BFD-9F76-50C86270AE9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P Protocol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P vs. W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P Stack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kets Direct Protoco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C6C3-36E1-419A-81A9-45844ACA4E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ey Messag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SDP, any traditional TCP sockets-based applications can benefit from InfiniBand without any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kets Direct Protoco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9ECA-0C43-4CA1-87F5-BF1076D516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P sockets provide much better bandwidth and lower latency than traditional TCP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P sockets provide lower CPU utilization and can benefit from RD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SD sockets are not supported in all Windows oper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P, XP embedded and Vista do not have WS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kets Direct Protoco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B6C8-2B2E-42D0-B961-3EB028983F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ockets Direct Protocol (SDP) Overview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t to th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s SOCK_STREAM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rages InfiniBand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Offload – Reliable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 Copy – Using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ed wire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kets Direct Protoco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6172-6BC7-4C7D-A0D6-F99BCE68BA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DP Stack Overview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308240" y="1531800"/>
            <a:ext cx="5564160" cy="671760"/>
            <a:chOff x="1308240" y="1531800"/>
            <a:chExt cx="5564160" cy="671760"/>
          </a:xfrm>
        </p:grpSpPr>
        <p:grpSp>
          <p:nvGrpSpPr>
            <p:cNvPr id="107" name=""/>
            <p:cNvGrpSpPr/>
            <p:nvPr/>
          </p:nvGrpSpPr>
          <p:grpSpPr>
            <a:xfrm>
              <a:off x="2232000" y="1531800"/>
              <a:ext cx="4640400" cy="528840"/>
              <a:chOff x="2232000" y="1531800"/>
              <a:chExt cx="4640400" cy="528840"/>
            </a:xfrm>
          </p:grpSpPr>
          <p:sp>
            <p:nvSpPr>
              <p:cNvPr id="108" name=""/>
              <p:cNvSpPr/>
              <p:nvPr/>
            </p:nvSpPr>
            <p:spPr>
              <a:xfrm>
                <a:off x="2232000" y="1531800"/>
                <a:ext cx="4640400" cy="42876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007500"/>
                  </a:gs>
                  <a:gs pos="50000">
                    <a:srgbClr val="00ff00"/>
                  </a:gs>
                  <a:gs pos="100000">
                    <a:srgbClr val="0075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nmodified Applic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32000" y="2060640"/>
                <a:ext cx="464040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1308240" y="1927080"/>
              <a:ext cx="101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winsock AP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900600" y="2517840"/>
            <a:ext cx="1366560" cy="2517840"/>
            <a:chOff x="3900600" y="2517840"/>
            <a:chExt cx="1366560" cy="2517840"/>
          </a:xfrm>
        </p:grpSpPr>
        <p:sp>
          <p:nvSpPr>
            <p:cNvPr id="112" name=""/>
            <p:cNvSpPr/>
            <p:nvPr/>
          </p:nvSpPr>
          <p:spPr>
            <a:xfrm>
              <a:off x="3902040" y="3922560"/>
              <a:ext cx="1365120" cy="1113120"/>
            </a:xfrm>
            <a:prstGeom prst="cube">
              <a:avLst>
                <a:gd name="adj" fmla="val 13606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S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0600" y="2517840"/>
              <a:ext cx="1353960" cy="1004760"/>
            </a:xfrm>
            <a:prstGeom prst="cube">
              <a:avLst>
                <a:gd name="adj" fmla="val 13606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SDP WinSock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232000" y="2138400"/>
            <a:ext cx="4640400" cy="682560"/>
            <a:chOff x="2232000" y="2138400"/>
            <a:chExt cx="4640400" cy="682560"/>
          </a:xfrm>
        </p:grpSpPr>
        <p:sp>
          <p:nvSpPr>
            <p:cNvPr id="115" name=""/>
            <p:cNvSpPr/>
            <p:nvPr/>
          </p:nvSpPr>
          <p:spPr>
            <a:xfrm>
              <a:off x="2232000" y="2138400"/>
              <a:ext cx="4640400" cy="22680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172f75"/>
                </a:gs>
                <a:gs pos="50000">
                  <a:srgbClr val="3366ff"/>
                </a:gs>
                <a:gs pos="100000">
                  <a:srgbClr val="17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cket 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06920" y="2441520"/>
              <a:ext cx="1365480" cy="3794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172f75"/>
                </a:gs>
                <a:gs pos="50000">
                  <a:srgbClr val="3366ff"/>
                </a:gs>
                <a:gs pos="100000">
                  <a:srgbClr val="17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S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506920" y="2897280"/>
            <a:ext cx="1366920" cy="771480"/>
            <a:chOff x="5506920" y="2897280"/>
            <a:chExt cx="1366920" cy="771480"/>
          </a:xfrm>
        </p:grpSpPr>
        <p:sp>
          <p:nvSpPr>
            <p:cNvPr id="118" name=""/>
            <p:cNvSpPr/>
            <p:nvPr/>
          </p:nvSpPr>
          <p:spPr>
            <a:xfrm>
              <a:off x="5506920" y="2897280"/>
              <a:ext cx="1365480" cy="304560"/>
            </a:xfrm>
            <a:prstGeom prst="cube">
              <a:avLst>
                <a:gd name="adj" fmla="val 13606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SAN 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06920" y="3276720"/>
              <a:ext cx="1366920" cy="3920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IB Access 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623960" y="2517840"/>
            <a:ext cx="4567320" cy="3187800"/>
            <a:chOff x="1623960" y="2517840"/>
            <a:chExt cx="4567320" cy="3187800"/>
          </a:xfrm>
        </p:grpSpPr>
        <p:sp>
          <p:nvSpPr>
            <p:cNvPr id="121" name=""/>
            <p:cNvSpPr/>
            <p:nvPr/>
          </p:nvSpPr>
          <p:spPr>
            <a:xfrm>
              <a:off x="2232000" y="3922560"/>
              <a:ext cx="1365120" cy="5320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172f75"/>
                </a:gs>
                <a:gs pos="50000">
                  <a:srgbClr val="3366ff"/>
                </a:gs>
                <a:gs pos="100000">
                  <a:srgbClr val="17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CP/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32000" y="4530600"/>
              <a:ext cx="1365120" cy="5050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IPoIB ND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Mini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00280" y="3772080"/>
              <a:ext cx="4491000" cy="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32000" y="5137200"/>
              <a:ext cx="3730680" cy="5684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IB Access 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23960" y="3486240"/>
              <a:ext cx="70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u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8080"/>
                  </a:solidFill>
                  <a:latin typeface="Arial"/>
                </a:rPr>
                <a:t>ker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32000" y="2517840"/>
              <a:ext cx="1365120" cy="1004760"/>
            </a:xfrm>
            <a:prstGeom prst="cube">
              <a:avLst>
                <a:gd name="adj" fmla="val 12208"/>
              </a:avLst>
            </a:prstGeom>
            <a:gradFill rotWithShape="0">
              <a:gsLst>
                <a:gs pos="0">
                  <a:srgbClr val="172f75"/>
                </a:gs>
                <a:gs pos="50000">
                  <a:srgbClr val="3366ff"/>
                </a:gs>
                <a:gs pos="100000">
                  <a:srgbClr val="17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inSock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146640" y="3771720"/>
              <a:ext cx="0" cy="193356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924600" y="4491000"/>
            <a:ext cx="2067120" cy="1593720"/>
            <a:chOff x="6924600" y="4491000"/>
            <a:chExt cx="2067120" cy="1593720"/>
          </a:xfrm>
        </p:grpSpPr>
        <p:sp>
          <p:nvSpPr>
            <p:cNvPr id="129" name=""/>
            <p:cNvSpPr/>
            <p:nvPr/>
          </p:nvSpPr>
          <p:spPr>
            <a:xfrm>
              <a:off x="7077240" y="5629320"/>
              <a:ext cx="411120" cy="3794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172f75"/>
                </a:gs>
                <a:gs pos="50000">
                  <a:srgbClr val="3366ff"/>
                </a:gs>
                <a:gs pos="100000">
                  <a:srgbClr val="172f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54520" y="5665680"/>
              <a:ext cx="150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indows platfo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77240" y="5148360"/>
              <a:ext cx="411120" cy="3794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53440" y="5184720"/>
              <a:ext cx="72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nI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77240" y="4643280"/>
              <a:ext cx="411120" cy="3794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7500"/>
                </a:gs>
                <a:gs pos="5000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53800" y="4680000"/>
              <a:ext cx="101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24600" y="4491000"/>
              <a:ext cx="2067120" cy="1593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kets Direct Protoco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6D69-B862-420C-82D5-D4784B8588C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ata Transfer Mod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65440" y="2062080"/>
            <a:ext cx="0" cy="417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84920" y="1531800"/>
            <a:ext cx="77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39960" y="2062080"/>
            <a:ext cx="0" cy="417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35400" y="1557360"/>
            <a:ext cx="59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S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0760" y="2062080"/>
            <a:ext cx="531720" cy="15908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06560" y="2062080"/>
            <a:ext cx="606240" cy="63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06560" y="2763720"/>
            <a:ext cx="606240" cy="63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06560" y="3478320"/>
            <a:ext cx="606240" cy="63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006560" y="2062080"/>
            <a:ext cx="606240" cy="1746360"/>
            <a:chOff x="1006560" y="2062080"/>
            <a:chExt cx="606240" cy="1746360"/>
          </a:xfrm>
        </p:grpSpPr>
        <p:sp>
          <p:nvSpPr>
            <p:cNvPr id="146" name=""/>
            <p:cNvSpPr/>
            <p:nvPr/>
          </p:nvSpPr>
          <p:spPr>
            <a:xfrm>
              <a:off x="1006560" y="2062080"/>
              <a:ext cx="606240" cy="6318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D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u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06560" y="2763720"/>
              <a:ext cx="606240" cy="6318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D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u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06560" y="3478320"/>
              <a:ext cx="606240" cy="3301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D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765440" y="3125880"/>
            <a:ext cx="1847160" cy="455400"/>
            <a:chOff x="1765440" y="3125880"/>
            <a:chExt cx="1847160" cy="455400"/>
          </a:xfrm>
        </p:grpSpPr>
        <p:sp>
          <p:nvSpPr>
            <p:cNvPr id="150" name=""/>
            <p:cNvSpPr/>
            <p:nvPr/>
          </p:nvSpPr>
          <p:spPr>
            <a:xfrm>
              <a:off x="1765440" y="3195720"/>
              <a:ext cx="184464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5600" y="3125880"/>
              <a:ext cx="155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DP Data Mess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49800" y="3348000"/>
              <a:ext cx="379440" cy="233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765440" y="3652920"/>
            <a:ext cx="1844640" cy="457200"/>
            <a:chOff x="1765440" y="3652920"/>
            <a:chExt cx="1844640" cy="457200"/>
          </a:xfrm>
        </p:grpSpPr>
        <p:sp>
          <p:nvSpPr>
            <p:cNvPr id="154" name=""/>
            <p:cNvSpPr/>
            <p:nvPr/>
          </p:nvSpPr>
          <p:spPr>
            <a:xfrm>
              <a:off x="1765440" y="3652920"/>
              <a:ext cx="1844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49800" y="3808440"/>
              <a:ext cx="379440" cy="233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765440" y="4138560"/>
            <a:ext cx="1844640" cy="428760"/>
            <a:chOff x="1765440" y="4138560"/>
            <a:chExt cx="1844640" cy="428760"/>
          </a:xfrm>
        </p:grpSpPr>
        <p:sp>
          <p:nvSpPr>
            <p:cNvPr id="157" name=""/>
            <p:cNvSpPr/>
            <p:nvPr/>
          </p:nvSpPr>
          <p:spPr>
            <a:xfrm>
              <a:off x="1765440" y="4138560"/>
              <a:ext cx="184464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49800" y="4307040"/>
              <a:ext cx="379440" cy="824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736800" y="3586320"/>
            <a:ext cx="606600" cy="63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6800" y="4287960"/>
            <a:ext cx="606600" cy="63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36800" y="5002200"/>
            <a:ext cx="606600" cy="63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36800" y="3586320"/>
            <a:ext cx="606600" cy="631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6800" y="4287960"/>
            <a:ext cx="606600" cy="631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36800" y="5002200"/>
            <a:ext cx="606600" cy="330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4646520"/>
            <a:ext cx="531720" cy="159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4646520"/>
            <a:ext cx="531720" cy="15908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65720" y="2112840"/>
            <a:ext cx="30240" cy="4124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85560" y="1557360"/>
            <a:ext cx="77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40600" y="2112840"/>
            <a:ext cx="0" cy="4124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35680" y="1557360"/>
            <a:ext cx="59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S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07200" y="2062080"/>
            <a:ext cx="531720" cy="15908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165720" y="3049560"/>
            <a:ext cx="1844640" cy="531720"/>
            <a:chOff x="6165720" y="3049560"/>
            <a:chExt cx="1844640" cy="531720"/>
          </a:xfrm>
        </p:grpSpPr>
        <p:sp>
          <p:nvSpPr>
            <p:cNvPr id="173" name=""/>
            <p:cNvSpPr/>
            <p:nvPr/>
          </p:nvSpPr>
          <p:spPr>
            <a:xfrm>
              <a:off x="6165720" y="3195720"/>
              <a:ext cx="184464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55160" y="3049560"/>
              <a:ext cx="148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rcAvail Mess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8213760" y="3732120"/>
            <a:ext cx="531720" cy="159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13760" y="3732120"/>
            <a:ext cx="531720" cy="15908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195960" y="5249880"/>
            <a:ext cx="1844640" cy="596880"/>
            <a:chOff x="6195960" y="5249880"/>
            <a:chExt cx="1844640" cy="596880"/>
          </a:xfrm>
        </p:grpSpPr>
        <p:sp>
          <p:nvSpPr>
            <p:cNvPr id="178" name=""/>
            <p:cNvSpPr/>
            <p:nvPr/>
          </p:nvSpPr>
          <p:spPr>
            <a:xfrm flipH="1">
              <a:off x="6195960" y="5460840"/>
              <a:ext cx="184464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18000" y="5249880"/>
              <a:ext cx="162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dmaRdCompl Ms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146320" y="149400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B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68920" y="1557360"/>
            <a:ext cx="10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Z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229440" y="3808440"/>
            <a:ext cx="1757160" cy="1441440"/>
            <a:chOff x="6229440" y="3808440"/>
            <a:chExt cx="1757160" cy="1441440"/>
          </a:xfrm>
        </p:grpSpPr>
        <p:sp>
          <p:nvSpPr>
            <p:cNvPr id="183" name=""/>
            <p:cNvSpPr/>
            <p:nvPr/>
          </p:nvSpPr>
          <p:spPr>
            <a:xfrm>
              <a:off x="6553800" y="3857760"/>
              <a:ext cx="105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DMA Re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87920" y="4440240"/>
              <a:ext cx="13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d Respon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4738680"/>
              <a:ext cx="379440" cy="511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29440" y="3808440"/>
              <a:ext cx="1757160" cy="911160"/>
            </a:xfrm>
            <a:custGeom>
              <a:avLst/>
              <a:gdLst/>
              <a:ahLst/>
              <a:rect l="l" t="t" r="r" b="b"/>
              <a:pathLst>
                <a:path w="1107" h="574">
                  <a:moveTo>
                    <a:pt x="1107" y="0"/>
                  </a:moveTo>
                  <a:cubicBezTo>
                    <a:pt x="561" y="47"/>
                    <a:pt x="16" y="95"/>
                    <a:pt x="8" y="191"/>
                  </a:cubicBezTo>
                  <a:cubicBezTo>
                    <a:pt x="0" y="287"/>
                    <a:pt x="885" y="510"/>
                    <a:pt x="1060" y="57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kets Direct Protoco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251C-1C70-4218-B721-7350119DA88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37800" y="447480"/>
            <a:ext cx="48610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DP vs. WS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80880" y="1600200"/>
          <a:ext cx="8077320" cy="4611600"/>
        </p:xfrm>
        <a:graphic>
          <a:graphicData uri="http://schemas.openxmlformats.org/drawingml/2006/table">
            <a:tbl>
              <a:tblPr/>
              <a:tblGrid>
                <a:gridCol w="1843200"/>
                <a:gridCol w="3116160"/>
                <a:gridCol w="3117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kets Direct Protocol (SD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Sockets Direct (WS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sock 2.x, POSIX/BSD like A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Q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/ Winsock Dir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e Protocol Spec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spec 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Propriet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 XP, WS 2K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 2K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oper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, Linux and any OS that conforms to IB spec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Server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-sou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col - Windows propriet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Provider - open-sour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V 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ket Provider Libr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P kernel 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Provider Libr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ly kernel (similar to Linu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ly u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kets Direct Protoco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4499-1FFF-49C5-ADDB-E7B7515EDAB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LP Comparis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44360" y="1455840"/>
          <a:ext cx="8877240" cy="4605120"/>
        </p:xfrm>
        <a:graphic>
          <a:graphicData uri="http://schemas.openxmlformats.org/drawingml/2006/table">
            <a:tbl>
              <a:tblPr/>
              <a:tblGrid>
                <a:gridCol w="1666800"/>
                <a:gridCol w="2403720"/>
                <a:gridCol w="2403360"/>
                <a:gridCol w="24033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 Verb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P/WS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oI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ket (TCP onl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ke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U Uti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st (if not pollin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opy  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Copy  l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el byp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P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8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D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k Over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Regist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icitly by application/ middle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uristics by SD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Adap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ing/ Development Requi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s Unmodified Ap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ckets Direct Protoco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865C-D3F0-4F7B-9210-12AD8C58D75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18:21:09Z</dcterms:created>
  <dc:creator>Dror Goldenberg</dc:creator>
  <dc:description/>
  <dc:language>en-US</dc:language>
  <cp:lastModifiedBy>shainer</cp:lastModifiedBy>
  <dcterms:modified xsi:type="dcterms:W3CDTF">2006-02-06T16:15:18Z</dcterms:modified>
  <cp:revision>115</cp:revision>
  <dc:subject/>
  <dc:title>SDP Windows Trac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28289285</vt:r8>
  </property>
  <property fmtid="{D5CDD505-2E9C-101B-9397-08002B2CF9AE}" pid="3" name="_AuthorEmailDisplayName">
    <vt:lpwstr>Tillier, Fabian</vt:lpwstr>
  </property>
  <property fmtid="{D5CDD505-2E9C-101B-9397-08002B2CF9AE}" pid="4" name="_EmailSubject">
    <vt:lpwstr>OpenIB windows presentations</vt:lpwstr>
  </property>
  <property fmtid="{D5CDD505-2E9C-101B-9397-08002B2CF9AE}" pid="5" name="_NewReviewCycle">
    <vt:lpwstr/>
  </property>
</Properties>
</file>