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1BED-1C90-4B79-9D6C-89ACE767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A8D-2F53-41BC-B50C-154C867E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FBE-8102-4062-A357-75652959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B7E-1C5D-401C-94E0-ADC406E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937A-FB85-4268-8601-A10D205B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FD48-BAB0-4445-AD64-79DBD7F3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41A5-2317-42E6-AD4B-BE3B22BD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2360-9C32-478B-AF26-58316177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AFF0-7C00-4FA4-8278-E21393A6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46DA-90B9-43C4-943A-5A641CF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6274-8827-4B04-8980-351B1D3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373-929E-4514-AB31-18FE1D29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DFAA-8E19-4DC0-B326-81EB9B4D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1C8A-BDD2-4018-A0EA-F4982293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C9D1-23F0-45C0-9DE7-BC37AB9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0E49-5552-46B9-B845-7DC26D11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5A45-6705-42CC-9FF3-3659CCB64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305-C369-497D-8A43-3B3B7625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12A-3DB6-4F74-85D9-8BB2A77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DA1-EB2D-46BC-B542-93E5F33C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AE5-0729-4E96-B588-E73F5E5C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6FF-33E0-49BE-8610-3BBCDF3F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446-6544-4F88-8D59-1955DB7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54B-CD29-4553-81C1-AA04D0A9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53E-0133-4BCC-AAC8-CEB27FF894FD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3726-FE34-4B9A-90A7-B02CA4C78B3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95F3-596A-41E5-9888-0F0BB9BE98D3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FFC5-4D0F-403E-8EE3-1AF9864D9F7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ichard.Frank@oracle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liable Datagram IP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Richard.Frank@oracle.com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, Zach.Brown@oracle.com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E127-7609-48AB-A182-C78B1CF2FF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7D7078A-0C66-4BD1-8CD7-064B2398CF8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liable Datagram IPC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5142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P – Oracle adds reliable delivery via user mode wire protocol engi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sockets per process, thousands of msgs on w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ow sends times (windowing,acks,retra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ds together but degenerates under CPU lo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 tested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CB9-B303-49CB-ACE2-F102FB1C5F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234D8-A103-4B5F-A07A-78B466E6B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vailable Op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5142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DAPL / itAPI – not sup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POIB – high CPU overhead, same unreliable delivery (UD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DP – connection orien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take our existing well tested UDP module, shutoff most of it to run over an O/S provided RD IP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6256-4C88-4714-ACBD-892C74C539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C671D-E4F3-4025-91F9-5432483B11C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mmend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5905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D – Reliable Datagram IPC over I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0% less CPU than IPOIB,  U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½ Latency of UDP (no user-mode ack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thin 5% of uDAPL thru-put using Orac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al code change – reduced our UDP module by 70% - removed windowing, acks, retransmission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DS driver ~ = 1k C lines (b-copy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oupled from user-mode CPU loa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ses all Oracle regression tests in &lt; 2 wks !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pports fail-over across and within HC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8EB-E139-4BEA-B267-41C7949EA8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0D0A0-1442-4536-B512-FCC14C938BC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DS IPC over I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s IB reliable connection (R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de to Node level conn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r mode sockets share small pool of node to node RC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ed either dynamically at send or at system start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D04-A165-4A5B-B69F-D4FEE0DAD1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1923F-0AB4-4685-889D-8C93EF0832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93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acle Block Service R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2057400"/>
          <a:ext cx="6477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057400"/>
                    <a:ext cx="6477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C4F-F0C0-4835-834E-D5271AC251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9D221-C7C5-4746-BD3D-01AA22D127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ice Response 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95280" y="1981080"/>
          <a:ext cx="617220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1722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0C7-A10D-46BD-BAB2-FDA62B16A4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38776-BCAA-4DDC-B3F2-6B8ED933D0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9907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pu Cost Per Block Serv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1828800"/>
          <a:ext cx="662940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662940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BB6-8A6E-4A39-92EA-78CA5DE66D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2D42-5E1A-48B6-B917-49FEBFD94B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2560" y="606600"/>
          <a:ext cx="7877160" cy="56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606600"/>
                    <a:ext cx="78771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DF9-8D63-4308-8C90-D269CAB5F52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4E651-9183-49A2-B90E-86492D27C2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DS IP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ed in 3 ph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-cop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ro Co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-copy Directed Sends / Recvs (ES-API addi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9D6-B696-482E-BFC5-EC4E17B0084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AE3B1-630F-4E54-A7D6-01866FE38D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-Cop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ds are copied and completed immediat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s are not guaranteed to have made it to remote ap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Send fails async to submission – application must detect loss of se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n only fail if no path to destination (remote port / process is gone or path has failed – no alternate p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08E-96E0-424E-8DF2-717F71F34FF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C2457-2204-4431-A026-7B601036BD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on Stat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w overhead, low latency, high bandwidth, ultra reliable, supportable, IPC protocol and transport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matches Oracles existing IPC models for RAC commun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imized for Xfers from 200 bytes to 8m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D6B-FA4B-40B2-AA50-01F7E9053B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0EA68-E854-477C-935B-DC2F61803A6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-Copy Send/Rec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vs are buffered in kernel / queued to remote sock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total buffers queued to remote socket exceeds threshold – then sending socket is back pressured (ewouldblock) when sending to blocked remote sock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652-49E5-4AD4-B578-C1FFC658A1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80299-CDDE-4621-B762-ABE1B91D1E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-Copy Send/Rec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registration of buffer &gt;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lication is not required to do explicit regist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racle IPC buffers are in shared memory and private hea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actical to pre-regis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/S must manage any caching of regist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779-F674-436C-A039-0B2CC0CC5F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FB0E8-44D3-4855-B3E6-E6B5D98597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rected Sends / Recv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DDP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for target buffer returned from RDS interface (get memory hand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is sent by application to remote s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te side initiates directed send passing in key of remote target 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s RDMA write to move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-API additions – working on defi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801-6D71-41CA-84FD-D3268A4451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3092C-1C20-4F93-8E46-DE14F81E91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Steps 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S bcopy supported in Oracle 10.2.0.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S from SilverStorm ported to OpenIB Gen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ing to test OpenIB + RDS at Ora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D06-CF48-4308-BE4F-E1E90D1BF43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67C79-2311-4525-9A1B-CA7DE88FCD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on zcopy / directed send (ddp) specification now (ES-AP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 IPC Docs from Ora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hard.Frank@oracle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DS/e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ch.Brown@oracle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D76-1913-4292-8FE7-8997C40236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B4301-3296-4A53-80DC-1D0F83647F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al and Objectiv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for a reliable datagram IPC in Open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Socket A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mal code change / testing for Ora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ilover inter HCA and intra HCA 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s over IB, Ether, iWARP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month validation / certification for RA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182-1604-4629-916E-8001FF5511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17E5C-9DAA-4CD5-B12E-9EAEF61952E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day’s Situ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 streams used for connections to database by external clients, app server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able Data grams used for internal database IPC (RA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ousands of proce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0k+ associations (not connectio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4 no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63A-3FCB-4316-A288-5C88548412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5EDA1-9D29-4660-B5F1-4544D31C384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allel Qu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QL decomposed into execution plan / t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 of producer / consumer pipelined st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d on data accessed (#rows,physical organization,logical operations (hash,inde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execution stage has producer / consumer slave groups (source,syn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group can be many slaves – 3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025-9386-4081-A314-90A4F1A232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4449F-EB6F-484B-9CFC-6E4A232427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11430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allel Que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6934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tion tree / plan is not aware of slave locality – comm. could be local via shared memory or remote via IP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: N, 1 : N, N : 1 comm. between groups (16 source, 16 sync, 16 nodes = ~ 65k associations for n:n com) 1 qu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change group organization / comm model at each stage of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4k msg size capable – typical today 16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DEA-C1E9-4E57-9ACF-68143F9467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4B934-ADAC-4B2F-A39B-201D0A1CF7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acle Buffer Cac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4382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ibuted Cac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/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ent sends request for 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ver Sends back buffer (DD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node has pool of serv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y client can ask any serv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FD8-9204-4461-8490-1342F907B4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29727-C99B-4072-B384-873B0C161E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acle Buffer Cac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ffer size is 8k by default but can be 2k, up to 32k in s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s per server are n-1 * 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 = clients per node, n = No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-1*800 = 12k per server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 servers per node = 96k associ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9D1-48AF-4021-9227-BF367DA8F5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CB458-E233-4AD0-8C46-7878647301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acle IPC Us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database functionality will significantly increase IPC ut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aches database I/O r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large msgs -&gt; 8meg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acle Corporation @ OpenIB 8/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4D1B-B517-49C3-9469-DB6FF2FB85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C20F4-898E-4F6E-AE8A-56CEDB7E6B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Richard Frank</cp:lastModifiedBy>
  <dcterms:modified xsi:type="dcterms:W3CDTF">2006-02-13T19:50:34Z</dcterms:modified>
  <cp:revision>17</cp:revision>
  <dc:subject/>
  <dc:title>PowerPoint Presentation</dc:title>
</cp:coreProperties>
</file>