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B1E-0C04-47E4-82A2-764C927B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ED69-6198-48B1-B169-D2A42441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125-CC4E-4304-AC24-1C501F90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C29-6DA5-4D62-B835-20DFDD90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346-00AB-41C1-A38F-10DA802E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344-AC56-4B57-8C1B-220F1D60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DE2-C8EA-4AD2-A9C3-BA17555B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384-17C9-4BE8-9EE6-DCB58D46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092-772E-4F02-A6F8-EA442C1B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C2D-585B-4251-A29B-A28B8E14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C55-7F11-42A5-BAF2-90005B33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084-8E43-4CEE-8431-B68FEED2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407A-BA59-4E1A-87E0-C6EDEAE721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ange Exten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noma’06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ORC%20logo" descr=""/>
          <p:cNvPicPr/>
          <p:nvPr/>
        </p:nvPicPr>
        <p:blipFill>
          <a:blip r:embed="rId1"/>
          <a:stretch/>
        </p:blipFill>
        <p:spPr>
          <a:xfrm>
            <a:off x="4724280" y="4921200"/>
            <a:ext cx="1371600" cy="696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35812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vid Southwell, Jason Gunthorpe – Obsi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den Mercer – Naval Research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ll Boas – OpenIB/ SC|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openib" descr=""/>
          <p:cNvPicPr/>
          <p:nvPr/>
        </p:nvPicPr>
        <p:blipFill>
          <a:blip r:embed="rId2"/>
          <a:stretch/>
        </p:blipFill>
        <p:spPr>
          <a:xfrm>
            <a:off x="2895480" y="4952880"/>
            <a:ext cx="146376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. Router suppo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r function routes on IPv6 headers, with LID path and caching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bnet manager must be configured with a routing table; applications must be looking up with IPv6 GIDs, not LID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9BAB-E346-4075-8241-97B90A4A19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4. Heterogenous fabric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 haul merges vendor – homogeneous sites into possibly heterogeneous multi-site subn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t that interoperability testing supports such configuration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543-27A1-49BE-9A7E-BAE5F2E2BF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valuation Opportunities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data center re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ve IB supercomputer GRID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IB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/ Metro area IB 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visualizatio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ing media 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59F-AFE2-46E2-A9D2-35F4E1FBD2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apsulating IB over WANs – concept established at Naval Research Labs, D.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ed into prototypes shown at SC|04 by team now known as Obsid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with SCinet/OpenIB fabric at SC|05, connecting Seattle to Dupont, Livermore and Washington D.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E3EA-C2CC-46CE-A3FB-3DAB97388D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ngbow prototyp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ears on IB fabric as a two-port swi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x SDR CX-4 copper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-192c SONET optical WAN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352680" y="4267080"/>
          <a:ext cx="23623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267080"/>
                    <a:ext cx="23623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 flipH="1">
            <a:off x="5866920" y="457200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983-E919-424C-83E0-2BF97F96E8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ngbow WAN po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 is not IB conformant, but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the link layer has all the required IB attributes with sufficient credits to span very long distances (&gt; circumference of Ear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operates with subnet managers; remote fabric islands unify into a single large sub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7D4-80DD-40FE-8BEC-DD2816446B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duction – Longbow X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s IB router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ntative support for ATM+10GbE W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XR" descr=""/>
          <p:cNvPicPr/>
          <p:nvPr/>
        </p:nvPicPr>
        <p:blipFill>
          <a:blip r:embed="rId1"/>
          <a:stretch/>
        </p:blipFill>
        <p:spPr>
          <a:xfrm>
            <a:off x="2057400" y="4343400"/>
            <a:ext cx="517536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465-912B-4E36-B7A6-D784DBC597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cal issues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per Level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ue Pair timeo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er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fab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CFC-3593-450A-8316-682D483D21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. Upper Level Protoco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Ps are built around an assumption of inexpensive round-trip sign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LPs with RDMA reads tend to use three phase exchang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5 milliseconds across the cou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DD81-15E6-4474-9CBE-83FB16C97D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. Upper Level Protoco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 Rely on custom &amp; proprietary ULPs for long haul application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 Develop new ULPs for efficient long haul IB transpor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1C2-B9F3-4078-8B02-53F1438FE2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. Queue Pair timeou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 haul links must be accommodated by Queue Pair timeout sett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nt on manual timeout fudging unless the 1.2 specification’s SM link latency measurement and automatic timeout adjustment mechanism is widely deployed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noma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810E-FCB1-4125-8FFC-1D43233181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 6th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6:16:58Z</dcterms:created>
  <dc:creator>David Southwell</dc:creator>
  <dc:description/>
  <dc:language>en-US</dc:language>
  <cp:lastModifiedBy>David Southwell</cp:lastModifiedBy>
  <dcterms:modified xsi:type="dcterms:W3CDTF">2006-02-07T00:09:13Z</dcterms:modified>
  <cp:revision>9</cp:revision>
  <dc:subject/>
  <dc:title>Range Extension Sonoma’06</dc:title>
</cp:coreProperties>
</file>