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0D12-34FE-4278-91C2-4CA5C896F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64CE-ADC5-4401-8D18-F7218391A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6B2D-F8FE-445F-9B03-46562988D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4FA6-674C-4B1F-8F3D-ED9440ACF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2E2C-9388-47D6-94DB-4722553CC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C2E4-D4D8-4BB4-9370-1914D7801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25E3-E852-472A-9F59-8ECA50CEB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3726-EF1C-4F7A-A76A-0C8B52BB3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FCFC-761D-4D6B-B99E-8A0C89932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426A-5F08-4FC5-A300-C5E89BA05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A911-DB41-40ED-8A37-DA021B57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81B4-91DC-410D-B87A-39F67779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3797-3131-4564-A643-5E72D59B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45E7-B9EE-4A32-9E20-E873372B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39C3A-A0DC-4F7E-BFAD-3258579418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70A0D-ABDC-41E4-A7A2-39E0EDB7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FF467-157E-4C87-97A9-29407A1E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57F5B-5D70-43A8-9F50-AFC33EBE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B12D7-F046-41B6-A8EA-584912F5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33979-1EBB-43ED-A808-89530C68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CDA50-7242-46D9-8750-25314428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4671-2165-410F-AB81-5F14DA2C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D34DE-4FBC-41F5-AF43-5BCBAE4C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93F60-233E-4349-B1BF-3321BDD0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E9A42-D1EF-4F5F-9450-FE2BE225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F358B-DA3C-4120-8A58-CF697ADD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C0ED8-DBA3-41B3-9479-4D810174CA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FEF3-1571-44CD-BCC9-0661F86C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E865-982B-4011-9C71-148EB10A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84C1-6DD5-4D61-9E8A-37965FDA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0AA0-09DC-433A-985A-43297251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DB60-3FF8-4EB6-9E09-E54D990A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CD7D-DEB3-4EDF-AE89-18FFCBCA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0044-0FBE-4C66-978A-08548828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400" y="62449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6 Sonoma Workshop 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CC3BA3E-C0CE-49A8-9A10-D450856A6A7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66ff">
                  <a:alpha val="98039"/>
                </a:srgbClr>
              </a:gs>
              <a:gs pos="100000">
                <a:srgbClr val="000000">
                  <a:alpha val="7215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InfiniBand(R) Trade Association"/>
          <p:cNvPicPr/>
          <p:nvPr/>
        </p:nvPicPr>
        <p:blipFill>
          <a:blip r:embed="rId2"/>
          <a:stretch/>
        </p:blipFill>
        <p:spPr>
          <a:xfrm>
            <a:off x="233280" y="189000"/>
            <a:ext cx="1190880" cy="1218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284960" y="368280"/>
            <a:ext cx="1625760" cy="86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7A5E309-0373-4B19-A617-9981587EE3D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3429000"/>
            <a:ext cx="5484600" cy="76320"/>
          </a:xfrm>
          <a:prstGeom prst="rect">
            <a:avLst/>
          </a:prstGeom>
          <a:gradFill rotWithShape="0">
            <a:gsLst>
              <a:gs pos="0">
                <a:srgbClr val="0066ff">
                  <a:alpha val="98039"/>
                </a:srgbClr>
              </a:gs>
              <a:gs pos="100000">
                <a:srgbClr val="000000">
                  <a:alpha val="7215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InfiniBand(R) Trade Association"/>
          <p:cNvPicPr/>
          <p:nvPr/>
        </p:nvPicPr>
        <p:blipFill>
          <a:blip r:embed="rId2"/>
          <a:stretch/>
        </p:blipFill>
        <p:spPr>
          <a:xfrm>
            <a:off x="233280" y="189000"/>
            <a:ext cx="1190880" cy="1218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284960" y="368280"/>
            <a:ext cx="1625760" cy="860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78200" y="414360"/>
            <a:ext cx="5186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6 Sonoma Worksho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MemFree Technology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04760" y="4038480"/>
            <a:ext cx="5484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lad Sh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Mellanox Technologies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hainer@mellanox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00A6A-BE78-4ADF-92CA-BBF701D4826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roducing ICM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63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M – InfiniHost Contex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t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iguous space for HCA context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M limitation of HCA capabilities is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s allocation of objects at run-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86720" y="2836800"/>
            <a:ext cx="498240" cy="3071880"/>
          </a:xfrm>
          <a:prstGeom prst="rect">
            <a:avLst/>
          </a:prstGeom>
          <a:solidFill>
            <a:srgbClr val="80808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8342280" y="1285920"/>
            <a:ext cx="496800" cy="4886280"/>
            <a:chOff x="8342280" y="1285920"/>
            <a:chExt cx="496800" cy="4886280"/>
          </a:xfrm>
        </p:grpSpPr>
        <p:sp>
          <p:nvSpPr>
            <p:cNvPr id="344" name=""/>
            <p:cNvSpPr/>
            <p:nvPr/>
          </p:nvSpPr>
          <p:spPr>
            <a:xfrm>
              <a:off x="8342280" y="1285920"/>
              <a:ext cx="496800" cy="48862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42280" y="1285920"/>
              <a:ext cx="49680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42280" y="1417680"/>
              <a:ext cx="49680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342280" y="1549800"/>
              <a:ext cx="496800" cy="1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342280" y="1681920"/>
              <a:ext cx="49680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42280" y="1814040"/>
              <a:ext cx="49680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342280" y="1945800"/>
              <a:ext cx="496800" cy="1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42280" y="2078280"/>
              <a:ext cx="49680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42280" y="2210040"/>
              <a:ext cx="49680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42280" y="2342160"/>
              <a:ext cx="496800" cy="1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42280" y="2606400"/>
              <a:ext cx="49680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42280" y="2738160"/>
              <a:ext cx="496800" cy="1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342280" y="2870640"/>
              <a:ext cx="49680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342280" y="3002400"/>
              <a:ext cx="49680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2280" y="3663000"/>
              <a:ext cx="49680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42280" y="3794760"/>
              <a:ext cx="49680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342280" y="3926880"/>
              <a:ext cx="496800" cy="1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342280" y="4322880"/>
              <a:ext cx="496800" cy="1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342280" y="4587120"/>
              <a:ext cx="49680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42280" y="4851360"/>
              <a:ext cx="49680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342280" y="4983480"/>
              <a:ext cx="49680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42280" y="5115600"/>
              <a:ext cx="496800" cy="1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342280" y="5247720"/>
              <a:ext cx="49680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42280" y="5379840"/>
              <a:ext cx="49680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42280" y="5511600"/>
              <a:ext cx="496800" cy="1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342280" y="5644080"/>
              <a:ext cx="49680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342280" y="5907960"/>
              <a:ext cx="496800" cy="1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42280" y="6040080"/>
              <a:ext cx="49680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342280" y="3266640"/>
              <a:ext cx="49680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42280" y="2606400"/>
              <a:ext cx="49680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42280" y="2738160"/>
              <a:ext cx="496800" cy="1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342280" y="3266640"/>
              <a:ext cx="49680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342280" y="5775840"/>
              <a:ext cx="49680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42280" y="4719240"/>
              <a:ext cx="496800" cy="1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342280" y="4455360"/>
              <a:ext cx="49680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342280" y="4191120"/>
              <a:ext cx="49680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42280" y="4059000"/>
              <a:ext cx="49680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342280" y="3530520"/>
              <a:ext cx="496800" cy="1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342280" y="3398760"/>
              <a:ext cx="49680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42280" y="3134520"/>
              <a:ext cx="496800" cy="1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342280" y="2474280"/>
              <a:ext cx="496800" cy="13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6746760" y="251316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94640" y="5614920"/>
            <a:ext cx="498240" cy="320760"/>
          </a:xfrm>
          <a:prstGeom prst="rect">
            <a:avLst/>
          </a:prstGeom>
          <a:gradFill rotWithShape="0">
            <a:gsLst>
              <a:gs pos="0">
                <a:srgbClr val="33cc33">
                  <a:alpha val="50196"/>
                </a:srgbClr>
              </a:gs>
              <a:gs pos="50000">
                <a:srgbClr val="ffffff"/>
              </a:gs>
              <a:gs pos="100000">
                <a:srgbClr val="33cc33">
                  <a:alpha val="5019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94640" y="2832120"/>
            <a:ext cx="498240" cy="676080"/>
          </a:xfrm>
          <a:prstGeom prst="rect">
            <a:avLst/>
          </a:prstGeom>
          <a:gradFill rotWithShape="0">
            <a:gsLst>
              <a:gs pos="0">
                <a:srgbClr val="ff0000">
                  <a:alpha val="65098"/>
                </a:srgbClr>
              </a:gs>
              <a:gs pos="50000">
                <a:srgbClr val="ffffff"/>
              </a:gs>
              <a:gs pos="100000">
                <a:srgbClr val="ff0000">
                  <a:alpha val="65098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94640" y="3505320"/>
            <a:ext cx="498240" cy="44928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50000">
                <a:srgbClr val="ffffff"/>
              </a:gs>
              <a:gs pos="100000">
                <a:srgbClr val="ffff00">
                  <a:alpha val="5019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94640" y="4351320"/>
            <a:ext cx="498240" cy="698400"/>
          </a:xfrm>
          <a:prstGeom prst="rect">
            <a:avLst/>
          </a:prstGeom>
          <a:gradFill rotWithShape="0">
            <a:gsLst>
              <a:gs pos="0">
                <a:srgbClr val="000099">
                  <a:alpha val="50196"/>
                </a:srgbClr>
              </a:gs>
              <a:gs pos="50000">
                <a:srgbClr val="ffffff"/>
              </a:gs>
              <a:gs pos="100000">
                <a:srgbClr val="000099">
                  <a:alpha val="5019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5400000">
            <a:off x="6791760" y="49377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94640" y="2832120"/>
            <a:ext cx="498240" cy="3108240"/>
          </a:xfrm>
          <a:prstGeom prst="rect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19880" y="3954600"/>
            <a:ext cx="311040" cy="66024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6200000">
            <a:off x="6010560" y="40953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8342280" y="3398760"/>
            <a:ext cx="496800" cy="792000"/>
            <a:chOff x="8342280" y="3398760"/>
            <a:chExt cx="496800" cy="792000"/>
          </a:xfrm>
        </p:grpSpPr>
        <p:sp>
          <p:nvSpPr>
            <p:cNvPr id="395" name=""/>
            <p:cNvSpPr/>
            <p:nvPr/>
          </p:nvSpPr>
          <p:spPr>
            <a:xfrm>
              <a:off x="8342280" y="3398760"/>
              <a:ext cx="496800" cy="1317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342280" y="4059000"/>
              <a:ext cx="496800" cy="1317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8342280" y="4587840"/>
            <a:ext cx="496800" cy="394920"/>
            <a:chOff x="8342280" y="4587840"/>
            <a:chExt cx="496800" cy="394920"/>
          </a:xfrm>
        </p:grpSpPr>
        <p:sp>
          <p:nvSpPr>
            <p:cNvPr id="398" name=""/>
            <p:cNvSpPr/>
            <p:nvPr/>
          </p:nvSpPr>
          <p:spPr>
            <a:xfrm>
              <a:off x="8342280" y="4587840"/>
              <a:ext cx="496800" cy="1314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ffff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42280" y="4851000"/>
              <a:ext cx="496800" cy="1317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ffff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8342280" y="3530520"/>
            <a:ext cx="496800" cy="2377800"/>
            <a:chOff x="8342280" y="3530520"/>
            <a:chExt cx="496800" cy="2377800"/>
          </a:xfrm>
        </p:grpSpPr>
        <p:sp>
          <p:nvSpPr>
            <p:cNvPr id="401" name=""/>
            <p:cNvSpPr/>
            <p:nvPr/>
          </p:nvSpPr>
          <p:spPr>
            <a:xfrm>
              <a:off x="8342280" y="3530520"/>
              <a:ext cx="496800" cy="132120"/>
            </a:xfrm>
            <a:prstGeom prst="rect">
              <a:avLst/>
            </a:prstGeom>
            <a:gradFill rotWithShape="0">
              <a:gsLst>
                <a:gs pos="0">
                  <a:srgbClr val="33cc33"/>
                </a:gs>
                <a:gs pos="50000">
                  <a:srgbClr val="ffffff"/>
                </a:gs>
                <a:gs pos="100000">
                  <a:srgbClr val="33cc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342280" y="4191120"/>
              <a:ext cx="496800" cy="131760"/>
            </a:xfrm>
            <a:prstGeom prst="rect">
              <a:avLst/>
            </a:prstGeom>
            <a:gradFill rotWithShape="0">
              <a:gsLst>
                <a:gs pos="0">
                  <a:srgbClr val="33cc33"/>
                </a:gs>
                <a:gs pos="50000">
                  <a:srgbClr val="ffffff"/>
                </a:gs>
                <a:gs pos="100000">
                  <a:srgbClr val="33cc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42280" y="5776560"/>
              <a:ext cx="496800" cy="131760"/>
            </a:xfrm>
            <a:prstGeom prst="rect">
              <a:avLst/>
            </a:prstGeom>
            <a:gradFill rotWithShape="0">
              <a:gsLst>
                <a:gs pos="0">
                  <a:srgbClr val="33cc33"/>
                </a:gs>
                <a:gs pos="50000">
                  <a:srgbClr val="ffffff"/>
                </a:gs>
                <a:gs pos="100000">
                  <a:srgbClr val="33cc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8342280" y="2473200"/>
            <a:ext cx="496800" cy="3038400"/>
            <a:chOff x="8342280" y="2473200"/>
            <a:chExt cx="496800" cy="3038400"/>
          </a:xfrm>
        </p:grpSpPr>
        <p:sp>
          <p:nvSpPr>
            <p:cNvPr id="405" name=""/>
            <p:cNvSpPr/>
            <p:nvPr/>
          </p:nvSpPr>
          <p:spPr>
            <a:xfrm>
              <a:off x="8342280" y="2473200"/>
              <a:ext cx="496800" cy="1317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342280" y="3133440"/>
              <a:ext cx="496800" cy="1321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342280" y="5379840"/>
              <a:ext cx="496800" cy="1317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42280" y="3662280"/>
              <a:ext cx="496800" cy="1317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7276320" y="152100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ost 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Cloud"/>
          <p:cNvSpPr/>
          <p:nvPr/>
        </p:nvSpPr>
        <p:spPr>
          <a:xfrm rot="16200000">
            <a:off x="6164280" y="4103280"/>
            <a:ext cx="3236760" cy="372960"/>
          </a:xfrm>
          <a:prstGeom prst="pie">
            <a:avLst/>
          </a:prstGeom>
          <a:solidFill>
            <a:srgbClr val="009999">
              <a:alpha val="93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7284960" y="2540160"/>
            <a:ext cx="10573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174440" y="2235240"/>
            <a:ext cx="111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CM Trans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84960" y="3860640"/>
            <a:ext cx="434880" cy="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719840" y="3860640"/>
            <a:ext cx="123840" cy="198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284960" y="3133800"/>
            <a:ext cx="993960" cy="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D2A5-3A7B-41C0-BFBF-890210BAA91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veraging PCI Express Technolog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49986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architecture provides lower latency access from IO device to memory and thus enables Mem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IO Bandwidth makes context cache replacement pain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325600" y="1509840"/>
            <a:ext cx="533520" cy="5331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563840" y="2271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639800" y="20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79760" y="20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122560" y="22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741320" y="2500200"/>
            <a:ext cx="736920" cy="6858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fffff"/>
              </a:gs>
              <a:gs pos="100000">
                <a:srgbClr val="00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706840" y="2881440"/>
            <a:ext cx="685440" cy="304200"/>
            <a:chOff x="2706840" y="2881440"/>
            <a:chExt cx="685440" cy="304200"/>
          </a:xfrm>
        </p:grpSpPr>
        <p:sp>
          <p:nvSpPr>
            <p:cNvPr id="425" name=""/>
            <p:cNvSpPr/>
            <p:nvPr/>
          </p:nvSpPr>
          <p:spPr>
            <a:xfrm>
              <a:off x="2831400" y="2982600"/>
              <a:ext cx="560880" cy="203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69120" y="2931840"/>
              <a:ext cx="560880" cy="203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06840" y="2881440"/>
              <a:ext cx="560880" cy="202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 flipV="1">
            <a:off x="2465280" y="2987280"/>
            <a:ext cx="2415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97000" y="31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716120" y="3414600"/>
            <a:ext cx="736560" cy="4572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fffff"/>
              </a:gs>
              <a:gs pos="100000">
                <a:srgbClr val="00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C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97000" y="38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16120" y="4100400"/>
            <a:ext cx="736560" cy="4572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706840" y="2500200"/>
            <a:ext cx="685440" cy="304920"/>
            <a:chOff x="2706840" y="2500200"/>
            <a:chExt cx="685440" cy="304920"/>
          </a:xfrm>
        </p:grpSpPr>
        <p:sp>
          <p:nvSpPr>
            <p:cNvPr id="434" name=""/>
            <p:cNvSpPr/>
            <p:nvPr/>
          </p:nvSpPr>
          <p:spPr>
            <a:xfrm>
              <a:off x="2831400" y="2601720"/>
              <a:ext cx="560880" cy="203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69120" y="2550600"/>
              <a:ext cx="560880" cy="203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06840" y="2500200"/>
              <a:ext cx="560880" cy="203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 flipV="1">
            <a:off x="2465280" y="2606760"/>
            <a:ext cx="2415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855800" y="45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13000" y="45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85520" y="474012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ini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050560" y="3840120"/>
            <a:ext cx="57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I-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487520" y="250020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03600" y="303372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p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360440" y="1509840"/>
            <a:ext cx="533520" cy="5331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5347080" y="1509840"/>
            <a:ext cx="2487960" cy="2885040"/>
            <a:chOff x="5347080" y="1509840"/>
            <a:chExt cx="2487960" cy="2885040"/>
          </a:xfrm>
        </p:grpSpPr>
        <p:sp>
          <p:nvSpPr>
            <p:cNvPr id="446" name=""/>
            <p:cNvSpPr/>
            <p:nvPr/>
          </p:nvSpPr>
          <p:spPr>
            <a:xfrm>
              <a:off x="6768720" y="1509840"/>
              <a:ext cx="533160" cy="5335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006960" y="2271960"/>
              <a:ext cx="11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82920" y="2043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22880" y="2043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565680" y="22719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84800" y="2500560"/>
              <a:ext cx="736200" cy="6858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T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7149960" y="2881440"/>
              <a:ext cx="685080" cy="304920"/>
              <a:chOff x="7149960" y="2881440"/>
              <a:chExt cx="685080" cy="304920"/>
            </a:xfrm>
          </p:grpSpPr>
          <p:sp>
            <p:nvSpPr>
              <p:cNvPr id="453" name=""/>
              <p:cNvSpPr/>
              <p:nvPr/>
            </p:nvSpPr>
            <p:spPr>
              <a:xfrm>
                <a:off x="7274520" y="2982960"/>
                <a:ext cx="560520" cy="2034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212240" y="2931840"/>
                <a:ext cx="560520" cy="2034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149960" y="2881440"/>
                <a:ext cx="560520" cy="2030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R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 flipV="1">
              <a:off x="6908400" y="2988000"/>
              <a:ext cx="241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540120" y="3186360"/>
              <a:ext cx="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59240" y="3478320"/>
              <a:ext cx="736200" cy="4572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ffffff"/>
                </a:gs>
                <a:gs pos="100000">
                  <a:srgbClr val="00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7149960" y="2500560"/>
              <a:ext cx="685080" cy="304920"/>
              <a:chOff x="7149960" y="2500560"/>
              <a:chExt cx="685080" cy="304920"/>
            </a:xfrm>
          </p:grpSpPr>
          <p:sp>
            <p:nvSpPr>
              <p:cNvPr id="460" name=""/>
              <p:cNvSpPr/>
              <p:nvPr/>
            </p:nvSpPr>
            <p:spPr>
              <a:xfrm>
                <a:off x="7274520" y="2602080"/>
                <a:ext cx="560520" cy="2034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212240" y="2550960"/>
                <a:ext cx="560520" cy="2034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149960" y="2500560"/>
                <a:ext cx="560520" cy="2030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R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 flipV="1">
              <a:off x="6908400" y="2606400"/>
              <a:ext cx="241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298920" y="393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56120" y="3935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128280" y="4118400"/>
              <a:ext cx="84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finiB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501960" y="3218040"/>
              <a:ext cx="95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CI-Exp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30640" y="2500560"/>
              <a:ext cx="151920" cy="685800"/>
            </a:xfrm>
            <a:custGeom>
              <a:avLst/>
              <a:gdLst>
                <a:gd name="textAreaLeft" fmla="*/ 97200 w 151920"/>
                <a:gd name="textAreaRight" fmla="*/ 152280 w 1519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347080" y="268308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ips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803560" y="1509840"/>
              <a:ext cx="533160" cy="5335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1866960" y="2843280"/>
            <a:ext cx="965160" cy="1409760"/>
          </a:xfrm>
          <a:custGeom>
            <a:avLst/>
            <a:gdLst/>
            <a:ahLst/>
            <a:rect l="l" t="t" r="r" b="b"/>
            <a:pathLst>
              <a:path w="608" h="888">
                <a:moveTo>
                  <a:pt x="208" y="840"/>
                </a:moveTo>
                <a:cubicBezTo>
                  <a:pt x="204" y="708"/>
                  <a:pt x="200" y="576"/>
                  <a:pt x="208" y="456"/>
                </a:cubicBezTo>
                <a:cubicBezTo>
                  <a:pt x="216" y="336"/>
                  <a:pt x="200" y="176"/>
                  <a:pt x="256" y="120"/>
                </a:cubicBezTo>
                <a:cubicBezTo>
                  <a:pt x="312" y="64"/>
                  <a:pt x="488" y="128"/>
                  <a:pt x="544" y="120"/>
                </a:cubicBezTo>
                <a:cubicBezTo>
                  <a:pt x="600" y="112"/>
                  <a:pt x="608" y="88"/>
                  <a:pt x="592" y="72"/>
                </a:cubicBezTo>
                <a:cubicBezTo>
                  <a:pt x="576" y="56"/>
                  <a:pt x="528" y="24"/>
                  <a:pt x="448" y="24"/>
                </a:cubicBezTo>
                <a:cubicBezTo>
                  <a:pt x="368" y="24"/>
                  <a:pt x="184" y="0"/>
                  <a:pt x="112" y="72"/>
                </a:cubicBezTo>
                <a:cubicBezTo>
                  <a:pt x="40" y="144"/>
                  <a:pt x="32" y="320"/>
                  <a:pt x="16" y="456"/>
                </a:cubicBezTo>
                <a:cubicBezTo>
                  <a:pt x="0" y="592"/>
                  <a:pt x="8" y="740"/>
                  <a:pt x="16" y="888"/>
                </a:cubicBez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311880" y="2906640"/>
            <a:ext cx="1092240" cy="889200"/>
          </a:xfrm>
          <a:custGeom>
            <a:avLst/>
            <a:gdLst/>
            <a:ahLst/>
            <a:rect l="l" t="t" r="r" b="b"/>
            <a:pathLst>
              <a:path w="688" h="560">
                <a:moveTo>
                  <a:pt x="192" y="560"/>
                </a:moveTo>
                <a:cubicBezTo>
                  <a:pt x="188" y="428"/>
                  <a:pt x="184" y="296"/>
                  <a:pt x="192" y="224"/>
                </a:cubicBezTo>
                <a:cubicBezTo>
                  <a:pt x="200" y="152"/>
                  <a:pt x="176" y="144"/>
                  <a:pt x="240" y="128"/>
                </a:cubicBezTo>
                <a:cubicBezTo>
                  <a:pt x="304" y="112"/>
                  <a:pt x="512" y="136"/>
                  <a:pt x="576" y="128"/>
                </a:cubicBezTo>
                <a:cubicBezTo>
                  <a:pt x="640" y="120"/>
                  <a:pt x="616" y="96"/>
                  <a:pt x="624" y="80"/>
                </a:cubicBezTo>
                <a:cubicBezTo>
                  <a:pt x="632" y="64"/>
                  <a:pt x="688" y="40"/>
                  <a:pt x="624" y="32"/>
                </a:cubicBezTo>
                <a:cubicBezTo>
                  <a:pt x="560" y="24"/>
                  <a:pt x="336" y="24"/>
                  <a:pt x="240" y="32"/>
                </a:cubicBezTo>
                <a:cubicBezTo>
                  <a:pt x="144" y="40"/>
                  <a:pt x="88" y="0"/>
                  <a:pt x="48" y="80"/>
                </a:cubicBezTo>
                <a:cubicBezTo>
                  <a:pt x="8" y="160"/>
                  <a:pt x="8" y="440"/>
                  <a:pt x="0" y="512"/>
                </a:cubicBez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645000" y="2957400"/>
            <a:ext cx="1904760" cy="1067040"/>
          </a:xfrm>
          <a:prstGeom prst="rightArrow">
            <a:avLst>
              <a:gd name="adj1" fmla="val 50000"/>
              <a:gd name="adj2" fmla="val 44627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730600" y="4176720"/>
            <a:ext cx="685440" cy="304920"/>
            <a:chOff x="2730600" y="4176720"/>
            <a:chExt cx="685440" cy="304920"/>
          </a:xfrm>
        </p:grpSpPr>
        <p:sp>
          <p:nvSpPr>
            <p:cNvPr id="475" name=""/>
            <p:cNvSpPr/>
            <p:nvPr/>
          </p:nvSpPr>
          <p:spPr>
            <a:xfrm>
              <a:off x="2855160" y="4278240"/>
              <a:ext cx="560880" cy="203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92880" y="4227120"/>
              <a:ext cx="560880" cy="203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30600" y="4176720"/>
              <a:ext cx="560880" cy="203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 flipV="1">
            <a:off x="2489040" y="4282560"/>
            <a:ext cx="2415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44800" y="4214880"/>
            <a:ext cx="876240" cy="266760"/>
          </a:xfrm>
          <a:custGeom>
            <a:avLst/>
            <a:gdLst/>
            <a:ahLst/>
            <a:rect l="l" t="t" r="r" b="b"/>
            <a:pathLst>
              <a:path w="552" h="168">
                <a:moveTo>
                  <a:pt x="120" y="168"/>
                </a:moveTo>
                <a:cubicBezTo>
                  <a:pt x="92" y="148"/>
                  <a:pt x="64" y="128"/>
                  <a:pt x="120" y="120"/>
                </a:cubicBezTo>
                <a:cubicBezTo>
                  <a:pt x="176" y="112"/>
                  <a:pt x="384" y="128"/>
                  <a:pt x="456" y="120"/>
                </a:cubicBezTo>
                <a:cubicBezTo>
                  <a:pt x="528" y="112"/>
                  <a:pt x="552" y="88"/>
                  <a:pt x="552" y="72"/>
                </a:cubicBezTo>
                <a:cubicBezTo>
                  <a:pt x="552" y="56"/>
                  <a:pt x="536" y="32"/>
                  <a:pt x="456" y="24"/>
                </a:cubicBezTo>
                <a:cubicBezTo>
                  <a:pt x="376" y="16"/>
                  <a:pt x="144" y="0"/>
                  <a:pt x="72" y="24"/>
                </a:cubicBezTo>
                <a:cubicBezTo>
                  <a:pt x="0" y="48"/>
                  <a:pt x="32" y="144"/>
                  <a:pt x="24" y="168"/>
                </a:cubicBezTo>
              </a:path>
            </a:pathLst>
          </a:custGeom>
          <a:noFill/>
          <a:ln w="57240">
            <a:solidFill>
              <a:srgbClr val="00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99280" y="2932200"/>
            <a:ext cx="1346040" cy="787320"/>
          </a:xfrm>
          <a:custGeom>
            <a:avLst/>
            <a:gdLst/>
            <a:ahLst/>
            <a:rect l="l" t="t" r="r" b="b"/>
            <a:pathLst>
              <a:path w="848" h="496">
                <a:moveTo>
                  <a:pt x="248" y="496"/>
                </a:moveTo>
                <a:cubicBezTo>
                  <a:pt x="228" y="360"/>
                  <a:pt x="208" y="224"/>
                  <a:pt x="296" y="160"/>
                </a:cubicBezTo>
                <a:cubicBezTo>
                  <a:pt x="384" y="96"/>
                  <a:pt x="704" y="128"/>
                  <a:pt x="776" y="112"/>
                </a:cubicBezTo>
                <a:cubicBezTo>
                  <a:pt x="848" y="96"/>
                  <a:pt x="840" y="72"/>
                  <a:pt x="728" y="64"/>
                </a:cubicBezTo>
                <a:cubicBezTo>
                  <a:pt x="616" y="56"/>
                  <a:pt x="208" y="0"/>
                  <a:pt x="104" y="64"/>
                </a:cubicBezTo>
                <a:cubicBezTo>
                  <a:pt x="0" y="128"/>
                  <a:pt x="52" y="288"/>
                  <a:pt x="104" y="448"/>
                </a:cubicBezTo>
              </a:path>
            </a:pathLst>
          </a:custGeom>
          <a:noFill/>
          <a:ln w="57240">
            <a:solidFill>
              <a:srgbClr val="00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D29-D8CE-46F0-A193-F8A03C49EEC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emFree Driver Implementa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52280" y="4124160"/>
            <a:ext cx="883944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Free support is part of mthca device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driver support for all Mellanox H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takes decisions at runtime depending on the physical de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mpact on upper lay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er: Leonid Keller (Mellan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523880" y="2286000"/>
            <a:ext cx="1600200" cy="6858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fffff"/>
              </a:gs>
              <a:gs pos="100000">
                <a:srgbClr val="00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B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23880" y="2971800"/>
            <a:ext cx="1598760" cy="5335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fffff"/>
              </a:gs>
              <a:gs pos="100000">
                <a:srgbClr val="00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V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523880" y="1600200"/>
            <a:ext cx="1600200" cy="6858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fffff"/>
              </a:gs>
              <a:gs pos="100000">
                <a:srgbClr val="00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L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523880" y="3505320"/>
            <a:ext cx="1600200" cy="4572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fffff"/>
              </a:gs>
              <a:gs pos="100000">
                <a:srgbClr val="00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A 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52680" y="2362320"/>
            <a:ext cx="1905120" cy="1066680"/>
          </a:xfrm>
          <a:prstGeom prst="rightArrow">
            <a:avLst>
              <a:gd name="adj1" fmla="val 50000"/>
              <a:gd name="adj2" fmla="val 44651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562720" y="2286000"/>
            <a:ext cx="1600200" cy="6858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fffff"/>
              </a:gs>
              <a:gs pos="100000">
                <a:srgbClr val="00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B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562720" y="2971800"/>
            <a:ext cx="1598400" cy="53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TH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562720" y="1600200"/>
            <a:ext cx="1600200" cy="6858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fffff"/>
              </a:gs>
              <a:gs pos="100000">
                <a:srgbClr val="00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L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62720" y="3505320"/>
            <a:ext cx="761760" cy="4572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fffff"/>
              </a:gs>
              <a:gs pos="100000">
                <a:srgbClr val="00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400800" y="3505320"/>
            <a:ext cx="76212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mF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B00C-7B5B-41CF-B240-DA5300A60E7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4952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LP and MemFre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emFree Technology has no impact on upper layer 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057E-A5B7-47F3-A5EE-11365A96493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vices Supporting MemFree Mod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152280" y="1523880"/>
          <a:ext cx="8763120" cy="4648320"/>
        </p:xfrm>
        <a:graphic>
          <a:graphicData uri="http://schemas.openxmlformats.org/drawingml/2006/table">
            <a:tbl>
              <a:tblPr/>
              <a:tblGrid>
                <a:gridCol w="3576600"/>
                <a:gridCol w="1373400"/>
                <a:gridCol w="1069920"/>
                <a:gridCol w="1371600"/>
                <a:gridCol w="137160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F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P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H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av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Host III-Ex (Arbe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Host M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.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Host III-Ex (Arbe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Host III M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Host III-L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ina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.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2666880" y="2119320"/>
            <a:ext cx="917640" cy="82404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2895480" y="3308400"/>
            <a:ext cx="685800" cy="677880"/>
          </a:xfrm>
          <a:prstGeom prst="rect">
            <a:avLst/>
          </a:prstGeom>
          <a:ln w="0">
            <a:noFill/>
          </a:ln>
        </p:spPr>
      </p:pic>
      <p:grpSp>
        <p:nvGrpSpPr>
          <p:cNvPr id="499" name=""/>
          <p:cNvGrpSpPr/>
          <p:nvPr/>
        </p:nvGrpSpPr>
        <p:grpSpPr>
          <a:xfrm>
            <a:off x="8024760" y="2209680"/>
            <a:ext cx="509760" cy="609840"/>
            <a:chOff x="8024760" y="2209680"/>
            <a:chExt cx="509760" cy="609840"/>
          </a:xfrm>
        </p:grpSpPr>
        <p:sp>
          <p:nvSpPr>
            <p:cNvPr id="500" name=""/>
            <p:cNvSpPr/>
            <p:nvPr/>
          </p:nvSpPr>
          <p:spPr>
            <a:xfrm>
              <a:off x="8024760" y="2585880"/>
              <a:ext cx="152640" cy="22860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153640" y="2209680"/>
              <a:ext cx="380880" cy="60984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0" y="384"/>
                  </a:moveTo>
                  <a:cubicBezTo>
                    <a:pt x="52" y="272"/>
                    <a:pt x="104" y="160"/>
                    <a:pt x="144" y="96"/>
                  </a:cubicBezTo>
                  <a:cubicBezTo>
                    <a:pt x="184" y="32"/>
                    <a:pt x="212" y="16"/>
                    <a:pt x="240" y="0"/>
                  </a:cubicBezTo>
                </a:path>
              </a:pathLst>
            </a:custGeom>
            <a:noFill/>
            <a:ln w="7632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8001000" y="3276720"/>
            <a:ext cx="509760" cy="609480"/>
            <a:chOff x="8001000" y="3276720"/>
            <a:chExt cx="509760" cy="609480"/>
          </a:xfrm>
        </p:grpSpPr>
        <p:sp>
          <p:nvSpPr>
            <p:cNvPr id="503" name=""/>
            <p:cNvSpPr/>
            <p:nvPr/>
          </p:nvSpPr>
          <p:spPr>
            <a:xfrm>
              <a:off x="8001000" y="3652560"/>
              <a:ext cx="152640" cy="2282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129880" y="3276720"/>
              <a:ext cx="380880" cy="6094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0" y="384"/>
                  </a:moveTo>
                  <a:cubicBezTo>
                    <a:pt x="52" y="272"/>
                    <a:pt x="104" y="160"/>
                    <a:pt x="144" y="96"/>
                  </a:cubicBezTo>
                  <a:cubicBezTo>
                    <a:pt x="184" y="32"/>
                    <a:pt x="212" y="16"/>
                    <a:pt x="240" y="0"/>
                  </a:cubicBezTo>
                </a:path>
              </a:pathLst>
            </a:custGeom>
            <a:noFill/>
            <a:ln w="7632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8077320" y="4648320"/>
            <a:ext cx="380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077320" y="5715000"/>
            <a:ext cx="380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6576840" y="4343400"/>
            <a:ext cx="509760" cy="609480"/>
            <a:chOff x="6576840" y="4343400"/>
            <a:chExt cx="509760" cy="609480"/>
          </a:xfrm>
        </p:grpSpPr>
        <p:sp>
          <p:nvSpPr>
            <p:cNvPr id="508" name=""/>
            <p:cNvSpPr/>
            <p:nvPr/>
          </p:nvSpPr>
          <p:spPr>
            <a:xfrm>
              <a:off x="6576840" y="4719240"/>
              <a:ext cx="152640" cy="2282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705720" y="4343400"/>
              <a:ext cx="380880" cy="6094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0" y="384"/>
                  </a:moveTo>
                  <a:cubicBezTo>
                    <a:pt x="52" y="272"/>
                    <a:pt x="104" y="160"/>
                    <a:pt x="144" y="96"/>
                  </a:cubicBezTo>
                  <a:cubicBezTo>
                    <a:pt x="184" y="32"/>
                    <a:pt x="212" y="16"/>
                    <a:pt x="240" y="0"/>
                  </a:cubicBezTo>
                </a:path>
              </a:pathLst>
            </a:custGeom>
            <a:noFill/>
            <a:ln w="7632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6500880" y="5334120"/>
            <a:ext cx="509040" cy="609480"/>
            <a:chOff x="6500880" y="5334120"/>
            <a:chExt cx="509040" cy="609480"/>
          </a:xfrm>
        </p:grpSpPr>
        <p:sp>
          <p:nvSpPr>
            <p:cNvPr id="511" name=""/>
            <p:cNvSpPr/>
            <p:nvPr/>
          </p:nvSpPr>
          <p:spPr>
            <a:xfrm>
              <a:off x="6500880" y="5709960"/>
              <a:ext cx="152280" cy="2282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629400" y="5334120"/>
              <a:ext cx="380520" cy="609480"/>
            </a:xfrm>
            <a:custGeom>
              <a:avLst/>
              <a:gdLst/>
              <a:ahLst/>
              <a:rect l="l" t="t" r="r" b="b"/>
              <a:pathLst>
                <a:path w="240" h="384">
                  <a:moveTo>
                    <a:pt x="0" y="384"/>
                  </a:moveTo>
                  <a:cubicBezTo>
                    <a:pt x="52" y="272"/>
                    <a:pt x="104" y="160"/>
                    <a:pt x="144" y="96"/>
                  </a:cubicBezTo>
                  <a:cubicBezTo>
                    <a:pt x="184" y="32"/>
                    <a:pt x="212" y="16"/>
                    <a:pt x="240" y="0"/>
                  </a:cubicBezTo>
                </a:path>
              </a:pathLst>
            </a:custGeom>
            <a:noFill/>
            <a:ln w="7632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3" name="" descr=""/>
          <p:cNvPicPr/>
          <p:nvPr/>
        </p:nvPicPr>
        <p:blipFill>
          <a:blip r:embed="rId3"/>
          <a:stretch/>
        </p:blipFill>
        <p:spPr>
          <a:xfrm>
            <a:off x="2909880" y="4462560"/>
            <a:ext cx="685800" cy="67788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4"/>
          <a:stretch/>
        </p:blipFill>
        <p:spPr>
          <a:xfrm>
            <a:off x="3019320" y="5477040"/>
            <a:ext cx="525600" cy="52992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6629400" y="2514600"/>
            <a:ext cx="380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629400" y="3538440"/>
            <a:ext cx="380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19D4-D2AD-492A-9988-1772074D215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228600" y="1542960"/>
            <a:ext cx="4564080" cy="36385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emFree Performanc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664240" y="1584360"/>
            <a:ext cx="286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gligible to NO performance impac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51200" y="5592600"/>
            <a:ext cx="407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MemFree Whitepaper available for further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4232160" y="2359080"/>
            <a:ext cx="4589640" cy="36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3892-7329-483E-B49A-E4DA1D293BC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tatus and Schedu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level porting of MTHCA i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available for review on OpenIB 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level porting on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THCA release expected early Q2/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912A-B4BB-4835-AD25-3278BF68976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IB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https://openib.org/tiki/tiki-index.php?page=OpenIB+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ib-windows mail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http://openib.org/mailman/listinfo/openib-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 up to contrib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http://windows.openib.org/openib/contribute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B3C5-4B7A-494E-8DC2-F6E58C453CF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65904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 &amp; 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3760920" y="1459080"/>
            <a:ext cx="1622160" cy="393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0089-9F5E-4F28-9F6A-51D2DD00656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emFree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of Mem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emFre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Free drive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P tu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s supporting MemFree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899F-A9D3-4A2A-960A-79C91B4C0E7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hat is MemFree Technology ?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50626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CA No Longer Requires Attached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2514600"/>
            <a:ext cx="1904760" cy="1066680"/>
          </a:xfrm>
          <a:prstGeom prst="rightArrow">
            <a:avLst>
              <a:gd name="adj1" fmla="val 50000"/>
              <a:gd name="adj2" fmla="val 44642"/>
            </a:avLst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3886200" cy="2639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172200" y="1752480"/>
            <a:ext cx="2819520" cy="250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8046-849F-4096-873E-44276D1F66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nefits of MemFree Technolog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s overall add-in card and system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s power consu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A has smaller foot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utilization of system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es Landed On Motherboard (LOM)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751800" y="4429080"/>
            <a:ext cx="2228760" cy="1666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637400" y="4635360"/>
            <a:ext cx="343080" cy="400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H="1" flipV="1">
            <a:off x="8043480" y="5519520"/>
            <a:ext cx="444600" cy="1666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02880" y="5653080"/>
            <a:ext cx="91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InfiniHost II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Times New Roman"/>
              </a:rPr>
              <a:t>H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986520" y="5681160"/>
            <a:ext cx="281160" cy="2034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315200" y="4191120"/>
            <a:ext cx="1012680" cy="312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172200" y="5572080"/>
            <a:ext cx="941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ini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7238880" y="1905120"/>
            <a:ext cx="1447920" cy="128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AF7B-4D56-4268-975E-150C44414E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800" y="395280"/>
            <a:ext cx="495288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emFree Us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943600" y="4343400"/>
            <a:ext cx="1035000" cy="144792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7391520" y="4267080"/>
            <a:ext cx="1447560" cy="1400040"/>
            <a:chOff x="7391520" y="4267080"/>
            <a:chExt cx="1447560" cy="140004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7391520" y="5279760"/>
              <a:ext cx="144756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7391520" y="4267080"/>
              <a:ext cx="1447560" cy="102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/>
          <p:nvPr/>
        </p:nvSpPr>
        <p:spPr>
          <a:xfrm>
            <a:off x="152280" y="1600200"/>
            <a:ext cx="5181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5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k #130, Nov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6 nodes, 562 process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Free InfiniBand H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st efficiency on x86 architecture (84%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sonal super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“cubical” intensive compu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galactic" descr=""/>
          <p:cNvPicPr/>
          <p:nvPr/>
        </p:nvPicPr>
        <p:blipFill>
          <a:blip r:embed="rId4"/>
          <a:stretch/>
        </p:blipFill>
        <p:spPr>
          <a:xfrm>
            <a:off x="5334120" y="1523880"/>
            <a:ext cx="3657600" cy="241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6DD7-E9B6-49AC-B089-EF51295AA32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ow the Mem HCA Work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55627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/WQE is fetched from main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A resource context is fetched from local attached memory (L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A caches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021720" y="1905120"/>
            <a:ext cx="2512440" cy="3506760"/>
            <a:chOff x="6021720" y="1905120"/>
            <a:chExt cx="2512440" cy="3506760"/>
          </a:xfrm>
        </p:grpSpPr>
        <p:sp>
          <p:nvSpPr>
            <p:cNvPr id="124" name=""/>
            <p:cNvSpPr/>
            <p:nvPr/>
          </p:nvSpPr>
          <p:spPr>
            <a:xfrm>
              <a:off x="7444080" y="1905120"/>
              <a:ext cx="533160" cy="533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81960" y="2666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58280" y="2438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97880" y="2438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40680" y="2666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59800" y="2895480"/>
              <a:ext cx="736560" cy="68544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T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7824960" y="3276360"/>
              <a:ext cx="685440" cy="304200"/>
              <a:chOff x="7824960" y="3276360"/>
              <a:chExt cx="685440" cy="304200"/>
            </a:xfrm>
          </p:grpSpPr>
          <p:sp>
            <p:nvSpPr>
              <p:cNvPr id="131" name=""/>
              <p:cNvSpPr/>
              <p:nvPr/>
            </p:nvSpPr>
            <p:spPr>
              <a:xfrm>
                <a:off x="7949520" y="3377520"/>
                <a:ext cx="560880" cy="2030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887240" y="3326760"/>
                <a:ext cx="560880" cy="2030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824960" y="3276360"/>
                <a:ext cx="560880" cy="202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R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V="1">
              <a:off x="7583760" y="3382560"/>
              <a:ext cx="241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15480" y="35812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34240" y="3809880"/>
              <a:ext cx="736560" cy="45684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I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T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15480" y="42670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34240" y="4495680"/>
              <a:ext cx="736560" cy="4568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50000">
                  <a:srgbClr val="ffffff"/>
                </a:gs>
                <a:gs pos="100000">
                  <a:srgbClr val="00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7824960" y="2895480"/>
              <a:ext cx="685440" cy="304200"/>
              <a:chOff x="7824960" y="2895480"/>
              <a:chExt cx="685440" cy="304200"/>
            </a:xfrm>
          </p:grpSpPr>
          <p:sp>
            <p:nvSpPr>
              <p:cNvPr id="140" name=""/>
              <p:cNvSpPr/>
              <p:nvPr/>
            </p:nvSpPr>
            <p:spPr>
              <a:xfrm>
                <a:off x="7949520" y="2996640"/>
                <a:ext cx="560880" cy="2030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887240" y="2945880"/>
                <a:ext cx="560880" cy="2030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24960" y="2895480"/>
                <a:ext cx="560880" cy="202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R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 flipV="1">
              <a:off x="7583760" y="3001680"/>
              <a:ext cx="241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73920" y="4952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431120" y="4952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03640" y="5135400"/>
              <a:ext cx="84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finiB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68680" y="4235400"/>
              <a:ext cx="57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CI-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05640" y="2895480"/>
              <a:ext cx="152640" cy="137124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35640 h 1371240"/>
                <a:gd name="textAreaBottom" fmla="*/ 1335600 h 137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21720" y="342900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ips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78560" y="1905120"/>
              <a:ext cx="533520" cy="5331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7848720" y="4572000"/>
              <a:ext cx="685440" cy="303840"/>
              <a:chOff x="7848720" y="4572000"/>
              <a:chExt cx="685440" cy="303840"/>
            </a:xfrm>
          </p:grpSpPr>
          <p:sp>
            <p:nvSpPr>
              <p:cNvPr id="152" name=""/>
              <p:cNvSpPr/>
              <p:nvPr/>
            </p:nvSpPr>
            <p:spPr>
              <a:xfrm>
                <a:off x="7973280" y="4673160"/>
                <a:ext cx="560880" cy="202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911000" y="4622400"/>
                <a:ext cx="560880" cy="202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848720" y="4572000"/>
                <a:ext cx="560880" cy="202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R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 flipV="1">
              <a:off x="7607520" y="4678200"/>
              <a:ext cx="241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7124760" y="4610160"/>
            <a:ext cx="876240" cy="266760"/>
          </a:xfrm>
          <a:custGeom>
            <a:avLst/>
            <a:gdLst/>
            <a:ahLst/>
            <a:rect l="l" t="t" r="r" b="b"/>
            <a:pathLst>
              <a:path w="552" h="168">
                <a:moveTo>
                  <a:pt x="120" y="168"/>
                </a:moveTo>
                <a:cubicBezTo>
                  <a:pt x="92" y="148"/>
                  <a:pt x="64" y="128"/>
                  <a:pt x="120" y="120"/>
                </a:cubicBezTo>
                <a:cubicBezTo>
                  <a:pt x="176" y="112"/>
                  <a:pt x="384" y="128"/>
                  <a:pt x="456" y="120"/>
                </a:cubicBezTo>
                <a:cubicBezTo>
                  <a:pt x="528" y="112"/>
                  <a:pt x="552" y="88"/>
                  <a:pt x="552" y="72"/>
                </a:cubicBezTo>
                <a:cubicBezTo>
                  <a:pt x="552" y="56"/>
                  <a:pt x="536" y="32"/>
                  <a:pt x="456" y="24"/>
                </a:cubicBezTo>
                <a:cubicBezTo>
                  <a:pt x="376" y="16"/>
                  <a:pt x="144" y="0"/>
                  <a:pt x="72" y="24"/>
                </a:cubicBezTo>
                <a:cubicBezTo>
                  <a:pt x="0" y="48"/>
                  <a:pt x="32" y="144"/>
                  <a:pt x="24" y="168"/>
                </a:cubicBezTo>
              </a:path>
            </a:pathLst>
          </a:custGeom>
          <a:noFill/>
          <a:ln w="57240">
            <a:solidFill>
              <a:srgbClr val="00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85080" y="3238560"/>
            <a:ext cx="965160" cy="1409760"/>
          </a:xfrm>
          <a:custGeom>
            <a:avLst/>
            <a:gdLst/>
            <a:ahLst/>
            <a:rect l="l" t="t" r="r" b="b"/>
            <a:pathLst>
              <a:path w="608" h="888">
                <a:moveTo>
                  <a:pt x="208" y="840"/>
                </a:moveTo>
                <a:cubicBezTo>
                  <a:pt x="204" y="708"/>
                  <a:pt x="200" y="576"/>
                  <a:pt x="208" y="456"/>
                </a:cubicBezTo>
                <a:cubicBezTo>
                  <a:pt x="216" y="336"/>
                  <a:pt x="200" y="176"/>
                  <a:pt x="256" y="120"/>
                </a:cubicBezTo>
                <a:cubicBezTo>
                  <a:pt x="312" y="64"/>
                  <a:pt x="488" y="128"/>
                  <a:pt x="544" y="120"/>
                </a:cubicBezTo>
                <a:cubicBezTo>
                  <a:pt x="600" y="112"/>
                  <a:pt x="608" y="88"/>
                  <a:pt x="592" y="72"/>
                </a:cubicBezTo>
                <a:cubicBezTo>
                  <a:pt x="576" y="56"/>
                  <a:pt x="528" y="24"/>
                  <a:pt x="448" y="24"/>
                </a:cubicBezTo>
                <a:cubicBezTo>
                  <a:pt x="368" y="24"/>
                  <a:pt x="184" y="0"/>
                  <a:pt x="112" y="72"/>
                </a:cubicBezTo>
                <a:cubicBezTo>
                  <a:pt x="40" y="144"/>
                  <a:pt x="32" y="320"/>
                  <a:pt x="16" y="456"/>
                </a:cubicBezTo>
                <a:cubicBezTo>
                  <a:pt x="0" y="592"/>
                  <a:pt x="8" y="740"/>
                  <a:pt x="16" y="888"/>
                </a:cubicBez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905A-1072-47FD-BF3E-24A7BC7632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nderstanding the LAM Ro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04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s physically contiguous HCA context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 driver allocates and organizes physically contiguous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 dictates HCA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02880" y="198108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6477480" y="47998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75200" y="3613320"/>
            <a:ext cx="381240" cy="76176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5410440" y="3806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334200" y="2847960"/>
            <a:ext cx="1587600" cy="765360"/>
            <a:chOff x="6334200" y="2847960"/>
            <a:chExt cx="1587600" cy="765360"/>
          </a:xfrm>
        </p:grpSpPr>
        <p:sp>
          <p:nvSpPr>
            <p:cNvPr id="165" name=""/>
            <p:cNvSpPr/>
            <p:nvPr/>
          </p:nvSpPr>
          <p:spPr>
            <a:xfrm>
              <a:off x="6334200" y="3095640"/>
              <a:ext cx="609480" cy="517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P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942240" y="3124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7324920" y="2847960"/>
              <a:ext cx="5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P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334200" y="2057400"/>
            <a:ext cx="1576800" cy="1073160"/>
            <a:chOff x="6334200" y="2057400"/>
            <a:chExt cx="1576800" cy="1073160"/>
          </a:xfrm>
        </p:grpSpPr>
        <p:sp>
          <p:nvSpPr>
            <p:cNvPr id="169" name=""/>
            <p:cNvSpPr/>
            <p:nvPr/>
          </p:nvSpPr>
          <p:spPr>
            <a:xfrm>
              <a:off x="6334200" y="2317680"/>
              <a:ext cx="609480" cy="8128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Q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942240" y="2362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335720" y="2057400"/>
              <a:ext cx="57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P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334200" y="3809880"/>
            <a:ext cx="1587600" cy="1067040"/>
            <a:chOff x="6334200" y="3809880"/>
            <a:chExt cx="1587600" cy="1067040"/>
          </a:xfrm>
        </p:grpSpPr>
        <p:sp>
          <p:nvSpPr>
            <p:cNvPr id="173" name=""/>
            <p:cNvSpPr/>
            <p:nvPr/>
          </p:nvSpPr>
          <p:spPr>
            <a:xfrm>
              <a:off x="6334200" y="4070520"/>
              <a:ext cx="609480" cy="8064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ffff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T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6934320" y="40863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7314120" y="3809880"/>
              <a:ext cx="607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T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334200" y="5257800"/>
            <a:ext cx="1574280" cy="641520"/>
            <a:chOff x="6334200" y="5257800"/>
            <a:chExt cx="1574280" cy="641520"/>
          </a:xfrm>
        </p:grpSpPr>
        <p:sp>
          <p:nvSpPr>
            <p:cNvPr id="177" name=""/>
            <p:cNvSpPr/>
            <p:nvPr/>
          </p:nvSpPr>
          <p:spPr>
            <a:xfrm>
              <a:off x="6334200" y="5529240"/>
              <a:ext cx="609480" cy="370080"/>
            </a:xfrm>
            <a:prstGeom prst="rect">
              <a:avLst/>
            </a:prstGeom>
            <a:gradFill rotWithShape="0">
              <a:gsLst>
                <a:gs pos="0">
                  <a:srgbClr val="33cc33"/>
                </a:gs>
                <a:gs pos="50000">
                  <a:srgbClr val="ffffff"/>
                </a:gs>
                <a:gs pos="100000">
                  <a:srgbClr val="33cc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936840" y="5533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7333200" y="5257800"/>
              <a:ext cx="57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W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6334200" y="2317680"/>
            <a:ext cx="609480" cy="3549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7AD8-02C0-4107-82BA-09AFC864F5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igrating HCA Contexts to Host Memor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56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 memory is made available in non-contiguous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er allocates these physical pages in host memory for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er passes the pages to the H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072120" y="1828800"/>
            <a:ext cx="1547280" cy="3917520"/>
            <a:chOff x="6072120" y="1828800"/>
            <a:chExt cx="1547280" cy="3917520"/>
          </a:xfrm>
        </p:grpSpPr>
        <p:sp>
          <p:nvSpPr>
            <p:cNvPr id="184" name=""/>
            <p:cNvSpPr/>
            <p:nvPr/>
          </p:nvSpPr>
          <p:spPr>
            <a:xfrm>
              <a:off x="6726240" y="182880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35680" y="5376600"/>
              <a:ext cx="609480" cy="369720"/>
            </a:xfrm>
            <a:prstGeom prst="rect">
              <a:avLst/>
            </a:prstGeom>
            <a:gradFill rotWithShape="0">
              <a:gsLst>
                <a:gs pos="0">
                  <a:srgbClr val="33cc33"/>
                </a:gs>
                <a:gs pos="50000">
                  <a:srgbClr val="ffffff"/>
                </a:gs>
                <a:gs pos="100000">
                  <a:srgbClr val="33cc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35680" y="2165040"/>
              <a:ext cx="609480" cy="8125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Q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35680" y="2943000"/>
              <a:ext cx="609480" cy="5173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P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35680" y="3917880"/>
              <a:ext cx="609480" cy="80604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ffff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T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5400000">
              <a:off x="6978960" y="464688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35680" y="2165040"/>
              <a:ext cx="609480" cy="354924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76680" y="3460680"/>
              <a:ext cx="381240" cy="76140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6200000">
              <a:off x="5911920" y="36536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8229600" y="1676520"/>
            <a:ext cx="609480" cy="4343400"/>
            <a:chOff x="8229600" y="1676520"/>
            <a:chExt cx="609480" cy="4343400"/>
          </a:xfrm>
        </p:grpSpPr>
        <p:sp>
          <p:nvSpPr>
            <p:cNvPr id="194" name=""/>
            <p:cNvSpPr/>
            <p:nvPr/>
          </p:nvSpPr>
          <p:spPr>
            <a:xfrm>
              <a:off x="8229600" y="1676520"/>
              <a:ext cx="609480" cy="43434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29600" y="1676520"/>
              <a:ext cx="609480" cy="11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29600" y="1793520"/>
              <a:ext cx="609480" cy="11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229600" y="1910880"/>
              <a:ext cx="609480" cy="11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229600" y="2028600"/>
              <a:ext cx="609480" cy="11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229600" y="2145960"/>
              <a:ext cx="609480" cy="11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229600" y="2262960"/>
              <a:ext cx="609480" cy="11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229600" y="2380680"/>
              <a:ext cx="609480" cy="11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29600" y="2498040"/>
              <a:ext cx="609480" cy="11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29600" y="2615400"/>
              <a:ext cx="609480" cy="11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229600" y="2850120"/>
              <a:ext cx="609480" cy="11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29600" y="2967480"/>
              <a:ext cx="609480" cy="11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29600" y="3085200"/>
              <a:ext cx="609480" cy="11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29600" y="3202200"/>
              <a:ext cx="609480" cy="11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29600" y="3789360"/>
              <a:ext cx="609480" cy="11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29600" y="3906720"/>
              <a:ext cx="609480" cy="11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29600" y="4024080"/>
              <a:ext cx="609480" cy="11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29600" y="4376160"/>
              <a:ext cx="609480" cy="11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29600" y="4611240"/>
              <a:ext cx="609480" cy="11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29600" y="4845960"/>
              <a:ext cx="609480" cy="11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229600" y="4963320"/>
              <a:ext cx="609480" cy="11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229600" y="5080680"/>
              <a:ext cx="609480" cy="11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229600" y="5198040"/>
              <a:ext cx="609480" cy="11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229600" y="5315400"/>
              <a:ext cx="609480" cy="11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229600" y="5432760"/>
              <a:ext cx="609480" cy="11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229600" y="5550480"/>
              <a:ext cx="609480" cy="11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29600" y="5784840"/>
              <a:ext cx="609480" cy="11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229600" y="5902560"/>
              <a:ext cx="609480" cy="11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29600" y="3437280"/>
              <a:ext cx="609480" cy="11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229600" y="2850120"/>
              <a:ext cx="609480" cy="11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29600" y="2967480"/>
              <a:ext cx="609480" cy="11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229600" y="3437280"/>
              <a:ext cx="609480" cy="11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229600" y="5667480"/>
              <a:ext cx="609480" cy="11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229600" y="4728240"/>
              <a:ext cx="609480" cy="11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229600" y="4493880"/>
              <a:ext cx="609480" cy="11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229600" y="4258800"/>
              <a:ext cx="609480" cy="11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29600" y="4141440"/>
              <a:ext cx="609480" cy="11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229600" y="3672000"/>
              <a:ext cx="609480" cy="11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229600" y="3554640"/>
              <a:ext cx="609480" cy="11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229600" y="3319560"/>
              <a:ext cx="609480" cy="11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229600" y="2732760"/>
              <a:ext cx="609480" cy="11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229600" y="2849400"/>
            <a:ext cx="609480" cy="3052080"/>
            <a:chOff x="8229600" y="2849400"/>
            <a:chExt cx="609480" cy="3052080"/>
          </a:xfrm>
        </p:grpSpPr>
        <p:grpSp>
          <p:nvGrpSpPr>
            <p:cNvPr id="236" name=""/>
            <p:cNvGrpSpPr/>
            <p:nvPr/>
          </p:nvGrpSpPr>
          <p:grpSpPr>
            <a:xfrm>
              <a:off x="8229600" y="3671280"/>
              <a:ext cx="609480" cy="704160"/>
              <a:chOff x="8229600" y="3671280"/>
              <a:chExt cx="609480" cy="704160"/>
            </a:xfrm>
          </p:grpSpPr>
          <p:sp>
            <p:nvSpPr>
              <p:cNvPr id="237" name=""/>
              <p:cNvSpPr/>
              <p:nvPr/>
            </p:nvSpPr>
            <p:spPr>
              <a:xfrm>
                <a:off x="8229600" y="3671280"/>
                <a:ext cx="609480" cy="1170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229600" y="4258440"/>
                <a:ext cx="609480" cy="1170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8229600" y="4727880"/>
              <a:ext cx="609480" cy="351720"/>
              <a:chOff x="8229600" y="4727880"/>
              <a:chExt cx="609480" cy="351720"/>
            </a:xfrm>
          </p:grpSpPr>
          <p:sp>
            <p:nvSpPr>
              <p:cNvPr id="240" name=""/>
              <p:cNvSpPr/>
              <p:nvPr/>
            </p:nvSpPr>
            <p:spPr>
              <a:xfrm>
                <a:off x="8229600" y="4727880"/>
                <a:ext cx="609480" cy="1170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229600" y="4962240"/>
                <a:ext cx="609480" cy="117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8229600" y="3788280"/>
              <a:ext cx="609480" cy="2113200"/>
              <a:chOff x="8229600" y="3788280"/>
              <a:chExt cx="609480" cy="2113200"/>
            </a:xfrm>
          </p:grpSpPr>
          <p:sp>
            <p:nvSpPr>
              <p:cNvPr id="243" name=""/>
              <p:cNvSpPr/>
              <p:nvPr/>
            </p:nvSpPr>
            <p:spPr>
              <a:xfrm>
                <a:off x="8229600" y="3788280"/>
                <a:ext cx="609480" cy="117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229600" y="4375440"/>
                <a:ext cx="609480" cy="1170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229600" y="5784480"/>
                <a:ext cx="609480" cy="1170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8229600" y="2849400"/>
              <a:ext cx="609480" cy="2700000"/>
              <a:chOff x="8229600" y="2849400"/>
              <a:chExt cx="609480" cy="2700000"/>
            </a:xfrm>
          </p:grpSpPr>
          <p:sp>
            <p:nvSpPr>
              <p:cNvPr id="247" name=""/>
              <p:cNvSpPr/>
              <p:nvPr/>
            </p:nvSpPr>
            <p:spPr>
              <a:xfrm>
                <a:off x="8229600" y="2849400"/>
                <a:ext cx="609480" cy="1170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229600" y="3436200"/>
                <a:ext cx="609480" cy="117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229600" y="5432400"/>
                <a:ext cx="609480" cy="1170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229600" y="3906000"/>
                <a:ext cx="609480" cy="1170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"/>
          <p:cNvSpPr/>
          <p:nvPr/>
        </p:nvSpPr>
        <p:spPr>
          <a:xfrm>
            <a:off x="7962120" y="121608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ost 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50000" y="1828800"/>
            <a:ext cx="762120" cy="4038480"/>
          </a:xfrm>
          <a:prstGeom prst="rect">
            <a:avLst/>
          </a:prstGeom>
          <a:solidFill>
            <a:srgbClr val="808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F9CF-8518-4E58-BBCF-AB440740EC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04560" y="2285640"/>
            <a:ext cx="5181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A turns the physical pages into virtually contiguous spaces for the HCA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875200" y="1752480"/>
            <a:ext cx="1547280" cy="3918240"/>
            <a:chOff x="5875200" y="1752480"/>
            <a:chExt cx="1547280" cy="3918240"/>
          </a:xfrm>
        </p:grpSpPr>
        <p:sp>
          <p:nvSpPr>
            <p:cNvPr id="255" name=""/>
            <p:cNvSpPr/>
            <p:nvPr/>
          </p:nvSpPr>
          <p:spPr>
            <a:xfrm>
              <a:off x="6529320" y="175248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38760" y="5300640"/>
              <a:ext cx="609480" cy="370080"/>
            </a:xfrm>
            <a:prstGeom prst="rect">
              <a:avLst/>
            </a:prstGeom>
            <a:gradFill rotWithShape="0">
              <a:gsLst>
                <a:gs pos="0">
                  <a:srgbClr val="33cc33"/>
                </a:gs>
                <a:gs pos="50000">
                  <a:srgbClr val="ffffff"/>
                </a:gs>
                <a:gs pos="100000">
                  <a:srgbClr val="33cc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38760" y="2089080"/>
              <a:ext cx="609480" cy="8128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Q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38760" y="2867040"/>
              <a:ext cx="609480" cy="517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P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38760" y="3841920"/>
              <a:ext cx="609480" cy="8064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ffff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T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6782040" y="457128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38760" y="2089080"/>
              <a:ext cx="609480" cy="35496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79760" y="3384720"/>
              <a:ext cx="381240" cy="76176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6200000">
              <a:off x="5715000" y="357804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8229600" y="1600200"/>
            <a:ext cx="609480" cy="4572000"/>
            <a:chOff x="8229600" y="1600200"/>
            <a:chExt cx="609480" cy="4572000"/>
          </a:xfrm>
        </p:grpSpPr>
        <p:sp>
          <p:nvSpPr>
            <p:cNvPr id="265" name=""/>
            <p:cNvSpPr/>
            <p:nvPr/>
          </p:nvSpPr>
          <p:spPr>
            <a:xfrm>
              <a:off x="8229600" y="1600200"/>
              <a:ext cx="609480" cy="45720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229600" y="1600200"/>
              <a:ext cx="609480" cy="12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229600" y="1723320"/>
              <a:ext cx="609480" cy="12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229600" y="1846800"/>
              <a:ext cx="60948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29600" y="1970640"/>
              <a:ext cx="609480" cy="12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29600" y="2094120"/>
              <a:ext cx="609480" cy="12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229600" y="2217600"/>
              <a:ext cx="60948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29600" y="2341440"/>
              <a:ext cx="609480" cy="12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229600" y="2464920"/>
              <a:ext cx="609480" cy="12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229600" y="2588400"/>
              <a:ext cx="60948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229600" y="2835720"/>
              <a:ext cx="609480" cy="12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229600" y="2959200"/>
              <a:ext cx="60948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29600" y="3083040"/>
              <a:ext cx="609480" cy="12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229600" y="3206520"/>
              <a:ext cx="609480" cy="12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229600" y="3824280"/>
              <a:ext cx="609480" cy="12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29600" y="3947760"/>
              <a:ext cx="609480" cy="12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229600" y="4071240"/>
              <a:ext cx="60948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29600" y="4442040"/>
              <a:ext cx="60948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229600" y="4689360"/>
              <a:ext cx="609480" cy="12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229600" y="4936320"/>
              <a:ext cx="609480" cy="12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229600" y="5059800"/>
              <a:ext cx="609480" cy="12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229600" y="5183280"/>
              <a:ext cx="60948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29600" y="5307120"/>
              <a:ext cx="609480" cy="12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29600" y="5430600"/>
              <a:ext cx="609480" cy="12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29600" y="5554080"/>
              <a:ext cx="60948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229600" y="5677920"/>
              <a:ext cx="609480" cy="12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229600" y="5924880"/>
              <a:ext cx="60948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229600" y="6048720"/>
              <a:ext cx="609480" cy="12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229600" y="3453480"/>
              <a:ext cx="609480" cy="12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229600" y="2835720"/>
              <a:ext cx="609480" cy="12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229600" y="2959200"/>
              <a:ext cx="60948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29600" y="3453480"/>
              <a:ext cx="609480" cy="12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29600" y="5801400"/>
              <a:ext cx="609480" cy="12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229600" y="4812840"/>
              <a:ext cx="60948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229600" y="4565880"/>
              <a:ext cx="609480" cy="12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29600" y="4318560"/>
              <a:ext cx="609480" cy="12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229600" y="4195080"/>
              <a:ext cx="609480" cy="12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229600" y="3700440"/>
              <a:ext cx="60948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29600" y="3576960"/>
              <a:ext cx="609480" cy="12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229600" y="3330000"/>
              <a:ext cx="609480" cy="1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229600" y="2712240"/>
              <a:ext cx="609480" cy="12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8229600" y="2712960"/>
            <a:ext cx="609480" cy="3210840"/>
            <a:chOff x="8229600" y="2712960"/>
            <a:chExt cx="609480" cy="3210840"/>
          </a:xfrm>
        </p:grpSpPr>
        <p:grpSp>
          <p:nvGrpSpPr>
            <p:cNvPr id="307" name=""/>
            <p:cNvGrpSpPr/>
            <p:nvPr/>
          </p:nvGrpSpPr>
          <p:grpSpPr>
            <a:xfrm>
              <a:off x="8229600" y="3577320"/>
              <a:ext cx="609480" cy="740520"/>
              <a:chOff x="8229600" y="3577320"/>
              <a:chExt cx="609480" cy="740520"/>
            </a:xfrm>
          </p:grpSpPr>
          <p:sp>
            <p:nvSpPr>
              <p:cNvPr id="308" name=""/>
              <p:cNvSpPr/>
              <p:nvPr/>
            </p:nvSpPr>
            <p:spPr>
              <a:xfrm>
                <a:off x="8229600" y="3577320"/>
                <a:ext cx="609480" cy="1231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229600" y="4194720"/>
                <a:ext cx="609480" cy="1231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8229600" y="4689360"/>
              <a:ext cx="609480" cy="370080"/>
              <a:chOff x="8229600" y="4689360"/>
              <a:chExt cx="609480" cy="370080"/>
            </a:xfrm>
          </p:grpSpPr>
          <p:sp>
            <p:nvSpPr>
              <p:cNvPr id="311" name=""/>
              <p:cNvSpPr/>
              <p:nvPr/>
            </p:nvSpPr>
            <p:spPr>
              <a:xfrm>
                <a:off x="8229600" y="4689360"/>
                <a:ext cx="609480" cy="1231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229600" y="4935960"/>
                <a:ext cx="609480" cy="1234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8229600" y="3700800"/>
              <a:ext cx="609480" cy="2223000"/>
              <a:chOff x="8229600" y="3700800"/>
              <a:chExt cx="609480" cy="2223000"/>
            </a:xfrm>
          </p:grpSpPr>
          <p:sp>
            <p:nvSpPr>
              <p:cNvPr id="314" name=""/>
              <p:cNvSpPr/>
              <p:nvPr/>
            </p:nvSpPr>
            <p:spPr>
              <a:xfrm>
                <a:off x="8229600" y="3700800"/>
                <a:ext cx="609480" cy="1234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229600" y="4318200"/>
                <a:ext cx="609480" cy="1231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229600" y="5800680"/>
                <a:ext cx="609480" cy="1231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8229600" y="2712960"/>
              <a:ext cx="609480" cy="2840400"/>
              <a:chOff x="8229600" y="2712960"/>
              <a:chExt cx="609480" cy="2840400"/>
            </a:xfrm>
          </p:grpSpPr>
          <p:sp>
            <p:nvSpPr>
              <p:cNvPr id="318" name=""/>
              <p:cNvSpPr/>
              <p:nvPr/>
            </p:nvSpPr>
            <p:spPr>
              <a:xfrm>
                <a:off x="8229600" y="2712960"/>
                <a:ext cx="609480" cy="1231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229600" y="3330360"/>
                <a:ext cx="609480" cy="1234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229600" y="5430240"/>
                <a:ext cx="609480" cy="1231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229600" y="3824640"/>
                <a:ext cx="609480" cy="1231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8229600" y="3576600"/>
            <a:ext cx="609480" cy="740880"/>
            <a:chOff x="8229600" y="3576600"/>
            <a:chExt cx="609480" cy="740880"/>
          </a:xfrm>
        </p:grpSpPr>
        <p:sp>
          <p:nvSpPr>
            <p:cNvPr id="323" name=""/>
            <p:cNvSpPr/>
            <p:nvPr/>
          </p:nvSpPr>
          <p:spPr>
            <a:xfrm>
              <a:off x="8229600" y="3576600"/>
              <a:ext cx="609480" cy="1231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229600" y="4194360"/>
              <a:ext cx="609480" cy="1231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8229600" y="4689360"/>
            <a:ext cx="609480" cy="369720"/>
            <a:chOff x="8229600" y="4689360"/>
            <a:chExt cx="609480" cy="369720"/>
          </a:xfrm>
        </p:grpSpPr>
        <p:sp>
          <p:nvSpPr>
            <p:cNvPr id="326" name=""/>
            <p:cNvSpPr/>
            <p:nvPr/>
          </p:nvSpPr>
          <p:spPr>
            <a:xfrm>
              <a:off x="8229600" y="4689360"/>
              <a:ext cx="609480" cy="1231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ffff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29600" y="4935600"/>
              <a:ext cx="609480" cy="12348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ffffff"/>
                </a:gs>
                <a:gs pos="100000">
                  <a:srgbClr val="0000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8229600" y="3700440"/>
            <a:ext cx="609480" cy="2223720"/>
            <a:chOff x="8229600" y="3700440"/>
            <a:chExt cx="609480" cy="2223720"/>
          </a:xfrm>
        </p:grpSpPr>
        <p:sp>
          <p:nvSpPr>
            <p:cNvPr id="329" name=""/>
            <p:cNvSpPr/>
            <p:nvPr/>
          </p:nvSpPr>
          <p:spPr>
            <a:xfrm>
              <a:off x="8229600" y="3700440"/>
              <a:ext cx="609480" cy="123480"/>
            </a:xfrm>
            <a:prstGeom prst="rect">
              <a:avLst/>
            </a:prstGeom>
            <a:gradFill rotWithShape="0">
              <a:gsLst>
                <a:gs pos="0">
                  <a:srgbClr val="33cc33"/>
                </a:gs>
                <a:gs pos="50000">
                  <a:srgbClr val="ffffff"/>
                </a:gs>
                <a:gs pos="100000">
                  <a:srgbClr val="33cc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29600" y="4318200"/>
              <a:ext cx="609480" cy="123120"/>
            </a:xfrm>
            <a:prstGeom prst="rect">
              <a:avLst/>
            </a:prstGeom>
            <a:gradFill rotWithShape="0">
              <a:gsLst>
                <a:gs pos="0">
                  <a:srgbClr val="33cc33"/>
                </a:gs>
                <a:gs pos="50000">
                  <a:srgbClr val="ffffff"/>
                </a:gs>
                <a:gs pos="100000">
                  <a:srgbClr val="33cc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229600" y="5801040"/>
              <a:ext cx="609480" cy="123120"/>
            </a:xfrm>
            <a:prstGeom prst="rect">
              <a:avLst/>
            </a:prstGeom>
            <a:gradFill rotWithShape="0">
              <a:gsLst>
                <a:gs pos="0">
                  <a:srgbClr val="33cc33"/>
                </a:gs>
                <a:gs pos="50000">
                  <a:srgbClr val="ffffff"/>
                </a:gs>
                <a:gs pos="100000">
                  <a:srgbClr val="33cc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8229600" y="2712960"/>
            <a:ext cx="609480" cy="2841480"/>
            <a:chOff x="8229600" y="2712960"/>
            <a:chExt cx="609480" cy="2841480"/>
          </a:xfrm>
        </p:grpSpPr>
        <p:sp>
          <p:nvSpPr>
            <p:cNvPr id="333" name=""/>
            <p:cNvSpPr/>
            <p:nvPr/>
          </p:nvSpPr>
          <p:spPr>
            <a:xfrm>
              <a:off x="8229600" y="2712960"/>
              <a:ext cx="609480" cy="1231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229600" y="3330360"/>
              <a:ext cx="609480" cy="1234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229600" y="5431320"/>
              <a:ext cx="609480" cy="1231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229600" y="3825000"/>
              <a:ext cx="609480" cy="1231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8001720" y="121932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ost 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53080" y="1752480"/>
            <a:ext cx="762120" cy="4038840"/>
          </a:xfrm>
          <a:prstGeom prst="rect">
            <a:avLst/>
          </a:prstGeom>
          <a:solidFill>
            <a:srgbClr val="80808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1676520" y="304920"/>
            <a:ext cx="5410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igrating HCA Contexts to Host Memor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721-1885-4D90-AC79-600AA801AF7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10:03:17Z</dcterms:created>
  <dc:creator>erezc</dc:creator>
  <dc:description/>
  <dc:language>en-US</dc:language>
  <cp:lastModifiedBy>shainer</cp:lastModifiedBy>
  <dcterms:modified xsi:type="dcterms:W3CDTF">2006-02-08T17:07:18Z</dcterms:modified>
  <cp:revision>14</cp:revision>
  <dc:subject/>
  <dc:title>MemFree Techn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73060814</vt:r8>
  </property>
  <property fmtid="{D5CDD505-2E9C-101B-9397-08002B2CF9AE}" pid="3" name="_AuthorEmail">
    <vt:lpwstr>erezc@mellanox.co.il</vt:lpwstr>
  </property>
  <property fmtid="{D5CDD505-2E9C-101B-9397-08002B2CF9AE}" pid="4" name="_AuthorEmailDisplayName">
    <vt:lpwstr>Erez Cohen</vt:lpwstr>
  </property>
  <property fmtid="{D5CDD505-2E9C-101B-9397-08002B2CF9AE}" pid="5" name="_EmailSubject">
    <vt:lpwstr>OpenIB workshop, Sonoma, February 5-8</vt:lpwstr>
  </property>
  <property fmtid="{D5CDD505-2E9C-101B-9397-08002B2CF9AE}" pid="6" name="_NewReviewCycle">
    <vt:lpwstr/>
  </property>
  <property fmtid="{D5CDD505-2E9C-101B-9397-08002B2CF9AE}" pid="7" name="_PreviousAdHocReviewCycleID">
    <vt:r8>886296253</vt:r8>
  </property>
</Properties>
</file>