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CEB6-E46A-4421-B6D4-317941C1C95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FAEBA-87F7-4935-B0F4-69B364E71CE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B9D47-1095-41E3-9805-1709158CDD8A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4825B-AF02-4683-9E1E-8A89C1F6FF32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403E9-07DC-422D-8BAB-017B3BE92CD1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A4C73-4457-4F5F-B7ED-63C22C2690F3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12EC4-6417-4474-AE64-0FD7624CC79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9D48C-0284-4497-8F46-C4B4ACAADB8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B4D-FD47-4714-8F6F-58EF628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28800" y="352656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0EB-6118-4D86-B656-33A78CB6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968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3FCF-53DC-4050-AF76-0A2FE9EF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316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53788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2880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8316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53788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E01A-817E-453D-8A09-A5666513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0ED1-99A0-421D-B5F3-6F9F8F21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828800" y="3174840"/>
            <a:ext cx="548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EE69-98CD-4535-8833-0341CED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54849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509B-61D0-4DA2-BB4B-1F6FDAB8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FD1-99FB-4197-8996-86A38B76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07C7-8280-4002-8142-3FB37CD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28800" y="2396880"/>
            <a:ext cx="548496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A602-5FEE-4FF9-8ED2-61514BB1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90EF-2201-47B4-80A3-F9CF8022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28800" y="3174840"/>
            <a:ext cx="548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0BC-C0F5-440A-9393-0B5646F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968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7070-1C8F-4A52-A638-F7A7DA2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473-A1F2-4E21-98C0-F4D7B0B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828800" y="352656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95C7-B9E7-4114-8435-AA1F46D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968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B8FE-1DF2-4C0F-9CB9-D22076D9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8316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37880" y="317484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82880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8316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537880" y="3526560"/>
            <a:ext cx="176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1017-CC2A-47B0-968F-E910549A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548496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232-2D82-4CB1-8A9F-D489C2AD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1AF-4C94-401F-BDD5-6E8865B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A7E-B5EE-4635-8756-524B88C5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28800" y="2396880"/>
            <a:ext cx="5484960" cy="34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155-116D-4686-A806-B9DD02CB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849-D873-40EC-88AE-BA029F0C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9680" y="352656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635-3E2C-4DC1-BDD0-7A37225F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80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9680" y="3174840"/>
            <a:ext cx="267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800" y="3526560"/>
            <a:ext cx="5484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827B-98DB-416C-9870-DAD109A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01680" y="62161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 Sonoma Worksh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B96F2EA-FFDD-4B6B-8432-A57C429BEDB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17280" y="932040"/>
            <a:ext cx="37465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6D2ABA-05D8-4320-8F43-0B6D0747A47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Sonoma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penib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ol.unh.ed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1880" y="248400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anuary 2006 Pre-Plugfest Interop Session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84160" y="4214880"/>
            <a:ext cx="5941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>
              <a:lnSpc>
                <a:spcPct val="73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an Phamdo – Intel – Co-Chair IBTA CI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jal Das - Director, SW Product Mgmt, Mellan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pert Dance – Lamprey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PoIB Tes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“SM Configur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oIB interface and subnet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group creation and jo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Forwarding Table creation,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sizes, ARP resolution,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and disconnection HCA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 procedures (put, get, compare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91A-3A98-4920-BD06-8939A62538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ngle Vendor SM or Open SM Failover Te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ctive SMs on fabric from single vendor only (including Open SM from Open I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all SMs excep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gilent Exerciser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all disabled SMs are NOT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y that SM not disabled is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Cluster Initializa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other SM and verify MASTER/SLAVE election based on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Cluster Initialization tests and OSMTest to validate the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ble MASTER and verify that the existing SLAVE is elected as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Cluster Initialization tests and OSMTest to validate the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bove tests for all vendor SMs and Open 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596-3C70-4B4C-9DF3-5DCA146B072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2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RP and iSER Tes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“SM Configurations” and multiple SMs (Host and/or Switch) in primary/slave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Initiator and Target to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Target, Host, chec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asic dd application from Initiato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 Master SM while test is running.  Check that test completes (with Slave SM taking over as new Ma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 Initiator and check that connection terminat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bove steps (with new Ma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and reconnect Initiator node and run basic dd application from Initiato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4EB-08FC-4EBD-8172-91B2F00125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9" dur="1" fill="hold"/>
                                  <p:tgtEl>
                                    <p:spTgt spid="13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DP Tes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ftpd – FTP and sshd – S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nvironment variables p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ll “SM Configur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NetPerf procedures with message siz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FTP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SCP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SD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510-E84F-4256-A277-BDE8C6661C4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IWG Compliance Tes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know what they 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C64-309C-4CE9-8665-5F6929872F5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me stuff not cover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39560" y="1852560"/>
            <a:ext cx="8275680" cy="39830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5800" y="2133720"/>
            <a:ext cx="6905520" cy="3914640"/>
            <a:chOff x="685800" y="2133720"/>
            <a:chExt cx="6905520" cy="3914640"/>
          </a:xfrm>
        </p:grpSpPr>
        <p:sp>
          <p:nvSpPr>
            <p:cNvPr id="139" name=""/>
            <p:cNvSpPr/>
            <p:nvPr/>
          </p:nvSpPr>
          <p:spPr>
            <a:xfrm>
              <a:off x="685800" y="2133720"/>
              <a:ext cx="100152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6b687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6876"/>
                  </a:solidFill>
                  <a:latin typeface="Arial Narrow"/>
                </a:rPr>
                <a:t>OpenSM</a:t>
              </a:r>
              <a:br>
                <a:rPr sz="1600"/>
              </a:br>
              <a:r>
                <a:rPr b="0" lang="en-US" sz="1600" spc="-1" strike="noStrike">
                  <a:solidFill>
                    <a:srgbClr val="6b6876"/>
                  </a:solidFill>
                  <a:latin typeface="Arial Narrow"/>
                </a:rPr>
                <a:t>OpenIB v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90920" y="3592440"/>
              <a:ext cx="111744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759b5b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59b5b"/>
                  </a:solidFill>
                  <a:latin typeface="Arial Narrow"/>
                </a:rPr>
                <a:t>OEM 1 SM</a:t>
              </a:r>
              <a:br>
                <a:rPr sz="1600"/>
              </a:br>
              <a:r>
                <a:rPr b="0" lang="en-US" sz="1600" spc="-1" strike="noStrike">
                  <a:solidFill>
                    <a:srgbClr val="759b5b"/>
                  </a:solidFill>
                  <a:latin typeface="Arial Narrow"/>
                </a:rPr>
                <a:t>OpenIB v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560" y="5224320"/>
              <a:ext cx="111744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 Narrow"/>
                </a:rPr>
                <a:t>OEM 2 SM</a:t>
              </a:r>
              <a:br>
                <a:rPr sz="1600"/>
              </a:br>
              <a:r>
                <a:rPr b="0" lang="en-US" sz="1600" spc="-1" strike="noStrike">
                  <a:solidFill>
                    <a:srgbClr val="ff9933"/>
                  </a:solidFill>
                  <a:latin typeface="Arial Narrow"/>
                </a:rPr>
                <a:t>OEM 2 PM</a:t>
              </a:r>
              <a:br>
                <a:rPr sz="1600"/>
              </a:br>
              <a:r>
                <a:rPr b="0" lang="en-US" sz="1600" spc="-1" strike="noStrike">
                  <a:solidFill>
                    <a:srgbClr val="ff9933"/>
                  </a:solidFill>
                  <a:latin typeface="Arial Narrow"/>
                </a:rPr>
                <a:t>OpenIB v2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90760" y="5184720"/>
              <a:ext cx="1001520" cy="824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6b687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6876"/>
                  </a:solidFill>
                  <a:latin typeface="Arial Narrow"/>
                </a:rPr>
                <a:t>OpenSM</a:t>
              </a:r>
              <a:br>
                <a:rPr sz="1600"/>
              </a:br>
              <a:r>
                <a:rPr b="0" lang="en-US" sz="1600" spc="-1" strike="noStrike">
                  <a:solidFill>
                    <a:srgbClr val="6b6876"/>
                  </a:solidFill>
                  <a:latin typeface="Arial Narrow"/>
                </a:rPr>
                <a:t>OpenIB v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3520" y="3541680"/>
              <a:ext cx="1117800" cy="580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a48a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 Narrow"/>
                </a:rPr>
                <a:t>OEM 3 SM</a:t>
              </a:r>
              <a:br>
                <a:rPr sz="1600"/>
              </a:br>
              <a:r>
                <a:rPr b="0" lang="en-US" sz="1600" spc="-1" strike="noStrike">
                  <a:solidFill>
                    <a:srgbClr val="333399"/>
                  </a:solidFill>
                  <a:latin typeface="Arial Narrow"/>
                </a:rPr>
                <a:t>OpenIB v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1A0-47F9-4610-AF79-8CA78A54468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 Level Test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test results not issued publicly for vendor confidentiality commitments at this pre-plugfest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 shows some switch relay errors when both ports of the HCAs are connected to the sam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ULPs like IPoIB are s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ULPs like SDP are close but need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ssue with single vendor SM fail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WG Compliance test pack uncovered some bugs with the OpenIB stack – these will be submitted as patch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discovered reported to the vendor contacts in OpenIB for review and consideration as patches for future rel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FFC-F6C4-41F0-81E4-32BAC394AA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44640" y="502920"/>
            <a:ext cx="548496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ther Resul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6600" y="15044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op test plan was reviewed at the start of the event and has been updated after the event and submitted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lan and other event docs are 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enI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541-91B8-40E8-80BB-BDAB9E2E2B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xt Steps / Call to A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TA / CIWG is willing to participate with OpenIB for larger scale Software Interoperability workshop in March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 IOL ready to host and committed to doing physical layer testing.  Funding – W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B members can help in improving the Interoperability Tes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areas still not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to be an on-going 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set-up on-demand testing facilities at UNH 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nIB release version, firmware, vendor SM, HCA, Switch revisions are certified to be interoperable and compatible at any give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ready for a SC06 InfiniBand Bl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4A9-4056-48E2-B144-47F30D7BF87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828800" y="3174840"/>
            <a:ext cx="548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vent Summa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696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 Session 1/16/06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18/06 was hosted by Lamprey Networks in Durham 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jor IBA vendors participated: Cisco, Mellanox, PathScale, SilverStorm, Voltair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devices passed the interoperability procedures; bugs/patches will be posted separately to each vendor or OpenIB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by Bob Noseworthy UNH-IOL Technical director; UNH IOL is considering participating in the next IB PlugF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3D8-7D6C-4910-B847-CAB32943A0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vices Test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3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120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port DDR unmanage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Dell 1850 with 2 DDR port HCAs (Lion 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Path H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2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4 port SDR Anafa 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R 9024 - 24 port SDR Managed Swi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R 9096 - 96 port SDR Managed Swit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16F-7CED-45E1-BC37-C0A1824C5CF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vent Goa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enhance an Interoperability Test Plan for March 06 IBTA-OpenIB PlugFest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testing is the main focus, IPoIB, SDP, SRP, iSER, OpenSM, Voltaire SM (VSM), SilverStorm SM, Cisco 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penIB stack on all HCAs with every available managed and un manag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the possibility of UNH IOL involv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ol.unh.edu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uture on-demand interoperability test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389-9BF9-47AE-BE32-D3F1A0B258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vent Activ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67616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lan was reviewed by all participants and via phone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H IOL Presentation by Bob Nosewor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 initialization running the SM from each one of the managed switches and the Open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 tour at UNH 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oIB Interop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P Interop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 and SRP Interop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 Handover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lan final revie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3D2-C311-4FA1-9C8A-E100747CB0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41400" y="394920"/>
            <a:ext cx="548496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8240" y="149832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ron Mi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khil Kelshi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lla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t K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mrod Gin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ann Geo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verSt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Jawor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erap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 Perr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 Rosen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mprey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pert 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hya Sri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H I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 Nosewort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90B-C64A-41B0-9F62-4F2366F4DD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41400" y="394920"/>
            <a:ext cx="548496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est Configur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9360" y="1949400"/>
          <a:ext cx="7000920" cy="45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949400"/>
                    <a:ext cx="70009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82D-FFEE-4270-8E77-B0400051688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pen SM and OEM SM Configur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19120" y="1884240"/>
          <a:ext cx="6174000" cy="466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884240"/>
                    <a:ext cx="6174000" cy="46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65120" y="1600200"/>
            <a:ext cx="8128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 Narrow"/>
              </a:rPr>
              <a:t>Ope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4038480"/>
            <a:ext cx="11178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759b5b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59b5b"/>
                </a:solidFill>
                <a:latin typeface="Arial Narrow"/>
              </a:rPr>
              <a:t>OEM 1 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3962520"/>
            <a:ext cx="11178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Narrow"/>
              </a:rPr>
              <a:t>OEM 2 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038480"/>
            <a:ext cx="11174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5a48a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OEM 3 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7360" y="1600200"/>
            <a:ext cx="8125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 Narrow"/>
              </a:rPr>
              <a:t>Ope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7560" y="1600200"/>
            <a:ext cx="8125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 Narrow"/>
              </a:rPr>
              <a:t>Ope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600200"/>
            <a:ext cx="8125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 Narrow"/>
              </a:rPr>
              <a:t>Open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1600200"/>
            <a:ext cx="9144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Narrow"/>
              </a:rPr>
              <a:t>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7913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refer to these configurations as “SM Configurations” in the upcoming sl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676520"/>
            <a:ext cx="91440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Narrow"/>
              </a:rPr>
              <a:t>Open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2B3-3FA6-4185-8976-B263926F96A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itialization Tes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“SM Configura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de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ll ports for Armed and Activ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tocol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port error counters (link err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215-DCCA-4A96-9933-651614F6E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7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Hal Rosenstock, Eitan Zahavi</dc:creator>
  <dc:description/>
  <dc:language>en-US</dc:language>
  <cp:lastModifiedBy>IBM</cp:lastModifiedBy>
  <dcterms:modified xsi:type="dcterms:W3CDTF">2006-02-08T16:04:07Z</dcterms:modified>
  <cp:revision>1308</cp:revision>
  <dc:subject/>
  <dc:title>OpenIB OpenSM and Diags</dc:title>
</cp:coreProperties>
</file>