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87EC-6840-4B45-B883-EF1D3DF8F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B4AF-F69F-4F8D-BEA8-F87C3EB6076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D96C9E-B4A9-4C99-87DF-3E6854FB3E6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76AA5E-32EC-455C-A2CE-85D563A87CE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0F46FD-D9B6-47A1-B90D-301D60EB92E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2942D9-04A3-43CC-9E99-796DCFECF31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FAF145-5CDC-40A0-8FFE-66395376C30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EACA04-F5BF-40C0-8D1A-A95CCCBDBB3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1360AF-759C-4A42-94D6-EE01EB4C3F9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0E06EF-7DF8-4A63-B9E1-219411EDD98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82381F-2B39-4464-9D3B-3148A2745BE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108769-8E84-45BD-B2B3-FE5D9A035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EF08-4AF7-4DA9-828B-45A82313F16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3F682-751D-48F7-A07C-BB0BAA2B3E3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C0C82B-08E2-48E0-AF29-66775920B2F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BA6ABE-748C-4694-B62E-08BAE04286C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7E3579-689C-4173-BE1F-67E43BD8E3B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73E08B-1887-49C8-8B7C-4AB4030012C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183FED-69C7-4CC8-AB01-9CA4E869665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AAA9A7-722E-4DC9-AB89-D6916DA0922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FC041F-CF5F-4508-8416-1BF00B78EEA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7F82A5-5A67-488D-9FBC-D904DFF2FBA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2E0D11-A3D9-40E5-9979-2824920E5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9D50-2065-442D-87E0-B74BE74B830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0AFB11-62C9-405C-808D-4F96EA174CA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059-9CFF-486D-A7C3-78A75B9E301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C97-A203-4040-80D7-3B0F67ADA5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CF15-5AAC-4D1C-987D-19A806ACB5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05E2-E0E2-4186-8EB9-9C61B3BF3E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FB4-4081-4201-BF69-0F2C30D94F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5B27-D585-4829-9ABD-1B016CC7A9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4DA-48AA-4C7E-B4EE-C01F13F27F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F499-E12E-4AC7-8FD1-B922318CE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8A6-CCEF-4EF2-9057-417CAABAF6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06E-9F31-44DB-AA0D-0BF48C44B9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D230-89C4-4318-9471-47AFC8797D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680-C54A-439B-B304-FE38F9F642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CBE-88E9-4D51-BE7A-8E9E554EB7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E8541-14BA-4A5D-BDCB-C249BAF5CF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25C11-C637-4AE7-97EA-761BC18CFF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EC006-65F1-47AD-8FB4-2A687EE4CD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669ED-E18C-496C-915E-2F8A9AAC08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F2240-30E9-4E12-8576-882A04AA0F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154F-DF1F-4C46-BABA-A65F80FD61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66D74-F11A-4283-BB4C-51E60E1EA1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4F4A3-ED10-44D9-97A9-63247DF822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39DA1-7E3D-4B63-9419-6CCAC2C021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93CD9-54A0-4A7C-A897-FDB16EFCE1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40F70-2EFC-40E8-86E1-29D7C99542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9358E-B12D-4FE7-999C-CD3408E522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5FE22-BF52-4047-A8B8-0B6051BAEC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A7A3E-1B01-4E13-9138-6ADDECF7D13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6A327-EFAF-47AD-9C23-9CE76410DC3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28D77-C8E5-4A5B-8EF8-93FE118C9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EACA0-81E5-41FD-8560-3C298545A6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5AC5E-7E20-4D58-A74F-DCC4D114E6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051FB-5D7F-434C-B9D0-9EADF91430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2EE9E-0894-457A-8E24-7B7499103C5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21527-7A20-4EEC-81D9-BC6E2C1C6B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AE243-C20B-49FF-865A-32D0904CC2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6F013-74B8-4348-8886-4F9638E5056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70636-C61D-41D0-94BC-14C1197D37F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0D0E2-45AA-4AFD-8608-1C70211667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1BDFB-D565-4115-985A-1C4B47D6C96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9518-99CC-4911-9644-65DD0442C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944C8-6C22-4291-8E01-17BA6CD30CC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7BD5-2906-4DC7-94B3-397798F1F4B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8B43-4E4D-47CB-8E08-BF5757B314D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2D8A-D88B-4455-B566-8B25149F756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0700-B8A7-4BDC-8484-63601D0112D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C19D-1E36-4952-BC99-01E41101D17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6005-75AE-437B-AD1E-F40840999FA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67E1-7056-429C-A867-6E8A26EBDC8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3C10-A7BF-4BFD-953E-B3146C6D6FD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2A95-3829-490C-AD17-900C7BDE472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D71D-60A5-4B1E-BA4B-321A6C740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D5E2-BAE5-4E24-B639-B19BD38E3FD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7064-67A7-40E2-8A4A-7A759E7CBB4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444961-6AC9-47F7-99DA-EC39CA06E8E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0247BA-602B-40C1-998F-D217A4E90AD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6AFFC7-6B78-47E2-A929-D4B84BFCC20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E7E726-78A2-4687-8351-E4F8840A62F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AB82FA-CAFB-4DF1-AC17-6A38E4014E4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F18DB9-0EC1-403F-B33D-1DC4E2BC072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B81594-3AFC-426B-93F4-71BCD65E4A5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0C85F5-BF64-4FFF-A72D-6EAD515A2A6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89E7C9-6B10-466E-9776-E40B7030B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7BE0-4415-470C-BE5E-70FA869A99D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0562D5-E70D-4477-B8C8-05C30C9B94F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4D2525-E701-4D26-8064-E887D078716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575E93-B678-4C9E-8915-9638387C706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545FC-7AF5-4973-A5D1-210171CF292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FB20D-5F28-4EC8-8A4B-4AE40883C5D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711A6-7EBA-417D-9DF3-5CD639D3231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3FBD3-DD9C-4796-A17A-55597AEBBF0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D80D2-7E9E-4B1A-90C3-274F56D9BAF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60E52-AEF1-41D5-9A70-6372FB154C7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BB805-A5AE-4112-B3CC-DC1A70134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81E9-AD9C-46FF-9013-EF35D460259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AAF2C-9AB7-4152-B884-EA71A7F0EDF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1068F-6E40-47F5-8391-152040CF34E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9A5CB-FD9E-48A6-A513-8D64288CD7F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3263F-CAAD-4640-A6E9-F56AAF5A0E8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294BA-1211-4697-8BC7-BD60783F0CD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F8D7C-184D-4DB2-8E88-37B708FB69F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036AF-244D-4670-ABFF-43C7569CBEC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A13F3-B1D5-4F6B-84A3-E51E48C50CB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D6FB3-26A1-41D9-B0E1-0D5EE7847F7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E2DF1-F8A8-4F62-BF16-581FC4571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E171-DB66-4C1F-A35D-6113AC2E857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7BA0A-C6CA-49D5-B955-7E139EE25AB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2E409-D556-44BD-B01E-EE51882A652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D9CC8-005D-4331-B262-1D8F30359E1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5DE46-168B-4582-84F2-5E8B186E587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4E097-4E70-4DF7-9523-414E9817141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C3A34-E16B-4BBA-9D49-9D26F157947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D7B64-FB57-4ABA-887E-A3C1068FC8D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8B9BEB-97DD-4D38-837D-41442BEC846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F97FF-C02C-4DDC-98EB-A8B816E25D5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F7B808-56EE-4E33-9921-431FBDDCF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1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4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9EAD-6CB9-4886-9F1A-76149BDEE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3A7B-E2A3-4EE9-A6D2-0E2E8D410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9360" y="6480"/>
            <a:ext cx="9125280" cy="68450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sldNum" idx="11"/>
          </p:nvPr>
        </p:nvSpPr>
        <p:spPr>
          <a:xfrm>
            <a:off x="57240" y="6528960"/>
            <a:ext cx="139536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777777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CA2F-50C9-4997-A088-EE7B1D8A39DF}" type="slidenum">
              <a:rPr b="1" lang="en-US" sz="900" spc="-1" strike="noStrike">
                <a:solidFill>
                  <a:srgbClr val="777777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05280" y="66578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body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"/>
          <p:cNvSpPr/>
          <p:nvPr/>
        </p:nvSpPr>
        <p:spPr>
          <a:xfrm>
            <a:off x="1669680" y="6548400"/>
            <a:ext cx="583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7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de Association.  Other names and brands are properties of their respective ow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803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48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F1F6-59B6-423E-9BA3-D99753D63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88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91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4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0CDB-E128-4474-AC48-9D15838E8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131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134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5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1639-58C9-4533-9829-4E35C1444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174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177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6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0037-A7AC-483B-BD30-6705A7C13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217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220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7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A108-4536-44D4-8F19-708EDC0F3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260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263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8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03B0-31A1-4309-A4A5-90F63144F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03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306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9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2E49-8268-4665-8072-11A9F343C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1025" descr=""/>
          <p:cNvPicPr/>
          <p:nvPr/>
        </p:nvPicPr>
        <p:blipFill>
          <a:blip r:embed="rId2"/>
          <a:stretch/>
        </p:blipFill>
        <p:spPr>
          <a:xfrm>
            <a:off x="0" y="66088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46" name="Rectangle 102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5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41172"/>
              </a:buClr>
              <a:buFont typeface="Arial Narrow"/>
              <a:buChar char="•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241172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»"/>
            </a:pPr>
            <a:r>
              <a:rPr b="1" lang="en-US" sz="3000" spc="-1" strike="noStrike">
                <a:solidFill>
                  <a:srgbClr val="241172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241172"/>
              </a:solidFill>
              <a:latin typeface="Arial Narrow"/>
            </a:endParaRPr>
          </a:p>
        </p:txBody>
      </p:sp>
      <p:pic>
        <p:nvPicPr>
          <p:cNvPr id="349" name="Rectangle 1029" descr=""/>
          <p:cNvPicPr/>
          <p:nvPr/>
        </p:nvPicPr>
        <p:blipFill>
          <a:blip r:embed="rId4"/>
          <a:stretch/>
        </p:blipFill>
        <p:spPr>
          <a:xfrm>
            <a:off x="7772400" y="13644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32"/>
          <p:cNvSpPr/>
          <p:nvPr/>
        </p:nvSpPr>
        <p:spPr>
          <a:xfrm>
            <a:off x="3276720" y="6537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llanox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Num" idx="10"/>
          </p:nvPr>
        </p:nvSpPr>
        <p:spPr>
          <a:xfrm>
            <a:off x="228600" y="66290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5588-5CC6-40E7-BDA3-5D989228A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1172"/>
                </a:solidFill>
                <a:latin typeface="Arial"/>
              </a:rPr>
              <a:t>IB Cross-Subnet Communic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244080" y="2312640"/>
            <a:ext cx="6505560" cy="10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penFabrics Alliance Workshop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ay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2007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6781680" y="1768320"/>
            <a:ext cx="21337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obal Name Resolu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244080" y="1142640"/>
            <a:ext cx="85186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oal: Map Service Name to GI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n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B DNS Que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agement Infrastru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ame Resolution Servi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6945480" y="901800"/>
            <a:ext cx="18936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obal Path Parameters Discovery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44080" y="990360"/>
            <a:ext cx="8518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oal: Obtain Global Path Parameters for Inter-Subnet Traffic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ath MTU, Static Rate, P_Key, Q_Ke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ome Possible Approach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lobal Manager Quer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quires GM Sync with Routing Protoco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robed Discovery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mits Runtime Global Policing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Orthogonal to whether global or distribute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GMQ: N/A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D: participates in the protoco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ndnod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GMQ: Query G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D: initiates pre-CM probe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Management Infrastructur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GMQ: Responds to Querie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D: Setup only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4" name=""/>
          <p:cNvSpPr/>
          <p:nvPr/>
        </p:nvSpPr>
        <p:spPr>
          <a:xfrm>
            <a:off x="6781680" y="1905120"/>
            <a:ext cx="21337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6945480" y="901800"/>
            <a:ext cx="18936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outing Decis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244080" y="11430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oal: Given a DGID obtain next hop GI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mazingly similar to IPv6 routing fun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77400" indent="-217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outing Table Looku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n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77400" indent="-217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outing Table Lookup or Query External Ag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agement Infrastru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77400" indent="-217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462040"/>
            <a:ext cx="21337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6945480" y="901800"/>
            <a:ext cx="18936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L2 Address Resolu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44080" y="106668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oal: Map Subnet  Local GID to IB L2 Addr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792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hQuery to the S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99792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ch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n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792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hQuery to the S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agement Infrastru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792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2" name=""/>
          <p:cNvSpPr/>
          <p:nvPr/>
        </p:nvSpPr>
        <p:spPr>
          <a:xfrm>
            <a:off x="6781680" y="2598840"/>
            <a:ext cx="21337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6945480" y="901800"/>
            <a:ext cx="18936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dvanced Topic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244080" y="106668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up and Manag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oup Membership Protoco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stream Ope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cket Replic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lobal Q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oad Balancing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igh Availabil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ault Contain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ll to Ac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44080" y="9144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BTA LWG Charter (joint work with MgtW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ep 0: Scop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ep 1: Near Time Solu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ep 2: Full Blown Solu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Join the IBTA to Participate in the Defin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ww.infinibandta.or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y IB Routing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44080" y="1066680"/>
            <a:ext cx="47847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ocal address space reu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tainment of failures and topology chang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finement of fabric management scope to subne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72" name="Group 5"/>
          <p:cNvGrpSpPr/>
          <p:nvPr/>
        </p:nvGrpSpPr>
        <p:grpSpPr>
          <a:xfrm>
            <a:off x="226440" y="4572000"/>
            <a:ext cx="2381400" cy="1742400"/>
            <a:chOff x="226440" y="4572000"/>
            <a:chExt cx="2381400" cy="1742400"/>
          </a:xfrm>
        </p:grpSpPr>
        <p:grpSp>
          <p:nvGrpSpPr>
            <p:cNvPr id="473" name="Group 81"/>
            <p:cNvGrpSpPr/>
            <p:nvPr/>
          </p:nvGrpSpPr>
          <p:grpSpPr>
            <a:xfrm>
              <a:off x="245880" y="4572000"/>
              <a:ext cx="2361960" cy="990360"/>
              <a:chOff x="245880" y="4572000"/>
              <a:chExt cx="2361960" cy="990360"/>
            </a:xfrm>
          </p:grpSpPr>
          <p:sp>
            <p:nvSpPr>
              <p:cNvPr id="474" name="Rectangle 16466"/>
              <p:cNvSpPr/>
              <p:nvPr/>
            </p:nvSpPr>
            <p:spPr>
              <a:xfrm>
                <a:off x="257760" y="4572000"/>
                <a:ext cx="235008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Shape 16467"/>
              <p:cNvSpPr/>
              <p:nvPr/>
            </p:nvSpPr>
            <p:spPr>
              <a:xfrm>
                <a:off x="245880" y="4572000"/>
                <a:ext cx="2331360" cy="9781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Shape 16468"/>
              <p:cNvSpPr/>
              <p:nvPr/>
            </p:nvSpPr>
            <p:spPr>
              <a:xfrm>
                <a:off x="377640" y="5149800"/>
                <a:ext cx="1368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Shape 16469"/>
              <p:cNvSpPr/>
              <p:nvPr/>
            </p:nvSpPr>
            <p:spPr>
              <a:xfrm>
                <a:off x="576000" y="5364360"/>
                <a:ext cx="5976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Shape 16470"/>
              <p:cNvSpPr/>
              <p:nvPr/>
            </p:nvSpPr>
            <p:spPr>
              <a:xfrm>
                <a:off x="1114920" y="5420880"/>
                <a:ext cx="3564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Shape 16471"/>
              <p:cNvSpPr/>
              <p:nvPr/>
            </p:nvSpPr>
            <p:spPr>
              <a:xfrm>
                <a:off x="1802880" y="5361120"/>
                <a:ext cx="1404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Shape 16472"/>
              <p:cNvSpPr/>
              <p:nvPr/>
            </p:nvSpPr>
            <p:spPr>
              <a:xfrm>
                <a:off x="2105280" y="5094360"/>
                <a:ext cx="17496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Shape 16473"/>
              <p:cNvSpPr/>
              <p:nvPr/>
            </p:nvSpPr>
            <p:spPr>
              <a:xfrm>
                <a:off x="2439000" y="4921560"/>
                <a:ext cx="77760" cy="60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Shape 16474"/>
              <p:cNvSpPr/>
              <p:nvPr/>
            </p:nvSpPr>
            <p:spPr>
              <a:xfrm>
                <a:off x="2329560" y="469764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Shape 16475"/>
              <p:cNvSpPr/>
              <p:nvPr/>
            </p:nvSpPr>
            <p:spPr>
              <a:xfrm>
                <a:off x="1831320" y="4627440"/>
                <a:ext cx="3960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Shape 16476"/>
              <p:cNvSpPr/>
              <p:nvPr/>
            </p:nvSpPr>
            <p:spPr>
              <a:xfrm>
                <a:off x="1454760" y="4649040"/>
                <a:ext cx="1872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Shape 16477"/>
              <p:cNvSpPr/>
              <p:nvPr/>
            </p:nvSpPr>
            <p:spPr>
              <a:xfrm>
                <a:off x="1017720" y="4692600"/>
                <a:ext cx="691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Shape 16478"/>
              <p:cNvSpPr/>
              <p:nvPr/>
            </p:nvSpPr>
            <p:spPr>
              <a:xfrm>
                <a:off x="471240" y="4899960"/>
                <a:ext cx="1332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Rectangle 16457"/>
            <p:cNvSpPr/>
            <p:nvPr/>
          </p:nvSpPr>
          <p:spPr>
            <a:xfrm>
              <a:off x="452160" y="5711400"/>
              <a:ext cx="3891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6458"/>
            <p:cNvSpPr/>
            <p:nvPr/>
          </p:nvSpPr>
          <p:spPr>
            <a:xfrm>
              <a:off x="907560" y="5711400"/>
              <a:ext cx="3891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6459"/>
            <p:cNvSpPr/>
            <p:nvPr/>
          </p:nvSpPr>
          <p:spPr>
            <a:xfrm>
              <a:off x="1937880" y="5711400"/>
              <a:ext cx="3891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Box 16460"/>
            <p:cNvSpPr/>
            <p:nvPr/>
          </p:nvSpPr>
          <p:spPr>
            <a:xfrm>
              <a:off x="1255680" y="5105520"/>
              <a:ext cx="72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Straight Connector 16461"/>
            <p:cNvSpPr/>
            <p:nvPr/>
          </p:nvSpPr>
          <p:spPr>
            <a:xfrm flipV="1">
              <a:off x="605880" y="5447160"/>
              <a:ext cx="69480" cy="27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Straight Connector 16462"/>
            <p:cNvSpPr/>
            <p:nvPr/>
          </p:nvSpPr>
          <p:spPr>
            <a:xfrm flipH="1">
              <a:off x="1065960" y="5486040"/>
              <a:ext cx="41760" cy="228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traight Connector 16463"/>
            <p:cNvSpPr/>
            <p:nvPr/>
          </p:nvSpPr>
          <p:spPr>
            <a:xfrm>
              <a:off x="2068560" y="5410080"/>
              <a:ext cx="45000" cy="295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Box 16464"/>
            <p:cNvSpPr/>
            <p:nvPr/>
          </p:nvSpPr>
          <p:spPr>
            <a:xfrm>
              <a:off x="907560" y="4876560"/>
              <a:ext cx="117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bnet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Box 16465"/>
            <p:cNvSpPr/>
            <p:nvPr/>
          </p:nvSpPr>
          <p:spPr>
            <a:xfrm>
              <a:off x="226440" y="5943600"/>
              <a:ext cx="91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6"/>
          <p:cNvGrpSpPr/>
          <p:nvPr/>
        </p:nvGrpSpPr>
        <p:grpSpPr>
          <a:xfrm>
            <a:off x="3537360" y="4572000"/>
            <a:ext cx="2333160" cy="1742400"/>
            <a:chOff x="3537360" y="4572000"/>
            <a:chExt cx="2333160" cy="1742400"/>
          </a:xfrm>
        </p:grpSpPr>
        <p:grpSp>
          <p:nvGrpSpPr>
            <p:cNvPr id="497" name="Group 58"/>
            <p:cNvGrpSpPr/>
            <p:nvPr/>
          </p:nvGrpSpPr>
          <p:grpSpPr>
            <a:xfrm>
              <a:off x="3580920" y="4572000"/>
              <a:ext cx="2289600" cy="990360"/>
              <a:chOff x="3580920" y="4572000"/>
              <a:chExt cx="2289600" cy="990360"/>
            </a:xfrm>
          </p:grpSpPr>
          <p:sp>
            <p:nvSpPr>
              <p:cNvPr id="498" name="Rectangle 16443"/>
              <p:cNvSpPr/>
              <p:nvPr/>
            </p:nvSpPr>
            <p:spPr>
              <a:xfrm>
                <a:off x="3580920" y="4572000"/>
                <a:ext cx="228960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Shape 16444"/>
              <p:cNvSpPr/>
              <p:nvPr/>
            </p:nvSpPr>
            <p:spPr>
              <a:xfrm>
                <a:off x="3585600" y="4574520"/>
                <a:ext cx="2270880" cy="9781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Shape 16445"/>
              <p:cNvSpPr/>
              <p:nvPr/>
            </p:nvSpPr>
            <p:spPr>
              <a:xfrm>
                <a:off x="3697560" y="5149800"/>
                <a:ext cx="1332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Shape 16446"/>
              <p:cNvSpPr/>
              <p:nvPr/>
            </p:nvSpPr>
            <p:spPr>
              <a:xfrm>
                <a:off x="3890880" y="5364360"/>
                <a:ext cx="5832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Shape 16447"/>
              <p:cNvSpPr/>
              <p:nvPr/>
            </p:nvSpPr>
            <p:spPr>
              <a:xfrm>
                <a:off x="4415760" y="5420880"/>
                <a:ext cx="3492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Shape 16448"/>
              <p:cNvSpPr/>
              <p:nvPr/>
            </p:nvSpPr>
            <p:spPr>
              <a:xfrm>
                <a:off x="5086080" y="5361120"/>
                <a:ext cx="1368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Shape 16449"/>
              <p:cNvSpPr/>
              <p:nvPr/>
            </p:nvSpPr>
            <p:spPr>
              <a:xfrm>
                <a:off x="5380560" y="5094360"/>
                <a:ext cx="17064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Shape 16450"/>
              <p:cNvSpPr/>
              <p:nvPr/>
            </p:nvSpPr>
            <p:spPr>
              <a:xfrm>
                <a:off x="5705640" y="4921560"/>
                <a:ext cx="75600" cy="60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Shape 16451"/>
              <p:cNvSpPr/>
              <p:nvPr/>
            </p:nvSpPr>
            <p:spPr>
              <a:xfrm>
                <a:off x="5599080" y="469764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Shape 16452"/>
              <p:cNvSpPr/>
              <p:nvPr/>
            </p:nvSpPr>
            <p:spPr>
              <a:xfrm>
                <a:off x="5113800" y="4627440"/>
                <a:ext cx="3852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Shape 16453"/>
              <p:cNvSpPr/>
              <p:nvPr/>
            </p:nvSpPr>
            <p:spPr>
              <a:xfrm>
                <a:off x="4746960" y="4649040"/>
                <a:ext cx="1836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Shape 16454"/>
              <p:cNvSpPr/>
              <p:nvPr/>
            </p:nvSpPr>
            <p:spPr>
              <a:xfrm>
                <a:off x="4321080" y="4692600"/>
                <a:ext cx="673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Shape 16455"/>
              <p:cNvSpPr/>
              <p:nvPr/>
            </p:nvSpPr>
            <p:spPr>
              <a:xfrm>
                <a:off x="3789000" y="4899960"/>
                <a:ext cx="1296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Rectangle 16434"/>
            <p:cNvSpPr/>
            <p:nvPr/>
          </p:nvSpPr>
          <p:spPr>
            <a:xfrm>
              <a:off x="3770280" y="571140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16435"/>
            <p:cNvSpPr/>
            <p:nvPr/>
          </p:nvSpPr>
          <p:spPr>
            <a:xfrm>
              <a:off x="4214160" y="571140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6436"/>
            <p:cNvSpPr/>
            <p:nvPr/>
          </p:nvSpPr>
          <p:spPr>
            <a:xfrm>
              <a:off x="5237280" y="571140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16437"/>
            <p:cNvSpPr/>
            <p:nvPr/>
          </p:nvSpPr>
          <p:spPr>
            <a:xfrm>
              <a:off x="4549680" y="5105520"/>
              <a:ext cx="70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Straight Connector 16438"/>
            <p:cNvSpPr/>
            <p:nvPr/>
          </p:nvSpPr>
          <p:spPr>
            <a:xfrm flipV="1">
              <a:off x="3920400" y="5447160"/>
              <a:ext cx="67680" cy="27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Straight Connector 16439"/>
            <p:cNvSpPr/>
            <p:nvPr/>
          </p:nvSpPr>
          <p:spPr>
            <a:xfrm flipH="1">
              <a:off x="4367880" y="5486040"/>
              <a:ext cx="40680" cy="228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Straight Connector 16440"/>
            <p:cNvSpPr/>
            <p:nvPr/>
          </p:nvSpPr>
          <p:spPr>
            <a:xfrm>
              <a:off x="5344920" y="5410080"/>
              <a:ext cx="43920" cy="295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16441"/>
            <p:cNvSpPr/>
            <p:nvPr/>
          </p:nvSpPr>
          <p:spPr>
            <a:xfrm>
              <a:off x="4201200" y="4876560"/>
              <a:ext cx="113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bnet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16442"/>
            <p:cNvSpPr/>
            <p:nvPr/>
          </p:nvSpPr>
          <p:spPr>
            <a:xfrm>
              <a:off x="3537360" y="5943600"/>
              <a:ext cx="88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7"/>
          <p:cNvGrpSpPr/>
          <p:nvPr/>
        </p:nvGrpSpPr>
        <p:grpSpPr>
          <a:xfrm>
            <a:off x="6755400" y="4572000"/>
            <a:ext cx="2329920" cy="1742400"/>
            <a:chOff x="6755400" y="4572000"/>
            <a:chExt cx="2329920" cy="1742400"/>
          </a:xfrm>
        </p:grpSpPr>
        <p:grpSp>
          <p:nvGrpSpPr>
            <p:cNvPr id="521" name="Group 35"/>
            <p:cNvGrpSpPr/>
            <p:nvPr/>
          </p:nvGrpSpPr>
          <p:grpSpPr>
            <a:xfrm>
              <a:off x="6798960" y="4572000"/>
              <a:ext cx="2286360" cy="990360"/>
              <a:chOff x="6798960" y="4572000"/>
              <a:chExt cx="2286360" cy="990360"/>
            </a:xfrm>
          </p:grpSpPr>
          <p:sp>
            <p:nvSpPr>
              <p:cNvPr id="522" name="Rectangle 16420"/>
              <p:cNvSpPr/>
              <p:nvPr/>
            </p:nvSpPr>
            <p:spPr>
              <a:xfrm>
                <a:off x="6798960" y="4572000"/>
                <a:ext cx="228636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Shape 16421"/>
              <p:cNvSpPr/>
              <p:nvPr/>
            </p:nvSpPr>
            <p:spPr>
              <a:xfrm>
                <a:off x="6803640" y="4574520"/>
                <a:ext cx="2267640" cy="9781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Shape 16422"/>
              <p:cNvSpPr/>
              <p:nvPr/>
            </p:nvSpPr>
            <p:spPr>
              <a:xfrm>
                <a:off x="6915600" y="5149800"/>
                <a:ext cx="1332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Shape 16423"/>
              <p:cNvSpPr/>
              <p:nvPr/>
            </p:nvSpPr>
            <p:spPr>
              <a:xfrm>
                <a:off x="7108200" y="5364360"/>
                <a:ext cx="5796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Shape 16424"/>
              <p:cNvSpPr/>
              <p:nvPr/>
            </p:nvSpPr>
            <p:spPr>
              <a:xfrm>
                <a:off x="7632720" y="5420880"/>
                <a:ext cx="3492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Shape 16425"/>
              <p:cNvSpPr/>
              <p:nvPr/>
            </p:nvSpPr>
            <p:spPr>
              <a:xfrm>
                <a:off x="8301960" y="5361120"/>
                <a:ext cx="1368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Shape 16426"/>
              <p:cNvSpPr/>
              <p:nvPr/>
            </p:nvSpPr>
            <p:spPr>
              <a:xfrm>
                <a:off x="8596080" y="5094360"/>
                <a:ext cx="17028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Shape 16427"/>
              <p:cNvSpPr/>
              <p:nvPr/>
            </p:nvSpPr>
            <p:spPr>
              <a:xfrm>
                <a:off x="8920800" y="4921560"/>
                <a:ext cx="75600" cy="60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Shape 16428"/>
              <p:cNvSpPr/>
              <p:nvPr/>
            </p:nvSpPr>
            <p:spPr>
              <a:xfrm>
                <a:off x="8814240" y="469764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Shape 16429"/>
              <p:cNvSpPr/>
              <p:nvPr/>
            </p:nvSpPr>
            <p:spPr>
              <a:xfrm>
                <a:off x="8329680" y="4627440"/>
                <a:ext cx="3852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Shape 16430"/>
              <p:cNvSpPr/>
              <p:nvPr/>
            </p:nvSpPr>
            <p:spPr>
              <a:xfrm>
                <a:off x="7963200" y="4649040"/>
                <a:ext cx="1836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Shape 16431"/>
              <p:cNvSpPr/>
              <p:nvPr/>
            </p:nvSpPr>
            <p:spPr>
              <a:xfrm>
                <a:off x="7538040" y="4692600"/>
                <a:ext cx="673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Shape 16432"/>
              <p:cNvSpPr/>
              <p:nvPr/>
            </p:nvSpPr>
            <p:spPr>
              <a:xfrm>
                <a:off x="7006680" y="4899960"/>
                <a:ext cx="1296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Rectangle 16411"/>
            <p:cNvSpPr/>
            <p:nvPr/>
          </p:nvSpPr>
          <p:spPr>
            <a:xfrm>
              <a:off x="6987960" y="5711400"/>
              <a:ext cx="3783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6412"/>
            <p:cNvSpPr/>
            <p:nvPr/>
          </p:nvSpPr>
          <p:spPr>
            <a:xfrm>
              <a:off x="7431120" y="5711400"/>
              <a:ext cx="3783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6413"/>
            <p:cNvSpPr/>
            <p:nvPr/>
          </p:nvSpPr>
          <p:spPr>
            <a:xfrm>
              <a:off x="8433360" y="5711400"/>
              <a:ext cx="3783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16414"/>
            <p:cNvSpPr/>
            <p:nvPr/>
          </p:nvSpPr>
          <p:spPr>
            <a:xfrm>
              <a:off x="7720200" y="5105520"/>
              <a:ext cx="704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Straight Connector 16415"/>
            <p:cNvSpPr/>
            <p:nvPr/>
          </p:nvSpPr>
          <p:spPr>
            <a:xfrm flipV="1">
              <a:off x="7137720" y="5447160"/>
              <a:ext cx="67680" cy="27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Straight Connector 16416"/>
            <p:cNvSpPr/>
            <p:nvPr/>
          </p:nvSpPr>
          <p:spPr>
            <a:xfrm flipH="1">
              <a:off x="7585200" y="5486040"/>
              <a:ext cx="40320" cy="228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Straight Connector 16417"/>
            <p:cNvSpPr/>
            <p:nvPr/>
          </p:nvSpPr>
          <p:spPr>
            <a:xfrm>
              <a:off x="8560440" y="5410080"/>
              <a:ext cx="43920" cy="295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16418"/>
            <p:cNvSpPr/>
            <p:nvPr/>
          </p:nvSpPr>
          <p:spPr>
            <a:xfrm>
              <a:off x="7436520" y="4876560"/>
              <a:ext cx="113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bnet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16419"/>
            <p:cNvSpPr/>
            <p:nvPr/>
          </p:nvSpPr>
          <p:spPr>
            <a:xfrm>
              <a:off x="6755400" y="5943600"/>
              <a:ext cx="892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Rounded Rectangle 16400"/>
          <p:cNvSpPr/>
          <p:nvPr/>
        </p:nvSpPr>
        <p:spPr>
          <a:xfrm>
            <a:off x="2684520" y="487692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ounded Rectangle 16401"/>
          <p:cNvSpPr/>
          <p:nvPr/>
        </p:nvSpPr>
        <p:spPr>
          <a:xfrm>
            <a:off x="5884920" y="4267080"/>
            <a:ext cx="838080" cy="38124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10"/>
          <p:cNvSpPr/>
          <p:nvPr/>
        </p:nvSpPr>
        <p:spPr>
          <a:xfrm flipH="1" flipV="1">
            <a:off x="2379240" y="5105520"/>
            <a:ext cx="304920" cy="1440"/>
          </a:xfrm>
          <a:prstGeom prst="line">
            <a:avLst/>
          </a:prstGeom>
          <a:ln cap="rnd" w="349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aight Connector 11"/>
          <p:cNvSpPr/>
          <p:nvPr/>
        </p:nvSpPr>
        <p:spPr>
          <a:xfrm flipH="1" flipV="1">
            <a:off x="3522240" y="5103360"/>
            <a:ext cx="304920" cy="1800"/>
          </a:xfrm>
          <a:prstGeom prst="line">
            <a:avLst/>
          </a:prstGeom>
          <a:ln cap="rnd" w="349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12"/>
          <p:cNvSpPr/>
          <p:nvPr/>
        </p:nvSpPr>
        <p:spPr>
          <a:xfrm flipH="1">
            <a:off x="5427720" y="4497480"/>
            <a:ext cx="457200" cy="30456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13"/>
          <p:cNvSpPr/>
          <p:nvPr/>
        </p:nvSpPr>
        <p:spPr>
          <a:xfrm flipH="1" flipV="1">
            <a:off x="6722640" y="4573080"/>
            <a:ext cx="381240" cy="30492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ounded Rectangle 16406"/>
          <p:cNvSpPr/>
          <p:nvPr/>
        </p:nvSpPr>
        <p:spPr>
          <a:xfrm>
            <a:off x="5884920" y="54864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15"/>
          <p:cNvSpPr/>
          <p:nvPr/>
        </p:nvSpPr>
        <p:spPr>
          <a:xfrm flipH="1">
            <a:off x="6722640" y="5335560"/>
            <a:ext cx="381240" cy="37944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traight Connector 19"/>
          <p:cNvSpPr/>
          <p:nvPr/>
        </p:nvSpPr>
        <p:spPr>
          <a:xfrm flipH="1" flipV="1">
            <a:off x="5460840" y="5293800"/>
            <a:ext cx="424080" cy="38268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5122080" y="2286000"/>
            <a:ext cx="2326320" cy="1742400"/>
            <a:chOff x="5122080" y="2286000"/>
            <a:chExt cx="2326320" cy="1742400"/>
          </a:xfrm>
        </p:grpSpPr>
        <p:grpSp>
          <p:nvGrpSpPr>
            <p:cNvPr id="554" name="Group 58"/>
            <p:cNvGrpSpPr/>
            <p:nvPr/>
          </p:nvGrpSpPr>
          <p:grpSpPr>
            <a:xfrm>
              <a:off x="5159160" y="2286000"/>
              <a:ext cx="2289240" cy="990360"/>
              <a:chOff x="5159160" y="2286000"/>
              <a:chExt cx="2289240" cy="990360"/>
            </a:xfrm>
          </p:grpSpPr>
          <p:sp>
            <p:nvSpPr>
              <p:cNvPr id="555" name="Rectangle 16443"/>
              <p:cNvSpPr/>
              <p:nvPr/>
            </p:nvSpPr>
            <p:spPr>
              <a:xfrm>
                <a:off x="5159160" y="2286000"/>
                <a:ext cx="228924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Shape 16444"/>
              <p:cNvSpPr/>
              <p:nvPr/>
            </p:nvSpPr>
            <p:spPr>
              <a:xfrm>
                <a:off x="5163840" y="2288520"/>
                <a:ext cx="2270520" cy="9781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Shape 16445"/>
              <p:cNvSpPr/>
              <p:nvPr/>
            </p:nvSpPr>
            <p:spPr>
              <a:xfrm>
                <a:off x="5275800" y="2863800"/>
                <a:ext cx="1332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Shape 16446"/>
              <p:cNvSpPr/>
              <p:nvPr/>
            </p:nvSpPr>
            <p:spPr>
              <a:xfrm>
                <a:off x="5469120" y="3078360"/>
                <a:ext cx="5832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Shape 16447"/>
              <p:cNvSpPr/>
              <p:nvPr/>
            </p:nvSpPr>
            <p:spPr>
              <a:xfrm>
                <a:off x="5994000" y="3134880"/>
                <a:ext cx="3492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Shape 16448"/>
              <p:cNvSpPr/>
              <p:nvPr/>
            </p:nvSpPr>
            <p:spPr>
              <a:xfrm>
                <a:off x="6663960" y="3075120"/>
                <a:ext cx="1368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Shape 16449"/>
              <p:cNvSpPr/>
              <p:nvPr/>
            </p:nvSpPr>
            <p:spPr>
              <a:xfrm>
                <a:off x="6958440" y="2808360"/>
                <a:ext cx="17064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Shape 16450"/>
              <p:cNvSpPr/>
              <p:nvPr/>
            </p:nvSpPr>
            <p:spPr>
              <a:xfrm>
                <a:off x="7283520" y="2635560"/>
                <a:ext cx="75600" cy="60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Shape 16451"/>
              <p:cNvSpPr/>
              <p:nvPr/>
            </p:nvSpPr>
            <p:spPr>
              <a:xfrm>
                <a:off x="7176960" y="241164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Shape 16452"/>
              <p:cNvSpPr/>
              <p:nvPr/>
            </p:nvSpPr>
            <p:spPr>
              <a:xfrm>
                <a:off x="6691680" y="2341440"/>
                <a:ext cx="3852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Shape 16453"/>
              <p:cNvSpPr/>
              <p:nvPr/>
            </p:nvSpPr>
            <p:spPr>
              <a:xfrm>
                <a:off x="6324840" y="2363040"/>
                <a:ext cx="1836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Shape 16454"/>
              <p:cNvSpPr/>
              <p:nvPr/>
            </p:nvSpPr>
            <p:spPr>
              <a:xfrm>
                <a:off x="5899320" y="2406600"/>
                <a:ext cx="673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Shape 16455"/>
              <p:cNvSpPr/>
              <p:nvPr/>
            </p:nvSpPr>
            <p:spPr>
              <a:xfrm>
                <a:off x="5367240" y="2613960"/>
                <a:ext cx="1296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Rectangle 16434"/>
            <p:cNvSpPr/>
            <p:nvPr/>
          </p:nvSpPr>
          <p:spPr>
            <a:xfrm>
              <a:off x="5348520" y="342540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6435"/>
            <p:cNvSpPr/>
            <p:nvPr/>
          </p:nvSpPr>
          <p:spPr>
            <a:xfrm>
              <a:off x="5792400" y="342540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6436"/>
            <p:cNvSpPr/>
            <p:nvPr/>
          </p:nvSpPr>
          <p:spPr>
            <a:xfrm>
              <a:off x="6815160" y="342540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Box 16437"/>
            <p:cNvSpPr/>
            <p:nvPr/>
          </p:nvSpPr>
          <p:spPr>
            <a:xfrm>
              <a:off x="6127560" y="2819520"/>
              <a:ext cx="707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Straight Connector 16438"/>
            <p:cNvSpPr/>
            <p:nvPr/>
          </p:nvSpPr>
          <p:spPr>
            <a:xfrm flipV="1">
              <a:off x="5498280" y="3161160"/>
              <a:ext cx="67680" cy="27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Straight Connector 16439"/>
            <p:cNvSpPr/>
            <p:nvPr/>
          </p:nvSpPr>
          <p:spPr>
            <a:xfrm flipH="1">
              <a:off x="5946120" y="3200040"/>
              <a:ext cx="40680" cy="228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Straight Connector 16440"/>
            <p:cNvSpPr/>
            <p:nvPr/>
          </p:nvSpPr>
          <p:spPr>
            <a:xfrm>
              <a:off x="6922800" y="3124080"/>
              <a:ext cx="43920" cy="295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16441"/>
            <p:cNvSpPr/>
            <p:nvPr/>
          </p:nvSpPr>
          <p:spPr>
            <a:xfrm>
              <a:off x="5799960" y="25905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bnet 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16442"/>
            <p:cNvSpPr/>
            <p:nvPr/>
          </p:nvSpPr>
          <p:spPr>
            <a:xfrm>
              <a:off x="5122080" y="3657600"/>
              <a:ext cx="87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Straight Connector 12"/>
          <p:cNvSpPr/>
          <p:nvPr/>
        </p:nvSpPr>
        <p:spPr>
          <a:xfrm flipH="1">
            <a:off x="6324480" y="3199680"/>
            <a:ext cx="76320" cy="106668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troduction and Agenda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4080" y="1218960"/>
            <a:ext cx="8518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BTA Working on IB Cross-Subnet Communication Spe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st Wor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op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uidelin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blem Partition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vanced Topic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cope and Phased Approach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30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imiting Scope via.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pology Restric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rmediate Solution Simplific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.g. Static Routing Tabl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rket Guida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FA Feedback Reques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82" name="Group 5"/>
          <p:cNvGrpSpPr/>
          <p:nvPr/>
        </p:nvGrpSpPr>
        <p:grpSpPr>
          <a:xfrm>
            <a:off x="226440" y="4724280"/>
            <a:ext cx="2381400" cy="1742400"/>
            <a:chOff x="226440" y="4724280"/>
            <a:chExt cx="2381400" cy="1742400"/>
          </a:xfrm>
        </p:grpSpPr>
        <p:grpSp>
          <p:nvGrpSpPr>
            <p:cNvPr id="583" name="Group 81"/>
            <p:cNvGrpSpPr/>
            <p:nvPr/>
          </p:nvGrpSpPr>
          <p:grpSpPr>
            <a:xfrm>
              <a:off x="245880" y="4724280"/>
              <a:ext cx="2361960" cy="990360"/>
              <a:chOff x="245880" y="4724280"/>
              <a:chExt cx="2361960" cy="990360"/>
            </a:xfrm>
          </p:grpSpPr>
          <p:sp>
            <p:nvSpPr>
              <p:cNvPr id="584" name="Rectangle 16466"/>
              <p:cNvSpPr/>
              <p:nvPr/>
            </p:nvSpPr>
            <p:spPr>
              <a:xfrm>
                <a:off x="257760" y="4724280"/>
                <a:ext cx="235008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Shape 16467"/>
              <p:cNvSpPr/>
              <p:nvPr/>
            </p:nvSpPr>
            <p:spPr>
              <a:xfrm>
                <a:off x="245880" y="4724280"/>
                <a:ext cx="2331360" cy="9781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Shape 16468"/>
              <p:cNvSpPr/>
              <p:nvPr/>
            </p:nvSpPr>
            <p:spPr>
              <a:xfrm>
                <a:off x="377640" y="5302080"/>
                <a:ext cx="1368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Shape 16469"/>
              <p:cNvSpPr/>
              <p:nvPr/>
            </p:nvSpPr>
            <p:spPr>
              <a:xfrm>
                <a:off x="576000" y="5516640"/>
                <a:ext cx="5976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Shape 16470"/>
              <p:cNvSpPr/>
              <p:nvPr/>
            </p:nvSpPr>
            <p:spPr>
              <a:xfrm>
                <a:off x="1114920" y="5573160"/>
                <a:ext cx="3564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Shape 16471"/>
              <p:cNvSpPr/>
              <p:nvPr/>
            </p:nvSpPr>
            <p:spPr>
              <a:xfrm>
                <a:off x="1802880" y="5513400"/>
                <a:ext cx="1404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Shape 16472"/>
              <p:cNvSpPr/>
              <p:nvPr/>
            </p:nvSpPr>
            <p:spPr>
              <a:xfrm>
                <a:off x="2105280" y="5246640"/>
                <a:ext cx="17496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Shape 16473"/>
              <p:cNvSpPr/>
              <p:nvPr/>
            </p:nvSpPr>
            <p:spPr>
              <a:xfrm>
                <a:off x="2439000" y="5073840"/>
                <a:ext cx="77760" cy="60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Shape 16474"/>
              <p:cNvSpPr/>
              <p:nvPr/>
            </p:nvSpPr>
            <p:spPr>
              <a:xfrm>
                <a:off x="2329560" y="484992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Shape 16475"/>
              <p:cNvSpPr/>
              <p:nvPr/>
            </p:nvSpPr>
            <p:spPr>
              <a:xfrm>
                <a:off x="1831320" y="4779720"/>
                <a:ext cx="3960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Shape 16476"/>
              <p:cNvSpPr/>
              <p:nvPr/>
            </p:nvSpPr>
            <p:spPr>
              <a:xfrm>
                <a:off x="1454760" y="4801320"/>
                <a:ext cx="1872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Shape 16477"/>
              <p:cNvSpPr/>
              <p:nvPr/>
            </p:nvSpPr>
            <p:spPr>
              <a:xfrm>
                <a:off x="1017720" y="4844880"/>
                <a:ext cx="691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Shape 16478"/>
              <p:cNvSpPr/>
              <p:nvPr/>
            </p:nvSpPr>
            <p:spPr>
              <a:xfrm>
                <a:off x="471240" y="5052240"/>
                <a:ext cx="1332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Rectangle 16457"/>
            <p:cNvSpPr/>
            <p:nvPr/>
          </p:nvSpPr>
          <p:spPr>
            <a:xfrm>
              <a:off x="452160" y="5863680"/>
              <a:ext cx="3891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6458"/>
            <p:cNvSpPr/>
            <p:nvPr/>
          </p:nvSpPr>
          <p:spPr>
            <a:xfrm>
              <a:off x="907560" y="5863680"/>
              <a:ext cx="3891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6459"/>
            <p:cNvSpPr/>
            <p:nvPr/>
          </p:nvSpPr>
          <p:spPr>
            <a:xfrm>
              <a:off x="1937880" y="5863680"/>
              <a:ext cx="3891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16460"/>
            <p:cNvSpPr/>
            <p:nvPr/>
          </p:nvSpPr>
          <p:spPr>
            <a:xfrm>
              <a:off x="1255680" y="5257800"/>
              <a:ext cx="72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Straight Connector 16461"/>
            <p:cNvSpPr/>
            <p:nvPr/>
          </p:nvSpPr>
          <p:spPr>
            <a:xfrm flipV="1">
              <a:off x="605880" y="5599440"/>
              <a:ext cx="69480" cy="27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Straight Connector 16462"/>
            <p:cNvSpPr/>
            <p:nvPr/>
          </p:nvSpPr>
          <p:spPr>
            <a:xfrm flipH="1">
              <a:off x="1065960" y="5638320"/>
              <a:ext cx="41760" cy="228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Straight Connector 16463"/>
            <p:cNvSpPr/>
            <p:nvPr/>
          </p:nvSpPr>
          <p:spPr>
            <a:xfrm>
              <a:off x="2068560" y="5562360"/>
              <a:ext cx="45000" cy="295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16464"/>
            <p:cNvSpPr/>
            <p:nvPr/>
          </p:nvSpPr>
          <p:spPr>
            <a:xfrm>
              <a:off x="907560" y="5028840"/>
              <a:ext cx="117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bnet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16465"/>
            <p:cNvSpPr/>
            <p:nvPr/>
          </p:nvSpPr>
          <p:spPr>
            <a:xfrm>
              <a:off x="226440" y="6095880"/>
              <a:ext cx="91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58"/>
          <p:cNvGrpSpPr/>
          <p:nvPr/>
        </p:nvGrpSpPr>
        <p:grpSpPr>
          <a:xfrm>
            <a:off x="3581280" y="4724280"/>
            <a:ext cx="2289240" cy="990720"/>
            <a:chOff x="3581280" y="4724280"/>
            <a:chExt cx="2289240" cy="990720"/>
          </a:xfrm>
        </p:grpSpPr>
        <p:sp>
          <p:nvSpPr>
            <p:cNvPr id="607" name="Rectangle 16443"/>
            <p:cNvSpPr/>
            <p:nvPr/>
          </p:nvSpPr>
          <p:spPr>
            <a:xfrm>
              <a:off x="3581280" y="4724280"/>
              <a:ext cx="22892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Shape 16444"/>
            <p:cNvSpPr/>
            <p:nvPr/>
          </p:nvSpPr>
          <p:spPr>
            <a:xfrm>
              <a:off x="3585960" y="4726800"/>
              <a:ext cx="2270520" cy="97848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Shape 16445"/>
            <p:cNvSpPr/>
            <p:nvPr/>
          </p:nvSpPr>
          <p:spPr>
            <a:xfrm>
              <a:off x="3697920" y="5302440"/>
              <a:ext cx="133200" cy="1800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Shape 16446"/>
            <p:cNvSpPr/>
            <p:nvPr/>
          </p:nvSpPr>
          <p:spPr>
            <a:xfrm>
              <a:off x="3891240" y="5517000"/>
              <a:ext cx="58320" cy="864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Shape 16447"/>
            <p:cNvSpPr/>
            <p:nvPr/>
          </p:nvSpPr>
          <p:spPr>
            <a:xfrm>
              <a:off x="4416120" y="5573520"/>
              <a:ext cx="34920" cy="3888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Shape 16448"/>
            <p:cNvSpPr/>
            <p:nvPr/>
          </p:nvSpPr>
          <p:spPr>
            <a:xfrm>
              <a:off x="5086080" y="5513400"/>
              <a:ext cx="13680" cy="4320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Shape 16449"/>
            <p:cNvSpPr/>
            <p:nvPr/>
          </p:nvSpPr>
          <p:spPr>
            <a:xfrm>
              <a:off x="5380560" y="5247000"/>
              <a:ext cx="170640" cy="16128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Shape 16450"/>
            <p:cNvSpPr/>
            <p:nvPr/>
          </p:nvSpPr>
          <p:spPr>
            <a:xfrm>
              <a:off x="5705640" y="5074200"/>
              <a:ext cx="75600" cy="6084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Shape 16451"/>
            <p:cNvSpPr/>
            <p:nvPr/>
          </p:nvSpPr>
          <p:spPr>
            <a:xfrm>
              <a:off x="5599080" y="4850280"/>
              <a:ext cx="3600" cy="2844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Shape 16452"/>
            <p:cNvSpPr/>
            <p:nvPr/>
          </p:nvSpPr>
          <p:spPr>
            <a:xfrm>
              <a:off x="5113800" y="4779720"/>
              <a:ext cx="38520" cy="3636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Shape 16453"/>
            <p:cNvSpPr/>
            <p:nvPr/>
          </p:nvSpPr>
          <p:spPr>
            <a:xfrm>
              <a:off x="4746960" y="4801320"/>
              <a:ext cx="18360" cy="3096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Shape 16454"/>
            <p:cNvSpPr/>
            <p:nvPr/>
          </p:nvSpPr>
          <p:spPr>
            <a:xfrm>
              <a:off x="4321440" y="4844880"/>
              <a:ext cx="67320" cy="3024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Shape 16455"/>
            <p:cNvSpPr/>
            <p:nvPr/>
          </p:nvSpPr>
          <p:spPr>
            <a:xfrm>
              <a:off x="3789360" y="5052240"/>
              <a:ext cx="12960" cy="3204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Rectangle 16434"/>
          <p:cNvSpPr/>
          <p:nvPr/>
        </p:nvSpPr>
        <p:spPr>
          <a:xfrm>
            <a:off x="3770280" y="5864400"/>
            <a:ext cx="379440" cy="193680"/>
          </a:xfrm>
          <a:prstGeom prst="rect">
            <a:avLst/>
          </a:prstGeom>
          <a:solidFill>
            <a:srgbClr val="ff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6435"/>
          <p:cNvSpPr/>
          <p:nvPr/>
        </p:nvSpPr>
        <p:spPr>
          <a:xfrm>
            <a:off x="4214880" y="5864400"/>
            <a:ext cx="379440" cy="193680"/>
          </a:xfrm>
          <a:prstGeom prst="rect">
            <a:avLst/>
          </a:prstGeom>
          <a:solidFill>
            <a:srgbClr val="ff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6436"/>
          <p:cNvSpPr/>
          <p:nvPr/>
        </p:nvSpPr>
        <p:spPr>
          <a:xfrm>
            <a:off x="5237280" y="5864400"/>
            <a:ext cx="379440" cy="193680"/>
          </a:xfrm>
          <a:prstGeom prst="rect">
            <a:avLst/>
          </a:prstGeom>
          <a:solidFill>
            <a:srgbClr val="ff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16437"/>
          <p:cNvSpPr/>
          <p:nvPr/>
        </p:nvSpPr>
        <p:spPr>
          <a:xfrm>
            <a:off x="4549680" y="5257800"/>
            <a:ext cx="7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traight Connector 16438"/>
          <p:cNvSpPr/>
          <p:nvPr/>
        </p:nvSpPr>
        <p:spPr>
          <a:xfrm flipV="1">
            <a:off x="3921120" y="5599080"/>
            <a:ext cx="66600" cy="271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16439"/>
          <p:cNvSpPr/>
          <p:nvPr/>
        </p:nvSpPr>
        <p:spPr>
          <a:xfrm flipH="1">
            <a:off x="4368960" y="5638680"/>
            <a:ext cx="39600" cy="2286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16440"/>
          <p:cNvSpPr/>
          <p:nvPr/>
        </p:nvSpPr>
        <p:spPr>
          <a:xfrm>
            <a:off x="5345280" y="5562720"/>
            <a:ext cx="4428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16441"/>
          <p:cNvSpPr/>
          <p:nvPr/>
        </p:nvSpPr>
        <p:spPr>
          <a:xfrm>
            <a:off x="4201560" y="502920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ubnet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6442"/>
          <p:cNvSpPr/>
          <p:nvPr/>
        </p:nvSpPr>
        <p:spPr>
          <a:xfrm>
            <a:off x="3537360" y="6095880"/>
            <a:ext cx="886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SM/SA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7"/>
          <p:cNvGrpSpPr/>
          <p:nvPr/>
        </p:nvGrpSpPr>
        <p:grpSpPr>
          <a:xfrm>
            <a:off x="6755400" y="4724280"/>
            <a:ext cx="2329920" cy="1742400"/>
            <a:chOff x="6755400" y="4724280"/>
            <a:chExt cx="2329920" cy="1742400"/>
          </a:xfrm>
        </p:grpSpPr>
        <p:grpSp>
          <p:nvGrpSpPr>
            <p:cNvPr id="630" name="Group 35"/>
            <p:cNvGrpSpPr/>
            <p:nvPr/>
          </p:nvGrpSpPr>
          <p:grpSpPr>
            <a:xfrm>
              <a:off x="6798960" y="4724280"/>
              <a:ext cx="2286360" cy="990360"/>
              <a:chOff x="6798960" y="4724280"/>
              <a:chExt cx="2286360" cy="990360"/>
            </a:xfrm>
          </p:grpSpPr>
          <p:sp>
            <p:nvSpPr>
              <p:cNvPr id="631" name="Rectangle 16420"/>
              <p:cNvSpPr/>
              <p:nvPr/>
            </p:nvSpPr>
            <p:spPr>
              <a:xfrm>
                <a:off x="6798960" y="4724280"/>
                <a:ext cx="228636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Shape 16421"/>
              <p:cNvSpPr/>
              <p:nvPr/>
            </p:nvSpPr>
            <p:spPr>
              <a:xfrm>
                <a:off x="6803640" y="4726800"/>
                <a:ext cx="2267640" cy="9781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Shape 16422"/>
              <p:cNvSpPr/>
              <p:nvPr/>
            </p:nvSpPr>
            <p:spPr>
              <a:xfrm>
                <a:off x="6915600" y="5302080"/>
                <a:ext cx="1332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Shape 16423"/>
              <p:cNvSpPr/>
              <p:nvPr/>
            </p:nvSpPr>
            <p:spPr>
              <a:xfrm>
                <a:off x="7108200" y="5516640"/>
                <a:ext cx="5796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Shape 16424"/>
              <p:cNvSpPr/>
              <p:nvPr/>
            </p:nvSpPr>
            <p:spPr>
              <a:xfrm>
                <a:off x="7632720" y="5573160"/>
                <a:ext cx="3492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Shape 16425"/>
              <p:cNvSpPr/>
              <p:nvPr/>
            </p:nvSpPr>
            <p:spPr>
              <a:xfrm>
                <a:off x="8301960" y="5513400"/>
                <a:ext cx="1368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Shape 16426"/>
              <p:cNvSpPr/>
              <p:nvPr/>
            </p:nvSpPr>
            <p:spPr>
              <a:xfrm>
                <a:off x="8596080" y="5246640"/>
                <a:ext cx="17028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Shape 16427"/>
              <p:cNvSpPr/>
              <p:nvPr/>
            </p:nvSpPr>
            <p:spPr>
              <a:xfrm>
                <a:off x="8920800" y="5073840"/>
                <a:ext cx="75600" cy="60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Shape 16428"/>
              <p:cNvSpPr/>
              <p:nvPr/>
            </p:nvSpPr>
            <p:spPr>
              <a:xfrm>
                <a:off x="8814240" y="484992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Shape 16429"/>
              <p:cNvSpPr/>
              <p:nvPr/>
            </p:nvSpPr>
            <p:spPr>
              <a:xfrm>
                <a:off x="8329680" y="4779720"/>
                <a:ext cx="3852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Shape 16430"/>
              <p:cNvSpPr/>
              <p:nvPr/>
            </p:nvSpPr>
            <p:spPr>
              <a:xfrm>
                <a:off x="7963200" y="4801320"/>
                <a:ext cx="1836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Shape 16431"/>
              <p:cNvSpPr/>
              <p:nvPr/>
            </p:nvSpPr>
            <p:spPr>
              <a:xfrm>
                <a:off x="7538040" y="4844880"/>
                <a:ext cx="673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Shape 16432"/>
              <p:cNvSpPr/>
              <p:nvPr/>
            </p:nvSpPr>
            <p:spPr>
              <a:xfrm>
                <a:off x="7006680" y="5052240"/>
                <a:ext cx="1296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Rectangle 16411"/>
            <p:cNvSpPr/>
            <p:nvPr/>
          </p:nvSpPr>
          <p:spPr>
            <a:xfrm>
              <a:off x="6987960" y="5863680"/>
              <a:ext cx="3783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6412"/>
            <p:cNvSpPr/>
            <p:nvPr/>
          </p:nvSpPr>
          <p:spPr>
            <a:xfrm>
              <a:off x="7431120" y="5863680"/>
              <a:ext cx="3783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6413"/>
            <p:cNvSpPr/>
            <p:nvPr/>
          </p:nvSpPr>
          <p:spPr>
            <a:xfrm>
              <a:off x="8433360" y="5863680"/>
              <a:ext cx="37836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16414"/>
            <p:cNvSpPr/>
            <p:nvPr/>
          </p:nvSpPr>
          <p:spPr>
            <a:xfrm>
              <a:off x="7720200" y="5257800"/>
              <a:ext cx="704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Straight Connector 16415"/>
            <p:cNvSpPr/>
            <p:nvPr/>
          </p:nvSpPr>
          <p:spPr>
            <a:xfrm flipV="1">
              <a:off x="7137720" y="5599440"/>
              <a:ext cx="67680" cy="27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Straight Connector 16416"/>
            <p:cNvSpPr/>
            <p:nvPr/>
          </p:nvSpPr>
          <p:spPr>
            <a:xfrm flipH="1">
              <a:off x="7585200" y="5638320"/>
              <a:ext cx="40320" cy="228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Straight Connector 16417"/>
            <p:cNvSpPr/>
            <p:nvPr/>
          </p:nvSpPr>
          <p:spPr>
            <a:xfrm>
              <a:off x="8560440" y="5562360"/>
              <a:ext cx="43920" cy="295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16418"/>
            <p:cNvSpPr/>
            <p:nvPr/>
          </p:nvSpPr>
          <p:spPr>
            <a:xfrm>
              <a:off x="7436520" y="5028840"/>
              <a:ext cx="113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bnet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16419"/>
            <p:cNvSpPr/>
            <p:nvPr/>
          </p:nvSpPr>
          <p:spPr>
            <a:xfrm>
              <a:off x="6755400" y="6095880"/>
              <a:ext cx="892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Rounded Rectangle 16400"/>
          <p:cNvSpPr/>
          <p:nvPr/>
        </p:nvSpPr>
        <p:spPr>
          <a:xfrm>
            <a:off x="2684520" y="502920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ounded Rectangle 16401"/>
          <p:cNvSpPr/>
          <p:nvPr/>
        </p:nvSpPr>
        <p:spPr>
          <a:xfrm>
            <a:off x="5884920" y="441972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10"/>
          <p:cNvSpPr/>
          <p:nvPr/>
        </p:nvSpPr>
        <p:spPr>
          <a:xfrm flipH="1" flipV="1">
            <a:off x="2379240" y="5257800"/>
            <a:ext cx="304920" cy="1440"/>
          </a:xfrm>
          <a:prstGeom prst="line">
            <a:avLst/>
          </a:prstGeom>
          <a:ln cap="rnd" w="349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11"/>
          <p:cNvSpPr/>
          <p:nvPr/>
        </p:nvSpPr>
        <p:spPr>
          <a:xfrm flipH="1" flipV="1">
            <a:off x="3522240" y="5256360"/>
            <a:ext cx="304920" cy="1440"/>
          </a:xfrm>
          <a:prstGeom prst="line">
            <a:avLst/>
          </a:prstGeom>
          <a:ln cap="rnd" w="349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traight Connector 12"/>
          <p:cNvSpPr/>
          <p:nvPr/>
        </p:nvSpPr>
        <p:spPr>
          <a:xfrm flipH="1">
            <a:off x="5427720" y="4649040"/>
            <a:ext cx="457200" cy="30492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traight Connector 13"/>
          <p:cNvSpPr/>
          <p:nvPr/>
        </p:nvSpPr>
        <p:spPr>
          <a:xfrm flipH="1" flipV="1">
            <a:off x="6722640" y="4726080"/>
            <a:ext cx="381240" cy="30456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ounded Rectangle 16406"/>
          <p:cNvSpPr/>
          <p:nvPr/>
        </p:nvSpPr>
        <p:spPr>
          <a:xfrm>
            <a:off x="5884920" y="5638680"/>
            <a:ext cx="838080" cy="38124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15"/>
          <p:cNvSpPr/>
          <p:nvPr/>
        </p:nvSpPr>
        <p:spPr>
          <a:xfrm flipH="1">
            <a:off x="6722640" y="5487840"/>
            <a:ext cx="381240" cy="37944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19"/>
          <p:cNvSpPr/>
          <p:nvPr/>
        </p:nvSpPr>
        <p:spPr>
          <a:xfrm flipH="1" flipV="1">
            <a:off x="5460840" y="5446440"/>
            <a:ext cx="424080" cy="38268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6"/>
          <p:cNvGrpSpPr/>
          <p:nvPr/>
        </p:nvGrpSpPr>
        <p:grpSpPr>
          <a:xfrm>
            <a:off x="5122080" y="2438280"/>
            <a:ext cx="2326320" cy="1742400"/>
            <a:chOff x="5122080" y="2438280"/>
            <a:chExt cx="2326320" cy="1742400"/>
          </a:xfrm>
        </p:grpSpPr>
        <p:grpSp>
          <p:nvGrpSpPr>
            <p:cNvPr id="663" name="Group 58"/>
            <p:cNvGrpSpPr/>
            <p:nvPr/>
          </p:nvGrpSpPr>
          <p:grpSpPr>
            <a:xfrm>
              <a:off x="5159160" y="2438280"/>
              <a:ext cx="2289240" cy="990360"/>
              <a:chOff x="5159160" y="2438280"/>
              <a:chExt cx="2289240" cy="990360"/>
            </a:xfrm>
          </p:grpSpPr>
          <p:sp>
            <p:nvSpPr>
              <p:cNvPr id="664" name="Rectangle 16443"/>
              <p:cNvSpPr/>
              <p:nvPr/>
            </p:nvSpPr>
            <p:spPr>
              <a:xfrm>
                <a:off x="5159160" y="2438280"/>
                <a:ext cx="228924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Shape 16444"/>
              <p:cNvSpPr/>
              <p:nvPr/>
            </p:nvSpPr>
            <p:spPr>
              <a:xfrm>
                <a:off x="5163840" y="2440800"/>
                <a:ext cx="2270520" cy="9781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Shape 16445"/>
              <p:cNvSpPr/>
              <p:nvPr/>
            </p:nvSpPr>
            <p:spPr>
              <a:xfrm>
                <a:off x="5275800" y="3016080"/>
                <a:ext cx="1332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Shape 16446"/>
              <p:cNvSpPr/>
              <p:nvPr/>
            </p:nvSpPr>
            <p:spPr>
              <a:xfrm>
                <a:off x="5469120" y="3230640"/>
                <a:ext cx="5832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Shape 16447"/>
              <p:cNvSpPr/>
              <p:nvPr/>
            </p:nvSpPr>
            <p:spPr>
              <a:xfrm>
                <a:off x="5994000" y="3287160"/>
                <a:ext cx="3492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Shape 16448"/>
              <p:cNvSpPr/>
              <p:nvPr/>
            </p:nvSpPr>
            <p:spPr>
              <a:xfrm>
                <a:off x="6663960" y="3227400"/>
                <a:ext cx="1368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Shape 16449"/>
              <p:cNvSpPr/>
              <p:nvPr/>
            </p:nvSpPr>
            <p:spPr>
              <a:xfrm>
                <a:off x="6958440" y="2960640"/>
                <a:ext cx="17064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Shape 16450"/>
              <p:cNvSpPr/>
              <p:nvPr/>
            </p:nvSpPr>
            <p:spPr>
              <a:xfrm>
                <a:off x="7283520" y="2787840"/>
                <a:ext cx="75600" cy="60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Shape 16451"/>
              <p:cNvSpPr/>
              <p:nvPr/>
            </p:nvSpPr>
            <p:spPr>
              <a:xfrm>
                <a:off x="7176960" y="256392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Shape 16452"/>
              <p:cNvSpPr/>
              <p:nvPr/>
            </p:nvSpPr>
            <p:spPr>
              <a:xfrm>
                <a:off x="6691680" y="2493720"/>
                <a:ext cx="3852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Shape 16453"/>
              <p:cNvSpPr/>
              <p:nvPr/>
            </p:nvSpPr>
            <p:spPr>
              <a:xfrm>
                <a:off x="6324840" y="2515320"/>
                <a:ext cx="1836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Shape 16454"/>
              <p:cNvSpPr/>
              <p:nvPr/>
            </p:nvSpPr>
            <p:spPr>
              <a:xfrm>
                <a:off x="5899320" y="2558880"/>
                <a:ext cx="673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Shape 16455"/>
              <p:cNvSpPr/>
              <p:nvPr/>
            </p:nvSpPr>
            <p:spPr>
              <a:xfrm>
                <a:off x="5367240" y="2766240"/>
                <a:ext cx="1296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Rectangle 16434"/>
            <p:cNvSpPr/>
            <p:nvPr/>
          </p:nvSpPr>
          <p:spPr>
            <a:xfrm>
              <a:off x="5348520" y="357768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6435"/>
            <p:cNvSpPr/>
            <p:nvPr/>
          </p:nvSpPr>
          <p:spPr>
            <a:xfrm>
              <a:off x="5792400" y="357768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6436"/>
            <p:cNvSpPr/>
            <p:nvPr/>
          </p:nvSpPr>
          <p:spPr>
            <a:xfrm>
              <a:off x="6815160" y="3577680"/>
              <a:ext cx="379080" cy="19404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16437"/>
            <p:cNvSpPr/>
            <p:nvPr/>
          </p:nvSpPr>
          <p:spPr>
            <a:xfrm>
              <a:off x="6127560" y="2971800"/>
              <a:ext cx="707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Straight Connector 16438"/>
            <p:cNvSpPr/>
            <p:nvPr/>
          </p:nvSpPr>
          <p:spPr>
            <a:xfrm flipV="1">
              <a:off x="5498280" y="3313440"/>
              <a:ext cx="67680" cy="271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Straight Connector 16439"/>
            <p:cNvSpPr/>
            <p:nvPr/>
          </p:nvSpPr>
          <p:spPr>
            <a:xfrm flipH="1">
              <a:off x="5946120" y="3352320"/>
              <a:ext cx="40680" cy="228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Straight Connector 16440"/>
            <p:cNvSpPr/>
            <p:nvPr/>
          </p:nvSpPr>
          <p:spPr>
            <a:xfrm>
              <a:off x="6922800" y="3276360"/>
              <a:ext cx="43920" cy="295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Box 16441"/>
            <p:cNvSpPr/>
            <p:nvPr/>
          </p:nvSpPr>
          <p:spPr>
            <a:xfrm>
              <a:off x="5799960" y="274284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bnet 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Box 16442"/>
            <p:cNvSpPr/>
            <p:nvPr/>
          </p:nvSpPr>
          <p:spPr>
            <a:xfrm>
              <a:off x="5122080" y="3809880"/>
              <a:ext cx="87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Straight Connector 12"/>
          <p:cNvSpPr/>
          <p:nvPr/>
        </p:nvSpPr>
        <p:spPr>
          <a:xfrm flipH="1">
            <a:off x="6324480" y="3352680"/>
            <a:ext cx="76320" cy="1067040"/>
          </a:xfrm>
          <a:prstGeom prst="line">
            <a:avLst/>
          </a:prstGeom>
          <a:ln cap="rnd" w="34920">
            <a:solidFill>
              <a:srgbClr val="6f75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ounded Rectangle 16400"/>
          <p:cNvSpPr/>
          <p:nvPr/>
        </p:nvSpPr>
        <p:spPr>
          <a:xfrm>
            <a:off x="5715000" y="510552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outer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10"/>
          <p:cNvSpPr/>
          <p:nvPr/>
        </p:nvSpPr>
        <p:spPr>
          <a:xfrm flipH="1">
            <a:off x="2438280" y="5257800"/>
            <a:ext cx="3353040" cy="0"/>
          </a:xfrm>
          <a:prstGeom prst="line">
            <a:avLst/>
          </a:prstGeom>
          <a:ln cap="rnd" w="349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0"/>
          <p:cNvSpPr/>
          <p:nvPr/>
        </p:nvSpPr>
        <p:spPr>
          <a:xfrm flipH="1">
            <a:off x="6553080" y="5257800"/>
            <a:ext cx="457200" cy="0"/>
          </a:xfrm>
          <a:prstGeom prst="line">
            <a:avLst/>
          </a:prstGeom>
          <a:ln cap="rnd" w="349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0"/>
          <p:cNvSpPr/>
          <p:nvPr/>
        </p:nvSpPr>
        <p:spPr>
          <a:xfrm flipH="1">
            <a:off x="6171840" y="3352680"/>
            <a:ext cx="228600" cy="1828800"/>
          </a:xfrm>
          <a:prstGeom prst="line">
            <a:avLst/>
          </a:prstGeom>
          <a:ln cap="rnd" w="349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B Routing Guidelin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2" name="Shape 3"/>
          <p:cNvSpPr/>
          <p:nvPr/>
        </p:nvSpPr>
        <p:spPr>
          <a:xfrm>
            <a:off x="228600" y="6629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B1FA-FFDC-4482-9263-7CA46CCA2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80880" y="1600200"/>
            <a:ext cx="8382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ayered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everage from the IP world whenever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M is a Subnet Local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eserve Existing IB Management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594800" y="4844880"/>
            <a:ext cx="5644080" cy="1742400"/>
            <a:chOff x="1594800" y="4844880"/>
            <a:chExt cx="5644080" cy="1742400"/>
          </a:xfrm>
        </p:grpSpPr>
        <p:grpSp>
          <p:nvGrpSpPr>
            <p:cNvPr id="695" name="Group 81"/>
            <p:cNvGrpSpPr/>
            <p:nvPr/>
          </p:nvGrpSpPr>
          <p:grpSpPr>
            <a:xfrm>
              <a:off x="1614600" y="4844880"/>
              <a:ext cx="2361600" cy="990720"/>
              <a:chOff x="1614600" y="4844880"/>
              <a:chExt cx="2361600" cy="990720"/>
            </a:xfrm>
          </p:grpSpPr>
          <p:sp>
            <p:nvSpPr>
              <p:cNvPr id="696" name="Rectangle 16466"/>
              <p:cNvSpPr/>
              <p:nvPr/>
            </p:nvSpPr>
            <p:spPr>
              <a:xfrm>
                <a:off x="1626480" y="4844880"/>
                <a:ext cx="2349720" cy="9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Shape 16467"/>
              <p:cNvSpPr/>
              <p:nvPr/>
            </p:nvSpPr>
            <p:spPr>
              <a:xfrm>
                <a:off x="1614600" y="4844880"/>
                <a:ext cx="2331000" cy="978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Shape 16468"/>
              <p:cNvSpPr/>
              <p:nvPr/>
            </p:nvSpPr>
            <p:spPr>
              <a:xfrm>
                <a:off x="1746360" y="5423040"/>
                <a:ext cx="1368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Shape 16469"/>
              <p:cNvSpPr/>
              <p:nvPr/>
            </p:nvSpPr>
            <p:spPr>
              <a:xfrm>
                <a:off x="1944720" y="5637600"/>
                <a:ext cx="5976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Shape 16470"/>
              <p:cNvSpPr/>
              <p:nvPr/>
            </p:nvSpPr>
            <p:spPr>
              <a:xfrm>
                <a:off x="2483640" y="5694120"/>
                <a:ext cx="3564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Shape 16471"/>
              <p:cNvSpPr/>
              <p:nvPr/>
            </p:nvSpPr>
            <p:spPr>
              <a:xfrm>
                <a:off x="3171240" y="5634000"/>
                <a:ext cx="1404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Shape 16472"/>
              <p:cNvSpPr/>
              <p:nvPr/>
            </p:nvSpPr>
            <p:spPr>
              <a:xfrm>
                <a:off x="3473640" y="5367600"/>
                <a:ext cx="17496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Shape 16473"/>
              <p:cNvSpPr/>
              <p:nvPr/>
            </p:nvSpPr>
            <p:spPr>
              <a:xfrm>
                <a:off x="3807360" y="5194800"/>
                <a:ext cx="77760" cy="608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Shape 16474"/>
              <p:cNvSpPr/>
              <p:nvPr/>
            </p:nvSpPr>
            <p:spPr>
              <a:xfrm>
                <a:off x="3697920" y="497088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Shape 16475"/>
              <p:cNvSpPr/>
              <p:nvPr/>
            </p:nvSpPr>
            <p:spPr>
              <a:xfrm>
                <a:off x="3200040" y="4900320"/>
                <a:ext cx="3960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Shape 16476"/>
              <p:cNvSpPr/>
              <p:nvPr/>
            </p:nvSpPr>
            <p:spPr>
              <a:xfrm>
                <a:off x="2823120" y="4921920"/>
                <a:ext cx="1872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Shape 16477"/>
              <p:cNvSpPr/>
              <p:nvPr/>
            </p:nvSpPr>
            <p:spPr>
              <a:xfrm>
                <a:off x="2386440" y="4965480"/>
                <a:ext cx="691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Shape 16478"/>
              <p:cNvSpPr/>
              <p:nvPr/>
            </p:nvSpPr>
            <p:spPr>
              <a:xfrm>
                <a:off x="1839960" y="5172840"/>
                <a:ext cx="1332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Rectangle 16457"/>
            <p:cNvSpPr/>
            <p:nvPr/>
          </p:nvSpPr>
          <p:spPr>
            <a:xfrm>
              <a:off x="1820880" y="5985000"/>
              <a:ext cx="388800" cy="19368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6458"/>
            <p:cNvSpPr/>
            <p:nvPr/>
          </p:nvSpPr>
          <p:spPr>
            <a:xfrm>
              <a:off x="2276280" y="5985000"/>
              <a:ext cx="389160" cy="19368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6459"/>
            <p:cNvSpPr/>
            <p:nvPr/>
          </p:nvSpPr>
          <p:spPr>
            <a:xfrm>
              <a:off x="3306600" y="5985000"/>
              <a:ext cx="389160" cy="19368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Box 16460"/>
            <p:cNvSpPr/>
            <p:nvPr/>
          </p:nvSpPr>
          <p:spPr>
            <a:xfrm>
              <a:off x="2624040" y="5378400"/>
              <a:ext cx="72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Straight Connector 16461"/>
            <p:cNvSpPr/>
            <p:nvPr/>
          </p:nvSpPr>
          <p:spPr>
            <a:xfrm flipV="1">
              <a:off x="1974960" y="5530320"/>
              <a:ext cx="217440" cy="460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Straight Connector 16462"/>
            <p:cNvSpPr/>
            <p:nvPr/>
          </p:nvSpPr>
          <p:spPr>
            <a:xfrm flipH="1">
              <a:off x="2435040" y="5454720"/>
              <a:ext cx="61920" cy="533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Straight Connector 16463"/>
            <p:cNvSpPr/>
            <p:nvPr/>
          </p:nvSpPr>
          <p:spPr>
            <a:xfrm>
              <a:off x="3411360" y="5530680"/>
              <a:ext cx="71640" cy="4478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Box 16465"/>
            <p:cNvSpPr/>
            <p:nvPr/>
          </p:nvSpPr>
          <p:spPr>
            <a:xfrm>
              <a:off x="1594800" y="6216480"/>
              <a:ext cx="91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7" name="Group 58"/>
            <p:cNvGrpSpPr/>
            <p:nvPr/>
          </p:nvGrpSpPr>
          <p:grpSpPr>
            <a:xfrm>
              <a:off x="4949640" y="4844880"/>
              <a:ext cx="2289240" cy="990720"/>
              <a:chOff x="4949640" y="4844880"/>
              <a:chExt cx="2289240" cy="990720"/>
            </a:xfrm>
          </p:grpSpPr>
          <p:sp>
            <p:nvSpPr>
              <p:cNvPr id="718" name="Rectangle 16443"/>
              <p:cNvSpPr/>
              <p:nvPr/>
            </p:nvSpPr>
            <p:spPr>
              <a:xfrm>
                <a:off x="4949640" y="4844880"/>
                <a:ext cx="2289240" cy="9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Shape 16444"/>
              <p:cNvSpPr/>
              <p:nvPr/>
            </p:nvSpPr>
            <p:spPr>
              <a:xfrm>
                <a:off x="4954320" y="4847400"/>
                <a:ext cx="2270520" cy="978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Shape 16445"/>
              <p:cNvSpPr/>
              <p:nvPr/>
            </p:nvSpPr>
            <p:spPr>
              <a:xfrm>
                <a:off x="5066280" y="5423040"/>
                <a:ext cx="133200" cy="180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Shape 16446"/>
              <p:cNvSpPr/>
              <p:nvPr/>
            </p:nvSpPr>
            <p:spPr>
              <a:xfrm>
                <a:off x="5259600" y="5637600"/>
                <a:ext cx="58320" cy="8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Shape 16447"/>
              <p:cNvSpPr/>
              <p:nvPr/>
            </p:nvSpPr>
            <p:spPr>
              <a:xfrm>
                <a:off x="5784480" y="5694120"/>
                <a:ext cx="34920" cy="388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Shape 16448"/>
              <p:cNvSpPr/>
              <p:nvPr/>
            </p:nvSpPr>
            <p:spPr>
              <a:xfrm>
                <a:off x="6454440" y="5634000"/>
                <a:ext cx="13680" cy="4320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Shape 16449"/>
              <p:cNvSpPr/>
              <p:nvPr/>
            </p:nvSpPr>
            <p:spPr>
              <a:xfrm>
                <a:off x="6748920" y="5367600"/>
                <a:ext cx="170640" cy="1612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Shape 16450"/>
              <p:cNvSpPr/>
              <p:nvPr/>
            </p:nvSpPr>
            <p:spPr>
              <a:xfrm>
                <a:off x="7074000" y="5194800"/>
                <a:ext cx="75600" cy="608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Shape 16451"/>
              <p:cNvSpPr/>
              <p:nvPr/>
            </p:nvSpPr>
            <p:spPr>
              <a:xfrm>
                <a:off x="6967440" y="4970880"/>
                <a:ext cx="3600" cy="284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Shape 16452"/>
              <p:cNvSpPr/>
              <p:nvPr/>
            </p:nvSpPr>
            <p:spPr>
              <a:xfrm>
                <a:off x="6482160" y="4900320"/>
                <a:ext cx="38520" cy="36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Shape 16453"/>
              <p:cNvSpPr/>
              <p:nvPr/>
            </p:nvSpPr>
            <p:spPr>
              <a:xfrm>
                <a:off x="6115320" y="4921920"/>
                <a:ext cx="18360" cy="309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Shape 16454"/>
              <p:cNvSpPr/>
              <p:nvPr/>
            </p:nvSpPr>
            <p:spPr>
              <a:xfrm>
                <a:off x="5689800" y="4965480"/>
                <a:ext cx="67320" cy="302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Shape 16455"/>
              <p:cNvSpPr/>
              <p:nvPr/>
            </p:nvSpPr>
            <p:spPr>
              <a:xfrm>
                <a:off x="5157720" y="5172840"/>
                <a:ext cx="12960" cy="320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Rectangle 16434"/>
            <p:cNvSpPr/>
            <p:nvPr/>
          </p:nvSpPr>
          <p:spPr>
            <a:xfrm>
              <a:off x="5138640" y="5985000"/>
              <a:ext cx="379440" cy="19368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6435"/>
            <p:cNvSpPr/>
            <p:nvPr/>
          </p:nvSpPr>
          <p:spPr>
            <a:xfrm>
              <a:off x="5583240" y="5985000"/>
              <a:ext cx="379440" cy="19368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6436"/>
            <p:cNvSpPr/>
            <p:nvPr/>
          </p:nvSpPr>
          <p:spPr>
            <a:xfrm>
              <a:off x="6605640" y="5985000"/>
              <a:ext cx="379440" cy="193680"/>
            </a:xfrm>
            <a:prstGeom prst="rect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Box 16437"/>
            <p:cNvSpPr/>
            <p:nvPr/>
          </p:nvSpPr>
          <p:spPr>
            <a:xfrm>
              <a:off x="5918040" y="5378400"/>
              <a:ext cx="70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Straight Connector 16438"/>
            <p:cNvSpPr/>
            <p:nvPr/>
          </p:nvSpPr>
          <p:spPr>
            <a:xfrm flipV="1">
              <a:off x="5289480" y="5530320"/>
              <a:ext cx="103320" cy="460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Straight Connector 16439"/>
            <p:cNvSpPr/>
            <p:nvPr/>
          </p:nvSpPr>
          <p:spPr>
            <a:xfrm>
              <a:off x="5697360" y="5530680"/>
              <a:ext cx="39960" cy="457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Straight Connector 16440"/>
            <p:cNvSpPr/>
            <p:nvPr/>
          </p:nvSpPr>
          <p:spPr>
            <a:xfrm>
              <a:off x="6688080" y="5530680"/>
              <a:ext cx="69840" cy="4478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Box 16442"/>
            <p:cNvSpPr/>
            <p:nvPr/>
          </p:nvSpPr>
          <p:spPr>
            <a:xfrm>
              <a:off x="4905720" y="6216480"/>
              <a:ext cx="88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M/SA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ounded Rectangle 16400"/>
            <p:cNvSpPr/>
            <p:nvPr/>
          </p:nvSpPr>
          <p:spPr>
            <a:xfrm>
              <a:off x="4052880" y="5149800"/>
              <a:ext cx="838080" cy="38088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Straight Connector 10"/>
            <p:cNvSpPr/>
            <p:nvPr/>
          </p:nvSpPr>
          <p:spPr>
            <a:xfrm flipH="1" flipV="1">
              <a:off x="3564000" y="5378400"/>
              <a:ext cx="488880" cy="1440"/>
            </a:xfrm>
            <a:prstGeom prst="line">
              <a:avLst/>
            </a:prstGeom>
            <a:ln cap="rnd" w="3492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Straight Connector 11"/>
            <p:cNvSpPr/>
            <p:nvPr/>
          </p:nvSpPr>
          <p:spPr>
            <a:xfrm flipH="1" flipV="1">
              <a:off x="4890960" y="5376960"/>
              <a:ext cx="425520" cy="1440"/>
            </a:xfrm>
            <a:prstGeom prst="line">
              <a:avLst/>
            </a:prstGeom>
            <a:ln cap="rnd" w="3492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963800" y="5073480"/>
              <a:ext cx="68580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78200" y="5073480"/>
              <a:ext cx="68580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Straight Connector 16463"/>
            <p:cNvSpPr/>
            <p:nvPr/>
          </p:nvSpPr>
          <p:spPr>
            <a:xfrm>
              <a:off x="2649600" y="5378400"/>
              <a:ext cx="2286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40160" y="5073480"/>
              <a:ext cx="68580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230880" y="5073480"/>
              <a:ext cx="68580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Straight Connector 16463"/>
            <p:cNvSpPr/>
            <p:nvPr/>
          </p:nvSpPr>
          <p:spPr>
            <a:xfrm>
              <a:off x="5925960" y="5378400"/>
              <a:ext cx="304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/>
          </p:nvPr>
        </p:nvSpPr>
        <p:spPr>
          <a:xfrm>
            <a:off x="244080" y="1143000"/>
            <a:ext cx="8518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ume Network is Setup and Configur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nection Setu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dnode Need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ID for destination (DGID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ocal Subnet GID (next hop for DGID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ocal Subnet Path Parameters for next hop GID (DLID, SL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lobal Path Parameters (P_Key, MTU, Static Rate, Q_Key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nd to End C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special involvement. Cross-subnet CM packets are treated just like regular packet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title"/>
          </p:nvPr>
        </p:nvSpPr>
        <p:spPr>
          <a:xfrm>
            <a:off x="152280" y="90360"/>
            <a:ext cx="883944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Day in the Life of Cross-Subnet IB Traffic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 Day in the Life… (cont’d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instream Oper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node: No changes from intra-subnet ca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ddress Vector is agnostic to whether parameters are local or globa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r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ceive Pack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ip LR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ute next hop GID (from packet DGID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btain Local Subnet Path Parameters for next hop G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ppend new LR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ansmit Pack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oblem Partitioning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44080" y="11430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lobal Network Setup and Manage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lobal Parameters Manage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stablishing Rout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nitoring, Statistics, Debugg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nection Setu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lobal Name Resolu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lobal Path Parameters Discover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oss Subnet C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instream Data Trans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outing Deci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2 Address Resolu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8080" indent="-219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oss Subnet IB Transport Protoco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6781680" y="901800"/>
            <a:ext cx="213372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obal Network Setup and Managemen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lobal Parameters Manage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TU, P_Key, Q_Key, Static R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stablishing Rou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adlock Avoida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ing Protoco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cluding Inter-router messaging format and protoco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r Static Rou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nitoring, Statistics, Debugg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6945480" y="901800"/>
            <a:ext cx="18936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10:25:58Z</dcterms:created>
  <dc:creator>Eitan Zahavi</dc:creator>
  <dc:description/>
  <dc:language>en-US</dc:language>
  <cp:lastModifiedBy>Diego Crupnicoff</cp:lastModifiedBy>
  <dcterms:modified xsi:type="dcterms:W3CDTF">2007-05-01T14:04:58Z</dcterms:modified>
  <cp:revision>121</cp:revision>
  <dc:subject/>
  <dc:title>Mellanox Corporate Pitch</dc:title>
</cp:coreProperties>
</file>