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EE354-D708-40BD-AADA-77E180E29F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19D94-5EC3-49E3-A7AC-B82BC9838D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8E17D-25D6-4F73-878E-5847EEB96B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A7158-1833-456F-8CD0-C3FB859E5E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42126-E4FF-4629-9770-7001808D4DF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5E0CA-D8AF-4852-88AA-DEAF7DB5109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EF156-06F3-48B2-9BD3-D3B526AE7B5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2918C-C37E-4080-BB34-C3EC514BA63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FFC3F-9865-4D4E-8F64-1C26E381895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F9B75-ADAB-4B4B-A913-03875E960B5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B4673-3EED-484C-B819-59FC147FBA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D955F-17B8-45D0-BFB6-1B325631DE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B0B4C-02D7-4EFE-AAA7-948008EE045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14615-1F16-4A06-9252-175A7D7010E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13BD1-4C53-4D5E-A8FA-A9F541313C5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EBCA7-AFCD-4FE8-94E7-0418754B5BF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00DCF-61E1-404A-B0F3-2120B4DE374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295605-3B89-4266-81AA-33FB07A25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63AAD2-89B9-4509-AA6B-B6AE13149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80B48E-1A5C-497D-B00F-15FE3926B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9F5475-1073-435F-BAA7-BFDD86C44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708145-2E6C-47B9-BA45-1FE4827C1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31047-A8A9-42FE-AAC7-D8593B15D93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D5BFEA-1A89-4D3E-8C02-E94DAB9E9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355165-41BC-4A02-AF38-697CDE7CF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041FA3-9E27-4749-83DE-04E5D8D2A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BCF9C5-777C-431A-939C-7B94ACEBB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25345E-D3C3-4FB1-9D05-15B71A332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9BB428-0BFB-4301-AD2E-39304FA26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57B4DD-9786-43E4-87B7-FD53F298B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B4BF5-C57D-4A28-967B-03AC66884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12304-E37B-4E66-A828-8A7D36606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1E6A6-7E6D-4089-9C77-5F3794964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AD45F-61F8-40F8-8AE2-FA7B52C202F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E337E-BDCE-4A7A-AB09-1FCD4A1E6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F8803-EF75-4A8F-81F6-B0086A267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8EDEA-7339-4C39-92D9-0D8317527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7913A-7472-4612-938D-27CA764C9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4A226-5E0C-445A-955E-160793B51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4AF2A-F1E9-4974-B34B-2523D106D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88E26-87DF-4F25-8A75-51E35946A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D7619-84DE-468C-9D08-427213553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AB3AD-42C9-4A6B-8122-4850EC8E5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F81FA-D0C2-4E44-A397-47975CF3051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D485F-EC4B-493F-AC7A-2D47845D7AA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12C42-04A7-4FE0-BAEC-67857A5D99D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DC9FF-8CC8-40F6-8385-592C0D26BB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2CD6C-26D3-4DF5-8ED8-E976845D6F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003b4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b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b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b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b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b4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228600" y="6248160"/>
            <a:ext cx="990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1FC36-AAF2-4178-9992-B284BEE20F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590560" y="1752480"/>
            <a:ext cx="59418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Num" idx="2"/>
          </p:nvPr>
        </p:nvSpPr>
        <p:spPr>
          <a:xfrm>
            <a:off x="0" y="5790960"/>
            <a:ext cx="990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7DDB7-B19F-4106-AB26-2C96DA0886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0480" cy="69040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ABBF1-E275-4212-A6B9-5236A40C58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994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EF5EF-7340-45B2-B7C8-5E17A9A8AD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0" y="15228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8229600" y="6400800"/>
            <a:ext cx="685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D7B19-958F-46C8-AFDC-254ABDF5131B}" type="slidenum">
              <a:rPr b="1" lang="en-US" sz="14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7848720" y="152280"/>
            <a:ext cx="102240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702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4"/>
          <a:stretch/>
        </p:blipFill>
        <p:spPr>
          <a:xfrm>
            <a:off x="2741760" y="1903320"/>
            <a:ext cx="3354120" cy="335448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nfinibandta.org/itinfo/IL" TargetMode="External"/><Relationship Id="rId2" Type="http://schemas.openxmlformats.org/officeDocument/2006/relationships/hyperlink" Target="http://www.iol.unh.edu/services/testing/ofa/logo.pdf" TargetMode="External"/><Relationship Id="rId3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anuesystems.com/" TargetMode="External"/><Relationship Id="rId2" Type="http://schemas.openxmlformats.org/officeDocument/2006/relationships/hyperlink" Target="http://www.finisar.com/home.php" TargetMode="External"/><Relationship Id="rId3" Type="http://schemas.openxmlformats.org/officeDocument/2006/relationships/hyperlink" Target="http://www.tek.com/" TargetMode="External"/><Relationship Id="rId4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OFA-IWG Interop Event</a:t>
            </a:r>
            <a:br>
              <a:rPr sz="3700"/>
            </a:b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April 2007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1676160" y="5105160"/>
            <a:ext cx="5638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pert D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mprey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noma Workshop 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datory versus Beta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304920" y="1494000"/>
          <a:ext cx="8534160" cy="4724280"/>
        </p:xfrm>
        <a:graphic>
          <a:graphicData uri="http://schemas.openxmlformats.org/drawingml/2006/table">
            <a:tbl>
              <a:tblPr/>
              <a:tblGrid>
                <a:gridCol w="3125520"/>
                <a:gridCol w="2152800"/>
                <a:gridCol w="1782720"/>
                <a:gridCol w="1473120"/>
              </a:tblGrid>
              <a:tr h="285480"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st Status for April 2007 Interop Ev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st Proced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finiBand 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vi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WARP 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vi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ansport 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depend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B Link Initializ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Mandat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Not Applica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B Fabric Initializ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Mandat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Not Applica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B IPoI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Mandat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Not Applica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I iS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Be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B SR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Mandat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Not Applica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I SD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Mandat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Be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B SM Failover/Handov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Be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Not Applica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I MPI - OS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Be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I MPI Int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Be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I uDAP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Be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WARP Connectiv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Not Applica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Mandat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bre Channel Gateway (IB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Be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Not Applica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thernet Gateway (IB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Be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Not Applica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commended Test Status fo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ctober 2007 Interop E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2963160"/>
                <a:gridCol w="3180960"/>
                <a:gridCol w="2085120"/>
              </a:tblGrid>
              <a:tr h="50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st Proced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view stat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commended Statu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B Link Initializ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Well test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Mandat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B Fabric Initializ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Well test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Mandat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B IPoI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Well test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Mandat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I iS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Some issues to be resol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Be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B SR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Well test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Mandat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I SD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Well test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Mandat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B SM Failover/Handov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Some issues to be resol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Be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I MPI - OS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eds more test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Be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I MPI Int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eds more test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Be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I uDAP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Some issues to be resol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Be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WARP Connectiv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Well test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Mandat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bre Channel Gateway (IB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eds devices to run t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Be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thernet Gateway (IB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eds devices to run t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Be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uster Top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1569960" y="1417680"/>
          <a:ext cx="6507360" cy="490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9960" y="1417680"/>
                    <a:ext cx="6507360" cy="49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blems No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ed more time for Compliance and Interop testing. Suggested form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ek 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day through Wednes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TA and iWARP compliance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urs-Fr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op cluster set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iniBand Link and Fabric 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ek tw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WARP Connectivity, IPoIB, SDP, SRP, iSER, SM Failover, Gateway Tests, DAPL and M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ndor review and input on the Test Plan is needed because it may affect their Logo Gr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blems Noted - Continu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link problem was discovered during the Link Init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s requiring one to many testing are very time consuming. Need automated scrip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o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ER – possible issues with the OFED Stack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DAP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switch testing ran reasonably well but there were some unpredictable failu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switch tests experienced some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need 30-50 DDR cables dedicated to the clu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need to coordinate the Interop Event with the OFED Rel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st Interop Event to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able progress made on the Interop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Scripts much impro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execution went smooth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H-IOL staff performed very 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datory testing was very success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device participation in some categories such as FC and Ethernet Gateway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more SRP tar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more time to complete all of the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t 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 Det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ndor Particip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ice Categ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ices Te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datory versus Beta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uster Top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s No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vent 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BTA IL Compliance Testing 4/11/07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/13/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vendors, 13 devices and 35 cables te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was the 1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BTA Plugf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A IWG Interop Event 4/16/07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4/20/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vendors, 22 devices and 31 nodes te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second official OFA-IWG Interop e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ted by University of NH Interoperability Lab (UNH-I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all results very success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 event scheduled for October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gram Detai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TA integrators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list includes all products that have successfully completed the rigorous testing procedures at IBTA sponsored Plugfes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List of devices is available at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infinibandta.org/itinfo/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d list will be available in May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A-UNH-IOL Logo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vendors to claim and market interoperability by using the Logo on their products or in their product marketing collate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ails available at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iol.unh.edu/services/testing/ofa/logo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 of Logo Grants will be available in May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ndor Particip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iniB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sco, Data Direct, Flextronics, Mellanox, QLogic, Volt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WAR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lsio and NetEf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Equipment Vendo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ne, Finisar and Tektron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ice Types and Catego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iniB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 HCAs running OFED 1.2 RC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IB Swi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iSER Tar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SRP Tar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st Based SMs: OpenSM, Voltai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 Based SMs: Cisco, QLogic, Volt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WAR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R-N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finiBand Devices Tes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FS 7000D - 24-port DDR Switc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SFS 7008 - 96-port SDR Switc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ata Dire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2A 9550 - IB SRP connected storage syste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lextronic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-X430066 -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8-Port SDR 4-X InfiniBand switc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-X430044 - 24 Modular DDR 4-X InfiniBand switch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-X430081 - 144 Modular DDR 4-X InfiniBand switch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ellanox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HEA28-1TC - Dual-port, 10Gb/s w/ media adapter support, PCIe x8, 128MB memo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HEA28-XT  - Dual-port, 10Gb/s w/ media adapter support, PCIe x8, mem-fre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HGA28-1TC - Dual-port, 20Gb/s w/ media adapter support, PCIe x8, 128MB memo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HGA28-XTC - Dual-port, 20Gb/s w/ media adapter support, PCIe x8, mem-fre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HES14-XT  - Single-port, 10Gb/s w/ media adapter support, PCIe x4, mem-fre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HES18-XTC - Single-port, 10Gb/s w/ media adapter support, PCIe x8, mem-fre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HGS18-XTC - Single-port, 20Gb/s w/ media adapter support, PCIe x8, mem-fre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QLogic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QHT-7140 - InfiniPath QHT 7000 Ser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QLE-7140 - InfiniPath QLE 7000 Ser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9024-CU24-ST2-DDR - SilverStorm 24 port 1U DDR 4x Switch\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Voltai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SR 2012 - 288 ports infiniband Grid Direct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SR9024D-M - 24 ports infiniband Grid Swit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MHost-3.4.8-110 - SMHost (GVFM) - 4.4.8-1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PStor - iSER target (IPStor) - 518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GridStack 4.1 - GridStack-4.1.5_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GridStack Window - Windows GridStack - 2.5.615.74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WARP Devices Tes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ls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310 - 10 Gig Unified Wire Ethernet NIC (NIC, TOE, iSCSI, iWAR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E020 - NES Dual-port 10GE R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st Enviro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HEL 5 and SLES 10 S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ED 1.2 RC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 Intel provided se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bles provided by the following vend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phen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jik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.L. G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r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equipment provi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ue Systems -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anuesystems.com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isar -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finisar.com/home.ph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ktronix -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tek.com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9T16:40:46Z</dcterms:created>
  <dc:creator>Rupert Dance</dc:creator>
  <dc:description/>
  <dc:language>en-US</dc:language>
  <cp:lastModifiedBy>Rupert Dance</cp:lastModifiedBy>
  <dcterms:modified xsi:type="dcterms:W3CDTF">2007-04-30T18:08:22Z</dcterms:modified>
  <cp:revision>16</cp:revision>
  <dc:subject/>
  <dc:title>OFA-IWG Interop Event</dc:title>
</cp:coreProperties>
</file>