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8229600" cy="6858000"/>
  <p:notesSz cx="10691813" cy="7556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10692000" cy="7556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12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-360" y="-4870440"/>
            <a:ext cx="360" cy="108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522600" y="592200"/>
            <a:ext cx="373392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6143760" y="-4033800"/>
            <a:ext cx="1228752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50400" y="2287440"/>
            <a:ext cx="11044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200" spc="-1" strike="noStrike">
                <a:solidFill>
                  <a:srgbClr val="006312"/>
                </a:solidFill>
                <a:latin typeface="Courier New"/>
                <a:ea typeface="Luxi Sans"/>
              </a:rPr>
              <a:t>1a.  Short term schedule of deliverables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Luxi Sans"/>
              </a:rPr>
              <a:t>1-2 weeks of integration/test for OFED 1.2 support - then the normal land-&gt;releas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522600" y="592200"/>
            <a:ext cx="373392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457440" y="574560"/>
            <a:ext cx="3778560" cy="28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456000" y="568440"/>
            <a:ext cx="3776760" cy="28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556920" y="3838680"/>
            <a:ext cx="9186840" cy="3117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Additional networks suppor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ther networks in prog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AN (al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/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MA interconnects (@ GB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us inter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ffload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-6143760" y="-4033800"/>
            <a:ext cx="1228752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50400" y="2287440"/>
            <a:ext cx="11044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Luxi Sans"/>
              </a:rPr>
              <a:t>Last perf measurements I took were on a motley collection of nodes in an LLNL test cluster.  The nodes were all different, including different PCI busses (e.g. PCI-X PCIe).  But stable PCI-X nodes delivered ~920MBytes/sec point-to-point and the PCIe nodes got1200-1300MBytes/sec.  I'm afraid I don't have the exact hardware specs - I was really just trying to nail some "good" nodes when Itook the measurements.                Cheers,                        E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4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80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720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24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80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47200" y="76320"/>
            <a:ext cx="69217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24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80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720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24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80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7200" y="76320"/>
            <a:ext cx="69217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78000" y="71280"/>
            <a:ext cx="8983800" cy="678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68520" y="6384960"/>
            <a:ext cx="438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E9208-A266-41A4-A810-2E9441058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- Q2 200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6, Cluster File System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411120" y="171360"/>
            <a:ext cx="9053640" cy="6515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8520" y="685440"/>
            <a:ext cx="6235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1120" y="1604880"/>
            <a:ext cx="7400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eb@clusterfs.co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1880" y="2288880"/>
            <a:ext cx="672156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Lustre Networking with OFED</a:t>
            </a:r>
            <a:br>
              <a:rPr sz="3400"/>
            </a:br>
            <a:br>
              <a:rPr sz="3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reas Dilger</a:t>
            </a:r>
            <a:br>
              <a:rPr sz="2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ncipal System Software Engineer</a:t>
            </a:r>
            <a:br>
              <a:rPr sz="12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ilger@clusterfs.com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uster File System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8040" y="2514600"/>
            <a:ext cx="67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2120" y="6375240"/>
            <a:ext cx="166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ture Plans for LNET &amp; OF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2240" y="2654280"/>
            <a:ext cx="720108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to 1000’s of IB clients as system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ly awaiting final changes to OFED 1.2 API before final LNET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7560" y="165240"/>
            <a:ext cx="6924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61040" y="2058840"/>
            <a:ext cx="550872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ED/IB-specific question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ic Barton &lt;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eb@clusterfs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lustre-discuss@clusterfs.co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can you do with Lustre Tod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4200" y="990720"/>
            <a:ext cx="7338960" cy="5335560"/>
            <a:chOff x="754200" y="990720"/>
            <a:chExt cx="7338960" cy="5335560"/>
          </a:xfrm>
        </p:grpSpPr>
        <p:sp>
          <p:nvSpPr>
            <p:cNvPr id="389" name=""/>
            <p:cNvSpPr/>
            <p:nvPr/>
          </p:nvSpPr>
          <p:spPr>
            <a:xfrm>
              <a:off x="2550960" y="561672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ota, Failover, POSIX, POSIX ACL, secure 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200" y="561672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0960" y="597060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ining, Level 1,2 &amp; Internals.  Certification for 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4200" y="597060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0960" y="2719440"/>
              <a:ext cx="5540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umber of files:  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le System Size:  32PB or more, Max File size: 1.2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200" y="2719440"/>
              <a:ext cx="17967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0960" y="526428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ve support for many different networks, with 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00" y="526428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50960" y="2073240"/>
              <a:ext cx="5540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tadata Servers: 1 + fail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SS servers: Tested up to 450, OST’s up to 4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4200" y="2073240"/>
              <a:ext cx="17967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#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50960" y="3367080"/>
              <a:ext cx="554040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ingle Client or Server:  2 GB/s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lueGene/L – first week: 74M files, 175TB wri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ggregate IO (One FS):  ~130GB/s (PNNL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ure MD Operations:  ~15,000 ops/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4200" y="3367080"/>
              <a:ext cx="17967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0960" y="4614840"/>
              <a:ext cx="554040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ftware reliability on par with hardware reli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creased failover resili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4200" y="4614840"/>
              <a:ext cx="179676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50960" y="990720"/>
              <a:ext cx="5540400" cy="10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s:  25,000 – Red St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cesses: 130,000 – BlueGene/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an have Lustre root file 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4200" y="990720"/>
              <a:ext cx="1796760" cy="10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#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200" y="990720"/>
              <a:ext cx="733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200" y="2073240"/>
              <a:ext cx="7337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4200" y="526428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4200" y="6324480"/>
              <a:ext cx="733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4200" y="990720"/>
              <a:ext cx="1440" cy="533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50960" y="990720"/>
              <a:ext cx="1800" cy="533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91360" y="990720"/>
              <a:ext cx="1800" cy="533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4200" y="461484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200" y="271944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4200" y="561672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4200" y="336708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4200" y="597060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ne – in or on its way to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96760" y="1150920"/>
            <a:ext cx="7058160" cy="5021280"/>
            <a:chOff x="896760" y="1150920"/>
            <a:chExt cx="7058160" cy="5021280"/>
          </a:xfrm>
        </p:grpSpPr>
        <p:sp>
          <p:nvSpPr>
            <p:cNvPr id="419" name=""/>
            <p:cNvSpPr/>
            <p:nvPr/>
          </p:nvSpPr>
          <p:spPr>
            <a:xfrm>
              <a:off x="2625840" y="4665600"/>
              <a:ext cx="532764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rge ext3 partitions (8TB) support (1.4.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ery powerful new ext4 disk allocator (1.6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amatic Linux software RAID5 performance improv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96760" y="4665600"/>
              <a:ext cx="172908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5840" y="5584680"/>
              <a:ext cx="5327640" cy="5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CIFS client – in beta to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760" y="5584680"/>
              <a:ext cx="1729080" cy="5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5840" y="1150920"/>
              <a:ext cx="5327640" cy="351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s require no Linux kernel patche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amatically simpler configuration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nline server addition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pace management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tadata performance improvements (1.4.7 &amp; 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overy improvement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napshots &amp; backup solution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ISCO, OpenFabrics IB (up to 1.5GB/sec!) (1.4.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uch improved statistics for analysi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napshot file system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ckup tools (1.6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96760" y="1150920"/>
              <a:ext cx="1729080" cy="351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us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96760" y="115092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96760" y="466560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96760" y="617076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96760" y="1150920"/>
              <a:ext cx="1800" cy="501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25840" y="1150920"/>
              <a:ext cx="1440" cy="501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3480" y="1150920"/>
              <a:ext cx="1440" cy="501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6760" y="55846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914400"/>
            <a:ext cx="82296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9980000">
            <a:off x="453600" y="3548160"/>
            <a:ext cx="7434360" cy="52380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3780000">
            <a:off x="6559200" y="1320480"/>
            <a:ext cx="1643040" cy="1049040"/>
          </a:xfrm>
          <a:prstGeom prst="triangle">
            <a:avLst>
              <a:gd name="adj" fmla="val 50000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1000" y="4795920"/>
            <a:ext cx="261720" cy="47124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lnTo>
                  <a:pt x="0" y="288"/>
                </a:lnTo>
                <a:lnTo>
                  <a:pt x="192" y="288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galactic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3080" y="1066680"/>
            <a:ext cx="7613640" cy="5029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120" y="5105520"/>
            <a:ext cx="1096920" cy="609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6760" y="42487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1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01720" y="22579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3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51720" y="1676520"/>
            <a:ext cx="1096920" cy="609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81760" y="5862600"/>
            <a:ext cx="3548520" cy="441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terprise Data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rot="16200000">
            <a:off x="-650520" y="2214360"/>
            <a:ext cx="1977480" cy="441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PC 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68520" y="5105520"/>
            <a:ext cx="144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line Server Ad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ple Configu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tchless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with Linux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62240" y="2590920"/>
            <a:ext cx="171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-10X MD pe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stre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ndows pC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57880" y="13716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ustered M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Flop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Trillion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M file creates /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 GB/s mixed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T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0600" y="3733920"/>
            <a:ext cx="178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ize Back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89600" y="2971800"/>
            <a:ext cx="1440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 TB/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B c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i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xy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nn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16720" y="35629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3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81680" y="2869200"/>
            <a:ext cx="172692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1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pic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00" y="1066680"/>
            <a:ext cx="733932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Deploymen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Network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 of what CFS has accomplished with OFED (scalability, perform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s we've run into lately with OF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ture plans for OFED and 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Now an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ustre Deployment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0320" y="6199200"/>
            <a:ext cx="296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宋体"/>
              </a:rPr>
              <a:t>OSS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28880" y="1019160"/>
            <a:ext cx="7083360" cy="5153040"/>
            <a:chOff x="1028880" y="1019160"/>
            <a:chExt cx="7083360" cy="5153040"/>
          </a:xfrm>
        </p:grpSpPr>
        <p:sp>
          <p:nvSpPr>
            <p:cNvPr id="94" name=""/>
            <p:cNvSpPr/>
            <p:nvPr/>
          </p:nvSpPr>
          <p:spPr>
            <a:xfrm>
              <a:off x="5965920" y="3619440"/>
              <a:ext cx="82224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65920" y="2971800"/>
              <a:ext cx="82224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61080" y="592776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1080" y="538812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61080" y="481176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61080" y="434340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48000" y="5484960"/>
              <a:ext cx="15890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3680" y="2057400"/>
              <a:ext cx="1440" cy="27432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29080" y="2057400"/>
              <a:ext cx="1800" cy="27432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8000" y="4800600"/>
              <a:ext cx="15890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7040" y="1671480"/>
              <a:ext cx="841320" cy="4392720"/>
            </a:xfrm>
            <a:custGeom>
              <a:avLst/>
              <a:gdLst/>
              <a:ahLst/>
              <a:rect l="l" t="t" r="r" b="b"/>
              <a:pathLst>
                <a:path w="473" h="1639">
                  <a:moveTo>
                    <a:pt x="425" y="0"/>
                  </a:moveTo>
                  <a:lnTo>
                    <a:pt x="0" y="0"/>
                  </a:lnTo>
                  <a:lnTo>
                    <a:pt x="0" y="1639"/>
                  </a:lnTo>
                  <a:lnTo>
                    <a:pt x="473" y="1639"/>
                  </a:lnTo>
                </a:path>
              </a:pathLst>
            </a:custGeom>
            <a:noFill/>
            <a:ln w="44280">
              <a:solidFill>
                <a:srgbClr val="c2e5f0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37040" y="549756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61080" y="1828800"/>
              <a:ext cx="617400" cy="2286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761080" y="1596600"/>
              <a:ext cx="617400" cy="23508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472840" y="5505480"/>
              <a:ext cx="771480" cy="144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28880" y="1714680"/>
              <a:ext cx="3784320" cy="76176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15000"/>
              </a:srgbClr>
            </a:solidFill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  <a:ea typeface="宋体"/>
                </a:rPr>
                <a:t>Pool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  <a:ea typeface="宋体"/>
                </a:rPr>
                <a:t>metadata 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62440" y="3610080"/>
              <a:ext cx="118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Clie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10’s - 10,000’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8440" y="5175360"/>
              <a:ext cx="1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01720" y="1268280"/>
              <a:ext cx="1189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Meta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vers (MD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147680" y="5775480"/>
              <a:ext cx="1381320" cy="299880"/>
              <a:chOff x="1147680" y="5775480"/>
              <a:chExt cx="1381320" cy="299880"/>
            </a:xfrm>
          </p:grpSpPr>
          <p:sp>
            <p:nvSpPr>
              <p:cNvPr id="114" name=""/>
              <p:cNvSpPr/>
              <p:nvPr/>
            </p:nvSpPr>
            <p:spPr>
              <a:xfrm>
                <a:off x="1147680" y="5775480"/>
                <a:ext cx="1381320" cy="299880"/>
              </a:xfrm>
              <a:prstGeom prst="rect">
                <a:avLst/>
              </a:prstGeom>
              <a:noFill/>
              <a:ln w="9360">
                <a:solidFill>
                  <a:srgbClr val="71c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= failover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"/>
              <a:srcRect l="48984" t="0" r="0" b="0"/>
              <a:stretch/>
            </p:blipFill>
            <p:spPr>
              <a:xfrm>
                <a:off x="1285920" y="5816520"/>
                <a:ext cx="482400" cy="258840"/>
              </a:xfrm>
              <a:prstGeom prst="rect">
                <a:avLst/>
              </a:prstGeom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</p:pic>
        </p:grpSp>
        <p:sp>
          <p:nvSpPr>
            <p:cNvPr id="116" name=""/>
            <p:cNvSpPr/>
            <p:nvPr/>
          </p:nvSpPr>
          <p:spPr>
            <a:xfrm flipH="1">
              <a:off x="2395080" y="2890800"/>
              <a:ext cx="544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395080" y="3510000"/>
              <a:ext cx="544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29080" y="2130480"/>
              <a:ext cx="1440" cy="4986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9560" y="2130480"/>
              <a:ext cx="4680" cy="4986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5240" y="2604960"/>
              <a:ext cx="2711160" cy="1511280"/>
            </a:xfrm>
            <a:custGeom>
              <a:avLst/>
              <a:gdLst/>
              <a:ahLst/>
              <a:rect l="l" t="t" r="r" b="b"/>
              <a:pathLst>
                <a:path w="1541" h="816">
                  <a:moveTo>
                    <a:pt x="1541" y="0"/>
                  </a:moveTo>
                  <a:lnTo>
                    <a:pt x="247" y="0"/>
                  </a:lnTo>
                  <a:lnTo>
                    <a:pt x="247" y="816"/>
                  </a:lnTo>
                  <a:lnTo>
                    <a:pt x="0" y="816"/>
                  </a:lnTo>
                </a:path>
              </a:pathLst>
            </a:custGeom>
            <a:noFill/>
            <a:ln w="44280">
              <a:solidFill>
                <a:srgbClr val="bce395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472840" y="4821120"/>
              <a:ext cx="771480" cy="180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835600" y="2968200"/>
              <a:ext cx="954000" cy="66348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5600" y="2973240"/>
              <a:ext cx="906480" cy="60336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37040" y="365760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37040" y="3043080"/>
              <a:ext cx="822240" cy="18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7040" y="434340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37040" y="4921200"/>
              <a:ext cx="822240" cy="18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30800" y="1852560"/>
              <a:ext cx="469800" cy="4003560"/>
            </a:xfrm>
            <a:custGeom>
              <a:avLst/>
              <a:gdLst/>
              <a:ahLst/>
              <a:rect l="l" t="t" r="r" b="b"/>
              <a:pathLst>
                <a:path w="266" h="2161">
                  <a:moveTo>
                    <a:pt x="262" y="0"/>
                  </a:moveTo>
                  <a:lnTo>
                    <a:pt x="0" y="0"/>
                  </a:lnTo>
                  <a:lnTo>
                    <a:pt x="0" y="2161"/>
                  </a:lnTo>
                  <a:lnTo>
                    <a:pt x="266" y="2161"/>
                  </a:lnTo>
                </a:path>
              </a:pathLst>
            </a:custGeom>
            <a:noFill/>
            <a:ln w="44280">
              <a:solidFill>
                <a:srgbClr val="bce395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30800" y="466740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0800" y="2841480"/>
              <a:ext cx="463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0800" y="346716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0800" y="5246640"/>
              <a:ext cx="463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2600" y="1446120"/>
              <a:ext cx="961920" cy="511200"/>
            </a:xfrm>
            <a:custGeom>
              <a:avLst/>
              <a:gdLst/>
              <a:ahLst/>
              <a:rect l="l" t="t" r="r" b="b"/>
              <a:pathLst>
                <a:path w="543" h="276">
                  <a:moveTo>
                    <a:pt x="0" y="276"/>
                  </a:moveTo>
                  <a:lnTo>
                    <a:pt x="274" y="0"/>
                  </a:lnTo>
                  <a:lnTo>
                    <a:pt x="543" y="269"/>
                  </a:lnTo>
                </a:path>
              </a:pathLst>
            </a:custGeom>
            <a:noFill/>
            <a:ln w="44280">
              <a:solidFill>
                <a:srgbClr val="cccccc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191280" y="1450800"/>
              <a:ext cx="415800" cy="435240"/>
              <a:chOff x="6191280" y="1450800"/>
              <a:chExt cx="415800" cy="435240"/>
            </a:xfrm>
          </p:grpSpPr>
          <p:sp>
            <p:nvSpPr>
              <p:cNvPr id="135" name=""/>
              <p:cNvSpPr/>
              <p:nvPr/>
            </p:nvSpPr>
            <p:spPr>
              <a:xfrm>
                <a:off x="6191280" y="1450800"/>
                <a:ext cx="415800" cy="4352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00720" y="1558800"/>
                <a:ext cx="1954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230800" y="416880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589800" y="3338640"/>
              <a:ext cx="415800" cy="434880"/>
              <a:chOff x="6589800" y="3338640"/>
              <a:chExt cx="415800" cy="434880"/>
            </a:xfrm>
          </p:grpSpPr>
          <p:sp>
            <p:nvSpPr>
              <p:cNvPr id="139" name=""/>
              <p:cNvSpPr/>
              <p:nvPr/>
            </p:nvSpPr>
            <p:spPr>
              <a:xfrm>
                <a:off x="6589800" y="333864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5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5" y="83"/>
                    </a:lnTo>
                    <a:lnTo>
                      <a:pt x="10" y="72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1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99240" y="3446640"/>
                <a:ext cx="193680" cy="21744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110" y="40"/>
                    </a:moveTo>
                    <a:lnTo>
                      <a:pt x="110" y="101"/>
                    </a:lnTo>
                    <a:lnTo>
                      <a:pt x="109" y="104"/>
                    </a:lnTo>
                    <a:lnTo>
                      <a:pt x="106" y="107"/>
                    </a:lnTo>
                    <a:lnTo>
                      <a:pt x="100" y="110"/>
                    </a:lnTo>
                    <a:lnTo>
                      <a:pt x="94" y="113"/>
                    </a:lnTo>
                    <a:lnTo>
                      <a:pt x="86" y="114"/>
                    </a:lnTo>
                    <a:lnTo>
                      <a:pt x="77" y="116"/>
                    </a:lnTo>
                    <a:lnTo>
                      <a:pt x="66" y="117"/>
                    </a:lnTo>
                    <a:lnTo>
                      <a:pt x="55" y="118"/>
                    </a:lnTo>
                    <a:lnTo>
                      <a:pt x="44" y="117"/>
                    </a:lnTo>
                    <a:lnTo>
                      <a:pt x="34" y="116"/>
                    </a:lnTo>
                    <a:lnTo>
                      <a:pt x="24" y="114"/>
                    </a:lnTo>
                    <a:lnTo>
                      <a:pt x="17" y="113"/>
                    </a:lnTo>
                    <a:lnTo>
                      <a:pt x="10" y="110"/>
                    </a:lnTo>
                    <a:lnTo>
                      <a:pt x="5" y="107"/>
                    </a:lnTo>
                    <a:lnTo>
                      <a:pt x="1" y="104"/>
                    </a:lnTo>
                    <a:lnTo>
                      <a:pt x="0" y="101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31"/>
                    </a:lnTo>
                    <a:lnTo>
                      <a:pt x="34" y="31"/>
                    </a:lnTo>
                    <a:lnTo>
                      <a:pt x="44" y="33"/>
                    </a:lnTo>
                    <a:lnTo>
                      <a:pt x="55" y="33"/>
                    </a:lnTo>
                    <a:lnTo>
                      <a:pt x="66" y="33"/>
                    </a:lnTo>
                    <a:lnTo>
                      <a:pt x="77" y="31"/>
                    </a:lnTo>
                    <a:lnTo>
                      <a:pt x="86" y="31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20"/>
                    </a:lnTo>
                    <a:lnTo>
                      <a:pt x="110" y="17"/>
                    </a:lnTo>
                    <a:lnTo>
                      <a:pt x="109" y="13"/>
                    </a:lnTo>
                    <a:lnTo>
                      <a:pt x="106" y="10"/>
                    </a:lnTo>
                    <a:lnTo>
                      <a:pt x="100" y="7"/>
                    </a:lnTo>
                    <a:lnTo>
                      <a:pt x="94" y="5"/>
                    </a:lnTo>
                    <a:lnTo>
                      <a:pt x="86" y="3"/>
                    </a:lnTo>
                    <a:lnTo>
                      <a:pt x="77" y="1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1" y="1"/>
                    </a:lnTo>
                    <a:lnTo>
                      <a:pt x="30" y="1"/>
                    </a:lnTo>
                    <a:lnTo>
                      <a:pt x="21" y="3"/>
                    </a:lnTo>
                    <a:lnTo>
                      <a:pt x="12" y="7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89800" y="2824200"/>
              <a:ext cx="415800" cy="433440"/>
              <a:chOff x="6589800" y="2824200"/>
              <a:chExt cx="415800" cy="433440"/>
            </a:xfrm>
          </p:grpSpPr>
          <p:sp>
            <p:nvSpPr>
              <p:cNvPr id="142" name=""/>
              <p:cNvSpPr/>
              <p:nvPr/>
            </p:nvSpPr>
            <p:spPr>
              <a:xfrm>
                <a:off x="6589800" y="2824200"/>
                <a:ext cx="41580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99240" y="2932200"/>
                <a:ext cx="193680" cy="2156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1"/>
                    </a:lnTo>
                    <a:lnTo>
                      <a:pt x="109" y="104"/>
                    </a:lnTo>
                    <a:lnTo>
                      <a:pt x="106" y="107"/>
                    </a:lnTo>
                    <a:lnTo>
                      <a:pt x="100" y="110"/>
                    </a:lnTo>
                    <a:lnTo>
                      <a:pt x="94" y="112"/>
                    </a:lnTo>
                    <a:lnTo>
                      <a:pt x="86" y="114"/>
                    </a:lnTo>
                    <a:lnTo>
                      <a:pt x="77" y="116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6"/>
                    </a:lnTo>
                    <a:lnTo>
                      <a:pt x="24" y="114"/>
                    </a:lnTo>
                    <a:lnTo>
                      <a:pt x="17" y="112"/>
                    </a:lnTo>
                    <a:lnTo>
                      <a:pt x="10" y="110"/>
                    </a:lnTo>
                    <a:lnTo>
                      <a:pt x="5" y="107"/>
                    </a:lnTo>
                    <a:lnTo>
                      <a:pt x="1" y="104"/>
                    </a:lnTo>
                    <a:lnTo>
                      <a:pt x="0" y="10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5" y="23"/>
                    </a:lnTo>
                    <a:lnTo>
                      <a:pt x="10" y="26"/>
                    </a:lnTo>
                    <a:lnTo>
                      <a:pt x="17" y="28"/>
                    </a:lnTo>
                    <a:lnTo>
                      <a:pt x="24" y="30"/>
                    </a:lnTo>
                    <a:lnTo>
                      <a:pt x="34" y="32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2"/>
                    </a:lnTo>
                    <a:lnTo>
                      <a:pt x="86" y="30"/>
                    </a:lnTo>
                    <a:lnTo>
                      <a:pt x="94" y="28"/>
                    </a:lnTo>
                    <a:lnTo>
                      <a:pt x="100" y="26"/>
                    </a:lnTo>
                    <a:lnTo>
                      <a:pt x="106" y="23"/>
                    </a:lnTo>
                    <a:lnTo>
                      <a:pt x="109" y="20"/>
                    </a:lnTo>
                    <a:lnTo>
                      <a:pt x="110" y="16"/>
                    </a:lnTo>
                    <a:lnTo>
                      <a:pt x="109" y="13"/>
                    </a:lnTo>
                    <a:lnTo>
                      <a:pt x="106" y="10"/>
                    </a:lnTo>
                    <a:lnTo>
                      <a:pt x="100" y="7"/>
                    </a:lnTo>
                    <a:lnTo>
                      <a:pt x="94" y="5"/>
                    </a:lnTo>
                    <a:lnTo>
                      <a:pt x="86" y="3"/>
                    </a:lnTo>
                    <a:lnTo>
                      <a:pt x="77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1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460680" y="1781280"/>
              <a:ext cx="414360" cy="436320"/>
              <a:chOff x="3460680" y="1781280"/>
              <a:chExt cx="414360" cy="436320"/>
            </a:xfrm>
          </p:grpSpPr>
          <p:sp>
            <p:nvSpPr>
              <p:cNvPr id="145" name=""/>
              <p:cNvSpPr/>
              <p:nvPr/>
            </p:nvSpPr>
            <p:spPr>
              <a:xfrm>
                <a:off x="3460680" y="1781280"/>
                <a:ext cx="414360" cy="43632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4" y="130"/>
                    </a:lnTo>
                    <a:lnTo>
                      <a:pt x="232" y="142"/>
                    </a:lnTo>
                    <a:lnTo>
                      <a:pt x="229" y="153"/>
                    </a:lnTo>
                    <a:lnTo>
                      <a:pt x="225" y="164"/>
                    </a:lnTo>
                    <a:lnTo>
                      <a:pt x="220" y="174"/>
                    </a:lnTo>
                    <a:lnTo>
                      <a:pt x="214" y="184"/>
                    </a:lnTo>
                    <a:lnTo>
                      <a:pt x="207" y="193"/>
                    </a:lnTo>
                    <a:lnTo>
                      <a:pt x="200" y="202"/>
                    </a:lnTo>
                    <a:lnTo>
                      <a:pt x="192" y="209"/>
                    </a:lnTo>
                    <a:lnTo>
                      <a:pt x="182" y="216"/>
                    </a:lnTo>
                    <a:lnTo>
                      <a:pt x="173" y="222"/>
                    </a:lnTo>
                    <a:lnTo>
                      <a:pt x="163" y="226"/>
                    </a:lnTo>
                    <a:lnTo>
                      <a:pt x="152" y="231"/>
                    </a:lnTo>
                    <a:lnTo>
                      <a:pt x="141" y="233"/>
                    </a:lnTo>
                    <a:lnTo>
                      <a:pt x="129" y="235"/>
                    </a:lnTo>
                    <a:lnTo>
                      <a:pt x="117" y="236"/>
                    </a:lnTo>
                    <a:lnTo>
                      <a:pt x="105" y="235"/>
                    </a:lnTo>
                    <a:lnTo>
                      <a:pt x="93" y="233"/>
                    </a:lnTo>
                    <a:lnTo>
                      <a:pt x="82" y="231"/>
                    </a:lnTo>
                    <a:lnTo>
                      <a:pt x="70" y="226"/>
                    </a:lnTo>
                    <a:lnTo>
                      <a:pt x="60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2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5"/>
                    </a:lnTo>
                    <a:lnTo>
                      <a:pt x="6" y="83"/>
                    </a:lnTo>
                    <a:lnTo>
                      <a:pt x="10" y="73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4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0" y="14"/>
                    </a:lnTo>
                    <a:lnTo>
                      <a:pt x="70" y="9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5" y="1"/>
                    </a:lnTo>
                    <a:lnTo>
                      <a:pt x="117" y="0"/>
                    </a:lnTo>
                    <a:lnTo>
                      <a:pt x="129" y="1"/>
                    </a:lnTo>
                    <a:lnTo>
                      <a:pt x="141" y="3"/>
                    </a:lnTo>
                    <a:lnTo>
                      <a:pt x="152" y="6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2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7" y="44"/>
                    </a:lnTo>
                    <a:lnTo>
                      <a:pt x="214" y="52"/>
                    </a:lnTo>
                    <a:lnTo>
                      <a:pt x="220" y="62"/>
                    </a:lnTo>
                    <a:lnTo>
                      <a:pt x="225" y="73"/>
                    </a:lnTo>
                    <a:lnTo>
                      <a:pt x="229" y="83"/>
                    </a:lnTo>
                    <a:lnTo>
                      <a:pt x="232" y="95"/>
                    </a:lnTo>
                    <a:lnTo>
                      <a:pt x="234" y="106"/>
                    </a:lnTo>
                    <a:lnTo>
                      <a:pt x="234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54280" y="1827360"/>
                <a:ext cx="216000" cy="334800"/>
              </a:xfrm>
              <a:custGeom>
                <a:avLst/>
                <a:gdLst/>
                <a:ahLst/>
                <a:rect l="l" t="t" r="r" b="b"/>
                <a:pathLst>
                  <a:path w="122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9" y="85"/>
                    </a:lnTo>
                    <a:lnTo>
                      <a:pt x="109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2" y="156"/>
                    </a:lnTo>
                    <a:lnTo>
                      <a:pt x="122" y="39"/>
                    </a:lnTo>
                    <a:lnTo>
                      <a:pt x="74" y="62"/>
                    </a:lnTo>
                    <a:lnTo>
                      <a:pt x="2" y="24"/>
                    </a:lnTo>
                    <a:lnTo>
                      <a:pt x="54" y="0"/>
                    </a:lnTo>
                    <a:lnTo>
                      <a:pt x="105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603760" y="1638360"/>
              <a:ext cx="416160" cy="430200"/>
              <a:chOff x="5603760" y="1638360"/>
              <a:chExt cx="416160" cy="430200"/>
            </a:xfrm>
          </p:grpSpPr>
          <p:sp>
            <p:nvSpPr>
              <p:cNvPr id="148" name=""/>
              <p:cNvSpPr/>
              <p:nvPr/>
            </p:nvSpPr>
            <p:spPr>
              <a:xfrm>
                <a:off x="5603760" y="1638360"/>
                <a:ext cx="416160" cy="430200"/>
              </a:xfrm>
              <a:custGeom>
                <a:avLst/>
                <a:gdLst/>
                <a:ahLst/>
                <a:rect l="l" t="t" r="r" b="b"/>
                <a:pathLst>
                  <a:path w="236" h="234">
                    <a:moveTo>
                      <a:pt x="236" y="117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1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4"/>
                    </a:lnTo>
                    <a:lnTo>
                      <a:pt x="118" y="234"/>
                    </a:lnTo>
                    <a:lnTo>
                      <a:pt x="106" y="234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9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3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02400" y="1681200"/>
                <a:ext cx="214200" cy="334800"/>
              </a:xfrm>
              <a:custGeom>
                <a:avLst/>
                <a:gdLst/>
                <a:ahLst/>
                <a:rect l="l" t="t" r="r" b="b"/>
                <a:pathLst>
                  <a:path w="121" h="182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3"/>
                    </a:lnTo>
                    <a:lnTo>
                      <a:pt x="75" y="83"/>
                    </a:lnTo>
                    <a:lnTo>
                      <a:pt x="75" y="100"/>
                    </a:lnTo>
                    <a:lnTo>
                      <a:pt x="108" y="86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2"/>
                    </a:lnTo>
                    <a:lnTo>
                      <a:pt x="121" y="157"/>
                    </a:lnTo>
                    <a:lnTo>
                      <a:pt x="121" y="40"/>
                    </a:lnTo>
                    <a:lnTo>
                      <a:pt x="73" y="63"/>
                    </a:lnTo>
                    <a:lnTo>
                      <a:pt x="1" y="25"/>
                    </a:lnTo>
                    <a:lnTo>
                      <a:pt x="53" y="0"/>
                    </a:lnTo>
                    <a:lnTo>
                      <a:pt x="106" y="3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03760" y="2744640"/>
              <a:ext cx="416160" cy="432000"/>
              <a:chOff x="5603760" y="2744640"/>
              <a:chExt cx="416160" cy="432000"/>
            </a:xfrm>
          </p:grpSpPr>
          <p:sp>
            <p:nvSpPr>
              <p:cNvPr id="151" name=""/>
              <p:cNvSpPr/>
              <p:nvPr/>
            </p:nvSpPr>
            <p:spPr>
              <a:xfrm>
                <a:off x="5603760" y="2744640"/>
                <a:ext cx="416160" cy="43200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3"/>
                    </a:lnTo>
                    <a:lnTo>
                      <a:pt x="227" y="163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29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29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02400" y="278928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2"/>
                    </a:lnTo>
                    <a:lnTo>
                      <a:pt x="75" y="100"/>
                    </a:lnTo>
                    <a:lnTo>
                      <a:pt x="108" y="85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6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603760" y="3367080"/>
              <a:ext cx="416160" cy="436680"/>
              <a:chOff x="5603760" y="3367080"/>
              <a:chExt cx="416160" cy="436680"/>
            </a:xfrm>
          </p:grpSpPr>
          <p:sp>
            <p:nvSpPr>
              <p:cNvPr id="154" name=""/>
              <p:cNvSpPr/>
              <p:nvPr/>
            </p:nvSpPr>
            <p:spPr>
              <a:xfrm>
                <a:off x="5603760" y="336708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4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1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1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1"/>
                    </a:lnTo>
                    <a:lnTo>
                      <a:pt x="27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7" y="43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1"/>
                    </a:lnTo>
                    <a:lnTo>
                      <a:pt x="62" y="15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5"/>
                    </a:lnTo>
                    <a:lnTo>
                      <a:pt x="184" y="21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1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02400" y="341316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0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8" y="84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0"/>
                    </a:lnTo>
                    <a:lnTo>
                      <a:pt x="121" y="156"/>
                    </a:lnTo>
                    <a:lnTo>
                      <a:pt x="121" y="38"/>
                    </a:lnTo>
                    <a:lnTo>
                      <a:pt x="73" y="61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603760" y="4056120"/>
              <a:ext cx="416160" cy="434880"/>
              <a:chOff x="5603760" y="4056120"/>
              <a:chExt cx="416160" cy="434880"/>
            </a:xfrm>
          </p:grpSpPr>
          <p:sp>
            <p:nvSpPr>
              <p:cNvPr id="157" name=""/>
              <p:cNvSpPr/>
              <p:nvPr/>
            </p:nvSpPr>
            <p:spPr>
              <a:xfrm>
                <a:off x="5603760" y="405612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5"/>
                    </a:lnTo>
                    <a:lnTo>
                      <a:pt x="221" y="175"/>
                    </a:lnTo>
                    <a:lnTo>
                      <a:pt x="216" y="184"/>
                    </a:lnTo>
                    <a:lnTo>
                      <a:pt x="209" y="194"/>
                    </a:lnTo>
                    <a:lnTo>
                      <a:pt x="202" y="202"/>
                    </a:lnTo>
                    <a:lnTo>
                      <a:pt x="193" y="209"/>
                    </a:lnTo>
                    <a:lnTo>
                      <a:pt x="184" y="214"/>
                    </a:lnTo>
                    <a:lnTo>
                      <a:pt x="174" y="220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0"/>
                    </a:lnTo>
                    <a:lnTo>
                      <a:pt x="52" y="214"/>
                    </a:lnTo>
                    <a:lnTo>
                      <a:pt x="44" y="209"/>
                    </a:lnTo>
                    <a:lnTo>
                      <a:pt x="35" y="202"/>
                    </a:lnTo>
                    <a:lnTo>
                      <a:pt x="27" y="194"/>
                    </a:lnTo>
                    <a:lnTo>
                      <a:pt x="21" y="184"/>
                    </a:lnTo>
                    <a:lnTo>
                      <a:pt x="15" y="175"/>
                    </a:lnTo>
                    <a:lnTo>
                      <a:pt x="9" y="165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2"/>
                    </a:lnTo>
                    <a:lnTo>
                      <a:pt x="15" y="62"/>
                    </a:lnTo>
                    <a:lnTo>
                      <a:pt x="21" y="53"/>
                    </a:lnTo>
                    <a:lnTo>
                      <a:pt x="27" y="43"/>
                    </a:lnTo>
                    <a:lnTo>
                      <a:pt x="35" y="36"/>
                    </a:lnTo>
                    <a:lnTo>
                      <a:pt x="44" y="28"/>
                    </a:lnTo>
                    <a:lnTo>
                      <a:pt x="52" y="21"/>
                    </a:lnTo>
                    <a:lnTo>
                      <a:pt x="62" y="15"/>
                    </a:lnTo>
                    <a:lnTo>
                      <a:pt x="73" y="10"/>
                    </a:lnTo>
                    <a:lnTo>
                      <a:pt x="83" y="6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6"/>
                    </a:lnTo>
                    <a:lnTo>
                      <a:pt x="164" y="10"/>
                    </a:lnTo>
                    <a:lnTo>
                      <a:pt x="174" y="15"/>
                    </a:lnTo>
                    <a:lnTo>
                      <a:pt x="184" y="21"/>
                    </a:lnTo>
                    <a:lnTo>
                      <a:pt x="193" y="28"/>
                    </a:lnTo>
                    <a:lnTo>
                      <a:pt x="202" y="36"/>
                    </a:lnTo>
                    <a:lnTo>
                      <a:pt x="209" y="43"/>
                    </a:lnTo>
                    <a:lnTo>
                      <a:pt x="216" y="53"/>
                    </a:lnTo>
                    <a:lnTo>
                      <a:pt x="221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02400" y="4103640"/>
                <a:ext cx="214200" cy="3351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8" y="85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7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603760" y="4619520"/>
              <a:ext cx="416160" cy="435240"/>
              <a:chOff x="5603760" y="4619520"/>
              <a:chExt cx="416160" cy="435240"/>
            </a:xfrm>
          </p:grpSpPr>
          <p:sp>
            <p:nvSpPr>
              <p:cNvPr id="160" name=""/>
              <p:cNvSpPr/>
              <p:nvPr/>
            </p:nvSpPr>
            <p:spPr>
              <a:xfrm>
                <a:off x="5603760" y="4619520"/>
                <a:ext cx="416160" cy="43524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1"/>
                    </a:lnTo>
                    <a:lnTo>
                      <a:pt x="27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02400" y="4665600"/>
                <a:ext cx="214200" cy="331920"/>
              </a:xfrm>
              <a:custGeom>
                <a:avLst/>
                <a:gdLst/>
                <a:ahLst/>
                <a:rect l="l" t="t" r="r" b="b"/>
                <a:pathLst>
                  <a:path w="121" h="180">
                    <a:moveTo>
                      <a:pt x="61" y="175"/>
                    </a:moveTo>
                    <a:lnTo>
                      <a:pt x="0" y="143"/>
                    </a:lnTo>
                    <a:lnTo>
                      <a:pt x="0" y="41"/>
                    </a:lnTo>
                    <a:lnTo>
                      <a:pt x="75" y="82"/>
                    </a:lnTo>
                    <a:lnTo>
                      <a:pt x="75" y="99"/>
                    </a:lnTo>
                    <a:lnTo>
                      <a:pt x="108" y="84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0"/>
                    </a:lnTo>
                    <a:lnTo>
                      <a:pt x="121" y="156"/>
                    </a:lnTo>
                    <a:lnTo>
                      <a:pt x="121" y="38"/>
                    </a:lnTo>
                    <a:lnTo>
                      <a:pt x="73" y="61"/>
                    </a:lnTo>
                    <a:lnTo>
                      <a:pt x="1" y="23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603760" y="5184720"/>
              <a:ext cx="416160" cy="433440"/>
              <a:chOff x="5603760" y="5184720"/>
              <a:chExt cx="416160" cy="433440"/>
            </a:xfrm>
          </p:grpSpPr>
          <p:sp>
            <p:nvSpPr>
              <p:cNvPr id="163" name=""/>
              <p:cNvSpPr/>
              <p:nvPr/>
            </p:nvSpPr>
            <p:spPr>
              <a:xfrm>
                <a:off x="5603760" y="518472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1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9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3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02400" y="5229360"/>
                <a:ext cx="214200" cy="33480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2"/>
                    </a:lnTo>
                    <a:lnTo>
                      <a:pt x="75" y="99"/>
                    </a:lnTo>
                    <a:lnTo>
                      <a:pt x="108" y="85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1" y="156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03760" y="5738760"/>
              <a:ext cx="416160" cy="433440"/>
              <a:chOff x="5603760" y="5738760"/>
              <a:chExt cx="416160" cy="433440"/>
            </a:xfrm>
          </p:grpSpPr>
          <p:sp>
            <p:nvSpPr>
              <p:cNvPr id="166" name=""/>
              <p:cNvSpPr/>
              <p:nvPr/>
            </p:nvSpPr>
            <p:spPr>
              <a:xfrm>
                <a:off x="5603760" y="573876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02400" y="578340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100"/>
                    </a:lnTo>
                    <a:lnTo>
                      <a:pt x="108" y="85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7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436920" y="2224080"/>
              <a:ext cx="407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DS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32240" y="2325600"/>
              <a:ext cx="431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ctiv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9720" y="2224080"/>
              <a:ext cx="407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DS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03640" y="2325600"/>
              <a:ext cx="547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standb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79520" y="2654280"/>
              <a:ext cx="416160" cy="436680"/>
              <a:chOff x="2279520" y="2654280"/>
              <a:chExt cx="416160" cy="436680"/>
            </a:xfrm>
          </p:grpSpPr>
          <p:sp>
            <p:nvSpPr>
              <p:cNvPr id="173" name=""/>
              <p:cNvSpPr/>
              <p:nvPr/>
            </p:nvSpPr>
            <p:spPr>
              <a:xfrm>
                <a:off x="2279520" y="265428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2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6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1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27400" y="274968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20"/>
                    </a:lnTo>
                    <a:lnTo>
                      <a:pt x="100" y="20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79520" y="3268800"/>
              <a:ext cx="416160" cy="434880"/>
              <a:chOff x="2279520" y="3268800"/>
              <a:chExt cx="416160" cy="434880"/>
            </a:xfrm>
          </p:grpSpPr>
          <p:sp>
            <p:nvSpPr>
              <p:cNvPr id="176" name=""/>
              <p:cNvSpPr/>
              <p:nvPr/>
            </p:nvSpPr>
            <p:spPr>
              <a:xfrm>
                <a:off x="2279520" y="326880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27400" y="336384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279520" y="3875040"/>
              <a:ext cx="416160" cy="436680"/>
              <a:chOff x="2279520" y="3875040"/>
              <a:chExt cx="416160" cy="436680"/>
            </a:xfrm>
          </p:grpSpPr>
          <p:sp>
            <p:nvSpPr>
              <p:cNvPr id="179" name=""/>
              <p:cNvSpPr/>
              <p:nvPr/>
            </p:nvSpPr>
            <p:spPr>
              <a:xfrm>
                <a:off x="2279520" y="387504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6"/>
                    </a:lnTo>
                    <a:lnTo>
                      <a:pt x="175" y="222"/>
                    </a:lnTo>
                    <a:lnTo>
                      <a:pt x="165" y="227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7"/>
                    </a:lnTo>
                    <a:lnTo>
                      <a:pt x="62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5"/>
                    </a:lnTo>
                    <a:lnTo>
                      <a:pt x="72" y="10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5" y="10"/>
                    </a:lnTo>
                    <a:lnTo>
                      <a:pt x="175" y="15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27400" y="397044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4"/>
                    </a:moveTo>
                    <a:lnTo>
                      <a:pt x="0" y="20"/>
                    </a:lnTo>
                    <a:lnTo>
                      <a:pt x="100" y="20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2"/>
                    </a:lnTo>
                    <a:lnTo>
                      <a:pt x="0" y="82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279520" y="4614840"/>
              <a:ext cx="416160" cy="433440"/>
              <a:chOff x="2279520" y="4614840"/>
              <a:chExt cx="416160" cy="43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9520" y="461484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27400" y="4710240"/>
                <a:ext cx="315720" cy="2268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71600" y="5219640"/>
              <a:ext cx="416160" cy="434880"/>
              <a:chOff x="2271600" y="5219640"/>
              <a:chExt cx="416160" cy="434880"/>
            </a:xfrm>
          </p:grpSpPr>
          <p:sp>
            <p:nvSpPr>
              <p:cNvPr id="185" name=""/>
              <p:cNvSpPr/>
              <p:nvPr/>
            </p:nvSpPr>
            <p:spPr>
              <a:xfrm>
                <a:off x="2271600" y="521964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3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6"/>
                    </a:lnTo>
                    <a:lnTo>
                      <a:pt x="175" y="222"/>
                    </a:lnTo>
                    <a:lnTo>
                      <a:pt x="165" y="227"/>
                    </a:lnTo>
                    <a:lnTo>
                      <a:pt x="153" y="230"/>
                    </a:lnTo>
                    <a:lnTo>
                      <a:pt x="142" y="234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4"/>
                    </a:lnTo>
                    <a:lnTo>
                      <a:pt x="83" y="230"/>
                    </a:lnTo>
                    <a:lnTo>
                      <a:pt x="72" y="227"/>
                    </a:lnTo>
                    <a:lnTo>
                      <a:pt x="62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10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5" y="10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20920" y="5315040"/>
                <a:ext cx="31608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4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2"/>
                    </a:lnTo>
                    <a:lnTo>
                      <a:pt x="0" y="82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664240" y="2176560"/>
              <a:ext cx="297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70720" y="3235320"/>
              <a:ext cx="2966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4480" y="3855960"/>
              <a:ext cx="298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3320" y="4503600"/>
              <a:ext cx="296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94480" y="5076720"/>
              <a:ext cx="298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70720" y="5662440"/>
              <a:ext cx="296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86080" y="1800360"/>
              <a:ext cx="414360" cy="434880"/>
              <a:chOff x="4186080" y="1800360"/>
              <a:chExt cx="414360" cy="43488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6080" y="180036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4" y="130"/>
                    </a:lnTo>
                    <a:lnTo>
                      <a:pt x="232" y="142"/>
                    </a:lnTo>
                    <a:lnTo>
                      <a:pt x="229" y="153"/>
                    </a:lnTo>
                    <a:lnTo>
                      <a:pt x="225" y="164"/>
                    </a:lnTo>
                    <a:lnTo>
                      <a:pt x="220" y="174"/>
                    </a:lnTo>
                    <a:lnTo>
                      <a:pt x="214" y="184"/>
                    </a:lnTo>
                    <a:lnTo>
                      <a:pt x="207" y="193"/>
                    </a:lnTo>
                    <a:lnTo>
                      <a:pt x="200" y="202"/>
                    </a:lnTo>
                    <a:lnTo>
                      <a:pt x="192" y="209"/>
                    </a:lnTo>
                    <a:lnTo>
                      <a:pt x="182" y="216"/>
                    </a:lnTo>
                    <a:lnTo>
                      <a:pt x="173" y="222"/>
                    </a:lnTo>
                    <a:lnTo>
                      <a:pt x="163" y="226"/>
                    </a:lnTo>
                    <a:lnTo>
                      <a:pt x="152" y="231"/>
                    </a:lnTo>
                    <a:lnTo>
                      <a:pt x="141" y="233"/>
                    </a:lnTo>
                    <a:lnTo>
                      <a:pt x="129" y="235"/>
                    </a:lnTo>
                    <a:lnTo>
                      <a:pt x="117" y="236"/>
                    </a:lnTo>
                    <a:lnTo>
                      <a:pt x="105" y="235"/>
                    </a:lnTo>
                    <a:lnTo>
                      <a:pt x="93" y="233"/>
                    </a:lnTo>
                    <a:lnTo>
                      <a:pt x="82" y="231"/>
                    </a:lnTo>
                    <a:lnTo>
                      <a:pt x="70" y="226"/>
                    </a:lnTo>
                    <a:lnTo>
                      <a:pt x="60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2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5"/>
                    </a:lnTo>
                    <a:lnTo>
                      <a:pt x="6" y="83"/>
                    </a:lnTo>
                    <a:lnTo>
                      <a:pt x="10" y="73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4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0" y="14"/>
                    </a:lnTo>
                    <a:lnTo>
                      <a:pt x="70" y="9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5" y="1"/>
                    </a:lnTo>
                    <a:lnTo>
                      <a:pt x="117" y="0"/>
                    </a:lnTo>
                    <a:lnTo>
                      <a:pt x="129" y="1"/>
                    </a:lnTo>
                    <a:lnTo>
                      <a:pt x="141" y="3"/>
                    </a:lnTo>
                    <a:lnTo>
                      <a:pt x="152" y="6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2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7" y="44"/>
                    </a:lnTo>
                    <a:lnTo>
                      <a:pt x="214" y="52"/>
                    </a:lnTo>
                    <a:lnTo>
                      <a:pt x="220" y="62"/>
                    </a:lnTo>
                    <a:lnTo>
                      <a:pt x="225" y="73"/>
                    </a:lnTo>
                    <a:lnTo>
                      <a:pt x="229" y="83"/>
                    </a:lnTo>
                    <a:lnTo>
                      <a:pt x="232" y="95"/>
                    </a:lnTo>
                    <a:lnTo>
                      <a:pt x="234" y="106"/>
                    </a:lnTo>
                    <a:lnTo>
                      <a:pt x="234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81480" y="1846440"/>
                <a:ext cx="216000" cy="333360"/>
              </a:xfrm>
              <a:custGeom>
                <a:avLst/>
                <a:gdLst/>
                <a:ahLst/>
                <a:rect l="l" t="t" r="r" b="b"/>
                <a:pathLst>
                  <a:path w="122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9" y="85"/>
                    </a:lnTo>
                    <a:lnTo>
                      <a:pt x="109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2" y="156"/>
                    </a:lnTo>
                    <a:lnTo>
                      <a:pt x="122" y="39"/>
                    </a:lnTo>
                    <a:lnTo>
                      <a:pt x="74" y="62"/>
                    </a:lnTo>
                    <a:lnTo>
                      <a:pt x="2" y="24"/>
                    </a:lnTo>
                    <a:lnTo>
                      <a:pt x="54" y="0"/>
                    </a:lnTo>
                    <a:lnTo>
                      <a:pt x="105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816360" y="1192320"/>
              <a:ext cx="415800" cy="434880"/>
              <a:chOff x="3816360" y="1192320"/>
              <a:chExt cx="415800" cy="434880"/>
            </a:xfrm>
          </p:grpSpPr>
          <p:sp>
            <p:nvSpPr>
              <p:cNvPr id="197" name=""/>
              <p:cNvSpPr/>
              <p:nvPr/>
            </p:nvSpPr>
            <p:spPr>
              <a:xfrm>
                <a:off x="3816360" y="119232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25800" y="1300320"/>
                <a:ext cx="1936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706920" y="1749600"/>
              <a:ext cx="680760" cy="177480"/>
            </a:xfrm>
            <a:custGeom>
              <a:avLst/>
              <a:gdLst>
                <a:gd name="textAreaLeft" fmla="*/ 122400 w 680760"/>
                <a:gd name="textAreaRight" fmla="*/ 495360 w 680760"/>
                <a:gd name="textAreaTop" fmla="*/ 23760 h 177480"/>
                <a:gd name="textAreaBottom" fmla="*/ 153720 h 17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1019160"/>
              <a:ext cx="1449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Object Storage Servers(OSS) (100’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1840" y="1716120"/>
              <a:ext cx="1328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modity Storage Serv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70520" y="5465880"/>
              <a:ext cx="13258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terprise-Class Storage Arrays &amp; SAN Fabric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111480" y="4680000"/>
              <a:ext cx="333360" cy="344520"/>
              <a:chOff x="3111480" y="4680000"/>
              <a:chExt cx="333360" cy="344520"/>
            </a:xfrm>
          </p:grpSpPr>
          <p:sp>
            <p:nvSpPr>
              <p:cNvPr id="204" name=""/>
              <p:cNvSpPr/>
              <p:nvPr/>
            </p:nvSpPr>
            <p:spPr>
              <a:xfrm>
                <a:off x="3111480" y="468000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49640" y="4756320"/>
                <a:ext cx="25380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652920" y="3610080"/>
              <a:ext cx="1176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multaneous support of multiple network typ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6480" y="497052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191280" y="1949400"/>
              <a:ext cx="415800" cy="434880"/>
              <a:chOff x="6191280" y="1949400"/>
              <a:chExt cx="415800" cy="434880"/>
            </a:xfrm>
          </p:grpSpPr>
          <p:sp>
            <p:nvSpPr>
              <p:cNvPr id="209" name=""/>
              <p:cNvSpPr/>
              <p:nvPr/>
            </p:nvSpPr>
            <p:spPr>
              <a:xfrm>
                <a:off x="6191280" y="194940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00720" y="2057400"/>
                <a:ext cx="1954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668760" y="4889520"/>
              <a:ext cx="83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inib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5040" y="2967120"/>
              <a:ext cx="7873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yri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iniB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2240" y="3781440"/>
              <a:ext cx="14400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ared storage enables failover O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124960" y="561528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111480" y="4680000"/>
              <a:ext cx="333360" cy="344520"/>
              <a:chOff x="3111480" y="4680000"/>
              <a:chExt cx="333360" cy="344520"/>
            </a:xfrm>
          </p:grpSpPr>
          <p:sp>
            <p:nvSpPr>
              <p:cNvPr id="216" name=""/>
              <p:cNvSpPr/>
              <p:nvPr/>
            </p:nvSpPr>
            <p:spPr>
              <a:xfrm>
                <a:off x="3111480" y="468000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51080" y="4756320"/>
                <a:ext cx="25236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119400" y="5335560"/>
              <a:ext cx="333360" cy="344520"/>
              <a:chOff x="3119400" y="5335560"/>
              <a:chExt cx="333360" cy="344520"/>
            </a:xfrm>
          </p:grpSpPr>
          <p:sp>
            <p:nvSpPr>
              <p:cNvPr id="219" name=""/>
              <p:cNvSpPr/>
              <p:nvPr/>
            </p:nvSpPr>
            <p:spPr>
              <a:xfrm>
                <a:off x="3119400" y="533556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7560" y="5411880"/>
                <a:ext cx="25380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976480" y="562140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5107680" y="307224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5086800" y="441036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44800" y="4800600"/>
              <a:ext cx="1440" cy="68580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77040" y="4343400"/>
              <a:ext cx="1440" cy="158436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77040" y="4979880"/>
              <a:ext cx="41112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77040" y="5232240"/>
              <a:ext cx="41112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627960" y="4660920"/>
              <a:ext cx="414360" cy="806400"/>
              <a:chOff x="6627960" y="4660920"/>
              <a:chExt cx="414360" cy="806400"/>
            </a:xfrm>
          </p:grpSpPr>
          <p:sp>
            <p:nvSpPr>
              <p:cNvPr id="229" name=""/>
              <p:cNvSpPr/>
              <p:nvPr/>
            </p:nvSpPr>
            <p:spPr>
              <a:xfrm>
                <a:off x="6627960" y="4660920"/>
                <a:ext cx="414360" cy="4366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0" y="153"/>
                    </a:lnTo>
                    <a:lnTo>
                      <a:pt x="226" y="164"/>
                    </a:lnTo>
                    <a:lnTo>
                      <a:pt x="221" y="174"/>
                    </a:lnTo>
                    <a:lnTo>
                      <a:pt x="215" y="183"/>
                    </a:lnTo>
                    <a:lnTo>
                      <a:pt x="208" y="193"/>
                    </a:lnTo>
                    <a:lnTo>
                      <a:pt x="200" y="201"/>
                    </a:lnTo>
                    <a:lnTo>
                      <a:pt x="192" y="208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8"/>
                    </a:lnTo>
                    <a:lnTo>
                      <a:pt x="34" y="201"/>
                    </a:lnTo>
                    <a:lnTo>
                      <a:pt x="26" y="193"/>
                    </a:lnTo>
                    <a:lnTo>
                      <a:pt x="19" y="183"/>
                    </a:lnTo>
                    <a:lnTo>
                      <a:pt x="14" y="174"/>
                    </a:lnTo>
                    <a:lnTo>
                      <a:pt x="9" y="164"/>
                    </a:lnTo>
                    <a:lnTo>
                      <a:pt x="5" y="153"/>
                    </a:lnTo>
                    <a:lnTo>
                      <a:pt x="2" y="142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6"/>
                    </a:lnTo>
                    <a:lnTo>
                      <a:pt x="2" y="94"/>
                    </a:lnTo>
                    <a:lnTo>
                      <a:pt x="5" y="83"/>
                    </a:lnTo>
                    <a:lnTo>
                      <a:pt x="9" y="72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26" y="43"/>
                    </a:lnTo>
                    <a:lnTo>
                      <a:pt x="34" y="35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8" y="43"/>
                    </a:lnTo>
                    <a:lnTo>
                      <a:pt x="215" y="52"/>
                    </a:lnTo>
                    <a:lnTo>
                      <a:pt x="221" y="61"/>
                    </a:lnTo>
                    <a:lnTo>
                      <a:pt x="226" y="72"/>
                    </a:lnTo>
                    <a:lnTo>
                      <a:pt x="230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27960" y="503244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5">
                    <a:moveTo>
                      <a:pt x="235" y="118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0" y="153"/>
                    </a:lnTo>
                    <a:lnTo>
                      <a:pt x="226" y="164"/>
                    </a:lnTo>
                    <a:lnTo>
                      <a:pt x="221" y="174"/>
                    </a:lnTo>
                    <a:lnTo>
                      <a:pt x="215" y="183"/>
                    </a:lnTo>
                    <a:lnTo>
                      <a:pt x="208" y="193"/>
                    </a:lnTo>
                    <a:lnTo>
                      <a:pt x="200" y="200"/>
                    </a:lnTo>
                    <a:lnTo>
                      <a:pt x="192" y="208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8"/>
                    </a:lnTo>
                    <a:lnTo>
                      <a:pt x="34" y="200"/>
                    </a:lnTo>
                    <a:lnTo>
                      <a:pt x="26" y="193"/>
                    </a:lnTo>
                    <a:lnTo>
                      <a:pt x="19" y="183"/>
                    </a:lnTo>
                    <a:lnTo>
                      <a:pt x="14" y="174"/>
                    </a:lnTo>
                    <a:lnTo>
                      <a:pt x="9" y="164"/>
                    </a:lnTo>
                    <a:lnTo>
                      <a:pt x="5" y="153"/>
                    </a:lnTo>
                    <a:lnTo>
                      <a:pt x="2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6"/>
                    </a:lnTo>
                    <a:lnTo>
                      <a:pt x="2" y="94"/>
                    </a:lnTo>
                    <a:lnTo>
                      <a:pt x="5" y="83"/>
                    </a:lnTo>
                    <a:lnTo>
                      <a:pt x="9" y="71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26" y="42"/>
                    </a:lnTo>
                    <a:lnTo>
                      <a:pt x="34" y="34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4"/>
                    </a:lnTo>
                    <a:lnTo>
                      <a:pt x="208" y="42"/>
                    </a:lnTo>
                    <a:lnTo>
                      <a:pt x="215" y="52"/>
                    </a:lnTo>
                    <a:lnTo>
                      <a:pt x="221" y="61"/>
                    </a:lnTo>
                    <a:lnTo>
                      <a:pt x="226" y="71"/>
                    </a:lnTo>
                    <a:lnTo>
                      <a:pt x="230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27960" y="485136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5">
                    <a:moveTo>
                      <a:pt x="235" y="117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0" y="152"/>
                    </a:lnTo>
                    <a:lnTo>
                      <a:pt x="226" y="163"/>
                    </a:lnTo>
                    <a:lnTo>
                      <a:pt x="221" y="174"/>
                    </a:lnTo>
                    <a:lnTo>
                      <a:pt x="215" y="184"/>
                    </a:lnTo>
                    <a:lnTo>
                      <a:pt x="208" y="192"/>
                    </a:lnTo>
                    <a:lnTo>
                      <a:pt x="200" y="201"/>
                    </a:lnTo>
                    <a:lnTo>
                      <a:pt x="192" y="209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9"/>
                    </a:lnTo>
                    <a:lnTo>
                      <a:pt x="34" y="201"/>
                    </a:lnTo>
                    <a:lnTo>
                      <a:pt x="26" y="192"/>
                    </a:lnTo>
                    <a:lnTo>
                      <a:pt x="19" y="184"/>
                    </a:lnTo>
                    <a:lnTo>
                      <a:pt x="14" y="174"/>
                    </a:lnTo>
                    <a:lnTo>
                      <a:pt x="9" y="163"/>
                    </a:lnTo>
                    <a:lnTo>
                      <a:pt x="5" y="152"/>
                    </a:lnTo>
                    <a:lnTo>
                      <a:pt x="2" y="141"/>
                    </a:lnTo>
                    <a:lnTo>
                      <a:pt x="0" y="130"/>
                    </a:lnTo>
                    <a:lnTo>
                      <a:pt x="0" y="117"/>
                    </a:lnTo>
                    <a:lnTo>
                      <a:pt x="0" y="105"/>
                    </a:lnTo>
                    <a:lnTo>
                      <a:pt x="2" y="94"/>
                    </a:lnTo>
                    <a:lnTo>
                      <a:pt x="5" y="82"/>
                    </a:lnTo>
                    <a:lnTo>
                      <a:pt x="9" y="72"/>
                    </a:lnTo>
                    <a:lnTo>
                      <a:pt x="14" y="62"/>
                    </a:lnTo>
                    <a:lnTo>
                      <a:pt x="19" y="51"/>
                    </a:lnTo>
                    <a:lnTo>
                      <a:pt x="26" y="43"/>
                    </a:lnTo>
                    <a:lnTo>
                      <a:pt x="34" y="34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4"/>
                    </a:lnTo>
                    <a:lnTo>
                      <a:pt x="208" y="43"/>
                    </a:lnTo>
                    <a:lnTo>
                      <a:pt x="215" y="51"/>
                    </a:lnTo>
                    <a:lnTo>
                      <a:pt x="221" y="62"/>
                    </a:lnTo>
                    <a:lnTo>
                      <a:pt x="226" y="72"/>
                    </a:lnTo>
                    <a:lnTo>
                      <a:pt x="230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5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37400" y="4870440"/>
                <a:ext cx="191880" cy="37152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9" y="41"/>
                    </a:moveTo>
                    <a:lnTo>
                      <a:pt x="109" y="183"/>
                    </a:lnTo>
                    <a:lnTo>
                      <a:pt x="108" y="187"/>
                    </a:lnTo>
                    <a:lnTo>
                      <a:pt x="105" y="190"/>
                    </a:lnTo>
                    <a:lnTo>
                      <a:pt x="100" y="193"/>
                    </a:lnTo>
                    <a:lnTo>
                      <a:pt x="93" y="195"/>
                    </a:lnTo>
                    <a:lnTo>
                      <a:pt x="85" y="197"/>
                    </a:lnTo>
                    <a:lnTo>
                      <a:pt x="76" y="199"/>
                    </a:lnTo>
                    <a:lnTo>
                      <a:pt x="66" y="199"/>
                    </a:lnTo>
                    <a:lnTo>
                      <a:pt x="55" y="200"/>
                    </a:lnTo>
                    <a:lnTo>
                      <a:pt x="43" y="199"/>
                    </a:lnTo>
                    <a:lnTo>
                      <a:pt x="33" y="199"/>
                    </a:lnTo>
                    <a:lnTo>
                      <a:pt x="24" y="197"/>
                    </a:lnTo>
                    <a:lnTo>
                      <a:pt x="16" y="195"/>
                    </a:lnTo>
                    <a:lnTo>
                      <a:pt x="9" y="193"/>
                    </a:lnTo>
                    <a:lnTo>
                      <a:pt x="4" y="190"/>
                    </a:lnTo>
                    <a:lnTo>
                      <a:pt x="1" y="187"/>
                    </a:lnTo>
                    <a:lnTo>
                      <a:pt x="0" y="183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9" y="26"/>
                    </a:lnTo>
                    <a:lnTo>
                      <a:pt x="16" y="29"/>
                    </a:lnTo>
                    <a:lnTo>
                      <a:pt x="24" y="30"/>
                    </a:lnTo>
                    <a:lnTo>
                      <a:pt x="33" y="32"/>
                    </a:lnTo>
                    <a:lnTo>
                      <a:pt x="43" y="33"/>
                    </a:lnTo>
                    <a:lnTo>
                      <a:pt x="55" y="34"/>
                    </a:lnTo>
                    <a:lnTo>
                      <a:pt x="66" y="33"/>
                    </a:lnTo>
                    <a:lnTo>
                      <a:pt x="76" y="32"/>
                    </a:lnTo>
                    <a:lnTo>
                      <a:pt x="85" y="30"/>
                    </a:lnTo>
                    <a:lnTo>
                      <a:pt x="93" y="29"/>
                    </a:lnTo>
                    <a:lnTo>
                      <a:pt x="100" y="26"/>
                    </a:lnTo>
                    <a:lnTo>
                      <a:pt x="105" y="23"/>
                    </a:lnTo>
                    <a:lnTo>
                      <a:pt x="108" y="20"/>
                    </a:lnTo>
                    <a:lnTo>
                      <a:pt x="109" y="17"/>
                    </a:lnTo>
                    <a:lnTo>
                      <a:pt x="108" y="14"/>
                    </a:lnTo>
                    <a:lnTo>
                      <a:pt x="105" y="11"/>
                    </a:lnTo>
                    <a:lnTo>
                      <a:pt x="100" y="8"/>
                    </a:lnTo>
                    <a:lnTo>
                      <a:pt x="93" y="6"/>
                    </a:lnTo>
                    <a:lnTo>
                      <a:pt x="85" y="3"/>
                    </a:lnTo>
                    <a:lnTo>
                      <a:pt x="76" y="2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9" y="2"/>
                    </a:lnTo>
                    <a:lnTo>
                      <a:pt x="19" y="4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ustre Network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7560" y="914400"/>
            <a:ext cx="7678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ability - network 10,000’s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for multiple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 - many fla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an3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ricom GM, 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ay Seastar &amp;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ing between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ar Network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36520" y="1197000"/>
            <a:ext cx="3084480" cy="377640"/>
            <a:chOff x="1136520" y="1197000"/>
            <a:chExt cx="3084480" cy="377640"/>
          </a:xfrm>
        </p:grpSpPr>
        <p:sp>
          <p:nvSpPr>
            <p:cNvPr id="237" name=""/>
            <p:cNvSpPr/>
            <p:nvPr/>
          </p:nvSpPr>
          <p:spPr>
            <a:xfrm>
              <a:off x="1136520" y="1197000"/>
              <a:ext cx="3084480" cy="377640"/>
            </a:xfrm>
            <a:prstGeom prst="roundRect">
              <a:avLst>
                <a:gd name="adj" fmla="val 417"/>
              </a:avLst>
            </a:prstGeom>
            <a:solidFill>
              <a:srgbClr val="d9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90880" y="1229040"/>
              <a:ext cx="2975760" cy="307080"/>
            </a:xfrm>
            <a:prstGeom prst="rect">
              <a:avLst/>
            </a:prstGeom>
            <a:solidFill>
              <a:srgbClr val="d9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endor Network Device Libra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136520" y="2111400"/>
            <a:ext cx="3084480" cy="379440"/>
            <a:chOff x="1136520" y="2111400"/>
            <a:chExt cx="3084480" cy="379440"/>
          </a:xfrm>
        </p:grpSpPr>
        <p:sp>
          <p:nvSpPr>
            <p:cNvPr id="240" name=""/>
            <p:cNvSpPr/>
            <p:nvPr/>
          </p:nvSpPr>
          <p:spPr>
            <a:xfrm>
              <a:off x="1136520" y="211140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2200" y="2145240"/>
              <a:ext cx="237672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Networking (L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36520" y="1654200"/>
            <a:ext cx="3084480" cy="379440"/>
            <a:chOff x="1136520" y="1654200"/>
            <a:chExt cx="3084480" cy="379440"/>
          </a:xfrm>
        </p:grpSpPr>
        <p:sp>
          <p:nvSpPr>
            <p:cNvPr id="243" name=""/>
            <p:cNvSpPr/>
            <p:nvPr/>
          </p:nvSpPr>
          <p:spPr>
            <a:xfrm>
              <a:off x="1136520" y="165420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71b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7080" y="1688040"/>
              <a:ext cx="2775960" cy="307080"/>
            </a:xfrm>
            <a:prstGeom prst="rect">
              <a:avLst/>
            </a:prstGeom>
            <a:solidFill>
              <a:srgbClr val="71b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Network Drivers (LND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36520" y="2565360"/>
            <a:ext cx="3084480" cy="379440"/>
            <a:chOff x="1136520" y="2565360"/>
            <a:chExt cx="3084480" cy="379440"/>
          </a:xfrm>
        </p:grpSpPr>
        <p:sp>
          <p:nvSpPr>
            <p:cNvPr id="246" name=""/>
            <p:cNvSpPr/>
            <p:nvPr/>
          </p:nvSpPr>
          <p:spPr>
            <a:xfrm>
              <a:off x="1136520" y="256536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440" y="2600640"/>
              <a:ext cx="114984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36520" y="3024360"/>
            <a:ext cx="3084480" cy="379080"/>
            <a:chOff x="1136520" y="3024360"/>
            <a:chExt cx="3084480" cy="379080"/>
          </a:xfrm>
        </p:grpSpPr>
        <p:sp>
          <p:nvSpPr>
            <p:cNvPr id="249" name=""/>
            <p:cNvSpPr/>
            <p:nvPr/>
          </p:nvSpPr>
          <p:spPr>
            <a:xfrm>
              <a:off x="1136520" y="3024360"/>
              <a:ext cx="3084480" cy="37908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35320" y="3059640"/>
              <a:ext cx="248652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Request 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34360" y="1125360"/>
            <a:ext cx="23630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ultiple network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1" idx="1"/>
            <a:endCxn id="243" idx="3"/>
          </p:cNvCxnSpPr>
          <p:nvPr/>
        </p:nvCxnSpPr>
        <p:spPr>
          <a:xfrm flipH="1">
            <a:off x="4222440" y="1285920"/>
            <a:ext cx="511920" cy="558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959360" y="1673280"/>
            <a:ext cx="2954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Network-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synchronou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ost – completion event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essage passing /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1"/>
            <a:endCxn id="240" idx="3"/>
          </p:cNvCxnSpPr>
          <p:nvPr/>
        </p:nvCxnSpPr>
        <p:spPr>
          <a:xfrm flipH="1">
            <a:off x="4222440" y="2292480"/>
            <a:ext cx="73728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957920" y="314172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quest - que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Optional bulk data -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ply –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ar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5" idx="1"/>
            <a:endCxn id="246" idx="3"/>
          </p:cNvCxnSpPr>
          <p:nvPr/>
        </p:nvCxnSpPr>
        <p:spPr>
          <a:xfrm flipH="1" flipV="1">
            <a:off x="4222440" y="2754000"/>
            <a:ext cx="735840" cy="891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068480" y="3794040"/>
            <a:ext cx="390996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Zero-copy marshalling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ervice framework and request disp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nnection and address n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Generic recovery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 flipV="1">
            <a:off x="2634840" y="3409200"/>
            <a:ext cx="2520" cy="37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5284800" y="4954680"/>
            <a:ext cx="2263680" cy="304560"/>
          </a:xfrm>
          <a:prstGeom prst="rect">
            <a:avLst/>
          </a:prstGeom>
          <a:solidFill>
            <a:srgbClr val="55a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Portable Lustr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84800" y="5335560"/>
            <a:ext cx="2263680" cy="304920"/>
          </a:xfrm>
          <a:prstGeom prst="rect">
            <a:avLst/>
          </a:prstGeom>
          <a:solidFill>
            <a:srgbClr val="71b5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Not 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003200" y="28828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03200" y="24256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003200" y="19684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003200" y="15112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84800" y="5716440"/>
            <a:ext cx="2263680" cy="304920"/>
          </a:xfrm>
          <a:prstGeom prst="rect">
            <a:avLst/>
          </a:prstGeom>
          <a:solidFill>
            <a:srgbClr val="d9d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Not supplied by C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59520" y="4508640"/>
            <a:ext cx="63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86440" y="4508640"/>
            <a:ext cx="2639880" cy="1728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ltiple interfaces and L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7880" y="1073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20920" y="1073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87680" y="2314440"/>
            <a:ext cx="1179360" cy="1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/>
          <p:nvPr/>
        </p:nvCxnSpPr>
        <p:spPr>
          <a:xfrm flipV="1" rot="10800000">
            <a:off x="1820160" y="2447640"/>
            <a:ext cx="1384920" cy="5356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cxnSp>
        <p:nvCxnSpPr>
          <p:cNvPr id="273" name=""/>
          <p:cNvCxnSpPr/>
          <p:nvPr/>
        </p:nvCxnSpPr>
        <p:spPr>
          <a:xfrm rot="10800000">
            <a:off x="1851840" y="1515240"/>
            <a:ext cx="1330920" cy="6580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551400" y="2301840"/>
            <a:ext cx="12668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/>
          <p:nvPr/>
        </p:nvCxnSpPr>
        <p:spPr>
          <a:xfrm flipV="1">
            <a:off x="3951360" y="1572480"/>
            <a:ext cx="1450080" cy="615240"/>
          </a:xfrm>
          <a:prstGeom prst="bentConnector3">
            <a:avLst>
              <a:gd name="adj1" fmla="val 4998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276" name=""/>
          <p:cNvCxnSpPr/>
          <p:nvPr/>
        </p:nvCxnSpPr>
        <p:spPr>
          <a:xfrm>
            <a:off x="3955680" y="2410920"/>
            <a:ext cx="1429560" cy="51372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3332160" y="2492280"/>
            <a:ext cx="1440" cy="793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4480" y="2492280"/>
            <a:ext cx="1800" cy="793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78160" y="3325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6040" y="306720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92560" y="307188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18040" y="270684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03640" y="210024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91040" y="135108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7960" y="27637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7960" y="20923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13003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4320" y="325908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4920" y="240840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2408400"/>
            <a:ext cx="103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33920" y="1365120"/>
            <a:ext cx="395280" cy="424080"/>
            <a:chOff x="4633920" y="1365120"/>
            <a:chExt cx="395280" cy="424080"/>
          </a:xfrm>
        </p:grpSpPr>
        <p:sp>
          <p:nvSpPr>
            <p:cNvPr id="292" name=""/>
            <p:cNvSpPr/>
            <p:nvPr/>
          </p:nvSpPr>
          <p:spPr>
            <a:xfrm>
              <a:off x="4633920" y="136512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80000" y="145728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646520" y="2709720"/>
            <a:ext cx="395280" cy="424080"/>
            <a:chOff x="4646520" y="2709720"/>
            <a:chExt cx="395280" cy="424080"/>
          </a:xfrm>
        </p:grpSpPr>
        <p:sp>
          <p:nvSpPr>
            <p:cNvPr id="295" name=""/>
            <p:cNvSpPr/>
            <p:nvPr/>
          </p:nvSpPr>
          <p:spPr>
            <a:xfrm>
              <a:off x="4646520" y="270972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2600" y="2801880"/>
              <a:ext cx="30024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38600" y="2068560"/>
            <a:ext cx="395280" cy="425520"/>
            <a:chOff x="4638600" y="2068560"/>
            <a:chExt cx="395280" cy="425520"/>
          </a:xfrm>
        </p:grpSpPr>
        <p:sp>
          <p:nvSpPr>
            <p:cNvPr id="298" name=""/>
            <p:cNvSpPr/>
            <p:nvPr/>
          </p:nvSpPr>
          <p:spPr>
            <a:xfrm>
              <a:off x="4638600" y="206856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4680" y="2162160"/>
              <a:ext cx="30024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995560" y="3187800"/>
            <a:ext cx="438120" cy="474480"/>
            <a:chOff x="2995560" y="3187800"/>
            <a:chExt cx="438120" cy="474480"/>
          </a:xfrm>
        </p:grpSpPr>
        <p:sp>
          <p:nvSpPr>
            <p:cNvPr id="301" name=""/>
            <p:cNvSpPr/>
            <p:nvPr/>
          </p:nvSpPr>
          <p:spPr>
            <a:xfrm>
              <a:off x="2995560" y="3187800"/>
              <a:ext cx="438120" cy="47448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236" y="118"/>
                  </a:moveTo>
                  <a:lnTo>
                    <a:pt x="235" y="129"/>
                  </a:lnTo>
                  <a:lnTo>
                    <a:pt x="233" y="141"/>
                  </a:lnTo>
                  <a:lnTo>
                    <a:pt x="231" y="153"/>
                  </a:lnTo>
                  <a:lnTo>
                    <a:pt x="227" y="163"/>
                  </a:lnTo>
                  <a:lnTo>
                    <a:pt x="221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2" y="200"/>
                  </a:lnTo>
                  <a:lnTo>
                    <a:pt x="193" y="208"/>
                  </a:lnTo>
                  <a:lnTo>
                    <a:pt x="184" y="215"/>
                  </a:lnTo>
                  <a:lnTo>
                    <a:pt x="174" y="221"/>
                  </a:lnTo>
                  <a:lnTo>
                    <a:pt x="164" y="226"/>
                  </a:lnTo>
                  <a:lnTo>
                    <a:pt x="153" y="229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5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29"/>
                  </a:lnTo>
                  <a:lnTo>
                    <a:pt x="73" y="226"/>
                  </a:lnTo>
                  <a:lnTo>
                    <a:pt x="62" y="221"/>
                  </a:lnTo>
                  <a:lnTo>
                    <a:pt x="52" y="215"/>
                  </a:lnTo>
                  <a:lnTo>
                    <a:pt x="44" y="208"/>
                  </a:lnTo>
                  <a:lnTo>
                    <a:pt x="35" y="200"/>
                  </a:lnTo>
                  <a:lnTo>
                    <a:pt x="27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9" y="163"/>
                  </a:lnTo>
                  <a:lnTo>
                    <a:pt x="6" y="153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9" y="71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4" y="26"/>
                  </a:lnTo>
                  <a:lnTo>
                    <a:pt x="52" y="20"/>
                  </a:lnTo>
                  <a:lnTo>
                    <a:pt x="62" y="14"/>
                  </a:lnTo>
                  <a:lnTo>
                    <a:pt x="73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4" y="9"/>
                  </a:lnTo>
                  <a:lnTo>
                    <a:pt x="174" y="14"/>
                  </a:lnTo>
                  <a:lnTo>
                    <a:pt x="184" y="20"/>
                  </a:lnTo>
                  <a:lnTo>
                    <a:pt x="193" y="26"/>
                  </a:lnTo>
                  <a:lnTo>
                    <a:pt x="202" y="34"/>
                  </a:lnTo>
                  <a:lnTo>
                    <a:pt x="209" y="42"/>
                  </a:lnTo>
                  <a:lnTo>
                    <a:pt x="216" y="52"/>
                  </a:lnTo>
                  <a:lnTo>
                    <a:pt x="221" y="61"/>
                  </a:lnTo>
                  <a:lnTo>
                    <a:pt x="227" y="71"/>
                  </a:lnTo>
                  <a:lnTo>
                    <a:pt x="231" y="83"/>
                  </a:lnTo>
                  <a:lnTo>
                    <a:pt x="233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59b224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00320" y="3235320"/>
              <a:ext cx="225360" cy="3668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76"/>
                  </a:moveTo>
                  <a:lnTo>
                    <a:pt x="0" y="144"/>
                  </a:lnTo>
                  <a:lnTo>
                    <a:pt x="0" y="42"/>
                  </a:lnTo>
                  <a:lnTo>
                    <a:pt x="75" y="82"/>
                  </a:lnTo>
                  <a:lnTo>
                    <a:pt x="75" y="100"/>
                  </a:lnTo>
                  <a:lnTo>
                    <a:pt x="108" y="85"/>
                  </a:lnTo>
                  <a:lnTo>
                    <a:pt x="108" y="101"/>
                  </a:lnTo>
                  <a:lnTo>
                    <a:pt x="75" y="114"/>
                  </a:lnTo>
                  <a:lnTo>
                    <a:pt x="75" y="133"/>
                  </a:lnTo>
                  <a:lnTo>
                    <a:pt x="75" y="181"/>
                  </a:lnTo>
                  <a:lnTo>
                    <a:pt x="121" y="156"/>
                  </a:lnTo>
                  <a:lnTo>
                    <a:pt x="121" y="39"/>
                  </a:lnTo>
                  <a:lnTo>
                    <a:pt x="73" y="62"/>
                  </a:lnTo>
                  <a:lnTo>
                    <a:pt x="1" y="24"/>
                  </a:lnTo>
                  <a:lnTo>
                    <a:pt x="53" y="0"/>
                  </a:lnTo>
                  <a:lnTo>
                    <a:pt x="106" y="2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328760" y="2665440"/>
            <a:ext cx="396720" cy="423720"/>
            <a:chOff x="1328760" y="2665440"/>
            <a:chExt cx="396720" cy="423720"/>
          </a:xfrm>
        </p:grpSpPr>
        <p:sp>
          <p:nvSpPr>
            <p:cNvPr id="304" name=""/>
            <p:cNvSpPr/>
            <p:nvPr/>
          </p:nvSpPr>
          <p:spPr>
            <a:xfrm>
              <a:off x="1328760" y="2665440"/>
              <a:ext cx="39672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4840" y="27590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324080" y="2014560"/>
            <a:ext cx="395280" cy="425520"/>
            <a:chOff x="1324080" y="2014560"/>
            <a:chExt cx="395280" cy="425520"/>
          </a:xfrm>
        </p:grpSpPr>
        <p:sp>
          <p:nvSpPr>
            <p:cNvPr id="307" name=""/>
            <p:cNvSpPr/>
            <p:nvPr/>
          </p:nvSpPr>
          <p:spPr>
            <a:xfrm>
              <a:off x="1324080" y="201456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0160" y="2108160"/>
              <a:ext cx="29988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328760" y="1360440"/>
            <a:ext cx="396720" cy="424080"/>
            <a:chOff x="1328760" y="1360440"/>
            <a:chExt cx="396720" cy="424080"/>
          </a:xfrm>
        </p:grpSpPr>
        <p:sp>
          <p:nvSpPr>
            <p:cNvPr id="310" name=""/>
            <p:cNvSpPr/>
            <p:nvPr/>
          </p:nvSpPr>
          <p:spPr>
            <a:xfrm>
              <a:off x="1328760" y="1360440"/>
              <a:ext cx="39672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74840" y="145260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77880" y="2095560"/>
            <a:ext cx="782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18040" y="2178000"/>
            <a:ext cx="976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89640" y="1100160"/>
            <a:ext cx="1238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1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7880" y="1073160"/>
            <a:ext cx="1239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0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89240" y="3710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30840" y="3724200"/>
            <a:ext cx="2475000" cy="218304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96880" y="4951440"/>
            <a:ext cx="1179720" cy="14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/>
          <p:nvPr/>
        </p:nvCxnSpPr>
        <p:spPr>
          <a:xfrm flipV="1" rot="10800000">
            <a:off x="4609440" y="5084280"/>
            <a:ext cx="1384920" cy="5356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cxnSp>
        <p:nvCxnSpPr>
          <p:cNvPr id="320" name=""/>
          <p:cNvCxnSpPr/>
          <p:nvPr/>
        </p:nvCxnSpPr>
        <p:spPr>
          <a:xfrm rot="10800000">
            <a:off x="4641120" y="4152240"/>
            <a:ext cx="1330920" cy="65772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6062760" y="4938840"/>
            <a:ext cx="12668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V="1">
            <a:off x="6740640" y="4209840"/>
            <a:ext cx="1450080" cy="614880"/>
          </a:xfrm>
          <a:prstGeom prst="bentConnector3">
            <a:avLst>
              <a:gd name="adj1" fmla="val 4998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323" name=""/>
          <p:cNvCxnSpPr/>
          <p:nvPr/>
        </p:nvCxnSpPr>
        <p:spPr>
          <a:xfrm>
            <a:off x="6744960" y="5048280"/>
            <a:ext cx="1429560" cy="51336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89520" y="5962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5960" y="570384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03920" y="57085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53160" y="534348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51720" y="475128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38760" y="400212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87880" y="54007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4000" y="474012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86080" y="393696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61240" y="592452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46760" y="52894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19520" y="5303880"/>
            <a:ext cx="103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43840" y="4002120"/>
            <a:ext cx="395280" cy="423720"/>
            <a:chOff x="7143840" y="4002120"/>
            <a:chExt cx="395280" cy="423720"/>
          </a:xfrm>
        </p:grpSpPr>
        <p:sp>
          <p:nvSpPr>
            <p:cNvPr id="337" name=""/>
            <p:cNvSpPr/>
            <p:nvPr/>
          </p:nvSpPr>
          <p:spPr>
            <a:xfrm>
              <a:off x="7143840" y="400212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89920" y="409572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56440" y="5346720"/>
            <a:ext cx="395280" cy="423720"/>
            <a:chOff x="7156440" y="5346720"/>
            <a:chExt cx="395280" cy="423720"/>
          </a:xfrm>
        </p:grpSpPr>
        <p:sp>
          <p:nvSpPr>
            <p:cNvPr id="340" name=""/>
            <p:cNvSpPr/>
            <p:nvPr/>
          </p:nvSpPr>
          <p:spPr>
            <a:xfrm>
              <a:off x="7156440" y="534672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2520" y="544032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148520" y="4705200"/>
            <a:ext cx="395280" cy="425520"/>
            <a:chOff x="7148520" y="4705200"/>
            <a:chExt cx="395280" cy="425520"/>
          </a:xfrm>
        </p:grpSpPr>
        <p:sp>
          <p:nvSpPr>
            <p:cNvPr id="343" name=""/>
            <p:cNvSpPr/>
            <p:nvPr/>
          </p:nvSpPr>
          <p:spPr>
            <a:xfrm>
              <a:off x="7148520" y="470520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4600" y="4799160"/>
              <a:ext cx="29988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838680" y="5302080"/>
            <a:ext cx="395280" cy="424080"/>
            <a:chOff x="3838680" y="5302080"/>
            <a:chExt cx="395280" cy="424080"/>
          </a:xfrm>
        </p:grpSpPr>
        <p:sp>
          <p:nvSpPr>
            <p:cNvPr id="346" name=""/>
            <p:cNvSpPr/>
            <p:nvPr/>
          </p:nvSpPr>
          <p:spPr>
            <a:xfrm>
              <a:off x="3838680" y="530208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4760" y="53942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835440" y="4651200"/>
            <a:ext cx="395280" cy="425520"/>
            <a:chOff x="3835440" y="4651200"/>
            <a:chExt cx="395280" cy="425520"/>
          </a:xfrm>
        </p:grpSpPr>
        <p:sp>
          <p:nvSpPr>
            <p:cNvPr id="349" name=""/>
            <p:cNvSpPr/>
            <p:nvPr/>
          </p:nvSpPr>
          <p:spPr>
            <a:xfrm>
              <a:off x="3835440" y="465120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79720" y="4745160"/>
              <a:ext cx="30024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838680" y="3997440"/>
            <a:ext cx="395280" cy="423720"/>
            <a:chOff x="3838680" y="3997440"/>
            <a:chExt cx="395280" cy="423720"/>
          </a:xfrm>
        </p:grpSpPr>
        <p:sp>
          <p:nvSpPr>
            <p:cNvPr id="352" name=""/>
            <p:cNvSpPr/>
            <p:nvPr/>
          </p:nvSpPr>
          <p:spPr>
            <a:xfrm>
              <a:off x="3838680" y="399744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84760" y="40910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189240" y="4732200"/>
            <a:ext cx="782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53280" y="4815000"/>
            <a:ext cx="976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91200" y="3736800"/>
            <a:ext cx="12384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1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89240" y="3710160"/>
            <a:ext cx="1239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0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38840" y="4714920"/>
            <a:ext cx="620640" cy="425520"/>
          </a:xfrm>
          <a:prstGeom prst="roundRect">
            <a:avLst>
              <a:gd name="adj" fmla="val 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49920" y="4772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13280" y="4714920"/>
            <a:ext cx="621000" cy="425520"/>
          </a:xfrm>
          <a:prstGeom prst="roundRect">
            <a:avLst>
              <a:gd name="adj" fmla="val 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4772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5480" y="5824440"/>
            <a:ext cx="438120" cy="474840"/>
            <a:chOff x="5505480" y="5824440"/>
            <a:chExt cx="438120" cy="474840"/>
          </a:xfrm>
        </p:grpSpPr>
        <p:sp>
          <p:nvSpPr>
            <p:cNvPr id="363" name=""/>
            <p:cNvSpPr/>
            <p:nvPr/>
          </p:nvSpPr>
          <p:spPr>
            <a:xfrm>
              <a:off x="5505480" y="5824440"/>
              <a:ext cx="438120" cy="47484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236" y="118"/>
                  </a:moveTo>
                  <a:lnTo>
                    <a:pt x="235" y="129"/>
                  </a:lnTo>
                  <a:lnTo>
                    <a:pt x="233" y="141"/>
                  </a:lnTo>
                  <a:lnTo>
                    <a:pt x="231" y="153"/>
                  </a:lnTo>
                  <a:lnTo>
                    <a:pt x="227" y="163"/>
                  </a:lnTo>
                  <a:lnTo>
                    <a:pt x="221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2" y="200"/>
                  </a:lnTo>
                  <a:lnTo>
                    <a:pt x="193" y="208"/>
                  </a:lnTo>
                  <a:lnTo>
                    <a:pt x="184" y="215"/>
                  </a:lnTo>
                  <a:lnTo>
                    <a:pt x="174" y="221"/>
                  </a:lnTo>
                  <a:lnTo>
                    <a:pt x="164" y="226"/>
                  </a:lnTo>
                  <a:lnTo>
                    <a:pt x="153" y="229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5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29"/>
                  </a:lnTo>
                  <a:lnTo>
                    <a:pt x="73" y="226"/>
                  </a:lnTo>
                  <a:lnTo>
                    <a:pt x="62" y="221"/>
                  </a:lnTo>
                  <a:lnTo>
                    <a:pt x="52" y="215"/>
                  </a:lnTo>
                  <a:lnTo>
                    <a:pt x="44" y="208"/>
                  </a:lnTo>
                  <a:lnTo>
                    <a:pt x="35" y="200"/>
                  </a:lnTo>
                  <a:lnTo>
                    <a:pt x="27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9" y="163"/>
                  </a:lnTo>
                  <a:lnTo>
                    <a:pt x="6" y="153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9" y="71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4" y="26"/>
                  </a:lnTo>
                  <a:lnTo>
                    <a:pt x="52" y="20"/>
                  </a:lnTo>
                  <a:lnTo>
                    <a:pt x="62" y="14"/>
                  </a:lnTo>
                  <a:lnTo>
                    <a:pt x="73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4" y="9"/>
                  </a:lnTo>
                  <a:lnTo>
                    <a:pt x="174" y="14"/>
                  </a:lnTo>
                  <a:lnTo>
                    <a:pt x="184" y="20"/>
                  </a:lnTo>
                  <a:lnTo>
                    <a:pt x="193" y="26"/>
                  </a:lnTo>
                  <a:lnTo>
                    <a:pt x="202" y="34"/>
                  </a:lnTo>
                  <a:lnTo>
                    <a:pt x="209" y="42"/>
                  </a:lnTo>
                  <a:lnTo>
                    <a:pt x="216" y="52"/>
                  </a:lnTo>
                  <a:lnTo>
                    <a:pt x="221" y="61"/>
                  </a:lnTo>
                  <a:lnTo>
                    <a:pt x="227" y="71"/>
                  </a:lnTo>
                  <a:lnTo>
                    <a:pt x="231" y="83"/>
                  </a:lnTo>
                  <a:lnTo>
                    <a:pt x="233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59b224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10240" y="5872320"/>
              <a:ext cx="225360" cy="3664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76"/>
                  </a:moveTo>
                  <a:lnTo>
                    <a:pt x="0" y="144"/>
                  </a:lnTo>
                  <a:lnTo>
                    <a:pt x="0" y="42"/>
                  </a:lnTo>
                  <a:lnTo>
                    <a:pt x="75" y="82"/>
                  </a:lnTo>
                  <a:lnTo>
                    <a:pt x="75" y="100"/>
                  </a:lnTo>
                  <a:lnTo>
                    <a:pt x="108" y="85"/>
                  </a:lnTo>
                  <a:lnTo>
                    <a:pt x="108" y="101"/>
                  </a:lnTo>
                  <a:lnTo>
                    <a:pt x="75" y="114"/>
                  </a:lnTo>
                  <a:lnTo>
                    <a:pt x="75" y="133"/>
                  </a:lnTo>
                  <a:lnTo>
                    <a:pt x="75" y="181"/>
                  </a:lnTo>
                  <a:lnTo>
                    <a:pt x="121" y="156"/>
                  </a:lnTo>
                  <a:lnTo>
                    <a:pt x="121" y="39"/>
                  </a:lnTo>
                  <a:lnTo>
                    <a:pt x="73" y="62"/>
                  </a:lnTo>
                  <a:lnTo>
                    <a:pt x="1" y="24"/>
                  </a:lnTo>
                  <a:lnTo>
                    <a:pt x="53" y="0"/>
                  </a:lnTo>
                  <a:lnTo>
                    <a:pt x="106" y="2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751120" y="2068560"/>
            <a:ext cx="863640" cy="425520"/>
            <a:chOff x="2751120" y="2068560"/>
            <a:chExt cx="863640" cy="425520"/>
          </a:xfrm>
        </p:grpSpPr>
        <p:sp>
          <p:nvSpPr>
            <p:cNvPr id="366" name=""/>
            <p:cNvSpPr/>
            <p:nvPr/>
          </p:nvSpPr>
          <p:spPr>
            <a:xfrm>
              <a:off x="2860560" y="2068560"/>
              <a:ext cx="621000" cy="425520"/>
            </a:xfrm>
            <a:prstGeom prst="roundRect">
              <a:avLst>
                <a:gd name="adj" fmla="val 3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51120" y="215892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405400" y="5157720"/>
            <a:ext cx="196920" cy="720720"/>
            <a:chOff x="5405400" y="5157720"/>
            <a:chExt cx="196920" cy="720720"/>
          </a:xfrm>
        </p:grpSpPr>
        <p:sp>
          <p:nvSpPr>
            <p:cNvPr id="369" name=""/>
            <p:cNvSpPr/>
            <p:nvPr/>
          </p:nvSpPr>
          <p:spPr>
            <a:xfrm>
              <a:off x="5405400" y="5157720"/>
              <a:ext cx="1800" cy="360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5518080"/>
              <a:ext cx="1440" cy="360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05400" y="5518080"/>
              <a:ext cx="193680" cy="18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846760" y="5157720"/>
            <a:ext cx="195120" cy="719280"/>
            <a:chOff x="5846760" y="5157720"/>
            <a:chExt cx="195120" cy="719280"/>
          </a:xfrm>
        </p:grpSpPr>
        <p:sp>
          <p:nvSpPr>
            <p:cNvPr id="373" name=""/>
            <p:cNvSpPr/>
            <p:nvPr/>
          </p:nvSpPr>
          <p:spPr>
            <a:xfrm>
              <a:off x="6040440" y="5157720"/>
              <a:ext cx="1440" cy="360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6760" y="5518080"/>
              <a:ext cx="1440" cy="358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6760" y="5518080"/>
              <a:ext cx="193680" cy="1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3360" y="3662280"/>
            <a:ext cx="240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 throug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ultiple Lustr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on one or two physi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static load balance (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ynamic load balance and failover (fu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ED Accomplishments by C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8600" y="1219320"/>
            <a:ext cx="746172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s Testing OFED 1.1 with Lus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ACC Lo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H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LLNL Peloton: &gt;500 clients on 2 prod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NCSA Lincoln: 520 clients (OFED 1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ED 1.1 supported in Lustre 1.4.8 and bey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ED Accomplishments by C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1960" y="1371600"/>
            <a:ext cx="67118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ED 1.1 Network Performance Attained i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Systems with PCI-X bus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@920 MB/s point to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Systems with PCI-express bus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@1200-130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(testing done at LLN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47200" y="28440"/>
            <a:ext cx="69231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(OFED 1.1) and Wish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47560" y="914400"/>
            <a:ext cx="7677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tiple HCAs cause ARP mixup with IPoIB (#1234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rruption with memfree HCA and FMR (#1198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plicate completion events (#72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MR performance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really like to us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