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63E3-E016-431C-9295-EF23DDBC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req contains info about remote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C (memory region context): list of machine physical pages, size, vaddr, access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PC (queue pair context): send queue, recv queue &amp; corresponding completion que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C (completion queue contex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C (event queue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 (protection domain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0140-28F3-461C-A413-BBC3E275B3C5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oftIB: A Virtual IB Device for Xe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666520" y="5105160"/>
            <a:ext cx="3962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Jianxin Xi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142560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RDMA 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57760" y="1295280"/>
            <a:ext cx="8314200" cy="4876920"/>
            <a:chOff x="257760" y="1295280"/>
            <a:chExt cx="8314200" cy="4876920"/>
          </a:xfrm>
        </p:grpSpPr>
        <p:sp>
          <p:nvSpPr>
            <p:cNvPr id="353" name=""/>
            <p:cNvSpPr/>
            <p:nvPr/>
          </p:nvSpPr>
          <p:spPr>
            <a:xfrm>
              <a:off x="2819520" y="129528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408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14400" y="144792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cal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8000" y="1447920"/>
              <a:ext cx="1066680" cy="685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219320" y="2133720"/>
              <a:ext cx="718920" cy="1295280"/>
              <a:chOff x="1219320" y="2133720"/>
              <a:chExt cx="718920" cy="1295280"/>
            </a:xfrm>
          </p:grpSpPr>
          <p:sp>
            <p:nvSpPr>
              <p:cNvPr id="358" name=""/>
              <p:cNvSpPr/>
              <p:nvPr/>
            </p:nvSpPr>
            <p:spPr>
              <a:xfrm>
                <a:off x="1219320" y="25146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06800" y="213372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219320" y="28195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19320" y="312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219320" y="3505320"/>
              <a:ext cx="718920" cy="1295280"/>
              <a:chOff x="1219320" y="3505320"/>
              <a:chExt cx="718920" cy="1295280"/>
            </a:xfrm>
          </p:grpSpPr>
          <p:sp>
            <p:nvSpPr>
              <p:cNvPr id="363" name=""/>
              <p:cNvSpPr/>
              <p:nvPr/>
            </p:nvSpPr>
            <p:spPr>
              <a:xfrm>
                <a:off x="1219320" y="38862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7440" y="35053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19320" y="41911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2193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352680" y="3048120"/>
              <a:ext cx="719280" cy="914400"/>
              <a:chOff x="3352680" y="3048120"/>
              <a:chExt cx="719280" cy="91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3352680" y="3048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52680" y="3353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3657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37356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832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9744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876920" y="3048120"/>
              <a:ext cx="718920" cy="914400"/>
              <a:chOff x="4876920" y="3048120"/>
              <a:chExt cx="718920" cy="914400"/>
            </a:xfrm>
          </p:grpSpPr>
          <p:sp>
            <p:nvSpPr>
              <p:cNvPr id="375" name=""/>
              <p:cNvSpPr/>
              <p:nvPr/>
            </p:nvSpPr>
            <p:spPr>
              <a:xfrm>
                <a:off x="4876920" y="3048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3353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6920" y="3657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657600" y="56386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352680" y="4114800"/>
              <a:ext cx="719280" cy="914400"/>
              <a:chOff x="3352680" y="4114800"/>
              <a:chExt cx="719280" cy="91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352680" y="411480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52680" y="441972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52680" y="472428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876920" y="4114800"/>
              <a:ext cx="718920" cy="914400"/>
              <a:chOff x="4876920" y="4114800"/>
              <a:chExt cx="718920" cy="914400"/>
            </a:xfrm>
          </p:grpSpPr>
          <p:sp>
            <p:nvSpPr>
              <p:cNvPr id="384" name=""/>
              <p:cNvSpPr/>
              <p:nvPr/>
            </p:nvSpPr>
            <p:spPr>
              <a:xfrm>
                <a:off x="4876920" y="4114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44197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76920" y="472428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905120" y="266688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1904760" y="190512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638680" y="1828440"/>
              <a:ext cx="121932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167652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69920" y="129528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4267080"/>
              <a:ext cx="914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1980720" y="403812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219320" y="4876920"/>
              <a:ext cx="718920" cy="1295280"/>
              <a:chOff x="1219320" y="4876920"/>
              <a:chExt cx="718920" cy="1295280"/>
            </a:xfrm>
          </p:grpSpPr>
          <p:sp>
            <p:nvSpPr>
              <p:cNvPr id="395" name=""/>
              <p:cNvSpPr/>
              <p:nvPr/>
            </p:nvSpPr>
            <p:spPr>
              <a:xfrm>
                <a:off x="1219320" y="5257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306440" y="4876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19320" y="55627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19320" y="58676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H="1">
              <a:off x="1980720" y="495288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0309400">
              <a:off x="1905480" y="48769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7760" y="3429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53840" y="335268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0050800">
              <a:off x="2057400" y="55627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525780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09680" y="2666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67080" y="4114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6000" y="2209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95880" y="2286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05520" y="15238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382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38280" y="51814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RDMA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57760" y="1371600"/>
            <a:ext cx="8314200" cy="4876920"/>
            <a:chOff x="257760" y="1371600"/>
            <a:chExt cx="8314200" cy="4876920"/>
          </a:xfrm>
        </p:grpSpPr>
        <p:sp>
          <p:nvSpPr>
            <p:cNvPr id="414" name=""/>
            <p:cNvSpPr/>
            <p:nvPr/>
          </p:nvSpPr>
          <p:spPr>
            <a:xfrm>
              <a:off x="2819520" y="137160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2408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4400" y="152424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cal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8000" y="1524240"/>
              <a:ext cx="1066680" cy="838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219320" y="2210040"/>
              <a:ext cx="718920" cy="1295280"/>
              <a:chOff x="1219320" y="2210040"/>
              <a:chExt cx="718920" cy="1295280"/>
            </a:xfrm>
          </p:grpSpPr>
          <p:sp>
            <p:nvSpPr>
              <p:cNvPr id="419" name=""/>
              <p:cNvSpPr/>
              <p:nvPr/>
            </p:nvSpPr>
            <p:spPr>
              <a:xfrm>
                <a:off x="1219320" y="25909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06800" y="221004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19320" y="28958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19320" y="32007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219320" y="3581640"/>
              <a:ext cx="718920" cy="1295280"/>
              <a:chOff x="1219320" y="3581640"/>
              <a:chExt cx="718920" cy="1295280"/>
            </a:xfrm>
          </p:grpSpPr>
          <p:sp>
            <p:nvSpPr>
              <p:cNvPr id="424" name=""/>
              <p:cNvSpPr/>
              <p:nvPr/>
            </p:nvSpPr>
            <p:spPr>
              <a:xfrm>
                <a:off x="1219320" y="39625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97440" y="358164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19320" y="42674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19320" y="4572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352680" y="3124440"/>
              <a:ext cx="719280" cy="914400"/>
              <a:chOff x="3352680" y="3124440"/>
              <a:chExt cx="719280" cy="914400"/>
            </a:xfrm>
          </p:grpSpPr>
          <p:sp>
            <p:nvSpPr>
              <p:cNvPr id="429" name=""/>
              <p:cNvSpPr/>
              <p:nvPr/>
            </p:nvSpPr>
            <p:spPr>
              <a:xfrm>
                <a:off x="3352680" y="312444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52680" y="342936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352680" y="373392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337356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832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9744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876920" y="3124440"/>
              <a:ext cx="718920" cy="914400"/>
              <a:chOff x="4876920" y="3124440"/>
              <a:chExt cx="718920" cy="914400"/>
            </a:xfrm>
          </p:grpSpPr>
          <p:sp>
            <p:nvSpPr>
              <p:cNvPr id="436" name=""/>
              <p:cNvSpPr/>
              <p:nvPr/>
            </p:nvSpPr>
            <p:spPr>
              <a:xfrm>
                <a:off x="4876920" y="312444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76920" y="3429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76920" y="37339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429000" y="5715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3352680" y="4191120"/>
              <a:ext cx="719280" cy="914400"/>
              <a:chOff x="3352680" y="4191120"/>
              <a:chExt cx="719280" cy="914400"/>
            </a:xfrm>
          </p:grpSpPr>
          <p:sp>
            <p:nvSpPr>
              <p:cNvPr id="441" name=""/>
              <p:cNvSpPr/>
              <p:nvPr/>
            </p:nvSpPr>
            <p:spPr>
              <a:xfrm>
                <a:off x="3352680" y="4191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52680" y="4496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352680" y="4800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876920" y="4191120"/>
              <a:ext cx="718920" cy="914400"/>
              <a:chOff x="4876920" y="4191120"/>
              <a:chExt cx="718920" cy="914400"/>
            </a:xfrm>
          </p:grpSpPr>
          <p:sp>
            <p:nvSpPr>
              <p:cNvPr id="445" name=""/>
              <p:cNvSpPr/>
              <p:nvPr/>
            </p:nvSpPr>
            <p:spPr>
              <a:xfrm>
                <a:off x="4876920" y="4191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769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76920" y="4800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1905120" y="274320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1904760" y="198144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638680" y="2057400"/>
              <a:ext cx="1219320" cy="1067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81080" y="175284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69920" y="137160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62520" y="4343400"/>
              <a:ext cx="914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1980720" y="411444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219320" y="4953240"/>
              <a:ext cx="718920" cy="1295280"/>
              <a:chOff x="1219320" y="4953240"/>
              <a:chExt cx="718920" cy="1295280"/>
            </a:xfrm>
          </p:grpSpPr>
          <p:sp>
            <p:nvSpPr>
              <p:cNvPr id="456" name=""/>
              <p:cNvSpPr/>
              <p:nvPr/>
            </p:nvSpPr>
            <p:spPr>
              <a:xfrm>
                <a:off x="1219320" y="5334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06440" y="49532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19320" y="56390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219320" y="59439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1980720" y="502920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20309400">
              <a:off x="1905480" y="49532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7760" y="350532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53840" y="3429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0050800">
              <a:off x="2057400" y="56390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209680" y="533412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67080" y="41911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86000" y="28195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86000" y="2210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8520" y="2286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05520" y="1600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600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UD Send/Rec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7760" y="320040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14400" y="1295280"/>
            <a:ext cx="7657560" cy="4876920"/>
            <a:chOff x="914400" y="1295280"/>
            <a:chExt cx="7657560" cy="4876920"/>
          </a:xfrm>
        </p:grpSpPr>
        <p:sp>
          <p:nvSpPr>
            <p:cNvPr id="476" name=""/>
            <p:cNvSpPr/>
            <p:nvPr/>
          </p:nvSpPr>
          <p:spPr>
            <a:xfrm>
              <a:off x="2819520" y="129528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2408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4400" y="144792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nd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0" y="144792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cv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1219320" y="2133720"/>
              <a:ext cx="718920" cy="1295280"/>
              <a:chOff x="1219320" y="2133720"/>
              <a:chExt cx="718920" cy="1295280"/>
            </a:xfrm>
          </p:grpSpPr>
          <p:sp>
            <p:nvSpPr>
              <p:cNvPr id="481" name=""/>
              <p:cNvSpPr/>
              <p:nvPr/>
            </p:nvSpPr>
            <p:spPr>
              <a:xfrm>
                <a:off x="1219320" y="25146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06800" y="213372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219320" y="28195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19320" y="312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219320" y="3505320"/>
              <a:ext cx="718920" cy="1295280"/>
              <a:chOff x="1219320" y="3505320"/>
              <a:chExt cx="718920" cy="1295280"/>
            </a:xfrm>
          </p:grpSpPr>
          <p:sp>
            <p:nvSpPr>
              <p:cNvPr id="486" name=""/>
              <p:cNvSpPr/>
              <p:nvPr/>
            </p:nvSpPr>
            <p:spPr>
              <a:xfrm>
                <a:off x="1219320" y="38862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297440" y="35053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219320" y="41911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193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934320" y="2057400"/>
              <a:ext cx="718920" cy="1295280"/>
              <a:chOff x="6934320" y="2057400"/>
              <a:chExt cx="718920" cy="1295280"/>
            </a:xfrm>
          </p:grpSpPr>
          <p:sp>
            <p:nvSpPr>
              <p:cNvPr id="491" name=""/>
              <p:cNvSpPr/>
              <p:nvPr/>
            </p:nvSpPr>
            <p:spPr>
              <a:xfrm>
                <a:off x="6934320" y="243828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3160" y="205740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34320" y="27432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934320" y="30481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934320" y="3429000"/>
              <a:ext cx="718920" cy="1295280"/>
              <a:chOff x="6934320" y="3429000"/>
              <a:chExt cx="718920" cy="1295280"/>
            </a:xfrm>
          </p:grpSpPr>
          <p:sp>
            <p:nvSpPr>
              <p:cNvPr id="496" name=""/>
              <p:cNvSpPr/>
              <p:nvPr/>
            </p:nvSpPr>
            <p:spPr>
              <a:xfrm>
                <a:off x="6934320" y="380988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12440" y="3429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934320" y="41148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4320" y="44197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3352680" y="3048120"/>
              <a:ext cx="719280" cy="914400"/>
              <a:chOff x="3352680" y="3048120"/>
              <a:chExt cx="719280" cy="914400"/>
            </a:xfrm>
          </p:grpSpPr>
          <p:sp>
            <p:nvSpPr>
              <p:cNvPr id="501" name=""/>
              <p:cNvSpPr/>
              <p:nvPr/>
            </p:nvSpPr>
            <p:spPr>
              <a:xfrm>
                <a:off x="3352680" y="3048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352680" y="3353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52680" y="3657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37356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4832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9744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876920" y="3048120"/>
              <a:ext cx="718920" cy="914400"/>
              <a:chOff x="4876920" y="3048120"/>
              <a:chExt cx="718920" cy="914400"/>
            </a:xfrm>
          </p:grpSpPr>
          <p:sp>
            <p:nvSpPr>
              <p:cNvPr id="508" name=""/>
              <p:cNvSpPr/>
              <p:nvPr/>
            </p:nvSpPr>
            <p:spPr>
              <a:xfrm>
                <a:off x="4876920" y="3048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76920" y="3353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76920" y="3657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3657600" y="56386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352680" y="4114800"/>
              <a:ext cx="719280" cy="914400"/>
              <a:chOff x="3352680" y="4114800"/>
              <a:chExt cx="719280" cy="914400"/>
            </a:xfrm>
          </p:grpSpPr>
          <p:sp>
            <p:nvSpPr>
              <p:cNvPr id="513" name=""/>
              <p:cNvSpPr/>
              <p:nvPr/>
            </p:nvSpPr>
            <p:spPr>
              <a:xfrm>
                <a:off x="3352680" y="411480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352680" y="441972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352680" y="472428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876920" y="4114800"/>
              <a:ext cx="718920" cy="914400"/>
              <a:chOff x="4876920" y="4114800"/>
              <a:chExt cx="718920" cy="914400"/>
            </a:xfrm>
          </p:grpSpPr>
          <p:sp>
            <p:nvSpPr>
              <p:cNvPr id="517" name=""/>
              <p:cNvSpPr/>
              <p:nvPr/>
            </p:nvSpPr>
            <p:spPr>
              <a:xfrm>
                <a:off x="4876920" y="4114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76920" y="44197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76920" y="472428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1905120" y="266688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1904760" y="190512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638680" y="1828440"/>
              <a:ext cx="137160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562720" y="2514600"/>
              <a:ext cx="1371600" cy="762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81080" y="167652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69920" y="129528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791320" y="396216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1980720" y="403812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219320" y="4876920"/>
              <a:ext cx="718920" cy="1295280"/>
              <a:chOff x="1219320" y="4876920"/>
              <a:chExt cx="718920" cy="1295280"/>
            </a:xfrm>
          </p:grpSpPr>
          <p:sp>
            <p:nvSpPr>
              <p:cNvPr id="529" name=""/>
              <p:cNvSpPr/>
              <p:nvPr/>
            </p:nvSpPr>
            <p:spPr>
              <a:xfrm>
                <a:off x="1219320" y="5257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06440" y="4876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219320" y="55627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19320" y="58676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934320" y="4876920"/>
              <a:ext cx="718920" cy="1295280"/>
              <a:chOff x="6934320" y="4876920"/>
              <a:chExt cx="718920" cy="1295280"/>
            </a:xfrm>
          </p:grpSpPr>
          <p:sp>
            <p:nvSpPr>
              <p:cNvPr id="534" name=""/>
              <p:cNvSpPr/>
              <p:nvPr/>
            </p:nvSpPr>
            <p:spPr>
              <a:xfrm>
                <a:off x="6934320" y="5257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021440" y="4876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4320" y="55627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34320" y="58676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H="1">
              <a:off x="1980720" y="495288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91320" y="4876920"/>
              <a:ext cx="106668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309400">
              <a:off x="1905480" y="48769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202400">
              <a:off x="5943240" y="48006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53840" y="335268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91320" y="5181480"/>
              <a:ext cx="838080" cy="609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050800">
              <a:off x="2057400" y="55627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2209680" y="525780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541400">
              <a:off x="5790960" y="54860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81080" y="2743200"/>
              <a:ext cx="2890800" cy="1511280"/>
            </a:xfrm>
            <a:custGeom>
              <a:avLst/>
              <a:gdLst/>
              <a:ahLst/>
              <a:rect l="l" t="t" r="r" b="b"/>
              <a:pathLst>
                <a:path w="1821" h="952">
                  <a:moveTo>
                    <a:pt x="0" y="0"/>
                  </a:moveTo>
                  <a:cubicBezTo>
                    <a:pt x="117" y="103"/>
                    <a:pt x="480" y="479"/>
                    <a:pt x="701" y="617"/>
                  </a:cubicBezTo>
                  <a:cubicBezTo>
                    <a:pt x="922" y="755"/>
                    <a:pt x="1137" y="774"/>
                    <a:pt x="1324" y="830"/>
                  </a:cubicBezTo>
                  <a:cubicBezTo>
                    <a:pt x="1511" y="886"/>
                    <a:pt x="1718" y="927"/>
                    <a:pt x="1821" y="952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86000" y="27432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008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19520" y="35053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86000" y="2209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2448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81480" y="1523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860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2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9588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UD Multi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57760" y="1219320"/>
            <a:ext cx="8314200" cy="4875840"/>
            <a:chOff x="257760" y="1219320"/>
            <a:chExt cx="8314200" cy="4875840"/>
          </a:xfrm>
        </p:grpSpPr>
        <p:sp>
          <p:nvSpPr>
            <p:cNvPr id="560" name=""/>
            <p:cNvSpPr/>
            <p:nvPr/>
          </p:nvSpPr>
          <p:spPr>
            <a:xfrm>
              <a:off x="2819520" y="1219320"/>
              <a:ext cx="3276360" cy="480024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24080" y="2590560"/>
              <a:ext cx="1143000" cy="25905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14400" y="1371600"/>
              <a:ext cx="1066680" cy="4568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nd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58000" y="1371600"/>
              <a:ext cx="1066680" cy="4568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cv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1219320" y="2057400"/>
              <a:ext cx="718920" cy="1294560"/>
              <a:chOff x="1219320" y="2057400"/>
              <a:chExt cx="718920" cy="1294560"/>
            </a:xfrm>
          </p:grpSpPr>
          <p:sp>
            <p:nvSpPr>
              <p:cNvPr id="565" name=""/>
              <p:cNvSpPr/>
              <p:nvPr/>
            </p:nvSpPr>
            <p:spPr>
              <a:xfrm>
                <a:off x="1219320" y="24379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06800" y="205740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219320" y="27428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219320" y="30477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219320" y="3429000"/>
              <a:ext cx="718920" cy="1294560"/>
              <a:chOff x="1219320" y="3429000"/>
              <a:chExt cx="718920" cy="1294560"/>
            </a:xfrm>
          </p:grpSpPr>
          <p:sp>
            <p:nvSpPr>
              <p:cNvPr id="570" name=""/>
              <p:cNvSpPr/>
              <p:nvPr/>
            </p:nvSpPr>
            <p:spPr>
              <a:xfrm>
                <a:off x="1219320" y="38095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297440" y="3429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19320" y="411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9320" y="44193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934320" y="1981080"/>
              <a:ext cx="718920" cy="1294560"/>
              <a:chOff x="6934320" y="1981080"/>
              <a:chExt cx="718920" cy="1294560"/>
            </a:xfrm>
          </p:grpSpPr>
          <p:sp>
            <p:nvSpPr>
              <p:cNvPr id="575" name=""/>
              <p:cNvSpPr/>
              <p:nvPr/>
            </p:nvSpPr>
            <p:spPr>
              <a:xfrm>
                <a:off x="6934320" y="236160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013160" y="198108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934320" y="26665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934320" y="297144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934320" y="3352680"/>
              <a:ext cx="718920" cy="1294560"/>
              <a:chOff x="6934320" y="3352680"/>
              <a:chExt cx="718920" cy="1294560"/>
            </a:xfrm>
          </p:grpSpPr>
          <p:sp>
            <p:nvSpPr>
              <p:cNvPr id="580" name=""/>
              <p:cNvSpPr/>
              <p:nvPr/>
            </p:nvSpPr>
            <p:spPr>
              <a:xfrm>
                <a:off x="6934320" y="373320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012440" y="335268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34320" y="40381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34320" y="434304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3352680" y="2971800"/>
              <a:ext cx="719280" cy="913680"/>
              <a:chOff x="3352680" y="2971800"/>
              <a:chExt cx="719280" cy="913680"/>
            </a:xfrm>
          </p:grpSpPr>
          <p:sp>
            <p:nvSpPr>
              <p:cNvPr id="585" name=""/>
              <p:cNvSpPr/>
              <p:nvPr/>
            </p:nvSpPr>
            <p:spPr>
              <a:xfrm>
                <a:off x="3352680" y="2971800"/>
                <a:ext cx="71928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52680" y="3276360"/>
                <a:ext cx="71928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52680" y="358092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373560" y="259056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48320" y="2590560"/>
              <a:ext cx="1143000" cy="25905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97440" y="259056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876920" y="2971800"/>
              <a:ext cx="718920" cy="913680"/>
              <a:chOff x="4876920" y="2971800"/>
              <a:chExt cx="718920" cy="913680"/>
            </a:xfrm>
          </p:grpSpPr>
          <p:sp>
            <p:nvSpPr>
              <p:cNvPr id="592" name=""/>
              <p:cNvSpPr/>
              <p:nvPr/>
            </p:nvSpPr>
            <p:spPr>
              <a:xfrm>
                <a:off x="4876920" y="297180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76920" y="32763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876920" y="35809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733920" y="556236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352680" y="4038480"/>
              <a:ext cx="719280" cy="913680"/>
              <a:chOff x="3352680" y="4038480"/>
              <a:chExt cx="719280" cy="913680"/>
            </a:xfrm>
          </p:grpSpPr>
          <p:sp>
            <p:nvSpPr>
              <p:cNvPr id="597" name=""/>
              <p:cNvSpPr/>
              <p:nvPr/>
            </p:nvSpPr>
            <p:spPr>
              <a:xfrm>
                <a:off x="3352680" y="4038480"/>
                <a:ext cx="71928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352680" y="4343040"/>
                <a:ext cx="71928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52680" y="464760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4876920" y="4038480"/>
              <a:ext cx="718920" cy="913680"/>
              <a:chOff x="4876920" y="4038480"/>
              <a:chExt cx="718920" cy="913680"/>
            </a:xfrm>
          </p:grpSpPr>
          <p:sp>
            <p:nvSpPr>
              <p:cNvPr id="601" name=""/>
              <p:cNvSpPr/>
              <p:nvPr/>
            </p:nvSpPr>
            <p:spPr>
              <a:xfrm>
                <a:off x="4876920" y="403848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76920" y="434304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76920" y="464760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1905120" y="2590560"/>
              <a:ext cx="1447560" cy="533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1904760" y="1828440"/>
              <a:ext cx="1447560" cy="1218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638680" y="1752480"/>
              <a:ext cx="137160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5562720" y="2438280"/>
              <a:ext cx="1371600" cy="761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81080" y="160020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69920" y="121932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791320" y="3886200"/>
              <a:ext cx="1143000" cy="228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1980720" y="3962160"/>
              <a:ext cx="1143000" cy="228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1219320" y="4800600"/>
              <a:ext cx="718920" cy="1294560"/>
              <a:chOff x="1219320" y="4800600"/>
              <a:chExt cx="718920" cy="1294560"/>
            </a:xfrm>
          </p:grpSpPr>
          <p:sp>
            <p:nvSpPr>
              <p:cNvPr id="613" name=""/>
              <p:cNvSpPr/>
              <p:nvPr/>
            </p:nvSpPr>
            <p:spPr>
              <a:xfrm>
                <a:off x="1219320" y="51811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06440" y="48006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219320" y="548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219320" y="57909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6934320" y="4800600"/>
              <a:ext cx="718920" cy="1294560"/>
              <a:chOff x="6934320" y="4800600"/>
              <a:chExt cx="718920" cy="1294560"/>
            </a:xfrm>
          </p:grpSpPr>
          <p:sp>
            <p:nvSpPr>
              <p:cNvPr id="618" name=""/>
              <p:cNvSpPr/>
              <p:nvPr/>
            </p:nvSpPr>
            <p:spPr>
              <a:xfrm>
                <a:off x="6934320" y="51811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21440" y="48006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934320" y="548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34320" y="57909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 flipH="1">
              <a:off x="1980720" y="4876560"/>
              <a:ext cx="1143000" cy="456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91320" y="4800600"/>
              <a:ext cx="1066680" cy="456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309400">
              <a:off x="1905480" y="480060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202400">
              <a:off x="5943240" y="47242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7760" y="335268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53840" y="327636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91320" y="5105160"/>
              <a:ext cx="838080" cy="60948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050800">
              <a:off x="2057400" y="548640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2209680" y="5181480"/>
              <a:ext cx="914400" cy="53316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541400">
              <a:off x="5790960" y="54097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86000" y="26668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00800" y="25146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86000" y="213336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24480" y="20574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144756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86000" y="3886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72200" y="3886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14600" y="5029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95880" y="5029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86200" y="1828800"/>
              <a:ext cx="114300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ulti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1981080" y="2361960"/>
              <a:ext cx="2210040" cy="228240"/>
            </a:xfrm>
            <a:custGeom>
              <a:avLst/>
              <a:gdLst/>
              <a:ahLst/>
              <a:rect l="l" t="t" r="r" b="b"/>
              <a:pathLst>
                <a:path w="1166" h="1777">
                  <a:moveTo>
                    <a:pt x="0" y="0"/>
                  </a:moveTo>
                  <a:cubicBezTo>
                    <a:pt x="77" y="108"/>
                    <a:pt x="296" y="403"/>
                    <a:pt x="464" y="649"/>
                  </a:cubicBezTo>
                  <a:cubicBezTo>
                    <a:pt x="632" y="895"/>
                    <a:pt x="892" y="1289"/>
                    <a:pt x="1009" y="1477"/>
                  </a:cubicBezTo>
                  <a:cubicBezTo>
                    <a:pt x="1126" y="1665"/>
                    <a:pt x="1133" y="1715"/>
                    <a:pt x="1166" y="1777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91120" y="2286000"/>
              <a:ext cx="30456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5680" y="2361960"/>
              <a:ext cx="381240" cy="182844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MRI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Xen “hypercall” interf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of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quer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arm/disar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b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Q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modify/quer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g/der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C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attach/detach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i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chedule/debug/sta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1905120"/>
            <a:ext cx="6933960" cy="1828800"/>
          </a:xfrm>
          <a:prstGeom prst="rect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YPERVISOR_vmri_op(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m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v_i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g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Kernel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0880" y="1447920"/>
            <a:ext cx="8265240" cy="4647600"/>
            <a:chOff x="380880" y="1447920"/>
            <a:chExt cx="8265240" cy="4647600"/>
          </a:xfrm>
        </p:grpSpPr>
        <p:sp>
          <p:nvSpPr>
            <p:cNvPr id="650" name=""/>
            <p:cNvSpPr/>
            <p:nvPr/>
          </p:nvSpPr>
          <p:spPr>
            <a:xfrm>
              <a:off x="380880" y="5333760"/>
              <a:ext cx="822960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8080" y="2286000"/>
              <a:ext cx="6934320" cy="28951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375800">
              <a:off x="1064880" y="2347560"/>
              <a:ext cx="6553080" cy="27428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00400" y="2590560"/>
              <a:ext cx="266688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unction poi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38880" y="236196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_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8080" y="1447920"/>
              <a:ext cx="693432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_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8080" y="5486400"/>
              <a:ext cx="693432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81480" y="3733560"/>
              <a:ext cx="1523880" cy="6854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71800" y="3352680"/>
              <a:ext cx="144756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P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447560" y="3581280"/>
              <a:ext cx="144792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Q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47560" y="4114800"/>
              <a:ext cx="144792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Q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71800" y="4419360"/>
              <a:ext cx="144756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D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71800" y="3886200"/>
              <a:ext cx="144756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R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38680" y="4495680"/>
              <a:ext cx="533520" cy="914040"/>
            </a:xfrm>
            <a:prstGeom prst="upDownArrow">
              <a:avLst>
                <a:gd name="adj1" fmla="val 50000"/>
                <a:gd name="adj2" fmla="val 34106"/>
              </a:avLst>
            </a:prstGeom>
            <a:solidFill>
              <a:srgbClr val="ffcc99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14800" y="2057400"/>
              <a:ext cx="533160" cy="5328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99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4533480" y="3771720"/>
              <a:ext cx="533160" cy="609480"/>
            </a:xfrm>
            <a:prstGeom prst="upDownArrow">
              <a:avLst>
                <a:gd name="adj1" fmla="val 50000"/>
                <a:gd name="adj2" fmla="val 22757"/>
              </a:avLst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18160" y="304776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b_d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24200" y="3124080"/>
              <a:ext cx="1281240" cy="591840"/>
            </a:xfrm>
            <a:custGeom>
              <a:avLst/>
              <a:gdLst/>
              <a:ahLst/>
              <a:rect l="l" t="t" r="r" b="b"/>
              <a:pathLst>
                <a:path w="807" h="373">
                  <a:moveTo>
                    <a:pt x="15" y="0"/>
                  </a:moveTo>
                  <a:cubicBezTo>
                    <a:pt x="31" y="30"/>
                    <a:pt x="0" y="147"/>
                    <a:pt x="114" y="178"/>
                  </a:cubicBezTo>
                  <a:cubicBezTo>
                    <a:pt x="228" y="209"/>
                    <a:pt x="589" y="154"/>
                    <a:pt x="698" y="187"/>
                  </a:cubicBezTo>
                  <a:cubicBezTo>
                    <a:pt x="807" y="220"/>
                    <a:pt x="756" y="334"/>
                    <a:pt x="771" y="373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8160" y="472428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g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22520" y="533376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V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User Mode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80880" y="1219320"/>
            <a:ext cx="8386560" cy="5104800"/>
            <a:chOff x="380880" y="1219320"/>
            <a:chExt cx="8386560" cy="5104800"/>
          </a:xfrm>
        </p:grpSpPr>
        <p:sp>
          <p:nvSpPr>
            <p:cNvPr id="672" name=""/>
            <p:cNvSpPr/>
            <p:nvPr/>
          </p:nvSpPr>
          <p:spPr>
            <a:xfrm>
              <a:off x="380880" y="4952880"/>
              <a:ext cx="830592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52680" y="2743200"/>
              <a:ext cx="4800600" cy="19807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2971800"/>
              <a:ext cx="2895480" cy="5328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unction poi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64360" y="281916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ib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14400" y="1600200"/>
              <a:ext cx="7238880" cy="837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ibibver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90720" y="5181480"/>
              <a:ext cx="4724280" cy="456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 user-level a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1280" y="4038480"/>
              <a:ext cx="441972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nal 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90720" y="5638680"/>
              <a:ext cx="4724280" cy="456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 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6680" y="1752480"/>
              <a:ext cx="198144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bv_cmd_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34080" y="3276360"/>
              <a:ext cx="66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re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ioct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05120" y="2286000"/>
              <a:ext cx="0" cy="2895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3080" y="35049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8120" y="1981080"/>
              <a:ext cx="1295280" cy="2057040"/>
            </a:xfrm>
            <a:custGeom>
              <a:avLst/>
              <a:gdLst/>
              <a:ahLst/>
              <a:rect l="l" t="t" r="r" b="b"/>
              <a:pathLst>
                <a:path w="753" h="1200">
                  <a:moveTo>
                    <a:pt x="737" y="1200"/>
                  </a:moveTo>
                  <a:cubicBezTo>
                    <a:pt x="733" y="1120"/>
                    <a:pt x="753" y="883"/>
                    <a:pt x="715" y="719"/>
                  </a:cubicBezTo>
                  <a:cubicBezTo>
                    <a:pt x="677" y="555"/>
                    <a:pt x="629" y="334"/>
                    <a:pt x="510" y="214"/>
                  </a:cubicBezTo>
                  <a:cubicBezTo>
                    <a:pt x="391" y="94"/>
                    <a:pt x="106" y="45"/>
                    <a:pt x="0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53080" y="2286000"/>
              <a:ext cx="0" cy="685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53080" y="4572000"/>
              <a:ext cx="0" cy="175212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53080" y="51814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byp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44480" y="495288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66240" y="4572000"/>
              <a:ext cx="60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38680" y="1752480"/>
              <a:ext cx="236232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bv_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53080" y="1219320"/>
              <a:ext cx="0" cy="533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28400" y="1218960"/>
            <a:ext cx="8334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Xen-unstable and OFED-1.2-r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and UD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and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A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, SDP, uD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receive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SA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going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applications such as NFS/R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more ULPs such as SRP, 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533520" y="1219320"/>
            <a:ext cx="8275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on 5160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GB Memory (only 2GB is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board: S5000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Hat EL4U4, CentOS 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n-unstable, cs147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PIPE, Intel MPI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ed De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IB (rdma, ipoib, sdp), Ethernet (vnif, ioemu), loopback, s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 performance improvement has been observed over the standard virtual Ethernet de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609480" y="2666880"/>
          <a:ext cx="7772400" cy="2743200"/>
        </p:xfrm>
        <a:graphic>
          <a:graphicData uri="http://schemas.openxmlformats.org/drawingml/2006/table">
            <a:tbl>
              <a:tblPr/>
              <a:tblGrid>
                <a:gridCol w="4191120"/>
                <a:gridCol w="1828800"/>
                <a:gridCol w="175248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Impr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 Improv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-Virtualized  V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5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.7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-Virtualized  VM (IOE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37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6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-Virtualized VM (PV Driv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.4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8.2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IB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ftware based IB device for virtualized environment (X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on top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irtual Machine RDMA Interface (VM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driver in the OpenFabric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IB tries to prov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inter-VM comm. mechanism with very 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vironment for testing OFED based applications without the RDMA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26560" cy="517680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63000" cy="51674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7480" cy="518652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54800" cy="518472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180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Fabrics Software S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1752480"/>
            <a:ext cx="6145920" cy="3810240"/>
            <a:chOff x="1600200" y="1752480"/>
            <a:chExt cx="6145920" cy="3810240"/>
          </a:xfrm>
        </p:grpSpPr>
        <p:sp>
          <p:nvSpPr>
            <p:cNvPr id="100" name=""/>
            <p:cNvSpPr/>
            <p:nvPr/>
          </p:nvSpPr>
          <p:spPr>
            <a:xfrm>
              <a:off x="1600200" y="3495600"/>
              <a:ext cx="4876920" cy="142092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00200" y="2462040"/>
              <a:ext cx="5638680" cy="4525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ibibverb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914560"/>
              <a:ext cx="449568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ser-level HCA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52480" y="4013280"/>
              <a:ext cx="457200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B Core (verbs, et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4400640"/>
              <a:ext cx="304776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CA D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09680" y="2914560"/>
              <a:ext cx="0" cy="71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1680" y="330192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4788000"/>
              <a:ext cx="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5175360"/>
              <a:ext cx="563868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19720" y="3625920"/>
              <a:ext cx="190476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PoIB, SDP, S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8480" y="45291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480" y="3625920"/>
              <a:ext cx="228600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ser-level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10840" y="3946680"/>
              <a:ext cx="9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yp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0200" y="1752480"/>
              <a:ext cx="5638680" cy="4525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DAP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2205000"/>
              <a:ext cx="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43000" y="1447920"/>
            <a:ext cx="6934320" cy="4495680"/>
            <a:chOff x="1143000" y="1447920"/>
            <a:chExt cx="6934320" cy="4495680"/>
          </a:xfrm>
        </p:grpSpPr>
        <p:sp>
          <p:nvSpPr>
            <p:cNvPr id="117" name=""/>
            <p:cNvSpPr/>
            <p:nvPr/>
          </p:nvSpPr>
          <p:spPr>
            <a:xfrm>
              <a:off x="1143000" y="5486400"/>
              <a:ext cx="6934320" cy="457200"/>
            </a:xfrm>
            <a:prstGeom prst="rect">
              <a:avLst/>
            </a:prstGeom>
            <a:solidFill>
              <a:srgbClr val="ffcc99"/>
            </a:soli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Verdana"/>
                </a:rPr>
                <a:t>VMR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219320" y="1447920"/>
              <a:ext cx="6781320" cy="3809520"/>
              <a:chOff x="1219320" y="1447920"/>
              <a:chExt cx="6781320" cy="3809520"/>
            </a:xfrm>
          </p:grpSpPr>
          <p:sp>
            <p:nvSpPr>
              <p:cNvPr id="119" name=""/>
              <p:cNvSpPr/>
              <p:nvPr/>
            </p:nvSpPr>
            <p:spPr>
              <a:xfrm>
                <a:off x="1219320" y="1447920"/>
                <a:ext cx="6781320" cy="380952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93200" y="3531960"/>
                <a:ext cx="5563800" cy="1582200"/>
              </a:xfrm>
              <a:prstGeom prst="rect">
                <a:avLst/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93200" y="2382840"/>
                <a:ext cx="6433560" cy="502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libibverb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480" y="2885400"/>
                <a:ext cx="5129280" cy="430920"/>
              </a:xfrm>
              <a:prstGeom prst="rect">
                <a:avLst/>
              </a:prstGeom>
              <a:solidFill>
                <a:srgbClr val="ffcc99"/>
              </a:solidFill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Verdana"/>
                  </a:rPr>
                  <a:t>libvm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67080" y="4106880"/>
                <a:ext cx="5216400" cy="430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IB Core (verbs, et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880" y="4538160"/>
                <a:ext cx="3477600" cy="431280"/>
              </a:xfrm>
              <a:prstGeom prst="rect">
                <a:avLst/>
              </a:prstGeom>
              <a:solidFill>
                <a:srgbClr val="ffcc99"/>
              </a:solidFill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Verdana"/>
                  </a:rPr>
                  <a:t>ib_vmr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88720" y="2885400"/>
                <a:ext cx="0" cy="78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49160" y="3675240"/>
                <a:ext cx="2434320" cy="43128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PoIB, SDP, SR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69600" y="46832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kern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67080" y="3675240"/>
                <a:ext cx="2608200" cy="43128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User-level 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93200" y="1590840"/>
                <a:ext cx="6433560" cy="50364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uDAP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09800" y="2094840"/>
                <a:ext cx="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467480" y="3352680"/>
              <a:ext cx="0" cy="213372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43400" y="4952880"/>
              <a:ext cx="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ization with X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1447920"/>
            <a:ext cx="7162920" cy="3961800"/>
            <a:chOff x="838080" y="1447920"/>
            <a:chExt cx="7162920" cy="3961800"/>
          </a:xfrm>
        </p:grpSpPr>
        <p:sp>
          <p:nvSpPr>
            <p:cNvPr id="135" name=""/>
            <p:cNvSpPr/>
            <p:nvPr/>
          </p:nvSpPr>
          <p:spPr>
            <a:xfrm>
              <a:off x="3276720" y="1904760"/>
              <a:ext cx="2286000" cy="1676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2819160"/>
              <a:ext cx="198108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2840" y="14479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000" y="1904760"/>
              <a:ext cx="2286000" cy="1676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67280" y="2819160"/>
              <a:ext cx="198144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728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1447920"/>
              <a:ext cx="84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3885840"/>
              <a:ext cx="6477120" cy="533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080" y="4800240"/>
              <a:ext cx="2210040" cy="60948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ev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1904760"/>
              <a:ext cx="2286000" cy="1676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38840" y="14479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90720" y="2819160"/>
              <a:ext cx="198108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4800240"/>
              <a:ext cx="4800600" cy="60948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emory, CPU, et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428640"/>
              <a:ext cx="0" cy="137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43400" y="3428640"/>
              <a:ext cx="0" cy="45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1680" y="3428640"/>
              <a:ext cx="0" cy="45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1680" y="4419360"/>
              <a:ext cx="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360"/>
              <a:ext cx="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428640"/>
              <a:ext cx="0" cy="45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4419360"/>
              <a:ext cx="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343400" y="3581280"/>
            <a:ext cx="4191120" cy="129564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760" y="291960"/>
            <a:ext cx="6886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al Network Device in X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760" y="1295280"/>
            <a:ext cx="3762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 e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chann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ring buff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channe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ing / buffer fl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1676520"/>
            <a:ext cx="1295280" cy="16002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676520"/>
            <a:ext cx="1295280" cy="16002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676520"/>
            <a:ext cx="1295640" cy="16002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1840" y="12193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9760" y="12193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77680" y="12193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2743200"/>
            <a:ext cx="99072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2743200"/>
            <a:ext cx="99036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743200"/>
            <a:ext cx="99072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257800" y="3123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39625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00800" y="3123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12372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343400"/>
            <a:ext cx="312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924680" y="312372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1828800"/>
            <a:ext cx="685800" cy="533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1828800"/>
            <a:ext cx="685800" cy="533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92468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5680" y="48769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6960" y="39625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ice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 Machine RDMA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800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DMA-style inter-VM commun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service in the hy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visor has access to all the memory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registr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to all the V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RI is fast becau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buffering data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overhead queue based RDMA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181480" y="1447920"/>
            <a:ext cx="3505320" cy="4376880"/>
            <a:chOff x="5181480" y="1447920"/>
            <a:chExt cx="3505320" cy="4376880"/>
          </a:xfrm>
        </p:grpSpPr>
        <p:sp>
          <p:nvSpPr>
            <p:cNvPr id="185" name=""/>
            <p:cNvSpPr/>
            <p:nvPr/>
          </p:nvSpPr>
          <p:spPr>
            <a:xfrm>
              <a:off x="5181480" y="3682440"/>
              <a:ext cx="3505320" cy="16329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81480" y="1447920"/>
              <a:ext cx="1687320" cy="180504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99120" y="1447920"/>
              <a:ext cx="1622520" cy="180504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95360" y="1533600"/>
              <a:ext cx="53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533600"/>
              <a:ext cx="53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56520" y="488556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0160" y="3940200"/>
              <a:ext cx="2012400" cy="77328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0120" y="2393280"/>
              <a:ext cx="649080" cy="51552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uf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8720" y="2393280"/>
              <a:ext cx="583920" cy="51552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uf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84880" y="2994840"/>
              <a:ext cx="1298160" cy="1117080"/>
            </a:xfrm>
            <a:custGeom>
              <a:avLst/>
              <a:gdLst>
                <a:gd name="textAreaLeft" fmla="*/ 272160 w 1298160"/>
                <a:gd name="textAreaRight" fmla="*/ 930600 w 1298160"/>
                <a:gd name="textAreaTop" fmla="*/ 149400 h 1117080"/>
                <a:gd name="textAreaBottom" fmla="*/ 967680 h 111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056" hR="21600" stAng="10800000" swAng="-5400000"/>
                  <a:lnTo>
                    <a:pt x="10955" y="21600"/>
                  </a:lnTo>
                  <a:arcTo wR="9056" hR="21600" stAng="5400000" swAng="-4249939"/>
                  <a:lnTo>
                    <a:pt x="21505" y="3115"/>
                  </a:lnTo>
                  <a:lnTo>
                    <a:pt x="19062" y="0"/>
                  </a:lnTo>
                  <a:lnTo>
                    <a:pt x="16428" y="3115"/>
                  </a:lnTo>
                  <a:lnTo>
                    <a:pt x="18017" y="3115"/>
                  </a:lnTo>
                  <a:arcTo wR="9056" hR="21600" stAng="1150061" swAng="4098083"/>
                  <a:lnTo>
                    <a:pt x="10006" y="21481"/>
                  </a:lnTo>
                  <a:arcTo wR="9056" hR="21600" stAng="5551856" swAng="5248144"/>
                  <a:close/>
                </a:path>
                <a:path fill="darkenLess" w="21600" h="21600">
                  <a:moveTo>
                    <a:pt x="0" y="0"/>
                  </a:moveTo>
                  <a:arcTo wR="9056" hR="21600" stAng="10800000" swAng="-5400000"/>
                  <a:lnTo>
                    <a:pt x="10955" y="21600"/>
                  </a:lnTo>
                  <a:arcTo wR="9056" hR="21600" stAng="5400000" swAng="151856"/>
                  <a:lnTo>
                    <a:pt x="10006" y="21481"/>
                  </a:lnTo>
                  <a:arcTo wR="9056" hR="21600" stAng="5551856" swAng="5248144"/>
                  <a:close/>
                </a:path>
              </a:pathLst>
            </a:custGeom>
            <a:solidFill>
              <a:srgbClr val="ccffcc"/>
            </a:solidFill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311080" y="2135160"/>
              <a:ext cx="519480" cy="945000"/>
              <a:chOff x="5311080" y="2135160"/>
              <a:chExt cx="519480" cy="945000"/>
            </a:xfrm>
          </p:grpSpPr>
          <p:sp>
            <p:nvSpPr>
              <p:cNvPr id="196" name=""/>
              <p:cNvSpPr/>
              <p:nvPr/>
            </p:nvSpPr>
            <p:spPr>
              <a:xfrm>
                <a:off x="5311080" y="2135160"/>
                <a:ext cx="519480" cy="31464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11080" y="2449800"/>
                <a:ext cx="51948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11080" y="2765160"/>
                <a:ext cx="51948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972560" y="2135160"/>
              <a:ext cx="519120" cy="945000"/>
              <a:chOff x="7972560" y="2135160"/>
              <a:chExt cx="519120" cy="945000"/>
            </a:xfrm>
          </p:grpSpPr>
          <p:sp>
            <p:nvSpPr>
              <p:cNvPr id="200" name=""/>
              <p:cNvSpPr/>
              <p:nvPr/>
            </p:nvSpPr>
            <p:spPr>
              <a:xfrm>
                <a:off x="7972560" y="2135160"/>
                <a:ext cx="519120" cy="31464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72560" y="2449800"/>
                <a:ext cx="51912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72560" y="2765160"/>
                <a:ext cx="51912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830560" y="2306880"/>
              <a:ext cx="259200" cy="257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712640" y="2306880"/>
              <a:ext cx="259560" cy="257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68040" y="5487480"/>
              <a:ext cx="277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 Simplified View of VM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MRI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09480" y="1295280"/>
            <a:ext cx="7924680" cy="4800600"/>
            <a:chOff x="609480" y="1295280"/>
            <a:chExt cx="7924680" cy="4800600"/>
          </a:xfrm>
        </p:grpSpPr>
        <p:sp>
          <p:nvSpPr>
            <p:cNvPr id="208" name=""/>
            <p:cNvSpPr/>
            <p:nvPr/>
          </p:nvSpPr>
          <p:spPr>
            <a:xfrm>
              <a:off x="609480" y="2666880"/>
              <a:ext cx="7924680" cy="34290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3276720"/>
              <a:ext cx="5715000" cy="25905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1760" y="3124080"/>
              <a:ext cx="5715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143000" y="4724280"/>
              <a:ext cx="1066320" cy="761760"/>
              <a:chOff x="1143000" y="4724280"/>
              <a:chExt cx="1066320" cy="761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143000" y="502884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44520" y="487656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46040" y="47242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143000" y="3429000"/>
              <a:ext cx="1066320" cy="761760"/>
              <a:chOff x="1143000" y="3429000"/>
              <a:chExt cx="1066320" cy="761760"/>
            </a:xfrm>
          </p:grpSpPr>
          <p:sp>
            <p:nvSpPr>
              <p:cNvPr id="216" name=""/>
              <p:cNvSpPr/>
              <p:nvPr/>
            </p:nvSpPr>
            <p:spPr>
              <a:xfrm>
                <a:off x="1143000" y="373356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44520" y="35812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46040" y="342900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429000" y="3429000"/>
              <a:ext cx="1066680" cy="761760"/>
              <a:chOff x="3429000" y="3429000"/>
              <a:chExt cx="1066680" cy="761760"/>
            </a:xfrm>
          </p:grpSpPr>
          <p:sp>
            <p:nvSpPr>
              <p:cNvPr id="220" name=""/>
              <p:cNvSpPr/>
              <p:nvPr/>
            </p:nvSpPr>
            <p:spPr>
              <a:xfrm>
                <a:off x="3429000" y="373356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30520" y="35812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2040" y="342900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09480" y="1295280"/>
              <a:ext cx="7924680" cy="11430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1760" y="1828800"/>
              <a:ext cx="114300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1828800"/>
              <a:ext cx="106668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24080" y="1828800"/>
              <a:ext cx="106668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676160" y="2285640"/>
              <a:ext cx="76212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752480" y="2361960"/>
              <a:ext cx="1828800" cy="10666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828800" y="2361960"/>
              <a:ext cx="2819160" cy="10666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447560" y="2285640"/>
              <a:ext cx="15264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18960" y="4267080"/>
              <a:ext cx="48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S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2200" y="42670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029200" y="4114800"/>
              <a:ext cx="1066680" cy="761760"/>
              <a:chOff x="5029200" y="4114800"/>
              <a:chExt cx="1066680" cy="761760"/>
            </a:xfrm>
          </p:grpSpPr>
          <p:sp>
            <p:nvSpPr>
              <p:cNvPr id="234" name=""/>
              <p:cNvSpPr/>
              <p:nvPr/>
            </p:nvSpPr>
            <p:spPr>
              <a:xfrm>
                <a:off x="5029200" y="441936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30720" y="42670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32240" y="411480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715000" y="1828800"/>
              <a:ext cx="121896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352680" y="4724280"/>
              <a:ext cx="1066680" cy="761760"/>
              <a:chOff x="3352680" y="4724280"/>
              <a:chExt cx="1066680" cy="761760"/>
            </a:xfrm>
          </p:grpSpPr>
          <p:sp>
            <p:nvSpPr>
              <p:cNvPr id="239" name=""/>
              <p:cNvSpPr/>
              <p:nvPr/>
            </p:nvSpPr>
            <p:spPr>
              <a:xfrm>
                <a:off x="3352680" y="502884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54200" y="487656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55720" y="472428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PD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1828800"/>
              <a:ext cx="106668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057400" y="2285640"/>
              <a:ext cx="365760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76160" y="3886200"/>
              <a:ext cx="0" cy="8380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365760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71320" y="441972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C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286000" y="3809880"/>
              <a:ext cx="1295280" cy="91440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86200" y="3886200"/>
              <a:ext cx="0" cy="83808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4952880"/>
              <a:ext cx="121932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419360" y="4572000"/>
              <a:ext cx="685800" cy="38088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133360" y="3809880"/>
              <a:ext cx="152424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8320" y="13716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V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32600" y="327672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10280" y="5105520"/>
              <a:ext cx="1295280" cy="7617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0" y="4952880"/>
              <a:ext cx="1295280" cy="762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0" y="3124080"/>
              <a:ext cx="1295280" cy="762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666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38680" y="1752480"/>
              <a:ext cx="121932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2360" y="1676520"/>
              <a:ext cx="121932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ata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86600" y="1600200"/>
              <a:ext cx="129528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uest c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619760" y="2209680"/>
              <a:ext cx="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2960" y="266688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hyperc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72400" y="2209680"/>
              <a:ext cx="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23440" y="266688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V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Send/Rec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7760" y="1371600"/>
            <a:ext cx="8314200" cy="4876920"/>
            <a:chOff x="257760" y="1371600"/>
            <a:chExt cx="8314200" cy="4876920"/>
          </a:xfrm>
        </p:grpSpPr>
        <p:sp>
          <p:nvSpPr>
            <p:cNvPr id="268" name=""/>
            <p:cNvSpPr/>
            <p:nvPr/>
          </p:nvSpPr>
          <p:spPr>
            <a:xfrm>
              <a:off x="2819520" y="137160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408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4400" y="152424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nd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0" y="152424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cv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219320" y="2210040"/>
              <a:ext cx="718920" cy="1295280"/>
              <a:chOff x="1219320" y="2210040"/>
              <a:chExt cx="718920" cy="1295280"/>
            </a:xfrm>
          </p:grpSpPr>
          <p:sp>
            <p:nvSpPr>
              <p:cNvPr id="273" name=""/>
              <p:cNvSpPr/>
              <p:nvPr/>
            </p:nvSpPr>
            <p:spPr>
              <a:xfrm>
                <a:off x="1219320" y="25909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06800" y="221004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19320" y="28958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32007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219320" y="3581640"/>
              <a:ext cx="718920" cy="1295280"/>
              <a:chOff x="1219320" y="3581640"/>
              <a:chExt cx="718920" cy="1295280"/>
            </a:xfrm>
          </p:grpSpPr>
          <p:sp>
            <p:nvSpPr>
              <p:cNvPr id="278" name=""/>
              <p:cNvSpPr/>
              <p:nvPr/>
            </p:nvSpPr>
            <p:spPr>
              <a:xfrm>
                <a:off x="1219320" y="39625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97440" y="358164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42674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4572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934320" y="2133720"/>
              <a:ext cx="718920" cy="1295280"/>
              <a:chOff x="6934320" y="2133720"/>
              <a:chExt cx="718920" cy="1295280"/>
            </a:xfrm>
          </p:grpSpPr>
          <p:sp>
            <p:nvSpPr>
              <p:cNvPr id="283" name=""/>
              <p:cNvSpPr/>
              <p:nvPr/>
            </p:nvSpPr>
            <p:spPr>
              <a:xfrm>
                <a:off x="6934320" y="25146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13160" y="213372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34320" y="28195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34320" y="312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934320" y="3505320"/>
              <a:ext cx="718920" cy="1295280"/>
              <a:chOff x="6934320" y="3505320"/>
              <a:chExt cx="718920" cy="1295280"/>
            </a:xfrm>
          </p:grpSpPr>
          <p:sp>
            <p:nvSpPr>
              <p:cNvPr id="288" name=""/>
              <p:cNvSpPr/>
              <p:nvPr/>
            </p:nvSpPr>
            <p:spPr>
              <a:xfrm>
                <a:off x="6934320" y="38862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12440" y="35053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34320" y="41911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343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352680" y="3124440"/>
              <a:ext cx="719280" cy="914400"/>
              <a:chOff x="3352680" y="3124440"/>
              <a:chExt cx="719280" cy="914400"/>
            </a:xfrm>
          </p:grpSpPr>
          <p:sp>
            <p:nvSpPr>
              <p:cNvPr id="293" name=""/>
              <p:cNvSpPr/>
              <p:nvPr/>
            </p:nvSpPr>
            <p:spPr>
              <a:xfrm>
                <a:off x="3352680" y="312444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52680" y="342936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52680" y="373392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37356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9744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4876920" y="3124440"/>
              <a:ext cx="718920" cy="914400"/>
              <a:chOff x="4876920" y="3124440"/>
              <a:chExt cx="718920" cy="914400"/>
            </a:xfrm>
          </p:grpSpPr>
          <p:sp>
            <p:nvSpPr>
              <p:cNvPr id="300" name=""/>
              <p:cNvSpPr/>
              <p:nvPr/>
            </p:nvSpPr>
            <p:spPr>
              <a:xfrm>
                <a:off x="4876920" y="312444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76920" y="3429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76920" y="37339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657600" y="57150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352680" y="4191120"/>
              <a:ext cx="719280" cy="914400"/>
              <a:chOff x="3352680" y="4191120"/>
              <a:chExt cx="719280" cy="914400"/>
            </a:xfrm>
          </p:grpSpPr>
          <p:sp>
            <p:nvSpPr>
              <p:cNvPr id="305" name=""/>
              <p:cNvSpPr/>
              <p:nvPr/>
            </p:nvSpPr>
            <p:spPr>
              <a:xfrm>
                <a:off x="3352680" y="4191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52680" y="4496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52680" y="4800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876920" y="4191120"/>
              <a:ext cx="718920" cy="914400"/>
              <a:chOff x="4876920" y="4191120"/>
              <a:chExt cx="718920" cy="91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4876920" y="4191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769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76920" y="4800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1905120" y="274320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904760" y="198144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638680" y="1904760"/>
              <a:ext cx="137160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562720" y="2590920"/>
              <a:ext cx="1371600" cy="762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1080" y="175284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69920" y="137160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2520" y="4343400"/>
              <a:ext cx="914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91320" y="403848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1980720" y="411444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219320" y="4953240"/>
              <a:ext cx="718920" cy="1295280"/>
              <a:chOff x="1219320" y="4953240"/>
              <a:chExt cx="718920" cy="1295280"/>
            </a:xfrm>
          </p:grpSpPr>
          <p:sp>
            <p:nvSpPr>
              <p:cNvPr id="322" name=""/>
              <p:cNvSpPr/>
              <p:nvPr/>
            </p:nvSpPr>
            <p:spPr>
              <a:xfrm>
                <a:off x="1219320" y="5334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06440" y="49532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19320" y="56390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19320" y="59439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934320" y="4953240"/>
              <a:ext cx="718920" cy="1295280"/>
              <a:chOff x="6934320" y="4953240"/>
              <a:chExt cx="718920" cy="1295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934320" y="5334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21440" y="49532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34320" y="56390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34320" y="59439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 flipH="1">
              <a:off x="1980720" y="502920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1320" y="4953240"/>
              <a:ext cx="106668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309400">
              <a:off x="1905480" y="49532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202400">
              <a:off x="5943240" y="4876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7760" y="350532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3840" y="3429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91320" y="5257800"/>
              <a:ext cx="838080" cy="609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050800">
              <a:off x="2057400" y="56390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209680" y="533412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541400">
              <a:off x="5790960" y="556236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9680" y="27432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6708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48520" y="2286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6000" y="2286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16002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9625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1460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5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nxin Xiong</dc:creator>
  <dc:description/>
  <dc:language>en-US</dc:language>
  <cp:lastModifiedBy>jxiong</cp:lastModifiedBy>
  <dcterms:modified xsi:type="dcterms:W3CDTF">2007-04-30T20:57:31Z</dcterms:modified>
  <cp:revision>53</cp:revision>
  <dc:subject/>
  <dc:title>Soft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