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3655-F457-40CD-824B-6CB1B2913D81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High Availability through  the Linux bonding driver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erl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erlitz@voltai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PoIB HW addr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by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yte  - supported IB transports (bit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bytes – the UD QP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ytes – the IB port GID (made of an eight bytes subnet prefix &amp; eight bytes port GU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ID is unique and has to be distinct from the view point of the 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P is a resource allocated by the HCA and is always distin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bonding driver chang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enslave devices whose HW address can’t be assigned from the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the bond HW address is the one of the active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enslave devices whose ether type is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PHRD_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override som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her_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ings with the slave on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ther type, broadcast addr, HW addr len, HW header len, neighbour set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PoIB HW address - revisite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UD L2 address is made of AH &amp; Q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 20 bytes H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ighb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exposed by ipoib to the stack is not what the driver really 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uses a two layer neighboring scheme, such that 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 neighb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 ipoib_ne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install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ighb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up callback used to fre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poib_ne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dd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PoIB driver chang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bonding neighbours are created on behalf of the bond device, henc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under bonding the ipoib neighbour destructor can’t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-&gt;d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poib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pointer to the devi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 ipoib_ne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use this pointer in the cleanup fu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ing/IPoIB changes -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: the bond HW address is the one of the active sl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 slave doesn’t support assig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: override som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her_se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tings with the slave 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 slave is no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PHRD_E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inter to the device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 ipoib_ne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use this pointer in the cleanup fu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ur cleanup after slave module u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 bonding fail over packet xmit over the new active slave, which happens before the old slave flushed the ipoib neighb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ld and deprecated user tool nam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ensl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, which can be now replaced by a script using the bonding sysfs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driver background / concep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driver high availability m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IPoIB devices – stat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slaves requirement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or a b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abling High-Availability for native IB UL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IPoIB devices – code chan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HW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driv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HW address -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driv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driver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ster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vice tha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sla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ther devi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cal system/st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ddressing, routing, multicast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teract only with the bond de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ding supports both HA and LB, we focus on H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pa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rs/net/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pa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cumentation/networking/bonding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driver HA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Active-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has one active slave, applies link detection mechanisms to trigger fail-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HW (L2) address is used for the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the one of the first slave, which is then assigned to the other slav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HA mode – cont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detec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: uses the carrier bit of th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validation: implemented through an ARP target to which probes are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-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sends a Broadcast Gratuitous AR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iginally to update the Ethernet switches t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does a “replay” of multicast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of IPoIB devices -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nges were required in the bonding driver and some in the ipo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changes – patch set passed two review cycles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d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changes – patch accepted to OFED 1.2 –some issues pending for upstream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issues still per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integrated into OFED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slaves requirements for a bo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must be of the same ether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bond ipoib and non-ipoib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must use the same partition (V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bond ib0.8003 with ib1.8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can be of different mode (UD vs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laves MTU must be normal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availability for native IB 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provides HA at the Link (L2)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, layer separation means that TCP sessions should not break, but they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failure would cause the IB RC session of a native IB UL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DP, RDS, iSER, Lustre, rNF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allows for a new session to be established immediat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poib is the IB stack [rdma_cm] ARP provid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ULP, this session breakage may not be even seen by the us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ing/IPoIB cod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Allan Torres</cp:lastModifiedBy>
  <dcterms:modified xsi:type="dcterms:W3CDTF">2007-05-01T18:04:32Z</dcterms:modified>
  <cp:revision>28</cp:revision>
  <dc:subject/>
  <dc:title>Slide 1</dc:title>
</cp:coreProperties>
</file>