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2FD-2251-4E22-B549-3CCF5BE77A5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finiBand Routing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olution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To The Other Sub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61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7840" y="423864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93680" y="469116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63760" y="502920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5827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0920" y="5421240"/>
            <a:ext cx="122580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972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7440" y="43610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78080" y="471816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68800" y="5057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2120" y="55087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83080" y="6234120"/>
            <a:ext cx="314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9640" y="591192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nd Bac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Getting to the ro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ost side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E2E path attributes per remote IB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manually or part of a futur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may be indicated for HA or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requests to remote GIDs lik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ID Prefix &lt;&gt; local find router DGID from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router DGID to IB path (LID etc.) via SM or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ride E2E path attributes such as MTU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24080" y="5181480"/>
          <a:ext cx="5410440" cy="1095120"/>
        </p:xfrm>
        <a:graphic>
          <a:graphicData uri="http://schemas.openxmlformats.org/drawingml/2006/table">
            <a:tbl>
              <a:tblPr/>
              <a:tblGrid>
                <a:gridCol w="1189080"/>
                <a:gridCol w="1082880"/>
                <a:gridCol w="1515960"/>
                <a:gridCol w="649440"/>
                <a:gridCol w="97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G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295280" y="5486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ample Host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Router next 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maintains a routing table (similar to the host table), maps incoming packets to relevant egress p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43000" y="2743200"/>
            <a:ext cx="6338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Router to De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step 2, except routing table resolved dynam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a DGID lookup failure issue a local SA request and store the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intain a sync copy of the SA path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Getting 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client by conducting a reverse lookup (based on SG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CM Rep messages or ARP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changes in the spec and the current CM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 &amp; Multi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a router failure path need to be updated with the new route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calable notification mechanism to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RRP way doesn’t work in IB since there is no MAC faking (a node cannot just take someone else's GID/MAC), need an equivalent IB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outers may be placed between sub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VRRP like Active-Active configuration (each host “sees” a different primary 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osts see all paths and can load-balance across (similar to the LMC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&amp; QK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IB Partition represent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key is an L4 value representing a group of services that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can be in the same “IP” subne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needs to know &amp; approve connectivity between different services (by specifying the same PKey/Q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Subnet = F ( Pkey &amp; IB Sub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router may or may not perform IP routing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subnets may be local (use link local M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ypically communicated/detected between router and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problems, Unreachable, router failure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need to be implemented for reporting errors to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1 seems to be the only option (global &amp; un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MADs would need to be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nsider “multicast” or unacked MADs, can also address the router take-over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Yaron Haviv</cp:lastModifiedBy>
  <dcterms:modified xsi:type="dcterms:W3CDTF">2007-05-01T21:22:44Z</dcterms:modified>
  <cp:revision>26</cp:revision>
  <dc:subject/>
  <dc:title>Slide 1</dc:title>
</cp:coreProperties>
</file>