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D96-A1EE-440C-9EA6-5B11E02D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4EA-5333-44A4-A2B5-21A495AD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47D-EF2B-46B6-98CE-5923CA1D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C65-6157-4652-86FF-1256D48A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FB4-6593-46DF-8E7D-B43CDA23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FCB-578A-44F8-B6AD-EB095EB6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64F-FAD6-4436-8C78-F22C9E6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875-4322-40B1-806D-99CEBB0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A1E-D0E9-4404-9370-A2DB91F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D63-069E-47C6-A6A0-85A728E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C4C-545A-45C9-80AC-C7286D5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935-03F9-487B-81F3-9BAA78D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3C04-865F-4CB0-9151-01341466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891D-40B1-4F97-8A61-BC27FC1398F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SER Storage Targe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6553" r="60835" b="56859"/>
          <a:stretch/>
        </p:blipFill>
        <p:spPr>
          <a:xfrm>
            <a:off x="5715000" y="2819520"/>
            <a:ext cx="3276720" cy="104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Performance ra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DR Clients, one DDR Tar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0MB/s (close to PCIe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4 FC 4Gb Ports and Enterprise FC RAIDs as the back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DR Client, 2 Tar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MB/s (close to SDR Lim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1560" y="1851120"/>
          <a:ext cx="7940880" cy="2340000"/>
        </p:xfrm>
        <a:graphic>
          <a:graphicData uri="http://schemas.openxmlformats.org/drawingml/2006/table">
            <a:tbl>
              <a:tblPr/>
              <a:tblGrid>
                <a:gridCol w="3899160"/>
                <a:gridCol w="1803240"/>
                <a:gridCol w="223848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roughpu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/O Response ti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635 M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0.033 m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Reads 50% and Writes 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38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7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equential Writes 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42 MB/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3 mse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3520" y="14320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SDR Client, 1 SDR Target, Native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41480"/>
            <a:ext cx="721836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–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t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to F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tection – mirroring,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torag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mmodity disk 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native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ervices avail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conStor IPStor with IB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65800" y="1538280"/>
            <a:ext cx="4754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FalconStor IPStor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InfiniBand added to hos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001000" cy="5073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91920" y="2286000"/>
            <a:ext cx="117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iniBand / RD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1981080"/>
            <a:ext cx="1600200" cy="457200"/>
          </a:xfrm>
          <a:prstGeom prst="wedgeRoundRectCallout">
            <a:avLst>
              <a:gd name="adj1" fmla="val -224601"/>
              <a:gd name="adj2" fmla="val 54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ER Target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Sto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GUI, SNMP, and CLI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clients managed just like iSCSI cl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Stor supports both iSER and iSCSI/IPoIB seamles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2736720"/>
            <a:ext cx="5454720" cy="283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4336920"/>
            <a:ext cx="3313080" cy="221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05520" y="3803760"/>
            <a:ext cx="365760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 /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523880"/>
          <a:ext cx="8381880" cy="476568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5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S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– both gateway and target app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4u2 (RH5 end Apri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S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5.1 build 5182 or hig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 dr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lanox, Volt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 Study – Production Cust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atency network providing market data to variety of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low latency storage, with minim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commodity storage appliance enabled by software from Voltaire, Falcon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mirroring to protect from hardwar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x RedHat Enterprise Servers (Targ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 8000 series AMD procs, Tyan 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x 750 GB SATA II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24 port Areca PCI Expr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x Voltaire DDR Infiniband dual por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today – box level fai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ilable early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936720" cy="38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936360" cy="38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34739" r="0" b="37903"/>
          <a:stretch/>
        </p:blipFill>
        <p:spPr>
          <a:xfrm>
            <a:off x="205740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34739" r="0" b="37903"/>
          <a:stretch/>
        </p:blipFill>
        <p:spPr>
          <a:xfrm>
            <a:off x="304920" y="3657600"/>
            <a:ext cx="1638360" cy="331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1122120" cy="290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159228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57200" y="1295280"/>
            <a:ext cx="1187280" cy="23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1187280" cy="23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5238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15238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38858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12760" y="2438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3480" y="46483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e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1680" y="35812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95280" y="281952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8195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137160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dund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fai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1:08:20Z</dcterms:created>
  <dc:creator>Yaron Haviv</dc:creator>
  <dc:description/>
  <dc:language>en-US</dc:language>
  <cp:lastModifiedBy>Yaron Haviv</cp:lastModifiedBy>
  <dcterms:modified xsi:type="dcterms:W3CDTF">2007-05-01T21:15:57Z</dcterms:modified>
  <cp:revision>2</cp:revision>
  <dc:subject/>
  <dc:title>iSER Storage Target</dc:title>
</cp:coreProperties>
</file>