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AB92-3C44-43A8-A524-B218F77FA6DD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enfabrics.org/interoperability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wmf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FA Interoperability </a:t>
            </a:r>
            <a:br>
              <a:rPr sz="3900"/>
            </a:b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ogo Program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520"/>
            <a:ext cx="56386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jal D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30,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posted i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penfabrics.org/interoperability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G Charter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-IOL Contract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-IOL Logo Program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-IOL Logo Licens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nteroperability Tes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7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Commun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IWG – test plans, events participation,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nd secure logo for you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interoperability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eedback on program to OFA and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Logo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Grant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Tests By Equipmen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La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ers to gauge interoperability of vendor equipment with OFA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suppliers to increase produc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support of single Linux and Windows software stacks from O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13000" y="1628640"/>
            <a:ext cx="3801960" cy="451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797440" y="1380960"/>
            <a:ext cx="2621160" cy="140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7560" y="1362240"/>
            <a:ext cx="2401920" cy="153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operability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4320" y="2066760"/>
            <a:ext cx="19573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1762200"/>
            <a:ext cx="849240" cy="663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67440" y="1685880"/>
            <a:ext cx="466560" cy="3571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286760" y="1838160"/>
            <a:ext cx="304560" cy="228600"/>
            <a:chOff x="7286760" y="1838160"/>
            <a:chExt cx="304560" cy="228600"/>
          </a:xfrm>
        </p:grpSpPr>
        <p:sp>
          <p:nvSpPr>
            <p:cNvPr id="99" name=""/>
            <p:cNvSpPr/>
            <p:nvPr/>
          </p:nvSpPr>
          <p:spPr>
            <a:xfrm>
              <a:off x="7286760" y="1838160"/>
              <a:ext cx="30456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2862f">
                    <a:alpha val="75294"/>
                  </a:srgbClr>
                </a:gs>
                <a:gs pos="100000">
                  <a:srgbClr val="f8c8a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0520" y="195228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8280" y="195228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39400" y="195228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286760" y="1914480"/>
            <a:ext cx="304560" cy="228600"/>
            <a:chOff x="7286760" y="1914480"/>
            <a:chExt cx="304560" cy="228600"/>
          </a:xfrm>
        </p:grpSpPr>
        <p:sp>
          <p:nvSpPr>
            <p:cNvPr id="104" name=""/>
            <p:cNvSpPr/>
            <p:nvPr/>
          </p:nvSpPr>
          <p:spPr>
            <a:xfrm>
              <a:off x="7286760" y="1914480"/>
              <a:ext cx="30456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2862f">
                    <a:alpha val="75294"/>
                  </a:srgbClr>
                </a:gs>
                <a:gs pos="100000">
                  <a:srgbClr val="f8c8a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0520" y="202860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88280" y="202860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39400" y="202860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210440" y="1990800"/>
            <a:ext cx="304920" cy="228600"/>
            <a:chOff x="7210440" y="1990800"/>
            <a:chExt cx="304920" cy="228600"/>
          </a:xfrm>
        </p:grpSpPr>
        <p:sp>
          <p:nvSpPr>
            <p:cNvPr id="109" name=""/>
            <p:cNvSpPr/>
            <p:nvPr/>
          </p:nvSpPr>
          <p:spPr>
            <a:xfrm>
              <a:off x="7210440" y="1990800"/>
              <a:ext cx="30492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2862f">
                    <a:alpha val="75294"/>
                  </a:srgbClr>
                </a:gs>
                <a:gs pos="100000">
                  <a:srgbClr val="f8c8a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4200" y="210492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2320" y="210492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63440" y="210492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43280" y="1685880"/>
            <a:ext cx="50148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247840" y="1762200"/>
            <a:ext cx="466920" cy="357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89160" y="252108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with HCA or R-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1160" y="1609560"/>
            <a:ext cx="99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Sola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M A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19720" y="2219400"/>
            <a:ext cx="17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ck Storage Target with HCA or R-NIC (iSER, SR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1320" y="17622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705120" y="2295360"/>
            <a:ext cx="717480" cy="667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67240" y="25239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ED (Linux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38640" y="36669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with HCA or R-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781440" y="2981160"/>
            <a:ext cx="501480" cy="89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4162320" y="3133800"/>
            <a:ext cx="466920" cy="35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634000" y="4354560"/>
            <a:ext cx="2208240" cy="19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054840" y="4629240"/>
            <a:ext cx="996840" cy="53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130800" y="5086440"/>
            <a:ext cx="804960" cy="93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4960" y="59310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 Swi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75360" y="495144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2895480"/>
            <a:ext cx="2621160" cy="140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427800" y="3156120"/>
            <a:ext cx="1523880" cy="739080"/>
            <a:chOff x="6427800" y="3156120"/>
            <a:chExt cx="1523880" cy="739080"/>
          </a:xfrm>
        </p:grpSpPr>
        <p:pic>
          <p:nvPicPr>
            <p:cNvPr id="131" name="" descr=""/>
            <p:cNvPicPr/>
            <p:nvPr/>
          </p:nvPicPr>
          <p:blipFill>
            <a:blip r:embed="rId10"/>
            <a:stretch/>
          </p:blipFill>
          <p:spPr>
            <a:xfrm>
              <a:off x="6732720" y="3231720"/>
              <a:ext cx="8492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1"/>
            <a:stretch/>
          </p:blipFill>
          <p:spPr>
            <a:xfrm>
              <a:off x="6427800" y="3156120"/>
              <a:ext cx="466560" cy="35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7647120" y="3308040"/>
              <a:ext cx="304560" cy="228240"/>
              <a:chOff x="7647120" y="3308040"/>
              <a:chExt cx="304560" cy="228240"/>
            </a:xfrm>
          </p:grpSpPr>
          <p:sp>
            <p:nvSpPr>
              <p:cNvPr id="134" name=""/>
              <p:cNvSpPr/>
              <p:nvPr/>
            </p:nvSpPr>
            <p:spPr>
              <a:xfrm>
                <a:off x="7647120" y="3308040"/>
                <a:ext cx="304560" cy="22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2862f">
                      <a:alpha val="75294"/>
                    </a:srgbClr>
                  </a:gs>
                  <a:gs pos="100000">
                    <a:srgbClr val="f8c8a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50880" y="342180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748640" y="342180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99760" y="342180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647120" y="3384360"/>
              <a:ext cx="304560" cy="228240"/>
              <a:chOff x="7647120" y="3384360"/>
              <a:chExt cx="304560" cy="228240"/>
            </a:xfrm>
          </p:grpSpPr>
          <p:sp>
            <p:nvSpPr>
              <p:cNvPr id="139" name=""/>
              <p:cNvSpPr/>
              <p:nvPr/>
            </p:nvSpPr>
            <p:spPr>
              <a:xfrm>
                <a:off x="7647120" y="3384360"/>
                <a:ext cx="304560" cy="22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2862f">
                      <a:alpha val="75294"/>
                    </a:srgbClr>
                  </a:gs>
                  <a:gs pos="100000">
                    <a:srgbClr val="f8c8a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50880" y="349812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48640" y="349812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99760" y="349812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570800" y="3460320"/>
              <a:ext cx="304920" cy="228240"/>
              <a:chOff x="7570800" y="3460320"/>
              <a:chExt cx="304920" cy="228240"/>
            </a:xfrm>
          </p:grpSpPr>
          <p:sp>
            <p:nvSpPr>
              <p:cNvPr id="144" name=""/>
              <p:cNvSpPr/>
              <p:nvPr/>
            </p:nvSpPr>
            <p:spPr>
              <a:xfrm>
                <a:off x="7570800" y="3460320"/>
                <a:ext cx="304920" cy="22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2862f">
                      <a:alpha val="75294"/>
                    </a:srgbClr>
                  </a:gs>
                  <a:gs pos="100000">
                    <a:srgbClr val="f8c8a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74560" y="357408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72680" y="357408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23800" y="357408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6580080" y="366696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torage Target with HCA or R-NIC (NFS-RDMA) (Futu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1680" y="31338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81640" y="2236320"/>
            <a:ext cx="46512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81640" y="3276720"/>
            <a:ext cx="9525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1640" y="4048200"/>
            <a:ext cx="64764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93800" y="3483000"/>
            <a:ext cx="79704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970360" y="2579760"/>
            <a:ext cx="4442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960" y="3200400"/>
            <a:ext cx="2023920" cy="201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55600" y="3594240"/>
            <a:ext cx="1371600" cy="1492200"/>
            <a:chOff x="1155600" y="3594240"/>
            <a:chExt cx="1371600" cy="1492200"/>
          </a:xfrm>
        </p:grpSpPr>
        <p:pic>
          <p:nvPicPr>
            <p:cNvPr id="157" name="" descr=""/>
            <p:cNvPicPr/>
            <p:nvPr/>
          </p:nvPicPr>
          <p:blipFill>
            <a:blip r:embed="rId12"/>
            <a:stretch/>
          </p:blipFill>
          <p:spPr>
            <a:xfrm>
              <a:off x="1384200" y="367056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3"/>
            <a:stretch/>
          </p:blipFill>
          <p:spPr>
            <a:xfrm>
              <a:off x="1384200" y="359424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4"/>
            <a:stretch/>
          </p:blipFill>
          <p:spPr>
            <a:xfrm>
              <a:off x="1231920" y="4356360"/>
              <a:ext cx="76212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155600" y="3975120"/>
              <a:ext cx="137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B-Ethernet Gate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804960" y="339876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4600" y="38768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98920" y="4303800"/>
            <a:ext cx="232236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3521160" y="4772160"/>
            <a:ext cx="1011240" cy="60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3521160" y="4695840"/>
            <a:ext cx="1011240" cy="604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tretch/>
        </p:blipFill>
        <p:spPr>
          <a:xfrm>
            <a:off x="3368520" y="5610240"/>
            <a:ext cx="685800" cy="657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78200" y="511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-FC Gate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451476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6880" y="413388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25720" y="50482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o Grant 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5627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Interoperability with other fabric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Application interoperability over InfiniBand and iWARP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0720" y="2058840"/>
            <a:ext cx="567000" cy="519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47760" y="1362240"/>
            <a:ext cx="5638680" cy="23652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4360" y="2235240"/>
            <a:ext cx="1295640" cy="23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00240" y="2352600"/>
            <a:ext cx="1676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05000" y="264780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OF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38480" y="2730600"/>
            <a:ext cx="312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62360" y="1495440"/>
            <a:ext cx="1104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2600" y="196380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2962440"/>
            <a:ext cx="1218960" cy="533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0640" y="1468440"/>
            <a:ext cx="1523880" cy="5335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to F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76760" y="27338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43440" y="2733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86040" y="2041560"/>
            <a:ext cx="9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76760" y="2428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43440" y="199836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19360" y="3152880"/>
            <a:ext cx="11574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24480" y="292428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86040" y="2886120"/>
            <a:ext cx="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72040" y="2276640"/>
            <a:ext cx="1600200" cy="533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76760" y="2581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4080" y="178128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ux/W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3840" y="1857240"/>
            <a:ext cx="349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7960" y="204804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7960" y="2581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19360" y="20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1936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9360" y="2801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1438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Fa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5280" y="1521000"/>
            <a:ext cx="671040" cy="512280"/>
            <a:chOff x="395280" y="1521000"/>
            <a:chExt cx="671040" cy="512280"/>
          </a:xfrm>
        </p:grpSpPr>
        <p:sp>
          <p:nvSpPr>
            <p:cNvPr id="202" name=""/>
            <p:cNvSpPr/>
            <p:nvPr/>
          </p:nvSpPr>
          <p:spPr>
            <a:xfrm>
              <a:off x="395280" y="1521000"/>
              <a:ext cx="549360" cy="32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6120" y="1601640"/>
              <a:ext cx="549360" cy="323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6960" y="1709640"/>
              <a:ext cx="549360" cy="32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362560" y="1736640"/>
            <a:ext cx="3733920" cy="2549520"/>
            <a:chOff x="5362560" y="1736640"/>
            <a:chExt cx="3733920" cy="2549520"/>
          </a:xfrm>
        </p:grpSpPr>
        <p:sp>
          <p:nvSpPr>
            <p:cNvPr id="206" name=""/>
            <p:cNvSpPr/>
            <p:nvPr/>
          </p:nvSpPr>
          <p:spPr>
            <a:xfrm>
              <a:off x="5362560" y="34956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657840" y="1736640"/>
              <a:ext cx="2438640" cy="2549520"/>
              <a:chOff x="6657840" y="1736640"/>
              <a:chExt cx="2438640" cy="2549520"/>
            </a:xfrm>
          </p:grpSpPr>
          <p:sp>
            <p:nvSpPr>
              <p:cNvPr id="208" name=""/>
              <p:cNvSpPr/>
              <p:nvPr/>
            </p:nvSpPr>
            <p:spPr>
              <a:xfrm>
                <a:off x="7724880" y="2685960"/>
                <a:ext cx="1371600" cy="1067040"/>
              </a:xfrm>
              <a:prstGeom prst="ellipse">
                <a:avLst/>
              </a:prstGeom>
              <a:gradFill rotWithShape="0">
                <a:gsLst>
                  <a:gs pos="0">
                    <a:srgbClr val="cc99ff">
                      <a:alpha val="40000"/>
                    </a:srgbClr>
                  </a:gs>
                  <a:gs pos="100000">
                    <a:srgbClr val="5e4675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b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a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24520" y="1736640"/>
                <a:ext cx="15861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10680" y="1736640"/>
                <a:ext cx="0" cy="9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57840" y="28098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15040" y="428616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410680" y="375264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1335240" y="3214800"/>
            <a:ext cx="1295280" cy="43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EM S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1960" y="33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33440" y="3341520"/>
            <a:ext cx="357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81320" y="1486080"/>
            <a:ext cx="1113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FS-RDM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4600" y="194472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245120" y="201276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40" y="1476360"/>
            <a:ext cx="2743200" cy="1117440"/>
          </a:xfrm>
          <a:prstGeom prst="rect">
            <a:avLst/>
          </a:prstGeom>
          <a:gradFill rotWithShape="0">
            <a:gsLst>
              <a:gs pos="0">
                <a:srgbClr val="ffff00">
                  <a:alpha val="20000"/>
                </a:srgbClr>
              </a:gs>
              <a:gs pos="100000">
                <a:srgbClr val="7575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506680" y="1704960"/>
            <a:ext cx="235080" cy="266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946160" y="3440160"/>
            <a:ext cx="235080" cy="2667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947960" y="285912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3784680" y="181296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4989600" y="128592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6588000" y="1312920"/>
            <a:ext cx="235080" cy="266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4408560" y="220824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6016680" y="212256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3924360" y="293832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5262480" y="2762280"/>
            <a:ext cx="235080" cy="26676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28440" y="3905280"/>
            <a:ext cx="7086600" cy="1665360"/>
            <a:chOff x="28440" y="3905280"/>
            <a:chExt cx="7086600" cy="1665360"/>
          </a:xfrm>
        </p:grpSpPr>
        <p:sp>
          <p:nvSpPr>
            <p:cNvPr id="232" name=""/>
            <p:cNvSpPr/>
            <p:nvPr/>
          </p:nvSpPr>
          <p:spPr>
            <a:xfrm>
              <a:off x="1247760" y="3905280"/>
              <a:ext cx="5638680" cy="1600200"/>
            </a:xfrm>
            <a:prstGeom prst="rect">
              <a:avLst/>
            </a:prstGeom>
            <a:gradFill rotWithShape="0">
              <a:gsLst>
                <a:gs pos="0">
                  <a:srgbClr val="ffcc99">
                    <a:alpha val="20000"/>
                  </a:srgbClr>
                </a:gs>
                <a:gs pos="100000">
                  <a:srgbClr val="755e46">
                    <a:alpha val="2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62560" y="51246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Fabr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498600" y="4557600"/>
              <a:ext cx="5569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324080" y="4057560"/>
              <a:ext cx="152388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Linux/W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24080" y="4586400"/>
              <a:ext cx="1523880" cy="239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57280" y="4133880"/>
              <a:ext cx="41436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-N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24080" y="5103720"/>
              <a:ext cx="152388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-OF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57280" y="5180040"/>
              <a:ext cx="41436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-N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5160" y="3981600"/>
              <a:ext cx="167652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Swit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71960" y="4896000"/>
              <a:ext cx="109512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ER Storag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22720" y="4624560"/>
              <a:ext cx="304560" cy="3045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990960" y="45144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14840" y="4057560"/>
              <a:ext cx="1600200" cy="53352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to Fib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Gate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76560" y="4210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7960" y="4210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7960" y="466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7960" y="520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76560" y="428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81680" y="4210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38120" y="4035600"/>
              <a:ext cx="653760" cy="477360"/>
              <a:chOff x="438120" y="4035600"/>
              <a:chExt cx="653760" cy="477360"/>
            </a:xfrm>
          </p:grpSpPr>
          <p:sp>
            <p:nvSpPr>
              <p:cNvPr id="252" name=""/>
              <p:cNvSpPr/>
              <p:nvPr/>
            </p:nvSpPr>
            <p:spPr>
              <a:xfrm>
                <a:off x="438120" y="4035600"/>
                <a:ext cx="529200" cy="297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4000" y="4116240"/>
                <a:ext cx="529200" cy="29772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2680" y="4215240"/>
                <a:ext cx="529200" cy="297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334040" y="4896000"/>
              <a:ext cx="109512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FS-RDM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4280" y="4624560"/>
              <a:ext cx="304920" cy="3045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537080" y="4505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440" y="3952800"/>
              <a:ext cx="2971800" cy="111600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20000"/>
                  </a:srgbClr>
                </a:gs>
                <a:gs pos="100000">
                  <a:srgbClr val="7575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13"/>
            <a:stretch/>
          </p:blipFill>
          <p:spPr>
            <a:xfrm>
              <a:off x="2651040" y="3932280"/>
              <a:ext cx="2350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4"/>
            <a:stretch/>
          </p:blipFill>
          <p:spPr>
            <a:xfrm>
              <a:off x="2009880" y="5303880"/>
              <a:ext cx="2347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5"/>
            <a:stretch/>
          </p:blipFill>
          <p:spPr>
            <a:xfrm>
              <a:off x="4365720" y="5243400"/>
              <a:ext cx="2347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6"/>
            <a:stretch/>
          </p:blipFill>
          <p:spPr>
            <a:xfrm>
              <a:off x="3195720" y="5241960"/>
              <a:ext cx="23472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397560" y="1915920"/>
            <a:ext cx="243864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-UNH-IOL Logo Program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1533600"/>
            <a:ext cx="1330200" cy="1133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dor desir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obtain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81240" y="3057480"/>
            <a:ext cx="1330200" cy="11336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dor a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085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595680" y="3048120"/>
            <a:ext cx="1735200" cy="1133280"/>
            <a:chOff x="3595680" y="3048120"/>
            <a:chExt cx="1735200" cy="1133280"/>
          </a:xfrm>
        </p:grpSpPr>
        <p:sp>
          <p:nvSpPr>
            <p:cNvPr id="269" name=""/>
            <p:cNvSpPr/>
            <p:nvPr/>
          </p:nvSpPr>
          <p:spPr>
            <a:xfrm>
              <a:off x="4000680" y="3048120"/>
              <a:ext cx="1330200" cy="113328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Testing Ev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Tes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95680" y="3630600"/>
              <a:ext cx="3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429000" y="4255920"/>
            <a:ext cx="1981080" cy="1725840"/>
            <a:chOff x="3429000" y="4255920"/>
            <a:chExt cx="1981080" cy="1725840"/>
          </a:xfrm>
        </p:grpSpPr>
        <p:sp>
          <p:nvSpPr>
            <p:cNvPr id="272" name=""/>
            <p:cNvSpPr/>
            <p:nvPr/>
          </p:nvSpPr>
          <p:spPr>
            <a:xfrm>
              <a:off x="3429000" y="4686480"/>
              <a:ext cx="1981080" cy="129528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ees to</a:t>
              </a:r>
              <a:br>
                <a:rPr sz="1400"/>
              </a:b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Publis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tes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ults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30880" y="4255920"/>
              <a:ext cx="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183440" y="4762440"/>
            <a:ext cx="1690560" cy="1133640"/>
            <a:chOff x="7183440" y="4762440"/>
            <a:chExt cx="1690560" cy="1133640"/>
          </a:xfrm>
        </p:grpSpPr>
        <p:sp>
          <p:nvSpPr>
            <p:cNvPr id="275" name=""/>
            <p:cNvSpPr/>
            <p:nvPr/>
          </p:nvSpPr>
          <p:spPr>
            <a:xfrm>
              <a:off x="7543800" y="4762440"/>
              <a:ext cx="1330200" cy="113364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u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Logo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 terms in</a:t>
              </a:r>
              <a:br>
                <a:rPr sz="1400"/>
              </a:b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Logo Lic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3440" y="534528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66800" y="4753080"/>
            <a:ext cx="1792440" cy="1133280"/>
            <a:chOff x="1666800" y="4753080"/>
            <a:chExt cx="1792440" cy="1133280"/>
          </a:xfrm>
        </p:grpSpPr>
        <p:sp>
          <p:nvSpPr>
            <p:cNvPr id="278" name=""/>
            <p:cNvSpPr/>
            <p:nvPr/>
          </p:nvSpPr>
          <p:spPr>
            <a:xfrm>
              <a:off x="1666800" y="4753080"/>
              <a:ext cx="1330560" cy="1133280"/>
            </a:xfrm>
            <a:prstGeom prst="rect">
              <a:avLst/>
            </a:prstGeom>
            <a:solidFill>
              <a:srgbClr val="c0c0c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exits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058920" y="5327640"/>
              <a:ext cx="2905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81240" y="4952880"/>
              <a:ext cx="37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981080" y="1523880"/>
            <a:ext cx="3733920" cy="1447920"/>
            <a:chOff x="1981080" y="1523880"/>
            <a:chExt cx="3733920" cy="1447920"/>
          </a:xfrm>
        </p:grpSpPr>
        <p:sp>
          <p:nvSpPr>
            <p:cNvPr id="282" name=""/>
            <p:cNvSpPr/>
            <p:nvPr/>
          </p:nvSpPr>
          <p:spPr>
            <a:xfrm>
              <a:off x="1981080" y="1523880"/>
              <a:ext cx="1981440" cy="114300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Eligibl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84800" y="1523880"/>
              <a:ext cx="1330200" cy="1133640"/>
            </a:xfrm>
            <a:prstGeom prst="rect">
              <a:avLst/>
            </a:prstGeom>
            <a:solidFill>
              <a:srgbClr val="c0c0c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i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nied Lo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62240" y="2084400"/>
              <a:ext cx="2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244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48120" y="1714680"/>
              <a:ext cx="3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6960" y="265752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203800" y="4762440"/>
            <a:ext cx="1917720" cy="1133640"/>
            <a:chOff x="5203800" y="4762440"/>
            <a:chExt cx="1917720" cy="1133640"/>
          </a:xfrm>
        </p:grpSpPr>
        <p:sp>
          <p:nvSpPr>
            <p:cNvPr id="289" name=""/>
            <p:cNvSpPr/>
            <p:nvPr/>
          </p:nvSpPr>
          <p:spPr>
            <a:xfrm>
              <a:off x="5791320" y="4762440"/>
              <a:ext cx="1330200" cy="113364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g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Notifica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Logo Gr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ter review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13400" y="5337000"/>
              <a:ext cx="1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03800" y="484020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go Tests By Equipment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9920" y="1438200"/>
          <a:ext cx="8861400" cy="4784760"/>
        </p:xfrm>
        <a:graphic>
          <a:graphicData uri="http://schemas.openxmlformats.org/drawingml/2006/table">
            <a:tbl>
              <a:tblPr/>
              <a:tblGrid>
                <a:gridCol w="1238040"/>
                <a:gridCol w="851040"/>
                <a:gridCol w="730440"/>
                <a:gridCol w="755640"/>
                <a:gridCol w="766440"/>
                <a:gridCol w="766800"/>
                <a:gridCol w="1325520"/>
                <a:gridCol w="581040"/>
                <a:gridCol w="870120"/>
                <a:gridCol w="97632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ink / Conn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PoIB / V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pen SM (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D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FS-RD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br>
                        <a:rPr sz="14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so OEM 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OFA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-Eth G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-FC G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S-RDMA Ser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 SM Server (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o Program La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ed @ OFA Interop Plug Fes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ed by UNH-I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6-20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ogo grant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demand testing will be availabl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OFA Interoperability Event in ~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Sujal</cp:lastModifiedBy>
  <dcterms:modified xsi:type="dcterms:W3CDTF">2007-04-30T16:53:37Z</dcterms:modified>
  <cp:revision>97</cp:revision>
  <dc:subject/>
  <dc:title>Slide 1</dc:title>
</cp:coreProperties>
</file>