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wmf" ContentType="image/x-wmf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D1974-B08E-492D-A203-A936651E19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94065-F0A0-4BDF-B963-AD7D313E381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861597-C032-488E-B9B7-23EDEDE00D7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CD2ED3-FE55-4992-A571-25AA78ECC6E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247680" y="90360"/>
            <a:ext cx="852336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B7CE25-3555-4CF2-8C71-BCE8CEB91AA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3AED36-3245-4EE4-BC8B-2B540720AC4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AADAF4-2111-4B91-8EDD-6F2817C279E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D3313D-8774-4772-80EC-1D72729A902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38C029-A842-49BB-A7FB-8AC7A0C99B6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8426F5-E07E-48D9-8AE7-2458DFC4401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12444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0480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24408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12444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0480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DE170F-24EA-4522-9F11-8C843A6A418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4FD419-1D88-4540-AFCC-AF667374A9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CCC2C-335D-45E4-AF4C-1447A75E87F2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BB6693-3DB7-4971-B04A-179B9DD9755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ED24C9-9626-49F1-9B02-D19E9115A2A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663C2A-9311-4A43-A2FC-625CF2C6367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C6FCE7-30AC-4B62-9A49-ABDBF0FB2B5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247680" y="90360"/>
            <a:ext cx="852336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2297D8-72DB-4453-A8F9-A666DD0FEEC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67D396-A6CF-4ED2-A403-ACFF6608DF3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4759F1-EE6F-4F9F-97F3-0BF2F5F67A5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32F7FD-354D-406C-864B-67F43EA9D4C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278FE3-5891-4D29-81AB-B9EB66E5041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58FEA8-50B4-4441-8AEF-F967B5FCE7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2444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0480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408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2444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0480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0466D-3137-43C5-9CA6-902B49C08D5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12444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480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24408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12444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480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69B826-AC0B-460C-8834-0DED3F9C228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247680" y="90360"/>
            <a:ext cx="852336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1438-B3FF-4E81-9281-3359D7B583BF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12444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0480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24408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12444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0480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E3FC-99E8-494E-86F5-582ED23B2AB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2666-98A0-4CCD-9E81-86641CD7B3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E6F6-7552-466A-8BDC-5D538160FC2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454F-023F-4133-9BE8-89C8B795324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47680" y="90360"/>
            <a:ext cx="852336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6643-6D5C-4C73-80EF-D1A8F501979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3CD1-4935-4DD6-95A7-E9C653D775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9337C-878F-49B7-9E97-62AEFCEEE3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FEE4-86FF-4B1B-995B-1AD5B9CF883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07A2-EF1B-4748-B0BF-4CC5E94538E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75BD-D298-495C-9B2C-12C959C21FC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3E86-13EA-4513-BA30-70ACF5FA105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2444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0480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4408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2444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0480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949D-BE30-4ABE-A1DC-9BAB8048894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4D13BA-A0E2-4E1B-973B-57A75B62F0B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F5A93A-C7E5-4BE3-B899-CC005445AB9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BA0714-4BF5-4C0A-B7C4-F48E304F36B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140366-E707-4D99-B3AC-9A73EB8605A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C6C817-F277-467B-BB75-45D729429C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66B87-B2F9-492A-A372-6B7BD2BDB6C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247680" y="90360"/>
            <a:ext cx="852336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A2D853-DCDB-4DCE-AD8E-EA904B1582C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4CAC92-5678-446D-BDCF-09F07353542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1FB8C2-679E-4ECC-B3CF-B397AFF5BA4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51E46A-F6FF-4386-BA70-153D3D58D90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A0DA2E-3DD5-4B01-93E9-51B0630D90F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CF6F33-83F4-4BD4-A63C-02421DCEA1C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12444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0480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24408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12444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0480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8BD644-B577-48EF-BE92-77BC31A9873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55606D-49CB-42A4-B050-333AC36DF1C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857D7A-7714-4C83-A228-DAAA6F8E026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CEE3DF-D3FF-4F7B-99DC-F0775FC533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C8A9C-E43C-454A-AEEB-CE334612A24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9711A3-8457-4BCE-8DAF-C2B5E1E1D56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ED9B48-D191-4881-A09A-D4C2C4E331A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247680" y="90360"/>
            <a:ext cx="852336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5AF5D2-0A24-4263-92A4-3328DEEEE63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A4EE70-0AE5-48F4-BC8F-DCA023D9F1D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C04A7D-DBC5-4E14-9B49-02E39C0AE6F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F0D76B-7CE1-4488-A249-1549B5775F9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D871BA-C077-47F8-8DEF-D7B8AA88426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8E7BAB-46BC-4165-A197-B75131103BF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12444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0480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24408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12444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0480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B77FDB-43C9-4FDA-9AC3-7A4D2A962A4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3B5B6-A3EA-4055-8A43-0BA5474C49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82615-8F40-4F09-A9FB-A4B61421A07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BC364-4D0A-4A87-8047-2D2E2A19CAF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137A6-C1F9-452D-9A89-8EB22FAD134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9557B-C837-423B-B28F-F0F2E32A488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756F1-28C9-4268-BBB1-61D1C95A740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247680" y="90360"/>
            <a:ext cx="852336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D95F5-7806-4045-B641-E2069F2A4FE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5A1C4-A6E9-4DBF-BDD2-807FE7B984D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F2082-63FD-4751-AE42-EE29E632D8F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3F6BE-51BC-4DAB-AB9F-5BBC5CE2465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9F434-B76D-4AAD-B9E1-2753B13D1C4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CD689-5CA8-4F03-B3B0-17768E3177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7680" y="90360"/>
            <a:ext cx="852336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4D690-32A5-4513-B306-076A48509D1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12444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0480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24408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12444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0480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EE386-28B4-4A7D-A83A-9D0FC5CFAB5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485304-0B8B-45F2-8493-8ED2AD90605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4A6C70-830D-4B0D-8D6A-73231577E3D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858EDF-4CE2-474E-9F90-20749C28622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CA9007-D1E5-4B22-BF9C-84B8912BCD4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26A15A-F576-4BB8-8FE4-6C9E05B739D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247680" y="90360"/>
            <a:ext cx="852336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098F92-E36B-43C4-B592-1827951E3BD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1B2E83-0108-4B82-8EBD-591FC00E76A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EAAF15-5E4C-477B-B560-704B87FF737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D775CE-3F85-490C-A5E2-A0F178894E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F3197-C595-4DA1-B384-501D8B172B4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E4925E-0F4D-4CFD-97D9-4131AF42162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CDA8B3-970F-4817-9AC5-923B425FEA5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12444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0480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24408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12444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0480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DDC845-8050-4FBD-B7FD-7BB834B4C7B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C5E751-0CBE-4970-A27C-C06A50A2D63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FA112B-3203-48CA-9844-6C86E20EF0D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71DCA0-602A-44E8-A542-11E199D42D7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16F694-900F-4E20-A410-5A1ECAE7018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7460AB-FDF7-41D6-AA91-66E4F1A2F86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247680" y="90360"/>
            <a:ext cx="852336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3FB925-96E4-47E5-B5B4-800BCFD55D4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43ADDD-A5B7-4520-8CE6-E9F0EA0C48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60483-507C-495A-B62F-3B94940C5F0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106A28-0F2A-4752-8B13-E9450D63995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98B588-CC2D-4FCC-98F5-A91ABBB3A39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F3EAB4-B8DE-4E6D-9E4C-1189F1E2AC9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7C4565-E46E-489B-A009-BAD774B6BD6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12444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480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24408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12444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480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A023A5-903D-4114-9C99-2D779EDF34B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0BD74-5D5E-4053-97F8-3C005EBF14E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1CCA9-C07A-4201-8141-2B8AE8CD220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2DFA1-CABE-47B9-A5E8-BC794D1C2ED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A8330-C147-4090-8FBA-24E293612BF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DF18A-4B9E-4328-B00C-10729C0A2A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5D642-8935-474A-B959-B9FDF9152BF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247680" y="90360"/>
            <a:ext cx="852336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424B8-B757-4A2B-A242-66704B4060E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9C99E-7287-46C7-BD99-E60AF9291F5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A93E7-816C-481E-91E0-A11269E590C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ECF3B-EE9F-4FF8-8521-F5EEE59B226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279A5-3B84-40C9-B79F-00A1F6A6570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947F5-A7D5-44E9-B238-E0BA58369E6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12444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0480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24408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12444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0480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52A52-4DD9-4B74-ABF8-50E94894A8E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AFF9D6-E933-4D47-9EFD-BCE49AEAA49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FBEDB9-0050-4253-92FF-59DC9BFCB8C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19EE8B-3943-43FF-A440-832655B655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Rectangle 1025" descr=""/>
          <p:cNvPicPr/>
          <p:nvPr/>
        </p:nvPicPr>
        <p:blipFill>
          <a:blip r:embed="rId2"/>
          <a:stretch/>
        </p:blipFill>
        <p:spPr>
          <a:xfrm>
            <a:off x="0" y="6608880"/>
            <a:ext cx="9144000" cy="245880"/>
          </a:xfrm>
          <a:prstGeom prst="rect">
            <a:avLst/>
          </a:prstGeom>
          <a:ln w="0">
            <a:noFill/>
          </a:ln>
        </p:spPr>
      </p:pic>
      <p:pic>
        <p:nvPicPr>
          <p:cNvPr id="1" name="Rectangle 102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004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75000"/>
              </a:lnSpc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41172"/>
              </a:buClr>
              <a:buFont typeface="Arial Narrow"/>
              <a:buChar char="•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Click to edit the outline text format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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Second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2" marL="1143000" indent="-228600">
              <a:spcBef>
                <a:spcPts val="751"/>
              </a:spcBef>
              <a:buClr>
                <a:srgbClr val="241172"/>
              </a:buClr>
              <a:buFont typeface="Wingdings" charset="2"/>
              <a:buChar char="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Third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–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Four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4" marL="2057400" indent="-228600">
              <a:spcBef>
                <a:spcPts val="751"/>
              </a:spcBef>
              <a:buClr>
                <a:srgbClr val="241172"/>
              </a:buClr>
              <a:buFont typeface="Arial Narrow"/>
              <a:buChar char="»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Fif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»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Six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»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Seven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</p:txBody>
      </p:sp>
      <p:pic>
        <p:nvPicPr>
          <p:cNvPr id="4" name="Rectangle 1029" descr=""/>
          <p:cNvPicPr/>
          <p:nvPr/>
        </p:nvPicPr>
        <p:blipFill>
          <a:blip r:embed="rId4"/>
          <a:stretch/>
        </p:blipFill>
        <p:spPr>
          <a:xfrm>
            <a:off x="7772400" y="136440"/>
            <a:ext cx="914400" cy="7016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228600" y="6629040"/>
            <a:ext cx="83808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C1CF5-715E-4BE1-8C7F-10B1135CDF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228600" y="6629040"/>
            <a:ext cx="83808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20A3B-85B2-497E-95C6-6CBAF50CE5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32"/>
          <p:cNvSpPr/>
          <p:nvPr/>
        </p:nvSpPr>
        <p:spPr>
          <a:xfrm>
            <a:off x="3276720" y="653724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llanox CONFID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9360" y="6480"/>
            <a:ext cx="9125280" cy="684504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sldNum" idx="11"/>
          </p:nvPr>
        </p:nvSpPr>
        <p:spPr>
          <a:xfrm>
            <a:off x="57240" y="6528960"/>
            <a:ext cx="1395360" cy="32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777777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287AD-2EC8-4225-8139-B3029540BA8B}" type="slidenum">
              <a:rPr b="1" lang="en-US" sz="900" spc="-1" strike="noStrike">
                <a:solidFill>
                  <a:srgbClr val="777777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005280" y="6657840"/>
            <a:ext cx="183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body"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3" name=""/>
          <p:cNvSpPr/>
          <p:nvPr/>
        </p:nvSpPr>
        <p:spPr>
          <a:xfrm>
            <a:off x="1669680" y="6548400"/>
            <a:ext cx="5834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pyright © 2007 InfiniBand</a:t>
            </a:r>
            <a:r>
              <a:rPr b="1" lang="en-US" sz="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Trade Association.  Other names and brands are properties of their respective owner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72440" cy="688032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Rectangle 1025" descr=""/>
          <p:cNvPicPr/>
          <p:nvPr/>
        </p:nvPicPr>
        <p:blipFill>
          <a:blip r:embed="rId2"/>
          <a:stretch/>
        </p:blipFill>
        <p:spPr>
          <a:xfrm>
            <a:off x="0" y="6608880"/>
            <a:ext cx="9144000" cy="24588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102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0047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75000"/>
              </a:lnSpc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41172"/>
              </a:buClr>
              <a:buFont typeface="Arial Narrow"/>
              <a:buChar char="•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Click to edit the outline text format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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Second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2" marL="1143000" indent="-228600">
              <a:spcBef>
                <a:spcPts val="751"/>
              </a:spcBef>
              <a:buClr>
                <a:srgbClr val="241172"/>
              </a:buClr>
              <a:buFont typeface="Wingdings" charset="2"/>
              <a:buChar char="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Third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–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Four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4" marL="2057400" indent="-228600">
              <a:spcBef>
                <a:spcPts val="751"/>
              </a:spcBef>
              <a:buClr>
                <a:srgbClr val="241172"/>
              </a:buClr>
              <a:buFont typeface="Arial Narrow"/>
              <a:buChar char="»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Fif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»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Six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»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Seven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</p:txBody>
      </p:sp>
      <p:pic>
        <p:nvPicPr>
          <p:cNvPr id="48" name="Rectangle 1029" descr=""/>
          <p:cNvPicPr/>
          <p:nvPr/>
        </p:nvPicPr>
        <p:blipFill>
          <a:blip r:embed="rId4"/>
          <a:stretch/>
        </p:blipFill>
        <p:spPr>
          <a:xfrm>
            <a:off x="7772400" y="136440"/>
            <a:ext cx="914400" cy="7016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032"/>
          <p:cNvSpPr/>
          <p:nvPr/>
        </p:nvSpPr>
        <p:spPr>
          <a:xfrm>
            <a:off x="3276720" y="653724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llanox CONFID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3"/>
          </p:nvPr>
        </p:nvSpPr>
        <p:spPr>
          <a:xfrm>
            <a:off x="228600" y="6629040"/>
            <a:ext cx="83808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6D10D-BBE8-495A-80D5-B2C6DB9B99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Rectangle 1025" descr=""/>
          <p:cNvPicPr/>
          <p:nvPr/>
        </p:nvPicPr>
        <p:blipFill>
          <a:blip r:embed="rId2"/>
          <a:stretch/>
        </p:blipFill>
        <p:spPr>
          <a:xfrm>
            <a:off x="0" y="6608880"/>
            <a:ext cx="9144000" cy="245880"/>
          </a:xfrm>
          <a:prstGeom prst="rect">
            <a:avLst/>
          </a:prstGeom>
          <a:ln w="0">
            <a:noFill/>
          </a:ln>
        </p:spPr>
      </p:pic>
      <p:pic>
        <p:nvPicPr>
          <p:cNvPr id="88" name="Rectangle 102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0047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75000"/>
              </a:lnSpc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41172"/>
              </a:buClr>
              <a:buFont typeface="Arial Narrow"/>
              <a:buChar char="•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Click to edit the outline text format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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Second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2" marL="1143000" indent="-228600">
              <a:spcBef>
                <a:spcPts val="751"/>
              </a:spcBef>
              <a:buClr>
                <a:srgbClr val="241172"/>
              </a:buClr>
              <a:buFont typeface="Wingdings" charset="2"/>
              <a:buChar char="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Third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–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Four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4" marL="2057400" indent="-228600">
              <a:spcBef>
                <a:spcPts val="751"/>
              </a:spcBef>
              <a:buClr>
                <a:srgbClr val="241172"/>
              </a:buClr>
              <a:buFont typeface="Arial Narrow"/>
              <a:buChar char="»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Fif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»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Six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»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Seven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</p:txBody>
      </p:sp>
      <p:pic>
        <p:nvPicPr>
          <p:cNvPr id="91" name="Rectangle 1029" descr=""/>
          <p:cNvPicPr/>
          <p:nvPr/>
        </p:nvPicPr>
        <p:blipFill>
          <a:blip r:embed="rId4"/>
          <a:stretch/>
        </p:blipFill>
        <p:spPr>
          <a:xfrm>
            <a:off x="7772400" y="136440"/>
            <a:ext cx="914400" cy="7016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032"/>
          <p:cNvSpPr/>
          <p:nvPr/>
        </p:nvSpPr>
        <p:spPr>
          <a:xfrm>
            <a:off x="3276720" y="653724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llanox CONFID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4"/>
          </p:nvPr>
        </p:nvSpPr>
        <p:spPr>
          <a:xfrm>
            <a:off x="228600" y="6629040"/>
            <a:ext cx="83808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F22E0-D52C-41DF-8894-2DCCE25457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Rectangle 1025" descr=""/>
          <p:cNvPicPr/>
          <p:nvPr/>
        </p:nvPicPr>
        <p:blipFill>
          <a:blip r:embed="rId2"/>
          <a:stretch/>
        </p:blipFill>
        <p:spPr>
          <a:xfrm>
            <a:off x="0" y="6608880"/>
            <a:ext cx="9144000" cy="245880"/>
          </a:xfrm>
          <a:prstGeom prst="rect">
            <a:avLst/>
          </a:prstGeom>
          <a:ln w="0">
            <a:noFill/>
          </a:ln>
        </p:spPr>
      </p:pic>
      <p:pic>
        <p:nvPicPr>
          <p:cNvPr id="131" name="Rectangle 102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0047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75000"/>
              </a:lnSpc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41172"/>
              </a:buClr>
              <a:buFont typeface="Arial Narrow"/>
              <a:buChar char="•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Click to edit the outline text format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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Second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2" marL="1143000" indent="-228600">
              <a:spcBef>
                <a:spcPts val="751"/>
              </a:spcBef>
              <a:buClr>
                <a:srgbClr val="241172"/>
              </a:buClr>
              <a:buFont typeface="Wingdings" charset="2"/>
              <a:buChar char="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Third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–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Four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4" marL="2057400" indent="-228600">
              <a:spcBef>
                <a:spcPts val="751"/>
              </a:spcBef>
              <a:buClr>
                <a:srgbClr val="241172"/>
              </a:buClr>
              <a:buFont typeface="Arial Narrow"/>
              <a:buChar char="»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Fif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»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Six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»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Seven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</p:txBody>
      </p:sp>
      <p:pic>
        <p:nvPicPr>
          <p:cNvPr id="134" name="Rectangle 1029" descr=""/>
          <p:cNvPicPr/>
          <p:nvPr/>
        </p:nvPicPr>
        <p:blipFill>
          <a:blip r:embed="rId4"/>
          <a:stretch/>
        </p:blipFill>
        <p:spPr>
          <a:xfrm>
            <a:off x="7772400" y="136440"/>
            <a:ext cx="914400" cy="70164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1032"/>
          <p:cNvSpPr/>
          <p:nvPr/>
        </p:nvSpPr>
        <p:spPr>
          <a:xfrm>
            <a:off x="3276720" y="653724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llanox CONFID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Num" idx="5"/>
          </p:nvPr>
        </p:nvSpPr>
        <p:spPr>
          <a:xfrm>
            <a:off x="228600" y="6629040"/>
            <a:ext cx="83808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99AB1-075C-4558-AEA5-6219B9A44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Rectangle 1025" descr=""/>
          <p:cNvPicPr/>
          <p:nvPr/>
        </p:nvPicPr>
        <p:blipFill>
          <a:blip r:embed="rId2"/>
          <a:stretch/>
        </p:blipFill>
        <p:spPr>
          <a:xfrm>
            <a:off x="0" y="6608880"/>
            <a:ext cx="9144000" cy="245880"/>
          </a:xfrm>
          <a:prstGeom prst="rect">
            <a:avLst/>
          </a:prstGeom>
          <a:ln w="0">
            <a:noFill/>
          </a:ln>
        </p:spPr>
      </p:pic>
      <p:pic>
        <p:nvPicPr>
          <p:cNvPr id="174" name="Rectangle 102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00476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75000"/>
              </a:lnSpc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41172"/>
              </a:buClr>
              <a:buFont typeface="Arial Narrow"/>
              <a:buChar char="•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Click to edit the outline text format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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Second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2" marL="1143000" indent="-228600">
              <a:spcBef>
                <a:spcPts val="751"/>
              </a:spcBef>
              <a:buClr>
                <a:srgbClr val="241172"/>
              </a:buClr>
              <a:buFont typeface="Wingdings" charset="2"/>
              <a:buChar char="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Third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–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Four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4" marL="2057400" indent="-228600">
              <a:spcBef>
                <a:spcPts val="751"/>
              </a:spcBef>
              <a:buClr>
                <a:srgbClr val="241172"/>
              </a:buClr>
              <a:buFont typeface="Arial Narrow"/>
              <a:buChar char="»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Fif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»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Six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»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Seven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</p:txBody>
      </p:sp>
      <p:pic>
        <p:nvPicPr>
          <p:cNvPr id="177" name="Rectangle 1029" descr=""/>
          <p:cNvPicPr/>
          <p:nvPr/>
        </p:nvPicPr>
        <p:blipFill>
          <a:blip r:embed="rId4"/>
          <a:stretch/>
        </p:blipFill>
        <p:spPr>
          <a:xfrm>
            <a:off x="7772400" y="136440"/>
            <a:ext cx="914400" cy="70164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032"/>
          <p:cNvSpPr/>
          <p:nvPr/>
        </p:nvSpPr>
        <p:spPr>
          <a:xfrm>
            <a:off x="3276720" y="653724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llanox CONFID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Num" idx="6"/>
          </p:nvPr>
        </p:nvSpPr>
        <p:spPr>
          <a:xfrm>
            <a:off x="228600" y="6629040"/>
            <a:ext cx="83808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5BEB4-20BE-48FA-ABBD-2F5A58B1CA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Rectangle 1025" descr=""/>
          <p:cNvPicPr/>
          <p:nvPr/>
        </p:nvPicPr>
        <p:blipFill>
          <a:blip r:embed="rId2"/>
          <a:stretch/>
        </p:blipFill>
        <p:spPr>
          <a:xfrm>
            <a:off x="0" y="6608880"/>
            <a:ext cx="9144000" cy="245880"/>
          </a:xfrm>
          <a:prstGeom prst="rect">
            <a:avLst/>
          </a:prstGeom>
          <a:ln w="0">
            <a:noFill/>
          </a:ln>
        </p:spPr>
      </p:pic>
      <p:pic>
        <p:nvPicPr>
          <p:cNvPr id="217" name="Rectangle 102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00476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75000"/>
              </a:lnSpc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41172"/>
              </a:buClr>
              <a:buFont typeface="Arial Narrow"/>
              <a:buChar char="•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Click to edit the outline text format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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Second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2" marL="1143000" indent="-228600">
              <a:spcBef>
                <a:spcPts val="751"/>
              </a:spcBef>
              <a:buClr>
                <a:srgbClr val="241172"/>
              </a:buClr>
              <a:buFont typeface="Wingdings" charset="2"/>
              <a:buChar char="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Third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–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Four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4" marL="2057400" indent="-228600">
              <a:spcBef>
                <a:spcPts val="751"/>
              </a:spcBef>
              <a:buClr>
                <a:srgbClr val="241172"/>
              </a:buClr>
              <a:buFont typeface="Arial Narrow"/>
              <a:buChar char="»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Fif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»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Six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»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Seven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</p:txBody>
      </p:sp>
      <p:pic>
        <p:nvPicPr>
          <p:cNvPr id="220" name="Rectangle 1029" descr=""/>
          <p:cNvPicPr/>
          <p:nvPr/>
        </p:nvPicPr>
        <p:blipFill>
          <a:blip r:embed="rId4"/>
          <a:stretch/>
        </p:blipFill>
        <p:spPr>
          <a:xfrm>
            <a:off x="7772400" y="136440"/>
            <a:ext cx="914400" cy="70164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1032"/>
          <p:cNvSpPr/>
          <p:nvPr/>
        </p:nvSpPr>
        <p:spPr>
          <a:xfrm>
            <a:off x="3276720" y="653724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llanox CONFID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7"/>
          </p:nvPr>
        </p:nvSpPr>
        <p:spPr>
          <a:xfrm>
            <a:off x="228600" y="6629040"/>
            <a:ext cx="83808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F0FE4-0E71-4957-9FB2-9FD4E44DC7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Rectangle 1025" descr=""/>
          <p:cNvPicPr/>
          <p:nvPr/>
        </p:nvPicPr>
        <p:blipFill>
          <a:blip r:embed="rId2"/>
          <a:stretch/>
        </p:blipFill>
        <p:spPr>
          <a:xfrm>
            <a:off x="0" y="6608880"/>
            <a:ext cx="9144000" cy="245880"/>
          </a:xfrm>
          <a:prstGeom prst="rect">
            <a:avLst/>
          </a:prstGeom>
          <a:ln w="0">
            <a:noFill/>
          </a:ln>
        </p:spPr>
      </p:pic>
      <p:pic>
        <p:nvPicPr>
          <p:cNvPr id="260" name="Rectangle 102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0047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75000"/>
              </a:lnSpc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41172"/>
              </a:buClr>
              <a:buFont typeface="Arial Narrow"/>
              <a:buChar char="•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Click to edit the outline text format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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Second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2" marL="1143000" indent="-228600">
              <a:spcBef>
                <a:spcPts val="751"/>
              </a:spcBef>
              <a:buClr>
                <a:srgbClr val="241172"/>
              </a:buClr>
              <a:buFont typeface="Wingdings" charset="2"/>
              <a:buChar char="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Third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–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Four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4" marL="2057400" indent="-228600">
              <a:spcBef>
                <a:spcPts val="751"/>
              </a:spcBef>
              <a:buClr>
                <a:srgbClr val="241172"/>
              </a:buClr>
              <a:buFont typeface="Arial Narrow"/>
              <a:buChar char="»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Fif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»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Six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»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Seven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</p:txBody>
      </p:sp>
      <p:pic>
        <p:nvPicPr>
          <p:cNvPr id="263" name="Rectangle 1029" descr=""/>
          <p:cNvPicPr/>
          <p:nvPr/>
        </p:nvPicPr>
        <p:blipFill>
          <a:blip r:embed="rId4"/>
          <a:stretch/>
        </p:blipFill>
        <p:spPr>
          <a:xfrm>
            <a:off x="7772400" y="136440"/>
            <a:ext cx="914400" cy="70164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1032"/>
          <p:cNvSpPr/>
          <p:nvPr/>
        </p:nvSpPr>
        <p:spPr>
          <a:xfrm>
            <a:off x="3276720" y="653724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llanox CONFID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sldNum" idx="8"/>
          </p:nvPr>
        </p:nvSpPr>
        <p:spPr>
          <a:xfrm>
            <a:off x="228600" y="6629040"/>
            <a:ext cx="83808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4C76A-D61C-4383-8FB7-0406EA0DF7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Rectangle 1025" descr=""/>
          <p:cNvPicPr/>
          <p:nvPr/>
        </p:nvPicPr>
        <p:blipFill>
          <a:blip r:embed="rId2"/>
          <a:stretch/>
        </p:blipFill>
        <p:spPr>
          <a:xfrm>
            <a:off x="0" y="6608880"/>
            <a:ext cx="9144000" cy="245880"/>
          </a:xfrm>
          <a:prstGeom prst="rect">
            <a:avLst/>
          </a:prstGeom>
          <a:ln w="0">
            <a:noFill/>
          </a:ln>
        </p:spPr>
      </p:pic>
      <p:pic>
        <p:nvPicPr>
          <p:cNvPr id="303" name="Rectangle 102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00476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75000"/>
              </a:lnSpc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41172"/>
              </a:buClr>
              <a:buFont typeface="Arial Narrow"/>
              <a:buChar char="•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Click to edit the outline text format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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Second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2" marL="1143000" indent="-228600">
              <a:spcBef>
                <a:spcPts val="751"/>
              </a:spcBef>
              <a:buClr>
                <a:srgbClr val="241172"/>
              </a:buClr>
              <a:buFont typeface="Wingdings" charset="2"/>
              <a:buChar char="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Third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–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Four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4" marL="2057400" indent="-228600">
              <a:spcBef>
                <a:spcPts val="751"/>
              </a:spcBef>
              <a:buClr>
                <a:srgbClr val="241172"/>
              </a:buClr>
              <a:buFont typeface="Arial Narrow"/>
              <a:buChar char="»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Fif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»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Six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»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Seven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</p:txBody>
      </p:sp>
      <p:pic>
        <p:nvPicPr>
          <p:cNvPr id="306" name="Rectangle 1029" descr=""/>
          <p:cNvPicPr/>
          <p:nvPr/>
        </p:nvPicPr>
        <p:blipFill>
          <a:blip r:embed="rId4"/>
          <a:stretch/>
        </p:blipFill>
        <p:spPr>
          <a:xfrm>
            <a:off x="7772400" y="136440"/>
            <a:ext cx="914400" cy="70164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1032"/>
          <p:cNvSpPr/>
          <p:nvPr/>
        </p:nvSpPr>
        <p:spPr>
          <a:xfrm>
            <a:off x="3276720" y="653724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llanox CONFID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sldNum" idx="9"/>
          </p:nvPr>
        </p:nvSpPr>
        <p:spPr>
          <a:xfrm>
            <a:off x="228600" y="6629040"/>
            <a:ext cx="83808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DA275-9F7D-428B-AAB4-8D1C4BBA5E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Rectangle 1025" descr=""/>
          <p:cNvPicPr/>
          <p:nvPr/>
        </p:nvPicPr>
        <p:blipFill>
          <a:blip r:embed="rId2"/>
          <a:stretch/>
        </p:blipFill>
        <p:spPr>
          <a:xfrm>
            <a:off x="0" y="6608880"/>
            <a:ext cx="9144000" cy="245880"/>
          </a:xfrm>
          <a:prstGeom prst="rect">
            <a:avLst/>
          </a:prstGeom>
          <a:ln w="0">
            <a:noFill/>
          </a:ln>
        </p:spPr>
      </p:pic>
      <p:pic>
        <p:nvPicPr>
          <p:cNvPr id="346" name="Rectangle 102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00476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75000"/>
              </a:lnSpc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41172"/>
              </a:buClr>
              <a:buFont typeface="Arial Narrow"/>
              <a:buChar char="•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Click to edit the outline text format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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Second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2" marL="1143000" indent="-228600">
              <a:spcBef>
                <a:spcPts val="751"/>
              </a:spcBef>
              <a:buClr>
                <a:srgbClr val="241172"/>
              </a:buClr>
              <a:buFont typeface="Wingdings" charset="2"/>
              <a:buChar char="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Third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–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Four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4" marL="2057400" indent="-228600">
              <a:spcBef>
                <a:spcPts val="751"/>
              </a:spcBef>
              <a:buClr>
                <a:srgbClr val="241172"/>
              </a:buClr>
              <a:buFont typeface="Arial Narrow"/>
              <a:buChar char="»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Fif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»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Six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»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Seven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</p:txBody>
      </p:sp>
      <p:pic>
        <p:nvPicPr>
          <p:cNvPr id="349" name="Rectangle 1029" descr=""/>
          <p:cNvPicPr/>
          <p:nvPr/>
        </p:nvPicPr>
        <p:blipFill>
          <a:blip r:embed="rId4"/>
          <a:stretch/>
        </p:blipFill>
        <p:spPr>
          <a:xfrm>
            <a:off x="7772400" y="136440"/>
            <a:ext cx="914400" cy="70164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1032"/>
          <p:cNvSpPr/>
          <p:nvPr/>
        </p:nvSpPr>
        <p:spPr>
          <a:xfrm>
            <a:off x="3276720" y="653724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llanox CONFID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sldNum" idx="10"/>
          </p:nvPr>
        </p:nvSpPr>
        <p:spPr>
          <a:xfrm>
            <a:off x="228600" y="6629040"/>
            <a:ext cx="83808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7D1E9-0CDA-463F-A647-2F34B1B59A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41172"/>
                </a:solidFill>
                <a:latin typeface="Arial"/>
              </a:rPr>
              <a:t>IB Cross-Subnet Communication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244080" y="2312640"/>
            <a:ext cx="6505560" cy="10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OpenFabrics Alliance Workshop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May 1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 Narrow"/>
              </a:rPr>
              <a:t>st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, 2007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6781680" y="1768320"/>
            <a:ext cx="21337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Global Name Resolution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244080" y="1142640"/>
            <a:ext cx="85186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oal: Map Service Name to GI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mpac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outer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Non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ndnod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B DNS Quer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nagement Infrastructur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Name Resolution Servic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761" name="" descr=""/>
          <p:cNvPicPr/>
          <p:nvPr/>
        </p:nvPicPr>
        <p:blipFill>
          <a:blip r:embed="rId1"/>
          <a:stretch/>
        </p:blipFill>
        <p:spPr>
          <a:xfrm>
            <a:off x="6945480" y="901800"/>
            <a:ext cx="189360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Global Path Parameters Discovery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244080" y="990360"/>
            <a:ext cx="85186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Goal: Obtain Global Path Parameters for Inter-Subnet Traffic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ath MTU, Static Rate, P_Key, Q_Key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ome Possible Approache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lobal Manager Query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Requires GM Sync with Routing Protocol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robed Discovery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imits Runtime Global Policing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Orthogonal to whether global or distributed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mpact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GMQ: N/A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PD: participates in the protocol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Endnode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GMQ: Query GM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PD: initiates pre-CM probe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Management Infrastructure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GMQ: Responds to Queries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PD: Setup only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4" name=""/>
          <p:cNvSpPr/>
          <p:nvPr/>
        </p:nvSpPr>
        <p:spPr>
          <a:xfrm>
            <a:off x="6781680" y="1905120"/>
            <a:ext cx="21337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" descr=""/>
          <p:cNvPicPr/>
          <p:nvPr/>
        </p:nvPicPr>
        <p:blipFill>
          <a:blip r:embed="rId1"/>
          <a:stretch/>
        </p:blipFill>
        <p:spPr>
          <a:xfrm>
            <a:off x="6945480" y="901800"/>
            <a:ext cx="189360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Routing Decision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244080" y="11430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oal: Given a DGID obtain next hop GI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51240" indent="-217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mazingly similar to IPv6 routing func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512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512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mpac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51240" indent="-217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977400" indent="-217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outing Table Lookup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51240" indent="-217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ndnod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977400" indent="-217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outing Table Lookup or Query External Agen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51240" indent="-217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nagement Infrastructur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977400" indent="-217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Non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8" name=""/>
          <p:cNvSpPr/>
          <p:nvPr/>
        </p:nvSpPr>
        <p:spPr>
          <a:xfrm>
            <a:off x="6781680" y="2462040"/>
            <a:ext cx="21337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9" name="" descr=""/>
          <p:cNvPicPr/>
          <p:nvPr/>
        </p:nvPicPr>
        <p:blipFill>
          <a:blip r:embed="rId1"/>
          <a:stretch/>
        </p:blipFill>
        <p:spPr>
          <a:xfrm>
            <a:off x="6945480" y="901800"/>
            <a:ext cx="189360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L2 Address Resolution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244080" y="106668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oal: Map Subnet  Local GID to IB L2 Addres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mpac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64920" indent="-2214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99792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athQuery to the SA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99792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ach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64920" indent="-2214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ndnod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99792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athQuery to the SA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64920" indent="-2214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nagement Infrastructur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99792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Non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2" name=""/>
          <p:cNvSpPr/>
          <p:nvPr/>
        </p:nvSpPr>
        <p:spPr>
          <a:xfrm>
            <a:off x="6781680" y="2598840"/>
            <a:ext cx="21337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" descr=""/>
          <p:cNvPicPr/>
          <p:nvPr/>
        </p:nvPicPr>
        <p:blipFill>
          <a:blip r:embed="rId1"/>
          <a:stretch/>
        </p:blipFill>
        <p:spPr>
          <a:xfrm>
            <a:off x="6945480" y="901800"/>
            <a:ext cx="189360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Advanced Topic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244080" y="106668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tup and Managem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Group Membership Protoco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instream Oper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acket Replica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lobal Qo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Load Balancing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High Availabilit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ngestion Contro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ault Containmen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all to Action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244080" y="9144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BTA LWG Charter (joint work with MgtWG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la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ep 0: Scop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ep 1: Near Time Solu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ep 2: Full Blown Solu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Join the IBTA to Participate in the Defini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ww.infinibandta.or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Why IB Routing?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44080" y="1066680"/>
            <a:ext cx="47847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calabilit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Local address space reus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ntainment of failures and topology chang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nfinement of fabric management scope to subne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472" name="Group 5"/>
          <p:cNvGrpSpPr/>
          <p:nvPr/>
        </p:nvGrpSpPr>
        <p:grpSpPr>
          <a:xfrm>
            <a:off x="226440" y="4572000"/>
            <a:ext cx="2381400" cy="1742400"/>
            <a:chOff x="226440" y="4572000"/>
            <a:chExt cx="2381400" cy="1742400"/>
          </a:xfrm>
        </p:grpSpPr>
        <p:grpSp>
          <p:nvGrpSpPr>
            <p:cNvPr id="473" name="Group 81"/>
            <p:cNvGrpSpPr/>
            <p:nvPr/>
          </p:nvGrpSpPr>
          <p:grpSpPr>
            <a:xfrm>
              <a:off x="245880" y="4572000"/>
              <a:ext cx="2361960" cy="990360"/>
              <a:chOff x="245880" y="4572000"/>
              <a:chExt cx="2361960" cy="990360"/>
            </a:xfrm>
          </p:grpSpPr>
          <p:sp>
            <p:nvSpPr>
              <p:cNvPr id="474" name="Rectangle 16466"/>
              <p:cNvSpPr/>
              <p:nvPr/>
            </p:nvSpPr>
            <p:spPr>
              <a:xfrm>
                <a:off x="257760" y="4572000"/>
                <a:ext cx="2350080" cy="99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Shape 16467"/>
              <p:cNvSpPr/>
              <p:nvPr/>
            </p:nvSpPr>
            <p:spPr>
              <a:xfrm>
                <a:off x="245880" y="4572000"/>
                <a:ext cx="2331360" cy="97812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Shape 16468"/>
              <p:cNvSpPr/>
              <p:nvPr/>
            </p:nvSpPr>
            <p:spPr>
              <a:xfrm>
                <a:off x="377640" y="5149800"/>
                <a:ext cx="136800" cy="1800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Shape 16469"/>
              <p:cNvSpPr/>
              <p:nvPr/>
            </p:nvSpPr>
            <p:spPr>
              <a:xfrm>
                <a:off x="576000" y="5364360"/>
                <a:ext cx="59760" cy="86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Shape 16470"/>
              <p:cNvSpPr/>
              <p:nvPr/>
            </p:nvSpPr>
            <p:spPr>
              <a:xfrm>
                <a:off x="1114920" y="5420880"/>
                <a:ext cx="35640" cy="3888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Shape 16471"/>
              <p:cNvSpPr/>
              <p:nvPr/>
            </p:nvSpPr>
            <p:spPr>
              <a:xfrm>
                <a:off x="1802880" y="5361120"/>
                <a:ext cx="14040" cy="4320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Shape 16472"/>
              <p:cNvSpPr/>
              <p:nvPr/>
            </p:nvSpPr>
            <p:spPr>
              <a:xfrm>
                <a:off x="2105280" y="5094360"/>
                <a:ext cx="174960" cy="16128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Shape 16473"/>
              <p:cNvSpPr/>
              <p:nvPr/>
            </p:nvSpPr>
            <p:spPr>
              <a:xfrm>
                <a:off x="2439000" y="4921560"/>
                <a:ext cx="77760" cy="6048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Shape 16474"/>
              <p:cNvSpPr/>
              <p:nvPr/>
            </p:nvSpPr>
            <p:spPr>
              <a:xfrm>
                <a:off x="2329560" y="4697640"/>
                <a:ext cx="3600" cy="284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Shape 16475"/>
              <p:cNvSpPr/>
              <p:nvPr/>
            </p:nvSpPr>
            <p:spPr>
              <a:xfrm>
                <a:off x="1831320" y="4627440"/>
                <a:ext cx="39600" cy="3636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Shape 16476"/>
              <p:cNvSpPr/>
              <p:nvPr/>
            </p:nvSpPr>
            <p:spPr>
              <a:xfrm>
                <a:off x="1454760" y="4649040"/>
                <a:ext cx="18720" cy="3096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Shape 16477"/>
              <p:cNvSpPr/>
              <p:nvPr/>
            </p:nvSpPr>
            <p:spPr>
              <a:xfrm>
                <a:off x="1017720" y="4692600"/>
                <a:ext cx="69120" cy="302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Shape 16478"/>
              <p:cNvSpPr/>
              <p:nvPr/>
            </p:nvSpPr>
            <p:spPr>
              <a:xfrm>
                <a:off x="471240" y="4899960"/>
                <a:ext cx="13320" cy="320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7" name="Rectangle 16457"/>
            <p:cNvSpPr/>
            <p:nvPr/>
          </p:nvSpPr>
          <p:spPr>
            <a:xfrm>
              <a:off x="452160" y="5711400"/>
              <a:ext cx="389160" cy="194040"/>
            </a:xfrm>
            <a:prstGeom prst="rect">
              <a:avLst/>
            </a:prstGeom>
            <a:solidFill>
              <a:srgbClr val="ffff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Rectangle 16458"/>
            <p:cNvSpPr/>
            <p:nvPr/>
          </p:nvSpPr>
          <p:spPr>
            <a:xfrm>
              <a:off x="907560" y="5711400"/>
              <a:ext cx="389160" cy="194040"/>
            </a:xfrm>
            <a:prstGeom prst="rect">
              <a:avLst/>
            </a:prstGeom>
            <a:solidFill>
              <a:srgbClr val="ffff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Rectangle 16459"/>
            <p:cNvSpPr/>
            <p:nvPr/>
          </p:nvSpPr>
          <p:spPr>
            <a:xfrm>
              <a:off x="1937880" y="5711400"/>
              <a:ext cx="389160" cy="194040"/>
            </a:xfrm>
            <a:prstGeom prst="rect">
              <a:avLst/>
            </a:prstGeom>
            <a:solidFill>
              <a:srgbClr val="ffff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TextBox 16460"/>
            <p:cNvSpPr/>
            <p:nvPr/>
          </p:nvSpPr>
          <p:spPr>
            <a:xfrm>
              <a:off x="1255680" y="5105520"/>
              <a:ext cx="725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…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Straight Connector 16461"/>
            <p:cNvSpPr/>
            <p:nvPr/>
          </p:nvSpPr>
          <p:spPr>
            <a:xfrm flipV="1">
              <a:off x="605880" y="5447160"/>
              <a:ext cx="69480" cy="2714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Straight Connector 16462"/>
            <p:cNvSpPr/>
            <p:nvPr/>
          </p:nvSpPr>
          <p:spPr>
            <a:xfrm flipH="1">
              <a:off x="1065960" y="5486040"/>
              <a:ext cx="41760" cy="2282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Straight Connector 16463"/>
            <p:cNvSpPr/>
            <p:nvPr/>
          </p:nvSpPr>
          <p:spPr>
            <a:xfrm>
              <a:off x="2068560" y="5410080"/>
              <a:ext cx="45000" cy="2955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TextBox 16464"/>
            <p:cNvSpPr/>
            <p:nvPr/>
          </p:nvSpPr>
          <p:spPr>
            <a:xfrm>
              <a:off x="907560" y="4876560"/>
              <a:ext cx="117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ubnet 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TextBox 16465"/>
            <p:cNvSpPr/>
            <p:nvPr/>
          </p:nvSpPr>
          <p:spPr>
            <a:xfrm>
              <a:off x="226440" y="5943600"/>
              <a:ext cx="912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SM/SA</a:t>
              </a:r>
              <a:r>
                <a:rPr b="1" lang="en-US" sz="1600" spc="-1" strike="noStrike" baseline="-25000">
                  <a:solidFill>
                    <a:srgbClr val="ff0000"/>
                  </a:solidFill>
                  <a:latin typeface="Times New Roman"/>
                  <a:ea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Group 6"/>
          <p:cNvGrpSpPr/>
          <p:nvPr/>
        </p:nvGrpSpPr>
        <p:grpSpPr>
          <a:xfrm>
            <a:off x="3537360" y="4572000"/>
            <a:ext cx="2333160" cy="1742400"/>
            <a:chOff x="3537360" y="4572000"/>
            <a:chExt cx="2333160" cy="1742400"/>
          </a:xfrm>
        </p:grpSpPr>
        <p:grpSp>
          <p:nvGrpSpPr>
            <p:cNvPr id="497" name="Group 58"/>
            <p:cNvGrpSpPr/>
            <p:nvPr/>
          </p:nvGrpSpPr>
          <p:grpSpPr>
            <a:xfrm>
              <a:off x="3580920" y="4572000"/>
              <a:ext cx="2289600" cy="990360"/>
              <a:chOff x="3580920" y="4572000"/>
              <a:chExt cx="2289600" cy="990360"/>
            </a:xfrm>
          </p:grpSpPr>
          <p:sp>
            <p:nvSpPr>
              <p:cNvPr id="498" name="Rectangle 16443"/>
              <p:cNvSpPr/>
              <p:nvPr/>
            </p:nvSpPr>
            <p:spPr>
              <a:xfrm>
                <a:off x="3580920" y="4572000"/>
                <a:ext cx="2289600" cy="99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Shape 16444"/>
              <p:cNvSpPr/>
              <p:nvPr/>
            </p:nvSpPr>
            <p:spPr>
              <a:xfrm>
                <a:off x="3585600" y="4574520"/>
                <a:ext cx="2270880" cy="97812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Shape 16445"/>
              <p:cNvSpPr/>
              <p:nvPr/>
            </p:nvSpPr>
            <p:spPr>
              <a:xfrm>
                <a:off x="3697560" y="5149800"/>
                <a:ext cx="133200" cy="1800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Shape 16446"/>
              <p:cNvSpPr/>
              <p:nvPr/>
            </p:nvSpPr>
            <p:spPr>
              <a:xfrm>
                <a:off x="3890880" y="5364360"/>
                <a:ext cx="58320" cy="86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Shape 16447"/>
              <p:cNvSpPr/>
              <p:nvPr/>
            </p:nvSpPr>
            <p:spPr>
              <a:xfrm>
                <a:off x="4415760" y="5420880"/>
                <a:ext cx="34920" cy="3888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Shape 16448"/>
              <p:cNvSpPr/>
              <p:nvPr/>
            </p:nvSpPr>
            <p:spPr>
              <a:xfrm>
                <a:off x="5086080" y="5361120"/>
                <a:ext cx="13680" cy="4320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Shape 16449"/>
              <p:cNvSpPr/>
              <p:nvPr/>
            </p:nvSpPr>
            <p:spPr>
              <a:xfrm>
                <a:off x="5380560" y="5094360"/>
                <a:ext cx="170640" cy="16128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Shape 16450"/>
              <p:cNvSpPr/>
              <p:nvPr/>
            </p:nvSpPr>
            <p:spPr>
              <a:xfrm>
                <a:off x="5705640" y="4921560"/>
                <a:ext cx="75600" cy="6048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Shape 16451"/>
              <p:cNvSpPr/>
              <p:nvPr/>
            </p:nvSpPr>
            <p:spPr>
              <a:xfrm>
                <a:off x="5599080" y="4697640"/>
                <a:ext cx="3600" cy="284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Shape 16452"/>
              <p:cNvSpPr/>
              <p:nvPr/>
            </p:nvSpPr>
            <p:spPr>
              <a:xfrm>
                <a:off x="5113800" y="4627440"/>
                <a:ext cx="38520" cy="3636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Shape 16453"/>
              <p:cNvSpPr/>
              <p:nvPr/>
            </p:nvSpPr>
            <p:spPr>
              <a:xfrm>
                <a:off x="4746960" y="4649040"/>
                <a:ext cx="18360" cy="3096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Shape 16454"/>
              <p:cNvSpPr/>
              <p:nvPr/>
            </p:nvSpPr>
            <p:spPr>
              <a:xfrm>
                <a:off x="4321080" y="4692600"/>
                <a:ext cx="67320" cy="302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Shape 16455"/>
              <p:cNvSpPr/>
              <p:nvPr/>
            </p:nvSpPr>
            <p:spPr>
              <a:xfrm>
                <a:off x="3789000" y="4899960"/>
                <a:ext cx="12960" cy="320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1" name="Rectangle 16434"/>
            <p:cNvSpPr/>
            <p:nvPr/>
          </p:nvSpPr>
          <p:spPr>
            <a:xfrm>
              <a:off x="3770280" y="5711400"/>
              <a:ext cx="379080" cy="194040"/>
            </a:xfrm>
            <a:prstGeom prst="rect">
              <a:avLst/>
            </a:prstGeom>
            <a:solidFill>
              <a:srgbClr val="ffff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16435"/>
            <p:cNvSpPr/>
            <p:nvPr/>
          </p:nvSpPr>
          <p:spPr>
            <a:xfrm>
              <a:off x="4214160" y="5711400"/>
              <a:ext cx="379080" cy="194040"/>
            </a:xfrm>
            <a:prstGeom prst="rect">
              <a:avLst/>
            </a:prstGeom>
            <a:solidFill>
              <a:srgbClr val="ffff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16436"/>
            <p:cNvSpPr/>
            <p:nvPr/>
          </p:nvSpPr>
          <p:spPr>
            <a:xfrm>
              <a:off x="5237280" y="5711400"/>
              <a:ext cx="379080" cy="194040"/>
            </a:xfrm>
            <a:prstGeom prst="rect">
              <a:avLst/>
            </a:prstGeom>
            <a:solidFill>
              <a:srgbClr val="ffff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Box 16437"/>
            <p:cNvSpPr/>
            <p:nvPr/>
          </p:nvSpPr>
          <p:spPr>
            <a:xfrm>
              <a:off x="4549680" y="5105520"/>
              <a:ext cx="70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…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Straight Connector 16438"/>
            <p:cNvSpPr/>
            <p:nvPr/>
          </p:nvSpPr>
          <p:spPr>
            <a:xfrm flipV="1">
              <a:off x="3920400" y="5447160"/>
              <a:ext cx="67680" cy="2714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Straight Connector 16439"/>
            <p:cNvSpPr/>
            <p:nvPr/>
          </p:nvSpPr>
          <p:spPr>
            <a:xfrm flipH="1">
              <a:off x="4367880" y="5486040"/>
              <a:ext cx="40680" cy="2282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Straight Connector 16440"/>
            <p:cNvSpPr/>
            <p:nvPr/>
          </p:nvSpPr>
          <p:spPr>
            <a:xfrm>
              <a:off x="5344920" y="5410080"/>
              <a:ext cx="43920" cy="2955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Box 16441"/>
            <p:cNvSpPr/>
            <p:nvPr/>
          </p:nvSpPr>
          <p:spPr>
            <a:xfrm>
              <a:off x="4201200" y="4876560"/>
              <a:ext cx="113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ubnet 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TextBox 16442"/>
            <p:cNvSpPr/>
            <p:nvPr/>
          </p:nvSpPr>
          <p:spPr>
            <a:xfrm>
              <a:off x="3537360" y="5943600"/>
              <a:ext cx="886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SM/SA</a:t>
              </a:r>
              <a:r>
                <a:rPr b="1" lang="en-US" sz="1600" spc="-1" strike="noStrike" baseline="-25000">
                  <a:solidFill>
                    <a:srgbClr val="ff0000"/>
                  </a:solidFill>
                  <a:latin typeface="Times New Roman"/>
                  <a:ea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Group 7"/>
          <p:cNvGrpSpPr/>
          <p:nvPr/>
        </p:nvGrpSpPr>
        <p:grpSpPr>
          <a:xfrm>
            <a:off x="6755400" y="4572000"/>
            <a:ext cx="2329920" cy="1742400"/>
            <a:chOff x="6755400" y="4572000"/>
            <a:chExt cx="2329920" cy="1742400"/>
          </a:xfrm>
        </p:grpSpPr>
        <p:grpSp>
          <p:nvGrpSpPr>
            <p:cNvPr id="521" name="Group 35"/>
            <p:cNvGrpSpPr/>
            <p:nvPr/>
          </p:nvGrpSpPr>
          <p:grpSpPr>
            <a:xfrm>
              <a:off x="6798960" y="4572000"/>
              <a:ext cx="2286360" cy="990360"/>
              <a:chOff x="6798960" y="4572000"/>
              <a:chExt cx="2286360" cy="990360"/>
            </a:xfrm>
          </p:grpSpPr>
          <p:sp>
            <p:nvSpPr>
              <p:cNvPr id="522" name="Rectangle 16420"/>
              <p:cNvSpPr/>
              <p:nvPr/>
            </p:nvSpPr>
            <p:spPr>
              <a:xfrm>
                <a:off x="6798960" y="4572000"/>
                <a:ext cx="2286360" cy="99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Shape 16421"/>
              <p:cNvSpPr/>
              <p:nvPr/>
            </p:nvSpPr>
            <p:spPr>
              <a:xfrm>
                <a:off x="6803640" y="4574520"/>
                <a:ext cx="2267640" cy="97812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Shape 16422"/>
              <p:cNvSpPr/>
              <p:nvPr/>
            </p:nvSpPr>
            <p:spPr>
              <a:xfrm>
                <a:off x="6915600" y="5149800"/>
                <a:ext cx="133200" cy="1800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Shape 16423"/>
              <p:cNvSpPr/>
              <p:nvPr/>
            </p:nvSpPr>
            <p:spPr>
              <a:xfrm>
                <a:off x="7108200" y="5364360"/>
                <a:ext cx="57960" cy="86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Shape 16424"/>
              <p:cNvSpPr/>
              <p:nvPr/>
            </p:nvSpPr>
            <p:spPr>
              <a:xfrm>
                <a:off x="7632720" y="5420880"/>
                <a:ext cx="34920" cy="3888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Shape 16425"/>
              <p:cNvSpPr/>
              <p:nvPr/>
            </p:nvSpPr>
            <p:spPr>
              <a:xfrm>
                <a:off x="8301960" y="5361120"/>
                <a:ext cx="13680" cy="4320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Shape 16426"/>
              <p:cNvSpPr/>
              <p:nvPr/>
            </p:nvSpPr>
            <p:spPr>
              <a:xfrm>
                <a:off x="8596080" y="5094360"/>
                <a:ext cx="170280" cy="16128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Shape 16427"/>
              <p:cNvSpPr/>
              <p:nvPr/>
            </p:nvSpPr>
            <p:spPr>
              <a:xfrm>
                <a:off x="8920800" y="4921560"/>
                <a:ext cx="75600" cy="6048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Shape 16428"/>
              <p:cNvSpPr/>
              <p:nvPr/>
            </p:nvSpPr>
            <p:spPr>
              <a:xfrm>
                <a:off x="8814240" y="4697640"/>
                <a:ext cx="3600" cy="284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Shape 16429"/>
              <p:cNvSpPr/>
              <p:nvPr/>
            </p:nvSpPr>
            <p:spPr>
              <a:xfrm>
                <a:off x="8329680" y="4627440"/>
                <a:ext cx="38520" cy="3636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Shape 16430"/>
              <p:cNvSpPr/>
              <p:nvPr/>
            </p:nvSpPr>
            <p:spPr>
              <a:xfrm>
                <a:off x="7963200" y="4649040"/>
                <a:ext cx="18360" cy="3096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Shape 16431"/>
              <p:cNvSpPr/>
              <p:nvPr/>
            </p:nvSpPr>
            <p:spPr>
              <a:xfrm>
                <a:off x="7538040" y="4692600"/>
                <a:ext cx="67320" cy="302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Shape 16432"/>
              <p:cNvSpPr/>
              <p:nvPr/>
            </p:nvSpPr>
            <p:spPr>
              <a:xfrm>
                <a:off x="7006680" y="4899960"/>
                <a:ext cx="12960" cy="320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5" name="Rectangle 16411"/>
            <p:cNvSpPr/>
            <p:nvPr/>
          </p:nvSpPr>
          <p:spPr>
            <a:xfrm>
              <a:off x="6987960" y="5711400"/>
              <a:ext cx="378360" cy="194040"/>
            </a:xfrm>
            <a:prstGeom prst="rect">
              <a:avLst/>
            </a:prstGeom>
            <a:solidFill>
              <a:srgbClr val="ffff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ectangle 16412"/>
            <p:cNvSpPr/>
            <p:nvPr/>
          </p:nvSpPr>
          <p:spPr>
            <a:xfrm>
              <a:off x="7431120" y="5711400"/>
              <a:ext cx="378360" cy="194040"/>
            </a:xfrm>
            <a:prstGeom prst="rect">
              <a:avLst/>
            </a:prstGeom>
            <a:solidFill>
              <a:srgbClr val="ffff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16413"/>
            <p:cNvSpPr/>
            <p:nvPr/>
          </p:nvSpPr>
          <p:spPr>
            <a:xfrm>
              <a:off x="8433360" y="5711400"/>
              <a:ext cx="378360" cy="194040"/>
            </a:xfrm>
            <a:prstGeom prst="rect">
              <a:avLst/>
            </a:prstGeom>
            <a:solidFill>
              <a:srgbClr val="ffff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Box 16414"/>
            <p:cNvSpPr/>
            <p:nvPr/>
          </p:nvSpPr>
          <p:spPr>
            <a:xfrm>
              <a:off x="7720200" y="5105520"/>
              <a:ext cx="704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…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Straight Connector 16415"/>
            <p:cNvSpPr/>
            <p:nvPr/>
          </p:nvSpPr>
          <p:spPr>
            <a:xfrm flipV="1">
              <a:off x="7137720" y="5447160"/>
              <a:ext cx="67680" cy="2714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Straight Connector 16416"/>
            <p:cNvSpPr/>
            <p:nvPr/>
          </p:nvSpPr>
          <p:spPr>
            <a:xfrm flipH="1">
              <a:off x="7585200" y="5486040"/>
              <a:ext cx="40320" cy="2282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Straight Connector 16417"/>
            <p:cNvSpPr/>
            <p:nvPr/>
          </p:nvSpPr>
          <p:spPr>
            <a:xfrm>
              <a:off x="8560440" y="5410080"/>
              <a:ext cx="43920" cy="2955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TextBox 16418"/>
            <p:cNvSpPr/>
            <p:nvPr/>
          </p:nvSpPr>
          <p:spPr>
            <a:xfrm>
              <a:off x="7436520" y="4876560"/>
              <a:ext cx="113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ubnet 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Box 16419"/>
            <p:cNvSpPr/>
            <p:nvPr/>
          </p:nvSpPr>
          <p:spPr>
            <a:xfrm>
              <a:off x="6755400" y="5943600"/>
              <a:ext cx="892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SM/SA</a:t>
              </a:r>
              <a:r>
                <a:rPr b="1" lang="en-US" sz="1600" spc="-1" strike="noStrike" baseline="-25000">
                  <a:solidFill>
                    <a:srgbClr val="ff0000"/>
                  </a:solidFill>
                  <a:latin typeface="Times New Roman"/>
                  <a:ea typeface="Arial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Rounded Rectangle 16400"/>
          <p:cNvSpPr/>
          <p:nvPr/>
        </p:nvSpPr>
        <p:spPr>
          <a:xfrm>
            <a:off x="2684520" y="4876920"/>
            <a:ext cx="838080" cy="38088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Router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ounded Rectangle 16401"/>
          <p:cNvSpPr/>
          <p:nvPr/>
        </p:nvSpPr>
        <p:spPr>
          <a:xfrm>
            <a:off x="5884920" y="4267080"/>
            <a:ext cx="838080" cy="38124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Router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Straight Connector 10"/>
          <p:cNvSpPr/>
          <p:nvPr/>
        </p:nvSpPr>
        <p:spPr>
          <a:xfrm flipH="1" flipV="1">
            <a:off x="2379240" y="5105520"/>
            <a:ext cx="304920" cy="1440"/>
          </a:xfrm>
          <a:prstGeom prst="line">
            <a:avLst/>
          </a:prstGeom>
          <a:ln cap="rnd" w="3492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traight Connector 11"/>
          <p:cNvSpPr/>
          <p:nvPr/>
        </p:nvSpPr>
        <p:spPr>
          <a:xfrm flipH="1" flipV="1">
            <a:off x="3522240" y="5103360"/>
            <a:ext cx="304920" cy="1800"/>
          </a:xfrm>
          <a:prstGeom prst="line">
            <a:avLst/>
          </a:prstGeom>
          <a:ln cap="rnd" w="3492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traight Connector 12"/>
          <p:cNvSpPr/>
          <p:nvPr/>
        </p:nvSpPr>
        <p:spPr>
          <a:xfrm flipH="1">
            <a:off x="5427720" y="4497480"/>
            <a:ext cx="457200" cy="304560"/>
          </a:xfrm>
          <a:prstGeom prst="line">
            <a:avLst/>
          </a:prstGeom>
          <a:ln cap="rnd" w="34920">
            <a:solidFill>
              <a:srgbClr val="6f75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Straight Connector 13"/>
          <p:cNvSpPr/>
          <p:nvPr/>
        </p:nvSpPr>
        <p:spPr>
          <a:xfrm flipH="1" flipV="1">
            <a:off x="6722640" y="4573080"/>
            <a:ext cx="381240" cy="304920"/>
          </a:xfrm>
          <a:prstGeom prst="line">
            <a:avLst/>
          </a:prstGeom>
          <a:ln cap="rnd" w="34920">
            <a:solidFill>
              <a:srgbClr val="6f75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ounded Rectangle 16406"/>
          <p:cNvSpPr/>
          <p:nvPr/>
        </p:nvSpPr>
        <p:spPr>
          <a:xfrm>
            <a:off x="5884920" y="5486400"/>
            <a:ext cx="838080" cy="38088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Router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traight Connector 15"/>
          <p:cNvSpPr/>
          <p:nvPr/>
        </p:nvSpPr>
        <p:spPr>
          <a:xfrm flipH="1">
            <a:off x="6722640" y="5335560"/>
            <a:ext cx="381240" cy="379440"/>
          </a:xfrm>
          <a:prstGeom prst="line">
            <a:avLst/>
          </a:prstGeom>
          <a:ln cap="rnd" w="34920">
            <a:solidFill>
              <a:srgbClr val="6f75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Straight Connector 19"/>
          <p:cNvSpPr/>
          <p:nvPr/>
        </p:nvSpPr>
        <p:spPr>
          <a:xfrm flipH="1" flipV="1">
            <a:off x="5460840" y="5293800"/>
            <a:ext cx="424080" cy="382680"/>
          </a:xfrm>
          <a:prstGeom prst="line">
            <a:avLst/>
          </a:prstGeom>
          <a:ln cap="rnd" w="34920">
            <a:solidFill>
              <a:srgbClr val="6f75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Group 6"/>
          <p:cNvGrpSpPr/>
          <p:nvPr/>
        </p:nvGrpSpPr>
        <p:grpSpPr>
          <a:xfrm>
            <a:off x="5122080" y="2286000"/>
            <a:ext cx="2326320" cy="1742400"/>
            <a:chOff x="5122080" y="2286000"/>
            <a:chExt cx="2326320" cy="1742400"/>
          </a:xfrm>
        </p:grpSpPr>
        <p:grpSp>
          <p:nvGrpSpPr>
            <p:cNvPr id="554" name="Group 58"/>
            <p:cNvGrpSpPr/>
            <p:nvPr/>
          </p:nvGrpSpPr>
          <p:grpSpPr>
            <a:xfrm>
              <a:off x="5159160" y="2286000"/>
              <a:ext cx="2289240" cy="990360"/>
              <a:chOff x="5159160" y="2286000"/>
              <a:chExt cx="2289240" cy="990360"/>
            </a:xfrm>
          </p:grpSpPr>
          <p:sp>
            <p:nvSpPr>
              <p:cNvPr id="555" name="Rectangle 16443"/>
              <p:cNvSpPr/>
              <p:nvPr/>
            </p:nvSpPr>
            <p:spPr>
              <a:xfrm>
                <a:off x="5159160" y="2286000"/>
                <a:ext cx="2289240" cy="99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Shape 16444"/>
              <p:cNvSpPr/>
              <p:nvPr/>
            </p:nvSpPr>
            <p:spPr>
              <a:xfrm>
                <a:off x="5163840" y="2288520"/>
                <a:ext cx="2270520" cy="97812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Shape 16445"/>
              <p:cNvSpPr/>
              <p:nvPr/>
            </p:nvSpPr>
            <p:spPr>
              <a:xfrm>
                <a:off x="5275800" y="2863800"/>
                <a:ext cx="133200" cy="1800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Shape 16446"/>
              <p:cNvSpPr/>
              <p:nvPr/>
            </p:nvSpPr>
            <p:spPr>
              <a:xfrm>
                <a:off x="5469120" y="3078360"/>
                <a:ext cx="58320" cy="86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Shape 16447"/>
              <p:cNvSpPr/>
              <p:nvPr/>
            </p:nvSpPr>
            <p:spPr>
              <a:xfrm>
                <a:off x="5994000" y="3134880"/>
                <a:ext cx="34920" cy="3888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Shape 16448"/>
              <p:cNvSpPr/>
              <p:nvPr/>
            </p:nvSpPr>
            <p:spPr>
              <a:xfrm>
                <a:off x="6663960" y="3075120"/>
                <a:ext cx="13680" cy="4320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Shape 16449"/>
              <p:cNvSpPr/>
              <p:nvPr/>
            </p:nvSpPr>
            <p:spPr>
              <a:xfrm>
                <a:off x="6958440" y="2808360"/>
                <a:ext cx="170640" cy="16128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Shape 16450"/>
              <p:cNvSpPr/>
              <p:nvPr/>
            </p:nvSpPr>
            <p:spPr>
              <a:xfrm>
                <a:off x="7283520" y="2635560"/>
                <a:ext cx="75600" cy="6048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Shape 16451"/>
              <p:cNvSpPr/>
              <p:nvPr/>
            </p:nvSpPr>
            <p:spPr>
              <a:xfrm>
                <a:off x="7176960" y="2411640"/>
                <a:ext cx="3600" cy="284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Shape 16452"/>
              <p:cNvSpPr/>
              <p:nvPr/>
            </p:nvSpPr>
            <p:spPr>
              <a:xfrm>
                <a:off x="6691680" y="2341440"/>
                <a:ext cx="38520" cy="3636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Shape 16453"/>
              <p:cNvSpPr/>
              <p:nvPr/>
            </p:nvSpPr>
            <p:spPr>
              <a:xfrm>
                <a:off x="6324840" y="2363040"/>
                <a:ext cx="18360" cy="3096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Shape 16454"/>
              <p:cNvSpPr/>
              <p:nvPr/>
            </p:nvSpPr>
            <p:spPr>
              <a:xfrm>
                <a:off x="5899320" y="2406600"/>
                <a:ext cx="67320" cy="302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Shape 16455"/>
              <p:cNvSpPr/>
              <p:nvPr/>
            </p:nvSpPr>
            <p:spPr>
              <a:xfrm>
                <a:off x="5367240" y="2613960"/>
                <a:ext cx="12960" cy="320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8" name="Rectangle 16434"/>
            <p:cNvSpPr/>
            <p:nvPr/>
          </p:nvSpPr>
          <p:spPr>
            <a:xfrm>
              <a:off x="5348520" y="3425400"/>
              <a:ext cx="379080" cy="194040"/>
            </a:xfrm>
            <a:prstGeom prst="rect">
              <a:avLst/>
            </a:prstGeom>
            <a:solidFill>
              <a:srgbClr val="ffff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16435"/>
            <p:cNvSpPr/>
            <p:nvPr/>
          </p:nvSpPr>
          <p:spPr>
            <a:xfrm>
              <a:off x="5792400" y="3425400"/>
              <a:ext cx="379080" cy="194040"/>
            </a:xfrm>
            <a:prstGeom prst="rect">
              <a:avLst/>
            </a:prstGeom>
            <a:solidFill>
              <a:srgbClr val="ffff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16436"/>
            <p:cNvSpPr/>
            <p:nvPr/>
          </p:nvSpPr>
          <p:spPr>
            <a:xfrm>
              <a:off x="6815160" y="3425400"/>
              <a:ext cx="379080" cy="194040"/>
            </a:xfrm>
            <a:prstGeom prst="rect">
              <a:avLst/>
            </a:prstGeom>
            <a:solidFill>
              <a:srgbClr val="ffff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TextBox 16437"/>
            <p:cNvSpPr/>
            <p:nvPr/>
          </p:nvSpPr>
          <p:spPr>
            <a:xfrm>
              <a:off x="6127560" y="2819520"/>
              <a:ext cx="707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…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Straight Connector 16438"/>
            <p:cNvSpPr/>
            <p:nvPr/>
          </p:nvSpPr>
          <p:spPr>
            <a:xfrm flipV="1">
              <a:off x="5498280" y="3161160"/>
              <a:ext cx="67680" cy="2714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Straight Connector 16439"/>
            <p:cNvSpPr/>
            <p:nvPr/>
          </p:nvSpPr>
          <p:spPr>
            <a:xfrm flipH="1">
              <a:off x="5946120" y="3200040"/>
              <a:ext cx="40680" cy="2282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Straight Connector 16440"/>
            <p:cNvSpPr/>
            <p:nvPr/>
          </p:nvSpPr>
          <p:spPr>
            <a:xfrm>
              <a:off x="6922800" y="3124080"/>
              <a:ext cx="43920" cy="2955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TextBox 16441"/>
            <p:cNvSpPr/>
            <p:nvPr/>
          </p:nvSpPr>
          <p:spPr>
            <a:xfrm>
              <a:off x="5799960" y="259056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ubnet 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TextBox 16442"/>
            <p:cNvSpPr/>
            <p:nvPr/>
          </p:nvSpPr>
          <p:spPr>
            <a:xfrm>
              <a:off x="5122080" y="3657600"/>
              <a:ext cx="872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SM/SA</a:t>
              </a:r>
              <a:r>
                <a:rPr b="1" lang="en-US" sz="1600" spc="-1" strike="noStrike" baseline="-25000">
                  <a:solidFill>
                    <a:srgbClr val="ff0000"/>
                  </a:solidFill>
                  <a:latin typeface="Times New Roman"/>
                  <a:ea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Straight Connector 12"/>
          <p:cNvSpPr/>
          <p:nvPr/>
        </p:nvSpPr>
        <p:spPr>
          <a:xfrm flipH="1">
            <a:off x="6324480" y="3199680"/>
            <a:ext cx="76320" cy="1066680"/>
          </a:xfrm>
          <a:prstGeom prst="line">
            <a:avLst/>
          </a:prstGeom>
          <a:ln cap="rnd" w="34920">
            <a:solidFill>
              <a:srgbClr val="6f75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Introduction and Agenda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4080" y="1218960"/>
            <a:ext cx="85186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BTA Working on IB Cross-Subnet Communication Spec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ast Work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cop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uidelin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blem Partition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dvanced Topic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Scope and Phased Approach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30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Limiting Scope via.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opology Restriction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termediate Solution Simplification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.g. Static Routing Tabl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arket Guidanc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FA Feedback Request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582" name="Group 5"/>
          <p:cNvGrpSpPr/>
          <p:nvPr/>
        </p:nvGrpSpPr>
        <p:grpSpPr>
          <a:xfrm>
            <a:off x="226440" y="4724280"/>
            <a:ext cx="2381400" cy="1742400"/>
            <a:chOff x="226440" y="4724280"/>
            <a:chExt cx="2381400" cy="1742400"/>
          </a:xfrm>
        </p:grpSpPr>
        <p:grpSp>
          <p:nvGrpSpPr>
            <p:cNvPr id="583" name="Group 81"/>
            <p:cNvGrpSpPr/>
            <p:nvPr/>
          </p:nvGrpSpPr>
          <p:grpSpPr>
            <a:xfrm>
              <a:off x="245880" y="4724280"/>
              <a:ext cx="2361960" cy="990360"/>
              <a:chOff x="245880" y="4724280"/>
              <a:chExt cx="2361960" cy="990360"/>
            </a:xfrm>
          </p:grpSpPr>
          <p:sp>
            <p:nvSpPr>
              <p:cNvPr id="584" name="Rectangle 16466"/>
              <p:cNvSpPr/>
              <p:nvPr/>
            </p:nvSpPr>
            <p:spPr>
              <a:xfrm>
                <a:off x="257760" y="4724280"/>
                <a:ext cx="2350080" cy="99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Shape 16467"/>
              <p:cNvSpPr/>
              <p:nvPr/>
            </p:nvSpPr>
            <p:spPr>
              <a:xfrm>
                <a:off x="245880" y="4724280"/>
                <a:ext cx="2331360" cy="97812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Shape 16468"/>
              <p:cNvSpPr/>
              <p:nvPr/>
            </p:nvSpPr>
            <p:spPr>
              <a:xfrm>
                <a:off x="377640" y="5302080"/>
                <a:ext cx="136800" cy="1800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Shape 16469"/>
              <p:cNvSpPr/>
              <p:nvPr/>
            </p:nvSpPr>
            <p:spPr>
              <a:xfrm>
                <a:off x="576000" y="5516640"/>
                <a:ext cx="59760" cy="86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Shape 16470"/>
              <p:cNvSpPr/>
              <p:nvPr/>
            </p:nvSpPr>
            <p:spPr>
              <a:xfrm>
                <a:off x="1114920" y="5573160"/>
                <a:ext cx="35640" cy="3888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Shape 16471"/>
              <p:cNvSpPr/>
              <p:nvPr/>
            </p:nvSpPr>
            <p:spPr>
              <a:xfrm>
                <a:off x="1802880" y="5513400"/>
                <a:ext cx="14040" cy="4320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Shape 16472"/>
              <p:cNvSpPr/>
              <p:nvPr/>
            </p:nvSpPr>
            <p:spPr>
              <a:xfrm>
                <a:off x="2105280" y="5246640"/>
                <a:ext cx="174960" cy="16128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Shape 16473"/>
              <p:cNvSpPr/>
              <p:nvPr/>
            </p:nvSpPr>
            <p:spPr>
              <a:xfrm>
                <a:off x="2439000" y="5073840"/>
                <a:ext cx="77760" cy="6048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Shape 16474"/>
              <p:cNvSpPr/>
              <p:nvPr/>
            </p:nvSpPr>
            <p:spPr>
              <a:xfrm>
                <a:off x="2329560" y="4849920"/>
                <a:ext cx="3600" cy="284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Shape 16475"/>
              <p:cNvSpPr/>
              <p:nvPr/>
            </p:nvSpPr>
            <p:spPr>
              <a:xfrm>
                <a:off x="1831320" y="4779720"/>
                <a:ext cx="39600" cy="3636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Shape 16476"/>
              <p:cNvSpPr/>
              <p:nvPr/>
            </p:nvSpPr>
            <p:spPr>
              <a:xfrm>
                <a:off x="1454760" y="4801320"/>
                <a:ext cx="18720" cy="3096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Shape 16477"/>
              <p:cNvSpPr/>
              <p:nvPr/>
            </p:nvSpPr>
            <p:spPr>
              <a:xfrm>
                <a:off x="1017720" y="4844880"/>
                <a:ext cx="69120" cy="302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Shape 16478"/>
              <p:cNvSpPr/>
              <p:nvPr/>
            </p:nvSpPr>
            <p:spPr>
              <a:xfrm>
                <a:off x="471240" y="5052240"/>
                <a:ext cx="13320" cy="320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7" name="Rectangle 16457"/>
            <p:cNvSpPr/>
            <p:nvPr/>
          </p:nvSpPr>
          <p:spPr>
            <a:xfrm>
              <a:off x="452160" y="5863680"/>
              <a:ext cx="389160" cy="194040"/>
            </a:xfrm>
            <a:prstGeom prst="rect">
              <a:avLst/>
            </a:prstGeom>
            <a:solidFill>
              <a:srgbClr val="ffff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ectangle 16458"/>
            <p:cNvSpPr/>
            <p:nvPr/>
          </p:nvSpPr>
          <p:spPr>
            <a:xfrm>
              <a:off x="907560" y="5863680"/>
              <a:ext cx="389160" cy="194040"/>
            </a:xfrm>
            <a:prstGeom prst="rect">
              <a:avLst/>
            </a:prstGeom>
            <a:solidFill>
              <a:srgbClr val="ffff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ectangle 16459"/>
            <p:cNvSpPr/>
            <p:nvPr/>
          </p:nvSpPr>
          <p:spPr>
            <a:xfrm>
              <a:off x="1937880" y="5863680"/>
              <a:ext cx="389160" cy="194040"/>
            </a:xfrm>
            <a:prstGeom prst="rect">
              <a:avLst/>
            </a:prstGeom>
            <a:solidFill>
              <a:srgbClr val="ffff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TextBox 16460"/>
            <p:cNvSpPr/>
            <p:nvPr/>
          </p:nvSpPr>
          <p:spPr>
            <a:xfrm>
              <a:off x="1255680" y="5257800"/>
              <a:ext cx="725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…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Straight Connector 16461"/>
            <p:cNvSpPr/>
            <p:nvPr/>
          </p:nvSpPr>
          <p:spPr>
            <a:xfrm flipV="1">
              <a:off x="605880" y="5599440"/>
              <a:ext cx="69480" cy="2714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Straight Connector 16462"/>
            <p:cNvSpPr/>
            <p:nvPr/>
          </p:nvSpPr>
          <p:spPr>
            <a:xfrm flipH="1">
              <a:off x="1065960" y="5638320"/>
              <a:ext cx="41760" cy="2282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Straight Connector 16463"/>
            <p:cNvSpPr/>
            <p:nvPr/>
          </p:nvSpPr>
          <p:spPr>
            <a:xfrm>
              <a:off x="2068560" y="5562360"/>
              <a:ext cx="45000" cy="2955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TextBox 16464"/>
            <p:cNvSpPr/>
            <p:nvPr/>
          </p:nvSpPr>
          <p:spPr>
            <a:xfrm>
              <a:off x="907560" y="5028840"/>
              <a:ext cx="117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ubnet 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TextBox 16465"/>
            <p:cNvSpPr/>
            <p:nvPr/>
          </p:nvSpPr>
          <p:spPr>
            <a:xfrm>
              <a:off x="226440" y="6095880"/>
              <a:ext cx="912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SM/SA</a:t>
              </a:r>
              <a:r>
                <a:rPr b="1" lang="en-US" sz="1600" spc="-1" strike="noStrike" baseline="-25000">
                  <a:solidFill>
                    <a:srgbClr val="ff0000"/>
                  </a:solidFill>
                  <a:latin typeface="Times New Roman"/>
                  <a:ea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Group 58"/>
          <p:cNvGrpSpPr/>
          <p:nvPr/>
        </p:nvGrpSpPr>
        <p:grpSpPr>
          <a:xfrm>
            <a:off x="3581280" y="4724280"/>
            <a:ext cx="2289240" cy="990720"/>
            <a:chOff x="3581280" y="4724280"/>
            <a:chExt cx="2289240" cy="990720"/>
          </a:xfrm>
        </p:grpSpPr>
        <p:sp>
          <p:nvSpPr>
            <p:cNvPr id="607" name="Rectangle 16443"/>
            <p:cNvSpPr/>
            <p:nvPr/>
          </p:nvSpPr>
          <p:spPr>
            <a:xfrm>
              <a:off x="3581280" y="4724280"/>
              <a:ext cx="22892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Shape 16444"/>
            <p:cNvSpPr/>
            <p:nvPr/>
          </p:nvSpPr>
          <p:spPr>
            <a:xfrm>
              <a:off x="3585960" y="4726800"/>
              <a:ext cx="2270520" cy="978480"/>
            </a:xfrm>
            <a:prstGeom prst="pie">
              <a:avLst/>
            </a:pr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Shape 16445"/>
            <p:cNvSpPr/>
            <p:nvPr/>
          </p:nvSpPr>
          <p:spPr>
            <a:xfrm>
              <a:off x="3697920" y="5302440"/>
              <a:ext cx="133200" cy="18000"/>
            </a:xfrm>
            <a:prstGeom prst="pie">
              <a:avLst/>
            </a:pr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Shape 16446"/>
            <p:cNvSpPr/>
            <p:nvPr/>
          </p:nvSpPr>
          <p:spPr>
            <a:xfrm>
              <a:off x="3891240" y="5517000"/>
              <a:ext cx="58320" cy="8640"/>
            </a:xfrm>
            <a:prstGeom prst="pie">
              <a:avLst/>
            </a:pr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Shape 16447"/>
            <p:cNvSpPr/>
            <p:nvPr/>
          </p:nvSpPr>
          <p:spPr>
            <a:xfrm>
              <a:off x="4416120" y="5573520"/>
              <a:ext cx="34920" cy="38880"/>
            </a:xfrm>
            <a:prstGeom prst="pie">
              <a:avLst/>
            </a:pr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Shape 16448"/>
            <p:cNvSpPr/>
            <p:nvPr/>
          </p:nvSpPr>
          <p:spPr>
            <a:xfrm>
              <a:off x="5086080" y="5513400"/>
              <a:ext cx="13680" cy="43200"/>
            </a:xfrm>
            <a:prstGeom prst="pie">
              <a:avLst/>
            </a:pr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Shape 16449"/>
            <p:cNvSpPr/>
            <p:nvPr/>
          </p:nvSpPr>
          <p:spPr>
            <a:xfrm>
              <a:off x="5380560" y="5247000"/>
              <a:ext cx="170640" cy="161280"/>
            </a:xfrm>
            <a:prstGeom prst="pie">
              <a:avLst/>
            </a:pr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Shape 16450"/>
            <p:cNvSpPr/>
            <p:nvPr/>
          </p:nvSpPr>
          <p:spPr>
            <a:xfrm>
              <a:off x="5705640" y="5074200"/>
              <a:ext cx="75600" cy="60840"/>
            </a:xfrm>
            <a:prstGeom prst="pie">
              <a:avLst/>
            </a:pr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Shape 16451"/>
            <p:cNvSpPr/>
            <p:nvPr/>
          </p:nvSpPr>
          <p:spPr>
            <a:xfrm>
              <a:off x="5599080" y="4850280"/>
              <a:ext cx="3600" cy="28440"/>
            </a:xfrm>
            <a:prstGeom prst="pie">
              <a:avLst/>
            </a:pr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Shape 16452"/>
            <p:cNvSpPr/>
            <p:nvPr/>
          </p:nvSpPr>
          <p:spPr>
            <a:xfrm>
              <a:off x="5113800" y="4779720"/>
              <a:ext cx="38520" cy="36360"/>
            </a:xfrm>
            <a:prstGeom prst="pie">
              <a:avLst/>
            </a:pr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Shape 16453"/>
            <p:cNvSpPr/>
            <p:nvPr/>
          </p:nvSpPr>
          <p:spPr>
            <a:xfrm>
              <a:off x="4746960" y="4801320"/>
              <a:ext cx="18360" cy="30960"/>
            </a:xfrm>
            <a:prstGeom prst="pie">
              <a:avLst/>
            </a:pr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Shape 16454"/>
            <p:cNvSpPr/>
            <p:nvPr/>
          </p:nvSpPr>
          <p:spPr>
            <a:xfrm>
              <a:off x="4321440" y="4844880"/>
              <a:ext cx="67320" cy="30240"/>
            </a:xfrm>
            <a:prstGeom prst="pie">
              <a:avLst/>
            </a:pr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Shape 16455"/>
            <p:cNvSpPr/>
            <p:nvPr/>
          </p:nvSpPr>
          <p:spPr>
            <a:xfrm>
              <a:off x="3789360" y="5052240"/>
              <a:ext cx="12960" cy="32040"/>
            </a:xfrm>
            <a:prstGeom prst="pie">
              <a:avLst/>
            </a:pr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0" name="Rectangle 16434"/>
          <p:cNvSpPr/>
          <p:nvPr/>
        </p:nvSpPr>
        <p:spPr>
          <a:xfrm>
            <a:off x="3770280" y="5864400"/>
            <a:ext cx="379440" cy="193680"/>
          </a:xfrm>
          <a:prstGeom prst="rect">
            <a:avLst/>
          </a:prstGeom>
          <a:solidFill>
            <a:srgbClr val="ffff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16435"/>
          <p:cNvSpPr/>
          <p:nvPr/>
        </p:nvSpPr>
        <p:spPr>
          <a:xfrm>
            <a:off x="4214880" y="5864400"/>
            <a:ext cx="379440" cy="193680"/>
          </a:xfrm>
          <a:prstGeom prst="rect">
            <a:avLst/>
          </a:prstGeom>
          <a:solidFill>
            <a:srgbClr val="ffff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16436"/>
          <p:cNvSpPr/>
          <p:nvPr/>
        </p:nvSpPr>
        <p:spPr>
          <a:xfrm>
            <a:off x="5237280" y="5864400"/>
            <a:ext cx="379440" cy="193680"/>
          </a:xfrm>
          <a:prstGeom prst="rect">
            <a:avLst/>
          </a:prstGeom>
          <a:solidFill>
            <a:srgbClr val="ffff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Box 16437"/>
          <p:cNvSpPr/>
          <p:nvPr/>
        </p:nvSpPr>
        <p:spPr>
          <a:xfrm>
            <a:off x="4549680" y="5257800"/>
            <a:ext cx="70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Straight Connector 16438"/>
          <p:cNvSpPr/>
          <p:nvPr/>
        </p:nvSpPr>
        <p:spPr>
          <a:xfrm flipV="1">
            <a:off x="3921120" y="5599080"/>
            <a:ext cx="66600" cy="27144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traight Connector 16439"/>
          <p:cNvSpPr/>
          <p:nvPr/>
        </p:nvSpPr>
        <p:spPr>
          <a:xfrm flipH="1">
            <a:off x="4368960" y="5638680"/>
            <a:ext cx="39600" cy="2286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Straight Connector 16440"/>
          <p:cNvSpPr/>
          <p:nvPr/>
        </p:nvSpPr>
        <p:spPr>
          <a:xfrm>
            <a:off x="5345280" y="5562720"/>
            <a:ext cx="44280" cy="2952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16441"/>
          <p:cNvSpPr/>
          <p:nvPr/>
        </p:nvSpPr>
        <p:spPr>
          <a:xfrm>
            <a:off x="4201560" y="5029200"/>
            <a:ext cx="113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Subnet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Box 16442"/>
          <p:cNvSpPr/>
          <p:nvPr/>
        </p:nvSpPr>
        <p:spPr>
          <a:xfrm>
            <a:off x="3537360" y="6095880"/>
            <a:ext cx="886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SM/SA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9" name="Group 7"/>
          <p:cNvGrpSpPr/>
          <p:nvPr/>
        </p:nvGrpSpPr>
        <p:grpSpPr>
          <a:xfrm>
            <a:off x="6755400" y="4724280"/>
            <a:ext cx="2329920" cy="1742400"/>
            <a:chOff x="6755400" y="4724280"/>
            <a:chExt cx="2329920" cy="1742400"/>
          </a:xfrm>
        </p:grpSpPr>
        <p:grpSp>
          <p:nvGrpSpPr>
            <p:cNvPr id="630" name="Group 35"/>
            <p:cNvGrpSpPr/>
            <p:nvPr/>
          </p:nvGrpSpPr>
          <p:grpSpPr>
            <a:xfrm>
              <a:off x="6798960" y="4724280"/>
              <a:ext cx="2286360" cy="990360"/>
              <a:chOff x="6798960" y="4724280"/>
              <a:chExt cx="2286360" cy="990360"/>
            </a:xfrm>
          </p:grpSpPr>
          <p:sp>
            <p:nvSpPr>
              <p:cNvPr id="631" name="Rectangle 16420"/>
              <p:cNvSpPr/>
              <p:nvPr/>
            </p:nvSpPr>
            <p:spPr>
              <a:xfrm>
                <a:off x="6798960" y="4724280"/>
                <a:ext cx="2286360" cy="99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Shape 16421"/>
              <p:cNvSpPr/>
              <p:nvPr/>
            </p:nvSpPr>
            <p:spPr>
              <a:xfrm>
                <a:off x="6803640" y="4726800"/>
                <a:ext cx="2267640" cy="97812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Shape 16422"/>
              <p:cNvSpPr/>
              <p:nvPr/>
            </p:nvSpPr>
            <p:spPr>
              <a:xfrm>
                <a:off x="6915600" y="5302080"/>
                <a:ext cx="133200" cy="1800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Shape 16423"/>
              <p:cNvSpPr/>
              <p:nvPr/>
            </p:nvSpPr>
            <p:spPr>
              <a:xfrm>
                <a:off x="7108200" y="5516640"/>
                <a:ext cx="57960" cy="86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Shape 16424"/>
              <p:cNvSpPr/>
              <p:nvPr/>
            </p:nvSpPr>
            <p:spPr>
              <a:xfrm>
                <a:off x="7632720" y="5573160"/>
                <a:ext cx="34920" cy="3888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Shape 16425"/>
              <p:cNvSpPr/>
              <p:nvPr/>
            </p:nvSpPr>
            <p:spPr>
              <a:xfrm>
                <a:off x="8301960" y="5513400"/>
                <a:ext cx="13680" cy="4320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Shape 16426"/>
              <p:cNvSpPr/>
              <p:nvPr/>
            </p:nvSpPr>
            <p:spPr>
              <a:xfrm>
                <a:off x="8596080" y="5246640"/>
                <a:ext cx="170280" cy="16128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Shape 16427"/>
              <p:cNvSpPr/>
              <p:nvPr/>
            </p:nvSpPr>
            <p:spPr>
              <a:xfrm>
                <a:off x="8920800" y="5073840"/>
                <a:ext cx="75600" cy="6048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Shape 16428"/>
              <p:cNvSpPr/>
              <p:nvPr/>
            </p:nvSpPr>
            <p:spPr>
              <a:xfrm>
                <a:off x="8814240" y="4849920"/>
                <a:ext cx="3600" cy="284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Shape 16429"/>
              <p:cNvSpPr/>
              <p:nvPr/>
            </p:nvSpPr>
            <p:spPr>
              <a:xfrm>
                <a:off x="8329680" y="4779720"/>
                <a:ext cx="38520" cy="3636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Shape 16430"/>
              <p:cNvSpPr/>
              <p:nvPr/>
            </p:nvSpPr>
            <p:spPr>
              <a:xfrm>
                <a:off x="7963200" y="4801320"/>
                <a:ext cx="18360" cy="3096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Shape 16431"/>
              <p:cNvSpPr/>
              <p:nvPr/>
            </p:nvSpPr>
            <p:spPr>
              <a:xfrm>
                <a:off x="7538040" y="4844880"/>
                <a:ext cx="67320" cy="302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Shape 16432"/>
              <p:cNvSpPr/>
              <p:nvPr/>
            </p:nvSpPr>
            <p:spPr>
              <a:xfrm>
                <a:off x="7006680" y="5052240"/>
                <a:ext cx="12960" cy="320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4" name="Rectangle 16411"/>
            <p:cNvSpPr/>
            <p:nvPr/>
          </p:nvSpPr>
          <p:spPr>
            <a:xfrm>
              <a:off x="6987960" y="5863680"/>
              <a:ext cx="378360" cy="194040"/>
            </a:xfrm>
            <a:prstGeom prst="rect">
              <a:avLst/>
            </a:prstGeom>
            <a:solidFill>
              <a:srgbClr val="ffff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16412"/>
            <p:cNvSpPr/>
            <p:nvPr/>
          </p:nvSpPr>
          <p:spPr>
            <a:xfrm>
              <a:off x="7431120" y="5863680"/>
              <a:ext cx="378360" cy="194040"/>
            </a:xfrm>
            <a:prstGeom prst="rect">
              <a:avLst/>
            </a:prstGeom>
            <a:solidFill>
              <a:srgbClr val="ffff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16413"/>
            <p:cNvSpPr/>
            <p:nvPr/>
          </p:nvSpPr>
          <p:spPr>
            <a:xfrm>
              <a:off x="8433360" y="5863680"/>
              <a:ext cx="378360" cy="194040"/>
            </a:xfrm>
            <a:prstGeom prst="rect">
              <a:avLst/>
            </a:prstGeom>
            <a:solidFill>
              <a:srgbClr val="ffff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TextBox 16414"/>
            <p:cNvSpPr/>
            <p:nvPr/>
          </p:nvSpPr>
          <p:spPr>
            <a:xfrm>
              <a:off x="7720200" y="5257800"/>
              <a:ext cx="704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…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Straight Connector 16415"/>
            <p:cNvSpPr/>
            <p:nvPr/>
          </p:nvSpPr>
          <p:spPr>
            <a:xfrm flipV="1">
              <a:off x="7137720" y="5599440"/>
              <a:ext cx="67680" cy="2714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Straight Connector 16416"/>
            <p:cNvSpPr/>
            <p:nvPr/>
          </p:nvSpPr>
          <p:spPr>
            <a:xfrm flipH="1">
              <a:off x="7585200" y="5638320"/>
              <a:ext cx="40320" cy="2282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Straight Connector 16417"/>
            <p:cNvSpPr/>
            <p:nvPr/>
          </p:nvSpPr>
          <p:spPr>
            <a:xfrm>
              <a:off x="8560440" y="5562360"/>
              <a:ext cx="43920" cy="2955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Box 16418"/>
            <p:cNvSpPr/>
            <p:nvPr/>
          </p:nvSpPr>
          <p:spPr>
            <a:xfrm>
              <a:off x="7436520" y="5028840"/>
              <a:ext cx="113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ubnet 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Box 16419"/>
            <p:cNvSpPr/>
            <p:nvPr/>
          </p:nvSpPr>
          <p:spPr>
            <a:xfrm>
              <a:off x="6755400" y="6095880"/>
              <a:ext cx="892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SM/SA</a:t>
              </a:r>
              <a:r>
                <a:rPr b="1" lang="en-US" sz="1600" spc="-1" strike="noStrike" baseline="-25000">
                  <a:solidFill>
                    <a:srgbClr val="ff0000"/>
                  </a:solidFill>
                  <a:latin typeface="Times New Roman"/>
                  <a:ea typeface="Arial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3" name="Rounded Rectangle 16400"/>
          <p:cNvSpPr/>
          <p:nvPr/>
        </p:nvSpPr>
        <p:spPr>
          <a:xfrm>
            <a:off x="2684520" y="5029200"/>
            <a:ext cx="838080" cy="38088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Router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ounded Rectangle 16401"/>
          <p:cNvSpPr/>
          <p:nvPr/>
        </p:nvSpPr>
        <p:spPr>
          <a:xfrm>
            <a:off x="5884920" y="4419720"/>
            <a:ext cx="838080" cy="38088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Router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Straight Connector 10"/>
          <p:cNvSpPr/>
          <p:nvPr/>
        </p:nvSpPr>
        <p:spPr>
          <a:xfrm flipH="1" flipV="1">
            <a:off x="2379240" y="5257800"/>
            <a:ext cx="304920" cy="1440"/>
          </a:xfrm>
          <a:prstGeom prst="line">
            <a:avLst/>
          </a:prstGeom>
          <a:ln cap="rnd" w="3492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Straight Connector 11"/>
          <p:cNvSpPr/>
          <p:nvPr/>
        </p:nvSpPr>
        <p:spPr>
          <a:xfrm flipH="1" flipV="1">
            <a:off x="3522240" y="5256360"/>
            <a:ext cx="304920" cy="1440"/>
          </a:xfrm>
          <a:prstGeom prst="line">
            <a:avLst/>
          </a:prstGeom>
          <a:ln cap="rnd" w="3492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Straight Connector 12"/>
          <p:cNvSpPr/>
          <p:nvPr/>
        </p:nvSpPr>
        <p:spPr>
          <a:xfrm flipH="1">
            <a:off x="5427720" y="4649040"/>
            <a:ext cx="457200" cy="304920"/>
          </a:xfrm>
          <a:prstGeom prst="line">
            <a:avLst/>
          </a:prstGeom>
          <a:ln cap="rnd" w="34920">
            <a:solidFill>
              <a:srgbClr val="6f75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Straight Connector 13"/>
          <p:cNvSpPr/>
          <p:nvPr/>
        </p:nvSpPr>
        <p:spPr>
          <a:xfrm flipH="1" flipV="1">
            <a:off x="6722640" y="4726080"/>
            <a:ext cx="381240" cy="304560"/>
          </a:xfrm>
          <a:prstGeom prst="line">
            <a:avLst/>
          </a:prstGeom>
          <a:ln cap="rnd" w="34920">
            <a:solidFill>
              <a:srgbClr val="6f75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ounded Rectangle 16406"/>
          <p:cNvSpPr/>
          <p:nvPr/>
        </p:nvSpPr>
        <p:spPr>
          <a:xfrm>
            <a:off x="5884920" y="5638680"/>
            <a:ext cx="838080" cy="38124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Router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Straight Connector 15"/>
          <p:cNvSpPr/>
          <p:nvPr/>
        </p:nvSpPr>
        <p:spPr>
          <a:xfrm flipH="1">
            <a:off x="6722640" y="5487840"/>
            <a:ext cx="381240" cy="379440"/>
          </a:xfrm>
          <a:prstGeom prst="line">
            <a:avLst/>
          </a:prstGeom>
          <a:ln cap="rnd" w="34920">
            <a:solidFill>
              <a:srgbClr val="6f75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Straight Connector 19"/>
          <p:cNvSpPr/>
          <p:nvPr/>
        </p:nvSpPr>
        <p:spPr>
          <a:xfrm flipH="1" flipV="1">
            <a:off x="5460840" y="5446440"/>
            <a:ext cx="424080" cy="382680"/>
          </a:xfrm>
          <a:prstGeom prst="line">
            <a:avLst/>
          </a:prstGeom>
          <a:ln cap="rnd" w="34920">
            <a:solidFill>
              <a:srgbClr val="6f75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2" name="Group 6"/>
          <p:cNvGrpSpPr/>
          <p:nvPr/>
        </p:nvGrpSpPr>
        <p:grpSpPr>
          <a:xfrm>
            <a:off x="5122080" y="2438280"/>
            <a:ext cx="2326320" cy="1742400"/>
            <a:chOff x="5122080" y="2438280"/>
            <a:chExt cx="2326320" cy="1742400"/>
          </a:xfrm>
        </p:grpSpPr>
        <p:grpSp>
          <p:nvGrpSpPr>
            <p:cNvPr id="663" name="Group 58"/>
            <p:cNvGrpSpPr/>
            <p:nvPr/>
          </p:nvGrpSpPr>
          <p:grpSpPr>
            <a:xfrm>
              <a:off x="5159160" y="2438280"/>
              <a:ext cx="2289240" cy="990360"/>
              <a:chOff x="5159160" y="2438280"/>
              <a:chExt cx="2289240" cy="990360"/>
            </a:xfrm>
          </p:grpSpPr>
          <p:sp>
            <p:nvSpPr>
              <p:cNvPr id="664" name="Rectangle 16443"/>
              <p:cNvSpPr/>
              <p:nvPr/>
            </p:nvSpPr>
            <p:spPr>
              <a:xfrm>
                <a:off x="5159160" y="2438280"/>
                <a:ext cx="2289240" cy="99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Shape 16444"/>
              <p:cNvSpPr/>
              <p:nvPr/>
            </p:nvSpPr>
            <p:spPr>
              <a:xfrm>
                <a:off x="5163840" y="2440800"/>
                <a:ext cx="2270520" cy="97812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Shape 16445"/>
              <p:cNvSpPr/>
              <p:nvPr/>
            </p:nvSpPr>
            <p:spPr>
              <a:xfrm>
                <a:off x="5275800" y="3016080"/>
                <a:ext cx="133200" cy="1800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Shape 16446"/>
              <p:cNvSpPr/>
              <p:nvPr/>
            </p:nvSpPr>
            <p:spPr>
              <a:xfrm>
                <a:off x="5469120" y="3230640"/>
                <a:ext cx="58320" cy="86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Shape 16447"/>
              <p:cNvSpPr/>
              <p:nvPr/>
            </p:nvSpPr>
            <p:spPr>
              <a:xfrm>
                <a:off x="5994000" y="3287160"/>
                <a:ext cx="34920" cy="3888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Shape 16448"/>
              <p:cNvSpPr/>
              <p:nvPr/>
            </p:nvSpPr>
            <p:spPr>
              <a:xfrm>
                <a:off x="6663960" y="3227400"/>
                <a:ext cx="13680" cy="4320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Shape 16449"/>
              <p:cNvSpPr/>
              <p:nvPr/>
            </p:nvSpPr>
            <p:spPr>
              <a:xfrm>
                <a:off x="6958440" y="2960640"/>
                <a:ext cx="170640" cy="16128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Shape 16450"/>
              <p:cNvSpPr/>
              <p:nvPr/>
            </p:nvSpPr>
            <p:spPr>
              <a:xfrm>
                <a:off x="7283520" y="2787840"/>
                <a:ext cx="75600" cy="6048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Shape 16451"/>
              <p:cNvSpPr/>
              <p:nvPr/>
            </p:nvSpPr>
            <p:spPr>
              <a:xfrm>
                <a:off x="7176960" y="2563920"/>
                <a:ext cx="3600" cy="284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Shape 16452"/>
              <p:cNvSpPr/>
              <p:nvPr/>
            </p:nvSpPr>
            <p:spPr>
              <a:xfrm>
                <a:off x="6691680" y="2493720"/>
                <a:ext cx="38520" cy="3636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Shape 16453"/>
              <p:cNvSpPr/>
              <p:nvPr/>
            </p:nvSpPr>
            <p:spPr>
              <a:xfrm>
                <a:off x="6324840" y="2515320"/>
                <a:ext cx="18360" cy="3096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Shape 16454"/>
              <p:cNvSpPr/>
              <p:nvPr/>
            </p:nvSpPr>
            <p:spPr>
              <a:xfrm>
                <a:off x="5899320" y="2558880"/>
                <a:ext cx="67320" cy="302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Shape 16455"/>
              <p:cNvSpPr/>
              <p:nvPr/>
            </p:nvSpPr>
            <p:spPr>
              <a:xfrm>
                <a:off x="5367240" y="2766240"/>
                <a:ext cx="12960" cy="320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7" name="Rectangle 16434"/>
            <p:cNvSpPr/>
            <p:nvPr/>
          </p:nvSpPr>
          <p:spPr>
            <a:xfrm>
              <a:off x="5348520" y="3577680"/>
              <a:ext cx="379080" cy="194040"/>
            </a:xfrm>
            <a:prstGeom prst="rect">
              <a:avLst/>
            </a:prstGeom>
            <a:solidFill>
              <a:srgbClr val="ffff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16435"/>
            <p:cNvSpPr/>
            <p:nvPr/>
          </p:nvSpPr>
          <p:spPr>
            <a:xfrm>
              <a:off x="5792400" y="3577680"/>
              <a:ext cx="379080" cy="194040"/>
            </a:xfrm>
            <a:prstGeom prst="rect">
              <a:avLst/>
            </a:prstGeom>
            <a:solidFill>
              <a:srgbClr val="ffff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16436"/>
            <p:cNvSpPr/>
            <p:nvPr/>
          </p:nvSpPr>
          <p:spPr>
            <a:xfrm>
              <a:off x="6815160" y="3577680"/>
              <a:ext cx="379080" cy="194040"/>
            </a:xfrm>
            <a:prstGeom prst="rect">
              <a:avLst/>
            </a:prstGeom>
            <a:solidFill>
              <a:srgbClr val="ffff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TextBox 16437"/>
            <p:cNvSpPr/>
            <p:nvPr/>
          </p:nvSpPr>
          <p:spPr>
            <a:xfrm>
              <a:off x="6127560" y="2971800"/>
              <a:ext cx="707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…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Straight Connector 16438"/>
            <p:cNvSpPr/>
            <p:nvPr/>
          </p:nvSpPr>
          <p:spPr>
            <a:xfrm flipV="1">
              <a:off x="5498280" y="3313440"/>
              <a:ext cx="67680" cy="2714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Straight Connector 16439"/>
            <p:cNvSpPr/>
            <p:nvPr/>
          </p:nvSpPr>
          <p:spPr>
            <a:xfrm flipH="1">
              <a:off x="5946120" y="3352320"/>
              <a:ext cx="40680" cy="2282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Straight Connector 16440"/>
            <p:cNvSpPr/>
            <p:nvPr/>
          </p:nvSpPr>
          <p:spPr>
            <a:xfrm>
              <a:off x="6922800" y="3276360"/>
              <a:ext cx="43920" cy="2955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TextBox 16441"/>
            <p:cNvSpPr/>
            <p:nvPr/>
          </p:nvSpPr>
          <p:spPr>
            <a:xfrm>
              <a:off x="5799960" y="274284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ubnet 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TextBox 16442"/>
            <p:cNvSpPr/>
            <p:nvPr/>
          </p:nvSpPr>
          <p:spPr>
            <a:xfrm>
              <a:off x="5122080" y="3809880"/>
              <a:ext cx="872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SM/SA</a:t>
              </a:r>
              <a:r>
                <a:rPr b="1" lang="en-US" sz="1600" spc="-1" strike="noStrike" baseline="-25000">
                  <a:solidFill>
                    <a:srgbClr val="ff0000"/>
                  </a:solidFill>
                  <a:latin typeface="Times New Roman"/>
                  <a:ea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6" name="Straight Connector 12"/>
          <p:cNvSpPr/>
          <p:nvPr/>
        </p:nvSpPr>
        <p:spPr>
          <a:xfrm flipH="1">
            <a:off x="6324480" y="3352680"/>
            <a:ext cx="76320" cy="1067040"/>
          </a:xfrm>
          <a:prstGeom prst="line">
            <a:avLst/>
          </a:prstGeom>
          <a:ln cap="rnd" w="34920">
            <a:solidFill>
              <a:srgbClr val="6f75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ounded Rectangle 16400"/>
          <p:cNvSpPr/>
          <p:nvPr/>
        </p:nvSpPr>
        <p:spPr>
          <a:xfrm>
            <a:off x="5715000" y="5105520"/>
            <a:ext cx="838080" cy="38088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Router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Straight Connector 10"/>
          <p:cNvSpPr/>
          <p:nvPr/>
        </p:nvSpPr>
        <p:spPr>
          <a:xfrm flipH="1">
            <a:off x="2438280" y="5257800"/>
            <a:ext cx="3353040" cy="0"/>
          </a:xfrm>
          <a:prstGeom prst="line">
            <a:avLst/>
          </a:prstGeom>
          <a:ln cap="rnd" w="3492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Straight Connector 10"/>
          <p:cNvSpPr/>
          <p:nvPr/>
        </p:nvSpPr>
        <p:spPr>
          <a:xfrm flipH="1">
            <a:off x="6553080" y="5257800"/>
            <a:ext cx="457200" cy="0"/>
          </a:xfrm>
          <a:prstGeom prst="line">
            <a:avLst/>
          </a:prstGeom>
          <a:ln cap="rnd" w="3492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traight Connector 10"/>
          <p:cNvSpPr/>
          <p:nvPr/>
        </p:nvSpPr>
        <p:spPr>
          <a:xfrm flipH="1">
            <a:off x="6171840" y="3352680"/>
            <a:ext cx="228600" cy="1828800"/>
          </a:xfrm>
          <a:prstGeom prst="line">
            <a:avLst/>
          </a:prstGeom>
          <a:ln cap="rnd" w="3492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7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0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6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9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5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IB Routing Guideline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2" name="Shape 3"/>
          <p:cNvSpPr/>
          <p:nvPr/>
        </p:nvSpPr>
        <p:spPr>
          <a:xfrm>
            <a:off x="228600" y="66294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ABA9F-6AC1-4543-9B3E-2E7DB6F86F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80880" y="1600200"/>
            <a:ext cx="83822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Layered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Leverage from the IP world whenever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M is a Subnet Local Ent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eserve Existing IB Management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teroper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1594800" y="4844880"/>
            <a:ext cx="5644080" cy="1742400"/>
            <a:chOff x="1594800" y="4844880"/>
            <a:chExt cx="5644080" cy="1742400"/>
          </a:xfrm>
        </p:grpSpPr>
        <p:grpSp>
          <p:nvGrpSpPr>
            <p:cNvPr id="695" name="Group 81"/>
            <p:cNvGrpSpPr/>
            <p:nvPr/>
          </p:nvGrpSpPr>
          <p:grpSpPr>
            <a:xfrm>
              <a:off x="1614600" y="4844880"/>
              <a:ext cx="2361600" cy="990720"/>
              <a:chOff x="1614600" y="4844880"/>
              <a:chExt cx="2361600" cy="990720"/>
            </a:xfrm>
          </p:grpSpPr>
          <p:sp>
            <p:nvSpPr>
              <p:cNvPr id="696" name="Rectangle 16466"/>
              <p:cNvSpPr/>
              <p:nvPr/>
            </p:nvSpPr>
            <p:spPr>
              <a:xfrm>
                <a:off x="1626480" y="4844880"/>
                <a:ext cx="2349720" cy="99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Shape 16467"/>
              <p:cNvSpPr/>
              <p:nvPr/>
            </p:nvSpPr>
            <p:spPr>
              <a:xfrm>
                <a:off x="1614600" y="4844880"/>
                <a:ext cx="2331000" cy="97848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Shape 16468"/>
              <p:cNvSpPr/>
              <p:nvPr/>
            </p:nvSpPr>
            <p:spPr>
              <a:xfrm>
                <a:off x="1746360" y="5423040"/>
                <a:ext cx="136800" cy="1800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Shape 16469"/>
              <p:cNvSpPr/>
              <p:nvPr/>
            </p:nvSpPr>
            <p:spPr>
              <a:xfrm>
                <a:off x="1944720" y="5637600"/>
                <a:ext cx="59760" cy="86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Shape 16470"/>
              <p:cNvSpPr/>
              <p:nvPr/>
            </p:nvSpPr>
            <p:spPr>
              <a:xfrm>
                <a:off x="2483640" y="5694120"/>
                <a:ext cx="35640" cy="3888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Shape 16471"/>
              <p:cNvSpPr/>
              <p:nvPr/>
            </p:nvSpPr>
            <p:spPr>
              <a:xfrm>
                <a:off x="3171240" y="5634000"/>
                <a:ext cx="14040" cy="4320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Shape 16472"/>
              <p:cNvSpPr/>
              <p:nvPr/>
            </p:nvSpPr>
            <p:spPr>
              <a:xfrm>
                <a:off x="3473640" y="5367600"/>
                <a:ext cx="174960" cy="16128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Shape 16473"/>
              <p:cNvSpPr/>
              <p:nvPr/>
            </p:nvSpPr>
            <p:spPr>
              <a:xfrm>
                <a:off x="3807360" y="5194800"/>
                <a:ext cx="77760" cy="608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Shape 16474"/>
              <p:cNvSpPr/>
              <p:nvPr/>
            </p:nvSpPr>
            <p:spPr>
              <a:xfrm>
                <a:off x="3697920" y="4970880"/>
                <a:ext cx="3600" cy="284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Shape 16475"/>
              <p:cNvSpPr/>
              <p:nvPr/>
            </p:nvSpPr>
            <p:spPr>
              <a:xfrm>
                <a:off x="3200040" y="4900320"/>
                <a:ext cx="39600" cy="3636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Shape 16476"/>
              <p:cNvSpPr/>
              <p:nvPr/>
            </p:nvSpPr>
            <p:spPr>
              <a:xfrm>
                <a:off x="2823120" y="4921920"/>
                <a:ext cx="18720" cy="3096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Shape 16477"/>
              <p:cNvSpPr/>
              <p:nvPr/>
            </p:nvSpPr>
            <p:spPr>
              <a:xfrm>
                <a:off x="2386440" y="4965480"/>
                <a:ext cx="69120" cy="302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Shape 16478"/>
              <p:cNvSpPr/>
              <p:nvPr/>
            </p:nvSpPr>
            <p:spPr>
              <a:xfrm>
                <a:off x="1839960" y="5172840"/>
                <a:ext cx="13320" cy="320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9" name="Rectangle 16457"/>
            <p:cNvSpPr/>
            <p:nvPr/>
          </p:nvSpPr>
          <p:spPr>
            <a:xfrm>
              <a:off x="1820880" y="5985000"/>
              <a:ext cx="388800" cy="193680"/>
            </a:xfrm>
            <a:prstGeom prst="rect">
              <a:avLst/>
            </a:prstGeom>
            <a:solidFill>
              <a:srgbClr val="ffff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16458"/>
            <p:cNvSpPr/>
            <p:nvPr/>
          </p:nvSpPr>
          <p:spPr>
            <a:xfrm>
              <a:off x="2276280" y="5985000"/>
              <a:ext cx="389160" cy="193680"/>
            </a:xfrm>
            <a:prstGeom prst="rect">
              <a:avLst/>
            </a:prstGeom>
            <a:solidFill>
              <a:srgbClr val="ffff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16459"/>
            <p:cNvSpPr/>
            <p:nvPr/>
          </p:nvSpPr>
          <p:spPr>
            <a:xfrm>
              <a:off x="3306600" y="5985000"/>
              <a:ext cx="389160" cy="193680"/>
            </a:xfrm>
            <a:prstGeom prst="rect">
              <a:avLst/>
            </a:prstGeom>
            <a:solidFill>
              <a:srgbClr val="ffff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TextBox 16460"/>
            <p:cNvSpPr/>
            <p:nvPr/>
          </p:nvSpPr>
          <p:spPr>
            <a:xfrm>
              <a:off x="2624040" y="5378400"/>
              <a:ext cx="725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…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Straight Connector 16461"/>
            <p:cNvSpPr/>
            <p:nvPr/>
          </p:nvSpPr>
          <p:spPr>
            <a:xfrm flipV="1">
              <a:off x="1974960" y="5530320"/>
              <a:ext cx="217440" cy="4604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Straight Connector 16462"/>
            <p:cNvSpPr/>
            <p:nvPr/>
          </p:nvSpPr>
          <p:spPr>
            <a:xfrm flipH="1">
              <a:off x="2435040" y="5454720"/>
              <a:ext cx="61920" cy="533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Straight Connector 16463"/>
            <p:cNvSpPr/>
            <p:nvPr/>
          </p:nvSpPr>
          <p:spPr>
            <a:xfrm>
              <a:off x="3411360" y="5530680"/>
              <a:ext cx="71640" cy="4478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TextBox 16465"/>
            <p:cNvSpPr/>
            <p:nvPr/>
          </p:nvSpPr>
          <p:spPr>
            <a:xfrm>
              <a:off x="1594800" y="6216480"/>
              <a:ext cx="912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SM/SA</a:t>
              </a:r>
              <a:r>
                <a:rPr b="1" lang="en-US" sz="1600" spc="-1" strike="noStrike" baseline="-25000">
                  <a:solidFill>
                    <a:srgbClr val="ff0000"/>
                  </a:solidFill>
                  <a:latin typeface="Times New Roman"/>
                  <a:ea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7" name="Group 58"/>
            <p:cNvGrpSpPr/>
            <p:nvPr/>
          </p:nvGrpSpPr>
          <p:grpSpPr>
            <a:xfrm>
              <a:off x="4949640" y="4844880"/>
              <a:ext cx="2289240" cy="990720"/>
              <a:chOff x="4949640" y="4844880"/>
              <a:chExt cx="2289240" cy="990720"/>
            </a:xfrm>
          </p:grpSpPr>
          <p:sp>
            <p:nvSpPr>
              <p:cNvPr id="718" name="Rectangle 16443"/>
              <p:cNvSpPr/>
              <p:nvPr/>
            </p:nvSpPr>
            <p:spPr>
              <a:xfrm>
                <a:off x="4949640" y="4844880"/>
                <a:ext cx="2289240" cy="99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Shape 16444"/>
              <p:cNvSpPr/>
              <p:nvPr/>
            </p:nvSpPr>
            <p:spPr>
              <a:xfrm>
                <a:off x="4954320" y="4847400"/>
                <a:ext cx="2270520" cy="97848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Shape 16445"/>
              <p:cNvSpPr/>
              <p:nvPr/>
            </p:nvSpPr>
            <p:spPr>
              <a:xfrm>
                <a:off x="5066280" y="5423040"/>
                <a:ext cx="133200" cy="1800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Shape 16446"/>
              <p:cNvSpPr/>
              <p:nvPr/>
            </p:nvSpPr>
            <p:spPr>
              <a:xfrm>
                <a:off x="5259600" y="5637600"/>
                <a:ext cx="58320" cy="86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Shape 16447"/>
              <p:cNvSpPr/>
              <p:nvPr/>
            </p:nvSpPr>
            <p:spPr>
              <a:xfrm>
                <a:off x="5784480" y="5694120"/>
                <a:ext cx="34920" cy="3888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Shape 16448"/>
              <p:cNvSpPr/>
              <p:nvPr/>
            </p:nvSpPr>
            <p:spPr>
              <a:xfrm>
                <a:off x="6454440" y="5634000"/>
                <a:ext cx="13680" cy="4320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Shape 16449"/>
              <p:cNvSpPr/>
              <p:nvPr/>
            </p:nvSpPr>
            <p:spPr>
              <a:xfrm>
                <a:off x="6748920" y="5367600"/>
                <a:ext cx="170640" cy="16128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Shape 16450"/>
              <p:cNvSpPr/>
              <p:nvPr/>
            </p:nvSpPr>
            <p:spPr>
              <a:xfrm>
                <a:off x="7074000" y="5194800"/>
                <a:ext cx="75600" cy="608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Shape 16451"/>
              <p:cNvSpPr/>
              <p:nvPr/>
            </p:nvSpPr>
            <p:spPr>
              <a:xfrm>
                <a:off x="6967440" y="4970880"/>
                <a:ext cx="3600" cy="284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Shape 16452"/>
              <p:cNvSpPr/>
              <p:nvPr/>
            </p:nvSpPr>
            <p:spPr>
              <a:xfrm>
                <a:off x="6482160" y="4900320"/>
                <a:ext cx="38520" cy="3636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Shape 16453"/>
              <p:cNvSpPr/>
              <p:nvPr/>
            </p:nvSpPr>
            <p:spPr>
              <a:xfrm>
                <a:off x="6115320" y="4921920"/>
                <a:ext cx="18360" cy="3096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Shape 16454"/>
              <p:cNvSpPr/>
              <p:nvPr/>
            </p:nvSpPr>
            <p:spPr>
              <a:xfrm>
                <a:off x="5689800" y="4965480"/>
                <a:ext cx="67320" cy="302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Shape 16455"/>
              <p:cNvSpPr/>
              <p:nvPr/>
            </p:nvSpPr>
            <p:spPr>
              <a:xfrm>
                <a:off x="5157720" y="5172840"/>
                <a:ext cx="12960" cy="320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1" name="Rectangle 16434"/>
            <p:cNvSpPr/>
            <p:nvPr/>
          </p:nvSpPr>
          <p:spPr>
            <a:xfrm>
              <a:off x="5138640" y="5985000"/>
              <a:ext cx="379440" cy="193680"/>
            </a:xfrm>
            <a:prstGeom prst="rect">
              <a:avLst/>
            </a:prstGeom>
            <a:solidFill>
              <a:srgbClr val="ffff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Rectangle 16435"/>
            <p:cNvSpPr/>
            <p:nvPr/>
          </p:nvSpPr>
          <p:spPr>
            <a:xfrm>
              <a:off x="5583240" y="5985000"/>
              <a:ext cx="379440" cy="193680"/>
            </a:xfrm>
            <a:prstGeom prst="rect">
              <a:avLst/>
            </a:prstGeom>
            <a:solidFill>
              <a:srgbClr val="ffff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Rectangle 16436"/>
            <p:cNvSpPr/>
            <p:nvPr/>
          </p:nvSpPr>
          <p:spPr>
            <a:xfrm>
              <a:off x="6605640" y="5985000"/>
              <a:ext cx="379440" cy="193680"/>
            </a:xfrm>
            <a:prstGeom prst="rect">
              <a:avLst/>
            </a:prstGeom>
            <a:solidFill>
              <a:srgbClr val="ffff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TextBox 16437"/>
            <p:cNvSpPr/>
            <p:nvPr/>
          </p:nvSpPr>
          <p:spPr>
            <a:xfrm>
              <a:off x="5918040" y="5378400"/>
              <a:ext cx="70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…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Straight Connector 16438"/>
            <p:cNvSpPr/>
            <p:nvPr/>
          </p:nvSpPr>
          <p:spPr>
            <a:xfrm flipV="1">
              <a:off x="5289480" y="5530320"/>
              <a:ext cx="103320" cy="4604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Straight Connector 16439"/>
            <p:cNvSpPr/>
            <p:nvPr/>
          </p:nvSpPr>
          <p:spPr>
            <a:xfrm>
              <a:off x="5697360" y="5530680"/>
              <a:ext cx="39960" cy="4572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Straight Connector 16440"/>
            <p:cNvSpPr/>
            <p:nvPr/>
          </p:nvSpPr>
          <p:spPr>
            <a:xfrm>
              <a:off x="6688080" y="5530680"/>
              <a:ext cx="69840" cy="4478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TextBox 16442"/>
            <p:cNvSpPr/>
            <p:nvPr/>
          </p:nvSpPr>
          <p:spPr>
            <a:xfrm>
              <a:off x="4905720" y="6216480"/>
              <a:ext cx="886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SM/SA</a:t>
              </a:r>
              <a:r>
                <a:rPr b="1" lang="en-US" sz="1600" spc="-1" strike="noStrike" baseline="-25000">
                  <a:solidFill>
                    <a:srgbClr val="ff0000"/>
                  </a:solidFill>
                  <a:latin typeface="Times New Roman"/>
                  <a:ea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ounded Rectangle 16400"/>
            <p:cNvSpPr/>
            <p:nvPr/>
          </p:nvSpPr>
          <p:spPr>
            <a:xfrm>
              <a:off x="4052880" y="5149800"/>
              <a:ext cx="838080" cy="38088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Rou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Straight Connector 10"/>
            <p:cNvSpPr/>
            <p:nvPr/>
          </p:nvSpPr>
          <p:spPr>
            <a:xfrm flipH="1" flipV="1">
              <a:off x="3564000" y="5378400"/>
              <a:ext cx="488880" cy="1440"/>
            </a:xfrm>
            <a:prstGeom prst="line">
              <a:avLst/>
            </a:prstGeom>
            <a:ln cap="rnd" w="3492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Straight Connector 11"/>
            <p:cNvSpPr/>
            <p:nvPr/>
          </p:nvSpPr>
          <p:spPr>
            <a:xfrm flipH="1" flipV="1">
              <a:off x="4890960" y="5376960"/>
              <a:ext cx="425520" cy="1440"/>
            </a:xfrm>
            <a:prstGeom prst="line">
              <a:avLst/>
            </a:prstGeom>
            <a:ln cap="rnd" w="3492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963800" y="5073480"/>
              <a:ext cx="685800" cy="5335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Swit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878200" y="5073480"/>
              <a:ext cx="685800" cy="5335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Swit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Straight Connector 16463"/>
            <p:cNvSpPr/>
            <p:nvPr/>
          </p:nvSpPr>
          <p:spPr>
            <a:xfrm>
              <a:off x="2649600" y="5378400"/>
              <a:ext cx="2286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240160" y="5073480"/>
              <a:ext cx="685800" cy="5335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Swit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230880" y="5073480"/>
              <a:ext cx="685800" cy="5335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Swit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Straight Connector 16463"/>
            <p:cNvSpPr/>
            <p:nvPr/>
          </p:nvSpPr>
          <p:spPr>
            <a:xfrm>
              <a:off x="5925960" y="5378400"/>
              <a:ext cx="3049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/>
          </p:nvPr>
        </p:nvSpPr>
        <p:spPr>
          <a:xfrm>
            <a:off x="244080" y="1143000"/>
            <a:ext cx="8518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ssume Network is Setup and Configur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nnection Setup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ndnode Need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GID for destination (DGID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Local Subnet GID (next hop for DGID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Local Subnet Path Parameters for next hop GID (DLID, SL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Global Path Parameters (P_Key, MTU, Static Rate, Q_Key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nd to End CM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out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 special involvement. Cross-subnet CM packets are treated just like regular packet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title"/>
          </p:nvPr>
        </p:nvSpPr>
        <p:spPr>
          <a:xfrm>
            <a:off x="152280" y="90360"/>
            <a:ext cx="883944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 Day in the Life of Cross-Subnet IB Traffic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A Day in the Life… (cont’d)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ainstream Opera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ndnode: No changes from intra-subnet cas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ddress Vector is agnostic to whether parameters are local or globa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outer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eceive Packe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trip LRH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mpute next hop GID (from packet DGID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Obtain Local Subnet Path Parameters for next hop GI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ppend new LRH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ransmit Packe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Problem Partitioning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44080" y="11430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Global Network Setup and Managemen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58080" indent="-2192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Global Parameters Managemen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58080" indent="-2192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stablishing Route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58080" indent="-2192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onitoring, Statistics, Debugging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58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nnection Setup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58080" indent="-2192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Global Name Resolutio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58080" indent="-2192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Global Path Parameters Discovery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58080" indent="-2192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ross Subnet CM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58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ainstream Data Transf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58080" indent="-2192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outing Decisio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58080" indent="-2192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L2 Address Resolutio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58080" indent="-2192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ross Subnet IB Transport Protoco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6781680" y="901800"/>
            <a:ext cx="213372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Global Network Setup and Managemen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lobal Parameters Managemen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TU, P_Key, Q_Key, Static Rat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stablishing Rout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adlock Avoidanc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outing Protoco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cluding Inter-router messaging format and protoco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or Static Rout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nitoring, Statistics, Debuggi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757" name="" descr=""/>
          <p:cNvPicPr/>
          <p:nvPr/>
        </p:nvPicPr>
        <p:blipFill>
          <a:blip r:embed="rId1"/>
          <a:stretch/>
        </p:blipFill>
        <p:spPr>
          <a:xfrm>
            <a:off x="6945480" y="901800"/>
            <a:ext cx="189360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7T10:25:58Z</dcterms:created>
  <dc:creator>Eitan Zahavi</dc:creator>
  <dc:description/>
  <dc:language>en-US</dc:language>
  <cp:lastModifiedBy>Diego Crupnicoff</cp:lastModifiedBy>
  <dcterms:modified xsi:type="dcterms:W3CDTF">2007-05-01T14:04:58Z</dcterms:modified>
  <cp:revision>121</cp:revision>
  <dc:subject/>
  <dc:title>Mellanox Corporate Pitch</dc:title>
</cp:coreProperties>
</file>