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961C-74D0-4F24-9B8F-A18EC7C4B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 Rosenstock &lt;halr@voltaire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DF2B-2712-4ABD-8A96-09FE0C5EDBF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Management Tools Development related to Do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28800" y="502884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 Rosen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34320" y="411480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ript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link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link speed and connection for each port of each switch that is 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 "sysadmin readable" output for all the information of all the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output of the "lower level" diags into a "per link"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upports one line per link which is parseable by other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ript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find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counters on all switches in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utput for -r (report port info) option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rs for 0x0008f10400411b18 ""wopr switch" base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 1: [RcvSwRelayErrors == 10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       Link info:      2    1[  ]  ==( 4X 5.0 Gbps)==&gt;  0x0002c90200219e64 1[  ] "wopri"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to determine what the other end of the link is.  In this case, the link is connected to the node "wopr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man pages for more description and option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Ira Weiny and Al Chu for their many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LID/GUID to the error output in diag scripts for easier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diag check script(s) to iden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R capable peer ports not operating at 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 capable peer ports not operating at 1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iag capabilities to detect additional inconsis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port or node G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value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362320" y="266688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in management gi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htly coupled to OpenSM rather than separate dae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find its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 OpenSM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isable SM ? so run perf mgr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current topology from SM and monitor changes in topology as basis for tracking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 configure node type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, switches only, CAs on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 counters periodically to determine rat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performance data (for subsequent report produ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 events i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ble thresholds to determin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can be disabled by configuring their thresholds to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de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”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counters can be r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policy (when counters close to sticky max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ema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reset log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time per node (and possibly port as well)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aton cluster instal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 from performanc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ments to diag tools and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1.2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Perl scripts and installation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done by Ira Weiny &amp; Albert 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port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reset, enable, d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S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saquery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by NodeDescription (n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LID fo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Record by src/de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A ClassPort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query support for PortCountersEx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3 gener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3 port transmit wait 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route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netdis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trac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ma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p_mfts.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findnodes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list of nodes which are routed through switch: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mpt to find the nodes which might be affected by errors seen on that link/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printca, ibprint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only the ca/switch specified from the ibnetdiscover out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"grepping" ibnetdiscover output eas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swport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to diagnose a problem on a 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rates of change of error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deprecated by the performanc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>Jason Gunthorpe</dc:creator>
  <dc:description/>
  <dc:language>en-US</dc:language>
  <cp:lastModifiedBy>hal</cp:lastModifiedBy>
  <dcterms:modified xsi:type="dcterms:W3CDTF">2007-05-01T17:53:47Z</dcterms:modified>
  <cp:revision>50</cp:revision>
  <dc:subject/>
  <dc:title>InfiniBand Routing</dc:title>
</cp:coreProperties>
</file>