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F6C3-E1D8-4F5E-8182-D69EF08C075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Resource Utilization in Large Scale InfiniBand Job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len M. Ship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Alamos National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UR-07-28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/no RNR NAKS from draining SR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trigger “SRQ limit reached”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ncy penalty for SR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 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QPs may not b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nvestigating impact of high QP count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E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ep3D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 Parallel Benchmarks (benchm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ed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receive buffer efficien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receive buffer / size of data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Hydro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GE – SAIC’s Adaptive Grid Eulerian hydroc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ydrodynamics code with Adaptive Mesh Refinement (AM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ed to: water shock, energy coupling, hydro instability problem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inely run on 1,000’s of processo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aling characteristic: Weak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Decomposition (Default): 1-D (of a 3-D AMR spatial gri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410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"Predictive Performance and Scalability Modeling of a Large-Scale Application", D.J. Kerbyson, H.J. Alme, A. Hoisie, F. Petrini, H.J. Wasserman, M. Gittings, in Proc. SC, Denver, 2001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aptive Mesh Refinement (AMR) hydro-co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 repeated ph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ther data (including processor boundary da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 data (send back resul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-D spatial grid, partitioned in 1-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allel character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ssage sizes vary, typically 10 - 100’s Kby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tance between neighbors increases with 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9339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96 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76201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efficienc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46240"/>
            <a:ext cx="8915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716120"/>
            <a:ext cx="82296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D spatial grid, partitioned in 2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d wavefron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y in ‘sweep’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neighbors in X and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message sizes: 100’s bytes (typ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rocessors determines pipe-line lengt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248520" y="2819520"/>
            <a:ext cx="1675800" cy="1675800"/>
            <a:chOff x="6248520" y="2819520"/>
            <a:chExt cx="1675800" cy="1675800"/>
          </a:xfrm>
        </p:grpSpPr>
        <p:sp>
          <p:nvSpPr>
            <p:cNvPr id="128" name=""/>
            <p:cNvSpPr/>
            <p:nvPr/>
          </p:nvSpPr>
          <p:spPr>
            <a:xfrm>
              <a:off x="6553080" y="3124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3960" y="3124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5200" y="312408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96080" y="312408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53080" y="350496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3960" y="350496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350496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96080" y="350496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3080" y="388620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3960" y="388620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388620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388620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426708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396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08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8520" y="28195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324480" y="2895120"/>
              <a:ext cx="45684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3276360"/>
              <a:ext cx="15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560" y="3657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4038480"/>
              <a:ext cx="15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4419360"/>
              <a:ext cx="151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4038480"/>
              <a:ext cx="152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3657600"/>
              <a:ext cx="151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8360" y="3352680"/>
              <a:ext cx="0" cy="151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3352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67480" y="3733560"/>
              <a:ext cx="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37335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86600" y="4114800"/>
              <a:ext cx="0" cy="151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5360" y="4114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62160" y="35812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D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: Wavefront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487600"/>
            <a:ext cx="16765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88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racterized by a dependency in cell 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5160" y="2090880"/>
            <a:ext cx="5171040" cy="2964960"/>
            <a:chOff x="1145160" y="2090880"/>
            <a:chExt cx="5171040" cy="2964960"/>
          </a:xfrm>
        </p:grpSpPr>
        <p:sp>
          <p:nvSpPr>
            <p:cNvPr id="164" name=""/>
            <p:cNvSpPr/>
            <p:nvPr/>
          </p:nvSpPr>
          <p:spPr>
            <a:xfrm>
              <a:off x="171756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4292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134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656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1968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7260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98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418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416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664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78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756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98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418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416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664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8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756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988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418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416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6648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78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1756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988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418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416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648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784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1756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988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418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416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648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84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756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988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418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5416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6648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784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805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925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48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168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91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1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8056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925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48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168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291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1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056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925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048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168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91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1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8056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925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048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68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91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14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8056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25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48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680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91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14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05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9252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048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1680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912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14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3384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61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581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7008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824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47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3384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4616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81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7008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24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947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3384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4616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581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7008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24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947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339948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4616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81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008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824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947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33840" y="351144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4616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581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7008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240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947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3384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461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58120" y="36237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008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8240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472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74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99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1140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237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360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00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74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99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140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237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0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4800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87480" y="32871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99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1140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37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360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4800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87480" y="339948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440" y="339948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1140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237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360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800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8748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944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11400" y="351144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37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360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800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8748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9944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1140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23720" y="36237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360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800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407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527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650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770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893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16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40760" y="31748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527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650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770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893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016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0760" y="32871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52720" y="32871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650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70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893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016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0760" y="339948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52720" y="339948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65040" y="339948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770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893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016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076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52720" y="351144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6504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7700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893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016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407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272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6504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7700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8932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016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756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988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418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5416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648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784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805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9252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048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680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912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414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384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461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58120" y="247608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7008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8240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9472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8748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9944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1140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23720" y="247608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360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4800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407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5272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6504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7700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8932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16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605600" y="4158360"/>
              <a:ext cx="887760" cy="888480"/>
              <a:chOff x="1605600" y="4158360"/>
              <a:chExt cx="887760" cy="888480"/>
            </a:xfrm>
          </p:grpSpPr>
          <p:sp>
            <p:nvSpPr>
              <p:cNvPr id="380" name=""/>
              <p:cNvSpPr/>
              <p:nvPr/>
            </p:nvSpPr>
            <p:spPr>
              <a:xfrm>
                <a:off x="1605600" y="43808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1605600" y="41583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491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0491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05600" y="4454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05600" y="45291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05600" y="460296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05600" y="4676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5600" y="4751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05600" y="482472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0491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0491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91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0491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0491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0491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78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53920" y="4307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736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008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7568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056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786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392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2736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008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7568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491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229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974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7124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4504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956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9336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75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9008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82736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753920" y="423180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16786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1975680" y="4529160"/>
                <a:ext cx="147240" cy="146880"/>
                <a:chOff x="1975680" y="4529160"/>
                <a:chExt cx="147240" cy="1468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975680" y="4529160"/>
                  <a:ext cx="147240" cy="1468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75680" y="456588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2049120" y="4565880"/>
                  <a:ext cx="7380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2049120" y="46026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"/>
            <p:cNvGrpSpPr/>
            <p:nvPr/>
          </p:nvGrpSpPr>
          <p:grpSpPr>
            <a:xfrm>
              <a:off x="2568240" y="4158360"/>
              <a:ext cx="887760" cy="888480"/>
              <a:chOff x="2568240" y="4158360"/>
              <a:chExt cx="887760" cy="888480"/>
            </a:xfrm>
          </p:grpSpPr>
          <p:sp>
            <p:nvSpPr>
              <p:cNvPr id="425" name=""/>
              <p:cNvSpPr/>
              <p:nvPr/>
            </p:nvSpPr>
            <p:spPr>
              <a:xfrm>
                <a:off x="2568240" y="43808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68240" y="4158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121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0121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682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68240" y="4529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682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68240" y="4676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682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68240" y="4824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30121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0121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0121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30121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30121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0121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41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16560" y="4307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79000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8638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3832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6824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416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165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9000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638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383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121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8556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604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338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30768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22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560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293832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8638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279000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716560" y="4231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6416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2863800" y="4491720"/>
                <a:ext cx="148320" cy="148320"/>
                <a:chOff x="2863800" y="4491720"/>
                <a:chExt cx="148320" cy="1483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86380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86380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293796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293796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12120" y="4491720"/>
                <a:ext cx="148320" cy="148320"/>
                <a:chOff x="3012120" y="4491720"/>
                <a:chExt cx="148320" cy="1483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1212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1212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308628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30862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938320" y="4602960"/>
                <a:ext cx="147240" cy="148320"/>
                <a:chOff x="2938320" y="4602960"/>
                <a:chExt cx="147240" cy="148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938320" y="460296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8320" y="464004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011760" y="463968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30117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3521520" y="4158360"/>
              <a:ext cx="887760" cy="888480"/>
              <a:chOff x="3521520" y="4158360"/>
              <a:chExt cx="887760" cy="888480"/>
            </a:xfrm>
          </p:grpSpPr>
          <p:sp>
            <p:nvSpPr>
              <p:cNvPr id="480" name=""/>
              <p:cNvSpPr/>
              <p:nvPr/>
            </p:nvSpPr>
            <p:spPr>
              <a:xfrm>
                <a:off x="3521520" y="43808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3521520" y="41583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504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396504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21520" y="4454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21520" y="45291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21520" y="460296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21520" y="4676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21520" y="4751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521520" y="482472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39650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96504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39650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96504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9650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396504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9460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69840" y="4307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4328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1672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89160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52152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946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6984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432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1672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9160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6504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3884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1336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8716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609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354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0928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389160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81672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74328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669840" y="423180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9460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3743280" y="4454280"/>
                <a:ext cx="148320" cy="148320"/>
                <a:chOff x="3743280" y="4454280"/>
                <a:chExt cx="148320" cy="1483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743280" y="445428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743280" y="44913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3817440" y="44910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381744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891600" y="4454280"/>
                <a:ext cx="147240" cy="148320"/>
                <a:chOff x="3891600" y="4454280"/>
                <a:chExt cx="147240" cy="1483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891600" y="445428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891600" y="449136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3965040" y="449100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396504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038840" y="4454280"/>
                <a:ext cx="148320" cy="148320"/>
                <a:chOff x="4038840" y="4454280"/>
                <a:chExt cx="148320" cy="1483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038840" y="445428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38840" y="44913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4113000" y="44910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411300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3816720" y="4565160"/>
                <a:ext cx="148320" cy="148320"/>
                <a:chOff x="3816720" y="4565160"/>
                <a:chExt cx="148320" cy="1483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816720" y="45651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816720" y="46022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3890880" y="46018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3890880" y="46393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891600" y="4676040"/>
                <a:ext cx="147240" cy="148320"/>
                <a:chOff x="3891600" y="4676040"/>
                <a:chExt cx="147240" cy="1483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891600" y="467604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91600" y="471312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3965040" y="471276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V="1">
                  <a:off x="3965040" y="47502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965040" y="4565160"/>
                <a:ext cx="148320" cy="148320"/>
                <a:chOff x="3965040" y="4565160"/>
                <a:chExt cx="148320" cy="1483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965040" y="45651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65040" y="46022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4039200" y="46018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4039200" y="46393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4475160" y="4168080"/>
              <a:ext cx="888120" cy="887760"/>
              <a:chOff x="4475160" y="4168080"/>
              <a:chExt cx="888120" cy="887760"/>
            </a:xfrm>
          </p:grpSpPr>
          <p:sp>
            <p:nvSpPr>
              <p:cNvPr id="550" name=""/>
              <p:cNvSpPr/>
              <p:nvPr/>
            </p:nvSpPr>
            <p:spPr>
              <a:xfrm>
                <a:off x="4475160" y="438984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475160" y="41680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19400" y="41680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4919400" y="438984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475160" y="446364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475160" y="453852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75160" y="461196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75160" y="468576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475160" y="47602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75160" y="48340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4919400" y="446364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4919400" y="453852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919400" y="4611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4919400" y="4685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4919400" y="4760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919400" y="48340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48600" y="4352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23480" y="431640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7280" y="4278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70720" y="424152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45600" y="42051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475160" y="4389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48600" y="4427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623480" y="44636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97280" y="45010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770720" y="45385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45600" y="4574520"/>
                <a:ext cx="0" cy="44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19400" y="4611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92480" y="4574520"/>
                <a:ext cx="0" cy="44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67720" y="45385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41160" y="45010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14600" y="44636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289480" y="4427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363280" y="4389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4845600" y="4352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770720" y="4316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4697280" y="4278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623480" y="424152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4548600" y="42051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4623480" y="4427280"/>
                <a:ext cx="147240" cy="147240"/>
                <a:chOff x="4623480" y="4427280"/>
                <a:chExt cx="147240" cy="1472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623480" y="4427280"/>
                  <a:ext cx="14724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62348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4696920" y="4464000"/>
                  <a:ext cx="7380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469692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4770720" y="4427280"/>
                <a:ext cx="148320" cy="147240"/>
                <a:chOff x="4770720" y="4427280"/>
                <a:chExt cx="148320" cy="1472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4770720" y="442728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77072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484488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484488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919400" y="4427280"/>
                <a:ext cx="148320" cy="147240"/>
                <a:chOff x="4919400" y="4427280"/>
                <a:chExt cx="148320" cy="14724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4919400" y="442728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91940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499356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499356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5067720" y="4427280"/>
                <a:ext cx="146880" cy="147240"/>
                <a:chOff x="5067720" y="4427280"/>
                <a:chExt cx="146880" cy="1472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5067720" y="442728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06772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514116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514116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697280" y="4538520"/>
                <a:ext cx="148320" cy="147240"/>
                <a:chOff x="4697280" y="4538520"/>
                <a:chExt cx="148320" cy="147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697280" y="453852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69728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477144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47714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845600" y="4538520"/>
                <a:ext cx="146880" cy="147240"/>
                <a:chOff x="4845600" y="4538520"/>
                <a:chExt cx="146880" cy="147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845600" y="453852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45600" y="457524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4919040" y="457524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49190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4992480" y="4538520"/>
                <a:ext cx="148320" cy="147240"/>
                <a:chOff x="4992480" y="4538520"/>
                <a:chExt cx="148320" cy="1472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992480" y="453852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99248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506664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50666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919400" y="4649400"/>
                <a:ext cx="148320" cy="147240"/>
                <a:chOff x="4919400" y="4649400"/>
                <a:chExt cx="148320" cy="1472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919400" y="464940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91940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499356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4993560" y="47232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4770720" y="4649400"/>
                <a:ext cx="148320" cy="147240"/>
                <a:chOff x="4770720" y="4649400"/>
                <a:chExt cx="148320" cy="1472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770720" y="464940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77072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484488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4844880" y="47232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845600" y="4760280"/>
                <a:ext cx="146880" cy="147240"/>
                <a:chOff x="4845600" y="4760280"/>
                <a:chExt cx="146880" cy="1472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845600" y="476028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845600" y="4797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4919040" y="4797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4919040" y="4834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9" name=""/>
            <p:cNvGrpSpPr/>
            <p:nvPr/>
          </p:nvGrpSpPr>
          <p:grpSpPr>
            <a:xfrm>
              <a:off x="5428440" y="4158360"/>
              <a:ext cx="887760" cy="888480"/>
              <a:chOff x="5428440" y="4158360"/>
              <a:chExt cx="887760" cy="888480"/>
            </a:xfrm>
          </p:grpSpPr>
          <p:sp>
            <p:nvSpPr>
              <p:cNvPr id="640" name=""/>
              <p:cNvSpPr/>
              <p:nvPr/>
            </p:nvSpPr>
            <p:spPr>
              <a:xfrm>
                <a:off x="5428440" y="43808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428440" y="4158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723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8723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4284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28440" y="4529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284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28440" y="4676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284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28440" y="4824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58723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8723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58723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8723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58723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58723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5018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576760" y="4307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65020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240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9852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2844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5018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767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5020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240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985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723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4576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0206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940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6788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424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162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579852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7240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565020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5576760" y="4231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5018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5501880" y="4380840"/>
                <a:ext cx="148320" cy="148320"/>
                <a:chOff x="5501880" y="4380840"/>
                <a:chExt cx="148320" cy="1483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50188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50188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557604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557604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5650200" y="4380840"/>
                <a:ext cx="148320" cy="148320"/>
                <a:chOff x="5650200" y="4380840"/>
                <a:chExt cx="148320" cy="1483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565020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5020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572436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572436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798520" y="4380840"/>
                <a:ext cx="147240" cy="148320"/>
                <a:chOff x="5798520" y="4380840"/>
                <a:chExt cx="147240" cy="1483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798520" y="438084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798520" y="441792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5871960" y="441756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587196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945760" y="4380840"/>
                <a:ext cx="148320" cy="148320"/>
                <a:chOff x="5945760" y="4380840"/>
                <a:chExt cx="148320" cy="1483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94576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94576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601992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601992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576760" y="4491720"/>
                <a:ext cx="147240" cy="148320"/>
                <a:chOff x="5576760" y="4491720"/>
                <a:chExt cx="147240" cy="1483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576760" y="4491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76760" y="4528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5650200" y="4528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565020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724000" y="4491720"/>
                <a:ext cx="148320" cy="148320"/>
                <a:chOff x="5724000" y="4491720"/>
                <a:chExt cx="148320" cy="1483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72400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72400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579816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579816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872320" y="4491720"/>
                <a:ext cx="148320" cy="148320"/>
                <a:chOff x="5872320" y="4491720"/>
                <a:chExt cx="148320" cy="1483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87232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87232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594648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V="1">
                  <a:off x="59464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5798520" y="4602960"/>
                <a:ext cx="147240" cy="148320"/>
                <a:chOff x="5798520" y="4602960"/>
                <a:chExt cx="147240" cy="1483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798520" y="460296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798520" y="464004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5871960" y="463968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58719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650200" y="4602960"/>
                <a:ext cx="148320" cy="148320"/>
                <a:chOff x="5650200" y="4602960"/>
                <a:chExt cx="148320" cy="1483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650200" y="46029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50200" y="46400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5724360" y="46396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57243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5724000" y="4713480"/>
                <a:ext cx="148320" cy="148680"/>
                <a:chOff x="5724000" y="4713480"/>
                <a:chExt cx="148320" cy="1486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5724000" y="4713480"/>
                  <a:ext cx="148320" cy="1486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24000" y="4750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5798160" y="47502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5798160" y="4788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798520" y="4824720"/>
                <a:ext cx="147240" cy="148320"/>
                <a:chOff x="5798520" y="4824720"/>
                <a:chExt cx="147240" cy="1483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5798520" y="4824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798520" y="4861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5871960" y="4861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5871960" y="4898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872320" y="4713480"/>
                <a:ext cx="148320" cy="148680"/>
                <a:chOff x="5872320" y="4713480"/>
                <a:chExt cx="148320" cy="14868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872320" y="4713480"/>
                  <a:ext cx="148320" cy="1486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872320" y="4750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5946480" y="47502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5946480" y="4788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5945760" y="4602960"/>
                <a:ext cx="148320" cy="148320"/>
                <a:chOff x="5945760" y="4602960"/>
                <a:chExt cx="148320" cy="1483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945760" y="46029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945760" y="46400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6019920" y="46396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601992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020640" y="4491720"/>
                <a:ext cx="147240" cy="148320"/>
                <a:chOff x="6020640" y="4491720"/>
                <a:chExt cx="147240" cy="1483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020640" y="4491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020640" y="4528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6094080" y="4528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60940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6094080" y="4380840"/>
                <a:ext cx="148320" cy="148320"/>
                <a:chOff x="6094080" y="4380840"/>
                <a:chExt cx="148320" cy="1483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609408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9408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616824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V="1">
                  <a:off x="616824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4" name=""/>
            <p:cNvSpPr/>
            <p:nvPr/>
          </p:nvSpPr>
          <p:spPr>
            <a:xfrm>
              <a:off x="1145160" y="24037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45160" y="3242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45160" y="44215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09480" y="54100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ion of wavefront can ch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rt from any corner-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716200"/>
            <a:ext cx="152640" cy="1522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478320"/>
            <a:ext cx="152640" cy="152280"/>
          </a:xfrm>
          <a:prstGeom prst="rect">
            <a:avLst/>
          </a:prstGeom>
          <a:solidFill>
            <a:srgbClr val="01aa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240680" y="32940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240680" y="24876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specifies that receive resources are consumed in order regardless of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essages may therefore consume much larger receiv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ery large scale, many applications are dominated by small message transf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s vary substantially from job to job and even rank to r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34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weep3D: Receive Buffer Efficienc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7724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PB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838080" y="2282760"/>
            <a:ext cx="70106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PB Receive Buffer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 256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401880" y="45720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Benchmark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Class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6108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PB Performanc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B 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7057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et SRQ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erformance a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ze fits most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need to custom-tune each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s receive buffer memory foot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25 MB was allocated for any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RNR NAKs in communication patterns we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dvantage of ConnectX SRC feature to reduce the number of active Q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examine our protocol at 4K+ processor count on SNL’s ThunderBird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ive Buff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627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ation for 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 of small messages may exhaust SRQ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RNR NAK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ls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de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d resourc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may not complete within allotted time slot (12 + Hours for some 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t just tune the buffer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“one size fits all” 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 patterns differ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ocesses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/ function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alance optimiz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ng for each application run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performanc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edictability at “acceptable” performance is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C users want a default/“good enough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tweaking is fine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or ou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OpenFabrics-related driver parameters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other parameters: …man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ther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memory region for unexpected messages (Receiver managed offset seman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inet 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size receive buffers can be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specifies which size receive buffer to consume (SIZE &amp; PRIORITY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ics 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ORTS manages pools of buffers of various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ipt of an unexpected message a buffer is chosen from the relev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ed from standard bucket allo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“buckets” of receive descriptors are created in multiple SRQ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ssociated a different size bu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pool of per-peer resources is also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484280"/>
            <a:ext cx="80960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en Shipman</cp:lastModifiedBy>
  <dcterms:modified xsi:type="dcterms:W3CDTF">2007-04-30T21:15:39Z</dcterms:modified>
  <cp:revision>64</cp:revision>
  <dc:subject/>
  <dc:title>Resource Utilization in Large Scale InfiniBand Jobs </dc:title>
</cp:coreProperties>
</file>