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8BE-5ED5-4DCF-8922-49980D88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7640-D246-409F-AC45-CFA4388B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140-7B64-407F-BA5D-17B5FDE9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348D-9E8F-4847-B532-EA0637B8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1D1B-C12D-424E-974A-BF5D86B7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F95-BF39-4DCB-969B-24DB162E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91DC-F3D6-4B52-B095-2FA5E9C7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783-D863-4E6E-AF85-90519F27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62E-ECA0-4F05-B99D-647993E1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316-8E06-4C4C-B6A1-B2D01D8E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2EA-B63C-469D-9CFE-9211CBE7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0C1-CD7A-4FAF-9319-2001EBAA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6DCF-8404-48A2-846F-4205D0EF3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7375-0022-484F-81A6-6E5588669072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SER Storage Targe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33520" y="5181480"/>
            <a:ext cx="815328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aron Haviv, CTO, Vol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aronh@voltaire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26553" r="60835" b="56859"/>
          <a:stretch/>
        </p:blipFill>
        <p:spPr>
          <a:xfrm>
            <a:off x="5715000" y="2819520"/>
            <a:ext cx="3276720" cy="1046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iniband Performance rat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43430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DR Clients, one DDR Tar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00MB/s (close to PCIe Lim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4 FC 4Gb Ports and Enterprise FC RAIDs as the back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DR Client, 2 Targ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50MB/s (close to SDR Lim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1560" y="1851120"/>
          <a:ext cx="7940880" cy="2340000"/>
        </p:xfrm>
        <a:graphic>
          <a:graphicData uri="http://schemas.openxmlformats.org/drawingml/2006/table">
            <a:tbl>
              <a:tblPr/>
              <a:tblGrid>
                <a:gridCol w="3899160"/>
                <a:gridCol w="1803240"/>
                <a:gridCol w="2238480"/>
              </a:tblGrid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Throughpu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/O Response tim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Sequential Reads 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635 MB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0.033 m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Sequential Reads 50% and Writes 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38 MB/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67 mse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Sequential Writes 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742 MB/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33 mse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533520" y="14320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 SDR Client, 1 SDR Target, Native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5920" y="1941480"/>
            <a:ext cx="721836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ER storage target –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igent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ER to FC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 virt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tection – mirroring,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storage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commodity disk att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native iSER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services availab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it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lconStor IPStor with IB 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65800" y="1538280"/>
            <a:ext cx="4754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055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MingLiU"/>
              </a:rPr>
              <a:t>FalconStor IPStor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InfiniBand added to host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8001000" cy="5073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391920" y="2286000"/>
            <a:ext cx="117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iniBand / RD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1981080"/>
            <a:ext cx="1600200" cy="457200"/>
          </a:xfrm>
          <a:prstGeom prst="wedgeRoundRectCallout">
            <a:avLst>
              <a:gd name="adj1" fmla="val -224601"/>
              <a:gd name="adj2" fmla="val 5451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ER Target Conne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PStor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GUI, SNMP, and CLI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ER clients managed just like iSCSI cl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Stor supports both iSER and iSCSI/IPoIB seamless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600" y="2736720"/>
            <a:ext cx="5454720" cy="2835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600200" y="4336920"/>
            <a:ext cx="3313080" cy="2216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105520" y="3803760"/>
            <a:ext cx="3657600" cy="21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Requirements / 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1523880"/>
          <a:ext cx="8381880" cy="476568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/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5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S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ED 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A’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lanox, Volta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r – both gateway and target appl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4u2 (RH5 end Apri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S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5.1 build 5182 or hig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ER target dri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A’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lanox, Volta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se Study – Production Custo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latency network providing market data to variety of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low latency storage, with minimal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commodity storage appliance enabled by software from Voltaire, FalconS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mirroring to protect from hardware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hardw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x RedHat Enterprise Servers (Targ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 8000 series AMD procs, Tyan mother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 x 750 GB SATA II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24 port Areca PCI Express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x Voltaire DDR Infiniband dual port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ailable today – box level fail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936720" cy="382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936360" cy="382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rcRect l="0" t="34739" r="0" b="37903"/>
          <a:stretch/>
        </p:blipFill>
        <p:spPr>
          <a:xfrm>
            <a:off x="2057400" y="3657600"/>
            <a:ext cx="1638360" cy="331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rcRect l="0" t="34739" r="0" b="37903"/>
          <a:stretch/>
        </p:blipFill>
        <p:spPr>
          <a:xfrm>
            <a:off x="304920" y="3657600"/>
            <a:ext cx="1638360" cy="331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1219320" y="4648320"/>
            <a:ext cx="1122120" cy="290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914400" y="5410080"/>
            <a:ext cx="1592280" cy="8953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457200" y="1295280"/>
            <a:ext cx="1187280" cy="230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>
            <a:off x="2286000" y="1295280"/>
            <a:ext cx="1187280" cy="230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144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1523880"/>
            <a:ext cx="14475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219320" y="152388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388620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057400" y="388584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12760" y="2438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23480" y="46483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re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11680" y="358128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-FC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2743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ailable early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936720" cy="382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936360" cy="382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rcRect l="0" t="34739" r="0" b="37903"/>
          <a:stretch/>
        </p:blipFill>
        <p:spPr>
          <a:xfrm>
            <a:off x="2057400" y="3657600"/>
            <a:ext cx="1638360" cy="331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rcRect l="0" t="34739" r="0" b="37903"/>
          <a:stretch/>
        </p:blipFill>
        <p:spPr>
          <a:xfrm>
            <a:off x="304920" y="3657600"/>
            <a:ext cx="1638360" cy="331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1219320" y="4648320"/>
            <a:ext cx="1122120" cy="290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914400" y="5410080"/>
            <a:ext cx="1592280" cy="895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457200" y="1295280"/>
            <a:ext cx="1187280" cy="230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2286000" y="1295280"/>
            <a:ext cx="1187280" cy="230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144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1523880"/>
            <a:ext cx="14475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219320" y="152388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388620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057400" y="388584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12760" y="2438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23480" y="46483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re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11680" y="358128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-FC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2743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295280" y="281952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81952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1371600"/>
            <a:ext cx="336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redundant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t fai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21:08:20Z</dcterms:created>
  <dc:creator>Yaron Haviv</dc:creator>
  <dc:description/>
  <dc:language>en-US</dc:language>
  <cp:lastModifiedBy>Yaron Haviv</cp:lastModifiedBy>
  <dcterms:modified xsi:type="dcterms:W3CDTF">2007-05-01T21:15:57Z</dcterms:modified>
  <cp:revision>2</cp:revision>
  <dc:subject/>
  <dc:title>iSER Storage Target</dc:title>
</cp:coreProperties>
</file>