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15C-95ED-41CA-80B9-7E1778B5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E01-EC07-4BB6-A377-3660A5CD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9CE-E2F7-44E8-B907-015A1A95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4A6-972A-419B-A97D-0654070F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9C54-DD9C-45EE-B12C-FC80FB8C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6F66-6421-48D3-A22D-5C9A1DEF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896C-7932-436C-9EE8-B30A8052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B7EF-3123-4519-9062-80E5D4D9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8F55-6233-4602-AF19-BAC074A6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236A-CCF9-49EF-A7A0-8756A9B8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1297-B98E-4A4B-99F7-17B9A971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929-D516-413E-B6A3-06D49AD6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028B-33FB-436B-837F-31DCE287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B3BB-ADFD-4554-8316-1BDE694C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9A29-5027-4FF0-BB15-03A3F0B5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7E90-C9EC-45A5-838E-0E02A81F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94F8-593A-4177-AEF7-83D9F361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374-86D3-4C24-A1AA-11466D24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215-BE13-4F81-8E6A-143394C3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0DF-614C-4862-8F6B-662A34BB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6EE-8CF6-4138-ABAC-BD26D5D7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7C9-E876-495A-8EA3-F23D8756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181-C059-4E74-87AF-8111F170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566-9CEA-4C65-A136-30E83E3D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11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119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928A-2A0C-46F1-9A1B-5FE7498DC0F2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75BF-57A8-4ED3-A914-6EB281C1D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733920"/>
            <a:ext cx="556272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990720"/>
            <a:ext cx="8305920" cy="16761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Experience using Infiniband for computational chemistry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4038120"/>
            <a:ext cx="480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rk Mora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. E. Shaw Research, LL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2666880"/>
            <a:ext cx="533520" cy="4191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62064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724280" y="6161040"/>
            <a:ext cx="40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A1 Produc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724280" y="6161040"/>
            <a:ext cx="40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A1 Produc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14400" y="62064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anagement &amp; Diagnostics: A view from the field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09880" y="3886200"/>
            <a:ext cx="4114800" cy="1905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4495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ign &amp; Plann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ily Operatio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tection of Problem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agnosis of Problem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esig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CAs, Cables and Switches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OK, that’s kinda like Ethernet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bnet Manager. 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Hmm, it’s not Ethernet.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PoIB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Ah, it’s IP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DP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Nope, not really IP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RP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Wait, that’s not FC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SER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Oh, that’s going to talk iSCS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DAPL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Uh-oh..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Awww, doesn’t connect to anything else I have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But it’s got great bandwidth and latency..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I’ll need new kernels everywhere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And I should *converge* my entire network with this?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esig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ality-based performance modeling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myth of N usec latency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myth of NNN MiB/sec bandwidth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ter-switch connection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liability and availability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cost equation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stall (cables and bringup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ailures (app crashes, HCAs, cables, switch ports, subnet manager)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nges and growt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at’s the lifetime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eploymen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-coupling for install and upgrad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rivers [Understandable cost, grumble, mumble]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Kernel protocol modules [Ouch!]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ser-level protocols [Ok]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ow do I measure progress and quality of an installation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Gratuitous sidebar: Consider a world in which..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only network that matters to Enterprise IT is TCP and UDP over IP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ach new non-IP acronym causes a louder, albeit silent scream of pain from Enterprise IT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terprise IT hates having anyone open a machine and add a card to it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terprise IT really, absolutely, positively hates updating kernel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terprise IT never wants to recompile any application (if they even have, or could find the source code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aily Oper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lence is golden...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f it’s working well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pacity utilization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llection of sta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RDtool, MRTG and friends (ganglia, drraw, cricket, ...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pot checks for errors.  Is it really working well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olecular Dynamics (MD) Simul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905120"/>
            <a:ext cx="7772400" cy="9903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24040" y="2190600"/>
            <a:ext cx="7010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Single, millisecond-scale MD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95280"/>
            <a:ext cx="571500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447920"/>
            <a:ext cx="5699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goal of D. E. Shaw Re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3809880"/>
            <a:ext cx="7772400" cy="152424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4095720"/>
            <a:ext cx="69343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hat’s the time scale at which biologically interesting things start to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200400"/>
            <a:ext cx="31240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90680" y="3333600"/>
            <a:ext cx="1676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610480" y="3352680"/>
            <a:ext cx="533520" cy="3505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etection of problem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ach out and touch someone..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NMP Trap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mail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yslog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A GUID is not a meaningful error message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ostnames, card numbers, port numbers, please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rror counters: Non-zero BAD, Zero GOO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rollary: It must be impossible to have a network error where all error counters are zero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iagnosis of problem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at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path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caused the error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ere are netstat, ping, ttcp/iperf and traceroute equivalents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at should I replace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member the sideba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oftware? HCA? Cable? Switch port? Switch card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ill I get better (any?) support if I’m runn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vendor stack(s)?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r the latest OFED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A closing comment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ur research group uses our Infiniband cluster heavily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inuously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r two years and counting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ur Infiniband interconnect has had fewer total failures than our expensive, enterprise-grade GigE switch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oraes@deshaw.co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61800" y="1447920"/>
            <a:ext cx="8477280" cy="533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Leaf switches and core switches and cables, oh my!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819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143000" y="2057400"/>
            <a:ext cx="1523880" cy="914400"/>
            <a:chOff x="1143000" y="2057400"/>
            <a:chExt cx="1523880" cy="914400"/>
          </a:xfrm>
        </p:grpSpPr>
        <p:sp>
          <p:nvSpPr>
            <p:cNvPr id="189" name=""/>
            <p:cNvSpPr/>
            <p:nvPr/>
          </p:nvSpPr>
          <p:spPr>
            <a:xfrm>
              <a:off x="1143000" y="2057400"/>
              <a:ext cx="1523880" cy="9144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19320" y="2362320"/>
              <a:ext cx="14475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Core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200400" y="2057400"/>
            <a:ext cx="1523880" cy="914400"/>
            <a:chOff x="3200400" y="2057400"/>
            <a:chExt cx="1523880" cy="914400"/>
          </a:xfrm>
        </p:grpSpPr>
        <p:sp>
          <p:nvSpPr>
            <p:cNvPr id="192" name=""/>
            <p:cNvSpPr/>
            <p:nvPr/>
          </p:nvSpPr>
          <p:spPr>
            <a:xfrm>
              <a:off x="3200400" y="2057400"/>
              <a:ext cx="1523880" cy="9144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76720" y="2362320"/>
              <a:ext cx="14475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Core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800600" y="4495680"/>
            <a:ext cx="1905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.. 86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2286000"/>
            <a:ext cx="1904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.. 10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371600" y="2971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219320" y="2971440"/>
            <a:ext cx="2209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581280" y="2971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599840" y="29718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828800" y="2971800"/>
            <a:ext cx="3657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886200" y="2971800"/>
            <a:ext cx="1905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895480" y="3809880"/>
            <a:ext cx="1523880" cy="533520"/>
            <a:chOff x="2895480" y="3809880"/>
            <a:chExt cx="1523880" cy="533520"/>
          </a:xfrm>
        </p:grpSpPr>
        <p:sp>
          <p:nvSpPr>
            <p:cNvPr id="203" name=""/>
            <p:cNvSpPr/>
            <p:nvPr/>
          </p:nvSpPr>
          <p:spPr>
            <a:xfrm>
              <a:off x="2895480" y="3809880"/>
              <a:ext cx="1523880" cy="5335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71800" y="3927600"/>
              <a:ext cx="14475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Leaf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143000" y="4876920"/>
            <a:ext cx="1523880" cy="1447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4917960"/>
            <a:ext cx="1447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2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4479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5238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002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6765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7524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8288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9051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9810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0574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1337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2096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860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143000" y="3844800"/>
            <a:ext cx="1523880" cy="533520"/>
            <a:chOff x="1143000" y="3844800"/>
            <a:chExt cx="1523880" cy="533520"/>
          </a:xfrm>
        </p:grpSpPr>
        <p:sp>
          <p:nvSpPr>
            <p:cNvPr id="220" name=""/>
            <p:cNvSpPr/>
            <p:nvPr/>
          </p:nvSpPr>
          <p:spPr>
            <a:xfrm>
              <a:off x="1143000" y="3844800"/>
              <a:ext cx="1523880" cy="5335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19320" y="3962520"/>
              <a:ext cx="14475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Leaf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895480" y="4876920"/>
            <a:ext cx="1524240" cy="1447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4917960"/>
            <a:ext cx="1447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2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2004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2767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3526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053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5812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6576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7339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098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8862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9625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0384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600200"/>
            <a:ext cx="7772400" cy="4343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914400"/>
            <a:ext cx="7772400" cy="6858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A major challenge in Molecular Biochemistry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coded the geno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on’t know most protein structu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on’t know what most proteins d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ich ones interact with which other o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at is the “wiring diagram” of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ene expression network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gnal transduction network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etabolic network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on’t know how everything fits together into a working system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olecular Dynamics Simul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09880" y="3886200"/>
            <a:ext cx="4114800" cy="1905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880" y="1335240"/>
            <a:ext cx="8457840" cy="1675800"/>
            <a:chOff x="380880" y="1335240"/>
            <a:chExt cx="8457840" cy="1675800"/>
          </a:xfrm>
        </p:grpSpPr>
        <p:sp>
          <p:nvSpPr>
            <p:cNvPr id="103" name=""/>
            <p:cNvSpPr/>
            <p:nvPr/>
          </p:nvSpPr>
          <p:spPr>
            <a:xfrm>
              <a:off x="380880" y="1877760"/>
              <a:ext cx="6007680" cy="4230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te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69320" y="1487160"/>
              <a:ext cx="869400" cy="1523880"/>
            </a:xfrm>
            <a:custGeom>
              <a:avLst/>
              <a:gdLst>
                <a:gd name="textAreaLeft" fmla="*/ 116280 w 869400"/>
                <a:gd name="textAreaRight" fmla="*/ 753120 w 869400"/>
                <a:gd name="textAreaTop" fmla="*/ 266400 h 1523880"/>
                <a:gd name="textAreaBottom" fmla="*/ 11048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800000">
              <a:off x="7099560" y="1335240"/>
              <a:ext cx="869400" cy="1523520"/>
            </a:xfrm>
            <a:custGeom>
              <a:avLst/>
              <a:gdLst>
                <a:gd name="textAreaLeft" fmla="*/ 116280 w 869400"/>
                <a:gd name="textAreaRight" fmla="*/ 753120 w 869400"/>
                <a:gd name="textAreaTop" fmla="*/ 266400 h 1523520"/>
                <a:gd name="textAreaBottom" fmla="*/ 1104480 h 152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636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127520"/>
            <a:ext cx="6781680" cy="23104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pute the trajectories of all atoms in a chemic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5,000+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r 1  ms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Unicode MS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sec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quires 1 fs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Unicode MS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seconds) time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86400"/>
            <a:ext cx="47242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715000"/>
            <a:ext cx="4038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ears on the fastest current supercomputers &amp;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3505320"/>
            <a:ext cx="8457840" cy="1675800"/>
            <a:chOff x="380880" y="3505320"/>
            <a:chExt cx="8457840" cy="1675800"/>
          </a:xfrm>
        </p:grpSpPr>
        <p:sp>
          <p:nvSpPr>
            <p:cNvPr id="111" name=""/>
            <p:cNvSpPr/>
            <p:nvPr/>
          </p:nvSpPr>
          <p:spPr>
            <a:xfrm>
              <a:off x="380880" y="4047840"/>
              <a:ext cx="6007680" cy="4230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te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69320" y="3657240"/>
              <a:ext cx="869400" cy="1523880"/>
            </a:xfrm>
            <a:custGeom>
              <a:avLst/>
              <a:gdLst>
                <a:gd name="textAreaLeft" fmla="*/ 116280 w 869400"/>
                <a:gd name="textAreaRight" fmla="*/ 753120 w 869400"/>
                <a:gd name="textAreaTop" fmla="*/ 266400 h 1523880"/>
                <a:gd name="textAreaBottom" fmla="*/ 11048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800000">
              <a:off x="7099560" y="3505320"/>
              <a:ext cx="869400" cy="1523520"/>
            </a:xfrm>
            <a:custGeom>
              <a:avLst/>
              <a:gdLst>
                <a:gd name="textAreaLeft" fmla="*/ 116280 w 869400"/>
                <a:gd name="textAreaRight" fmla="*/ 753120 w 869400"/>
                <a:gd name="textAreaTop" fmla="*/ 266400 h 1523520"/>
                <a:gd name="textAreaBottom" fmla="*/ 1104480 h 152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3721320"/>
            <a:ext cx="6781680" cy="14619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Unicode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time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ith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Unicode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operations per time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=&gt;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Unicode MS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operations per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66720" y="1371600"/>
            <a:ext cx="8477280" cy="5486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igning a specialized supercomputer (Anton, ISCA2007, Shaw et al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ormously parallel architectu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ased on special-purpose ASIC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ramatically faster for MD, but less flexib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jected completion: 2008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pplicable t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ventional clusters (Desmond, SC2006, Bowers et al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ur own machin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ale to very large # of processing elem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Our Strategy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14400"/>
            <a:ext cx="8229600" cy="457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8077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allel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828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267080"/>
            <a:ext cx="82296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03800"/>
            <a:ext cx="8077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alle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Why RDMA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oday: Low-latency, high-bandwidth interconnect for parallel simul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finiban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omorrow: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igh bandwidth interconnect for storag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ow-latency, high-bandwidth interconnect for parallel analysi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finiban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48320" y="1455840"/>
            <a:ext cx="421776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</a:rPr>
              <a:t>Each process in paralle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Compute forces (if own the midpoint of the pa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Export fo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Sum forces for particles in homeb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Compute new positions for homebox partic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Import updated positions for particles in import reg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2040" y="1596960"/>
            <a:ext cx="4122720" cy="41227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77840" y="2282760"/>
            <a:ext cx="2747880" cy="2751120"/>
          </a:xfrm>
          <a:custGeom>
            <a:avLst/>
            <a:gdLst>
              <a:gd name="textAreaLeft" fmla="*/ 225000 w 2747880"/>
              <a:gd name="textAreaRight" fmla="*/ 2522880 w 2747880"/>
              <a:gd name="textAreaTop" fmla="*/ 225000 h 2751120"/>
              <a:gd name="textAreaBottom" fmla="*/ 2526120 h 2751120"/>
            </a:gdLst>
            <a:ahLst/>
            <a:rect l="textAreaLeft" t="textAreaTop" r="textAreaRight" b="textAreaBottom"/>
            <a:pathLst>
              <a:path w="21600" h="21625">
                <a:moveTo>
                  <a:pt x="6046" y="0"/>
                </a:moveTo>
                <a:arcTo wR="6046" hR="6046" stAng="16200000" swAng="-5400000"/>
                <a:lnTo>
                  <a:pt x="0" y="15579"/>
                </a:lnTo>
                <a:arcTo wR="6046" hR="6046" stAng="10800000" swAng="-5400000"/>
                <a:lnTo>
                  <a:pt x="15554" y="21625"/>
                </a:lnTo>
                <a:arcTo wR="6046" hR="6046" stAng="5400000" swAng="-5400000"/>
                <a:lnTo>
                  <a:pt x="21600" y="6046"/>
                </a:lnTo>
                <a:arcTo wR="6046" hR="6046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66880" y="2971800"/>
            <a:ext cx="1373040" cy="13730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2040" y="2971800"/>
            <a:ext cx="412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2040" y="4344840"/>
            <a:ext cx="412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39920" y="1596960"/>
            <a:ext cx="0" cy="412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66880" y="1596960"/>
            <a:ext cx="0" cy="412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123640" y="3311640"/>
            <a:ext cx="228600" cy="6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52600" y="3311640"/>
            <a:ext cx="1138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3995640"/>
            <a:ext cx="68256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124000" y="3539880"/>
            <a:ext cx="1366920" cy="45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09840" y="4621320"/>
            <a:ext cx="1141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52560" y="3716280"/>
            <a:ext cx="1144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6560" y="3600360"/>
            <a:ext cx="114120" cy="11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38600" y="3371760"/>
            <a:ext cx="114120" cy="11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95480" y="38876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81280" y="5262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66840" y="2562120"/>
            <a:ext cx="13240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14760" y="2968560"/>
            <a:ext cx="1141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68520" y="3429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66840" y="2562120"/>
            <a:ext cx="18576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2720" y="2443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2878200"/>
            <a:ext cx="1141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4080" y="32004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Basic MD simulation step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Parallel MD simulation using RDMA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5254560" y="1608120"/>
            <a:ext cx="349092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r iterative exchange patterns, two sets of send and receive buffers are enough to guarantee that send and receive buffers are alway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nd and receive buffers are fixed and registered beforeh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e sender knows all the receiver’s receive buffers and use them altern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8520" y="1682640"/>
          <a:ext cx="45702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1682640"/>
                    <a:ext cx="45702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73040" y="5022720"/>
            <a:ext cx="3767040" cy="916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with the Verbs interface.  RDMA writes are used (faster than RDMA read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0" t="0" r="0" b="1477"/>
          <a:stretch/>
        </p:blipFill>
        <p:spPr>
          <a:xfrm>
            <a:off x="914400" y="685800"/>
            <a:ext cx="7315200" cy="5405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77960" y="6237360"/>
            <a:ext cx="796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s:  Kumar, Almasi, Huang et al. 2006; Fitch, Rayshubskiy, Eleftheriou et al.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03:07:44Z</dcterms:created>
  <dc:creator>Mark Moraes</dc:creator>
  <dc:description>OpenFabrics Sonoma 2007</dc:description>
  <dc:language>en-US</dc:language>
  <cp:lastModifiedBy>moraes</cp:lastModifiedBy>
  <dcterms:modified xsi:type="dcterms:W3CDTF">2007-05-01T14:52:55Z</dcterms:modified>
  <cp:revision>1711</cp:revision>
  <dc:subject/>
  <dc:title>Experience using Infiniband for Computational Chemistry</dc:title>
</cp:coreProperties>
</file>