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246A-BF21-4E08-BC62-0CF4A8F306A2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icrosoft.com/about/legal/intellectualproperty/standards/default.mspx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Sockets over RDMA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ady Kanev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Ap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legged s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operability/Backward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14288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tocol License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FT SDP pa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icrosoft.com/about/legal/intellectualproperty/standards/default.ms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P over 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mpany signs 1-on-1 source code license agreement with MSFT for development of SD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P source code must include MSFT “license”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icense fo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y or distribu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.org will not accept SDP code under these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FT Windows Socket Direct was extended to exposed memory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Group ICSC Extended Socket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common simple Socket over RDMA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semantic mapping of socket semantic to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PI with kernel by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DP Protocol Techn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K_STREAM in SDP (RC-b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K_DGRAM not is S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 4 data transfer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into modes: buffered, pipelined, 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 CM manager is not based on IBTA RDMA IP CM Service Annex (post IBTA 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ed S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rue zero-copy in OFA SD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hael Tsirkin’s Protocol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to fix issues that seem to be fundamental in SDP mode of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upport for SRQ - forces pre-posting of large number of buffers per-s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onnection rate - a single connection can't be reused for multiple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-based credits don't utilize hardware flow control, and break polling-based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upport for high availability: failover only with A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upport for multicast and/or UDP (discard packets on RQ overru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that might be addressable with extensions to the SDP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P Zcopy mode not a good fit for synchronous operations  (Zcopy read needs slow 3 way handshake, zcopy write can not pipeline many writes into a si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tis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-based operation - can't mix RDMA (for large buffers) and bcopy (for small buff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B not supported in zcopy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P connection setup it too different from TCP socket setup, so SDP termination/routing across a TCP socket quite non triv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t RTU" problem - analog of SYN flood (seen when remote is unstable/crash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interoperability with SD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Protocol needed or n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quir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he discussion star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NetApp</cp:lastModifiedBy>
  <dcterms:modified xsi:type="dcterms:W3CDTF">2007-04-30T18:12:19Z</dcterms:modified>
  <cp:revision>68</cp:revision>
  <dc:subject/>
  <dc:title>Slide 1</dc:title>
</cp:coreProperties>
</file>