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3F8-AEFA-4A99-B6E2-12DBAA02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2C0-F1D4-4EB3-96E6-A69632B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011-6544-4931-B14C-A861E7E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ECB-1E7F-4615-B8AA-C4B120CC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BD77-43A7-4BC5-A244-AAF12395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497-21E0-44AC-8D77-79CEB80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3695-CE25-485B-8B99-C12E3DA3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38E-E255-4A23-B953-08AEF01A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5D0F-FBEF-4D6F-81A3-BFC7B4E8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3865-C6E9-4CE9-BF99-4862DE62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8D69-3B7B-4287-B93E-26DE56A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151-7DE5-4DFB-B72A-3DA388E6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18F-6DF5-4E40-9812-5D937E5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08CA-C988-4E46-A7BC-9591490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A5D-43B3-47B1-B088-A7C20A0A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6779-49D2-40BE-AEAA-3A781060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E7C-E69F-445E-AA6B-701A645C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39F-9FC5-43A8-BB43-7102785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A90-9687-4C51-A862-57CD214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7C2-1C72-4DB0-B1E4-D061D57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587-178D-4491-ABA8-0267D63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9C2-B9CB-4725-86BA-2CA8C22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FC9-D116-4981-BC5D-C3F6D48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8DC-C185-418C-8EFD-B73AACD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noma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89BE-7817-414E-81F6-CFB793BD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0960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36666"/>
                </a:solidFill>
                <a:latin typeface="Arial"/>
              </a:rPr>
              <a:t>Click to edit the title text format</a:t>
            </a:r>
            <a:endParaRPr b="1" i="1" lang="en-US" sz="4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47F-63B6-4FA5-9C43-C633ED0C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3200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 Integrators View of Cluster 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rn Systems are an aggregation of components from multiple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ystem Integrator provides the customer with a single point of contact with the responsibility for the on time delivery and performance for the entire syste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ystem Integrator passes on as much risk as possible to component vendo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 Integrator still retains the overall responsibility to the customer for the on-time delivery and performance of the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Integrators Ro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uter Vendors are also integrators for Infiniband and Gb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computer vendors don’t manufacturer all of the interconnect compon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y need the same tools as an integrator to configure, install, test, and operate network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Vendors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FP - Defines the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al - Design that addresses th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and 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Generation Tools ( Generate Topology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Verification Tools ( Use Topology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ptanc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onitoring and Failure Detec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Isol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ystem Life Cycle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support for more flexible topolog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R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ive 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han Fat-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Networ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1" lang="en-US" sz="2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3:46:17Z</dcterms:created>
  <dc:creator>James Ballew</dc:creator>
  <dc:description/>
  <dc:language>en-US</dc:language>
  <cp:lastModifiedBy>James Ballew</cp:lastModifiedBy>
  <dcterms:modified xsi:type="dcterms:W3CDTF">2007-05-01T21:08:44Z</dcterms:modified>
  <cp:revision>5</cp:revision>
  <dc:subject/>
  <dc:title>Slide 1</dc:title>
</cp:coreProperties>
</file>