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12C21-BBDF-41E8-A095-F1C67676FD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hap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4961B-1444-47C6-84DA-FAA4C26E43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8240" y="381816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6228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8808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828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2824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8808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828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716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228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240" y="381816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228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08808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828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24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08808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828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716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228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152280"/>
            <a:ext cx="91440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229600" y="6400800"/>
            <a:ext cx="685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8910C-285D-489B-B0C4-50CF51BC173C}" type="slidenum">
              <a:rPr b="1" lang="en-US" sz="14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7391520" y="228600"/>
            <a:ext cx="1662120" cy="6127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380880" y="647712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openfabrics.or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hape 4"/>
          <p:cNvSpPr/>
          <p:nvPr/>
        </p:nvSpPr>
        <p:spPr>
          <a:xfrm>
            <a:off x="2133720" y="6467400"/>
            <a:ext cx="5029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ellanox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2971800" y="1905120"/>
            <a:ext cx="3200400" cy="29178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647712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openfabrics.or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Arial"/>
              </a:rPr>
              <a:t>OFED 1.2 Lessons, 1.3 Planning and Field Suppor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80880" y="4830840"/>
            <a:ext cx="5639040" cy="1342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y 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ziporet Ko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Rectangle 10" descr=""/>
          <p:cNvPicPr/>
          <p:nvPr/>
        </p:nvPicPr>
        <p:blipFill>
          <a:blip r:embed="rId1"/>
          <a:stretch/>
        </p:blipFill>
        <p:spPr>
          <a:xfrm>
            <a:off x="7467480" y="5173560"/>
            <a:ext cx="1308240" cy="100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in New Features - User sp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bibverbs 1.2: Was presented by Ro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verb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lable Reliable Connected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d Send Que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iable Multica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in New Features – iWAR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warp-specific ver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warp-specific async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I for MPA options (CRC/Mark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I for streaming mode IO (needed for compliant iS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y other ULPs (RDS, SDP, iS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FED 1.3 – New HW Suppor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llanox – ConnectX IB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o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w Features - MP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 the new MPI releases that are on time for OFED 1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FED 1.3 Release Sched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ature freeze: Aug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pha: Aug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a: Sep 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C1: Sep 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C2: Oct 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C3: Oct 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: Oct 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FED 1.3 System Matr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Arc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86, x86_64, PPC64, ia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.org: kernel 2.6.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el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ES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ES 10 S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h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HEL 4 (up4 and up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HEL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 distros (Fedora, SuSE Pro, Ubuntu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testing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FED 1.3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process similar to OFED 1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inder: All mails should be send to ewg mailing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-weekly meetings on Mondays 9am P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of you are invited  to participate to influence and con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OFED 1.2 Les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1.3 Plann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eld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eld Sup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A is not a support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hould come from the O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– developers give good answers on the general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WG maintains a support page (on Wiki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ches for critical bug fi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oublesho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for various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uld we do minor rele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ED 1.2 Les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3 Plann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eld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FED 1.2 – What Went G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ly agreement on features and sche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 up on bi-weekly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de collaboration between all compan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ve to g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maintainer has its own git 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ew OFA serv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 compilation se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ily package bui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access to git trees and bui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ion of all to the install &amp; bu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ing task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with bugzi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FED 1.2 – What to Impr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to account first integration effo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days between code freeze to alp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rdination with IB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QoS did not make it to OFED 1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age Changes must be done ea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ll default changes at the end caused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PMs package was not chan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mails regarding the release must be sent to EWG list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big cluster for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OFED 1.2 Les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3 Plann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Field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in New Features - Genera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 kernel: 2.6.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e integration effort into OS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 the packages RP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With Novell and Red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ag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s arrangement for the end us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pilation warn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oS: OSM, CM &amp; CMA, UL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: Updated SA cache; User space events reg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in New Features – UL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PoIB: NAPI; CM in 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FS over RDMA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ER for RH EL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DS in 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P: Asynch IO (Zero Copy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RP: HA in 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FED 1.3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routing performance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more speed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ter packaging/instal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ve” daemon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lity of Service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IBTA annex soon to be rele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diagno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enSM Mayb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ter IPv6 solicited node multicast (SNM) hand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groups share same ML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ed” IBA 1.2.1 enhanc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deDescription changed trap hand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le local event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8T09:13:54Z</dcterms:created>
  <dc:creator>tziporet</dc:creator>
  <dc:description/>
  <dc:language>en-US</dc:language>
  <cp:lastModifiedBy>tziporet</cp:lastModifiedBy>
  <dcterms:modified xsi:type="dcterms:W3CDTF">2007-05-02T18:35:40Z</dcterms:modified>
  <cp:revision>2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