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996E-BF60-4482-8F58-A77BD0CAEB7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2007 Sonoma Workshop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April 30-May 2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 and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th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of th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stics and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letter, Program, Attendees List, Meeting Rooms, Food, Slides fo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Team, Hotel Facilities, Internet Access,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 Gets Everyone Together, has Annual General Meeting, Listen and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provide experience an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Distros and Microsoft give feedback and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1 and 2 OEMs share statu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and RDMA-E Systems and Chip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s, Contributors and Testers update status and plans for code, testing, releases (OFS &amp; OFED), interoperability,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Alliance as a whole be doing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the 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ual Benefit Corporation – non-profit owned by members, for their mutual benefit, founded June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laws govern behavior and procedures, all volunteer, over and above day jobs, leave organization’s persona at th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rs – Chair, Jim Ryan; Vice-Chair, Bill Boas; Treasurer and Secretary, Johann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s – Chairs and Vice Ch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(XWG) Officers + WG Chairs/Vice Ch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al (LWG) – Dave Ford, Chet Meh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– Bob Woodruff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– Jamie Riotto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 – Tuan Phamdo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– Thad Omura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User incl. HSIR – Asaf Somekh, Head Bub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ng to Sonoma for 6 years – DOE Sandia, OpenIB, OpenFab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eb2006 – Open RDMA, OFED 1.1, iWARP, Fall IDF, Interop Events, SC 06, HL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of Sonoma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 and Improve Communication amongst us, learn from the Customer community we serve, introduce new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tell us how we are doing so far with OFED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roughly Review Status of OFED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the Linux Distros and Microsoft think and what we need to change to make including OFED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Tier 1 and 2 OEM are doing and what we can do to help their adoption of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IB and RDMA_E companies are doing and what we can do to help their further adoption of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what Enterprise end user customers need to know and what service/support is necessary to have confidence adopting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nd suggest improvements to Alliance operations – membership, promotion, develop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to Our Spons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und marketing and all other operations of OpenFab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2133720"/>
          <a:ext cx="167616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676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648320" y="2155680"/>
          <a:ext cx="22096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55680"/>
                    <a:ext cx="22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logo"/>
          <p:cNvPicPr/>
          <p:nvPr/>
        </p:nvPicPr>
        <p:blipFill>
          <a:blip r:embed="rId5"/>
          <a:stretch/>
        </p:blipFill>
        <p:spPr>
          <a:xfrm>
            <a:off x="685800" y="3224160"/>
            <a:ext cx="1380960" cy="428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978280" y="3030480"/>
            <a:ext cx="106668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7315200" y="2043000"/>
          <a:ext cx="106668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2043000"/>
                    <a:ext cx="10666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7391520" y="2962440"/>
            <a:ext cx="755640" cy="952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5184720" y="3124080"/>
            <a:ext cx="1066680" cy="62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rcRect l="10962" t="16468" r="12474" b="17607"/>
          <a:stretch/>
        </p:blipFill>
        <p:spPr>
          <a:xfrm>
            <a:off x="2895480" y="2039760"/>
            <a:ext cx="11430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Lenovo</cp:lastModifiedBy>
  <dcterms:modified xsi:type="dcterms:W3CDTF">2007-04-29T19:11:18Z</dcterms:modified>
  <cp:revision>102</cp:revision>
  <dc:subject/>
  <dc:title>Slide 1</dc:title>
</cp:coreProperties>
</file>