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240" y="381816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228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8808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828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24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8808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828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716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228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240" y="381816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228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8808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828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24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8808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828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716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228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52280"/>
            <a:ext cx="91440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229600" y="640080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D4AF1-932C-41C3-AA34-5C6D5B4D0B29}" type="slidenum">
              <a:rPr b="1" lang="en-US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391520" y="228600"/>
            <a:ext cx="1662120" cy="6127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380880" y="64771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openfabrics.or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2971800" y="1905120"/>
            <a:ext cx="3200400" cy="2917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64771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openfabrics.or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icrosoft.com/about/legal/intellectualproperty/standards/default.mspx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Arial"/>
              </a:rPr>
              <a:t>Sockets over RDMA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6160" y="510516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kady Kanevs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 Ap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ree legged st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operability/Backward compat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352680" y="3276720"/>
            <a:ext cx="142884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tocol License 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SFT SDP pa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icrosoft.com/about/legal/intellectualproperty/standards/default.msp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DP over 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ompany signs 1-on-1 source code license agreement with MSFT for development of SD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DP source code must include MSFT “license” 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license for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rty or distribu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.org will not accept SDP code under these condi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SFT Windows Socket Direct was extended to exposed memory reg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Group ICSC Extended Socket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for common simple Socket over RDMA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er semantic mapping of socket semantic to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PI with kernel byp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A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DP Protocol Technic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K_STREAM in SDP (RC-bas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K_DGRAM not is S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P 4 data transfer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d into modes: buffered, pipelined, comb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P CM manager is not based on IBTA RDMA IP CM Service Annex (post IBTA 1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ed S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Q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true zero-copy in OFA SD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chael Tsirkin’s Protocol com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 to fix issues that seem to be fundamental in SDP mode of op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support for SRQ - forces pre-posting of large number of buffers per-sock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connection rate - a single connection can't be reused for multiple soc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-based credits don't utilize hardware flow control, and break polling-based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support for high availability: failover only with A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support for multicast and/or UDP (discard packets on RQ overru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sues that might be addressable with extensions to the SDP protoc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DP Zcopy mode not a good fit for synchronous operations  (Zcopy read needs slow 3 way handshake, zcopy write can not pipeline many writes into a sing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ertise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-based operation - can't mix RDMA (for large buffers) and bcopy (for small buff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OB not supported in zcopy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DP connection setup it too different from TCP socket setup, so SDP termination/routing across a TCP socket quite non triv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t RTU" problem - analog of SYN flood (seen when remote is unstable/crashing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roper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interoperability with SD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w Protocol needed or no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requir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the discussion star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2T20:45:04Z</dcterms:created>
  <dc:creator>Gabriela</dc:creator>
  <dc:description/>
  <dc:language>en-US</dc:language>
  <cp:lastModifiedBy>NetApp</cp:lastModifiedBy>
  <dcterms:modified xsi:type="dcterms:W3CDTF">2007-04-30T18:12:19Z</dcterms:modified>
  <cp:revision>68</cp:revision>
  <dc:subject/>
  <dc:title>Slide 1</dc:title>
</cp:coreProperties>
</file>