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8.wmf" ContentType="image/x-wmf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1"/>
          </p:nvPr>
        </p:nvSpPr>
        <p:spPr>
          <a:xfrm>
            <a:off x="4142880" y="0"/>
            <a:ext cx="317052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257120" y="7189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2"/>
          </p:nvPr>
        </p:nvSpPr>
        <p:spPr>
          <a:xfrm>
            <a:off x="0" y="9118080"/>
            <a:ext cx="3170160" cy="4813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3"/>
          </p:nvPr>
        </p:nvSpPr>
        <p:spPr>
          <a:xfrm>
            <a:off x="4142880" y="9118080"/>
            <a:ext cx="3170520" cy="4813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D0A968-1706-4046-B44B-88D1D42ACD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4142880" y="9118080"/>
            <a:ext cx="3170520" cy="4813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BB0708-982E-497E-9C85-C2B2A9591C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74880" y="4559040"/>
            <a:ext cx="5365440" cy="43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620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676160" y="5105160"/>
            <a:ext cx="56386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676160" y="5463360"/>
            <a:ext cx="56386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620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676160" y="5105160"/>
            <a:ext cx="2751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65520" y="5105160"/>
            <a:ext cx="2751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676160" y="5463360"/>
            <a:ext cx="2751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5520" y="5463360"/>
            <a:ext cx="2751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620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676160" y="5105160"/>
            <a:ext cx="1815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4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82720" y="5105160"/>
            <a:ext cx="1815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4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489280" y="5105160"/>
            <a:ext cx="1815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4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676160" y="5463360"/>
            <a:ext cx="1815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4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82720" y="5463360"/>
            <a:ext cx="1815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4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489280" y="5463360"/>
            <a:ext cx="1815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4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620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676160" y="510516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620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76160" y="510516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620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676160" y="5105160"/>
            <a:ext cx="27514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565520" y="5105160"/>
            <a:ext cx="27514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620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914040" y="304560"/>
            <a:ext cx="7620120" cy="49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620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676160" y="5105160"/>
            <a:ext cx="2751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65520" y="5105160"/>
            <a:ext cx="27514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676160" y="5463360"/>
            <a:ext cx="2751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620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676160" y="510516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620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676160" y="5105160"/>
            <a:ext cx="27514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65520" y="5105160"/>
            <a:ext cx="2751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65520" y="5463360"/>
            <a:ext cx="2751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620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676160" y="5105160"/>
            <a:ext cx="2751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65520" y="5105160"/>
            <a:ext cx="2751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676160" y="5463360"/>
            <a:ext cx="56386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620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676160" y="5105160"/>
            <a:ext cx="56386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676160" y="5463360"/>
            <a:ext cx="56386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620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676160" y="5105160"/>
            <a:ext cx="2751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65520" y="5105160"/>
            <a:ext cx="2751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676160" y="5463360"/>
            <a:ext cx="2751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65520" y="5463360"/>
            <a:ext cx="2751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620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676160" y="5105160"/>
            <a:ext cx="1815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4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82720" y="5105160"/>
            <a:ext cx="1815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4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489280" y="5105160"/>
            <a:ext cx="1815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4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676160" y="5463360"/>
            <a:ext cx="1815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4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582720" y="5463360"/>
            <a:ext cx="1815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4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489280" y="5463360"/>
            <a:ext cx="1815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4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620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76160" y="510516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620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676160" y="5105160"/>
            <a:ext cx="27514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565520" y="5105160"/>
            <a:ext cx="27514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620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040" y="304560"/>
            <a:ext cx="7620120" cy="49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620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676160" y="5105160"/>
            <a:ext cx="2751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565520" y="5105160"/>
            <a:ext cx="27514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676160" y="5463360"/>
            <a:ext cx="2751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620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676160" y="5105160"/>
            <a:ext cx="27514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565520" y="5105160"/>
            <a:ext cx="2751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5520" y="5463360"/>
            <a:ext cx="2751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620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676160" y="5105160"/>
            <a:ext cx="2751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65520" y="5105160"/>
            <a:ext cx="2751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676160" y="5463360"/>
            <a:ext cx="56386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3716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0" y="152280"/>
            <a:ext cx="914400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0" y="6400800"/>
            <a:ext cx="9144000" cy="45720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8229600" y="6400800"/>
            <a:ext cx="6858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FE979-EF0E-4AD9-A908-BA81404F0FAC}" type="slidenum">
              <a:rPr b="1" lang="en-US" sz="14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4"/>
          <a:stretch/>
        </p:blipFill>
        <p:spPr>
          <a:xfrm>
            <a:off x="7848720" y="152280"/>
            <a:ext cx="1022400" cy="947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8702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0" y="6400800"/>
            <a:ext cx="9144000" cy="4572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620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2741760" y="1903320"/>
            <a:ext cx="3354120" cy="335448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openfabrics.org/" TargetMode="Externa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ffff"/>
                </a:solidFill>
                <a:latin typeface="Arial"/>
              </a:rPr>
              <a:t>OFED Usage in VMware Virtual Infrastructure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728720" y="4978080"/>
            <a:ext cx="5639040" cy="14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ne Marie Merritt, VM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ziporet Koren, Mella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 1, 2007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noma Workshop 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9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RP SAN Performance from V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57200" y="5835600"/>
            <a:ext cx="8229600" cy="457200"/>
          </a:xfrm>
          <a:prstGeom prst="rect">
            <a:avLst/>
          </a:prstGeom>
          <a:solidFill>
            <a:srgbClr val="b9d0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ame as four dedicated 4Gb/s FC HB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838080" y="1420920"/>
            <a:ext cx="5791320" cy="434340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6705720" y="3276720"/>
            <a:ext cx="2057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28KB Read benchmarks from four V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03040" y="392040"/>
            <a:ext cx="7645680" cy="4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sing Virtual Center Seamlessl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3124080" y="1479600"/>
            <a:ext cx="5843880" cy="3960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85" name=""/>
          <p:cNvSpPr/>
          <p:nvPr/>
        </p:nvSpPr>
        <p:spPr>
          <a:xfrm>
            <a:off x="380880" y="1708200"/>
            <a:ext cx="23623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orage configu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mhba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934320" y="2622600"/>
            <a:ext cx="304560" cy="304920"/>
          </a:xfrm>
          <a:prstGeom prst="downArrow">
            <a:avLst>
              <a:gd name="adj1" fmla="val 50000"/>
              <a:gd name="adj2" fmla="val 2503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315200" y="3613320"/>
            <a:ext cx="304920" cy="304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304920" y="3222720"/>
            <a:ext cx="5715000" cy="3068640"/>
            <a:chOff x="304920" y="3222720"/>
            <a:chExt cx="5715000" cy="3068640"/>
          </a:xfrm>
        </p:grpSpPr>
        <p:pic>
          <p:nvPicPr>
            <p:cNvPr id="189" name="" descr=""/>
            <p:cNvPicPr/>
            <p:nvPr/>
          </p:nvPicPr>
          <p:blipFill>
            <a:blip r:embed="rId2"/>
            <a:stretch/>
          </p:blipFill>
          <p:spPr>
            <a:xfrm>
              <a:off x="304920" y="3222720"/>
              <a:ext cx="5715000" cy="30686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190" name=""/>
            <p:cNvSpPr/>
            <p:nvPr/>
          </p:nvSpPr>
          <p:spPr>
            <a:xfrm>
              <a:off x="3809880" y="4604040"/>
              <a:ext cx="304920" cy="30456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10800000">
              <a:off x="3048120" y="4146840"/>
              <a:ext cx="304560" cy="30456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4375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Mware Contac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further information please contact your VMware account tea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620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ffffff"/>
                </a:solidFill>
                <a:latin typeface="Arial"/>
              </a:rPr>
              <a:t>Thank You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1676160" y="510516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ED in VMware Communit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ED Components 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ion Challen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hancements in ESX kernel and driv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the components fit in VMware ES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/O consolidation value propo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 Center management transpar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FED in VMware Community Source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iniBand with OFED – one of the first projects in VMware community source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ive development by several InfiniBand vend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verage community-wide development and vendor interoper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 Infrastructure (ESX) based product in the fu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FED Components Us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060560" y="1393920"/>
            <a:ext cx="7037280" cy="49910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7678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B Enablement in ES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5097600" cy="441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5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ED Linux based drivers used as ba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ice driver, IPoIB and SRP (SCSI RDMA Protoco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rage and Networking functi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oks like regular NIC or HB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Motion is suppor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net Management agent functi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d from OpenFabrics Allianc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openfabrics.or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s 2.6.19 kernel AP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5850000" y="4189320"/>
            <a:ext cx="2828880" cy="20005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5035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Challenge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X Linux API is based on a 2.4 Linux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the 2.4 APIs are impleme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2.4 APIs are slightly different in ES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memory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build 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rietary management for networking and stor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6160" y="272880"/>
            <a:ext cx="755820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nhancements or Optimiz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415360" cy="45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X kernel chan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on spinlock implementation for network and storage driv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hancement to VMkernel loader to export Linux-like symbol mechani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API for network driver to access internal VSwitch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SI command with multiple scatter list of 512-byte aligned buf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rious other optimiz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iniBand driver chan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ion layer to map Linux 2.6 APIs to Linux 2.4 AP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ule heap mechanism to support shared memory between InfiniBand modu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new API by network driver for seamless VMotion 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PoIB working with multiple QPs for different VMs and VL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45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PoIB was modified to support the ESX NIC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it one SCSI host and net device per PCI f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8840" y="264960"/>
            <a:ext cx="7859880" cy="7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finiBand with Virtual Infrastructure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57200" y="5776920"/>
            <a:ext cx="8229600" cy="457200"/>
          </a:xfrm>
          <a:prstGeom prst="rect">
            <a:avLst/>
          </a:prstGeom>
          <a:solidFill>
            <a:srgbClr val="b9d0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ransparent to VMs and Virtual Cen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903240" y="1508040"/>
            <a:ext cx="7337520" cy="41734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4648320" y="2435400"/>
            <a:ext cx="4038480" cy="2286000"/>
          </a:xfrm>
          <a:prstGeom prst="rect">
            <a:avLst/>
          </a:prstGeom>
          <a:solidFill>
            <a:srgbClr val="333399">
              <a:alpha val="2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12480" y="290160"/>
            <a:ext cx="817236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M Transparent Server I/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ing &amp; Consolid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57200" y="2435400"/>
            <a:ext cx="3809880" cy="2286000"/>
          </a:xfrm>
          <a:prstGeom prst="rect">
            <a:avLst/>
          </a:prstGeom>
          <a:solidFill>
            <a:srgbClr val="ffff00">
              <a:alpha val="2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85800" y="2587680"/>
            <a:ext cx="609480" cy="6858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685800"/>
              <a:gd name="textAreaBottom" fmla="*/ 656280 h 685800"/>
            </a:gdLst>
            <a:ahLst/>
            <a:rect l="textAreaLeft" t="textAreaTop" r="textAreaRight" b="textAreaBottom"/>
            <a:pathLst>
              <a:path w="21600" h="24303">
                <a:moveTo>
                  <a:pt x="3600" y="0"/>
                </a:moveTo>
                <a:arcTo wR="3600" hR="3600" stAng="16200000" swAng="-5400000"/>
                <a:lnTo>
                  <a:pt x="0" y="20703"/>
                </a:lnTo>
                <a:arcTo wR="3600" hR="3600" stAng="10800000" swAng="-5400000"/>
                <a:lnTo>
                  <a:pt x="18000" y="243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VM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371600" y="2587680"/>
            <a:ext cx="609480" cy="6858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685800"/>
              <a:gd name="textAreaBottom" fmla="*/ 656280 h 685800"/>
            </a:gdLst>
            <a:ahLst/>
            <a:rect l="textAreaLeft" t="textAreaTop" r="textAreaRight" b="textAreaBottom"/>
            <a:pathLst>
              <a:path w="21600" h="24303">
                <a:moveTo>
                  <a:pt x="3600" y="0"/>
                </a:moveTo>
                <a:arcTo wR="3600" hR="3600" stAng="16200000" swAng="-5400000"/>
                <a:lnTo>
                  <a:pt x="0" y="20703"/>
                </a:lnTo>
                <a:arcTo wR="3600" hR="3600" stAng="10800000" swAng="-5400000"/>
                <a:lnTo>
                  <a:pt x="18000" y="243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VM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057400" y="2587680"/>
            <a:ext cx="609480" cy="6858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685800"/>
              <a:gd name="textAreaBottom" fmla="*/ 656280 h 685800"/>
            </a:gdLst>
            <a:ahLst/>
            <a:rect l="textAreaLeft" t="textAreaTop" r="textAreaRight" b="textAreaBottom"/>
            <a:pathLst>
              <a:path w="21600" h="24303">
                <a:moveTo>
                  <a:pt x="3600" y="0"/>
                </a:moveTo>
                <a:arcTo wR="3600" hR="3600" stAng="16200000" swAng="-5400000"/>
                <a:lnTo>
                  <a:pt x="0" y="20703"/>
                </a:lnTo>
                <a:arcTo wR="3600" hR="3600" stAng="10800000" swAng="-5400000"/>
                <a:lnTo>
                  <a:pt x="18000" y="243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VM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743200" y="2587680"/>
            <a:ext cx="609480" cy="6858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685800"/>
              <a:gd name="textAreaBottom" fmla="*/ 656280 h 685800"/>
            </a:gdLst>
            <a:ahLst/>
            <a:rect l="textAreaLeft" t="textAreaTop" r="textAreaRight" b="textAreaBottom"/>
            <a:pathLst>
              <a:path w="21600" h="24303">
                <a:moveTo>
                  <a:pt x="3600" y="0"/>
                </a:moveTo>
                <a:arcTo wR="3600" hR="3600" stAng="16200000" swAng="-5400000"/>
                <a:lnTo>
                  <a:pt x="0" y="20703"/>
                </a:lnTo>
                <a:arcTo wR="3600" hR="3600" stAng="10800000" swAng="-5400000"/>
                <a:lnTo>
                  <a:pt x="18000" y="243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VM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85800" y="3425760"/>
            <a:ext cx="34290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Virtualization Laye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505320" y="2587680"/>
            <a:ext cx="609480" cy="6858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685800"/>
              <a:gd name="textAreaBottom" fmla="*/ 656280 h 685800"/>
            </a:gdLst>
            <a:ahLst/>
            <a:rect l="textAreaLeft" t="textAreaTop" r="textAreaRight" b="textAreaBottom"/>
            <a:pathLst>
              <a:path w="21600" h="24303">
                <a:moveTo>
                  <a:pt x="3600" y="0"/>
                </a:moveTo>
                <a:arcTo wR="3600" hR="3600" stAng="16200000" swAng="-5400000"/>
                <a:lnTo>
                  <a:pt x="0" y="20703"/>
                </a:lnTo>
                <a:arcTo wR="3600" hR="3600" stAng="10800000" swAng="-5400000"/>
                <a:lnTo>
                  <a:pt x="18000" y="243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VM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84280" y="4111560"/>
            <a:ext cx="75960" cy="0"/>
          </a:xfrm>
          <a:prstGeom prst="line">
            <a:avLst/>
          </a:prstGeom>
          <a:ln w="28440">
            <a:solidFill>
              <a:srgbClr val="66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73200" y="4111560"/>
            <a:ext cx="0" cy="533520"/>
          </a:xfrm>
          <a:prstGeom prst="line">
            <a:avLst/>
          </a:prstGeom>
          <a:ln w="28440">
            <a:solidFill>
              <a:srgbClr val="66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3200" y="4187880"/>
            <a:ext cx="457200" cy="304920"/>
          </a:xfrm>
          <a:prstGeom prst="rect">
            <a:avLst/>
          </a:prstGeom>
          <a:solidFill>
            <a:srgbClr val="33cc33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25480" y="4492800"/>
            <a:ext cx="304920" cy="75960"/>
          </a:xfrm>
          <a:prstGeom prst="rect">
            <a:avLst/>
          </a:prstGeom>
          <a:solidFill>
            <a:srgbClr val="33cc33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1130400" y="4111560"/>
            <a:ext cx="546120" cy="533160"/>
            <a:chOff x="1130400" y="4111560"/>
            <a:chExt cx="546120" cy="533160"/>
          </a:xfrm>
        </p:grpSpPr>
        <p:sp>
          <p:nvSpPr>
            <p:cNvPr id="123" name=""/>
            <p:cNvSpPr/>
            <p:nvPr/>
          </p:nvSpPr>
          <p:spPr>
            <a:xfrm>
              <a:off x="1130400" y="4111560"/>
              <a:ext cx="76320" cy="0"/>
            </a:xfrm>
            <a:prstGeom prst="line">
              <a:avLst/>
            </a:prstGeom>
            <a:ln w="2844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219320" y="4111560"/>
              <a:ext cx="0" cy="533160"/>
            </a:xfrm>
            <a:prstGeom prst="line">
              <a:avLst/>
            </a:prstGeom>
            <a:ln w="2844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219320" y="4187520"/>
              <a:ext cx="457200" cy="30492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371600" y="4492440"/>
              <a:ext cx="304920" cy="7632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1663560" y="4111560"/>
            <a:ext cx="546120" cy="533160"/>
            <a:chOff x="1663560" y="4111560"/>
            <a:chExt cx="546120" cy="533160"/>
          </a:xfrm>
        </p:grpSpPr>
        <p:sp>
          <p:nvSpPr>
            <p:cNvPr id="128" name=""/>
            <p:cNvSpPr/>
            <p:nvPr/>
          </p:nvSpPr>
          <p:spPr>
            <a:xfrm>
              <a:off x="1663560" y="4111560"/>
              <a:ext cx="76320" cy="0"/>
            </a:xfrm>
            <a:prstGeom prst="line">
              <a:avLst/>
            </a:prstGeom>
            <a:ln w="2844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52480" y="4111560"/>
              <a:ext cx="0" cy="533160"/>
            </a:xfrm>
            <a:prstGeom prst="line">
              <a:avLst/>
            </a:prstGeom>
            <a:ln w="2844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752480" y="4187520"/>
              <a:ext cx="457200" cy="30492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904760" y="4492440"/>
              <a:ext cx="304920" cy="7632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2197080" y="4111560"/>
            <a:ext cx="546120" cy="533160"/>
            <a:chOff x="2197080" y="4111560"/>
            <a:chExt cx="546120" cy="533160"/>
          </a:xfrm>
        </p:grpSpPr>
        <p:sp>
          <p:nvSpPr>
            <p:cNvPr id="133" name=""/>
            <p:cNvSpPr/>
            <p:nvPr/>
          </p:nvSpPr>
          <p:spPr>
            <a:xfrm>
              <a:off x="2197080" y="4111560"/>
              <a:ext cx="76320" cy="0"/>
            </a:xfrm>
            <a:prstGeom prst="line">
              <a:avLst/>
            </a:prstGeom>
            <a:ln w="2844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286000" y="4111560"/>
              <a:ext cx="0" cy="533160"/>
            </a:xfrm>
            <a:prstGeom prst="line">
              <a:avLst/>
            </a:prstGeom>
            <a:ln w="2844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286000" y="4187520"/>
              <a:ext cx="457200" cy="30492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438280" y="4492440"/>
              <a:ext cx="304920" cy="7632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946240" y="4111560"/>
            <a:ext cx="546120" cy="533520"/>
            <a:chOff x="2946240" y="4111560"/>
            <a:chExt cx="546120" cy="533520"/>
          </a:xfrm>
        </p:grpSpPr>
        <p:sp>
          <p:nvSpPr>
            <p:cNvPr id="138" name=""/>
            <p:cNvSpPr/>
            <p:nvPr/>
          </p:nvSpPr>
          <p:spPr>
            <a:xfrm>
              <a:off x="3035160" y="4187880"/>
              <a:ext cx="457200" cy="304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187440" y="4492800"/>
              <a:ext cx="304920" cy="7596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946240" y="4111560"/>
              <a:ext cx="75960" cy="0"/>
            </a:xfrm>
            <a:prstGeom prst="line">
              <a:avLst/>
            </a:prstGeom>
            <a:ln w="381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035160" y="4111560"/>
              <a:ext cx="0" cy="533520"/>
            </a:xfrm>
            <a:prstGeom prst="line">
              <a:avLst/>
            </a:prstGeom>
            <a:ln w="381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3492360" y="4111560"/>
            <a:ext cx="546120" cy="533520"/>
            <a:chOff x="3492360" y="4111560"/>
            <a:chExt cx="546120" cy="533520"/>
          </a:xfrm>
        </p:grpSpPr>
        <p:sp>
          <p:nvSpPr>
            <p:cNvPr id="143" name=""/>
            <p:cNvSpPr/>
            <p:nvPr/>
          </p:nvSpPr>
          <p:spPr>
            <a:xfrm>
              <a:off x="3581280" y="4187880"/>
              <a:ext cx="457200" cy="304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733560" y="4492800"/>
              <a:ext cx="304920" cy="7596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492360" y="4111560"/>
              <a:ext cx="75960" cy="0"/>
            </a:xfrm>
            <a:prstGeom prst="line">
              <a:avLst/>
            </a:prstGeom>
            <a:ln w="381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581280" y="4111560"/>
              <a:ext cx="0" cy="533520"/>
            </a:xfrm>
            <a:prstGeom prst="line">
              <a:avLst/>
            </a:prstGeom>
            <a:ln w="381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609480" y="4187880"/>
            <a:ext cx="53352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G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971800" y="4187880"/>
            <a:ext cx="53352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FC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914400" y="3882960"/>
            <a:ext cx="0" cy="30492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447920" y="3882960"/>
            <a:ext cx="0" cy="30492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981080" y="3882960"/>
            <a:ext cx="0" cy="30492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514600" y="3882960"/>
            <a:ext cx="0" cy="30492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143000" y="4187880"/>
            <a:ext cx="53352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G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676520" y="4187880"/>
            <a:ext cx="53316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G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209680" y="4187880"/>
            <a:ext cx="53352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G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505320" y="4187880"/>
            <a:ext cx="53316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FC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200400" y="3882960"/>
            <a:ext cx="0" cy="304920"/>
          </a:xfrm>
          <a:prstGeom prst="line">
            <a:avLst/>
          </a:prstGeom>
          <a:ln w="38160">
            <a:solidFill>
              <a:srgbClr val="d636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809880" y="3882960"/>
            <a:ext cx="0" cy="304920"/>
          </a:xfrm>
          <a:prstGeom prst="line">
            <a:avLst/>
          </a:prstGeom>
          <a:ln w="38160">
            <a:solidFill>
              <a:srgbClr val="d636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800600" y="2587680"/>
            <a:ext cx="609480" cy="6858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685800"/>
              <a:gd name="textAreaBottom" fmla="*/ 656280 h 685800"/>
            </a:gdLst>
            <a:ahLst/>
            <a:rect l="textAreaLeft" t="textAreaTop" r="textAreaRight" b="textAreaBottom"/>
            <a:pathLst>
              <a:path w="21600" h="24303">
                <a:moveTo>
                  <a:pt x="3600" y="0"/>
                </a:moveTo>
                <a:arcTo wR="3600" hR="3600" stAng="16200000" swAng="-5400000"/>
                <a:lnTo>
                  <a:pt x="0" y="20703"/>
                </a:lnTo>
                <a:arcTo wR="3600" hR="3600" stAng="10800000" swAng="-5400000"/>
                <a:lnTo>
                  <a:pt x="18000" y="243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VM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486400" y="2587680"/>
            <a:ext cx="609480" cy="6858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685800"/>
              <a:gd name="textAreaBottom" fmla="*/ 656280 h 685800"/>
            </a:gdLst>
            <a:ahLst/>
            <a:rect l="textAreaLeft" t="textAreaTop" r="textAreaRight" b="textAreaBottom"/>
            <a:pathLst>
              <a:path w="21600" h="24303">
                <a:moveTo>
                  <a:pt x="3600" y="0"/>
                </a:moveTo>
                <a:arcTo wR="3600" hR="3600" stAng="16200000" swAng="-5400000"/>
                <a:lnTo>
                  <a:pt x="0" y="20703"/>
                </a:lnTo>
                <a:arcTo wR="3600" hR="3600" stAng="10800000" swAng="-5400000"/>
                <a:lnTo>
                  <a:pt x="18000" y="243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VM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172200" y="2587680"/>
            <a:ext cx="609480" cy="6858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685800"/>
              <a:gd name="textAreaBottom" fmla="*/ 656280 h 685800"/>
            </a:gdLst>
            <a:ahLst/>
            <a:rect l="textAreaLeft" t="textAreaTop" r="textAreaRight" b="textAreaBottom"/>
            <a:pathLst>
              <a:path w="21600" h="24303">
                <a:moveTo>
                  <a:pt x="3600" y="0"/>
                </a:moveTo>
                <a:arcTo wR="3600" hR="3600" stAng="16200000" swAng="-5400000"/>
                <a:lnTo>
                  <a:pt x="0" y="20703"/>
                </a:lnTo>
                <a:arcTo wR="3600" hR="3600" stAng="10800000" swAng="-5400000"/>
                <a:lnTo>
                  <a:pt x="18000" y="243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VM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858000" y="2587680"/>
            <a:ext cx="609480" cy="6858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685800"/>
              <a:gd name="textAreaBottom" fmla="*/ 656280 h 685800"/>
            </a:gdLst>
            <a:ahLst/>
            <a:rect l="textAreaLeft" t="textAreaTop" r="textAreaRight" b="textAreaBottom"/>
            <a:pathLst>
              <a:path w="21600" h="24303">
                <a:moveTo>
                  <a:pt x="3600" y="0"/>
                </a:moveTo>
                <a:arcTo wR="3600" hR="3600" stAng="16200000" swAng="-5400000"/>
                <a:lnTo>
                  <a:pt x="0" y="20703"/>
                </a:lnTo>
                <a:arcTo wR="3600" hR="3600" stAng="10800000" swAng="-5400000"/>
                <a:lnTo>
                  <a:pt x="18000" y="243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VM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800600" y="3425760"/>
            <a:ext cx="380988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Virtualization Laye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620120" y="2587680"/>
            <a:ext cx="609480" cy="6858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685800"/>
              <a:gd name="textAreaBottom" fmla="*/ 656280 h 685800"/>
            </a:gdLst>
            <a:ahLst/>
            <a:rect l="textAreaLeft" t="textAreaTop" r="textAreaRight" b="textAreaBottom"/>
            <a:pathLst>
              <a:path w="21600" h="24303">
                <a:moveTo>
                  <a:pt x="3600" y="0"/>
                </a:moveTo>
                <a:arcTo wR="3600" hR="3600" stAng="16200000" swAng="-5400000"/>
                <a:lnTo>
                  <a:pt x="0" y="20703"/>
                </a:lnTo>
                <a:arcTo wR="3600" hR="3600" stAng="10800000" swAng="-5400000"/>
                <a:lnTo>
                  <a:pt x="18000" y="243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VM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896160" y="3959280"/>
            <a:ext cx="0" cy="304920"/>
          </a:xfrm>
          <a:prstGeom prst="line">
            <a:avLst/>
          </a:prstGeom>
          <a:ln w="76320">
            <a:solidFill>
              <a:srgbClr val="d636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629400" y="4340160"/>
            <a:ext cx="53352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09480" y="4797360"/>
            <a:ext cx="342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Arial"/>
              </a:rPr>
              <a:t>Typical Deployment Configu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800760" y="3959280"/>
            <a:ext cx="0" cy="304920"/>
          </a:xfrm>
          <a:prstGeom prst="line">
            <a:avLst/>
          </a:prstGeom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743880" y="3959280"/>
            <a:ext cx="0" cy="304920"/>
          </a:xfrm>
          <a:prstGeom prst="line">
            <a:avLst/>
          </a:prstGeom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953400" y="3959280"/>
            <a:ext cx="0" cy="304920"/>
          </a:xfrm>
          <a:prstGeom prst="line">
            <a:avLst/>
          </a:prstGeom>
          <a:ln w="76320">
            <a:solidFill>
              <a:srgbClr val="d636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rot="16200000">
            <a:off x="4071600" y="299520"/>
            <a:ext cx="924120" cy="3124080"/>
          </a:xfrm>
          <a:custGeom>
            <a:avLst/>
            <a:gdLst>
              <a:gd name="textAreaLeft" fmla="*/ 123840 w 924120"/>
              <a:gd name="textAreaRight" fmla="*/ 800280 w 924120"/>
              <a:gd name="textAreaTop" fmla="*/ 546480 h 3124080"/>
              <a:gd name="textAreaBottom" fmla="*/ 2265120 h 312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gradFill rotWithShape="0">
            <a:gsLst>
              <a:gs pos="0">
                <a:srgbClr val="ccecff">
                  <a:alpha val="60392"/>
                </a:srgbClr>
              </a:gs>
              <a:gs pos="100000">
                <a:srgbClr val="5e6c75">
                  <a:alpha val="60392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527880" y="4264200"/>
            <a:ext cx="61920" cy="0"/>
          </a:xfrm>
          <a:prstGeom prst="line">
            <a:avLst/>
          </a:prstGeom>
          <a:ln w="28440">
            <a:solidFill>
              <a:srgbClr val="66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599160" y="4329000"/>
            <a:ext cx="563760" cy="262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I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723000" y="4591080"/>
            <a:ext cx="439920" cy="65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599160" y="4264200"/>
            <a:ext cx="0" cy="457200"/>
          </a:xfrm>
          <a:prstGeom prst="line">
            <a:avLst/>
          </a:prstGeom>
          <a:ln w="28440">
            <a:solidFill>
              <a:srgbClr val="66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876920" y="4797360"/>
            <a:ext cx="342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Arial"/>
              </a:rPr>
              <a:t>With Mellanox InfiniBand Adap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" y="5438880"/>
            <a:ext cx="8229600" cy="457200"/>
          </a:xfrm>
          <a:prstGeom prst="rect">
            <a:avLst/>
          </a:prstGeom>
          <a:solidFill>
            <a:srgbClr val="b9d0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~3X networking, ~10X SAN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286000" y="5972040"/>
            <a:ext cx="640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er adapter performance.  Based on comparisons with GigE and 2 Gb/s Fibre Chann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2T20:45:04Z</dcterms:created>
  <dc:creator>Gabriela</dc:creator>
  <dc:description/>
  <dc:language>en-US</dc:language>
  <cp:lastModifiedBy>Sujal</cp:lastModifiedBy>
  <dcterms:modified xsi:type="dcterms:W3CDTF">2007-04-30T16:50:29Z</dcterms:modified>
  <cp:revision>11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