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BB4-2EF8-48EC-B6A4-F2A54D37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C37-B951-4D39-AF5B-E768E589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ACD5-1B29-4AAE-B893-AE9BA6866BC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2 Lessons, 1.3 Planning and Field Suppo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User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ibverbs 1.2: Was presented by R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Reliable Connecte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Send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iW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asyn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MPA options (CRC/Mar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streaming mode IO (needed for compliant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other ULPs (RDS, SDP,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New HW Sup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anox – ConnectX IB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- 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new MPI releases that are on time for 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Relea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freeze: Aug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: Aug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: Sep 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1: Sep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2: Oct 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3: Oct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: Oct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System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86, x86_64, PPC64, ia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 and u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Fedora, SuSE Pro, Ubunt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sting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process similar to OFED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 All mails should be send to ewg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weekly meetings on Mondays 9am P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you are invited  to participate to influence and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s not a suppor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hould come from the 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– developers give good answers on the general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G maintains a support page (on Wik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es for critical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variou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o minor rel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Went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greement on features and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n bi-weekl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collaboration between all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 to 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intainer has its own gi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OF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compil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ackag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 to git trees and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all to the install &amp;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bugz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to Imp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o account first integration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 between code freeze to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with IB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QoS did not make it to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Changes must be don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default changes at the end caus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Ms package was not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ils regarding the release must be sent to EWG lis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big cluster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Gen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kernel: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ackages R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Novell and 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rangement for the end 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pilation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: OSM, CM &amp; CMA, U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Updated SA cache; User space events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IB: NAPI; CM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 over RDMA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for RH E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: Asynch IO (Zero Cop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: HA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uting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ore speed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ackaging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BTA annex soon to be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SM May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Pv6 solicited node multicast (SNM)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groups share same M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” IBA 1.2.1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Description changed trap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local even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7-05-02T18:35:40Z</dcterms:modified>
  <cp:revision>2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