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ng" ContentType="image/png"/>
  <Override PartName="/ppt/media/image10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376D2-DC6B-41E0-B73E-66029C761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 pattern used for measuring startup (latency) and throughput (bandwidth) of a single message sent between two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599A-CBB3-41BF-A568-F5ED43AB63A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Operational and Application Experiences with the Infiniband Environmen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haron Brunet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lte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y 1, 200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MB MPI_AllRedu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600200"/>
          <a:ext cx="86868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ning Tests Revealed Infiniband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rt Management (PM) facility gives sysadmin/user ability to analyze and maintain the Infinib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 ports had high PortRcvErrors, indicative of a bad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cables and swapping in a new IB blade isolated the problem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reduced by configurable threshold limit (HOQ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 IB Blade Identified 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Challenges Ar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ing the Infiniband switch, as currently installed, is no pic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how working parts need to be dismantled to access parts needing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 tracing and stress needs at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boards can take multiple re-seatings before they’re “snu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rk says…hardware should be treated like a delicate f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496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s of the code with MPI collective calls sensitive to msg lengths and process 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ndicative benchmarks as part of production run set up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Voltaire’s PM utility to routinely monitor the fabric for probl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ity an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dinner for Trent and 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out linkcheck and ibcheckfabric on our little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ing our Lives Easi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lanox drivers -&gt; OpenIB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ly built golden image gives flexibility but has 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probing of PM counter report files to compare against “known good”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suspect 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tandard/factory benchmarks to verify Infiniband cluster is working at customer site as well as when the integrated system shipp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ly important as cluster exp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tate low level PM facilities into support level tools for better integrated monitori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3_Production Environment using Infini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Hardwar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Softwar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Usag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Infiniband particu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Sampl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Bench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A less challenging fu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A collection of hoped fo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71840" y="1752480"/>
            <a:ext cx="3935160" cy="10810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Extreme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Black Diamond 88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opper Gi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951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teron/Infiniband Cluster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00200" y="3657600"/>
            <a:ext cx="1814400" cy="1385640"/>
            <a:chOff x="1600200" y="3657600"/>
            <a:chExt cx="1814400" cy="1385640"/>
          </a:xfrm>
        </p:grpSpPr>
        <p:sp>
          <p:nvSpPr>
            <p:cNvPr id="100" name=""/>
            <p:cNvSpPr/>
            <p:nvPr/>
          </p:nvSpPr>
          <p:spPr>
            <a:xfrm>
              <a:off x="1600200" y="3657600"/>
              <a:ext cx="129636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50680" y="3794760"/>
              <a:ext cx="129636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73440" y="3919320"/>
              <a:ext cx="129672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95120" y="4032000"/>
              <a:ext cx="129636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17880" y="4293720"/>
              <a:ext cx="129672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33"/>
                  </a:solidFill>
                  <a:latin typeface="Arial"/>
                  <a:ea typeface="ＭＳ Ｐゴシック"/>
                </a:rPr>
                <a:t>8 GB mem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33"/>
                  </a:solidFill>
                  <a:latin typeface="Arial"/>
                  <a:ea typeface="ＭＳ Ｐゴシック"/>
                </a:rPr>
                <a:t>2.2 GH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33"/>
                  </a:solidFill>
                  <a:latin typeface="Arial"/>
                  <a:ea typeface="ＭＳ Ｐゴシック"/>
                </a:rPr>
                <a:t>256 GB scra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718080" y="3613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887560" y="2703240"/>
            <a:ext cx="0" cy="97308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69800" y="5257800"/>
            <a:ext cx="202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86 dual CPU, dual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AMD Opteron n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-231840" y="3850920"/>
            <a:ext cx="2093760" cy="10242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Voltaire Infininb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76920"/>
            <a:ext cx="893880" cy="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5160" y="2116080"/>
            <a:ext cx="162576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16 GB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2.2 GH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quad CPU, dual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535040"/>
            <a:ext cx="304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 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AMD Opteron head/logi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        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(shc.cacr.caltech.ed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320920" y="2394000"/>
            <a:ext cx="250920" cy="21096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876240" y="2935440"/>
            <a:ext cx="231840" cy="38088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089400" y="2817360"/>
            <a:ext cx="1778040" cy="2048040"/>
          </a:xfrm>
          <a:prstGeom prst="line">
            <a:avLst/>
          </a:prstGeom>
          <a:ln w="158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97520" y="3813120"/>
            <a:ext cx="2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29400" y="4125960"/>
            <a:ext cx="16146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 25 TB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pvfs/data-store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5867280"/>
            <a:ext cx="196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 25 T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pvfs/data-store03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505320" y="4876920"/>
            <a:ext cx="1366560" cy="941400"/>
            <a:chOff x="3505320" y="4876920"/>
            <a:chExt cx="1366560" cy="941400"/>
          </a:xfrm>
        </p:grpSpPr>
        <p:sp>
          <p:nvSpPr>
            <p:cNvPr id="119" name=""/>
            <p:cNvSpPr/>
            <p:nvPr/>
          </p:nvSpPr>
          <p:spPr>
            <a:xfrm>
              <a:off x="3505320" y="4876920"/>
              <a:ext cx="1296720" cy="74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75160" y="5069160"/>
              <a:ext cx="1296720" cy="74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8 GB mem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2.4 GH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256 GB scra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51960" y="594360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38 dual CPU, dual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MD Opteron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47040" y="4313160"/>
            <a:ext cx="2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27320" y="3676680"/>
            <a:ext cx="438120" cy="0"/>
          </a:xfrm>
          <a:prstGeom prst="line">
            <a:avLst/>
          </a:prstGeom>
          <a:ln w="22320">
            <a:solidFill>
              <a:srgbClr val="333399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634000" y="2862000"/>
            <a:ext cx="2021040" cy="2377800"/>
          </a:xfrm>
          <a:prstGeom prst="line">
            <a:avLst/>
          </a:prstGeom>
          <a:ln w="158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3884400" y="2876040"/>
            <a:ext cx="153720" cy="200052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7440" y="338364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ＭＳ Ｐゴシック"/>
              </a:rPr>
              <a:t>…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24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80960" y="4251600"/>
            <a:ext cx="5763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2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989600" y="4362480"/>
            <a:ext cx="683640" cy="504720"/>
            <a:chOff x="4989600" y="4362480"/>
            <a:chExt cx="683640" cy="504720"/>
          </a:xfrm>
        </p:grpSpPr>
        <p:sp>
          <p:nvSpPr>
            <p:cNvPr id="129" name=""/>
            <p:cNvSpPr/>
            <p:nvPr/>
          </p:nvSpPr>
          <p:spPr>
            <a:xfrm>
              <a:off x="4989600" y="4362480"/>
              <a:ext cx="502920" cy="30132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70320" y="456552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989680" y="4411800"/>
            <a:ext cx="807480" cy="660240"/>
            <a:chOff x="5989680" y="4411800"/>
            <a:chExt cx="807480" cy="660240"/>
          </a:xfrm>
        </p:grpSpPr>
        <p:sp>
          <p:nvSpPr>
            <p:cNvPr id="132" name=""/>
            <p:cNvSpPr/>
            <p:nvPr/>
          </p:nvSpPr>
          <p:spPr>
            <a:xfrm>
              <a:off x="5989680" y="441180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41600" y="456084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94240" y="477036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216400" y="5106960"/>
            <a:ext cx="158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 24 TB (RAID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nfs/data-store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435800" y="5273640"/>
            <a:ext cx="1006560" cy="792000"/>
            <a:chOff x="7435800" y="5273640"/>
            <a:chExt cx="1006560" cy="792000"/>
          </a:xfrm>
        </p:grpSpPr>
        <p:sp>
          <p:nvSpPr>
            <p:cNvPr id="137" name=""/>
            <p:cNvSpPr/>
            <p:nvPr/>
          </p:nvSpPr>
          <p:spPr>
            <a:xfrm>
              <a:off x="7435800" y="527364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94560" y="542268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46840" y="557532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39080" y="576396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964640" y="4770360"/>
            <a:ext cx="1005840" cy="792000"/>
            <a:chOff x="7964640" y="4770360"/>
            <a:chExt cx="1005840" cy="792000"/>
          </a:xfrm>
        </p:grpSpPr>
        <p:sp>
          <p:nvSpPr>
            <p:cNvPr id="142" name=""/>
            <p:cNvSpPr/>
            <p:nvPr/>
          </p:nvSpPr>
          <p:spPr>
            <a:xfrm>
              <a:off x="7964640" y="477036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23040" y="491940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75320" y="507204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467560" y="526068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573440" y="3438360"/>
            <a:ext cx="1297080" cy="7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08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Opteron dual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dual core, 16 G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751280" y="2817720"/>
            <a:ext cx="379440" cy="620640"/>
          </a:xfrm>
          <a:prstGeom prst="line">
            <a:avLst/>
          </a:prstGeom>
          <a:ln w="158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642920" y="4187520"/>
            <a:ext cx="298440" cy="3682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673240" y="4177800"/>
            <a:ext cx="298440" cy="3682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5181480"/>
            <a:ext cx="2133720" cy="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ute Resource Utilization Summa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5732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balance between activ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% utilization fo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from 64.9% in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of development and production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ranging in size from 4 to 32 nodes, 2 to 24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 100 user accounts, 5 partn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38080" y="1447920"/>
          <a:ext cx="3581640" cy="254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358164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838080" y="3863880"/>
          <a:ext cx="3581640" cy="254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863880"/>
                    <a:ext cx="358164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ion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3_Software stack impacting Golden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SLES9 (security patched) kernel version 2.6.15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Mellanox Infiniband drivers v3.5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ヒラギノ角ゴ Pro W3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</a:rPr>
              <a:t>No sources available to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Parallel Virtual File System (pvfs) v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OpenMPI (2.1.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Tor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Mau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Software stack - user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Plotting and Data Visualization Tool - </a:t>
            </a:r>
            <a:r>
              <a:rPr b="0" i="1" lang="en-US" sz="24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Tec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Debugger - 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Total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Numerical Computing Environment/language -  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Mat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Portable Extensible Toolkit for Scientific Computation - 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PET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Hierarchial Data Format (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HDF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) v4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S Grains 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resolved simulations of shear compression polycrystal specimen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run s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NL’s alc, 12 hours 118 CPUs, 900K steps, 4.4 GB of d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34340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34240" y="30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62520" y="1905120"/>
          <a:ext cx="4825800" cy="387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905120"/>
                    <a:ext cx="482580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Application MPI pro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roblem size grows, MPI impact less due to better load bal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_Waitall and AllReduce are major time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smaller benchmarks for tuning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MB PingP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28600" y="1600200"/>
          <a:ext cx="86868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MB PingP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8600" y="1600200"/>
          <a:ext cx="86868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8:46:02Z</dcterms:created>
  <dc:creator>Sharon Brunett</dc:creator>
  <dc:description/>
  <dc:language>en-US</dc:language>
  <cp:lastModifiedBy>Sharon Brunett</cp:lastModifiedBy>
  <dcterms:modified xsi:type="dcterms:W3CDTF">2007-05-01T18:23:51Z</dcterms:modified>
  <cp:revision>33</cp:revision>
  <dc:subject/>
  <dc:title>Operational and Application Experiences with the Infiniband Environment</dc:title>
</cp:coreProperties>
</file>