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2C6-2470-491E-9AC5-CE8D8CB5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0CF-26E5-4CA7-9046-7A4243DC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5CE-908A-4EA5-943F-C75DCAB1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5A5-41FE-44D5-A316-62277A29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DA7A-4C7B-4630-A602-EC7C497D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7D8D-5B55-4259-B2CF-8BF17BE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4818-3DC3-41F5-B361-DCC6D049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624-C66C-44DE-966A-96F6968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F0E2-AD7B-4175-9360-1ECFF970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B085-726D-4A60-813F-1646250A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E12F-1963-41D3-B8A8-DDF55063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39D-B79B-4A56-BBC3-60EEF217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2AE1-63F9-447A-B620-72E28D4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6B2-7C84-49BE-A1E0-1315819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7A6-331B-433E-8128-B4794E25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04E9-F4E6-4917-A9F9-21415E04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57A2-731E-4955-AD82-005BCD82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F1C-A082-4D3D-B334-8D6704E7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5B2-FDC0-4B69-B54D-EB46C255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27B-C50C-47BA-BA68-1B8EE6A5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8AC-90B4-4575-9D80-958C1941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229-7A3F-4F1D-BFCD-7726E857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505-6852-4CA4-94B5-29828EA8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628-8A2C-49D9-A4FC-EA34B47D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8575-A8AC-412A-B9B1-8C25CAA0E92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481B-0385-4B01-BB58-AE8891B02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733920"/>
            <a:ext cx="556272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90720"/>
            <a:ext cx="8305920" cy="16761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xperience using Infiniband for computational chemistry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403812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k Mora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. E. Shaw Research, LL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666880"/>
            <a:ext cx="53352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62064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24280" y="6161040"/>
            <a:ext cx="40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A1 Produc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24280" y="6161040"/>
            <a:ext cx="40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A1 Produc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4400" y="6206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nagement &amp; Diagnostics: A view from the field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09880" y="3886200"/>
            <a:ext cx="411480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 &amp; Plan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ily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tection of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agnosis of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CAs, Cables and Switches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K, that’s kinda like Etherne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bnet Manager. 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Hmm, it’s not Ethernet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PoIB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h, it’s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DP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pe, not really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RP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ait, that’s not FC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SER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h, that’s going to talk iSCS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DAPL: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Uh-oh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www, doesn’t connect to anything else I hav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But it’s got great bandwidth and latency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I’ll need new kernels everywher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nd I should *converge* my entire network with this?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sig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lity-based performance model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yth of N usec latenc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yth of NNN MiB/sec bandwidth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-switch connecti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liability and availabilit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cost equatio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stall (cables and bringup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ilures (app crashes, HCAs, cables, switch ports, subnet manager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ges and growt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’s the lifetime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-coupling for install and upgrad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rivers [Understandable cost, grumble, mumble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ernel protocol modules [Ouch!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-level protocols [Ok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w do I measure progress and quality of an installation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ratuitous sidebar: Consider a world in which..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only network that matters to Enterprise IT is TCP and UDP over I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ach new non-IP acronym causes a louder, albeit silent scream of pain from Enterprise I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hates having anyone open a machine and add a card to i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really, absolutely, positively hates updating kernel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terprise IT never wants to recompile any application (if they even have, or could find the source cod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ily Oper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lence is golden.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f it’s working wel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acity utilizati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llection of sta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RDtool, MRTG and friends (ganglia, drraw, cricket, ..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ot checks for errors.  Is it really working well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lecular Dynamics (MD) Simul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905120"/>
            <a:ext cx="7772400" cy="990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4040" y="2190600"/>
            <a:ext cx="7010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Single, millisecond-scale MD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57150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47920"/>
            <a:ext cx="5699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goal of D. E. Shaw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809880"/>
            <a:ext cx="7772400" cy="15242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4095720"/>
            <a:ext cx="6934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hat’s the time scale at which biologically interesting things start to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00400"/>
            <a:ext cx="31240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90680" y="333360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etection of problem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ch out and touch someone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NMP Trap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ai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yslo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 GUID is not a meaningful error message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names, card numbers, port numbers, please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rror counters: Non-zero BAD, Zero GO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rollary: It must be impossible to have a network error where all error counters are zero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iagnosis of problem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caused the error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ere are netstat, ping, ttcp/iperf and traceroute equivalents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should I replace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member the sideba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? HCA? Cable? Switch port? Switch card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ll I get better (any?) support if I’m run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vendor stack(s)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the latest OFED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closing comment.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research group uses our Infiniband cluster heavil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nuously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two years and counting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Infiniband interconnect has had fewer total failures than our expensive, enterprise-grade GigE switch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raes@deshaw.co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61800" y="1447920"/>
            <a:ext cx="8477280" cy="533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Leaf switches and core switches and cables, oh my!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2057400"/>
            <a:ext cx="1523880" cy="914400"/>
            <a:chOff x="1143000" y="2057400"/>
            <a:chExt cx="1523880" cy="914400"/>
          </a:xfrm>
        </p:grpSpPr>
        <p:sp>
          <p:nvSpPr>
            <p:cNvPr id="189" name=""/>
            <p:cNvSpPr/>
            <p:nvPr/>
          </p:nvSpPr>
          <p:spPr>
            <a:xfrm>
              <a:off x="1143000" y="2057400"/>
              <a:ext cx="1523880" cy="9144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23623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or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200400" y="2057400"/>
            <a:ext cx="1523880" cy="914400"/>
            <a:chOff x="3200400" y="2057400"/>
            <a:chExt cx="1523880" cy="914400"/>
          </a:xfrm>
        </p:grpSpPr>
        <p:sp>
          <p:nvSpPr>
            <p:cNvPr id="192" name=""/>
            <p:cNvSpPr/>
            <p:nvPr/>
          </p:nvSpPr>
          <p:spPr>
            <a:xfrm>
              <a:off x="3200400" y="2057400"/>
              <a:ext cx="1523880" cy="9144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23623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Cor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800600" y="4495680"/>
            <a:ext cx="1905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.. 86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2286000"/>
            <a:ext cx="190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.. 10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371600" y="2971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19320" y="297144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81280" y="2971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599840" y="29718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28800" y="297180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86200" y="297180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95480" y="3809880"/>
            <a:ext cx="1523880" cy="533520"/>
            <a:chOff x="2895480" y="3809880"/>
            <a:chExt cx="1523880" cy="533520"/>
          </a:xfrm>
        </p:grpSpPr>
        <p:sp>
          <p:nvSpPr>
            <p:cNvPr id="203" name=""/>
            <p:cNvSpPr/>
            <p:nvPr/>
          </p:nvSpPr>
          <p:spPr>
            <a:xfrm>
              <a:off x="2895480" y="3809880"/>
              <a:ext cx="152388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1800" y="392760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Leaf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43000" y="4876920"/>
            <a:ext cx="1523880" cy="1447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917960"/>
            <a:ext cx="144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4479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238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002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6765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524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288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051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810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0574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337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209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43000" y="3844800"/>
            <a:ext cx="1523880" cy="533520"/>
            <a:chOff x="1143000" y="3844800"/>
            <a:chExt cx="1523880" cy="533520"/>
          </a:xfrm>
        </p:grpSpPr>
        <p:sp>
          <p:nvSpPr>
            <p:cNvPr id="220" name=""/>
            <p:cNvSpPr/>
            <p:nvPr/>
          </p:nvSpPr>
          <p:spPr>
            <a:xfrm>
              <a:off x="1143000" y="3844800"/>
              <a:ext cx="1523880" cy="533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19320" y="3962520"/>
              <a:ext cx="14475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Leaf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895480" y="4876920"/>
            <a:ext cx="1524240" cy="1447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4917960"/>
            <a:ext cx="1447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2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004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67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526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812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6576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339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88620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6252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038480" y="4343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600200"/>
            <a:ext cx="7772400" cy="4343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14400"/>
            <a:ext cx="7772400" cy="6858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 major challenge in Molecular Biochemistry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coded the geno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most protein structu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what most proteins d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ch ones interact with which other o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at is the “wiring diagram” o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 expression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gnal transduction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tabolic net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n’t know how everything fits together into a working syste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lecular Dynamics Simul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09880" y="3886200"/>
            <a:ext cx="411480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335240"/>
            <a:ext cx="8457840" cy="1675800"/>
            <a:chOff x="380880" y="1335240"/>
            <a:chExt cx="8457840" cy="1675800"/>
          </a:xfrm>
        </p:grpSpPr>
        <p:sp>
          <p:nvSpPr>
            <p:cNvPr id="103" name=""/>
            <p:cNvSpPr/>
            <p:nvPr/>
          </p:nvSpPr>
          <p:spPr>
            <a:xfrm>
              <a:off x="380880" y="1877760"/>
              <a:ext cx="6007680" cy="4230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t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9320" y="1487160"/>
              <a:ext cx="869400" cy="152388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7099560" y="1335240"/>
              <a:ext cx="869400" cy="152352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520"/>
                <a:gd name="textAreaBottom" fmla="*/ 110448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636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27520"/>
            <a:ext cx="6781680" cy="2310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ute the trajectories of all atoms in a chem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5,000+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1  m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quires 1 f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seconds)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47242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715000"/>
            <a:ext cx="4038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ears on the fastest current supercomputers &amp;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3505320"/>
            <a:ext cx="8457840" cy="1675800"/>
            <a:chOff x="380880" y="3505320"/>
            <a:chExt cx="8457840" cy="1675800"/>
          </a:xfrm>
        </p:grpSpPr>
        <p:sp>
          <p:nvSpPr>
            <p:cNvPr id="111" name=""/>
            <p:cNvSpPr/>
            <p:nvPr/>
          </p:nvSpPr>
          <p:spPr>
            <a:xfrm>
              <a:off x="380880" y="4047840"/>
              <a:ext cx="6007680" cy="4230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Ite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9320" y="3657240"/>
              <a:ext cx="869400" cy="152388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7099560" y="3505320"/>
              <a:ext cx="869400" cy="1523520"/>
            </a:xfrm>
            <a:custGeom>
              <a:avLst/>
              <a:gdLst>
                <a:gd name="textAreaLeft" fmla="*/ 116280 w 869400"/>
                <a:gd name="textAreaRight" fmla="*/ 753120 w 869400"/>
                <a:gd name="textAreaTop" fmla="*/ 266400 h 1523520"/>
                <a:gd name="textAreaBottom" fmla="*/ 110448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3721320"/>
            <a:ext cx="6781680" cy="14619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ime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th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perations per time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=&gt;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perations per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66720" y="1371600"/>
            <a:ext cx="8477280" cy="5486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ing a specialized supercomputer (Anton, ISCA2007, Shaw et a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ormously parallel architectu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ased on special-purpose ASIC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ramatically faster for MD, but less flexi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jected completion: 2008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ble t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ntional clusters (Desmond, SC2006, Bowers et a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r own machin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le to very large # of processing el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ur Strategy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82296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allel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8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267080"/>
            <a:ext cx="82296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0380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alle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hy RDMA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day: Low-latency, high-bandwidth interconnect for parallel simul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morrow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 bandwidth interconnect for sto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-latency, high-bandwidth interconnect for parallel analysi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1455840"/>
            <a:ext cx="421776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Each process in parall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ompute forces (if own the midpoint of the pa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Export fo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m forces for particles in home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ompute new positions for homebox parti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mport updated positions for particles in import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040" y="1596960"/>
            <a:ext cx="4122720" cy="41227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7840" y="2282760"/>
            <a:ext cx="2747880" cy="2751120"/>
          </a:xfrm>
          <a:custGeom>
            <a:avLst/>
            <a:gdLst>
              <a:gd name="textAreaLeft" fmla="*/ 225000 w 2747880"/>
              <a:gd name="textAreaRight" fmla="*/ 2522880 w 2747880"/>
              <a:gd name="textAreaTop" fmla="*/ 225000 h 2751120"/>
              <a:gd name="textAreaBottom" fmla="*/ 2526120 h 2751120"/>
            </a:gdLst>
            <a:ahLst/>
            <a:rect l="textAreaLeft" t="textAreaTop" r="textAreaRight" b="textAreaBottom"/>
            <a:pathLst>
              <a:path w="21600" h="21625">
                <a:moveTo>
                  <a:pt x="6046" y="0"/>
                </a:moveTo>
                <a:arcTo wR="6046" hR="6046" stAng="16200000" swAng="-5400000"/>
                <a:lnTo>
                  <a:pt x="0" y="15579"/>
                </a:lnTo>
                <a:arcTo wR="6046" hR="6046" stAng="10800000" swAng="-5400000"/>
                <a:lnTo>
                  <a:pt x="15554" y="21625"/>
                </a:lnTo>
                <a:arcTo wR="6046" hR="6046" stAng="5400000" swAng="-5400000"/>
                <a:lnTo>
                  <a:pt x="21600" y="6046"/>
                </a:lnTo>
                <a:arcTo wR="6046" hR="6046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66880" y="2971800"/>
            <a:ext cx="1373040" cy="1373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040" y="2971800"/>
            <a:ext cx="412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040" y="4344840"/>
            <a:ext cx="412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9920" y="1596960"/>
            <a:ext cx="0" cy="412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66880" y="1596960"/>
            <a:ext cx="0" cy="412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3311640"/>
            <a:ext cx="228600" cy="6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2600" y="3311640"/>
            <a:ext cx="1138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3995640"/>
            <a:ext cx="6825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24000" y="3539880"/>
            <a:ext cx="136692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09840" y="462132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2560" y="3716280"/>
            <a:ext cx="1144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6560" y="3600360"/>
            <a:ext cx="114120" cy="11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38600" y="3371760"/>
            <a:ext cx="114120" cy="11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95480" y="38876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1280" y="5262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66840" y="2562120"/>
            <a:ext cx="13240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14760" y="296856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8520" y="3429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6840" y="2562120"/>
            <a:ext cx="18576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2720" y="2443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878200"/>
            <a:ext cx="1141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3200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Basic MD simulation step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arallel MD simulation using RDMA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5254560" y="1608120"/>
            <a:ext cx="34909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iterative exchange patterns, two sets of send and receive buffers are enough to guarantee that send and receive buffers are alway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nd and receive buffers are fixed and registered before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e sender knows all the receiver’s receive buffers and use them altern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8520" y="1682640"/>
          <a:ext cx="4570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682640"/>
                    <a:ext cx="4570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73040" y="5022720"/>
            <a:ext cx="3767040" cy="91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with the Verbs interface.  RDMA writes are used (faster than RDMA read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1477"/>
          <a:stretch/>
        </p:blipFill>
        <p:spPr>
          <a:xfrm>
            <a:off x="914400" y="685800"/>
            <a:ext cx="7315200" cy="5405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7960" y="6237360"/>
            <a:ext cx="796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s:  Kumar, Almasi, Huang et al. 2006; Fitch, Rayshubskiy, Eleftheriou et al.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3:07:44Z</dcterms:created>
  <dc:creator>Mark Moraes</dc:creator>
  <dc:description>OpenFabrics Sonoma 2007</dc:description>
  <dc:language>en-US</dc:language>
  <cp:lastModifiedBy>moraes</cp:lastModifiedBy>
  <dcterms:modified xsi:type="dcterms:W3CDTF">2007-05-01T14:52:55Z</dcterms:modified>
  <cp:revision>1711</cp:revision>
  <dc:subject/>
  <dc:title>Experience using Infiniband for Computational Chemistry</dc:title>
</cp:coreProperties>
</file>