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DC6A-897C-4208-AFF8-E8A7A0234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3DA4-69A2-4CB1-8D6C-4EBC32227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EF80-95AD-458D-BE72-C6A2C3B53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174C-0315-455C-8B39-BA9DAACA1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1029-F912-49F6-A50D-55C95CC2F2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4709-67CC-483F-8485-2AB88C75E6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3BEF-34BF-4FDC-B5FD-2AE611866C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5325-4333-4101-B1B9-2D3E8F5821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1FD5-D7DF-49B9-9001-E9F8688116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D35C-8B87-4212-BFA3-6D10E304C0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AB15-AECE-4039-AFD1-F5B8485C7B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97B3-1E36-4EAD-BADA-A4D7B4958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16233-0DB9-491F-85E6-CBAFFC1012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4715-3A2A-466E-BD44-959D6CB045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C3BB-F6E7-46BE-8C20-39E86DDB3D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27B2-AC72-4285-92DD-DDAF841B9A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8164-3645-49A1-BF53-92617F1601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B594A-B1E7-4371-907B-CFC8D694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D1B49-CB20-441A-B98C-C6A718A2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22B34-C0AE-41AE-80EC-319F8BB2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7F456-7023-4EBF-A360-D4CA17B3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69F2B-7540-4EE5-B745-F01E6F61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07F7-CB15-450D-9F6A-0A46890B99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D2551-DFE4-4D4D-9561-3D044A2E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02658-34A8-43FC-B903-30F4276E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DCF2E-C694-4A43-BE39-971A840E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26F92-2432-4420-96F1-15F5F7FB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549FB-4387-4AE1-BA26-66C89DC9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1BEC5-9300-4017-BA1D-4DB231EC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3D97A-FADC-4BCC-993A-7A844678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C479-DE4C-4284-A38E-22648677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AEA6-8807-44C3-A949-DABFE004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707F-6B3F-4C31-8AAA-786CDE43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C44B-4312-465B-BEED-A5FD79B038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650F-9689-4F89-BD3E-C57F69CE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123A-220F-4EE8-8DE3-AD54037B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DF39-E3EC-4CD9-95B2-82EFD8C1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F685-FBF8-4A84-A9B0-ADFF5C0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4438-613E-4A15-B3CA-6C2EE920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C98D-D082-41DC-9CF6-B1F8C50D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D53B-BFD0-4A40-BFF0-3584CCAF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DEF2-E321-4EE4-AE72-7AA62B0E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F451-1F52-41E3-A853-02FF950E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F99C-0CF2-410D-9697-E5BEC5D3336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D3D6-7FD7-4351-9B87-A9856136D94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45EF-DB4A-49AF-BDBA-3F43DCDDB50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9AB7-8ECD-4ABB-82D9-CC2DB14F4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D98E-758F-43B4-828F-BCFF21247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3b4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b4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28600" y="62481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80BC-3BB8-453C-80DA-F4FAAD906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0560" y="1752480"/>
            <a:ext cx="59418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0" y="57909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2241-EBCB-40F5-B35D-F873D04C5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7C6A-66FA-48D2-97C3-B6D14D5FC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3208-1566-4580-9661-B8DA063FF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E03C-45E0-4602-B232-4014F847ED27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finibandta.org/itinfo/IL" TargetMode="External"/><Relationship Id="rId2" Type="http://schemas.openxmlformats.org/officeDocument/2006/relationships/hyperlink" Target="http://www.iol.unh.edu/services/testing/ofa/logo.pdf" TargetMode="External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nuesystems.com/" TargetMode="External"/><Relationship Id="rId2" Type="http://schemas.openxmlformats.org/officeDocument/2006/relationships/hyperlink" Target="http://www.finisar.com/home.php" TargetMode="External"/><Relationship Id="rId3" Type="http://schemas.openxmlformats.org/officeDocument/2006/relationships/hyperlink" Target="http://www.tek.com/" TargetMode="External"/><Relationship Id="rId4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FA-IWG Interop Event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pril 2007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pert 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prey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ory versus Beta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4920" y="1494000"/>
          <a:ext cx="8534160" cy="4724280"/>
        </p:xfrm>
        <a:graphic>
          <a:graphicData uri="http://schemas.openxmlformats.org/drawingml/2006/table">
            <a:tbl>
              <a:tblPr/>
              <a:tblGrid>
                <a:gridCol w="3125520"/>
                <a:gridCol w="2152800"/>
                <a:gridCol w="1782720"/>
                <a:gridCol w="1473120"/>
              </a:tblGrid>
              <a:tr h="2854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 Status for April 2007 Interop 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 Proced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iniBand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WARP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port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epend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Link Initia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Fabric Initial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IPo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i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S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S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SM Failover/Hand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MPI - OS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MPI In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uDA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WARP Conne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bre Channel Gateway (I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ernet Gateway (I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mmended Test Status f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tober 2007 Interop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963160"/>
                <a:gridCol w="3180960"/>
                <a:gridCol w="2085120"/>
              </a:tblGrid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 Proced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ommended Statu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Link Initia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Fabric Initial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IPo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i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ome issues to be resol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S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S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SM Failover/Hand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ome issues to be resol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MPI - OS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eds more te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MPI In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eds more te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uDA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ome issues to be resol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WARP Conne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bre Channel Gateway (I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eds devices to run t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ernet Gateway (I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eds devices to run t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uster Top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569960" y="1417680"/>
          <a:ext cx="6507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9960" y="1417680"/>
                    <a:ext cx="6507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No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more time for Compliance and Interop testing. Suggested form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 through Wedn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TA and iWARP complianc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-F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p cluster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Band Link and Fabric 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ARP Connectivity, IPoIB, SDP, SRP, iSER, SM Failover, Gateway Tests, DAPL and 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 review and input on the Test Plan is needed because it may affect their Logo G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Noted -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nk problem was discovered during the Link Init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requiring one to many testing are very time consuming. Need automated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ER – possible issues with the OFED Stack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A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switch testing ran reasonably well but there were some unpredictable fail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switch tests experienced som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30-50 DDR cables dedicated to the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coordinate the Interop Event with the OFED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Interop Event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ble progress made on the Interop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Scripts much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xecution went smoo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H-IOL staff performed very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testing was very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device participation in some categories such as FC and Ethernet Gateway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ore SRP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ore time to complete all of th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s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versus Beta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No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TA IL Compliance Testing 4/11/07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/13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vendors, 13 devices and 35 cables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as the 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TA Plugf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A IWG Interop Event 4/16/07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/20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vendors, 22 devices and 31 nodes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second official OFA-IWG Interop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ed by University of NH Interoperability Lab (UNH-I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results very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event scheduled for Octo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TA integrator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list includes all products that have successfully completed the rigorous testing procedures at IBTA sponsored Plugfes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List of devices is available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nfinibandta.org/itinfo/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list will be available in Ma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-UNH-IOL Logo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vendors to claim and market interoperability by using the Logo on their products or in their product marketing collat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s available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ol.unh.edu/services/testing/ofa/logo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Logo Grants will be available in Ma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dor Particip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o, Data Direct, Flextronics, Mellanox, QLogic, Vol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lsio and Net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quipmen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e, Finisar and Tektro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ice Types and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HCAs running OFED 1.2 R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IB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SER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RP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Based SMs: OpenSM, Voltai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Based SMs: Cisco, QLogic, 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R-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iniBand Devices Tes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FS 7000D - 24-port DDR Swi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FS 7008 - 96-port SDR Swi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Dir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2A 9550 - IB SRP connected storage sys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extron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-X430066 -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8-Port SDR 4-X InfiniBand swi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-X430044 - 24 Modular DDR 4-X InfiniBand switc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-X430081 - 144 Modular DDR 4-X InfiniBand switc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llano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EA28-1TC - Dual-port, 10Gb/s w/ media adapter support, PCIe x8, 128MB mem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EA28-XT  - Dual-port, 10Gb/s w/ media adapter support, PCIe x8, mem-f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GA28-1TC - Dual-port, 20Gb/s w/ media adapter support, PCIe x8, 128MB mem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GA28-XTC - Dual-port, 20Gb/s w/ media adapter support, PCIe x8, mem-f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ES14-XT  - Single-port, 10Gb/s w/ media adapter support, PCIe x4, mem-f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ES18-XTC - Single-port, 10Gb/s w/ media adapter support, PCIe x8, mem-f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GS18-XTC - Single-port, 20Gb/s w/ media adapter support, PCIe x8, mem-f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Log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HT-7140 - InfiniPath QHT 7000 Se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LE-7140 - InfiniPath QLE 7000 Se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024-CU24-ST2-DDR - SilverStorm 24 port 1U DDR 4x Switch\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R 2012 - 288 ports infiniband Grid Direc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R9024D-M - 24 ports infiniband Grid S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MHost-3.4.8-110 - SMHost (GVFM) - 4.4.8-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PStor - iSER target (IPStor) - 518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idStack 4.1 - GridStack-4.1.5_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idStack Window - Windows GridStack - 2.5.615.74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Devices Tes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l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310 - 10 Gig Unified Wire Ethernet NIC (NIC, TOE, iSCSI, iWA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020 - NES Dual-port 10GE R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5 and SLES 10 S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1.2 R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Intel provided se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s provided by the following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he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jik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.L. G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r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quipment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e Systems -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nuesystems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ar -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nisar.com/home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ktronix -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ek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40:46Z</dcterms:created>
  <dc:creator>Rupert Dance</dc:creator>
  <dc:description/>
  <dc:language>en-US</dc:language>
  <cp:lastModifiedBy>Rupert Dance</cp:lastModifiedBy>
  <dcterms:modified xsi:type="dcterms:W3CDTF">2007-04-30T18:08:22Z</dcterms:modified>
  <cp:revision>16</cp:revision>
  <dc:subject/>
  <dc:title>OFA-IWG Interop Event</dc:title>
</cp:coreProperties>
</file>