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EA2FD-5CAF-478C-B381-C19B5915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8046-1457-41AF-AB45-2A5F950C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55F6-CC3C-438D-AE43-527FD5BF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96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40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D7B7E-8F47-49C4-B1F3-9B43F84A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28760" y="114120"/>
            <a:ext cx="82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8DCB-DB3E-4C01-9562-8CD28A93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96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68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40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D292-F306-4A89-99F8-69A11A39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DD9C-E63A-4B02-966E-1A1BD644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B548-123B-419E-A282-85B2C625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8760" y="114120"/>
            <a:ext cx="82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ADDD-CCA6-4F17-A289-64589988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C3A3-99EC-4854-BAC0-E51B0409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592E0-17B9-45DB-AA69-58C990C8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D935-40BB-4C72-A86B-CC3E4051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350200" y="6261120"/>
            <a:ext cx="555840" cy="43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38120" y="6550200"/>
            <a:ext cx="3873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5D84-6CEF-4B6B-9638-9A2CDC1FF007}" type="slidenum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836640" y="6550200"/>
            <a:ext cx="11145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99D4-F369-4F30-8265-9551E841E05E}" type="datetime3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July 29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1996920" y="6550200"/>
            <a:ext cx="535968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6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4838760"/>
            <a:ext cx="9151920" cy="799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Hv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  <a:p>
            <a:pPr lvl="1" marL="343080" indent="0" algn="ctr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8580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3" marL="102888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4" marL="137160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RDMA@HP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Steve Langdon</a:t>
            </a:r>
            <a:endParaRPr b="0" lang="en-US" sz="1800" spc="-1" strike="noStrike">
              <a:solidFill>
                <a:srgbClr val="ffffff"/>
              </a:solidFill>
              <a:latin typeface="Futura Hv"/>
            </a:endParaRPr>
          </a:p>
          <a:p>
            <a:pPr indent="0">
              <a:lnSpc>
                <a:spcPct val="70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HP Fellow</a:t>
            </a:r>
            <a:endParaRPr b="0" lang="en-US" sz="1800" spc="-1" strike="noStrike">
              <a:solidFill>
                <a:srgbClr val="ffffff"/>
              </a:solidFill>
              <a:latin typeface="Futura Hv"/>
            </a:endParaRPr>
          </a:p>
          <a:p>
            <a:pPr indent="0">
              <a:lnSpc>
                <a:spcPct val="70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High Performance Computing Chief Technologist</a:t>
            </a:r>
            <a:endParaRPr b="0" lang="en-US" sz="18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onverged” or “Unified” Fabric suppor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 has the infrastructure in place and can work with advanced customers now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luster file system usage with the (Lustre based) HP SFS product is well establishe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e barrier to broader adoption is software availability and maturat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HP is opposed to developing this market based on switch vendor proprietary software stack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OFED 1.2 should help, but more work (and experience) will be needed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3CD78-5EE4-4D7F-8166-227A2C3CFA4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6FE4659-2109-4E7C-A0AA-F4C4AFA4BC9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losing thoughts – a cliché based approach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igh speed fabrics with RDMA support are “crossing the chasm” from HPC to commercial scale-out computing (with apologies to Geoffrey Moore)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We need to remember that, “It’s the software stupid” (with apologies to James Carville)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e Ethernet based alternatives are “not your father’s Ethernet” (with apologies to a defunct GM division)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ronically the Infiniband based ecosystem has had more RDMA maturation time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888A6-4C53-474C-958F-4534F002CF1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4D3A065-25FE-48E4-92A3-CE12CBEA700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Intent of this presentation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Discuss HP’s philosophy in the RDMA fabric spac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ummarize RDMA enablement and experience in HP’s product lin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Keep the presentation short to leave time for Q&amp;A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F94ED-A023-41C6-92CF-6F70B64B3BF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E3B331C-055B-4A53-A7DE-A4FECA4B2E5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Historical Perspective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 has experience with RDMA enabled fabrics that dates back to the ’90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Memory Channel, Quadrics, etc.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 was a significant participant in the definition of both Infiniband and iWarp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eople like Dwight Barron and Mike Krause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Our experience with file system use of “converged” or “unified” fabrics is also substantia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AlphaServer SC since the ’90s, Lustre since ‘04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1D42-0F8C-4A80-9409-B68A15C8765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D8F3295-15AD-481F-BA91-3AF27C3021A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HPC has been the proving ground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e move to clusters in HPC has been a driving forc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nfiniband has been a major beneficiary of this marke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Warp (or even plain 10 GbE) has not really been a player as a cluster interconnec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4DB7-CAAE-4695-8002-01DA986D85F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D3D6BA1-581A-4CE1-85A5-930B4E350B9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The Leveraged Model for HPC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5840" y="1447560"/>
            <a:ext cx="35020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The high-end drives HPC innovation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Scalable architectures: NUMA &amp; clusters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Scalable interconnects: IB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Scalable software development: MPI, UPC, SHMEM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Cluster/parallel file systems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Cluster and resource management 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72240" y="1447560"/>
            <a:ext cx="3163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Volume economics drives the market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Rapid technical evolution of high-volume components and systems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Processors driven by PCs, GPUs by game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Volume drives ecosystem development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Applications, development tools, etc.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Volume drives cost reduction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479760" y="1203480"/>
            <a:ext cx="2431800" cy="4627440"/>
            <a:chOff x="3479760" y="1203480"/>
            <a:chExt cx="2431800" cy="4627440"/>
          </a:xfrm>
        </p:grpSpPr>
        <p:sp>
          <p:nvSpPr>
            <p:cNvPr id="97" name=""/>
            <p:cNvSpPr/>
            <p:nvPr/>
          </p:nvSpPr>
          <p:spPr>
            <a:xfrm>
              <a:off x="3479760" y="1203480"/>
              <a:ext cx="2431800" cy="4627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53800" y="4565520"/>
              <a:ext cx="1681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Department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and Workgroup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36040" y="1778040"/>
              <a:ext cx="111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Capability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4800" y="2681280"/>
              <a:ext cx="1162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Enterpris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an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Divisional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101" name=""/>
          <p:cNvSpPr/>
          <p:nvPr/>
        </p:nvSpPr>
        <p:spPr>
          <a:xfrm flipV="1">
            <a:off x="195120" y="5798160"/>
            <a:ext cx="8948880" cy="463320"/>
          </a:xfrm>
          <a:custGeom>
            <a:avLst/>
            <a:gdLst>
              <a:gd name="textAreaLeft" fmla="*/ 1219680 w 8948880"/>
              <a:gd name="textAreaRight" fmla="*/ 7729200 w 8948880"/>
              <a:gd name="textAreaTop" fmla="*/ 63000 h 463320"/>
              <a:gd name="textAreaBottom" fmla="*/ 400320 h 46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450" y="21600"/>
                </a:lnTo>
                <a:lnTo>
                  <a:pt x="2150" y="21600"/>
                </a:lnTo>
                <a:close/>
              </a:path>
            </a:pathLst>
          </a:custGeom>
          <a:solidFill>
            <a:srgbClr val="cbc9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Commercial Server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2" name=""/>
          <p:cNvSpPr/>
          <p:nvPr/>
        </p:nvSpPr>
        <p:spPr>
          <a:xfrm>
            <a:off x="243000" y="6224040"/>
            <a:ext cx="8901000" cy="707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3" name=""/>
          <p:cNvSpPr/>
          <p:nvPr/>
        </p:nvSpPr>
        <p:spPr>
          <a:xfrm>
            <a:off x="4429440" y="637380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PC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50640" y="1652760"/>
            <a:ext cx="2308680" cy="5073120"/>
            <a:chOff x="2150640" y="1652760"/>
            <a:chExt cx="2308680" cy="5073120"/>
          </a:xfrm>
        </p:grpSpPr>
        <p:sp>
          <p:nvSpPr>
            <p:cNvPr id="105" name=""/>
            <p:cNvSpPr/>
            <p:nvPr/>
          </p:nvSpPr>
          <p:spPr>
            <a:xfrm rot="17143200">
              <a:off x="2778840" y="2464920"/>
              <a:ext cx="19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e7dde"/>
                  </a:solidFill>
                  <a:latin typeface="Futura Hv"/>
                </a:rPr>
                <a:t>New Technology</a:t>
              </a: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749400">
              <a:off x="4070160" y="2057400"/>
              <a:ext cx="312480" cy="743040"/>
            </a:xfrm>
            <a:custGeom>
              <a:avLst/>
              <a:gdLst>
                <a:gd name="textAreaLeft" fmla="*/ 41760 w 312480"/>
                <a:gd name="textAreaRight" fmla="*/ 270720 w 312480"/>
                <a:gd name="textAreaTop" fmla="*/ 129960 h 743040"/>
                <a:gd name="textAreaBottom" fmla="*/ 538920 h 7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e7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749400">
              <a:off x="3781080" y="3143160"/>
              <a:ext cx="312840" cy="743040"/>
            </a:xfrm>
            <a:custGeom>
              <a:avLst/>
              <a:gdLst>
                <a:gd name="textAreaLeft" fmla="*/ 41760 w 312840"/>
                <a:gd name="textAreaRight" fmla="*/ 271080 w 312840"/>
                <a:gd name="textAreaTop" fmla="*/ 129960 h 743040"/>
                <a:gd name="textAreaBottom" fmla="*/ 538920 h 7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e7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749400">
              <a:off x="3472920" y="4303800"/>
              <a:ext cx="312840" cy="743040"/>
            </a:xfrm>
            <a:custGeom>
              <a:avLst/>
              <a:gdLst>
                <a:gd name="textAreaLeft" fmla="*/ 41760 w 312840"/>
                <a:gd name="textAreaRight" fmla="*/ 271080 w 312840"/>
                <a:gd name="textAreaTop" fmla="*/ 129960 h 743040"/>
                <a:gd name="textAreaBottom" fmla="*/ 538920 h 7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e7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749400">
              <a:off x="3201480" y="5348160"/>
              <a:ext cx="312840" cy="743040"/>
            </a:xfrm>
            <a:custGeom>
              <a:avLst/>
              <a:gdLst>
                <a:gd name="textAreaLeft" fmla="*/ 41760 w 312840"/>
                <a:gd name="textAreaRight" fmla="*/ 271080 w 312840"/>
                <a:gd name="textAreaTop" fmla="*/ 129960 h 743040"/>
                <a:gd name="textAreaBottom" fmla="*/ 538920 h 7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e7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749400">
              <a:off x="2226960" y="5958000"/>
              <a:ext cx="312840" cy="742680"/>
            </a:xfrm>
            <a:custGeom>
              <a:avLst/>
              <a:gdLst>
                <a:gd name="textAreaLeft" fmla="*/ 41760 w 312840"/>
                <a:gd name="textAreaRight" fmla="*/ 271080 w 312840"/>
                <a:gd name="textAreaTop" fmla="*/ 129960 h 742680"/>
                <a:gd name="textAreaBottom" fmla="*/ 538560 h 74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e7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888080" y="1633680"/>
            <a:ext cx="2440440" cy="5024520"/>
            <a:chOff x="4888080" y="1633680"/>
            <a:chExt cx="2440440" cy="5024520"/>
          </a:xfrm>
        </p:grpSpPr>
        <p:sp>
          <p:nvSpPr>
            <p:cNvPr id="112" name=""/>
            <p:cNvSpPr/>
            <p:nvPr/>
          </p:nvSpPr>
          <p:spPr>
            <a:xfrm rot="4423800">
              <a:off x="4505400" y="2560320"/>
              <a:ext cx="220752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e2e43"/>
                  </a:solidFill>
                  <a:latin typeface="Futura Hv"/>
                </a:rPr>
                <a:t>Volume Economics</a:t>
              </a: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9825000">
              <a:off x="4985640" y="1980720"/>
              <a:ext cx="312840" cy="743040"/>
            </a:xfrm>
            <a:custGeom>
              <a:avLst/>
              <a:gdLst>
                <a:gd name="textAreaLeft" fmla="*/ 41760 w 312840"/>
                <a:gd name="textAreaRight" fmla="*/ 271080 w 312840"/>
                <a:gd name="textAreaTop" fmla="*/ 129960 h 743040"/>
                <a:gd name="textAreaBottom" fmla="*/ 538920 h 7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e2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9825000">
              <a:off x="5280840" y="3055320"/>
              <a:ext cx="312840" cy="742680"/>
            </a:xfrm>
            <a:custGeom>
              <a:avLst/>
              <a:gdLst>
                <a:gd name="textAreaLeft" fmla="*/ 41760 w 312840"/>
                <a:gd name="textAreaRight" fmla="*/ 271080 w 312840"/>
                <a:gd name="textAreaTop" fmla="*/ 129960 h 742680"/>
                <a:gd name="textAreaBottom" fmla="*/ 538560 h 74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e2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9825000">
              <a:off x="5566680" y="4209480"/>
              <a:ext cx="312840" cy="742680"/>
            </a:xfrm>
            <a:custGeom>
              <a:avLst/>
              <a:gdLst>
                <a:gd name="textAreaLeft" fmla="*/ 41760 w 312840"/>
                <a:gd name="textAreaRight" fmla="*/ 271080 w 312840"/>
                <a:gd name="textAreaTop" fmla="*/ 129960 h 742680"/>
                <a:gd name="textAreaBottom" fmla="*/ 538560 h 74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e2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9825000">
              <a:off x="5839560" y="5254200"/>
              <a:ext cx="312840" cy="743040"/>
            </a:xfrm>
            <a:custGeom>
              <a:avLst/>
              <a:gdLst>
                <a:gd name="textAreaLeft" fmla="*/ 41760 w 312840"/>
                <a:gd name="textAreaRight" fmla="*/ 271080 w 312840"/>
                <a:gd name="textAreaTop" fmla="*/ 129960 h 743040"/>
                <a:gd name="textAreaBottom" fmla="*/ 538920 h 7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e2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9825000">
              <a:off x="6918120" y="5886000"/>
              <a:ext cx="312480" cy="743040"/>
            </a:xfrm>
            <a:custGeom>
              <a:avLst/>
              <a:gdLst>
                <a:gd name="textAreaLeft" fmla="*/ 41760 w 312480"/>
                <a:gd name="textAreaRight" fmla="*/ 270720 w 312480"/>
                <a:gd name="textAreaTop" fmla="*/ 129960 h 743040"/>
                <a:gd name="textAreaBottom" fmla="*/ 538920 h 7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e2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07119-D465-41B0-A2A4-DC25A5CD65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D698CB4-D0F3-4BF4-A922-5D62AA5952F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Guiding Principles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ere is never one fabric that satisfies everyon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n general products need to allow choice, although there is a place for fabric specific optimization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 supports open industry standard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oday, in Fabric terms, that means Infiniband and iWarp enhanced Ethernet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e software ecosystem is critica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Which is why HP is an OFA member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C497-43F1-4097-8019-7E3C83E90CA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5A46054-D0C4-4B8E-AD70-282A2BE76EE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urrent HP Hardware offerings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nfiniban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Rack mounted Proliant and Integrity server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914400" indent="-22860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ull range of single and dual port SDR and DDR HCA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Blade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914400" indent="-22860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ingle port DDR mezzanine today, dual port coming soon 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10 GbE RNIC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liant rack mount servers support a single port 10 Gb RNIC with plans for iWarp support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Additional alternatives planned for Blades, Integrity, etc.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 variety of IB and Ethernet switches 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90D9-E458-4268-A258-DE334DE8792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6BC40AB-4ECD-4F71-B441-9410D112F10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  <a:ea typeface="宋体"/>
              </a:rPr>
              <a:t>HP 4X DDR IB Switch Module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2800" y="1090080"/>
            <a:ext cx="4781520" cy="53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960Gb/sec total switching bandwidth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Fully non-blocking Fabric Switch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16 4X DDR down links connecting blade server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8 External 4X DDR ports for scale out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Multiple switches supported in a c7000 enclosure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Redundancy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Aggregate bandwidth 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4" name=""/>
          <p:cNvSpPr/>
          <p:nvPr/>
        </p:nvSpPr>
        <p:spPr>
          <a:xfrm>
            <a:off x="5281560" y="123840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862f"/>
                </a:solidFill>
                <a:latin typeface="Arial"/>
                <a:ea typeface="Arial"/>
              </a:rPr>
              <a:t>World First 4X DDR IB Switch 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862f"/>
                </a:solidFill>
                <a:latin typeface="Arial"/>
                <a:ea typeface="Arial"/>
              </a:rPr>
              <a:t>for Blades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146560" y="1857240"/>
            <a:ext cx="3664080" cy="714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12304" t="7863" r="4101" b="13002"/>
          <a:stretch/>
        </p:blipFill>
        <p:spPr>
          <a:xfrm>
            <a:off x="5214960" y="2676600"/>
            <a:ext cx="3672000" cy="355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6D21-79B3-45BC-AC08-DA6EA259165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92D6A48-051D-4EF8-92B2-17A54E47BE1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urrent HP Software offerings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Legacy “gen1” stacks from Voltaire and Cisco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Latest releases of XC clusters and SFS (Lustre) file system offerings just migrated to OFED 1.1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Native IB support implemented for a couple of year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RNIC support planned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B support  based on Voltaire supplied drivers (IBAL and Winsock direct)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HP-MPI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upports a range of RDMA fabrics and SW stacks including OFED 1.1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E584-FDBD-42E3-B740-56C3282C3FE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5B52413-B3EF-4A26-8BEB-B3C24657941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4:00:00Z</dcterms:created>
  <dc:creator/>
  <dc:description/>
  <cp:keywords/>
  <dc:language>en-US</dc:language>
  <cp:lastModifiedBy/>
  <dcterms:modified xsi:type="dcterms:W3CDTF">2007-04-30T03:24:45Z</dcterms:modified>
  <cp:revision>2</cp:revision>
  <dc:subject/>
  <dc:title>RDMA@HP</dc:title>
</cp:coreProperties>
</file>