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30D8-C475-404B-BB18-B5AD81850B6E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High Availability through  the Linux bonding driver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76160" y="4952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Gerli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erlitz@voltair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PoIB HW addr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 by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byte  - supported IB transports (bitm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bytes – the UD QP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bytes – the IB port GID (made of an eight bytes subnet prefix &amp; eight bytes port GU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UID is unique and has to be distinct from the view point of the 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P is a resource allocated by the HCA and is always distin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bonding driver chang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enslave devices whose HW address can’t be assigned from the out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the bond HW address is the one of the active sl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enslave devices whose ether type is no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RPHRD_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override som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ther_set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ttings with the slave on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ether type, broadcast addr, HW addr len, HW header len, neighbour setu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PoIB HW address - revisited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 UD L2 address is made of AH &amp; QP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 the 20 bytes HW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ighbo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dress exposed by ipoib to the stack is not what the driver really u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oib uses a two layer neighboring scheme, such that for eac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ruct neighbo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re i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ruct ipoib_neig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d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oib install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ighbo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up callback used to free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poib_neig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ddy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PoIB driver chang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bonding neighbours are created on behalf of the bond device, hence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under bonding the ipoib neighbour destructor can’t assume t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-&gt;de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ipoib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add pointer to the devic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uct ipoib_neig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use this pointer in the cleanup fu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nding/IPoIB changes -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ding: the bond HW address is the one of the active sla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the slave doesn’t support assign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ding: override som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her_set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ttings with the slave on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the slave is not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PHRD_ETH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o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pointer to the device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ruct ipoib_neig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use this pointer in the cleanup fun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n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stream p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ghbour cleanup after slave module un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ing a bonding fail over packet xmit over the new active slave, which happens before the old slave flushed the ipoib neighb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uratio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ld and deprecated user tool nam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ensla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ed, which can be now replaced by a script using the bonding sysfs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7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onding driver background / concep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7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onding driver high availability mod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7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onding IPoIB devices – stat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7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slaves requirement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for a bon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7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nabling High-Availability for native IB ULP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7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onding IPoIB devices – code chang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oib HW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ing driver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oib HW address - re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oib driver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nding driver 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nd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aster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evice that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slav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ther devic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ocal system/stac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ddressing, routing, multicast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teract only with the bond dev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nding supports both HA and LB, we focus on H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path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rivers/net/bo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 path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cumentation/networking/bonding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nding driver HA m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ed Active-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ding has one active slave, applies link detection mechanisms to trigger fail-o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HW (L2) address is used for the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the one of the first slave, which is then assigned to the other slaves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nding HA mode – cont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detection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: uses the carrier bit of the s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 validation: implemented through an ARP target to which probes are 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l-o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ding sends a Broadcast Gratuitous AR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riginally to update the Ethernet switches tab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ding does a “replay” of multicast j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nding of IPoIB devices -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changes were required in the bonding driver and some in the ipoib 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ding changes – patch set passed two review cycles 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tde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oib changes – patch accepted to OFED 1.2 –some issues pending for upstream p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uration issues still per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lution is integrated into OFED 1.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Times New Roman"/>
              </a:rPr>
              <a:t>slaves requirements for a bon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s must be of the same ether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’t bond ipoib and non-ipoib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s must use the same partition (VL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’t bond ib0.8003 with ib1.8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s can be of different mode (UD vs C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laves MTU must be normal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gh-availability for native IB UL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ding provides HA at the Link (L2)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ally, layer separation means that TCP sessions should not break, but they 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W failure would cause the IB RC session of a native IB ULP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DP, RDS, iSER, Lustre, rNF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ing allows for a new session to be established immediate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s ipoib is the IB stack [rdma_cm] ARP provide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ing on the ULP, this session breakage may not be even seen by the us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nding/IPoIB code cha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Gabriela</dc:creator>
  <dc:description/>
  <dc:language>en-US</dc:language>
  <cp:lastModifiedBy>Allan Torres</cp:lastModifiedBy>
  <dcterms:modified xsi:type="dcterms:W3CDTF">2007-05-01T18:04:32Z</dcterms:modified>
  <cp:revision>28</cp:revision>
  <dc:subject/>
  <dc:title>Slide 1</dc:title>
</cp:coreProperties>
</file>