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E3D-4A8D-49D2-B9E0-95F48A0701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teffect.com/" TargetMode="External"/><Relationship Id="rId2" Type="http://schemas.openxmlformats.org/officeDocument/2006/relationships/hyperlink" Target="http://www.iol.unh.edu/consortiums/iwarp" TargetMode="External"/><Relationship Id="rId3" Type="http://schemas.openxmlformats.org/officeDocument/2006/relationships/hyperlink" Target="mailto:iwarplab@iol.unh.edu" TargetMode="External"/><Relationship Id="rId4" Type="http://schemas.openxmlformats.org/officeDocument/2006/relationships/hyperlink" Target="http://www.openfabrics.org/" TargetMode="External"/><Relationship Id="rId5" Type="http://schemas.openxmlformats.org/officeDocument/2006/relationships/hyperlink" Target="http://www.rdmaconsortium.org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ED Interoperability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520"/>
            <a:ext cx="5638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Gb iWARP Ethernet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CX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 place for powered CX4 – up to 1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PI needs to add iWAR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d RDMA Enabl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application deployment means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– NetEffect deploying drivers to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Gb iWARP Ethernet is Ether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rs and switches just Plug and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0 GbE infrastructure – adapter  vendors, switches, and cables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Effect, Inc.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eteffec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WARP Consortiu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ol.unh.edu/consortiums/iw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warplab@iol.unh.e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abrics Allia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openfabric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Consortiu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rdmaconsortium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 fulfills OpenFabrics vision of multiple fabrics supporting same RDMA enabled Verb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Plugf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H-IOL multi-vendor interoperability plug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rs Vendors – NetEffect &amp; Chels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est Equipment – Finisar &amp; A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mpany – Lampre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Vendors – HP ProCurve &amp; Fulcrum Micr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b iWARP Ethernet - plugged and play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multiple adapter and switch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Effect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1449360"/>
            <a:ext cx="105120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03640" y="144936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6560" y="144792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7400" y="1450800"/>
            <a:ext cx="1050840" cy="4721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4480" y="144936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05320" y="1449360"/>
            <a:ext cx="1052640" cy="4694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1480" y="1450800"/>
            <a:ext cx="1051200" cy="46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78440" y="2468520"/>
            <a:ext cx="2529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020 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performance for 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2440" y="6124680"/>
            <a:ext cx="4205520" cy="199800"/>
          </a:xfrm>
          <a:prstGeom prst="rect">
            <a:avLst/>
          </a:prstGeom>
          <a:solidFill>
            <a:srgbClr val="624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57960" y="6124680"/>
            <a:ext cx="3152520" cy="199800"/>
          </a:xfrm>
          <a:prstGeom prst="rect">
            <a:avLst/>
          </a:prstGeom>
          <a:solidFill>
            <a:srgbClr val="624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5160" y="5135400"/>
            <a:ext cx="2211480" cy="914400"/>
          </a:xfrm>
          <a:prstGeom prst="rect">
            <a:avLst/>
          </a:prstGeom>
          <a:solidFill>
            <a:srgbClr val="cec6e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9560" y="5181480"/>
            <a:ext cx="21938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orts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0 GbE (CX4/XAUI) or 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 GbE (GMI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Host I/F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CI-X (64/13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ervices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clustering, netwo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2920" y="4710240"/>
            <a:ext cx="2068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010x 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ull iWARP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04000" y="2889360"/>
            <a:ext cx="2655720" cy="996840"/>
          </a:xfrm>
          <a:prstGeom prst="rect">
            <a:avLst/>
          </a:prstGeom>
          <a:solidFill>
            <a:srgbClr val="cec6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@ 10 GbE (CX4/XAUI) o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@ 1 GbE (SGM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/F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CIe x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ing, networking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ck &amp; file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281400"/>
            <a:ext cx="2981160" cy="189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93960" y="3819600"/>
            <a:ext cx="2079720" cy="815760"/>
          </a:xfrm>
          <a:prstGeom prst="rect">
            <a:avLst/>
          </a:prstGeom>
          <a:solidFill>
            <a:srgbClr val="cec6e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09880"/>
            <a:ext cx="2133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orts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0 GbE (CX4/XAUI) or 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 GbE (GMI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Host I/F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CIe (x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ervices: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clustering, netwo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86160"/>
            <a:ext cx="2133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010e 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ull iWARP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2846520" cy="1677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60880" y="3865680"/>
            <a:ext cx="2788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Double performance, half latenc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low power, low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81480" y="1371600"/>
          <a:ext cx="20574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371600"/>
                    <a:ext cx="2057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in Multi-Processor/Multi-Co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3640" y="1447920"/>
            <a:ext cx="3443040" cy="174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Connections Managed by an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&gt; # of Processes per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&gt; # of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08720" y="3274920"/>
            <a:ext cx="3416040" cy="302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52340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010/020 Ethernet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6880" y="1514520"/>
            <a:ext cx="83343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Leading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5880" y="1517760"/>
            <a:ext cx="83120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Effect’s OFED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the OFA Interoperability Plug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plugfest with NetEffect and 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Effect’s OFED 1.2 Compatibl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 -- 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  -- 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Deployment  -- 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ode Posting  --  June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Gb iWARP Ethernet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– Tested with 10 GbE iWAR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10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r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 Micr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 Pro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Allan Torres</cp:lastModifiedBy>
  <dcterms:modified xsi:type="dcterms:W3CDTF">2007-05-01T18:18:25Z</dcterms:modified>
  <cp:revision>123</cp:revision>
  <dc:subject/>
  <dc:title>Slide 1</dc:title>
</cp:coreProperties>
</file>