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414324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798800" cy="35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11700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4143240" y="911700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A82F3-54BD-4304-83F2-C707C8B8E2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51440" cy="43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36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12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00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12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00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5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928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36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928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12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00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12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00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5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8CB9B9-5C7B-4681-8614-4D27B2050DBD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66320"/>
            <a:ext cx="838224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Arial"/>
              </a:rPr>
              <a:t>Resource Utilization in Large Scale InfiniBand Jobs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4952880"/>
            <a:ext cx="853416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Galen M. Ship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Los Alamos National La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LAUR-07-287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erformance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 overal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reased/no RNR NAKS from draining SRQ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trigger “SRQ limit reached”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tency penalty for SRQ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~1 u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number of QPs may not b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ill investigating impact of high QP count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alua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GE (DOE/LANL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eep3D (DOE/LANL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S Parallel Benchmarks (benchma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rumented Open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ed receive buffer efficienc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ze of receive buffer / size of data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Hydrodyna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AGE – SAIC’s Adaptive Grid Eulerian hydroco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ydrodynamics code with Adaptive Mesh Refinement (AM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pplied to: water shock, energy coupling, hydro instability problems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outinely run on 1,000’s of processor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caling characteristic: Weak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ata Decomposition (Default): 1-D (of a 3-D AMR spatial gri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4100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"Predictive Performance and Scalability Modeling of a Large-Scale Application", D.J. Kerbyson, H.J. Alme, A. Hoisie, F. Petrini, H.J. Wasserman, M. Gittings, in Proc. SC, Denver, 2001</a:t>
            </a:r>
            <a:r>
              <a:rPr b="1" i="1" lang="en-GB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728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daptive Mesh Refinement (AMR) hydro-co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3 repeated ph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ather data (including processor boundary dat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catter data (send back result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3-D spatial grid, partitioned in 1-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arallel characteristi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essage sizes vary, typically 10 - 100’s Kby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istance between neighbors increases with sc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728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6933960" cy="40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096 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7620120" cy="42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Receive buffer efficiency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2046240"/>
            <a:ext cx="891540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716120"/>
            <a:ext cx="822960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weep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-D spatial grid, partitioned in 2-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pelined wavefront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cy in ‘sweep’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llel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gical neighbors in X and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all message sizes: 100’s bytes (typ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processors determines pipe-line length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248520" y="2819520"/>
            <a:ext cx="1676160" cy="1676160"/>
            <a:chOff x="6248520" y="2819520"/>
            <a:chExt cx="1676160" cy="1676160"/>
          </a:xfrm>
        </p:grpSpPr>
        <p:sp>
          <p:nvSpPr>
            <p:cNvPr id="136" name=""/>
            <p:cNvSpPr/>
            <p:nvPr/>
          </p:nvSpPr>
          <p:spPr>
            <a:xfrm>
              <a:off x="6553080" y="3124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3124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15200" y="3124080"/>
              <a:ext cx="22860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96080" y="3124080"/>
              <a:ext cx="228600" cy="228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3080" y="350532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34320" y="3505320"/>
              <a:ext cx="22860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5200" y="3505320"/>
              <a:ext cx="228600" cy="228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96080" y="350532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53080" y="3886200"/>
              <a:ext cx="22860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3886200"/>
              <a:ext cx="228600" cy="228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388620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96080" y="388620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53080" y="4267080"/>
              <a:ext cx="228600" cy="228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3432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520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9608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8520" y="2819520"/>
              <a:ext cx="3045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324480" y="2892600"/>
              <a:ext cx="457200" cy="46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3800" y="3276720"/>
              <a:ext cx="152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3657600"/>
              <a:ext cx="152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81680" y="4038480"/>
              <a:ext cx="152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1680" y="4419720"/>
              <a:ext cx="15264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4038480"/>
              <a:ext cx="152280" cy="18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43800" y="3657600"/>
              <a:ext cx="15228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48720" y="3352680"/>
              <a:ext cx="1440" cy="152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3352680"/>
              <a:ext cx="18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7480" y="3733920"/>
              <a:ext cx="1800" cy="152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86600" y="3733920"/>
              <a:ext cx="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86600" y="4114800"/>
              <a:ext cx="1440" cy="152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05720" y="4114800"/>
              <a:ext cx="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961440" y="358128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-D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728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weep3D: Wavefront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2487600"/>
            <a:ext cx="167652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8812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haracterized by a dependency in cell proces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44440" y="2090880"/>
            <a:ext cx="5173920" cy="2966760"/>
            <a:chOff x="1144440" y="2090880"/>
            <a:chExt cx="5173920" cy="2966760"/>
          </a:xfrm>
        </p:grpSpPr>
        <p:sp>
          <p:nvSpPr>
            <p:cNvPr id="172" name=""/>
            <p:cNvSpPr/>
            <p:nvPr/>
          </p:nvSpPr>
          <p:spPr>
            <a:xfrm>
              <a:off x="17175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4364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13480" y="20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66040" y="20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004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7260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30240" y="30621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414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541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668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780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75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30240" y="3174840"/>
              <a:ext cx="11304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414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41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668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780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175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30240" y="328788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414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41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6684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780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175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30240" y="33987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41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6684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780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175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0240" y="3511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4148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41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6684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7808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756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30240" y="362412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4148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416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6684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7808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812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0520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16080" y="30621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2912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180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812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9252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0520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16080" y="3174840"/>
              <a:ext cx="11304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912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180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812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9252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0520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16080" y="328788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912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180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12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9252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520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16080" y="33987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912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4180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81280" y="3511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9252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0520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16080" y="3511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2912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180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8128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9252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520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16080" y="362412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2912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4180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338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4652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77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704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8312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94000" y="30621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38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4652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577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704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8312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4000" y="3174840"/>
              <a:ext cx="11304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3384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4652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577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7044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8312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94000" y="328788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33840" y="339876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4652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577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7044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8312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4000" y="33987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3384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46520" y="3511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577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7044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8312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94000" y="3511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3384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4652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5776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7044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8312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94000" y="362412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878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90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117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44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356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483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878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990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117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244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356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483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87840" y="328788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990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117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444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356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483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87840" y="339876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99080" y="339876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117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2444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356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483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8784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9908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11760" y="3511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2444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568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483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8784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9908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1176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2444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3568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4836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4040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530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657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7700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896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023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40400" y="3174840"/>
              <a:ext cx="112680" cy="1130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530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657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7700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896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023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40400" y="328788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53080" y="328788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57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7700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896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023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40400" y="339876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53080" y="339876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65760" y="339876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7700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896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023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4040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308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6576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77000" y="3511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8968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023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4040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5308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576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7700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8968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0236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1756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0240" y="2476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148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5416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6684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7808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8128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252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0520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6080" y="2476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2912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180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3384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4652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5776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7044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8312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94000" y="2476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8784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9908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1176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2444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3568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4836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4040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5308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6576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7700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968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10236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1604880" y="4156200"/>
              <a:ext cx="890640" cy="892080"/>
              <a:chOff x="1604880" y="4156200"/>
              <a:chExt cx="890640" cy="892080"/>
            </a:xfrm>
          </p:grpSpPr>
          <p:sp>
            <p:nvSpPr>
              <p:cNvPr id="388" name=""/>
              <p:cNvSpPr/>
              <p:nvPr/>
            </p:nvSpPr>
            <p:spPr>
              <a:xfrm>
                <a:off x="1604880" y="438156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1604880" y="4156200"/>
                <a:ext cx="44316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49480" y="41590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049480" y="43783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04880" y="445464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04880" y="452916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04880" y="4603680"/>
                <a:ext cx="44316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04880" y="467676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604880" y="4751280"/>
                <a:ext cx="44316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604880" y="4824360"/>
                <a:ext cx="44316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049480" y="4452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049480" y="4527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049480" y="460008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049480" y="46735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049480" y="4749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049480" y="48229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77960" y="43434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754280" y="430704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27360" y="4270320"/>
                <a:ext cx="44424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00080" y="4232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76400" y="41958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04880" y="43815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7796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5428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2736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900080" y="45291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97640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049480" y="460368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122560" y="45655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19708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271600" y="449100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44680" y="445464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419200" y="44179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49408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1976400" y="43419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1900080" y="43052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1827360" y="426672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1754280" y="4230720"/>
                <a:ext cx="4428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1677960" y="419364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1976400" y="4529160"/>
                <a:ext cx="147600" cy="148680"/>
                <a:chOff x="1976400" y="4529160"/>
                <a:chExt cx="147600" cy="1486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976400" y="4529160"/>
                  <a:ext cx="1476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976400" y="456552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V="1">
                  <a:off x="2049480" y="456408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>
                  <a:off x="2049480" y="4601880"/>
                  <a:ext cx="144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2" name=""/>
            <p:cNvGrpSpPr/>
            <p:nvPr/>
          </p:nvGrpSpPr>
          <p:grpSpPr>
            <a:xfrm>
              <a:off x="2568600" y="4156200"/>
              <a:ext cx="888840" cy="892080"/>
              <a:chOff x="2568600" y="4156200"/>
              <a:chExt cx="888840" cy="892080"/>
            </a:xfrm>
          </p:grpSpPr>
          <p:sp>
            <p:nvSpPr>
              <p:cNvPr id="433" name=""/>
              <p:cNvSpPr/>
              <p:nvPr/>
            </p:nvSpPr>
            <p:spPr>
              <a:xfrm>
                <a:off x="2568600" y="43815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2568600" y="415620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11400" y="41590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3011400" y="43783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68600" y="445464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568600" y="45291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68600" y="46036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68600" y="46767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68600" y="47512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68600" y="48243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011400" y="4452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011400" y="4527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3011400" y="460008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3011400" y="46735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011400" y="4749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3011400" y="48229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41680" y="43434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16200" y="430704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789280" y="427032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863800" y="4232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38320" y="41958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56860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64168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71620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8928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63800" y="45291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93832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11400" y="460368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86280" y="45655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6080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23388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30840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382920" y="44179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5600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938320" y="43419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2863800" y="43052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2789280" y="426672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2716200" y="4230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2641680" y="419364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2" name=""/>
              <p:cNvGrpSpPr/>
              <p:nvPr/>
            </p:nvGrpSpPr>
            <p:grpSpPr>
              <a:xfrm>
                <a:off x="2863800" y="4491000"/>
                <a:ext cx="149400" cy="150840"/>
                <a:chOff x="2863800" y="4491000"/>
                <a:chExt cx="149400" cy="1508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2863800" y="449100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863800" y="452916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2938320" y="452772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2938320" y="456408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3011400" y="4491000"/>
                <a:ext cx="149400" cy="150840"/>
                <a:chOff x="3011400" y="4491000"/>
                <a:chExt cx="149400" cy="15084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011400" y="449100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011400" y="452916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3086280" y="452772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3086280" y="456408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2938320" y="4603680"/>
                <a:ext cx="147960" cy="149400"/>
                <a:chOff x="2938320" y="4603680"/>
                <a:chExt cx="147960" cy="14940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2938320" y="4603680"/>
                  <a:ext cx="14796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938320" y="464040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3011400" y="463860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3011400" y="467532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"/>
            <p:cNvGrpSpPr/>
            <p:nvPr/>
          </p:nvGrpSpPr>
          <p:grpSpPr>
            <a:xfrm>
              <a:off x="3521160" y="4156200"/>
              <a:ext cx="888840" cy="892080"/>
              <a:chOff x="3521160" y="4156200"/>
              <a:chExt cx="888840" cy="892080"/>
            </a:xfrm>
          </p:grpSpPr>
          <p:sp>
            <p:nvSpPr>
              <p:cNvPr id="488" name=""/>
              <p:cNvSpPr/>
              <p:nvPr/>
            </p:nvSpPr>
            <p:spPr>
              <a:xfrm>
                <a:off x="3521160" y="438156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3521160" y="4156200"/>
                <a:ext cx="4428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965400" y="41590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3965400" y="43783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521160" y="445464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521160" y="452916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21160" y="4603680"/>
                <a:ext cx="4428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21160" y="467676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21160" y="4751280"/>
                <a:ext cx="4428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521160" y="4824360"/>
                <a:ext cx="4428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965400" y="4452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3965400" y="4527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3965400" y="460008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3965400" y="46735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3965400" y="4749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3965400" y="48229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94240" y="4343400"/>
                <a:ext cx="4442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670200" y="430704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43280" y="427032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816360" y="4232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90880" y="41958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52116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59424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670200" y="445464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743280" y="449100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81636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89088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965400" y="460368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3848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11336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18788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26096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3548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0856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3890880" y="43419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3816360" y="43052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3743280" y="426672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3670200" y="4230720"/>
                <a:ext cx="44316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3594240" y="419364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3743280" y="4454640"/>
                <a:ext cx="149400" cy="149040"/>
                <a:chOff x="3743280" y="4454640"/>
                <a:chExt cx="149400" cy="14904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3743280" y="445464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743280" y="449100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3817800" y="448956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V="1">
                  <a:off x="3817800" y="452592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3890880" y="4454640"/>
                <a:ext cx="147600" cy="149040"/>
                <a:chOff x="3890880" y="4454640"/>
                <a:chExt cx="147600" cy="14904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3890880" y="4454640"/>
                  <a:ext cx="1476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890880" y="449100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965400" y="448956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V="1">
                  <a:off x="3965400" y="452592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4038480" y="4454640"/>
                <a:ext cx="149400" cy="149040"/>
                <a:chOff x="4038480" y="4454640"/>
                <a:chExt cx="149400" cy="1490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038480" y="445464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038480" y="4491000"/>
                  <a:ext cx="748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V="1">
                  <a:off x="4113360" y="448956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4113360" y="452592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3816360" y="4565520"/>
                <a:ext cx="149040" cy="149400"/>
                <a:chOff x="3816360" y="4565520"/>
                <a:chExt cx="149040" cy="1494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16360" y="4565520"/>
                  <a:ext cx="14904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816360" y="460224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3890880" y="4600080"/>
                  <a:ext cx="7452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3890880" y="463716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3890880" y="4676760"/>
                <a:ext cx="147600" cy="149400"/>
                <a:chOff x="3890880" y="4676760"/>
                <a:chExt cx="147600" cy="14940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3890880" y="467676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890880" y="471312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3965400" y="471168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V="1">
                  <a:off x="3965400" y="4747680"/>
                  <a:ext cx="1800" cy="781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3965400" y="4565520"/>
                <a:ext cx="149400" cy="149400"/>
                <a:chOff x="3965400" y="4565520"/>
                <a:chExt cx="149400" cy="1494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3965400" y="456552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965400" y="460224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V="1">
                  <a:off x="4038480" y="4600080"/>
                  <a:ext cx="7488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4038480" y="463716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7" name=""/>
            <p:cNvGrpSpPr/>
            <p:nvPr/>
          </p:nvGrpSpPr>
          <p:grpSpPr>
            <a:xfrm>
              <a:off x="4475160" y="4165560"/>
              <a:ext cx="888840" cy="892080"/>
              <a:chOff x="4475160" y="4165560"/>
              <a:chExt cx="888840" cy="892080"/>
            </a:xfrm>
          </p:grpSpPr>
          <p:sp>
            <p:nvSpPr>
              <p:cNvPr id="558" name=""/>
              <p:cNvSpPr/>
              <p:nvPr/>
            </p:nvSpPr>
            <p:spPr>
              <a:xfrm>
                <a:off x="4475160" y="438948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4475160" y="41655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19760" y="4168800"/>
                <a:ext cx="4442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4919760" y="438732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75160" y="446400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75160" y="453852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475160" y="461160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475160" y="468648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475160" y="47610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475160" y="483408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4919760" y="446040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4919760" y="453708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4919760" y="461016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4919760" y="468324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4919760" y="475776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4919760" y="483228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548240" y="43527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622760" y="43164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697280" y="427824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770360" y="424188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844880" y="4205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475160" y="438948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548240" y="4427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622760" y="446400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97280" y="450072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770360" y="4538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44880" y="4575240"/>
                <a:ext cx="1800" cy="442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19760" y="46116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992840" y="4575240"/>
                <a:ext cx="1440" cy="442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067360" y="45385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41880" y="450072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14960" y="4464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89480" y="442764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362560" y="438948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4844880" y="43513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4770360" y="43149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4697280" y="427680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4622760" y="423972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4548240" y="4203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4622760" y="4427640"/>
                <a:ext cx="147600" cy="148680"/>
                <a:chOff x="4622760" y="4427640"/>
                <a:chExt cx="147600" cy="1486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622760" y="4427640"/>
                  <a:ext cx="1476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622760" y="446400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V="1">
                  <a:off x="4697280" y="446256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V="1">
                  <a:off x="4697280" y="4500360"/>
                  <a:ext cx="180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4770360" y="4427640"/>
                <a:ext cx="149400" cy="148680"/>
                <a:chOff x="4770360" y="4427640"/>
                <a:chExt cx="149400" cy="14868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4770360" y="4427640"/>
                  <a:ext cx="1494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770360" y="446400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4844880" y="446256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4844880" y="4500360"/>
                  <a:ext cx="180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919760" y="4427640"/>
                <a:ext cx="149040" cy="148680"/>
                <a:chOff x="4919760" y="4427640"/>
                <a:chExt cx="149040" cy="1486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919760" y="4427640"/>
                  <a:ext cx="14904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919760" y="446400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>
                  <a:off x="4994280" y="446256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V="1">
                  <a:off x="4994280" y="4500360"/>
                  <a:ext cx="144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5067360" y="4427640"/>
                <a:ext cx="147600" cy="148680"/>
                <a:chOff x="5067360" y="4427640"/>
                <a:chExt cx="147600" cy="14868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067360" y="4427640"/>
                  <a:ext cx="1476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067360" y="446400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V="1">
                  <a:off x="5141880" y="446256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V="1">
                  <a:off x="5141880" y="4500360"/>
                  <a:ext cx="180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4697280" y="4538520"/>
                <a:ext cx="149400" cy="149400"/>
                <a:chOff x="4697280" y="4538520"/>
                <a:chExt cx="149400" cy="14940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4697280" y="4538520"/>
                  <a:ext cx="149400" cy="14796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697280" y="457524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V="1">
                  <a:off x="4772160" y="4573080"/>
                  <a:ext cx="7452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4772160" y="461160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4844880" y="4538520"/>
                <a:ext cx="147960" cy="149400"/>
                <a:chOff x="4844880" y="4538520"/>
                <a:chExt cx="147960" cy="14940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4844880" y="4538520"/>
                  <a:ext cx="147960" cy="14796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844880" y="457524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V="1">
                  <a:off x="4919760" y="4573080"/>
                  <a:ext cx="7308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V="1">
                  <a:off x="4919760" y="461160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4992840" y="4538520"/>
                <a:ext cx="149040" cy="149400"/>
                <a:chOff x="4992840" y="4538520"/>
                <a:chExt cx="149040" cy="1494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992840" y="4538520"/>
                  <a:ext cx="149040" cy="14796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992840" y="457524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V="1">
                  <a:off x="5067360" y="4573080"/>
                  <a:ext cx="7452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5067360" y="461160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919760" y="4649760"/>
                <a:ext cx="149040" cy="149400"/>
                <a:chOff x="4919760" y="4649760"/>
                <a:chExt cx="149040" cy="1494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919760" y="4649760"/>
                  <a:ext cx="14904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919760" y="468648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V="1">
                  <a:off x="4994280" y="468468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994280" y="472284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4770360" y="4649760"/>
                <a:ext cx="149400" cy="149400"/>
                <a:chOff x="4770360" y="4649760"/>
                <a:chExt cx="149400" cy="14940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4770360" y="4649760"/>
                  <a:ext cx="1494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770360" y="468648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4844880" y="468468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V="1">
                  <a:off x="4844880" y="4722840"/>
                  <a:ext cx="180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4844880" y="4761000"/>
                <a:ext cx="147960" cy="147600"/>
                <a:chOff x="4844880" y="4761000"/>
                <a:chExt cx="147960" cy="1476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4844880" y="4761000"/>
                  <a:ext cx="14796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844880" y="479736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V="1">
                  <a:off x="4919760" y="479592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4919760" y="483228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7" name=""/>
            <p:cNvGrpSpPr/>
            <p:nvPr/>
          </p:nvGrpSpPr>
          <p:grpSpPr>
            <a:xfrm>
              <a:off x="5427720" y="4156200"/>
              <a:ext cx="890640" cy="892080"/>
              <a:chOff x="5427720" y="4156200"/>
              <a:chExt cx="890640" cy="892080"/>
            </a:xfrm>
          </p:grpSpPr>
          <p:sp>
            <p:nvSpPr>
              <p:cNvPr id="648" name=""/>
              <p:cNvSpPr/>
              <p:nvPr/>
            </p:nvSpPr>
            <p:spPr>
              <a:xfrm>
                <a:off x="5427720" y="43815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5427720" y="415620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72320" y="4159080"/>
                <a:ext cx="44424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872320" y="437832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427720" y="445464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427720" y="45291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427720" y="46036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427720" y="46767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427720" y="47512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427720" y="48243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5872320" y="445284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5872320" y="452772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872320" y="460008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5872320" y="467352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5872320" y="474984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5872320" y="482292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02240" y="43434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76760" y="430704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649840" y="427032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724360" y="4232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799240" y="4195800"/>
                <a:ext cx="4442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42772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02240" y="44179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76760" y="445464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49840" y="449100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724360" y="45291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799240" y="45655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72320" y="460368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94504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02136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09444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6752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4204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316560" y="43815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5799240" y="434196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5724360" y="43052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5649840" y="426672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5576760" y="4230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5502240" y="419364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5502240" y="4381560"/>
                <a:ext cx="149400" cy="149040"/>
                <a:chOff x="5502240" y="4381560"/>
                <a:chExt cx="149400" cy="1490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5502240" y="438156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502240" y="441792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V="1">
                  <a:off x="5575320" y="441648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V="1">
                  <a:off x="5575320" y="445284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5649840" y="4381560"/>
                <a:ext cx="149400" cy="149040"/>
                <a:chOff x="5649840" y="4381560"/>
                <a:chExt cx="149400" cy="14904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5649840" y="438156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49840" y="441792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V="1">
                  <a:off x="5724360" y="441648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5724360" y="445284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5799240" y="4381560"/>
                <a:ext cx="147600" cy="149040"/>
                <a:chOff x="5799240" y="4381560"/>
                <a:chExt cx="147600" cy="14904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5799240" y="4381560"/>
                  <a:ext cx="1476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799240" y="441792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V="1">
                  <a:off x="5872320" y="4416480"/>
                  <a:ext cx="727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V="1">
                  <a:off x="5872320" y="445284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5945040" y="4381560"/>
                <a:ext cx="149400" cy="149040"/>
                <a:chOff x="5945040" y="4381560"/>
                <a:chExt cx="149400" cy="1490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5945040" y="438156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45040" y="4417920"/>
                  <a:ext cx="748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V="1">
                  <a:off x="6019920" y="441648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V="1">
                  <a:off x="6019920" y="445284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5576760" y="4491000"/>
                <a:ext cx="147600" cy="150840"/>
                <a:chOff x="5576760" y="4491000"/>
                <a:chExt cx="147600" cy="15084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5576760" y="449100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576760" y="452916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649840" y="452772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V="1">
                  <a:off x="5649840" y="456408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24360" y="4491000"/>
                <a:ext cx="149400" cy="150840"/>
                <a:chOff x="5724360" y="4491000"/>
                <a:chExt cx="149400" cy="15084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24360" y="449100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24360" y="452916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V="1">
                  <a:off x="5797440" y="452772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V="1">
                  <a:off x="5797440" y="456408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5872320" y="4491000"/>
                <a:ext cx="149040" cy="150840"/>
                <a:chOff x="5872320" y="4491000"/>
                <a:chExt cx="149040" cy="1508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5872320" y="4491000"/>
                  <a:ext cx="14904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872320" y="452916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V="1">
                  <a:off x="5946840" y="452772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V="1">
                  <a:off x="5946840" y="456408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5799240" y="4603680"/>
                <a:ext cx="147600" cy="149400"/>
                <a:chOff x="5799240" y="4603680"/>
                <a:chExt cx="147600" cy="14940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5799240" y="460368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99240" y="464040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V="1">
                  <a:off x="5872320" y="4638600"/>
                  <a:ext cx="727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V="1">
                  <a:off x="5872320" y="467532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5649840" y="4603680"/>
                <a:ext cx="149400" cy="149400"/>
                <a:chOff x="5649840" y="4603680"/>
                <a:chExt cx="149400" cy="14940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649840" y="460368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649840" y="464040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V="1">
                  <a:off x="5724360" y="463860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5724360" y="467532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5724360" y="4713120"/>
                <a:ext cx="149400" cy="150840"/>
                <a:chOff x="5724360" y="4713120"/>
                <a:chExt cx="149400" cy="1508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5724360" y="471312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724360" y="474984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5797440" y="474984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5797440" y="478620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5799240" y="4824360"/>
                <a:ext cx="147600" cy="150840"/>
                <a:chOff x="5799240" y="4824360"/>
                <a:chExt cx="147600" cy="15084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5799240" y="482436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799240" y="486252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V="1">
                  <a:off x="5872320" y="4861080"/>
                  <a:ext cx="727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5872320" y="489744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5872320" y="4713120"/>
                <a:ext cx="149040" cy="150840"/>
                <a:chOff x="5872320" y="4713120"/>
                <a:chExt cx="149040" cy="15084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5872320" y="4713120"/>
                  <a:ext cx="14904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872320" y="474984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V="1">
                  <a:off x="5946840" y="474984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5946840" y="478620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5945040" y="4603680"/>
                <a:ext cx="149400" cy="149400"/>
                <a:chOff x="5945040" y="4603680"/>
                <a:chExt cx="149400" cy="14940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5945040" y="460368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945040" y="464040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6019920" y="463860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6019920" y="467532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6021360" y="4491000"/>
                <a:ext cx="147600" cy="150840"/>
                <a:chOff x="6021360" y="4491000"/>
                <a:chExt cx="147600" cy="15084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6021360" y="449100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021360" y="452916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V="1">
                  <a:off x="6094440" y="452772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V="1">
                  <a:off x="6094440" y="456408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6094440" y="4381560"/>
                <a:ext cx="149040" cy="149040"/>
                <a:chOff x="6094440" y="4381560"/>
                <a:chExt cx="149040" cy="14904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6094440" y="4381560"/>
                  <a:ext cx="14904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094440" y="441792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V="1">
                  <a:off x="6168960" y="441648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V="1">
                  <a:off x="6168960" y="445284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2" name=""/>
            <p:cNvSpPr/>
            <p:nvPr/>
          </p:nvSpPr>
          <p:spPr>
            <a:xfrm>
              <a:off x="1144440" y="240336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44440" y="324324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44440" y="442116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609480" y="54100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irection of wavefront can chan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start from any corner-poi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010280" y="2716200"/>
            <a:ext cx="152640" cy="1522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010280" y="3478320"/>
            <a:ext cx="152640" cy="152280"/>
          </a:xfrm>
          <a:prstGeom prst="rect">
            <a:avLst/>
          </a:prstGeom>
          <a:solidFill>
            <a:srgbClr val="01aa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241400" y="32940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vi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241760" y="24876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ve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85728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iniBand specifies that receive resources are consumed in order regardless of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all messages may therefore consume much larger receiv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very large scale, many applications are dominated by small message transf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ssage sizes vary substantially from job to job and even rank to r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weep3D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93432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weep3D: Receive Buffer Efficienc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weep3d: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77240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PB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 D 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838080" y="2282760"/>
            <a:ext cx="7010640" cy="41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NPB Receive Buffer Efficie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 D 256 Proc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402600" y="457200"/>
            <a:ext cx="20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Benchmark N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ilable for Class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610840" cy="39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PB Performanc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B Class D 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6705720" cy="40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cket SRQ prov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d performance a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size fits most”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minates need to custom-tune each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izes receive buffer memory foot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ore than 25 MB was allocated for any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s RNR NAKs in communication patterns we exa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advantage of ConnectX SRC feature to reduce the number of active Q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examine our protocol at 4K+ processor count on SNL’s ThunderBird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eive Buffer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562720" cy="44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ication for 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od of small messages may exhaust SRQ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ability of RNR NAK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lls the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de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sted resource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 may not complete within allotted time slot (12 + Hours for some jo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y not just tune the buffer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no “one size fits all” s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ssage size patterns differ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of processes in the parallel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ty / function in the parallel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balance optimization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ory foot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ing for each application run is not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Users W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mal performance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predictability at “acceptable” performance is mor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PC users want a default/“good enough”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meter tweaking is fine for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for ou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meter explo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MPI OpenFabrics-related driver parameters: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MPI other parameters: …man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Others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ヒラギノ角ゴ Pro W3"/>
              </a:rPr>
              <a:t>Por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guous memory region for unexpected messages (Receiver managed offset seman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rinet 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 size receive buffers can be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der specifies which size receive buffer to consume (SIZE &amp; PRIORITY fiel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drics E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PORTS manages pools of buffers of various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receipt of an unexpected message a buffer is chosen from the relev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cket-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from standard bucket alloc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e “buckets” of receive descriptors are created in multiple SRQ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associated a different size buf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mall pool of per-peer resources is also al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cket-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484280"/>
            <a:ext cx="8096040" cy="4602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len Shipman</cp:lastModifiedBy>
  <cp:revision>0</cp:revision>
  <dc:subject/>
  <dc:title>Resource Utilization in Large Scale InfiniBand Jobs </dc:title>
</cp:coreProperties>
</file>