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65480" cy="482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16"/>
          </p:nvPr>
        </p:nvSpPr>
        <p:spPr>
          <a:xfrm>
            <a:off x="4144680" y="-360"/>
            <a:ext cx="3165480" cy="482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Img"/>
          </p:nvPr>
        </p:nvSpPr>
        <p:spPr>
          <a:xfrm>
            <a:off x="1257120" y="719280"/>
            <a:ext cx="4800600" cy="35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ftr" idx="17"/>
          </p:nvPr>
        </p:nvSpPr>
        <p:spPr>
          <a:xfrm>
            <a:off x="-360" y="9116640"/>
            <a:ext cx="3165480" cy="482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 type="sldNum" idx="18"/>
          </p:nvPr>
        </p:nvSpPr>
        <p:spPr>
          <a:xfrm>
            <a:off x="4144680" y="9116640"/>
            <a:ext cx="3165480" cy="482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37CC0-2948-44C3-83A3-001118AFCCA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9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C77E4-EB53-48C3-B1C5-359357372B2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Text Box 1"/>
          <p:cNvSpPr/>
          <p:nvPr/>
        </p:nvSpPr>
        <p:spPr>
          <a:xfrm>
            <a:off x="1257480" y="719280"/>
            <a:ext cx="480528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977400" y="4562640"/>
            <a:ext cx="5356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2BA41-3147-48AA-ABE0-1E3C4CE19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D9E5A-3931-4A33-8267-38D84507D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FE9F5-E346-463B-8A7F-2D215CDB7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B2505-62DC-4561-8105-8CCD849EA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83F30-7D38-4F0E-BC1D-BD11FFC9C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9380B-24B2-4106-8A56-72FFA0ACA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3E643-1D80-4E6A-9BBA-7186820DD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Text Box 2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6F89F-43AE-4196-BD0E-0975C35FA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1A526-6C24-4917-A3CD-D5ACF0826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Text Box 2"/>
          <p:cNvSpPr/>
          <p:nvPr/>
        </p:nvSpPr>
        <p:spPr>
          <a:xfrm>
            <a:off x="2286000" y="728640"/>
            <a:ext cx="27432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E765D-3C8A-4384-A502-432FD7870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1A4A0-DA5B-4E99-8647-AC96EB7855A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9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AFDE6-3F34-4310-80DE-FAFEC875CA2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 Box 1"/>
          <p:cNvSpPr/>
          <p:nvPr/>
        </p:nvSpPr>
        <p:spPr>
          <a:xfrm>
            <a:off x="1257480" y="719280"/>
            <a:ext cx="480528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body"/>
          </p:nvPr>
        </p:nvSpPr>
        <p:spPr>
          <a:xfrm>
            <a:off x="977400" y="4562640"/>
            <a:ext cx="5356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ooter Placeholder 7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250C1-9B7E-4DD0-9105-9CF56802D8C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38F2C-785F-4DF9-91C3-09FE2FFC768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9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B7FCB-89DC-414B-B596-28FA5C4CAC6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Text Box 1"/>
          <p:cNvSpPr/>
          <p:nvPr/>
        </p:nvSpPr>
        <p:spPr>
          <a:xfrm>
            <a:off x="1257480" y="719280"/>
            <a:ext cx="480528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body"/>
          </p:nvPr>
        </p:nvSpPr>
        <p:spPr>
          <a:xfrm>
            <a:off x="977400" y="4562640"/>
            <a:ext cx="5356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Footer Placeholder 7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22E33-C0CC-493A-B26D-A340AC53328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9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43B8D-C01D-4856-B9D5-5F7DE30676E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Text Box 1"/>
          <p:cNvSpPr/>
          <p:nvPr/>
        </p:nvSpPr>
        <p:spPr>
          <a:xfrm>
            <a:off x="1258920" y="719280"/>
            <a:ext cx="480528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77400" y="4562640"/>
            <a:ext cx="5356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Footer Placeholder 7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23EA4-ED82-40AE-A56F-78F98E342CA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E8E0F-1848-455C-8999-0C3F18E16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268280" y="71928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79200" y="4562640"/>
            <a:ext cx="53578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5936E-03D0-4924-B632-4E8EEF4994F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FD754-3297-4EBF-AE9B-13F938406F7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0AE11-F220-4C28-9B90-AC541B9EF16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5BFCA-214A-4DFC-B1CC-98F5B1AAC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6929B-E17E-444D-B928-5ABEF4F43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C7F7-6A58-43AC-9DE6-D5BC2D5D7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D573-0E78-46C4-941E-6F9F4DC73E9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D8AE1A-CA9A-4B84-BE45-775205C5A2C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D01427-BCE7-4841-8FBD-679FA4EF5D2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60A0B8-1CD9-4F39-8477-EB74F46877B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35DCC-C577-4553-89A7-E0474252AD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F2E32-B876-410B-9507-6660B78EFF4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554D80-6C0E-419D-9DF2-4F63C289E83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5DA7DA-0784-4B3A-B3D8-65629FF2B5E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6AB9B8-C1DA-454F-B2D5-ACE1BA8A9A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4A0B7F-473D-434E-91F0-C0F249D0994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715D3-8F8D-4618-8258-A447CA377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8EB5-627F-44E3-AAD7-5B716E25F11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4D0BF-1856-47B0-9DB9-A0E9FC22725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196DC-04C1-408F-9C5F-E563EB6EA17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296DF-4B0F-49D6-B708-FA5C91689F9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E1A88-F604-44C9-910B-DAEF2DE9003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680D2-92CC-49E4-860F-C057AFD46C8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94508-A035-4E3B-82B2-B436313241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CB95D-B70E-4DDC-A43F-0FBFF8755A6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05666-C283-4B14-ACB0-06E9380D528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D5A9B-94CF-4B39-88D9-6938F2A8AC7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0D8E3-013D-4590-8EB0-9850FFC8A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F761-CFF8-446B-AFF0-B6C0414C84E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9F246-6837-41FE-B68F-AFD804E633C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04F65-E0F7-404E-BC11-BAC849F85EB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F9EE-7290-442A-8DD0-5B09337F1AC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3A40-2665-4B7A-97CF-EE9EC800B94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744D-7E95-4501-96A7-47DFF5CFFD6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3198-D543-4E9C-BAA8-C5C6549FD31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CAFE-5B55-4C55-9BEB-478C975235C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E8798-CB25-4133-B6C8-0EF7FEEB750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D0F4-0ED4-4A9C-ADAD-0284A6A5E21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6B96-E199-4F5F-83D1-2E6C5E6E7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6860-0D3C-4E45-8AFC-FFEF4525FFD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5E15-E69C-498B-A56E-91F4153C0CB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482A3-32E8-44C8-A78F-7B56F9BD8B8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2CF9D-2D19-4721-AFD1-995A00BCDAA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A9118-9FE2-44D6-B846-E5865BDE37B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137310-9848-49C0-BEF4-06F30B86FFC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22CBDD-14B3-4D56-BE4D-FD5CE116E8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6859E0-9104-418A-BA3B-A9DC6FB8767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A1C2C-685B-4CCE-8382-650F0650057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B75317-F8DD-4D71-B791-15F78AB492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95FF45-9BDB-4FB7-BDA2-2A81930139A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46E31-8818-44D4-B70E-22E23AAE7D1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838125-5AA2-4191-A856-1AFB4B3FD10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1E099-6D3A-49E5-8C26-DE7E180D4B6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DD4764-43B0-4DA2-90B7-5CA36619D49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4BAEB-C6E0-46C0-AD67-3E6801982B9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9C0A3-0341-48DF-915C-AB022791384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D2A44-B1BE-4674-97E8-37E30DB89F2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A5A68-9846-40B9-ADBF-878AFA7345E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9D415-5621-4662-A53F-610FA35974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FF842-7861-4753-A56D-6E0D72093F5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E124D5-DD42-46D0-B476-05DE2F77D9A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19D436-EA04-4A23-860E-DC1E736D691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B90214-E5BE-4A95-B433-00CA0E3A4B5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0F0DF4-065E-46A2-AD1C-60877A3DB99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BB43C-3213-47B5-8B45-9CB99C38F37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3EFCA-F89C-4B7B-BE68-6AC1E4EE56B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276CF-5761-4C49-8274-AC997BFFED6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34C21-7B4A-467F-842D-A22E89C99EB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161A4-87F9-453F-8BD9-15EF013AF1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3EBC4-C982-4FED-BD60-343459D2DAA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53BCF-A978-486C-A53E-CC28EEF0CCB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D8DC1-8CFE-46D9-93DF-CC4C5680E9D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F4DA8-4A3D-4D68-AEEE-DF8FA1294A8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3781B-93CB-4E44-BEF5-AEB64DD1F1D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DBEB3-8BA8-408F-8F2E-54071E10EFA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7F800-424C-4304-8318-ABD5DE16C58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354DF-D720-42E1-BF27-3E258AEC9E7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70AD-48A8-42D3-813F-F91EB9F8A40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3EBF58-90B2-4208-A6C2-4CAB3D36BA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3C2C61-909F-4441-A6B0-CDDEB362CC0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9D31A3-BBF4-4F68-977B-DA51392C345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95C71D-E01A-40E2-B274-5FC2C2760E2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757A7D-F904-44A7-A82A-7715D09D9F7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18292D-BFF7-4ABA-AA29-D8346A4E0DB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ADB17E-CDC0-40B9-93E7-978A30C26CA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41E485-37D8-46B4-A89B-B87BE733A54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889901-7559-4D88-87DF-FEB45835715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CA5D55-31F7-438F-9253-18FC8016874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D93F1E-74A2-44F8-A0B7-146BC936E5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F52D8A-12BF-496F-9837-9DEECF71612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89AD0-6459-41FE-87AF-4F329405124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D32D8-21EC-4108-B9A4-2A6A00CFF31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65534-5332-4A25-96B7-5AA29E4F0D8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2732B-4517-42F2-863F-818B07E2D0C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9646C-25F7-477D-94C3-0E63336ACA1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8E628-65E8-4F8B-B8A1-9DC03A78615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47C69-FCCD-46F9-AE49-AC0C54F0C1C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CD25B-1D55-4A23-93F6-B41976A5AF3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964EA-059B-4183-95BE-CB35D82254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C527E-7618-4C10-8C7F-E8709F4DAFD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BA0E1-C1AA-4CE1-9577-08D06E58749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E4583A-2039-4633-95CA-899A006FE70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BCCBE-6A3F-48FA-86A0-79709655D8A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525D6-FA40-41CE-A2F1-D4F094D432F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5C251-BAD2-4954-B9D7-52F422ACF29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54FE1-5E63-42C4-96BA-C1A0273C28E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F84F1-28DB-48E0-929B-59037CA3493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8153D-F876-4D4D-A154-97D05BF453C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B6D5F-E9F1-424E-9A08-2F0237230B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73D2-308F-460B-B8F6-04953942D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64DFE-5FD7-4E06-8BDC-3D4A4988222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283C2-435F-4143-836A-3D3967CF1D8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B9DF2-8C2B-4BCB-B418-DF04AD37993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1BEC-911F-4107-B638-AEC185E1939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2AF0F-29B4-4691-981D-AB0EB53979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8491E-3905-485E-8D4E-04A9DC3383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5E40-AB3A-4A5C-A3FF-736ECFC5BB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C516-740C-4E9B-B621-D4637515CB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898D-10F8-42F6-8965-E0811BFED2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F051-8A4F-4600-892F-8BC262E618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2E5F-E584-447B-A92B-255AA5C6EF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67D0-2902-4ED8-8301-FCB45FCF0A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6BCE-8B65-4947-821E-826A1C5CC3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370E-EDD1-4779-89D1-E648AF11C8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4BAC-BC08-43A8-B551-C19BEB4B90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DDBAF-9DB9-424F-930B-675D9FDFA1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A4FD-2042-4ACC-A9CF-7C9862A359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8FE26-C9A6-4E45-A073-4578B8AEBE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110-235B-4AC6-88F9-22A3D01B39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E53-70D8-4202-9BB3-2BE81FDE97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17C-9EC8-40F0-B035-D1716A4D0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8CE6-9D15-4032-87F6-CF95C59910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5AC-91D6-4A20-9CE6-5878C2898E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F2E-9654-4F5E-B4BA-1726B694C0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EEF-5CFD-4E0D-91A5-8E64290B55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025-99FE-4715-B044-F031C9CFD4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7AA-2A57-4E99-A63F-C9AD6222F9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960-DE61-458C-933E-F37BE630F7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D13-95D2-47E6-98ED-01354BA328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B2B-5BF9-4768-9504-CD7B2F6127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736-CACD-4FF4-9312-5C05589EBD9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838B-DACC-428B-A3CF-B36FBB8B902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9497-BF5F-4C41-BDD9-FDA768C2940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6059C-AACA-4284-B8B9-D53DADE90A3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E8652-201F-4DE3-9B3C-7B06A89533E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573BD-E505-4F86-A7F9-6E106EBD35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F50F7-1138-4063-81F9-27D225456A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F9FC5-9765-45E9-B29D-4E6A7526D2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D5233-080E-424F-B076-13B8E7FE2F1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F758D-DCF4-4747-943A-965CD754E5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B58D4-FA2D-4D30-9035-529AA37FA76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A660A-6362-463E-B72C-1D71D24E1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7A7C-9E65-4B3B-B49D-1617F73D469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BB76A-3798-4F9A-BF69-EE09473DCF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363AF-5207-43DB-BC8C-5AE5D6E5DFB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CFDB2-76F5-414F-B77D-9B3B6A95BE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2704F-230B-48B6-ADDB-678E2065D29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46058-562B-4C9B-B439-2F039BB8483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A311E-46F6-465B-BECE-30EB8213615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8CA76-2A01-4F7D-8EA7-4C9CBD121B4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1ACF3-439B-4192-A2DE-00659F0F905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844A1-D419-4024-9F72-5E30C921BD5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D6BA3-245A-4B8E-9E48-AD6F31CC5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28C6-D027-4110-8F6B-A895DC73C40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DB457-1DF6-4762-A6B3-04906EF1417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A31D5-6D78-422A-B71C-759469C2E78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9B6D7-50A2-4DEA-B114-636678E1B5D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E7DBF-EFE8-456E-AD1F-403C039FAC9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5A235-0152-4552-97B0-8B77284006D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5A4E-5E3B-48AC-B0B3-67685C33DC5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6373-7C7B-4B8E-92F6-663BA722B66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35C0-7DE8-4E7A-9E2D-68600180F83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A7A1-5306-496C-843A-7B54B00C3D8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01CB-A535-4640-8B1F-D078DD2FB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88C0-0A26-4949-ADD6-F54A294C69E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3D42-581A-43FE-AD86-965201C27AB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66A4-54A0-425D-9660-F214CDE78DA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594B-665B-4D56-8215-9576C6C0BE4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90C8-9AF2-44C9-AEBF-3E21A388027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588F-3E3B-4BE4-8EAE-26FDC1FE270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5AB4-6DF7-416B-BA80-7A521A0FB7F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AD1F-10EE-426A-B5DB-D81F7018718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41CCE1-85BA-41EA-92C4-FE4094B2DF4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50FF61-0904-457A-A9E1-5C2C382FDD9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3CA851-6100-4F5A-8549-A9BD1970C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0" y="661356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Century Gothic"/>
              </a:rPr>
              <a:t>OFA Workshop, Sonoma, 20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44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CD6F8-4B5E-4896-B9AC-9D8F7C65FD8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Line 6"/>
          <p:cNvSpPr/>
          <p:nvPr/>
        </p:nvSpPr>
        <p:spPr>
          <a:xfrm>
            <a:off x="228600" y="990720"/>
            <a:ext cx="8763120" cy="144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378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8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DAD7C-3E91-4D13-BAFD-4F0D1D11907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420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9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F5820-4B02-4D7A-B877-536B4E6E7D7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462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10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0C040-63A1-4277-BA81-174808208CE9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504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1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EDD4A-3B81-49A7-A3D8-9E051BCBAFA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546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12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EEF4F-7AAC-4333-9A31-8F375682F5E9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588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Num" idx="13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0664D-CB75-4486-B0CD-23332CF43FA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630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14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ED1CE-9CA7-4226-9B79-1871A8ED279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1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672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Num" idx="15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30BF2-0135-4CE4-AE10-1CD66CCBD230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1911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" name="Line 2"/>
          <p:cNvSpPr/>
          <p:nvPr/>
        </p:nvSpPr>
        <p:spPr>
          <a:xfrm>
            <a:off x="0" y="6477120"/>
            <a:ext cx="9144000" cy="144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621AA-D832-4E6A-BCC5-41068471912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88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0" y="661356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Century Gothic"/>
              </a:rPr>
              <a:t>OFA Workshop, Sonoma, 20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127" name="Line 6"/>
          <p:cNvSpPr/>
          <p:nvPr/>
        </p:nvSpPr>
        <p:spPr>
          <a:xfrm>
            <a:off x="228600" y="990720"/>
            <a:ext cx="8763120" cy="144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3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D59EC-BCFD-4B5A-A68A-C694ADFD68D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210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4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D6D94-C925-4428-B2A5-BAA29280455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252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5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9293E-AAF8-4C0F-BCF2-858C785CD75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294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6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03A28-A196-4FB1-A991-A21247103D1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336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7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0CCE2-59EE-48AD-A5CF-1CFF1C396759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165480"/>
            <a:ext cx="77724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Century Gothic"/>
              </a:rPr>
              <a:t>iWARP in OFED 1.2</a:t>
            </a:r>
            <a:br>
              <a:rPr sz="4800"/>
            </a:br>
            <a:r>
              <a:rPr b="1" lang="is-IS" sz="3200" spc="-1" strike="noStrike">
                <a:solidFill>
                  <a:srgbClr val="003366"/>
                </a:solidFill>
                <a:latin typeface="Century Gothic"/>
              </a:rPr>
              <a:t> </a:t>
            </a:r>
            <a:br>
              <a:rPr sz="3200"/>
            </a:br>
            <a:r>
              <a:rPr b="0" i="1" lang="en-GB" sz="2800" spc="-1" strike="noStrike">
                <a:solidFill>
                  <a:srgbClr val="003366"/>
                </a:solidFill>
                <a:latin typeface="Century Gothic"/>
              </a:rPr>
              <a:t>Asgeir Eir</a:t>
            </a:r>
            <a:r>
              <a:rPr b="0" i="1" lang="is-IS" sz="2800" spc="-1" strike="noStrike">
                <a:solidFill>
                  <a:srgbClr val="003366"/>
                </a:solidFill>
                <a:latin typeface="Century Gothic"/>
              </a:rPr>
              <a:t>iksson</a:t>
            </a:r>
            <a:br>
              <a:rPr sz="2800"/>
            </a:br>
            <a:r>
              <a:rPr b="0" i="1" lang="is-IS" sz="2800" spc="-1" strike="noStrike">
                <a:solidFill>
                  <a:srgbClr val="003366"/>
                </a:solidFill>
                <a:latin typeface="Century Gothic"/>
              </a:rPr>
              <a:t>Chelsio Communications Inc.</a:t>
            </a:r>
            <a:br>
              <a:rPr sz="2800"/>
            </a:br>
            <a:br>
              <a:rPr sz="2800"/>
            </a:br>
            <a:r>
              <a:rPr b="0" i="1" lang="is-IS" sz="2800" spc="-1" strike="noStrike">
                <a:solidFill>
                  <a:srgbClr val="003366"/>
                </a:solidFill>
                <a:latin typeface="Century Gothic"/>
              </a:rPr>
              <a:t>April 30, 2007</a:t>
            </a:r>
            <a:r>
              <a:rPr b="1" lang="is-IS" sz="2800" spc="-1" strike="noStrike">
                <a:solidFill>
                  <a:srgbClr val="003366"/>
                </a:solidFill>
                <a:latin typeface="Century Gothic"/>
              </a:rPr>
              <a:t> </a:t>
            </a:r>
            <a:br>
              <a:rPr sz="2800"/>
            </a:br>
            <a:r>
              <a:rPr b="0" i="1" lang="is-IS" sz="2800" spc="-1" strike="noStrike">
                <a:solidFill>
                  <a:srgbClr val="003366"/>
                </a:solidFill>
                <a:latin typeface="Century Gothic"/>
              </a:rPr>
              <a:t>OFA Workshop, Sonoma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3429000" y="419040"/>
            <a:ext cx="236232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C08B9-D19B-4CCC-800C-F6D3C55DEA1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What’s in the Box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0B31C-68DD-49B3-A227-E89A2908131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76201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Unified Wire: Traffic Manager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transmit and receive queues with 8 QoS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transmit queue sets with configurable service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receive queue sets with configurable steering of receive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lass can have any number of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priority channels through chip for simultaneous low latency and high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traffic shaping and pa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s TCP burstiness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grained per-connection transmit rate 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grained per-class transmit rate 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flexible and configur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er-connection or per-class bandwidth – possible to mix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: one corresponding to 5.5Mbs MPEG, another to teleconferenc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Type, TOS and DSCP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ble weighted-round-robin scheduler to enforce S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Chelsio OFED 1.2 Suppor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le at kernel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.6.21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/net/cxgb3 – Ethernet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/infiniband/hw/cxgb3 – RDMA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Fabrics Enterprise Distribution (OF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Released 4/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al BSD/GPL 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erformance QA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at performance 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Chelsio OFED 1.2 Modul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44720" y="1143000"/>
            <a:ext cx="42656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xg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Offload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w_cxg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xg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 offload TCP/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setup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W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ED 1.2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2.6.20 RDMA code + fix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s: X86_32, X86_64, IA64, PPC6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rnel.org 2.6.21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os Suppor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4 U4/5, RHEL5, SLES9SP3, SLES10 SP0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released with SLES 10SP1 and RHEL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PM, RPM Packa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ED 1.2 Kernel Modul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iniband (I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ox, IBM, QLogic H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over IB (IPoIB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kets Direct Protocol (SD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SI RDMA Protocol (SRP), iSCSI RDMA (iS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Datagram Service (R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NIC (V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Manager (IB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28600" y="358560"/>
            <a:ext cx="6781680" cy="4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ED 1.2 Kernel Modul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lsio R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WARP Connect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DMA-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600" y="344160"/>
            <a:ext cx="6781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ED 1.2 User Component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rect Access Provider Library (uDAP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ssage Passing Interface (MPI)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VAPICH, MVAPICH2 (in 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MPI (pan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B Subnet Management via Open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DMA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B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2"/>
          <p:cNvSpPr/>
          <p:nvPr/>
        </p:nvSpPr>
        <p:spPr>
          <a:xfrm>
            <a:off x="1371600" y="228600"/>
            <a:ext cx="5562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4" name="Picture 3" descr=""/>
          <p:cNvPicPr/>
          <p:nvPr/>
        </p:nvPicPr>
        <p:blipFill>
          <a:blip r:embed="rId1"/>
          <a:stretch/>
        </p:blipFill>
        <p:spPr>
          <a:xfrm>
            <a:off x="190440" y="142920"/>
            <a:ext cx="1030320" cy="1020600"/>
          </a:xfrm>
          <a:prstGeom prst="rect">
            <a:avLst/>
          </a:prstGeom>
          <a:ln w="0">
            <a:noFill/>
          </a:ln>
        </p:spPr>
      </p:pic>
      <p:grpSp>
        <p:nvGrpSpPr>
          <p:cNvPr id="775" name="Group 4"/>
          <p:cNvGrpSpPr/>
          <p:nvPr/>
        </p:nvGrpSpPr>
        <p:grpSpPr>
          <a:xfrm>
            <a:off x="7286760" y="1219320"/>
            <a:ext cx="1723680" cy="4114440"/>
            <a:chOff x="7286760" y="1219320"/>
            <a:chExt cx="1723680" cy="4114440"/>
          </a:xfrm>
        </p:grpSpPr>
        <p:sp>
          <p:nvSpPr>
            <p:cNvPr id="776" name="Rectangle 5"/>
            <p:cNvSpPr/>
            <p:nvPr/>
          </p:nvSpPr>
          <p:spPr>
            <a:xfrm>
              <a:off x="7829280" y="5080680"/>
              <a:ext cx="11797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RDMA NIC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Rectangle 6"/>
            <p:cNvSpPr/>
            <p:nvPr/>
          </p:nvSpPr>
          <p:spPr>
            <a:xfrm>
              <a:off x="7286760" y="5080680"/>
              <a:ext cx="5425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R-NIC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Rectangle 7"/>
            <p:cNvSpPr/>
            <p:nvPr/>
          </p:nvSpPr>
          <p:spPr>
            <a:xfrm>
              <a:off x="7829280" y="471636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Host Channel Adap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Rectangle 8"/>
            <p:cNvSpPr/>
            <p:nvPr/>
          </p:nvSpPr>
          <p:spPr>
            <a:xfrm>
              <a:off x="7286760" y="471636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HC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Rectangle 9"/>
            <p:cNvSpPr/>
            <p:nvPr/>
          </p:nvSpPr>
          <p:spPr>
            <a:xfrm>
              <a:off x="7829280" y="435348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User Direct Access Programming Li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Rectangle 10"/>
            <p:cNvSpPr/>
            <p:nvPr/>
          </p:nvSpPr>
          <p:spPr>
            <a:xfrm>
              <a:off x="7286760" y="435348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187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UDAP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Rectangle 11"/>
            <p:cNvSpPr/>
            <p:nvPr/>
          </p:nvSpPr>
          <p:spPr>
            <a:xfrm>
              <a:off x="7829280" y="398916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Reliable Datagram Servic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Rectangle 12"/>
            <p:cNvSpPr/>
            <p:nvPr/>
          </p:nvSpPr>
          <p:spPr>
            <a:xfrm>
              <a:off x="7286760" y="398916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RD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Rectangle 13"/>
            <p:cNvSpPr/>
            <p:nvPr/>
          </p:nvSpPr>
          <p:spPr>
            <a:xfrm>
              <a:off x="7829280" y="362628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SCSI RDMA Protocol (Initiator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Rectangle 14"/>
            <p:cNvSpPr/>
            <p:nvPr/>
          </p:nvSpPr>
          <p:spPr>
            <a:xfrm>
              <a:off x="7286760" y="362628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S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Rectangle 15"/>
            <p:cNvSpPr/>
            <p:nvPr/>
          </p:nvSpPr>
          <p:spPr>
            <a:xfrm>
              <a:off x="7829280" y="326196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CSI RDMA Protocol (Initiator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Rectangle 16"/>
            <p:cNvSpPr/>
            <p:nvPr/>
          </p:nvSpPr>
          <p:spPr>
            <a:xfrm>
              <a:off x="7286760" y="326196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R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Rectangle 17"/>
            <p:cNvSpPr/>
            <p:nvPr/>
          </p:nvSpPr>
          <p:spPr>
            <a:xfrm>
              <a:off x="7829280" y="2899440"/>
              <a:ext cx="11797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ockets Direct Protocol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Rectangle 18"/>
            <p:cNvSpPr/>
            <p:nvPr/>
          </p:nvSpPr>
          <p:spPr>
            <a:xfrm>
              <a:off x="7286760" y="2899440"/>
              <a:ext cx="5425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D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Rectangle 19"/>
            <p:cNvSpPr/>
            <p:nvPr/>
          </p:nvSpPr>
          <p:spPr>
            <a:xfrm>
              <a:off x="7829280" y="2671560"/>
              <a:ext cx="11797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P over InfiniBan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Rectangle 20"/>
            <p:cNvSpPr/>
            <p:nvPr/>
          </p:nvSpPr>
          <p:spPr>
            <a:xfrm>
              <a:off x="7286760" y="2671560"/>
              <a:ext cx="5425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PoI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Rectangle 21"/>
            <p:cNvSpPr/>
            <p:nvPr/>
          </p:nvSpPr>
          <p:spPr>
            <a:xfrm>
              <a:off x="7829280" y="230904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Performance Manager Age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Rectangle 22"/>
            <p:cNvSpPr/>
            <p:nvPr/>
          </p:nvSpPr>
          <p:spPr>
            <a:xfrm>
              <a:off x="7286760" y="230904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PM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Rectangle 23"/>
            <p:cNvSpPr/>
            <p:nvPr/>
          </p:nvSpPr>
          <p:spPr>
            <a:xfrm>
              <a:off x="7829280" y="1945080"/>
              <a:ext cx="1179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ubnet Manager Age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Rectangle 24"/>
            <p:cNvSpPr/>
            <p:nvPr/>
          </p:nvSpPr>
          <p:spPr>
            <a:xfrm>
              <a:off x="7286760" y="1945080"/>
              <a:ext cx="542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M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Rectangle 25"/>
            <p:cNvSpPr/>
            <p:nvPr/>
          </p:nvSpPr>
          <p:spPr>
            <a:xfrm>
              <a:off x="7829280" y="158184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Management Datagram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Rectangle 26"/>
            <p:cNvSpPr/>
            <p:nvPr/>
          </p:nvSpPr>
          <p:spPr>
            <a:xfrm>
              <a:off x="7286760" y="158184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M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Rectangle 27"/>
            <p:cNvSpPr/>
            <p:nvPr/>
          </p:nvSpPr>
          <p:spPr>
            <a:xfrm>
              <a:off x="7829280" y="1219320"/>
              <a:ext cx="11797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ubnet Administrato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Rectangle 28"/>
            <p:cNvSpPr/>
            <p:nvPr/>
          </p:nvSpPr>
          <p:spPr>
            <a:xfrm>
              <a:off x="7286760" y="1219320"/>
              <a:ext cx="5425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29"/>
            <p:cNvSpPr/>
            <p:nvPr/>
          </p:nvSpPr>
          <p:spPr>
            <a:xfrm>
              <a:off x="7286760" y="1219320"/>
              <a:ext cx="1722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0"/>
            <p:cNvSpPr/>
            <p:nvPr/>
          </p:nvSpPr>
          <p:spPr>
            <a:xfrm>
              <a:off x="7286760" y="158184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1"/>
            <p:cNvSpPr/>
            <p:nvPr/>
          </p:nvSpPr>
          <p:spPr>
            <a:xfrm>
              <a:off x="7286760" y="1945080"/>
              <a:ext cx="172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2"/>
            <p:cNvSpPr/>
            <p:nvPr/>
          </p:nvSpPr>
          <p:spPr>
            <a:xfrm>
              <a:off x="7286760" y="230904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3"/>
            <p:cNvSpPr/>
            <p:nvPr/>
          </p:nvSpPr>
          <p:spPr>
            <a:xfrm>
              <a:off x="7286760" y="267156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4"/>
            <p:cNvSpPr/>
            <p:nvPr/>
          </p:nvSpPr>
          <p:spPr>
            <a:xfrm>
              <a:off x="7286760" y="289944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35"/>
            <p:cNvSpPr/>
            <p:nvPr/>
          </p:nvSpPr>
          <p:spPr>
            <a:xfrm>
              <a:off x="7286760" y="326196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36"/>
            <p:cNvSpPr/>
            <p:nvPr/>
          </p:nvSpPr>
          <p:spPr>
            <a:xfrm>
              <a:off x="7286760" y="362628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37"/>
            <p:cNvSpPr/>
            <p:nvPr/>
          </p:nvSpPr>
          <p:spPr>
            <a:xfrm>
              <a:off x="7286760" y="398916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38"/>
            <p:cNvSpPr/>
            <p:nvPr/>
          </p:nvSpPr>
          <p:spPr>
            <a:xfrm>
              <a:off x="7286760" y="4353480"/>
              <a:ext cx="172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39"/>
            <p:cNvSpPr/>
            <p:nvPr/>
          </p:nvSpPr>
          <p:spPr>
            <a:xfrm>
              <a:off x="7286760" y="471636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"/>
            <p:cNvSpPr/>
            <p:nvPr/>
          </p:nvSpPr>
          <p:spPr>
            <a:xfrm>
              <a:off x="7286760" y="5332680"/>
              <a:ext cx="1722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1"/>
            <p:cNvSpPr/>
            <p:nvPr/>
          </p:nvSpPr>
          <p:spPr>
            <a:xfrm>
              <a:off x="7286760" y="1219320"/>
              <a:ext cx="1440" cy="411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2"/>
            <p:cNvSpPr/>
            <p:nvPr/>
          </p:nvSpPr>
          <p:spPr>
            <a:xfrm>
              <a:off x="7829280" y="1219320"/>
              <a:ext cx="1080" cy="411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3"/>
            <p:cNvSpPr/>
            <p:nvPr/>
          </p:nvSpPr>
          <p:spPr>
            <a:xfrm>
              <a:off x="9009360" y="1219320"/>
              <a:ext cx="1080" cy="411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4"/>
            <p:cNvSpPr/>
            <p:nvPr/>
          </p:nvSpPr>
          <p:spPr>
            <a:xfrm>
              <a:off x="7286760" y="5080680"/>
              <a:ext cx="172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6" name="Rectangle 45"/>
          <p:cNvSpPr/>
          <p:nvPr/>
        </p:nvSpPr>
        <p:spPr>
          <a:xfrm>
            <a:off x="7286760" y="5372280"/>
            <a:ext cx="1724040" cy="79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Rectangle 46"/>
          <p:cNvSpPr/>
          <p:nvPr/>
        </p:nvSpPr>
        <p:spPr>
          <a:xfrm>
            <a:off x="7715160" y="5433840"/>
            <a:ext cx="60012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Rectangle 47"/>
          <p:cNvSpPr/>
          <p:nvPr/>
        </p:nvSpPr>
        <p:spPr>
          <a:xfrm>
            <a:off x="7715160" y="5680080"/>
            <a:ext cx="600120" cy="18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nfiniB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Rectangle 48"/>
          <p:cNvSpPr/>
          <p:nvPr/>
        </p:nvSpPr>
        <p:spPr>
          <a:xfrm>
            <a:off x="7715160" y="5925960"/>
            <a:ext cx="619200" cy="184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WAR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49"/>
          <p:cNvSpPr/>
          <p:nvPr/>
        </p:nvSpPr>
        <p:spPr>
          <a:xfrm>
            <a:off x="7286760" y="5433840"/>
            <a:ext cx="709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50"/>
          <p:cNvSpPr/>
          <p:nvPr/>
        </p:nvSpPr>
        <p:spPr>
          <a:xfrm>
            <a:off x="152280" y="1233360"/>
            <a:ext cx="7086600" cy="1629000"/>
          </a:xfrm>
          <a:prstGeom prst="rect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Rectangle 51"/>
          <p:cNvSpPr/>
          <p:nvPr/>
        </p:nvSpPr>
        <p:spPr>
          <a:xfrm>
            <a:off x="152280" y="2895480"/>
            <a:ext cx="7086600" cy="28209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52"/>
          <p:cNvSpPr/>
          <p:nvPr/>
        </p:nvSpPr>
        <p:spPr>
          <a:xfrm>
            <a:off x="1141560" y="5791320"/>
            <a:ext cx="1373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nfiniBand HC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Rectangle 53"/>
          <p:cNvSpPr/>
          <p:nvPr/>
        </p:nvSpPr>
        <p:spPr>
          <a:xfrm>
            <a:off x="2590920" y="5791320"/>
            <a:ext cx="3808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54"/>
          <p:cNvSpPr/>
          <p:nvPr/>
        </p:nvSpPr>
        <p:spPr>
          <a:xfrm>
            <a:off x="3046320" y="5791320"/>
            <a:ext cx="3826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Rectangle 55"/>
          <p:cNvSpPr/>
          <p:nvPr/>
        </p:nvSpPr>
        <p:spPr>
          <a:xfrm>
            <a:off x="5637240" y="5791320"/>
            <a:ext cx="144936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iWARP R-N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Rectangle 56"/>
          <p:cNvSpPr/>
          <p:nvPr/>
        </p:nvSpPr>
        <p:spPr>
          <a:xfrm>
            <a:off x="4267080" y="5791320"/>
            <a:ext cx="38124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7"/>
          <p:cNvSpPr/>
          <p:nvPr/>
        </p:nvSpPr>
        <p:spPr>
          <a:xfrm>
            <a:off x="4722840" y="5791320"/>
            <a:ext cx="38268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58"/>
          <p:cNvSpPr/>
          <p:nvPr/>
        </p:nvSpPr>
        <p:spPr>
          <a:xfrm>
            <a:off x="1141560" y="5257800"/>
            <a:ext cx="1373040" cy="382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pecific Driv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59"/>
          <p:cNvSpPr/>
          <p:nvPr/>
        </p:nvSpPr>
        <p:spPr>
          <a:xfrm>
            <a:off x="5637240" y="5257800"/>
            <a:ext cx="1449360" cy="38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ardware Specif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60"/>
          <p:cNvSpPr/>
          <p:nvPr/>
        </p:nvSpPr>
        <p:spPr>
          <a:xfrm>
            <a:off x="2590920" y="5257800"/>
            <a:ext cx="380880" cy="382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Rectangle 61"/>
          <p:cNvSpPr/>
          <p:nvPr/>
        </p:nvSpPr>
        <p:spPr>
          <a:xfrm>
            <a:off x="3046320" y="5257800"/>
            <a:ext cx="382680" cy="382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Rectangle 62"/>
          <p:cNvSpPr/>
          <p:nvPr/>
        </p:nvSpPr>
        <p:spPr>
          <a:xfrm>
            <a:off x="4267080" y="5257800"/>
            <a:ext cx="381240" cy="38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Rectangle 63"/>
          <p:cNvSpPr/>
          <p:nvPr/>
        </p:nvSpPr>
        <p:spPr>
          <a:xfrm>
            <a:off x="4722840" y="5257800"/>
            <a:ext cx="382680" cy="38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Rectangle 64"/>
          <p:cNvSpPr/>
          <p:nvPr/>
        </p:nvSpPr>
        <p:spPr>
          <a:xfrm>
            <a:off x="3046320" y="4295880"/>
            <a:ext cx="685800" cy="352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Rectangle 65"/>
          <p:cNvSpPr/>
          <p:nvPr/>
        </p:nvSpPr>
        <p:spPr>
          <a:xfrm>
            <a:off x="3505320" y="5791320"/>
            <a:ext cx="3808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Rectangle 66"/>
          <p:cNvSpPr/>
          <p:nvPr/>
        </p:nvSpPr>
        <p:spPr>
          <a:xfrm>
            <a:off x="3505320" y="5257800"/>
            <a:ext cx="380880" cy="382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Rectangle 67"/>
          <p:cNvSpPr/>
          <p:nvPr/>
        </p:nvSpPr>
        <p:spPr>
          <a:xfrm>
            <a:off x="5181480" y="5791320"/>
            <a:ext cx="38124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Rectangle 68"/>
          <p:cNvSpPr/>
          <p:nvPr/>
        </p:nvSpPr>
        <p:spPr>
          <a:xfrm>
            <a:off x="5181480" y="5257800"/>
            <a:ext cx="381240" cy="38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Rectangle 69"/>
          <p:cNvSpPr/>
          <p:nvPr/>
        </p:nvSpPr>
        <p:spPr>
          <a:xfrm>
            <a:off x="1960560" y="4191120"/>
            <a:ext cx="3906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MA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Rectangle 70"/>
          <p:cNvSpPr/>
          <p:nvPr/>
        </p:nvSpPr>
        <p:spPr>
          <a:xfrm>
            <a:off x="1571760" y="4724280"/>
            <a:ext cx="5056200" cy="304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3928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nfiniBan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              OpenFabrics Kernel Level Verbs / API                  iWARP R-N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Rectangle 71"/>
          <p:cNvSpPr/>
          <p:nvPr/>
        </p:nvSpPr>
        <p:spPr>
          <a:xfrm>
            <a:off x="1571760" y="4191120"/>
            <a:ext cx="36036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A 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Rectangle 72"/>
          <p:cNvSpPr/>
          <p:nvPr/>
        </p:nvSpPr>
        <p:spPr>
          <a:xfrm>
            <a:off x="4419720" y="4286160"/>
            <a:ext cx="761760" cy="362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Rectangle 73"/>
          <p:cNvSpPr/>
          <p:nvPr/>
        </p:nvSpPr>
        <p:spPr>
          <a:xfrm>
            <a:off x="3238560" y="3838680"/>
            <a:ext cx="1676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nnection Manag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Abstraction (CMA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Rectangle 74"/>
          <p:cNvSpPr/>
          <p:nvPr/>
        </p:nvSpPr>
        <p:spPr>
          <a:xfrm>
            <a:off x="1293840" y="2357280"/>
            <a:ext cx="5716440" cy="2206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3928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nfiniBand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OpenFabrics User Level    Verbs / API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WARP   R-N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Rectangle 75"/>
          <p:cNvSpPr/>
          <p:nvPr/>
        </p:nvSpPr>
        <p:spPr>
          <a:xfrm>
            <a:off x="3122640" y="3271680"/>
            <a:ext cx="3826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D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Rectangle 76"/>
          <p:cNvSpPr/>
          <p:nvPr/>
        </p:nvSpPr>
        <p:spPr>
          <a:xfrm>
            <a:off x="2590920" y="3271680"/>
            <a:ext cx="457200" cy="38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PoI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Rectangle 77"/>
          <p:cNvSpPr/>
          <p:nvPr/>
        </p:nvSpPr>
        <p:spPr>
          <a:xfrm>
            <a:off x="3960720" y="3271680"/>
            <a:ext cx="3826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R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Rectangle 78"/>
          <p:cNvSpPr/>
          <p:nvPr/>
        </p:nvSpPr>
        <p:spPr>
          <a:xfrm>
            <a:off x="4419720" y="3271680"/>
            <a:ext cx="3808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S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Rectangle 79"/>
          <p:cNvSpPr/>
          <p:nvPr/>
        </p:nvSpPr>
        <p:spPr>
          <a:xfrm>
            <a:off x="4875120" y="3271680"/>
            <a:ext cx="459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RD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Rectangle 80"/>
          <p:cNvSpPr/>
          <p:nvPr/>
        </p:nvSpPr>
        <p:spPr>
          <a:xfrm>
            <a:off x="3029040" y="2643120"/>
            <a:ext cx="55224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DP Li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Rectangle 81"/>
          <p:cNvSpPr/>
          <p:nvPr/>
        </p:nvSpPr>
        <p:spPr>
          <a:xfrm>
            <a:off x="1514520" y="2033640"/>
            <a:ext cx="84924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User Level 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MAD AP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Rectangle 82"/>
          <p:cNvSpPr/>
          <p:nvPr/>
        </p:nvSpPr>
        <p:spPr>
          <a:xfrm>
            <a:off x="1914480" y="1652760"/>
            <a:ext cx="4381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Open 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Rectangle 83"/>
          <p:cNvSpPr/>
          <p:nvPr/>
        </p:nvSpPr>
        <p:spPr>
          <a:xfrm>
            <a:off x="1514520" y="1652760"/>
            <a:ext cx="3427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Dia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Line 84"/>
          <p:cNvSpPr/>
          <p:nvPr/>
        </p:nvSpPr>
        <p:spPr>
          <a:xfrm>
            <a:off x="152280" y="5716440"/>
            <a:ext cx="708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Line 85"/>
          <p:cNvSpPr/>
          <p:nvPr/>
        </p:nvSpPr>
        <p:spPr>
          <a:xfrm>
            <a:off x="152280" y="5143680"/>
            <a:ext cx="7086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Line 86"/>
          <p:cNvSpPr/>
          <p:nvPr/>
        </p:nvSpPr>
        <p:spPr>
          <a:xfrm>
            <a:off x="152280" y="3753000"/>
            <a:ext cx="7086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87"/>
          <p:cNvSpPr/>
          <p:nvPr/>
        </p:nvSpPr>
        <p:spPr>
          <a:xfrm>
            <a:off x="152280" y="2995560"/>
            <a:ext cx="70866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Text Box 88"/>
          <p:cNvSpPr/>
          <p:nvPr/>
        </p:nvSpPr>
        <p:spPr>
          <a:xfrm>
            <a:off x="152280" y="5791320"/>
            <a:ext cx="99072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Text Box 89"/>
          <p:cNvSpPr/>
          <p:nvPr/>
        </p:nvSpPr>
        <p:spPr>
          <a:xfrm>
            <a:off x="152280" y="5257800"/>
            <a:ext cx="99072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90"/>
          <p:cNvSpPr/>
          <p:nvPr/>
        </p:nvSpPr>
        <p:spPr>
          <a:xfrm>
            <a:off x="152280" y="4114800"/>
            <a:ext cx="99072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Mid-Lay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Text Box 91"/>
          <p:cNvSpPr/>
          <p:nvPr/>
        </p:nvSpPr>
        <p:spPr>
          <a:xfrm>
            <a:off x="152280" y="3075120"/>
            <a:ext cx="990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Upper Layer Protoco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Text Box 92"/>
          <p:cNvSpPr/>
          <p:nvPr/>
        </p:nvSpPr>
        <p:spPr>
          <a:xfrm>
            <a:off x="228600" y="2300400"/>
            <a:ext cx="12970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User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AP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Text Box 93"/>
          <p:cNvSpPr/>
          <p:nvPr/>
        </p:nvSpPr>
        <p:spPr>
          <a:xfrm>
            <a:off x="1752480" y="2971800"/>
            <a:ext cx="99072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 Narrow"/>
              </a:rPr>
              <a:t>Kernel Spa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Text Box 94"/>
          <p:cNvSpPr/>
          <p:nvPr/>
        </p:nvSpPr>
        <p:spPr>
          <a:xfrm>
            <a:off x="1981080" y="2590920"/>
            <a:ext cx="8384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 Narrow"/>
              </a:rPr>
              <a:t>User Spac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Rectangle 95"/>
          <p:cNvSpPr/>
          <p:nvPr/>
        </p:nvSpPr>
        <p:spPr>
          <a:xfrm>
            <a:off x="5408640" y="3271680"/>
            <a:ext cx="6858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FS-RDM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PC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Rectangle 96"/>
          <p:cNvSpPr/>
          <p:nvPr/>
        </p:nvSpPr>
        <p:spPr>
          <a:xfrm>
            <a:off x="6172200" y="3271680"/>
            <a:ext cx="6094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le Sy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97"/>
          <p:cNvSpPr/>
          <p:nvPr/>
        </p:nvSpPr>
        <p:spPr>
          <a:xfrm>
            <a:off x="3122640" y="2133720"/>
            <a:ext cx="144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Line 98"/>
          <p:cNvSpPr/>
          <p:nvPr/>
        </p:nvSpPr>
        <p:spPr>
          <a:xfrm>
            <a:off x="4037040" y="17668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Line 99"/>
          <p:cNvSpPr/>
          <p:nvPr/>
        </p:nvSpPr>
        <p:spPr>
          <a:xfrm>
            <a:off x="5408640" y="1766880"/>
            <a:ext cx="144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Line 100"/>
          <p:cNvSpPr/>
          <p:nvPr/>
        </p:nvSpPr>
        <p:spPr>
          <a:xfrm>
            <a:off x="4343400" y="1766880"/>
            <a:ext cx="93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Text Box 101"/>
          <p:cNvSpPr/>
          <p:nvPr/>
        </p:nvSpPr>
        <p:spPr>
          <a:xfrm>
            <a:off x="228600" y="1325520"/>
            <a:ext cx="1104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Level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Line 102"/>
          <p:cNvSpPr/>
          <p:nvPr/>
        </p:nvSpPr>
        <p:spPr>
          <a:xfrm>
            <a:off x="6019920" y="1766880"/>
            <a:ext cx="144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Line 103"/>
          <p:cNvSpPr/>
          <p:nvPr/>
        </p:nvSpPr>
        <p:spPr>
          <a:xfrm>
            <a:off x="6399360" y="1766880"/>
            <a:ext cx="1440" cy="15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Line 104"/>
          <p:cNvSpPr/>
          <p:nvPr/>
        </p:nvSpPr>
        <p:spPr>
          <a:xfrm>
            <a:off x="4648320" y="1766880"/>
            <a:ext cx="144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Line 105"/>
          <p:cNvSpPr/>
          <p:nvPr/>
        </p:nvSpPr>
        <p:spPr>
          <a:xfrm>
            <a:off x="4114800" y="311940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Line 106"/>
          <p:cNvSpPr/>
          <p:nvPr/>
        </p:nvSpPr>
        <p:spPr>
          <a:xfrm>
            <a:off x="4114800" y="3119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Line 107"/>
          <p:cNvSpPr/>
          <p:nvPr/>
        </p:nvSpPr>
        <p:spPr>
          <a:xfrm>
            <a:off x="3276720" y="2832120"/>
            <a:ext cx="144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Line 108"/>
          <p:cNvSpPr/>
          <p:nvPr/>
        </p:nvSpPr>
        <p:spPr>
          <a:xfrm>
            <a:off x="2819520" y="1766880"/>
            <a:ext cx="1440" cy="15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Line 109"/>
          <p:cNvSpPr/>
          <p:nvPr/>
        </p:nvSpPr>
        <p:spPr>
          <a:xfrm>
            <a:off x="4037040" y="227160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Rectangle 110"/>
          <p:cNvSpPr/>
          <p:nvPr/>
        </p:nvSpPr>
        <p:spPr>
          <a:xfrm>
            <a:off x="2390760" y="4191120"/>
            <a:ext cx="380880" cy="447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M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Line 111"/>
          <p:cNvSpPr/>
          <p:nvPr/>
        </p:nvSpPr>
        <p:spPr>
          <a:xfrm>
            <a:off x="5105520" y="3119400"/>
            <a:ext cx="30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Line 112"/>
          <p:cNvSpPr/>
          <p:nvPr/>
        </p:nvSpPr>
        <p:spPr>
          <a:xfrm>
            <a:off x="5105520" y="31194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Rectangle 113"/>
          <p:cNvSpPr/>
          <p:nvPr/>
        </p:nvSpPr>
        <p:spPr>
          <a:xfrm>
            <a:off x="5181480" y="1309680"/>
            <a:ext cx="68436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B A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Rectangle 114"/>
          <p:cNvSpPr/>
          <p:nvPr/>
        </p:nvSpPr>
        <p:spPr>
          <a:xfrm>
            <a:off x="32004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ased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Rectangle 115"/>
          <p:cNvSpPr/>
          <p:nvPr/>
        </p:nvSpPr>
        <p:spPr>
          <a:xfrm>
            <a:off x="3884760" y="1309680"/>
            <a:ext cx="53496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ariou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PI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Rectangle 116"/>
          <p:cNvSpPr/>
          <p:nvPr/>
        </p:nvSpPr>
        <p:spPr>
          <a:xfrm>
            <a:off x="59436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Rectangle 117"/>
          <p:cNvSpPr/>
          <p:nvPr/>
        </p:nvSpPr>
        <p:spPr>
          <a:xfrm>
            <a:off x="4495680" y="1309680"/>
            <a:ext cx="6112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Rectangle 118"/>
          <p:cNvSpPr/>
          <p:nvPr/>
        </p:nvSpPr>
        <p:spPr>
          <a:xfrm>
            <a:off x="25146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P Bas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p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Rectangle 119"/>
          <p:cNvSpPr/>
          <p:nvPr/>
        </p:nvSpPr>
        <p:spPr>
          <a:xfrm>
            <a:off x="152280" y="1219320"/>
            <a:ext cx="7086600" cy="4954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Line 120"/>
          <p:cNvSpPr/>
          <p:nvPr/>
        </p:nvSpPr>
        <p:spPr>
          <a:xfrm>
            <a:off x="152280" y="1995480"/>
            <a:ext cx="7086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Rectangle 121"/>
          <p:cNvSpPr/>
          <p:nvPr/>
        </p:nvSpPr>
        <p:spPr>
          <a:xfrm>
            <a:off x="8362800" y="5433840"/>
            <a:ext cx="601920" cy="67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Apps &amp; 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for using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OF Stac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Rectangle 122"/>
          <p:cNvSpPr/>
          <p:nvPr/>
        </p:nvSpPr>
        <p:spPr>
          <a:xfrm>
            <a:off x="3657600" y="2071800"/>
            <a:ext cx="534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UDAP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Line 123"/>
          <p:cNvSpPr/>
          <p:nvPr/>
        </p:nvSpPr>
        <p:spPr>
          <a:xfrm>
            <a:off x="3352680" y="1914480"/>
            <a:ext cx="180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Line 124"/>
          <p:cNvSpPr/>
          <p:nvPr/>
        </p:nvSpPr>
        <p:spPr>
          <a:xfrm>
            <a:off x="3122640" y="213372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Line 125"/>
          <p:cNvSpPr/>
          <p:nvPr/>
        </p:nvSpPr>
        <p:spPr>
          <a:xfrm flipH="1">
            <a:off x="5785920" y="2209680"/>
            <a:ext cx="23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Line 126"/>
          <p:cNvSpPr/>
          <p:nvPr/>
        </p:nvSpPr>
        <p:spPr>
          <a:xfrm>
            <a:off x="5789520" y="2209680"/>
            <a:ext cx="18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Line 127"/>
          <p:cNvSpPr/>
          <p:nvPr/>
        </p:nvSpPr>
        <p:spPr>
          <a:xfrm>
            <a:off x="137160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Line 128"/>
          <p:cNvSpPr/>
          <p:nvPr/>
        </p:nvSpPr>
        <p:spPr>
          <a:xfrm>
            <a:off x="6934320" y="2590920"/>
            <a:ext cx="144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Text Box 129"/>
          <p:cNvSpPr/>
          <p:nvPr/>
        </p:nvSpPr>
        <p:spPr>
          <a:xfrm rot="16200000">
            <a:off x="738000" y="4427280"/>
            <a:ext cx="99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Kernel bypa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Text Box 130"/>
          <p:cNvSpPr/>
          <p:nvPr/>
        </p:nvSpPr>
        <p:spPr>
          <a:xfrm rot="16200000">
            <a:off x="6298920" y="4427280"/>
            <a:ext cx="99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Kernel bypa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Line 131"/>
          <p:cNvSpPr/>
          <p:nvPr/>
        </p:nvSpPr>
        <p:spPr>
          <a:xfrm>
            <a:off x="1562040" y="412416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Line 132"/>
          <p:cNvSpPr/>
          <p:nvPr/>
        </p:nvSpPr>
        <p:spPr>
          <a:xfrm>
            <a:off x="1809720" y="2581200"/>
            <a:ext cx="144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OpenFabrics Software Stack 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A/OFED API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n Fabrics Ver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al changes from IB API to support 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iWARP-specific verb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n Fabrics RDMA-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ort neutral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 address / port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rnel and User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interface supports kernel-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ntroduction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lsio’s T3 Unified Wire Ethernet eng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ED 1.2 stack and iWA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upstream kernel 2.6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release imm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ing &amp; performance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 &amp; what’s n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3860C-9E1C-42CB-849B-3F6560B8D29B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240" y="377640"/>
            <a:ext cx="67770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IB vs. Chelsio Ethernet iWARP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elsio T3 RN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taneous OFED 1.2, iSCSI over TCP/IP, TOE,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3 all in one NIC, iSCSI HBA, and iWARP R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oIB handled with NIC and TOE on Etherne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B implementation of classical socke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3 also has this functionality via DDP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DP TOE is API compatible with classical socket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3 also supports iSCSI over TCP/IP which has its own built-in DDP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28240" y="229680"/>
            <a:ext cx="7467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WARP OFED 1.2: Testing 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generation TCP offlo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ly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WARP testing comple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Test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running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APL test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S over R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rrectness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testing on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H conform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OFA/OFED 1.2 : Performanc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ly hits full line rate 10Gbps bidire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READ latency in the 4-6usec range (depending on the plat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WRITE latency in the 6-7usec range (depending on the plat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PU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VPICH MP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 Panda et al. at OSU will be presenting performance results with Chelsio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FS over RD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n Chen et al. at Sandia will be presenting performance results with Chelsio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T3 iWarp Latency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T3 iWarp Throughpu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16CB9-5BFA-41A1-B076-891AEDAD003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28240" y="377640"/>
            <a:ext cx="67770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Conclusion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68212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elsio has stable OFED 1.2 iWARP RNICs available and shipping to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e rate 10Gbps 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-to-end latency in 4-7us range depending 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-through processing key to these latency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CPU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sive QA testing done, and performance QA is on-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ified Wire Eng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s on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eneration protocol of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Traffic 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Nex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10G Ethernet TCP testing has been limited to small clusters up to this point 4-12 no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congestion control scales in robust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line rate is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subscribed receivers are not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iness and lack of Traffic Management was an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10Gbps sender can overwhelm a slower receiver such as a block or file storage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ople are starting to assemble RNIC clusters consisting of 100s of no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xpect Traffic Management and Traffic Engineering to play a significant role in large RNIC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help of Traffic Management and Engineering, we expect TCP congestion control to scale in robust fashion in large clu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Slide Number Placeholder 2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5BFC1-4584-46B6-850D-E7D1895619AD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952880" cy="487368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Thank You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240" y="30600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Chelsio T3 Unified Wire Engine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ve PCIe x8 and PCI-X 2.0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x 10Gbps Ethernet 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taneously, one adapter operates a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s into the TCP/IP network stack as a high performance 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C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s into the storage stack as a 10Gbps iSCSI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s into OFA as a high performance iWARP RDMA R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es TCP/IP applications with full TCP/IP off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eneration offload eng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d traffic 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8" descr="S310E-CX - angled-240"/>
          <p:cNvPicPr/>
          <p:nvPr/>
        </p:nvPicPr>
        <p:blipFill>
          <a:blip r:embed="rId1"/>
          <a:stretch/>
        </p:blipFill>
        <p:spPr>
          <a:xfrm>
            <a:off x="228600" y="1828800"/>
            <a:ext cx="2743200" cy="1703520"/>
          </a:xfrm>
          <a:prstGeom prst="rect">
            <a:avLst/>
          </a:prstGeom>
          <a:ln w="0">
            <a:noFill/>
          </a:ln>
        </p:spPr>
      </p:pic>
      <p:sp>
        <p:nvSpPr>
          <p:cNvPr id="729" name="Slide Number Placeholder 3"/>
          <p:cNvSpPr/>
          <p:nvPr/>
        </p:nvSpPr>
        <p:spPr>
          <a:xfrm>
            <a:off x="8686800" y="65530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8AB97-058F-452E-A625-B3EB216DC79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Unified Wire: PCI Bu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731" name="Picture 5" descr="T302x"/>
          <p:cNvPicPr/>
          <p:nvPr/>
        </p:nvPicPr>
        <p:blipFill>
          <a:blip r:embed="rId2"/>
          <a:stretch/>
        </p:blipFill>
        <p:spPr>
          <a:xfrm>
            <a:off x="6248520" y="419112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7"/>
          <p:cNvSpPr/>
          <p:nvPr/>
        </p:nvSpPr>
        <p:spPr>
          <a:xfrm>
            <a:off x="3822840" y="6334200"/>
            <a:ext cx="1739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20e-XF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685800" y="6334200"/>
            <a:ext cx="1739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20e-C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10"/>
          <p:cNvSpPr/>
          <p:nvPr/>
        </p:nvSpPr>
        <p:spPr>
          <a:xfrm>
            <a:off x="3733920" y="3429000"/>
            <a:ext cx="1739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310e-C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5" name="Picture 13" descr="T302-E oblique low-res"/>
          <p:cNvPicPr/>
          <p:nvPr/>
        </p:nvPicPr>
        <p:blipFill>
          <a:blip r:embed="rId3"/>
          <a:stretch/>
        </p:blipFill>
        <p:spPr>
          <a:xfrm>
            <a:off x="6400800" y="1447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5" descr="S320X-SR-XFP - angled-240"/>
          <p:cNvPicPr/>
          <p:nvPr/>
        </p:nvPicPr>
        <p:blipFill>
          <a:blip r:embed="rId4"/>
          <a:stretch/>
        </p:blipFill>
        <p:spPr>
          <a:xfrm>
            <a:off x="3429000" y="1752480"/>
            <a:ext cx="2590920" cy="19116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4"/>
          <p:cNvSpPr/>
          <p:nvPr/>
        </p:nvSpPr>
        <p:spPr>
          <a:xfrm>
            <a:off x="7315200" y="3657600"/>
            <a:ext cx="13590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02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8" name="Picture 16" descr="S320E-SR-XFP - angled-240"/>
          <p:cNvPicPr/>
          <p:nvPr/>
        </p:nvPicPr>
        <p:blipFill>
          <a:blip r:embed="rId5"/>
          <a:stretch/>
        </p:blipFill>
        <p:spPr>
          <a:xfrm>
            <a:off x="3429000" y="4302000"/>
            <a:ext cx="2666880" cy="18892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3" descr="S320E-CX - angled-240"/>
          <p:cNvPicPr/>
          <p:nvPr/>
        </p:nvPicPr>
        <p:blipFill>
          <a:blip r:embed="rId6"/>
          <a:stretch/>
        </p:blipFill>
        <p:spPr>
          <a:xfrm>
            <a:off x="380880" y="4114800"/>
            <a:ext cx="2590920" cy="21384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9"/>
          <p:cNvSpPr/>
          <p:nvPr/>
        </p:nvSpPr>
        <p:spPr>
          <a:xfrm>
            <a:off x="7099200" y="6400800"/>
            <a:ext cx="1739880" cy="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02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Text Box 12"/>
          <p:cNvSpPr/>
          <p:nvPr/>
        </p:nvSpPr>
        <p:spPr>
          <a:xfrm>
            <a:off x="990720" y="3666960"/>
            <a:ext cx="13586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21e-C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3809880" y="3819600"/>
            <a:ext cx="1739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20x-XF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28240" y="22968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Chelsio Unified Wire: Offload NIC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um of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L/LSO (Send Large Segment Offlo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O (Receive Large Segment Offlo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 (Receive Side traffic Ste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S (Send Side Sca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Gbps line rate 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B frames, or 9KB jumbo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Gbps line rate R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B frames, or 9KB jumbo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copy for TX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copy for RX NO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67770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Unified Wire: iSCSI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CSI on top of 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CSI header and data digest (CRC) of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send and iSCSI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 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receive of iSCSI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support 32K connections (chip up to 1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d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W 10Gbps 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+K IOPS rate (512B transf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28240" y="22968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Unified Wire: TO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s classical socket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 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support 32K connections (chip up to 1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rate 10Gbps 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7us end-to-end application-to-application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driven receive, less for polling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5% CPU for trans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5% CPU for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E477B-8F21-44F5-A6C9-F28569384F1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22968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Unified Wire: TO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performance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Gbps wire rate from 1 up to 10s of thousands of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atency cut-through processing for transmit and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Gbps wire rate filtering and virt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 TCP Offload Eng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setup/tear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retransmit, timeout retransmission, conges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-of-order packet handling and exception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CP timers and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 server offload (full bit-wise wildc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RFC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attack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71815-0AE4-4B53-A41F-16032128D37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102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Chelsio Unified Wire: iWARP RDMA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s-compliant RD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 RD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C iWARP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ct/permissive interoperability of IETF RDDP &amp; RDMAC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OS-bypass and optional polling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edded microproc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request &amp; erro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 queue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 doorb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 completion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 protection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-based STAG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cache coherent polling rece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geir Eiriksson</dc:creator>
  <dc:description/>
  <dc:language>en-US</dc:language>
  <cp:lastModifiedBy>Asgeir Eiriksson</cp:lastModifiedBy>
  <dcterms:modified xsi:type="dcterms:W3CDTF">2007-04-30T20:30:58Z</dcterms:modified>
  <cp:revision>188</cp:revision>
  <dc:subject>3rd OFA Workshop, Sonoma, April 30, 2007</dc:subject>
  <dc:title>iWARP in OFED 1.2</dc:title>
</cp:coreProperties>
</file>