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E6DB-F0F4-4716-8BD7-37D2A3A68B9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248520" y="2819520"/>
            <a:ext cx="1675800" cy="1675800"/>
            <a:chOff x="6248520" y="2819520"/>
            <a:chExt cx="1675800" cy="1675800"/>
          </a:xfrm>
        </p:grpSpPr>
        <p:sp>
          <p:nvSpPr>
            <p:cNvPr id="128" name=""/>
            <p:cNvSpPr/>
            <p:nvPr/>
          </p:nvSpPr>
          <p:spPr>
            <a:xfrm>
              <a:off x="655308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396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12408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6080" y="3124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3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3960" y="350496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350496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96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3080" y="388620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3960" y="388620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4267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396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24480" y="2895120"/>
              <a:ext cx="45684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327636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560" y="3657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403848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441936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4038480"/>
              <a:ext cx="152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365760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360" y="335268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3352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7480" y="3733560"/>
              <a:ext cx="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3733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6600" y="411480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5360" y="4114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216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5160" y="2090880"/>
            <a:ext cx="5171040" cy="2964960"/>
            <a:chOff x="1145160" y="2090880"/>
            <a:chExt cx="5171040" cy="2964960"/>
          </a:xfrm>
        </p:grpSpPr>
        <p:sp>
          <p:nvSpPr>
            <p:cNvPr id="164" name=""/>
            <p:cNvSpPr/>
            <p:nvPr/>
          </p:nvSpPr>
          <p:spPr>
            <a:xfrm>
              <a:off x="17175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4292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656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968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7260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98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41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41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66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8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75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98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41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41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66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8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75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98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41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41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664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8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175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98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1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41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64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78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75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98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1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41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64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8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756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98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1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416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64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8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805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25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4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68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91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1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05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925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4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168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91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1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05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925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4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168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91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1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805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25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4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91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1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805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4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68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91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1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05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925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4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68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912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1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384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1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81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7008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824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4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384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61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81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7008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24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4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384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61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81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008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24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4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339948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461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81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24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94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3384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61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81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008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24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94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384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61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81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008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824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472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7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99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114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23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6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0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7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99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14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23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480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7480" y="32871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9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14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3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6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80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748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4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114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23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360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80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8748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94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11400" y="351144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3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60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800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748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94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1140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37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360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00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407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527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5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70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893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16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40760" y="31748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527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65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770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93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16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0760" y="32871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2720" y="32871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65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70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893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016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076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52720" y="339948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650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770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893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016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076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272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650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700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893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016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407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272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650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700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893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016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756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98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1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5416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64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78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805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5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04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68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912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1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384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61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581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7008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24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472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8748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994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1140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237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360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800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407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5272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650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700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893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16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605600" y="4158360"/>
              <a:ext cx="887760" cy="888480"/>
              <a:chOff x="1605600" y="4158360"/>
              <a:chExt cx="887760" cy="888480"/>
            </a:xfrm>
          </p:grpSpPr>
          <p:sp>
            <p:nvSpPr>
              <p:cNvPr id="380" name=""/>
              <p:cNvSpPr/>
              <p:nvPr/>
            </p:nvSpPr>
            <p:spPr>
              <a:xfrm>
                <a:off x="160560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60560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49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049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0560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0560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560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0560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560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0560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049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9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049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049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049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78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392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736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00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7568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056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78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392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73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00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568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49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229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7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7124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450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956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9336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75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900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82736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75392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678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975680" y="4529160"/>
                <a:ext cx="147240" cy="146880"/>
                <a:chOff x="1975680" y="4529160"/>
                <a:chExt cx="147240" cy="1468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975680" y="4529160"/>
                  <a:ext cx="147240" cy="1468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75680" y="456588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2049120" y="456588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2049120" y="46026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2568240" y="4158360"/>
              <a:ext cx="887760" cy="888480"/>
              <a:chOff x="2568240" y="4158360"/>
              <a:chExt cx="887760" cy="8884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682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682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12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012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682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682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682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682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82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682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012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2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012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012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3012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012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41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165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7900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63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383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682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41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165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900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63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383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12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855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60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338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076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22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560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9383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863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7900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7165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641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2863800" y="4491720"/>
                <a:ext cx="148320" cy="148320"/>
                <a:chOff x="2863800" y="4491720"/>
                <a:chExt cx="148320" cy="148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8638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8638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9379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29379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12120" y="4491720"/>
                <a:ext cx="148320" cy="148320"/>
                <a:chOff x="3012120" y="4491720"/>
                <a:chExt cx="148320" cy="1483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121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121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30862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30862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938320" y="4602960"/>
                <a:ext cx="147240" cy="148320"/>
                <a:chOff x="2938320" y="4602960"/>
                <a:chExt cx="147240" cy="14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9383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83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0117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0117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521520" y="4158360"/>
              <a:ext cx="887760" cy="888480"/>
              <a:chOff x="3521520" y="4158360"/>
              <a:chExt cx="887760" cy="888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52152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352152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504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396504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2152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2152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2152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2152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2152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2152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39650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04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39650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96504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9650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96504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94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6984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4328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1672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9160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2152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946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698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32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1672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9160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6504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884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1336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71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09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354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0928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891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81672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74328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66984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9460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743280" y="4454280"/>
                <a:ext cx="148320" cy="148320"/>
                <a:chOff x="3743280" y="4454280"/>
                <a:chExt cx="148320" cy="1483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74328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74328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81744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8174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891600" y="4454280"/>
                <a:ext cx="147240" cy="148320"/>
                <a:chOff x="3891600" y="4454280"/>
                <a:chExt cx="147240" cy="148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891600" y="445428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891600" y="449136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3965040" y="449100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9650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038840" y="4454280"/>
                <a:ext cx="148320" cy="148320"/>
                <a:chOff x="4038840" y="4454280"/>
                <a:chExt cx="148320" cy="1483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03884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3884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411300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411300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3816720" y="4565160"/>
                <a:ext cx="148320" cy="148320"/>
                <a:chOff x="3816720" y="4565160"/>
                <a:chExt cx="148320" cy="1483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81672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81672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389088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389088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891600" y="4676040"/>
                <a:ext cx="147240" cy="148320"/>
                <a:chOff x="3891600" y="4676040"/>
                <a:chExt cx="147240" cy="148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891600" y="46760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91600" y="47131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3965040" y="47127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3965040" y="47502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965040" y="4565160"/>
                <a:ext cx="148320" cy="148320"/>
                <a:chOff x="3965040" y="4565160"/>
                <a:chExt cx="148320" cy="1483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96504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6504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403920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403920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4475160" y="4168080"/>
              <a:ext cx="888120" cy="887760"/>
              <a:chOff x="4475160" y="4168080"/>
              <a:chExt cx="888120" cy="88776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43898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475160" y="4168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19400" y="4168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919400" y="43898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75160" y="44636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75160" y="4538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75160" y="46119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75160" y="46857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75160" y="47602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75160" y="4834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4919400" y="44636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400" y="4538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919400" y="4611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4919400" y="4685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4919400" y="4760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919400" y="4834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48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23480" y="431640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70720" y="4241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45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7516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4860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2348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9728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770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4560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19400" y="4611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9248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67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4116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1460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8948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6328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845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770720" y="4316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623480" y="4241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548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4623480" y="4427280"/>
                <a:ext cx="147240" cy="147240"/>
                <a:chOff x="4623480" y="4427280"/>
                <a:chExt cx="147240" cy="1472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623480" y="4427280"/>
                  <a:ext cx="14724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62348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696920" y="446400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69692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770720" y="4427280"/>
                <a:ext cx="148320" cy="147240"/>
                <a:chOff x="4770720" y="4427280"/>
                <a:chExt cx="148320" cy="1472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77072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7072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484488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484488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919400" y="4427280"/>
                <a:ext cx="148320" cy="147240"/>
                <a:chOff x="4919400" y="4427280"/>
                <a:chExt cx="148320" cy="1472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91940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91940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499356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49935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5067720" y="4427280"/>
                <a:ext cx="146880" cy="147240"/>
                <a:chOff x="5067720" y="4427280"/>
                <a:chExt cx="146880" cy="1472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067720" y="4427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6772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514116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1411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697280" y="4538520"/>
                <a:ext cx="148320" cy="147240"/>
                <a:chOff x="4697280" y="4538520"/>
                <a:chExt cx="148320" cy="147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6972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972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47714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47714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845600" y="4538520"/>
                <a:ext cx="146880" cy="147240"/>
                <a:chOff x="4845600" y="4538520"/>
                <a:chExt cx="146880" cy="147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845600" y="453852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4560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491904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49190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992480" y="4538520"/>
                <a:ext cx="148320" cy="147240"/>
                <a:chOff x="4992480" y="4538520"/>
                <a:chExt cx="148320" cy="1472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9924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9924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0666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50666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919400" y="4649400"/>
                <a:ext cx="148320" cy="147240"/>
                <a:chOff x="4919400" y="4649400"/>
                <a:chExt cx="148320" cy="147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91940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91940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99356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99356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4770720" y="4649400"/>
                <a:ext cx="148320" cy="147240"/>
                <a:chOff x="4770720" y="4649400"/>
                <a:chExt cx="148320" cy="1472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7072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77072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484488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484488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845600" y="4760280"/>
                <a:ext cx="146880" cy="147240"/>
                <a:chOff x="4845600" y="4760280"/>
                <a:chExt cx="146880" cy="1472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845600" y="4760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84560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491904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4919040" y="4834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5428440" y="4158360"/>
              <a:ext cx="887760" cy="888480"/>
              <a:chOff x="5428440" y="4158360"/>
              <a:chExt cx="887760" cy="888480"/>
            </a:xfrm>
          </p:grpSpPr>
          <p:sp>
            <p:nvSpPr>
              <p:cNvPr id="640" name=""/>
              <p:cNvSpPr/>
              <p:nvPr/>
            </p:nvSpPr>
            <p:spPr>
              <a:xfrm>
                <a:off x="54284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4284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723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8723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284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284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284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284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284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284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8723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8723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8723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8723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8723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5018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5767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502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240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985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284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018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767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502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240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85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723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457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206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940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678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424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162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57985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7240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6502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55767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5018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501880" y="4380840"/>
                <a:ext cx="148320" cy="148320"/>
                <a:chOff x="5501880" y="4380840"/>
                <a:chExt cx="148320" cy="1483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5018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5018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55760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55760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650200" y="4380840"/>
                <a:ext cx="148320" cy="148320"/>
                <a:chOff x="5650200" y="4380840"/>
                <a:chExt cx="148320" cy="1483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65020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5020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72436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57243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798520" y="4380840"/>
                <a:ext cx="147240" cy="148320"/>
                <a:chOff x="5798520" y="4380840"/>
                <a:chExt cx="147240" cy="148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798520" y="43808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798520" y="44179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871960" y="44175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58719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945760" y="4380840"/>
                <a:ext cx="148320" cy="148320"/>
                <a:chOff x="5945760" y="4380840"/>
                <a:chExt cx="148320" cy="1483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94576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94576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601992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01992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576760" y="4491720"/>
                <a:ext cx="147240" cy="148320"/>
                <a:chOff x="5576760" y="4491720"/>
                <a:chExt cx="147240" cy="1483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57676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7676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565020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565020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724000" y="4491720"/>
                <a:ext cx="148320" cy="148320"/>
                <a:chOff x="5724000" y="4491720"/>
                <a:chExt cx="148320" cy="14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7240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7240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57981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57981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872320" y="4491720"/>
                <a:ext cx="148320" cy="148320"/>
                <a:chOff x="5872320" y="4491720"/>
                <a:chExt cx="148320" cy="1483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8723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8723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59464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59464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798520" y="4602960"/>
                <a:ext cx="147240" cy="148320"/>
                <a:chOff x="5798520" y="4602960"/>
                <a:chExt cx="147240" cy="1483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7985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7985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58719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58719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650200" y="4602960"/>
                <a:ext cx="148320" cy="148320"/>
                <a:chOff x="5650200" y="4602960"/>
                <a:chExt cx="148320" cy="148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65020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5020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572436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7243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5724000" y="4713480"/>
                <a:ext cx="148320" cy="148680"/>
                <a:chOff x="5724000" y="4713480"/>
                <a:chExt cx="148320" cy="148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72400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2400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579816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579816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798520" y="4824720"/>
                <a:ext cx="147240" cy="148320"/>
                <a:chOff x="5798520" y="4824720"/>
                <a:chExt cx="147240" cy="1483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5798520" y="4824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98520" y="4861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5871960" y="4861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5871960" y="4898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872320" y="4713480"/>
                <a:ext cx="148320" cy="148680"/>
                <a:chOff x="5872320" y="4713480"/>
                <a:chExt cx="148320" cy="1486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87232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7232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594648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594648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945760" y="4602960"/>
                <a:ext cx="148320" cy="148320"/>
                <a:chOff x="5945760" y="4602960"/>
                <a:chExt cx="148320" cy="1483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94576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94576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601992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601992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020640" y="4491720"/>
                <a:ext cx="147240" cy="148320"/>
                <a:chOff x="6020640" y="4491720"/>
                <a:chExt cx="147240" cy="1483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02064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02064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609408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60940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6094080" y="4380840"/>
                <a:ext cx="148320" cy="148320"/>
                <a:chOff x="6094080" y="4380840"/>
                <a:chExt cx="148320" cy="1483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60940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0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61682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61682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4" name=""/>
            <p:cNvSpPr/>
            <p:nvPr/>
          </p:nvSpPr>
          <p:spPr>
            <a:xfrm>
              <a:off x="1145160" y="24037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45160" y="3242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45160" y="44215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4068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24068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188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dcterms:modified xsi:type="dcterms:W3CDTF">2007-04-30T21:15:39Z</dcterms:modified>
  <cp:revision>64</cp:revision>
  <dc:subject/>
  <dc:title>Resource Utilization in Large Scale InfiniBand Jobs </dc:title>
</cp:coreProperties>
</file>