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16"/>
          </p:nvPr>
        </p:nvSpPr>
        <p:spPr>
          <a:xfrm>
            <a:off x="4144680" y="-36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Img"/>
          </p:nvPr>
        </p:nvSpPr>
        <p:spPr>
          <a:xfrm>
            <a:off x="1257120" y="719280"/>
            <a:ext cx="4800600" cy="35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ftr" idx="17"/>
          </p:nvPr>
        </p:nvSpPr>
        <p:spPr>
          <a:xfrm>
            <a:off x="-360" y="911664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 type="sldNum" idx="18"/>
          </p:nvPr>
        </p:nvSpPr>
        <p:spPr>
          <a:xfrm>
            <a:off x="4144680" y="911664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72958-B486-49C3-BB0B-4A2D1BAE9C1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BB8B0-A98A-44AB-8942-BAB5820D081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Text Box 1"/>
          <p:cNvSpPr/>
          <p:nvPr/>
        </p:nvSpPr>
        <p:spPr>
          <a:xfrm>
            <a:off x="125748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82AFE-3169-4F6C-B682-04D521815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54BA2-F60B-4294-8890-8D1685017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9A16F-809A-4FA3-92D6-B1F0AB500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A696B-5B6D-49D5-BC5E-C84F05998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97DCD-0CB3-449C-8F89-693B317ED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EDE11-43C5-42A0-85DB-0FCD3788C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C49A9-D011-42AA-B008-C52BB0F54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Text Box 2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C5BB0-BF03-4DD9-B555-F8D2B1C28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8C847-CA04-4D54-8963-3E35E8021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2"/>
          <p:cNvSpPr/>
          <p:nvPr/>
        </p:nvSpPr>
        <p:spPr>
          <a:xfrm>
            <a:off x="2286000" y="728640"/>
            <a:ext cx="27432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E4CEE-E1F6-4B0A-8FFC-88477E691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9659F-6A9E-4352-8095-133C25D685F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73554-5EED-435F-8A2C-855E5DCC747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1"/>
          <p:cNvSpPr/>
          <p:nvPr/>
        </p:nvSpPr>
        <p:spPr>
          <a:xfrm>
            <a:off x="125748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9054B-B757-4763-A1F7-04C437F2941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802E6-8F58-4430-BD76-91492FA61E1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A7AA2-E7A0-44D2-923A-61BB2FE6C86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Text Box 1"/>
          <p:cNvSpPr/>
          <p:nvPr/>
        </p:nvSpPr>
        <p:spPr>
          <a:xfrm>
            <a:off x="125748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7E874-1B5D-4345-AF3B-6DE681757E7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526DE-7210-4411-A41B-9EFF80C0F53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1"/>
          <p:cNvSpPr/>
          <p:nvPr/>
        </p:nvSpPr>
        <p:spPr>
          <a:xfrm>
            <a:off x="125892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3E67F-4C7E-42F6-A924-DB7E5D1DD16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720A6-65EE-462B-9B80-BCBD623CE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68280" y="71928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79200" y="4562640"/>
            <a:ext cx="5357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E32D9-CB05-4B1B-90E8-DECFAA43727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1827A-9E3D-49B0-804B-27FF7E1FEAE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A6AC7-C3D2-49D5-8A9D-DEB1B9CF3B0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74126-E3F3-49D8-B0CE-92106F9C7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4026E-F17D-470F-84D7-9FF8EDA34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2CE5-2B0F-4B31-A156-0C778D163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BE22-933B-41D7-B09A-AE9311FB5B8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84073-5E8D-41BC-9F1B-54E1F1B325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1CEA7-A7EA-41FB-9F2E-E3EF9BEC764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82CB8-B20A-433F-B7BB-9C5BBE6B6B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89DC6-BAA9-4C4F-8054-775CE8B3DF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1BCCB-AE3A-4294-8D6B-49D01A129AD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9C0042-8EC2-4A4B-8950-AE94082E37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9BB19-570B-4C85-B1A8-1140408E40A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02828-7A5E-4E2B-91EE-37C7EDEB621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E07ED-9384-48CB-B0DB-A1AE86C2891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248EF-0DFF-4034-8D4E-4E0E139D7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F56F-DDDD-49AA-8BFD-328B765EEB9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22DE9-D41C-444E-B549-8F965C13AD9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5DAAA-B36F-4913-B840-EAD73DEE16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A4EAC-DED6-48FC-A1C7-D64C50E95D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B9232-C3AB-4600-83F9-6C0CD159066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3EEC6-2779-428E-9AC1-8A88A4D8E9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BF22F-E43D-48BC-A60F-BC6FDBE9D6B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15482-157F-41AC-A26B-A6C2CAE9F25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66E8C-AF72-4971-96D0-5CCFACE64C7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432F8-6CFB-40E5-9291-43CED128A75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77603-85EC-44F9-81F7-B8A738298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33ED-5013-4366-8F9A-B921A9EB9F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FB446-BE8E-4475-8D22-9EDD098C2BB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4261-9EE0-425A-ABA3-23257CD78A6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ED21-781E-4777-B905-5F32605E0EE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2435-196E-45F3-8C26-09063F82A22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CFA4-B3C6-4C0C-A63E-74459784688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4922-6DE6-4B29-A2E3-7C27EC7E53A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29F8-AD4F-48DD-9218-8E281184073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1AF4-B69F-4002-A8FF-609960EF01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A5EC-E40C-4FE4-84C0-57F958970B4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4DE7-38D1-4976-8E3C-918C96995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B8482-034E-440A-8517-B7866969EE0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1780-7133-4B98-80F5-928D1213E3D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3DC2-85A6-4F44-8022-647B43854F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0CECD-E0BA-437E-8776-06ED2318E87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97BAF-8F2E-41B4-899C-9337A261F14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A8195-D7CE-4D1E-B1A3-A0AF5D54EC0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AC190-65AB-4E4C-A6C1-31BDDAFC7A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12B30-CC04-4E24-9B40-09629B79608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56CEC-C2FA-4437-863A-E1B37FBEBAF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8E786-A7FF-4FA0-92B6-379A00536C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3589C-9A21-4549-A117-D6C8AC034E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749A3-CD74-44CD-B2B2-A7EBEE83711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2E8E9-AE31-4514-8A73-6090D82FA19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EBC77-74DC-483E-8666-1729B792ED5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A5F93-48F0-4E1B-9D83-0932FC6BD00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CC84E-6F99-42F7-B738-400EB1DF28E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679D1-2EE9-4DD3-83C7-95410333F68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31E3C-C517-4741-A4BA-494378AC92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E7160-88FB-44E3-8599-BB649472058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D5D60-A8D6-4A9A-8595-B8E00B9D0C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9EAB8-CD7E-4862-8ED8-70B47A35CA0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7D0C43-AAC4-42E5-A189-3674C161EF2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7DEEB-CB62-48D6-9F58-19409F72345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24A9E-0CAD-4783-A2F7-0CD93F83941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CE3D6D-1CC8-42A8-B8D2-582972D2197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98D8B-8963-4C13-9D61-F11B28A5E15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32E9A-3BF4-4E47-936A-6F482C9A9A5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CB320-D53A-45ED-9362-BCC8F269AC5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79D8-2AAE-461B-8323-52BBBF5DC62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A738-218C-4226-8909-6A84A33C07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0D45-26AD-440C-AFFD-CA4E47D866D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1839-AC97-4905-8A2C-B64C2F3E87C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531E4-A92A-4869-BFB2-F3D04A0D04F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F4400-3593-4174-98DA-5B9BD363192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1DAB-65AC-4C96-9050-CCC760086AC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87D7-287D-4F3B-844E-00128D53830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5D62-2D82-475F-804C-BE138D6EE31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C3B6-6D0D-4958-AADC-5509802F91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DD93C-4681-487E-9E1B-5652407C8DC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7C8715-78AA-4461-ABFA-D82B48420B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949DAA-9F1E-4870-BABA-654EF888432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67EAE-FA09-4F97-BB6E-77830F8D76D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E5FBD-3A0D-49DC-A4E1-4FDF8F4E160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9F8E63-3997-4500-B64D-D7CDBAA6A6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ED2029-EE7B-4FC2-892D-888148CEBAD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C1FF85-7607-466E-A821-94535FA812B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2113BE-4227-40D6-A042-00A04FB3AB3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69CAEC-B49F-4C44-BDE0-9B52BD04783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553CDC-54D1-44F4-BF8C-0FEA90FCF4A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BC0603-E616-43DE-9C17-8C56C78267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3948A1-AE58-4A0F-A2C2-801C037B37C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7251C-9B2F-4573-AA70-D5691DA6890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3FBE6-D285-4977-8E0C-C5DCE8BCCDB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C6352-7441-4152-A2BB-5470040C8D1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1A7A9-9B8F-4C6B-98EE-8AD2AA5C2A2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B758D-803D-43B5-AE5D-C2380FAE8BB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BAF0E-24FA-4FC9-895A-A7DDB4ED52C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CDF67-5E90-40D3-8149-25A5DAED456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402F0-9822-406B-902D-760454D12D7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C6218-F198-4825-AF0B-91133DC369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C245A-8AB3-4ACB-BE18-93918668253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9D532-21E1-4040-AD61-F477F22F4ED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0B213-7C19-498A-AAD7-3FD7EE6E87C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8D10F-796E-4202-A098-20F73777C54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04C9-8F28-4BE5-A23C-1E0248F7D5E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2DBD4-4F34-4B53-A6C8-E2054A04015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11385-EB0A-47C2-9FD6-AF3EF754CA5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85950-7B38-41CE-9325-2FE53A17B0B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A8D8F-3A12-42DC-9F1A-AD02F66BB59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E36A-29DE-469F-BBAB-7D0DFE854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DBDA-7101-4336-BE42-80857CE6D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7656-FF3F-4599-8D76-FDA5FF06D23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FD6AE-3560-4FCB-B7E1-97B134AFD0B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5A32A-CCBD-4C70-96EA-295B32C02DC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A354-8CA7-4BBA-AAD0-39D156AF0E6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02D5-236D-44DB-BD30-1CFB886F56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67B8-9652-4420-A1E9-D221F1C600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98C5-B874-4168-BB99-740FF434F8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E387-52C4-425C-A6D6-BE169F4A77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919E-8F0E-452A-A96F-F6D0604515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B653-69D4-452C-B9C7-D0D5DF43C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C97C-B3C7-4151-9F5B-76A52DAEC9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AE28-7043-4F30-BA37-790E55B480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DD4B-BCA7-40B7-886A-1BA8970949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4A6B-74D6-42A6-B027-A70E124A4C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1C86-94C4-4E3C-BE4B-88EEF559D8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8E69-3C5D-41D3-8843-1A9DFDF6CF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C700-2B60-4538-8EB5-40BFFFCE05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0CE5-4EF9-49F2-977B-A6F6F2748D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F32-06ED-418B-B544-BD54EAE678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BF3-4395-4672-BB72-FDD1E0763D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7A9-238E-4D76-A77C-205A19464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0EE7-F50E-458D-8BE1-3F153A1C16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2F9-E25E-4BBE-A9F1-5EB36BBC0A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446-2BA1-4EE6-890D-6785E89F70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92D-6686-4FBE-B00C-A3700C2F37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789-07E7-4271-BEF0-E95FE456BD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D69-925F-4D80-A15A-CBC0B70BE7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D0F-8F57-44CE-AACA-B3E594D5C1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B63-9271-40D7-A875-536207D9D7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639-7829-4C8D-9B14-6362805D15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77E-D001-4F42-9374-CE98C528EC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3FD8-F6B8-4FF0-A731-B2D705FF4B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B482-3F0C-4B45-864D-029119D7F8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88057-FF36-40F0-8AB2-5B0204583E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6C619-12C5-4412-AF2F-C03DCBBA18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CE335-8696-47DB-9824-975F561B0BD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FF58D-83A7-4EA7-9050-29ABE402CB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3C1F2-EDF9-43CD-839E-28511A473AB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1C7AD-E3EE-4AB4-B862-2783685006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D784D-4B27-4C26-AC44-D5667255DF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57637-784A-4E0A-899C-22C8250CE9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091F9-636D-40AF-A21C-7381EA68F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4025-3C54-4E24-BAE3-6BC9A06E61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14737-1878-4112-9AAA-81C25ECEA1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EF4FB-A654-4060-93C5-DD13CF6B0CE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DC985-0235-4911-8012-A9156BCA58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FD7DB-CB2D-4ED0-BFF4-3C68D059953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1E456-3C8C-47ED-85F5-3A2DA01A13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DB2BB-2CB0-477B-B85D-3EC901AC84C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27667-41BD-43E9-A026-8379D07E8E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1A1B2-7C90-4A66-B995-E18174C05D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53EF1-701C-4D3E-9123-4FCA43FFA90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C1671-214B-499E-96A6-56DC7D1B1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2AAA-571E-4B00-A3F2-8823FB22B8C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32116-0044-4FC1-91DC-343E6AFC67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3FD50-7215-4EC3-A633-35617FCB73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8DBB8-1180-4063-AB50-D0CD6187249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8D46A-EC0B-42FC-AF0B-A76F4EA0F7D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39349-4A59-4696-8E7D-52B5C0E9E6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A30E-F14F-42B5-B580-7297C33D6DC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929-51B2-4411-80A6-D230301F2CB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3DE-81A0-4BD9-9545-324B5289EF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DDD2-8C0D-41F9-832C-36F15D59AF7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F5CB-339B-4380-B80A-3A2F469BF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FC42-9C94-49CC-BA38-DC77FED5422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98B0-B943-43FE-B7A7-8F1A08CCB8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208C-3A7A-47C0-8E81-85D13EECD6C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4091-FBDB-4376-A82D-F6D17D0F8C2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49FE-BE76-4059-8FE6-D6EA736CC44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DD38-CBEB-458F-A8AF-46C086BEF0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09CC-6316-43E8-BBD4-6F651381D20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E10-0D3B-4B6D-ABE6-26C79E80AF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E4CF9-EF43-4900-ADC3-78A2C6C380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34F40-C252-493E-8020-2DF93307E84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2C45B-9E9B-4533-ADB2-4FC8A175E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0" y="661356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Century Gothic"/>
              </a:rPr>
              <a:t>OFA Workshop, Sonoma,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44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5B1A2-A1C5-4E50-9FF4-F91934D873F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Line 6"/>
          <p:cNvSpPr/>
          <p:nvPr/>
        </p:nvSpPr>
        <p:spPr>
          <a:xfrm>
            <a:off x="228600" y="990720"/>
            <a:ext cx="8763120" cy="144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378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8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1C90C-200D-42F2-8EBC-825AF16E78D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420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9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81AA1-58F3-425A-BBC5-F2F8175AFB2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462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0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2A293-F939-407A-8C25-9869B45CEDA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04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1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8AA8B-1D51-405D-B262-75950E46B8C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46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12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64FE0-7F73-4E27-9B34-906420E7190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88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13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72A4E-123D-4F79-B5D7-7802E5CEB36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630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14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318B4-613D-48A6-9389-9F452373473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1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672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Num" idx="15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19718-D0C1-46D4-83A5-6EE8FBC03ABE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1911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" name="Line 2"/>
          <p:cNvSpPr/>
          <p:nvPr/>
        </p:nvSpPr>
        <p:spPr>
          <a:xfrm>
            <a:off x="0" y="6477120"/>
            <a:ext cx="9144000" cy="144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41743-70CC-4666-BA18-53FF3A5FC3C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88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661356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Century Gothic"/>
              </a:rPr>
              <a:t>OFA Workshop, Sonoma,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228600" y="990720"/>
            <a:ext cx="8763120" cy="144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3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68C82-F0F9-4D0D-94C6-5CAF64023730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210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4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09A76-12CE-4321-B560-AC85E2BE6CD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252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5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D972B-562B-4F8B-9A99-13F608B334C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294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6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BAF91-F2C9-432B-862F-BB6010F213E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336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7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4AEB8-01B0-4B94-9FC2-6BAD57E710B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165480"/>
            <a:ext cx="77724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Century Gothic"/>
              </a:rPr>
              <a:t>iWARP in OFED 1.2</a:t>
            </a:r>
            <a:br>
              <a:rPr sz="4800"/>
            </a:br>
            <a:r>
              <a:rPr b="1" lang="is-IS" sz="3200" spc="-1" strike="noStrike">
                <a:solidFill>
                  <a:srgbClr val="003366"/>
                </a:solidFill>
                <a:latin typeface="Century Gothic"/>
              </a:rPr>
              <a:t> </a:t>
            </a:r>
            <a:br>
              <a:rPr sz="3200"/>
            </a:br>
            <a:r>
              <a:rPr b="0" i="1" lang="en-GB" sz="2800" spc="-1" strike="noStrike">
                <a:solidFill>
                  <a:srgbClr val="003366"/>
                </a:solidFill>
                <a:latin typeface="Century Gothic"/>
              </a:rPr>
              <a:t>Asgeir Eir</a:t>
            </a: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iksson</a:t>
            </a:r>
            <a:br>
              <a:rPr sz="2800"/>
            </a:b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Chelsio Communications Inc.</a:t>
            </a:r>
            <a:br>
              <a:rPr sz="2800"/>
            </a:br>
            <a:br>
              <a:rPr sz="2800"/>
            </a:b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April 30, 2007</a:t>
            </a:r>
            <a:r>
              <a:rPr b="1" lang="is-IS" sz="2800" spc="-1" strike="noStrike">
                <a:solidFill>
                  <a:srgbClr val="003366"/>
                </a:solidFill>
                <a:latin typeface="Century Gothic"/>
              </a:rPr>
              <a:t> </a:t>
            </a:r>
            <a:br>
              <a:rPr sz="2800"/>
            </a:b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OFA Workshop, Sonoma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3429000" y="419040"/>
            <a:ext cx="236232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24620-D117-4665-8EE4-38601AF7060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hat’s in the Box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33FDE-CB77-477B-BD8F-894EEEEB9F7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6201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Unified Wire: Traffic Manage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transmit and receive queues with 8 QoS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transmit queue sets with configurable servic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ceive queue sets with configurable steering of receiv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ass can have any number of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priority channels through chip for simultaneous low latency and high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raffic shaping and pa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s TCP burstiness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 per-connection transmit rate 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 per-class transmit rate 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flexible and configur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er-connection or per-class bandwidth – possible to mix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 one corresponding to 5.5Mbs MPEG, another to teleconferenc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Type, TOS and DSCP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ble weighted-round-robin scheduler to enforce S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Chelsio OFED 1.2 Suppor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 at kernel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.6.21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/net/cxgb3 – Ethernet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/infiniband/hw/cxgb3 – RDMA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Fabrics Enterprise Distribution (OF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Released 4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al BSD/GPL 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erformance QA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at performance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Chelsio OFED 1.2 Modul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44720" y="1143000"/>
            <a:ext cx="42656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xg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Offload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_cxg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xg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offload TCP/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setup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2.6.20 RDMA code + fix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s: X86_32, X86_64, IA64, PPC6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nel.org 2.6.21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os Suppo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4 U4/5, RHEL5, SLES9SP3, SLES10 SP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leased with SLES 10SP1 and RHEL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PM, RPM Packa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 Kernel Modul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iniband (I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, IBM, QLogic H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over IB (IPoIB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ets Direct Protocol (SD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SI RDMA Protocol (SRP), iSCSI RDMA (iS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Datagram Service (R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NIC (V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Manager (IB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28600" y="358560"/>
            <a:ext cx="6781680" cy="4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 Kernel Modul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lsio R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WARP Connec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DMA-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600" y="344160"/>
            <a:ext cx="6781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 User Component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rect Access Provider Library (uDAP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ssage Passing Interface (MPI)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VAPICH, MVAPICH2 (in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MPI (pan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B Subnet Management via Open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DMA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B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"/>
          <p:cNvSpPr/>
          <p:nvPr/>
        </p:nvSpPr>
        <p:spPr>
          <a:xfrm>
            <a:off x="1371600" y="228600"/>
            <a:ext cx="5562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Picture 3" descr=""/>
          <p:cNvPicPr/>
          <p:nvPr/>
        </p:nvPicPr>
        <p:blipFill>
          <a:blip r:embed="rId1"/>
          <a:stretch/>
        </p:blipFill>
        <p:spPr>
          <a:xfrm>
            <a:off x="190440" y="142920"/>
            <a:ext cx="1030320" cy="102060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4"/>
          <p:cNvGrpSpPr/>
          <p:nvPr/>
        </p:nvGrpSpPr>
        <p:grpSpPr>
          <a:xfrm>
            <a:off x="7286760" y="1219320"/>
            <a:ext cx="1723680" cy="4114440"/>
            <a:chOff x="7286760" y="1219320"/>
            <a:chExt cx="1723680" cy="4114440"/>
          </a:xfrm>
        </p:grpSpPr>
        <p:sp>
          <p:nvSpPr>
            <p:cNvPr id="776" name="Rectangle 5"/>
            <p:cNvSpPr/>
            <p:nvPr/>
          </p:nvSpPr>
          <p:spPr>
            <a:xfrm>
              <a:off x="7829280" y="5080680"/>
              <a:ext cx="11797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DMA NIC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Rectangle 6"/>
            <p:cNvSpPr/>
            <p:nvPr/>
          </p:nvSpPr>
          <p:spPr>
            <a:xfrm>
              <a:off x="7286760" y="5080680"/>
              <a:ext cx="5425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-NIC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Rectangle 7"/>
            <p:cNvSpPr/>
            <p:nvPr/>
          </p:nvSpPr>
          <p:spPr>
            <a:xfrm>
              <a:off x="7829280" y="471636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Host Channel Adap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Rectangle 8"/>
            <p:cNvSpPr/>
            <p:nvPr/>
          </p:nvSpPr>
          <p:spPr>
            <a:xfrm>
              <a:off x="7286760" y="471636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HC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Rectangle 9"/>
            <p:cNvSpPr/>
            <p:nvPr/>
          </p:nvSpPr>
          <p:spPr>
            <a:xfrm>
              <a:off x="7829280" y="435348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User Direct Access Programming Li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Rectangle 10"/>
            <p:cNvSpPr/>
            <p:nvPr/>
          </p:nvSpPr>
          <p:spPr>
            <a:xfrm>
              <a:off x="7286760" y="435348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187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UDAP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Rectangle 11"/>
            <p:cNvSpPr/>
            <p:nvPr/>
          </p:nvSpPr>
          <p:spPr>
            <a:xfrm>
              <a:off x="7829280" y="398916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eliable Datagram Servic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Rectangle 12"/>
            <p:cNvSpPr/>
            <p:nvPr/>
          </p:nvSpPr>
          <p:spPr>
            <a:xfrm>
              <a:off x="7286760" y="398916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D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Rectangle 13"/>
            <p:cNvSpPr/>
            <p:nvPr/>
          </p:nvSpPr>
          <p:spPr>
            <a:xfrm>
              <a:off x="7829280" y="362628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SCSI RDMA Protocol (Initiator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Rectangle 14"/>
            <p:cNvSpPr/>
            <p:nvPr/>
          </p:nvSpPr>
          <p:spPr>
            <a:xfrm>
              <a:off x="7286760" y="362628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S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Rectangle 15"/>
            <p:cNvSpPr/>
            <p:nvPr/>
          </p:nvSpPr>
          <p:spPr>
            <a:xfrm>
              <a:off x="7829280" y="326196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CSI RDMA Protocol (Initiator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16"/>
            <p:cNvSpPr/>
            <p:nvPr/>
          </p:nvSpPr>
          <p:spPr>
            <a:xfrm>
              <a:off x="7286760" y="326196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R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Rectangle 17"/>
            <p:cNvSpPr/>
            <p:nvPr/>
          </p:nvSpPr>
          <p:spPr>
            <a:xfrm>
              <a:off x="7829280" y="2899440"/>
              <a:ext cx="11797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ockets Direct Protoco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Rectangle 18"/>
            <p:cNvSpPr/>
            <p:nvPr/>
          </p:nvSpPr>
          <p:spPr>
            <a:xfrm>
              <a:off x="7286760" y="2899440"/>
              <a:ext cx="5425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D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Rectangle 19"/>
            <p:cNvSpPr/>
            <p:nvPr/>
          </p:nvSpPr>
          <p:spPr>
            <a:xfrm>
              <a:off x="7829280" y="2671560"/>
              <a:ext cx="11797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P over InfiniBan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Rectangle 20"/>
            <p:cNvSpPr/>
            <p:nvPr/>
          </p:nvSpPr>
          <p:spPr>
            <a:xfrm>
              <a:off x="7286760" y="2671560"/>
              <a:ext cx="5425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PoI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Rectangle 21"/>
            <p:cNvSpPr/>
            <p:nvPr/>
          </p:nvSpPr>
          <p:spPr>
            <a:xfrm>
              <a:off x="7829280" y="230904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Performance Manager Ag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Rectangle 22"/>
            <p:cNvSpPr/>
            <p:nvPr/>
          </p:nvSpPr>
          <p:spPr>
            <a:xfrm>
              <a:off x="7286760" y="230904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PM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Rectangle 23"/>
            <p:cNvSpPr/>
            <p:nvPr/>
          </p:nvSpPr>
          <p:spPr>
            <a:xfrm>
              <a:off x="7829280" y="1945080"/>
              <a:ext cx="1179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ubnet Manager Ag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Rectangle 24"/>
            <p:cNvSpPr/>
            <p:nvPr/>
          </p:nvSpPr>
          <p:spPr>
            <a:xfrm>
              <a:off x="7286760" y="1945080"/>
              <a:ext cx="542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M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25"/>
            <p:cNvSpPr/>
            <p:nvPr/>
          </p:nvSpPr>
          <p:spPr>
            <a:xfrm>
              <a:off x="7829280" y="158184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Management Datagram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Rectangle 26"/>
            <p:cNvSpPr/>
            <p:nvPr/>
          </p:nvSpPr>
          <p:spPr>
            <a:xfrm>
              <a:off x="7286760" y="158184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M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Rectangle 27"/>
            <p:cNvSpPr/>
            <p:nvPr/>
          </p:nvSpPr>
          <p:spPr>
            <a:xfrm>
              <a:off x="7829280" y="1219320"/>
              <a:ext cx="11797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ubnet Administrato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28"/>
            <p:cNvSpPr/>
            <p:nvPr/>
          </p:nvSpPr>
          <p:spPr>
            <a:xfrm>
              <a:off x="7286760" y="1219320"/>
              <a:ext cx="5425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29"/>
            <p:cNvSpPr/>
            <p:nvPr/>
          </p:nvSpPr>
          <p:spPr>
            <a:xfrm>
              <a:off x="7286760" y="1219320"/>
              <a:ext cx="1722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0"/>
            <p:cNvSpPr/>
            <p:nvPr/>
          </p:nvSpPr>
          <p:spPr>
            <a:xfrm>
              <a:off x="7286760" y="158184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1"/>
            <p:cNvSpPr/>
            <p:nvPr/>
          </p:nvSpPr>
          <p:spPr>
            <a:xfrm>
              <a:off x="7286760" y="1945080"/>
              <a:ext cx="172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2"/>
            <p:cNvSpPr/>
            <p:nvPr/>
          </p:nvSpPr>
          <p:spPr>
            <a:xfrm>
              <a:off x="7286760" y="230904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3"/>
            <p:cNvSpPr/>
            <p:nvPr/>
          </p:nvSpPr>
          <p:spPr>
            <a:xfrm>
              <a:off x="7286760" y="26715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4"/>
            <p:cNvSpPr/>
            <p:nvPr/>
          </p:nvSpPr>
          <p:spPr>
            <a:xfrm>
              <a:off x="7286760" y="289944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35"/>
            <p:cNvSpPr/>
            <p:nvPr/>
          </p:nvSpPr>
          <p:spPr>
            <a:xfrm>
              <a:off x="7286760" y="32619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36"/>
            <p:cNvSpPr/>
            <p:nvPr/>
          </p:nvSpPr>
          <p:spPr>
            <a:xfrm>
              <a:off x="7286760" y="362628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37"/>
            <p:cNvSpPr/>
            <p:nvPr/>
          </p:nvSpPr>
          <p:spPr>
            <a:xfrm>
              <a:off x="7286760" y="39891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38"/>
            <p:cNvSpPr/>
            <p:nvPr/>
          </p:nvSpPr>
          <p:spPr>
            <a:xfrm>
              <a:off x="7286760" y="4353480"/>
              <a:ext cx="172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39"/>
            <p:cNvSpPr/>
            <p:nvPr/>
          </p:nvSpPr>
          <p:spPr>
            <a:xfrm>
              <a:off x="7286760" y="47163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"/>
            <p:cNvSpPr/>
            <p:nvPr/>
          </p:nvSpPr>
          <p:spPr>
            <a:xfrm>
              <a:off x="7286760" y="5332680"/>
              <a:ext cx="1722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1"/>
            <p:cNvSpPr/>
            <p:nvPr/>
          </p:nvSpPr>
          <p:spPr>
            <a:xfrm>
              <a:off x="7286760" y="1219320"/>
              <a:ext cx="1440" cy="411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2"/>
            <p:cNvSpPr/>
            <p:nvPr/>
          </p:nvSpPr>
          <p:spPr>
            <a:xfrm>
              <a:off x="7829280" y="1219320"/>
              <a:ext cx="1080" cy="411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3"/>
            <p:cNvSpPr/>
            <p:nvPr/>
          </p:nvSpPr>
          <p:spPr>
            <a:xfrm>
              <a:off x="9009360" y="1219320"/>
              <a:ext cx="1080" cy="411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4"/>
            <p:cNvSpPr/>
            <p:nvPr/>
          </p:nvSpPr>
          <p:spPr>
            <a:xfrm>
              <a:off x="7286760" y="5080680"/>
              <a:ext cx="172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6" name="Rectangle 45"/>
          <p:cNvSpPr/>
          <p:nvPr/>
        </p:nvSpPr>
        <p:spPr>
          <a:xfrm>
            <a:off x="7286760" y="537228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46"/>
          <p:cNvSpPr/>
          <p:nvPr/>
        </p:nvSpPr>
        <p:spPr>
          <a:xfrm>
            <a:off x="7715160" y="5433840"/>
            <a:ext cx="6001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Rectangle 47"/>
          <p:cNvSpPr/>
          <p:nvPr/>
        </p:nvSpPr>
        <p:spPr>
          <a:xfrm>
            <a:off x="7715160" y="568008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48"/>
          <p:cNvSpPr/>
          <p:nvPr/>
        </p:nvSpPr>
        <p:spPr>
          <a:xfrm>
            <a:off x="7715160" y="5925960"/>
            <a:ext cx="619200" cy="184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WAR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9"/>
          <p:cNvSpPr/>
          <p:nvPr/>
        </p:nvSpPr>
        <p:spPr>
          <a:xfrm>
            <a:off x="7286760" y="5433840"/>
            <a:ext cx="709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50"/>
          <p:cNvSpPr/>
          <p:nvPr/>
        </p:nvSpPr>
        <p:spPr>
          <a:xfrm>
            <a:off x="152280" y="1233360"/>
            <a:ext cx="7086600" cy="162900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51"/>
          <p:cNvSpPr/>
          <p:nvPr/>
        </p:nvSpPr>
        <p:spPr>
          <a:xfrm>
            <a:off x="152280" y="2895480"/>
            <a:ext cx="7086600" cy="28209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52"/>
          <p:cNvSpPr/>
          <p:nvPr/>
        </p:nvSpPr>
        <p:spPr>
          <a:xfrm>
            <a:off x="1141560" y="5791320"/>
            <a:ext cx="1373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 HC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Rectangle 53"/>
          <p:cNvSpPr/>
          <p:nvPr/>
        </p:nvSpPr>
        <p:spPr>
          <a:xfrm>
            <a:off x="25909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54"/>
          <p:cNvSpPr/>
          <p:nvPr/>
        </p:nvSpPr>
        <p:spPr>
          <a:xfrm>
            <a:off x="3046320" y="5791320"/>
            <a:ext cx="3826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Rectangle 55"/>
          <p:cNvSpPr/>
          <p:nvPr/>
        </p:nvSpPr>
        <p:spPr>
          <a:xfrm>
            <a:off x="5637240" y="5791320"/>
            <a:ext cx="144936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iWARP R-N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56"/>
          <p:cNvSpPr/>
          <p:nvPr/>
        </p:nvSpPr>
        <p:spPr>
          <a:xfrm>
            <a:off x="42670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7"/>
          <p:cNvSpPr/>
          <p:nvPr/>
        </p:nvSpPr>
        <p:spPr>
          <a:xfrm>
            <a:off x="4722840" y="5791320"/>
            <a:ext cx="38268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58"/>
          <p:cNvSpPr/>
          <p:nvPr/>
        </p:nvSpPr>
        <p:spPr>
          <a:xfrm>
            <a:off x="1141560" y="5257800"/>
            <a:ext cx="137304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pecific Driv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59"/>
          <p:cNvSpPr/>
          <p:nvPr/>
        </p:nvSpPr>
        <p:spPr>
          <a:xfrm>
            <a:off x="5637240" y="5257800"/>
            <a:ext cx="144936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ardware Specif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60"/>
          <p:cNvSpPr/>
          <p:nvPr/>
        </p:nvSpPr>
        <p:spPr>
          <a:xfrm>
            <a:off x="2590920" y="5257800"/>
            <a:ext cx="38088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Rectangle 61"/>
          <p:cNvSpPr/>
          <p:nvPr/>
        </p:nvSpPr>
        <p:spPr>
          <a:xfrm>
            <a:off x="3046320" y="5257800"/>
            <a:ext cx="38268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Rectangle 62"/>
          <p:cNvSpPr/>
          <p:nvPr/>
        </p:nvSpPr>
        <p:spPr>
          <a:xfrm>
            <a:off x="4267080" y="5257800"/>
            <a:ext cx="38124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Rectangle 63"/>
          <p:cNvSpPr/>
          <p:nvPr/>
        </p:nvSpPr>
        <p:spPr>
          <a:xfrm>
            <a:off x="4722840" y="5257800"/>
            <a:ext cx="38268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Rectangle 64"/>
          <p:cNvSpPr/>
          <p:nvPr/>
        </p:nvSpPr>
        <p:spPr>
          <a:xfrm>
            <a:off x="3046320" y="4295880"/>
            <a:ext cx="685800" cy="352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Rectangle 65"/>
          <p:cNvSpPr/>
          <p:nvPr/>
        </p:nvSpPr>
        <p:spPr>
          <a:xfrm>
            <a:off x="35053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Rectangle 66"/>
          <p:cNvSpPr/>
          <p:nvPr/>
        </p:nvSpPr>
        <p:spPr>
          <a:xfrm>
            <a:off x="3505320" y="5257800"/>
            <a:ext cx="38088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Rectangle 67"/>
          <p:cNvSpPr/>
          <p:nvPr/>
        </p:nvSpPr>
        <p:spPr>
          <a:xfrm>
            <a:off x="51814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Rectangle 68"/>
          <p:cNvSpPr/>
          <p:nvPr/>
        </p:nvSpPr>
        <p:spPr>
          <a:xfrm>
            <a:off x="5181480" y="5257800"/>
            <a:ext cx="38124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Rectangle 69"/>
          <p:cNvSpPr/>
          <p:nvPr/>
        </p:nvSpPr>
        <p:spPr>
          <a:xfrm>
            <a:off x="1960560" y="4191120"/>
            <a:ext cx="3906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Rectangle 70"/>
          <p:cNvSpPr/>
          <p:nvPr/>
        </p:nvSpPr>
        <p:spPr>
          <a:xfrm>
            <a:off x="1571760" y="4724280"/>
            <a:ext cx="5056200" cy="304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3928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             OpenFabrics Kernel Level Verbs / API                  iWARP R-N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Rectangle 71"/>
          <p:cNvSpPr/>
          <p:nvPr/>
        </p:nvSpPr>
        <p:spPr>
          <a:xfrm>
            <a:off x="1571760" y="4191120"/>
            <a:ext cx="36036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A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Rectangle 72"/>
          <p:cNvSpPr/>
          <p:nvPr/>
        </p:nvSpPr>
        <p:spPr>
          <a:xfrm>
            <a:off x="4419720" y="4286160"/>
            <a:ext cx="761760" cy="362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Rectangle 73"/>
          <p:cNvSpPr/>
          <p:nvPr/>
        </p:nvSpPr>
        <p:spPr>
          <a:xfrm>
            <a:off x="3238560" y="383868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nnection Manag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Abstraction (CMA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Rectangle 74"/>
          <p:cNvSpPr/>
          <p:nvPr/>
        </p:nvSpPr>
        <p:spPr>
          <a:xfrm>
            <a:off x="1293840" y="2357280"/>
            <a:ext cx="5716440" cy="2206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3928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OpenFabrics User Level    Verbs / API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WARP   R-N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Rectangle 75"/>
          <p:cNvSpPr/>
          <p:nvPr/>
        </p:nvSpPr>
        <p:spPr>
          <a:xfrm>
            <a:off x="3122640" y="3271680"/>
            <a:ext cx="3826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D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Rectangle 76"/>
          <p:cNvSpPr/>
          <p:nvPr/>
        </p:nvSpPr>
        <p:spPr>
          <a:xfrm>
            <a:off x="2590920" y="3271680"/>
            <a:ext cx="457200" cy="38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PoI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Rectangle 77"/>
          <p:cNvSpPr/>
          <p:nvPr/>
        </p:nvSpPr>
        <p:spPr>
          <a:xfrm>
            <a:off x="3960720" y="3271680"/>
            <a:ext cx="3826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R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Rectangle 78"/>
          <p:cNvSpPr/>
          <p:nvPr/>
        </p:nvSpPr>
        <p:spPr>
          <a:xfrm>
            <a:off x="4419720" y="3271680"/>
            <a:ext cx="3808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S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Rectangle 79"/>
          <p:cNvSpPr/>
          <p:nvPr/>
        </p:nvSpPr>
        <p:spPr>
          <a:xfrm>
            <a:off x="4875120" y="3271680"/>
            <a:ext cx="459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RD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Rectangle 80"/>
          <p:cNvSpPr/>
          <p:nvPr/>
        </p:nvSpPr>
        <p:spPr>
          <a:xfrm>
            <a:off x="3029040" y="2643120"/>
            <a:ext cx="5522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DP Li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Rectangle 81"/>
          <p:cNvSpPr/>
          <p:nvPr/>
        </p:nvSpPr>
        <p:spPr>
          <a:xfrm>
            <a:off x="1514520" y="2033640"/>
            <a:ext cx="8492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User Level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D AP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Rectangle 82"/>
          <p:cNvSpPr/>
          <p:nvPr/>
        </p:nvSpPr>
        <p:spPr>
          <a:xfrm>
            <a:off x="1914480" y="1652760"/>
            <a:ext cx="4381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Open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Rectangle 83"/>
          <p:cNvSpPr/>
          <p:nvPr/>
        </p:nvSpPr>
        <p:spPr>
          <a:xfrm>
            <a:off x="1514520" y="1652760"/>
            <a:ext cx="3427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Dia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84"/>
          <p:cNvSpPr/>
          <p:nvPr/>
        </p:nvSpPr>
        <p:spPr>
          <a:xfrm>
            <a:off x="152280" y="5716440"/>
            <a:ext cx="708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85"/>
          <p:cNvSpPr/>
          <p:nvPr/>
        </p:nvSpPr>
        <p:spPr>
          <a:xfrm>
            <a:off x="152280" y="5143680"/>
            <a:ext cx="7086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86"/>
          <p:cNvSpPr/>
          <p:nvPr/>
        </p:nvSpPr>
        <p:spPr>
          <a:xfrm>
            <a:off x="152280" y="3753000"/>
            <a:ext cx="7086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87"/>
          <p:cNvSpPr/>
          <p:nvPr/>
        </p:nvSpPr>
        <p:spPr>
          <a:xfrm>
            <a:off x="152280" y="2995560"/>
            <a:ext cx="70866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88"/>
          <p:cNvSpPr/>
          <p:nvPr/>
        </p:nvSpPr>
        <p:spPr>
          <a:xfrm>
            <a:off x="152280" y="579132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89"/>
          <p:cNvSpPr/>
          <p:nvPr/>
        </p:nvSpPr>
        <p:spPr>
          <a:xfrm>
            <a:off x="152280" y="525780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90"/>
          <p:cNvSpPr/>
          <p:nvPr/>
        </p:nvSpPr>
        <p:spPr>
          <a:xfrm>
            <a:off x="152280" y="411480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Mid-Lay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91"/>
          <p:cNvSpPr/>
          <p:nvPr/>
        </p:nvSpPr>
        <p:spPr>
          <a:xfrm>
            <a:off x="152280" y="3075120"/>
            <a:ext cx="990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Upper Layer Protoco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92"/>
          <p:cNvSpPr/>
          <p:nvPr/>
        </p:nvSpPr>
        <p:spPr>
          <a:xfrm>
            <a:off x="228600" y="2300400"/>
            <a:ext cx="1297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User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AP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93"/>
          <p:cNvSpPr/>
          <p:nvPr/>
        </p:nvSpPr>
        <p:spPr>
          <a:xfrm>
            <a:off x="1752480" y="297180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 Narrow"/>
              </a:rPr>
              <a:t>Kernel Spa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Text Box 94"/>
          <p:cNvSpPr/>
          <p:nvPr/>
        </p:nvSpPr>
        <p:spPr>
          <a:xfrm>
            <a:off x="1981080" y="2590920"/>
            <a:ext cx="8384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 Narrow"/>
              </a:rPr>
              <a:t>User Spac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Rectangle 95"/>
          <p:cNvSpPr/>
          <p:nvPr/>
        </p:nvSpPr>
        <p:spPr>
          <a:xfrm>
            <a:off x="5408640" y="3271680"/>
            <a:ext cx="6858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FS-RDM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P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Rectangle 96"/>
          <p:cNvSpPr/>
          <p:nvPr/>
        </p:nvSpPr>
        <p:spPr>
          <a:xfrm>
            <a:off x="6172200" y="3271680"/>
            <a:ext cx="6094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le Sy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97"/>
          <p:cNvSpPr/>
          <p:nvPr/>
        </p:nvSpPr>
        <p:spPr>
          <a:xfrm>
            <a:off x="3122640" y="2133720"/>
            <a:ext cx="144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98"/>
          <p:cNvSpPr/>
          <p:nvPr/>
        </p:nvSpPr>
        <p:spPr>
          <a:xfrm>
            <a:off x="4037040" y="17668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99"/>
          <p:cNvSpPr/>
          <p:nvPr/>
        </p:nvSpPr>
        <p:spPr>
          <a:xfrm>
            <a:off x="5408640" y="1766880"/>
            <a:ext cx="144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Line 100"/>
          <p:cNvSpPr/>
          <p:nvPr/>
        </p:nvSpPr>
        <p:spPr>
          <a:xfrm>
            <a:off x="4343400" y="176688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101"/>
          <p:cNvSpPr/>
          <p:nvPr/>
        </p:nvSpPr>
        <p:spPr>
          <a:xfrm>
            <a:off x="228600" y="1325520"/>
            <a:ext cx="1104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Level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Line 102"/>
          <p:cNvSpPr/>
          <p:nvPr/>
        </p:nvSpPr>
        <p:spPr>
          <a:xfrm>
            <a:off x="6019920" y="1766880"/>
            <a:ext cx="144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Line 103"/>
          <p:cNvSpPr/>
          <p:nvPr/>
        </p:nvSpPr>
        <p:spPr>
          <a:xfrm>
            <a:off x="6399360" y="1766880"/>
            <a:ext cx="144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104"/>
          <p:cNvSpPr/>
          <p:nvPr/>
        </p:nvSpPr>
        <p:spPr>
          <a:xfrm>
            <a:off x="4648320" y="1766880"/>
            <a:ext cx="144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Line 105"/>
          <p:cNvSpPr/>
          <p:nvPr/>
        </p:nvSpPr>
        <p:spPr>
          <a:xfrm>
            <a:off x="4114800" y="311940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Line 106"/>
          <p:cNvSpPr/>
          <p:nvPr/>
        </p:nvSpPr>
        <p:spPr>
          <a:xfrm>
            <a:off x="4114800" y="3119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Line 107"/>
          <p:cNvSpPr/>
          <p:nvPr/>
        </p:nvSpPr>
        <p:spPr>
          <a:xfrm>
            <a:off x="3276720" y="2832120"/>
            <a:ext cx="144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108"/>
          <p:cNvSpPr/>
          <p:nvPr/>
        </p:nvSpPr>
        <p:spPr>
          <a:xfrm>
            <a:off x="2819520" y="1766880"/>
            <a:ext cx="1440" cy="15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09"/>
          <p:cNvSpPr/>
          <p:nvPr/>
        </p:nvSpPr>
        <p:spPr>
          <a:xfrm>
            <a:off x="4037040" y="227160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Rectangle 110"/>
          <p:cNvSpPr/>
          <p:nvPr/>
        </p:nvSpPr>
        <p:spPr>
          <a:xfrm>
            <a:off x="2390760" y="4191120"/>
            <a:ext cx="380880" cy="447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Line 111"/>
          <p:cNvSpPr/>
          <p:nvPr/>
        </p:nvSpPr>
        <p:spPr>
          <a:xfrm>
            <a:off x="5105520" y="3119400"/>
            <a:ext cx="30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Line 112"/>
          <p:cNvSpPr/>
          <p:nvPr/>
        </p:nvSpPr>
        <p:spPr>
          <a:xfrm>
            <a:off x="5105520" y="3119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Rectangle 113"/>
          <p:cNvSpPr/>
          <p:nvPr/>
        </p:nvSpPr>
        <p:spPr>
          <a:xfrm>
            <a:off x="5181480" y="1309680"/>
            <a:ext cx="68436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B 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Rectangle 114"/>
          <p:cNvSpPr/>
          <p:nvPr/>
        </p:nvSpPr>
        <p:spPr>
          <a:xfrm>
            <a:off x="32004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Rectangle 115"/>
          <p:cNvSpPr/>
          <p:nvPr/>
        </p:nvSpPr>
        <p:spPr>
          <a:xfrm>
            <a:off x="3884760" y="1309680"/>
            <a:ext cx="53496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ariou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PI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Rectangle 116"/>
          <p:cNvSpPr/>
          <p:nvPr/>
        </p:nvSpPr>
        <p:spPr>
          <a:xfrm>
            <a:off x="5943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Rectangle 117"/>
          <p:cNvSpPr/>
          <p:nvPr/>
        </p:nvSpPr>
        <p:spPr>
          <a:xfrm>
            <a:off x="4495680" y="1309680"/>
            <a:ext cx="6112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118"/>
          <p:cNvSpPr/>
          <p:nvPr/>
        </p:nvSpPr>
        <p:spPr>
          <a:xfrm>
            <a:off x="2514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P Bas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Rectangle 119"/>
          <p:cNvSpPr/>
          <p:nvPr/>
        </p:nvSpPr>
        <p:spPr>
          <a:xfrm>
            <a:off x="152280" y="1219320"/>
            <a:ext cx="7086600" cy="495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Line 120"/>
          <p:cNvSpPr/>
          <p:nvPr/>
        </p:nvSpPr>
        <p:spPr>
          <a:xfrm>
            <a:off x="152280" y="1995480"/>
            <a:ext cx="7086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Rectangle 121"/>
          <p:cNvSpPr/>
          <p:nvPr/>
        </p:nvSpPr>
        <p:spPr>
          <a:xfrm>
            <a:off x="8362800" y="5433840"/>
            <a:ext cx="601920" cy="67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Apps &amp; 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for using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OF Stac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Rectangle 122"/>
          <p:cNvSpPr/>
          <p:nvPr/>
        </p:nvSpPr>
        <p:spPr>
          <a:xfrm>
            <a:off x="3657600" y="2071800"/>
            <a:ext cx="534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UDAP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123"/>
          <p:cNvSpPr/>
          <p:nvPr/>
        </p:nvSpPr>
        <p:spPr>
          <a:xfrm>
            <a:off x="3352680" y="1914480"/>
            <a:ext cx="180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Line 124"/>
          <p:cNvSpPr/>
          <p:nvPr/>
        </p:nvSpPr>
        <p:spPr>
          <a:xfrm>
            <a:off x="3122640" y="21337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Line 125"/>
          <p:cNvSpPr/>
          <p:nvPr/>
        </p:nvSpPr>
        <p:spPr>
          <a:xfrm flipH="1">
            <a:off x="5785920" y="2209680"/>
            <a:ext cx="23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Line 126"/>
          <p:cNvSpPr/>
          <p:nvPr/>
        </p:nvSpPr>
        <p:spPr>
          <a:xfrm>
            <a:off x="5789520" y="2209680"/>
            <a:ext cx="1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Line 127"/>
          <p:cNvSpPr/>
          <p:nvPr/>
        </p:nvSpPr>
        <p:spPr>
          <a:xfrm>
            <a:off x="137160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Line 128"/>
          <p:cNvSpPr/>
          <p:nvPr/>
        </p:nvSpPr>
        <p:spPr>
          <a:xfrm>
            <a:off x="6934320" y="2590920"/>
            <a:ext cx="14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129"/>
          <p:cNvSpPr/>
          <p:nvPr/>
        </p:nvSpPr>
        <p:spPr>
          <a:xfrm rot="16200000">
            <a:off x="738000" y="442728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Kernel bypa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130"/>
          <p:cNvSpPr/>
          <p:nvPr/>
        </p:nvSpPr>
        <p:spPr>
          <a:xfrm rot="16200000">
            <a:off x="6298920" y="442728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Kernel bypa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Line 131"/>
          <p:cNvSpPr/>
          <p:nvPr/>
        </p:nvSpPr>
        <p:spPr>
          <a:xfrm>
            <a:off x="1562040" y="412416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Line 132"/>
          <p:cNvSpPr/>
          <p:nvPr/>
        </p:nvSpPr>
        <p:spPr>
          <a:xfrm>
            <a:off x="1809720" y="2581200"/>
            <a:ext cx="144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OpenFabrics Software Stack 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A/OFED API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n Fabrics Ver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al changes from IB API to support 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iWARP-specific verb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n Fabrics RDMA-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ort neutral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 address / port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rnel and User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interface supports kernel-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ntroduction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lsio’s T3 Unified Wire Ethernet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ED 1.2 stack and iWA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upstream kernel 2.6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release imm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g &amp; performance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 &amp; what’s n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F02D0-D1E3-4F13-9D66-FDD94F6B467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67770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IB vs. Chelsio Ethernet iWARP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lsio T3 RN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taneous OFED 1.2, iSCSI over TCP/IP, TOE,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3 all in one NIC, iSCSI HBA, and iWARP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oIB handled with NIC and TOE on Etherne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B implementation of classical socke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3 also has this functionality via DDP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DP TOE is API compatible with classical socket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3 also supports iSCSI over TCP/IP which has its own built-in DDP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7467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WARP OFED 1.2: Testing 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generation TCP offl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ly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ARP testing comple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Test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running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APL test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S over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rrectness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testing on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FA/OFED 1.2 : Performanc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ly hits full line rate 10Gbps bi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latency in the 4-6usec range (depending on the plat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 latency in the 6-7usec range (depending on the plat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VPICH MP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 Panda et al. at OSU will be presenting performance results with Chelsio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FS over RD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n Chen et al. at Sandia will be presenting performance results with Chelsio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T3 iWarp Latency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T3 iWarp Throughpu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250FA-9DD4-44FA-909A-66EACB7CFE8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67770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68212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lsio has stable OFED 1.2 iWARP RNICs available and shipping to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e rate 10Gbps 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-to-end latency in 4-7us range depending 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-through processing key to these latency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sive QA testing done, and performance QA is on-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ified Wire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on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eneration protocol of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Traffic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10G Ethernet TCP testing has been limited to small clusters up to this point 4-12 no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gestion control scales in robust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line rate is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subscribed receivers are 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iness and lack of Traffic Management was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10Gbps sender can overwhelm a slower receiver such as a block or file storage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are starting to assemble RNIC clusters consisting of 100s of no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xpect Traffic Management and Traffic Engineering to play a significant role in large RNIC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help of Traffic Management and Engineering, we expect TCP congestion control to scale in robust fashion in large cl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2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39748-DEE0-4A94-A1C0-E2BAB90528D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952880" cy="487368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hank You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240" y="30600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helsio T3 Unified Wire Engine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ve PCIe x8 and PCI-X 2.0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x 10Gbps Ethernet 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taneously, one adapter operates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the TCP/IP network stack as a high performance 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the storage stack as a 10Gbps iSCSI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OFA as a high performance iWARP RDMA R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s TCP/IP applications with full TCP/IP off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eneration offload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traffic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8" descr="S310E-CX - angled-240"/>
          <p:cNvPicPr/>
          <p:nvPr/>
        </p:nvPicPr>
        <p:blipFill>
          <a:blip r:embed="rId1"/>
          <a:stretch/>
        </p:blipFill>
        <p:spPr>
          <a:xfrm>
            <a:off x="228600" y="1828800"/>
            <a:ext cx="2743200" cy="1703520"/>
          </a:xfrm>
          <a:prstGeom prst="rect">
            <a:avLst/>
          </a:prstGeom>
          <a:ln w="0">
            <a:noFill/>
          </a:ln>
        </p:spPr>
      </p:pic>
      <p:sp>
        <p:nvSpPr>
          <p:cNvPr id="729" name="Slide Number Placeholder 3"/>
          <p:cNvSpPr/>
          <p:nvPr/>
        </p:nvSpPr>
        <p:spPr>
          <a:xfrm>
            <a:off x="8686800" y="6553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C0567-2808-4D49-AF11-FFD903D5E13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PCI Bu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731" name="Picture 5" descr="T302x"/>
          <p:cNvPicPr/>
          <p:nvPr/>
        </p:nvPicPr>
        <p:blipFill>
          <a:blip r:embed="rId2"/>
          <a:stretch/>
        </p:blipFill>
        <p:spPr>
          <a:xfrm>
            <a:off x="6248520" y="419112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7"/>
          <p:cNvSpPr/>
          <p:nvPr/>
        </p:nvSpPr>
        <p:spPr>
          <a:xfrm>
            <a:off x="3822840" y="63342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0e-XF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685800" y="63342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0e-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0"/>
          <p:cNvSpPr/>
          <p:nvPr/>
        </p:nvSpPr>
        <p:spPr>
          <a:xfrm>
            <a:off x="3733920" y="34290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310e-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5" name="Picture 13" descr="T302-E oblique low-res"/>
          <p:cNvPicPr/>
          <p:nvPr/>
        </p:nvPicPr>
        <p:blipFill>
          <a:blip r:embed="rId3"/>
          <a:stretch/>
        </p:blipFill>
        <p:spPr>
          <a:xfrm>
            <a:off x="6400800" y="1447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S320X-SR-XFP - angled-240"/>
          <p:cNvPicPr/>
          <p:nvPr/>
        </p:nvPicPr>
        <p:blipFill>
          <a:blip r:embed="rId4"/>
          <a:stretch/>
        </p:blipFill>
        <p:spPr>
          <a:xfrm>
            <a:off x="3429000" y="1752480"/>
            <a:ext cx="2590920" cy="19116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4"/>
          <p:cNvSpPr/>
          <p:nvPr/>
        </p:nvSpPr>
        <p:spPr>
          <a:xfrm>
            <a:off x="7315200" y="3657600"/>
            <a:ext cx="13590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02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8" name="Picture 16" descr="S320E-SR-XFP - angled-240"/>
          <p:cNvPicPr/>
          <p:nvPr/>
        </p:nvPicPr>
        <p:blipFill>
          <a:blip r:embed="rId5"/>
          <a:stretch/>
        </p:blipFill>
        <p:spPr>
          <a:xfrm>
            <a:off x="3429000" y="4302000"/>
            <a:ext cx="2666880" cy="18892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3" descr="S320E-CX - angled-240"/>
          <p:cNvPicPr/>
          <p:nvPr/>
        </p:nvPicPr>
        <p:blipFill>
          <a:blip r:embed="rId6"/>
          <a:stretch/>
        </p:blipFill>
        <p:spPr>
          <a:xfrm>
            <a:off x="380880" y="4114800"/>
            <a:ext cx="2590920" cy="21384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9"/>
          <p:cNvSpPr/>
          <p:nvPr/>
        </p:nvSpPr>
        <p:spPr>
          <a:xfrm>
            <a:off x="7099200" y="6400800"/>
            <a:ext cx="1739880" cy="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02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990720" y="3666960"/>
            <a:ext cx="13586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1e-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3809880" y="38196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0x-XF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helsio Unified Wire: Offload NIC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um of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L/LSO (Send Large Segment Off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O (Receive Large Segment Off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 (Receive Side traffic St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S (Send Side Sca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line rate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B frames, or 9KB jumbo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line rate 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B frames, or 9KB jumbo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copy for TX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copy for RX NO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7770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iSCSI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 on top of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 header and data digest (CRC) of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send and iSCSI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receive of iSCSI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support 32K connections (chip up to 1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d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W 10Gbps 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+K IOPS rate (512B transf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TO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lassical socket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support 32K connections (chip up to 1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rate 10Gbps 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7us end-to-end application-to-application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driven receive, less for polling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5% CPU for 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5% CPU for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6D351-FD9A-4F89-9E2A-274B9205338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TO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performance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wire rate from 1 up to 10s of thousands of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atency cut-through processing for transmit and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wire rate filtering and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TCP Offload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setup/tear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retransmit, timeout retransmission, 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order packet handling and exception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CP timers and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server offload (full bit-wise wildc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RFC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attack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0B9C3-7FF1-4E19-BBB7-C50C7BD21F6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helsio Unified Wire: iWARP RDMA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s-compliant R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RD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C iWARP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/permissive interoperability of IETF RDDP &amp; RDMAC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OS-bypass and optional polling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dded microproc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request &amp; erro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queu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doorb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completion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protection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-based STA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cache coherent polling rece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geir Eiriksson</dc:creator>
  <dc:description/>
  <dc:language>en-US</dc:language>
  <cp:lastModifiedBy>Asgeir Eiriksson</cp:lastModifiedBy>
  <dcterms:modified xsi:type="dcterms:W3CDTF">2007-04-30T20:30:58Z</dcterms:modified>
  <cp:revision>188</cp:revision>
  <dc:subject>3rd OFA Workshop, Sonoma, April 30, 2007</dc:subject>
  <dc:title>iWARP in OFED 1.2</dc:title>
</cp:coreProperties>
</file>