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141C-C9E8-4819-9371-AEE49C3E9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56E-3FA4-40FB-9677-00888852DF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33:11Z</dcterms:modified>
  <cp:revision>34</cp:revision>
  <dc:subject/>
  <dc:title>Operational and Application Experiences with the Infiniband Environment</dc:title>
</cp:coreProperties>
</file>