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ng" ContentType="image/png"/>
  <Override PartName="/ppt/media/image10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3D3DA-F02B-43B8-81F8-E82A6CE33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 pattern used for measuring startup (latency) and throughput (bandwidth) of a single message sent between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484B-8960-4B21-A69F-37198B95C57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Operational and Application Experiences with the Infiniband Environmen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aron Brunet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lte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1, 20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MPI_AllRed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ning Tests Revealed Infiniban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 Management (PM) facility gives sysadmin/user ability to analyze and maintain the Infinib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 ports had high PortRcvErrors, indicative of a bad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cables and swapping in a new IB blade isolated the problem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reduced by configurable threshold limit (HOQ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IB Blade Identified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hallenges A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ng the Infiniband switch, as currently installed, is no 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ow working parts need to be dismantled to access parts needing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 tracing and stress needs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boards can take multiple re-seatings before they’re “snu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rk says…hardware should be treated like a delicate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 of the code with MPI collective calls sensitive to msg lengths and process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dicative benchmarks as part of production run set up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Voltaire’s PM utility to routinely monitor the fabric for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dinner for Trent and 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ut linkcheck and ibcheckfabric on our little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our Lives Easi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lanox drivers -&gt; OpenI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built golden image gives flexibility but has 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robing of PM counter report files to compare against “known good”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suspect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ndard/factory benchmarks to verify Infiniband cluster is working at customer site as well as when the integrated system shipp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important as cluster exp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tate low level PM facilities into support level tools for better integrated monitor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3_Production Environment using Infini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Hardwar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Infiniband particu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ampl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Bench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A less challenging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A collection of hoped fo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71840" y="1752480"/>
            <a:ext cx="3935160" cy="1081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xtreme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lack Diamond 88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pper Gi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51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teron/Infiniband Cluste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3657600"/>
            <a:ext cx="1814400" cy="1385640"/>
            <a:chOff x="1600200" y="3657600"/>
            <a:chExt cx="1814400" cy="1385640"/>
          </a:xfrm>
        </p:grpSpPr>
        <p:sp>
          <p:nvSpPr>
            <p:cNvPr id="100" name=""/>
            <p:cNvSpPr/>
            <p:nvPr/>
          </p:nvSpPr>
          <p:spPr>
            <a:xfrm>
              <a:off x="1600200" y="36576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0680" y="379476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3440" y="39193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95120" y="40320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17880" y="42937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.2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18080" y="361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87560" y="2703240"/>
            <a:ext cx="0" cy="97308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69800" y="5257800"/>
            <a:ext cx="202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86 dual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-231840" y="3850920"/>
            <a:ext cx="2093760" cy="10242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Voltaire Infinin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76920"/>
            <a:ext cx="89388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5160" y="2116080"/>
            <a:ext cx="162576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16 GB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2.2 GH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quad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35040"/>
            <a:ext cx="304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head/logi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(shc.cacr.caltech.e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20920" y="2394000"/>
            <a:ext cx="250920" cy="21096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76240" y="2935440"/>
            <a:ext cx="231840" cy="3808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89400" y="2817360"/>
            <a:ext cx="1778040" cy="20480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97520" y="3813120"/>
            <a:ext cx="2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9400" y="4125960"/>
            <a:ext cx="1614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5867280"/>
            <a:ext cx="19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3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05320" y="4876920"/>
            <a:ext cx="1366560" cy="941400"/>
            <a:chOff x="3505320" y="4876920"/>
            <a:chExt cx="1366560" cy="941400"/>
          </a:xfrm>
        </p:grpSpPr>
        <p:sp>
          <p:nvSpPr>
            <p:cNvPr id="119" name=""/>
            <p:cNvSpPr/>
            <p:nvPr/>
          </p:nvSpPr>
          <p:spPr>
            <a:xfrm>
              <a:off x="3505320" y="487692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5160" y="506916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.4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1960" y="59436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8 dual CPU, dual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MD Opteron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7040" y="4313160"/>
            <a:ext cx="2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27320" y="3676680"/>
            <a:ext cx="438120" cy="0"/>
          </a:xfrm>
          <a:prstGeom prst="line">
            <a:avLst/>
          </a:prstGeom>
          <a:ln w="22320">
            <a:solidFill>
              <a:srgbClr val="333399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634000" y="2862000"/>
            <a:ext cx="2021040" cy="237780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884400" y="2876040"/>
            <a:ext cx="153720" cy="200052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7440" y="33836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80960" y="4251600"/>
            <a:ext cx="576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989600" y="4362480"/>
            <a:ext cx="683640" cy="504720"/>
            <a:chOff x="4989600" y="4362480"/>
            <a:chExt cx="683640" cy="504720"/>
          </a:xfrm>
        </p:grpSpPr>
        <p:sp>
          <p:nvSpPr>
            <p:cNvPr id="129" name=""/>
            <p:cNvSpPr/>
            <p:nvPr/>
          </p:nvSpPr>
          <p:spPr>
            <a:xfrm>
              <a:off x="4989600" y="4362480"/>
              <a:ext cx="502920" cy="3013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70320" y="456552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989680" y="4411800"/>
            <a:ext cx="807480" cy="660240"/>
            <a:chOff x="5989680" y="4411800"/>
            <a:chExt cx="807480" cy="660240"/>
          </a:xfrm>
        </p:grpSpPr>
        <p:sp>
          <p:nvSpPr>
            <p:cNvPr id="132" name=""/>
            <p:cNvSpPr/>
            <p:nvPr/>
          </p:nvSpPr>
          <p:spPr>
            <a:xfrm>
              <a:off x="5989680" y="441180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41600" y="456084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94240" y="477036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216400" y="5106960"/>
            <a:ext cx="15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4 TB (RAID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fs/data-store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35800" y="5273640"/>
            <a:ext cx="1006560" cy="792000"/>
            <a:chOff x="7435800" y="5273640"/>
            <a:chExt cx="1006560" cy="792000"/>
          </a:xfrm>
        </p:grpSpPr>
        <p:sp>
          <p:nvSpPr>
            <p:cNvPr id="137" name=""/>
            <p:cNvSpPr/>
            <p:nvPr/>
          </p:nvSpPr>
          <p:spPr>
            <a:xfrm>
              <a:off x="7435800" y="527364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4560" y="542268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46840" y="557532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9080" y="576396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964640" y="4770360"/>
            <a:ext cx="1005840" cy="792000"/>
            <a:chOff x="7964640" y="4770360"/>
            <a:chExt cx="1005840" cy="792000"/>
          </a:xfrm>
        </p:grpSpPr>
        <p:sp>
          <p:nvSpPr>
            <p:cNvPr id="142" name=""/>
            <p:cNvSpPr/>
            <p:nvPr/>
          </p:nvSpPr>
          <p:spPr>
            <a:xfrm>
              <a:off x="7964640" y="477036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3040" y="491940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75320" y="507204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67560" y="526068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3440" y="3438360"/>
            <a:ext cx="1297080" cy="7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8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Opteron dual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dual core, 16 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751280" y="2817720"/>
            <a:ext cx="379440" cy="6206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642920" y="418752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673240" y="417780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181480"/>
            <a:ext cx="213372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 Resource Utilization Summ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5732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balance between ac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% utilization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from 64.9%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of development and production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ranging in size from 4 to 32 nodes, 2 to 2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 100 user accounts, 5 partn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1447920"/>
          <a:ext cx="3581640" cy="254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35816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38080" y="3863880"/>
          <a:ext cx="358164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63880"/>
                    <a:ext cx="35816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on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Software stack impacting Golde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SLES9 (security patched) kernel version 2.6.15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ellanox Infiniband drivers v3.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No sources available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arallel Virtual File System (pvfs)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OpenMPI (2.1.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Tor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a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 - us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Plotting and Data Visualization Tool - </a:t>
            </a:r>
            <a:r>
              <a:rPr b="0" i="1" lang="en-US" sz="24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ec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Debugger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otal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Numerical Computing Environment/language - 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ortable Extensible Toolkit for Scientific Computation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PET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Hierarchial Data Format (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HDF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) v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S Grains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resolved simulations of shear compression polycrystal specime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run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NL’s alc, 12 hours 118 CPUs, 900K steps, 4.4 GB of d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343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34240" y="30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62520" y="1905120"/>
          <a:ext cx="4825800" cy="38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05120"/>
                    <a:ext cx="482580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Application MPI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blem size grows, MPI impact less due to better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_Waitall and AllReduce are major time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smaller benchmarks for tuning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8:46:02Z</dcterms:created>
  <dc:creator>Sharon Brunett</dc:creator>
  <dc:description/>
  <dc:language>en-US</dc:language>
  <cp:lastModifiedBy>Sharon Brunett</cp:lastModifiedBy>
  <dcterms:modified xsi:type="dcterms:W3CDTF">2007-05-01T18:23:51Z</dcterms:modified>
  <cp:revision>33</cp:revision>
  <dc:subject/>
  <dc:title>Operational and Application Experiences with the Infiniband Environment</dc:title>
</cp:coreProperties>
</file>