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37F-DEBD-46B7-8A9E-3DA3EC67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r@voltaire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A3DF-F26E-4C90-9289-6A55F9F8CFE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agement Tools Development related to Do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50288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link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link speed and connection for each port of each switch that is 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"sysadmin readable" output for all the information of all th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output of the "lower level" diags into a "per link"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upports one line per link which is parseable by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ript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nd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unters on all switches in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utput for -r (report port info) op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 for 0x0008f10400411b18 ""wopr switch" bas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 1: [RcvSwRelayErrors == 10]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 Link info:      2    1[  ]  ==( 4X 5.0 Gbps)==&gt;  0x0002c90200219e64 1[  ] "wopri"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determine what the other end of the link is.  In this case, the link is connected to the node "wop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n pages for more description and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Ira Weiny and Al Chu for their many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ID/GUID to the error output in diag scripts for easier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diag check script(s)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R capable peer ports not operating at 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capable peer ports not operating at 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iag capabilities to detect additional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ort or node G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valu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in management 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ly coupled to OpenSM rather than separate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nd its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Open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isable SM ? so run perf mg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current topology from SM and monitor changes in topology as basis for track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configure node type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, switches only, CAs 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 counters periodically to determine rat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performance data (for subsequent report prod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 events i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 thresholds to determin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can be disabled by configuring their thresholds to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”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ounters can be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olicy (when counters close to sticky max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eset 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time per node (and possibly port as well)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on cluster instal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 from performan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diag tools and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1.2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Perl scripts and installation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one by Ira Weiny &amp; Albert 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reset, enable,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S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aqu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by NodeDescription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LID f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Record by src/de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A ClassPort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query support for PortCounters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gener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3 port transmit wait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rac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a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_mfts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findnodes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list of nodes which are routed through switch: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find the nodes which might be affected by errors seen on that link/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printca, ibprint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nly the ca/switch specified from the ibnetdiscover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"grepping" ibnetdiscover output ea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wport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iagnose a problem on a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rates of change of error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eprecated by the performan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hal</cp:lastModifiedBy>
  <dcterms:modified xsi:type="dcterms:W3CDTF">2007-05-01T17:53:47Z</dcterms:modified>
  <cp:revision>50</cp:revision>
  <dc:subject/>
  <dc:title>InfiniBand Routing</dc:title>
</cp:coreProperties>
</file>