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BEE9-746E-4AC0-92FF-F7CA48F0552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hap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D153-56A2-4DAA-B545-4C4A702BFC0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0A14-990E-4C10-8274-FAD9969D0ECD}" type="slidenum">
              <a:rPr b="1" lang="ar-SA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hape 4"/>
          <p:cNvSpPr/>
          <p:nvPr/>
        </p:nvSpPr>
        <p:spPr>
          <a:xfrm>
            <a:off x="2133720" y="646740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OFED Testing Sess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it Krig &amp; Nimrod Gin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llanox Technolo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tangle 10" descr=""/>
          <p:cNvPicPr/>
          <p:nvPr/>
        </p:nvPicPr>
        <p:blipFill>
          <a:blip r:embed="rId1"/>
          <a:stretch/>
        </p:blipFill>
        <p:spPr>
          <a:xfrm>
            <a:off x="7467480" y="5173560"/>
            <a:ext cx="130824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er from SC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Interoperability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’ve done since SC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Large Cluste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ter from SC0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Task-Force with following 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y the reporting method of all OFA companies with relation to the testing of OFED re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ing OFA member companies to report all issues found during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ULP testing ow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 tests with OF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ED Interoperability Upd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event held at UNH IOL labs (April-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-IWG members are encouraged to contribute equipment for the new test cluster at UNH IOL (including storage syst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laned Interoperability event was held prior to OFED releases (issues reported to OF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ng the interoperability procedure as defined by IWG should remain a criteria for next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e’ve done since SC0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223640"/>
            <a:ext cx="3794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ed Test Repor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vendor started to use it in OFED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update is being sent out for each release cand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ing the reports during the weekly conference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19920" y="1224000"/>
            <a:ext cx="3009960" cy="2397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19920" y="3900600"/>
            <a:ext cx="30099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5824440" y="2484360"/>
            <a:ext cx="1109520" cy="3075120"/>
            <a:chOff x="5824440" y="2484360"/>
            <a:chExt cx="1109520" cy="3075120"/>
          </a:xfrm>
        </p:grpSpPr>
        <p:sp>
          <p:nvSpPr>
            <p:cNvPr id="109" name=""/>
            <p:cNvSpPr/>
            <p:nvPr/>
          </p:nvSpPr>
          <p:spPr>
            <a:xfrm flipV="1">
              <a:off x="5824440" y="2484360"/>
              <a:ext cx="1109520" cy="120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24440" y="3666960"/>
              <a:ext cx="880920" cy="189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24440" y="3691080"/>
              <a:ext cx="72864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5824440" y="3428640"/>
              <a:ext cx="88092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946680" y="1125360"/>
            <a:ext cx="1844640" cy="5123160"/>
            <a:chOff x="3946680" y="1125360"/>
            <a:chExt cx="1844640" cy="512316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4132440" y="1282680"/>
              <a:ext cx="155736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3946680" y="1125360"/>
              <a:ext cx="155736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4208400" y="5119560"/>
              <a:ext cx="155736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6"/>
            <a:stretch/>
          </p:blipFill>
          <p:spPr>
            <a:xfrm>
              <a:off x="4233960" y="3846600"/>
              <a:ext cx="153180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7"/>
            <a:stretch/>
          </p:blipFill>
          <p:spPr>
            <a:xfrm>
              <a:off x="4233960" y="2543040"/>
              <a:ext cx="155736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8"/>
            <a:stretch/>
          </p:blipFill>
          <p:spPr>
            <a:xfrm>
              <a:off x="3946680" y="3672000"/>
              <a:ext cx="155736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9"/>
            <a:stretch/>
          </p:blipFill>
          <p:spPr>
            <a:xfrm>
              <a:off x="3971880" y="4854600"/>
              <a:ext cx="153216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10"/>
            <a:stretch/>
          </p:blipFill>
          <p:spPr>
            <a:xfrm>
              <a:off x="3946680" y="2359080"/>
              <a:ext cx="1557360" cy="11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e’ve done since SC06… co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Testing Efficienc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test/applications knowledge sharing by using the sam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quality and reduce the testing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force held synchronization meeting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 a regular test Sync up on testing status towards a release should be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ve defined a qualifying owner for each ULP and made it part of the testing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ED Large Cluster Tes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(with no change from SC06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ficial reports are based on testing of small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release: Establish a large beta-site testing cl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quality/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 acceptable cluster test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no real InfiniBand tes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few unsupported tests in the Old IB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eatures should have a testing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plans, standard applications &amp; topologies should be shared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verification subgroups should be form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9:13:54Z</dcterms:created>
  <dc:creator>tziporet</dc:creator>
  <dc:description/>
  <dc:language>en-US</dc:language>
  <cp:lastModifiedBy>IBM</cp:lastModifiedBy>
  <dcterms:modified xsi:type="dcterms:W3CDTF">2007-05-02T15:32:27Z</dcterms:modified>
  <cp:revision>11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