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23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5341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5463360"/>
            <a:ext cx="85341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4164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840" y="5105160"/>
            <a:ext cx="4164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5463360"/>
            <a:ext cx="4164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840" y="5463360"/>
            <a:ext cx="4164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27478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0680" y="5105160"/>
            <a:ext cx="27478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6080" y="5105160"/>
            <a:ext cx="27478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5463360"/>
            <a:ext cx="27478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0680" y="5463360"/>
            <a:ext cx="27478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6080" y="5463360"/>
            <a:ext cx="27478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51051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4164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5105160"/>
            <a:ext cx="4164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82240" cy="49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4164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5105160"/>
            <a:ext cx="4164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5463360"/>
            <a:ext cx="4164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51051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4164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5105160"/>
            <a:ext cx="4164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7840" y="5463360"/>
            <a:ext cx="4164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4164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7840" y="5105160"/>
            <a:ext cx="4164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5463360"/>
            <a:ext cx="85341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5341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4920" y="5463360"/>
            <a:ext cx="85341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4164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7840" y="5105160"/>
            <a:ext cx="4164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920" y="5463360"/>
            <a:ext cx="4164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7840" y="5463360"/>
            <a:ext cx="4164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27478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90680" y="5105160"/>
            <a:ext cx="27478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76080" y="5105160"/>
            <a:ext cx="27478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4920" y="5463360"/>
            <a:ext cx="27478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90680" y="5463360"/>
            <a:ext cx="27478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76080" y="5463360"/>
            <a:ext cx="27478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4164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840" y="5105160"/>
            <a:ext cx="4164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82240" cy="49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4164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840" y="5105160"/>
            <a:ext cx="4164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5463360"/>
            <a:ext cx="4164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4164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840" y="5105160"/>
            <a:ext cx="4164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840" y="5463360"/>
            <a:ext cx="4164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4164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840" y="5105160"/>
            <a:ext cx="4164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5463360"/>
            <a:ext cx="85341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229600" y="643896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81889-D2BA-499F-B99C-68F63BB3D296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848720" y="152280"/>
            <a:ext cx="1022400" cy="947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28600" y="64548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741760" y="1903320"/>
            <a:ext cx="3354120" cy="3354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7040" y="64008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jpeg"/><Relationship Id="rId11" Type="http://schemas.openxmlformats.org/officeDocument/2006/relationships/image" Target="../media/image16.png"/><Relationship Id="rId12" Type="http://schemas.openxmlformats.org/officeDocument/2006/relationships/image" Target="../media/image17.jpeg"/><Relationship Id="rId13" Type="http://schemas.openxmlformats.org/officeDocument/2006/relationships/image" Target="../media/image18.pn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image" Target="../media/image21.png"/><Relationship Id="rId17" Type="http://schemas.openxmlformats.org/officeDocument/2006/relationships/image" Target="../media/image22.png"/><Relationship Id="rId18" Type="http://schemas.openxmlformats.org/officeDocument/2006/relationships/image" Target="../media/image23.jpeg"/><Relationship Id="rId1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Open MPI Project</a:t>
            </a:r>
            <a:br>
              <a:rPr sz="4100"/>
            </a:b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State of the Union - April 2007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04920" y="51051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eff Squy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isco, In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ccess st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ED + Open M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nderbird Sandia clu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6 in Top 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ad Runner Los Alamos clu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k Opteron cores + 16k cell broadband eng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yote Los Alamos clu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80 Opteron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n ClusterTools v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ED involv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ly planned on “v1.2ofed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d some OF-specific up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community released v1.2.1 before OFED 1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included</a:t>
            </a:r>
            <a:r>
              <a:rPr b="0" lang="en-US" sz="2800" spc="-1" strike="noStrike">
                <a:solidFill>
                  <a:srgbClr val="ff0900"/>
                </a:solidFill>
                <a:latin typeface="Arial"/>
              </a:rPr>
              <a:t> community OMPI v1.2.1 releas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FED v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34120" y="1523880"/>
            <a:ext cx="0" cy="4800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34120" y="2819520"/>
            <a:ext cx="6094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943600" y="3048120"/>
            <a:ext cx="0" cy="32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36280" y="1371600"/>
            <a:ext cx="268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MPI SV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velopment tru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945400" y="2935440"/>
            <a:ext cx="267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1.2 series bra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4114800"/>
            <a:ext cx="6094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480360" y="411480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1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105520" y="5715000"/>
            <a:ext cx="457200" cy="0"/>
          </a:xfrm>
          <a:prstGeom prst="line">
            <a:avLst/>
          </a:prstGeom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943600" y="3581280"/>
            <a:ext cx="152388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41148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171200" y="360684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1.2of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5943240" y="4419720"/>
            <a:ext cx="152388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943600" y="5257800"/>
            <a:ext cx="6094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478560" y="52578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1.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5334120" y="4495680"/>
            <a:ext cx="213336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562720" y="57150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003160" y="552924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ED involv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PI Selecto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-based and CLI comm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vially set system-wide and per-user default MPI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editing of “dot” files necess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lays / select between all installed MPI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with all MPI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ing HP MPI and Intel M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going OFA-related 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flexible OF wireup sche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ous networking scen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QP’s per conn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flexible resource affinity sche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/ core, HCA / 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matic path mi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DMA CM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LMC / multi-LID rou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going OFA-related 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ssage coales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nchronous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it new Mellanox HCA cap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utilization of network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terogene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cast, 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adm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2 series is current s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1.2.1 latest rel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3 series tentatively targeted at end of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point / restart (and other F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with debug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s support (*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PI collectives performance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F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ject: Processor affinity (PLP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ux API for affinity has changed 3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d number and type of arg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same function name (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kernel and glibc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glibc may not match kerne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finity is critical for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with increasing core count per h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ready critical on NUMA machines (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ocality!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API to u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-time solution not suffic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complex “configure” script to figure it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determines glibc API, not kernel API, so it may not even be suffi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help for shipping static binaries (ISV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a run-time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ul Hargrove (LBNL) devised safe kernel pro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PA library bo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PA libr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ant API suitable for IS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SD lic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matically performs the run-time pro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atches to correct back-end kernel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passes gli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ble series: 1.0.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coming series: 1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1.1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ology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 between (socket,core) tuple, hardware threads, CPU node, and Linux processor I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pa-taskset(1) com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as taskset(1), but groks topology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purp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ing / future dir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ject: MPI Testing Tool (MT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ld be named “Middleware Testing Too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little (no?) MPI-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specific to Open M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been used with LAM, MPICH2, MVAPICH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as primary test mechanism for OM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testing by member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 MPI MTT Us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regression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ghtly and weekend ru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e-mailed every weekday mo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s various resource mana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s </a:t>
            </a:r>
            <a:r>
              <a:rPr b="0" lang="en-US" sz="3200" spc="-1" strike="noStrike">
                <a:solidFill>
                  <a:srgbClr val="ff0900"/>
                </a:solidFill>
                <a:latin typeface="Arial"/>
              </a:rPr>
              <a:t>correctness and perform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nerstone of Open MPI relea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member tests the platforms they care ab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5600880" y="1676520"/>
            <a:ext cx="2247840" cy="12189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na U.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4800600" y="3962520"/>
            <a:ext cx="1523880" cy="1066680"/>
            <a:chOff x="4800600" y="3962520"/>
            <a:chExt cx="1523880" cy="1066680"/>
          </a:xfrm>
        </p:grpSpPr>
        <p:sp>
          <p:nvSpPr>
            <p:cNvPr id="168" name=""/>
            <p:cNvSpPr/>
            <p:nvPr/>
          </p:nvSpPr>
          <p:spPr>
            <a:xfrm>
              <a:off x="4800600" y="3962520"/>
              <a:ext cx="1523880" cy="1066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mber si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29200" y="441972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105520" y="4495680"/>
              <a:ext cx="30456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181480" y="457200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257800" y="464832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334120" y="4724280"/>
              <a:ext cx="30456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62720" y="4419720"/>
              <a:ext cx="30456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638680" y="449568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715000" y="457200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791320" y="4648320"/>
              <a:ext cx="30456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67280" y="472428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7162920" y="3962520"/>
            <a:ext cx="1523880" cy="1066680"/>
            <a:chOff x="7162920" y="3962520"/>
            <a:chExt cx="1523880" cy="1066680"/>
          </a:xfrm>
        </p:grpSpPr>
        <p:sp>
          <p:nvSpPr>
            <p:cNvPr id="180" name=""/>
            <p:cNvSpPr/>
            <p:nvPr/>
          </p:nvSpPr>
          <p:spPr>
            <a:xfrm>
              <a:off x="7162920" y="3962520"/>
              <a:ext cx="1523880" cy="1066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mber si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391520" y="441972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467840" y="4495680"/>
              <a:ext cx="30456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543800" y="457200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620120" y="464832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696440" y="4724280"/>
              <a:ext cx="30456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925040" y="4419720"/>
              <a:ext cx="30456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01000" y="449568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077320" y="457200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53640" y="4648320"/>
              <a:ext cx="30456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229600" y="472428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7162920" y="5181480"/>
            <a:ext cx="1523880" cy="1066680"/>
            <a:chOff x="7162920" y="5181480"/>
            <a:chExt cx="1523880" cy="1066680"/>
          </a:xfrm>
        </p:grpSpPr>
        <p:sp>
          <p:nvSpPr>
            <p:cNvPr id="192" name=""/>
            <p:cNvSpPr/>
            <p:nvPr/>
          </p:nvSpPr>
          <p:spPr>
            <a:xfrm>
              <a:off x="7162920" y="5181480"/>
              <a:ext cx="1523880" cy="1066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mber si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391520" y="563868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467840" y="5714640"/>
              <a:ext cx="30456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543800" y="579096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620120" y="586728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696440" y="5943240"/>
              <a:ext cx="30456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5040" y="5638680"/>
              <a:ext cx="30456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001000" y="571464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77320" y="579096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153640" y="5867280"/>
              <a:ext cx="30456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229600" y="594324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4800600" y="5181480"/>
            <a:ext cx="1523880" cy="1066680"/>
            <a:chOff x="4800600" y="5181480"/>
            <a:chExt cx="1523880" cy="1066680"/>
          </a:xfrm>
        </p:grpSpPr>
        <p:sp>
          <p:nvSpPr>
            <p:cNvPr id="204" name=""/>
            <p:cNvSpPr/>
            <p:nvPr/>
          </p:nvSpPr>
          <p:spPr>
            <a:xfrm>
              <a:off x="4800600" y="5181480"/>
              <a:ext cx="1523880" cy="1066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mber si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29200" y="563868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105520" y="5714640"/>
              <a:ext cx="30456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1480" y="579096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257800" y="586728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34120" y="5943240"/>
              <a:ext cx="30456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562720" y="5638680"/>
              <a:ext cx="30456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638680" y="571464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715000" y="579096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91320" y="5867280"/>
              <a:ext cx="30456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67280" y="594324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15" name=""/>
          <p:cNvCxnSpPr>
            <a:stCxn id="166" idx="2"/>
            <a:endCxn id="168" idx="3"/>
          </p:cNvCxnSpPr>
          <p:nvPr/>
        </p:nvCxnSpPr>
        <p:spPr>
          <a:xfrm rot="5400000">
            <a:off x="5724000" y="3495240"/>
            <a:ext cx="1600920" cy="4010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"/>
          <p:cNvCxnSpPr>
            <a:stCxn id="166" idx="2"/>
            <a:endCxn id="180" idx="1"/>
          </p:cNvCxnSpPr>
          <p:nvPr/>
        </p:nvCxnSpPr>
        <p:spPr>
          <a:xfrm flipH="1" rot="16200000">
            <a:off x="6142680" y="3476160"/>
            <a:ext cx="1600920" cy="4388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"/>
          <p:cNvCxnSpPr>
            <a:stCxn id="166" idx="2"/>
            <a:endCxn id="204" idx="3"/>
          </p:cNvCxnSpPr>
          <p:nvPr/>
        </p:nvCxnSpPr>
        <p:spPr>
          <a:xfrm rot="5400000">
            <a:off x="5114160" y="4105080"/>
            <a:ext cx="2820240" cy="4010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"/>
          <p:cNvCxnSpPr>
            <a:stCxn id="166" idx="2"/>
            <a:endCxn id="192" idx="1"/>
          </p:cNvCxnSpPr>
          <p:nvPr/>
        </p:nvCxnSpPr>
        <p:spPr>
          <a:xfrm flipH="1" rot="16200000">
            <a:off x="5533200" y="4086000"/>
            <a:ext cx="2820240" cy="4388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5867280" y="2209680"/>
            <a:ext cx="685800" cy="5335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arb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ightly Regression Tes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ghtly tarballs created at Indiana 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ber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wnload tarball and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ile and run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bers upload results to central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-mail sent at 12 and 24 hour interv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time web quer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5600880" y="1676520"/>
            <a:ext cx="2247840" cy="12189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na U.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4800600" y="3962520"/>
            <a:ext cx="1523880" cy="1066680"/>
            <a:chOff x="4800600" y="3962520"/>
            <a:chExt cx="1523880" cy="1066680"/>
          </a:xfrm>
        </p:grpSpPr>
        <p:sp>
          <p:nvSpPr>
            <p:cNvPr id="224" name=""/>
            <p:cNvSpPr/>
            <p:nvPr/>
          </p:nvSpPr>
          <p:spPr>
            <a:xfrm>
              <a:off x="4800600" y="3962520"/>
              <a:ext cx="1523880" cy="1066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mber si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029200" y="441972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105520" y="4495680"/>
              <a:ext cx="30456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181480" y="457200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257800" y="464832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334120" y="4724280"/>
              <a:ext cx="30456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562720" y="4419720"/>
              <a:ext cx="30456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638680" y="449568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715000" y="457200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791320" y="4648320"/>
              <a:ext cx="30456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867280" y="472428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7162920" y="3962520"/>
            <a:ext cx="1523880" cy="1066680"/>
            <a:chOff x="7162920" y="3962520"/>
            <a:chExt cx="1523880" cy="1066680"/>
          </a:xfrm>
        </p:grpSpPr>
        <p:sp>
          <p:nvSpPr>
            <p:cNvPr id="236" name=""/>
            <p:cNvSpPr/>
            <p:nvPr/>
          </p:nvSpPr>
          <p:spPr>
            <a:xfrm>
              <a:off x="7162920" y="3962520"/>
              <a:ext cx="1523880" cy="1066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mber si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391520" y="441972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467840" y="4495680"/>
              <a:ext cx="30456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543800" y="457200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620120" y="464832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696440" y="4724280"/>
              <a:ext cx="30456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925040" y="4419720"/>
              <a:ext cx="30456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001000" y="449568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077320" y="457200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153640" y="4648320"/>
              <a:ext cx="30456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29600" y="472428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7162920" y="5181480"/>
            <a:ext cx="1523880" cy="1066680"/>
            <a:chOff x="7162920" y="5181480"/>
            <a:chExt cx="1523880" cy="1066680"/>
          </a:xfrm>
        </p:grpSpPr>
        <p:sp>
          <p:nvSpPr>
            <p:cNvPr id="248" name=""/>
            <p:cNvSpPr/>
            <p:nvPr/>
          </p:nvSpPr>
          <p:spPr>
            <a:xfrm>
              <a:off x="7162920" y="5181480"/>
              <a:ext cx="1523880" cy="1066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mber si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391520" y="563868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467840" y="5714640"/>
              <a:ext cx="30456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543800" y="579096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620120" y="586728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696440" y="5943240"/>
              <a:ext cx="30456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925040" y="5638680"/>
              <a:ext cx="30456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001000" y="571464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077320" y="579096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153640" y="5867280"/>
              <a:ext cx="30456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229600" y="594324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4800600" y="5181480"/>
            <a:ext cx="1523880" cy="1066680"/>
            <a:chOff x="4800600" y="5181480"/>
            <a:chExt cx="1523880" cy="1066680"/>
          </a:xfrm>
        </p:grpSpPr>
        <p:sp>
          <p:nvSpPr>
            <p:cNvPr id="260" name=""/>
            <p:cNvSpPr/>
            <p:nvPr/>
          </p:nvSpPr>
          <p:spPr>
            <a:xfrm>
              <a:off x="4800600" y="5181480"/>
              <a:ext cx="1523880" cy="1066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mber si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29200" y="563868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105520" y="5714640"/>
              <a:ext cx="30456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181480" y="579096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257800" y="586728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34120" y="5943240"/>
              <a:ext cx="30456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562720" y="5638680"/>
              <a:ext cx="30456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638680" y="571464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715000" y="579096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791320" y="5867280"/>
              <a:ext cx="30456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867280" y="594324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22" idx="2"/>
            <a:endCxn id="224" idx="3"/>
          </p:cNvCxnSpPr>
          <p:nvPr/>
        </p:nvCxnSpPr>
        <p:spPr>
          <a:xfrm rot="5400000">
            <a:off x="5724000" y="3495240"/>
            <a:ext cx="1600920" cy="401040"/>
          </a:xfrm>
          <a:prstGeom prst="curvedConnector2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72" name=""/>
          <p:cNvCxnSpPr>
            <a:stCxn id="222" idx="2"/>
            <a:endCxn id="236" idx="1"/>
          </p:cNvCxnSpPr>
          <p:nvPr/>
        </p:nvCxnSpPr>
        <p:spPr>
          <a:xfrm flipH="1" rot="16200000">
            <a:off x="6142680" y="3476160"/>
            <a:ext cx="1600920" cy="438840"/>
          </a:xfrm>
          <a:prstGeom prst="curvedConnector2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73" name=""/>
          <p:cNvCxnSpPr>
            <a:stCxn id="222" idx="2"/>
            <a:endCxn id="260" idx="3"/>
          </p:cNvCxnSpPr>
          <p:nvPr/>
        </p:nvCxnSpPr>
        <p:spPr>
          <a:xfrm rot="5400000">
            <a:off x="5114160" y="4105080"/>
            <a:ext cx="2820240" cy="401040"/>
          </a:xfrm>
          <a:prstGeom prst="curvedConnector2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74" name=""/>
          <p:cNvCxnSpPr>
            <a:stCxn id="222" idx="2"/>
            <a:endCxn id="248" idx="1"/>
          </p:cNvCxnSpPr>
          <p:nvPr/>
        </p:nvCxnSpPr>
        <p:spPr>
          <a:xfrm flipH="1" rot="16200000">
            <a:off x="5533200" y="4086000"/>
            <a:ext cx="2820240" cy="438840"/>
          </a:xfrm>
          <a:prstGeom prst="curvedConnector2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5867280" y="2209680"/>
            <a:ext cx="685800" cy="5335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arb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934320" y="2133720"/>
            <a:ext cx="533160" cy="609480"/>
          </a:xfrm>
          <a:prstGeom prst="can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ightly Regression Tes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ghtly tarballs created at Indiana 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ber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wnload tarball and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ile and run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bers upload results to central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-mail sent at 12 and 24 hour interv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time web quer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5600880" y="1676520"/>
            <a:ext cx="2247840" cy="12189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na U.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867280" y="2209680"/>
            <a:ext cx="685800" cy="5335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arb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934320" y="2133720"/>
            <a:ext cx="533160" cy="609480"/>
          </a:xfrm>
          <a:prstGeom prst="can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" name=""/>
          <p:cNvCxnSpPr>
            <a:stCxn id="279" idx="2"/>
            <a:endCxn id="283" idx="0"/>
          </p:cNvCxnSpPr>
          <p:nvPr/>
        </p:nvCxnSpPr>
        <p:spPr>
          <a:xfrm flipH="1" rot="16200000">
            <a:off x="6524640" y="3095280"/>
            <a:ext cx="1372320" cy="972000"/>
          </a:xfrm>
          <a:prstGeom prst="curvedConnector5">
            <a:avLst>
              <a:gd name="adj1" fmla="val 49986"/>
              <a:gd name="adj2" fmla="val 49981"/>
              <a:gd name="adj3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4" name=""/>
          <p:cNvCxnSpPr>
            <a:stCxn id="279" idx="2"/>
            <a:endCxn id="285" idx="0"/>
          </p:cNvCxnSpPr>
          <p:nvPr/>
        </p:nvCxnSpPr>
        <p:spPr>
          <a:xfrm rot="5400000">
            <a:off x="5819400" y="2676240"/>
            <a:ext cx="686520" cy="1124640"/>
          </a:xfrm>
          <a:prstGeom prst="curvedConnector5">
            <a:avLst>
              <a:gd name="adj1" fmla="val 50000"/>
              <a:gd name="adj2" fmla="val 49983"/>
              <a:gd name="adj3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ightly Regression Tes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ghtly tarballs created at Indiana 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ber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wnload tarball and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ile and run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bers upload results to central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-mail sent at 12 and 24 hour interv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time web quer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6477120" y="4267080"/>
            <a:ext cx="2438280" cy="148428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4419720" y="3581280"/>
            <a:ext cx="2361960" cy="13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age in Open MP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available to all OMPI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“encourage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-mail results examined every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 and 24 hour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ekend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TT software to be released publicly later this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pen MPI Proj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than just M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rned with real-world H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e join u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 OpenFabrics support is cri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unanswered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nty of room for academic and industry ongoing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304920" y="2057400"/>
            <a:ext cx="8534160" cy="4114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304920" y="51051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ttp://www.open-mpi.org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181320" y="2192400"/>
            <a:ext cx="2781360" cy="27604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09480" y="2057400"/>
            <a:ext cx="8001000" cy="40384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es Open MPI ex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80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iz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PI expert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/ acad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talize on [literally] years of MPI research and implementation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um is greater than the p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181480" y="2209680"/>
            <a:ext cx="3399120" cy="3429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412600" y="327672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earch 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ade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241040" y="403848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u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separate from M[VA]PI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, inclusive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limited to just Open Fabr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: TCP, shared memory, OFED* (MVAPICH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PI-specific: Myrinet, Portals, Infini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[VA]PICH have different project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both chose to remain sepa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rrent membersh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 members, 6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US DOE la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univers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 vend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individ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029200" y="4267080"/>
            <a:ext cx="1442880" cy="3574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619440" y="3098880"/>
            <a:ext cx="1638360" cy="863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6172200" y="5715000"/>
            <a:ext cx="1828800" cy="4888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3581280" y="2209680"/>
            <a:ext cx="1524240" cy="5558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380880" y="5029200"/>
            <a:ext cx="1671840" cy="10587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5715000" y="31240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7"/>
          <a:stretch/>
        </p:blipFill>
        <p:spPr>
          <a:xfrm>
            <a:off x="533520" y="4267080"/>
            <a:ext cx="1498320" cy="6987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8"/>
          <a:stretch/>
        </p:blipFill>
        <p:spPr>
          <a:xfrm>
            <a:off x="2514600" y="4952880"/>
            <a:ext cx="1227240" cy="9414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9"/>
          <a:stretch/>
        </p:blipFill>
        <p:spPr>
          <a:xfrm>
            <a:off x="2362320" y="4419720"/>
            <a:ext cx="1398600" cy="384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0"/>
          <a:stretch/>
        </p:blipFill>
        <p:spPr>
          <a:xfrm>
            <a:off x="5105520" y="2133720"/>
            <a:ext cx="1765080" cy="901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1"/>
          <a:stretch/>
        </p:blipFill>
        <p:spPr>
          <a:xfrm>
            <a:off x="3962520" y="5105520"/>
            <a:ext cx="1388880" cy="8064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2"/>
          <a:stretch/>
        </p:blipFill>
        <p:spPr>
          <a:xfrm>
            <a:off x="3927600" y="4267080"/>
            <a:ext cx="1287360" cy="5018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3"/>
          <a:stretch/>
        </p:blipFill>
        <p:spPr>
          <a:xfrm>
            <a:off x="5410080" y="4952880"/>
            <a:ext cx="1524240" cy="762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4"/>
          <a:stretch/>
        </p:blipFill>
        <p:spPr>
          <a:xfrm>
            <a:off x="7010280" y="5105520"/>
            <a:ext cx="1524240" cy="4269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5"/>
          <a:stretch/>
        </p:blipFill>
        <p:spPr>
          <a:xfrm>
            <a:off x="7010280" y="2857680"/>
            <a:ext cx="184176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6"/>
          <a:stretch/>
        </p:blipFill>
        <p:spPr>
          <a:xfrm>
            <a:off x="7086600" y="1752480"/>
            <a:ext cx="1523880" cy="898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7"/>
          <a:stretch/>
        </p:blipFill>
        <p:spPr>
          <a:xfrm>
            <a:off x="7924680" y="3657600"/>
            <a:ext cx="779760" cy="10303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8"/>
          <a:stretch/>
        </p:blipFill>
        <p:spPr>
          <a:xfrm>
            <a:off x="6477120" y="3733920"/>
            <a:ext cx="1504800" cy="86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-so-subtle h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love to see an iWARP vendor in the li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lease come talk to me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rrent pro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MPI Project” is an umbrella organization for multiple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PI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M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TE:Open Run-Time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P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able Linux Processor Affi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T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PI (Middleware) Testing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ject: Open MPI / OR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ntly released new 1.2 s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-related changes compared to v1.1 s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er overall performance, lots of bug fi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ments for run-time/launch scal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ocate installed MPI (good for ISV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fork() with OFED 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ixed limits for registere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s for heterogeneous network enviro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ve InfiniPath supp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rsion hi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43040" y="1523880"/>
            <a:ext cx="765792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2T20:45:04Z</dcterms:created>
  <dc:creator>Gabriela</dc:creator>
  <dc:description/>
  <dc:language>en-US</dc:language>
  <cp:lastModifiedBy>Jeff Squyres</cp:lastModifiedBy>
  <dcterms:modified xsi:type="dcterms:W3CDTF">2007-04-30T19:35:12Z</dcterms:modified>
  <cp:revision>145</cp:revision>
  <dc:subject/>
  <dc:title>Slide 1</dc:title>
</cp:coreProperties>
</file>