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D497-828E-40D1-9C87-69D335AF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D5CC-1F05-49FF-BDB4-6020918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3F75-1F7B-44AD-BF9D-896A1801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4107-CBC2-426C-81E6-D408D3AF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097C-2230-4611-861D-580CACF3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BBEA-823B-4A08-98A8-28C9D1C3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8055-582F-4799-B2E9-4C85CA18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AA5D-8C44-4C1C-BA1F-5683318B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560A-E807-49AB-A08D-C94AA04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B439-25F7-46F1-A450-B31DFA2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39A9-345D-4686-AF99-3C5165F5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E911-581D-4804-B9C1-3D65FB72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7AB0-86F5-4884-921A-F3FBE10DEA46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977-62E6-4A83-810E-653AE5B09D2D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RDMA@HP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teve Langdon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HP Fellow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High Performance Computing Chief Technologist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onverged” or “Unified” Fabric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has the infrastructure in place and can work with advanced customers now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uster file system usage with the (Lustre based) HP SFS product is well establish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barrier to broader adoption is software availability and matur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is opposed to developing this market based on switch vendor proprietary software stack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FED 1.2 should help, but more work (and experience) will be neede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6C3E-976A-499E-87B2-CCCC63887B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B08EA37-9E40-47E1-A397-008032233F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osing thoughts – a cliché based approach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igh speed fabrics with RDMA support are “crossing the chasm” from HPC to commercial scale-out computing (with apologies to Geoffrey Moore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need to remember that, “It’s the software stupid” (with apologies to James Carville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Ethernet based alternatives are “not your father’s Ethernet” (with apologies to a defunct GM division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ronically the Infiniband based ecosystem has had more RDMA maturation tim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AADE-547C-4C63-AF57-5BA979BB4EE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C629094-C61C-43F2-9A75-0C230B364EE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nt of this presentation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cuss HP’s philosophy in the RDMA fabric spa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mmarize RDMA enablement and experience in HP’s product lin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Keep the presentation short to leave time for Q&amp;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0381-8842-4795-A50F-7785CF172B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0EA9C0-2968-45F8-AF55-092A7C99AB5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istorical Perspectiv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has experience with RDMA enabled fabrics that dates back to the ’90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emory Channel, Quadrics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was a significant participant in the definition of both Infiniband and iWarp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eople like Dwight Barron and Mike Kraus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ur experience with file system use of “converged” or “unified” fabrics is also substanti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lphaServer SC since the ’90s, Lustre since ‘0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66E5-7880-4CC9-AFFF-0D732A644F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FC4C53-E03F-4980-9EB7-CEDC83328F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C has been the proving groun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move to clusters in HPC has been a driving for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 has been a major beneficiary of this mark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(or even plain 10 GbE) has not really been a player as a cluster interconnec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2EC2-35A4-41D0-B255-5EF384BB9C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009571-AF88-4669-9E51-FDB2410C29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e Leveraged Model for HPC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840" y="1447560"/>
            <a:ext cx="3502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e high-end drives HPC innovati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architectures: NUMA &amp; cluster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interconnects: IB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software development: MPI, UPC, SHME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Cluster/parallel file system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Cluster and resource management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72240" y="1447560"/>
            <a:ext cx="3163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Volume economics drives the marke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Rapid technical evolution of high-volume components and system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rocessors driven by PCs, GPUs by gam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Volume drives ecosystem developmen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pplications, development tools, etc.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Volume drives cost reducti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479760" y="1203480"/>
            <a:ext cx="2431800" cy="4627440"/>
            <a:chOff x="3479760" y="1203480"/>
            <a:chExt cx="2431800" cy="4627440"/>
          </a:xfrm>
        </p:grpSpPr>
        <p:sp>
          <p:nvSpPr>
            <p:cNvPr id="97" name=""/>
            <p:cNvSpPr/>
            <p:nvPr/>
          </p:nvSpPr>
          <p:spPr>
            <a:xfrm>
              <a:off x="3479760" y="1203480"/>
              <a:ext cx="2431800" cy="4627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3800" y="4565520"/>
              <a:ext cx="168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Department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and Workgroup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36040" y="1778040"/>
              <a:ext cx="111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apability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681280"/>
              <a:ext cx="1162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nterpri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Divisional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V="1">
            <a:off x="195120" y="5798160"/>
            <a:ext cx="8948880" cy="463320"/>
          </a:xfrm>
          <a:custGeom>
            <a:avLst/>
            <a:gdLst>
              <a:gd name="textAreaLeft" fmla="*/ 1219680 w 8948880"/>
              <a:gd name="textAreaRight" fmla="*/ 7729200 w 8948880"/>
              <a:gd name="textAreaTop" fmla="*/ 63000 h 463320"/>
              <a:gd name="textAreaBottom" fmla="*/ 40032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50" y="21600"/>
                </a:lnTo>
                <a:lnTo>
                  <a:pt x="2150" y="21600"/>
                </a:lnTo>
                <a:close/>
              </a:path>
            </a:pathLst>
          </a:custGeom>
          <a:solidFill>
            <a:srgbClr val="cbc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Commercial Server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"/>
          <p:cNvSpPr/>
          <p:nvPr/>
        </p:nvSpPr>
        <p:spPr>
          <a:xfrm>
            <a:off x="243000" y="6224040"/>
            <a:ext cx="8901000" cy="70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3" name=""/>
          <p:cNvSpPr/>
          <p:nvPr/>
        </p:nvSpPr>
        <p:spPr>
          <a:xfrm>
            <a:off x="4429440" y="63738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50640" y="1652760"/>
            <a:ext cx="2308680" cy="5073120"/>
            <a:chOff x="2150640" y="1652760"/>
            <a:chExt cx="2308680" cy="5073120"/>
          </a:xfrm>
        </p:grpSpPr>
        <p:sp>
          <p:nvSpPr>
            <p:cNvPr id="105" name=""/>
            <p:cNvSpPr/>
            <p:nvPr/>
          </p:nvSpPr>
          <p:spPr>
            <a:xfrm rot="17143200">
              <a:off x="2778840" y="2464920"/>
              <a:ext cx="19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e7dde"/>
                  </a:solidFill>
                  <a:latin typeface="Futura Hv"/>
                </a:rPr>
                <a:t>New Technology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49400">
              <a:off x="4070160" y="2057400"/>
              <a:ext cx="312480" cy="743040"/>
            </a:xfrm>
            <a:custGeom>
              <a:avLst/>
              <a:gdLst>
                <a:gd name="textAreaLeft" fmla="*/ 41760 w 312480"/>
                <a:gd name="textAreaRight" fmla="*/ 270720 w 31248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49400">
              <a:off x="3781080" y="314316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49400">
              <a:off x="3472920" y="430380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49400">
              <a:off x="3201480" y="534816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749400">
              <a:off x="2226960" y="595800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888080" y="1633680"/>
            <a:ext cx="2440440" cy="5024520"/>
            <a:chOff x="4888080" y="1633680"/>
            <a:chExt cx="2440440" cy="5024520"/>
          </a:xfrm>
        </p:grpSpPr>
        <p:sp>
          <p:nvSpPr>
            <p:cNvPr id="112" name=""/>
            <p:cNvSpPr/>
            <p:nvPr/>
          </p:nvSpPr>
          <p:spPr>
            <a:xfrm rot="4423800">
              <a:off x="4505400" y="2560320"/>
              <a:ext cx="22075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2e43"/>
                  </a:solidFill>
                  <a:latin typeface="Futura Hv"/>
                </a:rPr>
                <a:t>Volume Economics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825000">
              <a:off x="4985640" y="198072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825000">
              <a:off x="5280840" y="305532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825000">
              <a:off x="5566680" y="420948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825000">
              <a:off x="5839560" y="525420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9825000">
              <a:off x="6918120" y="5886000"/>
              <a:ext cx="312480" cy="743040"/>
            </a:xfrm>
            <a:custGeom>
              <a:avLst/>
              <a:gdLst>
                <a:gd name="textAreaLeft" fmla="*/ 41760 w 312480"/>
                <a:gd name="textAreaRight" fmla="*/ 270720 w 31248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2095-4CC0-48C7-BFF9-F54545C50D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710073-07CE-4152-811F-6403BB5F72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Guiding Principl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re is never one fabric that satisfies everyon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 general products need to allow choice, although there is a place for fabric specific optimization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supports open industry standard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oday, in Fabric terms, that means Infiniband and iWarp enhanced Etherne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software ecosystem is critic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Which is why HP is an OFA memb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F908-0073-4F3D-A7A6-B72EDFA936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116802-84D6-4C21-81CE-5258F0DF402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urrent HP Hardware offering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Rack mounted Proliant and Integrity serv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ull range of single and dual port SDR and DDR HCA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Blad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ngle port DDR mezzanine today, dual port coming soon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bE RNIC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liant rack mount servers support a single port 10 Gb RNIC with plans for iWarp suppor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dditional alternatives planned for Blades, Integrity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variety of IB and Ethernet switches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0F9B-8895-4FB7-A126-8015F77886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FD84F68-FC80-4559-A7E7-F24C4E18C8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  <a:ea typeface="宋体"/>
              </a:rPr>
              <a:t>HP 4X DDR IB Switch Modu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2800" y="1090080"/>
            <a:ext cx="478152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960Gb/sec total switching bandwidth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ully non-blocking Fabric Switch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16 4X DDR down links connecting blade serv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8 External 4X DDR ports for scale ou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ultiple switches supported in a c7000 enclosu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ggregate bandwidth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"/>
          <p:cNvSpPr/>
          <p:nvPr/>
        </p:nvSpPr>
        <p:spPr>
          <a:xfrm>
            <a:off x="5281560" y="123840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62f"/>
                </a:solidFill>
                <a:latin typeface="Arial"/>
                <a:ea typeface="Arial"/>
              </a:rPr>
              <a:t>World First 4X DDR IB Switch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62f"/>
                </a:solidFill>
                <a:latin typeface="Arial"/>
                <a:ea typeface="Arial"/>
              </a:rPr>
              <a:t>for Blade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46560" y="1857240"/>
            <a:ext cx="3664080" cy="714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2304" t="7863" r="4101" b="13002"/>
          <a:stretch/>
        </p:blipFill>
        <p:spPr>
          <a:xfrm>
            <a:off x="5214960" y="2676600"/>
            <a:ext cx="3672000" cy="35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B0A6-0DBC-494B-9707-E22F4AB02E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B9A376C-A772-44F4-83B7-CE1CACD247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urrent HP Software offering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egacy “gen1” stacks from Voltaire and Cisco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atest releases of XC clusters and SFS (Lustre) file system offerings just migrated to OFED 1.1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Native IB support implemented for a couple of yea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NIC support plann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B support  based on Voltaire supplied drivers (IBAL and Winsock direct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-M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upports a range of RDMA fabrics and SW stacks including OFED 1.1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E24C-310F-4536-B1D3-B18880D259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A8C49ED-2307-44FF-B4F6-18B75C89590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4:00:00Z</dcterms:created>
  <dc:creator/>
  <dc:description/>
  <cp:keywords/>
  <dc:language>en-US</dc:language>
  <cp:lastModifiedBy/>
  <dcterms:modified xsi:type="dcterms:W3CDTF">2007-04-30T03:24:45Z</dcterms:modified>
  <cp:revision>2</cp:revision>
  <dc:subject/>
  <dc:title>RDMA@HP</dc:title>
</cp:coreProperties>
</file>