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F51-310F-4782-B1C8-65C08C72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310-42A5-4364-95B8-6E885EA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067-CEB9-4169-B959-692E4A88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A0D-492B-4196-BA59-4F2795F3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16B-4EA4-4B05-A656-1EDC8E1F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7E3-91BD-4F25-A80D-58E49A8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1CCF-793D-4EB7-8580-CBF90A90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203E-6F40-4BD3-9C3F-4EB7A34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12E7-49A6-424D-AFB1-52CCEE8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B0D8-4943-4179-B739-E5BB9D8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A6C0-C1E4-4242-8F37-0044684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284-F75B-48A2-9535-4B698F5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2C6-76C1-4BA4-A3C0-76D1A11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292D-1013-40E4-B980-8EAB875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24F9-8181-419A-82E7-C6A36F3E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1DE2-DEC1-4212-9D97-B216190C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ABFD-F82F-4026-AD00-435D7989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C81-01C5-4CE2-8F49-0364F7F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FD7-29B6-4BEC-BE84-3BE761A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C5A-1207-4DC1-B5BD-2B7838C6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57E-DA1C-4600-B4D9-0A8B6A7D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9BF-3F97-4886-AC3C-66977FF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794-002B-49D5-8597-8F80D6E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805-01CC-4308-A4A4-573DECD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noma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5DC-0E50-4590-BE0A-872A91A64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0960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i="1" lang="en-US" sz="4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649-F7B4-40D5-A301-10DCAF50F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 Integrators View of Cluster 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rn Systems are an aggregation of components from multiple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ystem Integrator provides the customer with a single point of contact with the responsibility for the on time delivery and performance for the entire syste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ystem Integrator passes on as much risk as possible to component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 Integrator still retains the overall responsibility to the customer for the on-time delivery and performance of the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Integrators Ro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Vendors are also integrators for Infiniband and Gb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mputer vendors don’t manufacturer all of the interconnect compon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y need the same tools as an integrator to configure, install, test, and operate network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Vendors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FP - Defines the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al - Design that addresses th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and 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 ( Generate Topology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Verification Tools ( Use Topology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ptanc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onitoring and Failure Detec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Isol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Life Cyc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support for more flexible topolo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R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ive 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han Fat-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Networ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3:46:17Z</dcterms:created>
  <dc:creator>James Ballew</dc:creator>
  <dc:description/>
  <dc:language>en-US</dc:language>
  <cp:lastModifiedBy>James Ballew</cp:lastModifiedBy>
  <dcterms:modified xsi:type="dcterms:W3CDTF">2007-05-01T21:08:44Z</dcterms:modified>
  <cp:revision>5</cp:revision>
  <dc:subject/>
  <dc:title>Slide 1</dc:title>
</cp:coreProperties>
</file>