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5445CC-E47D-4CAF-8633-5CF807629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FED presentation, not just 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81160" y="696960"/>
            <a:ext cx="4648320" cy="3486240"/>
          </a:xfrm>
          <a:prstGeom prst="rect">
            <a:avLst/>
          </a:prstGeom>
          <a:ln w="0">
            <a:noFill/>
          </a:ln>
        </p:spPr>
      </p:sp>
      <p:sp>
        <p:nvSpPr>
          <p:cNvPr id="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Bypass is the key to controlling latency and supporting high transaction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DP, User space multicast, SDP/WS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PI is nice for HPC, but not used by many commercial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nsider polling; with multi-socket multi-core CPUs you can afford to burn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ed la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ust bound jitter, even under heavy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hat the jitter bounds are, is less important than knowing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 attached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asily supports 1200 MB/sec per-HCA (dual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2 HCAs provide 2400 MB/sec; 3 HCAs start to hit other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DR is good for HA; one port can handle full data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heap 2U-3U SRP (and iSER) targets support 300 MB/sec random IO with RAID-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urrent Multicast performance is 1,500,000 1500 byte frames/seco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target the IT guys.  They own the environment you will be installing into.  They are responsible for HA, security, and managing the environment.  They know Ethernet and maybe FC.  They do not know 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GigE + iWARP + RNICs along with the appropriate switching fabric is a much easier sell into many commercial accounts.  Having IB available for top end performance and lowest cost is a good story, but OFED is the key to selling to the IT gu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 to be tested.  Cables will be pulled.  Nodes, switches, bridges (FC and Ethernet), and storage will be unplugged.  Your HA must be H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customers will not get locked into one vendor long te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vendor requires the customer to use their IB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ack must not depend on vendor 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ack must interoperate with other vendor s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ack must interoperate with O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B stacks like IP stacks.  If you must create, test, support, and ship your own stack for some reason, you must assume (and test) that your stack interoperates with other subnet managers and stacks.  At a minimum this means O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H and certification is important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81160" y="696960"/>
            <a:ext cx="4648320" cy="3486240"/>
          </a:xfrm>
          <a:prstGeom prst="rect">
            <a:avLst/>
          </a:prstGeom>
          <a:ln w="0">
            <a:noFill/>
          </a:ln>
        </p:spPr>
      </p:sp>
      <p:sp>
        <p:nvSpPr>
          <p:cNvPr id="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industry, we need to focus on seamless integration of IB and existing infrastructures.  High port count DDR IB switches are useful and required, but commercial customers do want to see them, manage them, or even know they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customers care about cheap, high performance, low and bounded latency access to their existing data and infrastructure.  They want to perform more of the same tasks tomorrow that they do today but faster, cheaper, and with higher reliability.  They do NOT want to manage a new fabric.  They will not sacrific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needs to be measured using industry (and customer…) specific benchmark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plans and regression buckets are as important a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includes BIOS extensions and stack support.  Windows is importa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s must provide HA, management AP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evices (Linux appliances?) would be a good way to provide, an interoperability target, and establish management APIs.  Vendors are then free to create value add devices that are differentiated on price, performance, features/functions, HA,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B5823-651F-4922-A16C-F3FD0AF00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38D45-5580-435F-95DC-BDDB95571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21147-12DA-41D4-8FF6-421567BF8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7719A-3FD9-482A-972B-F685E86F0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0EF21-8834-4E4C-A88D-62DB0928D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0D0C7-78ED-4B76-8F09-27C8D1A86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3A003-6F84-4A0B-9E66-D96710F2B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87845-6E8A-4146-8A32-E9A4D39BD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C02AD-9DC1-4C28-A6E1-F3FBDE24A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AD2BA-E317-4DD2-A8BB-DD1730A8B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60494-5563-456D-B0FA-6AF7D3208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27CCD-7ED0-4249-966B-D5BF0EB44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noma 2007 Session No.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A256-8808-4505-95D5-FAECF3E518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543800" y="155520"/>
            <a:ext cx="1523880" cy="1381320"/>
          </a:xfrm>
          <a:prstGeom prst="rect">
            <a:avLst/>
          </a:prstGeom>
          <a:ln w="0">
            <a:noFill/>
          </a:ln>
        </p:spPr>
      </p:pic>
      <p:sp>
        <p:nvSpPr>
          <p:cNvPr id="6" name=""/>
          <p:cNvSpPr/>
          <p:nvPr/>
        </p:nvSpPr>
        <p:spPr>
          <a:xfrm>
            <a:off x="457200" y="1438200"/>
            <a:ext cx="6861240" cy="68400"/>
          </a:xfrm>
          <a:prstGeom prst="rect">
            <a:avLst/>
          </a:prstGeom>
          <a:gradFill rotWithShape="0">
            <a:gsLst>
              <a:gs pos="0">
                <a:srgbClr val="0000ff"/>
              </a:gs>
              <a:gs pos="100000">
                <a:srgbClr val="000000"/>
              </a:gs>
            </a:gsLst>
            <a:lin ang="10800000"/>
          </a:gra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pic>
        <p:nvPicPr>
          <p:cNvPr id="7" name="" descr=""/>
          <p:cNvPicPr/>
          <p:nvPr/>
        </p:nvPicPr>
        <p:blipFill>
          <a:blip r:embed="rId3"/>
          <a:stretch/>
        </p:blipFill>
        <p:spPr>
          <a:xfrm>
            <a:off x="488880" y="5967360"/>
            <a:ext cx="922320" cy="3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Experiences</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from Financial and Database Enterprise Custo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 Requirements</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Ser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handle 300,000+ Messages/Seco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guarantee bounded lat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ssure up tim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feed modern multi-socket multi-core CP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configure for bounded transaction ti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ssure up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t>
            </a:r>
            <a:endParaRPr b="0" lang="en-US" sz="4400" spc="-1" strike="noStrike">
              <a:solidFill>
                <a:srgbClr val="000000"/>
              </a:solidFill>
              <a:latin typeface="Arial"/>
            </a:endParaRPr>
          </a:p>
        </p:txBody>
      </p:sp>
      <p:sp>
        <p:nvSpPr>
          <p:cNvPr id="56" name="PlaceHolder 2"/>
          <p:cNvSpPr>
            <a:spLocks noGrp="1"/>
          </p:cNvSpPr>
          <p:nvPr>
            <p:ph/>
          </p:nvPr>
        </p:nvSpPr>
        <p:spPr>
          <a:xfrm>
            <a:off x="469800" y="1498680"/>
            <a:ext cx="8229600" cy="4564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vail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ngle point of failure as a starting poi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and driver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 hardwar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a “unit” is internally HA (IT group requiremen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stic performanc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rovide a scaling model</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rrors must be detected, reported, and handled.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ED must not introduce any new security issu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 management must be transpar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casual tracing / sniffing for SDR, DDR, QD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tlight OFE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 is not a selling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ody wants another fabri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supports IB and 10Gig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lov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s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bilit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ha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management or monitoring softwa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wir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OFED IB Provid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O fabr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provides access to I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Direct attach and through FC)</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oIB is nice (reduces wires), but GigE and 10 GigE is more comfortab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2, and 4 GB/sec with 1.2 uS ping tim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ED Enhancemen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vail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sting of HA IPoIB and SR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ath ordering or limiting by S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 alternate path suppor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Bypa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user space multica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 and make use of multiple cores (poll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eat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oIB offload exploi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ization (Xen, VMWare,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GigE and FCoIB support on new Silic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boot support (PXE, Int13, Linux, Window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ED Manageme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is APIs to integrate fabric management into existing framework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tandalone management code for unit tes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 SM/SA management enhance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APIs to feed policy and policy exi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tion membership, 3</a:t>
            </a:r>
            <a:r>
              <a:rPr b="0" lang="en-US" sz="1600" spc="-1" strike="noStrike" baseline="30000">
                <a:solidFill>
                  <a:srgbClr val="000000"/>
                </a:solidFill>
                <a:latin typeface="Arial"/>
              </a:rPr>
              <a:t>rd</a:t>
            </a:r>
            <a:r>
              <a:rPr b="0" lang="en-US" sz="1600" spc="-1" strike="noStrike">
                <a:solidFill>
                  <a:srgbClr val="000000"/>
                </a:solidFill>
                <a:latin typeface="Arial"/>
              </a:rPr>
              <a:t> party policy exit IPC, etc.</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exits” or “plug-in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tion membership, path ordering, SDR/DDR/QDR management, node/port setup profiles, etc.</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fabric diagnostics and alert managemen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y topology, rates, link widths, et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counters to detect path errors and flaky hardwa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reporting with existing framework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MP, CIM, etc.</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device management API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devices (next page), management APIs, and example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ED Devic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distance and administrative control separat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network monitoring too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thereal for IB”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 to Ethernet Bridg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datacenter integr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LANs/Partitions, LACP, IGMP snooping, etc.</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Bridg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storage, iSCSI, and FC bridg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Partition support, LUN masking, etc.</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6:53:02Z</dcterms:created>
  <dc:creator>Jim Mott</dc:creator>
  <dc:description/>
  <dc:language>en-US</dc:language>
  <cp:lastModifiedBy> Jim Mott</cp:lastModifiedBy>
  <dcterms:modified xsi:type="dcterms:W3CDTF">2007-04-30T04:38:17Z</dcterms:modified>
  <cp:revision>23</cp:revision>
  <dc:subject>Sonoma Workshop 4/30/07</dc:subject>
  <dc:title>Enterprise Requirements for OFED Adoption</dc:title>
</cp:coreProperties>
</file>