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B26C-BE20-4299-B58B-39A598B48557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IWG Pan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ady Kanev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Ap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stinguished p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t Mehta - 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Brean –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t Krig – Mellan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german - Net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sk your Question!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urrent LOGO program and interop testing sufficient for the users? And how can it be impr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ULP inter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ocess should we put in place to ensure upgrading the interop tests with OFED improvements/addi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RDS, connection mode IPOIB, iWARP S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ill we see non-OFA based servers at IWG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 Questions cont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time frame for the event is not enough, what are the pl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S/Arch Interoper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test plan for a single vendor coming to UN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NetApp</cp:lastModifiedBy>
  <dcterms:modified xsi:type="dcterms:W3CDTF">2007-05-01T00:51:09Z</dcterms:modified>
  <cp:revision>69</cp:revision>
  <dc:subject/>
  <dc:title>Slide 1</dc:title>
</cp:coreProperties>
</file>