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48E2-C3BB-47B0-A0FC-B1B72F6C09E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eteffect.com/" TargetMode="External"/><Relationship Id="rId2" Type="http://schemas.openxmlformats.org/officeDocument/2006/relationships/hyperlink" Target="http://www.iol.unh.edu/consortiums/iwarp" TargetMode="External"/><Relationship Id="rId3" Type="http://schemas.openxmlformats.org/officeDocument/2006/relationships/hyperlink" Target="mailto:iwarplab@iol.unh.edu" TargetMode="External"/><Relationship Id="rId4" Type="http://schemas.openxmlformats.org/officeDocument/2006/relationships/hyperlink" Target="http://www.openfabrics.org/" TargetMode="External"/><Relationship Id="rId5" Type="http://schemas.openxmlformats.org/officeDocument/2006/relationships/hyperlink" Target="http://www.rdmaconsortium.org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OFED Interoperability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6160" y="5105520"/>
            <a:ext cx="56386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30, 2007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oma Workshop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 Gb iWARP Ethernet Infra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ed CX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in place for powered CX4 – up to 10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I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MPI needs to add iWARP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d RDMA Enabled 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 application deployment means So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ED 1.2 – NetEffect deploying drivers to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Gb iWARP Ethernet is Ethern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ers and switches just Plug and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10 GbE infrastructure – adapter  vendors, switches, and cables are re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tional 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4002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Resou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002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Effect, Inc.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eteffec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002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H iWARP Consortium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ol.unh.edu/consortiums/iwa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4002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warplab@iol.unh.ed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002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Fabrics Allia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openfabrics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4002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4002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002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MA Consortium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rdmaconsortium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96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WARP fulfills OpenFabrics vision of multiple fabrics supporting same RDMA enabled Verbs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WARP Plugf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96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H-IOL multi-vendor interoperability plugf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nts inclu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ers Vendors – NetEffect &amp; Chels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Test Equipment – Finisar &amp; A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Company – Lamprey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Vendors – HP ProCurve &amp; Fulcrum Micro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Gb iWARP Ethernet - plugged and play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ross multiple adapter and switch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tEffect Road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52440" y="1449360"/>
            <a:ext cx="1051200" cy="46688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03640" y="1449360"/>
            <a:ext cx="1050840" cy="46688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16560" y="1447920"/>
            <a:ext cx="1050840" cy="46688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67400" y="1450800"/>
            <a:ext cx="1050840" cy="47214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54480" y="1449360"/>
            <a:ext cx="1050840" cy="46688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05320" y="1449360"/>
            <a:ext cx="1052640" cy="46944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21480" y="1450800"/>
            <a:ext cx="1051200" cy="46674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78440" y="2468520"/>
            <a:ext cx="2529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7280" indent="-2872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020 E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 performance for E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2440" y="6124680"/>
            <a:ext cx="4205520" cy="199800"/>
          </a:xfrm>
          <a:prstGeom prst="rect">
            <a:avLst/>
          </a:prstGeom>
          <a:solidFill>
            <a:srgbClr val="6248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57960" y="6124680"/>
            <a:ext cx="3152520" cy="199800"/>
          </a:xfrm>
          <a:prstGeom prst="rect">
            <a:avLst/>
          </a:prstGeom>
          <a:solidFill>
            <a:srgbClr val="6248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35160" y="5135400"/>
            <a:ext cx="2211480" cy="914400"/>
          </a:xfrm>
          <a:prstGeom prst="rect">
            <a:avLst/>
          </a:prstGeom>
          <a:solidFill>
            <a:srgbClr val="cec6e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49560" y="5181480"/>
            <a:ext cx="219384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9144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Ports:</a:t>
            </a: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1 @ 10 GbE (CX4/XAUI) or 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1 @ 1 GbE (GMII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Host I/F:</a:t>
            </a: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PCI-X (64/13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Services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: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 clustering, network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12920" y="4710240"/>
            <a:ext cx="20685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NE010x E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Full iWARP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04000" y="2889360"/>
            <a:ext cx="2655720" cy="996840"/>
          </a:xfrm>
          <a:prstGeom prst="rect">
            <a:avLst/>
          </a:prstGeom>
          <a:solidFill>
            <a:srgbClr val="cec6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s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@ 10 GbE (CX4/XAUI) or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 @ 1 GbE (SGMI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/F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PCIe x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s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ustering, networking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ock &amp; file stor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120" y="3281400"/>
            <a:ext cx="2981160" cy="1897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93960" y="3819600"/>
            <a:ext cx="2079720" cy="815760"/>
          </a:xfrm>
          <a:prstGeom prst="rect">
            <a:avLst/>
          </a:prstGeom>
          <a:solidFill>
            <a:srgbClr val="cec6e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3809880"/>
            <a:ext cx="2133720" cy="8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9144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Ports:</a:t>
            </a: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1 @ 10 GbE (CX4/XAUI) or 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1 @ 1 GbE (GMII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Host I/F:</a:t>
            </a: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PCIe (x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2856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Services: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 clustering, network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3386160"/>
            <a:ext cx="21337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NE010e E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Full iWARP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514600" y="2362320"/>
            <a:ext cx="2846520" cy="16779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960880" y="3865680"/>
            <a:ext cx="2788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Double performance, half latency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low power, low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181480" y="1371600"/>
          <a:ext cx="20574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1371600"/>
                    <a:ext cx="20574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ncy in Multi-Processor/Multi-Co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43640" y="1447920"/>
            <a:ext cx="3443040" cy="174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Connections Managed by an Adap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S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=&gt; # of Processes per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=&gt; # of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508720" y="3274920"/>
            <a:ext cx="3416040" cy="3022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523404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010/020 Ethernet Through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6880" y="1514520"/>
            <a:ext cx="833436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y Leading Band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15880" y="1517760"/>
            <a:ext cx="831204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Effect’s OFED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ed in the OFA Interoperability Plugf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ful plugfest with NetEffect and Chels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Effect’s OFED 1.2 Compatible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 -- 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A  -- 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Deployment  -- 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Code Posting  --  June 200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 Gb iWARP Ethernet Infra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es – Tested with 10 GbE iWAR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10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ry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jit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crum Micr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P Pro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d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Allan Torres</cp:lastModifiedBy>
  <dcterms:modified xsi:type="dcterms:W3CDTF">2007-05-01T18:18:25Z</dcterms:modified>
  <cp:revision>123</cp:revision>
  <dc:subject/>
  <dc:title>Slide 1</dc:title>
</cp:coreProperties>
</file>