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38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AF5C-2BEE-465F-9C8E-256301A1D08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454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704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2007 Sonoma Workshop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April 30-May 2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stics and A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of the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s of the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istics and 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ation letter, Program, Attendees List, Meeting Rooms, Food, Slides for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 Team, Hotel Facilities, Internet Access, Po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iance Gets Everyone Together, has Annual General Meeting, Listen and 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Users provide experience and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 Distros and Microsoft give feedback and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r 1 and 2 OEMs share status and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 and RDMA-E Systems and Chip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rs, Contributors and Testers update status and plans for code, testing, releases (OFS &amp; OFED), interoperability,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hould the Alliance as a whole be doing nex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 of the Alli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tual Benefit Corporation – non-profit owned by members, for their mutual benefit, founded June 20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laws govern behavior and procedures, all volunteer, over and above day jobs, leave organization’s persona at the d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rs – Chair, Jim Ryan; Vice-Chair, Bill Boas; Treasurer and Secretary, Johann Geo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Groups – Chairs and Vice Ch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ive (XWG) Officers + WG Chairs/Vice Ch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al (LWG) – Dave Ford, Chet Meh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– Bob Woodruff, T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prise – Jamie Riotto, T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operability – Tuan Phamdo, T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ing – Thad Omura, T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User incl. HSIR – Asaf Somekh, Head Bub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ing to Sonoma for 6 years – DOE Sandia, OpenIB, OpenFab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Feb2006 – Open RDMA, OFED 1.1, iWARP, Fall IDF, Interop Events, SC 06, HL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s of Sonoma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ew and Improve Communication amongst us, learn from the Customer community we serve, introduce new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users tell us how we are doing so far with OFED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roughly Review Status of OFED 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 what the Linux Distros and Microsoft think and what we need to change to make including OFED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 what Tier 1 and 2 OEM are doing and what we can do to help their adoption of OF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 what IB and RDMA_E companies are doing and what we can do to help their further adoption of OF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what Enterprise end user customers need to know and what service/support is necessary to have confidence adopting OF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 and suggest improvements to Alliance operations – membership, promotion, development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 to Our Spons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4571640"/>
            <a:ext cx="86868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fund marketing and all other operations of OpenFab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33520" y="2133720"/>
          <a:ext cx="1676160" cy="4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167616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648320" y="2155680"/>
          <a:ext cx="220968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155680"/>
                    <a:ext cx="22096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" descr="logo"/>
          <p:cNvPicPr/>
          <p:nvPr/>
        </p:nvPicPr>
        <p:blipFill>
          <a:blip r:embed="rId5"/>
          <a:stretch/>
        </p:blipFill>
        <p:spPr>
          <a:xfrm>
            <a:off x="685800" y="3224160"/>
            <a:ext cx="1380960" cy="428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2978280" y="3030480"/>
            <a:ext cx="106668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7315200" y="2043000"/>
          <a:ext cx="1066680" cy="681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15200" y="2043000"/>
                    <a:ext cx="106668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7391520" y="2962440"/>
            <a:ext cx="755640" cy="952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0"/>
          <a:stretch/>
        </p:blipFill>
        <p:spPr>
          <a:xfrm>
            <a:off x="5184720" y="3124080"/>
            <a:ext cx="1066680" cy="627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1"/>
          <a:srcRect l="10962" t="16468" r="12474" b="17607"/>
          <a:stretch/>
        </p:blipFill>
        <p:spPr>
          <a:xfrm>
            <a:off x="2895480" y="2039760"/>
            <a:ext cx="114300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Lenovo</cp:lastModifiedBy>
  <dcterms:modified xsi:type="dcterms:W3CDTF">2007-04-29T19:11:18Z</dcterms:modified>
  <cp:revision>102</cp:revision>
  <dc:subject/>
  <dc:title>Slide 1</dc:title>
</cp:coreProperties>
</file>