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05DB0-0553-4ED8-B18B-44B2D5F30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9600" y="3867120"/>
            <a:ext cx="82724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2B9D3-CE02-4073-ACFA-E95C00A13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99600" y="386712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8600" y="386712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482AA-4FE0-4695-8204-87239DBCB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6800" y="144756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4000" y="144756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99600" y="386712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6800" y="386712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4000" y="386712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29F01-9073-4366-A5C2-5EBD44870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28760" y="114120"/>
            <a:ext cx="8245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99600" y="386712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66FB1-01E2-4A33-961F-D9FE5BAC1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8600" y="386712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99600" y="3867120"/>
            <a:ext cx="82724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9600" y="3867120"/>
            <a:ext cx="82724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99600" y="386712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8600" y="386712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96800" y="144756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94000" y="144756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99600" y="386712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96800" y="386712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94000" y="3867120"/>
            <a:ext cx="26636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53D5D-3CFB-49BC-B88C-518099E6D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24656-B28B-4589-95E4-0B372734D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F1E7A-EAF9-411C-A147-2B852D87B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28760" y="114120"/>
            <a:ext cx="8245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24F57-436B-4D60-A886-3EE592E0B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99600" y="386712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09ECD-02B7-4A89-AA94-9807CA1EF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8600" y="386712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7DA0E-C6E7-41BE-BCA7-F8E0A93F3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99600" y="3867120"/>
            <a:ext cx="827244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7A7B6-6A29-4004-BBC2-4CDAF7A2E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lvl="3" marL="125748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lvl="4" marL="16002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lvl="5" marL="16002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000000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lvl="6" marL="16002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000000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71440"/>
            <a:ext cx="257040" cy="5686560"/>
          </a:xfrm>
          <a:prstGeom prst="rect">
            <a:avLst/>
          </a:prstGeom>
          <a:solidFill>
            <a:srgbClr val="0071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257040" cy="1114560"/>
          </a:xfrm>
          <a:prstGeom prst="rect">
            <a:avLst/>
          </a:prstGeom>
          <a:solidFill>
            <a:srgbClr val="0071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350200" y="6261120"/>
            <a:ext cx="555840" cy="438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438120" y="6550200"/>
            <a:ext cx="387360" cy="2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485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975DB-DE67-4140-B0D4-2ECBC4EF8C28}" type="slidenum">
              <a:rPr b="0" lang="en-US" sz="900" spc="-1" strike="noStrike">
                <a:solidFill>
                  <a:srgbClr val="8485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dt" idx="2"/>
          </p:nvPr>
        </p:nvSpPr>
        <p:spPr>
          <a:xfrm>
            <a:off x="836640" y="6550200"/>
            <a:ext cx="1114560" cy="2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485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45D33-D4F2-4651-8217-63158FEF01A8}" type="datetime3">
              <a:rPr b="0" lang="en-US" sz="900" spc="-1" strike="noStrike">
                <a:solidFill>
                  <a:srgbClr val="848589"/>
                </a:solidFill>
                <a:latin typeface="Times New Roman"/>
              </a:rPr>
              <a:t>July 29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1996920" y="6550200"/>
            <a:ext cx="5359680" cy="2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485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48589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1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 L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46" name=""/>
          <p:cNvSpPr/>
          <p:nvPr/>
        </p:nvSpPr>
        <p:spPr>
          <a:xfrm>
            <a:off x="465120" y="637704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Futura Bk"/>
              </a:rPr>
              <a:t>© 2006 Hewlett-Packard Development Company, L.P.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Futura Bk"/>
              </a:rPr>
              <a:t>The information contained herein is subject to change without notice </a:t>
            </a:r>
            <a:endParaRPr b="0" lang="en-US" sz="9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4838760"/>
            <a:ext cx="9151920" cy="7999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Hv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  <a:p>
            <a:pPr lvl="1" marL="343080" indent="0" algn="ctr">
              <a:lnSpc>
                <a:spcPct val="9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2" marL="685800" algn="ctr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Clr>
                <a:srgbClr val="aba69f"/>
              </a:buClr>
              <a:buFont typeface="Futura B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lvl="3" marL="1028880" algn="ctr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Clr>
                <a:srgbClr val="aba69f"/>
              </a:buClr>
              <a:buFont typeface="Futura Bk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lvl="4" marL="1371600" algn="ctr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Clr>
                <a:srgbClr val="aba69f"/>
              </a:buClr>
              <a:buFont typeface="Futura B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1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 Lt"/>
              </a:rPr>
              <a:t>RDMA@HP</a:t>
            </a: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33080" y="374184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0000"/>
              </a:lnSpc>
              <a:spcBef>
                <a:spcPts val="56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Hv"/>
              </a:rPr>
              <a:t>Steve Langdon</a:t>
            </a:r>
            <a:endParaRPr b="0" lang="en-US" sz="1800" spc="-1" strike="noStrike">
              <a:solidFill>
                <a:srgbClr val="ffffff"/>
              </a:solidFill>
              <a:latin typeface="Futura Hv"/>
            </a:endParaRPr>
          </a:p>
          <a:p>
            <a:pPr indent="0">
              <a:lnSpc>
                <a:spcPct val="70000"/>
              </a:lnSpc>
              <a:spcBef>
                <a:spcPts val="56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Hv"/>
              </a:rPr>
              <a:t>HP Fellow</a:t>
            </a:r>
            <a:endParaRPr b="0" lang="en-US" sz="1800" spc="-1" strike="noStrike">
              <a:solidFill>
                <a:srgbClr val="ffffff"/>
              </a:solidFill>
              <a:latin typeface="Futura Hv"/>
            </a:endParaRPr>
          </a:p>
          <a:p>
            <a:pPr indent="0">
              <a:lnSpc>
                <a:spcPct val="70000"/>
              </a:lnSpc>
              <a:spcBef>
                <a:spcPts val="56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Hv"/>
              </a:rPr>
              <a:t>High Performance Computing Chief Technologist</a:t>
            </a:r>
            <a:endParaRPr b="0" lang="en-US" sz="18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Converged” or “Unified” Fabric support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HP has the infrastructure in place and can work with advanced customers now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Cluster file system usage with the (Lustre based) HP SFS product is well established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The barrier to broader adoption is software availability and maturation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HP is opposed to developing this market based on switch vendor proprietary software stacks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OFED 1.2 should help, but more work (and experience) will be needed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75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2AED9-43D2-41B7-B9D4-92C298D5E1E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2AC946E8-1343-4396-BA57-0EEA9B32E284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Closing thoughts – a cliché based approach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High speed fabrics with RDMA support are “crossing the chasm” from HPC to commercial scale-out computing (with apologies to Geoffrey Moore)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8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We need to remember that, “It’s the software stupid” (with apologies to James Carville)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8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The Ethernet based alternatives are “not your father’s Ethernet” (with apologies to a defunct GM division)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lvl="1" marL="571680" indent="-228600">
              <a:lnSpc>
                <a:spcPct val="8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Ironically the Infiniband based ecosystem has had more RDMA maturation time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4CE1F-742A-48C2-B6BF-7FB7E9A53E96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9B6E33EB-70AB-48FB-8906-A4975B587B6E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Intent of this presentation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Discuss HP’s philosophy in the RDMA fabric space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Summarize RDMA enablement and experience in HP’s product line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Keep the presentation short to leave time for Q&amp;A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46879-7D82-476D-9087-7B10C55EF55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072DEE49-9795-4D16-81F2-463026C7DA46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Historical Perspective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HP has experience with RDMA enabled fabrics that dates back to the ’90s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Memory Channel, Quadrics, etc.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HP was a significant participant in the definition of both Infiniband and iWarp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People like Dwight Barron and Mike Krause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Our experience with file system use of “converged” or “unified” fabrics is also substantial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AlphaServer SC since the ’90s, Lustre since ‘04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DCB3E-919F-4AFF-B00B-C3617F765E6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E1AD940B-680E-49C4-BADE-C62303BFA506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HPC has been the proving ground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The move to clusters in HPC has been a driving force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Scalability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Infiniband has been a major beneficiary of this market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iWarp (or even plain 10 GbE) has not really been a player as a cluster interconnect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F6B5D-8418-4A54-A9EF-83D2E0E7E9F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E1B28843-1D59-4CA6-956E-B33BA81DD15A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The Leveraged Model for HPC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5840" y="1447560"/>
            <a:ext cx="350208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The high-end drives HPC innovation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561"/>
              </a:spcBef>
              <a:spcAft>
                <a:spcPts val="224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Bk"/>
              </a:rPr>
              <a:t>Scalable architectures: NUMA &amp; clusters</a:t>
            </a: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561"/>
              </a:spcBef>
              <a:spcAft>
                <a:spcPts val="224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Bk"/>
              </a:rPr>
              <a:t>Scalable interconnects: IB</a:t>
            </a: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561"/>
              </a:spcBef>
              <a:spcAft>
                <a:spcPts val="224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Bk"/>
              </a:rPr>
              <a:t>Scalable software development: MPI, UPC, SHMEM</a:t>
            </a: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561"/>
              </a:spcBef>
              <a:spcAft>
                <a:spcPts val="224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Bk"/>
              </a:rPr>
              <a:t>Cluster/parallel file systems</a:t>
            </a: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561"/>
              </a:spcBef>
              <a:spcAft>
                <a:spcPts val="224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Bk"/>
              </a:rPr>
              <a:t>Cluster and resource management </a:t>
            </a: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56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772240" y="1447560"/>
            <a:ext cx="316368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Volume economics drives the market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561"/>
              </a:spcBef>
              <a:spcAft>
                <a:spcPts val="224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Bk"/>
              </a:rPr>
              <a:t>Rapid technical evolution of high-volume components and systems</a:t>
            </a: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Clr>
                <a:srgbClr val="aba69f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Processors driven by PCs, GPUs by games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561"/>
              </a:spcBef>
              <a:spcAft>
                <a:spcPts val="224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Bk"/>
              </a:rPr>
              <a:t>Volume drives ecosystem development</a:t>
            </a: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Clr>
                <a:srgbClr val="aba69f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Applications, development tools, etc.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561"/>
              </a:spcBef>
              <a:spcAft>
                <a:spcPts val="224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Bk"/>
              </a:rPr>
              <a:t>Volume drives cost reduction</a:t>
            </a: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56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3479760" y="1203480"/>
            <a:ext cx="2431800" cy="4627440"/>
            <a:chOff x="3479760" y="1203480"/>
            <a:chExt cx="2431800" cy="4627440"/>
          </a:xfrm>
        </p:grpSpPr>
        <p:sp>
          <p:nvSpPr>
            <p:cNvPr id="97" name=""/>
            <p:cNvSpPr/>
            <p:nvPr/>
          </p:nvSpPr>
          <p:spPr>
            <a:xfrm>
              <a:off x="3479760" y="1203480"/>
              <a:ext cx="2431800" cy="46274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3399"/>
                </a:gs>
                <a:gs pos="100000">
                  <a:srgbClr val="33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53800" y="4565520"/>
              <a:ext cx="1681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Futura Bk"/>
                </a:rPr>
                <a:t>Departmental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Futura Bk"/>
                </a:rPr>
                <a:t>and Workgroup</a:t>
              </a:r>
              <a:endParaRPr b="0" lang="en-US" sz="16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136040" y="1778040"/>
              <a:ext cx="1119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Futura Bk"/>
                </a:rPr>
                <a:t>Capability</a:t>
              </a:r>
              <a:endParaRPr b="0" lang="en-US" sz="16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114800" y="2681280"/>
              <a:ext cx="11620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Futura Bk"/>
                </a:rPr>
                <a:t>Enterpris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Futura Bk"/>
                </a:rPr>
                <a:t>an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Futura Bk"/>
                </a:rPr>
                <a:t>Divisional</a:t>
              </a:r>
              <a:endParaRPr b="0" lang="en-US" sz="1600" spc="-1" strike="noStrike">
                <a:solidFill>
                  <a:srgbClr val="000000"/>
                </a:solidFill>
                <a:latin typeface="Futura Bk"/>
              </a:endParaRPr>
            </a:p>
          </p:txBody>
        </p:sp>
      </p:grpSp>
      <p:sp>
        <p:nvSpPr>
          <p:cNvPr id="101" name=""/>
          <p:cNvSpPr/>
          <p:nvPr/>
        </p:nvSpPr>
        <p:spPr>
          <a:xfrm flipV="1">
            <a:off x="195120" y="5798160"/>
            <a:ext cx="8948880" cy="463320"/>
          </a:xfrm>
          <a:custGeom>
            <a:avLst/>
            <a:gdLst>
              <a:gd name="textAreaLeft" fmla="*/ 1219680 w 8948880"/>
              <a:gd name="textAreaRight" fmla="*/ 7729200 w 8948880"/>
              <a:gd name="textAreaTop" fmla="*/ 63000 h 463320"/>
              <a:gd name="textAreaBottom" fmla="*/ 400320 h 46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450" y="21600"/>
                </a:lnTo>
                <a:lnTo>
                  <a:pt x="2150" y="21600"/>
                </a:lnTo>
                <a:close/>
              </a:path>
            </a:pathLst>
          </a:custGeom>
          <a:solidFill>
            <a:srgbClr val="cbc9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Commercial Servers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02" name=""/>
          <p:cNvSpPr/>
          <p:nvPr/>
        </p:nvSpPr>
        <p:spPr>
          <a:xfrm>
            <a:off x="243000" y="6224040"/>
            <a:ext cx="8901000" cy="707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03" name=""/>
          <p:cNvSpPr/>
          <p:nvPr/>
        </p:nvSpPr>
        <p:spPr>
          <a:xfrm>
            <a:off x="4429440" y="6373800"/>
            <a:ext cx="5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utura Bk"/>
              </a:rPr>
              <a:t>PCs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150640" y="1652760"/>
            <a:ext cx="2308680" cy="5073120"/>
            <a:chOff x="2150640" y="1652760"/>
            <a:chExt cx="2308680" cy="5073120"/>
          </a:xfrm>
        </p:grpSpPr>
        <p:sp>
          <p:nvSpPr>
            <p:cNvPr id="105" name=""/>
            <p:cNvSpPr/>
            <p:nvPr/>
          </p:nvSpPr>
          <p:spPr>
            <a:xfrm rot="17143200">
              <a:off x="2778840" y="2464920"/>
              <a:ext cx="19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e7dde"/>
                  </a:solidFill>
                  <a:latin typeface="Futura Hv"/>
                </a:rPr>
                <a:t>New Technology</a:t>
              </a:r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749400">
              <a:off x="4070160" y="2057400"/>
              <a:ext cx="312480" cy="743040"/>
            </a:xfrm>
            <a:custGeom>
              <a:avLst/>
              <a:gdLst>
                <a:gd name="textAreaLeft" fmla="*/ 41760 w 312480"/>
                <a:gd name="textAreaRight" fmla="*/ 270720 w 312480"/>
                <a:gd name="textAreaTop" fmla="*/ 129960 h 743040"/>
                <a:gd name="textAreaBottom" fmla="*/ 538920 h 74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6e7d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749400">
              <a:off x="3781080" y="3143160"/>
              <a:ext cx="312840" cy="743040"/>
            </a:xfrm>
            <a:custGeom>
              <a:avLst/>
              <a:gdLst>
                <a:gd name="textAreaLeft" fmla="*/ 41760 w 312840"/>
                <a:gd name="textAreaRight" fmla="*/ 271080 w 312840"/>
                <a:gd name="textAreaTop" fmla="*/ 129960 h 743040"/>
                <a:gd name="textAreaBottom" fmla="*/ 538920 h 74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6e7d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749400">
              <a:off x="3472920" y="4303800"/>
              <a:ext cx="312840" cy="743040"/>
            </a:xfrm>
            <a:custGeom>
              <a:avLst/>
              <a:gdLst>
                <a:gd name="textAreaLeft" fmla="*/ 41760 w 312840"/>
                <a:gd name="textAreaRight" fmla="*/ 271080 w 312840"/>
                <a:gd name="textAreaTop" fmla="*/ 129960 h 743040"/>
                <a:gd name="textAreaBottom" fmla="*/ 538920 h 74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6e7d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749400">
              <a:off x="3201480" y="5348160"/>
              <a:ext cx="312840" cy="743040"/>
            </a:xfrm>
            <a:custGeom>
              <a:avLst/>
              <a:gdLst>
                <a:gd name="textAreaLeft" fmla="*/ 41760 w 312840"/>
                <a:gd name="textAreaRight" fmla="*/ 271080 w 312840"/>
                <a:gd name="textAreaTop" fmla="*/ 129960 h 743040"/>
                <a:gd name="textAreaBottom" fmla="*/ 538920 h 74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6e7d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749400">
              <a:off x="2226960" y="5958000"/>
              <a:ext cx="312840" cy="742680"/>
            </a:xfrm>
            <a:custGeom>
              <a:avLst/>
              <a:gdLst>
                <a:gd name="textAreaLeft" fmla="*/ 41760 w 312840"/>
                <a:gd name="textAreaRight" fmla="*/ 271080 w 312840"/>
                <a:gd name="textAreaTop" fmla="*/ 129960 h 742680"/>
                <a:gd name="textAreaBottom" fmla="*/ 538560 h 742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6e7d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4888080" y="1633680"/>
            <a:ext cx="2440440" cy="5024520"/>
            <a:chOff x="4888080" y="1633680"/>
            <a:chExt cx="2440440" cy="5024520"/>
          </a:xfrm>
        </p:grpSpPr>
        <p:sp>
          <p:nvSpPr>
            <p:cNvPr id="112" name=""/>
            <p:cNvSpPr/>
            <p:nvPr/>
          </p:nvSpPr>
          <p:spPr>
            <a:xfrm rot="4423800">
              <a:off x="4505400" y="2560320"/>
              <a:ext cx="2207520" cy="368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e2e43"/>
                  </a:solidFill>
                  <a:latin typeface="Futura Hv"/>
                </a:rPr>
                <a:t>Volume Economics</a:t>
              </a:r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9825000">
              <a:off x="4985640" y="1980720"/>
              <a:ext cx="312840" cy="743040"/>
            </a:xfrm>
            <a:custGeom>
              <a:avLst/>
              <a:gdLst>
                <a:gd name="textAreaLeft" fmla="*/ 41760 w 312840"/>
                <a:gd name="textAreaRight" fmla="*/ 271080 w 312840"/>
                <a:gd name="textAreaTop" fmla="*/ 129960 h 743040"/>
                <a:gd name="textAreaBottom" fmla="*/ 538920 h 74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de2e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9825000">
              <a:off x="5280840" y="3055320"/>
              <a:ext cx="312840" cy="742680"/>
            </a:xfrm>
            <a:custGeom>
              <a:avLst/>
              <a:gdLst>
                <a:gd name="textAreaLeft" fmla="*/ 41760 w 312840"/>
                <a:gd name="textAreaRight" fmla="*/ 271080 w 312840"/>
                <a:gd name="textAreaTop" fmla="*/ 129960 h 742680"/>
                <a:gd name="textAreaBottom" fmla="*/ 538560 h 742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de2e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9825000">
              <a:off x="5566680" y="4209480"/>
              <a:ext cx="312840" cy="742680"/>
            </a:xfrm>
            <a:custGeom>
              <a:avLst/>
              <a:gdLst>
                <a:gd name="textAreaLeft" fmla="*/ 41760 w 312840"/>
                <a:gd name="textAreaRight" fmla="*/ 271080 w 312840"/>
                <a:gd name="textAreaTop" fmla="*/ 129960 h 742680"/>
                <a:gd name="textAreaBottom" fmla="*/ 538560 h 742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de2e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9825000">
              <a:off x="5839560" y="5254200"/>
              <a:ext cx="312840" cy="743040"/>
            </a:xfrm>
            <a:custGeom>
              <a:avLst/>
              <a:gdLst>
                <a:gd name="textAreaLeft" fmla="*/ 41760 w 312840"/>
                <a:gd name="textAreaRight" fmla="*/ 271080 w 312840"/>
                <a:gd name="textAreaTop" fmla="*/ 129960 h 743040"/>
                <a:gd name="textAreaBottom" fmla="*/ 538920 h 74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de2e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9825000">
              <a:off x="6918120" y="5886000"/>
              <a:ext cx="312480" cy="743040"/>
            </a:xfrm>
            <a:custGeom>
              <a:avLst/>
              <a:gdLst>
                <a:gd name="textAreaLeft" fmla="*/ 41760 w 312480"/>
                <a:gd name="textAreaRight" fmla="*/ 270720 w 312480"/>
                <a:gd name="textAreaTop" fmla="*/ 129960 h 743040"/>
                <a:gd name="textAreaBottom" fmla="*/ 538920 h 74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de2e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</p:grp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AE723-2C40-44A3-ABE2-47894F827C9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3D6F1BD5-ACC0-45C4-AC7F-13206665E1CB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Guiding Principles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There is never one fabric that satisfies everyone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In general products need to allow choice, although there is a place for fabric specific optimization 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HP supports open industry standards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Today, in Fabric terms, that means Infiniband and iWarp enhanced Ethernet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The software ecosystem is critical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Which is why HP is an OFA member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974D8-BEE7-4B5F-BD69-CE36B847DE7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1AD23B0F-C228-4BF3-9563-A59BB3A1EE71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Current HP Hardware offerings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Infiniband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lvl="1" marL="571680" indent="-228600">
              <a:lnSpc>
                <a:spcPct val="8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Rack mounted Proliant and Integrity servers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2" marL="914400" indent="-228600">
              <a:lnSpc>
                <a:spcPct val="80000"/>
              </a:lnSpc>
              <a:spcBef>
                <a:spcPts val="624"/>
              </a:spcBef>
              <a:spcAft>
                <a:spcPts val="249"/>
              </a:spcAft>
              <a:buClr>
                <a:srgbClr val="aba69f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Full range of single and dual port SDR and DDR HCAs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lvl="1" marL="571680" indent="-228600">
              <a:lnSpc>
                <a:spcPct val="8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Blades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2" marL="914400" indent="-228600">
              <a:lnSpc>
                <a:spcPct val="80000"/>
              </a:lnSpc>
              <a:spcBef>
                <a:spcPts val="624"/>
              </a:spcBef>
              <a:spcAft>
                <a:spcPts val="249"/>
              </a:spcAft>
              <a:buClr>
                <a:srgbClr val="aba69f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Single port DDR mezzanine today, dual port coming soon 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8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10 GbE RNIC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lvl="1" marL="571680" indent="-228600">
              <a:lnSpc>
                <a:spcPct val="8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Proliant rack mount servers support a single port 10 Gb RNIC with plans for iWarp support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1" marL="571680" indent="-228600">
              <a:lnSpc>
                <a:spcPct val="8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Additional alternatives planned for Blades, Integrity, etc.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8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A variety of IB and Ethernet switches 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378EB-2A4E-456D-A0D1-2A49EFBE752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BD7332BC-2216-4F52-A82B-AF9D8226F134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9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  <a:ea typeface="宋体"/>
              </a:rPr>
              <a:t>HP 4X DDR IB Switch Module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42800" y="1090080"/>
            <a:ext cx="4781520" cy="533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960Gb/sec total switching bandwidth 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Fully non-blocking Fabric Switch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16 4X DDR down links connecting blade servers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8 External 4X DDR ports for scale out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Multiple switches supported in a c7000 enclosure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Redundancy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Aggregate bandwidth 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24" name=""/>
          <p:cNvSpPr/>
          <p:nvPr/>
        </p:nvSpPr>
        <p:spPr>
          <a:xfrm>
            <a:off x="5281560" y="1238400"/>
            <a:ext cx="344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2862f"/>
                </a:solidFill>
                <a:latin typeface="Arial"/>
                <a:ea typeface="Arial"/>
              </a:rPr>
              <a:t>World First 4X DDR IB Switch </a:t>
            </a: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2862f"/>
                </a:solidFill>
                <a:latin typeface="Arial"/>
                <a:ea typeface="Arial"/>
              </a:rPr>
              <a:t>for Blades</a:t>
            </a: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146560" y="1857240"/>
            <a:ext cx="3664080" cy="7146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rcRect l="12304" t="7863" r="4101" b="13002"/>
          <a:stretch/>
        </p:blipFill>
        <p:spPr>
          <a:xfrm>
            <a:off x="5214960" y="2676600"/>
            <a:ext cx="3672000" cy="3557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D8A74-E94F-4498-AD4C-C94E4B5FB69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C9ADFABE-372B-4420-8D00-7ADDFE35EB8C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Current HP Software offerings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1" marL="571680" indent="-228600">
              <a:lnSpc>
                <a:spcPct val="80000"/>
              </a:lnSpc>
              <a:spcBef>
                <a:spcPts val="624"/>
              </a:spcBef>
              <a:spcAft>
                <a:spcPts val="249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Legacy “gen1” stacks from Voltaire and Cisco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lvl="1" marL="571680" indent="-228600">
              <a:lnSpc>
                <a:spcPct val="80000"/>
              </a:lnSpc>
              <a:spcBef>
                <a:spcPts val="624"/>
              </a:spcBef>
              <a:spcAft>
                <a:spcPts val="249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Latest releases of XC clusters and SFS (Lustre) file system offerings just migrated to OFED 1.1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8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1" marL="571680" indent="-228600">
              <a:lnSpc>
                <a:spcPct val="80000"/>
              </a:lnSpc>
              <a:spcBef>
                <a:spcPts val="624"/>
              </a:spcBef>
              <a:spcAft>
                <a:spcPts val="249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Native IB support implemented for a couple of years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lvl="1" marL="571680" indent="-228600">
              <a:lnSpc>
                <a:spcPct val="80000"/>
              </a:lnSpc>
              <a:spcBef>
                <a:spcPts val="624"/>
              </a:spcBef>
              <a:spcAft>
                <a:spcPts val="249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RNIC support planned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8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1" marL="571680" indent="-228600">
              <a:lnSpc>
                <a:spcPct val="80000"/>
              </a:lnSpc>
              <a:spcBef>
                <a:spcPts val="624"/>
              </a:spcBef>
              <a:spcAft>
                <a:spcPts val="249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IB support  based on Voltaire supplied drivers (IBAL and Winsock direct)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8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HP-MPI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1" marL="571680" indent="-228600">
              <a:lnSpc>
                <a:spcPct val="80000"/>
              </a:lnSpc>
              <a:spcBef>
                <a:spcPts val="624"/>
              </a:spcBef>
              <a:spcAft>
                <a:spcPts val="249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Supports a range of RDMA fabrics and SW stacks including OFED 1.1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CD524-0AC9-42D8-B8DF-2079F15444C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EA6DFB99-12B3-4B5E-825D-51D64957CEBD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1-01-01T04:00:00Z</dcterms:created>
  <dc:creator/>
  <dc:description/>
  <cp:keywords/>
  <dc:language>en-US</dc:language>
  <cp:lastModifiedBy/>
  <dcterms:modified xsi:type="dcterms:W3CDTF">2007-04-30T03:24:45Z</dcterms:modified>
  <cp:revision>2</cp:revision>
  <dc:subject/>
  <dc:title>RDMA@HP</dc:title>
</cp:coreProperties>
</file>