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5D1-F529-4D29-ABAA-771FA183CED6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crosoft.com/about/legal/intellectualproperty/standards/default.m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Sockets over RDMA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legged s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/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col Licen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FT SDP pa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crosoft.com/about/legal/intellectualproperty/standards/default.m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over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any signs 1-on-1 source code license agreement with MSFT for development of S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source code must include MSFT “license”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cense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or dis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 will not accept SDP code under thes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FT Windows Socket Direct was extended to exposed memory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roup ICSC Extended Sock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mmon simple Socket over RDM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semantic mapping of socket semantic to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PI with kernel by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P Protocol Techn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_STREAM in SDP (RC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K_DGRAM not is S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4 data transf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into modes: buffered, pipelined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CM manager is not based on IBTA RDMA IP CM Service Annex (post IBTA 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ue zero-copy in OFA SD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hael Tsirkin’s Protocol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fix issues that seem to be fundamental in SDP mode of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SRQ - forces pre-posting of large number of buffers per-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nnection rate - a single connection can't be reused for multiple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based credits don't utilize hardware flow control, and break polling-base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high availability: failover only with A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pport for multicast and/or UDP (discard packets on RQ overr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that might be addressable with extensions to the SD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 Zcopy mode not a good fit for synchronous operations  (Zcopy read needs slow 3 way handshake, zcopy write can not pipeline many writes into a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-based operation - can't mix RDMA (for large buffers) and bcopy (for small buff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B not supported in zcopy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 connection setup it too different from TCP socket setup, so SDP termination/routing across a TCP socket quite non triv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RTU" problem - analog of SYN flood (seen when remote is unstable/crash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interoperability with S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Protocol needed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qui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iscussion star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7-04-30T18:12:19Z</dcterms:modified>
  <cp:revision>68</cp:revision>
  <dc:subject/>
  <dc:title>Slide 1</dc:title>
</cp:coreProperties>
</file>