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D998-406F-4FAE-82B0-6ABD1BD8A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1314-C2DD-4F0F-AC9B-B5F40ED68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4DE0-4FD1-4A61-857D-6E2573D10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29FB-D650-4C59-9F09-AA2AF110D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4477-6557-4A6F-887F-9ADE65F866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FFD6-FB3C-4BBD-A727-75CF7E74B3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1FDB-36BF-4EA2-97C3-40B48412A5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B79C-4178-49CF-8AF6-C7E0E92653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0299-38FC-4E00-9092-09049629B5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FB59-304E-4825-B2B0-8ED5A4B462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D478-E003-4170-9B58-D843B78D0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E1E9-4A57-4BC1-81C6-A7300AB76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9AFD-E631-4796-9C2B-DE3F263134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09B4-837D-4F3F-B39F-9F67495548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05A0-F165-484F-8638-7E37DC5E52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5B39-0656-4037-BE0F-AEE1C30D46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C336-9E7E-47C9-BF67-004C02D7BF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E6993-95CC-423F-B24D-24C557A9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F2FFA-3ED9-4B69-850B-3B63EBBF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A4050-535B-4226-91E3-77C1AED0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6C2BD-F21B-425F-9A68-4DBB7CB3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65AF5-927F-472C-9757-BB1FBC9D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120F-1DFB-4ED3-8B0D-F204DF9B30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F2D1C-5112-4CFD-93E5-A909FCF9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DA661-3615-4856-B587-252AF7AA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FD07B-F8BE-4637-872F-A053B9D3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4B0ED-154D-41B8-9679-4C414284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6825B-82A3-4849-B0C3-5D7C038C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70FC0-D9EF-457F-9AC4-9452F96F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53293-5D1C-4DB8-991F-7C978786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A81B-F3B6-40F8-827E-48985D6C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97B8-D978-455E-B68F-1F114D1C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69E8-EB3D-4ECE-924F-7E1987CD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CA08-EFE5-4BA7-AD7D-AC2D9610D5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0EFB-8482-4B27-A15F-E6EC2BF0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F9A4-6597-450D-90E6-0DB2ED40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390D-3B82-4EB7-AFE7-49DD0FE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D05C-74A9-4050-AE34-A70BFB9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5413-9A3D-4D9E-A34D-33E6452D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29E0-05A3-4260-9419-7008FE3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29EB-1C5F-43E0-BCE6-1004CFB8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5026-6F7E-4EBE-983A-4EFD014D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2649-BF1B-4036-BDB9-597199C8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FB50-79B2-498A-AE41-496423457E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1B1B-26FC-4D36-BA1B-A50CCAC1651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2430-0924-4F25-99B6-A9FAC8BE6E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9F99-F7E5-40A7-B3BD-1608F5F31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CB69-6EC9-4008-8F29-89F90BA44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B4BF-644E-4F02-B60A-042ECC710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0560" y="1752480"/>
            <a:ext cx="5941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0" y="57909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4868-3C65-4B82-B4D0-F9910293E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2435-7877-4B9A-9C19-BAD5E59D3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849-8A8B-4456-962A-B7C8F1AAF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D7E9-DFC5-4E19-A296-9A2756F3EEB0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hyperlink" Target="http://www.iol.unh.edu/services/testing/ofa/logo.pdf" TargetMode="External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uesystems.com/" TargetMode="External"/><Relationship Id="rId2" Type="http://schemas.openxmlformats.org/officeDocument/2006/relationships/hyperlink" Target="http://www.finisar.com/home.php" TargetMode="External"/><Relationship Id="rId3" Type="http://schemas.openxmlformats.org/officeDocument/2006/relationships/hyperlink" Target="http://www.tek.com/" TargetMode="External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FA-IWG Interop Event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ert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re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ory versus Bet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494000"/>
          <a:ext cx="8534160" cy="4724280"/>
        </p:xfrm>
        <a:graphic>
          <a:graphicData uri="http://schemas.openxmlformats.org/drawingml/2006/table">
            <a:tbl>
              <a:tblPr/>
              <a:tblGrid>
                <a:gridCol w="3125520"/>
                <a:gridCol w="2152800"/>
                <a:gridCol w="1782720"/>
                <a:gridCol w="1473120"/>
              </a:tblGrid>
              <a:tr h="2854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Status for April 2007 Interop 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Proced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iniB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WARP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port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Fabric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IPo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M Failover/Hand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- O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WARP Conne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bre Channel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ernet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mended Test Status 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ober 2007 Interop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963160"/>
                <a:gridCol w="3180960"/>
                <a:gridCol w="2085120"/>
              </a:tblGrid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Proced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mmended Stat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Fabric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IPo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e issues to be re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B SM Failover/Hand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e issues to be re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- OS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more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MPI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more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e issues to be re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WARP Conne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ell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bre Channel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devices to run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ernet Gateway (I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eds devices to run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ster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69960" y="1417680"/>
          <a:ext cx="6507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1417680"/>
                    <a:ext cx="6507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No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more time for Compliance and Interop testing. Suggested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 through 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TA and iWARP complianc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-F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 cluster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 Link and Fabric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 Connectivity, IPoIB, SDP, SRP, iSER, SM Failover, Gateway Tests, DAPL and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review and input on the Test Plan is needed because it may affect their Logo G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Noted -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k problem was discovered during the Link I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requiring one to many testing are very time consuming. Need automated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R – possible issues with the OFED Stack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switch testing ran reasonably well but there were some unpredictable fail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witch tests experienced som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30-50 DDR cables dedicated to the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coordinate the Interop Event with the OFED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Interop Event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ble progress made on the Intero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cripts much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xecution went smoo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-IOL staff performed ver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testing was ver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device participation in some categories such as FC and Ethernet Gateway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SRP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time to complete all of th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versus 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N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TA IL Compliance Testing 4/11/0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13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vendors, 13 devices and 35 cables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the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TA Plugf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 IWG Interop Event 4/16/0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/20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vendors, 22 devices and 31 nodes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second official OFA-IWG Interop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ed by University of NH Interoperability Lab (UNH-I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results ver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event scheduled for Octo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A integrator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 includes all products that have successfully completed the rigorous testing procedures at IBTA sponsored Plugfe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List of devices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nfinibandta.org/itinfo/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list will be available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-UNH-IOL Logo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vendors to claim and market interoperability by using the Logo on their products or in their product marketing collat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ol.unh.edu/services/testing/ofa/logo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Logo Grants will be available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dor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, Data Direct, Flextronics, Mellanox, QLogic, 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 and Net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, Finisar and Tektro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ice Types and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HCAs running OFED 1.2 R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IB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S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RP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Based SMs: OpenSM, Volt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Based SMs: Cisco, QLogic, 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R-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Band Devices T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FS 7000D - 24-port DDR 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FS 7008 - 96-port SDR 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Dir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2A 9550 - IB SRP connected storag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-X430066 -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8-Port SDR 4-X InfiniBand 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-X430044 - 24 Modular DDR 4-X InfiniBand swit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-X430081 - 144 Modular DDR 4-X InfiniBand swit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A28-1TC - Dual-port, 10Gb/s w/ media adapter support, PCIe x8, 128MB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A28-XT  - Dual-port, 1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GA28-1TC - Dual-port, 20Gb/s w/ media adapter support, PCIe x8, 128MB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GA28-XTC - Dual-port, 2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S14-XT  - Single-port, 10Gb/s w/ media adapter support, PCIe x4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ES18-XTC - Single-port, 1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HGS18-XTC - Single-port, 20Gb/s w/ media adapter support, PCIe x8, mem-f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HT-7140 - InfiniPath QHT 7000 Se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LE-7140 - InfiniPath QLE 7000 Se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024-CU24-ST2-DDR - SilverStorm 24 port 1U DDR 4x Switch\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R 2012 - 288 ports infiniband Grid Dir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R9024D-M - 24 ports infiniband Grid S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MHost-3.4.8-110 - SMHost (GVFM) - 4.4.8-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Stor - iSER target (IPStor) - 518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idStack 4.1 - GridStack-4.1.5_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idStack Window - Windows GridStack - 2.5.615.7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Devices T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310 - 10 Gig Unified Wire Ethernet NIC (NIC, TOE, iSCSI, iWA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020 - NES Dual-port 10GE R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 and SLES 10 S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2 R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Intel provided s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s provided by the following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e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jik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L. G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r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quipment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e Systems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uesystems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ar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nisar.com/home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ktronix -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ek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Rupert Dance</cp:lastModifiedBy>
  <dcterms:modified xsi:type="dcterms:W3CDTF">2007-04-30T18:08:22Z</dcterms:modified>
  <cp:revision>16</cp:revision>
  <dc:subject/>
  <dc:title>OFA-IWG Interop Event</dc:title>
</cp:coreProperties>
</file>