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85AC-7FBA-4AFB-B3A2-1B296C2BED7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Resource Utilization in Large Scale InfiniBand Jobs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49525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len M. Ship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 Alamos National La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UR-07-287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veral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/no RNR NAKS from draining SRQ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trigger “SRQ limit reached”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ncy penalty for SR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 u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QPs may not be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investigating impact of high QP count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GE (DOE/LANL 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ep3D (DOE/LANL 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 Parallel Benchmarks (benchma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ed Open 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receive buffer efficienc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receive buffer / size of data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: Hydrodyna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GE – SAIC’s Adaptive Grid Eulerian hydroco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ydrodynamics code with Adaptive Mesh Refinement (AM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ed to: water shock, energy coupling, hydro instability problems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utinely run on 1,000’s of processor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caling characteristic: Weak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Decomposition (Default): 1-D (of a 3-D AMR spatial gri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4100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"Predictive Performance and Scalability Modeling of a Large-Scale Application", D.J. Kerbyson, H.J. Alme, A. Hoisie, F. Petrini, H.J. Wasserman, M. Gittings, in Proc. SC, Denver, 2001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656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aptive Mesh Refinement (AMR) hydro-co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 repeated ph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ather data (including processor boundary dat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tter data (send back result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-D spatial grid, partitioned in 1-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rallel characteristi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ssage sizes vary, typically 10 - 100’s Kby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tance between neighbors increases with sc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656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: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693396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: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96 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76201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: Receive buffer efficiency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046240"/>
            <a:ext cx="89154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GE: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716120"/>
            <a:ext cx="822960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p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D spatial grid, partitioned in 2-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d wavefront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cy in ‘sweep’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neighbors in X and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message sizes: 100’s bytes (typ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rocessors determines pipe-line length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248520" y="2819520"/>
            <a:ext cx="1675800" cy="1675800"/>
            <a:chOff x="6248520" y="2819520"/>
            <a:chExt cx="1675800" cy="1675800"/>
          </a:xfrm>
        </p:grpSpPr>
        <p:sp>
          <p:nvSpPr>
            <p:cNvPr id="128" name=""/>
            <p:cNvSpPr/>
            <p:nvPr/>
          </p:nvSpPr>
          <p:spPr>
            <a:xfrm>
              <a:off x="6553080" y="312408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33960" y="312408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15200" y="3124080"/>
              <a:ext cx="228240" cy="228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96080" y="3124080"/>
              <a:ext cx="228240" cy="2282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53080" y="350496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33960" y="3504960"/>
              <a:ext cx="228240" cy="228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15200" y="3504960"/>
              <a:ext cx="228240" cy="2282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96080" y="350496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53080" y="3886200"/>
              <a:ext cx="228240" cy="228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3960" y="3886200"/>
              <a:ext cx="228240" cy="2282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15200" y="388620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96080" y="388620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53080" y="4267080"/>
              <a:ext cx="228240" cy="2282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33960" y="426708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15200" y="426708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96080" y="4267080"/>
              <a:ext cx="22824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48520" y="2819520"/>
              <a:ext cx="30456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324480" y="2895120"/>
              <a:ext cx="45684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3800" y="3276360"/>
              <a:ext cx="15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2560" y="3657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4038480"/>
              <a:ext cx="15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81680" y="4419360"/>
              <a:ext cx="151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4038480"/>
              <a:ext cx="152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3800" y="3657600"/>
              <a:ext cx="151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48360" y="3352680"/>
              <a:ext cx="0" cy="151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7480" y="3352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67480" y="3733560"/>
              <a:ext cx="0" cy="152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86600" y="37335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86600" y="4114800"/>
              <a:ext cx="0" cy="151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05360" y="41148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962160" y="358128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D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656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p3D: Wavefront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487600"/>
            <a:ext cx="167652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88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racterized by a dependency in cell process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45160" y="2090880"/>
            <a:ext cx="5171040" cy="2964960"/>
            <a:chOff x="1145160" y="2090880"/>
            <a:chExt cx="5171040" cy="2964960"/>
          </a:xfrm>
        </p:grpSpPr>
        <p:sp>
          <p:nvSpPr>
            <p:cNvPr id="164" name=""/>
            <p:cNvSpPr/>
            <p:nvPr/>
          </p:nvSpPr>
          <p:spPr>
            <a:xfrm>
              <a:off x="171756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42920" y="209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13480" y="20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65680" y="20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19680" y="209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72600" y="209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988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418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5416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6648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784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1756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2988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418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416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6648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784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1756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2988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418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5416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6648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784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1756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988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418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5416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648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784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1756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988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418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5416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648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84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17560" y="3623760"/>
              <a:ext cx="11232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2988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418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54160" y="36237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6648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784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8056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9252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048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1680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2912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414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8056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9252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048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1680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2912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414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8056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9252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048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1680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912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14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8056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9252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048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680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2912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414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80560" y="351144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9252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048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1680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2912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14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8056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92520" y="3623760"/>
              <a:ext cx="11232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048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1680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29120" y="36237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14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3384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4616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5812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7008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8240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9472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3384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4616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5812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7008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8240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9472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3384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4616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5812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7008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8240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9472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33840" y="3399480"/>
              <a:ext cx="11232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4616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5812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7008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8240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9472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33840" y="3511440"/>
              <a:ext cx="11232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46160" y="351144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5812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7008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8240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9472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33840" y="3623760"/>
              <a:ext cx="11232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4616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58120" y="3623760"/>
              <a:ext cx="11196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70080" y="36237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8240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9472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8748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994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1140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2372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360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00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748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994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1140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2372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0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4800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87480" y="3287160"/>
              <a:ext cx="11196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994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1140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2372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360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4800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87480" y="339948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440" y="3399480"/>
              <a:ext cx="11196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1140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2372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360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4800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87480" y="351144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99440" y="351144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11400" y="3511440"/>
              <a:ext cx="11232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2372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360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4800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8748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9944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11400" y="3623760"/>
              <a:ext cx="11232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23720" y="3623760"/>
              <a:ext cx="11196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360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48000" y="36237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4076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5272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650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7700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89320" y="30628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01640" y="30628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40760" y="317484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5272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650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7700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89320" y="31748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01640" y="31748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40760" y="32871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52720" y="3287160"/>
              <a:ext cx="11232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650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700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89320" y="328716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01640" y="32871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40760" y="339948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52720" y="3399480"/>
              <a:ext cx="11232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65040" y="3399480"/>
              <a:ext cx="11196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7700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89320" y="3399480"/>
              <a:ext cx="11232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01640" y="339948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40760" y="351144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52720" y="3511440"/>
              <a:ext cx="11232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65040" y="351144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77000" y="351144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89320" y="351144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01640" y="351144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4076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52720" y="3623760"/>
              <a:ext cx="11232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6504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77000" y="3623760"/>
              <a:ext cx="111960" cy="11196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89320" y="3623760"/>
              <a:ext cx="112320" cy="11196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01640" y="3623760"/>
              <a:ext cx="111960" cy="111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17560" y="2476080"/>
              <a:ext cx="11232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2988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418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54160" y="247608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6648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784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8056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92520" y="2476080"/>
              <a:ext cx="11232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9048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1680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9120" y="247608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414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33840" y="2476080"/>
              <a:ext cx="11232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4616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58120" y="247608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70080" y="247608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8240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9472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8748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9944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11400" y="2476080"/>
              <a:ext cx="11232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23720" y="2476080"/>
              <a:ext cx="11196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360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48000" y="2476080"/>
              <a:ext cx="11232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4076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52720" y="2476080"/>
              <a:ext cx="11232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6504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77000" y="2476080"/>
              <a:ext cx="111960" cy="11232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89320" y="2476080"/>
              <a:ext cx="112320" cy="1123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01640" y="2476080"/>
              <a:ext cx="111960" cy="112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605600" y="4158360"/>
              <a:ext cx="887760" cy="888480"/>
              <a:chOff x="1605600" y="4158360"/>
              <a:chExt cx="887760" cy="888480"/>
            </a:xfrm>
          </p:grpSpPr>
          <p:sp>
            <p:nvSpPr>
              <p:cNvPr id="380" name=""/>
              <p:cNvSpPr/>
              <p:nvPr/>
            </p:nvSpPr>
            <p:spPr>
              <a:xfrm>
                <a:off x="1605600" y="43808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1605600" y="415836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049120" y="4158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2049120" y="43804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605600" y="445428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605600" y="452916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605600" y="460296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605600" y="46760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05600" y="475128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605600" y="482472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204912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049120" y="4528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04912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2049120" y="4675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04912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2049120" y="4824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67868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53920" y="43070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27360" y="42696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00800" y="4232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75680" y="4195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0560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7868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5392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2736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90080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7568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49120" y="46029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12292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19744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27124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4504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1956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9336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97568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1900800" y="4306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827360" y="42692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1753920" y="423180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1678680" y="41954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1975680" y="4529160"/>
                <a:ext cx="147240" cy="146880"/>
                <a:chOff x="1975680" y="4529160"/>
                <a:chExt cx="147240" cy="1468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975680" y="4529160"/>
                  <a:ext cx="147240" cy="14688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975680" y="456588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2049120" y="4565880"/>
                  <a:ext cx="7380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2049120" y="460260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4" name=""/>
            <p:cNvGrpSpPr/>
            <p:nvPr/>
          </p:nvGrpSpPr>
          <p:grpSpPr>
            <a:xfrm>
              <a:off x="2568240" y="4158360"/>
              <a:ext cx="887760" cy="888480"/>
              <a:chOff x="2568240" y="4158360"/>
              <a:chExt cx="887760" cy="888480"/>
            </a:xfrm>
          </p:grpSpPr>
          <p:sp>
            <p:nvSpPr>
              <p:cNvPr id="425" name=""/>
              <p:cNvSpPr/>
              <p:nvPr/>
            </p:nvSpPr>
            <p:spPr>
              <a:xfrm>
                <a:off x="2568240" y="43808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2568240" y="4158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12120" y="4158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012120" y="43804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56824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568240" y="4529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56824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68240" y="46760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56824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568240" y="4824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301212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3012120" y="4528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301212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3012120" y="4675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301212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3012120" y="4824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64168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716560" y="43070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790000" y="42696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863800" y="4232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938320" y="4195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6824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64168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71656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79000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86380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93832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12120" y="46029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8556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6044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3388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30768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8220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5600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293832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2863800" y="4306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2790000" y="42692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2716560" y="4231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2641680" y="41954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2863800" y="4491720"/>
                <a:ext cx="148320" cy="148320"/>
                <a:chOff x="2863800" y="4491720"/>
                <a:chExt cx="148320" cy="1483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2863800" y="449172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863800" y="45288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2937960" y="45284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V="1">
                  <a:off x="293796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012120" y="4491720"/>
                <a:ext cx="148320" cy="148320"/>
                <a:chOff x="3012120" y="4491720"/>
                <a:chExt cx="148320" cy="1483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012120" y="449172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012120" y="45288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V="1">
                  <a:off x="3086280" y="45284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V="1">
                  <a:off x="308628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2938320" y="4602960"/>
                <a:ext cx="147240" cy="148320"/>
                <a:chOff x="2938320" y="4602960"/>
                <a:chExt cx="147240" cy="1483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938320" y="460296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938320" y="464004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3011760" y="463968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>
                  <a:off x="3011760" y="46771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3521520" y="4158360"/>
              <a:ext cx="887760" cy="888480"/>
              <a:chOff x="3521520" y="4158360"/>
              <a:chExt cx="887760" cy="888480"/>
            </a:xfrm>
          </p:grpSpPr>
          <p:sp>
            <p:nvSpPr>
              <p:cNvPr id="480" name=""/>
              <p:cNvSpPr/>
              <p:nvPr/>
            </p:nvSpPr>
            <p:spPr>
              <a:xfrm>
                <a:off x="3521520" y="43808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3521520" y="415836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65040" y="4158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3965040" y="43804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21520" y="445428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21520" y="452916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21520" y="460296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21520" y="46760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521520" y="4751280"/>
                <a:ext cx="44352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521520" y="482472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396504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3965040" y="4528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396504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3965040" y="4675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396504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3965040" y="4824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9460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69840" y="430704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743280" y="42696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16720" y="4232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891600" y="4195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52152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59460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66984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4328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1672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9160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965040" y="46029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03884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11336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18716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26096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33548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40928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389160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3816720" y="4306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743280" y="42692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669840" y="4231800"/>
                <a:ext cx="44352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94600" y="41954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3743280" y="4454280"/>
                <a:ext cx="148320" cy="148320"/>
                <a:chOff x="3743280" y="4454280"/>
                <a:chExt cx="148320" cy="1483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3743280" y="445428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743280" y="44913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V="1">
                  <a:off x="3817440" y="44910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3817440" y="452844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3891600" y="4454280"/>
                <a:ext cx="147240" cy="148320"/>
                <a:chOff x="3891600" y="4454280"/>
                <a:chExt cx="147240" cy="1483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3891600" y="445428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891600" y="449136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V="1">
                  <a:off x="3965040" y="449100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V="1">
                  <a:off x="3965040" y="452844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038840" y="4454280"/>
                <a:ext cx="148320" cy="148320"/>
                <a:chOff x="4038840" y="4454280"/>
                <a:chExt cx="148320" cy="1483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038840" y="445428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038840" y="44913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4113000" y="44910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V="1">
                  <a:off x="4113000" y="452844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3816720" y="4565160"/>
                <a:ext cx="148320" cy="148320"/>
                <a:chOff x="3816720" y="4565160"/>
                <a:chExt cx="148320" cy="14832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3816720" y="456516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816720" y="46022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V="1">
                  <a:off x="3890880" y="460188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3890880" y="46393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3891600" y="4676040"/>
                <a:ext cx="147240" cy="148320"/>
                <a:chOff x="3891600" y="4676040"/>
                <a:chExt cx="147240" cy="1483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3891600" y="467604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891600" y="471312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V="1">
                  <a:off x="3965040" y="471276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V="1">
                  <a:off x="3965040" y="47502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3965040" y="4565160"/>
                <a:ext cx="148320" cy="148320"/>
                <a:chOff x="3965040" y="4565160"/>
                <a:chExt cx="148320" cy="1483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3965040" y="456516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65040" y="46022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4039200" y="460188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4039200" y="46393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"/>
            <p:cNvGrpSpPr/>
            <p:nvPr/>
          </p:nvGrpSpPr>
          <p:grpSpPr>
            <a:xfrm>
              <a:off x="4475160" y="4168080"/>
              <a:ext cx="888120" cy="887760"/>
              <a:chOff x="4475160" y="4168080"/>
              <a:chExt cx="888120" cy="887760"/>
            </a:xfrm>
          </p:grpSpPr>
          <p:sp>
            <p:nvSpPr>
              <p:cNvPr id="550" name=""/>
              <p:cNvSpPr/>
              <p:nvPr/>
            </p:nvSpPr>
            <p:spPr>
              <a:xfrm>
                <a:off x="4475160" y="438984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4475160" y="416808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919400" y="41680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4919400" y="438984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475160" y="446364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475160" y="453852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475160" y="461196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475160" y="468576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475160" y="476028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75160" y="483408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4919400" y="446364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4919400" y="453852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4919400" y="4611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4919400" y="46857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4919400" y="4760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4919400" y="48340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548600" y="43527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23480" y="431640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7280" y="4278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770720" y="424152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45600" y="42051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475160" y="4389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548600" y="4427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623480" y="44636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697280" y="45010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770720" y="45385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845600" y="4574520"/>
                <a:ext cx="0" cy="44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919400" y="46119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992480" y="4574520"/>
                <a:ext cx="0" cy="44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67720" y="45385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41160" y="45010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14600" y="44636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289480" y="4427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363280" y="4389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4845600" y="43527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4770720" y="4316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4697280" y="4278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4623480" y="4241520"/>
                <a:ext cx="44424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4548600" y="42051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4623480" y="4427280"/>
                <a:ext cx="147240" cy="147240"/>
                <a:chOff x="4623480" y="4427280"/>
                <a:chExt cx="147240" cy="14724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623480" y="4427280"/>
                  <a:ext cx="14724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623480" y="446400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V="1">
                  <a:off x="4696920" y="4464000"/>
                  <a:ext cx="7380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V="1">
                  <a:off x="4696920" y="450108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4770720" y="4427280"/>
                <a:ext cx="148320" cy="147240"/>
                <a:chOff x="4770720" y="4427280"/>
                <a:chExt cx="148320" cy="14724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4770720" y="442728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770720" y="446400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4844880" y="446400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4844880" y="450108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4919400" y="4427280"/>
                <a:ext cx="148320" cy="147240"/>
                <a:chOff x="4919400" y="4427280"/>
                <a:chExt cx="148320" cy="14724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4919400" y="442728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919400" y="446400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V="1">
                  <a:off x="4993560" y="446400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V="1">
                  <a:off x="4993560" y="450108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5067720" y="4427280"/>
                <a:ext cx="146880" cy="147240"/>
                <a:chOff x="5067720" y="4427280"/>
                <a:chExt cx="146880" cy="14724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5067720" y="4427280"/>
                  <a:ext cx="14688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067720" y="446400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5141160" y="446400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5141160" y="450108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697280" y="4538520"/>
                <a:ext cx="148320" cy="147240"/>
                <a:chOff x="4697280" y="4538520"/>
                <a:chExt cx="148320" cy="1472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697280" y="453852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697280" y="457524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4771440" y="457524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V="1">
                  <a:off x="4771440" y="461232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4845600" y="4538520"/>
                <a:ext cx="146880" cy="147240"/>
                <a:chOff x="4845600" y="4538520"/>
                <a:chExt cx="146880" cy="1472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4845600" y="4538520"/>
                  <a:ext cx="14688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45600" y="457524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4919040" y="457524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4919040" y="461232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4992480" y="4538520"/>
                <a:ext cx="148320" cy="147240"/>
                <a:chOff x="4992480" y="4538520"/>
                <a:chExt cx="148320" cy="14724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4992480" y="453852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992480" y="457524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V="1">
                  <a:off x="5066640" y="457524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V="1">
                  <a:off x="5066640" y="461232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4919400" y="4649400"/>
                <a:ext cx="148320" cy="147240"/>
                <a:chOff x="4919400" y="4649400"/>
                <a:chExt cx="148320" cy="14724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4919400" y="464940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919400" y="468612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V="1">
                  <a:off x="4993560" y="468612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V="1">
                  <a:off x="4993560" y="472320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4770720" y="4649400"/>
                <a:ext cx="148320" cy="147240"/>
                <a:chOff x="4770720" y="4649400"/>
                <a:chExt cx="148320" cy="14724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4770720" y="4649400"/>
                  <a:ext cx="14832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770720" y="468612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4844880" y="4686120"/>
                  <a:ext cx="7416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V="1">
                  <a:off x="4844880" y="472320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4845600" y="4760280"/>
                <a:ext cx="146880" cy="147240"/>
                <a:chOff x="4845600" y="4760280"/>
                <a:chExt cx="146880" cy="14724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4845600" y="4760280"/>
                  <a:ext cx="146880" cy="1472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845600" y="479700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V="1">
                  <a:off x="4919040" y="4797000"/>
                  <a:ext cx="7344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4919040" y="4834080"/>
                  <a:ext cx="0" cy="73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9" name=""/>
            <p:cNvGrpSpPr/>
            <p:nvPr/>
          </p:nvGrpSpPr>
          <p:grpSpPr>
            <a:xfrm>
              <a:off x="5428440" y="4158360"/>
              <a:ext cx="887760" cy="888480"/>
              <a:chOff x="5428440" y="4158360"/>
              <a:chExt cx="887760" cy="888480"/>
            </a:xfrm>
          </p:grpSpPr>
          <p:sp>
            <p:nvSpPr>
              <p:cNvPr id="640" name=""/>
              <p:cNvSpPr/>
              <p:nvPr/>
            </p:nvSpPr>
            <p:spPr>
              <a:xfrm>
                <a:off x="5428440" y="43808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5428440" y="4158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872320" y="4158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5872320" y="43804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42844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28440" y="4529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42844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428440" y="46760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42844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28440" y="482472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5872320" y="4454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872320" y="4528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5872320" y="460296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5872320" y="4675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5872320" y="475128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5872320" y="48243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50188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576760" y="43070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650200" y="42696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724000" y="423216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798520" y="4195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42844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50188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7676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5020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72400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9852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72320" y="46029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945760" y="456516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020640" y="452916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094080" y="449172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167880" y="445428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242400" y="4417920"/>
                <a:ext cx="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316200" y="4380840"/>
                <a:ext cx="0" cy="44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5798520" y="4343400"/>
                <a:ext cx="443880" cy="22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5724000" y="430668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5650200" y="42692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5576760" y="423180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501880" y="4195440"/>
                <a:ext cx="44388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9" name=""/>
              <p:cNvGrpSpPr/>
              <p:nvPr/>
            </p:nvGrpSpPr>
            <p:grpSpPr>
              <a:xfrm>
                <a:off x="5501880" y="4380840"/>
                <a:ext cx="148320" cy="148320"/>
                <a:chOff x="5501880" y="4380840"/>
                <a:chExt cx="148320" cy="14832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501880" y="438084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501880" y="441792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V="1">
                  <a:off x="5576040" y="4417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V="1">
                  <a:off x="5576040" y="4455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5650200" y="4380840"/>
                <a:ext cx="148320" cy="148320"/>
                <a:chOff x="5650200" y="4380840"/>
                <a:chExt cx="148320" cy="1483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5650200" y="438084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650200" y="441792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V="1">
                  <a:off x="5724360" y="4417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5724360" y="4455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5798520" y="4380840"/>
                <a:ext cx="147240" cy="148320"/>
                <a:chOff x="5798520" y="4380840"/>
                <a:chExt cx="147240" cy="14832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5798520" y="438084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798520" y="441792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V="1">
                  <a:off x="5871960" y="441756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5871960" y="4455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945760" y="4380840"/>
                <a:ext cx="148320" cy="148320"/>
                <a:chOff x="5945760" y="4380840"/>
                <a:chExt cx="148320" cy="1483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945760" y="438084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945760" y="441792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V="1">
                  <a:off x="6019920" y="4417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V="1">
                  <a:off x="6019920" y="4455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5576760" y="4491720"/>
                <a:ext cx="147240" cy="148320"/>
                <a:chOff x="5576760" y="4491720"/>
                <a:chExt cx="147240" cy="14832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5576760" y="449172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576760" y="452880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V="1">
                  <a:off x="5650200" y="452844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V="1">
                  <a:off x="565020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5724000" y="4491720"/>
                <a:ext cx="148320" cy="148320"/>
                <a:chOff x="5724000" y="4491720"/>
                <a:chExt cx="148320" cy="14832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5724000" y="449172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724000" y="45288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V="1">
                  <a:off x="5798160" y="45284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V="1">
                  <a:off x="579816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5872320" y="4491720"/>
                <a:ext cx="148320" cy="148320"/>
                <a:chOff x="5872320" y="4491720"/>
                <a:chExt cx="148320" cy="1483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872320" y="449172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872320" y="45288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V="1">
                  <a:off x="5946480" y="45284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V="1">
                  <a:off x="594648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5798520" y="4602960"/>
                <a:ext cx="147240" cy="148320"/>
                <a:chOff x="5798520" y="4602960"/>
                <a:chExt cx="147240" cy="14832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5798520" y="460296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798520" y="464004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V="1">
                  <a:off x="5871960" y="463968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V="1">
                  <a:off x="5871960" y="46771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5650200" y="4602960"/>
                <a:ext cx="148320" cy="148320"/>
                <a:chOff x="5650200" y="4602960"/>
                <a:chExt cx="148320" cy="1483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5650200" y="460296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650200" y="46400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V="1">
                  <a:off x="5724360" y="463968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V="1">
                  <a:off x="5724360" y="46771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5724000" y="4713480"/>
                <a:ext cx="148320" cy="148680"/>
                <a:chOff x="5724000" y="4713480"/>
                <a:chExt cx="148320" cy="14868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5724000" y="4713480"/>
                  <a:ext cx="148320" cy="14868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724000" y="4750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V="1">
                  <a:off x="5798160" y="47502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V="1">
                  <a:off x="5798160" y="4788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5798520" y="4824720"/>
                <a:ext cx="147240" cy="148320"/>
                <a:chOff x="5798520" y="4824720"/>
                <a:chExt cx="147240" cy="14832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5798520" y="482472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798520" y="486180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5871960" y="486144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V="1">
                  <a:off x="5871960" y="4898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5872320" y="4713480"/>
                <a:ext cx="148320" cy="148680"/>
                <a:chOff x="5872320" y="4713480"/>
                <a:chExt cx="148320" cy="14868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5872320" y="4713480"/>
                  <a:ext cx="148320" cy="14868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872320" y="4750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5946480" y="475020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V="1">
                  <a:off x="5946480" y="4788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5945760" y="4602960"/>
                <a:ext cx="148320" cy="148320"/>
                <a:chOff x="5945760" y="4602960"/>
                <a:chExt cx="148320" cy="1483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5945760" y="460296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945760" y="464004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V="1">
                  <a:off x="6019920" y="463968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V="1">
                  <a:off x="6019920" y="467712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020640" y="4491720"/>
                <a:ext cx="147240" cy="148320"/>
                <a:chOff x="6020640" y="4491720"/>
                <a:chExt cx="147240" cy="14832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020640" y="4491720"/>
                  <a:ext cx="14724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020640" y="4528800"/>
                  <a:ext cx="7344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V="1">
                  <a:off x="6094080" y="4528440"/>
                  <a:ext cx="7380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V="1">
                  <a:off x="6094080" y="456588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6094080" y="4380840"/>
                <a:ext cx="148320" cy="148320"/>
                <a:chOff x="6094080" y="4380840"/>
                <a:chExt cx="148320" cy="1483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6094080" y="4380840"/>
                  <a:ext cx="148320" cy="14832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094080" y="441792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6168240" y="4417560"/>
                  <a:ext cx="74160" cy="370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V="1">
                  <a:off x="6168240" y="4455000"/>
                  <a:ext cx="0" cy="741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4" name=""/>
            <p:cNvSpPr/>
            <p:nvPr/>
          </p:nvSpPr>
          <p:spPr>
            <a:xfrm>
              <a:off x="1145160" y="240372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45160" y="32428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45160" y="442152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609480" y="54100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rection of wavefront can chan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rt from any corner-poi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010280" y="2716200"/>
            <a:ext cx="152640" cy="1522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478320"/>
            <a:ext cx="152640" cy="152280"/>
          </a:xfrm>
          <a:prstGeom prst="rect">
            <a:avLst/>
          </a:prstGeom>
          <a:solidFill>
            <a:srgbClr val="01aa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240680" y="32940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i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240680" y="24876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85656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Band specifies that receive resources are consumed in order regardless of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messages may therefore consume much larger receiv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very large scale, many applications are dominated by small message transf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sizes vary substantially from job to job and even rank to r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p3D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934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weep3D: Receive Buffer Efficienc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p3d: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7724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PB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D 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838080" y="2282760"/>
            <a:ext cx="70106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PB Receive Buffer Efficien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D 256 Proc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401880" y="457200"/>
            <a:ext cx="20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Benchmark N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Class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61084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PB Performanc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B Class D 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670572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cket SRQ prov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erformance a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ize fits most”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need to custom-tune each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s receive buffer memory foot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25 MB was allocated for any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RNR NAKs in communication patterns we exa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dvantage of ConnectX SRC feature to reduce the number of active Q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examine our protocol at 4K+ processor count on SNL’s ThunderBird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ive Buffer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5627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ication for 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 of small messages may exhaust SRQ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of RNR NAK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lls the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de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d resource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may not complete within allotted time slot (12 + Hours for some jo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not just tune the buffer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“one size fits all” sol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size patterns differ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rocesses in the parallel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/ function in the parallel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balance optimization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foot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ning for each application run is not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Users W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performance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redictability at “acceptable” performance is mor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C users want a default/“good enough”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 tweaking is fine for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or ou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explo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I OpenFabrics-related driver parameters: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I other parameters: …man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Others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Por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memory region for unexpected messages (Receiver managed offset seman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rinet 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size receive buffers can be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specifies which size receive buffer to consume (SIZE &amp; PRIORITY fiel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ics E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ORTS manages pools of buffers of various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ceipt of an unexpected message a buffer is chosen from the relev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cket-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ed from standard bucket alloc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“buckets” of receive descriptors are created in multiple SRQ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ssociated a different size buff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mall pool of per-peer resources is also al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cket-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484280"/>
            <a:ext cx="809604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len Shipman</cp:lastModifiedBy>
  <dcterms:modified xsi:type="dcterms:W3CDTF">2007-04-30T21:15:39Z</dcterms:modified>
  <cp:revision>64</cp:revision>
  <dc:subject/>
  <dc:title>Resource Utilization in Large Scale InfiniBand Jobs </dc:title>
</cp:coreProperties>
</file>