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79CE-E7BC-4798-8438-3B40AF622E3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pn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n MPI Project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tate of the Union - April 2007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sco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+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bird Sandia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6 in Top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 Runner Los Alamo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k Opteron cores + 16k cell broadband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yote Los Alamo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80 Opteron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 ClusterTools v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planned on “v1.2ofe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some OF-specific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ommunity released v1.2.1 before OFED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ncluded</a:t>
            </a:r>
            <a:r>
              <a:rPr b="0" lang="en-US" sz="2800" spc="-1" strike="noStrike">
                <a:solidFill>
                  <a:srgbClr val="ff0900"/>
                </a:solidFill>
                <a:latin typeface="Arial"/>
              </a:rPr>
              <a:t> community OMPI v1.2.1 rele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FED v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152388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819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0481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6280" y="1371600"/>
            <a:ext cx="26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PI SV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5400" y="29354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 series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11480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360" y="4114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5715000"/>
            <a:ext cx="45720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3581280"/>
            <a:ext cx="15238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71200" y="36068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943240" y="4419720"/>
            <a:ext cx="15238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525780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8560" y="5257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4120" y="4495680"/>
            <a:ext cx="21333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5715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03160" y="55292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Selec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-based and CLI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vially set system-wide and per-user default MPI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diting of “dot” file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/ select between all installed MP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all MPI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HP MPI and Intel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oing OFA-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OF wireup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network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QP’s per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resource affinity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/ core, HCA /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path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LMC / multi-LID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oing OFA-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hronou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new Mellanox HCA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tilization of network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,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series is current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.2.1 latest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series tentatively targeted at end of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point / restart (and other 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debu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support 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collectives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F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Processor affinity (PLP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API for affinity has changed 3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number and type of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ame function name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kernel and glib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glibc may not match kern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ity is critical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with increasing core count pe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critical on NUMA machines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cality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API to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-time solution not 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mplex “configure” script to figure i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etermines glibc API, not kernel API, so it may not even be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help for shipping static binaries (IS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 run-tim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Hargrove (LBNL) devised safe kernel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 library 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PA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PI suitable for IS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D lic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performs the run-time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es to correct back-end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passes gli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series: 1.0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ming series: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1.1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between (socket,core) tuple, hardware threads, CPU node, and Linux processor I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-taskset(1)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taskset(1), but groks topolog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/ futur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MPI Testing Tool (MT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named “Middleware Testing To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(no?) MPI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pecific to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used with LAM, MPICH2, MVAPICH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s primary test mechanism for O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testing by member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MPI MTT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regression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ly and weekend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e-mailed every weekday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various resource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0" lang="en-US" sz="3200" spc="-1" strike="noStrike">
                <a:solidFill>
                  <a:srgbClr val="ff0900"/>
                </a:solidFill>
                <a:latin typeface="Arial"/>
              </a:rPr>
              <a:t>correctness and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rstone of Open MPI relea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mber tests the platforms they ca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00600" y="3962520"/>
            <a:ext cx="1523880" cy="1066680"/>
            <a:chOff x="4800600" y="3962520"/>
            <a:chExt cx="1523880" cy="1066680"/>
          </a:xfrm>
        </p:grpSpPr>
        <p:sp>
          <p:nvSpPr>
            <p:cNvPr id="168" name=""/>
            <p:cNvSpPr/>
            <p:nvPr/>
          </p:nvSpPr>
          <p:spPr>
            <a:xfrm>
              <a:off x="480060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52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80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412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72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728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162920" y="3962520"/>
            <a:ext cx="1523880" cy="1066680"/>
            <a:chOff x="7162920" y="3962520"/>
            <a:chExt cx="1523880" cy="1066680"/>
          </a:xfrm>
        </p:grpSpPr>
        <p:sp>
          <p:nvSpPr>
            <p:cNvPr id="180" name=""/>
            <p:cNvSpPr/>
            <p:nvPr/>
          </p:nvSpPr>
          <p:spPr>
            <a:xfrm>
              <a:off x="716292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152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6784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438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012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9644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504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732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5364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2960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162920" y="5181480"/>
            <a:ext cx="1523880" cy="1066680"/>
            <a:chOff x="7162920" y="5181480"/>
            <a:chExt cx="1523880" cy="1066680"/>
          </a:xfrm>
        </p:grpSpPr>
        <p:sp>
          <p:nvSpPr>
            <p:cNvPr id="192" name=""/>
            <p:cNvSpPr/>
            <p:nvPr/>
          </p:nvSpPr>
          <p:spPr>
            <a:xfrm>
              <a:off x="716292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152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6784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38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012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9644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504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100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7732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5364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2960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00600" y="5181480"/>
            <a:ext cx="1523880" cy="1066680"/>
            <a:chOff x="4800600" y="5181480"/>
            <a:chExt cx="1523880" cy="1066680"/>
          </a:xfrm>
        </p:grpSpPr>
        <p:sp>
          <p:nvSpPr>
            <p:cNvPr id="204" name=""/>
            <p:cNvSpPr/>
            <p:nvPr/>
          </p:nvSpPr>
          <p:spPr>
            <a:xfrm>
              <a:off x="480060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552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780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272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868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150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"/>
          <p:cNvCxnSpPr>
            <a:stCxn id="166" idx="2"/>
            <a:endCxn id="168" idx="3"/>
          </p:cNvCxnSpPr>
          <p:nvPr/>
        </p:nvCxnSpPr>
        <p:spPr>
          <a:xfrm rot="5400000">
            <a:off x="5724000" y="3495240"/>
            <a:ext cx="160092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66" idx="2"/>
            <a:endCxn id="180" idx="1"/>
          </p:cNvCxnSpPr>
          <p:nvPr/>
        </p:nvCxnSpPr>
        <p:spPr>
          <a:xfrm flipH="1" rot="16200000">
            <a:off x="6142680" y="3476160"/>
            <a:ext cx="160092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66" idx="2"/>
            <a:endCxn id="204" idx="3"/>
          </p:cNvCxnSpPr>
          <p:nvPr/>
        </p:nvCxnSpPr>
        <p:spPr>
          <a:xfrm rot="5400000">
            <a:off x="5114160" y="4105080"/>
            <a:ext cx="282024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166" idx="2"/>
            <a:endCxn id="192" idx="1"/>
          </p:cNvCxnSpPr>
          <p:nvPr/>
        </p:nvCxnSpPr>
        <p:spPr>
          <a:xfrm flipH="1" rot="16200000">
            <a:off x="5533200" y="4086000"/>
            <a:ext cx="282024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00600" y="3962520"/>
            <a:ext cx="1523880" cy="1066680"/>
            <a:chOff x="4800600" y="3962520"/>
            <a:chExt cx="1523880" cy="1066680"/>
          </a:xfrm>
        </p:grpSpPr>
        <p:sp>
          <p:nvSpPr>
            <p:cNvPr id="224" name=""/>
            <p:cNvSpPr/>
            <p:nvPr/>
          </p:nvSpPr>
          <p:spPr>
            <a:xfrm>
              <a:off x="480060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2920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412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868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50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132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728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162920" y="3962520"/>
            <a:ext cx="1523880" cy="1066680"/>
            <a:chOff x="7162920" y="3962520"/>
            <a:chExt cx="1523880" cy="1066680"/>
          </a:xfrm>
        </p:grpSpPr>
        <p:sp>
          <p:nvSpPr>
            <p:cNvPr id="236" name=""/>
            <p:cNvSpPr/>
            <p:nvPr/>
          </p:nvSpPr>
          <p:spPr>
            <a:xfrm>
              <a:off x="7162920" y="396252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44197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840" y="4495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380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464832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440" y="4724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5040" y="44197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01000" y="4495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77320" y="457200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53640" y="464832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600" y="4724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62920" y="5181480"/>
            <a:ext cx="1523880" cy="1066680"/>
            <a:chOff x="7162920" y="5181480"/>
            <a:chExt cx="1523880" cy="1066680"/>
          </a:xfrm>
        </p:grpSpPr>
        <p:sp>
          <p:nvSpPr>
            <p:cNvPr id="248" name=""/>
            <p:cNvSpPr/>
            <p:nvPr/>
          </p:nvSpPr>
          <p:spPr>
            <a:xfrm>
              <a:off x="716292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84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38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012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9644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504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100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364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60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800600" y="5181480"/>
            <a:ext cx="1523880" cy="1066680"/>
            <a:chOff x="4800600" y="5181480"/>
            <a:chExt cx="1523880" cy="1066680"/>
          </a:xfrm>
        </p:grpSpPr>
        <p:sp>
          <p:nvSpPr>
            <p:cNvPr id="260" name=""/>
            <p:cNvSpPr/>
            <p:nvPr/>
          </p:nvSpPr>
          <p:spPr>
            <a:xfrm>
              <a:off x="4800600" y="5181480"/>
              <a:ext cx="1523880" cy="106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er s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29200" y="56386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520" y="57146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148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586728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594324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2720" y="56386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57146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5000" y="579096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5867280"/>
              <a:ext cx="30456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5943240"/>
              <a:ext cx="304920" cy="2286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22" idx="2"/>
            <a:endCxn id="224" idx="3"/>
          </p:cNvCxnSpPr>
          <p:nvPr/>
        </p:nvCxnSpPr>
        <p:spPr>
          <a:xfrm rot="5400000">
            <a:off x="5724000" y="3495240"/>
            <a:ext cx="160092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2" name=""/>
          <p:cNvCxnSpPr>
            <a:stCxn id="222" idx="2"/>
            <a:endCxn id="236" idx="1"/>
          </p:cNvCxnSpPr>
          <p:nvPr/>
        </p:nvCxnSpPr>
        <p:spPr>
          <a:xfrm flipH="1" rot="16200000">
            <a:off x="6142680" y="3476160"/>
            <a:ext cx="160092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3" name=""/>
          <p:cNvCxnSpPr>
            <a:stCxn id="222" idx="2"/>
            <a:endCxn id="260" idx="3"/>
          </p:cNvCxnSpPr>
          <p:nvPr/>
        </p:nvCxnSpPr>
        <p:spPr>
          <a:xfrm rot="5400000">
            <a:off x="5114160" y="4105080"/>
            <a:ext cx="2820240" cy="40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22" idx="2"/>
            <a:endCxn id="248" idx="1"/>
          </p:cNvCxnSpPr>
          <p:nvPr/>
        </p:nvCxnSpPr>
        <p:spPr>
          <a:xfrm flipH="1" rot="16200000">
            <a:off x="5533200" y="4086000"/>
            <a:ext cx="2820240" cy="43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2133720"/>
            <a:ext cx="533160" cy="6094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600880" y="1676520"/>
            <a:ext cx="224784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.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2209680"/>
            <a:ext cx="685800" cy="5335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rb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2133720"/>
            <a:ext cx="533160" cy="6094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9" idx="2"/>
            <a:endCxn id="283" idx="0"/>
          </p:cNvCxnSpPr>
          <p:nvPr/>
        </p:nvCxnSpPr>
        <p:spPr>
          <a:xfrm flipH="1" rot="16200000">
            <a:off x="6524640" y="3095280"/>
            <a:ext cx="1372320" cy="972000"/>
          </a:xfrm>
          <a:prstGeom prst="curvedConnector5">
            <a:avLst>
              <a:gd name="adj1" fmla="val 49986"/>
              <a:gd name="adj2" fmla="val 49981"/>
              <a:gd name="adj3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9" idx="2"/>
            <a:endCxn id="285" idx="0"/>
          </p:cNvCxnSpPr>
          <p:nvPr/>
        </p:nvCxnSpPr>
        <p:spPr>
          <a:xfrm rot="5400000">
            <a:off x="5819400" y="2676240"/>
            <a:ext cx="686520" cy="112464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ly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tarballs created at Indiana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arball an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ru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upload results to centr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sent at 12 and 24 hou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web que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438280" cy="1484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236196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ge in Open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available to all OMPI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“encourag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results examined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and 24 hour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e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T software to be released publicly later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en MPI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just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real-world H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join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OpenFabrics support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nanswer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ty of room for academic and industry ongo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2057400"/>
            <a:ext cx="8534160" cy="411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www.open-mpi.or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181320" y="2192400"/>
            <a:ext cx="2781360" cy="2760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09480" y="2057400"/>
            <a:ext cx="8001000" cy="403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Open MPI ex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PI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/ 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on [literally] years of MPI research and implementatio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is greater than th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39912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2600" y="327672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410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eparate from M[VA]PI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, inclusiv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limited to just Open Fa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: TCP, shared memory, OFED* (MVAPICH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PI-specific: Myrinet, Portals, Infin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[VA]PICH have different projec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oth chose to remain sep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memb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members, 6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US DOE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1442880" cy="357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19440" y="309888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172200" y="5715000"/>
            <a:ext cx="1828800" cy="48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1671840" cy="1058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1500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33520" y="4267080"/>
            <a:ext cx="1498320" cy="6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514600" y="495288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2362320" y="441972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5105520" y="21337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3962520" y="510552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3927600" y="4267080"/>
            <a:ext cx="1287360" cy="50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5410080" y="49528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7010280" y="5105520"/>
            <a:ext cx="1524240" cy="42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7010280" y="285768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7086600" y="17524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7924680" y="365760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6477120" y="3733920"/>
            <a:ext cx="15048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-so-subtle h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ove to see an iWARP vendor in the li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ease come talk to 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Project” is an umbrella organization for multipl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P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E:Open Run-Ti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P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 Linux Processor Aff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(Middleware) Test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: Open MPI / 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released new 1.2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-related changes compared to v1.1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overall performance, lots of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for run-time/launch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ocate installed MPI (good for IS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fork() with OFED 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ixed limits for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s for heterogeneous network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InfiniPath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sio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43040" y="1523880"/>
            <a:ext cx="76579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Jeff Squyres</cp:lastModifiedBy>
  <dcterms:modified xsi:type="dcterms:W3CDTF">2007-04-30T19:35:12Z</dcterms:modified>
  <cp:revision>145</cp:revision>
  <dc:subject/>
  <dc:title>Slide 1</dc:title>
</cp:coreProperties>
</file>