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_rels/slideMaster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9.wmf" ContentType="image/x-wmf"/>
  <Override PartName="/ppt/media/image6.png" ContentType="image/png"/>
  <Override PartName="/ppt/media/image7.png" ContentType="image/png"/>
  <Override PartName="/ppt/media/image8.png" ContentType="image/png"/>
  <Override PartName="/ppt/media/image10.png" ContentType="image/png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</p:sldMasterIdLst>
  <p:notesMasterIdLst>
    <p:notesMasterId r:id="rId19"/>
  </p:notes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  <p:sldId id="264" r:id="rId28"/>
    <p:sldId id="265" r:id="rId29"/>
    <p:sldId id="266" r:id="rId30"/>
    <p:sldId id="267" r:id="rId31"/>
    <p:sldId id="268" r:id="rId32"/>
    <p:sldId id="269" r:id="rId33"/>
    <p:sldId id="270" r:id="rId34"/>
    <p:sldId id="271" r:id="rId35"/>
    <p:sldId id="272" r:id="rId36"/>
    <p:sldId id="273" r:id="rId37"/>
    <p:sldId id="274" r:id="rId38"/>
    <p:sldId id="275" r:id="rId39"/>
    <p:sldId id="276" r:id="rId40"/>
    <p:sldId id="277" r:id="rId41"/>
    <p:sldId id="278" r:id="rId42"/>
    <p:sldId id="279" r:id="rId43"/>
    <p:sldId id="280" r:id="rId44"/>
    <p:sldId id="281" r:id="rId45"/>
    <p:sldId id="282" r:id="rId4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notesMaster" Target="notesMasters/notesMaster1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slide" Target="slides/slide9.xml"/><Relationship Id="rId29" Type="http://schemas.openxmlformats.org/officeDocument/2006/relationships/slide" Target="slides/slide10.xml"/><Relationship Id="rId30" Type="http://schemas.openxmlformats.org/officeDocument/2006/relationships/slide" Target="slides/slide11.xml"/><Relationship Id="rId31" Type="http://schemas.openxmlformats.org/officeDocument/2006/relationships/slide" Target="slides/slide12.xml"/><Relationship Id="rId32" Type="http://schemas.openxmlformats.org/officeDocument/2006/relationships/slide" Target="slides/slide13.xml"/><Relationship Id="rId33" Type="http://schemas.openxmlformats.org/officeDocument/2006/relationships/slide" Target="slides/slide14.xml"/><Relationship Id="rId34" Type="http://schemas.openxmlformats.org/officeDocument/2006/relationships/slide" Target="slides/slide15.xml"/><Relationship Id="rId35" Type="http://schemas.openxmlformats.org/officeDocument/2006/relationships/slide" Target="slides/slide16.xml"/><Relationship Id="rId36" Type="http://schemas.openxmlformats.org/officeDocument/2006/relationships/slide" Target="slides/slide17.xml"/><Relationship Id="rId37" Type="http://schemas.openxmlformats.org/officeDocument/2006/relationships/slide" Target="slides/slide18.xml"/><Relationship Id="rId38" Type="http://schemas.openxmlformats.org/officeDocument/2006/relationships/slide" Target="slides/slide19.xml"/><Relationship Id="rId39" Type="http://schemas.openxmlformats.org/officeDocument/2006/relationships/slide" Target="slides/slide20.xml"/><Relationship Id="rId40" Type="http://schemas.openxmlformats.org/officeDocument/2006/relationships/slide" Target="slides/slide21.xml"/><Relationship Id="rId41" Type="http://schemas.openxmlformats.org/officeDocument/2006/relationships/slide" Target="slides/slide22.xml"/><Relationship Id="rId42" Type="http://schemas.openxmlformats.org/officeDocument/2006/relationships/slide" Target="slides/slide23.xml"/><Relationship Id="rId43" Type="http://schemas.openxmlformats.org/officeDocument/2006/relationships/slide" Target="slides/slide24.xml"/><Relationship Id="rId44" Type="http://schemas.openxmlformats.org/officeDocument/2006/relationships/slide" Target="slides/slide25.xml"/><Relationship Id="rId45" Type="http://schemas.openxmlformats.org/officeDocument/2006/relationships/slide" Target="slides/slide26.xml"/><Relationship Id="rId46" Type="http://schemas.openxmlformats.org/officeDocument/2006/relationships/slide" Target="slides/slide27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3" name="AutoShape 1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4" name="AutoShape 2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5" name="AutoShape 3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6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165480" cy="48276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 type="dt" idx="16"/>
          </p:nvPr>
        </p:nvSpPr>
        <p:spPr>
          <a:xfrm>
            <a:off x="4144680" y="-360"/>
            <a:ext cx="3165480" cy="48276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 type="sldImg"/>
          </p:nvPr>
        </p:nvSpPr>
        <p:spPr>
          <a:xfrm>
            <a:off x="1257120" y="719280"/>
            <a:ext cx="4800600" cy="3598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 Black"/>
              </a:rPr>
              <a:t>Click to move the slide</a:t>
            </a: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 type="body"/>
          </p:nvPr>
        </p:nvSpPr>
        <p:spPr>
          <a:xfrm>
            <a:off x="977760" y="4562280"/>
            <a:ext cx="5354640" cy="431460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PlaceHolder 5"/>
          <p:cNvSpPr>
            <a:spLocks noGrp="1"/>
          </p:cNvSpPr>
          <p:nvPr>
            <p:ph type="ftr" idx="17"/>
          </p:nvPr>
        </p:nvSpPr>
        <p:spPr>
          <a:xfrm>
            <a:off x="-360" y="9116640"/>
            <a:ext cx="3165480" cy="48276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8240" bIns="482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3rd OFA Workshop April 30, 2007, Sonom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PlaceHolder 6"/>
          <p:cNvSpPr>
            <a:spLocks noGrp="1"/>
          </p:cNvSpPr>
          <p:nvPr>
            <p:ph type="sldNum" idx="18"/>
          </p:nvPr>
        </p:nvSpPr>
        <p:spPr>
          <a:xfrm>
            <a:off x="4144680" y="9116640"/>
            <a:ext cx="3165480" cy="48276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C6AED1-B85D-4F29-8F87-F1096455CD4C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Rectangle 9"/>
          <p:cNvSpPr/>
          <p:nvPr/>
        </p:nvSpPr>
        <p:spPr>
          <a:xfrm>
            <a:off x="4145040" y="9117000"/>
            <a:ext cx="31654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B57446-4E9A-4423-8726-3FCB38286D17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5" name="Text Box 1"/>
          <p:cNvSpPr/>
          <p:nvPr/>
        </p:nvSpPr>
        <p:spPr>
          <a:xfrm>
            <a:off x="1257480" y="719280"/>
            <a:ext cx="4805280" cy="360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6" name="PlaceHolder 1"/>
          <p:cNvSpPr>
            <a:spLocks noGrp="1"/>
          </p:cNvSpPr>
          <p:nvPr>
            <p:ph type="body"/>
          </p:nvPr>
        </p:nvSpPr>
        <p:spPr>
          <a:xfrm>
            <a:off x="977400" y="4562640"/>
            <a:ext cx="5356440" cy="431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Footer Placeholder 7"/>
          <p:cNvSpPr/>
          <p:nvPr/>
        </p:nvSpPr>
        <p:spPr>
          <a:xfrm>
            <a:off x="0" y="9117000"/>
            <a:ext cx="31654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8240" bIns="482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3rd OFA Workshop April 30, 2007, Sonoma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sldImg"/>
          </p:nvPr>
        </p:nvSpPr>
        <p:spPr>
          <a:xfrm>
            <a:off x="1258920" y="719280"/>
            <a:ext cx="4797360" cy="3598560"/>
          </a:xfrm>
          <a:prstGeom prst="rect">
            <a:avLst/>
          </a:prstGeom>
          <a:ln w="0">
            <a:noFill/>
          </a:ln>
        </p:spPr>
      </p:sp>
      <p:sp>
        <p:nvSpPr>
          <p:cNvPr id="958" name="PlaceHolder 2"/>
          <p:cNvSpPr>
            <a:spLocks noGrp="1"/>
          </p:cNvSpPr>
          <p:nvPr>
            <p:ph type="body"/>
          </p:nvPr>
        </p:nvSpPr>
        <p:spPr>
          <a:xfrm>
            <a:off x="977760" y="4562280"/>
            <a:ext cx="5354640" cy="43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Slide Number Placeholder 3"/>
          <p:cNvSpPr/>
          <p:nvPr/>
        </p:nvSpPr>
        <p:spPr>
          <a:xfrm>
            <a:off x="4145040" y="9117000"/>
            <a:ext cx="31654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69BFF7-4750-4CC7-9D2E-7A39FC44E63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Rectangle 7"/>
          <p:cNvSpPr/>
          <p:nvPr/>
        </p:nvSpPr>
        <p:spPr>
          <a:xfrm>
            <a:off x="4145040" y="9117000"/>
            <a:ext cx="31654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EA15A2-D6FF-4EA8-BA3E-530E2A9D0CC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1" name="PlaceHolder 1"/>
          <p:cNvSpPr>
            <a:spLocks noGrp="1"/>
          </p:cNvSpPr>
          <p:nvPr>
            <p:ph type="sldImg"/>
          </p:nvPr>
        </p:nvSpPr>
        <p:spPr>
          <a:xfrm>
            <a:off x="1258920" y="719280"/>
            <a:ext cx="4797360" cy="3598560"/>
          </a:xfrm>
          <a:prstGeom prst="rect">
            <a:avLst/>
          </a:prstGeom>
          <a:ln w="0">
            <a:noFill/>
          </a:ln>
        </p:spPr>
      </p:sp>
      <p:sp>
        <p:nvSpPr>
          <p:cNvPr id="962" name="PlaceHolder 2"/>
          <p:cNvSpPr>
            <a:spLocks noGrp="1"/>
          </p:cNvSpPr>
          <p:nvPr>
            <p:ph type="body"/>
          </p:nvPr>
        </p:nvSpPr>
        <p:spPr>
          <a:xfrm>
            <a:off x="977760" y="4562280"/>
            <a:ext cx="5354640" cy="43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Rectangle 7"/>
          <p:cNvSpPr/>
          <p:nvPr/>
        </p:nvSpPr>
        <p:spPr>
          <a:xfrm>
            <a:off x="4145040" y="9117000"/>
            <a:ext cx="31654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267CFD-1A70-4A82-BF46-CEDF88D8B8B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4" name="Text Box 2"/>
          <p:cNvSpPr/>
          <p:nvPr/>
        </p:nvSpPr>
        <p:spPr>
          <a:xfrm>
            <a:off x="1290600" y="728640"/>
            <a:ext cx="47340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5" name="PlaceHolder 1"/>
          <p:cNvSpPr>
            <a:spLocks noGrp="1"/>
          </p:cNvSpPr>
          <p:nvPr>
            <p:ph type="body"/>
          </p:nvPr>
        </p:nvSpPr>
        <p:spPr>
          <a:xfrm>
            <a:off x="731880" y="4559040"/>
            <a:ext cx="585000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Rectangle 7"/>
          <p:cNvSpPr/>
          <p:nvPr/>
        </p:nvSpPr>
        <p:spPr>
          <a:xfrm>
            <a:off x="4145040" y="9117000"/>
            <a:ext cx="31654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897707-F7AF-4C69-88E9-37265E523B6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7" name="Text Box 2"/>
          <p:cNvSpPr/>
          <p:nvPr/>
        </p:nvSpPr>
        <p:spPr>
          <a:xfrm>
            <a:off x="1290600" y="728640"/>
            <a:ext cx="47340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8" name="PlaceHolder 1"/>
          <p:cNvSpPr>
            <a:spLocks noGrp="1"/>
          </p:cNvSpPr>
          <p:nvPr>
            <p:ph type="body"/>
          </p:nvPr>
        </p:nvSpPr>
        <p:spPr>
          <a:xfrm>
            <a:off x="731880" y="4559040"/>
            <a:ext cx="585000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Rectangle 7"/>
          <p:cNvSpPr/>
          <p:nvPr/>
        </p:nvSpPr>
        <p:spPr>
          <a:xfrm>
            <a:off x="4145040" y="9117000"/>
            <a:ext cx="31654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6852D5-4DA7-4DDA-B438-32E9AD5365A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0" name="Text Box 2"/>
          <p:cNvSpPr/>
          <p:nvPr/>
        </p:nvSpPr>
        <p:spPr>
          <a:xfrm>
            <a:off x="1290600" y="728640"/>
            <a:ext cx="47340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1" name="PlaceHolder 1"/>
          <p:cNvSpPr>
            <a:spLocks noGrp="1"/>
          </p:cNvSpPr>
          <p:nvPr>
            <p:ph type="body"/>
          </p:nvPr>
        </p:nvSpPr>
        <p:spPr>
          <a:xfrm>
            <a:off x="731880" y="4559040"/>
            <a:ext cx="585000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Rectangle 7"/>
          <p:cNvSpPr/>
          <p:nvPr/>
        </p:nvSpPr>
        <p:spPr>
          <a:xfrm>
            <a:off x="4145040" y="9117000"/>
            <a:ext cx="31654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456ED7-D668-4BDD-AD9D-B0C2D5178F3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3" name="Text Box 2"/>
          <p:cNvSpPr/>
          <p:nvPr/>
        </p:nvSpPr>
        <p:spPr>
          <a:xfrm>
            <a:off x="1290600" y="728640"/>
            <a:ext cx="47340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4" name="PlaceHolder 1"/>
          <p:cNvSpPr>
            <a:spLocks noGrp="1"/>
          </p:cNvSpPr>
          <p:nvPr>
            <p:ph type="body"/>
          </p:nvPr>
        </p:nvSpPr>
        <p:spPr>
          <a:xfrm>
            <a:off x="731880" y="4559040"/>
            <a:ext cx="585000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Rectangle 7"/>
          <p:cNvSpPr/>
          <p:nvPr/>
        </p:nvSpPr>
        <p:spPr>
          <a:xfrm>
            <a:off x="4145040" y="9117000"/>
            <a:ext cx="31654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6F4B57-7F5F-4EF9-AC0E-756C5188008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6" name="Text Box 2"/>
          <p:cNvSpPr/>
          <p:nvPr/>
        </p:nvSpPr>
        <p:spPr>
          <a:xfrm>
            <a:off x="1290600" y="728640"/>
            <a:ext cx="4732200" cy="3598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7" name="PlaceHolder 1"/>
          <p:cNvSpPr>
            <a:spLocks noGrp="1"/>
          </p:cNvSpPr>
          <p:nvPr>
            <p:ph type="body"/>
          </p:nvPr>
        </p:nvSpPr>
        <p:spPr>
          <a:xfrm>
            <a:off x="731880" y="4559040"/>
            <a:ext cx="585000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Rectangle 7"/>
          <p:cNvSpPr/>
          <p:nvPr/>
        </p:nvSpPr>
        <p:spPr>
          <a:xfrm>
            <a:off x="4145040" y="9117000"/>
            <a:ext cx="31654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FA85A5-4578-425F-ADA3-0E51C06EEB6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9" name="Text Box 2"/>
          <p:cNvSpPr/>
          <p:nvPr/>
        </p:nvSpPr>
        <p:spPr>
          <a:xfrm>
            <a:off x="1290600" y="728640"/>
            <a:ext cx="47340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0" name="PlaceHolder 1"/>
          <p:cNvSpPr>
            <a:spLocks noGrp="1"/>
          </p:cNvSpPr>
          <p:nvPr>
            <p:ph type="body"/>
          </p:nvPr>
        </p:nvSpPr>
        <p:spPr>
          <a:xfrm>
            <a:off x="731880" y="4559040"/>
            <a:ext cx="585000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Rectangle 7"/>
          <p:cNvSpPr/>
          <p:nvPr/>
        </p:nvSpPr>
        <p:spPr>
          <a:xfrm>
            <a:off x="4145040" y="9117000"/>
            <a:ext cx="31654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536860-01E5-4F4F-A84C-74FEA68FBD2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2" name="Text Box 2"/>
          <p:cNvSpPr/>
          <p:nvPr/>
        </p:nvSpPr>
        <p:spPr>
          <a:xfrm>
            <a:off x="2286000" y="728640"/>
            <a:ext cx="27432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3" name="PlaceHolder 1"/>
          <p:cNvSpPr>
            <a:spLocks noGrp="1"/>
          </p:cNvSpPr>
          <p:nvPr>
            <p:ph type="body"/>
          </p:nvPr>
        </p:nvSpPr>
        <p:spPr>
          <a:xfrm>
            <a:off x="731880" y="4559040"/>
            <a:ext cx="585000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Rectangle 7"/>
          <p:cNvSpPr/>
          <p:nvPr/>
        </p:nvSpPr>
        <p:spPr>
          <a:xfrm>
            <a:off x="4145040" y="9117000"/>
            <a:ext cx="31654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AE4A51-A097-4EC5-B6E7-81F6B2C0630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5" name="Text Box 2"/>
          <p:cNvSpPr/>
          <p:nvPr/>
        </p:nvSpPr>
        <p:spPr>
          <a:xfrm>
            <a:off x="1290600" y="728640"/>
            <a:ext cx="47340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6" name="PlaceHolder 1"/>
          <p:cNvSpPr>
            <a:spLocks noGrp="1"/>
          </p:cNvSpPr>
          <p:nvPr>
            <p:ph type="body"/>
          </p:nvPr>
        </p:nvSpPr>
        <p:spPr>
          <a:xfrm>
            <a:off x="731880" y="4559040"/>
            <a:ext cx="585000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sldImg"/>
          </p:nvPr>
        </p:nvSpPr>
        <p:spPr>
          <a:xfrm>
            <a:off x="1258920" y="719280"/>
            <a:ext cx="4797360" cy="3598560"/>
          </a:xfrm>
          <a:prstGeom prst="rect">
            <a:avLst/>
          </a:prstGeom>
          <a:ln w="0">
            <a:noFill/>
          </a:ln>
        </p:spPr>
      </p:sp>
      <p:sp>
        <p:nvSpPr>
          <p:cNvPr id="929" name="PlaceHolder 2"/>
          <p:cNvSpPr>
            <a:spLocks noGrp="1"/>
          </p:cNvSpPr>
          <p:nvPr>
            <p:ph type="body"/>
          </p:nvPr>
        </p:nvSpPr>
        <p:spPr>
          <a:xfrm>
            <a:off x="977760" y="4562280"/>
            <a:ext cx="5354640" cy="43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Footer Placeholder 3"/>
          <p:cNvSpPr/>
          <p:nvPr/>
        </p:nvSpPr>
        <p:spPr>
          <a:xfrm>
            <a:off x="0" y="9117000"/>
            <a:ext cx="31654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8240" bIns="482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3rd OFA Workshop April 30, 2007, Sonoma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1" name="Slide Number Placeholder 4"/>
          <p:cNvSpPr/>
          <p:nvPr/>
        </p:nvSpPr>
        <p:spPr>
          <a:xfrm>
            <a:off x="4145040" y="9117000"/>
            <a:ext cx="31654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3E7092-7D9D-4304-9520-1C17A24B1B28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Rectangle 9"/>
          <p:cNvSpPr/>
          <p:nvPr/>
        </p:nvSpPr>
        <p:spPr>
          <a:xfrm>
            <a:off x="4145040" y="9117000"/>
            <a:ext cx="31654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F7DA99-2240-4B3E-B148-7EDFC5C4ECB6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8" name="Text Box 1"/>
          <p:cNvSpPr/>
          <p:nvPr/>
        </p:nvSpPr>
        <p:spPr>
          <a:xfrm>
            <a:off x="1257480" y="719280"/>
            <a:ext cx="4805280" cy="360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9" name="PlaceHolder 1"/>
          <p:cNvSpPr>
            <a:spLocks noGrp="1"/>
          </p:cNvSpPr>
          <p:nvPr>
            <p:ph type="body"/>
          </p:nvPr>
        </p:nvSpPr>
        <p:spPr>
          <a:xfrm>
            <a:off x="977400" y="4562640"/>
            <a:ext cx="5356440" cy="431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Footer Placeholder 7"/>
          <p:cNvSpPr/>
          <p:nvPr/>
        </p:nvSpPr>
        <p:spPr>
          <a:xfrm>
            <a:off x="0" y="9117000"/>
            <a:ext cx="31654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8240" bIns="482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3rd OFA Workshop April 30, 2007, Sonoma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sldImg"/>
          </p:nvPr>
        </p:nvSpPr>
        <p:spPr>
          <a:xfrm>
            <a:off x="1258920" y="719280"/>
            <a:ext cx="4797360" cy="3598560"/>
          </a:xfrm>
          <a:prstGeom prst="rect">
            <a:avLst/>
          </a:prstGeom>
          <a:ln w="0">
            <a:noFill/>
          </a:ln>
        </p:spPr>
      </p:sp>
      <p:sp>
        <p:nvSpPr>
          <p:cNvPr id="992" name="PlaceHolder 2"/>
          <p:cNvSpPr>
            <a:spLocks noGrp="1"/>
          </p:cNvSpPr>
          <p:nvPr>
            <p:ph type="body"/>
          </p:nvPr>
        </p:nvSpPr>
        <p:spPr>
          <a:xfrm>
            <a:off x="977760" y="4562280"/>
            <a:ext cx="5354640" cy="43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Footer Placeholder 3"/>
          <p:cNvSpPr/>
          <p:nvPr/>
        </p:nvSpPr>
        <p:spPr>
          <a:xfrm>
            <a:off x="0" y="9117000"/>
            <a:ext cx="31654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8240" bIns="482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3rd OFA Workshop April 30, 2007, Sonoma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4" name="Slide Number Placeholder 4"/>
          <p:cNvSpPr/>
          <p:nvPr/>
        </p:nvSpPr>
        <p:spPr>
          <a:xfrm>
            <a:off x="4145040" y="9117000"/>
            <a:ext cx="31654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AE405C-5B69-406C-A26C-5FA3A8817814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58920" y="719280"/>
            <a:ext cx="4797360" cy="359856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77760" y="4562280"/>
            <a:ext cx="5354640" cy="43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Footer Placeholder 3"/>
          <p:cNvSpPr/>
          <p:nvPr/>
        </p:nvSpPr>
        <p:spPr>
          <a:xfrm>
            <a:off x="0" y="9117000"/>
            <a:ext cx="31654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8240" bIns="482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3rd OFA Workshop April 30, 2007, Sonoma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8" name="Slide Number Placeholder 4"/>
          <p:cNvSpPr/>
          <p:nvPr/>
        </p:nvSpPr>
        <p:spPr>
          <a:xfrm>
            <a:off x="4145040" y="9117000"/>
            <a:ext cx="31654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E85641-7D4D-4254-8222-1C0A34644A4D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Rectangle 9"/>
          <p:cNvSpPr/>
          <p:nvPr/>
        </p:nvSpPr>
        <p:spPr>
          <a:xfrm>
            <a:off x="4145040" y="9117000"/>
            <a:ext cx="31654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12FF72-3D60-4669-B5C1-93C934417A1A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0" name="Text Box 1"/>
          <p:cNvSpPr/>
          <p:nvPr/>
        </p:nvSpPr>
        <p:spPr>
          <a:xfrm>
            <a:off x="1257480" y="719280"/>
            <a:ext cx="4805280" cy="360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1" name="PlaceHolder 1"/>
          <p:cNvSpPr>
            <a:spLocks noGrp="1"/>
          </p:cNvSpPr>
          <p:nvPr>
            <p:ph type="body"/>
          </p:nvPr>
        </p:nvSpPr>
        <p:spPr>
          <a:xfrm>
            <a:off x="977400" y="4562640"/>
            <a:ext cx="5356440" cy="431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Footer Placeholder 7"/>
          <p:cNvSpPr/>
          <p:nvPr/>
        </p:nvSpPr>
        <p:spPr>
          <a:xfrm>
            <a:off x="0" y="9117000"/>
            <a:ext cx="31654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8240" bIns="482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3rd OFA Workshop April 30, 2007, Sonoma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58920" y="719280"/>
            <a:ext cx="4797360" cy="359856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77760" y="4562280"/>
            <a:ext cx="5354640" cy="43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Footer Placeholder 3"/>
          <p:cNvSpPr/>
          <p:nvPr/>
        </p:nvSpPr>
        <p:spPr>
          <a:xfrm>
            <a:off x="0" y="9117000"/>
            <a:ext cx="31654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8240" bIns="482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3rd OFA Workshop April 30, 2007, Sonoma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6" name="Slide Number Placeholder 4"/>
          <p:cNvSpPr/>
          <p:nvPr/>
        </p:nvSpPr>
        <p:spPr>
          <a:xfrm>
            <a:off x="4145040" y="9117000"/>
            <a:ext cx="31654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487645-BD6E-441F-B323-B7D7DB2786B9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Rectangle 9"/>
          <p:cNvSpPr/>
          <p:nvPr/>
        </p:nvSpPr>
        <p:spPr>
          <a:xfrm>
            <a:off x="4145040" y="9117000"/>
            <a:ext cx="31654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E57016-3008-45F9-ABFC-98EF35DBFAC7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8" name="Text Box 1"/>
          <p:cNvSpPr/>
          <p:nvPr/>
        </p:nvSpPr>
        <p:spPr>
          <a:xfrm>
            <a:off x="1258920" y="719280"/>
            <a:ext cx="4805280" cy="360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9" name="PlaceHolder 1"/>
          <p:cNvSpPr>
            <a:spLocks noGrp="1"/>
          </p:cNvSpPr>
          <p:nvPr>
            <p:ph type="body"/>
          </p:nvPr>
        </p:nvSpPr>
        <p:spPr>
          <a:xfrm>
            <a:off x="977400" y="4562640"/>
            <a:ext cx="5356440" cy="431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Footer Placeholder 7"/>
          <p:cNvSpPr/>
          <p:nvPr/>
        </p:nvSpPr>
        <p:spPr>
          <a:xfrm>
            <a:off x="0" y="9117000"/>
            <a:ext cx="31654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8240" bIns="482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3rd OFA Workshop April 30, 2007, Sonoma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sldImg"/>
          </p:nvPr>
        </p:nvSpPr>
        <p:spPr>
          <a:xfrm>
            <a:off x="1258920" y="719280"/>
            <a:ext cx="4797360" cy="3598560"/>
          </a:xfrm>
          <a:prstGeom prst="rect">
            <a:avLst/>
          </a:prstGeom>
          <a:ln w="0">
            <a:noFill/>
          </a:ln>
        </p:spPr>
      </p:sp>
      <p:sp>
        <p:nvSpPr>
          <p:cNvPr id="933" name="PlaceHolder 2"/>
          <p:cNvSpPr>
            <a:spLocks noGrp="1"/>
          </p:cNvSpPr>
          <p:nvPr>
            <p:ph type="body"/>
          </p:nvPr>
        </p:nvSpPr>
        <p:spPr>
          <a:xfrm>
            <a:off x="977760" y="4562280"/>
            <a:ext cx="5354640" cy="43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Footer Placeholder 3"/>
          <p:cNvSpPr/>
          <p:nvPr/>
        </p:nvSpPr>
        <p:spPr>
          <a:xfrm>
            <a:off x="0" y="9117000"/>
            <a:ext cx="31654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8240" bIns="482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3rd OFA Workshop April 30, 2007, Sonoma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5" name="Slide Number Placeholder 4"/>
          <p:cNvSpPr/>
          <p:nvPr/>
        </p:nvSpPr>
        <p:spPr>
          <a:xfrm>
            <a:off x="4145040" y="9117000"/>
            <a:ext cx="31654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8D9ED3-397F-4907-805E-0C24B1409534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Rectangle 7"/>
          <p:cNvSpPr/>
          <p:nvPr/>
        </p:nvSpPr>
        <p:spPr>
          <a:xfrm>
            <a:off x="4145040" y="9117000"/>
            <a:ext cx="31654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754AB2-76C6-4C87-A253-A3A0478003C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sldImg"/>
          </p:nvPr>
        </p:nvSpPr>
        <p:spPr>
          <a:xfrm>
            <a:off x="1268280" y="719280"/>
            <a:ext cx="4803840" cy="3603600"/>
          </a:xfrm>
          <a:prstGeom prst="rect">
            <a:avLst/>
          </a:prstGeom>
          <a:ln w="0">
            <a:noFill/>
          </a:ln>
        </p:spPr>
      </p:sp>
      <p:sp>
        <p:nvSpPr>
          <p:cNvPr id="938" name="PlaceHolder 2"/>
          <p:cNvSpPr>
            <a:spLocks noGrp="1"/>
          </p:cNvSpPr>
          <p:nvPr>
            <p:ph type="body"/>
          </p:nvPr>
        </p:nvSpPr>
        <p:spPr>
          <a:xfrm>
            <a:off x="979200" y="4562640"/>
            <a:ext cx="5357880" cy="43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sldImg"/>
          </p:nvPr>
        </p:nvSpPr>
        <p:spPr>
          <a:xfrm>
            <a:off x="1258920" y="719280"/>
            <a:ext cx="4797360" cy="3598560"/>
          </a:xfrm>
          <a:prstGeom prst="rect">
            <a:avLst/>
          </a:prstGeom>
          <a:ln w="0">
            <a:noFill/>
          </a:ln>
        </p:spPr>
      </p:sp>
      <p:sp>
        <p:nvSpPr>
          <p:cNvPr id="940" name="PlaceHolder 2"/>
          <p:cNvSpPr>
            <a:spLocks noGrp="1"/>
          </p:cNvSpPr>
          <p:nvPr>
            <p:ph type="body"/>
          </p:nvPr>
        </p:nvSpPr>
        <p:spPr>
          <a:xfrm>
            <a:off x="977760" y="4562280"/>
            <a:ext cx="5354640" cy="43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Footer Placeholder 3"/>
          <p:cNvSpPr/>
          <p:nvPr/>
        </p:nvSpPr>
        <p:spPr>
          <a:xfrm>
            <a:off x="0" y="9117000"/>
            <a:ext cx="31654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8240" bIns="482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3rd OFA Workshop April 30, 2007, Sonoma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2" name="Slide Number Placeholder 4"/>
          <p:cNvSpPr/>
          <p:nvPr/>
        </p:nvSpPr>
        <p:spPr>
          <a:xfrm>
            <a:off x="4145040" y="9117000"/>
            <a:ext cx="31654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195363-2FEE-40DB-A35F-695CB0E1902B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sldImg"/>
          </p:nvPr>
        </p:nvSpPr>
        <p:spPr>
          <a:xfrm>
            <a:off x="1258920" y="719280"/>
            <a:ext cx="4797360" cy="3598560"/>
          </a:xfrm>
          <a:prstGeom prst="rect">
            <a:avLst/>
          </a:prstGeom>
          <a:ln w="0">
            <a:noFill/>
          </a:ln>
        </p:spPr>
      </p:sp>
      <p:sp>
        <p:nvSpPr>
          <p:cNvPr id="944" name="PlaceHolder 2"/>
          <p:cNvSpPr>
            <a:spLocks noGrp="1"/>
          </p:cNvSpPr>
          <p:nvPr>
            <p:ph type="body"/>
          </p:nvPr>
        </p:nvSpPr>
        <p:spPr>
          <a:xfrm>
            <a:off x="977760" y="4562280"/>
            <a:ext cx="5354640" cy="43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Footer Placeholder 3"/>
          <p:cNvSpPr/>
          <p:nvPr/>
        </p:nvSpPr>
        <p:spPr>
          <a:xfrm>
            <a:off x="0" y="9117000"/>
            <a:ext cx="31654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8240" bIns="482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3rd OFA Workshop April 30, 2007, Sonoma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6" name="Slide Number Placeholder 4"/>
          <p:cNvSpPr/>
          <p:nvPr/>
        </p:nvSpPr>
        <p:spPr>
          <a:xfrm>
            <a:off x="4145040" y="9117000"/>
            <a:ext cx="31654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5C92C9-855F-4A63-9A5F-E77EE38B6A8F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sldImg"/>
          </p:nvPr>
        </p:nvSpPr>
        <p:spPr>
          <a:xfrm>
            <a:off x="1258920" y="719280"/>
            <a:ext cx="4797360" cy="3598560"/>
          </a:xfrm>
          <a:prstGeom prst="rect">
            <a:avLst/>
          </a:prstGeom>
          <a:ln w="0">
            <a:noFill/>
          </a:ln>
        </p:spPr>
      </p:sp>
      <p:sp>
        <p:nvSpPr>
          <p:cNvPr id="948" name="PlaceHolder 2"/>
          <p:cNvSpPr>
            <a:spLocks noGrp="1"/>
          </p:cNvSpPr>
          <p:nvPr>
            <p:ph type="body"/>
          </p:nvPr>
        </p:nvSpPr>
        <p:spPr>
          <a:xfrm>
            <a:off x="977760" y="4562280"/>
            <a:ext cx="5354640" cy="43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Footer Placeholder 3"/>
          <p:cNvSpPr/>
          <p:nvPr/>
        </p:nvSpPr>
        <p:spPr>
          <a:xfrm>
            <a:off x="0" y="9117000"/>
            <a:ext cx="31654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8240" bIns="482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3rd OFA Workshop April 30, 2007, Sonoma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0" name="Slide Number Placeholder 4"/>
          <p:cNvSpPr/>
          <p:nvPr/>
        </p:nvSpPr>
        <p:spPr>
          <a:xfrm>
            <a:off x="4145040" y="9117000"/>
            <a:ext cx="31654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15EA81-A47A-4C07-826F-A5453A5533B5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Rectangle 7"/>
          <p:cNvSpPr/>
          <p:nvPr/>
        </p:nvSpPr>
        <p:spPr>
          <a:xfrm>
            <a:off x="4145040" y="9117000"/>
            <a:ext cx="31654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FF2B21-E58F-4986-9CFB-FBD447C9538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2" name="PlaceHolder 1"/>
          <p:cNvSpPr>
            <a:spLocks noGrp="1"/>
          </p:cNvSpPr>
          <p:nvPr>
            <p:ph type="sldImg"/>
          </p:nvPr>
        </p:nvSpPr>
        <p:spPr>
          <a:xfrm>
            <a:off x="1258920" y="719280"/>
            <a:ext cx="4797360" cy="3598560"/>
          </a:xfrm>
          <a:prstGeom prst="rect">
            <a:avLst/>
          </a:prstGeom>
          <a:ln w="0">
            <a:noFill/>
          </a:ln>
        </p:spPr>
      </p:sp>
      <p:sp>
        <p:nvSpPr>
          <p:cNvPr id="953" name="PlaceHolder 2"/>
          <p:cNvSpPr>
            <a:spLocks noGrp="1"/>
          </p:cNvSpPr>
          <p:nvPr>
            <p:ph type="body"/>
          </p:nvPr>
        </p:nvSpPr>
        <p:spPr>
          <a:xfrm>
            <a:off x="977760" y="4562280"/>
            <a:ext cx="5354640" cy="43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Rectangle 7"/>
          <p:cNvSpPr/>
          <p:nvPr/>
        </p:nvSpPr>
        <p:spPr>
          <a:xfrm>
            <a:off x="4145040" y="9117000"/>
            <a:ext cx="31654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40D108-EC15-4FA7-A947-018E1EB230D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5" name="PlaceHolder 1"/>
          <p:cNvSpPr>
            <a:spLocks noGrp="1"/>
          </p:cNvSpPr>
          <p:nvPr>
            <p:ph type="sldImg"/>
          </p:nvPr>
        </p:nvSpPr>
        <p:spPr>
          <a:xfrm>
            <a:off x="1258920" y="719280"/>
            <a:ext cx="4797360" cy="3598560"/>
          </a:xfrm>
          <a:prstGeom prst="rect">
            <a:avLst/>
          </a:prstGeom>
          <a:ln w="0">
            <a:noFill/>
          </a:ln>
        </p:spPr>
      </p:sp>
      <p:sp>
        <p:nvSpPr>
          <p:cNvPr id="956" name="PlaceHolder 2"/>
          <p:cNvSpPr>
            <a:spLocks noGrp="1"/>
          </p:cNvSpPr>
          <p:nvPr>
            <p:ph type="body"/>
          </p:nvPr>
        </p:nvSpPr>
        <p:spPr>
          <a:xfrm>
            <a:off x="977760" y="4562280"/>
            <a:ext cx="5354640" cy="43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817957-107B-4401-9605-B1A2095607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7770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868212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228240" y="4007880"/>
            <a:ext cx="868212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569697-D8C3-4604-B542-93A7C98F5809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7770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4236840" cy="548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7480" y="1143000"/>
            <a:ext cx="4236840" cy="548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79FDD92-D3DB-426A-80FD-2DDE919C834A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7770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990EC45-288E-4729-98F0-27722CB6F4FA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ubTitle"/>
          </p:nvPr>
        </p:nvSpPr>
        <p:spPr>
          <a:xfrm>
            <a:off x="228240" y="228240"/>
            <a:ext cx="6777000" cy="31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1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A13E41D-2A0E-4F81-B2DF-50DAF6ED927F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7770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423684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7480" y="1143000"/>
            <a:ext cx="4236840" cy="548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228240" y="4007880"/>
            <a:ext cx="423684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EFA0394-FEC0-4788-852F-B7F500E7B373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7770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4236840" cy="548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7480" y="1143000"/>
            <a:ext cx="423684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677480" y="4007880"/>
            <a:ext cx="423684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400B0C1-E8AD-4533-8CA1-5854FBF680CE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7770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423684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7480" y="1143000"/>
            <a:ext cx="423684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228240" y="4007880"/>
            <a:ext cx="868212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D2DDAA8-CFFC-4F72-8974-070A429106A7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7770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868212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228240" y="4007880"/>
            <a:ext cx="868212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A6A225C-9B8E-4FA0-8BFF-2EF3C1E06F48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7770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423684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7480" y="1143000"/>
            <a:ext cx="423684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228240" y="4007880"/>
            <a:ext cx="423684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4677480" y="4007880"/>
            <a:ext cx="423684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1707127-3EA5-4F62-A37A-1A6DBB06842E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7770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279540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163680" y="1143000"/>
            <a:ext cx="279540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6099480" y="1143000"/>
            <a:ext cx="279540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228240" y="4007880"/>
            <a:ext cx="279540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/>
          </p:nvPr>
        </p:nvSpPr>
        <p:spPr>
          <a:xfrm>
            <a:off x="3163680" y="4007880"/>
            <a:ext cx="279540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7"/>
          <p:cNvSpPr>
            <a:spLocks noGrp="1"/>
          </p:cNvSpPr>
          <p:nvPr>
            <p:ph/>
          </p:nvPr>
        </p:nvSpPr>
        <p:spPr>
          <a:xfrm>
            <a:off x="6099480" y="4007880"/>
            <a:ext cx="279540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3D984F8-6293-4B25-A561-372D1F74F972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509E4BA-A439-4699-B753-8069BC0E60E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7770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423684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7480" y="1143000"/>
            <a:ext cx="423684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228240" y="4007880"/>
            <a:ext cx="423684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7480" y="4007880"/>
            <a:ext cx="423684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573A56-2692-4B18-B511-8ACC28D6AAA7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7770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subTitle"/>
          </p:nvPr>
        </p:nvSpPr>
        <p:spPr>
          <a:xfrm>
            <a:off x="228240" y="1143000"/>
            <a:ext cx="8682120" cy="548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425F2A5-99B7-4B9D-896C-16842FF392CF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7770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8682120" cy="548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6EE4E9F-1DD2-487A-A60E-105EDDC8FD25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7770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4236840" cy="548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7480" y="1143000"/>
            <a:ext cx="4236840" cy="548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CB42487-BB20-49AD-B670-860B75021D08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7770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D92641B-1C57-4971-9516-6270807675E5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ubTitle"/>
          </p:nvPr>
        </p:nvSpPr>
        <p:spPr>
          <a:xfrm>
            <a:off x="228240" y="228240"/>
            <a:ext cx="6777000" cy="31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1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CAD28CD-2A6F-4F07-9ADB-13F7BBEA2A2D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7770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423684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7480" y="1143000"/>
            <a:ext cx="4236840" cy="548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228240" y="4007880"/>
            <a:ext cx="423684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9A68D54-6ED4-4652-8079-21AA6E0FDDD7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7770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4236840" cy="548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7480" y="1143000"/>
            <a:ext cx="423684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677480" y="4007880"/>
            <a:ext cx="423684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C781BD1-B4DC-4A83-9F92-DB67FBEC92BD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7770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423684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7480" y="1143000"/>
            <a:ext cx="423684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228240" y="4007880"/>
            <a:ext cx="868212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BEE8B96-486E-46BE-A44F-553BBA52A367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7770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868212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228240" y="4007880"/>
            <a:ext cx="868212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75934F8-17E2-46D1-91BA-ACAB735752E8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7770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423684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7480" y="1143000"/>
            <a:ext cx="423684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228240" y="4007880"/>
            <a:ext cx="423684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4677480" y="4007880"/>
            <a:ext cx="423684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8282B04-9FB9-41D2-BDF9-8558BD6AB5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7770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279540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63680" y="1143000"/>
            <a:ext cx="279540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99480" y="1143000"/>
            <a:ext cx="279540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228240" y="4007880"/>
            <a:ext cx="279540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63680" y="4007880"/>
            <a:ext cx="279540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99480" y="4007880"/>
            <a:ext cx="279540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B31F93-3526-4225-83E4-1863DED3D4B8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7770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279540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3163680" y="1143000"/>
            <a:ext cx="279540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6099480" y="1143000"/>
            <a:ext cx="279540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228240" y="4007880"/>
            <a:ext cx="279540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6"/>
          <p:cNvSpPr>
            <a:spLocks noGrp="1"/>
          </p:cNvSpPr>
          <p:nvPr>
            <p:ph/>
          </p:nvPr>
        </p:nvSpPr>
        <p:spPr>
          <a:xfrm>
            <a:off x="3163680" y="4007880"/>
            <a:ext cx="279540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7"/>
          <p:cNvSpPr>
            <a:spLocks noGrp="1"/>
          </p:cNvSpPr>
          <p:nvPr>
            <p:ph/>
          </p:nvPr>
        </p:nvSpPr>
        <p:spPr>
          <a:xfrm>
            <a:off x="6099480" y="4007880"/>
            <a:ext cx="279540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9591598-9F3C-4CF1-A9C4-58AED52721C6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7F663F-D23A-4D83-A1B1-B17CD856AB7A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7770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subTitle"/>
          </p:nvPr>
        </p:nvSpPr>
        <p:spPr>
          <a:xfrm>
            <a:off x="228240" y="1143000"/>
            <a:ext cx="8682120" cy="548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C3634D-F1A7-4D69-9119-8A9079F5B298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7770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8682120" cy="548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F7685B-0AD3-4A4C-9FE1-2349E6D3A8B1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7770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4236840" cy="548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7480" y="1143000"/>
            <a:ext cx="4236840" cy="548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236005-F82E-4CE9-B884-9D8DFA1EE35A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7770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B5D85C-0094-4C3E-B25B-7C12ED9D4BF0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ubTitle"/>
          </p:nvPr>
        </p:nvSpPr>
        <p:spPr>
          <a:xfrm>
            <a:off x="228240" y="228240"/>
            <a:ext cx="6777000" cy="31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1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EBF417-BC43-4060-A539-CAB2125ACB64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7770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423684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7480" y="1143000"/>
            <a:ext cx="4236840" cy="548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228240" y="4007880"/>
            <a:ext cx="423684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04561A-8A01-4FA5-9587-3F47A1A48080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7770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4236840" cy="548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7480" y="1143000"/>
            <a:ext cx="423684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677480" y="4007880"/>
            <a:ext cx="423684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695097-6BF0-4A53-AD93-4579453551FF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7770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423684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7480" y="1143000"/>
            <a:ext cx="423684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228240" y="4007880"/>
            <a:ext cx="868212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B4DCB7-F780-44C1-8CF4-F360B940ED6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7770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868212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228240" y="4007880"/>
            <a:ext cx="868212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DC9929-A47A-434F-A4D1-EF3184BF589D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7770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423684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7480" y="1143000"/>
            <a:ext cx="423684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228240" y="4007880"/>
            <a:ext cx="423684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4677480" y="4007880"/>
            <a:ext cx="423684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23B208-4778-4D81-8782-BE46F37890FD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7770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279540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3163680" y="1143000"/>
            <a:ext cx="279540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6099480" y="1143000"/>
            <a:ext cx="279540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228240" y="4007880"/>
            <a:ext cx="279540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6"/>
          <p:cNvSpPr>
            <a:spLocks noGrp="1"/>
          </p:cNvSpPr>
          <p:nvPr>
            <p:ph/>
          </p:nvPr>
        </p:nvSpPr>
        <p:spPr>
          <a:xfrm>
            <a:off x="3163680" y="4007880"/>
            <a:ext cx="279540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7"/>
          <p:cNvSpPr>
            <a:spLocks noGrp="1"/>
          </p:cNvSpPr>
          <p:nvPr>
            <p:ph/>
          </p:nvPr>
        </p:nvSpPr>
        <p:spPr>
          <a:xfrm>
            <a:off x="6099480" y="4007880"/>
            <a:ext cx="279540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BE39C1-29A1-4605-BC39-122CC628763B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71CA048-E392-4A5C-9E92-8831BBAB276D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7770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subTitle"/>
          </p:nvPr>
        </p:nvSpPr>
        <p:spPr>
          <a:xfrm>
            <a:off x="228240" y="1143000"/>
            <a:ext cx="8682120" cy="548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2682801-52E4-4A5A-89C3-CFE740C7E562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7770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8682120" cy="548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BA65295-E6D6-4D9B-AC51-ACB2DE30D642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7770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4236840" cy="548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7480" y="1143000"/>
            <a:ext cx="4236840" cy="548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1B5DC44-9CE7-4E12-A572-67B12DDB749F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7770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31EA7BC-E809-44D2-A786-3D96CB812378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ubTitle"/>
          </p:nvPr>
        </p:nvSpPr>
        <p:spPr>
          <a:xfrm>
            <a:off x="228240" y="228240"/>
            <a:ext cx="6777000" cy="31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1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5830C48-5F82-4F6C-B810-752FBC3BD16B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7770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423684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7480" y="1143000"/>
            <a:ext cx="4236840" cy="548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228240" y="4007880"/>
            <a:ext cx="423684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15F089C-59B0-4C05-B9FD-9BB47FFBABA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7770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228240" y="1143000"/>
            <a:ext cx="8682120" cy="548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7770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4236840" cy="548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7480" y="1143000"/>
            <a:ext cx="423684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677480" y="4007880"/>
            <a:ext cx="423684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0F61894-6BAE-49F3-B737-AF7A4E2F54A6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7770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423684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7480" y="1143000"/>
            <a:ext cx="423684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228240" y="4007880"/>
            <a:ext cx="868212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F7669B8-1E63-4D8C-BA2A-94282EC3A21F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7770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868212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228240" y="4007880"/>
            <a:ext cx="868212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0D13F70-88B9-45E5-B93E-5C84632D2491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7770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423684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7480" y="1143000"/>
            <a:ext cx="423684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228240" y="4007880"/>
            <a:ext cx="423684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4677480" y="4007880"/>
            <a:ext cx="423684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9D82B75-D1A1-43DB-BA15-79054C8C683E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7770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279540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3163680" y="1143000"/>
            <a:ext cx="279540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6099480" y="1143000"/>
            <a:ext cx="279540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228240" y="4007880"/>
            <a:ext cx="279540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6"/>
          <p:cNvSpPr>
            <a:spLocks noGrp="1"/>
          </p:cNvSpPr>
          <p:nvPr>
            <p:ph/>
          </p:nvPr>
        </p:nvSpPr>
        <p:spPr>
          <a:xfrm>
            <a:off x="3163680" y="4007880"/>
            <a:ext cx="279540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7"/>
          <p:cNvSpPr>
            <a:spLocks noGrp="1"/>
          </p:cNvSpPr>
          <p:nvPr>
            <p:ph/>
          </p:nvPr>
        </p:nvSpPr>
        <p:spPr>
          <a:xfrm>
            <a:off x="6099480" y="4007880"/>
            <a:ext cx="279540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6720D6D-FE88-4E2D-BFCE-92BDAD78E78E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FFA487E-E441-49C0-B822-178483A05BBA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7770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subTitle"/>
          </p:nvPr>
        </p:nvSpPr>
        <p:spPr>
          <a:xfrm>
            <a:off x="228240" y="1143000"/>
            <a:ext cx="8682120" cy="548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A1D1939-7F72-4445-B698-C0296C734112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7770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8682120" cy="548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A95EF6A-A22E-46CD-9FF8-071772E4D6D3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7770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4236840" cy="548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7480" y="1143000"/>
            <a:ext cx="4236840" cy="548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2E8BBE2-3435-451D-9F2E-084E5C7FB340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7770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AC08CC7-84E9-4ED7-8FD1-E97A208DAD8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7770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8682120" cy="548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ubTitle"/>
          </p:nvPr>
        </p:nvSpPr>
        <p:spPr>
          <a:xfrm>
            <a:off x="228240" y="228240"/>
            <a:ext cx="6777000" cy="31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1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930C303-EA7C-4C03-ACF6-6F511E2ACAE4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7770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423684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7480" y="1143000"/>
            <a:ext cx="4236840" cy="548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228240" y="4007880"/>
            <a:ext cx="423684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E16F918-6FDD-4E44-B7A9-646322AA656D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7770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4236840" cy="548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7480" y="1143000"/>
            <a:ext cx="423684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677480" y="4007880"/>
            <a:ext cx="423684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55EFA41-ADED-4665-B92F-5BFA60AE8D3B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7770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423684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77480" y="1143000"/>
            <a:ext cx="423684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228240" y="4007880"/>
            <a:ext cx="868212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327C179-C5D0-4CC6-B382-579489FC4C7F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7770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868212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228240" y="4007880"/>
            <a:ext cx="868212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CABAC31-708E-4605-A987-EE0023BACF92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7770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423684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7480" y="1143000"/>
            <a:ext cx="423684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228240" y="4007880"/>
            <a:ext cx="423684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/>
          </p:nvPr>
        </p:nvSpPr>
        <p:spPr>
          <a:xfrm>
            <a:off x="4677480" y="4007880"/>
            <a:ext cx="423684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DEC39C4-E6C9-4785-A0BA-923A1FCC0089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7770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279540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3163680" y="1143000"/>
            <a:ext cx="279540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6099480" y="1143000"/>
            <a:ext cx="279540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/>
          </p:nvPr>
        </p:nvSpPr>
        <p:spPr>
          <a:xfrm>
            <a:off x="228240" y="4007880"/>
            <a:ext cx="279540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6"/>
          <p:cNvSpPr>
            <a:spLocks noGrp="1"/>
          </p:cNvSpPr>
          <p:nvPr>
            <p:ph/>
          </p:nvPr>
        </p:nvSpPr>
        <p:spPr>
          <a:xfrm>
            <a:off x="3163680" y="4007880"/>
            <a:ext cx="279540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7"/>
          <p:cNvSpPr>
            <a:spLocks noGrp="1"/>
          </p:cNvSpPr>
          <p:nvPr>
            <p:ph/>
          </p:nvPr>
        </p:nvSpPr>
        <p:spPr>
          <a:xfrm>
            <a:off x="6099480" y="4007880"/>
            <a:ext cx="279540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B65059F-43D3-4F43-A381-FC21C2BBE0E6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3F804B-2EF4-4306-805F-DDDE6462DBB2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7770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 type="subTitle"/>
          </p:nvPr>
        </p:nvSpPr>
        <p:spPr>
          <a:xfrm>
            <a:off x="228240" y="1143000"/>
            <a:ext cx="8682120" cy="548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D420FE-C9D0-4819-A6FF-498ABBCA18B4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7770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8682120" cy="548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AEA6E4-197B-403A-B2FF-80C5EA88258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7770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4236840" cy="548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7480" y="1143000"/>
            <a:ext cx="4236840" cy="548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7770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4236840" cy="548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7480" y="1143000"/>
            <a:ext cx="4236840" cy="548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C2C1C3-010C-4BB6-B315-73FBB164C215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7770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0EA105-AFF6-4AD3-9F29-CD9A44566F5F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subTitle"/>
          </p:nvPr>
        </p:nvSpPr>
        <p:spPr>
          <a:xfrm>
            <a:off x="228240" y="228240"/>
            <a:ext cx="6777000" cy="31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1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6C0A1A-1D2D-46BE-A483-F67B8BFDCAAC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7770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423684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7480" y="1143000"/>
            <a:ext cx="4236840" cy="548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228240" y="4007880"/>
            <a:ext cx="423684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0038A4-26EC-4F31-BCE5-A117177007AE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7770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4236840" cy="548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7480" y="1143000"/>
            <a:ext cx="423684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4677480" y="4007880"/>
            <a:ext cx="423684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5D40B2-BE81-469F-B748-263A740EF425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7770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423684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7480" y="1143000"/>
            <a:ext cx="423684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228240" y="4007880"/>
            <a:ext cx="868212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057057-4D8A-492E-8EC5-3BF448709077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7770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868212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228240" y="4007880"/>
            <a:ext cx="868212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8DB032-EDDD-4A31-9B15-92891C8E5ECD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7770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423684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7480" y="1143000"/>
            <a:ext cx="423684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228240" y="4007880"/>
            <a:ext cx="423684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/>
          </p:nvPr>
        </p:nvSpPr>
        <p:spPr>
          <a:xfrm>
            <a:off x="4677480" y="4007880"/>
            <a:ext cx="423684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720E69-43A6-4A55-A27F-2913313F23E0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7770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279540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163680" y="1143000"/>
            <a:ext cx="279540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6099480" y="1143000"/>
            <a:ext cx="279540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/>
          </p:nvPr>
        </p:nvSpPr>
        <p:spPr>
          <a:xfrm>
            <a:off x="228240" y="4007880"/>
            <a:ext cx="279540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6"/>
          <p:cNvSpPr>
            <a:spLocks noGrp="1"/>
          </p:cNvSpPr>
          <p:nvPr>
            <p:ph/>
          </p:nvPr>
        </p:nvSpPr>
        <p:spPr>
          <a:xfrm>
            <a:off x="3163680" y="4007880"/>
            <a:ext cx="279540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7"/>
          <p:cNvSpPr>
            <a:spLocks noGrp="1"/>
          </p:cNvSpPr>
          <p:nvPr>
            <p:ph/>
          </p:nvPr>
        </p:nvSpPr>
        <p:spPr>
          <a:xfrm>
            <a:off x="6099480" y="4007880"/>
            <a:ext cx="279540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B8EFF1-4393-4483-B435-3B74C55C4E01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F3386D1-7F75-4555-BEFB-72B643F04C9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7770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7770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 type="subTitle"/>
          </p:nvPr>
        </p:nvSpPr>
        <p:spPr>
          <a:xfrm>
            <a:off x="228240" y="1143000"/>
            <a:ext cx="8682120" cy="548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46BBB9F-D152-4435-812F-63178E850C12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7770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8682120" cy="548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C405708-AB21-416D-A350-DC6178E466AB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7770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4236840" cy="548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7480" y="1143000"/>
            <a:ext cx="4236840" cy="548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2E41157-649A-4CB1-8D42-D90339369EA6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7770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342BCB4-23CE-4AE3-A1F8-C87F0374BDE7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subTitle"/>
          </p:nvPr>
        </p:nvSpPr>
        <p:spPr>
          <a:xfrm>
            <a:off x="228240" y="228240"/>
            <a:ext cx="6777000" cy="31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1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F3D0E35-14FA-47A2-A876-645AEACF496A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7770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423684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7480" y="1143000"/>
            <a:ext cx="4236840" cy="548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228240" y="4007880"/>
            <a:ext cx="423684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A7336DA-6519-4C0D-B46D-BBF70CDFD6BE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7770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4236840" cy="548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7480" y="1143000"/>
            <a:ext cx="423684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4677480" y="4007880"/>
            <a:ext cx="423684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BFBE34B-CCDA-454B-A5CB-18B3E61CF0B0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7770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423684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677480" y="1143000"/>
            <a:ext cx="423684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228240" y="4007880"/>
            <a:ext cx="868212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BB1D609-0E62-48C7-9259-38123A9F1FCB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7770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868212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228240" y="4007880"/>
            <a:ext cx="868212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FEF1E40-6CB3-4C87-9736-A9DB060482F2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7770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423684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77480" y="1143000"/>
            <a:ext cx="423684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228240" y="4007880"/>
            <a:ext cx="423684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5"/>
          <p:cNvSpPr>
            <a:spLocks noGrp="1"/>
          </p:cNvSpPr>
          <p:nvPr>
            <p:ph/>
          </p:nvPr>
        </p:nvSpPr>
        <p:spPr>
          <a:xfrm>
            <a:off x="4677480" y="4007880"/>
            <a:ext cx="423684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76C55A1-FB8B-4772-9DC4-2209948A5C2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28240" y="228240"/>
            <a:ext cx="6777000" cy="31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1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7770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279540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3163680" y="1143000"/>
            <a:ext cx="279540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6099480" y="1143000"/>
            <a:ext cx="279540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/>
          </p:nvPr>
        </p:nvSpPr>
        <p:spPr>
          <a:xfrm>
            <a:off x="228240" y="4007880"/>
            <a:ext cx="279540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6"/>
          <p:cNvSpPr>
            <a:spLocks noGrp="1"/>
          </p:cNvSpPr>
          <p:nvPr>
            <p:ph/>
          </p:nvPr>
        </p:nvSpPr>
        <p:spPr>
          <a:xfrm>
            <a:off x="3163680" y="4007880"/>
            <a:ext cx="279540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7"/>
          <p:cNvSpPr>
            <a:spLocks noGrp="1"/>
          </p:cNvSpPr>
          <p:nvPr>
            <p:ph/>
          </p:nvPr>
        </p:nvSpPr>
        <p:spPr>
          <a:xfrm>
            <a:off x="6099480" y="4007880"/>
            <a:ext cx="279540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58E6102-3BD8-4865-AC14-EAF4CF800E30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DA6C650-9124-45E8-B9BA-88853B428290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7770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 type="subTitle"/>
          </p:nvPr>
        </p:nvSpPr>
        <p:spPr>
          <a:xfrm>
            <a:off x="228240" y="1143000"/>
            <a:ext cx="8682120" cy="548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9988E73-AA66-432B-A30A-A74E9E5575AF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7770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8682120" cy="548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8A66865-CC87-4620-807E-16859635D144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7770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4236840" cy="548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677480" y="1143000"/>
            <a:ext cx="4236840" cy="548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E28F664-B919-407A-A17F-E68A6961D6DC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7770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6B7D40F-9497-4994-8EB0-35797D28F02B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subTitle"/>
          </p:nvPr>
        </p:nvSpPr>
        <p:spPr>
          <a:xfrm>
            <a:off x="228240" y="228240"/>
            <a:ext cx="6777000" cy="31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1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11B2438-ED03-4270-8176-268C5DDD7C02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7770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423684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677480" y="1143000"/>
            <a:ext cx="4236840" cy="548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228240" y="4007880"/>
            <a:ext cx="423684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E53A35B-45CB-4780-A110-4A0C5B5FED95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7770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4236840" cy="548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77480" y="1143000"/>
            <a:ext cx="423684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4677480" y="4007880"/>
            <a:ext cx="423684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685AAC0-9ECF-46BD-8E9A-6D8D599B68E9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7770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423684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4677480" y="1143000"/>
            <a:ext cx="423684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228240" y="4007880"/>
            <a:ext cx="868212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E6DE1C5-789B-405F-AA3F-324A687A459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7770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423684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7480" y="1143000"/>
            <a:ext cx="4236840" cy="548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228240" y="4007880"/>
            <a:ext cx="423684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7770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868212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228240" y="4007880"/>
            <a:ext cx="868212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04C26C3-6390-4419-9601-796586D4B96C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7770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423684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4677480" y="1143000"/>
            <a:ext cx="423684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228240" y="4007880"/>
            <a:ext cx="423684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5"/>
          <p:cNvSpPr>
            <a:spLocks noGrp="1"/>
          </p:cNvSpPr>
          <p:nvPr>
            <p:ph/>
          </p:nvPr>
        </p:nvSpPr>
        <p:spPr>
          <a:xfrm>
            <a:off x="4677480" y="4007880"/>
            <a:ext cx="423684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16D7161-865E-42DB-857C-D8819E4DF75E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7770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279540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3163680" y="1143000"/>
            <a:ext cx="279540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6099480" y="1143000"/>
            <a:ext cx="279540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5"/>
          <p:cNvSpPr>
            <a:spLocks noGrp="1"/>
          </p:cNvSpPr>
          <p:nvPr>
            <p:ph/>
          </p:nvPr>
        </p:nvSpPr>
        <p:spPr>
          <a:xfrm>
            <a:off x="228240" y="4007880"/>
            <a:ext cx="279540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6"/>
          <p:cNvSpPr>
            <a:spLocks noGrp="1"/>
          </p:cNvSpPr>
          <p:nvPr>
            <p:ph/>
          </p:nvPr>
        </p:nvSpPr>
        <p:spPr>
          <a:xfrm>
            <a:off x="3163680" y="4007880"/>
            <a:ext cx="279540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7"/>
          <p:cNvSpPr>
            <a:spLocks noGrp="1"/>
          </p:cNvSpPr>
          <p:nvPr>
            <p:ph/>
          </p:nvPr>
        </p:nvSpPr>
        <p:spPr>
          <a:xfrm>
            <a:off x="6099480" y="4007880"/>
            <a:ext cx="279540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342C92E-74F8-49A3-9BDC-358D9C3A205C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68C545-41B8-4A41-914A-B3AAB8B956BC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7770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 type="subTitle"/>
          </p:nvPr>
        </p:nvSpPr>
        <p:spPr>
          <a:xfrm>
            <a:off x="228240" y="1143000"/>
            <a:ext cx="8682120" cy="548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9B3F64-709A-412D-A051-6FF6352DC983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7770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8682120" cy="548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81D1DF-2C77-4F82-B711-D29F99E15E48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7770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4236840" cy="548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7480" y="1143000"/>
            <a:ext cx="4236840" cy="548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BB5B9E-72E7-4859-AF0C-9FD38F18EBE3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7770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F033F7-9078-43BF-9DCF-6700E4B2AA0B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subTitle"/>
          </p:nvPr>
        </p:nvSpPr>
        <p:spPr>
          <a:xfrm>
            <a:off x="228240" y="228240"/>
            <a:ext cx="6777000" cy="31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1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C254CE-D384-4C85-81D9-74E9FA548ACA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7770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423684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7480" y="1143000"/>
            <a:ext cx="4236840" cy="548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228240" y="4007880"/>
            <a:ext cx="423684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96870A-F164-4460-B56F-2CF5D2A4C29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7770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228240" y="1143000"/>
            <a:ext cx="8682120" cy="548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89A377-41B7-4592-BDAA-B00A3CFBD7D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7770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4236840" cy="548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7480" y="1143000"/>
            <a:ext cx="423684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7480" y="4007880"/>
            <a:ext cx="423684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7770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4236840" cy="548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7480" y="1143000"/>
            <a:ext cx="423684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677480" y="4007880"/>
            <a:ext cx="423684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1DD11F-0703-4D46-ABDE-B932B8A624FA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7770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423684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677480" y="1143000"/>
            <a:ext cx="423684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228240" y="4007880"/>
            <a:ext cx="868212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9B954B-E248-43D5-8F57-CFF72D8A87EF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7770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868212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228240" y="4007880"/>
            <a:ext cx="868212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FD4798-B639-4D88-99F1-CDF1AF944B18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7770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423684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7480" y="1143000"/>
            <a:ext cx="423684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228240" y="4007880"/>
            <a:ext cx="423684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4677480" y="4007880"/>
            <a:ext cx="423684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593C56-21C6-4FF8-B698-E0D94073C54B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7770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279540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3163680" y="1143000"/>
            <a:ext cx="279540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6099480" y="1143000"/>
            <a:ext cx="279540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5"/>
          <p:cNvSpPr>
            <a:spLocks noGrp="1"/>
          </p:cNvSpPr>
          <p:nvPr>
            <p:ph/>
          </p:nvPr>
        </p:nvSpPr>
        <p:spPr>
          <a:xfrm>
            <a:off x="228240" y="4007880"/>
            <a:ext cx="279540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6"/>
          <p:cNvSpPr>
            <a:spLocks noGrp="1"/>
          </p:cNvSpPr>
          <p:nvPr>
            <p:ph/>
          </p:nvPr>
        </p:nvSpPr>
        <p:spPr>
          <a:xfrm>
            <a:off x="3163680" y="4007880"/>
            <a:ext cx="279540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7"/>
          <p:cNvSpPr>
            <a:spLocks noGrp="1"/>
          </p:cNvSpPr>
          <p:nvPr>
            <p:ph/>
          </p:nvPr>
        </p:nvSpPr>
        <p:spPr>
          <a:xfrm>
            <a:off x="6099480" y="4007880"/>
            <a:ext cx="279540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C8F447-D296-4473-A2C1-5E4025BB266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7770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423684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7480" y="1143000"/>
            <a:ext cx="423684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228240" y="4007880"/>
            <a:ext cx="868212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7770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868212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228240" y="4007880"/>
            <a:ext cx="868212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7770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423684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7480" y="1143000"/>
            <a:ext cx="423684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28240" y="4007880"/>
            <a:ext cx="423684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7480" y="4007880"/>
            <a:ext cx="423684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7770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279540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163680" y="1143000"/>
            <a:ext cx="279540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99480" y="1143000"/>
            <a:ext cx="279540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228240" y="4007880"/>
            <a:ext cx="279540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163680" y="4007880"/>
            <a:ext cx="279540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99480" y="4007880"/>
            <a:ext cx="279540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57369A-593A-4766-A451-4F196C343A5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7770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28240" y="1143000"/>
            <a:ext cx="8682120" cy="548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F723BF-63FB-4A55-8E7D-A50EE4D12CD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7770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8682120" cy="548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CDDA48-A58F-496C-A976-41F2270C8D5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7770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4236840" cy="548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7480" y="1143000"/>
            <a:ext cx="4236840" cy="548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EA7AE8-6E6A-458F-8A94-A9DB998FEF7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7770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C3B5A9-CE00-433C-9F8B-BAEBFFE2088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7770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8682120" cy="548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5217F2-E6C4-4D6C-B265-F9862051C40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228240" y="228240"/>
            <a:ext cx="6777000" cy="31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1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16EAB4-8637-450A-A6EE-5A932EBF82F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7770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423684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7480" y="1143000"/>
            <a:ext cx="4236840" cy="548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228240" y="4007880"/>
            <a:ext cx="423684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57C767-6460-4696-8F89-8F572DE21A4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7770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4236840" cy="548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7480" y="1143000"/>
            <a:ext cx="423684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7480" y="4007880"/>
            <a:ext cx="423684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182729-033B-4115-A322-5BE89D9284A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7770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423684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7480" y="1143000"/>
            <a:ext cx="423684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228240" y="4007880"/>
            <a:ext cx="868212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BEFCE1-DC20-4D2C-AB65-E31AE0A4827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7770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868212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228240" y="4007880"/>
            <a:ext cx="868212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8ADEAF-D92E-4400-827F-BE7196DB8C3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7770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423684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7480" y="1143000"/>
            <a:ext cx="423684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228240" y="4007880"/>
            <a:ext cx="423684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7480" y="4007880"/>
            <a:ext cx="423684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0274F7-DD56-4C14-AD31-CBC3286C565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7770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279540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163680" y="1143000"/>
            <a:ext cx="279540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99480" y="1143000"/>
            <a:ext cx="279540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228240" y="4007880"/>
            <a:ext cx="279540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163680" y="4007880"/>
            <a:ext cx="279540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99480" y="4007880"/>
            <a:ext cx="279540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B4B2BC-CB95-4B4D-8EF2-AAAA60CF96CF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5CBDE-0F5F-4EBA-ACDC-99637C70F5C1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7770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228240" y="1143000"/>
            <a:ext cx="8682120" cy="548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F70DC-5D38-49BE-8A38-FAAB4BDA80DC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7770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8682120" cy="548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BB3A4-6145-4070-BCE5-DFBF266A580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7770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4236840" cy="548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7480" y="1143000"/>
            <a:ext cx="4236840" cy="548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7682CC-0E78-4D37-8D73-EE098F6FA949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7770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4236840" cy="548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7480" y="1143000"/>
            <a:ext cx="4236840" cy="548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9F281-10A3-4792-B45B-DBB0F360F59E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7770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CE3CC-0C59-4025-BE68-41AB43D282D4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228240" y="228240"/>
            <a:ext cx="6777000" cy="31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1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83DC1-E49C-40ED-BDCA-C626F2D462EC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7770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423684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7480" y="1143000"/>
            <a:ext cx="4236840" cy="548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228240" y="4007880"/>
            <a:ext cx="423684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9BF76-5D05-4A43-9709-5A372AF289CE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7770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4236840" cy="548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7480" y="1143000"/>
            <a:ext cx="423684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7480" y="4007880"/>
            <a:ext cx="423684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932DE-2C6B-4C68-98B9-FF4231490B3E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7770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423684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7480" y="1143000"/>
            <a:ext cx="423684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228240" y="4007880"/>
            <a:ext cx="868212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15CFF-879D-4C5E-91A5-54A9177B834B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7770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868212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228240" y="4007880"/>
            <a:ext cx="868212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9D7D0-9192-4C8E-AA85-9F5E046D0F18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7770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423684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7480" y="1143000"/>
            <a:ext cx="423684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228240" y="4007880"/>
            <a:ext cx="423684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7480" y="4007880"/>
            <a:ext cx="423684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46868-DA97-4880-A6FC-0C56F422E050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7770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279540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163680" y="1143000"/>
            <a:ext cx="279540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99480" y="1143000"/>
            <a:ext cx="279540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228240" y="4007880"/>
            <a:ext cx="279540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163680" y="4007880"/>
            <a:ext cx="279540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99480" y="4007880"/>
            <a:ext cx="279540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F9B87-E726-45D6-8254-2E4DAC47F759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7770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81DE7A-5E09-4124-ADA0-B5BA70634FFA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7770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228240" y="1143000"/>
            <a:ext cx="8682120" cy="548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7770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8682120" cy="548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7770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4236840" cy="548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7480" y="1143000"/>
            <a:ext cx="4236840" cy="548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7770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228240" y="228240"/>
            <a:ext cx="6777000" cy="31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1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7770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423684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7480" y="1143000"/>
            <a:ext cx="4236840" cy="548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228240" y="4007880"/>
            <a:ext cx="423684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7770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4236840" cy="548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7480" y="1143000"/>
            <a:ext cx="423684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77480" y="4007880"/>
            <a:ext cx="423684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7770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423684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7480" y="1143000"/>
            <a:ext cx="423684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228240" y="4007880"/>
            <a:ext cx="868212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7770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868212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228240" y="4007880"/>
            <a:ext cx="868212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7770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423684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7480" y="1143000"/>
            <a:ext cx="423684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228240" y="4007880"/>
            <a:ext cx="423684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77480" y="4007880"/>
            <a:ext cx="423684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228240" y="228240"/>
            <a:ext cx="6777000" cy="31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1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794D46-827D-471B-8AC3-02CCF0BCCA2C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7770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279540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163680" y="1143000"/>
            <a:ext cx="279540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9480" y="1143000"/>
            <a:ext cx="279540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228240" y="4007880"/>
            <a:ext cx="279540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163680" y="4007880"/>
            <a:ext cx="279540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9480" y="4007880"/>
            <a:ext cx="279540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690284-4384-455E-9831-B6EB2238CB29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7770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228240" y="1143000"/>
            <a:ext cx="8682120" cy="548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5F8179-4929-4A9B-9BFC-CF2221545FD3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7770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8682120" cy="548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EA5993-AB26-4B21-B4B0-5EC59807FCC6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7770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4236840" cy="548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7480" y="1143000"/>
            <a:ext cx="4236840" cy="548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D3B821-CC26-43AB-95CD-A7EA97BC5371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7770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2BF6A5-FABD-4E66-BA8F-C1AD72BA6962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228240" y="228240"/>
            <a:ext cx="6777000" cy="31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1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3E313C-D0C5-4D8F-92AD-E2F2CF222617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7770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423684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7480" y="1143000"/>
            <a:ext cx="4236840" cy="548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228240" y="4007880"/>
            <a:ext cx="423684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458CD2-3DC2-4C1F-B8E6-EBFCE225C7D5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7770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4236840" cy="548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7480" y="1143000"/>
            <a:ext cx="423684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7480" y="4007880"/>
            <a:ext cx="423684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73A574-6B5E-4590-8FBB-3B808305356E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7770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423684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7480" y="1143000"/>
            <a:ext cx="423684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228240" y="4007880"/>
            <a:ext cx="868212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7832F2-0BF3-4652-8F76-A06B077E20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7770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423684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7480" y="1143000"/>
            <a:ext cx="4236840" cy="548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228240" y="4007880"/>
            <a:ext cx="423684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72BCE0-9B61-46C1-B4FB-2E7D2EC3B17A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7770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868212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228240" y="4007880"/>
            <a:ext cx="868212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BF5C7D-BD03-4BA8-AC15-A4B0DE92E56A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7770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423684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7480" y="1143000"/>
            <a:ext cx="423684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228240" y="4007880"/>
            <a:ext cx="423684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7480" y="4007880"/>
            <a:ext cx="423684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A5890C-D499-4222-9DC3-ED935E7806DB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7770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279540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163680" y="1143000"/>
            <a:ext cx="279540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99480" y="1143000"/>
            <a:ext cx="279540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228240" y="4007880"/>
            <a:ext cx="279540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163680" y="4007880"/>
            <a:ext cx="279540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99480" y="4007880"/>
            <a:ext cx="279540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3F654E-092E-4E00-9BF7-B6967D9A3806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74CA17-DBDE-42D7-8CE4-67C0F6362EF1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7770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228240" y="1143000"/>
            <a:ext cx="8682120" cy="548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873EED-D89D-4E87-965A-EEF0B6D5B20E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7770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8682120" cy="548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29F732-D725-4CE8-9918-B83E74F13D53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7770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4236840" cy="548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7480" y="1143000"/>
            <a:ext cx="4236840" cy="548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374B48-8137-4BC7-8987-A3C828D602FA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7770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302024-2642-4394-B933-072445AAC853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ubTitle"/>
          </p:nvPr>
        </p:nvSpPr>
        <p:spPr>
          <a:xfrm>
            <a:off x="228240" y="228240"/>
            <a:ext cx="6777000" cy="31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1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CF2BC9-D94E-4971-A8AB-BAF6D2581F6D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7770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423684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7480" y="1143000"/>
            <a:ext cx="4236840" cy="548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228240" y="4007880"/>
            <a:ext cx="423684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2E65A0-45F3-47E0-8E71-2CBBCF9DB47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7770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4236840" cy="548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7480" y="1143000"/>
            <a:ext cx="423684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7480" y="4007880"/>
            <a:ext cx="423684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1290CE-CEC3-41FD-9D80-67E92436AB25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7770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4236840" cy="548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7480" y="1143000"/>
            <a:ext cx="423684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677480" y="4007880"/>
            <a:ext cx="423684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F00053-1861-42B7-B115-AF0512656F65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7770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423684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7480" y="1143000"/>
            <a:ext cx="423684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228240" y="4007880"/>
            <a:ext cx="868212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FE2C8E-3360-4F59-8592-338F9778634D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7770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868212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228240" y="4007880"/>
            <a:ext cx="868212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0AF893-49B7-4745-B31F-EAE59C19DF62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7770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423684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7480" y="1143000"/>
            <a:ext cx="423684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228240" y="4007880"/>
            <a:ext cx="423684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677480" y="4007880"/>
            <a:ext cx="423684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525BD4-C10E-46D4-8FD4-33BBD7FFCE7E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7770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279540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3163680" y="1143000"/>
            <a:ext cx="279540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099480" y="1143000"/>
            <a:ext cx="279540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228240" y="4007880"/>
            <a:ext cx="279540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6"/>
          <p:cNvSpPr>
            <a:spLocks noGrp="1"/>
          </p:cNvSpPr>
          <p:nvPr>
            <p:ph/>
          </p:nvPr>
        </p:nvSpPr>
        <p:spPr>
          <a:xfrm>
            <a:off x="3163680" y="4007880"/>
            <a:ext cx="279540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7"/>
          <p:cNvSpPr>
            <a:spLocks noGrp="1"/>
          </p:cNvSpPr>
          <p:nvPr>
            <p:ph/>
          </p:nvPr>
        </p:nvSpPr>
        <p:spPr>
          <a:xfrm>
            <a:off x="6099480" y="4007880"/>
            <a:ext cx="279540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EC935F-1CF1-44A0-AFCE-2B559ADBA3D0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F7842-4D55-4E65-BF99-3247D5C354A5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7770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subTitle"/>
          </p:nvPr>
        </p:nvSpPr>
        <p:spPr>
          <a:xfrm>
            <a:off x="228240" y="1143000"/>
            <a:ext cx="8682120" cy="548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820F9-3797-4429-95F7-00E9CAB5D072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7770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8682120" cy="548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62281-3E03-4680-ACA7-0D3612984101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7770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4236840" cy="548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7480" y="1143000"/>
            <a:ext cx="4236840" cy="548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A068F-413B-4BF8-BFC5-1D4F0C8D36A5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7770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D6BC3-7718-489E-A8A9-A4EC2FCA9DE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7770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423684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7480" y="1143000"/>
            <a:ext cx="423684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28240" y="4007880"/>
            <a:ext cx="868212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C43EB3-CAE8-48DE-B786-5914C28DA298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ubTitle"/>
          </p:nvPr>
        </p:nvSpPr>
        <p:spPr>
          <a:xfrm>
            <a:off x="228240" y="228240"/>
            <a:ext cx="6777000" cy="31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1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9AE30-76C6-47E8-9F05-8FEE072D3AED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7770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423684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7480" y="1143000"/>
            <a:ext cx="4236840" cy="548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228240" y="4007880"/>
            <a:ext cx="423684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47297-CAB8-4A47-91C7-A272258026A0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7770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4236840" cy="548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7480" y="1143000"/>
            <a:ext cx="423684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677480" y="4007880"/>
            <a:ext cx="423684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4D0E7-8E3D-47A4-96FB-4A01BDE7C073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7770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423684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7480" y="1143000"/>
            <a:ext cx="423684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228240" y="4007880"/>
            <a:ext cx="868212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E2F78-D946-494C-AAC8-7A8574957629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7770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868212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228240" y="4007880"/>
            <a:ext cx="868212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81D2B-328C-465C-A7B8-E4D03FCCAA5C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7770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423684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7480" y="1143000"/>
            <a:ext cx="423684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228240" y="4007880"/>
            <a:ext cx="423684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677480" y="4007880"/>
            <a:ext cx="423684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0CDCC-F354-4088-B3BF-37D66AF575B2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7770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279540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3163680" y="1143000"/>
            <a:ext cx="279540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6099480" y="1143000"/>
            <a:ext cx="279540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228240" y="4007880"/>
            <a:ext cx="279540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6"/>
          <p:cNvSpPr>
            <a:spLocks noGrp="1"/>
          </p:cNvSpPr>
          <p:nvPr>
            <p:ph/>
          </p:nvPr>
        </p:nvSpPr>
        <p:spPr>
          <a:xfrm>
            <a:off x="3163680" y="4007880"/>
            <a:ext cx="279540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7"/>
          <p:cNvSpPr>
            <a:spLocks noGrp="1"/>
          </p:cNvSpPr>
          <p:nvPr>
            <p:ph/>
          </p:nvPr>
        </p:nvSpPr>
        <p:spPr>
          <a:xfrm>
            <a:off x="6099480" y="4007880"/>
            <a:ext cx="279540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EEE7F-5B96-4654-A01E-99018E7E406E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6B8D073-A66F-4AB2-83AF-83A146E6B101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7770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subTitle"/>
          </p:nvPr>
        </p:nvSpPr>
        <p:spPr>
          <a:xfrm>
            <a:off x="228240" y="1143000"/>
            <a:ext cx="8682120" cy="548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CE3887D-E675-4F12-AB9C-54628B184E08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7770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8682120" cy="548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666B429-EF50-4DA9-97D7-E682937DEF9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7770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240" y="1143000"/>
            <a:ext cx="8682120" cy="548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lnSpc>
                <a:spcPct val="81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81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1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1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1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1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1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0" y="6613560"/>
            <a:ext cx="2362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000" spc="-1" strike="noStrike">
                <a:solidFill>
                  <a:srgbClr val="003366"/>
                </a:solidFill>
                <a:latin typeface="Century Gothic"/>
              </a:rPr>
              <a:t>OFA Workshop, Sonoma, 2007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8686440" y="6553080"/>
            <a:ext cx="376200" cy="23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81A7CAB-E738-4F19-9951-CF1BBF46C049}" type="slidenum">
              <a:rPr b="0" lang="en-GB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5" descr=""/>
          <p:cNvPicPr/>
          <p:nvPr/>
        </p:nvPicPr>
        <p:blipFill>
          <a:blip r:embed="rId2"/>
          <a:stretch/>
        </p:blipFill>
        <p:spPr>
          <a:xfrm>
            <a:off x="7010280" y="25560"/>
            <a:ext cx="2133720" cy="931680"/>
          </a:xfrm>
          <a:prstGeom prst="rect">
            <a:avLst/>
          </a:prstGeom>
          <a:ln w="0">
            <a:noFill/>
          </a:ln>
        </p:spPr>
      </p:pic>
      <p:sp>
        <p:nvSpPr>
          <p:cNvPr id="5" name="Line 6"/>
          <p:cNvSpPr/>
          <p:nvPr/>
        </p:nvSpPr>
        <p:spPr>
          <a:xfrm>
            <a:off x="228600" y="990720"/>
            <a:ext cx="8763120" cy="1440"/>
          </a:xfrm>
          <a:prstGeom prst="line">
            <a:avLst/>
          </a:prstGeom>
          <a:ln w="28440">
            <a:solidFill>
              <a:srgbClr val="44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Rectangle 7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Text Box 4"/>
          <p:cNvSpPr/>
          <p:nvPr/>
        </p:nvSpPr>
        <p:spPr>
          <a:xfrm>
            <a:off x="0" y="6507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entury Gothic"/>
              </a:rPr>
              <a:t>CHELSIO CONFIDENTIA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77" name="Picture 6" descr="chelsiologo"/>
          <p:cNvPicPr/>
          <p:nvPr/>
        </p:nvPicPr>
        <p:blipFill>
          <a:blip r:embed="rId2"/>
          <a:stretch/>
        </p:blipFill>
        <p:spPr>
          <a:xfrm>
            <a:off x="7010280" y="25560"/>
            <a:ext cx="2133720" cy="931680"/>
          </a:xfrm>
          <a:prstGeom prst="rect">
            <a:avLst/>
          </a:prstGeom>
          <a:ln w="0">
            <a:noFill/>
          </a:ln>
        </p:spPr>
      </p:pic>
      <p:sp>
        <p:nvSpPr>
          <p:cNvPr id="378" name="Line 7"/>
          <p:cNvSpPr/>
          <p:nvPr/>
        </p:nvSpPr>
        <p:spPr>
          <a:xfrm>
            <a:off x="228600" y="990720"/>
            <a:ext cx="8763120" cy="0"/>
          </a:xfrm>
          <a:prstGeom prst="line">
            <a:avLst/>
          </a:prstGeom>
          <a:ln w="28440">
            <a:solidFill>
              <a:srgbClr val="44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6781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228600" y="1142640"/>
            <a:ext cx="87631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 type="sldNum" idx="8"/>
          </p:nvPr>
        </p:nvSpPr>
        <p:spPr>
          <a:xfrm>
            <a:off x="8686800" y="655272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AF81981-4AD3-45D5-8F84-43D1183F952F}" type="slidenum">
              <a:rPr b="0" lang="en-US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Text Box 4"/>
          <p:cNvSpPr/>
          <p:nvPr/>
        </p:nvSpPr>
        <p:spPr>
          <a:xfrm>
            <a:off x="0" y="6507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entury Gothic"/>
              </a:rPr>
              <a:t>CHELSIO CONFIDENTIA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19" name="Picture 6" descr="chelsiologo"/>
          <p:cNvPicPr/>
          <p:nvPr/>
        </p:nvPicPr>
        <p:blipFill>
          <a:blip r:embed="rId2"/>
          <a:stretch/>
        </p:blipFill>
        <p:spPr>
          <a:xfrm>
            <a:off x="7010280" y="25560"/>
            <a:ext cx="2133720" cy="931680"/>
          </a:xfrm>
          <a:prstGeom prst="rect">
            <a:avLst/>
          </a:prstGeom>
          <a:ln w="0">
            <a:noFill/>
          </a:ln>
        </p:spPr>
      </p:pic>
      <p:sp>
        <p:nvSpPr>
          <p:cNvPr id="420" name="Line 7"/>
          <p:cNvSpPr/>
          <p:nvPr/>
        </p:nvSpPr>
        <p:spPr>
          <a:xfrm>
            <a:off x="228600" y="990720"/>
            <a:ext cx="8763120" cy="0"/>
          </a:xfrm>
          <a:prstGeom prst="line">
            <a:avLst/>
          </a:prstGeom>
          <a:ln w="28440">
            <a:solidFill>
              <a:srgbClr val="44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6781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228600" y="1142640"/>
            <a:ext cx="87631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 type="sldNum" idx="9"/>
          </p:nvPr>
        </p:nvSpPr>
        <p:spPr>
          <a:xfrm>
            <a:off x="8686800" y="655272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0FDFC64-1D27-43B0-BF1C-1DDE62E0FC47}" type="slidenum">
              <a:rPr b="0" lang="en-US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Text Box 4"/>
          <p:cNvSpPr/>
          <p:nvPr/>
        </p:nvSpPr>
        <p:spPr>
          <a:xfrm>
            <a:off x="0" y="6507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entury Gothic"/>
              </a:rPr>
              <a:t>CHELSIO CONFIDENTIA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61" name="Picture 6" descr="chelsiologo"/>
          <p:cNvPicPr/>
          <p:nvPr/>
        </p:nvPicPr>
        <p:blipFill>
          <a:blip r:embed="rId2"/>
          <a:stretch/>
        </p:blipFill>
        <p:spPr>
          <a:xfrm>
            <a:off x="7010280" y="25560"/>
            <a:ext cx="2133720" cy="931680"/>
          </a:xfrm>
          <a:prstGeom prst="rect">
            <a:avLst/>
          </a:prstGeom>
          <a:ln w="0">
            <a:noFill/>
          </a:ln>
        </p:spPr>
      </p:pic>
      <p:sp>
        <p:nvSpPr>
          <p:cNvPr id="462" name="Line 7"/>
          <p:cNvSpPr/>
          <p:nvPr/>
        </p:nvSpPr>
        <p:spPr>
          <a:xfrm>
            <a:off x="228600" y="990720"/>
            <a:ext cx="8763120" cy="0"/>
          </a:xfrm>
          <a:prstGeom prst="line">
            <a:avLst/>
          </a:prstGeom>
          <a:ln w="28440">
            <a:solidFill>
              <a:srgbClr val="44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6781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228600" y="1142640"/>
            <a:ext cx="87631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 type="sldNum" idx="10"/>
          </p:nvPr>
        </p:nvSpPr>
        <p:spPr>
          <a:xfrm>
            <a:off x="8686800" y="655272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0E0FBC3-E2E1-43B4-9B55-884E118FF892}" type="slidenum">
              <a:rPr b="0" lang="en-US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Text Box 4"/>
          <p:cNvSpPr/>
          <p:nvPr/>
        </p:nvSpPr>
        <p:spPr>
          <a:xfrm>
            <a:off x="0" y="6507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entury Gothic"/>
              </a:rPr>
              <a:t>CHELSIO CONFIDENTIA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3" name="Picture 6" descr="chelsiologo"/>
          <p:cNvPicPr/>
          <p:nvPr/>
        </p:nvPicPr>
        <p:blipFill>
          <a:blip r:embed="rId2"/>
          <a:stretch/>
        </p:blipFill>
        <p:spPr>
          <a:xfrm>
            <a:off x="7010280" y="25560"/>
            <a:ext cx="2133720" cy="931680"/>
          </a:xfrm>
          <a:prstGeom prst="rect">
            <a:avLst/>
          </a:prstGeom>
          <a:ln w="0">
            <a:noFill/>
          </a:ln>
        </p:spPr>
      </p:pic>
      <p:sp>
        <p:nvSpPr>
          <p:cNvPr id="504" name="Line 7"/>
          <p:cNvSpPr/>
          <p:nvPr/>
        </p:nvSpPr>
        <p:spPr>
          <a:xfrm>
            <a:off x="228600" y="990720"/>
            <a:ext cx="8763120" cy="0"/>
          </a:xfrm>
          <a:prstGeom prst="line">
            <a:avLst/>
          </a:prstGeom>
          <a:ln w="28440">
            <a:solidFill>
              <a:srgbClr val="44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6781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228600" y="1142640"/>
            <a:ext cx="87631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 type="sldNum" idx="11"/>
          </p:nvPr>
        </p:nvSpPr>
        <p:spPr>
          <a:xfrm>
            <a:off x="8686800" y="655272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FCD64BC-BCB6-47AF-9FC9-8198E0D3F5BD}" type="slidenum">
              <a:rPr b="0" lang="en-US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Text Box 4"/>
          <p:cNvSpPr/>
          <p:nvPr/>
        </p:nvSpPr>
        <p:spPr>
          <a:xfrm>
            <a:off x="0" y="6507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entury Gothic"/>
              </a:rPr>
              <a:t>CHELSIO CONFIDENTIA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45" name="Picture 6" descr="chelsiologo"/>
          <p:cNvPicPr/>
          <p:nvPr/>
        </p:nvPicPr>
        <p:blipFill>
          <a:blip r:embed="rId2"/>
          <a:stretch/>
        </p:blipFill>
        <p:spPr>
          <a:xfrm>
            <a:off x="7010280" y="25560"/>
            <a:ext cx="2133720" cy="931680"/>
          </a:xfrm>
          <a:prstGeom prst="rect">
            <a:avLst/>
          </a:prstGeom>
          <a:ln w="0">
            <a:noFill/>
          </a:ln>
        </p:spPr>
      </p:pic>
      <p:sp>
        <p:nvSpPr>
          <p:cNvPr id="546" name="Line 7"/>
          <p:cNvSpPr/>
          <p:nvPr/>
        </p:nvSpPr>
        <p:spPr>
          <a:xfrm>
            <a:off x="228600" y="990720"/>
            <a:ext cx="8763120" cy="0"/>
          </a:xfrm>
          <a:prstGeom prst="line">
            <a:avLst/>
          </a:prstGeom>
          <a:ln w="28440">
            <a:solidFill>
              <a:srgbClr val="44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6781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228600" y="1142640"/>
            <a:ext cx="87631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 type="sldNum" idx="12"/>
          </p:nvPr>
        </p:nvSpPr>
        <p:spPr>
          <a:xfrm>
            <a:off x="8686800" y="655272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27EDB09-13FA-4604-8090-6982F644F170}" type="slidenum">
              <a:rPr b="0" lang="en-US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Text Box 4"/>
          <p:cNvSpPr/>
          <p:nvPr/>
        </p:nvSpPr>
        <p:spPr>
          <a:xfrm>
            <a:off x="0" y="6507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entury Gothic"/>
              </a:rPr>
              <a:t>CHELSIO CONFIDENTIA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87" name="Picture 6" descr="chelsiologo"/>
          <p:cNvPicPr/>
          <p:nvPr/>
        </p:nvPicPr>
        <p:blipFill>
          <a:blip r:embed="rId2"/>
          <a:stretch/>
        </p:blipFill>
        <p:spPr>
          <a:xfrm>
            <a:off x="7010280" y="25560"/>
            <a:ext cx="2133720" cy="931680"/>
          </a:xfrm>
          <a:prstGeom prst="rect">
            <a:avLst/>
          </a:prstGeom>
          <a:ln w="0">
            <a:noFill/>
          </a:ln>
        </p:spPr>
      </p:pic>
      <p:sp>
        <p:nvSpPr>
          <p:cNvPr id="588" name="Line 7"/>
          <p:cNvSpPr/>
          <p:nvPr/>
        </p:nvSpPr>
        <p:spPr>
          <a:xfrm>
            <a:off x="228600" y="990720"/>
            <a:ext cx="8763120" cy="0"/>
          </a:xfrm>
          <a:prstGeom prst="line">
            <a:avLst/>
          </a:prstGeom>
          <a:ln w="28440">
            <a:solidFill>
              <a:srgbClr val="44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6781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228600" y="1142640"/>
            <a:ext cx="87631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 type="sldNum" idx="13"/>
          </p:nvPr>
        </p:nvSpPr>
        <p:spPr>
          <a:xfrm>
            <a:off x="8686800" y="655272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392ADB2-4F91-4B8C-9F33-1186C9A52C05}" type="slidenum">
              <a:rPr b="0" lang="en-US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Text Box 4"/>
          <p:cNvSpPr/>
          <p:nvPr/>
        </p:nvSpPr>
        <p:spPr>
          <a:xfrm>
            <a:off x="0" y="6507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entury Gothic"/>
              </a:rPr>
              <a:t>CHELSIO CONFIDENTIA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29" name="Picture 6" descr="chelsiologo"/>
          <p:cNvPicPr/>
          <p:nvPr/>
        </p:nvPicPr>
        <p:blipFill>
          <a:blip r:embed="rId2"/>
          <a:stretch/>
        </p:blipFill>
        <p:spPr>
          <a:xfrm>
            <a:off x="7010280" y="25560"/>
            <a:ext cx="2133720" cy="931680"/>
          </a:xfrm>
          <a:prstGeom prst="rect">
            <a:avLst/>
          </a:prstGeom>
          <a:ln w="0">
            <a:noFill/>
          </a:ln>
        </p:spPr>
      </p:pic>
      <p:sp>
        <p:nvSpPr>
          <p:cNvPr id="630" name="Line 7"/>
          <p:cNvSpPr/>
          <p:nvPr/>
        </p:nvSpPr>
        <p:spPr>
          <a:xfrm>
            <a:off x="228600" y="990720"/>
            <a:ext cx="8763120" cy="0"/>
          </a:xfrm>
          <a:prstGeom prst="line">
            <a:avLst/>
          </a:prstGeom>
          <a:ln w="28440">
            <a:solidFill>
              <a:srgbClr val="44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6781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 type="body"/>
          </p:nvPr>
        </p:nvSpPr>
        <p:spPr>
          <a:xfrm>
            <a:off x="228600" y="1142640"/>
            <a:ext cx="87631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 type="sldNum" idx="14"/>
          </p:nvPr>
        </p:nvSpPr>
        <p:spPr>
          <a:xfrm>
            <a:off x="8686800" y="655272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6607212-6633-40E0-8A95-A7A1CC7DB02A}" type="slidenum">
              <a:rPr b="0" lang="en-US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Text Box 4"/>
          <p:cNvSpPr/>
          <p:nvPr/>
        </p:nvSpPr>
        <p:spPr>
          <a:xfrm>
            <a:off x="0" y="6507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entury Gothic"/>
              </a:rPr>
              <a:t>CHELSIO CONFIDENTIA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71" name="Picture 6" descr="chelsiologo"/>
          <p:cNvPicPr/>
          <p:nvPr/>
        </p:nvPicPr>
        <p:blipFill>
          <a:blip r:embed="rId2"/>
          <a:stretch/>
        </p:blipFill>
        <p:spPr>
          <a:xfrm>
            <a:off x="7010280" y="25560"/>
            <a:ext cx="2133720" cy="931680"/>
          </a:xfrm>
          <a:prstGeom prst="rect">
            <a:avLst/>
          </a:prstGeom>
          <a:ln w="0">
            <a:noFill/>
          </a:ln>
        </p:spPr>
      </p:pic>
      <p:sp>
        <p:nvSpPr>
          <p:cNvPr id="672" name="Line 7"/>
          <p:cNvSpPr/>
          <p:nvPr/>
        </p:nvSpPr>
        <p:spPr>
          <a:xfrm>
            <a:off x="228600" y="990720"/>
            <a:ext cx="8763120" cy="0"/>
          </a:xfrm>
          <a:prstGeom prst="line">
            <a:avLst/>
          </a:prstGeom>
          <a:ln w="28440">
            <a:solidFill>
              <a:srgbClr val="44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6781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 type="body"/>
          </p:nvPr>
        </p:nvSpPr>
        <p:spPr>
          <a:xfrm>
            <a:off x="228600" y="1142640"/>
            <a:ext cx="87631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 type="sldNum" idx="15"/>
          </p:nvPr>
        </p:nvSpPr>
        <p:spPr>
          <a:xfrm>
            <a:off x="8686800" y="655272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158B1EE-8D7D-4725-8396-7128BB9C94D5}" type="slidenum">
              <a:rPr b="0" lang="en-US" sz="9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440" y="4191120"/>
            <a:ext cx="7767720" cy="90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44" name="Line 2"/>
          <p:cNvSpPr/>
          <p:nvPr/>
        </p:nvSpPr>
        <p:spPr>
          <a:xfrm>
            <a:off x="0" y="6477120"/>
            <a:ext cx="9144000" cy="1440"/>
          </a:xfrm>
          <a:prstGeom prst="line">
            <a:avLst/>
          </a:prstGeom>
          <a:ln w="28440">
            <a:solidFill>
              <a:srgbClr val="44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Rectangle 3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4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8040" indent="-338040">
              <a:lnSpc>
                <a:spcPct val="81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81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1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1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1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1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1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6781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228600" y="1142640"/>
            <a:ext cx="87631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4"/>
          <p:cNvSpPr/>
          <p:nvPr/>
        </p:nvSpPr>
        <p:spPr>
          <a:xfrm>
            <a:off x="0" y="6507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entury Gothic"/>
              </a:rPr>
              <a:t>CHELSIO CONFIDENTIA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2"/>
          </p:nvPr>
        </p:nvSpPr>
        <p:spPr>
          <a:xfrm>
            <a:off x="8686800" y="655272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A59D198-F378-4F60-9E34-5FF7084B169F}" type="slidenum">
              <a:rPr b="0" lang="en-US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6" descr="chelsiologo"/>
          <p:cNvPicPr/>
          <p:nvPr/>
        </p:nvPicPr>
        <p:blipFill>
          <a:blip r:embed="rId2"/>
          <a:stretch/>
        </p:blipFill>
        <p:spPr>
          <a:xfrm>
            <a:off x="7010280" y="25560"/>
            <a:ext cx="2133720" cy="931680"/>
          </a:xfrm>
          <a:prstGeom prst="rect">
            <a:avLst/>
          </a:prstGeom>
          <a:ln w="0">
            <a:noFill/>
          </a:ln>
        </p:spPr>
      </p:pic>
      <p:sp>
        <p:nvSpPr>
          <p:cNvPr id="88" name="Line 7"/>
          <p:cNvSpPr/>
          <p:nvPr/>
        </p:nvSpPr>
        <p:spPr>
          <a:xfrm>
            <a:off x="228600" y="990720"/>
            <a:ext cx="8763120" cy="0"/>
          </a:xfrm>
          <a:prstGeom prst="line">
            <a:avLst/>
          </a:prstGeom>
          <a:ln w="28440">
            <a:solidFill>
              <a:srgbClr val="44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3"/>
          <p:cNvSpPr/>
          <p:nvPr/>
        </p:nvSpPr>
        <p:spPr>
          <a:xfrm>
            <a:off x="0" y="6613560"/>
            <a:ext cx="259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000" spc="-1" strike="noStrike">
                <a:solidFill>
                  <a:srgbClr val="003366"/>
                </a:solidFill>
                <a:latin typeface="Century Gothic"/>
              </a:rPr>
              <a:t>OFA Workshop, Sonoma, 2007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6" name="Picture 5" descr=""/>
          <p:cNvPicPr/>
          <p:nvPr/>
        </p:nvPicPr>
        <p:blipFill>
          <a:blip r:embed="rId2"/>
          <a:stretch/>
        </p:blipFill>
        <p:spPr>
          <a:xfrm>
            <a:off x="7010280" y="25560"/>
            <a:ext cx="2133720" cy="931680"/>
          </a:xfrm>
          <a:prstGeom prst="rect">
            <a:avLst/>
          </a:prstGeom>
          <a:ln w="0">
            <a:noFill/>
          </a:ln>
        </p:spPr>
      </p:pic>
      <p:sp>
        <p:nvSpPr>
          <p:cNvPr id="127" name="Line 6"/>
          <p:cNvSpPr/>
          <p:nvPr/>
        </p:nvSpPr>
        <p:spPr>
          <a:xfrm>
            <a:off x="228600" y="990720"/>
            <a:ext cx="8763120" cy="1440"/>
          </a:xfrm>
          <a:prstGeom prst="line">
            <a:avLst/>
          </a:prstGeom>
          <a:ln w="28440">
            <a:solidFill>
              <a:srgbClr val="44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Rectangle 7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7770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228240" y="1143000"/>
            <a:ext cx="8682120" cy="548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lnSpc>
                <a:spcPct val="81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81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1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1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1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1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1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3"/>
          </p:nvPr>
        </p:nvSpPr>
        <p:spPr>
          <a:xfrm>
            <a:off x="8686800" y="655272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1347126-E6C9-4DDE-847A-039AAED4F248}" type="slidenum">
              <a:rPr b="0" lang="en-US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Line 5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44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6781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228600" y="1142640"/>
            <a:ext cx="87631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Text Box 4"/>
          <p:cNvSpPr/>
          <p:nvPr/>
        </p:nvSpPr>
        <p:spPr>
          <a:xfrm>
            <a:off x="0" y="6507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entury Gothic"/>
              </a:rPr>
              <a:t>CHELSIO CONFIDENTIA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9" name="Picture 6" descr="chelsiologo"/>
          <p:cNvPicPr/>
          <p:nvPr/>
        </p:nvPicPr>
        <p:blipFill>
          <a:blip r:embed="rId2"/>
          <a:stretch/>
        </p:blipFill>
        <p:spPr>
          <a:xfrm>
            <a:off x="7010280" y="25560"/>
            <a:ext cx="2133720" cy="931680"/>
          </a:xfrm>
          <a:prstGeom prst="rect">
            <a:avLst/>
          </a:prstGeom>
          <a:ln w="0">
            <a:noFill/>
          </a:ln>
        </p:spPr>
      </p:pic>
      <p:sp>
        <p:nvSpPr>
          <p:cNvPr id="210" name="Line 7"/>
          <p:cNvSpPr/>
          <p:nvPr/>
        </p:nvSpPr>
        <p:spPr>
          <a:xfrm>
            <a:off x="228600" y="990720"/>
            <a:ext cx="8763120" cy="0"/>
          </a:xfrm>
          <a:prstGeom prst="line">
            <a:avLst/>
          </a:prstGeom>
          <a:ln w="28440">
            <a:solidFill>
              <a:srgbClr val="44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6781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228600" y="1142640"/>
            <a:ext cx="87631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Num" idx="4"/>
          </p:nvPr>
        </p:nvSpPr>
        <p:spPr>
          <a:xfrm>
            <a:off x="8686800" y="655272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816CE1F-ABB9-4A50-95E9-1E712592E17C}" type="slidenum">
              <a:rPr b="0" lang="en-US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Text Box 4"/>
          <p:cNvSpPr/>
          <p:nvPr/>
        </p:nvSpPr>
        <p:spPr>
          <a:xfrm>
            <a:off x="0" y="6507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entury Gothic"/>
              </a:rPr>
              <a:t>CHELSIO CONFIDENTIA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1" name="Picture 6" descr="chelsiologo"/>
          <p:cNvPicPr/>
          <p:nvPr/>
        </p:nvPicPr>
        <p:blipFill>
          <a:blip r:embed="rId2"/>
          <a:stretch/>
        </p:blipFill>
        <p:spPr>
          <a:xfrm>
            <a:off x="7010280" y="25560"/>
            <a:ext cx="2133720" cy="931680"/>
          </a:xfrm>
          <a:prstGeom prst="rect">
            <a:avLst/>
          </a:prstGeom>
          <a:ln w="0">
            <a:noFill/>
          </a:ln>
        </p:spPr>
      </p:pic>
      <p:sp>
        <p:nvSpPr>
          <p:cNvPr id="252" name="Line 7"/>
          <p:cNvSpPr/>
          <p:nvPr/>
        </p:nvSpPr>
        <p:spPr>
          <a:xfrm>
            <a:off x="228600" y="990720"/>
            <a:ext cx="8763120" cy="0"/>
          </a:xfrm>
          <a:prstGeom prst="line">
            <a:avLst/>
          </a:prstGeom>
          <a:ln w="28440">
            <a:solidFill>
              <a:srgbClr val="44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6781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228600" y="1142640"/>
            <a:ext cx="87631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 type="sldNum" idx="5"/>
          </p:nvPr>
        </p:nvSpPr>
        <p:spPr>
          <a:xfrm>
            <a:off x="8686800" y="655272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394060F-1F22-4FB6-91CD-8160E5B2BF5C}" type="slidenum">
              <a:rPr b="0" lang="en-US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Text Box 4"/>
          <p:cNvSpPr/>
          <p:nvPr/>
        </p:nvSpPr>
        <p:spPr>
          <a:xfrm>
            <a:off x="0" y="6507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entury Gothic"/>
              </a:rPr>
              <a:t>CHELSIO CONFIDENTIA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3" name="Picture 6" descr="chelsiologo"/>
          <p:cNvPicPr/>
          <p:nvPr/>
        </p:nvPicPr>
        <p:blipFill>
          <a:blip r:embed="rId2"/>
          <a:stretch/>
        </p:blipFill>
        <p:spPr>
          <a:xfrm>
            <a:off x="7010280" y="25560"/>
            <a:ext cx="2133720" cy="931680"/>
          </a:xfrm>
          <a:prstGeom prst="rect">
            <a:avLst/>
          </a:prstGeom>
          <a:ln w="0">
            <a:noFill/>
          </a:ln>
        </p:spPr>
      </p:pic>
      <p:sp>
        <p:nvSpPr>
          <p:cNvPr id="294" name="Line 7"/>
          <p:cNvSpPr/>
          <p:nvPr/>
        </p:nvSpPr>
        <p:spPr>
          <a:xfrm>
            <a:off x="228600" y="990720"/>
            <a:ext cx="8763120" cy="0"/>
          </a:xfrm>
          <a:prstGeom prst="line">
            <a:avLst/>
          </a:prstGeom>
          <a:ln w="28440">
            <a:solidFill>
              <a:srgbClr val="44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6781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228600" y="1142640"/>
            <a:ext cx="87631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sldNum" idx="6"/>
          </p:nvPr>
        </p:nvSpPr>
        <p:spPr>
          <a:xfrm>
            <a:off x="8686800" y="655272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6FE7724-1898-4FF9-813C-D82F3A5B368D}" type="slidenum">
              <a:rPr b="0" lang="en-US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Text Box 4"/>
          <p:cNvSpPr/>
          <p:nvPr/>
        </p:nvSpPr>
        <p:spPr>
          <a:xfrm>
            <a:off x="0" y="6507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entury Gothic"/>
              </a:rPr>
              <a:t>CHELSIO CONFIDENTIA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35" name="Picture 6" descr="chelsiologo"/>
          <p:cNvPicPr/>
          <p:nvPr/>
        </p:nvPicPr>
        <p:blipFill>
          <a:blip r:embed="rId2"/>
          <a:stretch/>
        </p:blipFill>
        <p:spPr>
          <a:xfrm>
            <a:off x="7010280" y="25560"/>
            <a:ext cx="2133720" cy="931680"/>
          </a:xfrm>
          <a:prstGeom prst="rect">
            <a:avLst/>
          </a:prstGeom>
          <a:ln w="0">
            <a:noFill/>
          </a:ln>
        </p:spPr>
      </p:pic>
      <p:sp>
        <p:nvSpPr>
          <p:cNvPr id="336" name="Line 7"/>
          <p:cNvSpPr/>
          <p:nvPr/>
        </p:nvSpPr>
        <p:spPr>
          <a:xfrm>
            <a:off x="228600" y="990720"/>
            <a:ext cx="8763120" cy="0"/>
          </a:xfrm>
          <a:prstGeom prst="line">
            <a:avLst/>
          </a:prstGeom>
          <a:ln w="28440">
            <a:solidFill>
              <a:srgbClr val="44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6781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228600" y="1142640"/>
            <a:ext cx="87631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sldNum" idx="7"/>
          </p:nvPr>
        </p:nvSpPr>
        <p:spPr>
          <a:xfrm>
            <a:off x="8686800" y="655272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302A6F9-1CC6-4FD6-8679-E7E6AB059C73}" type="slidenum">
              <a:rPr b="0" lang="en-US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37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685800" y="3165480"/>
            <a:ext cx="7772400" cy="29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800" spc="-1" strike="noStrike">
                <a:solidFill>
                  <a:srgbClr val="003366"/>
                </a:solidFill>
                <a:latin typeface="Century Gothic"/>
              </a:rPr>
              <a:t>iWARP in OFED 1.2</a:t>
            </a:r>
            <a:br>
              <a:rPr sz="4800"/>
            </a:br>
            <a:r>
              <a:rPr b="1" lang="is-IS" sz="3200" spc="-1" strike="noStrike">
                <a:solidFill>
                  <a:srgbClr val="003366"/>
                </a:solidFill>
                <a:latin typeface="Century Gothic"/>
              </a:rPr>
              <a:t> </a:t>
            </a:r>
            <a:br>
              <a:rPr sz="3200"/>
            </a:br>
            <a:r>
              <a:rPr b="0" i="1" lang="en-GB" sz="2800" spc="-1" strike="noStrike">
                <a:solidFill>
                  <a:srgbClr val="003366"/>
                </a:solidFill>
                <a:latin typeface="Century Gothic"/>
              </a:rPr>
              <a:t>Asgeir Eir</a:t>
            </a:r>
            <a:r>
              <a:rPr b="0" i="1" lang="is-IS" sz="2800" spc="-1" strike="noStrike">
                <a:solidFill>
                  <a:srgbClr val="003366"/>
                </a:solidFill>
                <a:latin typeface="Century Gothic"/>
              </a:rPr>
              <a:t>iksson</a:t>
            </a:r>
            <a:br>
              <a:rPr sz="2800"/>
            </a:br>
            <a:r>
              <a:rPr b="0" i="1" lang="is-IS" sz="2800" spc="-1" strike="noStrike">
                <a:solidFill>
                  <a:srgbClr val="003366"/>
                </a:solidFill>
                <a:latin typeface="Century Gothic"/>
              </a:rPr>
              <a:t>Chelsio Communications Inc.</a:t>
            </a:r>
            <a:br>
              <a:rPr sz="2800"/>
            </a:br>
            <a:br>
              <a:rPr sz="2800"/>
            </a:br>
            <a:r>
              <a:rPr b="0" i="1" lang="is-IS" sz="2800" spc="-1" strike="noStrike">
                <a:solidFill>
                  <a:srgbClr val="003366"/>
                </a:solidFill>
                <a:latin typeface="Century Gothic"/>
              </a:rPr>
              <a:t>April 30, 2007</a:t>
            </a:r>
            <a:r>
              <a:rPr b="1" lang="is-IS" sz="2800" spc="-1" strike="noStrike">
                <a:solidFill>
                  <a:srgbClr val="003366"/>
                </a:solidFill>
                <a:latin typeface="Century Gothic"/>
              </a:rPr>
              <a:t> </a:t>
            </a:r>
            <a:br>
              <a:rPr sz="2800"/>
            </a:br>
            <a:r>
              <a:rPr b="0" i="1" lang="is-IS" sz="2800" spc="-1" strike="noStrike">
                <a:solidFill>
                  <a:srgbClr val="003366"/>
                </a:solidFill>
                <a:latin typeface="Century Gothic"/>
              </a:rPr>
              <a:t>OFA Workshop, Sonoma</a:t>
            </a:r>
            <a:endParaRPr b="0" lang="en-US" sz="2800" spc="-1" strike="noStrike">
              <a:solidFill>
                <a:srgbClr val="003366"/>
              </a:solidFill>
              <a:latin typeface="Arial Black"/>
            </a:endParaRPr>
          </a:p>
        </p:txBody>
      </p:sp>
      <p:pic>
        <p:nvPicPr>
          <p:cNvPr id="723" name="Picture 3" descr=""/>
          <p:cNvPicPr/>
          <p:nvPr/>
        </p:nvPicPr>
        <p:blipFill>
          <a:blip r:embed="rId1"/>
          <a:stretch/>
        </p:blipFill>
        <p:spPr>
          <a:xfrm>
            <a:off x="3429000" y="419040"/>
            <a:ext cx="2362320" cy="2324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Slide Number Placeholder 3"/>
          <p:cNvSpPr/>
          <p:nvPr/>
        </p:nvSpPr>
        <p:spPr>
          <a:xfrm>
            <a:off x="8686800" y="6553080"/>
            <a:ext cx="376200" cy="2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0560D4-E216-441F-870F-C01EAEE2F6B2}" type="slidenum">
              <a:rPr b="0" lang="en-US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7770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 Black"/>
              </a:rPr>
              <a:t>What’s in the Box</a:t>
            </a: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pic>
        <p:nvPicPr>
          <p:cNvPr id="757" name="Picture 3" descr=""/>
          <p:cNvPicPr/>
          <p:nvPr/>
        </p:nvPicPr>
        <p:blipFill>
          <a:blip r:embed="rId1"/>
          <a:stretch/>
        </p:blipFill>
        <p:spPr>
          <a:xfrm>
            <a:off x="152280" y="1219320"/>
            <a:ext cx="8763120" cy="473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Slide Number Placeholder 3"/>
          <p:cNvSpPr/>
          <p:nvPr/>
        </p:nvSpPr>
        <p:spPr>
          <a:xfrm>
            <a:off x="8686800" y="6553080"/>
            <a:ext cx="376200" cy="2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CF44D7-2ADF-44B0-A996-14D999E7D96C}" type="slidenum">
              <a:rPr b="0" lang="en-US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151920" y="228240"/>
            <a:ext cx="762012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 Black"/>
              </a:rPr>
              <a:t>Unified Wire: Traffic Manager</a:t>
            </a: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8682120" cy="548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ultiple transmit and receive queues with 8 QoS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 transmit queue sets with configurable service r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 receive queue sets with configurable steering of receive traff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class can have any number of conn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wo priority channels through chip for simultaneous low latency and high bandwidth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dvanced traffic shaping and pac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iminates TCP burstiness iss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e grained per-connection transmit rate shap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e grained per-class transmit rate shap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ighly flexible and configura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xed per-connection or per-class bandwidth – possible to mix bo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example: one corresponding to 5.5Mbs MPEG, another to teleconferencing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ffic Type, TOS and DSCP mapp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figurable weighted-round-robin scheduler to enforce SL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228240" y="342720"/>
            <a:ext cx="677700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3366"/>
                </a:solidFill>
                <a:latin typeface="Arial Black"/>
              </a:rPr>
              <a:t>Chelsio OFED 1.2 Support</a:t>
            </a: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8682120" cy="548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lnSpc>
                <a:spcPct val="81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vailable at kernel.or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81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2.6.21 to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81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ivers/net/cxgb3 – Ethernet Dri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81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iver/infiniband/hw/cxgb3 – RDMA Dri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pen Fabrics Enterprise Distribution (OFED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81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sion 1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81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ta Released 4/20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ual BSD/GPL Licens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b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81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performance QA n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81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ing at performance corn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228240" y="342720"/>
            <a:ext cx="677700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3366"/>
                </a:solidFill>
                <a:latin typeface="Arial Black"/>
              </a:rPr>
              <a:t>Chelsio OFED 1.2 Modules</a:t>
            </a: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4644720" y="1143000"/>
            <a:ext cx="4265640" cy="548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lnSpc>
                <a:spcPct val="81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xgb3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81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thernet N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81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CP Offload N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w_cxgb3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81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DMA Pro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81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pends on cxgb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ull offload TCP/IP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81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nection setup in hardw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W Servic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228240" y="342720"/>
            <a:ext cx="677700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3366"/>
                </a:solidFill>
                <a:latin typeface="Arial Black"/>
              </a:rPr>
              <a:t>OFED 1.2</a:t>
            </a: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8682120" cy="548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lnSpc>
                <a:spcPct val="81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sed on 2.6.20 RDMA code + fix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latforms: X86_32, X86_64, IA64, PPC64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ernel.org 2.6.21 Suppor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stros Support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81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HEL4 U4/5, RHEL5, SLES9SP3, SLES10 SP0/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81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be released with SLES 10SP1 and RHEL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RPM, RPM Packag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228240" y="342720"/>
            <a:ext cx="677700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3366"/>
                </a:solidFill>
                <a:latin typeface="Arial Black"/>
              </a:rPr>
              <a:t>OFED 1.2 Kernel Modules</a:t>
            </a: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8682120" cy="548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lnSpc>
                <a:spcPct val="81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finiband (IB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81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llanox, IBM, QLogic H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81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P over IB (IPoIB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81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ckets Direct Protocol (SDP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81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SI RDMA Protocol (SRP), iSCSI RDMA (iSER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81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iable Datagram Service (RDS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81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NIC (VNI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81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nection Manager (IBC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81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c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228600" y="358560"/>
            <a:ext cx="6781680" cy="4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66"/>
                </a:solidFill>
                <a:latin typeface="Arial Black"/>
              </a:rPr>
              <a:t>OFED 1.2 Kernel Modules</a:t>
            </a: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7631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7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WARP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7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helsio RN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7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WARP Connection Mana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7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RDMA-C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228600" y="344160"/>
            <a:ext cx="678168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66"/>
                </a:solidFill>
                <a:latin typeface="Arial Black"/>
              </a:rPr>
              <a:t>OFED 1.2 User Components</a:t>
            </a: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7631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Direct Access Provider Library (uDAPL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essage Passing Interface (MPI) Suppor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VAPICH, MVAPICH2 (in Q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penMPI (pann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B Subnet Management via OpenS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onnection Managemen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DMA-C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B-C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Rectangle 2"/>
          <p:cNvSpPr/>
          <p:nvPr/>
        </p:nvSpPr>
        <p:spPr>
          <a:xfrm>
            <a:off x="1371600" y="228600"/>
            <a:ext cx="556272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8701200"/>
                <a:tab algn="l" pos="9115560"/>
                <a:tab algn="l" pos="9529920"/>
                <a:tab algn="l" pos="9944280"/>
                <a:tab algn="l" pos="10358280"/>
                <a:tab algn="l" pos="107726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74" name="Picture 3" descr=""/>
          <p:cNvPicPr/>
          <p:nvPr/>
        </p:nvPicPr>
        <p:blipFill>
          <a:blip r:embed="rId1"/>
          <a:stretch/>
        </p:blipFill>
        <p:spPr>
          <a:xfrm>
            <a:off x="190440" y="142920"/>
            <a:ext cx="1030320" cy="1020600"/>
          </a:xfrm>
          <a:prstGeom prst="rect">
            <a:avLst/>
          </a:prstGeom>
          <a:ln w="0">
            <a:noFill/>
          </a:ln>
        </p:spPr>
      </p:pic>
      <p:grpSp>
        <p:nvGrpSpPr>
          <p:cNvPr id="775" name="Group 4"/>
          <p:cNvGrpSpPr/>
          <p:nvPr/>
        </p:nvGrpSpPr>
        <p:grpSpPr>
          <a:xfrm>
            <a:off x="7286760" y="1219320"/>
            <a:ext cx="1723680" cy="4114440"/>
            <a:chOff x="7286760" y="1219320"/>
            <a:chExt cx="1723680" cy="4114440"/>
          </a:xfrm>
        </p:grpSpPr>
        <p:sp>
          <p:nvSpPr>
            <p:cNvPr id="776" name="Rectangle 5"/>
            <p:cNvSpPr/>
            <p:nvPr/>
          </p:nvSpPr>
          <p:spPr>
            <a:xfrm>
              <a:off x="7829280" y="5080680"/>
              <a:ext cx="1179720" cy="25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1720" rIns="81720" tIns="42480" bIns="42480" anchor="t">
              <a:noAutofit/>
            </a:bodyPr>
            <a:p>
              <a:pPr>
                <a:lnSpc>
                  <a:spcPct val="93000"/>
                </a:lnSpc>
                <a:spcBef>
                  <a:spcPts val="201"/>
                </a:spcBef>
                <a:tabLst>
                  <a:tab algn="l" pos="0"/>
                  <a:tab algn="l" pos="414360"/>
                  <a:tab algn="l" pos="828720"/>
                  <a:tab algn="l" pos="1244520"/>
                  <a:tab algn="l" pos="1658880"/>
                  <a:tab algn="l" pos="2073240"/>
                  <a:tab algn="l" pos="2487600"/>
                  <a:tab algn="l" pos="2903400"/>
                  <a:tab algn="l" pos="3317760"/>
                  <a:tab algn="l" pos="3732120"/>
                  <a:tab algn="l" pos="4146480"/>
                  <a:tab algn="l" pos="4562640"/>
                  <a:tab algn="l" pos="4976640"/>
                  <a:tab algn="l" pos="5391000"/>
                  <a:tab algn="l" pos="5805360"/>
                  <a:tab algn="l" pos="6221520"/>
                  <a:tab algn="l" pos="6635880"/>
                  <a:tab algn="l" pos="7050240"/>
                  <a:tab algn="l" pos="7464600"/>
                  <a:tab algn="l" pos="7880400"/>
                  <a:tab algn="l" pos="8294760"/>
                  <a:tab algn="l" pos="8701200"/>
                  <a:tab algn="l" pos="9115560"/>
                  <a:tab algn="l" pos="9529920"/>
                  <a:tab algn="l" pos="9944280"/>
                  <a:tab algn="l" pos="10358280"/>
                  <a:tab algn="l" pos="1077264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Times New Roman"/>
                </a:rPr>
                <a:t>RDMA NIC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Rectangle 6"/>
            <p:cNvSpPr/>
            <p:nvPr/>
          </p:nvSpPr>
          <p:spPr>
            <a:xfrm>
              <a:off x="7286760" y="5080680"/>
              <a:ext cx="542520" cy="25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1720" rIns="81720" tIns="42480" bIns="42480" anchor="t">
              <a:noAutofit/>
            </a:bodyPr>
            <a:p>
              <a:pPr>
                <a:lnSpc>
                  <a:spcPct val="93000"/>
                </a:lnSpc>
                <a:spcBef>
                  <a:spcPts val="201"/>
                </a:spcBef>
                <a:tabLst>
                  <a:tab algn="l" pos="0"/>
                  <a:tab algn="l" pos="414360"/>
                  <a:tab algn="l" pos="828720"/>
                  <a:tab algn="l" pos="1244520"/>
                  <a:tab algn="l" pos="1658880"/>
                  <a:tab algn="l" pos="2073240"/>
                  <a:tab algn="l" pos="2487600"/>
                  <a:tab algn="l" pos="2903400"/>
                  <a:tab algn="l" pos="3317760"/>
                  <a:tab algn="l" pos="3732120"/>
                  <a:tab algn="l" pos="4146480"/>
                  <a:tab algn="l" pos="4562640"/>
                  <a:tab algn="l" pos="4976640"/>
                  <a:tab algn="l" pos="5391000"/>
                  <a:tab algn="l" pos="5805360"/>
                  <a:tab algn="l" pos="6221520"/>
                  <a:tab algn="l" pos="6635880"/>
                  <a:tab algn="l" pos="7050240"/>
                  <a:tab algn="l" pos="7464600"/>
                  <a:tab algn="l" pos="7880400"/>
                  <a:tab algn="l" pos="8294760"/>
                  <a:tab algn="l" pos="8701200"/>
                  <a:tab algn="l" pos="9115560"/>
                  <a:tab algn="l" pos="9529920"/>
                  <a:tab algn="l" pos="9944280"/>
                  <a:tab algn="l" pos="10358280"/>
                  <a:tab algn="l" pos="1077264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Times New Roman"/>
                </a:rPr>
                <a:t>R-NIC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Rectangle 7"/>
            <p:cNvSpPr/>
            <p:nvPr/>
          </p:nvSpPr>
          <p:spPr>
            <a:xfrm>
              <a:off x="7829280" y="4716360"/>
              <a:ext cx="1179720" cy="36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1720" rIns="81720" tIns="42480" bIns="42480" anchor="t">
              <a:noAutofit/>
            </a:bodyPr>
            <a:p>
              <a:pPr>
                <a:lnSpc>
                  <a:spcPct val="93000"/>
                </a:lnSpc>
                <a:spcBef>
                  <a:spcPts val="201"/>
                </a:spcBef>
                <a:tabLst>
                  <a:tab algn="l" pos="0"/>
                  <a:tab algn="l" pos="414360"/>
                  <a:tab algn="l" pos="828720"/>
                  <a:tab algn="l" pos="1244520"/>
                  <a:tab algn="l" pos="1658880"/>
                  <a:tab algn="l" pos="2073240"/>
                  <a:tab algn="l" pos="2487600"/>
                  <a:tab algn="l" pos="2903400"/>
                  <a:tab algn="l" pos="3317760"/>
                  <a:tab algn="l" pos="3732120"/>
                  <a:tab algn="l" pos="4146480"/>
                  <a:tab algn="l" pos="4562640"/>
                  <a:tab algn="l" pos="4976640"/>
                  <a:tab algn="l" pos="5391000"/>
                  <a:tab algn="l" pos="5805360"/>
                  <a:tab algn="l" pos="6221520"/>
                  <a:tab algn="l" pos="6635880"/>
                  <a:tab algn="l" pos="7050240"/>
                  <a:tab algn="l" pos="7464600"/>
                  <a:tab algn="l" pos="7880400"/>
                  <a:tab algn="l" pos="8294760"/>
                  <a:tab algn="l" pos="8701200"/>
                  <a:tab algn="l" pos="9115560"/>
                  <a:tab algn="l" pos="9529920"/>
                  <a:tab algn="l" pos="9944280"/>
                  <a:tab algn="l" pos="10358280"/>
                  <a:tab algn="l" pos="1077264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Times New Roman"/>
                </a:rPr>
                <a:t>Host Channel Adapter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Rectangle 8"/>
            <p:cNvSpPr/>
            <p:nvPr/>
          </p:nvSpPr>
          <p:spPr>
            <a:xfrm>
              <a:off x="7286760" y="4716360"/>
              <a:ext cx="542520" cy="36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1720" rIns="81720" tIns="42480" bIns="42480" anchor="t">
              <a:noAutofit/>
            </a:bodyPr>
            <a:p>
              <a:pPr>
                <a:lnSpc>
                  <a:spcPct val="93000"/>
                </a:lnSpc>
                <a:spcBef>
                  <a:spcPts val="201"/>
                </a:spcBef>
                <a:tabLst>
                  <a:tab algn="l" pos="0"/>
                  <a:tab algn="l" pos="414360"/>
                  <a:tab algn="l" pos="828720"/>
                  <a:tab algn="l" pos="1244520"/>
                  <a:tab algn="l" pos="1658880"/>
                  <a:tab algn="l" pos="2073240"/>
                  <a:tab algn="l" pos="2487600"/>
                  <a:tab algn="l" pos="2903400"/>
                  <a:tab algn="l" pos="3317760"/>
                  <a:tab algn="l" pos="3732120"/>
                  <a:tab algn="l" pos="4146480"/>
                  <a:tab algn="l" pos="4562640"/>
                  <a:tab algn="l" pos="4976640"/>
                  <a:tab algn="l" pos="5391000"/>
                  <a:tab algn="l" pos="5805360"/>
                  <a:tab algn="l" pos="6221520"/>
                  <a:tab algn="l" pos="6635880"/>
                  <a:tab algn="l" pos="7050240"/>
                  <a:tab algn="l" pos="7464600"/>
                  <a:tab algn="l" pos="7880400"/>
                  <a:tab algn="l" pos="8294760"/>
                  <a:tab algn="l" pos="8701200"/>
                  <a:tab algn="l" pos="9115560"/>
                  <a:tab algn="l" pos="9529920"/>
                  <a:tab algn="l" pos="9944280"/>
                  <a:tab algn="l" pos="10358280"/>
                  <a:tab algn="l" pos="1077264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Times New Roman"/>
                </a:rPr>
                <a:t>HCA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Rectangle 9"/>
            <p:cNvSpPr/>
            <p:nvPr/>
          </p:nvSpPr>
          <p:spPr>
            <a:xfrm>
              <a:off x="7829280" y="4353480"/>
              <a:ext cx="1179720" cy="36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1720" rIns="81720" tIns="42480" bIns="42480" anchor="t">
              <a:noAutofit/>
            </a:bodyPr>
            <a:p>
              <a:pPr>
                <a:lnSpc>
                  <a:spcPct val="93000"/>
                </a:lnSpc>
                <a:spcBef>
                  <a:spcPts val="201"/>
                </a:spcBef>
                <a:tabLst>
                  <a:tab algn="l" pos="0"/>
                  <a:tab algn="l" pos="414360"/>
                  <a:tab algn="l" pos="828720"/>
                  <a:tab algn="l" pos="1244520"/>
                  <a:tab algn="l" pos="1658880"/>
                  <a:tab algn="l" pos="2073240"/>
                  <a:tab algn="l" pos="2487600"/>
                  <a:tab algn="l" pos="2903400"/>
                  <a:tab algn="l" pos="3317760"/>
                  <a:tab algn="l" pos="3732120"/>
                  <a:tab algn="l" pos="4146480"/>
                  <a:tab algn="l" pos="4562640"/>
                  <a:tab algn="l" pos="4976640"/>
                  <a:tab algn="l" pos="5391000"/>
                  <a:tab algn="l" pos="5805360"/>
                  <a:tab algn="l" pos="6221520"/>
                  <a:tab algn="l" pos="6635880"/>
                  <a:tab algn="l" pos="7050240"/>
                  <a:tab algn="l" pos="7464600"/>
                  <a:tab algn="l" pos="7880400"/>
                  <a:tab algn="l" pos="8294760"/>
                  <a:tab algn="l" pos="8701200"/>
                  <a:tab algn="l" pos="9115560"/>
                  <a:tab algn="l" pos="9529920"/>
                  <a:tab algn="l" pos="9944280"/>
                  <a:tab algn="l" pos="10358280"/>
                  <a:tab algn="l" pos="1077264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Times New Roman"/>
                </a:rPr>
                <a:t>User Direct Access Programming Lib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1" name="Rectangle 10"/>
            <p:cNvSpPr/>
            <p:nvPr/>
          </p:nvSpPr>
          <p:spPr>
            <a:xfrm>
              <a:off x="7286760" y="4353480"/>
              <a:ext cx="542520" cy="36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1720" rIns="81720" tIns="42480" bIns="42480" anchor="t">
              <a:noAutofit/>
            </a:bodyPr>
            <a:p>
              <a:pPr>
                <a:lnSpc>
                  <a:spcPct val="93000"/>
                </a:lnSpc>
                <a:spcBef>
                  <a:spcPts val="187"/>
                </a:spcBef>
                <a:tabLst>
                  <a:tab algn="l" pos="0"/>
                  <a:tab algn="l" pos="414360"/>
                  <a:tab algn="l" pos="828720"/>
                  <a:tab algn="l" pos="1244520"/>
                  <a:tab algn="l" pos="1658880"/>
                  <a:tab algn="l" pos="2073240"/>
                  <a:tab algn="l" pos="2487600"/>
                  <a:tab algn="l" pos="2903400"/>
                  <a:tab algn="l" pos="3317760"/>
                  <a:tab algn="l" pos="3732120"/>
                  <a:tab algn="l" pos="4146480"/>
                  <a:tab algn="l" pos="4562640"/>
                  <a:tab algn="l" pos="4976640"/>
                  <a:tab algn="l" pos="5391000"/>
                  <a:tab algn="l" pos="5805360"/>
                  <a:tab algn="l" pos="6221520"/>
                  <a:tab algn="l" pos="6635880"/>
                  <a:tab algn="l" pos="7050240"/>
                  <a:tab algn="l" pos="7464600"/>
                  <a:tab algn="l" pos="7880400"/>
                  <a:tab algn="l" pos="8294760"/>
                  <a:tab algn="l" pos="8701200"/>
                  <a:tab algn="l" pos="9115560"/>
                  <a:tab algn="l" pos="9529920"/>
                  <a:tab algn="l" pos="9944280"/>
                  <a:tab algn="l" pos="10358280"/>
                  <a:tab algn="l" pos="10772640"/>
                </a:tabLst>
              </a:pPr>
              <a:r>
                <a:rPr b="0" lang="en-GB" sz="700" spc="-1" strike="noStrike">
                  <a:solidFill>
                    <a:srgbClr val="000000"/>
                  </a:solidFill>
                  <a:latin typeface="Times New Roman"/>
                </a:rPr>
                <a:t>UDAPL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2" name="Rectangle 11"/>
            <p:cNvSpPr/>
            <p:nvPr/>
          </p:nvSpPr>
          <p:spPr>
            <a:xfrm>
              <a:off x="7829280" y="3989160"/>
              <a:ext cx="1179720" cy="36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1720" rIns="81720" tIns="42480" bIns="42480" anchor="t">
              <a:noAutofit/>
            </a:bodyPr>
            <a:p>
              <a:pPr>
                <a:lnSpc>
                  <a:spcPct val="93000"/>
                </a:lnSpc>
                <a:spcBef>
                  <a:spcPts val="201"/>
                </a:spcBef>
                <a:tabLst>
                  <a:tab algn="l" pos="0"/>
                  <a:tab algn="l" pos="414360"/>
                  <a:tab algn="l" pos="828720"/>
                  <a:tab algn="l" pos="1244520"/>
                  <a:tab algn="l" pos="1658880"/>
                  <a:tab algn="l" pos="2073240"/>
                  <a:tab algn="l" pos="2487600"/>
                  <a:tab algn="l" pos="2903400"/>
                  <a:tab algn="l" pos="3317760"/>
                  <a:tab algn="l" pos="3732120"/>
                  <a:tab algn="l" pos="4146480"/>
                  <a:tab algn="l" pos="4562640"/>
                  <a:tab algn="l" pos="4976640"/>
                  <a:tab algn="l" pos="5391000"/>
                  <a:tab algn="l" pos="5805360"/>
                  <a:tab algn="l" pos="6221520"/>
                  <a:tab algn="l" pos="6635880"/>
                  <a:tab algn="l" pos="7050240"/>
                  <a:tab algn="l" pos="7464600"/>
                  <a:tab algn="l" pos="7880400"/>
                  <a:tab algn="l" pos="8294760"/>
                  <a:tab algn="l" pos="8701200"/>
                  <a:tab algn="l" pos="9115560"/>
                  <a:tab algn="l" pos="9529920"/>
                  <a:tab algn="l" pos="9944280"/>
                  <a:tab algn="l" pos="10358280"/>
                  <a:tab algn="l" pos="1077264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Times New Roman"/>
                </a:rPr>
                <a:t>Reliable Datagram Service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3" name="Rectangle 12"/>
            <p:cNvSpPr/>
            <p:nvPr/>
          </p:nvSpPr>
          <p:spPr>
            <a:xfrm>
              <a:off x="7286760" y="3989160"/>
              <a:ext cx="542520" cy="36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1720" rIns="81720" tIns="42480" bIns="42480" anchor="t">
              <a:noAutofit/>
            </a:bodyPr>
            <a:p>
              <a:pPr>
                <a:lnSpc>
                  <a:spcPct val="93000"/>
                </a:lnSpc>
                <a:spcBef>
                  <a:spcPts val="201"/>
                </a:spcBef>
                <a:tabLst>
                  <a:tab algn="l" pos="0"/>
                  <a:tab algn="l" pos="414360"/>
                  <a:tab algn="l" pos="828720"/>
                  <a:tab algn="l" pos="1244520"/>
                  <a:tab algn="l" pos="1658880"/>
                  <a:tab algn="l" pos="2073240"/>
                  <a:tab algn="l" pos="2487600"/>
                  <a:tab algn="l" pos="2903400"/>
                  <a:tab algn="l" pos="3317760"/>
                  <a:tab algn="l" pos="3732120"/>
                  <a:tab algn="l" pos="4146480"/>
                  <a:tab algn="l" pos="4562640"/>
                  <a:tab algn="l" pos="4976640"/>
                  <a:tab algn="l" pos="5391000"/>
                  <a:tab algn="l" pos="5805360"/>
                  <a:tab algn="l" pos="6221520"/>
                  <a:tab algn="l" pos="6635880"/>
                  <a:tab algn="l" pos="7050240"/>
                  <a:tab algn="l" pos="7464600"/>
                  <a:tab algn="l" pos="7880400"/>
                  <a:tab algn="l" pos="8294760"/>
                  <a:tab algn="l" pos="8701200"/>
                  <a:tab algn="l" pos="9115560"/>
                  <a:tab algn="l" pos="9529920"/>
                  <a:tab algn="l" pos="9944280"/>
                  <a:tab algn="l" pos="10358280"/>
                  <a:tab algn="l" pos="1077264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Times New Roman"/>
                </a:rPr>
                <a:t>RDS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4" name="Rectangle 13"/>
            <p:cNvSpPr/>
            <p:nvPr/>
          </p:nvSpPr>
          <p:spPr>
            <a:xfrm>
              <a:off x="7829280" y="3626280"/>
              <a:ext cx="1179720" cy="36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1720" rIns="81720" tIns="42480" bIns="42480" anchor="t">
              <a:noAutofit/>
            </a:bodyPr>
            <a:p>
              <a:pPr>
                <a:lnSpc>
                  <a:spcPct val="93000"/>
                </a:lnSpc>
                <a:spcBef>
                  <a:spcPts val="201"/>
                </a:spcBef>
                <a:tabLst>
                  <a:tab algn="l" pos="0"/>
                  <a:tab algn="l" pos="414360"/>
                  <a:tab algn="l" pos="828720"/>
                  <a:tab algn="l" pos="1244520"/>
                  <a:tab algn="l" pos="1658880"/>
                  <a:tab algn="l" pos="2073240"/>
                  <a:tab algn="l" pos="2487600"/>
                  <a:tab algn="l" pos="2903400"/>
                  <a:tab algn="l" pos="3317760"/>
                  <a:tab algn="l" pos="3732120"/>
                  <a:tab algn="l" pos="4146480"/>
                  <a:tab algn="l" pos="4562640"/>
                  <a:tab algn="l" pos="4976640"/>
                  <a:tab algn="l" pos="5391000"/>
                  <a:tab algn="l" pos="5805360"/>
                  <a:tab algn="l" pos="6221520"/>
                  <a:tab algn="l" pos="6635880"/>
                  <a:tab algn="l" pos="7050240"/>
                  <a:tab algn="l" pos="7464600"/>
                  <a:tab algn="l" pos="7880400"/>
                  <a:tab algn="l" pos="8294760"/>
                  <a:tab algn="l" pos="8701200"/>
                  <a:tab algn="l" pos="9115560"/>
                  <a:tab algn="l" pos="9529920"/>
                  <a:tab algn="l" pos="9944280"/>
                  <a:tab algn="l" pos="10358280"/>
                  <a:tab algn="l" pos="1077264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Times New Roman"/>
                </a:rPr>
                <a:t>iSCSI RDMA Protocol (Initiator)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Rectangle 14"/>
            <p:cNvSpPr/>
            <p:nvPr/>
          </p:nvSpPr>
          <p:spPr>
            <a:xfrm>
              <a:off x="7286760" y="3626280"/>
              <a:ext cx="542520" cy="36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1720" rIns="81720" tIns="42480" bIns="42480" anchor="t">
              <a:noAutofit/>
            </a:bodyPr>
            <a:p>
              <a:pPr>
                <a:lnSpc>
                  <a:spcPct val="93000"/>
                </a:lnSpc>
                <a:spcBef>
                  <a:spcPts val="201"/>
                </a:spcBef>
                <a:tabLst>
                  <a:tab algn="l" pos="0"/>
                  <a:tab algn="l" pos="414360"/>
                  <a:tab algn="l" pos="828720"/>
                  <a:tab algn="l" pos="1244520"/>
                  <a:tab algn="l" pos="1658880"/>
                  <a:tab algn="l" pos="2073240"/>
                  <a:tab algn="l" pos="2487600"/>
                  <a:tab algn="l" pos="2903400"/>
                  <a:tab algn="l" pos="3317760"/>
                  <a:tab algn="l" pos="3732120"/>
                  <a:tab algn="l" pos="4146480"/>
                  <a:tab algn="l" pos="4562640"/>
                  <a:tab algn="l" pos="4976640"/>
                  <a:tab algn="l" pos="5391000"/>
                  <a:tab algn="l" pos="5805360"/>
                  <a:tab algn="l" pos="6221520"/>
                  <a:tab algn="l" pos="6635880"/>
                  <a:tab algn="l" pos="7050240"/>
                  <a:tab algn="l" pos="7464600"/>
                  <a:tab algn="l" pos="7880400"/>
                  <a:tab algn="l" pos="8294760"/>
                  <a:tab algn="l" pos="8701200"/>
                  <a:tab algn="l" pos="9115560"/>
                  <a:tab algn="l" pos="9529920"/>
                  <a:tab algn="l" pos="9944280"/>
                  <a:tab algn="l" pos="10358280"/>
                  <a:tab algn="l" pos="1077264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Times New Roman"/>
                </a:rPr>
                <a:t>iSER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Rectangle 15"/>
            <p:cNvSpPr/>
            <p:nvPr/>
          </p:nvSpPr>
          <p:spPr>
            <a:xfrm>
              <a:off x="7829280" y="3261960"/>
              <a:ext cx="1179720" cy="36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1720" rIns="81720" tIns="42480" bIns="42480" anchor="t">
              <a:noAutofit/>
            </a:bodyPr>
            <a:p>
              <a:pPr>
                <a:lnSpc>
                  <a:spcPct val="93000"/>
                </a:lnSpc>
                <a:spcBef>
                  <a:spcPts val="201"/>
                </a:spcBef>
                <a:tabLst>
                  <a:tab algn="l" pos="0"/>
                  <a:tab algn="l" pos="414360"/>
                  <a:tab algn="l" pos="828720"/>
                  <a:tab algn="l" pos="1244520"/>
                  <a:tab algn="l" pos="1658880"/>
                  <a:tab algn="l" pos="2073240"/>
                  <a:tab algn="l" pos="2487600"/>
                  <a:tab algn="l" pos="2903400"/>
                  <a:tab algn="l" pos="3317760"/>
                  <a:tab algn="l" pos="3732120"/>
                  <a:tab algn="l" pos="4146480"/>
                  <a:tab algn="l" pos="4562640"/>
                  <a:tab algn="l" pos="4976640"/>
                  <a:tab algn="l" pos="5391000"/>
                  <a:tab algn="l" pos="5805360"/>
                  <a:tab algn="l" pos="6221520"/>
                  <a:tab algn="l" pos="6635880"/>
                  <a:tab algn="l" pos="7050240"/>
                  <a:tab algn="l" pos="7464600"/>
                  <a:tab algn="l" pos="7880400"/>
                  <a:tab algn="l" pos="8294760"/>
                  <a:tab algn="l" pos="8701200"/>
                  <a:tab algn="l" pos="9115560"/>
                  <a:tab algn="l" pos="9529920"/>
                  <a:tab algn="l" pos="9944280"/>
                  <a:tab algn="l" pos="10358280"/>
                  <a:tab algn="l" pos="1077264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Times New Roman"/>
                </a:rPr>
                <a:t>SCSI RDMA Protocol (Initiator)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Rectangle 16"/>
            <p:cNvSpPr/>
            <p:nvPr/>
          </p:nvSpPr>
          <p:spPr>
            <a:xfrm>
              <a:off x="7286760" y="3261960"/>
              <a:ext cx="542520" cy="36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1720" rIns="81720" tIns="42480" bIns="42480" anchor="t">
              <a:noAutofit/>
            </a:bodyPr>
            <a:p>
              <a:pPr>
                <a:lnSpc>
                  <a:spcPct val="93000"/>
                </a:lnSpc>
                <a:spcBef>
                  <a:spcPts val="201"/>
                </a:spcBef>
                <a:tabLst>
                  <a:tab algn="l" pos="0"/>
                  <a:tab algn="l" pos="414360"/>
                  <a:tab algn="l" pos="828720"/>
                  <a:tab algn="l" pos="1244520"/>
                  <a:tab algn="l" pos="1658880"/>
                  <a:tab algn="l" pos="2073240"/>
                  <a:tab algn="l" pos="2487600"/>
                  <a:tab algn="l" pos="2903400"/>
                  <a:tab algn="l" pos="3317760"/>
                  <a:tab algn="l" pos="3732120"/>
                  <a:tab algn="l" pos="4146480"/>
                  <a:tab algn="l" pos="4562640"/>
                  <a:tab algn="l" pos="4976640"/>
                  <a:tab algn="l" pos="5391000"/>
                  <a:tab algn="l" pos="5805360"/>
                  <a:tab algn="l" pos="6221520"/>
                  <a:tab algn="l" pos="6635880"/>
                  <a:tab algn="l" pos="7050240"/>
                  <a:tab algn="l" pos="7464600"/>
                  <a:tab algn="l" pos="7880400"/>
                  <a:tab algn="l" pos="8294760"/>
                  <a:tab algn="l" pos="8701200"/>
                  <a:tab algn="l" pos="9115560"/>
                  <a:tab algn="l" pos="9529920"/>
                  <a:tab algn="l" pos="9944280"/>
                  <a:tab algn="l" pos="10358280"/>
                  <a:tab algn="l" pos="1077264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Times New Roman"/>
                </a:rPr>
                <a:t>SRP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Rectangle 17"/>
            <p:cNvSpPr/>
            <p:nvPr/>
          </p:nvSpPr>
          <p:spPr>
            <a:xfrm>
              <a:off x="7829280" y="2899440"/>
              <a:ext cx="1179720" cy="36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1720" rIns="81720" tIns="42480" bIns="42480" anchor="t">
              <a:noAutofit/>
            </a:bodyPr>
            <a:p>
              <a:pPr>
                <a:lnSpc>
                  <a:spcPct val="93000"/>
                </a:lnSpc>
                <a:spcBef>
                  <a:spcPts val="201"/>
                </a:spcBef>
                <a:tabLst>
                  <a:tab algn="l" pos="0"/>
                  <a:tab algn="l" pos="414360"/>
                  <a:tab algn="l" pos="828720"/>
                  <a:tab algn="l" pos="1244520"/>
                  <a:tab algn="l" pos="1658880"/>
                  <a:tab algn="l" pos="2073240"/>
                  <a:tab algn="l" pos="2487600"/>
                  <a:tab algn="l" pos="2903400"/>
                  <a:tab algn="l" pos="3317760"/>
                  <a:tab algn="l" pos="3732120"/>
                  <a:tab algn="l" pos="4146480"/>
                  <a:tab algn="l" pos="4562640"/>
                  <a:tab algn="l" pos="4976640"/>
                  <a:tab algn="l" pos="5391000"/>
                  <a:tab algn="l" pos="5805360"/>
                  <a:tab algn="l" pos="6221520"/>
                  <a:tab algn="l" pos="6635880"/>
                  <a:tab algn="l" pos="7050240"/>
                  <a:tab algn="l" pos="7464600"/>
                  <a:tab algn="l" pos="7880400"/>
                  <a:tab algn="l" pos="8294760"/>
                  <a:tab algn="l" pos="8701200"/>
                  <a:tab algn="l" pos="9115560"/>
                  <a:tab algn="l" pos="9529920"/>
                  <a:tab algn="l" pos="9944280"/>
                  <a:tab algn="l" pos="10358280"/>
                  <a:tab algn="l" pos="1077264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Times New Roman"/>
                </a:rPr>
                <a:t>Sockets Direct Protocol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Rectangle 18"/>
            <p:cNvSpPr/>
            <p:nvPr/>
          </p:nvSpPr>
          <p:spPr>
            <a:xfrm>
              <a:off x="7286760" y="2899440"/>
              <a:ext cx="542520" cy="36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1720" rIns="81720" tIns="42480" bIns="42480" anchor="t">
              <a:noAutofit/>
            </a:bodyPr>
            <a:p>
              <a:pPr>
                <a:lnSpc>
                  <a:spcPct val="93000"/>
                </a:lnSpc>
                <a:spcBef>
                  <a:spcPts val="201"/>
                </a:spcBef>
                <a:tabLst>
                  <a:tab algn="l" pos="0"/>
                  <a:tab algn="l" pos="414360"/>
                  <a:tab algn="l" pos="828720"/>
                  <a:tab algn="l" pos="1244520"/>
                  <a:tab algn="l" pos="1658880"/>
                  <a:tab algn="l" pos="2073240"/>
                  <a:tab algn="l" pos="2487600"/>
                  <a:tab algn="l" pos="2903400"/>
                  <a:tab algn="l" pos="3317760"/>
                  <a:tab algn="l" pos="3732120"/>
                  <a:tab algn="l" pos="4146480"/>
                  <a:tab algn="l" pos="4562640"/>
                  <a:tab algn="l" pos="4976640"/>
                  <a:tab algn="l" pos="5391000"/>
                  <a:tab algn="l" pos="5805360"/>
                  <a:tab algn="l" pos="6221520"/>
                  <a:tab algn="l" pos="6635880"/>
                  <a:tab algn="l" pos="7050240"/>
                  <a:tab algn="l" pos="7464600"/>
                  <a:tab algn="l" pos="7880400"/>
                  <a:tab algn="l" pos="8294760"/>
                  <a:tab algn="l" pos="8701200"/>
                  <a:tab algn="l" pos="9115560"/>
                  <a:tab algn="l" pos="9529920"/>
                  <a:tab algn="l" pos="9944280"/>
                  <a:tab algn="l" pos="10358280"/>
                  <a:tab algn="l" pos="1077264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Times New Roman"/>
                </a:rPr>
                <a:t>SDP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Rectangle 19"/>
            <p:cNvSpPr/>
            <p:nvPr/>
          </p:nvSpPr>
          <p:spPr>
            <a:xfrm>
              <a:off x="7829280" y="2671560"/>
              <a:ext cx="1179720" cy="22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1720" rIns="81720" tIns="42480" bIns="42480" anchor="t">
              <a:noAutofit/>
            </a:bodyPr>
            <a:p>
              <a:pPr>
                <a:lnSpc>
                  <a:spcPct val="93000"/>
                </a:lnSpc>
                <a:spcBef>
                  <a:spcPts val="201"/>
                </a:spcBef>
                <a:tabLst>
                  <a:tab algn="l" pos="0"/>
                  <a:tab algn="l" pos="414360"/>
                  <a:tab algn="l" pos="828720"/>
                  <a:tab algn="l" pos="1244520"/>
                  <a:tab algn="l" pos="1658880"/>
                  <a:tab algn="l" pos="2073240"/>
                  <a:tab algn="l" pos="2487600"/>
                  <a:tab algn="l" pos="2903400"/>
                  <a:tab algn="l" pos="3317760"/>
                  <a:tab algn="l" pos="3732120"/>
                  <a:tab algn="l" pos="4146480"/>
                  <a:tab algn="l" pos="4562640"/>
                  <a:tab algn="l" pos="4976640"/>
                  <a:tab algn="l" pos="5391000"/>
                  <a:tab algn="l" pos="5805360"/>
                  <a:tab algn="l" pos="6221520"/>
                  <a:tab algn="l" pos="6635880"/>
                  <a:tab algn="l" pos="7050240"/>
                  <a:tab algn="l" pos="7464600"/>
                  <a:tab algn="l" pos="7880400"/>
                  <a:tab algn="l" pos="8294760"/>
                  <a:tab algn="l" pos="8701200"/>
                  <a:tab algn="l" pos="9115560"/>
                  <a:tab algn="l" pos="9529920"/>
                  <a:tab algn="l" pos="9944280"/>
                  <a:tab algn="l" pos="10358280"/>
                  <a:tab algn="l" pos="1077264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Times New Roman"/>
                </a:rPr>
                <a:t>IP over InfiniBand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Rectangle 20"/>
            <p:cNvSpPr/>
            <p:nvPr/>
          </p:nvSpPr>
          <p:spPr>
            <a:xfrm>
              <a:off x="7286760" y="2671560"/>
              <a:ext cx="542520" cy="22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1720" rIns="81720" tIns="42480" bIns="42480" anchor="t">
              <a:noAutofit/>
            </a:bodyPr>
            <a:p>
              <a:pPr>
                <a:lnSpc>
                  <a:spcPct val="93000"/>
                </a:lnSpc>
                <a:spcBef>
                  <a:spcPts val="201"/>
                </a:spcBef>
                <a:tabLst>
                  <a:tab algn="l" pos="0"/>
                  <a:tab algn="l" pos="414360"/>
                  <a:tab algn="l" pos="828720"/>
                  <a:tab algn="l" pos="1244520"/>
                  <a:tab algn="l" pos="1658880"/>
                  <a:tab algn="l" pos="2073240"/>
                  <a:tab algn="l" pos="2487600"/>
                  <a:tab algn="l" pos="2903400"/>
                  <a:tab algn="l" pos="3317760"/>
                  <a:tab algn="l" pos="3732120"/>
                  <a:tab algn="l" pos="4146480"/>
                  <a:tab algn="l" pos="4562640"/>
                  <a:tab algn="l" pos="4976640"/>
                  <a:tab algn="l" pos="5391000"/>
                  <a:tab algn="l" pos="5805360"/>
                  <a:tab algn="l" pos="6221520"/>
                  <a:tab algn="l" pos="6635880"/>
                  <a:tab algn="l" pos="7050240"/>
                  <a:tab algn="l" pos="7464600"/>
                  <a:tab algn="l" pos="7880400"/>
                  <a:tab algn="l" pos="8294760"/>
                  <a:tab algn="l" pos="8701200"/>
                  <a:tab algn="l" pos="9115560"/>
                  <a:tab algn="l" pos="9529920"/>
                  <a:tab algn="l" pos="9944280"/>
                  <a:tab algn="l" pos="10358280"/>
                  <a:tab algn="l" pos="1077264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Times New Roman"/>
                </a:rPr>
                <a:t>IPoIB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Rectangle 21"/>
            <p:cNvSpPr/>
            <p:nvPr/>
          </p:nvSpPr>
          <p:spPr>
            <a:xfrm>
              <a:off x="7829280" y="2309040"/>
              <a:ext cx="1179720" cy="36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1720" rIns="81720" tIns="42480" bIns="42480" anchor="t">
              <a:noAutofit/>
            </a:bodyPr>
            <a:p>
              <a:pPr>
                <a:lnSpc>
                  <a:spcPct val="93000"/>
                </a:lnSpc>
                <a:spcBef>
                  <a:spcPts val="201"/>
                </a:spcBef>
                <a:tabLst>
                  <a:tab algn="l" pos="0"/>
                  <a:tab algn="l" pos="414360"/>
                  <a:tab algn="l" pos="828720"/>
                  <a:tab algn="l" pos="1244520"/>
                  <a:tab algn="l" pos="1658880"/>
                  <a:tab algn="l" pos="2073240"/>
                  <a:tab algn="l" pos="2487600"/>
                  <a:tab algn="l" pos="2903400"/>
                  <a:tab algn="l" pos="3317760"/>
                  <a:tab algn="l" pos="3732120"/>
                  <a:tab algn="l" pos="4146480"/>
                  <a:tab algn="l" pos="4562640"/>
                  <a:tab algn="l" pos="4976640"/>
                  <a:tab algn="l" pos="5391000"/>
                  <a:tab algn="l" pos="5805360"/>
                  <a:tab algn="l" pos="6221520"/>
                  <a:tab algn="l" pos="6635880"/>
                  <a:tab algn="l" pos="7050240"/>
                  <a:tab algn="l" pos="7464600"/>
                  <a:tab algn="l" pos="7880400"/>
                  <a:tab algn="l" pos="8294760"/>
                  <a:tab algn="l" pos="8701200"/>
                  <a:tab algn="l" pos="9115560"/>
                  <a:tab algn="l" pos="9529920"/>
                  <a:tab algn="l" pos="9944280"/>
                  <a:tab algn="l" pos="10358280"/>
                  <a:tab algn="l" pos="1077264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Times New Roman"/>
                </a:rPr>
                <a:t>Performance Manager Agent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Rectangle 22"/>
            <p:cNvSpPr/>
            <p:nvPr/>
          </p:nvSpPr>
          <p:spPr>
            <a:xfrm>
              <a:off x="7286760" y="2309040"/>
              <a:ext cx="542520" cy="36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1720" rIns="81720" tIns="42480" bIns="42480" anchor="t">
              <a:noAutofit/>
            </a:bodyPr>
            <a:p>
              <a:pPr>
                <a:lnSpc>
                  <a:spcPct val="93000"/>
                </a:lnSpc>
                <a:spcBef>
                  <a:spcPts val="201"/>
                </a:spcBef>
                <a:tabLst>
                  <a:tab algn="l" pos="0"/>
                  <a:tab algn="l" pos="414360"/>
                  <a:tab algn="l" pos="828720"/>
                  <a:tab algn="l" pos="1244520"/>
                  <a:tab algn="l" pos="1658880"/>
                  <a:tab algn="l" pos="2073240"/>
                  <a:tab algn="l" pos="2487600"/>
                  <a:tab algn="l" pos="2903400"/>
                  <a:tab algn="l" pos="3317760"/>
                  <a:tab algn="l" pos="3732120"/>
                  <a:tab algn="l" pos="4146480"/>
                  <a:tab algn="l" pos="4562640"/>
                  <a:tab algn="l" pos="4976640"/>
                  <a:tab algn="l" pos="5391000"/>
                  <a:tab algn="l" pos="5805360"/>
                  <a:tab algn="l" pos="6221520"/>
                  <a:tab algn="l" pos="6635880"/>
                  <a:tab algn="l" pos="7050240"/>
                  <a:tab algn="l" pos="7464600"/>
                  <a:tab algn="l" pos="7880400"/>
                  <a:tab algn="l" pos="8294760"/>
                  <a:tab algn="l" pos="8701200"/>
                  <a:tab algn="l" pos="9115560"/>
                  <a:tab algn="l" pos="9529920"/>
                  <a:tab algn="l" pos="9944280"/>
                  <a:tab algn="l" pos="10358280"/>
                  <a:tab algn="l" pos="1077264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Times New Roman"/>
                </a:rPr>
                <a:t>PMA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Rectangle 23"/>
            <p:cNvSpPr/>
            <p:nvPr/>
          </p:nvSpPr>
          <p:spPr>
            <a:xfrm>
              <a:off x="7829280" y="1945080"/>
              <a:ext cx="117972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1720" rIns="81720" tIns="42480" bIns="42480" anchor="t">
              <a:noAutofit/>
            </a:bodyPr>
            <a:p>
              <a:pPr>
                <a:lnSpc>
                  <a:spcPct val="93000"/>
                </a:lnSpc>
                <a:spcBef>
                  <a:spcPts val="201"/>
                </a:spcBef>
                <a:tabLst>
                  <a:tab algn="l" pos="0"/>
                  <a:tab algn="l" pos="414360"/>
                  <a:tab algn="l" pos="828720"/>
                  <a:tab algn="l" pos="1244520"/>
                  <a:tab algn="l" pos="1658880"/>
                  <a:tab algn="l" pos="2073240"/>
                  <a:tab algn="l" pos="2487600"/>
                  <a:tab algn="l" pos="2903400"/>
                  <a:tab algn="l" pos="3317760"/>
                  <a:tab algn="l" pos="3732120"/>
                  <a:tab algn="l" pos="4146480"/>
                  <a:tab algn="l" pos="4562640"/>
                  <a:tab algn="l" pos="4976640"/>
                  <a:tab algn="l" pos="5391000"/>
                  <a:tab algn="l" pos="5805360"/>
                  <a:tab algn="l" pos="6221520"/>
                  <a:tab algn="l" pos="6635880"/>
                  <a:tab algn="l" pos="7050240"/>
                  <a:tab algn="l" pos="7464600"/>
                  <a:tab algn="l" pos="7880400"/>
                  <a:tab algn="l" pos="8294760"/>
                  <a:tab algn="l" pos="8701200"/>
                  <a:tab algn="l" pos="9115560"/>
                  <a:tab algn="l" pos="9529920"/>
                  <a:tab algn="l" pos="9944280"/>
                  <a:tab algn="l" pos="10358280"/>
                  <a:tab algn="l" pos="1077264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Times New Roman"/>
                </a:rPr>
                <a:t>Subnet Manager Agent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Rectangle 24"/>
            <p:cNvSpPr/>
            <p:nvPr/>
          </p:nvSpPr>
          <p:spPr>
            <a:xfrm>
              <a:off x="7286760" y="1945080"/>
              <a:ext cx="54252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1720" rIns="81720" tIns="42480" bIns="42480" anchor="t">
              <a:noAutofit/>
            </a:bodyPr>
            <a:p>
              <a:pPr>
                <a:lnSpc>
                  <a:spcPct val="93000"/>
                </a:lnSpc>
                <a:spcBef>
                  <a:spcPts val="201"/>
                </a:spcBef>
                <a:tabLst>
                  <a:tab algn="l" pos="0"/>
                  <a:tab algn="l" pos="414360"/>
                  <a:tab algn="l" pos="828720"/>
                  <a:tab algn="l" pos="1244520"/>
                  <a:tab algn="l" pos="1658880"/>
                  <a:tab algn="l" pos="2073240"/>
                  <a:tab algn="l" pos="2487600"/>
                  <a:tab algn="l" pos="2903400"/>
                  <a:tab algn="l" pos="3317760"/>
                  <a:tab algn="l" pos="3732120"/>
                  <a:tab algn="l" pos="4146480"/>
                  <a:tab algn="l" pos="4562640"/>
                  <a:tab algn="l" pos="4976640"/>
                  <a:tab algn="l" pos="5391000"/>
                  <a:tab algn="l" pos="5805360"/>
                  <a:tab algn="l" pos="6221520"/>
                  <a:tab algn="l" pos="6635880"/>
                  <a:tab algn="l" pos="7050240"/>
                  <a:tab algn="l" pos="7464600"/>
                  <a:tab algn="l" pos="7880400"/>
                  <a:tab algn="l" pos="8294760"/>
                  <a:tab algn="l" pos="8701200"/>
                  <a:tab algn="l" pos="9115560"/>
                  <a:tab algn="l" pos="9529920"/>
                  <a:tab algn="l" pos="9944280"/>
                  <a:tab algn="l" pos="10358280"/>
                  <a:tab algn="l" pos="1077264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Times New Roman"/>
                </a:rPr>
                <a:t>SMA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Rectangle 25"/>
            <p:cNvSpPr/>
            <p:nvPr/>
          </p:nvSpPr>
          <p:spPr>
            <a:xfrm>
              <a:off x="7829280" y="1581840"/>
              <a:ext cx="1179720" cy="36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1720" rIns="81720" tIns="42480" bIns="42480" anchor="t">
              <a:noAutofit/>
            </a:bodyPr>
            <a:p>
              <a:pPr>
                <a:lnSpc>
                  <a:spcPct val="93000"/>
                </a:lnSpc>
                <a:spcBef>
                  <a:spcPts val="201"/>
                </a:spcBef>
                <a:tabLst>
                  <a:tab algn="l" pos="0"/>
                  <a:tab algn="l" pos="414360"/>
                  <a:tab algn="l" pos="828720"/>
                  <a:tab algn="l" pos="1244520"/>
                  <a:tab algn="l" pos="1658880"/>
                  <a:tab algn="l" pos="2073240"/>
                  <a:tab algn="l" pos="2487600"/>
                  <a:tab algn="l" pos="2903400"/>
                  <a:tab algn="l" pos="3317760"/>
                  <a:tab algn="l" pos="3732120"/>
                  <a:tab algn="l" pos="4146480"/>
                  <a:tab algn="l" pos="4562640"/>
                  <a:tab algn="l" pos="4976640"/>
                  <a:tab algn="l" pos="5391000"/>
                  <a:tab algn="l" pos="5805360"/>
                  <a:tab algn="l" pos="6221520"/>
                  <a:tab algn="l" pos="6635880"/>
                  <a:tab algn="l" pos="7050240"/>
                  <a:tab algn="l" pos="7464600"/>
                  <a:tab algn="l" pos="7880400"/>
                  <a:tab algn="l" pos="8294760"/>
                  <a:tab algn="l" pos="8701200"/>
                  <a:tab algn="l" pos="9115560"/>
                  <a:tab algn="l" pos="9529920"/>
                  <a:tab algn="l" pos="9944280"/>
                  <a:tab algn="l" pos="10358280"/>
                  <a:tab algn="l" pos="1077264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Times New Roman"/>
                </a:rPr>
                <a:t>Management Datagram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Rectangle 26"/>
            <p:cNvSpPr/>
            <p:nvPr/>
          </p:nvSpPr>
          <p:spPr>
            <a:xfrm>
              <a:off x="7286760" y="1581840"/>
              <a:ext cx="542520" cy="36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1720" rIns="81720" tIns="42480" bIns="42480" anchor="t">
              <a:noAutofit/>
            </a:bodyPr>
            <a:p>
              <a:pPr>
                <a:lnSpc>
                  <a:spcPct val="93000"/>
                </a:lnSpc>
                <a:spcBef>
                  <a:spcPts val="201"/>
                </a:spcBef>
                <a:tabLst>
                  <a:tab algn="l" pos="0"/>
                  <a:tab algn="l" pos="414360"/>
                  <a:tab algn="l" pos="828720"/>
                  <a:tab algn="l" pos="1244520"/>
                  <a:tab algn="l" pos="1658880"/>
                  <a:tab algn="l" pos="2073240"/>
                  <a:tab algn="l" pos="2487600"/>
                  <a:tab algn="l" pos="2903400"/>
                  <a:tab algn="l" pos="3317760"/>
                  <a:tab algn="l" pos="3732120"/>
                  <a:tab algn="l" pos="4146480"/>
                  <a:tab algn="l" pos="4562640"/>
                  <a:tab algn="l" pos="4976640"/>
                  <a:tab algn="l" pos="5391000"/>
                  <a:tab algn="l" pos="5805360"/>
                  <a:tab algn="l" pos="6221520"/>
                  <a:tab algn="l" pos="6635880"/>
                  <a:tab algn="l" pos="7050240"/>
                  <a:tab algn="l" pos="7464600"/>
                  <a:tab algn="l" pos="7880400"/>
                  <a:tab algn="l" pos="8294760"/>
                  <a:tab algn="l" pos="8701200"/>
                  <a:tab algn="l" pos="9115560"/>
                  <a:tab algn="l" pos="9529920"/>
                  <a:tab algn="l" pos="9944280"/>
                  <a:tab algn="l" pos="10358280"/>
                  <a:tab algn="l" pos="1077264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Times New Roman"/>
                </a:rPr>
                <a:t>MAD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Rectangle 27"/>
            <p:cNvSpPr/>
            <p:nvPr/>
          </p:nvSpPr>
          <p:spPr>
            <a:xfrm>
              <a:off x="7829280" y="1219320"/>
              <a:ext cx="1179720" cy="36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1720" rIns="81720" tIns="42480" bIns="42480" anchor="t">
              <a:noAutofit/>
            </a:bodyPr>
            <a:p>
              <a:pPr>
                <a:lnSpc>
                  <a:spcPct val="93000"/>
                </a:lnSpc>
                <a:spcBef>
                  <a:spcPts val="201"/>
                </a:spcBef>
                <a:tabLst>
                  <a:tab algn="l" pos="0"/>
                  <a:tab algn="l" pos="414360"/>
                  <a:tab algn="l" pos="828720"/>
                  <a:tab algn="l" pos="1244520"/>
                  <a:tab algn="l" pos="1658880"/>
                  <a:tab algn="l" pos="2073240"/>
                  <a:tab algn="l" pos="2487600"/>
                  <a:tab algn="l" pos="2903400"/>
                  <a:tab algn="l" pos="3317760"/>
                  <a:tab algn="l" pos="3732120"/>
                  <a:tab algn="l" pos="4146480"/>
                  <a:tab algn="l" pos="4562640"/>
                  <a:tab algn="l" pos="4976640"/>
                  <a:tab algn="l" pos="5391000"/>
                  <a:tab algn="l" pos="5805360"/>
                  <a:tab algn="l" pos="6221520"/>
                  <a:tab algn="l" pos="6635880"/>
                  <a:tab algn="l" pos="7050240"/>
                  <a:tab algn="l" pos="7464600"/>
                  <a:tab algn="l" pos="7880400"/>
                  <a:tab algn="l" pos="8294760"/>
                  <a:tab algn="l" pos="8701200"/>
                  <a:tab algn="l" pos="9115560"/>
                  <a:tab algn="l" pos="9529920"/>
                  <a:tab algn="l" pos="9944280"/>
                  <a:tab algn="l" pos="10358280"/>
                  <a:tab algn="l" pos="1077264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Times New Roman"/>
                </a:rPr>
                <a:t>Subnet Administrator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9" name="Rectangle 28"/>
            <p:cNvSpPr/>
            <p:nvPr/>
          </p:nvSpPr>
          <p:spPr>
            <a:xfrm>
              <a:off x="7286760" y="1219320"/>
              <a:ext cx="542520" cy="36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1720" rIns="81720" tIns="42480" bIns="42480" anchor="t">
              <a:noAutofit/>
            </a:bodyPr>
            <a:p>
              <a:pPr>
                <a:lnSpc>
                  <a:spcPct val="93000"/>
                </a:lnSpc>
                <a:spcBef>
                  <a:spcPts val="201"/>
                </a:spcBef>
                <a:tabLst>
                  <a:tab algn="l" pos="0"/>
                  <a:tab algn="l" pos="414360"/>
                  <a:tab algn="l" pos="828720"/>
                  <a:tab algn="l" pos="1244520"/>
                  <a:tab algn="l" pos="1658880"/>
                  <a:tab algn="l" pos="2073240"/>
                  <a:tab algn="l" pos="2487600"/>
                  <a:tab algn="l" pos="2903400"/>
                  <a:tab algn="l" pos="3317760"/>
                  <a:tab algn="l" pos="3732120"/>
                  <a:tab algn="l" pos="4146480"/>
                  <a:tab algn="l" pos="4562640"/>
                  <a:tab algn="l" pos="4976640"/>
                  <a:tab algn="l" pos="5391000"/>
                  <a:tab algn="l" pos="5805360"/>
                  <a:tab algn="l" pos="6221520"/>
                  <a:tab algn="l" pos="6635880"/>
                  <a:tab algn="l" pos="7050240"/>
                  <a:tab algn="l" pos="7464600"/>
                  <a:tab algn="l" pos="7880400"/>
                  <a:tab algn="l" pos="8294760"/>
                  <a:tab algn="l" pos="8701200"/>
                  <a:tab algn="l" pos="9115560"/>
                  <a:tab algn="l" pos="9529920"/>
                  <a:tab algn="l" pos="9944280"/>
                  <a:tab algn="l" pos="10358280"/>
                  <a:tab algn="l" pos="1077264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Times New Roman"/>
                </a:rPr>
                <a:t>SA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0" name="Line 29"/>
            <p:cNvSpPr/>
            <p:nvPr/>
          </p:nvSpPr>
          <p:spPr>
            <a:xfrm>
              <a:off x="7286760" y="1219320"/>
              <a:ext cx="172260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1" name="Line 30"/>
            <p:cNvSpPr/>
            <p:nvPr/>
          </p:nvSpPr>
          <p:spPr>
            <a:xfrm>
              <a:off x="7286760" y="1581840"/>
              <a:ext cx="17226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Line 31"/>
            <p:cNvSpPr/>
            <p:nvPr/>
          </p:nvSpPr>
          <p:spPr>
            <a:xfrm>
              <a:off x="7286760" y="1945080"/>
              <a:ext cx="172260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Line 32"/>
            <p:cNvSpPr/>
            <p:nvPr/>
          </p:nvSpPr>
          <p:spPr>
            <a:xfrm>
              <a:off x="7286760" y="2309040"/>
              <a:ext cx="17226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Line 33"/>
            <p:cNvSpPr/>
            <p:nvPr/>
          </p:nvSpPr>
          <p:spPr>
            <a:xfrm>
              <a:off x="7286760" y="2671560"/>
              <a:ext cx="17226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Line 34"/>
            <p:cNvSpPr/>
            <p:nvPr/>
          </p:nvSpPr>
          <p:spPr>
            <a:xfrm>
              <a:off x="7286760" y="2899440"/>
              <a:ext cx="17226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Line 35"/>
            <p:cNvSpPr/>
            <p:nvPr/>
          </p:nvSpPr>
          <p:spPr>
            <a:xfrm>
              <a:off x="7286760" y="3261960"/>
              <a:ext cx="17226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Line 36"/>
            <p:cNvSpPr/>
            <p:nvPr/>
          </p:nvSpPr>
          <p:spPr>
            <a:xfrm>
              <a:off x="7286760" y="3626280"/>
              <a:ext cx="17226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8" name="Line 37"/>
            <p:cNvSpPr/>
            <p:nvPr/>
          </p:nvSpPr>
          <p:spPr>
            <a:xfrm>
              <a:off x="7286760" y="3989160"/>
              <a:ext cx="17226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9" name="Line 38"/>
            <p:cNvSpPr/>
            <p:nvPr/>
          </p:nvSpPr>
          <p:spPr>
            <a:xfrm>
              <a:off x="7286760" y="4353480"/>
              <a:ext cx="172260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0" name="Line 39"/>
            <p:cNvSpPr/>
            <p:nvPr/>
          </p:nvSpPr>
          <p:spPr>
            <a:xfrm>
              <a:off x="7286760" y="4716360"/>
              <a:ext cx="17226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1" name="Line 40"/>
            <p:cNvSpPr/>
            <p:nvPr/>
          </p:nvSpPr>
          <p:spPr>
            <a:xfrm>
              <a:off x="7286760" y="5332680"/>
              <a:ext cx="172260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2" name="Line 41"/>
            <p:cNvSpPr/>
            <p:nvPr/>
          </p:nvSpPr>
          <p:spPr>
            <a:xfrm>
              <a:off x="7286760" y="1219320"/>
              <a:ext cx="1440" cy="4113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3" name="Line 42"/>
            <p:cNvSpPr/>
            <p:nvPr/>
          </p:nvSpPr>
          <p:spPr>
            <a:xfrm>
              <a:off x="7829280" y="1219320"/>
              <a:ext cx="1080" cy="411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4" name="Line 43"/>
            <p:cNvSpPr/>
            <p:nvPr/>
          </p:nvSpPr>
          <p:spPr>
            <a:xfrm>
              <a:off x="9009360" y="1219320"/>
              <a:ext cx="1080" cy="4113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5" name="Line 44"/>
            <p:cNvSpPr/>
            <p:nvPr/>
          </p:nvSpPr>
          <p:spPr>
            <a:xfrm>
              <a:off x="7286760" y="5080680"/>
              <a:ext cx="172260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16" name="Rectangle 45"/>
          <p:cNvSpPr/>
          <p:nvPr/>
        </p:nvSpPr>
        <p:spPr>
          <a:xfrm>
            <a:off x="7286760" y="5372280"/>
            <a:ext cx="1724040" cy="7999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7" name="Rectangle 46"/>
          <p:cNvSpPr/>
          <p:nvPr/>
        </p:nvSpPr>
        <p:spPr>
          <a:xfrm>
            <a:off x="7715160" y="5433840"/>
            <a:ext cx="600120" cy="184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2480" bIns="4248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8701200"/>
                <a:tab algn="l" pos="9115560"/>
                <a:tab algn="l" pos="9529920"/>
                <a:tab algn="l" pos="9944280"/>
                <a:tab algn="l" pos="10358280"/>
                <a:tab algn="l" pos="1077264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Times New Roman"/>
              </a:rPr>
              <a:t>Common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8" name="Rectangle 47"/>
          <p:cNvSpPr/>
          <p:nvPr/>
        </p:nvSpPr>
        <p:spPr>
          <a:xfrm>
            <a:off x="7715160" y="5680080"/>
            <a:ext cx="600120" cy="1843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2480" bIns="4248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8701200"/>
                <a:tab algn="l" pos="9115560"/>
                <a:tab algn="l" pos="9529920"/>
                <a:tab algn="l" pos="9944280"/>
                <a:tab algn="l" pos="10358280"/>
                <a:tab algn="l" pos="1077264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Times New Roman"/>
              </a:rPr>
              <a:t>InfiniBand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9" name="Rectangle 48"/>
          <p:cNvSpPr/>
          <p:nvPr/>
        </p:nvSpPr>
        <p:spPr>
          <a:xfrm>
            <a:off x="7715160" y="5925960"/>
            <a:ext cx="619200" cy="18432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2480" bIns="4248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8701200"/>
                <a:tab algn="l" pos="9115560"/>
                <a:tab algn="l" pos="9529920"/>
                <a:tab algn="l" pos="9944280"/>
                <a:tab algn="l" pos="10358280"/>
                <a:tab algn="l" pos="1077264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Times New Roman"/>
              </a:rPr>
              <a:t>iWARP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0" name="Text Box 49"/>
          <p:cNvSpPr/>
          <p:nvPr/>
        </p:nvSpPr>
        <p:spPr>
          <a:xfrm>
            <a:off x="7286760" y="5433840"/>
            <a:ext cx="70956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t">
            <a:spAutoFit/>
          </a:bodyPr>
          <a:p>
            <a:pPr>
              <a:lnSpc>
                <a:spcPct val="93000"/>
              </a:lnSpc>
              <a:spcBef>
                <a:spcPts val="561"/>
              </a:spcBef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8701200"/>
                <a:tab algn="l" pos="9115560"/>
                <a:tab algn="l" pos="9529920"/>
                <a:tab algn="l" pos="9944280"/>
                <a:tab algn="l" pos="10358280"/>
                <a:tab algn="l" pos="1077264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Times New Roman"/>
              </a:rPr>
              <a:t>Key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1" name="Rectangle 50"/>
          <p:cNvSpPr/>
          <p:nvPr/>
        </p:nvSpPr>
        <p:spPr>
          <a:xfrm>
            <a:off x="152280" y="1233360"/>
            <a:ext cx="7086600" cy="1629000"/>
          </a:xfrm>
          <a:prstGeom prst="rect">
            <a:avLst/>
          </a:prstGeom>
          <a:gradFill rotWithShape="0">
            <a:gsLst>
              <a:gs pos="0">
                <a:srgbClr val="6600cc"/>
              </a:gs>
              <a:gs pos="100000">
                <a:srgbClr val="2f005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2" name="Rectangle 51"/>
          <p:cNvSpPr/>
          <p:nvPr/>
        </p:nvSpPr>
        <p:spPr>
          <a:xfrm>
            <a:off x="152280" y="2895480"/>
            <a:ext cx="7086600" cy="282096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5e755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3" name="Rectangle 52"/>
          <p:cNvSpPr/>
          <p:nvPr/>
        </p:nvSpPr>
        <p:spPr>
          <a:xfrm>
            <a:off x="1141560" y="5791320"/>
            <a:ext cx="1373040" cy="3045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2480" bIns="4248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8701200"/>
                <a:tab algn="l" pos="9115560"/>
                <a:tab algn="l" pos="9529920"/>
                <a:tab algn="l" pos="9944280"/>
                <a:tab algn="l" pos="10358280"/>
                <a:tab algn="l" pos="1077264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Times New Roman"/>
              </a:rPr>
              <a:t>InfiniBand HCA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4" name="Rectangle 53"/>
          <p:cNvSpPr/>
          <p:nvPr/>
        </p:nvSpPr>
        <p:spPr>
          <a:xfrm>
            <a:off x="2590920" y="5791320"/>
            <a:ext cx="380880" cy="3045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5" name="Rectangle 54"/>
          <p:cNvSpPr/>
          <p:nvPr/>
        </p:nvSpPr>
        <p:spPr>
          <a:xfrm>
            <a:off x="3046320" y="5791320"/>
            <a:ext cx="382680" cy="3045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6" name="Rectangle 55"/>
          <p:cNvSpPr/>
          <p:nvPr/>
        </p:nvSpPr>
        <p:spPr>
          <a:xfrm>
            <a:off x="5637240" y="5791320"/>
            <a:ext cx="1449360" cy="30456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2480" bIns="4248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8701200"/>
                <a:tab algn="l" pos="9115560"/>
                <a:tab algn="l" pos="9529920"/>
                <a:tab algn="l" pos="9944280"/>
                <a:tab algn="l" pos="10358280"/>
                <a:tab algn="l" pos="1077264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iWARP R-NIC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7" name="Rectangle 56"/>
          <p:cNvSpPr/>
          <p:nvPr/>
        </p:nvSpPr>
        <p:spPr>
          <a:xfrm>
            <a:off x="4267080" y="5791320"/>
            <a:ext cx="381240" cy="30456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8" name="Rectangle 57"/>
          <p:cNvSpPr/>
          <p:nvPr/>
        </p:nvSpPr>
        <p:spPr>
          <a:xfrm>
            <a:off x="4722840" y="5791320"/>
            <a:ext cx="382680" cy="30456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9" name="Rectangle 58"/>
          <p:cNvSpPr/>
          <p:nvPr/>
        </p:nvSpPr>
        <p:spPr>
          <a:xfrm>
            <a:off x="1141560" y="5257800"/>
            <a:ext cx="1373040" cy="3826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2480" bIns="4248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8701200"/>
                <a:tab algn="l" pos="9115560"/>
                <a:tab algn="l" pos="9529920"/>
                <a:tab algn="l" pos="9944280"/>
                <a:tab algn="l" pos="10358280"/>
                <a:tab algn="l" pos="1077264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Times New Roman"/>
              </a:rPr>
              <a:t>Hardwar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8701200"/>
                <a:tab algn="l" pos="9115560"/>
                <a:tab algn="l" pos="9529920"/>
                <a:tab algn="l" pos="9944280"/>
                <a:tab algn="l" pos="10358280"/>
                <a:tab algn="l" pos="1077264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Times New Roman"/>
              </a:rPr>
              <a:t>Specific Driver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0" name="Rectangle 59"/>
          <p:cNvSpPr/>
          <p:nvPr/>
        </p:nvSpPr>
        <p:spPr>
          <a:xfrm>
            <a:off x="5637240" y="5257800"/>
            <a:ext cx="1449360" cy="3826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2480" bIns="4248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8701200"/>
                <a:tab algn="l" pos="9115560"/>
                <a:tab algn="l" pos="9529920"/>
                <a:tab algn="l" pos="9944280"/>
                <a:tab algn="l" pos="10358280"/>
                <a:tab algn="l" pos="1077264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Times New Roman"/>
              </a:rPr>
              <a:t>Hardware Specific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8701200"/>
                <a:tab algn="l" pos="9115560"/>
                <a:tab algn="l" pos="9529920"/>
                <a:tab algn="l" pos="9944280"/>
                <a:tab algn="l" pos="10358280"/>
                <a:tab algn="l" pos="1077264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Times New Roman"/>
              </a:rPr>
              <a:t>Driver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1" name="Rectangle 60"/>
          <p:cNvSpPr/>
          <p:nvPr/>
        </p:nvSpPr>
        <p:spPr>
          <a:xfrm>
            <a:off x="2590920" y="5257800"/>
            <a:ext cx="380880" cy="3826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2" name="Rectangle 61"/>
          <p:cNvSpPr/>
          <p:nvPr/>
        </p:nvSpPr>
        <p:spPr>
          <a:xfrm>
            <a:off x="3046320" y="5257800"/>
            <a:ext cx="382680" cy="3826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3" name="Rectangle 62"/>
          <p:cNvSpPr/>
          <p:nvPr/>
        </p:nvSpPr>
        <p:spPr>
          <a:xfrm>
            <a:off x="4267080" y="5257800"/>
            <a:ext cx="381240" cy="3826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4" name="Rectangle 63"/>
          <p:cNvSpPr/>
          <p:nvPr/>
        </p:nvSpPr>
        <p:spPr>
          <a:xfrm>
            <a:off x="4722840" y="5257800"/>
            <a:ext cx="382680" cy="3826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5" name="Rectangle 64"/>
          <p:cNvSpPr/>
          <p:nvPr/>
        </p:nvSpPr>
        <p:spPr>
          <a:xfrm>
            <a:off x="3046320" y="4295880"/>
            <a:ext cx="685800" cy="3524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2480" bIns="4248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8701200"/>
                <a:tab algn="l" pos="9115560"/>
                <a:tab algn="l" pos="9529920"/>
                <a:tab algn="l" pos="9944280"/>
                <a:tab algn="l" pos="10358280"/>
                <a:tab algn="l" pos="1077264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br>
              <a:rPr sz="900"/>
            </a:br>
            <a:r>
              <a:rPr b="0" lang="en-GB" sz="9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6" name="Rectangle 65"/>
          <p:cNvSpPr/>
          <p:nvPr/>
        </p:nvSpPr>
        <p:spPr>
          <a:xfrm>
            <a:off x="3505320" y="5791320"/>
            <a:ext cx="380880" cy="3045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7" name="Rectangle 66"/>
          <p:cNvSpPr/>
          <p:nvPr/>
        </p:nvSpPr>
        <p:spPr>
          <a:xfrm>
            <a:off x="3505320" y="5257800"/>
            <a:ext cx="380880" cy="3826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8" name="Rectangle 67"/>
          <p:cNvSpPr/>
          <p:nvPr/>
        </p:nvSpPr>
        <p:spPr>
          <a:xfrm>
            <a:off x="5181480" y="5791320"/>
            <a:ext cx="381240" cy="30456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9" name="Rectangle 68"/>
          <p:cNvSpPr/>
          <p:nvPr/>
        </p:nvSpPr>
        <p:spPr>
          <a:xfrm>
            <a:off x="5181480" y="5257800"/>
            <a:ext cx="381240" cy="3826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0" name="Rectangle 69"/>
          <p:cNvSpPr/>
          <p:nvPr/>
        </p:nvSpPr>
        <p:spPr>
          <a:xfrm>
            <a:off x="1960560" y="4191120"/>
            <a:ext cx="390600" cy="4572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2480" bIns="4248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8701200"/>
                <a:tab algn="l" pos="9115560"/>
                <a:tab algn="l" pos="9529920"/>
                <a:tab algn="l" pos="9944280"/>
                <a:tab algn="l" pos="10358280"/>
                <a:tab algn="l" pos="1077264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Times New Roman"/>
              </a:rPr>
              <a:t>MAD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1" name="Rectangle 70"/>
          <p:cNvSpPr/>
          <p:nvPr/>
        </p:nvSpPr>
        <p:spPr>
          <a:xfrm>
            <a:off x="1571760" y="4724280"/>
            <a:ext cx="5056200" cy="30492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ffff66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2480" bIns="424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8880"/>
                <a:tab algn="l" pos="2487600"/>
                <a:tab algn="l" pos="3317760"/>
                <a:tab algn="l" pos="4146480"/>
                <a:tab algn="l" pos="4976640"/>
                <a:tab algn="l" pos="5805360"/>
                <a:tab algn="l" pos="6635880"/>
                <a:tab algn="l" pos="7464600"/>
                <a:tab algn="l" pos="8294760"/>
                <a:tab algn="l" pos="9123480"/>
                <a:tab algn="l" pos="9539280"/>
                <a:tab algn="l" pos="9944280"/>
                <a:tab algn="l" pos="10358280"/>
                <a:tab algn="l" pos="1077264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Times New Roman"/>
              </a:rPr>
              <a:t>InfiniBand </a:t>
            </a:r>
            <a:r>
              <a:rPr b="0" lang="en-GB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900" spc="-1" strike="noStrike">
                <a:solidFill>
                  <a:srgbClr val="000000"/>
                </a:solidFill>
                <a:latin typeface="Times New Roman"/>
              </a:rPr>
              <a:t>              OpenFabrics Kernel Level Verbs / API                  iWARP R-NIC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2" name="Rectangle 71"/>
          <p:cNvSpPr/>
          <p:nvPr/>
        </p:nvSpPr>
        <p:spPr>
          <a:xfrm>
            <a:off x="1571760" y="4191120"/>
            <a:ext cx="360360" cy="4572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2480" bIns="4248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8701200"/>
                <a:tab algn="l" pos="9115560"/>
                <a:tab algn="l" pos="9529920"/>
                <a:tab algn="l" pos="9944280"/>
                <a:tab algn="l" pos="10358280"/>
                <a:tab algn="l" pos="1077264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Times New Roman"/>
              </a:rPr>
              <a:t>SA </a:t>
            </a:r>
            <a:br>
              <a:rPr sz="900"/>
            </a:br>
            <a:r>
              <a:rPr b="0" lang="en-GB" sz="9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3" name="Rectangle 72"/>
          <p:cNvSpPr/>
          <p:nvPr/>
        </p:nvSpPr>
        <p:spPr>
          <a:xfrm>
            <a:off x="4419720" y="4286160"/>
            <a:ext cx="761760" cy="36216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2480" bIns="4248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8701200"/>
                <a:tab algn="l" pos="9115560"/>
                <a:tab algn="l" pos="9529920"/>
                <a:tab algn="l" pos="9944280"/>
                <a:tab algn="l" pos="10358280"/>
                <a:tab algn="l" pos="1077264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8701200"/>
                <a:tab algn="l" pos="9115560"/>
                <a:tab algn="l" pos="9529920"/>
                <a:tab algn="l" pos="9944280"/>
                <a:tab algn="l" pos="10358280"/>
                <a:tab algn="l" pos="1077264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4" name="Rectangle 73"/>
          <p:cNvSpPr/>
          <p:nvPr/>
        </p:nvSpPr>
        <p:spPr>
          <a:xfrm>
            <a:off x="3238560" y="3838680"/>
            <a:ext cx="16765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2480" bIns="4248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8701200"/>
                <a:tab algn="l" pos="9115560"/>
                <a:tab algn="l" pos="9529920"/>
                <a:tab algn="l" pos="9944280"/>
                <a:tab algn="l" pos="10358280"/>
                <a:tab algn="l" pos="1077264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Times New Roman"/>
              </a:rPr>
              <a:t>Connection Manager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8701200"/>
                <a:tab algn="l" pos="9115560"/>
                <a:tab algn="l" pos="9529920"/>
                <a:tab algn="l" pos="9944280"/>
                <a:tab algn="l" pos="10358280"/>
                <a:tab algn="l" pos="1077264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Times New Roman"/>
              </a:rPr>
              <a:t>Abstraction (CMA)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5" name="Rectangle 74"/>
          <p:cNvSpPr/>
          <p:nvPr/>
        </p:nvSpPr>
        <p:spPr>
          <a:xfrm>
            <a:off x="1293840" y="2357280"/>
            <a:ext cx="5716440" cy="22068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ffff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2480" bIns="424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8880"/>
                <a:tab algn="l" pos="2487600"/>
                <a:tab algn="l" pos="3317760"/>
                <a:tab algn="l" pos="4146480"/>
                <a:tab algn="l" pos="4976640"/>
                <a:tab algn="l" pos="5805360"/>
                <a:tab algn="l" pos="6635880"/>
                <a:tab algn="l" pos="7464600"/>
                <a:tab algn="l" pos="8294760"/>
                <a:tab algn="l" pos="9123480"/>
                <a:tab algn="l" pos="9539280"/>
                <a:tab algn="l" pos="9944280"/>
                <a:tab algn="l" pos="10358280"/>
                <a:tab algn="l" pos="1077264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Times New Roman"/>
              </a:rPr>
              <a:t>InfiniBand</a:t>
            </a:r>
            <a:r>
              <a:rPr b="0" lang="en-GB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900" spc="-1" strike="noStrike">
                <a:solidFill>
                  <a:srgbClr val="000000"/>
                </a:solidFill>
                <a:latin typeface="Times New Roman"/>
              </a:rPr>
              <a:t>OpenFabrics User Level    Verbs / API</a:t>
            </a:r>
            <a:r>
              <a:rPr b="0" lang="en-GB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900" spc="-1" strike="noStrike">
                <a:solidFill>
                  <a:srgbClr val="000000"/>
                </a:solidFill>
                <a:latin typeface="Times New Roman"/>
              </a:rPr>
              <a:t>iWARP   R-NIC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6" name="Rectangle 75"/>
          <p:cNvSpPr/>
          <p:nvPr/>
        </p:nvSpPr>
        <p:spPr>
          <a:xfrm>
            <a:off x="3122640" y="3271680"/>
            <a:ext cx="382680" cy="382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2480" bIns="4248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8701200"/>
                <a:tab algn="l" pos="9115560"/>
                <a:tab algn="l" pos="9529920"/>
                <a:tab algn="l" pos="9944280"/>
                <a:tab algn="l" pos="10358280"/>
                <a:tab algn="l" pos="1077264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Times New Roman"/>
              </a:rPr>
              <a:t>SDP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7" name="Rectangle 76"/>
          <p:cNvSpPr/>
          <p:nvPr/>
        </p:nvSpPr>
        <p:spPr>
          <a:xfrm>
            <a:off x="2590920" y="3271680"/>
            <a:ext cx="457200" cy="382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2480" bIns="4248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8701200"/>
                <a:tab algn="l" pos="9115560"/>
                <a:tab algn="l" pos="9529920"/>
                <a:tab algn="l" pos="9944280"/>
                <a:tab algn="l" pos="10358280"/>
                <a:tab algn="l" pos="1077264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Times New Roman"/>
              </a:rPr>
              <a:t>IPoIB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8" name="Rectangle 77"/>
          <p:cNvSpPr/>
          <p:nvPr/>
        </p:nvSpPr>
        <p:spPr>
          <a:xfrm>
            <a:off x="3960720" y="3271680"/>
            <a:ext cx="382680" cy="382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2480" bIns="4248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8701200"/>
                <a:tab algn="l" pos="9115560"/>
                <a:tab algn="l" pos="9529920"/>
                <a:tab algn="l" pos="9944280"/>
                <a:tab algn="l" pos="10358280"/>
                <a:tab algn="l" pos="1077264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Times New Roman"/>
              </a:rPr>
              <a:t>SRP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9" name="Rectangle 78"/>
          <p:cNvSpPr/>
          <p:nvPr/>
        </p:nvSpPr>
        <p:spPr>
          <a:xfrm>
            <a:off x="4419720" y="3271680"/>
            <a:ext cx="380880" cy="382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2480" bIns="4248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8701200"/>
                <a:tab algn="l" pos="9115560"/>
                <a:tab algn="l" pos="9529920"/>
                <a:tab algn="l" pos="9944280"/>
                <a:tab algn="l" pos="10358280"/>
                <a:tab algn="l" pos="1077264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Times New Roman"/>
              </a:rPr>
              <a:t>iSER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0" name="Rectangle 79"/>
          <p:cNvSpPr/>
          <p:nvPr/>
        </p:nvSpPr>
        <p:spPr>
          <a:xfrm>
            <a:off x="4875120" y="3271680"/>
            <a:ext cx="459000" cy="382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2480" bIns="4248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8701200"/>
                <a:tab algn="l" pos="9115560"/>
                <a:tab algn="l" pos="9529920"/>
                <a:tab algn="l" pos="9944280"/>
                <a:tab algn="l" pos="10358280"/>
                <a:tab algn="l" pos="1077264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Times New Roman"/>
              </a:rPr>
              <a:t>RD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1" name="Rectangle 80"/>
          <p:cNvSpPr/>
          <p:nvPr/>
        </p:nvSpPr>
        <p:spPr>
          <a:xfrm>
            <a:off x="3029040" y="2643120"/>
            <a:ext cx="552240" cy="19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2480" bIns="4248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8701200"/>
                <a:tab algn="l" pos="9115560"/>
                <a:tab algn="l" pos="9529920"/>
                <a:tab algn="l" pos="9944280"/>
                <a:tab algn="l" pos="10358280"/>
                <a:tab algn="l" pos="1077264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Times New Roman"/>
              </a:rPr>
              <a:t>SDP Lib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2" name="Rectangle 81"/>
          <p:cNvSpPr/>
          <p:nvPr/>
        </p:nvSpPr>
        <p:spPr>
          <a:xfrm>
            <a:off x="1514520" y="2033640"/>
            <a:ext cx="849240" cy="3049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2480" bIns="4248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8701200"/>
                <a:tab algn="l" pos="9115560"/>
                <a:tab algn="l" pos="9529920"/>
                <a:tab algn="l" pos="9944280"/>
                <a:tab algn="l" pos="10358280"/>
                <a:tab algn="l" pos="1077264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Times New Roman"/>
              </a:rPr>
              <a:t>User Level </a:t>
            </a:r>
            <a:br>
              <a:rPr sz="900"/>
            </a:br>
            <a:r>
              <a:rPr b="0" lang="en-GB" sz="900" spc="-1" strike="noStrike">
                <a:solidFill>
                  <a:srgbClr val="000000"/>
                </a:solidFill>
                <a:latin typeface="Times New Roman"/>
              </a:rPr>
              <a:t>MAD API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3" name="Rectangle 82"/>
          <p:cNvSpPr/>
          <p:nvPr/>
        </p:nvSpPr>
        <p:spPr>
          <a:xfrm>
            <a:off x="1914480" y="1652760"/>
            <a:ext cx="438120" cy="3045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2480" bIns="4248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8701200"/>
                <a:tab algn="l" pos="9115560"/>
                <a:tab algn="l" pos="9529920"/>
                <a:tab algn="l" pos="9944280"/>
                <a:tab algn="l" pos="10358280"/>
                <a:tab algn="l" pos="1077264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Times New Roman"/>
              </a:rPr>
              <a:t>Open </a:t>
            </a:r>
            <a:br>
              <a:rPr sz="900"/>
            </a:br>
            <a:r>
              <a:rPr b="0" lang="en-GB" sz="900" spc="-1" strike="noStrike">
                <a:solidFill>
                  <a:srgbClr val="000000"/>
                </a:solidFill>
                <a:latin typeface="Times New Roman"/>
              </a:rPr>
              <a:t>SM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4" name="Rectangle 83"/>
          <p:cNvSpPr/>
          <p:nvPr/>
        </p:nvSpPr>
        <p:spPr>
          <a:xfrm>
            <a:off x="1514520" y="1652760"/>
            <a:ext cx="342720" cy="3045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2480" bIns="4248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8701200"/>
                <a:tab algn="l" pos="9115560"/>
                <a:tab algn="l" pos="9529920"/>
                <a:tab algn="l" pos="9944280"/>
                <a:tab algn="l" pos="10358280"/>
                <a:tab algn="l" pos="1077264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Times New Roman"/>
              </a:rPr>
              <a:t>Diag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8701200"/>
                <a:tab algn="l" pos="9115560"/>
                <a:tab algn="l" pos="9529920"/>
                <a:tab algn="l" pos="9944280"/>
                <a:tab algn="l" pos="10358280"/>
                <a:tab algn="l" pos="1077264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5" name="Line 84"/>
          <p:cNvSpPr/>
          <p:nvPr/>
        </p:nvSpPr>
        <p:spPr>
          <a:xfrm>
            <a:off x="152280" y="5716440"/>
            <a:ext cx="708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6" name="Line 85"/>
          <p:cNvSpPr/>
          <p:nvPr/>
        </p:nvSpPr>
        <p:spPr>
          <a:xfrm>
            <a:off x="152280" y="5143680"/>
            <a:ext cx="708660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7" name="Line 86"/>
          <p:cNvSpPr/>
          <p:nvPr/>
        </p:nvSpPr>
        <p:spPr>
          <a:xfrm>
            <a:off x="152280" y="3753000"/>
            <a:ext cx="708660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8" name="Line 87"/>
          <p:cNvSpPr/>
          <p:nvPr/>
        </p:nvSpPr>
        <p:spPr>
          <a:xfrm>
            <a:off x="152280" y="2995560"/>
            <a:ext cx="70866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9" name="Text Box 88"/>
          <p:cNvSpPr/>
          <p:nvPr/>
        </p:nvSpPr>
        <p:spPr>
          <a:xfrm>
            <a:off x="152280" y="5791320"/>
            <a:ext cx="990720" cy="2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t">
            <a:spAutoFit/>
          </a:bodyPr>
          <a:p>
            <a:pPr>
              <a:lnSpc>
                <a:spcPct val="93000"/>
              </a:lnSpc>
              <a:spcBef>
                <a:spcPts val="675"/>
              </a:spcBef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8701200"/>
                <a:tab algn="l" pos="9115560"/>
                <a:tab algn="l" pos="9529920"/>
                <a:tab algn="l" pos="9944280"/>
                <a:tab algn="l" pos="10358280"/>
                <a:tab algn="l" pos="1077264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imes New Roman"/>
              </a:rPr>
              <a:t>Hardware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0" name="Text Box 89"/>
          <p:cNvSpPr/>
          <p:nvPr/>
        </p:nvSpPr>
        <p:spPr>
          <a:xfrm>
            <a:off x="152280" y="5257800"/>
            <a:ext cx="990720" cy="2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t">
            <a:spAutoFit/>
          </a:bodyPr>
          <a:p>
            <a:pPr>
              <a:lnSpc>
                <a:spcPct val="93000"/>
              </a:lnSpc>
              <a:spcBef>
                <a:spcPts val="675"/>
              </a:spcBef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8701200"/>
                <a:tab algn="l" pos="9115560"/>
                <a:tab algn="l" pos="9529920"/>
                <a:tab algn="l" pos="9944280"/>
                <a:tab algn="l" pos="10358280"/>
                <a:tab algn="l" pos="1077264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imes New Roman"/>
              </a:rPr>
              <a:t>Provider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1" name="Text Box 90"/>
          <p:cNvSpPr/>
          <p:nvPr/>
        </p:nvSpPr>
        <p:spPr>
          <a:xfrm>
            <a:off x="152280" y="4114800"/>
            <a:ext cx="990720" cy="2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t">
            <a:spAutoFit/>
          </a:bodyPr>
          <a:p>
            <a:pPr>
              <a:lnSpc>
                <a:spcPct val="93000"/>
              </a:lnSpc>
              <a:spcBef>
                <a:spcPts val="675"/>
              </a:spcBef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8701200"/>
                <a:tab algn="l" pos="9115560"/>
                <a:tab algn="l" pos="9529920"/>
                <a:tab algn="l" pos="9944280"/>
                <a:tab algn="l" pos="10358280"/>
                <a:tab algn="l" pos="1077264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imes New Roman"/>
              </a:rPr>
              <a:t>Mid-Layer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2" name="Text Box 91"/>
          <p:cNvSpPr/>
          <p:nvPr/>
        </p:nvSpPr>
        <p:spPr>
          <a:xfrm>
            <a:off x="152280" y="3075120"/>
            <a:ext cx="99072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t">
            <a:spAutoFit/>
          </a:bodyPr>
          <a:p>
            <a:pPr>
              <a:lnSpc>
                <a:spcPct val="93000"/>
              </a:lnSpc>
              <a:spcBef>
                <a:spcPts val="675"/>
              </a:spcBef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8701200"/>
                <a:tab algn="l" pos="9115560"/>
                <a:tab algn="l" pos="9529920"/>
                <a:tab algn="l" pos="9944280"/>
                <a:tab algn="l" pos="10358280"/>
                <a:tab algn="l" pos="1077264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imes New Roman"/>
              </a:rPr>
              <a:t>Upper Layer Protocol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3" name="Text Box 92"/>
          <p:cNvSpPr/>
          <p:nvPr/>
        </p:nvSpPr>
        <p:spPr>
          <a:xfrm>
            <a:off x="228600" y="2300400"/>
            <a:ext cx="129708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t">
            <a:spAutoFit/>
          </a:bodyPr>
          <a:p>
            <a:pPr>
              <a:lnSpc>
                <a:spcPct val="93000"/>
              </a:lnSpc>
              <a:spcBef>
                <a:spcPts val="675"/>
              </a:spcBef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8701200"/>
                <a:tab algn="l" pos="9115560"/>
                <a:tab algn="l" pos="9529920"/>
                <a:tab algn="l" pos="9944280"/>
                <a:tab algn="l" pos="10358280"/>
                <a:tab algn="l" pos="1077264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imes New Roman"/>
              </a:rPr>
              <a:t>User </a:t>
            </a:r>
            <a:br>
              <a:rPr sz="1100"/>
            </a:br>
            <a:r>
              <a:rPr b="0" lang="en-GB" sz="1100" spc="-1" strike="noStrike">
                <a:solidFill>
                  <a:srgbClr val="000000"/>
                </a:solidFill>
                <a:latin typeface="Times New Roman"/>
              </a:rPr>
              <a:t>APIs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4" name="Text Box 93"/>
          <p:cNvSpPr/>
          <p:nvPr/>
        </p:nvSpPr>
        <p:spPr>
          <a:xfrm>
            <a:off x="1752480" y="2971800"/>
            <a:ext cx="990720" cy="2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t">
            <a:spAutoFit/>
          </a:bodyPr>
          <a:p>
            <a:pPr algn="r">
              <a:lnSpc>
                <a:spcPct val="93000"/>
              </a:lnSpc>
              <a:spcBef>
                <a:spcPts val="675"/>
              </a:spcBef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8701200"/>
                <a:tab algn="l" pos="9115560"/>
                <a:tab algn="l" pos="9529920"/>
                <a:tab algn="l" pos="9944280"/>
                <a:tab algn="l" pos="10358280"/>
                <a:tab algn="l" pos="10772640"/>
              </a:tabLst>
            </a:pPr>
            <a:r>
              <a:rPr b="0" i="1" lang="en-GB" sz="1100" spc="-1" strike="noStrike">
                <a:solidFill>
                  <a:srgbClr val="000000"/>
                </a:solidFill>
                <a:latin typeface="Arial Narrow"/>
              </a:rPr>
              <a:t>Kernel Space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5" name="Text Box 94"/>
          <p:cNvSpPr/>
          <p:nvPr/>
        </p:nvSpPr>
        <p:spPr>
          <a:xfrm>
            <a:off x="1981080" y="2590920"/>
            <a:ext cx="838440" cy="2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t">
            <a:spAutoFit/>
          </a:bodyPr>
          <a:p>
            <a:pPr algn="r">
              <a:lnSpc>
                <a:spcPct val="93000"/>
              </a:lnSpc>
              <a:spcBef>
                <a:spcPts val="675"/>
              </a:spcBef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8701200"/>
                <a:tab algn="l" pos="9115560"/>
                <a:tab algn="l" pos="9529920"/>
                <a:tab algn="l" pos="9944280"/>
                <a:tab algn="l" pos="10358280"/>
                <a:tab algn="l" pos="10772640"/>
              </a:tabLst>
            </a:pPr>
            <a:r>
              <a:rPr b="0" i="1" lang="en-GB" sz="1100" spc="-1" strike="noStrike">
                <a:solidFill>
                  <a:srgbClr val="000000"/>
                </a:solidFill>
                <a:latin typeface="Arial Narrow"/>
              </a:rPr>
              <a:t>User Space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6" name="Rectangle 95"/>
          <p:cNvSpPr/>
          <p:nvPr/>
        </p:nvSpPr>
        <p:spPr>
          <a:xfrm>
            <a:off x="5408640" y="3271680"/>
            <a:ext cx="685800" cy="382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2480" bIns="4248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8701200"/>
                <a:tab algn="l" pos="9115560"/>
                <a:tab algn="l" pos="9529920"/>
                <a:tab algn="l" pos="9944280"/>
                <a:tab algn="l" pos="10358280"/>
                <a:tab algn="l" pos="1077264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NFS-RDMA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8701200"/>
                <a:tab algn="l" pos="9115560"/>
                <a:tab algn="l" pos="9529920"/>
                <a:tab algn="l" pos="9944280"/>
                <a:tab algn="l" pos="10358280"/>
                <a:tab algn="l" pos="1077264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RPC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7" name="Rectangle 96"/>
          <p:cNvSpPr/>
          <p:nvPr/>
        </p:nvSpPr>
        <p:spPr>
          <a:xfrm>
            <a:off x="6172200" y="3271680"/>
            <a:ext cx="609480" cy="382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2480" bIns="4248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8701200"/>
                <a:tab algn="l" pos="9115560"/>
                <a:tab algn="l" pos="9529920"/>
                <a:tab algn="l" pos="9944280"/>
                <a:tab algn="l" pos="10358280"/>
                <a:tab algn="l" pos="1077264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Cluster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8701200"/>
                <a:tab algn="l" pos="9115560"/>
                <a:tab algn="l" pos="9529920"/>
                <a:tab algn="l" pos="9944280"/>
                <a:tab algn="l" pos="10358280"/>
                <a:tab algn="l" pos="1077264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File Sys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8" name="Line 97"/>
          <p:cNvSpPr/>
          <p:nvPr/>
        </p:nvSpPr>
        <p:spPr>
          <a:xfrm>
            <a:off x="3122640" y="2133720"/>
            <a:ext cx="1440" cy="519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9" name="Line 98"/>
          <p:cNvSpPr/>
          <p:nvPr/>
        </p:nvSpPr>
        <p:spPr>
          <a:xfrm>
            <a:off x="4037040" y="1766880"/>
            <a:ext cx="144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0" name="Line 99"/>
          <p:cNvSpPr/>
          <p:nvPr/>
        </p:nvSpPr>
        <p:spPr>
          <a:xfrm>
            <a:off x="5408640" y="1766880"/>
            <a:ext cx="1440" cy="1352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1" name="Line 100"/>
          <p:cNvSpPr/>
          <p:nvPr/>
        </p:nvSpPr>
        <p:spPr>
          <a:xfrm>
            <a:off x="4343400" y="1766880"/>
            <a:ext cx="9360" cy="600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2" name="Text Box 101"/>
          <p:cNvSpPr/>
          <p:nvPr/>
        </p:nvSpPr>
        <p:spPr>
          <a:xfrm>
            <a:off x="228600" y="1325520"/>
            <a:ext cx="110484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t">
            <a:spAutoFit/>
          </a:bodyPr>
          <a:p>
            <a:pPr>
              <a:lnSpc>
                <a:spcPct val="93000"/>
              </a:lnSpc>
              <a:spcBef>
                <a:spcPts val="675"/>
              </a:spcBef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8701200"/>
                <a:tab algn="l" pos="9115560"/>
                <a:tab algn="l" pos="9529920"/>
                <a:tab algn="l" pos="9944280"/>
                <a:tab algn="l" pos="10358280"/>
                <a:tab algn="l" pos="1077264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imes New Roman"/>
              </a:rPr>
              <a:t>Application </a:t>
            </a:r>
            <a:br>
              <a:rPr sz="1100"/>
            </a:br>
            <a:r>
              <a:rPr b="0" lang="en-GB" sz="1100" spc="-1" strike="noStrike">
                <a:solidFill>
                  <a:srgbClr val="000000"/>
                </a:solidFill>
                <a:latin typeface="Times New Roman"/>
              </a:rPr>
              <a:t>Level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3" name="Line 102"/>
          <p:cNvSpPr/>
          <p:nvPr/>
        </p:nvSpPr>
        <p:spPr>
          <a:xfrm>
            <a:off x="6019920" y="1766880"/>
            <a:ext cx="1440" cy="44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4" name="Line 103"/>
          <p:cNvSpPr/>
          <p:nvPr/>
        </p:nvSpPr>
        <p:spPr>
          <a:xfrm>
            <a:off x="6399360" y="1766880"/>
            <a:ext cx="1440" cy="1514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5" name="Line 104"/>
          <p:cNvSpPr/>
          <p:nvPr/>
        </p:nvSpPr>
        <p:spPr>
          <a:xfrm>
            <a:off x="4648320" y="1766880"/>
            <a:ext cx="1440" cy="1486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6" name="Line 105"/>
          <p:cNvSpPr/>
          <p:nvPr/>
        </p:nvSpPr>
        <p:spPr>
          <a:xfrm>
            <a:off x="4114800" y="3119400"/>
            <a:ext cx="5335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7" name="Line 106"/>
          <p:cNvSpPr/>
          <p:nvPr/>
        </p:nvSpPr>
        <p:spPr>
          <a:xfrm>
            <a:off x="4114800" y="3119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8" name="Line 107"/>
          <p:cNvSpPr/>
          <p:nvPr/>
        </p:nvSpPr>
        <p:spPr>
          <a:xfrm>
            <a:off x="3276720" y="2832120"/>
            <a:ext cx="1440" cy="438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9" name="Line 108"/>
          <p:cNvSpPr/>
          <p:nvPr/>
        </p:nvSpPr>
        <p:spPr>
          <a:xfrm>
            <a:off x="2819520" y="1766880"/>
            <a:ext cx="1440" cy="1504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0" name="Line 109"/>
          <p:cNvSpPr/>
          <p:nvPr/>
        </p:nvSpPr>
        <p:spPr>
          <a:xfrm>
            <a:off x="4037040" y="2271600"/>
            <a:ext cx="144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1" name="Rectangle 110"/>
          <p:cNvSpPr/>
          <p:nvPr/>
        </p:nvSpPr>
        <p:spPr>
          <a:xfrm>
            <a:off x="2390760" y="4191120"/>
            <a:ext cx="380880" cy="4474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2480" bIns="4248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8701200"/>
                <a:tab algn="l" pos="9115560"/>
                <a:tab algn="l" pos="9529920"/>
                <a:tab algn="l" pos="9944280"/>
                <a:tab algn="l" pos="10358280"/>
                <a:tab algn="l" pos="1077264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Times New Roman"/>
              </a:rPr>
              <a:t>SMA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2" name="Line 111"/>
          <p:cNvSpPr/>
          <p:nvPr/>
        </p:nvSpPr>
        <p:spPr>
          <a:xfrm>
            <a:off x="5105520" y="3119400"/>
            <a:ext cx="3045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3" name="Line 112"/>
          <p:cNvSpPr/>
          <p:nvPr/>
        </p:nvSpPr>
        <p:spPr>
          <a:xfrm>
            <a:off x="5105520" y="3119400"/>
            <a:ext cx="14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4" name="Rectangle 113"/>
          <p:cNvSpPr/>
          <p:nvPr/>
        </p:nvSpPr>
        <p:spPr>
          <a:xfrm>
            <a:off x="5181480" y="1309680"/>
            <a:ext cx="684360" cy="6094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2480" bIns="4248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8701200"/>
                <a:tab algn="l" pos="9115560"/>
                <a:tab algn="l" pos="9529920"/>
                <a:tab algn="l" pos="9944280"/>
                <a:tab algn="l" pos="10358280"/>
                <a:tab algn="l" pos="1077264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Clustered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8701200"/>
                <a:tab algn="l" pos="9115560"/>
                <a:tab algn="l" pos="9529920"/>
                <a:tab algn="l" pos="9944280"/>
                <a:tab algn="l" pos="10358280"/>
                <a:tab algn="l" pos="1077264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DB Access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5" name="Rectangle 114"/>
          <p:cNvSpPr/>
          <p:nvPr/>
        </p:nvSpPr>
        <p:spPr>
          <a:xfrm>
            <a:off x="3200400" y="1309680"/>
            <a:ext cx="609480" cy="6094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2480" bIns="4248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8701200"/>
                <a:tab algn="l" pos="9115560"/>
                <a:tab algn="l" pos="9529920"/>
                <a:tab algn="l" pos="9944280"/>
                <a:tab algn="l" pos="10358280"/>
                <a:tab algn="l" pos="1077264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Sockets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8701200"/>
                <a:tab algn="l" pos="9115560"/>
                <a:tab algn="l" pos="9529920"/>
                <a:tab algn="l" pos="9944280"/>
                <a:tab algn="l" pos="10358280"/>
                <a:tab algn="l" pos="1077264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Based</a:t>
            </a:r>
            <a:br>
              <a:rPr sz="800"/>
            </a:b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Access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6" name="Rectangle 115"/>
          <p:cNvSpPr/>
          <p:nvPr/>
        </p:nvSpPr>
        <p:spPr>
          <a:xfrm>
            <a:off x="3884760" y="1309680"/>
            <a:ext cx="534960" cy="6094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2480" bIns="4248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8701200"/>
                <a:tab algn="l" pos="9115560"/>
                <a:tab algn="l" pos="9529920"/>
                <a:tab algn="l" pos="9944280"/>
                <a:tab algn="l" pos="10358280"/>
                <a:tab algn="l" pos="1077264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Various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8701200"/>
                <a:tab algn="l" pos="9115560"/>
                <a:tab algn="l" pos="9529920"/>
                <a:tab algn="l" pos="9944280"/>
                <a:tab algn="l" pos="10358280"/>
                <a:tab algn="l" pos="1077264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MPIs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7" name="Rectangle 116"/>
          <p:cNvSpPr/>
          <p:nvPr/>
        </p:nvSpPr>
        <p:spPr>
          <a:xfrm>
            <a:off x="5943600" y="1309680"/>
            <a:ext cx="609480" cy="6094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2480" bIns="4248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8701200"/>
                <a:tab algn="l" pos="9115560"/>
                <a:tab algn="l" pos="9529920"/>
                <a:tab algn="l" pos="9944280"/>
                <a:tab algn="l" pos="10358280"/>
                <a:tab algn="l" pos="1077264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Access to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8701200"/>
                <a:tab algn="l" pos="9115560"/>
                <a:tab algn="l" pos="9529920"/>
                <a:tab algn="l" pos="9944280"/>
                <a:tab algn="l" pos="10358280"/>
                <a:tab algn="l" pos="1077264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File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8701200"/>
                <a:tab algn="l" pos="9115560"/>
                <a:tab algn="l" pos="9529920"/>
                <a:tab algn="l" pos="9944280"/>
                <a:tab algn="l" pos="10358280"/>
                <a:tab algn="l" pos="1077264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Systems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8" name="Rectangle 117"/>
          <p:cNvSpPr/>
          <p:nvPr/>
        </p:nvSpPr>
        <p:spPr>
          <a:xfrm>
            <a:off x="4495680" y="1309680"/>
            <a:ext cx="611280" cy="6094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2480" bIns="4248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8701200"/>
                <a:tab algn="l" pos="9115560"/>
                <a:tab algn="l" pos="9529920"/>
                <a:tab algn="l" pos="9944280"/>
                <a:tab algn="l" pos="10358280"/>
                <a:tab algn="l" pos="1077264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Block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8701200"/>
                <a:tab algn="l" pos="9115560"/>
                <a:tab algn="l" pos="9529920"/>
                <a:tab algn="l" pos="9944280"/>
                <a:tab algn="l" pos="10358280"/>
                <a:tab algn="l" pos="1077264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Storage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8701200"/>
                <a:tab algn="l" pos="9115560"/>
                <a:tab algn="l" pos="9529920"/>
                <a:tab algn="l" pos="9944280"/>
                <a:tab algn="l" pos="10358280"/>
                <a:tab algn="l" pos="1077264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Access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9" name="Rectangle 118"/>
          <p:cNvSpPr/>
          <p:nvPr/>
        </p:nvSpPr>
        <p:spPr>
          <a:xfrm>
            <a:off x="2514600" y="1309680"/>
            <a:ext cx="609480" cy="6094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2480" bIns="4248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8701200"/>
                <a:tab algn="l" pos="9115560"/>
                <a:tab algn="l" pos="9529920"/>
                <a:tab algn="l" pos="9944280"/>
                <a:tab algn="l" pos="10358280"/>
                <a:tab algn="l" pos="1077264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IP Based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8701200"/>
                <a:tab algn="l" pos="9115560"/>
                <a:tab algn="l" pos="9529920"/>
                <a:tab algn="l" pos="9944280"/>
                <a:tab algn="l" pos="10358280"/>
                <a:tab algn="l" pos="1077264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App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8701200"/>
                <a:tab algn="l" pos="9115560"/>
                <a:tab algn="l" pos="9529920"/>
                <a:tab algn="l" pos="9944280"/>
                <a:tab algn="l" pos="10358280"/>
                <a:tab algn="l" pos="1077264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Access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0" name="Rectangle 119"/>
          <p:cNvSpPr/>
          <p:nvPr/>
        </p:nvSpPr>
        <p:spPr>
          <a:xfrm>
            <a:off x="152280" y="1219320"/>
            <a:ext cx="7086600" cy="49543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1" name="Line 120"/>
          <p:cNvSpPr/>
          <p:nvPr/>
        </p:nvSpPr>
        <p:spPr>
          <a:xfrm>
            <a:off x="152280" y="1995480"/>
            <a:ext cx="708660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2" name="Rectangle 121"/>
          <p:cNvSpPr/>
          <p:nvPr/>
        </p:nvSpPr>
        <p:spPr>
          <a:xfrm>
            <a:off x="8362800" y="5433840"/>
            <a:ext cx="601920" cy="6717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2480" bIns="4248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8701200"/>
                <a:tab algn="l" pos="9115560"/>
                <a:tab algn="l" pos="9529920"/>
                <a:tab algn="l" pos="9944280"/>
                <a:tab algn="l" pos="10358280"/>
                <a:tab algn="l" pos="10772640"/>
              </a:tabLst>
            </a:pPr>
            <a:r>
              <a:rPr b="0" lang="en-GB" sz="700" spc="-1" strike="noStrike">
                <a:solidFill>
                  <a:srgbClr val="000000"/>
                </a:solidFill>
                <a:latin typeface="Times New Roman"/>
              </a:rPr>
              <a:t>Apps &amp; </a:t>
            </a:r>
            <a:br>
              <a:rPr sz="700"/>
            </a:br>
            <a:r>
              <a:rPr b="0" lang="en-GB" sz="700" spc="-1" strike="noStrike">
                <a:solidFill>
                  <a:srgbClr val="000000"/>
                </a:solidFill>
                <a:latin typeface="Times New Roman"/>
              </a:rPr>
              <a:t>Access</a:t>
            </a:r>
            <a:br>
              <a:rPr sz="700"/>
            </a:br>
            <a:r>
              <a:rPr b="0" lang="en-GB" sz="700" spc="-1" strike="noStrike">
                <a:solidFill>
                  <a:srgbClr val="000000"/>
                </a:solidFill>
                <a:latin typeface="Times New Roman"/>
              </a:rPr>
              <a:t>Methods</a:t>
            </a:r>
            <a:br>
              <a:rPr sz="700"/>
            </a:br>
            <a:r>
              <a:rPr b="0" lang="en-GB" sz="700" spc="-1" strike="noStrike">
                <a:solidFill>
                  <a:srgbClr val="000000"/>
                </a:solidFill>
                <a:latin typeface="Times New Roman"/>
              </a:rPr>
              <a:t>for using</a:t>
            </a:r>
            <a:br>
              <a:rPr sz="700"/>
            </a:br>
            <a:r>
              <a:rPr b="0" lang="en-GB" sz="700" spc="-1" strike="noStrike">
                <a:solidFill>
                  <a:srgbClr val="000000"/>
                </a:solidFill>
                <a:latin typeface="Times New Roman"/>
              </a:rPr>
              <a:t>OF Stack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3" name="Rectangle 122"/>
          <p:cNvSpPr/>
          <p:nvPr/>
        </p:nvSpPr>
        <p:spPr>
          <a:xfrm>
            <a:off x="3657600" y="2071800"/>
            <a:ext cx="53496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2480" bIns="4248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8701200"/>
                <a:tab algn="l" pos="9115560"/>
                <a:tab algn="l" pos="9529920"/>
                <a:tab algn="l" pos="9944280"/>
                <a:tab algn="l" pos="10358280"/>
                <a:tab algn="l" pos="1077264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Times New Roman"/>
              </a:rPr>
              <a:t>UDAPL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4" name="Line 123"/>
          <p:cNvSpPr/>
          <p:nvPr/>
        </p:nvSpPr>
        <p:spPr>
          <a:xfrm>
            <a:off x="3352680" y="1914480"/>
            <a:ext cx="1800" cy="219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5" name="Line 124"/>
          <p:cNvSpPr/>
          <p:nvPr/>
        </p:nvSpPr>
        <p:spPr>
          <a:xfrm>
            <a:off x="3122640" y="2133720"/>
            <a:ext cx="230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6" name="Line 125"/>
          <p:cNvSpPr/>
          <p:nvPr/>
        </p:nvSpPr>
        <p:spPr>
          <a:xfrm flipH="1">
            <a:off x="5785920" y="2209680"/>
            <a:ext cx="2365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7" name="Line 126"/>
          <p:cNvSpPr/>
          <p:nvPr/>
        </p:nvSpPr>
        <p:spPr>
          <a:xfrm>
            <a:off x="5789520" y="2209680"/>
            <a:ext cx="180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8" name="Line 127"/>
          <p:cNvSpPr/>
          <p:nvPr/>
        </p:nvSpPr>
        <p:spPr>
          <a:xfrm>
            <a:off x="1371600" y="2590920"/>
            <a:ext cx="0" cy="2666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9" name="Line 128"/>
          <p:cNvSpPr/>
          <p:nvPr/>
        </p:nvSpPr>
        <p:spPr>
          <a:xfrm>
            <a:off x="6934320" y="2590920"/>
            <a:ext cx="1440" cy="2666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0" name="Text Box 129"/>
          <p:cNvSpPr/>
          <p:nvPr/>
        </p:nvSpPr>
        <p:spPr>
          <a:xfrm rot="16200000">
            <a:off x="738000" y="4427280"/>
            <a:ext cx="99072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t">
            <a:spAutoFit/>
          </a:bodyPr>
          <a:p>
            <a:pPr>
              <a:lnSpc>
                <a:spcPct val="93000"/>
              </a:lnSpc>
              <a:spcBef>
                <a:spcPts val="561"/>
              </a:spcBef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8701200"/>
                <a:tab algn="l" pos="9115560"/>
                <a:tab algn="l" pos="9529920"/>
                <a:tab algn="l" pos="9944280"/>
                <a:tab algn="l" pos="10358280"/>
                <a:tab algn="l" pos="1077264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Times New Roman"/>
              </a:rPr>
              <a:t>Kernel bypas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1" name="Text Box 130"/>
          <p:cNvSpPr/>
          <p:nvPr/>
        </p:nvSpPr>
        <p:spPr>
          <a:xfrm rot="16200000">
            <a:off x="6298920" y="4427280"/>
            <a:ext cx="99072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t">
            <a:spAutoFit/>
          </a:bodyPr>
          <a:p>
            <a:pPr>
              <a:lnSpc>
                <a:spcPct val="93000"/>
              </a:lnSpc>
              <a:spcBef>
                <a:spcPts val="561"/>
              </a:spcBef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8701200"/>
                <a:tab algn="l" pos="9115560"/>
                <a:tab algn="l" pos="9529920"/>
                <a:tab algn="l" pos="9944280"/>
                <a:tab algn="l" pos="10358280"/>
                <a:tab algn="l" pos="1077264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Times New Roman"/>
              </a:rPr>
              <a:t>Kernel bypas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2" name="Line 131"/>
          <p:cNvSpPr/>
          <p:nvPr/>
        </p:nvSpPr>
        <p:spPr>
          <a:xfrm>
            <a:off x="1562040" y="4124160"/>
            <a:ext cx="12193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3" name="Line 132"/>
          <p:cNvSpPr/>
          <p:nvPr/>
        </p:nvSpPr>
        <p:spPr>
          <a:xfrm>
            <a:off x="1809720" y="2581200"/>
            <a:ext cx="1440" cy="1533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7770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 Black"/>
              </a:rPr>
              <a:t>OpenFabrics Software Stack </a:t>
            </a:r>
            <a:endParaRPr b="0" lang="en-US" sz="2800" spc="-1" strike="noStrike">
              <a:solidFill>
                <a:srgbClr val="003366"/>
              </a:solidFill>
              <a:latin typeface="Arial Black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228240" y="342720"/>
            <a:ext cx="677700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3366"/>
                </a:solidFill>
                <a:latin typeface="Arial Black"/>
              </a:rPr>
              <a:t>OFA/OFED APIs</a:t>
            </a: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8682120" cy="548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lnSpc>
                <a:spcPct val="93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Open Fabrics Verb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93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inimal changes from IB API to support iWAR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93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eeds iWARP-specific verb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93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Open Fabrics RDMA-C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93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ansport neutral connection set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93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P address / port ba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93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Kernel and User Interfac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93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ser interface supports kernel-byp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7770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 Black"/>
              </a:rPr>
              <a:t>Introduction</a:t>
            </a:r>
            <a:r>
              <a:rPr b="0" lang="en-US" sz="3200" spc="-1" strike="noStrike">
                <a:solidFill>
                  <a:srgbClr val="003366"/>
                </a:solidFill>
                <a:latin typeface="Arial Black"/>
              </a:rPr>
              <a:t>	</a:t>
            </a: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725" name=""/>
          <p:cNvSpPr txBox="1"/>
          <p:nvPr/>
        </p:nvSpPr>
        <p:spPr>
          <a:xfrm>
            <a:off x="228240" y="1143000"/>
            <a:ext cx="8682120" cy="548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lnSpc>
                <a:spcPct val="81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lsio’s T3 Unified Wire Ethernet engi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FED 1.2 stack and iWARP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81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t of upstream kernel 2.6.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81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ta release immin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sting &amp; performance resul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clusions &amp; what’s nex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Slide Number Placeholder 3"/>
          <p:cNvSpPr/>
          <p:nvPr/>
        </p:nvSpPr>
        <p:spPr>
          <a:xfrm>
            <a:off x="8686800" y="6553080"/>
            <a:ext cx="376200" cy="2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98B2D2-1B2B-4633-B727-8DD4BF3BD369}" type="slidenum">
              <a:rPr b="0" lang="en-GB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228240" y="377640"/>
            <a:ext cx="6777000" cy="38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3366"/>
                </a:solidFill>
                <a:latin typeface="Arial Black"/>
              </a:rPr>
              <a:t>IB vs. Chelsio Ethernet iWARP</a:t>
            </a: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8682120" cy="51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8040" indent="-338040">
              <a:lnSpc>
                <a:spcPct val="93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helsio T3 RNIC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93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imultaneous OFED 1.2, iSCSI over TCP/IP, TOE, N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93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PoIB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93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3 all in one NIC, iSCSI HBA, and iWARP RD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93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PoIB handled with NIC and TOE on Ethernet s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93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DP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93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B implementation of classical socket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93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3 also has this functionality via DDP TO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93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DP TOE is API compatible with classical sockets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93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RP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93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3 also supports iSCSI over TCP/IP which has its own built-in DDP 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228240" y="229680"/>
            <a:ext cx="746748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 Black"/>
              </a:rPr>
              <a:t>iWARP OFED 1.2: Testing </a:t>
            </a: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911" name=""/>
          <p:cNvSpPr txBox="1"/>
          <p:nvPr/>
        </p:nvSpPr>
        <p:spPr>
          <a:xfrm>
            <a:off x="228240" y="1143000"/>
            <a:ext cx="8682120" cy="548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lnSpc>
                <a:spcPct val="81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generation TCP offloa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81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ensively tes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WARP testing complet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81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nal Test B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1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ng running stress te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81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DAPL test su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1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ss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81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FS over RD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1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ss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81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1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correctness iss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1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formance testing ongo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81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H conformance tes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1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le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7770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 Black"/>
              </a:rPr>
              <a:t>OFA/OFED 1.2 : Performance</a:t>
            </a: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913" name=""/>
          <p:cNvSpPr txBox="1"/>
          <p:nvPr/>
        </p:nvSpPr>
        <p:spPr>
          <a:xfrm>
            <a:off x="228240" y="1143000"/>
            <a:ext cx="8682120" cy="548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lnSpc>
                <a:spcPct val="81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ernal Measuremen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81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rough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1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istently hits full line rate 10Gbps bidirectio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81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t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1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DMA READ latency in the 4-6usec range (depending on the platfor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1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DMA WRITE latency in the 6-7usec range (depending on the platfor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81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w CPU uti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VPICH MP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81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K Panda et al. at OSU will be presenting performance results with Chelsio toda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FS over RDM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81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len Chen et al. at Sandia will be presenting performance results with Chelsio tomorro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7770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 Black"/>
              </a:rPr>
              <a:t>Chelsio T3 iWarp Latency</a:t>
            </a: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7770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 Black"/>
              </a:rPr>
              <a:t>Chelsio T3 iWarp Throughput</a:t>
            </a: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Slide Number Placeholder 3"/>
          <p:cNvSpPr/>
          <p:nvPr/>
        </p:nvSpPr>
        <p:spPr>
          <a:xfrm>
            <a:off x="8686800" y="6553080"/>
            <a:ext cx="376200" cy="2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B434C0-7386-43C2-A9F6-90A65FBBD0C4}" type="slidenum">
              <a:rPr b="0" lang="en-GB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228240" y="377640"/>
            <a:ext cx="6777000" cy="38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3366"/>
                </a:solidFill>
                <a:latin typeface="Arial Black"/>
              </a:rPr>
              <a:t>Conclusions</a:t>
            </a: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228240" y="1142640"/>
            <a:ext cx="8682120" cy="494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8040" indent="-338040">
              <a:lnSpc>
                <a:spcPct val="93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helsio has stable OFED 1.2 iWARP RNICs available and shipping toda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93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ne rate 10Gbps bidirect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93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nd-to-end latency in 4-7us range depending on plat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ut-through processing key to these latency numb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93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w CPU uti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93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tensive QA testing done, and performance QA is on-go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93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Unified Wire Engi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93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uilds on 3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generation protocol offlo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93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ntegrated Traffic Manag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7770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 Black"/>
              </a:rPr>
              <a:t>Next</a:t>
            </a: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8682120" cy="548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lnSpc>
                <a:spcPct val="81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10G Ethernet TCP testing has been limited to small clusters up to this point 4-12 nod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81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CP congestion control scales in robust fash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1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ll line rate is maintain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1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-subscribed receivers are not an iss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81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rstiness and lack of Traffic Management was an iss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1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g. 10Gbps sender can overwhelm a slower receiver such as a block or file storage syste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ople are starting to assemble RNIC clusters consisting of 100s of nod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81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expect Traffic Management and Traffic Engineering to play a significant role in large RNIC clu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81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the help of Traffic Management and Engineering, we expect TCP congestion control to scale in robust fashion in large cluste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Slide Number Placeholder 2"/>
          <p:cNvSpPr/>
          <p:nvPr/>
        </p:nvSpPr>
        <p:spPr>
          <a:xfrm>
            <a:off x="8686800" y="6553080"/>
            <a:ext cx="376200" cy="2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ADD579-FD3B-4BAF-8080-952E03BFC6DC}" type="slidenum">
              <a:rPr b="0" lang="en-GB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22" name="Picture 1" descr=""/>
          <p:cNvPicPr/>
          <p:nvPr/>
        </p:nvPicPr>
        <p:blipFill>
          <a:blip r:embed="rId1"/>
          <a:stretch/>
        </p:blipFill>
        <p:spPr>
          <a:xfrm>
            <a:off x="2133720" y="1371600"/>
            <a:ext cx="4952880" cy="4873680"/>
          </a:xfrm>
          <a:prstGeom prst="rect">
            <a:avLst/>
          </a:prstGeom>
          <a:ln w="0">
            <a:noFill/>
          </a:ln>
        </p:spPr>
      </p:pic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6781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3366"/>
                </a:solidFill>
                <a:latin typeface="Arial Black"/>
              </a:rPr>
              <a:t>Thank You</a:t>
            </a: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228240" y="306000"/>
            <a:ext cx="67770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 Black"/>
              </a:rPr>
              <a:t>Chelsio T3 Unified Wire Engine</a:t>
            </a:r>
            <a:endParaRPr b="0" lang="en-US" sz="28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727" name=""/>
          <p:cNvSpPr txBox="1"/>
          <p:nvPr/>
        </p:nvSpPr>
        <p:spPr>
          <a:xfrm>
            <a:off x="228240" y="1143000"/>
            <a:ext cx="8682120" cy="548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lnSpc>
                <a:spcPct val="81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ative PCIe x8 and PCI-X 2.0 interfac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 x 10Gbps Ethernet por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multaneously, one adapter operates as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81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1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ugs into the TCP/IP network stack as a high performance N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81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C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1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ugs into the storage stack as a 10Gbps iSCSI de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81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War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1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ugs into OFA as a high performance iWARP RDMA RN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81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1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celerates TCP/IP applications with full TCP/IP offlo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generation offload engi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egrated traffic manag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1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8" name="Picture 18" descr="S310E-CX - angled-240"/>
          <p:cNvPicPr/>
          <p:nvPr/>
        </p:nvPicPr>
        <p:blipFill>
          <a:blip r:embed="rId1"/>
          <a:stretch/>
        </p:blipFill>
        <p:spPr>
          <a:xfrm>
            <a:off x="228600" y="1828800"/>
            <a:ext cx="2743200" cy="1703520"/>
          </a:xfrm>
          <a:prstGeom prst="rect">
            <a:avLst/>
          </a:prstGeom>
          <a:ln w="0">
            <a:noFill/>
          </a:ln>
        </p:spPr>
      </p:pic>
      <p:sp>
        <p:nvSpPr>
          <p:cNvPr id="729" name="Slide Number Placeholder 3"/>
          <p:cNvSpPr/>
          <p:nvPr/>
        </p:nvSpPr>
        <p:spPr>
          <a:xfrm>
            <a:off x="8686800" y="6553080"/>
            <a:ext cx="380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47501F-D143-4591-A40C-E2BB397E21B7}" type="slidenum">
              <a:rPr b="0" lang="en-US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6781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 Black"/>
              </a:rPr>
              <a:t>Chelsio Unified Wire: PCI Bus</a:t>
            </a: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pic>
        <p:nvPicPr>
          <p:cNvPr id="731" name="Picture 5" descr="T302x"/>
          <p:cNvPicPr/>
          <p:nvPr/>
        </p:nvPicPr>
        <p:blipFill>
          <a:blip r:embed="rId2"/>
          <a:stretch/>
        </p:blipFill>
        <p:spPr>
          <a:xfrm>
            <a:off x="6248520" y="4191120"/>
            <a:ext cx="2666880" cy="2057400"/>
          </a:xfrm>
          <a:prstGeom prst="rect">
            <a:avLst/>
          </a:prstGeom>
          <a:ln w="0">
            <a:noFill/>
          </a:ln>
        </p:spPr>
      </p:pic>
      <p:sp>
        <p:nvSpPr>
          <p:cNvPr id="732" name="Text Box 7"/>
          <p:cNvSpPr/>
          <p:nvPr/>
        </p:nvSpPr>
        <p:spPr>
          <a:xfrm>
            <a:off x="3822840" y="6334200"/>
            <a:ext cx="1739880" cy="2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320e-XF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3" name="Text Box 8"/>
          <p:cNvSpPr/>
          <p:nvPr/>
        </p:nvSpPr>
        <p:spPr>
          <a:xfrm>
            <a:off x="685800" y="6334200"/>
            <a:ext cx="1739880" cy="2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320e-CX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4" name="Text Box 10"/>
          <p:cNvSpPr/>
          <p:nvPr/>
        </p:nvSpPr>
        <p:spPr>
          <a:xfrm>
            <a:off x="3733920" y="3429000"/>
            <a:ext cx="1739880" cy="2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310e-CX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35" name="Picture 13" descr="T302-E oblique low-res"/>
          <p:cNvPicPr/>
          <p:nvPr/>
        </p:nvPicPr>
        <p:blipFill>
          <a:blip r:embed="rId3"/>
          <a:stretch/>
        </p:blipFill>
        <p:spPr>
          <a:xfrm>
            <a:off x="6400800" y="1447920"/>
            <a:ext cx="2743200" cy="2057400"/>
          </a:xfrm>
          <a:prstGeom prst="rect">
            <a:avLst/>
          </a:prstGeom>
          <a:ln w="0">
            <a:noFill/>
          </a:ln>
        </p:spPr>
      </p:pic>
      <p:pic>
        <p:nvPicPr>
          <p:cNvPr id="736" name="Picture 15" descr="S320X-SR-XFP - angled-240"/>
          <p:cNvPicPr/>
          <p:nvPr/>
        </p:nvPicPr>
        <p:blipFill>
          <a:blip r:embed="rId4"/>
          <a:stretch/>
        </p:blipFill>
        <p:spPr>
          <a:xfrm>
            <a:off x="3429000" y="1752480"/>
            <a:ext cx="2590920" cy="1911600"/>
          </a:xfrm>
          <a:prstGeom prst="rect">
            <a:avLst/>
          </a:prstGeom>
          <a:ln w="0">
            <a:noFill/>
          </a:ln>
        </p:spPr>
      </p:pic>
      <p:sp>
        <p:nvSpPr>
          <p:cNvPr id="737" name="Text Box 14"/>
          <p:cNvSpPr/>
          <p:nvPr/>
        </p:nvSpPr>
        <p:spPr>
          <a:xfrm>
            <a:off x="7315200" y="3657600"/>
            <a:ext cx="1359000" cy="2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302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38" name="Picture 16" descr="S320E-SR-XFP - angled-240"/>
          <p:cNvPicPr/>
          <p:nvPr/>
        </p:nvPicPr>
        <p:blipFill>
          <a:blip r:embed="rId5"/>
          <a:stretch/>
        </p:blipFill>
        <p:spPr>
          <a:xfrm>
            <a:off x="3429000" y="4302000"/>
            <a:ext cx="2666880" cy="1889280"/>
          </a:xfrm>
          <a:prstGeom prst="rect">
            <a:avLst/>
          </a:prstGeom>
          <a:ln w="0">
            <a:noFill/>
          </a:ln>
        </p:spPr>
      </p:pic>
      <p:pic>
        <p:nvPicPr>
          <p:cNvPr id="739" name="Picture 13" descr="S320E-CX - angled-240"/>
          <p:cNvPicPr/>
          <p:nvPr/>
        </p:nvPicPr>
        <p:blipFill>
          <a:blip r:embed="rId6"/>
          <a:stretch/>
        </p:blipFill>
        <p:spPr>
          <a:xfrm>
            <a:off x="380880" y="4114800"/>
            <a:ext cx="2590920" cy="2138400"/>
          </a:xfrm>
          <a:prstGeom prst="rect">
            <a:avLst/>
          </a:prstGeom>
          <a:ln w="0">
            <a:noFill/>
          </a:ln>
        </p:spPr>
      </p:pic>
      <p:sp>
        <p:nvSpPr>
          <p:cNvPr id="740" name="Text Box 9"/>
          <p:cNvSpPr/>
          <p:nvPr/>
        </p:nvSpPr>
        <p:spPr>
          <a:xfrm>
            <a:off x="7099200" y="6400800"/>
            <a:ext cx="1739880" cy="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302x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1" name="Text Box 12"/>
          <p:cNvSpPr/>
          <p:nvPr/>
        </p:nvSpPr>
        <p:spPr>
          <a:xfrm>
            <a:off x="990720" y="3666960"/>
            <a:ext cx="1358640" cy="2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321e-CX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2" name="Text Box 7"/>
          <p:cNvSpPr/>
          <p:nvPr/>
        </p:nvSpPr>
        <p:spPr>
          <a:xfrm>
            <a:off x="3809880" y="3819600"/>
            <a:ext cx="1739880" cy="2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320x-XF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228240" y="229680"/>
            <a:ext cx="67770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 Black"/>
              </a:rPr>
              <a:t>Chelsio Unified Wire: Offload NIC</a:t>
            </a:r>
            <a:endParaRPr b="0" lang="en-US" sz="28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744" name=""/>
          <p:cNvSpPr txBox="1"/>
          <p:nvPr/>
        </p:nvSpPr>
        <p:spPr>
          <a:xfrm>
            <a:off x="228240" y="1143000"/>
            <a:ext cx="8682120" cy="548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lnSpc>
                <a:spcPct val="81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81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cksum offlo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81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SL/LSO (Send Large Segment Offloa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81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RO (Receive Large Segment Offloa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81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SS (Receive Side traffic Steer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81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SS (Send Side Scal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81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Gbps line rate T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1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500B frames, or 9KB jumbo fra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81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Gbps line rate R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1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500B frames, or 9KB jumbo fra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81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ero copy for TX po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81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ero copy for RX NOT po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677700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 Black"/>
              </a:rPr>
              <a:t>Chelsio Unified Wire: iSCSI</a:t>
            </a: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746" name=""/>
          <p:cNvSpPr txBox="1"/>
          <p:nvPr/>
        </p:nvSpPr>
        <p:spPr>
          <a:xfrm>
            <a:off x="228240" y="1143000"/>
            <a:ext cx="8682120" cy="548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lnSpc>
                <a:spcPct val="81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81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CSI on top of TCP/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81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CSI header and data digest (CRC) offlo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81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X DD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1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ero copy send and iSCSI encaps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81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X DD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1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ero copy receive of iSCSI paylo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81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ards support 32K connections (chip up to 1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asured Performa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81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W 10Gbps bidirect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81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00+K IOPS rate (512B transfer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228240" y="229680"/>
            <a:ext cx="67770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 Black"/>
              </a:rPr>
              <a:t>Chelsio Unified Wire: TOE</a:t>
            </a: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748" name=""/>
          <p:cNvSpPr txBox="1"/>
          <p:nvPr/>
        </p:nvSpPr>
        <p:spPr>
          <a:xfrm>
            <a:off x="228240" y="1143000"/>
            <a:ext cx="8682120" cy="548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lnSpc>
                <a:spcPct val="81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81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elerates classical sockets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81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X DD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1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ero copy s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81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X DD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1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ero copy rece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81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ards support 32K connections (chip up to 1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81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e rate 10Gbps bidirect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81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~7us end-to-end application-to-application lat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1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rupt driven receive, less for polling rece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81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 5% CPU for transm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81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 5% CPU for rece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Slide Number Placeholder 3"/>
          <p:cNvSpPr/>
          <p:nvPr/>
        </p:nvSpPr>
        <p:spPr>
          <a:xfrm>
            <a:off x="8686800" y="6553080"/>
            <a:ext cx="376200" cy="2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487A17-F48A-4750-8C04-B7CA80C87DD3}" type="slidenum">
              <a:rPr b="0" lang="en-US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228240" y="229680"/>
            <a:ext cx="67770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 Black"/>
              </a:rPr>
              <a:t>Chelsio Unified Wire: TOE</a:t>
            </a: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8682120" cy="548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igh-performance architectur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Gbps wire rate from 1 up to 10s of thousands of conn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w latency cut-through processing for transmit and rece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Gbps wire rate filtering and virtu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ull TCP Offload Engi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nection setup/teardow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st retransmit, timeout retransmission, congestion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-of-order packet handling and exception hand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TCP timers and prob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ening server offload (full bit-wise wildca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ensive RFC compli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net attack prot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Slide Number Placeholder 3"/>
          <p:cNvSpPr/>
          <p:nvPr/>
        </p:nvSpPr>
        <p:spPr>
          <a:xfrm>
            <a:off x="8686800" y="6553080"/>
            <a:ext cx="376200" cy="2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E553FC-0BB6-405B-A912-26BFBFD55BE4}" type="slidenum">
              <a:rPr b="0" lang="en-US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701028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 Black"/>
              </a:rPr>
              <a:t>Chelsio Unified Wire: iWARP RDMA</a:t>
            </a:r>
            <a:endParaRPr b="0" lang="en-US" sz="28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8682120" cy="548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ndards-compliant RDM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ETF RDD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DMAC iWARP 1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ict/permissive interoperability of IETF RDDP &amp; RDMAC standa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interfac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ports OS-bypass and optional polling recei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mbedded microprocess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rk request &amp; error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4K queue pai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4K doorbe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4K completion que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4K protection domai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rdware-based STAG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lly cache coherent polling receiv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sgeir Eiriksson</dc:creator>
  <dc:description/>
  <dc:language>en-US</dc:language>
  <cp:lastModifiedBy>Asgeir Eiriksson</cp:lastModifiedBy>
  <dcterms:modified xsi:type="dcterms:W3CDTF">2007-04-30T20:30:58Z</dcterms:modified>
  <cp:revision>188</cp:revision>
  <dc:subject>3rd OFA Workshop, Sonoma, April 30, 2007</dc:subject>
  <dc:title>iWARP in OFED 1.2</dc:title>
</cp:coreProperties>
</file>