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898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292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04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898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6292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41080" y="3217680"/>
            <a:ext cx="498924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898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2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04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5898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6292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1080" y="3217680"/>
            <a:ext cx="498924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1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5382a1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1568520"/>
            <a:ext cx="81468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4560" indent="-22860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7280" indent="-216000">
              <a:lnSpc>
                <a:spcPct val="82000"/>
              </a:lnSpc>
              <a:spcBef>
                <a:spcPts val="1301"/>
              </a:spcBef>
              <a:buClr>
                <a:srgbClr val="e166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8920" indent="-215640">
              <a:lnSpc>
                <a:spcPct val="82000"/>
              </a:lnSpc>
              <a:spcBef>
                <a:spcPts val="1301"/>
              </a:spcBef>
              <a:buClr>
                <a:srgbClr val="e166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8920" indent="-215640">
              <a:lnSpc>
                <a:spcPct val="82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8920" indent="-215640">
              <a:lnSpc>
                <a:spcPct val="82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2803680" y="6647040"/>
            <a:ext cx="3538440" cy="1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999999"/>
                </a:solidFill>
                <a:latin typeface="Arial Narrow"/>
              </a:rPr>
              <a:t>Sun Proprietary/Confidential: Internal Use Only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2000"/>
              </a:lnSpc>
              <a:spcAft>
                <a:spcPts val="5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846360" indent="-10584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4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5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6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440" y="2869920"/>
            <a:ext cx="49910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finiBand at Su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0440" y="4671720"/>
            <a:ext cx="6032520" cy="16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Carl Hensler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Distinguished Engine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olaris Engineer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un Microsystem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8918640" y="5460840"/>
            <a:ext cx="3240" cy="1090800"/>
          </a:xfrm>
          <a:prstGeom prst="rect">
            <a:avLst/>
          </a:prstGeom>
          <a:solidFill>
            <a:srgbClr val="c5d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Sun InfiniBand (IB) Strategy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3840" y="1568520"/>
            <a:ext cx="814860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NGIO, IBTA and OpenIB found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xploit IB technology across entire product lin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HPC and datacenter applica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esell third-party IB H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evelop industry-leading IB HW &amp; SW produc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olaris IB SW support will match Open Fabrics portfolio in functionality and performa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upport Open Fabrics SW on Linux and Window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IB Activities at Sun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3840" y="1568520"/>
            <a:ext cx="81486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Mellanox HCAs and Sun 9-port 4x/12x switch on price lis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isco, Voltaire &amp; Qlogic switches &amp; HCAs certified Solaris Read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200" spc="-1" strike="noStrike" baseline="33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party IB HW available in pre-assembled rack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Broad IB development program (all divisions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HPC deployments – Tokyo Institute of Technology (#9 11/06) w Voltaire - Texas Advanced Computing Center Teragrid cluster this year (&gt;400 teraflops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-627120" y="1992240"/>
            <a:ext cx="1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953784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IB in Solaris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3840" y="1568520"/>
            <a:ext cx="8148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omplete IB SW infrastructure in Solar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PARC, x86 and x6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IPoIB, uDAPL, SRP, SRP boot, SDP, R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MPI (MVAPICH, Open MPI, Scali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Coming soon: NFS/RDMA, iSER, IP boot,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OFA User Verb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Funding NFS/RDMA and pNFS work on Solaris at Ohio State Univers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iWARP support in develop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-627120" y="1992240"/>
            <a:ext cx="1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953784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What we want from OFA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1568520"/>
            <a:ext cx="814860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B &amp; iWARP SW support for Linux and Window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Comple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Reli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t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Distributed and supported by major distr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upported by solution providers, e.g. Cisco, QLogic &amp; Voltai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upported by interface vendo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No hassles in delivering solutions – it all just works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3727800" y="6435720"/>
            <a:ext cx="4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3000"/>
              </a:lnSpc>
              <a:spcBef>
                <a:spcPts val="7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50440" y="4672080"/>
            <a:ext cx="60325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Carl Hensler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arl.hensler@sun.co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