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868560"/>
            <a:ext cx="7537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86856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47880" y="386856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3880" y="159984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82320" y="159984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86856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3880" y="386856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82320" y="386856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88480" y="304560"/>
            <a:ext cx="758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386856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47880" y="386856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3868560"/>
            <a:ext cx="7537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440" y="3868560"/>
            <a:ext cx="7537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440" y="386856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47880" y="386856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3880" y="159984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82320" y="159984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440" y="386856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3880" y="386856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782320" y="386856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88480" y="304560"/>
            <a:ext cx="758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86856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47880" y="386856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868560"/>
            <a:ext cx="7537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2253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9040" cy="68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60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3004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8920" indent="-230040">
              <a:spcBef>
                <a:spcPts val="60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1640" indent="-22860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01640" indent="-228600"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01640" indent="-228600"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1722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620120" y="6226200"/>
            <a:ext cx="947520" cy="1191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152280" y="6553080"/>
            <a:ext cx="883944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914400" y="4343400"/>
            <a:ext cx="2895480" cy="361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14400" y="914400"/>
            <a:ext cx="2819520" cy="2819520"/>
          </a:xfrm>
          <a:prstGeom prst="rect">
            <a:avLst/>
          </a:prstGeom>
          <a:solidFill>
            <a:srgbClr val="adad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Insert Picture Her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914400"/>
            <a:ext cx="914400" cy="2822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736800" y="914400"/>
            <a:ext cx="5407200" cy="2822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48006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222480" algn="ctr">
              <a:spcBef>
                <a:spcPts val="499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90480" indent="338400" algn="ctr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9080" indent="453960" algn="ctr">
              <a:spcBef>
                <a:spcPts val="499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9080" indent="453960">
              <a:spcBef>
                <a:spcPts val="49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9080" indent="453960">
              <a:spcBef>
                <a:spcPts val="49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48006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High Speed Interconnect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Oracle RDB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38080" y="57146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manta.Chatterjee@oracle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quirements &amp; Appl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w overhead, low latency, high bandwidth, ultra reliable, supportable, IPC &amp; I/O protoc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match existing IPC models for RAC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match Oracle I/O models for R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for transfers from 200 bytes to 8 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data volumes over inter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compute and storage server node 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acle Corporation @ OpenIB 8/05</a:t>
            </a: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ked and Got for IP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a reliable datagram IPC in Open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Socket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al code change / testing for Ora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over inter HCA and intra HCA 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over IB, Ethernet, iWARP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acle Corporation @ OpenIB 8/05</a:t>
            </a: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ked and got for I/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C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burn-in cy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rn over operability with Power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ment and Dis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a cohesive message from OF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acle Corporation @ OpenIB 8/05</a:t>
            </a: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’s Stat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S v2 is in OFED 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maintainers are Oracle Open Source Group and Mellan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with IB underway at CIS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trials look very encour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Performance tes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Stress tes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to support RDS from OFED with Oracle 11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ion over 10 Gbit Ethernet has started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acle Corporation @ OpenIB 8/05</a:t>
            </a: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DS Interoper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important: need RDS interoperability across platform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 OFED 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RDS driver which interoperates at wire protocol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on RDS V3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z-copy (directed)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:  we will require RDS V3 certification from all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n attractive interconnect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acle Corporation @ OpenIB 8/05</a:t>
            </a: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ified Fabr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overstress the importance of unified fabric for all types of I/O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all about cost effec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node counts, many cores per node poses much  higher I/O de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acle Corporation @ OpenIB 8/05</a:t>
            </a: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rtualiz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fficient use of MIPS driving conso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ization makes provisioning easy, improves MIPS util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drive up I/O demands per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ain a perfect playground for Infini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olutions available for I/O virtu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acle Corporation @ OpenIB 8/05</a:t>
            </a: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peful sig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cy of using IB for interconnect and I/O traffic is no longer a deb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interests from many business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an speak for it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do more real case pres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acle Open World Nov 11 – 15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acle Corporation @ OpenIB 8/05</a:t>
            </a: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7-04-30T05:41:32Z</dcterms:modified>
  <cp:revision>18</cp:revision>
  <dc:subject/>
  <dc:title>PowerPoint Presentation</dc:title>
</cp:coreProperties>
</file>