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7FD-AD92-4117-9B61-2E793048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B51-3F05-49ED-BB43-50EAA9F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FF8-17B3-4099-ABD5-97916EB0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F10-8187-4FBB-B472-B751340D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B899-2A78-450E-B193-6DBDC59E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EB6-BBED-4A7A-93D0-AFD3153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29A-6F60-41E3-9D0A-EE95C3A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763-295C-4AC6-AEE6-AEDC21D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77F-603A-4722-8839-4319CA1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749-3D87-4834-92EC-D7B96A35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DC49-FA54-4572-B060-D11455B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9DC-64B1-4515-959F-2747713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4EA6-AA4E-46F6-A407-3B6DCFA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C4E2-A472-41FD-A1C3-F0D177B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B5E0-8F8E-4B7D-BFB1-A16E3F3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E0D-2B71-4573-9933-33073A8A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BBB-38FA-4864-876B-D409F5FD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39F-E47F-4C64-9FFB-8CBAF0E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B65-E4E2-4B41-B14D-7C84042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7BC-0510-4378-A1A9-0431CD90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964-2CED-4971-BE31-C967543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3E9-AD8C-4238-90A9-0372C45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263-18C2-4B9B-A5F8-9D56044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3FA-467E-4B27-8843-908C5E1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5587-3C65-4FC7-AD91-6150AF4D338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E499-887D-4FBB-A9FE-70AC7A515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733920"/>
            <a:ext cx="556272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90720"/>
            <a:ext cx="8305920" cy="16761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xperience using Infiniband for computational chemistr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403812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k Mora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. E. Shaw Research, LL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666880"/>
            <a:ext cx="53352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nagement &amp; Diagnostics: A view from the field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 &amp; Pla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CAs, Cables and Switches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K, that’s kinda like Etherne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bnet Manager. 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Hmm, it’s not Ethernet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PoIB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h, it’s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D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pe, not really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R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ait, that’s not FC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SER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h, that’s going to talk iSCS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DAPL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Uh-oh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www, doesn’t connect to anything else I hav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But it’s got great bandwidth and latency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’ll need new kernels everywher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nd I should *converge* my entire network with this?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lity-based performance model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 usec latenc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NN MiB/sec bandwidth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-switch connec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liability and availabilit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cost equatio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stall (cables and bringup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ilures (app crashes, HCAs, cables, switch ports, subnet manager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ges and growt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’s the lifetim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-coupling for install and upgrad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ivers [Understandable cost, grumble, mumble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ernel protocol modules [Ouch!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-level protocols [Ok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w do I measure progress and quality of an installation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ratuitous sidebar: Consider a world in which..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only network that matters to Enterprise IT is TCP and UDP over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ch new non-IP acronym causes a louder, albeit silent scream of pain from Enterprise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hates having anyone open a machine and add a card to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really, absolutely, positively hates updating kernel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never wants to recompile any application (if they even have, or could find the source cod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ily Oper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lence is golden.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f it’s working wel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acity utilizati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llection of sta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RDtool, MRTG and friends (ganglia, drraw, cricket, ..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ot checks for errors.  Is it really working well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(MD)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905120"/>
            <a:ext cx="7772400" cy="990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4040" y="2190600"/>
            <a:ext cx="7010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Single, millisecond-scale MD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57150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47920"/>
            <a:ext cx="569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goal of D. E. Shaw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809880"/>
            <a:ext cx="7772400" cy="1524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4095720"/>
            <a:ext cx="6934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hat’s the time scale at which biologically interesting things start to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00400"/>
            <a:ext cx="3124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90680" y="333360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ch out and touch someone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 Trap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ai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lo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 GUID is not a meaningful error mes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names, card numbers, port numbers, pleas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rror counters: Non-zero BAD, Zero GO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rollary: It must be impossible to have a network error where all error counters are zero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aused the error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are netstat, ping, ttcp/iperf and traceroute equivalents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should I replac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member the sideba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? HCA? Cable? Switch port? Switch car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ll I get better (any?) support if I’m ru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vendor stack(s)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the latest OFE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closing comment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research group uses our Infiniband cluster heavi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nuous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two years and count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Infiniband interconnect has had fewer total failures than our expensive, enterprise-grade GigE switch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raes@deshaw.co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61800" y="1447920"/>
            <a:ext cx="8477280" cy="533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eaf switches and core switches and cables, oh my!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2057400"/>
            <a:ext cx="1523880" cy="914400"/>
            <a:chOff x="1143000" y="2057400"/>
            <a:chExt cx="1523880" cy="914400"/>
          </a:xfrm>
        </p:grpSpPr>
        <p:sp>
          <p:nvSpPr>
            <p:cNvPr id="189" name=""/>
            <p:cNvSpPr/>
            <p:nvPr/>
          </p:nvSpPr>
          <p:spPr>
            <a:xfrm>
              <a:off x="11430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200400" y="2057400"/>
            <a:ext cx="1523880" cy="914400"/>
            <a:chOff x="3200400" y="2057400"/>
            <a:chExt cx="1523880" cy="914400"/>
          </a:xfrm>
        </p:grpSpPr>
        <p:sp>
          <p:nvSpPr>
            <p:cNvPr id="192" name=""/>
            <p:cNvSpPr/>
            <p:nvPr/>
          </p:nvSpPr>
          <p:spPr>
            <a:xfrm>
              <a:off x="32004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800600" y="4495680"/>
            <a:ext cx="190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86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2286000"/>
            <a:ext cx="190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10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37160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19320" y="297144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8128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599840" y="29718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28800" y="297180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86200" y="297180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5480" y="3809880"/>
            <a:ext cx="1523880" cy="533520"/>
            <a:chOff x="2895480" y="3809880"/>
            <a:chExt cx="1523880" cy="533520"/>
          </a:xfrm>
        </p:grpSpPr>
        <p:sp>
          <p:nvSpPr>
            <p:cNvPr id="203" name=""/>
            <p:cNvSpPr/>
            <p:nvPr/>
          </p:nvSpPr>
          <p:spPr>
            <a:xfrm>
              <a:off x="2895480" y="380988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1800" y="392760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43000" y="4876920"/>
            <a:ext cx="152388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91796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47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23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00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76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52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51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810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057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33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09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844800"/>
            <a:ext cx="1523880" cy="533520"/>
            <a:chOff x="1143000" y="3844800"/>
            <a:chExt cx="1523880" cy="533520"/>
          </a:xfrm>
        </p:grpSpPr>
        <p:sp>
          <p:nvSpPr>
            <p:cNvPr id="220" name=""/>
            <p:cNvSpPr/>
            <p:nvPr/>
          </p:nvSpPr>
          <p:spPr>
            <a:xfrm>
              <a:off x="1143000" y="384480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19320" y="39625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895480" y="4876920"/>
            <a:ext cx="152424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4917960"/>
            <a:ext cx="1447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00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52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812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33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86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62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038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600200"/>
            <a:ext cx="7772400" cy="4343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major challenge in Molecular Biochemistry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coded the geno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most protein structu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what most proteins d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ch ones interact with which other o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is the “wiring diagram” o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 express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gnal transduct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abolic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how everything fits together into a working syste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335240"/>
            <a:ext cx="8457840" cy="1675800"/>
            <a:chOff x="380880" y="1335240"/>
            <a:chExt cx="8457840" cy="1675800"/>
          </a:xfrm>
        </p:grpSpPr>
        <p:sp>
          <p:nvSpPr>
            <p:cNvPr id="103" name=""/>
            <p:cNvSpPr/>
            <p:nvPr/>
          </p:nvSpPr>
          <p:spPr>
            <a:xfrm>
              <a:off x="380880" y="187776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9320" y="148716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7099560" y="133524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636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27520"/>
            <a:ext cx="6781680" cy="2310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ute the trajectories of all atoms in a chem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5,000+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1  m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quires 1 f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47242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715000"/>
            <a:ext cx="4038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ears on the fastest current supercomputers &amp;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3505320"/>
            <a:ext cx="8457840" cy="1675800"/>
            <a:chOff x="380880" y="3505320"/>
            <a:chExt cx="8457840" cy="1675800"/>
          </a:xfrm>
        </p:grpSpPr>
        <p:sp>
          <p:nvSpPr>
            <p:cNvPr id="111" name=""/>
            <p:cNvSpPr/>
            <p:nvPr/>
          </p:nvSpPr>
          <p:spPr>
            <a:xfrm>
              <a:off x="380880" y="404784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9320" y="365724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7099560" y="350532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3721320"/>
            <a:ext cx="6781680" cy="1461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th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time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=&gt;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66720" y="1371600"/>
            <a:ext cx="8477280" cy="5486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ing a specialized supercomputer (Anton, ISCA2007, Shaw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ormously parallel architect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sed on special-purpose AS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amatically faster for MD, but less flexi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jected completion: 200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ble t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ntional clusters (Desmond, SC2006, Bowers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own machin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le to very large # of processing el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ur Strateg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82296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8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267080"/>
            <a:ext cx="82296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038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hy RDMA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day: Low-latency, high-bandwidth interconnect for parallel simul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morrow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 bandwidth interconnect for sto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-latency, high-bandwidth interconnect for parallel analys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1455840"/>
            <a:ext cx="421776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Each process in parall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forces (if own the midpoint of the pa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Export fo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m forces for particles in home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new positions for homebox parti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mport updated positions for particles in import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040" y="1596960"/>
            <a:ext cx="4122720" cy="41227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7840" y="2282760"/>
            <a:ext cx="2747880" cy="2751120"/>
          </a:xfrm>
          <a:custGeom>
            <a:avLst/>
            <a:gdLst>
              <a:gd name="textAreaLeft" fmla="*/ 225000 w 2747880"/>
              <a:gd name="textAreaRight" fmla="*/ 2522880 w 2747880"/>
              <a:gd name="textAreaTop" fmla="*/ 225000 h 2751120"/>
              <a:gd name="textAreaBottom" fmla="*/ 2526120 h 2751120"/>
            </a:gdLst>
            <a:ahLst/>
            <a:rect l="textAreaLeft" t="textAreaTop" r="textAreaRight" b="textAreaBottom"/>
            <a:pathLst>
              <a:path w="21600" h="21625">
                <a:moveTo>
                  <a:pt x="6046" y="0"/>
                </a:moveTo>
                <a:arcTo wR="6046" hR="6046" stAng="16200000" swAng="-5400000"/>
                <a:lnTo>
                  <a:pt x="0" y="15579"/>
                </a:lnTo>
                <a:arcTo wR="6046" hR="6046" stAng="10800000" swAng="-5400000"/>
                <a:lnTo>
                  <a:pt x="15554" y="21625"/>
                </a:lnTo>
                <a:arcTo wR="6046" hR="6046" stAng="5400000" swAng="-5400000"/>
                <a:lnTo>
                  <a:pt x="21600" y="6046"/>
                </a:lnTo>
                <a:arcTo wR="6046" hR="6046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66880" y="2971800"/>
            <a:ext cx="1373040" cy="1373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040" y="297180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434484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992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6688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3311640"/>
            <a:ext cx="228600" cy="6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2600" y="3311640"/>
            <a:ext cx="1138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95640"/>
            <a:ext cx="682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24000" y="3539880"/>
            <a:ext cx="136692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09840" y="462132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2560" y="3716280"/>
            <a:ext cx="1144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6560" y="36003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38600" y="33717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5480" y="3887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1280" y="526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6840" y="2562120"/>
            <a:ext cx="13240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14760" y="296856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85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6840" y="2562120"/>
            <a:ext cx="18576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2720" y="2443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87820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3200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asic MD simulation step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arallel MD simulation using RDMA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5254560" y="1608120"/>
            <a:ext cx="34909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iterative exchange patterns, two sets of send and receive buffers are enough to guarantee that send and receive buffers are alway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d and receive buffers are fixed and registered before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e sender knows all the receiver’s receive buffers and use them altern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8520" y="1682640"/>
          <a:ext cx="4570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682640"/>
                    <a:ext cx="4570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73040" y="5022720"/>
            <a:ext cx="3767040" cy="91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with the Verbs interface.  RDMA writes are used (faster than RDMA read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1477"/>
          <a:stretch/>
        </p:blipFill>
        <p:spPr>
          <a:xfrm>
            <a:off x="914400" y="6858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960" y="6237360"/>
            <a:ext cx="796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s:  Kumar, Almasi, Huang et al. 2006; Fitch, Rayshubskiy, Eleftheriou et al.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3:07:44Z</dcterms:created>
  <dc:creator>Mark Moraes</dc:creator>
  <dc:description>OpenFabrics Sonoma 2007</dc:description>
  <dc:language>en-US</dc:language>
  <cp:lastModifiedBy>moraes</cp:lastModifiedBy>
  <dcterms:modified xsi:type="dcterms:W3CDTF">2007-05-01T14:52:55Z</dcterms:modified>
  <cp:revision>1711</cp:revision>
  <dc:subject/>
  <dc:title>Experience using Infiniband for Computational Chemistry</dc:title>
</cp:coreProperties>
</file>