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0F6-421C-4F47-B1A9-BD01C835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67A-2486-45E9-A0BE-332E1AA6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024-4C49-4F0F-8693-CE2F0F5F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53C-0BC6-4A2E-B02D-DE66E303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B61-E967-4DC6-A282-67AB404E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015-C814-41EE-A561-CC9322D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0F0-C1A0-457C-98D8-093BAAB7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4CB-65CD-4B29-A454-1778E4C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70D-7454-4BD0-A2C5-84AE273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0E9-E874-48C3-8BF4-C05E48F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BDA-50E9-4757-8F3A-C3AC610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FD4-B05B-4579-B15D-75EB746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496-106B-4C43-93C4-F5CE82F90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3FC-308F-42EA-ADE9-27E0A64D49F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SER Storage Targe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6553" r="60835" b="56859"/>
          <a:stretch/>
        </p:blipFill>
        <p:spPr>
          <a:xfrm>
            <a:off x="5715000" y="2819520"/>
            <a:ext cx="3276720" cy="104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Performance ra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DR Clients, one DDR Tar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0MB/s (close to PCIe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4 FC 4Gb Ports and Enterprise FC RAIDs as the back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DR Client, 2 Tar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MB/s (close to SDR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1560" y="1851120"/>
          <a:ext cx="7940880" cy="2340000"/>
        </p:xfrm>
        <a:graphic>
          <a:graphicData uri="http://schemas.openxmlformats.org/drawingml/2006/table">
            <a:tbl>
              <a:tblPr/>
              <a:tblGrid>
                <a:gridCol w="3899160"/>
                <a:gridCol w="1803240"/>
                <a:gridCol w="223848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roughpu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/O Response 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635 M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0.033 m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50% and Writes 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8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7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Write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42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3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3520" y="14320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SDR Client, 1 SDR Target, Native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41480"/>
            <a:ext cx="721836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–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t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to F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tection – mirroring,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torag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mmodity disk 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native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ervices avail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conStor IPStor with IB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65800" y="1538280"/>
            <a:ext cx="4754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FalconStor IPStor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InfiniBand added to hos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001000" cy="5073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91920" y="228600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iniBand / RD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1981080"/>
            <a:ext cx="1600200" cy="457200"/>
          </a:xfrm>
          <a:prstGeom prst="wedgeRoundRectCallout">
            <a:avLst>
              <a:gd name="adj1" fmla="val -224601"/>
              <a:gd name="adj2" fmla="val 54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ER Target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Sto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GUI, SNMP, and CLI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clients managed just like iSCSI cl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Stor supports both iSER and iSCSI/IPoIB seamles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2736720"/>
            <a:ext cx="5454720" cy="283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4336920"/>
            <a:ext cx="3313080" cy="221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05520" y="3803760"/>
            <a:ext cx="365760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 /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523880"/>
          <a:ext cx="8381880" cy="476568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5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S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– both gateway and target app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4u2 (RH5 end Apri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5.1 build 5182 or hig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 dr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 Study – Production Cust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atency network providing market data to variety of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low latency storage, with minim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commodity storage appliance enabled by software from Voltaire, Falcon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mirroring to protect from hardwar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RedHat Enterprise Servers (Targ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 8000 series AMD procs, Tyan 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x 750 GB SATA II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24 port Areca PCI Expr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x Voltaire DDR Infiniband dual por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today – box level fai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early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95280" y="28195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8195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13716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dund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1:08:20Z</dcterms:created>
  <dc:creator>Yaron Haviv</dc:creator>
  <dc:description/>
  <dc:language>en-US</dc:language>
  <cp:lastModifiedBy>Yaron Haviv</cp:lastModifiedBy>
  <dcterms:modified xsi:type="dcterms:W3CDTF">2007-05-01T21:15:57Z</dcterms:modified>
  <cp:revision>2</cp:revision>
  <dc:subject/>
  <dc:title>iSER Storage Target</dc:title>
</cp:coreProperties>
</file>