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2FB4-E1D1-438F-AD3E-DE89E09DD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A0E11-89BC-47A8-A5F8-13DE0725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ED1-CCBA-42C1-B62C-DC2E260387FE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penfabrics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ED Usage in VMware Virtual Infrastruct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28720" y="4978080"/>
            <a:ext cx="56390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Marie Merritt, V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, Mella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9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RP SAN Performance from V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83560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e as four dedicated 4Gb/s FC H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14209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705720" y="3276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8KB Read benchmarks from four 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040" y="392040"/>
            <a:ext cx="76456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Virtual Center Seamless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4080" y="1479600"/>
            <a:ext cx="58438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80880" y="170820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mh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2622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3613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3222720"/>
            <a:ext cx="5715000" cy="3068640"/>
            <a:chOff x="304920" y="3222720"/>
            <a:chExt cx="5715000" cy="306864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304920" y="3222720"/>
              <a:ext cx="571500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3809880" y="4604040"/>
              <a:ext cx="3049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3048120" y="414684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75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ware 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rther information please contact your VMware account t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in VMware Communit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Compon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in ESX kernel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components fit in VMware E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onsolidation value pro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Center management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 VMware Community Sourc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with OFED – one of the first projects in VMware community sour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evelopment by several InfiniBand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community-wide development and vendor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Infrastructure (ESX) based product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Components 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0560" y="1393920"/>
            <a:ext cx="7037280" cy="49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78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Enablement in E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97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Linux based drivers used as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, IPoIB and SRP (SCSI RDMA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and Network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regular NIC or H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otion i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nagement agent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from OpenFabrics Allia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enfabrics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2.6.19 kernel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50000" y="4189320"/>
            <a:ext cx="2828880" cy="200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035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llen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X Linux API is based on a 2.4 Linux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the 2.4 APIs a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2.4 APIs are slightly different in E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il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management for networking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60" y="272880"/>
            <a:ext cx="75582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ments or Optim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153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X kerne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pinlock implementation for network and storag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ment to VMkernel loader to export Linux-like symb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PI for network driver to access internal VSwitc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SI command with multiple scatter list of 512-byte aligne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ther opti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driv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layer to map Linux 2.6 APIs to Linux 2.4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heap mechanism to support shared memory between InfiniB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new API by network driver for seamless VMo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working with multiple QPs for different VMs and 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was modified to support the ESX N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ne SCSI host and net device per PCI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840" y="264960"/>
            <a:ext cx="78598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with Virtual Infrastru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7692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parent to VMs and Vir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3240" y="1508040"/>
            <a:ext cx="7337520" cy="41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48320" y="2435400"/>
            <a:ext cx="4038480" cy="228600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80" y="290160"/>
            <a:ext cx="81723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M Transparent Server I/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&amp; Conso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435400"/>
            <a:ext cx="3809880" cy="228600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576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irtualization L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4280" y="4111560"/>
            <a:ext cx="7596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" y="4111560"/>
            <a:ext cx="0" cy="53352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00" y="4187880"/>
            <a:ext cx="45720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5480" y="4492800"/>
            <a:ext cx="30492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30400" y="4111560"/>
            <a:ext cx="546120" cy="533160"/>
            <a:chOff x="1130400" y="4111560"/>
            <a:chExt cx="546120" cy="533160"/>
          </a:xfrm>
        </p:grpSpPr>
        <p:sp>
          <p:nvSpPr>
            <p:cNvPr id="123" name=""/>
            <p:cNvSpPr/>
            <p:nvPr/>
          </p:nvSpPr>
          <p:spPr>
            <a:xfrm>
              <a:off x="113040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1932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63560" y="4111560"/>
            <a:ext cx="546120" cy="533160"/>
            <a:chOff x="1663560" y="4111560"/>
            <a:chExt cx="546120" cy="533160"/>
          </a:xfrm>
        </p:grpSpPr>
        <p:sp>
          <p:nvSpPr>
            <p:cNvPr id="128" name=""/>
            <p:cNvSpPr/>
            <p:nvPr/>
          </p:nvSpPr>
          <p:spPr>
            <a:xfrm>
              <a:off x="166356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476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197080" y="4111560"/>
            <a:ext cx="546120" cy="533160"/>
            <a:chOff x="2197080" y="4111560"/>
            <a:chExt cx="546120" cy="533160"/>
          </a:xfrm>
        </p:grpSpPr>
        <p:sp>
          <p:nvSpPr>
            <p:cNvPr id="133" name=""/>
            <p:cNvSpPr/>
            <p:nvPr/>
          </p:nvSpPr>
          <p:spPr>
            <a:xfrm>
              <a:off x="219708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46240" y="4111560"/>
            <a:ext cx="546120" cy="533520"/>
            <a:chOff x="2946240" y="4111560"/>
            <a:chExt cx="546120" cy="533520"/>
          </a:xfrm>
        </p:grpSpPr>
        <p:sp>
          <p:nvSpPr>
            <p:cNvPr id="138" name=""/>
            <p:cNvSpPr/>
            <p:nvPr/>
          </p:nvSpPr>
          <p:spPr>
            <a:xfrm>
              <a:off x="3035160" y="4187880"/>
              <a:ext cx="4572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87440" y="4492800"/>
              <a:ext cx="30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6240" y="4111560"/>
              <a:ext cx="7596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5160" y="4111560"/>
              <a:ext cx="0" cy="53352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92360" y="4111560"/>
            <a:ext cx="546120" cy="533520"/>
            <a:chOff x="3492360" y="4111560"/>
            <a:chExt cx="546120" cy="533520"/>
          </a:xfrm>
        </p:grpSpPr>
        <p:sp>
          <p:nvSpPr>
            <p:cNvPr id="143" name=""/>
            <p:cNvSpPr/>
            <p:nvPr/>
          </p:nvSpPr>
          <p:spPr>
            <a:xfrm>
              <a:off x="3581280" y="4187880"/>
              <a:ext cx="4572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560" y="4492800"/>
              <a:ext cx="30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2360" y="4111560"/>
              <a:ext cx="7596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4111560"/>
              <a:ext cx="0" cy="53352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18788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18788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82960"/>
            <a:ext cx="0" cy="304920"/>
          </a:xfrm>
          <a:prstGeom prst="line">
            <a:avLst/>
          </a:prstGeom>
          <a:ln w="3816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882960"/>
            <a:ext cx="0" cy="304920"/>
          </a:xfrm>
          <a:prstGeom prst="line">
            <a:avLst/>
          </a:prstGeom>
          <a:ln w="3816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425760"/>
            <a:ext cx="3809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irtualization L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6160" y="3959280"/>
            <a:ext cx="0" cy="304920"/>
          </a:xfrm>
          <a:prstGeom prst="line">
            <a:avLst/>
          </a:prstGeom>
          <a:ln w="7632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34016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797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ypical Deployme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0760" y="3959280"/>
            <a:ext cx="0" cy="304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43880" y="3959280"/>
            <a:ext cx="0" cy="304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53400" y="3959280"/>
            <a:ext cx="0" cy="304920"/>
          </a:xfrm>
          <a:prstGeom prst="line">
            <a:avLst/>
          </a:prstGeom>
          <a:ln w="7632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071600" y="299520"/>
            <a:ext cx="924120" cy="3124080"/>
          </a:xfrm>
          <a:custGeom>
            <a:avLst/>
            <a:gdLst>
              <a:gd name="textAreaLeft" fmla="*/ 123840 w 924120"/>
              <a:gd name="textAreaRight" fmla="*/ 800280 w 924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ecff">
                  <a:alpha val="60392"/>
                </a:srgbClr>
              </a:gs>
              <a:gs pos="100000">
                <a:srgbClr val="5e6c75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4264200"/>
            <a:ext cx="6192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9160" y="4329000"/>
            <a:ext cx="563760" cy="262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23000" y="4591080"/>
            <a:ext cx="439920" cy="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99160" y="4264200"/>
            <a:ext cx="0" cy="45720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797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With Mellanox InfiniBand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43888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3X networking, ~10X SA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597204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 adapter performance.  Based on comparisons with GigE and 2 Gb/s Fibr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ujal</cp:lastModifiedBy>
  <dcterms:modified xsi:type="dcterms:W3CDTF">2007-04-30T16:50:29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