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72CE-5F9A-44D2-A96C-25F52012AFDC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High Availability through  the Linux bonding driver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4952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Gerli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erlitz@voltair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PoIB HW addr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by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yte  - supported IB transports (bitm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bytes – the UD QP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bytes – the IB port GID (made of an eight bytes subnet prefix &amp; eight bytes port GU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UID is unique and has to be distinct from the view point of the 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P is a resource allocated by the HCA and is always distin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bonding driver chang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enslave devices whose HW address can’t be assigned from the out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the bond HW address is the one of the active 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enslave devices whose ether type is no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PHRD_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override som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her_set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tings with the slave on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ther type, broadcast addr, HW addr len, HW header len, neighbour setu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PoIB HW address - revisite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UD L2 address is made of AH &amp; Q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he 20 bytes H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ighb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ress exposed by ipoib to the stack is not what the driver really u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 uses a two layer neighboring scheme, such that for ea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uct neighb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re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uct ipoib_ne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d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 install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ighbo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up callback used to fre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poib_nei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dd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PoIB driver chang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bonding neighbours are created on behalf of the bond device, hence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under bonding the ipoib neighbour destructor can’t 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-&gt;d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ipoib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dd pointer to the devic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uct ipoib_nei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use this pointer in the cleanup fu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nding/IPoIB changes -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: the bond HW address is the one of the active sl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the slave doesn’t support assig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: override som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her_set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ttings with the slave o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the slave is no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PHRD_ET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ointer to the device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uct ipoib_ne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use this pointer in the cleanup fu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stream p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ur cleanup after slave module u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a bonding fail over packet xmit over the new active slave, which happens before the old slave flushed the ipoib neighb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ld and deprecated user tool nam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ensla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, which can be now replaced by a script using the bonding sysfs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onding driver background / concep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onding driver high availability mo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onding IPoIB devices – stat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slaves requirement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for a bo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abling High-Availability for native IB ULP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onding IPoIB devices – code chang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 HW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ing drive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 HW address -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 drive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ding driver 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nd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aster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vice tha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slav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ther devic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ocal system/st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ddressing, routing, multicast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teract only with the bond de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nding supports both HA and LB, we focus on H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pat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ivers/net/b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 pat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cumentation/networking/bonding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ding driver HA m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Active-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 has one active slave, applies link detection mechanisms to trigger fail-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HW (L2) address is used for the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the one of the first slave, which is then assigned to the other slave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ding HA mode – cont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detection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: uses the carrier bit of the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validation: implemented through an ARP target to which probes are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-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 sends a Broadcast Gratuitous AR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iginally to update the Ethernet switches tab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 does a “replay” of multicast j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ding of IPoIB devices -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hanges were required in the bonding driver and some in the ipoib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 changes – patch set passed two review cycles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td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 changes – patch accepted to OFED 1.2 –some issues pending for upstream p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issues still per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 is integrated into OFED 1.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slaves requirements for a bo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 must be of the same ether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’t bond ipoib and non-ipoib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 must use the same partition (V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’t bond ib0.8003 with ib1.8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 can be of different mode (UD vs 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laves MTU must be normal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-availability for native IB U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 provides HA at the Link (L2)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ally, layer separation means that TCP sessions should not break, but they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failure would cause the IB RC session of a native IB ULP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DP, RDS, iSER, Lustre, rNF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ing allows for a new session to be established immediat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 ipoib is the IB stack [rdma_cm] ARP provide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 on the ULP, this session breakage may not be even seen by the us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nding/IPoIB code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Allan Torres</cp:lastModifiedBy>
  <dcterms:modified xsi:type="dcterms:W3CDTF">2007-05-01T18:04:32Z</dcterms:modified>
  <cp:revision>28</cp:revision>
  <dc:subject/>
  <dc:title>Slide 1</dc:title>
</cp:coreProperties>
</file>