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292-6AF4-46CD-933B-998CD36E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25F-1A5E-44F8-89DB-AAC43769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C1F-0355-413D-AEBC-522874B8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400-56EC-4B4D-8355-8EFA12CF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34BB-9E72-4025-BC1E-07DC81BC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F4EF-9D3C-4A21-A757-6D2673D2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942A-33B4-4BBD-8A8C-E69C2F13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CADD-66D0-42A9-A8F3-7C874C67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F114-6506-402D-9977-D3BBFDCB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BDEC-A8C5-40EA-A3A1-13D6521D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AE4C-71FD-4A40-A10E-AB59C663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4CB-AC06-4834-8707-25FB671A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8EE4-6B06-46E2-9C15-ED543D86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AD9F-CAE4-47A2-88B0-DD78B73B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C144-985B-4B27-B004-92F32CFA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064A-055C-45ED-A452-2CF21C21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418F-8645-4277-946E-EB57F086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A55-9CB0-46C8-BBB3-FB5A8781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CC2-05CA-4CDD-A63C-0FCFE223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118-7E70-4E02-9C76-10C69B82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8EE-D402-4156-BD10-3EE4A87F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306-1EF7-411B-B580-694B5E10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F03-1E3B-48BC-9124-6B578CA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B2D-BE36-40B0-8086-2D3B509A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noma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379A-1E04-4029-8D1C-6D62E5EA2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0960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336666"/>
                </a:solidFill>
                <a:latin typeface="Arial"/>
              </a:rPr>
              <a:t>Click to edit the title text format</a:t>
            </a:r>
            <a:endParaRPr b="1" i="1" lang="en-US" sz="4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1DC-DD8B-4928-BAE7-810A8F281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32000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ystem Integrators View of Cluster Too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ern Systems are an aggregation of components from multiple vendo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ystem Integrator provides the customer with a single point of contact with the responsibility for the on time delivery and performance for the entire syste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ystem Integrator passes on as much risk as possible to component vendo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stem Integrator still retains the overall responsibility to the customer for the on-time delivery and performance of the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ystem Integrators Role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r Vendors are also integrators for Infiniband and GbE hardwa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computer vendors don’t manufacturer all of the interconnect componen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y need the same tools as an integrator to configure, install, test, and operate network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r Vendors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FP - Defines the require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al - Design that addresses th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Gener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and Instal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Generation Tools ( Generate Topology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Verification Tools ( Use Topology F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ptanc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Verific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Monitoring and Failure Detec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Isol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Verific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ystem Life Cycle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support for more flexible topolog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R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P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ive Ro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han Fat-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Network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3:46:17Z</dcterms:created>
  <dc:creator>James Ballew</dc:creator>
  <dc:description/>
  <dc:language>en-US</dc:language>
  <cp:lastModifiedBy>James Ballew</cp:lastModifiedBy>
  <dcterms:modified xsi:type="dcterms:W3CDTF">2007-05-01T21:08:44Z</dcterms:modified>
  <cp:revision>5</cp:revision>
  <dc:subject/>
  <dc:title>Slide 1</dc:title>
</cp:coreProperties>
</file>