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329A-0FA8-4CAB-B155-24B165A3DA9D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finiBand Routing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olution Approach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1532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 Haviv, CTO, Vol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h@voltair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614920" y="1981080"/>
            <a:ext cx="3046320" cy="175284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2760" y="1905120"/>
            <a:ext cx="3014640" cy="175248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 To The Other Sub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7804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364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1156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168560" y="297144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8296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876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8284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90876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82316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29928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679800" y="29714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679800" y="2514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6131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34348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63440" y="2895480"/>
            <a:ext cx="1535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70520" y="2590920"/>
            <a:ext cx="914400" cy="533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9716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5240" y="1600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463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961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7840" y="4238640"/>
            <a:ext cx="944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93680" y="469116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63760" y="502920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0920" y="582768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0920" y="5421240"/>
            <a:ext cx="1225800" cy="3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9720" y="387972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Router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7440" y="43610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78080" y="471816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68800" y="50576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42120" y="5508720"/>
            <a:ext cx="22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83080" y="6234120"/>
            <a:ext cx="314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19640" y="591192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nd Bac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: Getting to the rou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host side rout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E2E path attributes per remote IB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manually or part of a future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ths may be indicated for HA or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 requests to remote GIDs like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ID Prefix &lt;&gt; local find router DGID from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router DGID to IB path (LID etc.) via SM or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ride E2E path attributes such as MTU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24080" y="5181480"/>
          <a:ext cx="5410440" cy="1095120"/>
        </p:xfrm>
        <a:graphic>
          <a:graphicData uri="http://schemas.openxmlformats.org/drawingml/2006/table">
            <a:tbl>
              <a:tblPr/>
              <a:tblGrid>
                <a:gridCol w="1189080"/>
                <a:gridCol w="1082880"/>
                <a:gridCol w="1515960"/>
                <a:gridCol w="649440"/>
                <a:gridCol w="97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t G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l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Ro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.*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1.2.3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.*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1.2.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1295280" y="54864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ample Host Routin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: Router next 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maintains a routing table (similar to the host table), maps incoming packets to relevant egress p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43000" y="2743200"/>
            <a:ext cx="6338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: Router to De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step 2, except routing table resolved dynamic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se of a DGID lookup failure issue a local SA request and store the pac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intain a sync copy of the SA path 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: Getting 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client by conducting a reverse lookup (based on SG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CM Rep messages or ARP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changes in the spec and the current CM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 &amp; Multi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on a router failure path need to be updated with the new router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calable notification mechanism to h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RRP way doesn’t work in IB since there is no MAC faking (a node cannot just take someone else's GID/MAC), need an equivalent IB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outers may be placed between sub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VRRP like Active-Active configuration (each host “sees” a different primary rou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hosts see all paths and can load-balance across (similar to the LMC appro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ing &amp; QK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n IB Partition represent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 key is an L4 value representing a group of services that communica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can be in the same “IP” subne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needs to know &amp; approve connectivity between different services (by specifying the same PKey/Q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Subnet = F ( Pkey &amp; IB Sub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router may or may not perform IP routing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subnets may be local (use link local M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typically communicated/detected between router and 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U problems, Unreachable, router failure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need to be implemented for reporting errors to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P1 seems to be the only option (global &amp; uni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MADs would need to be for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onsider “multicast” or unacked MADs, can also address the router take-over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Yaron Haviv</cp:lastModifiedBy>
  <dcterms:modified xsi:type="dcterms:W3CDTF">2007-05-01T21:22:44Z</dcterms:modified>
  <cp:revision>26</cp:revision>
  <dc:subject/>
  <dc:title>Slide 1</dc:title>
</cp:coreProperties>
</file>