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06B1E-40E3-4D68-9F39-02BE03B3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AEB4-7EE0-4F63-AE41-031B9FB678D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33:11Z</dcterms:modified>
  <cp:revision>34</cp:revision>
  <dc:subject/>
  <dc:title>Operational and Application Experiences with the Infiniband Environment</dc:title>
</cp:coreProperties>
</file>