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6F01-B009-407A-B7CA-76753C101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04F0-A8AB-42CE-B2DE-81F3C32C8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A63F-3BC6-4EE0-A494-8B4DD0DE58E4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FED 1.2 Lessons, 1.3 Planning and Field Suppor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4830840"/>
            <a:ext cx="5639040" cy="1342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ziporet K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- User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ibverbs 1.2: Was presented by R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verb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le Reliable Connected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Send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Multic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– iWA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-specific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-specific async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 for MPA options (CRC/Mark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 for streaming mode IO (needed for compliant iS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other ULPs (RDS, SDP, iS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– New HW Suppo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lanox – ConnectX IB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eatures - M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the new MPI releases that are on time for OFED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Relea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freeze: Aug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ha: Aug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: Sep 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1: Sep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2: Oct 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3: Oct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: Oct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System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A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86, x86_64, PPC64, ia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.org: kernel 2.6.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 S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4 (up4 and up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distros (Fedora, SuSE Pro, Ubunt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esting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process similar to OFED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inder: All mails should be send to ewg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-weekly meetings on Mondays 9am P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you are invited  to participate to influence and con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FED 1.2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.3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eld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is not a support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hould come from the O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– developers give good answers on the general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WG maintains a support page (on Wiki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ches for critical bug 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for various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we do minor rele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2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2 – What Went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agreement on features and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up on bi-weekly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collaboration between all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ve to 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aintainer has its own git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OFA 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compila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package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ccess to git trees and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 of all to the install &amp;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tas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bugz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2 – What to Impr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o account first integration ef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 between code freeze to 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with IB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QoS did not make it to OFED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 Changes must be done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default changes at the end caus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Ms package was not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ils regarding the release must be sent to EWG list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big cluster fo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FED 1.2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el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- Gener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kernel: 2.6.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integration effort into OS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packages RP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Novell and Red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arrangement for the end u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pilation 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oS: OSM, CM &amp; CMA, UL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: Updated SA cache; User space events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– U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oIB: NAPI; CM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S over RDMA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R for RH EL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S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P: Asynch IO (Zero Cop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P: HA in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outing performanc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more speed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packaging/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” daem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Servic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IBTA annex soon to be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SM Mayb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IPv6 solicited node multicast (SNM)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groups share same M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” IBA 1.2.1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Description changed trap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 local even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tziporet</cp:lastModifiedBy>
  <dcterms:modified xsi:type="dcterms:W3CDTF">2007-05-02T18:35:40Z</dcterms:modified>
  <cp:revision>2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