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41B1-A1D2-4DE6-8035-300C834766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6AEA-51C8-44E6-B547-AC22670A83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A150-7E5B-4E1D-BAFD-A53C59481B9B}" type="slidenum">
              <a:rPr b="1" lang="ar-SA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FED Testing Sess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it Krig &amp; Nimrod G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lanox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er from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Interoperabilit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’ve done since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Large Cluste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er from SC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Task-Force with following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y the reporting method of all OFA companies with relation to the testing of OFED re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OFA member companies to report all issues found during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ULP testing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tests with 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ED Interoperability 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event held at UNH IOL labs (April-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-IWG members are encouraged to contribute equipment for the new test cluster at UNH IOL (including storage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laned Interoperability event was held prior to OFED releases (issues reported to O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ng the interoperability procedure as defined by IWG should remain a criteria for next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’ve done since SC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223640"/>
            <a:ext cx="3794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Test 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vendor started to use it in OFED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pdate is being sent out for each release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ing the reports during the weekly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19920" y="1224000"/>
            <a:ext cx="3009960" cy="239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19920" y="3900600"/>
            <a:ext cx="30099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824440" y="2484360"/>
            <a:ext cx="1109520" cy="3075120"/>
            <a:chOff x="5824440" y="2484360"/>
            <a:chExt cx="1109520" cy="3075120"/>
          </a:xfrm>
        </p:grpSpPr>
        <p:sp>
          <p:nvSpPr>
            <p:cNvPr id="109" name=""/>
            <p:cNvSpPr/>
            <p:nvPr/>
          </p:nvSpPr>
          <p:spPr>
            <a:xfrm flipV="1">
              <a:off x="5824440" y="2484360"/>
              <a:ext cx="1109520" cy="12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24440" y="3666960"/>
              <a:ext cx="880920" cy="18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24440" y="3691080"/>
              <a:ext cx="72864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824440" y="3428640"/>
              <a:ext cx="88092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946680" y="1125360"/>
            <a:ext cx="1844640" cy="5123160"/>
            <a:chOff x="3946680" y="1125360"/>
            <a:chExt cx="1844640" cy="512316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4132440" y="1282680"/>
              <a:ext cx="15573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946680" y="1125360"/>
              <a:ext cx="155736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4208400" y="5119560"/>
              <a:ext cx="1557360" cy="11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4233960" y="3846600"/>
              <a:ext cx="153180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7"/>
            <a:stretch/>
          </p:blipFill>
          <p:spPr>
            <a:xfrm>
              <a:off x="4233960" y="2543040"/>
              <a:ext cx="155736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8"/>
            <a:stretch/>
          </p:blipFill>
          <p:spPr>
            <a:xfrm>
              <a:off x="3946680" y="3672000"/>
              <a:ext cx="15573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9"/>
            <a:stretch/>
          </p:blipFill>
          <p:spPr>
            <a:xfrm>
              <a:off x="3971880" y="4854600"/>
              <a:ext cx="15321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0"/>
            <a:stretch/>
          </p:blipFill>
          <p:spPr>
            <a:xfrm>
              <a:off x="3946680" y="2359080"/>
              <a:ext cx="1557360" cy="11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’ve done since SC06…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Testing Efficienc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test/applications knowledge sharing by using the sam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quality and reduce the testing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force held synchronization meeting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a regular test Sync up on testing status towards a release should b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defined a qualifying owner for each ULP and made it part of the testi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ED Large Cluster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(with no change from SC06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ficial reports are based on testing of smal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release: Establish a large beta-site testing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quality/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 acceptable cluster tes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o real InfiniBand tes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few unsupported tests in the Old IB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eatures should have a testing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lans, standard applications &amp; topologies should be shared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verification subgroups should be fo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IBM</cp:lastModifiedBy>
  <dcterms:modified xsi:type="dcterms:W3CDTF">2007-05-02T15:32:27Z</dcterms:modified>
  <cp:revision>1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