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HailstenHeavy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HailstenHeavy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HailstenHeavy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HailstenHeav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HailstenHeav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HailstenHeavy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HailstenHeavy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HailstenHeavy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HailstenHeavy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HailstenHeavy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5896080"/>
            <a:ext cx="9144000" cy="9619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1600200"/>
            <a:ext cx="9144000" cy="4443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HailstenHeavy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Hailsten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Hailst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Hailst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Hailst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Font typeface="Hailst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Fourth Outline Level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  <a:p>
            <a:pPr lvl="4" marL="2057400" indent="-228600">
              <a:spcBef>
                <a:spcPts val="601"/>
              </a:spcBef>
              <a:buClr>
                <a:srgbClr val="003366"/>
              </a:buClr>
              <a:buFont typeface="Hailste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Fifth Outline Level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ailste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Sixth Outline Level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ailste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Seventh Outline Level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6705720" y="6337440"/>
            <a:ext cx="1981080" cy="4442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8953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6667560" y="6343560"/>
            <a:ext cx="2057400" cy="47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76720" y="2644560"/>
            <a:ext cx="5486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HailstenHeavy"/>
              </a:rPr>
              <a:t>Interconnect Trends in High Productivity Computing</a:t>
            </a:r>
            <a:endParaRPr b="0" lang="en-US" sz="3200" spc="-1" strike="noStrike">
              <a:solidFill>
                <a:srgbClr val="003366"/>
              </a:solidFill>
              <a:latin typeface="HailstenHeavy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920" y="5028840"/>
            <a:ext cx="8686800" cy="7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Actionable Market Intelligence for High Productivity Computing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2209680" cy="1539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19520" y="193680"/>
            <a:ext cx="6324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Hailsten"/>
              </a:rPr>
              <a:t>Addison Snell, VP/GM, </a:t>
            </a:r>
            <a:r>
              <a:rPr b="0" i="1" lang="en-US" sz="1800" spc="-1" strike="noStrike">
                <a:solidFill>
                  <a:srgbClr val="ccccff"/>
                </a:solidFill>
                <a:latin typeface="Hailsten"/>
              </a:rPr>
              <a:t>addison@TaborResearch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18160"/>
            <a:ext cx="1828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Hailsten"/>
              </a:rPr>
              <a:t>April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76720" y="2644560"/>
            <a:ext cx="5486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HailstenHeavy"/>
              </a:rPr>
              <a:t>Interconnect Trends in High Productivity Computing</a:t>
            </a:r>
            <a:endParaRPr b="0" lang="en-US" sz="3200" spc="-1" strike="noStrike">
              <a:solidFill>
                <a:srgbClr val="003366"/>
              </a:solidFill>
              <a:latin typeface="HailstenHeavy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04920" y="5028840"/>
            <a:ext cx="8686800" cy="7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Actionable Market Intelligence for High Productivity Computing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2209680" cy="1539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819520" y="193680"/>
            <a:ext cx="6324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Hailsten"/>
              </a:rPr>
              <a:t>Addison Snell, VP/GM, </a:t>
            </a:r>
            <a:r>
              <a:rPr b="0" i="1" lang="en-US" sz="1800" spc="-1" strike="noStrike">
                <a:solidFill>
                  <a:srgbClr val="ccccff"/>
                </a:solidFill>
                <a:latin typeface="Hailsten"/>
              </a:rPr>
              <a:t>addison@TaborResearch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518160"/>
            <a:ext cx="1828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Hailsten"/>
              </a:rPr>
              <a:t>April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HailstenHeavy"/>
              </a:rPr>
              <a:t>Tabor: “High Productivity Computing”</a:t>
            </a:r>
            <a:endParaRPr b="0" lang="en-US" sz="3200" spc="-1" strike="noStrike">
              <a:solidFill>
                <a:srgbClr val="003366"/>
              </a:solidFill>
              <a:latin typeface="HailstenHeav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2895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Hailst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Productivity analysis studies: How do users define and measure productivity?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Hailst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Site census studies: How do users configure their systems over time?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Hailst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Budget maps: What are the components of TCO?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Hailst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New online Productivity Analysis Tool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</p:txBody>
      </p:sp>
      <p:sp>
        <p:nvSpPr>
          <p:cNvPr id="50" name=""/>
          <p:cNvSpPr/>
          <p:nvPr/>
        </p:nvSpPr>
        <p:spPr>
          <a:xfrm>
            <a:off x="792000" y="1906920"/>
            <a:ext cx="7561440" cy="9140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ailsten"/>
              </a:rPr>
              <a:t>Tabor Research is studying how HPC transcends price/performance and server sa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HailstenHeavy"/>
              </a:rPr>
              <a:t>Expanding Technology Contexts in HPC</a:t>
            </a:r>
            <a:endParaRPr b="0" lang="en-US" sz="3200" spc="-1" strike="noStrike">
              <a:solidFill>
                <a:srgbClr val="003366"/>
              </a:solidFill>
              <a:latin typeface="HailstenHeavy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3366"/>
              </a:buClr>
              <a:buFont typeface="Hailst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Technology differentiation pushed outside the server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Font typeface="Hailst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HPC systems are no longer “self-contained”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Font typeface="Hailst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Interconnects, processors, OS, storage all may come from different vendors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Font typeface="Hailst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Only a third of HPC budget goes to the server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Font typeface="Hailst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A third goes to other products and services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Font typeface="Hailst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Remaining third to facilities, staffing: much of facilities spending is “NIB”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Font typeface="Hailst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Network spending is about 10% of hardware (not including bundled system interconnect)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HailstenHeavy"/>
              </a:rPr>
              <a:t>Expanding Usage Contexts in HPC</a:t>
            </a:r>
            <a:endParaRPr b="0" lang="en-US" sz="3200" spc="-1" strike="noStrike">
              <a:solidFill>
                <a:srgbClr val="003366"/>
              </a:solidFill>
              <a:latin typeface="HailstenHeavy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66"/>
              </a:buClr>
              <a:buFont typeface="Hailst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Tabor Research is doing a study on </a:t>
            </a:r>
            <a:r>
              <a:rPr b="1" lang="en-US" sz="2400" spc="-1" strike="noStrike">
                <a:solidFill>
                  <a:srgbClr val="003366"/>
                </a:solidFill>
                <a:latin typeface="Hailsten"/>
              </a:rPr>
              <a:t>“Edge HPC”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Font typeface="Hailst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HPC technology or application profiles outside the traditional areas of engineering, science, analytics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Font typeface="Hailst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Hailsten"/>
              </a:rPr>
              <a:t>Complex event processing:</a:t>
            </a: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 Wide-scale, sensor-based, event-driven, real-time or near real-time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Font typeface="Hailst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Hailsten"/>
              </a:rPr>
              <a:t>Organization optimization:</a:t>
            </a: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 BI, data mining, logistics, inventory / supply chain management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Font typeface="Hailst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Hailsten"/>
              </a:rPr>
              <a:t>Virtual environments:</a:t>
            </a: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 Online games, Second Life, “augmented reality,” virtual economies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Font typeface="Hailst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Hailsten"/>
              </a:rPr>
              <a:t>Ultra-scale:</a:t>
            </a: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 Other usage of supercomputers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HailstenHeavy"/>
              </a:rPr>
              <a:t>System (Node-to-Node) Interconnects</a:t>
            </a:r>
            <a:endParaRPr b="0" lang="en-US" sz="3200" spc="-1" strike="noStrike">
              <a:solidFill>
                <a:srgbClr val="003366"/>
              </a:solidFill>
              <a:latin typeface="HailstenHeav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Data from Tabor Research HPC Site Census: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Hailst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Almost even thirds distribution between Ethernet, Infiniband, and other high-end cluster interconnects (Myrinet, Quadrics)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Hailst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Almost no 10GbE as system fabrics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Hailst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Infiniband seems to have had more impact on Ethernet than other high-end interconnects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Hailst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Average 200 nodes/system (SMP = 1 node)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Hailst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Data skewed a bit towards academic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HailstenHeavy"/>
              </a:rPr>
              <a:t>LAN (Compute Room) Interconnects</a:t>
            </a:r>
            <a:endParaRPr b="0" lang="en-US" sz="3200" spc="-1" strike="noStrike">
              <a:solidFill>
                <a:srgbClr val="003366"/>
              </a:solidFill>
              <a:latin typeface="HailstenHeavy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Data from Tabor Research HPC Site Census: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Font typeface="Hailst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Ethernet dominates as LAN fabric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Font typeface="Hailst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Almost a third of Ethernet LANs have at least some 10GbE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Font typeface="Hailst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10GbE outnumbers Infiniband by two-to-one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Font typeface="Hailst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Very little usage of anything other than Ethernet or Infiniband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Font typeface="Hailst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Some mentions of wireless, FC, Myrinet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Font typeface="Hailst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Here Infiniband seems to have taken over from fast non-Ethernet technologies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HailstenHeavy"/>
              </a:rPr>
              <a:t>Storage Interconnects</a:t>
            </a:r>
            <a:endParaRPr b="0" lang="en-US" sz="3200" spc="-1" strike="noStrike">
              <a:solidFill>
                <a:srgbClr val="003366"/>
              </a:solidFill>
              <a:latin typeface="HailstenHeav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Data from Tabor Comprehensive Research Study: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Hailst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Over one-third of HPC users implement IB as a storage interconnect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Hailst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More common as storage infrastructure grows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Hailst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Native IB protocol most common, followed closely by FC, with SATA a distant third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Hailst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IB also most common implementation of RDMA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Hailst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On average, users place 25%-30% premium value on doubling the storage bandwidth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HailstenHeavy"/>
              </a:rPr>
              <a:t>Other Thoughts</a:t>
            </a:r>
            <a:endParaRPr b="0" lang="en-US" sz="3200" spc="-1" strike="noStrike">
              <a:solidFill>
                <a:srgbClr val="003366"/>
              </a:solidFill>
              <a:latin typeface="HailstenHeavy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3366"/>
              </a:buClr>
              <a:buFont typeface="Hailst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Converged Fabric Strategies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Font typeface="Hailst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About a third are “likely” to implement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Font typeface="Hailst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Despite Ethernet position in LAN, much more likely to consider converged fabric on Infiniband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  <a:p>
            <a:pPr marL="318960" indent="-318960">
              <a:spcBef>
                <a:spcPts val="601"/>
              </a:spcBef>
              <a:buClr>
                <a:srgbClr val="003366"/>
              </a:buClr>
              <a:buFont typeface="Hailst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Impact of multi-core at low end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Font typeface="Hailst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In the near term, could create interest in SMP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Font typeface="Hailst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Is MPI equipped to handle new level of parallelism at the socket?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Font typeface="Hailst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Will changes in workload management or job scheduling create new interconnect requirements?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HailstenHeavy"/>
              </a:rPr>
              <a:t>Interested in Tabor Research?</a:t>
            </a:r>
            <a:endParaRPr b="0" lang="en-US" sz="3200" spc="-1" strike="noStrike">
              <a:solidFill>
                <a:srgbClr val="003366"/>
              </a:solidFill>
              <a:latin typeface="HailstenHeav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Hailst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Please, help us in our research efforts!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Hailst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Join the HPC User Views Advisory Council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Hailst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Access to research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Hailst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ailsten"/>
              </a:rPr>
              <a:t>Rewards for participation</a:t>
            </a:r>
            <a:endParaRPr b="0" lang="en-US" sz="2400" spc="-1" strike="noStrike">
              <a:solidFill>
                <a:srgbClr val="003366"/>
              </a:solidFill>
              <a:latin typeface="Hailste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371600" y="3809880"/>
            <a:ext cx="632448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20:02:19Z</dcterms:created>
  <dc:creator>Isaac Lopez</dc:creator>
  <dc:description/>
  <dc:language>en-US</dc:language>
  <cp:lastModifiedBy>Jim Ryan</cp:lastModifiedBy>
  <dcterms:modified xsi:type="dcterms:W3CDTF">2008-04-08T15:04:50Z</dcterms:modified>
  <cp:revision>202</cp:revision>
  <dc:subject/>
  <dc:title>TABOR COMMUNICATIONS, INC. Providing solutions for the HPC and Grid Communities </dc:title>
</cp:coreProperties>
</file>