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20.png" ContentType="image/png"/>
  <Override PartName="/ppt/media/image36.jpeg" ContentType="image/jpeg"/>
  <Override PartName="/ppt/media/image40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4.png" ContentType="image/png"/>
  <Override PartName="/ppt/media/image37.png" ContentType="image/png"/>
  <Override PartName="/ppt/media/image41.png" ContentType="image/png"/>
  <Override PartName="/ppt/media/image1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3D8D-83B1-44FA-9C4E-B8963F7C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24B5-7379-4120-B3E6-6E851103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CB13-CCFB-48BA-962C-DF5CB351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3A83-7EF8-4CE4-ADDF-8501AC3F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BBC4-423A-4027-9810-6F926957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2F6A3-AB9D-4668-9CB5-B9DEA3C8B9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3BCD8-A256-4CEF-9480-B88A9C87A7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9BB7A-E8C8-48C0-9E3A-642091F696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CEF1C-13AB-48F3-88CB-DDCA2B58DD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42919-3F43-4586-9EE5-BDF4AD3497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6A03-5914-4449-9CB4-582DD41D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C738F-6362-49FF-BA2D-BE555EAE3F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D2F59-7F4C-49D8-80A7-D82C4404EC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5F965-4FD4-4293-8C0F-92AF7ECDDE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C96D7-F195-4381-B817-9F5996F530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9542D-7D44-4300-919C-71FA2F332D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F5329-B8DD-4485-A7A6-CD1C719038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88B81-2B46-493B-B84D-120D2174B3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8674-A6BF-46D8-85EC-C7BB855B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C60C-025D-46E5-83DA-25926B7D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7842-989A-4FDA-A289-2E57AA50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5EAC-2368-4DE6-81ED-94A71531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C778-C90F-40D0-BFF5-37191ADB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EC87-2DE1-4FA5-A1A6-E879FB25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350200" y="6261120"/>
            <a:ext cx="555840" cy="43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38120" y="6550200"/>
            <a:ext cx="3873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7EC3-D1BA-40EE-9469-9D98024872F5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836640" y="6550200"/>
            <a:ext cx="11145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072D-108B-4DF3-B672-2E4B29E749F7}" type="datetime3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996920" y="6550200"/>
            <a:ext cx="535968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5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838760"/>
            <a:ext cx="9151920" cy="799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ftr" idx="4"/>
          </p:nvPr>
        </p:nvSpPr>
        <p:spPr>
          <a:xfrm>
            <a:off x="1996920" y="6638400"/>
            <a:ext cx="535968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b7b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b7b7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7b7b79"/>
              </a:buClr>
              <a:buSzPct val="90000"/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7b7b79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7b7b79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401760" y="6638400"/>
            <a:ext cx="761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27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b7b7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CAFE-EEC5-47DE-A207-5DA7D5BD6DBF}" type="slidenum">
              <a:rPr b="0" lang="en-US" sz="1200" spc="-1" strike="noStrike">
                <a:solidFill>
                  <a:srgbClr val="7b7b79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0" r="6854" b="0"/>
          <a:stretch/>
        </p:blipFill>
        <p:spPr>
          <a:xfrm>
            <a:off x="8575560" y="6454800"/>
            <a:ext cx="419040" cy="355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398160" y="0"/>
            <a:ext cx="85834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1360" y="274680"/>
            <a:ext cx="532296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28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4848120"/>
            <a:ext cx="8217000" cy="790560"/>
          </a:xfrm>
          <a:custGeom>
            <a:avLst/>
            <a:gdLst/>
            <a:ahLst/>
            <a:rect l="l" t="t" r="r" b="b"/>
            <a:pathLst>
              <a:path w="2578" h="249">
                <a:moveTo>
                  <a:pt x="6" y="231"/>
                </a:moveTo>
                <a:cubicBezTo>
                  <a:pt x="63" y="231"/>
                  <a:pt x="107" y="183"/>
                  <a:pt x="107" y="124"/>
                </a:cubicBezTo>
                <a:cubicBezTo>
                  <a:pt x="107" y="65"/>
                  <a:pt x="63" y="17"/>
                  <a:pt x="6" y="17"/>
                </a:cubicBezTo>
                <a:cubicBezTo>
                  <a:pt x="4" y="17"/>
                  <a:pt x="2" y="17"/>
                  <a:pt x="0" y="17"/>
                </a:cubicBezTo>
                <a:cubicBezTo>
                  <a:pt x="5" y="0"/>
                  <a:pt x="5" y="0"/>
                  <a:pt x="5" y="0"/>
                </a:cubicBezTo>
                <a:cubicBezTo>
                  <a:pt x="233" y="0"/>
                  <a:pt x="2578" y="0"/>
                  <a:pt x="2578" y="0"/>
                </a:cubicBezTo>
                <a:cubicBezTo>
                  <a:pt x="2578" y="249"/>
                  <a:pt x="2578" y="249"/>
                  <a:pt x="2578" y="249"/>
                </a:cubicBezTo>
                <a:cubicBezTo>
                  <a:pt x="2345" y="249"/>
                  <a:pt x="0" y="249"/>
                  <a:pt x="0" y="249"/>
                </a:cubicBezTo>
                <a:cubicBezTo>
                  <a:pt x="6" y="231"/>
                  <a:pt x="6" y="231"/>
                  <a:pt x="6" y="2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5320" y="4848120"/>
            <a:ext cx="568440" cy="790560"/>
            <a:chOff x="625320" y="4848120"/>
            <a:chExt cx="568440" cy="790560"/>
          </a:xfrm>
        </p:grpSpPr>
        <p:sp>
          <p:nvSpPr>
            <p:cNvPr id="131" name=""/>
            <p:cNvSpPr/>
            <p:nvPr/>
          </p:nvSpPr>
          <p:spPr>
            <a:xfrm>
              <a:off x="797040" y="5086440"/>
              <a:ext cx="396720" cy="552240"/>
            </a:xfrm>
            <a:custGeom>
              <a:avLst/>
              <a:gdLst/>
              <a:ahLst/>
              <a:rect l="l" t="t" r="r" b="b"/>
              <a:pathLst>
                <a:path w="125" h="174">
                  <a:moveTo>
                    <a:pt x="105" y="0"/>
                  </a:moveTo>
                  <a:cubicBezTo>
                    <a:pt x="62" y="0"/>
                    <a:pt x="62" y="0"/>
                    <a:pt x="62" y="0"/>
                  </a:cubicBezTo>
                  <a:cubicBezTo>
                    <a:pt x="0" y="174"/>
                    <a:pt x="0" y="174"/>
                    <a:pt x="0" y="174"/>
                  </a:cubicBezTo>
                  <a:cubicBezTo>
                    <a:pt x="27" y="174"/>
                    <a:pt x="27" y="174"/>
                    <a:pt x="27" y="174"/>
                  </a:cubicBezTo>
                  <a:cubicBezTo>
                    <a:pt x="53" y="100"/>
                    <a:pt x="53" y="100"/>
                    <a:pt x="53" y="100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85" y="100"/>
                    <a:pt x="93" y="98"/>
                    <a:pt x="96" y="89"/>
                  </a:cubicBezTo>
                  <a:cubicBezTo>
                    <a:pt x="99" y="80"/>
                    <a:pt x="116" y="34"/>
                    <a:pt x="120" y="20"/>
                  </a:cubicBezTo>
                  <a:cubicBezTo>
                    <a:pt x="125" y="6"/>
                    <a:pt x="114" y="0"/>
                    <a:pt x="105" y="0"/>
                  </a:cubicBezTo>
                  <a:close/>
                  <a:moveTo>
                    <a:pt x="71" y="86"/>
                  </a:moveTo>
                  <a:cubicBezTo>
                    <a:pt x="58" y="86"/>
                    <a:pt x="58" y="86"/>
                    <a:pt x="58" y="86"/>
                  </a:cubicBezTo>
                  <a:cubicBezTo>
                    <a:pt x="83" y="15"/>
                    <a:pt x="83" y="15"/>
                    <a:pt x="83" y="15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71" y="86"/>
                    <a:pt x="71" y="86"/>
                    <a:pt x="71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5320" y="4848120"/>
              <a:ext cx="304920" cy="54612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92" y="97"/>
                  </a:moveTo>
                  <a:cubicBezTo>
                    <a:pt x="66" y="172"/>
                    <a:pt x="66" y="172"/>
                    <a:pt x="66" y="172"/>
                  </a:cubicBezTo>
                  <a:cubicBezTo>
                    <a:pt x="40" y="172"/>
                    <a:pt x="40" y="172"/>
                    <a:pt x="40" y="172"/>
                  </a:cubicBezTo>
                  <a:cubicBezTo>
                    <a:pt x="68" y="90"/>
                    <a:pt x="68" y="90"/>
                    <a:pt x="68" y="90"/>
                  </a:cubicBezTo>
                  <a:cubicBezTo>
                    <a:pt x="55" y="90"/>
                    <a:pt x="55" y="90"/>
                    <a:pt x="55" y="90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60" y="75"/>
                    <a:pt x="60" y="75"/>
                    <a:pt x="60" y="75"/>
                  </a:cubicBezTo>
                  <a:cubicBezTo>
                    <a:pt x="78" y="75"/>
                    <a:pt x="78" y="75"/>
                    <a:pt x="78" y="75"/>
                  </a:cubicBezTo>
                  <a:cubicBezTo>
                    <a:pt x="90" y="75"/>
                    <a:pt x="96" y="86"/>
                    <a:pt x="92" y="9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0" y="4848120"/>
            <a:ext cx="774720" cy="790560"/>
          </a:xfrm>
          <a:custGeom>
            <a:avLst/>
            <a:gdLst/>
            <a:ahLst/>
            <a:rect l="l" t="t" r="r" b="b"/>
            <a:pathLst>
              <a:path w="254" h="249">
                <a:moveTo>
                  <a:pt x="25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49"/>
                  <a:pt x="0" y="249"/>
                  <a:pt x="0" y="249"/>
                </a:cubicBezTo>
                <a:cubicBezTo>
                  <a:pt x="246" y="249"/>
                  <a:pt x="246" y="249"/>
                  <a:pt x="246" y="249"/>
                </a:cubicBezTo>
                <a:cubicBezTo>
                  <a:pt x="254" y="229"/>
                  <a:pt x="254" y="229"/>
                  <a:pt x="254" y="229"/>
                </a:cubicBezTo>
                <a:cubicBezTo>
                  <a:pt x="208" y="219"/>
                  <a:pt x="175" y="175"/>
                  <a:pt x="175" y="122"/>
                </a:cubicBezTo>
                <a:cubicBezTo>
                  <a:pt x="175" y="73"/>
                  <a:pt x="204" y="32"/>
                  <a:pt x="245" y="18"/>
                </a:cubicBezTo>
                <a:cubicBezTo>
                  <a:pt x="251" y="0"/>
                  <a:pt x="251" y="0"/>
                  <a:pt x="25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hyperlink" Target="http://www.esi-group.com/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hyperlink" Target="http://www.utexas.edu/" TargetMode="External"/><Relationship Id="rId17" Type="http://schemas.openxmlformats.org/officeDocument/2006/relationships/image" Target="../media/image17.png"/><Relationship Id="rId18" Type="http://schemas.openxmlformats.org/officeDocument/2006/relationships/hyperlink" Target="http://www.utexas.edu/" TargetMode="External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jpeg"/><Relationship Id="rId25" Type="http://schemas.openxmlformats.org/officeDocument/2006/relationships/image" Target="../media/image23.png"/><Relationship Id="rId26" Type="http://schemas.openxmlformats.org/officeDocument/2006/relationships/image" Target="../media/image24.png"/><Relationship Id="rId27" Type="http://schemas.openxmlformats.org/officeDocument/2006/relationships/image" Target="../media/image25.png"/><Relationship Id="rId28" Type="http://schemas.openxmlformats.org/officeDocument/2006/relationships/image" Target="../media/image26.png"/><Relationship Id="rId29" Type="http://schemas.openxmlformats.org/officeDocument/2006/relationships/image" Target="../media/image27.wmf"/><Relationship Id="rId30" Type="http://schemas.openxmlformats.org/officeDocument/2006/relationships/image" Target="../media/image28.png"/><Relationship Id="rId31" Type="http://schemas.openxmlformats.org/officeDocument/2006/relationships/hyperlink" Target="http://en.opensuse.org/Welcome_to_openSUSE.org" TargetMode="External"/><Relationship Id="rId32" Type="http://schemas.openxmlformats.org/officeDocument/2006/relationships/image" Target="../media/image29.png"/><Relationship Id="rId33" Type="http://schemas.openxmlformats.org/officeDocument/2006/relationships/image" Target="../media/image30.jpeg"/><Relationship Id="rId34" Type="http://schemas.openxmlformats.org/officeDocument/2006/relationships/image" Target="../media/image31.png"/><Relationship Id="rId35" Type="http://schemas.openxmlformats.org/officeDocument/2006/relationships/image" Target="../media/image32.png"/><Relationship Id="rId36" Type="http://schemas.openxmlformats.org/officeDocument/2006/relationships/image" Target="../media/image33.jpeg"/><Relationship Id="rId37" Type="http://schemas.openxmlformats.org/officeDocument/2006/relationships/image" Target="../media/image34.png"/><Relationship Id="rId38" Type="http://schemas.openxmlformats.org/officeDocument/2006/relationships/image" Target="../media/image35.jpeg"/><Relationship Id="rId39" Type="http://schemas.openxmlformats.org/officeDocument/2006/relationships/image" Target="../media/image36.jpeg"/><Relationship Id="rId40" Type="http://schemas.openxmlformats.org/officeDocument/2006/relationships/oleObject" Target="../embeddings/oleObject1.bin"/><Relationship Id="rId41" Type="http://schemas.openxmlformats.org/officeDocument/2006/relationships/image" Target="../media/image37.png"/><Relationship Id="rId42" Type="http://schemas.openxmlformats.org/officeDocument/2006/relationships/image" Target="../media/image38.png"/><Relationship Id="rId43" Type="http://schemas.openxmlformats.org/officeDocument/2006/relationships/image" Target="../media/image39.jpeg"/><Relationship Id="rId44" Type="http://schemas.openxmlformats.org/officeDocument/2006/relationships/image" Target="../media/image40.png"/><Relationship Id="rId45" Type="http://schemas.openxmlformats.org/officeDocument/2006/relationships/image" Target="../media/image41.png"/><Relationship Id="rId4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1000" y="297000"/>
            <a:ext cx="4551480" cy="22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HP-MPI 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71" name=""/>
          <p:cNvSpPr/>
          <p:nvPr/>
        </p:nvSpPr>
        <p:spPr>
          <a:xfrm>
            <a:off x="503280" y="2948040"/>
            <a:ext cx="18702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Changqing Tang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Senior Engineer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Apr. 8, 2008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sc. Features (cont.)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Dynamic processes over OFE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ngleton MPI Proces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A HP-MPI, where no teardown if partial ranks exi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F77A-64CA-4FDB-903E-2E1B199072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5195787-02EF-4E4C-9517-2E44D709C4C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Features Available Soon in 2.3 Releas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nyway, OFED 1.4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WARP support via rdma_cm + verb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n-demand connec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PV6 suppor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ulti-path IB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3474-2415-4BB5-8111-798266EBE2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D7521A4-AD59-4B41-8B59-4BD1F5884AD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Binary Compatibl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-MPI is not open source, and always dlopen() libibverbs.so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e already have 1.0 and 1.1 code compiled against each version of header fil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e detect the version on system and use the appropriate code vers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6785-2B25-4EA8-8291-DE1FFE7E09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EFEA333-2BB1-42F0-B1FB-D481D1A13FE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Reliable Datagram (RD)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D with complicated logic to implement on-demand connection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D will simplify MPI cod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DS can benefit from i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ure there are other wide-range usage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682C-6DEC-42D9-BA92-45D3B34707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1AD7CDD-E94E-43C8-921D-F75F9841B75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Reliable Multi-cas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mplify MPI collective implementa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mprove MPI collective performanc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5C32-767B-4129-B65C-3608B553B6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57797AB-3E29-477F-8F4F-2FF2EC95CB2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SA/OpenSM featur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 rank can query the port lid on remote node, with knowing the GUID of the remote HCA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ommunication path query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Path Recovery Notifica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se to implement network recovery in MPI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4E09-1B4C-4BAA-869B-EEAF8C6E279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E33FA2F-45CA-4A38-B246-5D4885C87E0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ulti-fabrics suppor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sed in non-stop system 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-MPI needs different subnet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P-bonding not work on two subnet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1" name=""/>
          <p:cNvSpPr/>
          <p:nvPr/>
        </p:nvSpPr>
        <p:spPr>
          <a:xfrm>
            <a:off x="2108160" y="4829040"/>
            <a:ext cx="1389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2" name=""/>
          <p:cNvSpPr/>
          <p:nvPr/>
        </p:nvSpPr>
        <p:spPr>
          <a:xfrm>
            <a:off x="2563920" y="3591000"/>
            <a:ext cx="843840" cy="477000"/>
          </a:xfrm>
          <a:prstGeom prst="ellipse">
            <a:avLst/>
          </a:prstGeom>
          <a:solidFill>
            <a:srgbClr val="cbc9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W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3" name=""/>
          <p:cNvSpPr/>
          <p:nvPr/>
        </p:nvSpPr>
        <p:spPr>
          <a:xfrm>
            <a:off x="4910400" y="3560760"/>
            <a:ext cx="843840" cy="477000"/>
          </a:xfrm>
          <a:prstGeom prst="ellipse">
            <a:avLst/>
          </a:prstGeom>
          <a:solidFill>
            <a:srgbClr val="cbc9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W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4" name=""/>
          <p:cNvSpPr/>
          <p:nvPr/>
        </p:nvSpPr>
        <p:spPr>
          <a:xfrm>
            <a:off x="1558440" y="565560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5" name=""/>
          <p:cNvSpPr/>
          <p:nvPr/>
        </p:nvSpPr>
        <p:spPr>
          <a:xfrm>
            <a:off x="2194920" y="564624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6" name=""/>
          <p:cNvSpPr/>
          <p:nvPr/>
        </p:nvSpPr>
        <p:spPr>
          <a:xfrm>
            <a:off x="3187080" y="561600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7" name=""/>
          <p:cNvSpPr/>
          <p:nvPr/>
        </p:nvSpPr>
        <p:spPr>
          <a:xfrm>
            <a:off x="3835080" y="56080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3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8" name=""/>
          <p:cNvSpPr/>
          <p:nvPr/>
        </p:nvSpPr>
        <p:spPr>
          <a:xfrm>
            <a:off x="4654080" y="56098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4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9" name=""/>
          <p:cNvSpPr/>
          <p:nvPr/>
        </p:nvSpPr>
        <p:spPr>
          <a:xfrm>
            <a:off x="5225400" y="56206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5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0" name=""/>
          <p:cNvSpPr/>
          <p:nvPr/>
        </p:nvSpPr>
        <p:spPr>
          <a:xfrm>
            <a:off x="6260760" y="560160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6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1" name=""/>
          <p:cNvSpPr/>
          <p:nvPr/>
        </p:nvSpPr>
        <p:spPr>
          <a:xfrm>
            <a:off x="7048080" y="55936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7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657440" y="4012920"/>
            <a:ext cx="1108080" cy="162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313000" y="4033440"/>
            <a:ext cx="569880" cy="159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055680" y="4022640"/>
            <a:ext cx="245880" cy="157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3119040" y="4056120"/>
            <a:ext cx="817560" cy="152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216240" y="3990960"/>
            <a:ext cx="1549440" cy="160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3259080" y="3936600"/>
            <a:ext cx="2076480" cy="166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335040" y="3916440"/>
            <a:ext cx="3011400" cy="166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355920" y="3839760"/>
            <a:ext cx="3797280" cy="17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846440" y="3957480"/>
            <a:ext cx="3236760" cy="167832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06680" y="3970080"/>
            <a:ext cx="2657520" cy="165564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506760" y="3970080"/>
            <a:ext cx="1808280" cy="162396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110120" y="3936960"/>
            <a:ext cx="1268280" cy="165744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37040" y="3948120"/>
            <a:ext cx="463680" cy="165744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420880" y="3948120"/>
            <a:ext cx="96840" cy="166680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540040" y="3958920"/>
            <a:ext cx="1011240" cy="162396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605200" y="3916440"/>
            <a:ext cx="1741320" cy="166680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8" name=""/>
          <p:cNvSpPr/>
          <p:nvPr/>
        </p:nvSpPr>
        <p:spPr>
          <a:xfrm>
            <a:off x="3056040" y="3321000"/>
            <a:ext cx="2139840" cy="282600"/>
          </a:xfrm>
          <a:custGeom>
            <a:avLst/>
            <a:gdLst/>
            <a:ahLst/>
            <a:rect l="l" t="t" r="r" b="b"/>
            <a:pathLst>
              <a:path w="1348" h="178">
                <a:moveTo>
                  <a:pt x="0" y="178"/>
                </a:moveTo>
                <a:cubicBezTo>
                  <a:pt x="192" y="91"/>
                  <a:pt x="384" y="4"/>
                  <a:pt x="609" y="2"/>
                </a:cubicBezTo>
                <a:cubicBezTo>
                  <a:pt x="834" y="0"/>
                  <a:pt x="1224" y="136"/>
                  <a:pt x="1348" y="165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9" name=""/>
          <p:cNvSpPr/>
          <p:nvPr/>
        </p:nvSpPr>
        <p:spPr>
          <a:xfrm>
            <a:off x="3884760" y="29336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D28E-114A-4C58-9AD0-6FCD0AC146D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DD3ADC3-303E-426B-9C74-2DB75B3150D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ttp://www.hp.com/go/mpi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Question ?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7DD8-CE5F-4E2C-AB52-FD9B23443D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FF4B1FC-0ED6-47F4-86A7-E2D451F2502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Futura Lt"/>
              </a:rPr>
              <a:t>Back-up</a:t>
            </a:r>
            <a:endParaRPr b="0" lang="en-US" sz="40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-MPI in genera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FED support and feature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ish list for OFED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080B-54B7-4237-8F32-0885939BC1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7F753B6-11CD-43AC-B5FA-0617DB3B845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3224880" y="3884760"/>
            <a:ext cx="6015960" cy="2256840"/>
            <a:chOff x="3224880" y="3884760"/>
            <a:chExt cx="6015960" cy="2256840"/>
          </a:xfrm>
        </p:grpSpPr>
        <p:grpSp>
          <p:nvGrpSpPr>
            <p:cNvPr id="175" name=""/>
            <p:cNvGrpSpPr/>
            <p:nvPr/>
          </p:nvGrpSpPr>
          <p:grpSpPr>
            <a:xfrm>
              <a:off x="3436920" y="4216320"/>
              <a:ext cx="5716800" cy="1907640"/>
              <a:chOff x="3436920" y="4216320"/>
              <a:chExt cx="5716800" cy="1907640"/>
            </a:xfrm>
          </p:grpSpPr>
          <p:pic>
            <p:nvPicPr>
              <p:cNvPr id="1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5080" y="4654080"/>
                <a:ext cx="770400" cy="31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Powerful Solver Technology"/>
              <p:cNvPicPr/>
              <p:nvPr/>
            </p:nvPicPr>
            <p:blipFill>
              <a:blip r:embed="rId2"/>
              <a:stretch/>
            </p:blipFill>
            <p:spPr>
              <a:xfrm>
                <a:off x="5585040" y="4270680"/>
                <a:ext cx="1225440" cy="29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UGS, the PLM Company"/>
              <p:cNvPicPr/>
              <p:nvPr/>
            </p:nvPicPr>
            <p:blipFill>
              <a:blip r:embed="rId3"/>
              <a:stretch/>
            </p:blipFill>
            <p:spPr>
              <a:xfrm>
                <a:off x="7140600" y="5602320"/>
                <a:ext cx="552240" cy="51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385160" y="5226120"/>
                <a:ext cx="83268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8044920" y="4613760"/>
                <a:ext cx="804960" cy="39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525120" y="4313880"/>
                <a:ext cx="1017000" cy="20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108920" y="4641480"/>
                <a:ext cx="743040" cy="34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9"/>
              <a:srcRect l="0" t="10663" r="0" b="21327"/>
              <a:stretch/>
            </p:blipFill>
            <p:spPr>
              <a:xfrm>
                <a:off x="6303600" y="4642920"/>
                <a:ext cx="733320" cy="33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471480" y="5259240"/>
                <a:ext cx="76176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10240" y="5232600"/>
                <a:ext cx="636480" cy="30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682520" y="4216320"/>
                <a:ext cx="773640" cy="39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64200" y="4859280"/>
                <a:ext cx="36360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42920" y="5159520"/>
                <a:ext cx="777960" cy="44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066720" y="5597280"/>
                <a:ext cx="1000080" cy="526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0" name=""/>
              <p:cNvGrpSpPr/>
              <p:nvPr/>
            </p:nvGrpSpPr>
            <p:grpSpPr>
              <a:xfrm>
                <a:off x="7815240" y="5769360"/>
                <a:ext cx="1181520" cy="294480"/>
                <a:chOff x="7815240" y="5769360"/>
                <a:chExt cx="1181520" cy="294480"/>
              </a:xfrm>
            </p:grpSpPr>
            <p:pic>
              <p:nvPicPr>
                <p:cNvPr id="191" name="" descr="The University of Texas at Austin">
                  <a:hlinkClick r:id="rId16"/>
                </p:cNvPr>
                <p:cNvPicPr/>
                <p:nvPr/>
              </p:nvPicPr>
              <p:blipFill>
                <a:blip r:embed="rId17"/>
                <a:srcRect l="0" t="0" r="40160" b="0"/>
                <a:stretch/>
              </p:blipFill>
              <p:spPr>
                <a:xfrm>
                  <a:off x="7815240" y="5769360"/>
                  <a:ext cx="1181520" cy="18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" descr="The University of Texas at Austin">
                  <a:hlinkClick r:id="rId18"/>
                </p:cNvPr>
                <p:cNvPicPr/>
                <p:nvPr/>
              </p:nvPicPr>
              <p:blipFill>
                <a:blip r:embed="rId19"/>
                <a:srcRect l="59291" t="30976" r="0" b="0"/>
                <a:stretch/>
              </p:blipFill>
              <p:spPr>
                <a:xfrm>
                  <a:off x="8144280" y="5935680"/>
                  <a:ext cx="802800" cy="12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3" name=""/>
              <p:cNvGrpSpPr/>
              <p:nvPr/>
            </p:nvGrpSpPr>
            <p:grpSpPr>
              <a:xfrm>
                <a:off x="7907760" y="4988160"/>
                <a:ext cx="1245960" cy="871560"/>
                <a:chOff x="7907760" y="4988160"/>
                <a:chExt cx="1245960" cy="871560"/>
              </a:xfrm>
            </p:grpSpPr>
            <p:pic>
              <p:nvPicPr>
                <p:cNvPr id="194" name="" descr="Molpro logo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384400" y="4988160"/>
                  <a:ext cx="281160" cy="45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7907760" y="5446080"/>
                  <a:ext cx="1245960" cy="41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Futura Bk"/>
                    </a:rPr>
                    <a:t>Molpro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 Bk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Futura Bk"/>
                    </a:rPr>
                    <a:t>University of Cardiff</a:t>
                  </a:r>
                  <a:endParaRPr b="0" lang="en-US" sz="9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</p:grpSp>
          <p:pic>
            <p:nvPicPr>
              <p:cNvPr id="19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333040" y="4973040"/>
                <a:ext cx="739440" cy="24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563360" y="5683320"/>
                <a:ext cx="446400" cy="35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383440" y="5264280"/>
                <a:ext cx="922320" cy="2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205240" y="5688360"/>
                <a:ext cx="737640" cy="34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436920" y="5682240"/>
                <a:ext cx="1035000" cy="35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8085240" y="4248000"/>
                <a:ext cx="724680" cy="32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6936120" y="4280760"/>
                <a:ext cx="1061280" cy="23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3579120" y="4535280"/>
                <a:ext cx="734760" cy="552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4" name=""/>
            <p:cNvSpPr/>
            <p:nvPr/>
          </p:nvSpPr>
          <p:spPr>
            <a:xfrm>
              <a:off x="3416400" y="3890880"/>
              <a:ext cx="5700600" cy="2250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24880" y="3884760"/>
              <a:ext cx="601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ISVs Distributing HP-MPI on Industry-Standard Linux Cluster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90960" y="3884760"/>
            <a:ext cx="3048840" cy="1156680"/>
            <a:chOff x="390960" y="3884760"/>
            <a:chExt cx="3048840" cy="1156680"/>
          </a:xfrm>
        </p:grpSpPr>
        <p:sp>
          <p:nvSpPr>
            <p:cNvPr id="207" name=""/>
            <p:cNvSpPr/>
            <p:nvPr/>
          </p:nvSpPr>
          <p:spPr>
            <a:xfrm>
              <a:off x="493560" y="3890880"/>
              <a:ext cx="2840040" cy="115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0960" y="3884760"/>
              <a:ext cx="304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Supported Operating System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29"/>
            <a:srcRect l="0" t="0" r="37401" b="0"/>
            <a:stretch/>
          </p:blipFill>
          <p:spPr>
            <a:xfrm>
              <a:off x="2203200" y="4238640"/>
              <a:ext cx="912960" cy="40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Red Hat Home"/>
            <p:cNvPicPr/>
            <p:nvPr/>
          </p:nvPicPr>
          <p:blipFill>
            <a:blip r:embed="rId30"/>
            <a:stretch/>
          </p:blipFill>
          <p:spPr>
            <a:xfrm>
              <a:off x="674640" y="4295520"/>
              <a:ext cx="914400" cy="29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642960" y="4633920"/>
              <a:ext cx="666720" cy="362880"/>
              <a:chOff x="642960" y="4633920"/>
              <a:chExt cx="666720" cy="362880"/>
            </a:xfrm>
          </p:grpSpPr>
          <p:sp>
            <p:nvSpPr>
              <p:cNvPr id="212" name=""/>
              <p:cNvSpPr/>
              <p:nvPr/>
            </p:nvSpPr>
            <p:spPr>
              <a:xfrm>
                <a:off x="642960" y="4633920"/>
                <a:ext cx="666720" cy="36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213" name="" descr="Home">
                <a:hlinkClick r:id="rId31"/>
              </p:cNvPr>
              <p:cNvPicPr/>
              <p:nvPr/>
            </p:nvPicPr>
            <p:blipFill>
              <a:blip r:embed="rId32"/>
              <a:stretch/>
            </p:blipFill>
            <p:spPr>
              <a:xfrm>
                <a:off x="692280" y="4659120"/>
                <a:ext cx="525240" cy="33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4" name="" descr=""/>
            <p:cNvPicPr/>
            <p:nvPr/>
          </p:nvPicPr>
          <p:blipFill>
            <a:blip r:embed="rId33"/>
            <a:stretch/>
          </p:blipFill>
          <p:spPr>
            <a:xfrm>
              <a:off x="1728720" y="4597200"/>
              <a:ext cx="136836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492120" y="5126040"/>
            <a:ext cx="2838240" cy="1009440"/>
            <a:chOff x="492120" y="5126040"/>
            <a:chExt cx="2838240" cy="1009440"/>
          </a:xfrm>
        </p:grpSpPr>
        <p:sp>
          <p:nvSpPr>
            <p:cNvPr id="216" name=""/>
            <p:cNvSpPr/>
            <p:nvPr/>
          </p:nvSpPr>
          <p:spPr>
            <a:xfrm>
              <a:off x="492120" y="5132160"/>
              <a:ext cx="2838240" cy="1003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600" y="5126040"/>
              <a:ext cx="25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Supported Architecture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18" name="" descr="Intel® Xeon™ Processor"/>
            <p:cNvPicPr/>
            <p:nvPr/>
          </p:nvPicPr>
          <p:blipFill>
            <a:blip r:embed="rId34"/>
            <a:stretch/>
          </p:blipFill>
          <p:spPr>
            <a:xfrm>
              <a:off x="2512800" y="5472000"/>
              <a:ext cx="46692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35"/>
            <a:stretch/>
          </p:blipFill>
          <p:spPr>
            <a:xfrm>
              <a:off x="779400" y="5475240"/>
              <a:ext cx="46044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36"/>
            <a:stretch/>
          </p:blipFill>
          <p:spPr>
            <a:xfrm>
              <a:off x="1590480" y="5475240"/>
              <a:ext cx="527040" cy="57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490680" y="6215040"/>
            <a:ext cx="7829280" cy="654120"/>
            <a:chOff x="490680" y="6215040"/>
            <a:chExt cx="7829280" cy="654120"/>
          </a:xfrm>
        </p:grpSpPr>
        <p:sp>
          <p:nvSpPr>
            <p:cNvPr id="222" name=""/>
            <p:cNvSpPr/>
            <p:nvPr/>
          </p:nvSpPr>
          <p:spPr>
            <a:xfrm>
              <a:off x="571320" y="6245280"/>
              <a:ext cx="192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Supported Switche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23" name="" descr="Myricom logotype"/>
            <p:cNvPicPr/>
            <p:nvPr/>
          </p:nvPicPr>
          <p:blipFill>
            <a:blip r:embed="rId37"/>
            <a:stretch/>
          </p:blipFill>
          <p:spPr>
            <a:xfrm>
              <a:off x="6987960" y="6234120"/>
              <a:ext cx="115704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8"/>
            <a:stretch/>
          </p:blipFill>
          <p:spPr>
            <a:xfrm>
              <a:off x="2711160" y="6222960"/>
              <a:ext cx="4824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9"/>
            <a:stretch/>
          </p:blipFill>
          <p:spPr>
            <a:xfrm>
              <a:off x="5357520" y="6276960"/>
              <a:ext cx="1557000" cy="428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26" name=""/>
            <p:cNvGraphicFramePr/>
            <p:nvPr/>
          </p:nvGraphicFramePr>
          <p:xfrm>
            <a:off x="6524640" y="6592680"/>
            <a:ext cx="1656720" cy="228600"/>
          </p:xfrm>
          <a:graphic>
            <a:graphicData uri="http://schemas.openxmlformats.org/presentationml/2006/ole">
              <p:oleObj r:id="rId40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6524640" y="6592680"/>
                      <a:ext cx="1656720" cy="228600"/>
                    </a:xfrm>
                    <a:prstGeom prst="rect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228" name="" descr=""/>
            <p:cNvPicPr/>
            <p:nvPr/>
          </p:nvPicPr>
          <p:blipFill>
            <a:blip r:embed="rId42"/>
            <a:srcRect l="0" t="49330" r="66249" b="0"/>
            <a:stretch/>
          </p:blipFill>
          <p:spPr>
            <a:xfrm>
              <a:off x="1525320" y="6573600"/>
              <a:ext cx="9777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3"/>
            <a:stretch/>
          </p:blipFill>
          <p:spPr>
            <a:xfrm>
              <a:off x="3286080" y="6472080"/>
              <a:ext cx="103140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44"/>
            <a:stretch/>
          </p:blipFill>
          <p:spPr>
            <a:xfrm>
              <a:off x="4829040" y="6368760"/>
              <a:ext cx="718920" cy="5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90680" y="6215040"/>
              <a:ext cx="7829280" cy="645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45"/>
            <a:stretch/>
          </p:blipFill>
          <p:spPr>
            <a:xfrm>
              <a:off x="3878280" y="6232320"/>
              <a:ext cx="10090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7720" y="472680"/>
            <a:ext cx="8197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HP-MPI: Industry’s Standard Commercial High Performance MPI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52240" y="1600200"/>
            <a:ext cx="8272440" cy="2255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Portable, Robust, Fast, Supported, Available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vendor independent MPI optimized for all leading architectures, OSs, switches, applications (see below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Ideal for Customers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freely distributed by &gt;25 ISVs for industry-standard Linux clusters; for WindowCCS in 2007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for developers on in-house applications, HP-MPI licenses are included in XC operating environment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Ideal for Independent Software Vendors (ISVs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reduces platform test matrix; reduces customer complaints; supported by HP experts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8D27-1821-48C7-B4C5-6DFAB34278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B4BFB66-FF23-4087-92AE-582B4B93322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Interconnect Hardware Supported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Quadrics QsNe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yrinet  2G/10G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nfiniban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10 Gigabit Etherne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BA2F-9010-4C4C-8F35-5D0D7732AC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45830D2-95A3-4E01-B8A4-6A1CDFD8030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Interconnect Protocol Supported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HM – Shared-Memory Communication Within Nod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CP – TCP/IP On Every System, IPoIB, etc.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ELAN – Quadrics elan3 &amp; elan4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GM – legacy message-passing system for Myrinet networks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MX – Myrinet Express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SM – Pathscale Message on Qlogic IB hardwar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VAPI – Mellanox Infiniband Verbs API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BV – OFED Infiniband Verb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UDAPL – User Direct Access Programming Library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TAPI – Interconnect Transport API (HP-UX only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BAL – Infiniband Access Layer (Windows only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4A501-AC22-4138-9130-3196B09E53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D4DBBB0-0A00-42C7-8BB1-11ADC1D374C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HP-MPI Infiniband History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9600" y="1419120"/>
            <a:ext cx="827244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0  -- IT-API Infiniband on HP-UX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1  -- VAPI/uDAPL on Linux Infiniban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2.5 – OFED 1.0 and OFED 1.1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2.5.1 – OFED 1.2 plus 1.1 and 1.0, work with 1.2.5 and 1.3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2.7 – Come out this Apr., Support all OFED releases and all major features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3 – sync with OFED 1.4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48640" indent="0">
              <a:lnSpc>
                <a:spcPct val="7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ED1E-165A-4E0F-A816-B542146C27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BE9C1C4-9AA9-40A0-93E5-2341AD83A27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essage Transfer Protocol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DMA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nd/Receive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hared-Receiving-Queue (SRQ)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11BD-C001-42CA-A510-134B88BAE1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BAE71EA-1472-43CD-8F4D-9E674DD5973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sc. Feature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onnection Fail[over]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utomatic Path Migration (APM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essage Striping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B Partitioning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essage Coalescing in 2.2.7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HM/NIC/MIX mode within nod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4CD9-E386-4762-9BDD-6705AB1CB3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2134C12-4546-4D55-86C7-74A4D3992AD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sc. Features (cont.)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PU Binding – Rank, Cyclic, …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XRC support in 2.2.7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DAPL 2.0 support in 2.2.7 (1.1 and 1.2 as well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WARP support via uDAPL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ne-side operation using RDMA write/rea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Distributed lock/unlock using IB atomic operation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86E0-4F22-4948-821E-FB3F513F32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BAF1E53-3755-4CD8-A3A8-E38E265FA87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4:51:31Z</dcterms:created>
  <dc:creator> dave korf</dc:creator>
  <dc:description>This template was designed for users of PowerPoint 2000</dc:description>
  <cp:keywords>Template</cp:keywords>
  <dc:language>en-US</dc:language>
  <cp:lastModifiedBy>ctang</cp:lastModifiedBy>
  <dcterms:modified xsi:type="dcterms:W3CDTF">2008-04-08T18:24:47Z</dcterms:modified>
  <cp:revision>150</cp:revision>
  <dc:subject>HP Template</dc:subject>
  <dc:title>HP standard dark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