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42E6-B6B1-4883-95A0-F8E493688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745F-E9DC-4922-B9EA-15303FA96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5757-5171-404F-A2D9-60F21B121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BADE-355C-427F-BFDC-59E88C1DD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7680" y="14760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3684-C8D1-4F13-867A-C8CCC2505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627C-CDFD-4915-839B-209F730DA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DF4F-9208-40E0-ABC6-E314DAC49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97B5-79A3-4746-961D-340F0C433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680" y="14760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E76C-95FE-4340-B0AD-0F06FADEF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0B5D-A84B-48A7-BE48-249574C48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5D9A-BEE7-4361-A911-919A751C7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55C5-9C59-477A-BEC8-480158C19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9CA7-BCCE-4F40-B24F-CD541C40C254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649520" y="6548400"/>
            <a:ext cx="5874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7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S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15400" y="5586480"/>
            <a:ext cx="90792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a8a8"/>
            </a:gs>
            <a:gs pos="50000">
              <a:srgbClr val="ffffff"/>
            </a:gs>
            <a:gs pos="100000">
              <a:srgbClr val="a8a8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27800" y="2862360"/>
            <a:ext cx="2879640" cy="3379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8a8a8"/>
            </a:gs>
            <a:gs pos="50000">
              <a:srgbClr val="ffffff"/>
            </a:gs>
            <a:gs pos="100000">
              <a:srgbClr val="a8a8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0360" y="914400"/>
            <a:ext cx="428328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1A36-73DB-4AE2-8986-215D7FE6347D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will the specification Cover? (continued)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P_Keys are managed across multiple sub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lticast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ine forwarding through Ro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unication across multiple sub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ple paths for reliabil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ult Containment (Alternative Path Mechanism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tensions for Congestion Control maintain no drop policy within the current spe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oS across the wider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9FDC-122E-483B-B094-35C01F365D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the specification will not cove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Name server (e.g. DN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 does one get a GID in the first inst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a IB Router Port to a different fabric will fun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 ground r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uter port indicated by fla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ckets must be in or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6287-5036-475B-ADA8-EFC6666731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nies Working on the IB Router Specifica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s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llano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sidi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Log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ystem Fabric Work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oltai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you want to influence the specification join the IB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5C67-EFA2-457B-9CDD-A3C9DD58B8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ime Lin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raw-man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d April ’08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Phase Annex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ticipating Q1 ’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rther In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ww.infinibandta.or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B728-B886-4481-B86B-1C82E27D24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a8a8"/>
            </a:gs>
            <a:gs pos="50000">
              <a:srgbClr val="ffffff"/>
            </a:gs>
            <a:gs pos="100000">
              <a:srgbClr val="a8a8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finiBand Router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6520" y="3189240"/>
            <a:ext cx="5386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"/>
          <p:cNvSpPr/>
          <p:nvPr/>
        </p:nvSpPr>
        <p:spPr>
          <a:xfrm>
            <a:off x="622440" y="3089160"/>
            <a:ext cx="36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an Colloff : Q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WG Co-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 Routing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y Ro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 Routing Feat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will the specification co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the specification will not co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anies Working on the Specif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 Li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E324-DAE8-4F34-BDF5-DD91393E79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y IB Rout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tend the address space of an IB subn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ID is 128 bits vs 16 bit LID (local to a sub-n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 fault containment to a single subn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tection beyond P_Key enforc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itial goal however is to keep IB Router “dumb” for effici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 mechanisms for Long Haul link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y 1,000’s K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 to router communication can be on links other than I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0214-8F5F-46CA-BAB4-60E5E72E0E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mple Diagra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02280" y="846000"/>
            <a:ext cx="6060600" cy="5546520"/>
            <a:chOff x="1502280" y="846000"/>
            <a:chExt cx="6060600" cy="5546520"/>
          </a:xfrm>
        </p:grpSpPr>
        <p:sp>
          <p:nvSpPr>
            <p:cNvPr id="91" name=""/>
            <p:cNvSpPr/>
            <p:nvPr/>
          </p:nvSpPr>
          <p:spPr>
            <a:xfrm>
              <a:off x="1607760" y="3177000"/>
              <a:ext cx="2345040" cy="1568160"/>
            </a:xfrm>
            <a:custGeom>
              <a:avLst/>
              <a:gdLst/>
              <a:ahLst/>
              <a:rect l="l" t="t" r="r" b="b"/>
              <a:pathLst>
                <a:path w="3228" h="3004">
                  <a:moveTo>
                    <a:pt x="1355" y="411"/>
                  </a:moveTo>
                  <a:cubicBezTo>
                    <a:pt x="1674" y="309"/>
                    <a:pt x="1855" y="0"/>
                    <a:pt x="2068" y="55"/>
                  </a:cubicBezTo>
                  <a:cubicBezTo>
                    <a:pt x="2281" y="110"/>
                    <a:pt x="2441" y="544"/>
                    <a:pt x="2633" y="742"/>
                  </a:cubicBezTo>
                  <a:cubicBezTo>
                    <a:pt x="2825" y="940"/>
                    <a:pt x="3228" y="1093"/>
                    <a:pt x="3223" y="1240"/>
                  </a:cubicBezTo>
                  <a:cubicBezTo>
                    <a:pt x="3218" y="1387"/>
                    <a:pt x="2712" y="1435"/>
                    <a:pt x="2600" y="1627"/>
                  </a:cubicBezTo>
                  <a:cubicBezTo>
                    <a:pt x="2488" y="1819"/>
                    <a:pt x="2685" y="2170"/>
                    <a:pt x="2548" y="2395"/>
                  </a:cubicBezTo>
                  <a:cubicBezTo>
                    <a:pt x="2411" y="2620"/>
                    <a:pt x="1995" y="3004"/>
                    <a:pt x="1776" y="2979"/>
                  </a:cubicBezTo>
                  <a:cubicBezTo>
                    <a:pt x="1557" y="2954"/>
                    <a:pt x="1485" y="2383"/>
                    <a:pt x="1235" y="2243"/>
                  </a:cubicBezTo>
                  <a:cubicBezTo>
                    <a:pt x="985" y="2103"/>
                    <a:pt x="410" y="2291"/>
                    <a:pt x="275" y="2138"/>
                  </a:cubicBezTo>
                  <a:cubicBezTo>
                    <a:pt x="140" y="1985"/>
                    <a:pt x="445" y="1572"/>
                    <a:pt x="425" y="1327"/>
                  </a:cubicBezTo>
                  <a:cubicBezTo>
                    <a:pt x="405" y="1082"/>
                    <a:pt x="0" y="819"/>
                    <a:pt x="155" y="666"/>
                  </a:cubicBezTo>
                  <a:cubicBezTo>
                    <a:pt x="310" y="513"/>
                    <a:pt x="1036" y="513"/>
                    <a:pt x="1355" y="411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77600" y="4322520"/>
              <a:ext cx="2176920" cy="1628280"/>
            </a:xfrm>
            <a:custGeom>
              <a:avLst/>
              <a:gdLst/>
              <a:ahLst/>
              <a:rect l="l" t="t" r="r" b="b"/>
              <a:pathLst>
                <a:path w="2997" h="3119">
                  <a:moveTo>
                    <a:pt x="549" y="427"/>
                  </a:moveTo>
                  <a:cubicBezTo>
                    <a:pt x="705" y="240"/>
                    <a:pt x="1142" y="659"/>
                    <a:pt x="1389" y="592"/>
                  </a:cubicBezTo>
                  <a:cubicBezTo>
                    <a:pt x="1638" y="525"/>
                    <a:pt x="1785" y="0"/>
                    <a:pt x="2036" y="22"/>
                  </a:cubicBezTo>
                  <a:cubicBezTo>
                    <a:pt x="2287" y="44"/>
                    <a:pt x="2799" y="444"/>
                    <a:pt x="2898" y="723"/>
                  </a:cubicBezTo>
                  <a:cubicBezTo>
                    <a:pt x="2997" y="1002"/>
                    <a:pt x="2663" y="1398"/>
                    <a:pt x="2628" y="1700"/>
                  </a:cubicBezTo>
                  <a:cubicBezTo>
                    <a:pt x="2593" y="2000"/>
                    <a:pt x="2820" y="2290"/>
                    <a:pt x="2688" y="2525"/>
                  </a:cubicBezTo>
                  <a:cubicBezTo>
                    <a:pt x="2556" y="2760"/>
                    <a:pt x="2113" y="3119"/>
                    <a:pt x="1833" y="3109"/>
                  </a:cubicBezTo>
                  <a:cubicBezTo>
                    <a:pt x="1553" y="3099"/>
                    <a:pt x="1240" y="2599"/>
                    <a:pt x="1008" y="2464"/>
                  </a:cubicBezTo>
                  <a:cubicBezTo>
                    <a:pt x="776" y="2329"/>
                    <a:pt x="604" y="2526"/>
                    <a:pt x="439" y="2300"/>
                  </a:cubicBezTo>
                  <a:cubicBezTo>
                    <a:pt x="274" y="2074"/>
                    <a:pt x="0" y="1423"/>
                    <a:pt x="18" y="1111"/>
                  </a:cubicBezTo>
                  <a:cubicBezTo>
                    <a:pt x="36" y="799"/>
                    <a:pt x="439" y="569"/>
                    <a:pt x="549" y="427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63840" y="2821320"/>
              <a:ext cx="2399040" cy="1537560"/>
            </a:xfrm>
            <a:custGeom>
              <a:avLst/>
              <a:gdLst/>
              <a:ahLst/>
              <a:rect l="l" t="t" r="r" b="b"/>
              <a:pathLst>
                <a:path w="3302" h="2944">
                  <a:moveTo>
                    <a:pt x="546" y="422"/>
                  </a:moveTo>
                  <a:cubicBezTo>
                    <a:pt x="778" y="327"/>
                    <a:pt x="1162" y="575"/>
                    <a:pt x="1410" y="508"/>
                  </a:cubicBezTo>
                  <a:cubicBezTo>
                    <a:pt x="1658" y="441"/>
                    <a:pt x="1822" y="0"/>
                    <a:pt x="2034" y="17"/>
                  </a:cubicBezTo>
                  <a:cubicBezTo>
                    <a:pt x="2246" y="34"/>
                    <a:pt x="2479" y="474"/>
                    <a:pt x="2685" y="613"/>
                  </a:cubicBezTo>
                  <a:cubicBezTo>
                    <a:pt x="2891" y="752"/>
                    <a:pt x="3238" y="693"/>
                    <a:pt x="3270" y="853"/>
                  </a:cubicBezTo>
                  <a:cubicBezTo>
                    <a:pt x="3302" y="1013"/>
                    <a:pt x="2907" y="1328"/>
                    <a:pt x="2880" y="1573"/>
                  </a:cubicBezTo>
                  <a:cubicBezTo>
                    <a:pt x="2853" y="1818"/>
                    <a:pt x="3295" y="2095"/>
                    <a:pt x="3105" y="2323"/>
                  </a:cubicBezTo>
                  <a:cubicBezTo>
                    <a:pt x="2915" y="2551"/>
                    <a:pt x="2059" y="2934"/>
                    <a:pt x="1742" y="2939"/>
                  </a:cubicBezTo>
                  <a:cubicBezTo>
                    <a:pt x="1425" y="2944"/>
                    <a:pt x="1418" y="2461"/>
                    <a:pt x="1201" y="2354"/>
                  </a:cubicBezTo>
                  <a:cubicBezTo>
                    <a:pt x="984" y="2247"/>
                    <a:pt x="561" y="2401"/>
                    <a:pt x="436" y="2294"/>
                  </a:cubicBezTo>
                  <a:cubicBezTo>
                    <a:pt x="311" y="2187"/>
                    <a:pt x="521" y="1912"/>
                    <a:pt x="451" y="1709"/>
                  </a:cubicBezTo>
                  <a:cubicBezTo>
                    <a:pt x="381" y="1506"/>
                    <a:pt x="0" y="1293"/>
                    <a:pt x="16" y="1079"/>
                  </a:cubicBezTo>
                  <a:cubicBezTo>
                    <a:pt x="32" y="865"/>
                    <a:pt x="436" y="559"/>
                    <a:pt x="546" y="42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0680" y="1006200"/>
              <a:ext cx="2427840" cy="1555200"/>
            </a:xfrm>
            <a:custGeom>
              <a:avLst/>
              <a:gdLst/>
              <a:ahLst/>
              <a:rect l="l" t="t" r="r" b="b"/>
              <a:pathLst>
                <a:path w="3342" h="2979">
                  <a:moveTo>
                    <a:pt x="572" y="262"/>
                  </a:moveTo>
                  <a:cubicBezTo>
                    <a:pt x="759" y="137"/>
                    <a:pt x="986" y="401"/>
                    <a:pt x="1247" y="367"/>
                  </a:cubicBezTo>
                  <a:cubicBezTo>
                    <a:pt x="1508" y="333"/>
                    <a:pt x="1880" y="0"/>
                    <a:pt x="2140" y="55"/>
                  </a:cubicBezTo>
                  <a:cubicBezTo>
                    <a:pt x="2400" y="110"/>
                    <a:pt x="2615" y="498"/>
                    <a:pt x="2808" y="695"/>
                  </a:cubicBezTo>
                  <a:cubicBezTo>
                    <a:pt x="3001" y="892"/>
                    <a:pt x="3342" y="1077"/>
                    <a:pt x="3295" y="1240"/>
                  </a:cubicBezTo>
                  <a:cubicBezTo>
                    <a:pt x="3248" y="1403"/>
                    <a:pt x="2636" y="1480"/>
                    <a:pt x="2524" y="1674"/>
                  </a:cubicBezTo>
                  <a:cubicBezTo>
                    <a:pt x="2412" y="1866"/>
                    <a:pt x="2733" y="2178"/>
                    <a:pt x="2620" y="2395"/>
                  </a:cubicBezTo>
                  <a:cubicBezTo>
                    <a:pt x="2507" y="2612"/>
                    <a:pt x="2067" y="2979"/>
                    <a:pt x="1848" y="2979"/>
                  </a:cubicBezTo>
                  <a:cubicBezTo>
                    <a:pt x="1628" y="2979"/>
                    <a:pt x="1524" y="2501"/>
                    <a:pt x="1307" y="2394"/>
                  </a:cubicBezTo>
                  <a:cubicBezTo>
                    <a:pt x="1090" y="2287"/>
                    <a:pt x="667" y="2441"/>
                    <a:pt x="542" y="2334"/>
                  </a:cubicBezTo>
                  <a:cubicBezTo>
                    <a:pt x="417" y="2227"/>
                    <a:pt x="647" y="1967"/>
                    <a:pt x="557" y="1749"/>
                  </a:cubicBezTo>
                  <a:cubicBezTo>
                    <a:pt x="467" y="1531"/>
                    <a:pt x="0" y="1274"/>
                    <a:pt x="2" y="1026"/>
                  </a:cubicBezTo>
                  <a:cubicBezTo>
                    <a:pt x="4" y="778"/>
                    <a:pt x="453" y="421"/>
                    <a:pt x="572" y="26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64000" y="1134720"/>
              <a:ext cx="2533320" cy="1759320"/>
            </a:xfrm>
            <a:custGeom>
              <a:avLst/>
              <a:gdLst/>
              <a:ahLst/>
              <a:rect l="l" t="t" r="r" b="b"/>
              <a:pathLst>
                <a:path w="3487" h="3369">
                  <a:moveTo>
                    <a:pt x="710" y="1082"/>
                  </a:moveTo>
                  <a:cubicBezTo>
                    <a:pt x="840" y="952"/>
                    <a:pt x="670" y="504"/>
                    <a:pt x="830" y="422"/>
                  </a:cubicBezTo>
                  <a:cubicBezTo>
                    <a:pt x="990" y="340"/>
                    <a:pt x="1423" y="654"/>
                    <a:pt x="1670" y="587"/>
                  </a:cubicBezTo>
                  <a:cubicBezTo>
                    <a:pt x="1917" y="520"/>
                    <a:pt x="2096" y="34"/>
                    <a:pt x="2315" y="17"/>
                  </a:cubicBezTo>
                  <a:cubicBezTo>
                    <a:pt x="2534" y="0"/>
                    <a:pt x="2873" y="330"/>
                    <a:pt x="2985" y="482"/>
                  </a:cubicBezTo>
                  <a:cubicBezTo>
                    <a:pt x="3097" y="634"/>
                    <a:pt x="2904" y="812"/>
                    <a:pt x="2985" y="932"/>
                  </a:cubicBezTo>
                  <a:cubicBezTo>
                    <a:pt x="3066" y="1052"/>
                    <a:pt x="3487" y="1060"/>
                    <a:pt x="3470" y="1202"/>
                  </a:cubicBezTo>
                  <a:cubicBezTo>
                    <a:pt x="3453" y="1344"/>
                    <a:pt x="2997" y="1594"/>
                    <a:pt x="2885" y="1786"/>
                  </a:cubicBezTo>
                  <a:cubicBezTo>
                    <a:pt x="2773" y="1978"/>
                    <a:pt x="2883" y="2193"/>
                    <a:pt x="2795" y="2356"/>
                  </a:cubicBezTo>
                  <a:cubicBezTo>
                    <a:pt x="2707" y="2519"/>
                    <a:pt x="2538" y="2594"/>
                    <a:pt x="2355" y="2762"/>
                  </a:cubicBezTo>
                  <a:cubicBezTo>
                    <a:pt x="2172" y="2930"/>
                    <a:pt x="1895" y="3369"/>
                    <a:pt x="1695" y="3362"/>
                  </a:cubicBezTo>
                  <a:cubicBezTo>
                    <a:pt x="1495" y="3355"/>
                    <a:pt x="1369" y="2837"/>
                    <a:pt x="1155" y="2717"/>
                  </a:cubicBezTo>
                  <a:cubicBezTo>
                    <a:pt x="941" y="2597"/>
                    <a:pt x="534" y="2776"/>
                    <a:pt x="410" y="2641"/>
                  </a:cubicBezTo>
                  <a:cubicBezTo>
                    <a:pt x="286" y="2506"/>
                    <a:pt x="470" y="2146"/>
                    <a:pt x="410" y="1906"/>
                  </a:cubicBezTo>
                  <a:cubicBezTo>
                    <a:pt x="350" y="1666"/>
                    <a:pt x="0" y="1338"/>
                    <a:pt x="50" y="1202"/>
                  </a:cubicBezTo>
                  <a:cubicBezTo>
                    <a:pt x="100" y="1065"/>
                    <a:pt x="580" y="1212"/>
                    <a:pt x="710" y="108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156040" y="1879920"/>
              <a:ext cx="1307520" cy="282600"/>
              <a:chOff x="2156040" y="1879920"/>
              <a:chExt cx="1307520" cy="282600"/>
            </a:xfrm>
          </p:grpSpPr>
          <p:sp>
            <p:nvSpPr>
              <p:cNvPr id="97" name=""/>
              <p:cNvSpPr/>
              <p:nvPr/>
            </p:nvSpPr>
            <p:spPr>
              <a:xfrm>
                <a:off x="2156040" y="1879920"/>
                <a:ext cx="130752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01120" y="1936440"/>
                <a:ext cx="10170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033160" y="1316160"/>
              <a:ext cx="784440" cy="281880"/>
              <a:chOff x="5033160" y="1316160"/>
              <a:chExt cx="784440" cy="281880"/>
            </a:xfrm>
          </p:grpSpPr>
          <p:sp>
            <p:nvSpPr>
              <p:cNvPr id="100" name=""/>
              <p:cNvSpPr/>
              <p:nvPr/>
            </p:nvSpPr>
            <p:spPr>
              <a:xfrm>
                <a:off x="5033160" y="1316160"/>
                <a:ext cx="784440" cy="28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11640" y="1363680"/>
                <a:ext cx="62748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5817960" y="1785960"/>
              <a:ext cx="784440" cy="281160"/>
              <a:chOff x="5817960" y="1785960"/>
              <a:chExt cx="784440" cy="28116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960" y="1785960"/>
                <a:ext cx="784440" cy="281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96440" y="1833120"/>
                <a:ext cx="627480" cy="18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156040" y="3666240"/>
              <a:ext cx="915120" cy="281520"/>
              <a:chOff x="2156040" y="3666240"/>
              <a:chExt cx="915120" cy="2815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56040" y="3666240"/>
                <a:ext cx="915120" cy="28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19120" y="3713040"/>
                <a:ext cx="58824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632960" y="846000"/>
              <a:ext cx="35308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 Subnets Connected by 3 Rou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071520" y="1410120"/>
              <a:ext cx="784440" cy="282600"/>
              <a:chOff x="3071520" y="1410120"/>
              <a:chExt cx="784440" cy="282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071520" y="1410120"/>
                <a:ext cx="78444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50000" y="1457640"/>
                <a:ext cx="627480" cy="18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510080" y="4700160"/>
              <a:ext cx="784440" cy="282600"/>
              <a:chOff x="4510080" y="4700160"/>
              <a:chExt cx="784440" cy="282600"/>
            </a:xfrm>
          </p:grpSpPr>
          <p:sp>
            <p:nvSpPr>
              <p:cNvPr id="113" name=""/>
              <p:cNvSpPr/>
              <p:nvPr/>
            </p:nvSpPr>
            <p:spPr>
              <a:xfrm>
                <a:off x="4510080" y="4700160"/>
                <a:ext cx="78444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88560" y="4747680"/>
                <a:ext cx="627480" cy="18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632960" y="5451840"/>
              <a:ext cx="45756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56040" y="5451840"/>
              <a:ext cx="18306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imary SM or G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5734080"/>
              <a:ext cx="45756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6040" y="5734080"/>
              <a:ext cx="26154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ondary / backup SM or G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32960" y="6109920"/>
              <a:ext cx="523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7080" y="6016320"/>
              <a:ext cx="31384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ths between Routers within a subnet, passing through one or more IB switch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817960" y="1410120"/>
              <a:ext cx="1307520" cy="282600"/>
              <a:chOff x="5817960" y="1410120"/>
              <a:chExt cx="1307520" cy="282600"/>
            </a:xfrm>
          </p:grpSpPr>
          <p:sp>
            <p:nvSpPr>
              <p:cNvPr id="122" name=""/>
              <p:cNvSpPr/>
              <p:nvPr/>
            </p:nvSpPr>
            <p:spPr>
              <a:xfrm>
                <a:off x="5817960" y="1410120"/>
                <a:ext cx="130752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963040" y="1466640"/>
                <a:ext cx="10170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025360" y="4042080"/>
              <a:ext cx="1307520" cy="282600"/>
              <a:chOff x="2025360" y="4042080"/>
              <a:chExt cx="1307520" cy="282600"/>
            </a:xfrm>
          </p:grpSpPr>
          <p:sp>
            <p:nvSpPr>
              <p:cNvPr id="125" name=""/>
              <p:cNvSpPr/>
              <p:nvPr/>
            </p:nvSpPr>
            <p:spPr>
              <a:xfrm>
                <a:off x="2025360" y="4042080"/>
                <a:ext cx="130752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70440" y="4098600"/>
                <a:ext cx="10170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902480" y="4982040"/>
              <a:ext cx="1307520" cy="282600"/>
              <a:chOff x="4902480" y="4982040"/>
              <a:chExt cx="1307520" cy="282600"/>
            </a:xfrm>
          </p:grpSpPr>
          <p:sp>
            <p:nvSpPr>
              <p:cNvPr id="128" name=""/>
              <p:cNvSpPr/>
              <p:nvPr/>
            </p:nvSpPr>
            <p:spPr>
              <a:xfrm>
                <a:off x="4902480" y="4982040"/>
                <a:ext cx="130752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047560" y="5038560"/>
                <a:ext cx="10170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033160" y="5358240"/>
              <a:ext cx="1307520" cy="28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63840" y="5415480"/>
              <a:ext cx="104580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M/SA/S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948640" y="3102120"/>
              <a:ext cx="1307520" cy="283320"/>
              <a:chOff x="5948640" y="3102120"/>
              <a:chExt cx="1307520" cy="283320"/>
            </a:xfrm>
          </p:grpSpPr>
          <p:sp>
            <p:nvSpPr>
              <p:cNvPr id="133" name=""/>
              <p:cNvSpPr/>
              <p:nvPr/>
            </p:nvSpPr>
            <p:spPr>
              <a:xfrm>
                <a:off x="5948640" y="3102120"/>
                <a:ext cx="1307520" cy="283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93720" y="3159000"/>
                <a:ext cx="10170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4510080" y="2726280"/>
              <a:ext cx="130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27960" y="3384360"/>
              <a:ext cx="643320" cy="383760"/>
            </a:xfrm>
            <a:custGeom>
              <a:avLst/>
              <a:gdLst/>
              <a:ahLst/>
              <a:rect l="l" t="t" r="r" b="b"/>
              <a:pathLst>
                <a:path w="886" h="735">
                  <a:moveTo>
                    <a:pt x="60" y="0"/>
                  </a:moveTo>
                  <a:cubicBezTo>
                    <a:pt x="0" y="120"/>
                    <a:pt x="10" y="247"/>
                    <a:pt x="60" y="360"/>
                  </a:cubicBezTo>
                  <a:cubicBezTo>
                    <a:pt x="110" y="473"/>
                    <a:pt x="222" y="615"/>
                    <a:pt x="360" y="675"/>
                  </a:cubicBezTo>
                  <a:cubicBezTo>
                    <a:pt x="498" y="735"/>
                    <a:pt x="777" y="711"/>
                    <a:pt x="886" y="7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77840" y="2099160"/>
              <a:ext cx="631800" cy="250560"/>
            </a:xfrm>
            <a:custGeom>
              <a:avLst/>
              <a:gdLst/>
              <a:ahLst/>
              <a:rect l="l" t="t" r="r" b="b"/>
              <a:pathLst>
                <a:path w="870" h="480">
                  <a:moveTo>
                    <a:pt x="0" y="0"/>
                  </a:moveTo>
                  <a:cubicBezTo>
                    <a:pt x="70" y="12"/>
                    <a:pt x="308" y="43"/>
                    <a:pt x="420" y="75"/>
                  </a:cubicBezTo>
                  <a:cubicBezTo>
                    <a:pt x="532" y="107"/>
                    <a:pt x="600" y="127"/>
                    <a:pt x="675" y="195"/>
                  </a:cubicBezTo>
                  <a:cubicBezTo>
                    <a:pt x="750" y="263"/>
                    <a:pt x="830" y="421"/>
                    <a:pt x="870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6240" y="3196080"/>
              <a:ext cx="392040" cy="752400"/>
            </a:xfrm>
            <a:custGeom>
              <a:avLst/>
              <a:gdLst/>
              <a:ahLst/>
              <a:rect l="l" t="t" r="r" b="b"/>
              <a:pathLst>
                <a:path w="540" h="1440">
                  <a:moveTo>
                    <a:pt x="180" y="0"/>
                  </a:moveTo>
                  <a:cubicBezTo>
                    <a:pt x="90" y="180"/>
                    <a:pt x="0" y="360"/>
                    <a:pt x="0" y="540"/>
                  </a:cubicBezTo>
                  <a:cubicBezTo>
                    <a:pt x="0" y="720"/>
                    <a:pt x="90" y="930"/>
                    <a:pt x="180" y="1080"/>
                  </a:cubicBezTo>
                  <a:cubicBezTo>
                    <a:pt x="270" y="1230"/>
                    <a:pt x="480" y="1380"/>
                    <a:pt x="540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17960" y="3477960"/>
              <a:ext cx="1307520" cy="28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8640" y="3534840"/>
              <a:ext cx="104616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M/SA/S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080" y="1598400"/>
              <a:ext cx="9151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25360" y="3477960"/>
              <a:ext cx="10458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56240" y="4700160"/>
              <a:ext cx="91512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17960" y="1221840"/>
              <a:ext cx="91512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10000" y="3854520"/>
              <a:ext cx="11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3594600" y="2162160"/>
              <a:ext cx="39240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771440" y="2068200"/>
              <a:ext cx="784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71520" y="2632320"/>
              <a:ext cx="1046160" cy="75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87000" y="2162160"/>
              <a:ext cx="915120" cy="563760"/>
              <a:chOff x="3987000" y="2162160"/>
              <a:chExt cx="915120" cy="563760"/>
            </a:xfrm>
          </p:grpSpPr>
          <p:sp>
            <p:nvSpPr>
              <p:cNvPr id="150" name=""/>
              <p:cNvSpPr/>
              <p:nvPr/>
            </p:nvSpPr>
            <p:spPr>
              <a:xfrm>
                <a:off x="3987000" y="2162160"/>
                <a:ext cx="915120" cy="56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17320" y="2350080"/>
                <a:ext cx="65340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Rou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294520" y="2444040"/>
              <a:ext cx="915120" cy="563760"/>
              <a:chOff x="5294520" y="2444040"/>
              <a:chExt cx="915120" cy="563760"/>
            </a:xfrm>
          </p:grpSpPr>
          <p:sp>
            <p:nvSpPr>
              <p:cNvPr id="153" name=""/>
              <p:cNvSpPr/>
              <p:nvPr/>
            </p:nvSpPr>
            <p:spPr>
              <a:xfrm>
                <a:off x="5294520" y="2444040"/>
                <a:ext cx="915120" cy="56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24840" y="2631960"/>
                <a:ext cx="65340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Rou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V="1">
              <a:off x="6079320" y="2349720"/>
              <a:ext cx="13068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86920" y="3008160"/>
              <a:ext cx="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248360" y="3854520"/>
              <a:ext cx="915480" cy="563400"/>
              <a:chOff x="4248360" y="3854520"/>
              <a:chExt cx="915480" cy="563400"/>
            </a:xfrm>
          </p:grpSpPr>
          <p:sp>
            <p:nvSpPr>
              <p:cNvPr id="158" name=""/>
              <p:cNvSpPr/>
              <p:nvPr/>
            </p:nvSpPr>
            <p:spPr>
              <a:xfrm>
                <a:off x="4248360" y="3854520"/>
                <a:ext cx="915480" cy="563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79040" y="4042440"/>
                <a:ext cx="65376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Rou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 flipV="1">
              <a:off x="3594240" y="3760200"/>
              <a:ext cx="784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163840" y="3948120"/>
              <a:ext cx="7844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33160" y="4324320"/>
              <a:ext cx="393120" cy="5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02280" y="4982040"/>
              <a:ext cx="261540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RM      Global Route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A        Subnet Route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4E7F-091B-470D-B568-F11B10CB0D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rn from our previous experience of trying to specify Rou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n’t fall into the same rat ho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sten to what members (and others) w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ever the best way to influence Specification is to join the IBT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veloping a Straw-man for IBTA Re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vers all the main iss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en there is agreement work partitioned to relevant bod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WG (Link Working Group) currently working on the straw-ma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GTWG (Management Working Group) for the management activiti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WG (Software Working Group) for path establishment (Communication Managemen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E: Standards bodies don’t work as fast as one would like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BB32-2989-4EA8-BAA2-01AB549731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 Routing Featur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able a phased approach to enable early ac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y to anticipate hooks for future expan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ltiple subnets may be connected through multiple Router Hop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sion for other fabrics between IB Rou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oid path deadloc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ynamic addition and removal of sub-nets within the larger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nimize the changes to endpoint behavior in crossing multiple sub-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unication Manager (to provide a connectio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s will provide backpress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EEF1-F79B-4621-A77E-CF0A490766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 Routing Features (continued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bnet Manager controls the sub-n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paths for IB-Routers to use in crossing a sub-net (deadlock fre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pport for Multicast across multiple sub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intain Alternative Path Mechanism for resili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and Congestion Control to cover IB Ro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and QoS to cover IB Ro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bility to generate a “no single point” of failure within the wider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AFA7-C09C-4D4D-8A30-BE42CAFDB3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will the specification Cover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interaction between the Route Manager and :-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 Manager: May be centralized initial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 future this may be distribu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bnet Managers (SM &amp; S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neration of paths through the larger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 resources (Routers, SM, Route Managers) are identifi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action with Subnet Managers and Subnet Administrat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on and New Management Data-grams to communicate in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12BA-C55C-451F-84BE-71108D6069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8:25:13Z</dcterms:created>
  <dc:creator>Jason Gunthorpe</dc:creator>
  <dc:description/>
  <cp:keywords/>
  <dc:language>en-US</dc:language>
  <cp:lastModifiedBy>Ian Colloff</cp:lastModifiedBy>
  <cp:lastPrinted>1998-06-24T21:45:20Z</cp:lastPrinted>
  <dcterms:modified xsi:type="dcterms:W3CDTF">2008-04-08T17:20:42Z</dcterms:modified>
  <cp:revision>24</cp:revision>
  <dc:subject/>
  <dc:title>PowerPoint Presentation</dc:title>
</cp:coreProperties>
</file>