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744-989B-4F1B-8D92-E6B2F370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70D-4A61-41CB-95B5-1C08031B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50BF-24E0-4F0B-A9C4-28F6F558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93680" y="684360"/>
            <a:ext cx="467208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3600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811A-0EEA-43BC-831C-F61F3ED6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6A3-F262-4B08-8C1C-DF502AD58BE8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bre Channel over InfiniBan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51051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2546280"/>
            <a:ext cx="1428840" cy="66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Open 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62120" y="3841920"/>
            <a:ext cx="1428120" cy="1497960"/>
            <a:chOff x="762120" y="3841920"/>
            <a:chExt cx="1428120" cy="1497960"/>
          </a:xfrm>
        </p:grpSpPr>
        <p:sp>
          <p:nvSpPr>
            <p:cNvPr id="322" name=""/>
            <p:cNvSpPr/>
            <p:nvPr/>
          </p:nvSpPr>
          <p:spPr>
            <a:xfrm>
              <a:off x="762120" y="4674240"/>
              <a:ext cx="1428120" cy="6656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841920"/>
              <a:ext cx="1428120" cy="66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05280" y="1714680"/>
            <a:ext cx="1428840" cy="66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SCSI</a:t>
            </a:r>
            <a:br>
              <a:rPr sz="1800"/>
            </a:br>
            <a:r>
              <a:rPr b="1" lang="en-US" sz="1800" spc="-1" strike="noStrike">
                <a:solidFill>
                  <a:srgbClr val="241172"/>
                </a:solidFill>
                <a:latin typeface="Arial Narrow"/>
              </a:rPr>
              <a:t>mid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2120" y="3841920"/>
            <a:ext cx="4572000" cy="2330280"/>
            <a:chOff x="762120" y="3841920"/>
            <a:chExt cx="4572000" cy="2330280"/>
          </a:xfrm>
        </p:grpSpPr>
        <p:sp>
          <p:nvSpPr>
            <p:cNvPr id="326" name=""/>
            <p:cNvSpPr/>
            <p:nvPr/>
          </p:nvSpPr>
          <p:spPr>
            <a:xfrm>
              <a:off x="762120" y="5506920"/>
              <a:ext cx="4572000" cy="665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346480" y="3841920"/>
              <a:ext cx="1428120" cy="1497960"/>
              <a:chOff x="2346480" y="3841920"/>
              <a:chExt cx="1428120" cy="1497960"/>
            </a:xfrm>
          </p:grpSpPr>
          <p:sp>
            <p:nvSpPr>
              <p:cNvPr id="328" name=""/>
              <p:cNvSpPr/>
              <p:nvPr/>
            </p:nvSpPr>
            <p:spPr>
              <a:xfrm>
                <a:off x="2346480" y="4674240"/>
                <a:ext cx="1428120" cy="665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mlx4_i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46480" y="3841920"/>
                <a:ext cx="1428120" cy="66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41172"/>
                    </a:solidFill>
                    <a:latin typeface="Arial Narrow"/>
                  </a:rPr>
                  <a:t>IB 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352680" y="3352680"/>
            <a:ext cx="1981440" cy="1987560"/>
            <a:chOff x="3352680" y="3352680"/>
            <a:chExt cx="1981440" cy="1987560"/>
          </a:xfrm>
        </p:grpSpPr>
        <p:sp>
          <p:nvSpPr>
            <p:cNvPr id="331" name=""/>
            <p:cNvSpPr/>
            <p:nvPr/>
          </p:nvSpPr>
          <p:spPr>
            <a:xfrm>
              <a:off x="3905280" y="3352680"/>
              <a:ext cx="1428840" cy="198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3352680"/>
              <a:ext cx="685800" cy="381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4640" y="3368520"/>
              <a:ext cx="276480" cy="446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34600" y="2743200"/>
            <a:ext cx="3313080" cy="1038240"/>
            <a:chOff x="534600" y="2743200"/>
            <a:chExt cx="3313080" cy="1038240"/>
          </a:xfrm>
        </p:grpSpPr>
        <p:sp>
          <p:nvSpPr>
            <p:cNvPr id="335" name=""/>
            <p:cNvSpPr/>
            <p:nvPr/>
          </p:nvSpPr>
          <p:spPr>
            <a:xfrm flipH="1">
              <a:off x="3161880" y="37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600" y="2743200"/>
              <a:ext cx="20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 Client (Discove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3048120"/>
              <a:ext cx="168768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9520" y="2971800"/>
            <a:ext cx="5118840" cy="580680"/>
            <a:chOff x="3809520" y="2971800"/>
            <a:chExt cx="5118840" cy="580680"/>
          </a:xfrm>
        </p:grpSpPr>
        <p:sp>
          <p:nvSpPr>
            <p:cNvPr id="339" name=""/>
            <p:cNvSpPr/>
            <p:nvPr/>
          </p:nvSpPr>
          <p:spPr>
            <a:xfrm flipH="1">
              <a:off x="380952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410080" y="2971800"/>
              <a:ext cx="3518280" cy="580680"/>
              <a:chOff x="5410080" y="2971800"/>
              <a:chExt cx="3518280" cy="580680"/>
            </a:xfrm>
          </p:grpSpPr>
          <p:sp>
            <p:nvSpPr>
              <p:cNvPr id="341" name=""/>
              <p:cNvSpPr/>
              <p:nvPr/>
            </p:nvSpPr>
            <p:spPr>
              <a:xfrm>
                <a:off x="6255720" y="2971800"/>
                <a:ext cx="2672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d()          - non offload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si_send()  - offloaded 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10080" y="3276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aw Frame Interface (RF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and receives FCoIB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CRC off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Command Queues (FCM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IO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s bulk of FEXCH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Exchange Queues (FEX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ally allocated to FCMND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llocated chunk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fc HW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444320"/>
            <a:ext cx="83822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Memory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/dual MKey per FEX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ed chunk of Data M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register buffers for 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Cop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s, Events, Interrupts, Comman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x4_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of chunks of QPs/MRs to upper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interface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IO Read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8195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74200" y="25956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CM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857840" y="36417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800" y="332748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07400" y="45720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P_R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5720" y="200988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Read 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84600" y="205740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ocat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p DMA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gister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74320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2320" y="26226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sue C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876920" y="48006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2880" y="17064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pen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040" y="170640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3960" y="36910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W 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3960" y="51656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4040" y="218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840" y="170640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IB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3040" y="1706400"/>
            <a:ext cx="892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6400" y="5805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160" y="565164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O Read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0720" y="54072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lease xC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map D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9280" y="1905120"/>
            <a:ext cx="1584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32120" y="1973160"/>
            <a:ext cx="9360" cy="41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57840" y="19731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1973160"/>
            <a:ext cx="0" cy="416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857840" y="3733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857840" y="38098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7840" y="388620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86240" y="521172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oIB – FC frames Encapsulation over IB 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IB is a U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gatewa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cost,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softw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look &amp;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s fully offloaded in Connect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276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/O Conso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islands of IB to network and storage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316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, performance, scalability,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2600">
              <a:lnSpc>
                <a:spcPct val="80000"/>
              </a:lnSpc>
              <a:spcBef>
                <a:spcPts val="4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2420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e9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 Infini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076480"/>
            <a:ext cx="144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97000"/>
            <a:ext cx="2666880" cy="433440"/>
          </a:xfrm>
          <a:prstGeom prst="rect">
            <a:avLst/>
          </a:prstGeom>
          <a:solidFill>
            <a:srgbClr val="c9e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76480"/>
            <a:ext cx="1440" cy="11430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076480"/>
            <a:ext cx="1800" cy="220968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76480"/>
            <a:ext cx="1440" cy="12193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076480"/>
            <a:ext cx="180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076480"/>
            <a:ext cx="1440" cy="106668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120" y="1467000"/>
            <a:ext cx="743040" cy="620640"/>
          </a:xfrm>
          <a:prstGeom prst="rect">
            <a:avLst/>
          </a:prstGeom>
          <a:solidFill>
            <a:srgbClr val="9900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000" y="1467000"/>
            <a:ext cx="743040" cy="620640"/>
          </a:xfrm>
          <a:prstGeom prst="rect">
            <a:avLst/>
          </a:prstGeom>
          <a:solidFill>
            <a:srgbClr val="99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1880" y="1467000"/>
            <a:ext cx="741240" cy="620640"/>
          </a:xfrm>
          <a:prstGeom prst="rect">
            <a:avLst/>
          </a:prstGeom>
          <a:solidFill>
            <a:srgbClr val="79c277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anage-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ent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257800" y="1467000"/>
            <a:ext cx="3886200" cy="2347560"/>
            <a:chOff x="5257800" y="1467000"/>
            <a:chExt cx="3886200" cy="2347560"/>
          </a:xfrm>
        </p:grpSpPr>
        <p:sp>
          <p:nvSpPr>
            <p:cNvPr id="113" name=""/>
            <p:cNvSpPr/>
            <p:nvPr/>
          </p:nvSpPr>
          <p:spPr>
            <a:xfrm>
              <a:off x="5257800" y="2097360"/>
              <a:ext cx="2666880" cy="4334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0880" y="1467000"/>
              <a:ext cx="743040" cy="6206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4760" y="1467000"/>
              <a:ext cx="741240" cy="620640"/>
            </a:xfrm>
            <a:prstGeom prst="rect">
              <a:avLst/>
            </a:prstGeom>
            <a:solidFill>
              <a:srgbClr val="79c277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anage-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943240" y="2835000"/>
              <a:ext cx="1676880" cy="979560"/>
              <a:chOff x="5943240" y="2835000"/>
              <a:chExt cx="1676880" cy="97956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5942880" y="3034080"/>
                <a:ext cx="1500120" cy="680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9440" bIns="194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B H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73160" y="3715200"/>
                <a:ext cx="793800" cy="97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443720" y="2835000"/>
                <a:ext cx="1800" cy="97956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43720" y="2863440"/>
                <a:ext cx="176400" cy="144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rot="16200000">
              <a:off x="7354800" y="3255480"/>
              <a:ext cx="533160" cy="3081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2862f"/>
            </a:solidFill>
            <a:ln w="9360">
              <a:solidFill>
                <a:srgbClr val="f286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500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9680" y="2073600"/>
              <a:ext cx="234720" cy="106668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073600"/>
              <a:ext cx="1440" cy="106668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4320" y="2990880"/>
              <a:ext cx="363240" cy="262080"/>
            </a:xfrm>
            <a:prstGeom prst="ellipse">
              <a:avLst/>
            </a:prstGeom>
            <a:solidFill>
              <a:srgbClr val="99ff99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990880"/>
              <a:ext cx="363240" cy="262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2073600"/>
              <a:ext cx="457200" cy="106668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2990880"/>
              <a:ext cx="324000" cy="249480"/>
            </a:xfrm>
            <a:prstGeom prst="ellipse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7000" y="1467000"/>
              <a:ext cx="743040" cy="620640"/>
            </a:xfrm>
            <a:prstGeom prst="rect">
              <a:avLst/>
            </a:prstGeom>
            <a:solidFill>
              <a:srgbClr val="9900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A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2320" y="32194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ne 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055600" y="3750840"/>
            <a:ext cx="852480" cy="515880"/>
            <a:chOff x="2055600" y="3750840"/>
            <a:chExt cx="852480" cy="515880"/>
          </a:xfrm>
        </p:grpSpPr>
        <p:sp>
          <p:nvSpPr>
            <p:cNvPr id="132" name=""/>
            <p:cNvSpPr/>
            <p:nvPr/>
          </p:nvSpPr>
          <p:spPr>
            <a:xfrm>
              <a:off x="2147760" y="3856680"/>
              <a:ext cx="760320" cy="35676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7760" y="421344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147760" y="375084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55600" y="37666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0880" y="2695680"/>
            <a:ext cx="850680" cy="513720"/>
            <a:chOff x="380880" y="2695680"/>
            <a:chExt cx="850680" cy="513720"/>
          </a:xfrm>
        </p:grpSpPr>
        <p:sp>
          <p:nvSpPr>
            <p:cNvPr id="137" name=""/>
            <p:cNvSpPr/>
            <p:nvPr/>
          </p:nvSpPr>
          <p:spPr>
            <a:xfrm>
              <a:off x="469440" y="27982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160" y="31575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440" y="26956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079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31720" y="2684160"/>
            <a:ext cx="852480" cy="515880"/>
            <a:chOff x="1431720" y="2684160"/>
            <a:chExt cx="852480" cy="515880"/>
          </a:xfrm>
        </p:grpSpPr>
        <p:sp>
          <p:nvSpPr>
            <p:cNvPr id="142" name=""/>
            <p:cNvSpPr/>
            <p:nvPr/>
          </p:nvSpPr>
          <p:spPr>
            <a:xfrm>
              <a:off x="1523880" y="27896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3880" y="31453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523880" y="26841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31720" y="27000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33520" y="2847960"/>
            <a:ext cx="852120" cy="514080"/>
            <a:chOff x="533520" y="2847960"/>
            <a:chExt cx="852120" cy="514080"/>
          </a:xfrm>
        </p:grpSpPr>
        <p:sp>
          <p:nvSpPr>
            <p:cNvPr id="147" name=""/>
            <p:cNvSpPr/>
            <p:nvPr/>
          </p:nvSpPr>
          <p:spPr>
            <a:xfrm>
              <a:off x="623520" y="295092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40" y="3309840"/>
              <a:ext cx="40392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520" y="2847960"/>
              <a:ext cx="108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286056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84000" y="2836440"/>
            <a:ext cx="852480" cy="515880"/>
            <a:chOff x="1584000" y="2836440"/>
            <a:chExt cx="852480" cy="515880"/>
          </a:xfrm>
        </p:grpSpPr>
        <p:sp>
          <p:nvSpPr>
            <p:cNvPr id="152" name=""/>
            <p:cNvSpPr/>
            <p:nvPr/>
          </p:nvSpPr>
          <p:spPr>
            <a:xfrm>
              <a:off x="1676160" y="2942280"/>
              <a:ext cx="760320" cy="35676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6520" y="3299040"/>
              <a:ext cx="40284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76160" y="283644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4000" y="2852280"/>
              <a:ext cx="94680" cy="14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6280" y="2989080"/>
            <a:ext cx="854280" cy="515880"/>
            <a:chOff x="1736280" y="2989080"/>
            <a:chExt cx="854280" cy="515880"/>
          </a:xfrm>
        </p:grpSpPr>
        <p:sp>
          <p:nvSpPr>
            <p:cNvPr id="157" name=""/>
            <p:cNvSpPr/>
            <p:nvPr/>
          </p:nvSpPr>
          <p:spPr>
            <a:xfrm>
              <a:off x="1829880" y="3094560"/>
              <a:ext cx="76068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8440" y="345168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9880" y="298908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736280" y="30049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8920" y="3141360"/>
            <a:ext cx="852480" cy="515880"/>
            <a:chOff x="1888920" y="3141360"/>
            <a:chExt cx="852480" cy="515880"/>
          </a:xfrm>
        </p:grpSpPr>
        <p:sp>
          <p:nvSpPr>
            <p:cNvPr id="162" name=""/>
            <p:cNvSpPr/>
            <p:nvPr/>
          </p:nvSpPr>
          <p:spPr>
            <a:xfrm>
              <a:off x="1981080" y="3246840"/>
              <a:ext cx="760320" cy="35712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1080" y="3602520"/>
              <a:ext cx="403200" cy="51480"/>
            </a:xfrm>
            <a:prstGeom prst="rect">
              <a:avLst/>
            </a:prstGeom>
            <a:solidFill>
              <a:srgbClr val="e36953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81080" y="3141360"/>
              <a:ext cx="108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888920" y="315720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7880" y="3903480"/>
            <a:ext cx="852480" cy="515880"/>
            <a:chOff x="2207880" y="3903480"/>
            <a:chExt cx="852480" cy="515880"/>
          </a:xfrm>
        </p:grpSpPr>
        <p:sp>
          <p:nvSpPr>
            <p:cNvPr id="167" name=""/>
            <p:cNvSpPr/>
            <p:nvPr/>
          </p:nvSpPr>
          <p:spPr>
            <a:xfrm>
              <a:off x="2299680" y="4008960"/>
              <a:ext cx="760680" cy="35712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bE 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90040" y="4366080"/>
              <a:ext cx="403200" cy="51480"/>
            </a:xfrm>
            <a:prstGeom prst="rect">
              <a:avLst/>
            </a:prstGeom>
            <a:solidFill>
              <a:srgbClr val="79c277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99680" y="3903480"/>
              <a:ext cx="1440" cy="5158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7880" y="3919320"/>
              <a:ext cx="94680" cy="1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3000240"/>
            <a:ext cx="850680" cy="514080"/>
            <a:chOff x="685800" y="3000240"/>
            <a:chExt cx="850680" cy="514080"/>
          </a:xfrm>
        </p:grpSpPr>
        <p:sp>
          <p:nvSpPr>
            <p:cNvPr id="172" name=""/>
            <p:cNvSpPr/>
            <p:nvPr/>
          </p:nvSpPr>
          <p:spPr>
            <a:xfrm>
              <a:off x="774360" y="3102840"/>
              <a:ext cx="762120" cy="3592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4720" y="3462120"/>
              <a:ext cx="404280" cy="522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360" y="3000240"/>
              <a:ext cx="1080" cy="51300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012480"/>
              <a:ext cx="90000" cy="108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38080" y="3152880"/>
            <a:ext cx="850680" cy="513720"/>
            <a:chOff x="838080" y="3152880"/>
            <a:chExt cx="850680" cy="513720"/>
          </a:xfrm>
        </p:grpSpPr>
        <p:sp>
          <p:nvSpPr>
            <p:cNvPr id="177" name=""/>
            <p:cNvSpPr/>
            <p:nvPr/>
          </p:nvSpPr>
          <p:spPr>
            <a:xfrm>
              <a:off x="926640" y="3255480"/>
              <a:ext cx="762120" cy="3589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 H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7360" y="3614760"/>
              <a:ext cx="403920" cy="5184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6640" y="3152880"/>
              <a:ext cx="1440" cy="512640"/>
            </a:xfrm>
            <a:custGeom>
              <a:avLst/>
              <a:gdLst/>
              <a:ahLst/>
              <a:rect l="l" t="t" r="r" b="b"/>
              <a:pathLst>
                <a:path w="1" h="1430">
                  <a:moveTo>
                    <a:pt x="0" y="1429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3165120"/>
              <a:ext cx="90360" cy="1440"/>
            </a:xfrm>
            <a:custGeom>
              <a:avLst/>
              <a:gdLst/>
              <a:ahLst/>
              <a:rect l="l" t="t" r="r" b="b"/>
              <a:pathLst>
                <a:path w="250" h="1">
                  <a:moveTo>
                    <a:pt x="249" y="0"/>
                  </a:move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FCoIB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Fibr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software runs over IB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frame format /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river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s - 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SI transport termin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less packet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erformance/scalability at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upport for legacy storag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08960" y="2610000"/>
            <a:ext cx="219240" cy="16488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562960" y="1895040"/>
            <a:ext cx="219240" cy="1652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2920" y="2335320"/>
            <a:ext cx="2286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54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362320"/>
            <a:ext cx="45720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33680" y="2362320"/>
            <a:ext cx="343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0880" y="171468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62640" y="2019240"/>
            <a:ext cx="685800" cy="685800"/>
          </a:xfrm>
          <a:prstGeom prst="diamond">
            <a:avLst/>
          </a:prstGeom>
          <a:gradFill rotWithShape="0">
            <a:gsLst>
              <a:gs pos="0">
                <a:srgbClr val="800000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40976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2680" y="1905120"/>
            <a:ext cx="1617480" cy="990360"/>
          </a:xfrm>
          <a:prstGeom prst="cloudCallout">
            <a:avLst>
              <a:gd name="adj1" fmla="val -5152"/>
              <a:gd name="adj2" fmla="val 50319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re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86800" y="1562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01280" y="1676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15400" y="1790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54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7050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01280" y="2819520"/>
            <a:ext cx="228600" cy="34272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5400" y="2933640"/>
            <a:ext cx="228600" cy="343080"/>
          </a:xfrm>
          <a:prstGeom prst="flowChartMagneticDisk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171880"/>
            <a:ext cx="4190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1080" y="2874960"/>
            <a:ext cx="0" cy="2286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3063960"/>
            <a:ext cx="466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5200" y="1866960"/>
            <a:ext cx="1538280" cy="990720"/>
          </a:xfrm>
          <a:prstGeom prst="cloudCallout">
            <a:avLst>
              <a:gd name="adj1" fmla="val -2837"/>
              <a:gd name="adj2" fmla="val 5031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i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 over IB Gatewa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80720" y="4267080"/>
            <a:ext cx="1981080" cy="977400"/>
            <a:chOff x="1980720" y="4267080"/>
            <a:chExt cx="1981080" cy="977400"/>
          </a:xfrm>
        </p:grpSpPr>
        <p:sp>
          <p:nvSpPr>
            <p:cNvPr id="206" name=""/>
            <p:cNvSpPr/>
            <p:nvPr/>
          </p:nvSpPr>
          <p:spPr>
            <a:xfrm flipH="1" flipV="1">
              <a:off x="1980720" y="4267080"/>
              <a:ext cx="1320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2800" y="472428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41172"/>
                  </a:solidFill>
                  <a:latin typeface="Arial Narrow"/>
                </a:rPr>
                <a:t>NPIV N_P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 Narrow"/>
                </a:rPr>
                <a:t>FC Begin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6160" y="144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hysical Vie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5257800"/>
            <a:ext cx="404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initiator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n NPIV N_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F_LOGI as F_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62360" y="1447920"/>
            <a:ext cx="2489400" cy="3851280"/>
            <a:chOff x="5562360" y="1447920"/>
            <a:chExt cx="2489400" cy="3851280"/>
          </a:xfrm>
        </p:grpSpPr>
        <p:grpSp>
          <p:nvGrpSpPr>
            <p:cNvPr id="211" name=""/>
            <p:cNvGrpSpPr/>
            <p:nvPr/>
          </p:nvGrpSpPr>
          <p:grpSpPr>
            <a:xfrm>
              <a:off x="5562360" y="1447920"/>
              <a:ext cx="2489400" cy="3851280"/>
              <a:chOff x="5562360" y="1447920"/>
              <a:chExt cx="2489400" cy="385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13480" y="2133720"/>
                <a:ext cx="24382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rtualiz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62360" y="1447920"/>
                <a:ext cx="111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Logical View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22640" y="320076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NPIV H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146640" y="3800880"/>
                <a:ext cx="1393920" cy="761760"/>
                <a:chOff x="6146640" y="3800880"/>
                <a:chExt cx="1393920" cy="761760"/>
              </a:xfrm>
            </p:grpSpPr>
            <p:sp>
              <p:nvSpPr>
                <p:cNvPr id="216" name="Cloud"/>
                <p:cNvSpPr/>
                <p:nvPr/>
              </p:nvSpPr>
              <p:spPr>
                <a:xfrm>
                  <a:off x="6146640" y="3800880"/>
                  <a:ext cx="1393920" cy="761760"/>
                </a:xfrm>
                <a:prstGeom prst="pie">
                  <a:avLst/>
                </a:prstGeom>
                <a:solidFill>
                  <a:srgbClr val="0066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12600" y="3965760"/>
                  <a:ext cx="979200" cy="43452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bre 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hann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18" name=""/>
              <p:cNvGraphicFramePr/>
              <p:nvPr/>
            </p:nvGraphicFramePr>
            <p:xfrm>
              <a:off x="6146640" y="4791240"/>
              <a:ext cx="49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4664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"/>
              <p:cNvGraphicFramePr/>
              <p:nvPr/>
            </p:nvGraphicFramePr>
            <p:xfrm>
              <a:off x="6756480" y="4791240"/>
              <a:ext cx="490320" cy="507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56480" y="4791240"/>
                        <a:ext cx="490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"/>
              <p:cNvGraphicFramePr/>
              <p:nvPr/>
            </p:nvGraphicFramePr>
            <p:xfrm>
              <a:off x="7365960" y="4791240"/>
              <a:ext cx="490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960" y="4791240"/>
                        <a:ext cx="49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"/>
              <p:cNvSpPr/>
              <p:nvPr/>
            </p:nvSpPr>
            <p:spPr>
              <a:xfrm flipH="1">
                <a:off x="6298920" y="4486680"/>
                <a:ext cx="7596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08760" y="4486680"/>
                <a:ext cx="0" cy="38088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89640" y="4410360"/>
                <a:ext cx="152640" cy="457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756120" y="3515040"/>
                <a:ext cx="152280" cy="371520"/>
                <a:chOff x="6756120" y="3515040"/>
                <a:chExt cx="15228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 rot="5400000">
                  <a:off x="6794640" y="3476160"/>
                  <a:ext cx="74880" cy="1522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32800" y="358200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81328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5400" y="1905120"/>
                <a:ext cx="53352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37520" y="1905120"/>
                <a:ext cx="533160" cy="304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3100680"/>
              <a:ext cx="6098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533520" y="1870200"/>
            <a:ext cx="3047760" cy="4047480"/>
            <a:chOff x="533520" y="1870200"/>
            <a:chExt cx="3047760" cy="4047480"/>
          </a:xfrm>
        </p:grpSpPr>
        <p:sp>
          <p:nvSpPr>
            <p:cNvPr id="235" name=""/>
            <p:cNvSpPr/>
            <p:nvPr/>
          </p:nvSpPr>
          <p:spPr>
            <a:xfrm rot="10800000">
              <a:off x="1066320" y="3580920"/>
              <a:ext cx="1559160" cy="5331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99cc00"/>
                </a:gs>
              </a:gsLst>
              <a:lin ang="162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CoIB to FC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2120" y="3200400"/>
              <a:ext cx="152280" cy="380160"/>
              <a:chOff x="1752120" y="3200400"/>
              <a:chExt cx="152280" cy="38016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1790280" y="3466440"/>
                <a:ext cx="7560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28800" y="3200400"/>
                <a:ext cx="0" cy="30456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198440" y="2209680"/>
              <a:ext cx="30492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883880" y="2209680"/>
              <a:ext cx="304920" cy="3805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17400" y="2209680"/>
              <a:ext cx="609480" cy="4568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752120" y="4124160"/>
              <a:ext cx="152280" cy="370800"/>
              <a:chOff x="1752120" y="4124160"/>
              <a:chExt cx="152280" cy="370800"/>
            </a:xfrm>
          </p:grpSpPr>
          <p:sp>
            <p:nvSpPr>
              <p:cNvPr id="243" name=""/>
              <p:cNvSpPr/>
              <p:nvPr/>
            </p:nvSpPr>
            <p:spPr>
              <a:xfrm rot="5400000">
                <a:off x="1791000" y="4085280"/>
                <a:ext cx="74520" cy="15228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28800" y="4190760"/>
                <a:ext cx="0" cy="30420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19320" y="4419360"/>
              <a:ext cx="1393560" cy="761760"/>
              <a:chOff x="1219320" y="4419360"/>
              <a:chExt cx="1393560" cy="761760"/>
            </a:xfrm>
          </p:grpSpPr>
          <p:sp>
            <p:nvSpPr>
              <p:cNvPr id="246" name="Cloud"/>
              <p:cNvSpPr/>
              <p:nvPr/>
            </p:nvSpPr>
            <p:spPr>
              <a:xfrm>
                <a:off x="1219320" y="4419360"/>
                <a:ext cx="1393560" cy="761760"/>
              </a:xfrm>
              <a:prstGeom prst="pie">
                <a:avLst/>
              </a:prstGeom>
              <a:solidFill>
                <a:srgbClr val="0066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4560" y="4584240"/>
                <a:ext cx="979200" cy="43452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ibr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143000" y="2514600"/>
              <a:ext cx="1393920" cy="761400"/>
              <a:chOff x="1143000" y="2514600"/>
              <a:chExt cx="1393920" cy="761400"/>
            </a:xfrm>
          </p:grpSpPr>
          <p:sp>
            <p:nvSpPr>
              <p:cNvPr id="249" name="Cloud"/>
              <p:cNvSpPr/>
              <p:nvPr/>
            </p:nvSpPr>
            <p:spPr>
              <a:xfrm>
                <a:off x="1143000" y="2514600"/>
                <a:ext cx="1393920" cy="761400"/>
              </a:xfrm>
              <a:prstGeom prst="pie">
                <a:avLst/>
              </a:prstGeom>
              <a:solidFill>
                <a:srgbClr val="99cc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2360" y="2702880"/>
                <a:ext cx="116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iniB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1219320" y="5410080"/>
            <a:ext cx="490320" cy="507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5410080"/>
                      <a:ext cx="49032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1828800" y="5410080"/>
            <a:ext cx="490680" cy="50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2438280" y="5410080"/>
            <a:ext cx="490680" cy="507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8280" y="5410080"/>
                      <a:ext cx="490680" cy="50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 flipH="1">
              <a:off x="1371600" y="5105160"/>
              <a:ext cx="7632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160"/>
              <a:ext cx="0" cy="380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029200"/>
              <a:ext cx="152280" cy="456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570040" y="1870200"/>
              <a:ext cx="1011240" cy="485280"/>
              <a:chOff x="2570040" y="1870200"/>
              <a:chExt cx="1011240" cy="48528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70040" y="187020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205740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3" name=""/>
            <p:cNvGrpSpPr/>
            <p:nvPr/>
          </p:nvGrpSpPr>
          <p:grpSpPr>
            <a:xfrm>
              <a:off x="1523880" y="1904760"/>
              <a:ext cx="1011240" cy="485280"/>
              <a:chOff x="1523880" y="1904760"/>
              <a:chExt cx="1011240" cy="485280"/>
            </a:xfrm>
          </p:grpSpPr>
          <p:pic>
            <p:nvPicPr>
              <p:cNvPr id="2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2388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4932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533520" y="1904760"/>
              <a:ext cx="1011240" cy="485280"/>
              <a:chOff x="533520" y="1904760"/>
              <a:chExt cx="1011240" cy="485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1904760"/>
                <a:ext cx="101124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8960" y="2091960"/>
                <a:ext cx="390600" cy="29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9" name=""/>
          <p:cNvGrpSpPr/>
          <p:nvPr/>
        </p:nvGrpSpPr>
        <p:grpSpPr>
          <a:xfrm>
            <a:off x="2133720" y="2209680"/>
            <a:ext cx="2338560" cy="1981440"/>
            <a:chOff x="2133720" y="2209680"/>
            <a:chExt cx="2338560" cy="1981440"/>
          </a:xfrm>
        </p:grpSpPr>
        <p:sp>
          <p:nvSpPr>
            <p:cNvPr id="270" name=""/>
            <p:cNvSpPr/>
            <p:nvPr/>
          </p:nvSpPr>
          <p:spPr>
            <a:xfrm flipH="1">
              <a:off x="3352680" y="2209680"/>
              <a:ext cx="60984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33720" y="4191120"/>
              <a:ext cx="18288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2209680"/>
              <a:ext cx="0" cy="19814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2895480"/>
              <a:ext cx="1043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“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PC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 Narrow"/>
                </a:rPr>
                <a:t>extens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oIB Gateway – Stateless Packet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o 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 IB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contains entire FC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to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_ID lookup to retrieve addressing {LID, QPN, etc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28260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C frame as UD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62080" y="3124080"/>
            <a:ext cx="2087640" cy="384120"/>
            <a:chOff x="1162080" y="3124080"/>
            <a:chExt cx="2087640" cy="384120"/>
          </a:xfrm>
        </p:grpSpPr>
        <p:sp>
          <p:nvSpPr>
            <p:cNvPr id="278" name=""/>
            <p:cNvSpPr/>
            <p:nvPr/>
          </p:nvSpPr>
          <p:spPr>
            <a:xfrm>
              <a:off x="2817360" y="3125880"/>
              <a:ext cx="43236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2080" y="3125880"/>
              <a:ext cx="530280" cy="3823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3440" y="3124080"/>
              <a:ext cx="1123920" cy="38232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00360" y="3124080"/>
            <a:ext cx="2571840" cy="382680"/>
            <a:chOff x="3600360" y="3124080"/>
            <a:chExt cx="2571840" cy="382680"/>
          </a:xfrm>
        </p:grpSpPr>
        <p:sp>
          <p:nvSpPr>
            <p:cNvPr id="282" name=""/>
            <p:cNvSpPr/>
            <p:nvPr/>
          </p:nvSpPr>
          <p:spPr>
            <a:xfrm>
              <a:off x="3600360" y="3164040"/>
              <a:ext cx="1067040" cy="30456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8280" y="31240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62080" y="5559480"/>
            <a:ext cx="3505320" cy="384120"/>
            <a:chOff x="1162080" y="5559480"/>
            <a:chExt cx="3505320" cy="384120"/>
          </a:xfrm>
        </p:grpSpPr>
        <p:sp>
          <p:nvSpPr>
            <p:cNvPr id="285" name=""/>
            <p:cNvSpPr/>
            <p:nvPr/>
          </p:nvSpPr>
          <p:spPr>
            <a:xfrm>
              <a:off x="2817720" y="5560920"/>
              <a:ext cx="43200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C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2080" y="5560920"/>
              <a:ext cx="530280" cy="3826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 H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3800" y="5559480"/>
              <a:ext cx="1123920" cy="382680"/>
            </a:xfrm>
            <a:prstGeom prst="rect">
              <a:avLst/>
            </a:prstGeom>
            <a:gradFill rotWithShape="0">
              <a:gsLst>
                <a:gs pos="0">
                  <a:srgbClr val="752f75"/>
                </a:gs>
                <a:gs pos="50000">
                  <a:srgbClr val="ff66ff"/>
                </a:gs>
                <a:gs pos="100000">
                  <a:srgbClr val="75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C Fr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00360" y="559908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48280" y="5559480"/>
            <a:ext cx="1123920" cy="38268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CoIB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596960"/>
            <a:ext cx="8382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of Fibre Channel frames over IB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0 Physical is replaced by IB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1 Encode/Decode, Framing and Link Control are replaced by IB link and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enerated delimiters are encaps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65240">
              <a:lnSpc>
                <a:spcPct val="11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FCIP/iFCP RFC 3821/4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according to IB addresses (LID/GID/Q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-2 and above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ncept to IP over IB encapsulation (RFC 4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73000" y="22590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2760" y="18064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d FC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2160" y="1697040"/>
            <a:ext cx="0" cy="18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03960" y="1639800"/>
            <a:ext cx="0" cy="18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04804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45480" y="227160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5640" y="2270160"/>
            <a:ext cx="50328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720" y="173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1560" y="2271600"/>
            <a:ext cx="57636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779120" y="1736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15843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QP field indicates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2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2112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67200" y="2271600"/>
            <a:ext cx="73656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Hea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27120" y="2271600"/>
            <a:ext cx="64008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S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 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271600"/>
            <a:ext cx="761760" cy="685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. E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42620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QP indicates FC Nx_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HBA is an IB U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maintains mapping between FCID and IB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92800" y="2271600"/>
            <a:ext cx="681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07960" y="2270160"/>
            <a:ext cx="519120" cy="6872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9040" y="224316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17484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18360" y="3449520"/>
            <a:ext cx="13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920" y="3230640"/>
            <a:ext cx="14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C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B specific mechanism (T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rvice Record, IO Controller,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{GID,QPN} of the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GI between IB initiator and th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initiates an F_DISC with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rames can be relayed 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Dror Goldenberg</dc:creator>
  <dc:description/>
  <dc:language>en-US</dc:language>
  <cp:lastModifiedBy>Dror Goldenberg</cp:lastModifiedBy>
  <dcterms:modified xsi:type="dcterms:W3CDTF">2008-04-11T19:16:21Z</dcterms:modified>
  <cp:revision>135</cp:revision>
  <dc:subject/>
  <dc:title>FCoI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549263</vt:r8>
  </property>
  <property fmtid="{D5CDD505-2E9C-101B-9397-08002B2CF9AE}" pid="3" name="_AuthorEmail">
    <vt:lpwstr>gdror@mellanox.co.il</vt:lpwstr>
  </property>
  <property fmtid="{D5CDD505-2E9C-101B-9397-08002B2CF9AE}" pid="4" name="_AuthorEmailDisplayName">
    <vt:lpwstr>Dror Goldenberg</vt:lpwstr>
  </property>
  <property fmtid="{D5CDD505-2E9C-101B-9397-08002B2CF9AE}" pid="5" name="_EmailSubject">
    <vt:lpwstr>Presentation Slides</vt:lpwstr>
  </property>
  <property fmtid="{D5CDD505-2E9C-101B-9397-08002B2CF9AE}" pid="6" name="_NewReviewCycle">
    <vt:lpwstr/>
  </property>
</Properties>
</file>