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A6D-C70C-445E-9712-7161970E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8C6-7A8F-4605-9F89-8C9B774B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FD8-7FED-4BE4-98BB-3234847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8F6-56FE-4583-891F-C397E5C4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BBD-AABA-4552-A6A7-7C50A1D0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7C2-EFD0-4E17-AC3D-FBD85E83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FA7-8CDE-4B89-855D-E3614B43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009-FB09-42C3-A06C-2439C4E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0C4-0CC0-4D9C-9312-1DF53BC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289-F1C6-4F26-B2DC-FAF136A0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864-90EE-4817-A224-FC52C873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E8D-F816-4A49-BA58-46F2E24D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81160" y="1828800"/>
            <a:ext cx="4981680" cy="493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2280" y="304920"/>
            <a:ext cx="8839080" cy="1295280"/>
            <a:chOff x="152280" y="304920"/>
            <a:chExt cx="8839080" cy="1295280"/>
          </a:xfrm>
        </p:grpSpPr>
        <p:sp>
          <p:nvSpPr>
            <p:cNvPr id="3" name=""/>
            <p:cNvSpPr/>
            <p:nvPr/>
          </p:nvSpPr>
          <p:spPr>
            <a:xfrm>
              <a:off x="152280" y="3049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9080" y="3430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2362320"/>
            <a:ext cx="8839080" cy="1295280"/>
            <a:chOff x="152280" y="2362320"/>
            <a:chExt cx="8839080" cy="1295280"/>
          </a:xfrm>
        </p:grpSpPr>
        <p:sp>
          <p:nvSpPr>
            <p:cNvPr id="43" name=""/>
            <p:cNvSpPr/>
            <p:nvPr/>
          </p:nvSpPr>
          <p:spPr>
            <a:xfrm>
              <a:off x="152280" y="23623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9080" y="24004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1CC-FB35-4E08-8013-525DF094E235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0760" y="204840"/>
            <a:ext cx="2021040" cy="20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MPI OpenFabric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53000" y="5003640"/>
            <a:ext cx="163800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7360" y="379476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core”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est Portable Linux Processor Affinity (PLPA) release (see 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www.open-mpi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inding to specific socket/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ntegration to resource managers to allow them to handle affinity (post 1.3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ut of “Carto”[graphy]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and use topology of host,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selection, collectiv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release taking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decided 1.3 feature-driven,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years since initial 1.2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ove to a shorter plan relea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features planned for “post 1.3”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 Join U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www.open-mpi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denote: MPI Fo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Forum re-con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: bug fixes, consolidate to on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: “bigger”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: addition of entirely new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courage all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/ MPI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Vs who use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: April 28-30,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PI Current 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embers, 9 contributors, 1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research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1443240" cy="357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59120" y="347976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010280" y="6095880"/>
            <a:ext cx="1828800" cy="48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1480" cy="1059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91320" y="3276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4986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752480" y="579132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600200" y="449568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5334120" y="23623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505320" y="541008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4067280" y="4648320"/>
            <a:ext cx="1287360" cy="50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257800" y="525780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162920" y="5029200"/>
            <a:ext cx="1523880" cy="42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149960" y="323856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391520" y="22096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8064360" y="396252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8"/>
          <a:stretch/>
        </p:blipFill>
        <p:spPr>
          <a:xfrm>
            <a:off x="6616800" y="4038480"/>
            <a:ext cx="150480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9"/>
          <a:stretch/>
        </p:blipFill>
        <p:spPr>
          <a:xfrm>
            <a:off x="1752480" y="5029200"/>
            <a:ext cx="135576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0"/>
          <a:stretch/>
        </p:blipFill>
        <p:spPr>
          <a:xfrm>
            <a:off x="5257800" y="617220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3200400" y="4495680"/>
            <a:ext cx="609480" cy="61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38880" y="5638680"/>
            <a:ext cx="12463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3"/>
          <a:stretch/>
        </p:blipFill>
        <p:spPr>
          <a:xfrm>
            <a:off x="3352680" y="6324480"/>
            <a:ext cx="1727280" cy="3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5105520" y="4572000"/>
            <a:ext cx="1676160" cy="40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609480" y="6124680"/>
            <a:ext cx="5590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release series: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community release: v1.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3 includes: v1.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lude v1.2.6 in OFED v1.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wards next major series: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release date 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ing the ca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1.3: OpenFabrics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CM (many thanks Sean Hefty), RDMA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 queues with different size buffers (i.e., send on Q with closes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use of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UD [yet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iWARP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RDMA CM, auditing verbs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than initially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M support to OMPI was “h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ware, driver, and OMPI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mostly complete; still to-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 parameter 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orts / devices striping se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T3 does not support S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v_post_recv() ra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uses multiple QPs per peer pair (BS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l OMPI flow control goes on on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ed memory utilization will b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ssues fixed in “T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“initiator-must-send-first”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by hiding 0 byte RDMA read in Chelsio firmware / driver (NetEffect has simi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/ NIC-independent solution coming in OFED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huge” 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worked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and MVAPICH use the verbs stack very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out many, many latent vendor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other iWARP vendors to start testing / participating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Testing Tool (MTT) can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VA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L RoadRunner (LANL, I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C Ranger (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guar (ORN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T parallel debugger “understands” opaque MPI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pirTrace integration (tracefile / post-mortem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0:49:25Z</dcterms:created>
  <dc:creator>Brian Barrett</dc:creator>
  <dc:description/>
  <dc:language>en-US</dc:language>
  <cp:lastModifiedBy>Jeff Squyres</cp:lastModifiedBy>
  <dcterms:modified xsi:type="dcterms:W3CDTF">2008-04-08T16:44:59Z</dcterms:modified>
  <cp:revision>106</cp:revision>
  <dc:subject/>
  <dc:title>Fun with Build Systems</dc:title>
</cp:coreProperties>
</file>