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2C7E-7EEA-4796-A3C1-7108638D7D33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counts – ipoib traffic to the SRP target port will be caught be SRP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ault must be defined – place doesn’t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add multiple range lists? Can we use hex/base10 fre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s in unicast IPoIB do not find their way to mcast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we need to asign SL to parti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orts of traffic; different needs, need to provide these needs in a single fab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X: 8 + vl15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Ls can be configured 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-cast already support traffic class” !#?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v4 TOS, IPv6 TC,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iffserve code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_service_type – before address resolution, only affects new connec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 class for IPoIB – good only for QoS based on connected nodes, not flow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 Does IPoIB take the SL from the p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8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0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13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AB21-4AE4-41AA-A6D8-F6AC7B00743B}" type="slidenum">
              <a:rPr b="1" lang="he-IL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7" descr="Logo1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Text Box 18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OpenFabricLogo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0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Quality and Service in OFED 3.1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ran L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anox Technologies In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onfiguring SL-to-VL and VL Arbitra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eights are specified in 64 byte credi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 multiples of MTU/64 (e.g., 32 for 2K MTU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VLs with 0 credits are never schedule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pecial high-limit values: 0 – single packet, 255 – no limi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vice specific configu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A (_ca_), router (_rtr_), switch port 0 (_sw0), switch external ports (_swe_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"/>
          <p:cNvSpPr/>
          <p:nvPr/>
        </p:nvSpPr>
        <p:spPr>
          <a:xfrm>
            <a:off x="597960" y="3962520"/>
            <a:ext cx="8143560" cy="2270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# QoS default op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max_vls 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high_limit 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vlarb_high 0:32,1:0,2:0,3:0,4:0,5:0,6:0,7:0,8:0,9:0,10:0,11:0,12:0,13:0,14: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vlarb_low 0:0,1:32,2:32,3:32,4:32,5:32,6:32,7:32,8:32,9:32,10:32,11:32,12:32,13:32,14:3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sl2vl 0,1,2,3,4,5,6,7,8,9,10,11,12,13,14,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# QoS CA op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ca_max_vls 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ca_high_limit 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ca_vlarb_high 0:32,1:0,2:0,3:0,4:0,5:0,6:0,7:0,8:0,9:0,10:0,11:0,12:0,13:0,14: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ca_vlarb_low 0:0,1:32,2:32,3:32,4:32,5:32,6:32,7:32,8:32,9:32,10:32,11:32,12:32,13:32,14:3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ca_sl2vl 0,1,2,3,4,5,6,7,8,9,10,11,12,13,14,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QoS Policy Configura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417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le consists of the following optional section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os-ulp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ort-group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os-level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os-match-rul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wo configuration mod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mplifi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nly qos-ulps section requir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dvanc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vanced model takes precede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imple QoS Policy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igns SLs according to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PoIB with default / specified pke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DP / iSER / RDS with (optional) port rang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RP with target port gui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ny application with specific ServiceId / pkey / target port guid rang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rst rule takes precede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3956040"/>
            <a:ext cx="7159680" cy="228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qos-ul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sdp, port-num 10000-20000                    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sdp                                          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srp, target-port-guid 0x100000000000FFFF     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rds, port-num 25000                          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rds                                          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iser                                         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ipoib, pkey 0x0001                           :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ipoib                                        :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any, pkey 0x0ABC                             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default                                      :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(W1)"/>
                <a:ea typeface="Arial"/>
              </a:rPr>
              <a:t>end-qos-ul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dvanced QoS Policy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 port grou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 QoS lev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 level specifies requirements for SL, MTU, rate, etc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 matching rules that map PathRecord components to QoS lev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s port groups and partition names to facilitate syntax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dvanced QoS Policy – port group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d based 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GUID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Node description/por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artition nam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Key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ype (CA/Switch/etc.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ied by ‘name’ fiel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’ field is for logging onl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"/>
          <p:cNvSpPr/>
          <p:nvPr/>
        </p:nvSpPr>
        <p:spPr>
          <a:xfrm>
            <a:off x="4440240" y="1476360"/>
            <a:ext cx="4295520" cy="483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-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-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: SRP storage targ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-guid: 0x100000000000FF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-guid: 0x100000000000FF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port-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-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Virtual 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: node desc and IB port 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-name: ws1 HCA-1/P1, ws2 HCA-1/P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port-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-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Engine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ion: Par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key: 0x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port-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-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Switches and 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-type: SWITCH,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port-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port-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dvanced QoS Policy – QoS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5276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vel = subset of PathRecord attribu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L, MTU, Rate, packet-lif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s standard PathRecord encod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ied by ‘name’ fiel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’ field is for logging onl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"/>
          <p:cNvSpPr/>
          <p:nvPr/>
        </p:nvSpPr>
        <p:spPr>
          <a:xfrm>
            <a:off x="5655240" y="1679400"/>
            <a:ext cx="3106800" cy="392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: default QoS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l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qos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Low 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: for the lowest p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l: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qos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Whole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l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tu-limit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ate-limit: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et-life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qos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qos-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dvanced QoS Policy – Matching Rule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0" name=""/>
          <p:cNvSpPr/>
          <p:nvPr/>
        </p:nvSpPr>
        <p:spPr>
          <a:xfrm>
            <a:off x="4343400" y="1676520"/>
            <a:ext cx="4419720" cy="447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match-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match-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: by class 7-9 or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class: 7-9,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level-name: Whole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qos-match-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match-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: Storage targ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: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ice-id: 22,4719-5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level-name: 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qos-match-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match-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: match by all parameters (A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class: 7-9,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urce: Virtual 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: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ice-id: 22,4719-5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key: 0x0F00-0x0F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os-level-name: Whole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qos-match-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qos-match-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 rule maps a subse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ource port gro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estination port gro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rvice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o a QoS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irst matched rule w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Usecase 1: HPC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oS Level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PI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parate from I/O loa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in BW of 70%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torage Control (Lustre MDS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w latenc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torage Data (Lustre OST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in BW 30%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HPC QoS Administra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8276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P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pirun –sl 0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enS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oS policy file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Options file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332000" y="3110040"/>
            <a:ext cx="6592680" cy="1315080"/>
            <a:chOff x="1332000" y="3110040"/>
            <a:chExt cx="6592680" cy="1315080"/>
          </a:xfrm>
        </p:grpSpPr>
        <p:sp>
          <p:nvSpPr>
            <p:cNvPr id="297" name=""/>
            <p:cNvSpPr/>
            <p:nvPr/>
          </p:nvSpPr>
          <p:spPr>
            <a:xfrm>
              <a:off x="1332000" y="3110040"/>
              <a:ext cx="6592680" cy="1071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32000" y="3110040"/>
              <a:ext cx="651996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-ul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fault       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0 # default SL </a:t>
              </a: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for MP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ny, target-port-guid OST1,OST2,OST3,OST4 :1 # SL for Lustre O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ny, target-port-guid MDS1,MDS2           :2 # SL for Lustre M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nd-qos-ul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332000" y="4862520"/>
            <a:ext cx="6592680" cy="1467000"/>
            <a:chOff x="1332000" y="4862520"/>
            <a:chExt cx="6592680" cy="1467000"/>
          </a:xfrm>
        </p:grpSpPr>
        <p:sp>
          <p:nvSpPr>
            <p:cNvPr id="300" name=""/>
            <p:cNvSpPr/>
            <p:nvPr/>
          </p:nvSpPr>
          <p:spPr>
            <a:xfrm>
              <a:off x="1332000" y="4862520"/>
              <a:ext cx="6592680" cy="1018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32000" y="4862520"/>
              <a:ext cx="651996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max_vls=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high_limit=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vlarb_high=2: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vlarb_low=0:224,1:9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sl2vl=0,1,2,3,4,5,6,7,15,15,15,15,15,15,15,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Usecase 2: EDC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oS Level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nagement traffic (ssh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PoIB management VLAN (partition A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in BW 10%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pplication traffic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PoIB application VLAN (partition B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solated from storage and databas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in BW of 30%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atabase Cluster traffic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D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in BW of 30%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RP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in BW 30%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ottle neck at storage nod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oS motiv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finiBand QoS overview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st software suppor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B stac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L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oS manag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gramming QoS levels in the fabr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figuring a QoS poli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ample configur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DC QoS Administratio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9152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enS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oS policy fil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Options fil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artition configuration fil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219320" y="2133720"/>
            <a:ext cx="6781320" cy="1649520"/>
            <a:chOff x="1219320" y="2133720"/>
            <a:chExt cx="6781320" cy="1649520"/>
          </a:xfrm>
        </p:grpSpPr>
        <p:sp>
          <p:nvSpPr>
            <p:cNvPr id="307" name=""/>
            <p:cNvSpPr/>
            <p:nvPr/>
          </p:nvSpPr>
          <p:spPr>
            <a:xfrm>
              <a:off x="1219320" y="2133720"/>
              <a:ext cx="6781320" cy="135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19320" y="2133720"/>
              <a:ext cx="6707160" cy="16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-ul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fault                                 :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poib, pkey 0x8001                      :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poib, pkey 0x8002                      :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ds                                     :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rp, target-port-guid SRP1, SRP2, SRP3  :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nd-qos-ul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254240" y="3948120"/>
            <a:ext cx="6624360" cy="1467000"/>
            <a:chOff x="1254240" y="3948120"/>
            <a:chExt cx="6624360" cy="1467000"/>
          </a:xfrm>
        </p:grpSpPr>
        <p:sp>
          <p:nvSpPr>
            <p:cNvPr id="310" name=""/>
            <p:cNvSpPr/>
            <p:nvPr/>
          </p:nvSpPr>
          <p:spPr>
            <a:xfrm>
              <a:off x="1254240" y="3948120"/>
              <a:ext cx="6624360" cy="103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54240" y="3948120"/>
              <a:ext cx="655164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max_vls=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high_limit=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vlarb_high=1:32,2:96,3:96,4:9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vlarb_low=0:1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os_sl2vl=0,1,2,3,4,5,6,7,15,15,15,15,15,15,15,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247760" y="5532480"/>
            <a:ext cx="6524640" cy="641520"/>
            <a:chOff x="1247760" y="5532480"/>
            <a:chExt cx="6524640" cy="641520"/>
          </a:xfrm>
        </p:grpSpPr>
        <p:sp>
          <p:nvSpPr>
            <p:cNvPr id="313" name=""/>
            <p:cNvSpPr/>
            <p:nvPr/>
          </p:nvSpPr>
          <p:spPr>
            <a:xfrm>
              <a:off x="1247760" y="5532480"/>
              <a:ext cx="6524640" cy="624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47760" y="5532480"/>
              <a:ext cx="6453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fault=0x7fff,ipoib: ALL=full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tA=0x8001, sl=1, ipoib: ALL=full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tB=0x8002, sl=2, ipoib: ALL=full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Future Work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figuration file organiz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ove port groups to a different fil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d both by partition and QoS fil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ove SL/VL configuration to QoS fil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move QoS options from partition fil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se will be obtained by IPoIB from MGID PathRecor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 wildcards for port-name match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 “user friendly” aliases to SA attribute encodings (e.g., MTU256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 Traffic Class to matching ru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tend host-side Qo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BW limit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WRR scheduling between QP groups sharing the same S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oS in Infiniband is simple and elega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entrally managed, consistent throughout the fabr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ully functional in OFED1.3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ll ULPs are QoS awa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oS manager integrated in opens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figuration is a piece of cak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Just assign each ULP the desired service level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4"/>
          <p:cNvSpPr txBox="1"/>
          <p:nvPr/>
        </p:nvSpPr>
        <p:spPr>
          <a:xfrm>
            <a:off x="1447920" y="2743200"/>
            <a:ext cx="622908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nk You !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QoS Motiva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42674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ltiple data-center traffic typ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ch requires different service propert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BW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Latenc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liabilit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oS achieves these requirements on a unified wi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419720" y="1066680"/>
            <a:ext cx="4649760" cy="5374080"/>
            <a:chOff x="4419720" y="1066680"/>
            <a:chExt cx="4649760" cy="5374080"/>
          </a:xfrm>
        </p:grpSpPr>
        <p:sp>
          <p:nvSpPr>
            <p:cNvPr id="100" name=""/>
            <p:cNvSpPr/>
            <p:nvPr/>
          </p:nvSpPr>
          <p:spPr>
            <a:xfrm>
              <a:off x="4662360" y="2519280"/>
              <a:ext cx="3962520" cy="3048120"/>
            </a:xfrm>
            <a:custGeom>
              <a:avLst/>
              <a:gdLst/>
              <a:ahLst/>
              <a:rect l="l" t="t" r="r" b="b"/>
              <a:pathLst>
                <a:path w="3310" h="1086">
                  <a:moveTo>
                    <a:pt x="336" y="372"/>
                  </a:moveTo>
                  <a:cubicBezTo>
                    <a:pt x="334" y="98"/>
                    <a:pt x="1016" y="130"/>
                    <a:pt x="1069" y="181"/>
                  </a:cubicBezTo>
                  <a:cubicBezTo>
                    <a:pt x="1285" y="22"/>
                    <a:pt x="1513" y="100"/>
                    <a:pt x="1684" y="133"/>
                  </a:cubicBezTo>
                  <a:cubicBezTo>
                    <a:pt x="1904" y="6"/>
                    <a:pt x="2100" y="68"/>
                    <a:pt x="2208" y="118"/>
                  </a:cubicBezTo>
                  <a:cubicBezTo>
                    <a:pt x="2248" y="68"/>
                    <a:pt x="2680" y="0"/>
                    <a:pt x="2814" y="180"/>
                  </a:cubicBezTo>
                  <a:cubicBezTo>
                    <a:pt x="3018" y="208"/>
                    <a:pt x="3166" y="288"/>
                    <a:pt x="3064" y="392"/>
                  </a:cubicBezTo>
                  <a:cubicBezTo>
                    <a:pt x="3310" y="520"/>
                    <a:pt x="3072" y="680"/>
                    <a:pt x="2754" y="704"/>
                  </a:cubicBezTo>
                  <a:cubicBezTo>
                    <a:pt x="2722" y="812"/>
                    <a:pt x="2506" y="922"/>
                    <a:pt x="2114" y="850"/>
                  </a:cubicBezTo>
                  <a:cubicBezTo>
                    <a:pt x="2024" y="910"/>
                    <a:pt x="1756" y="1086"/>
                    <a:pt x="1244" y="896"/>
                  </a:cubicBezTo>
                  <a:cubicBezTo>
                    <a:pt x="1018" y="938"/>
                    <a:pt x="732" y="972"/>
                    <a:pt x="478" y="814"/>
                  </a:cubicBezTo>
                  <a:cubicBezTo>
                    <a:pt x="146" y="812"/>
                    <a:pt x="52" y="766"/>
                    <a:pt x="176" y="610"/>
                  </a:cubicBezTo>
                  <a:cubicBezTo>
                    <a:pt x="36" y="548"/>
                    <a:pt x="0" y="364"/>
                    <a:pt x="336" y="37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50000">
                  <a:srgbClr val="f1f1fe"/>
                </a:gs>
                <a:gs pos="100000">
                  <a:srgbClr val="ccccff"/>
                </a:gs>
              </a:gsLst>
              <a:lin ang="8100000"/>
            </a:gradFill>
            <a:ln w="12600">
              <a:solidFill>
                <a:srgbClr val="ccccff"/>
              </a:solidFill>
              <a:round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329600" y="5186520"/>
              <a:ext cx="455400" cy="304560"/>
              <a:chOff x="7329600" y="5186520"/>
              <a:chExt cx="455400" cy="304560"/>
            </a:xfrm>
          </p:grpSpPr>
          <p:sp>
            <p:nvSpPr>
              <p:cNvPr id="102" name=""/>
              <p:cNvSpPr/>
              <p:nvPr/>
            </p:nvSpPr>
            <p:spPr>
              <a:xfrm>
                <a:off x="7329600" y="5186520"/>
                <a:ext cx="455400" cy="3045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>
                      <a:alpha val="75294"/>
                    </a:srgbClr>
                  </a:gs>
                  <a:gs pos="100000">
                    <a:srgbClr val="b5b5b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4160" y="5338440"/>
                <a:ext cx="0" cy="75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81520" y="5338440"/>
                <a:ext cx="0" cy="75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57840" y="5338440"/>
                <a:ext cx="0" cy="75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7869240" y="2085840"/>
              <a:ext cx="9842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Administrato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7481880" y="5338800"/>
              <a:ext cx="455760" cy="304920"/>
              <a:chOff x="7481880" y="5338800"/>
              <a:chExt cx="455760" cy="304920"/>
            </a:xfrm>
          </p:grpSpPr>
          <p:sp>
            <p:nvSpPr>
              <p:cNvPr id="108" name=""/>
              <p:cNvSpPr/>
              <p:nvPr/>
            </p:nvSpPr>
            <p:spPr>
              <a:xfrm>
                <a:off x="7481880" y="5338800"/>
                <a:ext cx="455760" cy="3049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>
                      <a:alpha val="75294"/>
                    </a:srgbClr>
                  </a:gs>
                  <a:gs pos="100000">
                    <a:srgbClr val="b5b5b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786800" y="549108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34160" y="549108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710480" y="549108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710480" y="5491080"/>
              <a:ext cx="455760" cy="304920"/>
              <a:chOff x="7710480" y="5491080"/>
              <a:chExt cx="455760" cy="304920"/>
            </a:xfrm>
          </p:grpSpPr>
          <p:sp>
            <p:nvSpPr>
              <p:cNvPr id="113" name=""/>
              <p:cNvSpPr/>
              <p:nvPr/>
            </p:nvSpPr>
            <p:spPr>
              <a:xfrm>
                <a:off x="7710480" y="5491080"/>
                <a:ext cx="455760" cy="3049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>
                      <a:alpha val="75294"/>
                    </a:srgbClr>
                  </a:gs>
                  <a:gs pos="100000">
                    <a:srgbClr val="b5b5b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015400" y="564336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862760" y="564336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939080" y="564336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4794120" y="5262480"/>
              <a:ext cx="101124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"/>
            <p:cNvGrpSpPr/>
            <p:nvPr/>
          </p:nvGrpSpPr>
          <p:grpSpPr>
            <a:xfrm>
              <a:off x="6948360" y="3052800"/>
              <a:ext cx="1143000" cy="1066680"/>
              <a:chOff x="6948360" y="3052800"/>
              <a:chExt cx="1143000" cy="1066680"/>
            </a:xfrm>
          </p:grpSpPr>
          <p:sp>
            <p:nvSpPr>
              <p:cNvPr id="119" name=""/>
              <p:cNvSpPr/>
              <p:nvPr/>
            </p:nvSpPr>
            <p:spPr>
              <a:xfrm>
                <a:off x="6948360" y="3052800"/>
                <a:ext cx="1143000" cy="1066680"/>
              </a:xfrm>
              <a:custGeom>
                <a:avLst/>
                <a:gdLst/>
                <a:ahLst/>
                <a:rect l="l" t="t" r="r" b="b"/>
                <a:pathLst>
                  <a:path w="3310" h="1086">
                    <a:moveTo>
                      <a:pt x="336" y="372"/>
                    </a:moveTo>
                    <a:cubicBezTo>
                      <a:pt x="334" y="98"/>
                      <a:pt x="1016" y="130"/>
                      <a:pt x="1069" y="181"/>
                    </a:cubicBezTo>
                    <a:cubicBezTo>
                      <a:pt x="1285" y="22"/>
                      <a:pt x="1513" y="100"/>
                      <a:pt x="1684" y="133"/>
                    </a:cubicBezTo>
                    <a:cubicBezTo>
                      <a:pt x="1904" y="6"/>
                      <a:pt x="2100" y="68"/>
                      <a:pt x="2208" y="118"/>
                    </a:cubicBezTo>
                    <a:cubicBezTo>
                      <a:pt x="2248" y="68"/>
                      <a:pt x="2680" y="0"/>
                      <a:pt x="2814" y="180"/>
                    </a:cubicBezTo>
                    <a:cubicBezTo>
                      <a:pt x="3018" y="208"/>
                      <a:pt x="3166" y="288"/>
                      <a:pt x="3064" y="392"/>
                    </a:cubicBezTo>
                    <a:cubicBezTo>
                      <a:pt x="3310" y="520"/>
                      <a:pt x="3072" y="680"/>
                      <a:pt x="2754" y="704"/>
                    </a:cubicBezTo>
                    <a:cubicBezTo>
                      <a:pt x="2722" y="812"/>
                      <a:pt x="2506" y="922"/>
                      <a:pt x="2114" y="850"/>
                    </a:cubicBezTo>
                    <a:cubicBezTo>
                      <a:pt x="2024" y="910"/>
                      <a:pt x="1756" y="1086"/>
                      <a:pt x="1244" y="896"/>
                    </a:cubicBezTo>
                    <a:cubicBezTo>
                      <a:pt x="1018" y="938"/>
                      <a:pt x="732" y="972"/>
                      <a:pt x="478" y="814"/>
                    </a:cubicBezTo>
                    <a:cubicBezTo>
                      <a:pt x="146" y="812"/>
                      <a:pt x="52" y="766"/>
                      <a:pt x="176" y="610"/>
                    </a:cubicBezTo>
                    <a:cubicBezTo>
                      <a:pt x="36" y="548"/>
                      <a:pt x="0" y="364"/>
                      <a:pt x="336" y="372"/>
                    </a:cubicBezTo>
                    <a:close/>
                  </a:path>
                </a:pathLst>
              </a:custGeom>
              <a:solidFill>
                <a:srgbClr val="33cccc"/>
              </a:solidFill>
              <a:ln w="12600">
                <a:solidFill>
                  <a:srgbClr val="ccccff"/>
                </a:solidFill>
                <a:round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161120" y="3417840"/>
                <a:ext cx="777960" cy="276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or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7939080" y="3738600"/>
              <a:ext cx="457200" cy="83808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15200" y="2106720"/>
              <a:ext cx="1218960" cy="109836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53080" y="2335320"/>
              <a:ext cx="1600200" cy="86976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43600" y="2335320"/>
              <a:ext cx="2057400" cy="102240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58200" y="3967200"/>
              <a:ext cx="0" cy="121932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805360" y="3338640"/>
              <a:ext cx="1143000" cy="704880"/>
              <a:chOff x="5805360" y="3338640"/>
              <a:chExt cx="1143000" cy="704880"/>
            </a:xfrm>
          </p:grpSpPr>
          <p:sp>
            <p:nvSpPr>
              <p:cNvPr id="127" name=""/>
              <p:cNvSpPr/>
              <p:nvPr/>
            </p:nvSpPr>
            <p:spPr>
              <a:xfrm>
                <a:off x="5805360" y="3338640"/>
                <a:ext cx="1143000" cy="704880"/>
              </a:xfrm>
              <a:custGeom>
                <a:avLst/>
                <a:gdLst/>
                <a:ahLst/>
                <a:rect l="l" t="t" r="r" b="b"/>
                <a:pathLst>
                  <a:path w="3310" h="1086">
                    <a:moveTo>
                      <a:pt x="336" y="372"/>
                    </a:moveTo>
                    <a:cubicBezTo>
                      <a:pt x="334" y="98"/>
                      <a:pt x="1016" y="130"/>
                      <a:pt x="1069" y="181"/>
                    </a:cubicBezTo>
                    <a:cubicBezTo>
                      <a:pt x="1285" y="22"/>
                      <a:pt x="1513" y="100"/>
                      <a:pt x="1684" y="133"/>
                    </a:cubicBezTo>
                    <a:cubicBezTo>
                      <a:pt x="1904" y="6"/>
                      <a:pt x="2100" y="68"/>
                      <a:pt x="2208" y="118"/>
                    </a:cubicBezTo>
                    <a:cubicBezTo>
                      <a:pt x="2248" y="68"/>
                      <a:pt x="2680" y="0"/>
                      <a:pt x="2814" y="180"/>
                    </a:cubicBezTo>
                    <a:cubicBezTo>
                      <a:pt x="3018" y="208"/>
                      <a:pt x="3166" y="288"/>
                      <a:pt x="3064" y="392"/>
                    </a:cubicBezTo>
                    <a:cubicBezTo>
                      <a:pt x="3310" y="520"/>
                      <a:pt x="3072" y="680"/>
                      <a:pt x="2754" y="704"/>
                    </a:cubicBezTo>
                    <a:cubicBezTo>
                      <a:pt x="2722" y="812"/>
                      <a:pt x="2506" y="922"/>
                      <a:pt x="2114" y="850"/>
                    </a:cubicBezTo>
                    <a:cubicBezTo>
                      <a:pt x="2024" y="910"/>
                      <a:pt x="1756" y="1086"/>
                      <a:pt x="1244" y="896"/>
                    </a:cubicBezTo>
                    <a:cubicBezTo>
                      <a:pt x="1018" y="938"/>
                      <a:pt x="732" y="972"/>
                      <a:pt x="478" y="814"/>
                    </a:cubicBezTo>
                    <a:cubicBezTo>
                      <a:pt x="146" y="812"/>
                      <a:pt x="52" y="766"/>
                      <a:pt x="176" y="610"/>
                    </a:cubicBezTo>
                    <a:cubicBezTo>
                      <a:pt x="36" y="548"/>
                      <a:pt x="0" y="364"/>
                      <a:pt x="336" y="372"/>
                    </a:cubicBezTo>
                    <a:close/>
                  </a:path>
                </a:pathLst>
              </a:custGeom>
              <a:solidFill>
                <a:srgbClr val="ff9900"/>
              </a:solidFill>
              <a:ln w="12600">
                <a:solidFill>
                  <a:srgbClr val="ccccff"/>
                </a:solidFill>
                <a:round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018120" y="3579840"/>
                <a:ext cx="777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P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043600" y="2335320"/>
              <a:ext cx="990360" cy="11397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53080" y="2279520"/>
              <a:ext cx="685800" cy="11289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15200" y="2138400"/>
              <a:ext cx="152280" cy="1270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15000" y="5514840"/>
              <a:ext cx="984240" cy="4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IB-Ethernet Gatewa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34160" y="2563920"/>
              <a:ext cx="1067040" cy="609480"/>
            </a:xfrm>
            <a:custGeom>
              <a:avLst/>
              <a:gdLst/>
              <a:ahLst/>
              <a:rect l="l" t="t" r="r" b="b"/>
              <a:pathLst>
                <a:path w="3310" h="1086">
                  <a:moveTo>
                    <a:pt x="336" y="372"/>
                  </a:moveTo>
                  <a:cubicBezTo>
                    <a:pt x="334" y="98"/>
                    <a:pt x="1016" y="130"/>
                    <a:pt x="1069" y="181"/>
                  </a:cubicBezTo>
                  <a:cubicBezTo>
                    <a:pt x="1285" y="22"/>
                    <a:pt x="1513" y="100"/>
                    <a:pt x="1684" y="133"/>
                  </a:cubicBezTo>
                  <a:cubicBezTo>
                    <a:pt x="1904" y="6"/>
                    <a:pt x="2100" y="68"/>
                    <a:pt x="2208" y="118"/>
                  </a:cubicBezTo>
                  <a:cubicBezTo>
                    <a:pt x="2248" y="68"/>
                    <a:pt x="2680" y="0"/>
                    <a:pt x="2814" y="180"/>
                  </a:cubicBezTo>
                  <a:cubicBezTo>
                    <a:pt x="3018" y="208"/>
                    <a:pt x="3166" y="288"/>
                    <a:pt x="3064" y="392"/>
                  </a:cubicBezTo>
                  <a:cubicBezTo>
                    <a:pt x="3310" y="520"/>
                    <a:pt x="3072" y="680"/>
                    <a:pt x="2754" y="704"/>
                  </a:cubicBezTo>
                  <a:cubicBezTo>
                    <a:pt x="2722" y="812"/>
                    <a:pt x="2506" y="922"/>
                    <a:pt x="2114" y="850"/>
                  </a:cubicBezTo>
                  <a:cubicBezTo>
                    <a:pt x="2024" y="910"/>
                    <a:pt x="1756" y="1086"/>
                    <a:pt x="1244" y="896"/>
                  </a:cubicBezTo>
                  <a:cubicBezTo>
                    <a:pt x="1018" y="938"/>
                    <a:pt x="732" y="972"/>
                    <a:pt x="478" y="814"/>
                  </a:cubicBezTo>
                  <a:cubicBezTo>
                    <a:pt x="146" y="812"/>
                    <a:pt x="52" y="766"/>
                    <a:pt x="176" y="610"/>
                  </a:cubicBezTo>
                  <a:cubicBezTo>
                    <a:pt x="36" y="548"/>
                    <a:pt x="0" y="364"/>
                    <a:pt x="336" y="372"/>
                  </a:cubicBez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cccff"/>
              </a:solidFill>
              <a:round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10480" y="2563920"/>
              <a:ext cx="91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o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7945560" y="1476360"/>
              <a:ext cx="758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890960" y="1066680"/>
              <a:ext cx="9842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Server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15400" y="5033880"/>
              <a:ext cx="9842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Fil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46800" y="5743440"/>
              <a:ext cx="13017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Block Stora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26040" y="4043520"/>
              <a:ext cx="18986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InfiniBand Subn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7975440" y="4500720"/>
              <a:ext cx="954360" cy="59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" name=""/>
            <p:cNvGrpSpPr/>
            <p:nvPr/>
          </p:nvGrpSpPr>
          <p:grpSpPr>
            <a:xfrm>
              <a:off x="5043600" y="4119480"/>
              <a:ext cx="1143000" cy="762120"/>
              <a:chOff x="5043600" y="4119480"/>
              <a:chExt cx="1143000" cy="762120"/>
            </a:xfrm>
          </p:grpSpPr>
          <p:sp>
            <p:nvSpPr>
              <p:cNvPr id="142" name=""/>
              <p:cNvSpPr/>
              <p:nvPr/>
            </p:nvSpPr>
            <p:spPr>
              <a:xfrm>
                <a:off x="5043600" y="4119480"/>
                <a:ext cx="1143000" cy="762120"/>
              </a:xfrm>
              <a:custGeom>
                <a:avLst/>
                <a:gdLst/>
                <a:ahLst/>
                <a:rect l="l" t="t" r="r" b="b"/>
                <a:pathLst>
                  <a:path w="3310" h="1086">
                    <a:moveTo>
                      <a:pt x="336" y="372"/>
                    </a:moveTo>
                    <a:cubicBezTo>
                      <a:pt x="334" y="98"/>
                      <a:pt x="1016" y="130"/>
                      <a:pt x="1069" y="181"/>
                    </a:cubicBezTo>
                    <a:cubicBezTo>
                      <a:pt x="1285" y="22"/>
                      <a:pt x="1513" y="100"/>
                      <a:pt x="1684" y="133"/>
                    </a:cubicBezTo>
                    <a:cubicBezTo>
                      <a:pt x="1904" y="6"/>
                      <a:pt x="2100" y="68"/>
                      <a:pt x="2208" y="118"/>
                    </a:cubicBezTo>
                    <a:cubicBezTo>
                      <a:pt x="2248" y="68"/>
                      <a:pt x="2680" y="0"/>
                      <a:pt x="2814" y="180"/>
                    </a:cubicBezTo>
                    <a:cubicBezTo>
                      <a:pt x="3018" y="208"/>
                      <a:pt x="3166" y="288"/>
                      <a:pt x="3064" y="392"/>
                    </a:cubicBezTo>
                    <a:cubicBezTo>
                      <a:pt x="3310" y="520"/>
                      <a:pt x="3072" y="680"/>
                      <a:pt x="2754" y="704"/>
                    </a:cubicBezTo>
                    <a:cubicBezTo>
                      <a:pt x="2722" y="812"/>
                      <a:pt x="2506" y="922"/>
                      <a:pt x="2114" y="850"/>
                    </a:cubicBezTo>
                    <a:cubicBezTo>
                      <a:pt x="2024" y="910"/>
                      <a:pt x="1756" y="1086"/>
                      <a:pt x="1244" y="896"/>
                    </a:cubicBezTo>
                    <a:cubicBezTo>
                      <a:pt x="1018" y="938"/>
                      <a:pt x="732" y="972"/>
                      <a:pt x="478" y="814"/>
                    </a:cubicBezTo>
                    <a:cubicBezTo>
                      <a:pt x="146" y="812"/>
                      <a:pt x="52" y="766"/>
                      <a:pt x="176" y="610"/>
                    </a:cubicBezTo>
                    <a:cubicBezTo>
                      <a:pt x="36" y="548"/>
                      <a:pt x="0" y="364"/>
                      <a:pt x="336" y="372"/>
                    </a:cubicBezTo>
                    <a:close/>
                  </a:path>
                </a:pathLst>
              </a:custGeom>
              <a:solidFill>
                <a:srgbClr val="800080"/>
              </a:solidFill>
              <a:ln w="12600">
                <a:solidFill>
                  <a:srgbClr val="ccccff"/>
                </a:solidFill>
                <a:round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56360" y="4380120"/>
                <a:ext cx="777960" cy="2764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e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H="1">
              <a:off x="5958000" y="2106720"/>
              <a:ext cx="457200" cy="208908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424120" y="2290680"/>
              <a:ext cx="228600" cy="198144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43600" y="2336760"/>
              <a:ext cx="152280" cy="20113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424480" y="4805280"/>
              <a:ext cx="152280" cy="5335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24880" y="1986120"/>
              <a:ext cx="444600" cy="806400"/>
            </a:xfrm>
            <a:custGeom>
              <a:avLst/>
              <a:gdLst/>
              <a:ahLst/>
              <a:rect l="l" t="t" r="r" b="b"/>
              <a:pathLst>
                <a:path w="568" h="576">
                  <a:moveTo>
                    <a:pt x="240" y="0"/>
                  </a:moveTo>
                  <a:cubicBezTo>
                    <a:pt x="404" y="72"/>
                    <a:pt x="568" y="144"/>
                    <a:pt x="528" y="240"/>
                  </a:cubicBezTo>
                  <a:cubicBezTo>
                    <a:pt x="488" y="336"/>
                    <a:pt x="244" y="456"/>
                    <a:pt x="0" y="576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719400" y="3935520"/>
              <a:ext cx="685800" cy="160020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4"/>
            <a:stretch/>
          </p:blipFill>
          <p:spPr>
            <a:xfrm>
              <a:off x="6186600" y="5459400"/>
              <a:ext cx="101124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62560" y="5764320"/>
              <a:ext cx="98424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IB-Fibre Channel Gatewa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890960" y="2030400"/>
              <a:ext cx="152280" cy="336600"/>
              <a:chOff x="4890960" y="2030400"/>
              <a:chExt cx="152280" cy="336600"/>
            </a:xfrm>
          </p:grpSpPr>
          <p:sp>
            <p:nvSpPr>
              <p:cNvPr id="153" name=""/>
              <p:cNvSpPr/>
              <p:nvPr/>
            </p:nvSpPr>
            <p:spPr>
              <a:xfrm>
                <a:off x="4890960" y="2062080"/>
                <a:ext cx="152280" cy="3049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890960" y="2030400"/>
                <a:ext cx="152280" cy="3049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5464080" y="1825560"/>
              <a:ext cx="182160" cy="525240"/>
              <a:chOff x="5464080" y="1825560"/>
              <a:chExt cx="182160" cy="525240"/>
            </a:xfrm>
          </p:grpSpPr>
          <p:sp>
            <p:nvSpPr>
              <p:cNvPr id="156" name=""/>
              <p:cNvSpPr/>
              <p:nvPr/>
            </p:nvSpPr>
            <p:spPr>
              <a:xfrm>
                <a:off x="5464080" y="1874880"/>
                <a:ext cx="182160" cy="4759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64080" y="1825560"/>
                <a:ext cx="182160" cy="4759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8" name="" descr=""/>
            <p:cNvPicPr/>
            <p:nvPr/>
          </p:nvPicPr>
          <p:blipFill>
            <a:blip r:embed="rId5"/>
            <a:stretch/>
          </p:blipFill>
          <p:spPr>
            <a:xfrm>
              <a:off x="5127480" y="1414440"/>
              <a:ext cx="51444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6"/>
            <a:stretch/>
          </p:blipFill>
          <p:spPr>
            <a:xfrm>
              <a:off x="4419720" y="1536840"/>
              <a:ext cx="568080" cy="64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"/>
            <p:cNvGrpSpPr/>
            <p:nvPr/>
          </p:nvGrpSpPr>
          <p:grpSpPr>
            <a:xfrm>
              <a:off x="6284880" y="1720800"/>
              <a:ext cx="131760" cy="441000"/>
              <a:chOff x="6284880" y="1720800"/>
              <a:chExt cx="131760" cy="441000"/>
            </a:xfrm>
          </p:grpSpPr>
          <p:sp>
            <p:nvSpPr>
              <p:cNvPr id="161" name=""/>
              <p:cNvSpPr/>
              <p:nvPr/>
            </p:nvSpPr>
            <p:spPr>
              <a:xfrm>
                <a:off x="6284880" y="1762200"/>
                <a:ext cx="131760" cy="399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284880" y="1720800"/>
                <a:ext cx="131760" cy="399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6524640" y="1754280"/>
              <a:ext cx="9842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Unified I/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423120" y="190656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7"/>
            <a:stretch/>
          </p:blipFill>
          <p:spPr>
            <a:xfrm>
              <a:off x="5942160" y="1344600"/>
              <a:ext cx="493560" cy="560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QoS in Infiniband – Overview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finiband fabrics support up to 15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Virtual Lan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VLs) for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ach virtual lane has dedicated resourc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irtual lanes are arbitrated at each host/switch using a dual-priority Weighted Round Robin (WRR) sche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ows are classified into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Service Level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SLs) at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end nod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ach packet sent is marked with the corresponding S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ckets are mapped to VLs in each link according to their S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800600" y="1752480"/>
            <a:ext cx="3918240" cy="1372680"/>
            <a:chOff x="4800600" y="1752480"/>
            <a:chExt cx="3918240" cy="1372680"/>
          </a:xfrm>
        </p:grpSpPr>
        <p:sp>
          <p:nvSpPr>
            <p:cNvPr id="169" name=""/>
            <p:cNvSpPr/>
            <p:nvPr/>
          </p:nvSpPr>
          <p:spPr>
            <a:xfrm>
              <a:off x="4800600" y="1752480"/>
              <a:ext cx="3886200" cy="1143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5066280" y="1970640"/>
              <a:ext cx="166680" cy="53352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5400000">
              <a:off x="4915440" y="2212200"/>
              <a:ext cx="96840" cy="414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5005800" y="2212200"/>
              <a:ext cx="96840" cy="414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5052960" y="221292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5400000">
              <a:off x="5097240" y="221292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5143320" y="221292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4961520" y="2212200"/>
              <a:ext cx="96840" cy="4104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5187600" y="2212920"/>
              <a:ext cx="96840" cy="3996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5063040" y="1759680"/>
              <a:ext cx="16668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5400000">
              <a:off x="4905000" y="2008080"/>
              <a:ext cx="96840" cy="399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4995720" y="200808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5039280" y="2007360"/>
              <a:ext cx="96840" cy="410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5400000">
              <a:off x="5086080" y="200808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5400000">
              <a:off x="5129640" y="2007360"/>
              <a:ext cx="96840" cy="41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4951080" y="2008080"/>
              <a:ext cx="96840" cy="399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5174280" y="2007360"/>
              <a:ext cx="96840" cy="410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5400000">
              <a:off x="5063040" y="2191320"/>
              <a:ext cx="166680" cy="53352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5400000">
              <a:off x="4912200" y="2432880"/>
              <a:ext cx="96840" cy="414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5400000">
              <a:off x="5002560" y="2432880"/>
              <a:ext cx="96840" cy="414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5400000">
              <a:off x="5049720" y="243360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5094000" y="243360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5140080" y="243360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5400000">
              <a:off x="4958280" y="2432880"/>
              <a:ext cx="96840" cy="414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5400000">
              <a:off x="5184720" y="243360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5400000">
              <a:off x="5066280" y="2402280"/>
              <a:ext cx="166680" cy="53352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5400000">
              <a:off x="4915440" y="2643840"/>
              <a:ext cx="96840" cy="4140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5400000">
              <a:off x="5005800" y="2643840"/>
              <a:ext cx="96840" cy="4140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5400000">
              <a:off x="5052960" y="264456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5400000">
              <a:off x="5097240" y="264456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5400000">
              <a:off x="5143320" y="2644560"/>
              <a:ext cx="96840" cy="3960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4961520" y="2643840"/>
              <a:ext cx="96840" cy="4104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5400000">
              <a:off x="5187600" y="2644560"/>
              <a:ext cx="96840" cy="399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31080" y="1905120"/>
              <a:ext cx="534960" cy="38736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Tahoma"/>
                </a:rPr>
                <a:t>High</a:t>
              </a:r>
              <a:br>
                <a:rPr sz="800"/>
              </a:br>
              <a:r>
                <a:rPr b="1" lang="en-GB" sz="800" spc="-1" strike="noStrike">
                  <a:solidFill>
                    <a:srgbClr val="ffffff"/>
                  </a:solidFill>
                  <a:latin typeface="Tahoma"/>
                </a:rPr>
                <a:t>Prior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Tahoma"/>
                </a:rPr>
                <a:t>WR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31080" y="2432160"/>
              <a:ext cx="534960" cy="38736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Tahoma"/>
                </a:rPr>
                <a:t>Low</a:t>
              </a:r>
              <a:br>
                <a:rPr sz="800"/>
              </a:br>
              <a:r>
                <a:rPr b="1" lang="en-GB" sz="800" spc="-1" strike="noStrike">
                  <a:solidFill>
                    <a:srgbClr val="ffffff"/>
                  </a:solidFill>
                  <a:latin typeface="Tahoma"/>
                </a:rPr>
                <a:t>Prior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Tahoma"/>
                </a:rPr>
                <a:t>WR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13320" y="2009880"/>
              <a:ext cx="617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13320" y="2220840"/>
              <a:ext cx="617760" cy="35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13320" y="2467080"/>
              <a:ext cx="617760" cy="21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13320" y="2712960"/>
              <a:ext cx="617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6608880" y="2060640"/>
              <a:ext cx="2109960" cy="515160"/>
              <a:chOff x="6608880" y="2060640"/>
              <a:chExt cx="2109960" cy="515160"/>
            </a:xfrm>
          </p:grpSpPr>
          <p:sp>
            <p:nvSpPr>
              <p:cNvPr id="209" name=""/>
              <p:cNvSpPr/>
              <p:nvPr/>
            </p:nvSpPr>
            <p:spPr>
              <a:xfrm>
                <a:off x="7186680" y="2116080"/>
                <a:ext cx="536400" cy="387000"/>
              </a:xfrm>
              <a:prstGeom prst="rect">
                <a:avLst/>
              </a:prstGeom>
              <a:solidFill>
                <a:srgbClr val="3333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800" spc="-1" strike="noStrike">
                    <a:solidFill>
                      <a:srgbClr val="ffffff"/>
                    </a:solidFill>
                    <a:latin typeface="Tahoma"/>
                  </a:rPr>
                  <a:t>Priorit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800" spc="-1" strike="noStrike">
                    <a:solidFill>
                      <a:srgbClr val="ffffff"/>
                    </a:solidFill>
                    <a:latin typeface="Tahoma"/>
                  </a:rPr>
                  <a:t>Selec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08880" y="2081160"/>
                <a:ext cx="57780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6608880" y="2358720"/>
                <a:ext cx="577800" cy="21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64480" y="2292120"/>
                <a:ext cx="288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910280" y="2060640"/>
                <a:ext cx="808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ahoma"/>
                  </a:rPr>
                  <a:t>Packe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ahoma"/>
                  </a:rPr>
                  <a:t>to b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ahoma"/>
                  </a:rPr>
                  <a:t>Transmitte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120640" y="2878920"/>
              <a:ext cx="312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000" spc="-1" strike="noStrike">
                  <a:solidFill>
                    <a:srgbClr val="663300"/>
                  </a:solidFill>
                  <a:latin typeface="Arial"/>
                </a:rPr>
                <a:t>H/L Weighted Round Robin (WRR) VL Arbit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952880" y="3352680"/>
            <a:ext cx="3427560" cy="2438640"/>
            <a:chOff x="4952880" y="3352680"/>
            <a:chExt cx="3427560" cy="2438640"/>
          </a:xfrm>
        </p:grpSpPr>
        <p:grpSp>
          <p:nvGrpSpPr>
            <p:cNvPr id="216" name=""/>
            <p:cNvGrpSpPr/>
            <p:nvPr/>
          </p:nvGrpSpPr>
          <p:grpSpPr>
            <a:xfrm>
              <a:off x="7924680" y="5181480"/>
              <a:ext cx="455760" cy="304920"/>
              <a:chOff x="7924680" y="5181480"/>
              <a:chExt cx="455760" cy="304920"/>
            </a:xfrm>
          </p:grpSpPr>
          <p:sp>
            <p:nvSpPr>
              <p:cNvPr id="217" name=""/>
              <p:cNvSpPr/>
              <p:nvPr/>
            </p:nvSpPr>
            <p:spPr>
              <a:xfrm>
                <a:off x="7924680" y="5181480"/>
                <a:ext cx="455760" cy="3049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>
                      <a:alpha val="75294"/>
                    </a:srgbClr>
                  </a:gs>
                  <a:gs pos="100000">
                    <a:srgbClr val="b5b5b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229600" y="533376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076960" y="533376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153280" y="533376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5562720" y="3352680"/>
              <a:ext cx="4572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4952880" y="4952880"/>
              <a:ext cx="4572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3"/>
            <a:stretch/>
          </p:blipFill>
          <p:spPr>
            <a:xfrm>
              <a:off x="7162920" y="3429000"/>
              <a:ext cx="457200" cy="76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4" name=""/>
            <p:cNvGrpSpPr/>
            <p:nvPr/>
          </p:nvGrpSpPr>
          <p:grpSpPr>
            <a:xfrm>
              <a:off x="6935760" y="5486400"/>
              <a:ext cx="455760" cy="304920"/>
              <a:chOff x="6935760" y="5486400"/>
              <a:chExt cx="455760" cy="304920"/>
            </a:xfrm>
          </p:grpSpPr>
          <p:sp>
            <p:nvSpPr>
              <p:cNvPr id="225" name=""/>
              <p:cNvSpPr/>
              <p:nvPr/>
            </p:nvSpPr>
            <p:spPr>
              <a:xfrm>
                <a:off x="6935760" y="5486400"/>
                <a:ext cx="455760" cy="3049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>
                      <a:alpha val="75294"/>
                    </a:srgbClr>
                  </a:gs>
                  <a:gs pos="100000">
                    <a:srgbClr val="b5b5b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240680" y="563868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088040" y="563868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164360" y="5638680"/>
                <a:ext cx="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 flipV="1">
              <a:off x="5562720" y="4952520"/>
              <a:ext cx="761760" cy="3812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324480" y="4723920"/>
              <a:ext cx="990720" cy="2286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15200" y="4724280"/>
              <a:ext cx="609480" cy="457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4480" y="4952880"/>
              <a:ext cx="609840" cy="533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7315200" y="4267080"/>
              <a:ext cx="76320" cy="457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5867280" y="4191120"/>
              <a:ext cx="457200" cy="7617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5810400" y="4191120"/>
              <a:ext cx="457200" cy="761760"/>
            </a:xfrm>
            <a:prstGeom prst="line">
              <a:avLst/>
            </a:prstGeom>
            <a:ln w="57240">
              <a:solidFill>
                <a:srgbClr val="c5e0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5924520" y="4191120"/>
              <a:ext cx="457200" cy="761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5972040" y="4191120"/>
              <a:ext cx="457200" cy="761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324480" y="4676400"/>
              <a:ext cx="990720" cy="2286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324480" y="4771800"/>
              <a:ext cx="99072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6324480" y="4809600"/>
              <a:ext cx="99072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7267680" y="4267080"/>
              <a:ext cx="75960" cy="457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372440" y="4267080"/>
              <a:ext cx="75960" cy="4572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7419960" y="4267080"/>
              <a:ext cx="7632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562720" y="4896000"/>
              <a:ext cx="761760" cy="380880"/>
            </a:xfrm>
            <a:prstGeom prst="line">
              <a:avLst/>
            </a:prstGeom>
            <a:ln w="57240">
              <a:solidFill>
                <a:srgbClr val="9dca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5562720" y="5010120"/>
              <a:ext cx="761760" cy="3808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562720" y="5057280"/>
              <a:ext cx="761760" cy="38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8520" y="4952880"/>
              <a:ext cx="609480" cy="533520"/>
            </a:xfrm>
            <a:prstGeom prst="line">
              <a:avLst/>
            </a:prstGeom>
            <a:ln w="57240">
              <a:solidFill>
                <a:srgbClr val="9dca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91440" y="4952880"/>
              <a:ext cx="609480" cy="5335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58040" y="4952880"/>
              <a:ext cx="609480" cy="53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38880" y="4724280"/>
              <a:ext cx="609840" cy="457200"/>
            </a:xfrm>
            <a:prstGeom prst="line">
              <a:avLst/>
            </a:prstGeom>
            <a:ln w="57240">
              <a:solidFill>
                <a:srgbClr val="9dca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10600" y="4724280"/>
              <a:ext cx="609480" cy="4572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67480" y="4724280"/>
              <a:ext cx="60984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00640" y="4800600"/>
              <a:ext cx="38124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82000" y="4581360"/>
              <a:ext cx="38088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QoS in Infiniband (IB spec v1.2.1- A13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ministrator configures fabr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abric QoS level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L-to-VL mapping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/low VL arbitr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oS polic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plications send PathRecord queries to S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y also include additonal QoS field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rviceID, QoSCla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 consults QoS manager before reply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 Active QoS Management: fabric may be dynamically reconfigure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plications use PathRecord fields for sending traff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abric enforces QoS accordingl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352680"/>
            <a:ext cx="1981080" cy="1676520"/>
          </a:xfrm>
          <a:prstGeom prst="cloudCallout">
            <a:avLst>
              <a:gd name="adj1" fmla="val -77884"/>
              <a:gd name="adj2" fmla="val 30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SM, SA, and QoS man. Implemented by open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38880" y="1447920"/>
            <a:ext cx="381240" cy="1828800"/>
          </a:xfrm>
          <a:custGeom>
            <a:avLst/>
            <a:gdLst>
              <a:gd name="textAreaLeft" fmla="*/ 0 w 381240"/>
              <a:gd name="textAreaRight" fmla="*/ 137520 w 3812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96080" y="19051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n also be reconfigured at run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QoS in Infiniband (IB spec v1.2.1- A13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ministrator configures fabr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abric QoS level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L-to-VL mapping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/low VL arbitr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oS polic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plications send PathRecord queries to S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y also include additonal QoS field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rviceID, QoSCla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 consults QoS manager before reply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 Active QoS Management: fabric may be dynamically reconfigure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ents use PathRecord fields for sending traff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abric enforces QoS accordingl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3352680"/>
            <a:ext cx="1981080" cy="1676520"/>
          </a:xfrm>
          <a:prstGeom prst="cloudCallout">
            <a:avLst>
              <a:gd name="adj1" fmla="val -77884"/>
              <a:gd name="adj2" fmla="val 30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SM, SA, and QoS man. Implemented by open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1523880"/>
            <a:ext cx="1371600" cy="685800"/>
          </a:xfrm>
          <a:prstGeom prst="wedgeRoundRectCallout">
            <a:avLst>
              <a:gd name="adj1" fmla="val -49421"/>
              <a:gd name="adj2" fmla="val 24259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We will start with thi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2286000"/>
            <a:ext cx="1828800" cy="685800"/>
          </a:xfrm>
          <a:prstGeom prst="wedgeRoundRectCallout">
            <a:avLst>
              <a:gd name="adj1" fmla="val -57203"/>
              <a:gd name="adj2" fmla="val 7777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…</a:t>
            </a: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to know how to do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238880" y="1447920"/>
            <a:ext cx="381240" cy="1828800"/>
          </a:xfrm>
          <a:custGeom>
            <a:avLst/>
            <a:gdLst>
              <a:gd name="textAreaLeft" fmla="*/ 0 w 381240"/>
              <a:gd name="textAreaRight" fmla="*/ 137520 w 3812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96080" y="19051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n also be reconfigured at run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QoS in IB Stack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 Cli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ills in QoS related component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key, QoS-class, Traffic class, Service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terpretation left to QoS manager (opensm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turns desired SL, MTU, rate, packet-life time, etc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DMA C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ansport neutral interfa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s ServiceID, QoS class, and Traffic Class in path queri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rviceID is port-space prefix + po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QoS class used for IPv4 – ToS value from ‘rdma_set_service_type()’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affic class used for IPv6 – taken from sockaddr_in6 addre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QoS in ULP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417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R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Based on target port GUID (ServiceID is currently vendor specific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PoI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Based on global multicast group setting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ovides Pkey in each path resolutio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D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s RDMA CM service – provides ServiceI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S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s RDMA CM service – provides ServiceI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s RDMA CM service – provides ServiceI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P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urrently does not issue PathRecord queries (SM integration planned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051560" indent="-210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s SL given at command line directly and exchanges LIDs via TC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M Configura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levant configuration fi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artitions (/etc/ofa/opensm-partitions.conf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L/VL tables (/var/cache/opensm/opensm.opts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oS policy (/etc/ofa/opensm-qos-policy.conf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9:42:36Z</dcterms:created>
  <dc:creator>Brian Sparks</dc:creator>
  <dc:description/>
  <dc:language>en-US</dc:language>
  <cp:lastModifiedBy>liranl</cp:lastModifiedBy>
  <dcterms:modified xsi:type="dcterms:W3CDTF">2008-04-13T10:40:23Z</dcterms:modified>
  <cp:revision>276</cp:revision>
  <dc:subject/>
  <dc:title>Mellanox Corporate Pit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573552</vt:r8>
  </property>
  <property fmtid="{D5CDD505-2E9C-101B-9397-08002B2CF9AE}" pid="3" name="_AuthorEmail">
    <vt:lpwstr>liranl@mellanox.co.il</vt:lpwstr>
  </property>
  <property fmtid="{D5CDD505-2E9C-101B-9397-08002B2CF9AE}" pid="4" name="_AuthorEmailDisplayName">
    <vt:lpwstr>Liran Liss</vt:lpwstr>
  </property>
  <property fmtid="{D5CDD505-2E9C-101B-9397-08002B2CF9AE}" pid="5" name="_EmailSubject">
    <vt:lpwstr>Mellanox QoS and RMC Sonoma slides</vt:lpwstr>
  </property>
  <property fmtid="{D5CDD505-2E9C-101B-9397-08002B2CF9AE}" pid="6" name="_NewReviewCycle">
    <vt:lpwstr/>
  </property>
</Properties>
</file>