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3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560F-2EFF-4E68-BD5E-8F83FEBC8E99}" type="slidenum">
              <a:rPr b="1" lang="he-IL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0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Reliable Multicast (RMC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an L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Technologies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C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parent and child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responder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st receive WQEs to responder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control is application responsibility (E2E credits are disab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sender and respond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Send WQEs to parent QP (ibv_post_s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 completions on CQ associated with parent Q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Receive WQEs to responder QPs (ibv_post_rec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 completions on associated C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C tree uses a unique G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C tree uses N QPs at the 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lleviated using a MC tre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to-all R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RMC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host handles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Ps and N MG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able for small group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al RMC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node dispatches MC messages on behalf of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setup and connection estab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to All-to-all (multiple RMC set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to kernel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DMA-W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is an efficient mechanism for distributing large amounts of data to multiple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network utilization (switch re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SW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IB architecture with minor host-side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 ConnectX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patches to be submitted for review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447920" y="2743200"/>
            <a:ext cx="62290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!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X RMC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 and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is a model that establishes multicast communication using reliable connection (RC) service in Infiniband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s reliable in-order delivery of multi-packe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defined for channel semantics (send-rece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nhanced to support RDMA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analysis of massive amounts of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 online trading, live news and video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ing up of high performance MPI collectiv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ender / multiple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ceivers can exist on the sam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enders achieved using multiple RMC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vi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group member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complex group-communication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transport with an MGID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end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packets are duplicat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s are aggregated by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s in switch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–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311520" y="5331600"/>
            <a:ext cx="2374920" cy="460800"/>
            <a:chOff x="6311520" y="5331600"/>
            <a:chExt cx="2374920" cy="460800"/>
          </a:xfrm>
        </p:grpSpPr>
        <p:sp>
          <p:nvSpPr>
            <p:cNvPr id="96" name="Rectangle 9"/>
            <p:cNvSpPr/>
            <p:nvPr/>
          </p:nvSpPr>
          <p:spPr>
            <a:xfrm>
              <a:off x="6887520" y="5486400"/>
              <a:ext cx="17989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Responder QP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7"/>
            <p:cNvSpPr/>
            <p:nvPr/>
          </p:nvSpPr>
          <p:spPr>
            <a:xfrm>
              <a:off x="6684480" y="563868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96"/>
            <p:cNvGrpSpPr/>
            <p:nvPr/>
          </p:nvGrpSpPr>
          <p:grpSpPr>
            <a:xfrm>
              <a:off x="6311520" y="5331600"/>
              <a:ext cx="371160" cy="460800"/>
              <a:chOff x="6311520" y="5331600"/>
              <a:chExt cx="371160" cy="460800"/>
            </a:xfrm>
          </p:grpSpPr>
          <p:sp>
            <p:nvSpPr>
              <p:cNvPr id="99" name="Text Box 97"/>
              <p:cNvSpPr/>
              <p:nvPr/>
            </p:nvSpPr>
            <p:spPr>
              <a:xfrm flipV="1" rot="10800000">
                <a:off x="6311520" y="533160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98"/>
              <p:cNvGrpSpPr/>
              <p:nvPr/>
            </p:nvGrpSpPr>
            <p:grpSpPr>
              <a:xfrm>
                <a:off x="6382080" y="5540040"/>
                <a:ext cx="242640" cy="252360"/>
                <a:chOff x="6382080" y="5540040"/>
                <a:chExt cx="242640" cy="252360"/>
              </a:xfrm>
            </p:grpSpPr>
            <p:sp>
              <p:nvSpPr>
                <p:cNvPr id="101" name="Rectangle 99"/>
                <p:cNvSpPr/>
                <p:nvPr/>
              </p:nvSpPr>
              <p:spPr>
                <a:xfrm flipV="1">
                  <a:off x="6382080" y="5539680"/>
                  <a:ext cx="24264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00"/>
                <p:cNvSpPr/>
                <p:nvPr/>
              </p:nvSpPr>
              <p:spPr>
                <a:xfrm>
                  <a:off x="6382080" y="5792400"/>
                  <a:ext cx="242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Rectangle 101"/>
              <p:cNvSpPr/>
              <p:nvPr/>
            </p:nvSpPr>
            <p:spPr>
              <a:xfrm flipV="1">
                <a:off x="6406920" y="5662440"/>
                <a:ext cx="194400" cy="30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02"/>
              <p:cNvSpPr/>
              <p:nvPr/>
            </p:nvSpPr>
            <p:spPr>
              <a:xfrm flipV="1">
                <a:off x="6406920" y="56149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3"/>
              <p:cNvSpPr/>
              <p:nvPr/>
            </p:nvSpPr>
            <p:spPr>
              <a:xfrm flipV="1">
                <a:off x="6406920" y="55609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6311520" y="3502800"/>
            <a:ext cx="2374920" cy="460800"/>
            <a:chOff x="6311520" y="3502800"/>
            <a:chExt cx="2374920" cy="460800"/>
          </a:xfrm>
        </p:grpSpPr>
        <p:sp>
          <p:nvSpPr>
            <p:cNvPr id="107" name="Rectangle 9"/>
            <p:cNvSpPr/>
            <p:nvPr/>
          </p:nvSpPr>
          <p:spPr>
            <a:xfrm>
              <a:off x="6887520" y="3657600"/>
              <a:ext cx="17989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Responder Q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57"/>
            <p:cNvSpPr/>
            <p:nvPr/>
          </p:nvSpPr>
          <p:spPr>
            <a:xfrm>
              <a:off x="6684480" y="380988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6"/>
            <p:cNvGrpSpPr/>
            <p:nvPr/>
          </p:nvGrpSpPr>
          <p:grpSpPr>
            <a:xfrm>
              <a:off x="6311520" y="3502800"/>
              <a:ext cx="371160" cy="460800"/>
              <a:chOff x="6311520" y="3502800"/>
              <a:chExt cx="371160" cy="460800"/>
            </a:xfrm>
          </p:grpSpPr>
          <p:sp>
            <p:nvSpPr>
              <p:cNvPr id="110" name="Text Box 97"/>
              <p:cNvSpPr/>
              <p:nvPr/>
            </p:nvSpPr>
            <p:spPr>
              <a:xfrm flipV="1" rot="10800000">
                <a:off x="6311520" y="350280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98"/>
              <p:cNvGrpSpPr/>
              <p:nvPr/>
            </p:nvGrpSpPr>
            <p:grpSpPr>
              <a:xfrm>
                <a:off x="6382080" y="3711240"/>
                <a:ext cx="242640" cy="252360"/>
                <a:chOff x="6382080" y="3711240"/>
                <a:chExt cx="242640" cy="252360"/>
              </a:xfrm>
            </p:grpSpPr>
            <p:sp>
              <p:nvSpPr>
                <p:cNvPr id="112" name="Rectangle 99"/>
                <p:cNvSpPr/>
                <p:nvPr/>
              </p:nvSpPr>
              <p:spPr>
                <a:xfrm flipV="1">
                  <a:off x="6382080" y="3710880"/>
                  <a:ext cx="24264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00"/>
                <p:cNvSpPr/>
                <p:nvPr/>
              </p:nvSpPr>
              <p:spPr>
                <a:xfrm>
                  <a:off x="6382080" y="3963600"/>
                  <a:ext cx="242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101"/>
              <p:cNvSpPr/>
              <p:nvPr/>
            </p:nvSpPr>
            <p:spPr>
              <a:xfrm flipV="1">
                <a:off x="6406920" y="3833640"/>
                <a:ext cx="194400" cy="30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2"/>
              <p:cNvSpPr/>
              <p:nvPr/>
            </p:nvSpPr>
            <p:spPr>
              <a:xfrm flipV="1">
                <a:off x="6406920" y="37861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"/>
              <p:cNvSpPr/>
              <p:nvPr/>
            </p:nvSpPr>
            <p:spPr>
              <a:xfrm flipV="1">
                <a:off x="6406920" y="37321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307920" y="1751760"/>
            <a:ext cx="2378520" cy="459000"/>
            <a:chOff x="6307920" y="1751760"/>
            <a:chExt cx="2378520" cy="459000"/>
          </a:xfrm>
        </p:grpSpPr>
        <p:sp>
          <p:nvSpPr>
            <p:cNvPr id="118" name="Rectangle 9"/>
            <p:cNvSpPr/>
            <p:nvPr/>
          </p:nvSpPr>
          <p:spPr>
            <a:xfrm>
              <a:off x="6882120" y="1905120"/>
              <a:ext cx="18043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Responder QP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7"/>
            <p:cNvSpPr/>
            <p:nvPr/>
          </p:nvSpPr>
          <p:spPr>
            <a:xfrm>
              <a:off x="6678720" y="2057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96"/>
            <p:cNvGrpSpPr/>
            <p:nvPr/>
          </p:nvGrpSpPr>
          <p:grpSpPr>
            <a:xfrm>
              <a:off x="6307920" y="1751760"/>
              <a:ext cx="371160" cy="459000"/>
              <a:chOff x="6307920" y="1751760"/>
              <a:chExt cx="371160" cy="459000"/>
            </a:xfrm>
          </p:grpSpPr>
          <p:sp>
            <p:nvSpPr>
              <p:cNvPr id="121" name="Text Box 97"/>
              <p:cNvSpPr/>
              <p:nvPr/>
            </p:nvSpPr>
            <p:spPr>
              <a:xfrm flipV="1" rot="10800000">
                <a:off x="6307920" y="175176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98"/>
              <p:cNvGrpSpPr/>
              <p:nvPr/>
            </p:nvGrpSpPr>
            <p:grpSpPr>
              <a:xfrm>
                <a:off x="6375240" y="1958400"/>
                <a:ext cx="243000" cy="252360"/>
                <a:chOff x="6375240" y="1958400"/>
                <a:chExt cx="243000" cy="252360"/>
              </a:xfrm>
            </p:grpSpPr>
            <p:sp>
              <p:nvSpPr>
                <p:cNvPr id="123" name="Rectangle 99"/>
                <p:cNvSpPr/>
                <p:nvPr/>
              </p:nvSpPr>
              <p:spPr>
                <a:xfrm flipV="1">
                  <a:off x="6375240" y="1958040"/>
                  <a:ext cx="24300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00"/>
                <p:cNvSpPr/>
                <p:nvPr/>
              </p:nvSpPr>
              <p:spPr>
                <a:xfrm>
                  <a:off x="6375240" y="2210760"/>
                  <a:ext cx="2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Rectangle 101"/>
              <p:cNvSpPr/>
              <p:nvPr/>
            </p:nvSpPr>
            <p:spPr>
              <a:xfrm flipV="1">
                <a:off x="6400080" y="2080800"/>
                <a:ext cx="194760" cy="30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2"/>
              <p:cNvSpPr/>
              <p:nvPr/>
            </p:nvSpPr>
            <p:spPr>
              <a:xfrm flipV="1">
                <a:off x="6400080" y="2033280"/>
                <a:ext cx="19476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03"/>
              <p:cNvSpPr/>
              <p:nvPr/>
            </p:nvSpPr>
            <p:spPr>
              <a:xfrm flipV="1">
                <a:off x="6400080" y="1979280"/>
                <a:ext cx="19476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4648320" y="3352680"/>
            <a:ext cx="9903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124080"/>
            <a:ext cx="914400" cy="6098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733920"/>
            <a:ext cx="7621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486400" y="2209680"/>
            <a:ext cx="762120" cy="1524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3733920"/>
            <a:ext cx="7621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733920"/>
            <a:ext cx="762120" cy="1676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86400" y="2362320"/>
            <a:ext cx="838080" cy="1676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486040" y="3886200"/>
            <a:ext cx="685800" cy="3049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23920" y="4191120"/>
            <a:ext cx="762120" cy="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486040" y="4343400"/>
            <a:ext cx="685800" cy="129528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723920" y="4343400"/>
            <a:ext cx="76212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09880" y="35812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09880" y="4038480"/>
            <a:ext cx="914400" cy="15264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09880" y="4343400"/>
            <a:ext cx="914400" cy="15228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28800" y="2362320"/>
            <a:ext cx="2133720" cy="2438280"/>
            <a:chOff x="1828800" y="2362320"/>
            <a:chExt cx="2133720" cy="2438280"/>
          </a:xfrm>
        </p:grpSpPr>
        <p:sp>
          <p:nvSpPr>
            <p:cNvPr id="144" name="Rectangle 4"/>
            <p:cNvSpPr/>
            <p:nvPr/>
          </p:nvSpPr>
          <p:spPr>
            <a:xfrm>
              <a:off x="2486160" y="3427560"/>
              <a:ext cx="131256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Child Q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2238480" y="2971800"/>
              <a:ext cx="156024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Parent Q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"/>
            <p:cNvSpPr/>
            <p:nvPr/>
          </p:nvSpPr>
          <p:spPr>
            <a:xfrm>
              <a:off x="1828800" y="2743200"/>
              <a:ext cx="2133720" cy="205740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486160" y="3884760"/>
              <a:ext cx="131256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Child Q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2486160" y="4341960"/>
              <a:ext cx="131256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Child Q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2320920" y="327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2320920" y="44942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8"/>
            <p:cNvSpPr/>
            <p:nvPr/>
          </p:nvSpPr>
          <p:spPr>
            <a:xfrm>
              <a:off x="2320920" y="40370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>
              <a:off x="2320920" y="35798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87"/>
            <p:cNvGrpSpPr/>
            <p:nvPr/>
          </p:nvGrpSpPr>
          <p:grpSpPr>
            <a:xfrm>
              <a:off x="1877760" y="2830680"/>
              <a:ext cx="363600" cy="369720"/>
              <a:chOff x="1877760" y="2830680"/>
              <a:chExt cx="363600" cy="369720"/>
            </a:xfrm>
          </p:grpSpPr>
          <p:grpSp>
            <p:nvGrpSpPr>
              <p:cNvPr id="154" name="Group 26"/>
              <p:cNvGrpSpPr/>
              <p:nvPr/>
            </p:nvGrpSpPr>
            <p:grpSpPr>
              <a:xfrm>
                <a:off x="1953360" y="2948040"/>
                <a:ext cx="196560" cy="252360"/>
                <a:chOff x="1953360" y="2948040"/>
                <a:chExt cx="196560" cy="252360"/>
              </a:xfrm>
            </p:grpSpPr>
            <p:sp>
              <p:nvSpPr>
                <p:cNvPr id="155" name="Rectangle 27"/>
                <p:cNvSpPr/>
                <p:nvPr/>
              </p:nvSpPr>
              <p:spPr>
                <a:xfrm>
                  <a:off x="1953360" y="2948040"/>
                  <a:ext cx="19656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28"/>
                <p:cNvSpPr/>
                <p:nvPr/>
              </p:nvSpPr>
              <p:spPr>
                <a:xfrm>
                  <a:off x="1953360" y="2948040"/>
                  <a:ext cx="196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Rectangle 29"/>
              <p:cNvSpPr/>
              <p:nvPr/>
            </p:nvSpPr>
            <p:spPr>
              <a:xfrm>
                <a:off x="1973880" y="3151440"/>
                <a:ext cx="157320" cy="298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30"/>
              <p:cNvSpPr/>
              <p:nvPr/>
            </p:nvSpPr>
            <p:spPr>
              <a:xfrm>
                <a:off x="1973880" y="3103560"/>
                <a:ext cx="157320" cy="32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1"/>
              <p:cNvSpPr/>
              <p:nvPr/>
            </p:nvSpPr>
            <p:spPr>
              <a:xfrm>
                <a:off x="1973880" y="3049560"/>
                <a:ext cx="157320" cy="32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25"/>
              <p:cNvSpPr/>
              <p:nvPr/>
            </p:nvSpPr>
            <p:spPr>
              <a:xfrm>
                <a:off x="1877760" y="2830680"/>
                <a:ext cx="36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438280" y="23623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D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934320" y="3276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1055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15238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397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x DLID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c DLID: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d DLID: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886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y DLID: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8195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0xffffff DLID: M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343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z DLID: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2209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b DLID: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952880"/>
            <a:ext cx="2210040" cy="990720"/>
          </a:xfrm>
          <a:prstGeom prst="cloudCallout">
            <a:avLst>
              <a:gd name="adj1" fmla="val 48921"/>
              <a:gd name="adj2" fmla="val 51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RMC group requires a unique M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1523880"/>
            <a:ext cx="1981440" cy="609840"/>
          </a:xfrm>
          <a:prstGeom prst="wedgeRoundRectCallout">
            <a:avLst>
              <a:gd name="adj1" fmla="val -52245"/>
              <a:gd name="adj2" fmla="val 1700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C Parent allows an 0xffffff RQ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5715000"/>
            <a:ext cx="1981080" cy="609480"/>
          </a:xfrm>
          <a:prstGeom prst="wedgeRoundRectCallout">
            <a:avLst>
              <a:gd name="adj1" fmla="val 69629"/>
              <a:gd name="adj2" fmla="val -53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C responder skips DestQP m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X RMC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Parent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 the S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s acks from children in H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SEND compl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s sends on 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RC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ntext for receiving acks from a single respo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acks to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r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s MC packets and sends RC acks 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RECV compl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WQEs are completed only i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ders have acknowle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WQEs are completed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are delivered independently of other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single responder that ceases to reply will eventually cause the sender QP to transition into erro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sted WQEs that have not completed will be flu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et of these WQEs may have been delivered to some of the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ubset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responder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pace only (at the m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209680"/>
            <a:ext cx="571500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 libibverbs.orig/include/infiniband/verbs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++ libibverbs/include/infiniband/verbs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401,7 +401,9 @@ enum ibv_qp_type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RC = 2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UC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U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XR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XRC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BV_QPT_RMC_PAR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BV_QPT_RMC_CHIL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BV_QPT_RMC_RE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bv_qp_cap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421,6 +423,8 @@ struct ibv_qp_init_attr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ibv_qp_typ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qp_type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q_sig_al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bv_xrc_domain *xrc_domai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nt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num_rmc_childr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uint32_t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rmc_par_qp_nu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C se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MGID ‘M’ and ‘N’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arent QP and modify to 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P type: IBV_QPT_RMC_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_rmc_childr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hild QPs (one per respo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P type: IBV_QPT_RMC_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mc_par_qp_num: &lt;parent qp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(create)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responder QP and modify to R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P type: IBV_QPT_RMC_R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SN must match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 responder QP and join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to-end flow control must be disabled on all Q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Dror Goldenberg</dc:creator>
  <dc:description/>
  <dc:language>en-US</dc:language>
  <cp:lastModifiedBy>liranl</cp:lastModifiedBy>
  <dcterms:modified xsi:type="dcterms:W3CDTF">2008-04-14T18:55:36Z</dcterms:modified>
  <cp:revision>257</cp:revision>
  <dc:subject/>
  <dc:title>Next Generation Hardware Assists And Scalab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36825232</vt:r8>
  </property>
  <property fmtid="{D5CDD505-2E9C-101B-9397-08002B2CF9AE}" pid="3" name="_AuthorEmail">
    <vt:lpwstr>liranl@mellanox.co.il</vt:lpwstr>
  </property>
  <property fmtid="{D5CDD505-2E9C-101B-9397-08002B2CF9AE}" pid="4" name="_AuthorEmailDisplayName">
    <vt:lpwstr>Liran Liss</vt:lpwstr>
  </property>
  <property fmtid="{D5CDD505-2E9C-101B-9397-08002B2CF9AE}" pid="5" name="_EmailSubject">
    <vt:lpwstr>Mellanox QoS and RMC Sonoma slides</vt:lpwstr>
  </property>
  <property fmtid="{D5CDD505-2E9C-101B-9397-08002B2CF9AE}" pid="6" name="_NewReviewCycle">
    <vt:lpwstr/>
  </property>
</Properties>
</file>