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6DA-199B-4C07-B6FF-0A1FD362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561-E7A5-4FBA-A864-AABA9748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C28-6DF1-4F4C-8BB4-BECF81B0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64E-C9D9-49D5-92E7-2D73F770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531-553C-4544-AA66-9597FD63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372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0240" y="119196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372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0240" y="3833280"/>
            <a:ext cx="26251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74E-1EBC-4247-8D86-6777CEFF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144-A1B5-415F-BF85-AE53E36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7F0-C608-47DC-BA0E-F2CFF65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5040" y="165240"/>
            <a:ext cx="69516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D0D-5C92-4EB1-AFB3-7ADF3CDA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25B-B424-4898-BEE4-4E6E1C35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000" y="383328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33F-2716-4BF2-BCF7-F613AA78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000" y="1191960"/>
            <a:ext cx="3978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6840" y="3833280"/>
            <a:ext cx="815328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6C5-2E35-4118-ABAB-66C8FA1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971640" y="7101000"/>
            <a:ext cx="8064360" cy="1440"/>
          </a:xfrm>
          <a:prstGeom prst="line">
            <a:avLst/>
          </a:prstGeom>
          <a:ln w="9360">
            <a:solidFill>
              <a:srgbClr val="7f8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26450" t="65987" r="810" b="214"/>
          <a:stretch/>
        </p:blipFill>
        <p:spPr>
          <a:xfrm>
            <a:off x="5562720" y="5549760"/>
            <a:ext cx="3581280" cy="1258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0" r="0" b="26546"/>
          <a:stretch/>
        </p:blipFill>
        <p:spPr>
          <a:xfrm>
            <a:off x="7435800" y="157320"/>
            <a:ext cx="1538280" cy="325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814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A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9714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807A-C5BB-4FBE-A1D9-99B61C822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468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4600" y="3438360"/>
            <a:ext cx="579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e5e6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5f5f5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5f5f5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upercomputingonline.com/article.php?sid=15357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614680"/>
            <a:ext cx="5797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MPI and OFA</a:t>
            </a:r>
            <a:br>
              <a:rPr sz="2000"/>
            </a:br>
            <a:r>
              <a:rPr b="1" lang="en-US" sz="2000" spc="-1" strike="noStrike">
                <a:solidFill>
                  <a:srgbClr val="e4e5e6"/>
                </a:solidFill>
                <a:latin typeface="Verdana"/>
              </a:rPr>
              <a:t>Divergent interests?</a:t>
            </a:r>
            <a:endParaRPr b="1" lang="en-US" sz="2000" spc="-1" strike="noStrike">
              <a:solidFill>
                <a:srgbClr val="e4e5e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3962520"/>
            <a:ext cx="5184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Dan Caldwell, VP WW Channel Sales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8485"/>
                </a:solidFill>
                <a:latin typeface="Verdana"/>
              </a:rPr>
              <a:t>Scali, Inc</a:t>
            </a:r>
            <a:endParaRPr b="0" lang="en-US" sz="1800" spc="-1" strike="noStrike">
              <a:solidFill>
                <a:srgbClr val="7f8485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The role of OFA in HPC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192320"/>
            <a:ext cx="8153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ditional role of Open Fabrics focuses on cables that connect motherboards, switches, and storage in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processors in HPC expected to be 30% in 2010 (per IDC), and number of cores per processor is 55% (estimate) and increa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the bulk of the “HPC Interconnect Fabric” is moving from cables to the server motherboard and the various local b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DEC-7ABA-4B45-B643-BBFD61A155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Performance in HPC system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i has always been the performance MPI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3b1"/>
                </a:solidFill>
                <a:uFillTx/>
                <a:latin typeface="Verdana"/>
                <a:hlinkClick r:id="rId1"/>
              </a:rPr>
              <a:t>http://www.supercomputingonline.com/article.php?sid=1535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we suggest that OFA adopt a recommended performance measurement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vity, or ‘jobs per day’, on a clu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you know how well OFA is do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A must examine the performance within a multi-core 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16 core “Personal Supercomputer” will still run legacy MPI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436-B4EC-42AD-A855-F7ADAA24A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Single Node, 8 cores, osu_bw, 8 byte, Intel Xeon 3.00GHz (X5365)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90720"/>
          <a:ext cx="9144000" cy="55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520-9536-4149-8E23-6A8B773E54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MPI enables other HPC functionality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iniband Tru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ing IB channels for greater through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e for Sun / Tsukuba University in Jap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pend / Resume and Checkpoint –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ic functionality  - not application spec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ed job migration with HPC4U in Brussels, February 11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….  MPI based Power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y – AMD / Barcelona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832-896B-4DC7-A5D8-A874251277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390240"/>
            <a:ext cx="80168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”</a:t>
            </a:r>
            <a:r>
              <a:rPr b="1" lang="nb-NO" sz="2600" spc="-1" strike="noStrike">
                <a:solidFill>
                  <a:srgbClr val="3d4243"/>
                </a:solidFill>
                <a:latin typeface="Verdana"/>
              </a:rPr>
              <a:t>Waiting as fast as it can” (CPU spinning) – examples (AMD Barcelona Quad Core):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50880"/>
            <a:ext cx="436716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19440" y="1549440"/>
            <a:ext cx="4624560" cy="272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85960" y="2066760"/>
            <a:ext cx="2359080" cy="339840"/>
          </a:xfrm>
          <a:prstGeom prst="downArrowCallout">
            <a:avLst>
              <a:gd name="adj1" fmla="val 173559"/>
              <a:gd name="adj2" fmla="val 173543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84880" y="1862280"/>
            <a:ext cx="2359080" cy="347400"/>
          </a:xfrm>
          <a:prstGeom prst="downArrowCallout">
            <a:avLst>
              <a:gd name="adj1" fmla="val 169782"/>
              <a:gd name="adj2" fmla="val 169767"/>
              <a:gd name="adj3" fmla="val 16667"/>
              <a:gd name="adj4" fmla="val 66667"/>
            </a:avLst>
          </a:prstGeom>
          <a:solidFill>
            <a:srgbClr val="e4e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</a:rPr>
              <a:t>Power Saving Potential Z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8760" y="4572000"/>
            <a:ext cx="735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onsidering 20 microseconds to change power states in an Quad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pteron, latency above 10 milliseconds in an MPI collective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an trigger a ”throttle down”.  In a call with a 10 millisecond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latenc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croseconds to throttle down plus 200 to re-establis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speed would use only 2.5% of the time of th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3AC-4EC8-4218-B308-406244B5B6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165240"/>
            <a:ext cx="80931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Real World Initial Tests - SPEC MPI2007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295280"/>
          <a:ext cx="89186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186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BB9-83A7-4262-94ED-9F6CF498D4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165240"/>
            <a:ext cx="6951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4243"/>
                </a:solidFill>
                <a:latin typeface="Verdana"/>
              </a:rPr>
              <a:t>Conclusions</a:t>
            </a:r>
            <a:endParaRPr b="1" lang="en-US" sz="2600" spc="-1" strike="noStrike">
              <a:solidFill>
                <a:srgbClr val="3d424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6840" y="1191960"/>
            <a:ext cx="815328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I and OFA need to co-exist, but we both need to expand our reach in H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Fabrics needs to embrace new functionality, performance metrics, and definitions of ‘fabric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 savings, user-model (core affinity policies), best practices in interconnect design, and emphasis on continued performance across the entire HPC system is critical to the relevancy of OF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A April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DD6-8702-4CEC-BA64-09D3C2D253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1:27:35Z</dcterms:created>
  <dc:creator>Dan Caldwell</dc:creator>
  <dc:description/>
  <dc:language>en-US</dc:language>
  <cp:lastModifiedBy> Dan Caldwell</cp:lastModifiedBy>
  <dcterms:modified xsi:type="dcterms:W3CDTF">2008-04-09T00:21:58Z</dcterms:modified>
  <cp:revision>19</cp:revision>
  <dc:subject/>
  <dc:title>MPI and OFA Divergent interests?</dc:title>
</cp:coreProperties>
</file>