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250-8E2A-43D1-B968-6E5A6B16E00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gt.berlios.de/" TargetMode="External"/><Relationship Id="rId2" Type="http://schemas.openxmlformats.org/officeDocument/2006/relationships/hyperlink" Target="http://stgt.berlios.de/" TargetMode="External"/><Relationship Id="rId3" Type="http://schemas.openxmlformats.org/officeDocument/2006/relationships/hyperlink" Target="https://wiki.openfabrics.org/tiki-index.php?page=ISER-targe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GT/iSER Target Overview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package (RPM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 –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dae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ad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dmi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-setup-l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elper/simper admin t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s tgta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pages to the admi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-setup-lun -d /dev/sdy -n seed1-sdy 192.168.10.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liner setup which translates to the following sequence with tgta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target --tid 1 -T iqn.2001…-seed1-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al unit to the tar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logicalunit --tid 1 --lun 1 -b /dev/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initiators to this target in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bind --mode target --tid 1 -I 192.168.10.8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 -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mode target --op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1: iqn.2001-04.com.onion-seed1-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: isc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controll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his LUN is skipped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ID: deadbeaf1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SN: beaf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82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ine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on/Reset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ing store: /dev/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L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.168.10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gle initiator, source Volt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: READ – 1200 MB/sec WRITE – 87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PS (I/O per second): READ – 62K WRITE – 6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urce Pete Wyckoff et 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for some OSD ops:  ping 33us, getattr – 65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itiator BW : READ – 550 MB/sec WRITE – 5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itiators BW: both READ/WRITE reach 9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variations between READ /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essage size gives the max B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d 200KB, write 500K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itiators needed to get the aggregated BW under specific message size: READ – 2 WRITE –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 / commun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gt.berlios.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point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t tree where tgt is maintain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ers mailing li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@ open-fabric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iki.openfabrics.org/tiki-index.php?page=ISER-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 / exampl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packages for RH5 U1 and SLES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t: framework for storage target dri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ta Tomonori and Mike Christie. Ottawa Linux Symposium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for Object-based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nis Dalessandro, Ananth Devulapalli,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 of MSST'07, SNAPI Workshop, San Diego, CA, Sep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http://www.kernel.org/pub/scm/linux/kernel/git/tomo/tgt.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backgroun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arget &amp; iSCSI RDMA (iSER)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ing / configuring STG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GT commun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for SCSI protocol independent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GT implemented / maintained by Fujita Tomonori &amp; Mike Chris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RDMA (iSER) transport implemented by Ohio Supercomputer Center staff under the direction of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made of three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SCSI state machine, I/O execution and management interface which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in a SCSI protocol independent man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ed to user space, execu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r space da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rget drivers - network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: SCSI devices - storag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ux kernel was enha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6.2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llow STGT use kernel target dri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ace – iSCSI, FC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space – FC, IBM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river API to tgt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 create / destroy / update /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 create / lun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ify on end of command /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CSI target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SCSI transport independent state-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iSCSI transport “libr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ansports: TCP and RDMA (i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ransport API to the iSCSI target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“end-point” notation to describ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read / write / rdma-read / rdma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(implicit accept) / close / release /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buf alloc /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iSCSI RDMA (iSER) trans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bib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ib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ccess to the RDMA HW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transport neutral*, adopted to the Linux initi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C QP (Queue 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read (SCSI write), RDMA write (SCSI 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for the SCSI commands request / respons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(eg login, nops), iSCSI immediate data / unsolicited data-outs PDU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ER transpor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ain design iss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memory in advance to avoid performanc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doesn’t advertise rdma keys hence a pool can be used for multipl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to a design that relies on socket readability /  writeability (request notification, process comple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C - block command process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D - object storage device comm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- controller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C - multimedia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C -  Medium Changer command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device API to stg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 init / config /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ice 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g TUR, INQ, SPACE, READ*, WRITE*, S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SCSI devices a “backing store” layer further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types: aio, mmap, sync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ogerlitz</cp:lastModifiedBy>
  <dcterms:modified xsi:type="dcterms:W3CDTF">2008-04-08T20:53:54Z</dcterms:modified>
  <cp:revision>41</cp:revision>
  <dc:subject/>
  <dc:title>Slide 1</dc:title>
</cp:coreProperties>
</file>