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D2E21-2D66-4A5D-9BDE-B5C0725337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BF498-B53B-4AFB-AD3D-C77F3CAFC7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2C4C7-4024-4334-B43F-13D372661C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ED65C-8A85-412F-B1AD-3E9675375A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3BAFC-ADE3-4ECA-9F80-E1D62C6ED6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12BED-E48F-4151-A67F-A4AC8F4B5F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D3450-A737-4470-BDCD-CC9FD39F0E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781B4-3B8B-42C3-A817-A2F0983A14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1303F-AC00-4858-9B09-CA98B979E8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08922-2563-44CF-8543-B3C0692967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27C0B-2C40-44F3-A19A-D9686BF4A3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9494C-AEBF-463F-9F11-AC9F40FCE5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60B61-9C1E-4458-9C1A-62AB37BAF7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059F3-F9E2-4C17-A8CA-E8650E1D73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ACCFB-740C-4D26-9749-8370DC750C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DD205-5561-4631-898E-745896BF94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C3B57-447D-4EE6-9E28-BCB33B4E02F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81C27-A3D9-48B6-A01C-E3FEDA8C7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99A20-B827-4324-AEDC-E320F204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72B22-A0EC-4BD3-9D50-C7FEF37D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8627B-18C0-43F1-9612-7C81062A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FADD0-6841-49CB-BE51-8B0864AF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29EBE-E85E-4F33-BD8D-C5BCBB7D384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955C5-E7B9-480B-9796-3209AC5F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67A20-3B2A-4DEF-8352-9172E5C0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AAC29-C16F-4F01-B27F-63EB6C7D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9560F-4136-4E97-9617-BCC650CB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5ED1DB-21E8-4ECD-AF99-C1B56D4C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75571-D282-4E95-9B51-D47B1A953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F52F5-CAE3-4779-A180-A2F4B1655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307F4-0174-489C-AD2D-D642F2B27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E989-FAA2-495A-BC41-748A4142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0D05-8821-4125-A6DA-0D48C134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60F04-006F-4103-A87D-890A0BA252D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6804-436B-449E-A369-93589EA3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E309-0803-404A-8386-F750FA2D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3A3F-0BC8-4F23-9AA0-DF2E0837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2908-A13A-44BC-AF71-17F375F7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B53B-2534-433B-9F4F-5E85DC58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EB26-ED08-4C5D-9D1F-B970B637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7F54-A5DF-46FF-B97F-EEB29A07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F3A9-1C85-4520-A079-9432A67F9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1386-FA40-4B70-A304-061A3467C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CCFCA-4FF2-437D-B146-922CB16C673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46DBE-6DAB-41FD-9421-5C1C98CF916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5C27D-4F76-4CBE-9287-5A8A8094F32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CDDCF-6C56-4C0F-A9BF-244D242562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58206-F0CB-4281-BD47-E69C26B82C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003b4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b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b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b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b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b4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228600" y="6248160"/>
            <a:ext cx="99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94FC-74FE-455F-9E2B-E7B57A9F2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0560" y="1752480"/>
            <a:ext cx="59418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0" y="5790960"/>
            <a:ext cx="99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D386-DD99-4022-85F0-84B727B40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0480" cy="69040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EE8C-485A-4AC6-9977-02E205999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5F4D-E4EE-43E4-A047-2E7B10703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03BB-1043-4C67-9618-E772B7B54E9B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infinibandta.org/itinfo/IL" TargetMode="External"/><Relationship Id="rId2" Type="http://schemas.openxmlformats.org/officeDocument/2006/relationships/hyperlink" Target="http://www.infinibandta.org/itinfo/IL" TargetMode="External"/><Relationship Id="rId3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ol.unh.edu/services/testing/ofa/" TargetMode="External"/><Relationship Id="rId2" Type="http://schemas.openxmlformats.org/officeDocument/2006/relationships/hyperlink" Target="http://www.iol.unh.edu/services/testing/ofa/interoplist/interoplist.php" TargetMode="External"/><Relationship Id="rId3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ol.unh.edu/services/testing/ofa/logo.pdf" TargetMode="External"/><Relationship Id="rId2" Type="http://schemas.openxmlformats.org/officeDocument/2006/relationships/hyperlink" Target="http://www.iol.unh.edu/services/testing/ofa/interoplist/interoplist.php" TargetMode="External"/><Relationship Id="rId3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OFA-IWG Interop Event</a:t>
            </a: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March 2008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837720" y="5105160"/>
            <a:ext cx="7239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pert Dance, Arkady Kanevsk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an Phamdo, Mikkel H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noma Workshop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sting Cove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bric 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o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 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MA inter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WAR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WARP Interop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D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 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MA inter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ernet switch testing (limited participation limited execution abi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B Cluster Top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42132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ems No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 issues with OFED 1.3 GA se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endor specific SM stops when attempting to discover improperly identified device in the fabric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endor device had duplicate GUID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endors had a link problem because physical link was not achieved (this was remedied later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endors continue to have uDAPL problems (especially in iWARP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P MPI didn't work (in iWARP) due to uDAPL problem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sufficient time to run all of the Interop Test Suit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as partly because vendors were debugging Interop probl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ggestion: The week prior to the OFA Interop event should be reserved for debugging and resolving interop problems. OFA Interop week should be for Logo Validation on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require vendors to bring some additional equipment for the IBTA and iWARP compliance Plugf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 &amp; Sugg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ew Logo Name has been adop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FA Interoperability Lo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new feature is added to OFED or there is a major upgrade to a feature, a test should be created for OFA Interop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ster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PN access is granted to all OFILG Mem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ek long testing slots are avail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Event 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tember 2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2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IBTA Plugf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tember 2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2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iWARP Test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tember 2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October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OFA Interop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n End User event at UNH I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Invitation for Interop #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ell and Red 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ernet Switch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stra, Force 10, Fujitsu, Fulcrum, Wov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,  IBM, Obsidian, SGI, Sun, Xs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WARP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X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, Dell, SuperMic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OFA Interoperability Event to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new tests added to the Interop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Scripts im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execution went smooth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H-IOL staff performed very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datory testing was very success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device participation in some categories such as FC and Ethernet Gateway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more participation from Ethernet Switch 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more time to complete all of th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BTA Event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BTA IL Compliance Testing 3/10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3/14/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 vendors versus 11 at the last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 devices versus 16 at last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3 cables tested – versus 27 at the last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as the 13th IBTA Plugf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TA integrators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list includes all products that have successfully completed the rigorous testing procedures at IBTA sponsored Plugfes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List of devices is available at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nfinibandta.org/itinfo/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d List will be available end of April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ed by Lamprey Networks and University of NH Interoperability Lab (UNH-I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event scheduled for September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BTA Vendor Particip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iniBand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sco, Flextronics, Mellanox, QLogic, Volt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ble Vend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henol, C&amp;M, Cinch, Fujikura, Intel, Luxtera, Mellanox, Meritec, Molex, Panduit, Tyco, W.L. Gore, Zar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A-IWG Charter and M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penFabrics Alliance Interoperability Working Group (OFA-IWG) is responsible for defining and developing a comprehensive suite of tests for evaluating product interoperability within the OpenFabrics environment. Each year, the OFA-IWG hosts interoperability test events in conjunction with the University of New Hampshire’s InterOperability Lab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NH IO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). At these events, Alliance members have an opportunity to validate the interoperability of their products using the OpenFabrics software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FA-IWG is responsible for defining and maintaining the OFA Logo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each event, th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FA Interoperability Log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s granted to those companies who pass all of the mandatory te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nt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A IWG Interop Event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3/17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3/21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vendors and 23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the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ficial OFA-IWG Interop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eded by IBTA and iWARP compliance testing ev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ed by University of NH Interoperability Lab (UNH-IO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all results very success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event scheduled for September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 Deta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A Interoperability Logo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vendors to claim and market interoperability by using the Logo on their products or in their product marketing collate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ils available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ol.unh.edu/services/testing/ofa/logo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List of Logo Grants available at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iol.unh.edu/services/testing/ofa/interoplist/interoplist.php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d List of Logo Grants will be available end of April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dor Participation - I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niBand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Data Direct Networks, Flextronics, LSI Logic, Mellanox, QLogic, Volt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niBand Devices – using OFED 1.3 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 H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iSER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RP Tar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 Based SMs: OpenSM, Cis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Based SMs: Cisco, QLogic, Vol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dor Participation - iWAR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WARP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Chelsio, Fujitsu and Net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WARP Devices - using OFED 1.3 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GbE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ls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RNICs – 2 CX4 and one 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R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jit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GbE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st Setup &amp;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 servers provided by In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bles Do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phen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&amp;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it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d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.L. G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r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EL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ED 1.3 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Category for March 2008 Interop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990720" y="1389240"/>
            <a:ext cx="7186320" cy="501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ests for March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 IPoIB Conn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ernet Link Initial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ernet Fabric Initial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ernet Fabric Reconver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ernet Fabric Fail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 Reliable Datagram Sockets (RD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 MPI – 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 Basic RDMA Inter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 RDMA Operations over Interconnect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16:40:46Z</dcterms:created>
  <dc:creator>Rupert Dance</dc:creator>
  <dc:description/>
  <dc:language>en-US</dc:language>
  <cp:lastModifiedBy>Rupert Dance</cp:lastModifiedBy>
  <dcterms:modified xsi:type="dcterms:W3CDTF">2008-04-07T22:31:33Z</dcterms:modified>
  <cp:revision>31</cp:revision>
  <dc:subject/>
  <dc:title>OFA-IWG Interop Event</dc:title>
</cp:coreProperties>
</file>