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DCB-4641-4D94-A552-F90AA373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8B5-B405-437D-830B-624B8C9C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347-70AD-4E34-82B2-59636146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F10-3C57-43C8-96A0-16F759B3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792-D0D0-4982-9051-329A16D5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17C-2D32-4099-9C75-13BADE5E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2CB-DF80-4CDA-A483-D65D3CF5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D04-D71E-44A0-98DD-B505C7E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181-CB23-42BF-A57B-C37E379B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228-3433-441A-8A92-8F38AF01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B63-4BA7-487D-9761-C83CF580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4E5-BCFB-4376-92CC-F294B461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971640" y="7101000"/>
            <a:ext cx="8064360" cy="1440"/>
          </a:xfrm>
          <a:prstGeom prst="line">
            <a:avLst/>
          </a:prstGeom>
          <a:ln w="9360">
            <a:solidFill>
              <a:srgbClr val="7f8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26450" t="65987" r="810" b="214"/>
          <a:stretch/>
        </p:blipFill>
        <p:spPr>
          <a:xfrm>
            <a:off x="5562720" y="5549760"/>
            <a:ext cx="3581280" cy="1258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0" r="0" b="26546"/>
          <a:stretch/>
        </p:blipFill>
        <p:spPr>
          <a:xfrm>
            <a:off x="7435800" y="157320"/>
            <a:ext cx="1538280" cy="325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1814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A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9714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E9BB-B2F6-4771-B03A-49B7814E1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468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4600" y="3438360"/>
            <a:ext cx="579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e5e6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5f5f5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5f5f5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percomputingonline.com/article.php?sid=15357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614680"/>
            <a:ext cx="5797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MPI and OFA</a:t>
            </a:r>
            <a:br>
              <a:rPr sz="2000"/>
            </a:b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Divergent interests?</a:t>
            </a:r>
            <a:endParaRPr b="1" lang="en-US" sz="20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3962520"/>
            <a:ext cx="5184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Dan Caldwell, VP WW Channel Sales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Scali, Inc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The role of OFA in HPC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6840" y="1192320"/>
            <a:ext cx="8153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ditional role of Open Fabrics focuses on cables that connect motherboards, switches, and storage in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of processors in HPC expected to be 30% in 2010 (per IDC), and number of cores per processor is 55% (estimate) and increa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 the bulk of the “HPC Interconnect Fabric” is moving from cables to the server motherboard and the various local b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466-81B8-430C-A7B8-4425B02ECD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Performance in HPC system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i has always been the performance MPI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3b1"/>
                </a:solidFill>
                <a:uFillTx/>
                <a:latin typeface="Verdana"/>
                <a:hlinkClick r:id="rId1"/>
              </a:rPr>
              <a:t>http://www.supercomputingonline.com/article.php?sid=1535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we suggest that OFA adopt a recommended performance measurement method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vity, or ‘jobs per day’, on a clu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know how well OFA is do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A must examine the performance within a multi-core n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16 core “Personal Supercomputer” will still run legacy MPI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550-C49D-40C1-842A-61EC634E1C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Single Node, 8 cores, osu_bw, 8 byte, Intel Xeon 3.00GHz (X5365)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90720"/>
          <a:ext cx="9144000" cy="556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1A2-50BF-4BB7-ACE8-ED32F43164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enables other HPC functionality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iniband Tru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bining IB channels for greater through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e for Sun / Tsukuba University in Jap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pend / Resume and Checkpoint – 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ic functionality  - not application spec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ed job migration with HPC4U in Brussels, February 11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….  MPI based Power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y – AMD / Barcelona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D58-7575-4DB9-B8C7-A46A364439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390240"/>
            <a:ext cx="80168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”</a:t>
            </a: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Waiting as fast as it can” (CPU spinning) – examples (AMD Barcelona Quad Core):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50880"/>
            <a:ext cx="436716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19440" y="1549440"/>
            <a:ext cx="4624560" cy="2725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85960" y="2066760"/>
            <a:ext cx="2359080" cy="339840"/>
          </a:xfrm>
          <a:prstGeom prst="downArrowCallout">
            <a:avLst>
              <a:gd name="adj1" fmla="val 173559"/>
              <a:gd name="adj2" fmla="val 173543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84880" y="1862280"/>
            <a:ext cx="2359080" cy="347400"/>
          </a:xfrm>
          <a:prstGeom prst="downArrowCallout">
            <a:avLst>
              <a:gd name="adj1" fmla="val 169782"/>
              <a:gd name="adj2" fmla="val 169767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8760" y="4572000"/>
            <a:ext cx="735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onsidering 20 microseconds to change power states in an Quad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pteron, latency above 10 milliseconds in an MPI collective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an trigger a ”throttle down”.  In a call with a 10 millisecond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latenc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croseconds to throttle down plus 200 to re-establis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speed would use only 2.5% of the time of th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E56-E4B9-4B6C-9B29-F43A87991B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165240"/>
            <a:ext cx="80931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Real World Initial Tests - SPEC MPI2007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295280"/>
          <a:ext cx="891864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186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6CD-C83D-4911-AE98-FEA27CBD3F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onclusion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I and OFA need to co-exist, but we both need to expand our reach in HP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Fabrics needs to embrace new functionality, performance metrics, and definitions of ‘fabric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wer savings, user-model (core affinity policies), best practices in interconnect design, and emphasis on continued performance across the entire HPC system is critical to the relevancy of OF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FC7-7125-4A3E-9468-164A1034F1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21:27:35Z</dcterms:created>
  <dc:creator>Dan Caldwell</dc:creator>
  <dc:description/>
  <dc:language>en-US</dc:language>
  <cp:lastModifiedBy> Dan Caldwell</cp:lastModifiedBy>
  <dcterms:modified xsi:type="dcterms:W3CDTF">2008-04-09T00:21:58Z</dcterms:modified>
  <cp:revision>19</cp:revision>
  <dc:subject/>
  <dc:title>MPI and OFA Divergent interests?</dc:title>
</cp:coreProperties>
</file>