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344C5-570F-496A-8BA2-9D9B1EAF1F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53413-3DE6-4B4D-9811-C198714228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6F7F9-5880-4BD4-B27F-9BBE776C7C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093680" y="684360"/>
            <a:ext cx="467208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36003"/>
                </a:solidFill>
                <a:latin typeface="Arial"/>
              </a:rPr>
              <a:t>We’ve seen that InfiniBand is the best fabric solution for Storage Area Networking. It is also the only fabric that fully enables I/O consolidation and allow customers to use a single wire for networking, clustering and storage traffic and allows the Quality of service for each traffic type to be determined and manag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4B548-0867-4CBE-A936-04E9B77CF6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hyperlink" Target="http://www.openfabrics.org/" TargetMode="External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15228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7696080" y="152280"/>
            <a:ext cx="1067040" cy="97308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229600" y="6400800"/>
            <a:ext cx="685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B28C5-519A-447F-872D-756EEAF4BF64}" type="slidenum">
              <a:rPr b="1" lang="en-US" sz="14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380880" y="647712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ccff"/>
                </a:solidFill>
                <a:uFillTx/>
                <a:latin typeface="Arial"/>
                <a:hlinkClick r:id="rId5"/>
              </a:rPr>
              <a:t>www.openfabrics.org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70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2971800" y="1905120"/>
            <a:ext cx="3200400" cy="29178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647712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openfabrics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image" Target="../media/image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5.png"/><Relationship Id="rId14" Type="http://schemas.openxmlformats.org/officeDocument/2006/relationships/image" Target="../media/image7.wmf"/><Relationship Id="rId15" Type="http://schemas.openxmlformats.org/officeDocument/2006/relationships/image" Target="../media/image6.wmf"/><Relationship Id="rId16" Type="http://schemas.openxmlformats.org/officeDocument/2006/relationships/image" Target="../media/image7.wmf"/><Relationship Id="rId17" Type="http://schemas.openxmlformats.org/officeDocument/2006/relationships/image" Target="../media/image6.wmf"/><Relationship Id="rId18" Type="http://schemas.openxmlformats.org/officeDocument/2006/relationships/image" Target="../media/image7.wmf"/><Relationship Id="rId19" Type="http://schemas.openxmlformats.org/officeDocument/2006/relationships/image" Target="../media/image6.wmf"/><Relationship Id="rId2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Fibre Channel over InfiniBand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142640" y="51051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or Goldenber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llanox Techn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Stack Archite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905280" y="2546280"/>
            <a:ext cx="1428840" cy="666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41172"/>
                </a:solidFill>
                <a:latin typeface="Arial Narrow"/>
              </a:rPr>
              <a:t>Open F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762120" y="3841920"/>
            <a:ext cx="1428120" cy="1497960"/>
            <a:chOff x="762120" y="3841920"/>
            <a:chExt cx="1428120" cy="1497960"/>
          </a:xfrm>
        </p:grpSpPr>
        <p:sp>
          <p:nvSpPr>
            <p:cNvPr id="322" name=""/>
            <p:cNvSpPr/>
            <p:nvPr/>
          </p:nvSpPr>
          <p:spPr>
            <a:xfrm>
              <a:off x="762120" y="4674240"/>
              <a:ext cx="1428120" cy="66564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41172"/>
                  </a:solidFill>
                  <a:latin typeface="Arial Narrow"/>
                </a:rPr>
                <a:t>mlx4_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62120" y="3841920"/>
              <a:ext cx="1428120" cy="66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41172"/>
                  </a:solidFill>
                  <a:latin typeface="Arial Narrow"/>
                </a:rPr>
                <a:t>TCP/I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3905280" y="1714680"/>
            <a:ext cx="1428840" cy="66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41172"/>
                </a:solidFill>
                <a:latin typeface="Arial Narrow"/>
              </a:rPr>
              <a:t>SCSI</a:t>
            </a:r>
            <a:br>
              <a:rPr sz="1800"/>
            </a:br>
            <a:r>
              <a:rPr b="1" lang="en-US" sz="1800" spc="-1" strike="noStrike">
                <a:solidFill>
                  <a:srgbClr val="241172"/>
                </a:solidFill>
                <a:latin typeface="Arial Narrow"/>
              </a:rPr>
              <a:t>mid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762120" y="3841920"/>
            <a:ext cx="4572000" cy="2330280"/>
            <a:chOff x="762120" y="3841920"/>
            <a:chExt cx="4572000" cy="2330280"/>
          </a:xfrm>
        </p:grpSpPr>
        <p:sp>
          <p:nvSpPr>
            <p:cNvPr id="326" name=""/>
            <p:cNvSpPr/>
            <p:nvPr/>
          </p:nvSpPr>
          <p:spPr>
            <a:xfrm>
              <a:off x="762120" y="5506920"/>
              <a:ext cx="4572000" cy="66528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41172"/>
                  </a:solidFill>
                  <a:latin typeface="Arial Narrow"/>
                </a:rPr>
                <a:t>mlx4_co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2346480" y="3841920"/>
              <a:ext cx="1428120" cy="1497960"/>
              <a:chOff x="2346480" y="3841920"/>
              <a:chExt cx="1428120" cy="1497960"/>
            </a:xfrm>
          </p:grpSpPr>
          <p:sp>
            <p:nvSpPr>
              <p:cNvPr id="328" name=""/>
              <p:cNvSpPr/>
              <p:nvPr/>
            </p:nvSpPr>
            <p:spPr>
              <a:xfrm>
                <a:off x="2346480" y="4674240"/>
                <a:ext cx="1428120" cy="665640"/>
              </a:xfrm>
              <a:prstGeom prst="rect">
                <a:avLst/>
              </a:prstGeom>
              <a:solidFill>
                <a:srgbClr val="cc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241172"/>
                    </a:solidFill>
                    <a:latin typeface="Arial Narrow"/>
                  </a:rPr>
                  <a:t>mlx4_i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346480" y="3841920"/>
                <a:ext cx="1428120" cy="665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241172"/>
                    </a:solidFill>
                    <a:latin typeface="Arial Narrow"/>
                  </a:rPr>
                  <a:t>IB Co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0" name=""/>
          <p:cNvGrpSpPr/>
          <p:nvPr/>
        </p:nvGrpSpPr>
        <p:grpSpPr>
          <a:xfrm>
            <a:off x="3352680" y="3352680"/>
            <a:ext cx="1981440" cy="1987560"/>
            <a:chOff x="3352680" y="3352680"/>
            <a:chExt cx="1981440" cy="1987560"/>
          </a:xfrm>
        </p:grpSpPr>
        <p:sp>
          <p:nvSpPr>
            <p:cNvPr id="331" name=""/>
            <p:cNvSpPr/>
            <p:nvPr/>
          </p:nvSpPr>
          <p:spPr>
            <a:xfrm>
              <a:off x="3905280" y="3352680"/>
              <a:ext cx="1428840" cy="1987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41172"/>
                  </a:solidFill>
                  <a:latin typeface="Arial Narrow"/>
                </a:rPr>
                <a:t>mlx4_f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52680" y="3352680"/>
              <a:ext cx="685800" cy="38124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914640" y="3368520"/>
              <a:ext cx="276480" cy="44640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534600" y="2743200"/>
            <a:ext cx="3313080" cy="1038240"/>
            <a:chOff x="534600" y="2743200"/>
            <a:chExt cx="3313080" cy="1038240"/>
          </a:xfrm>
        </p:grpSpPr>
        <p:sp>
          <p:nvSpPr>
            <p:cNvPr id="335" name=""/>
            <p:cNvSpPr/>
            <p:nvPr/>
          </p:nvSpPr>
          <p:spPr>
            <a:xfrm flipH="1">
              <a:off x="3161880" y="378144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34600" y="2743200"/>
              <a:ext cx="2032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B Client (Discover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600200" y="3048120"/>
              <a:ext cx="1687680" cy="73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3809520" y="2971800"/>
            <a:ext cx="5118840" cy="580680"/>
            <a:chOff x="3809520" y="2971800"/>
            <a:chExt cx="5118840" cy="580680"/>
          </a:xfrm>
        </p:grpSpPr>
        <p:sp>
          <p:nvSpPr>
            <p:cNvPr id="339" name=""/>
            <p:cNvSpPr/>
            <p:nvPr/>
          </p:nvSpPr>
          <p:spPr>
            <a:xfrm flipH="1">
              <a:off x="3809520" y="3276720"/>
              <a:ext cx="17528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0" name=""/>
            <p:cNvGrpSpPr/>
            <p:nvPr/>
          </p:nvGrpSpPr>
          <p:grpSpPr>
            <a:xfrm>
              <a:off x="5410080" y="2971800"/>
              <a:ext cx="3518280" cy="580680"/>
              <a:chOff x="5410080" y="2971800"/>
              <a:chExt cx="3518280" cy="580680"/>
            </a:xfrm>
          </p:grpSpPr>
          <p:sp>
            <p:nvSpPr>
              <p:cNvPr id="341" name=""/>
              <p:cNvSpPr/>
              <p:nvPr/>
            </p:nvSpPr>
            <p:spPr>
              <a:xfrm>
                <a:off x="6255720" y="2971800"/>
                <a:ext cx="2672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nd()          - non offloade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csi_send()  - offloaded I/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H="1">
                <a:off x="5410080" y="327672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lx4_fc HW Interf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80880" y="1444320"/>
            <a:ext cx="8382240" cy="48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C Raw Frame Interface (RFC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s and receives FCoIB fr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C CRC offl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C Command Queues (FCM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te IO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wns bulk of FEXCH Que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C Exchange Queues (FEX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transf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cally allocated to FCMND que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 allocated chunk of que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lx4_fc HW Interf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80880" y="1444320"/>
            <a:ext cx="8382240" cy="48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C Memory K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/dual MKey per FEX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5840" indent="-172800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-allocated chunk of Data MKe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to register buffers for I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ero Copy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ions, Events, Interrupts, Command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us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lx4_co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urce bro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cation of chunks of QPs/MRs to upper dri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 interface seri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IO Read Fl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876920" y="2819520"/>
            <a:ext cx="16761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074200" y="2595600"/>
            <a:ext cx="116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CP_CM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4857840" y="3641760"/>
            <a:ext cx="16761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167800" y="3327480"/>
            <a:ext cx="112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CP_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207400" y="4572000"/>
            <a:ext cx="10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CP_R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95720" y="2009880"/>
            <a:ext cx="125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ORead CM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84600" y="2057400"/>
            <a:ext cx="1213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llocate xCh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p DMA Are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gister mem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581280" y="2743200"/>
            <a:ext cx="393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812320" y="2622600"/>
            <a:ext cx="82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ssue CM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4876920" y="4800600"/>
            <a:ext cx="16761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982880" y="1706400"/>
            <a:ext cx="6807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openf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84040" y="1706400"/>
            <a:ext cx="750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mlx4_f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63960" y="3691080"/>
            <a:ext cx="93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Zero Cop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W D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793960" y="5165640"/>
            <a:ext cx="785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s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994040" y="2185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334840" y="1706400"/>
            <a:ext cx="682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IB w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983040" y="1706400"/>
            <a:ext cx="892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Connect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706400" y="580536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80160" y="5651640"/>
            <a:ext cx="134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O Read D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790720" y="5407200"/>
            <a:ext cx="1009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lease xCh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Unmap D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959280" y="1905120"/>
            <a:ext cx="15840" cy="425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32120" y="1973160"/>
            <a:ext cx="9360" cy="419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857840" y="19731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534000" y="1973160"/>
            <a:ext cx="0" cy="416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4857840" y="3733920"/>
            <a:ext cx="16761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4857840" y="3809880"/>
            <a:ext cx="167616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4857840" y="3886200"/>
            <a:ext cx="16761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486240" y="5211720"/>
            <a:ext cx="476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CoIB – FC frames Encapsulation over IB U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CoIB is a UD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ifies gateway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, cost, scal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ifies software and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C look &amp; fe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ocol is fully offloaded in Connect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ground and 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ocol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Stack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302760"/>
            <a:ext cx="7467480" cy="7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/O Consolid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4572000"/>
            <a:ext cx="86104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476"/>
              </a:spcBef>
              <a:buClr>
                <a:srgbClr val="0099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nect islands of IB to network and storage fabr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476"/>
              </a:spcBef>
              <a:buClr>
                <a:srgbClr val="0099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ey 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82600">
              <a:lnSpc>
                <a:spcPct val="80000"/>
              </a:lnSpc>
              <a:spcBef>
                <a:spcPts val="476"/>
              </a:spcBef>
              <a:buClr>
                <a:srgbClr val="0099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atew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3160">
              <a:lnSpc>
                <a:spcPct val="80000"/>
              </a:lnSpc>
              <a:spcBef>
                <a:spcPts val="476"/>
              </a:spcBef>
              <a:buClr>
                <a:srgbClr val="0099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st, performance, scalability, simpli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82600">
              <a:lnSpc>
                <a:spcPct val="80000"/>
              </a:lnSpc>
              <a:spcBef>
                <a:spcPts val="476"/>
              </a:spcBef>
              <a:buClr>
                <a:srgbClr val="0099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29000" y="1924200"/>
            <a:ext cx="1600200" cy="838080"/>
          </a:xfrm>
          <a:prstGeom prst="rightArrow">
            <a:avLst>
              <a:gd name="adj1" fmla="val 50000"/>
              <a:gd name="adj2" fmla="val 47734"/>
            </a:avLst>
          </a:prstGeom>
          <a:solidFill>
            <a:srgbClr val="e9ae5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nver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ith InfiniB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90920" y="2076480"/>
            <a:ext cx="1440" cy="220968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2097000"/>
            <a:ext cx="2666880" cy="433440"/>
          </a:xfrm>
          <a:prstGeom prst="rect">
            <a:avLst/>
          </a:prstGeom>
          <a:solidFill>
            <a:srgbClr val="c9e4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2076480"/>
            <a:ext cx="1440" cy="1143000"/>
          </a:xfrm>
          <a:prstGeom prst="line">
            <a:avLst/>
          </a:prstGeom>
          <a:ln w="284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438280" y="2076480"/>
            <a:ext cx="1800" cy="220968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00200" y="2076480"/>
            <a:ext cx="1440" cy="1066680"/>
          </a:xfrm>
          <a:prstGeom prst="line">
            <a:avLst/>
          </a:prstGeom>
          <a:ln w="381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2076480"/>
            <a:ext cx="1440" cy="1219320"/>
          </a:xfrm>
          <a:prstGeom prst="line">
            <a:avLst/>
          </a:prstGeom>
          <a:ln w="284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076480"/>
            <a:ext cx="1440" cy="1066680"/>
          </a:xfrm>
          <a:prstGeom prst="line">
            <a:avLst/>
          </a:prstGeom>
          <a:ln w="381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2480" y="2076480"/>
            <a:ext cx="1800" cy="1066680"/>
          </a:xfrm>
          <a:prstGeom prst="line">
            <a:avLst/>
          </a:prstGeom>
          <a:ln w="381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28800" y="2076480"/>
            <a:ext cx="1440" cy="1066680"/>
          </a:xfrm>
          <a:prstGeom prst="line">
            <a:avLst/>
          </a:prstGeom>
          <a:ln w="381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4120" y="1467000"/>
            <a:ext cx="743040" cy="620640"/>
          </a:xfrm>
          <a:prstGeom prst="rect">
            <a:avLst/>
          </a:prstGeom>
          <a:solidFill>
            <a:srgbClr val="9900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Storage</a:t>
            </a:r>
            <a:br>
              <a:rPr sz="1000"/>
            </a:b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Ap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78000" y="1467000"/>
            <a:ext cx="743040" cy="620640"/>
          </a:xfrm>
          <a:prstGeom prst="rect">
            <a:avLst/>
          </a:prstGeom>
          <a:solidFill>
            <a:srgbClr val="99cc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Network</a:t>
            </a:r>
            <a:br>
              <a:rPr sz="1000"/>
            </a:b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71880" y="1467000"/>
            <a:ext cx="741240" cy="620640"/>
          </a:xfrm>
          <a:prstGeom prst="rect">
            <a:avLst/>
          </a:prstGeom>
          <a:solidFill>
            <a:srgbClr val="79c277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Manage-</a:t>
            </a:r>
            <a:br>
              <a:rPr sz="1000"/>
            </a:b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ment</a:t>
            </a:r>
            <a:br>
              <a:rPr sz="1000"/>
            </a:b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5257800" y="1467000"/>
            <a:ext cx="3886200" cy="2347560"/>
            <a:chOff x="5257800" y="1467000"/>
            <a:chExt cx="3886200" cy="2347560"/>
          </a:xfrm>
        </p:grpSpPr>
        <p:sp>
          <p:nvSpPr>
            <p:cNvPr id="113" name=""/>
            <p:cNvSpPr/>
            <p:nvPr/>
          </p:nvSpPr>
          <p:spPr>
            <a:xfrm>
              <a:off x="5257800" y="2097360"/>
              <a:ext cx="2666880" cy="433440"/>
            </a:xfrm>
            <a:prstGeom prst="rect">
              <a:avLst/>
            </a:prstGeom>
            <a:solidFill>
              <a:srgbClr val="c9e4ff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n-GB" sz="1600" spc="-1" strike="noStrike">
                  <a:solidFill>
                    <a:srgbClr val="000000"/>
                  </a:solidFill>
                  <a:latin typeface="Arial"/>
                </a:rPr>
                <a:t>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30880" y="1467000"/>
              <a:ext cx="743040" cy="62064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br>
                <a:rPr sz="1000"/>
              </a:b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</a:rPr>
                <a:t>Ap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24760" y="1467000"/>
              <a:ext cx="741240" cy="620640"/>
            </a:xfrm>
            <a:prstGeom prst="rect">
              <a:avLst/>
            </a:prstGeom>
            <a:solidFill>
              <a:srgbClr val="79c277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</a:rPr>
                <a:t>Manage-</a:t>
              </a:r>
              <a:br>
                <a:rPr sz="1000"/>
              </a:b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</a:rPr>
                <a:t>ment</a:t>
              </a:r>
              <a:br>
                <a:rPr sz="1000"/>
              </a:b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</a:rPr>
                <a:t>Ap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5943240" y="2835000"/>
              <a:ext cx="1676880" cy="979560"/>
              <a:chOff x="5943240" y="2835000"/>
              <a:chExt cx="1676880" cy="979560"/>
            </a:xfrm>
          </p:grpSpPr>
          <p:sp>
            <p:nvSpPr>
              <p:cNvPr id="117" name=""/>
              <p:cNvSpPr/>
              <p:nvPr/>
            </p:nvSpPr>
            <p:spPr>
              <a:xfrm flipH="1">
                <a:off x="5942880" y="3034080"/>
                <a:ext cx="1500120" cy="680760"/>
              </a:xfrm>
              <a:prstGeom prst="rect">
                <a:avLst/>
              </a:prstGeom>
              <a:solidFill>
                <a:srgbClr val="00990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9440" bIns="1944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IB HC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73160" y="3715200"/>
                <a:ext cx="793800" cy="9756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V="1">
                <a:off x="7443720" y="2835000"/>
                <a:ext cx="1800" cy="979560"/>
              </a:xfrm>
              <a:prstGeom prst="line">
                <a:avLst/>
              </a:prstGeom>
              <a:ln w="38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443720" y="2863440"/>
                <a:ext cx="176400" cy="1440"/>
              </a:xfrm>
              <a:prstGeom prst="line">
                <a:avLst/>
              </a:prstGeom>
              <a:ln w="38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" name=""/>
            <p:cNvSpPr/>
            <p:nvPr/>
          </p:nvSpPr>
          <p:spPr>
            <a:xfrm rot="16200000">
              <a:off x="7354800" y="3255480"/>
              <a:ext cx="533160" cy="308160"/>
            </a:xfrm>
            <a:prstGeom prst="upDownArrow">
              <a:avLst>
                <a:gd name="adj1" fmla="val 50000"/>
                <a:gd name="adj2" fmla="val 19907"/>
              </a:avLst>
            </a:prstGeom>
            <a:solidFill>
              <a:srgbClr val="f2862f"/>
            </a:solidFill>
            <a:ln w="9360">
              <a:solidFill>
                <a:srgbClr val="f286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15000" y="2073600"/>
              <a:ext cx="457200" cy="1066680"/>
            </a:xfrm>
            <a:prstGeom prst="line">
              <a:avLst/>
            </a:prstGeom>
            <a:ln w="7632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7159680" y="2073600"/>
              <a:ext cx="234720" cy="106668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629400" y="2073600"/>
              <a:ext cx="1440" cy="1066680"/>
            </a:xfrm>
            <a:prstGeom prst="line">
              <a:avLst/>
            </a:prstGeom>
            <a:ln w="5724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934320" y="2990880"/>
              <a:ext cx="363240" cy="262080"/>
            </a:xfrm>
            <a:prstGeom prst="ellipse">
              <a:avLst/>
            </a:prstGeom>
            <a:solidFill>
              <a:srgbClr val="99ff99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477120" y="2990880"/>
              <a:ext cx="363240" cy="262080"/>
            </a:xfrm>
            <a:prstGeom prst="ellipse">
              <a:avLst/>
            </a:prstGeom>
            <a:solidFill>
              <a:srgbClr val="9999ff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91320" y="2073600"/>
              <a:ext cx="457200" cy="1066680"/>
            </a:xfrm>
            <a:prstGeom prst="line">
              <a:avLst/>
            </a:prstGeom>
            <a:ln w="7632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76800" y="2990880"/>
              <a:ext cx="324000" cy="249480"/>
            </a:xfrm>
            <a:prstGeom prst="ellipse">
              <a:avLst/>
            </a:prstGeom>
            <a:solidFill>
              <a:srgbClr val="9900ff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337000" y="1467000"/>
              <a:ext cx="743040" cy="620640"/>
            </a:xfrm>
            <a:prstGeom prst="rect">
              <a:avLst/>
            </a:prstGeom>
            <a:solidFill>
              <a:srgbClr val="9900ff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</a:rPr>
                <a:t>Storage</a:t>
              </a:r>
              <a:br>
                <a:rPr sz="1000"/>
              </a:b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</a:rPr>
                <a:t>Ap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672320" y="3219480"/>
              <a:ext cx="14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ff0000"/>
                  </a:solidFill>
                  <a:latin typeface="Times New Roman"/>
                </a:rPr>
                <a:t>One wi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2055600" y="3750840"/>
            <a:ext cx="852480" cy="515880"/>
            <a:chOff x="2055600" y="3750840"/>
            <a:chExt cx="852480" cy="515880"/>
          </a:xfrm>
        </p:grpSpPr>
        <p:sp>
          <p:nvSpPr>
            <p:cNvPr id="132" name=""/>
            <p:cNvSpPr/>
            <p:nvPr/>
          </p:nvSpPr>
          <p:spPr>
            <a:xfrm>
              <a:off x="2147760" y="3856680"/>
              <a:ext cx="760320" cy="356760"/>
            </a:xfrm>
            <a:prstGeom prst="rect">
              <a:avLst/>
            </a:prstGeom>
            <a:solidFill>
              <a:srgbClr val="79c277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9440" bIns="1944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237760" y="4213440"/>
              <a:ext cx="403200" cy="51480"/>
            </a:xfrm>
            <a:prstGeom prst="rect">
              <a:avLst/>
            </a:prstGeom>
            <a:solidFill>
              <a:srgbClr val="79c277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2147760" y="3750840"/>
              <a:ext cx="1080" cy="51588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2055600" y="3766680"/>
              <a:ext cx="94680" cy="144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380880" y="2695680"/>
            <a:ext cx="850680" cy="513720"/>
            <a:chOff x="380880" y="2695680"/>
            <a:chExt cx="850680" cy="513720"/>
          </a:xfrm>
        </p:grpSpPr>
        <p:sp>
          <p:nvSpPr>
            <p:cNvPr id="137" name=""/>
            <p:cNvSpPr/>
            <p:nvPr/>
          </p:nvSpPr>
          <p:spPr>
            <a:xfrm>
              <a:off x="469440" y="2798280"/>
              <a:ext cx="762120" cy="358920"/>
            </a:xfrm>
            <a:prstGeom prst="rect">
              <a:avLst/>
            </a:prstGeom>
            <a:solidFill>
              <a:srgbClr val="9900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9440" bIns="1944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60160" y="3157560"/>
              <a:ext cx="403920" cy="51840"/>
            </a:xfrm>
            <a:prstGeom prst="rect">
              <a:avLst/>
            </a:prstGeom>
            <a:solidFill>
              <a:srgbClr val="9900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9440" y="2695680"/>
              <a:ext cx="1440" cy="512640"/>
            </a:xfrm>
            <a:custGeom>
              <a:avLst/>
              <a:gdLst/>
              <a:ahLst/>
              <a:rect l="l" t="t" r="r" b="b"/>
              <a:pathLst>
                <a:path w="1" h="1430">
                  <a:moveTo>
                    <a:pt x="0" y="1429"/>
                  </a:moveTo>
                  <a:lnTo>
                    <a:pt x="0" y="0"/>
                  </a:lnTo>
                </a:path>
              </a:pathLst>
            </a:custGeom>
            <a:solidFill>
              <a:srgbClr val="ff3399"/>
            </a:soli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80880" y="2707920"/>
              <a:ext cx="90360" cy="1440"/>
            </a:xfrm>
            <a:custGeom>
              <a:avLst/>
              <a:gdLst/>
              <a:ahLst/>
              <a:rect l="l" t="t" r="r" b="b"/>
              <a:pathLst>
                <a:path w="250" h="1">
                  <a:moveTo>
                    <a:pt x="249" y="0"/>
                  </a:moveTo>
                  <a:lnTo>
                    <a:pt x="0" y="0"/>
                  </a:lnTo>
                </a:path>
              </a:pathLst>
            </a:custGeom>
            <a:solidFill>
              <a:srgbClr val="ff3399"/>
            </a:soli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431720" y="2684160"/>
            <a:ext cx="852480" cy="515880"/>
            <a:chOff x="1431720" y="2684160"/>
            <a:chExt cx="852480" cy="515880"/>
          </a:xfrm>
        </p:grpSpPr>
        <p:sp>
          <p:nvSpPr>
            <p:cNvPr id="142" name=""/>
            <p:cNvSpPr/>
            <p:nvPr/>
          </p:nvSpPr>
          <p:spPr>
            <a:xfrm>
              <a:off x="1523880" y="2789640"/>
              <a:ext cx="760320" cy="357120"/>
            </a:xfrm>
            <a:prstGeom prst="rect">
              <a:avLst/>
            </a:prstGeom>
            <a:solidFill>
              <a:srgbClr val="e3695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9440" bIns="1944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13880" y="3145320"/>
              <a:ext cx="403200" cy="51480"/>
            </a:xfrm>
            <a:prstGeom prst="rect">
              <a:avLst/>
            </a:prstGeom>
            <a:solidFill>
              <a:srgbClr val="e36953"/>
            </a:solidFill>
            <a:ln w="93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1523880" y="2684160"/>
              <a:ext cx="1080" cy="51588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1431720" y="2700000"/>
              <a:ext cx="94680" cy="108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533520" y="2847960"/>
            <a:ext cx="852120" cy="514080"/>
            <a:chOff x="533520" y="2847960"/>
            <a:chExt cx="852120" cy="514080"/>
          </a:xfrm>
        </p:grpSpPr>
        <p:sp>
          <p:nvSpPr>
            <p:cNvPr id="147" name=""/>
            <p:cNvSpPr/>
            <p:nvPr/>
          </p:nvSpPr>
          <p:spPr>
            <a:xfrm>
              <a:off x="623520" y="2950920"/>
              <a:ext cx="762120" cy="358920"/>
            </a:xfrm>
            <a:prstGeom prst="rect">
              <a:avLst/>
            </a:prstGeom>
            <a:solidFill>
              <a:srgbClr val="9900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9440" bIns="1944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12440" y="3309840"/>
              <a:ext cx="403920" cy="52200"/>
            </a:xfrm>
            <a:prstGeom prst="rect">
              <a:avLst/>
            </a:prstGeom>
            <a:solidFill>
              <a:srgbClr val="9900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23520" y="2847960"/>
              <a:ext cx="1080" cy="512640"/>
            </a:xfrm>
            <a:custGeom>
              <a:avLst/>
              <a:gdLst/>
              <a:ahLst/>
              <a:rect l="l" t="t" r="r" b="b"/>
              <a:pathLst>
                <a:path w="1" h="1430">
                  <a:moveTo>
                    <a:pt x="0" y="1429"/>
                  </a:moveTo>
                  <a:lnTo>
                    <a:pt x="0" y="0"/>
                  </a:lnTo>
                </a:path>
              </a:pathLst>
            </a:custGeom>
            <a:solidFill>
              <a:srgbClr val="ff3399"/>
            </a:soli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33520" y="2860560"/>
              <a:ext cx="90000" cy="1080"/>
            </a:xfrm>
            <a:custGeom>
              <a:avLst/>
              <a:gdLst/>
              <a:ahLst/>
              <a:rect l="l" t="t" r="r" b="b"/>
              <a:pathLst>
                <a:path w="250" h="1">
                  <a:moveTo>
                    <a:pt x="249" y="0"/>
                  </a:moveTo>
                  <a:lnTo>
                    <a:pt x="0" y="0"/>
                  </a:lnTo>
                </a:path>
              </a:pathLst>
            </a:custGeom>
            <a:solidFill>
              <a:srgbClr val="ff3399"/>
            </a:soli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1584000" y="2836440"/>
            <a:ext cx="852480" cy="515880"/>
            <a:chOff x="1584000" y="2836440"/>
            <a:chExt cx="852480" cy="515880"/>
          </a:xfrm>
        </p:grpSpPr>
        <p:sp>
          <p:nvSpPr>
            <p:cNvPr id="152" name=""/>
            <p:cNvSpPr/>
            <p:nvPr/>
          </p:nvSpPr>
          <p:spPr>
            <a:xfrm>
              <a:off x="1676160" y="2942280"/>
              <a:ext cx="760320" cy="356760"/>
            </a:xfrm>
            <a:prstGeom prst="rect">
              <a:avLst/>
            </a:prstGeom>
            <a:solidFill>
              <a:srgbClr val="e3695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9440" bIns="1944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66520" y="3299040"/>
              <a:ext cx="402840" cy="51480"/>
            </a:xfrm>
            <a:prstGeom prst="rect">
              <a:avLst/>
            </a:prstGeom>
            <a:solidFill>
              <a:srgbClr val="e36953"/>
            </a:solidFill>
            <a:ln w="93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1676160" y="2836440"/>
              <a:ext cx="1440" cy="51588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1584000" y="2852280"/>
              <a:ext cx="94680" cy="144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1736280" y="2989080"/>
            <a:ext cx="854280" cy="515880"/>
            <a:chOff x="1736280" y="2989080"/>
            <a:chExt cx="854280" cy="515880"/>
          </a:xfrm>
        </p:grpSpPr>
        <p:sp>
          <p:nvSpPr>
            <p:cNvPr id="157" name=""/>
            <p:cNvSpPr/>
            <p:nvPr/>
          </p:nvSpPr>
          <p:spPr>
            <a:xfrm>
              <a:off x="1829880" y="3094560"/>
              <a:ext cx="760680" cy="357120"/>
            </a:xfrm>
            <a:prstGeom prst="rect">
              <a:avLst/>
            </a:prstGeom>
            <a:solidFill>
              <a:srgbClr val="e3695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9440" bIns="1944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918440" y="3451680"/>
              <a:ext cx="403200" cy="51480"/>
            </a:xfrm>
            <a:prstGeom prst="rect">
              <a:avLst/>
            </a:prstGeom>
            <a:solidFill>
              <a:srgbClr val="e36953"/>
            </a:solidFill>
            <a:ln w="93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1829880" y="2989080"/>
              <a:ext cx="1080" cy="51588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1736280" y="3004920"/>
              <a:ext cx="94680" cy="108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1888920" y="3141360"/>
            <a:ext cx="852480" cy="515880"/>
            <a:chOff x="1888920" y="3141360"/>
            <a:chExt cx="852480" cy="515880"/>
          </a:xfrm>
        </p:grpSpPr>
        <p:sp>
          <p:nvSpPr>
            <p:cNvPr id="162" name=""/>
            <p:cNvSpPr/>
            <p:nvPr/>
          </p:nvSpPr>
          <p:spPr>
            <a:xfrm>
              <a:off x="1981080" y="3246840"/>
              <a:ext cx="760320" cy="357120"/>
            </a:xfrm>
            <a:prstGeom prst="rect">
              <a:avLst/>
            </a:prstGeom>
            <a:solidFill>
              <a:srgbClr val="e3695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9440" bIns="1944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bE NI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071080" y="3602520"/>
              <a:ext cx="403200" cy="51480"/>
            </a:xfrm>
            <a:prstGeom prst="rect">
              <a:avLst/>
            </a:prstGeom>
            <a:solidFill>
              <a:srgbClr val="e36953"/>
            </a:solidFill>
            <a:ln w="93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1981080" y="3141360"/>
              <a:ext cx="1080" cy="51588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1888920" y="3157200"/>
              <a:ext cx="94680" cy="108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207880" y="3903480"/>
            <a:ext cx="852480" cy="515880"/>
            <a:chOff x="2207880" y="3903480"/>
            <a:chExt cx="852480" cy="515880"/>
          </a:xfrm>
        </p:grpSpPr>
        <p:sp>
          <p:nvSpPr>
            <p:cNvPr id="167" name=""/>
            <p:cNvSpPr/>
            <p:nvPr/>
          </p:nvSpPr>
          <p:spPr>
            <a:xfrm>
              <a:off x="2299680" y="4008960"/>
              <a:ext cx="760680" cy="357120"/>
            </a:xfrm>
            <a:prstGeom prst="rect">
              <a:avLst/>
            </a:prstGeom>
            <a:solidFill>
              <a:srgbClr val="79c277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9440" bIns="1944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bE NI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390040" y="4366080"/>
              <a:ext cx="403200" cy="51480"/>
            </a:xfrm>
            <a:prstGeom prst="rect">
              <a:avLst/>
            </a:prstGeom>
            <a:solidFill>
              <a:srgbClr val="79c277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2299680" y="3903480"/>
              <a:ext cx="1440" cy="51588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07880" y="3919320"/>
              <a:ext cx="94680" cy="108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685800" y="3000240"/>
            <a:ext cx="850680" cy="514080"/>
            <a:chOff x="685800" y="3000240"/>
            <a:chExt cx="850680" cy="514080"/>
          </a:xfrm>
        </p:grpSpPr>
        <p:sp>
          <p:nvSpPr>
            <p:cNvPr id="172" name=""/>
            <p:cNvSpPr/>
            <p:nvPr/>
          </p:nvSpPr>
          <p:spPr>
            <a:xfrm>
              <a:off x="774360" y="3102840"/>
              <a:ext cx="762120" cy="359280"/>
            </a:xfrm>
            <a:prstGeom prst="rect">
              <a:avLst/>
            </a:prstGeom>
            <a:solidFill>
              <a:srgbClr val="9900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9440" bIns="1944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64720" y="3462120"/>
              <a:ext cx="404280" cy="52200"/>
            </a:xfrm>
            <a:prstGeom prst="rect">
              <a:avLst/>
            </a:prstGeom>
            <a:solidFill>
              <a:srgbClr val="9900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74360" y="3000240"/>
              <a:ext cx="1080" cy="513000"/>
            </a:xfrm>
            <a:custGeom>
              <a:avLst/>
              <a:gdLst/>
              <a:ahLst/>
              <a:rect l="l" t="t" r="r" b="b"/>
              <a:pathLst>
                <a:path w="1" h="1430">
                  <a:moveTo>
                    <a:pt x="0" y="1429"/>
                  </a:moveTo>
                  <a:lnTo>
                    <a:pt x="0" y="0"/>
                  </a:lnTo>
                </a:path>
              </a:pathLst>
            </a:custGeom>
            <a:solidFill>
              <a:srgbClr val="ff3399"/>
            </a:soli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5800" y="3012480"/>
              <a:ext cx="90000" cy="1080"/>
            </a:xfrm>
            <a:custGeom>
              <a:avLst/>
              <a:gdLst/>
              <a:ahLst/>
              <a:rect l="l" t="t" r="r" b="b"/>
              <a:pathLst>
                <a:path w="250" h="1">
                  <a:moveTo>
                    <a:pt x="249" y="0"/>
                  </a:moveTo>
                  <a:lnTo>
                    <a:pt x="0" y="0"/>
                  </a:lnTo>
                </a:path>
              </a:pathLst>
            </a:custGeom>
            <a:solidFill>
              <a:srgbClr val="ff3399"/>
            </a:soli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838080" y="3152880"/>
            <a:ext cx="850680" cy="513720"/>
            <a:chOff x="838080" y="3152880"/>
            <a:chExt cx="850680" cy="513720"/>
          </a:xfrm>
        </p:grpSpPr>
        <p:sp>
          <p:nvSpPr>
            <p:cNvPr id="177" name=""/>
            <p:cNvSpPr/>
            <p:nvPr/>
          </p:nvSpPr>
          <p:spPr>
            <a:xfrm>
              <a:off x="926640" y="3255480"/>
              <a:ext cx="762120" cy="358920"/>
            </a:xfrm>
            <a:prstGeom prst="rect">
              <a:avLst/>
            </a:prstGeom>
            <a:solidFill>
              <a:srgbClr val="9900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9440" bIns="1944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C HB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017360" y="3614760"/>
              <a:ext cx="403920" cy="51840"/>
            </a:xfrm>
            <a:prstGeom prst="rect">
              <a:avLst/>
            </a:prstGeom>
            <a:solidFill>
              <a:srgbClr val="9900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26640" y="3152880"/>
              <a:ext cx="1440" cy="512640"/>
            </a:xfrm>
            <a:custGeom>
              <a:avLst/>
              <a:gdLst/>
              <a:ahLst/>
              <a:rect l="l" t="t" r="r" b="b"/>
              <a:pathLst>
                <a:path w="1" h="1430">
                  <a:moveTo>
                    <a:pt x="0" y="1429"/>
                  </a:moveTo>
                  <a:lnTo>
                    <a:pt x="0" y="0"/>
                  </a:lnTo>
                </a:path>
              </a:pathLst>
            </a:custGeom>
            <a:solidFill>
              <a:srgbClr val="ff3399"/>
            </a:soli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38080" y="3165120"/>
              <a:ext cx="90360" cy="1440"/>
            </a:xfrm>
            <a:custGeom>
              <a:avLst/>
              <a:gdLst/>
              <a:ahLst/>
              <a:rect l="l" t="t" r="r" b="b"/>
              <a:pathLst>
                <a:path w="250" h="1">
                  <a:moveTo>
                    <a:pt x="249" y="0"/>
                  </a:moveTo>
                  <a:lnTo>
                    <a:pt x="0" y="0"/>
                  </a:lnTo>
                </a:path>
              </a:pathLst>
            </a:custGeom>
            <a:solidFill>
              <a:srgbClr val="ff3399"/>
            </a:soli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FCoIB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408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ilar to Fibre Cha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arency to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C software runs over IB w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ilar frame format /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ilar driver infra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ways - complexity re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SI transport termin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ateless packet r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ter performance/scalability at lower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er support for legacy storage at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508960" y="2610000"/>
            <a:ext cx="219240" cy="16488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8562960" y="1895040"/>
            <a:ext cx="219240" cy="16524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552920" y="2335320"/>
            <a:ext cx="22860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915400" y="1562040"/>
            <a:ext cx="228600" cy="343080"/>
          </a:xfrm>
          <a:prstGeom prst="flowChartMagneticDisk">
            <a:avLst/>
          </a:prstGeom>
          <a:solidFill>
            <a:srgbClr val="8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934320" y="2362320"/>
            <a:ext cx="45720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6133680" y="2362320"/>
            <a:ext cx="34308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600880" y="1714680"/>
            <a:ext cx="0" cy="22860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362640" y="2019240"/>
            <a:ext cx="685800" cy="685800"/>
          </a:xfrm>
          <a:prstGeom prst="diamond">
            <a:avLst/>
          </a:prstGeom>
          <a:gradFill rotWithShape="0">
            <a:gsLst>
              <a:gs pos="0">
                <a:srgbClr val="800000"/>
              </a:gs>
              <a:gs pos="100000">
                <a:srgbClr val="00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atew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34120" y="1409760"/>
            <a:ext cx="533160" cy="304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132680" y="1905120"/>
            <a:ext cx="1617480" cy="990360"/>
          </a:xfrm>
          <a:prstGeom prst="cloudCallout">
            <a:avLst>
              <a:gd name="adj1" fmla="val -5152"/>
              <a:gd name="adj2" fmla="val 50319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bre Chan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686800" y="1562040"/>
            <a:ext cx="228600" cy="343080"/>
          </a:xfrm>
          <a:prstGeom prst="flowChartMagneticDisk">
            <a:avLst/>
          </a:prstGeom>
          <a:solidFill>
            <a:srgbClr val="8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801280" y="1676520"/>
            <a:ext cx="228600" cy="342720"/>
          </a:xfrm>
          <a:prstGeom prst="flowChartMagneticDisk">
            <a:avLst/>
          </a:prstGeom>
          <a:solidFill>
            <a:srgbClr val="8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915400" y="1790640"/>
            <a:ext cx="228600" cy="343080"/>
          </a:xfrm>
          <a:prstGeom prst="flowChartMagneticDisk">
            <a:avLst/>
          </a:prstGeom>
          <a:solidFill>
            <a:srgbClr val="8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915400" y="2705040"/>
            <a:ext cx="228600" cy="343080"/>
          </a:xfrm>
          <a:prstGeom prst="flowChartMagneticDisk">
            <a:avLst/>
          </a:prstGeom>
          <a:solidFill>
            <a:srgbClr val="8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686800" y="2705040"/>
            <a:ext cx="228600" cy="343080"/>
          </a:xfrm>
          <a:prstGeom prst="flowChartMagneticDisk">
            <a:avLst/>
          </a:prstGeom>
          <a:solidFill>
            <a:srgbClr val="8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801280" y="2819520"/>
            <a:ext cx="228600" cy="342720"/>
          </a:xfrm>
          <a:prstGeom prst="flowChartMagneticDisk">
            <a:avLst/>
          </a:prstGeom>
          <a:solidFill>
            <a:srgbClr val="8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15400" y="2933640"/>
            <a:ext cx="228600" cy="343080"/>
          </a:xfrm>
          <a:prstGeom prst="flowChartMagneticDisk">
            <a:avLst/>
          </a:prstGeom>
          <a:solidFill>
            <a:srgbClr val="8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171880"/>
            <a:ext cx="419040" cy="304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91080" y="2874960"/>
            <a:ext cx="0" cy="22860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257800" y="3063960"/>
            <a:ext cx="466560" cy="304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705200" y="1866960"/>
            <a:ext cx="1538280" cy="990720"/>
          </a:xfrm>
          <a:prstGeom prst="cloudCallout">
            <a:avLst>
              <a:gd name="adj1" fmla="val -2837"/>
              <a:gd name="adj2" fmla="val 50319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iniB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C over IB Gateway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1980720" y="4267080"/>
            <a:ext cx="1981080" cy="977400"/>
            <a:chOff x="1980720" y="4267080"/>
            <a:chExt cx="1981080" cy="977400"/>
          </a:xfrm>
        </p:grpSpPr>
        <p:sp>
          <p:nvSpPr>
            <p:cNvPr id="206" name=""/>
            <p:cNvSpPr/>
            <p:nvPr/>
          </p:nvSpPr>
          <p:spPr>
            <a:xfrm flipH="1" flipV="1">
              <a:off x="1980720" y="4267080"/>
              <a:ext cx="13208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692800" y="4724280"/>
              <a:ext cx="1269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41172"/>
                  </a:solidFill>
                  <a:latin typeface="Arial Narrow"/>
                </a:rPr>
                <a:t>NPIV N_Por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99"/>
                  </a:solidFill>
                  <a:latin typeface="Arial Narrow"/>
                </a:rPr>
                <a:t>FC Begins He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686160" y="1447920"/>
            <a:ext cx="119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hysical View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952880" y="5257800"/>
            <a:ext cx="4040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ing initiators log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s as an NPIV N_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7120" indent="-282600">
              <a:lnSpc>
                <a:spcPct val="10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lects F_LOGI as F_DI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5562360" y="1447920"/>
            <a:ext cx="2489400" cy="3851280"/>
            <a:chOff x="5562360" y="1447920"/>
            <a:chExt cx="2489400" cy="3851280"/>
          </a:xfrm>
        </p:grpSpPr>
        <p:grpSp>
          <p:nvGrpSpPr>
            <p:cNvPr id="211" name=""/>
            <p:cNvGrpSpPr/>
            <p:nvPr/>
          </p:nvGrpSpPr>
          <p:grpSpPr>
            <a:xfrm>
              <a:off x="5562360" y="1447920"/>
              <a:ext cx="2489400" cy="3851280"/>
              <a:chOff x="5562360" y="1447920"/>
              <a:chExt cx="2489400" cy="3851280"/>
            </a:xfrm>
          </p:grpSpPr>
          <p:sp>
            <p:nvSpPr>
              <p:cNvPr id="212" name=""/>
              <p:cNvSpPr/>
              <p:nvPr/>
            </p:nvSpPr>
            <p:spPr>
              <a:xfrm>
                <a:off x="5613480" y="2133720"/>
                <a:ext cx="2438280" cy="9907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irtualize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562360" y="1447920"/>
                <a:ext cx="1118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Logical View: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822640" y="3200760"/>
                <a:ext cx="777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 Narrow"/>
                  </a:rPr>
                  <a:t>NPIV HB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146640" y="3800880"/>
                <a:ext cx="1393920" cy="761760"/>
                <a:chOff x="6146640" y="3800880"/>
                <a:chExt cx="1393920" cy="761760"/>
              </a:xfrm>
            </p:grpSpPr>
            <p:sp>
              <p:nvSpPr>
                <p:cNvPr id="216" name="Cloud"/>
                <p:cNvSpPr/>
                <p:nvPr/>
              </p:nvSpPr>
              <p:spPr>
                <a:xfrm>
                  <a:off x="6146640" y="3800880"/>
                  <a:ext cx="1393920" cy="761760"/>
                </a:xfrm>
                <a:prstGeom prst="pie">
                  <a:avLst/>
                </a:prstGeom>
                <a:solidFill>
                  <a:srgbClr val="006699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6312600" y="3965760"/>
                  <a:ext cx="979200" cy="434520"/>
                </a:xfrm>
                <a:prstGeom prst="rect">
                  <a:avLst/>
                </a:pr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7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Fibre </a:t>
                  </a:r>
                  <a:br>
                    <a:rPr sz="1600"/>
                  </a:b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Channe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aphicFrame>
            <p:nvGraphicFramePr>
              <p:cNvPr id="218" name=""/>
              <p:cNvGraphicFramePr/>
              <p:nvPr/>
            </p:nvGraphicFramePr>
            <p:xfrm>
              <a:off x="6146640" y="4791240"/>
              <a:ext cx="490680" cy="5079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19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146640" y="4791240"/>
                        <a:ext cx="490680" cy="507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20" name=""/>
              <p:cNvGraphicFramePr/>
              <p:nvPr/>
            </p:nvGraphicFramePr>
            <p:xfrm>
              <a:off x="6756480" y="4791240"/>
              <a:ext cx="490320" cy="5079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21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6756480" y="4791240"/>
                        <a:ext cx="490320" cy="507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22" name=""/>
              <p:cNvGraphicFramePr/>
              <p:nvPr/>
            </p:nvGraphicFramePr>
            <p:xfrm>
              <a:off x="7365960" y="4791240"/>
              <a:ext cx="490680" cy="5079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223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7365960" y="4791240"/>
                        <a:ext cx="490680" cy="507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24" name=""/>
              <p:cNvSpPr/>
              <p:nvPr/>
            </p:nvSpPr>
            <p:spPr>
              <a:xfrm flipH="1">
                <a:off x="6298920" y="4486680"/>
                <a:ext cx="75960" cy="380880"/>
              </a:xfrm>
              <a:prstGeom prst="line">
                <a:avLst/>
              </a:prstGeom>
              <a:ln w="284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908760" y="4486680"/>
                <a:ext cx="0" cy="380880"/>
              </a:xfrm>
              <a:prstGeom prst="line">
                <a:avLst/>
              </a:prstGeom>
              <a:ln w="284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7289640" y="4410360"/>
                <a:ext cx="152640" cy="457200"/>
              </a:xfrm>
              <a:prstGeom prst="line">
                <a:avLst/>
              </a:prstGeom>
              <a:ln w="284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7" name=""/>
              <p:cNvGrpSpPr/>
              <p:nvPr/>
            </p:nvGrpSpPr>
            <p:grpSpPr>
              <a:xfrm>
                <a:off x="6756120" y="3515040"/>
                <a:ext cx="152280" cy="371520"/>
                <a:chOff x="6756120" y="3515040"/>
                <a:chExt cx="152280" cy="371520"/>
              </a:xfrm>
            </p:grpSpPr>
            <p:sp>
              <p:nvSpPr>
                <p:cNvPr id="228" name=""/>
                <p:cNvSpPr/>
                <p:nvPr/>
              </p:nvSpPr>
              <p:spPr>
                <a:xfrm rot="5400000">
                  <a:off x="6794640" y="3476160"/>
                  <a:ext cx="74880" cy="152280"/>
                </a:xfrm>
                <a:prstGeom prst="rect">
                  <a:avLst/>
                </a:prstGeom>
                <a:solidFill>
                  <a:srgbClr val="0066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6832800" y="3582000"/>
                  <a:ext cx="0" cy="304560"/>
                </a:xfrm>
                <a:prstGeom prst="line">
                  <a:avLst/>
                </a:prstGeom>
                <a:ln w="2844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0" name=""/>
              <p:cNvSpPr/>
              <p:nvPr/>
            </p:nvSpPr>
            <p:spPr>
              <a:xfrm>
                <a:off x="5813280" y="1905120"/>
                <a:ext cx="533520" cy="3049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H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575400" y="1905120"/>
                <a:ext cx="533520" cy="3049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H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7337520" y="1905120"/>
                <a:ext cx="533160" cy="3049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H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33" name="" descr=""/>
            <p:cNvPicPr/>
            <p:nvPr/>
          </p:nvPicPr>
          <p:blipFill>
            <a:blip r:embed="rId7"/>
            <a:stretch/>
          </p:blipFill>
          <p:spPr>
            <a:xfrm>
              <a:off x="6553080" y="3100680"/>
              <a:ext cx="609840" cy="465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4" name=""/>
          <p:cNvGrpSpPr/>
          <p:nvPr/>
        </p:nvGrpSpPr>
        <p:grpSpPr>
          <a:xfrm>
            <a:off x="533520" y="1870200"/>
            <a:ext cx="3047760" cy="4047480"/>
            <a:chOff x="533520" y="1870200"/>
            <a:chExt cx="3047760" cy="4047480"/>
          </a:xfrm>
        </p:grpSpPr>
        <p:sp>
          <p:nvSpPr>
            <p:cNvPr id="235" name=""/>
            <p:cNvSpPr/>
            <p:nvPr/>
          </p:nvSpPr>
          <p:spPr>
            <a:xfrm rot="10800000">
              <a:off x="1066320" y="3580920"/>
              <a:ext cx="1559160" cy="53316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99cc00"/>
                </a:gs>
              </a:gsLst>
              <a:lin ang="162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CoIB to FC</a:t>
              </a:r>
              <a:br>
                <a:rPr sz="1800"/>
              </a:b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Gatew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6" name=""/>
            <p:cNvGrpSpPr/>
            <p:nvPr/>
          </p:nvGrpSpPr>
          <p:grpSpPr>
            <a:xfrm>
              <a:off x="1752120" y="3200400"/>
              <a:ext cx="152280" cy="380160"/>
              <a:chOff x="1752120" y="3200400"/>
              <a:chExt cx="152280" cy="380160"/>
            </a:xfrm>
          </p:grpSpPr>
          <p:sp>
            <p:nvSpPr>
              <p:cNvPr id="237" name=""/>
              <p:cNvSpPr/>
              <p:nvPr/>
            </p:nvSpPr>
            <p:spPr>
              <a:xfrm rot="5400000">
                <a:off x="1790280" y="3466440"/>
                <a:ext cx="75600" cy="15228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828800" y="3200400"/>
                <a:ext cx="0" cy="304560"/>
              </a:xfrm>
              <a:prstGeom prst="line">
                <a:avLst/>
              </a:prstGeom>
              <a:ln w="381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1198440" y="2209680"/>
              <a:ext cx="304920" cy="456840"/>
            </a:xfrm>
            <a:prstGeom prst="line">
              <a:avLst/>
            </a:prstGeom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1883880" y="2209680"/>
              <a:ext cx="304920" cy="380520"/>
            </a:xfrm>
            <a:prstGeom prst="line">
              <a:avLst/>
            </a:prstGeom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2417400" y="2209680"/>
              <a:ext cx="609480" cy="456840"/>
            </a:xfrm>
            <a:prstGeom prst="line">
              <a:avLst/>
            </a:prstGeom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1752120" y="4124160"/>
              <a:ext cx="152280" cy="370800"/>
              <a:chOff x="1752120" y="4124160"/>
              <a:chExt cx="152280" cy="370800"/>
            </a:xfrm>
          </p:grpSpPr>
          <p:sp>
            <p:nvSpPr>
              <p:cNvPr id="243" name=""/>
              <p:cNvSpPr/>
              <p:nvPr/>
            </p:nvSpPr>
            <p:spPr>
              <a:xfrm rot="5400000">
                <a:off x="1791000" y="4085280"/>
                <a:ext cx="74520" cy="152280"/>
              </a:xfrm>
              <a:prstGeom prst="rect">
                <a:avLst/>
              </a:prstGeom>
              <a:solidFill>
                <a:srgbClr val="006699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828800" y="4190760"/>
                <a:ext cx="0" cy="304200"/>
              </a:xfrm>
              <a:prstGeom prst="line">
                <a:avLst/>
              </a:prstGeom>
              <a:ln w="284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1219320" y="4419360"/>
              <a:ext cx="1393560" cy="761760"/>
              <a:chOff x="1219320" y="4419360"/>
              <a:chExt cx="1393560" cy="761760"/>
            </a:xfrm>
          </p:grpSpPr>
          <p:sp>
            <p:nvSpPr>
              <p:cNvPr id="246" name="Cloud"/>
              <p:cNvSpPr/>
              <p:nvPr/>
            </p:nvSpPr>
            <p:spPr>
              <a:xfrm>
                <a:off x="1219320" y="4419360"/>
                <a:ext cx="1393560" cy="761760"/>
              </a:xfrm>
              <a:prstGeom prst="pie">
                <a:avLst/>
              </a:prstGeom>
              <a:solidFill>
                <a:srgbClr val="006699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384560" y="4584240"/>
                <a:ext cx="979200" cy="43452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Fibre </a:t>
                </a:r>
                <a:br>
                  <a:rPr sz="1600"/>
                </a:b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hanne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1143000" y="2514600"/>
              <a:ext cx="1393920" cy="761400"/>
              <a:chOff x="1143000" y="2514600"/>
              <a:chExt cx="1393920" cy="761400"/>
            </a:xfrm>
          </p:grpSpPr>
          <p:sp>
            <p:nvSpPr>
              <p:cNvPr id="249" name="Cloud"/>
              <p:cNvSpPr/>
              <p:nvPr/>
            </p:nvSpPr>
            <p:spPr>
              <a:xfrm>
                <a:off x="1143000" y="2514600"/>
                <a:ext cx="1393920" cy="761400"/>
              </a:xfrm>
              <a:prstGeom prst="pie">
                <a:avLst/>
              </a:prstGeom>
              <a:solidFill>
                <a:srgbClr val="99cc0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242360" y="2702880"/>
                <a:ext cx="1169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InfiniBan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251" name=""/>
            <p:cNvGraphicFramePr/>
            <p:nvPr/>
          </p:nvGraphicFramePr>
          <p:xfrm>
            <a:off x="1219320" y="5410080"/>
            <a:ext cx="490320" cy="50760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252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219320" y="5410080"/>
                      <a:ext cx="490320" cy="50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3" name=""/>
            <p:cNvGraphicFramePr/>
            <p:nvPr/>
          </p:nvGraphicFramePr>
          <p:xfrm>
            <a:off x="1828800" y="5410080"/>
            <a:ext cx="490680" cy="5076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254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1828800" y="5410080"/>
                      <a:ext cx="490680" cy="50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5" name=""/>
            <p:cNvGraphicFramePr/>
            <p:nvPr/>
          </p:nvGraphicFramePr>
          <p:xfrm>
            <a:off x="2438280" y="5410080"/>
            <a:ext cx="490680" cy="50760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256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2438280" y="5410080"/>
                      <a:ext cx="490680" cy="50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57" name=""/>
            <p:cNvSpPr/>
            <p:nvPr/>
          </p:nvSpPr>
          <p:spPr>
            <a:xfrm flipH="1">
              <a:off x="1371600" y="5105160"/>
              <a:ext cx="76320" cy="380880"/>
            </a:xfrm>
            <a:prstGeom prst="line">
              <a:avLst/>
            </a:prstGeom>
            <a:ln w="284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981080" y="5105160"/>
              <a:ext cx="0" cy="380880"/>
            </a:xfrm>
            <a:prstGeom prst="line">
              <a:avLst/>
            </a:prstGeom>
            <a:ln w="284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362320" y="5029200"/>
              <a:ext cx="152280" cy="456840"/>
            </a:xfrm>
            <a:prstGeom prst="line">
              <a:avLst/>
            </a:prstGeom>
            <a:ln w="284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0" name=""/>
            <p:cNvGrpSpPr/>
            <p:nvPr/>
          </p:nvGrpSpPr>
          <p:grpSpPr>
            <a:xfrm>
              <a:off x="2570040" y="1870200"/>
              <a:ext cx="1011240" cy="485280"/>
              <a:chOff x="2570040" y="1870200"/>
              <a:chExt cx="1011240" cy="485280"/>
            </a:xfrm>
          </p:grpSpPr>
          <p:pic>
            <p:nvPicPr>
              <p:cNvPr id="261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2570040" y="1870200"/>
                <a:ext cx="1011240" cy="317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2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2895480" y="2057400"/>
                <a:ext cx="390600" cy="298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63" name=""/>
            <p:cNvGrpSpPr/>
            <p:nvPr/>
          </p:nvGrpSpPr>
          <p:grpSpPr>
            <a:xfrm>
              <a:off x="1523880" y="1904760"/>
              <a:ext cx="1011240" cy="485280"/>
              <a:chOff x="1523880" y="1904760"/>
              <a:chExt cx="1011240" cy="485280"/>
            </a:xfrm>
          </p:grpSpPr>
          <p:pic>
            <p:nvPicPr>
              <p:cNvPr id="264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1523880" y="1904760"/>
                <a:ext cx="1011240" cy="317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5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1849320" y="2091960"/>
                <a:ext cx="390600" cy="298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66" name=""/>
            <p:cNvGrpSpPr/>
            <p:nvPr/>
          </p:nvGrpSpPr>
          <p:grpSpPr>
            <a:xfrm>
              <a:off x="533520" y="1904760"/>
              <a:ext cx="1011240" cy="485280"/>
              <a:chOff x="533520" y="1904760"/>
              <a:chExt cx="1011240" cy="485280"/>
            </a:xfrm>
          </p:grpSpPr>
          <p:pic>
            <p:nvPicPr>
              <p:cNvPr id="267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533520" y="1904760"/>
                <a:ext cx="1011240" cy="317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8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858960" y="2091960"/>
                <a:ext cx="390600" cy="298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69" name=""/>
          <p:cNvGrpSpPr/>
          <p:nvPr/>
        </p:nvGrpSpPr>
        <p:grpSpPr>
          <a:xfrm>
            <a:off x="2133720" y="2209680"/>
            <a:ext cx="2338560" cy="1981440"/>
            <a:chOff x="2133720" y="2209680"/>
            <a:chExt cx="2338560" cy="1981440"/>
          </a:xfrm>
        </p:grpSpPr>
        <p:sp>
          <p:nvSpPr>
            <p:cNvPr id="270" name=""/>
            <p:cNvSpPr/>
            <p:nvPr/>
          </p:nvSpPr>
          <p:spPr>
            <a:xfrm flipH="1">
              <a:off x="3352680" y="2209680"/>
              <a:ext cx="609840" cy="0"/>
            </a:xfrm>
            <a:prstGeom prst="line">
              <a:avLst/>
            </a:prstGeom>
            <a:ln w="93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2133720" y="4191120"/>
              <a:ext cx="1828800" cy="0"/>
            </a:xfrm>
            <a:prstGeom prst="line">
              <a:avLst/>
            </a:prstGeom>
            <a:ln w="93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962520" y="2209680"/>
              <a:ext cx="0" cy="1981440"/>
            </a:xfrm>
            <a:prstGeom prst="line">
              <a:avLst/>
            </a:prstGeom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429000" y="2895480"/>
              <a:ext cx="1043280" cy="58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99"/>
                  </a:solidFill>
                  <a:latin typeface="Arial Narrow"/>
                </a:rPr>
                <a:t>“</a:t>
              </a:r>
              <a:r>
                <a:rPr b="1" lang="en-US" sz="1600" spc="-1" strike="noStrike">
                  <a:solidFill>
                    <a:srgbClr val="cc0099"/>
                  </a:solidFill>
                  <a:latin typeface="Arial Narrow"/>
                </a:rPr>
                <a:t>PCI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99"/>
                  </a:solidFill>
                  <a:latin typeface="Arial Narrow"/>
                </a:rPr>
                <a:t>extension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-15228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CoIB Gateway – Stateless Packet Re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 to F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p IB hea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5840" indent="-172800"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yload contains entire FC f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57200" y="380988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C to 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7120" indent="-282600">
              <a:lnSpc>
                <a:spcPct val="10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_ID lookup to retrieve addressing {LID, QPN, etc.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7120" indent="-282600">
              <a:lnSpc>
                <a:spcPct val="10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apsulate FC frame as UD pay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1162080" y="3124080"/>
            <a:ext cx="2087640" cy="384120"/>
            <a:chOff x="1162080" y="3124080"/>
            <a:chExt cx="2087640" cy="384120"/>
          </a:xfrm>
        </p:grpSpPr>
        <p:sp>
          <p:nvSpPr>
            <p:cNvPr id="278" name=""/>
            <p:cNvSpPr/>
            <p:nvPr/>
          </p:nvSpPr>
          <p:spPr>
            <a:xfrm>
              <a:off x="2817360" y="3125880"/>
              <a:ext cx="432360" cy="382320"/>
            </a:xfrm>
            <a:prstGeom prst="rect">
              <a:avLst/>
            </a:prstGeom>
            <a:gradFill rotWithShape="0">
              <a:gsLst>
                <a:gs pos="0">
                  <a:srgbClr val="007500"/>
                </a:gs>
                <a:gs pos="50000">
                  <a:srgbClr val="00ff00"/>
                </a:gs>
                <a:gs pos="100000">
                  <a:srgbClr val="0075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B CR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162080" y="3125880"/>
              <a:ext cx="530280" cy="382320"/>
            </a:xfrm>
            <a:prstGeom prst="rect">
              <a:avLst/>
            </a:prstGeom>
            <a:gradFill rotWithShape="0">
              <a:gsLst>
                <a:gs pos="0">
                  <a:srgbClr val="007500"/>
                </a:gs>
                <a:gs pos="50000">
                  <a:srgbClr val="00ff00"/>
                </a:gs>
                <a:gs pos="100000">
                  <a:srgbClr val="0075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B Header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693440" y="3124080"/>
              <a:ext cx="1123920" cy="382320"/>
            </a:xfrm>
            <a:prstGeom prst="rect">
              <a:avLst/>
            </a:prstGeom>
            <a:gradFill rotWithShape="0">
              <a:gsLst>
                <a:gs pos="0">
                  <a:srgbClr val="752f75"/>
                </a:gs>
                <a:gs pos="50000">
                  <a:srgbClr val="ff66ff"/>
                </a:gs>
                <a:gs pos="100000">
                  <a:srgbClr val="752f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C Fra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3600360" y="3124080"/>
            <a:ext cx="2571840" cy="382680"/>
            <a:chOff x="3600360" y="3124080"/>
            <a:chExt cx="2571840" cy="382680"/>
          </a:xfrm>
        </p:grpSpPr>
        <p:sp>
          <p:nvSpPr>
            <p:cNvPr id="282" name=""/>
            <p:cNvSpPr/>
            <p:nvPr/>
          </p:nvSpPr>
          <p:spPr>
            <a:xfrm>
              <a:off x="3600360" y="3164040"/>
              <a:ext cx="1067040" cy="304560"/>
            </a:xfrm>
            <a:prstGeom prst="rightArrow">
              <a:avLst>
                <a:gd name="adj1" fmla="val 50000"/>
                <a:gd name="adj2" fmla="val 87589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048280" y="3124080"/>
              <a:ext cx="1123920" cy="382680"/>
            </a:xfrm>
            <a:prstGeom prst="rect">
              <a:avLst/>
            </a:prstGeom>
            <a:gradFill rotWithShape="0">
              <a:gsLst>
                <a:gs pos="0">
                  <a:srgbClr val="752f75"/>
                </a:gs>
                <a:gs pos="50000">
                  <a:srgbClr val="ff66ff"/>
                </a:gs>
                <a:gs pos="100000">
                  <a:srgbClr val="752f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C Fra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1162080" y="5559480"/>
            <a:ext cx="3505320" cy="384120"/>
            <a:chOff x="1162080" y="5559480"/>
            <a:chExt cx="3505320" cy="384120"/>
          </a:xfrm>
        </p:grpSpPr>
        <p:sp>
          <p:nvSpPr>
            <p:cNvPr id="285" name=""/>
            <p:cNvSpPr/>
            <p:nvPr/>
          </p:nvSpPr>
          <p:spPr>
            <a:xfrm>
              <a:off x="2817720" y="5560920"/>
              <a:ext cx="432000" cy="382680"/>
            </a:xfrm>
            <a:prstGeom prst="rect">
              <a:avLst/>
            </a:prstGeom>
            <a:gradFill rotWithShape="0">
              <a:gsLst>
                <a:gs pos="0">
                  <a:srgbClr val="007500"/>
                </a:gs>
                <a:gs pos="50000">
                  <a:srgbClr val="00ff00"/>
                </a:gs>
                <a:gs pos="100000">
                  <a:srgbClr val="0075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B CR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162080" y="5560920"/>
              <a:ext cx="530280" cy="382680"/>
            </a:xfrm>
            <a:prstGeom prst="rect">
              <a:avLst/>
            </a:prstGeom>
            <a:gradFill rotWithShape="0">
              <a:gsLst>
                <a:gs pos="0">
                  <a:srgbClr val="007500"/>
                </a:gs>
                <a:gs pos="50000">
                  <a:srgbClr val="00ff00"/>
                </a:gs>
                <a:gs pos="100000">
                  <a:srgbClr val="0075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B Header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693800" y="5559480"/>
              <a:ext cx="1123920" cy="382680"/>
            </a:xfrm>
            <a:prstGeom prst="rect">
              <a:avLst/>
            </a:prstGeom>
            <a:gradFill rotWithShape="0">
              <a:gsLst>
                <a:gs pos="0">
                  <a:srgbClr val="752f75"/>
                </a:gs>
                <a:gs pos="50000">
                  <a:srgbClr val="ff66ff"/>
                </a:gs>
                <a:gs pos="100000">
                  <a:srgbClr val="752f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C Fra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3600360" y="5599080"/>
              <a:ext cx="1067040" cy="304920"/>
            </a:xfrm>
            <a:prstGeom prst="rightArrow">
              <a:avLst>
                <a:gd name="adj1" fmla="val 50000"/>
                <a:gd name="adj2" fmla="val 87485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5048280" y="5559480"/>
            <a:ext cx="1123920" cy="382680"/>
          </a:xfrm>
          <a:prstGeom prst="rect">
            <a:avLst/>
          </a:prstGeom>
          <a:gradFill rotWithShape="0">
            <a:gsLst>
              <a:gs pos="0">
                <a:srgbClr val="752f75"/>
              </a:gs>
              <a:gs pos="50000">
                <a:srgbClr val="ff66ff"/>
              </a:gs>
              <a:gs pos="100000">
                <a:srgbClr val="752f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C Fr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CoIB Protoc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80880" y="1596960"/>
            <a:ext cx="838224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1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apsulation of Fibre Channel frames over IB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lnSpc>
                <a:spcPct val="11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C-0 Physical is replaced by IB Phys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lnSpc>
                <a:spcPct val="11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C-1 Encode/Decode, Framing and Link Control are replaced by IB link and fra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5840" indent="-172800">
              <a:lnSpc>
                <a:spcPct val="11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generated delimiters are encapsula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54240" indent="-165240">
              <a:lnSpc>
                <a:spcPct val="110000"/>
              </a:lnSpc>
              <a:spcBef>
                <a:spcPts val="4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to FCIP/iFCP RFC 3821/417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5840" indent="-172800">
              <a:lnSpc>
                <a:spcPct val="11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ing according to IB addresses (LID/GID/Q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lnSpc>
                <a:spcPct val="11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C-2 and above remain int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1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 concept to IP over IB encapsulation (RFC 439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lnSpc>
                <a:spcPct val="11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CoIB HBA is an IB UD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873000" y="2259000"/>
            <a:ext cx="0" cy="120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ame Encapsu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902760" y="1806480"/>
            <a:ext cx="1771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apsulated FC Fr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432160" y="1697040"/>
            <a:ext cx="0" cy="180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203960" y="1639800"/>
            <a:ext cx="0" cy="186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438280" y="204804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845480" y="2271600"/>
            <a:ext cx="762120" cy="68580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50000">
                <a:srgbClr val="00ff00"/>
              </a:gs>
              <a:gs pos="100000">
                <a:srgbClr val="00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CR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925640" y="2270160"/>
            <a:ext cx="503280" cy="68724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50000">
                <a:srgbClr val="00ff00"/>
              </a:gs>
              <a:gs pos="100000">
                <a:srgbClr val="00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160720" y="173664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871560" y="2271600"/>
            <a:ext cx="576360" cy="68580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50000">
                <a:srgbClr val="00ff00"/>
              </a:gs>
              <a:gs pos="100000">
                <a:srgbClr val="00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R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1779120" y="173664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6320" y="1584360"/>
            <a:ext cx="17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tQP field indicates F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809880" y="2271600"/>
            <a:ext cx="1981440" cy="685800"/>
          </a:xfrm>
          <a:prstGeom prst="rect">
            <a:avLst/>
          </a:prstGeom>
          <a:gradFill rotWithShape="0">
            <a:gsLst>
              <a:gs pos="0">
                <a:srgbClr val="752f75"/>
              </a:gs>
              <a:gs pos="50000">
                <a:srgbClr val="ff66ff"/>
              </a:gs>
              <a:gs pos="100000">
                <a:srgbClr val="752f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C Paylo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0 to 2112 byt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067200" y="2271600"/>
            <a:ext cx="736560" cy="685800"/>
          </a:xfrm>
          <a:prstGeom prst="rect">
            <a:avLst/>
          </a:prstGeom>
          <a:gradFill rotWithShape="0">
            <a:gsLst>
              <a:gs pos="0">
                <a:srgbClr val="007575"/>
              </a:gs>
              <a:gs pos="50000">
                <a:srgbClr val="00ffff"/>
              </a:gs>
              <a:gs pos="100000">
                <a:srgbClr val="00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C Head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4 byt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427120" y="2271600"/>
            <a:ext cx="640080" cy="685800"/>
          </a:xfrm>
          <a:prstGeom prst="rect">
            <a:avLst/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. S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 byt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791320" y="2271600"/>
            <a:ext cx="685800" cy="685800"/>
          </a:xfrm>
          <a:prstGeom prst="rect">
            <a:avLst/>
          </a:prstGeom>
          <a:gradFill rotWithShape="0">
            <a:gsLst>
              <a:gs pos="0">
                <a:srgbClr val="007575"/>
              </a:gs>
              <a:gs pos="50000">
                <a:srgbClr val="00ffff"/>
              </a:gs>
              <a:gs pos="100000">
                <a:srgbClr val="00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C C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 byt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477120" y="2271600"/>
            <a:ext cx="761760" cy="685800"/>
          </a:xfrm>
          <a:prstGeom prst="rect">
            <a:avLst/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. E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 byt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52280" y="4262040"/>
            <a:ext cx="8686800" cy="18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tination QP indicates FC Nx_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CoIB HBA is an IB UD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way maintains mapping between FCID and IB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192800" y="2271600"/>
            <a:ext cx="681120" cy="68580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50000">
                <a:srgbClr val="00ff00"/>
              </a:gs>
              <a:gs pos="100000">
                <a:srgbClr val="00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R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407960" y="2270160"/>
            <a:ext cx="519120" cy="68724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50000">
                <a:srgbClr val="00ff00"/>
              </a:gs>
              <a:gs pos="100000">
                <a:srgbClr val="00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609040" y="2243160"/>
            <a:ext cx="0" cy="120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38080" y="3174840"/>
            <a:ext cx="146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B Hea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914400" y="34290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218360" y="3449520"/>
            <a:ext cx="13809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162920" y="3230640"/>
            <a:ext cx="146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B CR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cove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ing the Gate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ough an IB specific mechanism (TB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5840" indent="-17280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Service Record, IO Controller, Multi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in {GID,QPN} of the gate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GI between IB initiator and the gate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way initiates an F_DISC with the fab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frames can be relayed int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7T21:21:29Z</dcterms:created>
  <dc:creator>Dror Goldenberg</dc:creator>
  <dc:description/>
  <dc:language>en-US</dc:language>
  <cp:lastModifiedBy>Dror Goldenberg</cp:lastModifiedBy>
  <dcterms:modified xsi:type="dcterms:W3CDTF">2008-04-07T14:12:28Z</dcterms:modified>
  <cp:revision>134</cp:revision>
  <dc:subject/>
  <dc:title>FCoIB</dc:title>
</cp:coreProperties>
</file>