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C7E4-55E7-4D71-9734-16C570E7CDE2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5638680" cy="12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Fabric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run@systemfabric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1120" y="1642680"/>
            <a:ext cx="76899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dustry began to focus on Channel I/O, the underlying wire seemed to become progressively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noticed that it made sense to define RDMA over TCP/IP/Ethernet…iWARP emerged and became a member of the family of Channel I/O protocols.  Now we’re really cooking with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looking prett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7920" y="1604880"/>
            <a:ext cx="79628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’ve 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ld’s lowest latency standards-based 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dible foundation for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server and data center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ive storage solution based on standard SCSI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fied fab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n Channel Interface for both Linux and 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rks for legacy apps, and for those plucky native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’s cheap to boot!  (no pun in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ean, is this nirvana, or what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3760" y="1681200"/>
            <a:ext cx="7677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embarrassment of riches, we can address some of the world’s most vexing computer scie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fastest/cheapest super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lowest price/per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most flexible/agile data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energy efficient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133720" y="562608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our oyster,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1511280" y="3035160"/>
            <a:ext cx="56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ow come we’re not all r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x score so far looks li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09440" y="4863600"/>
            <a:ext cx="65084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ly most of the gold is in that last bu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00280" y="1879560"/>
          <a:ext cx="5727600" cy="2124000"/>
        </p:xfrm>
        <a:graphic>
          <a:graphicData uri="http://schemas.openxmlformats.org/drawingml/2006/table">
            <a:tbl>
              <a:tblPr/>
              <a:tblGrid>
                <a:gridCol w="2649240"/>
                <a:gridCol w="1440000"/>
                <a:gridCol w="1638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, clus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-like portions of the commercial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THING 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2" name="Straight Connector 7"/>
          <p:cNvSpPr/>
          <p:nvPr/>
        </p:nvSpPr>
        <p:spPr>
          <a:xfrm flipH="1">
            <a:off x="3439800" y="1906560"/>
            <a:ext cx="324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 flipH="1">
            <a:off x="4888080" y="1893960"/>
            <a:ext cx="288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1"/>
          <p:cNvSpPr/>
          <p:nvPr/>
        </p:nvSpPr>
        <p:spPr>
          <a:xfrm>
            <a:off x="812880" y="260352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3"/>
          <p:cNvSpPr/>
          <p:nvPr/>
        </p:nvSpPr>
        <p:spPr>
          <a:xfrm>
            <a:off x="838080" y="2997360"/>
            <a:ext cx="567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5"/>
          <p:cNvSpPr/>
          <p:nvPr/>
        </p:nvSpPr>
        <p:spPr>
          <a:xfrm>
            <a:off x="812880" y="3594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7"/>
          <p:cNvSpPr/>
          <p:nvPr/>
        </p:nvSpPr>
        <p:spPr>
          <a:xfrm>
            <a:off x="812880" y="2235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812880" y="400068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1"/>
          <p:cNvSpPr/>
          <p:nvPr/>
        </p:nvSpPr>
        <p:spPr>
          <a:xfrm flipH="1">
            <a:off x="6513120" y="2224080"/>
            <a:ext cx="3240" cy="17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 flipH="1">
            <a:off x="810720" y="2236680"/>
            <a:ext cx="3240" cy="17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18640" y="1719360"/>
            <a:ext cx="76899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nteresting that both supercomputing and HPC/clustering are primarily ‘single fabric’ environm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few exceptions, these installations are purpose-built from the ground up, using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the commercial sp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1947600"/>
            <a:ext cx="86742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datacenters, OT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be built on top of a combination of fabr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clude huge application invest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volve huge amounts of exist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rely on high volume, commodity OTS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685800" y="577836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some pretty large rocks to roll up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98080" y="2277720"/>
            <a:ext cx="83502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course, the commercial space isn’t monolithic…clearly, there are environments where the calculus of channel I/O produces a positive RO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64840" y="1808280"/>
            <a:ext cx="79628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virtualization? Isn’t that a key driver for the commercial 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virtualization, which doesn’t depend on channel I/O, is doing very nicely at driving up utilization, and helping reduce the physical space requir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rogress is being made here, with or without channel I/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0680" y="1998720"/>
            <a:ext cx="7962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green data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ome promise here, but compared to the cost of migrating a massive investment to a greener approach, the pain will have to get *alot* higher before channel I/O grabs a foothold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-73800" y="532116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yes, there are certainly spots where the pain threshold is indeed a lot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9536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I/O – an embarrassment of r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ing in the low latency space, marking time in the commerci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bet again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our customer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3320" y="2239920"/>
            <a:ext cx="796284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fabrics?  Doesn’t OpEx/TCO conquer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ever lost a bet on Ethern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continues to chug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thernet community is thinking about a lossless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7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he burden on the transport, thus reducing the traditional achilles heel of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 to support multiple streams on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tarting to sound like a credible converged fabr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39280" y="1913040"/>
            <a:ext cx="7962840" cy="25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rged fabric which is aimed squarely at the commercial space…i.e., those environments which can easily harvest the TCO benefits of a converged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11"/>
          <p:cNvSpPr/>
          <p:nvPr/>
        </p:nvSpPr>
        <p:spPr>
          <a:xfrm rot="5400000">
            <a:off x="5781240" y="3546360"/>
            <a:ext cx="198360" cy="2614680"/>
          </a:xfrm>
          <a:prstGeom prst="can">
            <a:avLst>
              <a:gd name="adj" fmla="val 457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2"/>
          <p:cNvSpPr/>
          <p:nvPr/>
        </p:nvSpPr>
        <p:spPr>
          <a:xfrm rot="5400000">
            <a:off x="5447520" y="3555000"/>
            <a:ext cx="230040" cy="2844720"/>
          </a:xfrm>
          <a:prstGeom prst="can">
            <a:avLst>
              <a:gd name="adj" fmla="val 4893"/>
            </a:avLst>
          </a:prstGeom>
          <a:solidFill>
            <a:srgbClr val="ff33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3"/>
          <p:cNvSpPr/>
          <p:nvPr/>
        </p:nvSpPr>
        <p:spPr>
          <a:xfrm rot="5400000">
            <a:off x="4833000" y="3434400"/>
            <a:ext cx="228600" cy="2681280"/>
          </a:xfrm>
          <a:prstGeom prst="can">
            <a:avLst>
              <a:gd name="adj" fmla="val 5115"/>
            </a:avLst>
          </a:prstGeom>
          <a:solidFill>
            <a:srgbClr val="99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4"/>
          <p:cNvSpPr/>
          <p:nvPr/>
        </p:nvSpPr>
        <p:spPr>
          <a:xfrm rot="5400000">
            <a:off x="4996080" y="3426480"/>
            <a:ext cx="627120" cy="2886120"/>
          </a:xfrm>
          <a:prstGeom prst="can">
            <a:avLst>
              <a:gd name="adj" fmla="val 11935"/>
            </a:avLst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12"/>
          <p:cNvSpPr/>
          <p:nvPr/>
        </p:nvSpPr>
        <p:spPr>
          <a:xfrm>
            <a:off x="977760" y="2286000"/>
            <a:ext cx="1359000" cy="596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3"/>
          <p:cNvSpPr/>
          <p:nvPr/>
        </p:nvSpPr>
        <p:spPr>
          <a:xfrm flipV="1">
            <a:off x="1041480" y="313668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Group 19" descr=""/>
          <p:cNvPicPr/>
          <p:nvPr/>
        </p:nvPicPr>
        <p:blipFill>
          <a:blip r:embed="rId1"/>
          <a:stretch/>
        </p:blipFill>
        <p:spPr>
          <a:xfrm>
            <a:off x="1023840" y="3395520"/>
            <a:ext cx="1231920" cy="1255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7"/>
          <p:cNvSpPr/>
          <p:nvPr/>
        </p:nvSpPr>
        <p:spPr>
          <a:xfrm>
            <a:off x="1041480" y="4635360"/>
            <a:ext cx="1193760" cy="40644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895480" y="25146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completely pragmatic, ‘wire-centric’ approach…intended to make the wire sufficiently capable such that it will support multiple streams of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-minded focus on creating a unified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1"/>
          <p:cNvSpPr/>
          <p:nvPr/>
        </p:nvSpPr>
        <p:spPr>
          <a:xfrm rot="5400000">
            <a:off x="6835680" y="4587840"/>
            <a:ext cx="160560" cy="519120"/>
          </a:xfrm>
          <a:prstGeom prst="can">
            <a:avLst>
              <a:gd name="adj" fmla="val 1861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2"/>
          <p:cNvSpPr/>
          <p:nvPr/>
        </p:nvSpPr>
        <p:spPr>
          <a:xfrm rot="5400000">
            <a:off x="6698520" y="4780800"/>
            <a:ext cx="217440" cy="355680"/>
          </a:xfrm>
          <a:prstGeom prst="can">
            <a:avLst>
              <a:gd name="adj" fmla="val 36986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21"/>
          <p:cNvCxnSpPr/>
          <p:nvPr/>
        </p:nvCxnSpPr>
        <p:spPr>
          <a:xfrm>
            <a:off x="2438280" y="4889520"/>
            <a:ext cx="991440" cy="38880"/>
          </a:xfrm>
          <a:prstGeom prst="straightConnector1">
            <a:avLst/>
          </a:prstGeom>
          <a:ln w="9360">
            <a:solidFill>
              <a:srgbClr val="26262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503000"/>
            <a:ext cx="84074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ody believes that Ethernet will ever go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have a few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de the converged fabric, commercial multi-protocol space to Ethernet’s emerging enhan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it out for ownership of the converged fabric.       And probably 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niche enclaves in the enterprise where IB dominates - the ‘toehold’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channel I/O in above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4051800" y="5829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59920" y="1722600"/>
            <a:ext cx="870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on’t depend on the emergence of a ‘pure IB’ environment, it won’t happen (except in HPC).  Instea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the heavy lifting Ethernet is proposing to do by reducing the impedance mismatch between networks wherever possible.  How about an IB transport on Eth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6212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6544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76876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772080" y="4635360"/>
            <a:ext cx="10029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775040" y="4635360"/>
            <a:ext cx="36957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6212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76544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76876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3772080" y="5257800"/>
            <a:ext cx="369540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125360" y="594360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as simple as that of course, but maybe worth a look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240" y="1528560"/>
            <a:ext cx="84963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nable IB in every toehold that exists in th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4"/>
          <p:cNvSpPr/>
          <p:nvPr/>
        </p:nvSpPr>
        <p:spPr>
          <a:xfrm>
            <a:off x="6114960" y="3200400"/>
            <a:ext cx="13590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"/>
          <p:cNvSpPr/>
          <p:nvPr/>
        </p:nvSpPr>
        <p:spPr>
          <a:xfrm flipV="1">
            <a:off x="6134040" y="373356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97760" y="474984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197760" y="517680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197760" y="558792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197760" y="4267080"/>
            <a:ext cx="1193760" cy="40644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C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197760" y="3848040"/>
            <a:ext cx="1193760" cy="406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8"/>
          <p:cNvSpPr/>
          <p:nvPr/>
        </p:nvSpPr>
        <p:spPr>
          <a:xfrm>
            <a:off x="863640" y="3421080"/>
            <a:ext cx="46861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an application can use the channel I/O interface to access system resources, regardless of the protocol.   FCoIB, an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7520" y="1770120"/>
            <a:ext cx="86234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duce impediments to accessing the features of the IB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already has the features now being proposed by the Ethernet community, in spades.  Let’s reduce the impediments to accessing thos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y good reason for continuing to support different bit rates/encoding sc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03000" y="1986120"/>
            <a:ext cx="75121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industry leadership to make sure our customers aren’t swamped in a quagmire of I/O protocols, wire protocols,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a key attraction of a converged fabric is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901800" y="2649600"/>
            <a:ext cx="68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ensure that the promise of channel I/O can be delivered…no matter what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lower the pain threshold of adopting RDMA-based networks (aka channel I/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all started with 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8360" y="1947600"/>
            <a:ext cx="79628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gave us the concept of stack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ave us the makings of a low latency interconn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suited for, among other things,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9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a simple and powerful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end toward convergence in the ‘multi-fabric’ space is accelerating; Ethernet is quietly but aggressively attacking thi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in danger of being relegated to the supercomputer and HPC n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RDMA networks into the ‘multi-fabric’ space requires that we keep moving channel I/O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id advertise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Fabric Wor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dicated to ensuring that its customers derive maximum competitive advantage from their information technology invest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ocus is on accelerating adoption of advanced data center networks (“Fabric Computing”) as a found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nd architectural consulting services directly to end user cli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software engineering services to our vendor and integrator partn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integrated computing, networking and storag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330120" y="1612800"/>
            <a:ext cx="8572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I/O delivers an embarrassment of riches in terms of the features it prov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that, significant inroads are only being made primarily in the supercomputer, scientific and commercial HPC spaces…spaces characterized as being purpose-built on top of a single primary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ercial space is characterized as being built on top of a combination of fabrics (as opposed to the single-fabric character of the HPC sp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pace, where most of the gold is, remains more-or-less elusiv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 few emerging exce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is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s delivered by channel I/O do not yet out-weigh the costs of trans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while, Ethernet is quietly addressing those markets by providing a path toward a converged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to 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the hurdles preventing end users from harvesting the values of channe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leadership in helping select customers through the “I/O quagmire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VIA sprang Infini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lide1.PNG"/>
          <p:cNvPicPr/>
          <p:nvPr/>
        </p:nvPicPr>
        <p:blipFill>
          <a:blip r:embed="rId1"/>
          <a:stretch/>
        </p:blipFill>
        <p:spPr>
          <a:xfrm>
            <a:off x="4749840" y="1422360"/>
            <a:ext cx="4305240" cy="339084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2"/>
          <p:cNvSpPr/>
          <p:nvPr/>
        </p:nvSpPr>
        <p:spPr>
          <a:xfrm>
            <a:off x="171360" y="1494000"/>
            <a:ext cx="3549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fter a few false sta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19040" y="1962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ficien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d phy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gm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s for ac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58720" y="4884840"/>
            <a:ext cx="7556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hort, the ability to efficiently conduct multiple traffic flows over a singl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…the basics for a unified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ly interesting is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0840" y="2171880"/>
            <a:ext cx="344196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a low latency unified fabric, we also gained the ability to directly connect virtual address spaces located in disjoint physical addresses -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lide1.JPG"/>
          <p:cNvPicPr/>
          <p:nvPr/>
        </p:nvPicPr>
        <p:blipFill>
          <a:blip r:embed="rId1"/>
          <a:stretch/>
        </p:blipFill>
        <p:spPr>
          <a:xfrm>
            <a:off x="3784680" y="1727280"/>
            <a:ext cx="5359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ilor-made for virt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365040" y="3909960"/>
            <a:ext cx="48927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atacenter virtualization - applications connected to pools of virtualiz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2"/>
          <p:cNvGrpSpPr/>
          <p:nvPr/>
        </p:nvGrpSpPr>
        <p:grpSpPr>
          <a:xfrm>
            <a:off x="5815080" y="3683160"/>
            <a:ext cx="2414520" cy="1484280"/>
            <a:chOff x="5815080" y="3683160"/>
            <a:chExt cx="2414520" cy="1484280"/>
          </a:xfrm>
        </p:grpSpPr>
        <p:sp>
          <p:nvSpPr>
            <p:cNvPr id="100" name="Rectangle 61"/>
            <p:cNvSpPr/>
            <p:nvPr/>
          </p:nvSpPr>
          <p:spPr>
            <a:xfrm>
              <a:off x="5825880" y="4057560"/>
              <a:ext cx="417240" cy="309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4"/>
            <p:cNvSpPr/>
            <p:nvPr/>
          </p:nvSpPr>
          <p:spPr>
            <a:xfrm>
              <a:off x="6231960" y="3683160"/>
              <a:ext cx="551880" cy="29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6"/>
            <p:cNvSpPr/>
            <p:nvPr/>
          </p:nvSpPr>
          <p:spPr>
            <a:xfrm>
              <a:off x="7905960" y="4073760"/>
              <a:ext cx="323640" cy="277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7"/>
            <p:cNvSpPr/>
            <p:nvPr/>
          </p:nvSpPr>
          <p:spPr>
            <a:xfrm>
              <a:off x="7890840" y="4545360"/>
              <a:ext cx="323640" cy="27792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5815080" y="4530240"/>
              <a:ext cx="416880" cy="310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99280" y="4856400"/>
              <a:ext cx="41724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891480" y="4856400"/>
              <a:ext cx="41580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2"/>
            <p:cNvSpPr/>
            <p:nvPr/>
          </p:nvSpPr>
          <p:spPr>
            <a:xfrm>
              <a:off x="682452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3"/>
            <p:cNvSpPr/>
            <p:nvPr/>
          </p:nvSpPr>
          <p:spPr>
            <a:xfrm>
              <a:off x="740628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74"/>
            <p:cNvCxnSpPr>
              <a:stCxn id="100" idx="3"/>
              <a:endCxn id="102" idx="2"/>
            </p:cNvCxnSpPr>
            <p:nvPr/>
          </p:nvCxnSpPr>
          <p:spPr>
            <a:xfrm>
              <a:off x="6242400" y="4212360"/>
              <a:ext cx="166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" name="AutoShape 75"/>
            <p:cNvSpPr/>
            <p:nvPr/>
          </p:nvSpPr>
          <p:spPr>
            <a:xfrm>
              <a:off x="7520040" y="4881960"/>
              <a:ext cx="323640" cy="279360"/>
            </a:xfrm>
            <a:prstGeom prst="can">
              <a:avLst>
                <a:gd name="adj" fmla="val 2487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77"/>
            <p:cNvCxnSpPr>
              <a:stCxn id="107" idx="4"/>
              <a:endCxn id="106" idx="0"/>
            </p:cNvCxnSpPr>
            <p:nvPr/>
          </p:nvCxnSpPr>
          <p:spPr>
            <a:xfrm flipH="1">
              <a:off x="7099200" y="3978360"/>
              <a:ext cx="18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" name="AutoShape 78"/>
            <p:cNvCxnSpPr>
              <a:stCxn id="108" idx="4"/>
              <a:endCxn id="110" idx="1"/>
            </p:cNvCxnSpPr>
            <p:nvPr/>
          </p:nvCxnSpPr>
          <p:spPr>
            <a:xfrm flipH="1">
              <a:off x="7680960" y="3978000"/>
              <a:ext cx="1800" cy="90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3" name="AutoShape 79"/>
            <p:cNvCxnSpPr>
              <a:stCxn id="104" idx="3"/>
              <a:endCxn id="103" idx="2"/>
            </p:cNvCxnSpPr>
            <p:nvPr/>
          </p:nvCxnSpPr>
          <p:spPr>
            <a:xfrm flipV="1">
              <a:off x="6231960" y="4683600"/>
              <a:ext cx="1659600" cy="180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  <p:sp>
          <p:nvSpPr>
            <p:cNvPr id="114" name="Oval 85"/>
            <p:cNvSpPr/>
            <p:nvPr/>
          </p:nvSpPr>
          <p:spPr>
            <a:xfrm>
              <a:off x="6441120" y="4619520"/>
              <a:ext cx="132120" cy="113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6"/>
            <p:cNvSpPr/>
            <p:nvPr/>
          </p:nvSpPr>
          <p:spPr>
            <a:xfrm>
              <a:off x="7041960" y="416160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8"/>
            <p:cNvSpPr/>
            <p:nvPr/>
          </p:nvSpPr>
          <p:spPr>
            <a:xfrm>
              <a:off x="7620840" y="414756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AutoShape 97"/>
            <p:cNvCxnSpPr>
              <a:stCxn id="105" idx="0"/>
              <a:endCxn id="114" idx="4"/>
            </p:cNvCxnSpPr>
            <p:nvPr/>
          </p:nvCxnSpPr>
          <p:spPr>
            <a:xfrm flipH="1" flipV="1">
              <a:off x="6506640" y="4732560"/>
              <a:ext cx="1800" cy="124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8" name="AutoShape 98"/>
            <p:cNvCxnSpPr>
              <a:stCxn id="101" idx="4"/>
              <a:endCxn id="114" idx="0"/>
            </p:cNvCxnSpPr>
            <p:nvPr/>
          </p:nvCxnSpPr>
          <p:spPr>
            <a:xfrm flipH="1">
              <a:off x="6506640" y="3978360"/>
              <a:ext cx="1800" cy="64152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</p:grpSp>
      <p:sp>
        <p:nvSpPr>
          <p:cNvPr id="119" name="Text Box 113"/>
          <p:cNvSpPr/>
          <p:nvPr/>
        </p:nvSpPr>
        <p:spPr>
          <a:xfrm>
            <a:off x="365040" y="1803240"/>
            <a:ext cx="45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rver virtualization- Platform resources are shared among the ‘containers’ within th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3"/>
          <p:cNvSpPr/>
          <p:nvPr/>
        </p:nvSpPr>
        <p:spPr>
          <a:xfrm>
            <a:off x="5981760" y="1663560"/>
            <a:ext cx="1968480" cy="1255680"/>
          </a:xfrm>
          <a:prstGeom prst="roundRect">
            <a:avLst>
              <a:gd name="adj" fmla="val 5977"/>
            </a:avLst>
          </a:prstGeom>
          <a:solidFill>
            <a:srgbClr val="92acd2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5"/>
          <p:cNvSpPr/>
          <p:nvPr/>
        </p:nvSpPr>
        <p:spPr>
          <a:xfrm>
            <a:off x="6259680" y="2347920"/>
            <a:ext cx="1525320" cy="1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14c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6"/>
          <p:cNvSpPr/>
          <p:nvPr/>
        </p:nvSpPr>
        <p:spPr>
          <a:xfrm>
            <a:off x="6059520" y="1816200"/>
            <a:ext cx="216000" cy="901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01440"/>
              <a:gd name="textAreaBottom" fmla="*/ 891000 h 901440"/>
            </a:gdLst>
            <a:ahLst/>
            <a:rect l="textAreaLeft" t="textAreaTop" r="textAreaRight" b="textAreaBottom"/>
            <a:pathLst>
              <a:path w="21600" h="90030">
                <a:moveTo>
                  <a:pt x="3600" y="0"/>
                </a:moveTo>
                <a:arcTo wR="3600" hR="3600" stAng="16200000" swAng="-5400000"/>
                <a:lnTo>
                  <a:pt x="0" y="86430"/>
                </a:lnTo>
                <a:arcTo wR="3600" hR="3600" stAng="10800000" swAng="-5400000"/>
                <a:lnTo>
                  <a:pt x="18000" y="900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7"/>
          <p:cNvSpPr/>
          <p:nvPr/>
        </p:nvSpPr>
        <p:spPr>
          <a:xfrm>
            <a:off x="6249960" y="2357280"/>
            <a:ext cx="79560" cy="8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4"/>
          <p:cNvSpPr/>
          <p:nvPr/>
        </p:nvSpPr>
        <p:spPr>
          <a:xfrm>
            <a:off x="6848640" y="195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2"/>
          <p:cNvSpPr/>
          <p:nvPr/>
        </p:nvSpPr>
        <p:spPr>
          <a:xfrm>
            <a:off x="72360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3"/>
          <p:cNvSpPr/>
          <p:nvPr/>
        </p:nvSpPr>
        <p:spPr>
          <a:xfrm>
            <a:off x="727236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6"/>
          <p:cNvSpPr/>
          <p:nvPr/>
        </p:nvSpPr>
        <p:spPr>
          <a:xfrm>
            <a:off x="63882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2"/>
          <p:cNvSpPr/>
          <p:nvPr/>
        </p:nvSpPr>
        <p:spPr>
          <a:xfrm>
            <a:off x="641988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1"/>
          <p:cNvGrpSpPr/>
          <p:nvPr/>
        </p:nvGrpSpPr>
        <p:grpSpPr>
          <a:xfrm>
            <a:off x="6896160" y="2611440"/>
            <a:ext cx="353520" cy="209160"/>
            <a:chOff x="6896160" y="2611440"/>
            <a:chExt cx="353520" cy="209160"/>
          </a:xfrm>
        </p:grpSpPr>
        <p:sp>
          <p:nvSpPr>
            <p:cNvPr id="130" name="Rectangle 52"/>
            <p:cNvSpPr/>
            <p:nvPr/>
          </p:nvSpPr>
          <p:spPr>
            <a:xfrm>
              <a:off x="6896160" y="2611440"/>
              <a:ext cx="353520" cy="1742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6934680" y="2785680"/>
              <a:ext cx="158040" cy="3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39"/>
          <p:cNvSpPr/>
          <p:nvPr/>
        </p:nvSpPr>
        <p:spPr>
          <a:xfrm>
            <a:off x="7007400" y="2852640"/>
            <a:ext cx="0" cy="322200"/>
          </a:xfrm>
          <a:prstGeom prst="line">
            <a:avLst/>
          </a:prstGeom>
          <a:ln w="10152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114"/>
          <p:cNvCxnSpPr>
            <a:stCxn id="127" idx="2"/>
          </p:cNvCxnSpPr>
          <p:nvPr/>
        </p:nvCxnSpPr>
        <p:spPr>
          <a:xfrm>
            <a:off x="664668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115"/>
          <p:cNvCxnSpPr>
            <a:stCxn id="125" idx="2"/>
          </p:cNvCxnSpPr>
          <p:nvPr/>
        </p:nvCxnSpPr>
        <p:spPr>
          <a:xfrm flipH="1">
            <a:off x="707004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TextBox 53"/>
          <p:cNvSpPr/>
          <p:nvPr/>
        </p:nvSpPr>
        <p:spPr>
          <a:xfrm>
            <a:off x="800280" y="5664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yet…more efficient use of resources improves the ‘green footprint’…dra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400" y="1833480"/>
            <a:ext cx="79632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, no packet dropping…all we would need would be a storage protocol and we’d have the perfect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RP, followed a little later by i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la, IB is an ideal storage interconn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03360" y="1515600"/>
            <a:ext cx="77277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we arrived at the crux of the iss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ally matters is the way an application communicates with other applications and storage.  This is the no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I/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 emerged as the keeper and developer of the Chann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2"/>
          <p:cNvSpPr/>
          <p:nvPr/>
        </p:nvSpPr>
        <p:spPr>
          <a:xfrm>
            <a:off x="520560" y="2120760"/>
            <a:ext cx="140976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4"/>
          <p:cNvSpPr/>
          <p:nvPr/>
        </p:nvSpPr>
        <p:spPr>
          <a:xfrm flipV="1">
            <a:off x="571680" y="2985840"/>
            <a:ext cx="135864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5800" y="3251160"/>
            <a:ext cx="124452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5800" y="3662280"/>
            <a:ext cx="124452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0"/>
          <p:cNvSpPr/>
          <p:nvPr/>
        </p:nvSpPr>
        <p:spPr>
          <a:xfrm>
            <a:off x="2743200" y="2108160"/>
            <a:ext cx="135900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 flipV="1">
            <a:off x="2743200" y="295884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743200" y="3238560"/>
            <a:ext cx="119376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743200" y="3649680"/>
            <a:ext cx="119376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-Right Arrow 16"/>
          <p:cNvSpPr/>
          <p:nvPr/>
        </p:nvSpPr>
        <p:spPr>
          <a:xfrm>
            <a:off x="1955880" y="2235240"/>
            <a:ext cx="749160" cy="330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 40" descr=""/>
          <p:cNvPicPr/>
          <p:nvPr/>
        </p:nvPicPr>
        <p:blipFill>
          <a:blip r:embed="rId1"/>
          <a:stretch/>
        </p:blipFill>
        <p:spPr>
          <a:xfrm>
            <a:off x="669960" y="4029120"/>
            <a:ext cx="328608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0"/>
          <p:cNvSpPr/>
          <p:nvPr/>
        </p:nvSpPr>
        <p:spPr>
          <a:xfrm>
            <a:off x="4912200" y="189216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O is about creating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2"/>
          <p:cNvSpPr/>
          <p:nvPr/>
        </p:nvSpPr>
        <p:spPr>
          <a:xfrm>
            <a:off x="2336760" y="1601640"/>
            <a:ext cx="2476440" cy="506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4834440" y="3073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5"/>
          <p:cNvSpPr/>
          <p:nvPr/>
        </p:nvSpPr>
        <p:spPr>
          <a:xfrm>
            <a:off x="4165560" y="2789280"/>
            <a:ext cx="685800" cy="627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6"/>
          <p:cNvSpPr/>
          <p:nvPr/>
        </p:nvSpPr>
        <p:spPr>
          <a:xfrm>
            <a:off x="4508640" y="4216320"/>
            <a:ext cx="42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very much an application-centric view…what matters is how the application communic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Paul Grun</dc:creator>
  <dc:description/>
  <dc:language>en-US</dc:language>
  <cp:lastModifiedBy> Paul Grun</cp:lastModifiedBy>
  <dcterms:modified xsi:type="dcterms:W3CDTF">2008-04-14T17:51:56Z</dcterms:modified>
  <cp:revision>48</cp:revision>
  <dc:subject/>
  <dc:title>Slide 1</dc:title>
</cp:coreProperties>
</file>