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B1AC9D0-C757-4F30-ACC0-8E4077DE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InfiniBand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node, ea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D dual core/dual socket, 2.6-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S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etEffect Cluster</a:t>
            </a: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node, ea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D dual core/dual socket, 2.6 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Effect 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2100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-node 10Gb Ethernet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dual-processor, quad-core 2.6-GHz C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-node DDR InfiniBand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dual-processor, quad-core 2.6-GHz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GbE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6-nod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luster / HP Lab Houston, each nod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 DL360 dual-core, 1.8-GHz server (data normalized to clock speed of BL4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GB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3-MHz, NetEffect NE020 10GbE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 1.0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system: RHEL4 u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jitsu 20-port 10GbE CX4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b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-nod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luster / HP Lab Richardson, each n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460 quad-core, 2.6 GHz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ire Infiniband mezzanine card an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1E90-4C94-4F13-B01D-E6AA63623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52FB-06D6-4BB9-B514-2EEC83602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F8E2-0B2E-481B-917D-57F8B95C3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832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004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832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1C40-81ED-4404-A8ED-DB73BA1E7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52D17-D2C2-429D-ACAA-5E748DDA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C4727-1AFB-4065-87E7-A61AA448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3F418-8450-472A-B360-4EC8918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F7635-3EC6-4A04-8BB8-3A21B135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8A296-E257-45BA-B628-4226BC00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66720" y="3865680"/>
            <a:ext cx="77724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1614B-669F-4E69-AE75-264EDDB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91FA4-9659-49D7-B012-EEF2359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808B-97AE-4D3D-8172-3251E5294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48F82-A2F0-4AE2-9B03-4F6880E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7A5C4-AEA1-4981-9A5A-061C49D6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B7471-4569-41A8-874F-6B96FF7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2756-7E33-459F-BAEE-340B4CD5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400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28320" y="439056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0004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400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28320" y="4623120"/>
            <a:ext cx="206064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BAC08-D94F-4397-BC08-87CFB783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5A95-F995-429C-B18D-3CB531A3E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0B44-8255-421A-91FF-A39411B64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8DB5-1379-427C-9AD7-E56FB800C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6720" y="3865680"/>
            <a:ext cx="77724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F1CD-416D-4025-8DE0-F1756EFC9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36C5-0F63-4678-8D72-947E25400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462312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4AB4-29F9-4215-83FB-77FD0B350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004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4390560"/>
            <a:ext cx="312336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0040" y="4623120"/>
            <a:ext cx="6400800" cy="2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441E-E500-42D4-8598-C485DB328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336320"/>
            <a:ext cx="8534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3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BBE3-2DA0-4FF8-8D0E-18E874981FF7}" type="slidenum"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372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016c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0080" y="22320"/>
            <a:ext cx="1562040" cy="31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NetEffect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1523-4F30-4783-98E1-9BAB0233D21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95560" y="2243160"/>
            <a:ext cx="6419520" cy="1292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768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9076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4907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4907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19040" y="566064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 in Next Generation Ethern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29040" y="3583080"/>
          <a:ext cx="30826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3583080"/>
                    <a:ext cx="30826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6720" y="41338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WARP has moved “from benchmarks to application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66720" y="41338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6720" y="386568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400040" y="4390560"/>
            <a:ext cx="6400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neteffect.co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36320"/>
            <a:ext cx="8534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is iWARP To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oof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A7BC-A345-43E5-B309-7AA5B530A2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456400" cy="5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in Multi-Processor/Multi-Cor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4800" y="1336680"/>
            <a:ext cx="7934400" cy="48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3553-D326-4C4B-A1A1-47B79A7005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Leading Multiple Connectio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6480" y="5979960"/>
            <a:ext cx="74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ominant RDMA Command for; Intel MPI, MVAPICH2, HP MPI, Scali MPI, OpenMPI, MPICH2 and 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4800" y="995400"/>
            <a:ext cx="7934400" cy="486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03360" y="995400"/>
            <a:ext cx="7934040" cy="48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235C-872B-4634-88D8-842ED5F7FB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39760" y="2187720"/>
            <a:ext cx="6846840" cy="4414680"/>
            <a:chOff x="1139760" y="2187720"/>
            <a:chExt cx="6846840" cy="4414680"/>
          </a:xfrm>
        </p:grpSpPr>
        <p:graphicFrame>
          <p:nvGraphicFramePr>
            <p:cNvPr id="108" name=""/>
            <p:cNvGraphicFramePr/>
            <p:nvPr/>
          </p:nvGraphicFramePr>
          <p:xfrm>
            <a:off x="1139760" y="2187720"/>
            <a:ext cx="6846840" cy="4414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187720"/>
                      <a:ext cx="6846840" cy="44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984680" y="236700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4680" y="41601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4680" y="459000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4680" y="52779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4680" y="504396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4680" y="3964320"/>
              <a:ext cx="505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E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50040" y="2771640"/>
            <a:ext cx="129852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37421"/>
                </a:solidFill>
                <a:latin typeface="Arial"/>
              </a:rPr>
              <a:t>Infini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NetEffect 10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4720" y="1762200"/>
            <a:ext cx="694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Abaqus/Explicit: finite element analysis test suite (E1-E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7967-A9E1-4B7B-9FEA-7AD7B75421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336320"/>
            <a:ext cx="4187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 scaled across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4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l-clock times equal to or better than 20-Gbps Infini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22440" y="3870360"/>
          <a:ext cx="3832200" cy="27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870360"/>
                    <a:ext cx="38322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724280" y="1566720"/>
          <a:ext cx="3845160" cy="241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66720"/>
                    <a:ext cx="384516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724280" y="4116240"/>
          <a:ext cx="3835440" cy="246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116240"/>
                    <a:ext cx="383544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78320" y="3665520"/>
            <a:ext cx="2016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37421"/>
                </a:solidFill>
                <a:latin typeface="Arial"/>
              </a:rPr>
              <a:t>DDR Infiniband (20Gb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NetEffect NE020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99"/>
                </a:solidFill>
                <a:latin typeface="Arial"/>
              </a:rPr>
              <a:t>10GbE</a:t>
            </a: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755720"/>
            <a:ext cx="402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Arial Unicode MS"/>
              </a:rPr>
              <a:t>PAM-CRASH crash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2AE0-D267-4716-A04F-2BE4A03981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16200000">
            <a:off x="3173400" y="118800"/>
            <a:ext cx="2428920" cy="8775720"/>
          </a:xfrm>
          <a:prstGeom prst="rect">
            <a:avLst/>
          </a:prstGeom>
          <a:gradFill rotWithShape="0">
            <a:gsLst>
              <a:gs pos="0">
                <a:srgbClr val="7399c6"/>
              </a:gs>
              <a:gs pos="100000">
                <a:srgbClr val="edef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noAutofit/>
          </a:bodyPr>
          <a:p>
            <a:pPr marL="287280" indent="-2872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uent 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553680"/>
            <a:ext cx="8318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Gb iWARP Ethernet achieves same results as 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61120" y="1339920"/>
            <a:ext cx="28828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3117960"/>
          <a:ext cx="262584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17960"/>
                    <a:ext cx="262584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946160" y="2260440"/>
            <a:ext cx="816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33840" y="2260440"/>
            <a:ext cx="816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83520" y="2260440"/>
            <a:ext cx="815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5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26120" y="3265560"/>
          <a:ext cx="2712960" cy="2803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6120" y="3265560"/>
                    <a:ext cx="271296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68600" y="3129120"/>
          <a:ext cx="2703600" cy="3017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129120"/>
                    <a:ext cx="2703600" cy="30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19240" y="2498760"/>
          <a:ext cx="3200400" cy="676080"/>
        </p:xfrm>
        <a:graphic>
          <a:graphicData uri="http://schemas.openxmlformats.org/drawingml/2006/table">
            <a:tbl>
              <a:tblPr/>
              <a:tblGrid>
                <a:gridCol w="979920"/>
                <a:gridCol w="109440"/>
                <a:gridCol w="528120"/>
                <a:gridCol w="527760"/>
                <a:gridCol w="528120"/>
                <a:gridCol w="527040"/>
              </a:tblGrid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nfini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 w="5760">
                      <a:solidFill>
                        <a:srgbClr val="edefe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8.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8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43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NE020 10G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 w="5760">
                      <a:solidFill>
                        <a:srgbClr val="edefe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8.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09880" y="2498760"/>
          <a:ext cx="2286000" cy="628560"/>
        </p:xfrm>
        <a:graphic>
          <a:graphicData uri="http://schemas.openxmlformats.org/drawingml/2006/table">
            <a:tbl>
              <a:tblPr/>
              <a:tblGrid>
                <a:gridCol w="109440"/>
                <a:gridCol w="527760"/>
                <a:gridCol w="524880"/>
                <a:gridCol w="524520"/>
                <a:gridCol w="599400"/>
              </a:tblGrid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2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9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521400" y="2498760"/>
          <a:ext cx="2241720" cy="628560"/>
        </p:xfrm>
        <a:graphic>
          <a:graphicData uri="http://schemas.openxmlformats.org/drawingml/2006/table">
            <a:tbl>
              <a:tblPr/>
              <a:tblGrid>
                <a:gridCol w="109440"/>
                <a:gridCol w="532440"/>
                <a:gridCol w="533880"/>
                <a:gridCol w="533880"/>
                <a:gridCol w="532080"/>
              </a:tblGrid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defef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edefef"/>
                      </a:solidFill>
                    </a:lnL>
                    <a:lnR w="5760">
                      <a:solidFill>
                        <a:srgbClr val="edefef"/>
                      </a:solidFill>
                    </a:lnR>
                    <a:lnT w="5760">
                      <a:solidFill>
                        <a:srgbClr val="edefef"/>
                      </a:solidFill>
                    </a:lnT>
                    <a:lnB w="5760">
                      <a:solidFill>
                        <a:srgbClr val="edefe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380880" y="5330880"/>
            <a:ext cx="8001000" cy="1197000"/>
            <a:chOff x="380880" y="5330880"/>
            <a:chExt cx="8001000" cy="1197000"/>
          </a:xfrm>
        </p:grpSpPr>
        <p:sp>
          <p:nvSpPr>
            <p:cNvPr id="144" name=""/>
            <p:cNvSpPr/>
            <p:nvPr/>
          </p:nvSpPr>
          <p:spPr>
            <a:xfrm>
              <a:off x="380880" y="533088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6299280"/>
              <a:ext cx="152640" cy="0"/>
            </a:xfrm>
            <a:prstGeom prst="line">
              <a:avLst/>
            </a:prstGeom>
            <a:ln w="9360">
              <a:solidFill>
                <a:srgbClr val="7399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6147000"/>
              <a:ext cx="7924680" cy="38088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Fluent ‘rating’: the number of benchmarks that can be run (in sequence) in a 24 hour period. A higher rating means faster performanc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5721480"/>
              <a:ext cx="0" cy="577800"/>
            </a:xfrm>
            <a:prstGeom prst="line">
              <a:avLst/>
            </a:prstGeom>
            <a:ln w="9360">
              <a:solidFill>
                <a:srgbClr val="7399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97040" y="1762200"/>
            <a:ext cx="78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95"/>
                </a:solidFill>
                <a:latin typeface="Arial"/>
                <a:ea typeface="Arial Unicode MS"/>
              </a:rPr>
              <a:t>Fluent FL5Lx Benchmarks:  Computational Fluid Dynamics (CF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4A11-F5D6-4D7D-BC89-42CF23A833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54160" y="2435400"/>
            <a:ext cx="701496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41280" y="2550960"/>
            <a:ext cx="6861240" cy="3668400"/>
            <a:chOff x="1241280" y="2550960"/>
            <a:chExt cx="6861240" cy="3668400"/>
          </a:xfrm>
        </p:grpSpPr>
        <p:sp>
          <p:nvSpPr>
            <p:cNvPr id="151" name=""/>
            <p:cNvSpPr/>
            <p:nvPr/>
          </p:nvSpPr>
          <p:spPr>
            <a:xfrm>
              <a:off x="2001960" y="53542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01960" y="48924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01960" y="44398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01960" y="397656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01960" y="352404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01960" y="307152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1960" y="58068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001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8702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4652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61340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48964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357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234200" y="5806800"/>
              <a:ext cx="180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1010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50560" y="2550960"/>
              <a:ext cx="3377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ndmark Nexus Performance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41280" y="574020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00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41280" y="52876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28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41280" y="48243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57: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41280" y="43718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26: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41280" y="39099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55: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1280" y="34574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24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41280" y="30034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52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21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4840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528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929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5984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982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748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2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45640" y="6097320"/>
              <a:ext cx="307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configuration (processors-nod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285840" y="4306680"/>
              <a:ext cx="212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ll-clock time (h:mm:s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54160" y="2435040"/>
            <a:ext cx="7014960" cy="3970440"/>
            <a:chOff x="1154160" y="2435040"/>
            <a:chExt cx="7014960" cy="3970440"/>
          </a:xfrm>
        </p:grpSpPr>
        <p:sp>
          <p:nvSpPr>
            <p:cNvPr id="184" name=""/>
            <p:cNvSpPr/>
            <p:nvPr/>
          </p:nvSpPr>
          <p:spPr>
            <a:xfrm>
              <a:off x="1154160" y="2435040"/>
              <a:ext cx="7014960" cy="397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01960" y="53542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01960" y="48924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01960" y="443988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01960" y="397656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1960" y="3524040"/>
              <a:ext cx="6099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01960" y="307152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5806800"/>
              <a:ext cx="6099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001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8702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74652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61340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964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5796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234200" y="5806800"/>
              <a:ext cx="180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101080" y="5806800"/>
              <a:ext cx="1440" cy="30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6840" y="3784320"/>
              <a:ext cx="5230800" cy="1551240"/>
            </a:xfrm>
            <a:custGeom>
              <a:avLst/>
              <a:gdLst/>
              <a:ahLst/>
              <a:rect l="l" t="t" r="r" b="b"/>
              <a:pathLst>
                <a:path w="543" h="161">
                  <a:moveTo>
                    <a:pt x="0" y="0"/>
                  </a:moveTo>
                  <a:lnTo>
                    <a:pt x="91" y="38"/>
                  </a:lnTo>
                  <a:lnTo>
                    <a:pt x="181" y="96"/>
                  </a:lnTo>
                  <a:lnTo>
                    <a:pt x="272" y="119"/>
                  </a:lnTo>
                  <a:lnTo>
                    <a:pt x="362" y="147"/>
                  </a:lnTo>
                  <a:lnTo>
                    <a:pt x="452" y="158"/>
                  </a:lnTo>
                  <a:lnTo>
                    <a:pt x="543" y="16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6840" y="3678120"/>
              <a:ext cx="5230800" cy="1704960"/>
            </a:xfrm>
            <a:custGeom>
              <a:avLst/>
              <a:gdLst/>
              <a:ahLst/>
              <a:rect l="l" t="t" r="r" b="b"/>
              <a:pathLst>
                <a:path w="543" h="177">
                  <a:moveTo>
                    <a:pt x="0" y="0"/>
                  </a:moveTo>
                  <a:lnTo>
                    <a:pt x="91" y="47"/>
                  </a:lnTo>
                  <a:lnTo>
                    <a:pt x="181" y="103"/>
                  </a:lnTo>
                  <a:lnTo>
                    <a:pt x="272" y="129"/>
                  </a:lnTo>
                  <a:lnTo>
                    <a:pt x="362" y="157"/>
                  </a:lnTo>
                  <a:lnTo>
                    <a:pt x="452" y="170"/>
                  </a:lnTo>
                  <a:lnTo>
                    <a:pt x="543" y="177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4680" y="2550960"/>
              <a:ext cx="1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41280" y="574020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00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41280" y="52876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28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41280" y="48243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0:57:3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41280" y="43718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26: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41280" y="390996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1:55: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41280" y="345744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24: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1280" y="3003480"/>
              <a:ext cx="91980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2:52:4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21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4840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528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296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59840" y="5894280"/>
              <a:ext cx="72144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982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74880" y="5894280"/>
              <a:ext cx="77796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2-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45640" y="6097320"/>
              <a:ext cx="3074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configuration (processors-nod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285840" y="4306680"/>
              <a:ext cx="212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ll-clock time (h:mm:s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39560"/>
            <a:ext cx="831852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duction Applications Now… </a:t>
            </a:r>
            <a:br>
              <a:rPr sz="28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ven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1Gb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iWARP Ethernet achieves results on par with InfiniBand in som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9320" y="1798560"/>
            <a:ext cx="5123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6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95"/>
                </a:solidFill>
                <a:latin typeface="Arial"/>
              </a:rPr>
              <a:t>Landmark Nexus reservoir sim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dominated by latency and message rate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6840" y="3784680"/>
            <a:ext cx="5230800" cy="1550880"/>
          </a:xfrm>
          <a:custGeom>
            <a:avLst/>
            <a:gdLst/>
            <a:ahLst/>
            <a:rect l="l" t="t" r="r" b="b"/>
            <a:pathLst>
              <a:path w="543" h="161">
                <a:moveTo>
                  <a:pt x="0" y="0"/>
                </a:moveTo>
                <a:lnTo>
                  <a:pt x="91" y="38"/>
                </a:lnTo>
                <a:lnTo>
                  <a:pt x="181" y="96"/>
                </a:lnTo>
                <a:lnTo>
                  <a:pt x="272" y="119"/>
                </a:lnTo>
                <a:lnTo>
                  <a:pt x="362" y="147"/>
                </a:lnTo>
                <a:lnTo>
                  <a:pt x="452" y="158"/>
                </a:lnTo>
                <a:lnTo>
                  <a:pt x="543" y="161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3621240"/>
            <a:ext cx="5230800" cy="1733400"/>
          </a:xfrm>
          <a:custGeom>
            <a:avLst/>
            <a:gdLst/>
            <a:ahLst/>
            <a:rect l="l" t="t" r="r" b="b"/>
            <a:pathLst>
              <a:path w="543" h="180">
                <a:moveTo>
                  <a:pt x="0" y="0"/>
                </a:moveTo>
                <a:lnTo>
                  <a:pt x="91" y="52"/>
                </a:lnTo>
                <a:lnTo>
                  <a:pt x="181" y="102"/>
                </a:lnTo>
                <a:lnTo>
                  <a:pt x="272" y="128"/>
                </a:lnTo>
                <a:lnTo>
                  <a:pt x="362" y="158"/>
                </a:lnTo>
                <a:lnTo>
                  <a:pt x="452" y="173"/>
                </a:lnTo>
                <a:lnTo>
                  <a:pt x="543" y="180"/>
                </a:lnTo>
              </a:path>
            </a:pathLst>
          </a:custGeom>
          <a:noFill/>
          <a:ln w="1908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886280" y="4581360"/>
            <a:ext cx="2519280" cy="275760"/>
            <a:chOff x="4886280" y="4581360"/>
            <a:chExt cx="2519280" cy="275760"/>
          </a:xfrm>
        </p:grpSpPr>
        <p:sp>
          <p:nvSpPr>
            <p:cNvPr id="224" name=""/>
            <p:cNvSpPr/>
            <p:nvPr/>
          </p:nvSpPr>
          <p:spPr>
            <a:xfrm>
              <a:off x="5235840" y="4581360"/>
              <a:ext cx="21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b6b2"/>
                  </a:solidFill>
                  <a:latin typeface="Arial"/>
                </a:rPr>
                <a:t>NetEffect 1GbE adap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886280" y="4673520"/>
              <a:ext cx="663480" cy="183600"/>
              <a:chOff x="4886280" y="4673520"/>
              <a:chExt cx="663480" cy="1836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4940280" y="4673520"/>
                <a:ext cx="609480" cy="97200"/>
                <a:chOff x="4940280" y="4673520"/>
                <a:chExt cx="609480" cy="9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940280" y="4673520"/>
                  <a:ext cx="0" cy="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40280" y="46735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4886280" y="4770720"/>
                <a:ext cx="101520" cy="86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5356080" y="3441600"/>
            <a:ext cx="1127160" cy="648720"/>
            <a:chOff x="5356080" y="3441600"/>
            <a:chExt cx="1127160" cy="648720"/>
          </a:xfrm>
        </p:grpSpPr>
        <p:sp>
          <p:nvSpPr>
            <p:cNvPr id="231" name=""/>
            <p:cNvSpPr/>
            <p:nvPr/>
          </p:nvSpPr>
          <p:spPr>
            <a:xfrm>
              <a:off x="5356080" y="3606480"/>
              <a:ext cx="1127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 Core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ndard 1Gb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:27: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0800" y="3441600"/>
              <a:ext cx="114480" cy="1141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227640" y="2954160"/>
            <a:ext cx="1127160" cy="636480"/>
            <a:chOff x="6227640" y="2954160"/>
            <a:chExt cx="1127160" cy="636480"/>
          </a:xfrm>
        </p:grpSpPr>
        <p:sp>
          <p:nvSpPr>
            <p:cNvPr id="234" name=""/>
            <p:cNvSpPr/>
            <p:nvPr/>
          </p:nvSpPr>
          <p:spPr>
            <a:xfrm>
              <a:off x="6227640" y="3106800"/>
              <a:ext cx="1127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 Core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ndard 1Gb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:58:4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29120" y="2954160"/>
              <a:ext cx="114480" cy="1144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340360" y="4737240"/>
            <a:ext cx="2301480" cy="604080"/>
            <a:chOff x="2340360" y="4737240"/>
            <a:chExt cx="2301480" cy="604080"/>
          </a:xfrm>
        </p:grpSpPr>
        <p:sp>
          <p:nvSpPr>
            <p:cNvPr id="237" name=""/>
            <p:cNvSpPr/>
            <p:nvPr/>
          </p:nvSpPr>
          <p:spPr>
            <a:xfrm>
              <a:off x="2340360" y="5125680"/>
              <a:ext cx="22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NetEffect 10GbE adap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91080" y="4838400"/>
              <a:ext cx="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285800" y="523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0320" y="4737240"/>
              <a:ext cx="101520" cy="101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845800" y="4724280"/>
            <a:ext cx="1713960" cy="406080"/>
            <a:chOff x="2845800" y="4724280"/>
            <a:chExt cx="1713960" cy="406080"/>
          </a:xfrm>
        </p:grpSpPr>
        <p:sp>
          <p:nvSpPr>
            <p:cNvPr id="242" name=""/>
            <p:cNvSpPr/>
            <p:nvPr/>
          </p:nvSpPr>
          <p:spPr>
            <a:xfrm>
              <a:off x="2845800" y="4914720"/>
              <a:ext cx="171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7280" indent="-2872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37421"/>
                  </a:solidFill>
                  <a:latin typeface="Arial"/>
                </a:rPr>
                <a:t>10Gb Infinib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271760" y="4825800"/>
              <a:ext cx="123840" cy="206280"/>
              <a:chOff x="4271760" y="4825800"/>
              <a:chExt cx="123840" cy="206280"/>
            </a:xfrm>
          </p:grpSpPr>
          <p:sp>
            <p:nvSpPr>
              <p:cNvPr id="244" name=""/>
              <p:cNvSpPr/>
              <p:nvPr/>
            </p:nvSpPr>
            <p:spPr>
              <a:xfrm>
                <a:off x="4395600" y="4825800"/>
                <a:ext cx="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271760" y="5032080"/>
                <a:ext cx="12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344840" y="4724280"/>
              <a:ext cx="101520" cy="101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4D4F-0821-40A2-9359-745734FF4B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26960"/>
            <a:ext cx="85341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64008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joined forces 2.5 years ago to make the concept of a single RDMA API work on multiple fabrics from multiple vendors and be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&amp; Ethernet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B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WARP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w a Rea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7B27-342B-4E42-9E53-36851E6C5C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21:27:23Z</dcterms:created>
  <dc:creator/>
  <dc:description/>
  <dc:language>en-US</dc:language>
  <cp:lastModifiedBy> </cp:lastModifiedBy>
  <dcterms:modified xsi:type="dcterms:W3CDTF">2008-04-09T21:27:52Z</dcterms:modified>
  <cp:revision>280</cp:revision>
  <dc:subject>Overview</dc:subject>
  <dc:title>NetEff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