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F18A5-0535-47B0-972E-C22ADD926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2FDCF-3EEF-4626-A994-3A23EA100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52E6D-7B86-4777-AF39-69BF83EBC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E85F3-3850-489E-B35F-A86C7EAE8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BDBD0-9F22-4555-B4B7-4977F31032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C0A6F-31BA-4944-A85C-B978C61495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93E12-8716-4EDB-AD4D-262345BE45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19D9C-F598-453C-9DC3-28636EAE0F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1BCE1-6671-4323-9519-7451FED9B5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9F1C0-0D76-4283-A1EB-ED26B1B3E9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BE773-3890-404E-BA63-CE0A4BAF23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6F15E-A6DF-4D9C-BCEE-3366E1945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CF4FE-7951-44E0-91C5-44F546D9C5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E9DEA-52C8-4EC7-AA6F-67C7237014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F44E6-E6CE-42D1-9652-8498647012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D2A33-4539-4CEE-9D6D-B6CF0990A5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F4ADA-28A9-427D-8CA8-0BBED45B486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39BFA-2411-4199-B01D-4A750E94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46C41-0434-4FC8-A51D-A59E1324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A5B4F-FFA5-4DC2-94A0-A497F72D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4A960-C462-4FF4-9008-5E1FBC60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88330-F62B-4E47-AA4A-45208533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92740-BDC8-412B-80E7-E7BB142E1F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5CB60-0D7D-473E-81FD-D44D3087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2E150-9F7A-4A08-AF69-333C815B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71EB4-1887-4020-AF4C-B778C081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66455-31C8-4EB9-BA8C-332077C2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B75B8-D864-46C2-A5CF-79170E4F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B638A-B2FB-4A43-A7EA-590BD905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5A65B-8147-4734-A74D-99FA56D1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ABE3-F973-46AF-B036-6DB43AF4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63E3-A174-4014-B423-B477BFE7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2920-EE67-4889-B105-41295736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DBB10-9B22-4475-8207-553C575158F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2223-E719-40BF-8B3C-610C35A7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E45A-43DB-402F-BB72-DCD8DAB9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BCC1-55F2-4B37-AC57-1E5EF785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A0FB-5548-415D-B70B-3082BFF4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3215-8A48-49EB-BE30-82CC396B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94E8-A4A0-4D5A-9B28-C220F5DA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1853-F9EA-4C96-9BC0-4BD145D2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807C-9C71-4B1F-8810-BB2A0CA3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CABA-73A6-401F-BD52-5A5F7A5A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B70C9-30A6-4691-B87D-11F0C43FF50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4835-FEC5-48C5-8130-85CFCB8DF7D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6D49-410E-4AF3-853F-02A8961A47F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57543-67F6-4996-A519-0CA59B60F7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38EEE-5A6B-45E8-8136-EFF01E794B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003b4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b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b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b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b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b4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228600" y="6248160"/>
            <a:ext cx="99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2B42-84CB-437A-B5CC-5FFA55DE2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0560" y="1752480"/>
            <a:ext cx="59418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0" y="5790960"/>
            <a:ext cx="99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1850-1716-4584-967C-C9A2A5A51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5293-5BC2-4807-B68F-521BD5084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6773-92CB-4344-BA81-501D71F42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3E8D-009B-470C-8478-EEA8CB1B2917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nfinibandta.org/itinfo/IL" TargetMode="External"/><Relationship Id="rId2" Type="http://schemas.openxmlformats.org/officeDocument/2006/relationships/hyperlink" Target="http://www.infinibandta.org/itinfo/IL" TargetMode="External"/><Relationship Id="rId3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ol.unh.edu/services/testing/ofa/" TargetMode="External"/><Relationship Id="rId2" Type="http://schemas.openxmlformats.org/officeDocument/2006/relationships/hyperlink" Target="http://www.iol.unh.edu/services/testing/ofa/interoplist/interoplist.php" TargetMode="External"/><Relationship Id="rId3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ol.unh.edu/services/testing/ofa/logo.pdf" TargetMode="External"/><Relationship Id="rId2" Type="http://schemas.openxmlformats.org/officeDocument/2006/relationships/hyperlink" Target="http://www.iol.unh.edu/services/testing/ofa/interoplist/interoplist.php" TargetMode="External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OFA-IWG Interop Event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March 2008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37720" y="510516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pert Dance, Arkady Kanevsk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an Phamdo, Mikkel H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oma Workshop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ing Cov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ric 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 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MA inte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WAR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WARP Interop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D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 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MA inte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net switch testing (limited participation limited execution 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 Cluster Top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42132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s No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issues with OFED 1.3 GA se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ndor specific SM stops when attempting to discover improperly identified device in the fabri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ndor device had duplicate GUID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ndors had a link problem because physical link was not achieved (this was remedied later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ndors continue to have uDAPL problems (especially in iWARP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P MPI didn't work (in iWARP) due to uDAPL problem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sufficient time to run all of the Interop Test Sui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as partly because vendors were debugging Interop probl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gestion: The week prior to the OFA Interop event should be reserved for debugging and resolving interop problems. OFA Interop week should be for Logo Validation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require vendors to bring some additional equipment for the IBTA and iWARP compliance Plugf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 &amp; Sugg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Logo Name has been ado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FA Interoperability Lo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new feature is added to OFED or there is a major upgrade to a feature, a test should be created for OFA Interop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PN access is granted to all OFILG Me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ek long testing slots are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Event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2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2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IBTA Plug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2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2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iWARP Test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2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October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OFA Interop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n End User event at UNH I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nvitation for Interop #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ll and Red 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Switch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stra, Force 10, Fujitsu, Fulcrum, Wov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,  IBM, Obsidian, SGI, Sun, Xs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WARP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X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, Dell, SuperMic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OFA Interoperability Event to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new tests added to the Interop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Scripts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execution went smooth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H-IOL staff performed very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testing was very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device participation in some categories such as FC and Ethernet Gateway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more participation from Ethernet Switch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more time to complete all of th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TA Event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BTA IL Compliance Testing 3/10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3/14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 vendors versus 11 at the last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 devices versus 16 at last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3 cables tested – versus 27 at the last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as the 13th IBTA Plug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TA integrators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list includes all products that have successfully completed the rigorous testing procedures at IBTA sponsored Plugfes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List of devices is available a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nfinibandta.org/itinfo/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List will be available end of April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ed by Lamprey Networks and University of NH Interoperability Lab (UNH-I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event scheduled for September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TA Vendor Particip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niBand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sco, Flextronics, Mellanox, QLogic, Vol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ble Vend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henol, C&amp;M, Cinch, Fujikura, Intel, Luxtera, Mellanox, Meritec, Molex, Panduit, Tyco, W.L. Gore, Zar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A-IWG Charter and 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penFabrics Alliance Interoperability Working Group (OFA-IWG) is responsible for defining and developing a comprehensive suite of tests for evaluating product interoperability within the OpenFabrics environment. Each year, the OFA-IWG hosts interoperability test events in conjunction with the University of New Hampshire’s InterOperability Lab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NH IO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. At these events, Alliance members have an opportunity to validate the interoperability of their products using the OpenFabrics software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FA-IWG is responsible for defining and maintaining the OFA Logo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each event,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FA Interoperability Log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s granted to those companies who pass all of the mandatory t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nt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A IWG Interop Event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3/17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3/21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vendors and 23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ficial OFA-IWG Interop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eded by IBTA and iWARP compliance testing ev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ed by University of NH Interoperability Lab (UNH-I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results very success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event scheduled for Septem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 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A Interoperability Logo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vendors to claim and market interoperability by using the Logo on their products or in their product marketing collat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s available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ol.unh.edu/services/testing/ofa/logo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List of Logo Grants available at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iol.unh.edu/services/testing/ofa/interoplist/interoplist.php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 List of Logo Grants will be available end of April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dor Participation - 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Band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Data Direct Networks, Flextronics, LSI Logic, Mellanox, QLogic, Vol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Band Devices – using OFED 1.3 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H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iSER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RP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Based SMs: OpenSM, Ci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Based SMs: Cisco, QLogic, Vol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dor Participation - iWA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WARP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Chelsio, Fujitsu and Net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WARP Devices - using OFED 1.3 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GbE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ls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RNICs – 2 CX4 and one 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R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jit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GbE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 Setup &amp;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 servers provided by In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les Do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hen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it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d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.L. G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r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EL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 1.3 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Category for March 2008 Interop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990720" y="1389240"/>
            <a:ext cx="7186320" cy="50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ests for March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 IPoIB Conn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Link Init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Fabric Init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Fabric Recon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Fabric Fail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 Reliable Datagram Sockets (RD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 MPI – 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 Basic RDMA Inte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 RDMA Operations over Interconnect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40:46Z</dcterms:created>
  <dc:creator>Rupert Dance</dc:creator>
  <dc:description/>
  <dc:language>en-US</dc:language>
  <cp:lastModifiedBy>Rupert Dance</cp:lastModifiedBy>
  <dcterms:modified xsi:type="dcterms:W3CDTF">2008-04-07T22:31:33Z</dcterms:modified>
  <cp:revision>31</cp:revision>
  <dc:subject/>
  <dc:title>OFA-IWG Interop Event</dc:title>
</cp:coreProperties>
</file>