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85C-4280-48DF-842A-80083B0D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3C93-C8D7-4EEC-8083-EBCB5266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BC35-0449-4CA4-ADCF-EF3DDAF2F84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4 Pla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 – version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M, RDMA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verb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4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: kernel 2.6.26 and 2.6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compilation checks from 2.6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4 (up5, up6, up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5 (up1, u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a C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with the OF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resented in SC07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penfabrics.org/archives/nov2007s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follow any decision from the development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pace: Tarball base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t will be used for development and daily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balls will be used for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will be published in the com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4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: Oct 0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freeze: Jun 25, 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6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9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30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7-rcX (assuming it will be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13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27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3-RC5/6 – every 5-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RC to be used in OFA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06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o Star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kernel master tree based on 2.6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read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space: Development should be done using the master git tree of each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nd Procedure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Features -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base: 2.6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art with 2.6.25 and rebase as kerne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Qs to best fit multi-co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rotocol support for low level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– ConnectX can support Eth and IB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to support IPv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amount of changes between kernel.org and OFED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-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igo's host drivers: Virtual NIC and H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WARP Verbs (some applicable to IB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L_Key/ST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ast register" memory through send que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invalidate send work reques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with in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2-peer support in IWCM/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B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- More performance improv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 with RDM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tomic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zer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 between Linux and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Open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routing – for fast routing when one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 SA DB – to answer queries during a heavy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- disjoi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e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to MLI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balancing for LMC + console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 configuration u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compression (MGID to NLID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ngines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 1.2.1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over/Handov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netdiscover library - accelerate an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UD-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Asynchronous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2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Job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Operations with Passive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point-Restart with Shared Memo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ore optimiz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PA Support for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9T20:37:27Z</dcterms:modified>
  <cp:revision>2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