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388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8232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388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8232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8480" y="304560"/>
            <a:ext cx="758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388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8232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388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8232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88480" y="304560"/>
            <a:ext cx="758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225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9040" cy="68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8920" indent="-23004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1640" indent="-22860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1640" indent="-22860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1640" indent="-22860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620120" y="6226200"/>
            <a:ext cx="947520" cy="1191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152280" y="6553080"/>
            <a:ext cx="88394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2895480" cy="361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14400" y="914400"/>
            <a:ext cx="2819520" cy="281952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Insert Picture Her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914400" cy="2822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736800" y="914400"/>
            <a:ext cx="5407200" cy="2822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48006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222480" algn="ctr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0480" indent="338400" algn="ctr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9080" indent="453960" algn="ctr">
              <a:spcBef>
                <a:spcPts val="499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9080" indent="453960"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9080" indent="453960"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48006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iniband enables scalable Real Application Clusters – Update Spring 2008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5714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anta Chatterjee, Ora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chard Frank, Ora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DS v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s for RDS v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ked fetch_and_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ked compare_and_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 copy completions via cm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S V4 will also be more portable - we will work to abstract out the generic RDS operations from O/S primitive support and network operations. A platform that provides the O/S + network primitives library - should be able to take all the generic RDS code - as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DS Compat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: request to all IB vendors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ensure compatibility across HCAs,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ly RDS driver in OFED ported to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code body– wider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ility across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s this end, we plan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 RDS protocol driver generically (OS, RD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Oracle Real Application Clusters (RAC)  Databas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077320" y="5638680"/>
            <a:ext cx="838080" cy="395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352680" y="2895480"/>
            <a:ext cx="914400" cy="351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029200" y="2895480"/>
            <a:ext cx="914400" cy="351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752480" y="2895480"/>
            <a:ext cx="838440" cy="351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477120" y="2895480"/>
            <a:ext cx="914400" cy="351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5800" y="2209680"/>
            <a:ext cx="7696080" cy="236232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c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c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c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c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327672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3352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A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327672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3352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327672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3352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327672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3352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9625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4114800"/>
            <a:ext cx="1447920" cy="246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vate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3962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990720"/>
            <a:ext cx="6477120" cy="1066680"/>
          </a:xfrm>
          <a:prstGeom prst="cloudCallout">
            <a:avLst>
              <a:gd name="adj1" fmla="val -45467"/>
              <a:gd name="adj2" fmla="val 6993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Network to Grid Computing N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22860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3124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64767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Inst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GA database memory of all instances aggregated and appears as   one single database to applications through Cache Fu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AC for SAP Benchmark Results</a:t>
            </a:r>
            <a:br>
              <a:rPr sz="3200"/>
            </a:b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Scal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1409760"/>
          <a:ext cx="79232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09760"/>
                    <a:ext cx="79232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RA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lnSpc>
                <a:spcPct val="90000"/>
              </a:lnSpc>
              <a:spcBef>
                <a:spcPts val="1749"/>
              </a:spcBef>
              <a:spcAft>
                <a:spcPts val="176"/>
              </a:spcAft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performance of a RAC database by adding additional servers to the clu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C database is made up of multiple instance.  While performance may degrade, loss of an instance does not bring down the entire databas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a RAC database by adding instances to the cluster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ifting Trend in Deployment Paradig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077320" y="5599080"/>
            <a:ext cx="914400" cy="43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3124080" y="2209680"/>
          <a:ext cx="107316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2209680"/>
                    <a:ext cx="10731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477120" y="2438280"/>
            <a:ext cx="914400" cy="351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477120" y="2819520"/>
            <a:ext cx="914400" cy="350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6477120" y="2057400"/>
            <a:ext cx="838080" cy="351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477120" y="3200400"/>
            <a:ext cx="914400" cy="351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3276720" y="1371600"/>
            <a:ext cx="838080" cy="351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2362320" y="1371600"/>
            <a:ext cx="761760" cy="351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4343400" y="1371600"/>
            <a:ext cx="838080" cy="351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04920" y="43434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Monolithic SM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 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9907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Tier on Commodity 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434340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Mixed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ommodity Application 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MP Database 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6477120" y="1295280"/>
            <a:ext cx="838080" cy="351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5562720" y="1295280"/>
            <a:ext cx="761760" cy="351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>
            <a:off x="7467480" y="1295280"/>
            <a:ext cx="838440" cy="351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410080" y="99072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Tier on Commodity 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365760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 Tier on Commodity 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1981080"/>
            <a:ext cx="1295280" cy="1676520"/>
          </a:xfrm>
          <a:prstGeom prst="ellipse">
            <a:avLst/>
          </a:prstGeom>
          <a:noFill/>
          <a:ln w="28440">
            <a:solidFill>
              <a:srgbClr val="c0c0c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3434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Grid Comp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ll Commodity 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57150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5715000"/>
            <a:ext cx="1523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3160" y="548640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59520" y="548640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93080" y="5486400"/>
            <a:ext cx="16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1981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2468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1828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62120" y="1371600"/>
          <a:ext cx="1077840" cy="2185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62120" y="1371600"/>
                    <a:ext cx="10778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0" y="365760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and Database on Same SMP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dity Cluster Requires Unified Fabric for efficient scalable IPC + Storage I/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700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S / IB shows significant real world application performance ga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 less CPU than IP over IB, 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½ latency of UDP (no user-mode a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 faster cache to cache Oracle block throughput (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s well beyond GE (600+ mbytes – ran out of CP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al Oracle cod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fail-over across and within H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ed for 16 nodes (64 process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 in 10g r2 (10.2.0.3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TPC-H benchmarks with RDS and S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cale deployments at several Oracle customer sit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ilot projects are in prog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ks waiting for RDS on OF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nodes Oracle 11G RAC certification of OFED 1.2.5.5 submitted for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ire and Qlogic have completed platform certification. Audit in prog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ion on Unix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DS- Communication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well with existing IPC clients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Query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 cache 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on providing support for additional clients with RDMA plus atomic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expect significant performance improvements with R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tomics, even greater scalabilities and performance can be g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entives for simple NICs to add RDMA + At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DS -  ev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S v2 with b-copy send, rev in OFED 1.2.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d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eatures in RDS v3 available in OFED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RDMA read + RDMA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s cmsgs for asynchronous operation submit and completion not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data transfers – presently up to 1 MB. Will go up to 8 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23:34:22Z</dcterms:created>
  <dc:creator/>
  <dc:description>This presentation contains information proprietary to Oracle Corporation</dc:description>
  <dc:language>en-US</dc:language>
  <cp:lastModifiedBy>Jim Ryan</cp:lastModifiedBy>
  <cp:lastPrinted>2006-02-05T23:07:35Z</cp:lastPrinted>
  <dcterms:modified xsi:type="dcterms:W3CDTF">2008-04-08T18:50:02Z</dcterms:modified>
  <cp:revision>1351</cp:revision>
  <dc:subject/>
  <dc:title>Slide 1</dc:title>
</cp:coreProperties>
</file>