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2509-D8AB-483B-9D21-360AE9C1BB4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BM InfiniBand Updat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t Meh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Sonoma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: Importance to 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M InfiniBan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M IB Deployment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prise Customer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iniBand: Importance to IB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Band remains a strategic interconnect for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chair IB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involvement in O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WG, E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efforts targeted to establish InfiniBand as an industry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s cost of solution for our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IBM Development 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industry components, soft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, cables, HCAs, OFA develop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IBM value added hardware, firmware &amp;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izing HCA, IBM Paralle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5638680"/>
            <a:ext cx="7315200" cy="609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A accomplishments critical to IBM IB strateg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M InfiniBand Deplo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focus on HPC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n expanding support to commercial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on System x &amp; p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industry PCI &amp; HTX based H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IB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es OFA’s OFED releases through vendor dis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iven by Time-to-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fer distro supported version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 utilizes OFA OFED rel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IBM GX HCA (eH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ing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neration s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IB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ux supported only through Distros release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 supported in A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IBM Parallel Environment &amp; GPFS over 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M IB Deployment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unique distributi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support &amp; diagnostic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service &amp; support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Release mode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ared to end users not Enterprise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r none” release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 for IB deployment in commerci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availability of protocols &amp; APIs that leverag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urity of cross-vendor IB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g in availability of OFED releases from Linux dis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Cabl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erprise Customer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hose to support it, make it 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collaboratively towards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ssively embrace and enhan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B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, Diagnostic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lor OFED activities to distro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FED release from “All or none” to “Available when ready” at function/component leve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OFA to influence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leadership role in driving OFA’s releas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Chet. Mehta</cp:lastModifiedBy>
  <dcterms:modified xsi:type="dcterms:W3CDTF">2008-04-07T18:01:28Z</dcterms:modified>
  <cp:revision>120</cp:revision>
  <dc:subject/>
  <dc:title>Slide 1</dc:title>
</cp:coreProperties>
</file>