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0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1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7044-4C97-450C-B194-038941AB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F9CD-77A6-46BE-847F-746B94D1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9D7-C976-4342-B18F-5C064ED0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D64-3A43-4C6F-9F79-5A1C5476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CB0-790E-4213-B4EA-46C7D6AD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122-2730-49EA-9F72-FB83762C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8609-896C-45AC-A1B5-394E9D35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4E59-0714-4113-8C3D-7E852715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029-F69E-4E31-88E5-CB03FD37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7AE0-4820-4329-A7F7-F32977A4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71E-F38F-4AC3-8583-FE245F4C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B404-4FA5-499F-BB1A-97E4A0A33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96F9-6AF9-4510-A81F-EBD399A4C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4AF5-C9E3-4E22-A791-7EC039CF9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F4A4-BE4B-4B75-A1C4-8FAF93939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7A18-CCE3-47DC-BCD7-F09FE951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E60ED-344E-4A1A-9A98-39D55C5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C8BB8-56D9-47AA-853F-0626003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7AEF2-8347-441C-8F0A-EA316BE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D0A8B-E561-4FEC-BEB4-8420AB0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2923-BC02-4DD1-AADE-01E4548D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8C3C7-85F2-4CEA-80C6-2380237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C2FA-5F61-4C15-9184-C64F29E00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4656F-79D7-4335-A702-8FCF622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F7E65-51BC-4A22-BF2B-F5B47285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E5754-FDE5-452F-B4CF-D3E0F347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7EADC-1863-40CC-B7AC-B7FB9CF8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E3036-F461-4E17-9369-4A6B70FA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3F66-B8B8-4C00-9A26-FD88F865AD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62B8E-2126-4750-B970-D0AE15126B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BA2E5-986E-47DB-BD1F-BA168BCB32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3C7C8-A194-4DF5-B822-BB2C7AF4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02C8-D88D-4655-A4E3-E939657E8E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D656A-027F-41F8-A13D-F4CC05E783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3F5F0-5D6E-4A91-8ECF-68DF41E136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6140-7B61-4244-9F1A-F21384A81B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9AB3C-D060-40EE-A30B-BEB94806D7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6DA52-B3E3-4D44-8495-65CD4DCA57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BC73-4774-4E38-93B4-14229FF59F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23BD-A9DC-443D-BD16-18C0761588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83D8C-7D75-4D09-8A9E-04D1ECC5EA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2663-5404-474F-A458-D9B47A8D52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79CA-AE90-4328-BE7F-BEB40C1A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635D-DFE1-4948-92B8-9FAFCD6F19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561-2341-4B9A-A619-FE34C98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162C-7846-49FD-B5B8-7106AD1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4FA8-5A82-452B-99CE-2987E641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20C-347C-41A4-B4A7-22ECC780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7820-B67B-4349-9893-2AE8FAE4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8012-3AB3-4F0A-BFD9-7BB12C6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FAD2-0914-4BD2-B9B0-71D59DF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3D4C-876A-4B59-9D06-B99B123D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8EE1-7654-479F-AF71-21F14F1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F0E8-51AD-475A-B592-ADA1E65B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CA17-FFB9-45C2-B081-516F0EE660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61F-A7A4-4180-8677-1E645D17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5D48-F165-42FF-9252-0E20CB370F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F192-53C9-43AE-A19E-3421E019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063E-2CD7-4958-8AB8-27EDC3FA9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4B3-B510-4889-86CF-E60BCE92C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owwerPoint-Background-Slide2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BFB8-F2E4-48D1-AE0A-E8E7ADD49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2FD-6FFA-4DAA-A8F1-4D3A474D4FF8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6F2D-2736-4394-BF97-DE112E2FA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PowerPoint-Background-v4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684-2929-435A-B56E-85EDC6DA6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ampreynetworks.com/xanstorm_demo" TargetMode="External"/><Relationship Id="rId2" Type="http://schemas.openxmlformats.org/officeDocument/2006/relationships/hyperlink" Target="http://www.lampreynetworks.com/Content/iWARP/iWARP_RDMAgenerator.html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8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vering Performance and Interoperability Issues in the OFED Stac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nis Tolst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Highligh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management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&amp; RDMA Devi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define and generate RDMA Read, Write and S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 RDMA Devices with the OFED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rue performance at the Applica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mechanism to test IB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pli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Storm is the first application to use the RDMA OFA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intuitive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for both InfiniBand and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Linux or 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Key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and Topolog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Easy to Rea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Hardware Nee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7631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 all nodes on the cluster (IB and iW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detailed information on each RDM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ingle or multiple connections between two or more nodes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ontrol available for custom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4" descr="discovery_2.jpg"/>
          <p:cNvPicPr/>
          <p:nvPr/>
        </p:nvPicPr>
        <p:blipFill>
          <a:blip r:embed="rId3"/>
          <a:stretch/>
        </p:blipFill>
        <p:spPr>
          <a:xfrm>
            <a:off x="165240" y="1447920"/>
            <a:ext cx="88135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equence of RDM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RDMA Operation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(traffic shaping)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traffic flow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onnections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Picture 5" descr="seq.jpg"/>
          <p:cNvPicPr/>
          <p:nvPr/>
        </p:nvPicPr>
        <p:blipFill>
          <a:blip r:embed="rId3"/>
          <a:stretch/>
        </p:blipFill>
        <p:spPr>
          <a:xfrm>
            <a:off x="76320" y="1447920"/>
            <a:ext cx="480060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v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running the “Performance Se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457200" y="594360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gathered &amp; presented in re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results1.jpg"/>
          <p:cNvPicPr/>
          <p:nvPr/>
        </p:nvPicPr>
        <p:blipFill>
          <a:blip r:embed="rId3"/>
          <a:stretch/>
        </p:blipFill>
        <p:spPr>
          <a:xfrm>
            <a:off x="152280" y="1503360"/>
            <a:ext cx="8839440" cy="2001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seq.jpg"/>
          <p:cNvPicPr/>
          <p:nvPr/>
        </p:nvPicPr>
        <p:blipFill>
          <a:blip r:embed="rId4"/>
          <a:stretch/>
        </p:blipFill>
        <p:spPr>
          <a:xfrm>
            <a:off x="152280" y="3505320"/>
            <a:ext cx="883944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 and XANStorm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n online presentation 24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ampreynetworks.com/xanstorm_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Demo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mpreynetworks.com/Content/iWARP/iWARP_RDMAgenerat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I sale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03) 868-84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@lampreynet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DMA Agent is a simple application that resides on a host running O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o hardware and is installed via an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s a daemon or can be manually started/st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n out of band control interface which allows centralized management and control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of RDMA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RDMA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RDMA Reads, Writes, and S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Performance results, validating interoperability and detecting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FA Agent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6477120" cy="2390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4"/>
          <a:stretch/>
        </p:blipFill>
        <p:spPr>
          <a:xfrm>
            <a:off x="4830840" y="313380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5"/>
          <a:stretch/>
        </p:blipFill>
        <p:spPr>
          <a:xfrm>
            <a:off x="4830840" y="390996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6"/>
          <a:stretch/>
        </p:blipFill>
        <p:spPr>
          <a:xfrm>
            <a:off x="4830840" y="4697280"/>
            <a:ext cx="2289240" cy="933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2166840" y="313380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"/>
          <p:cNvPicPr/>
          <p:nvPr/>
        </p:nvPicPr>
        <p:blipFill>
          <a:blip r:embed="rId8"/>
          <a:stretch/>
        </p:blipFill>
        <p:spPr>
          <a:xfrm>
            <a:off x="2166840" y="390996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"/>
          <p:cNvPicPr/>
          <p:nvPr/>
        </p:nvPicPr>
        <p:blipFill>
          <a:blip r:embed="rId9"/>
          <a:stretch/>
        </p:blipFill>
        <p:spPr>
          <a:xfrm>
            <a:off x="2166840" y="4697280"/>
            <a:ext cx="228780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"/>
          <p:cNvPicPr/>
          <p:nvPr/>
        </p:nvPicPr>
        <p:blipFill>
          <a:blip r:embed="rId10"/>
          <a:stretch/>
        </p:blipFill>
        <p:spPr>
          <a:xfrm>
            <a:off x="2944800" y="2577960"/>
            <a:ext cx="3213000" cy="555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11"/>
          <a:stretch/>
        </p:blipFill>
        <p:spPr>
          <a:xfrm>
            <a:off x="3332160" y="1523880"/>
            <a:ext cx="2625840" cy="1009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2"/>
          <p:cNvSpPr/>
          <p:nvPr/>
        </p:nvSpPr>
        <p:spPr>
          <a:xfrm>
            <a:off x="3737880" y="18637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3194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22276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26499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546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48628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2851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3645720" y="5867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Data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30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633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 of band control interface is implemented using a simple protocol named PU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P fills the role of the Applica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a client to define a set of operations which can be presented to the control component of the D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“command-response” protoc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hannel is the conduit for PULP requests and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ol Channel is instantiated via a TCP/IP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trol channels can be established for parallel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supports unsolicited message pa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Agents are discoverable via a UDP broadcast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over Response contain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Name and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OS and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ED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RDMA Interfa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of the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DMA Agent allows the user to define &amp; execute the following RDMA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Operation has the following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– Number of bytes to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– Number of RDMA operations to s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– ms between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RDMA Operations serially (allows for ord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 RDMA Operations in parallel on one or more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shaping can be achieved through Size, Count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her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Completions 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Operation Type (Send, Read, Wr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ytes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DMA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aken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Dennis</cp:lastModifiedBy>
  <dcterms:modified xsi:type="dcterms:W3CDTF">2008-04-12T06:17:04Z</dcterms:modified>
  <cp:revision>176</cp:revision>
  <dc:subject/>
  <dc:title>OFA-IWG Interop Event</dc:title>
</cp:coreProperties>
</file>