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7506E-F1B1-40E0-A811-55E7D8FCC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0"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E19F8-008F-4301-8715-B1380F8A3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943B0-79FD-4B2B-9889-7E75A5C41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8"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5E36C-DB97-4801-AE3A-C93CB052E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5E44EB-8AE8-4591-ABA5-7C14759D33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53"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E6FEC-E2A2-4394-92C9-5A98AA05B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55"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CD049-1825-4988-8DA4-902F6B9A3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57"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1849F-94E6-43FC-89CD-7A8E14CA9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E9B14-DC99-4A53-849F-2F5D2E1CE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6F59C-A716-46AB-9A12-D38886771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62"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2901A-4557-434D-B1C8-3E6909A7A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9"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9C30A-2FBE-4090-9758-00D84D0F7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66"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B3D80-D227-423F-B106-93D095EBE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7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59ABA-57A4-4E1D-90BD-54DCB9C61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74"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58161-02F0-4322-B62E-F41B82E44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77"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13449-A375-442A-BD46-71A176027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82"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2F8995-9698-46F3-9C6C-7759D123E9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FDB554-61C8-43A6-8B13-A513FC85D6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9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E2D622-5E71-4D5B-91E1-E7C392E2F8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9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8ADE58-0D0B-4FFA-A99C-B84FDC535B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0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EE37DF-3393-486C-8E82-0E6627B521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E58234-ECAA-4865-B206-F6425FF59D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1"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224EC-57F3-404F-84F4-F23FBD7A4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B9D2E0-4D30-4DDF-A2CA-694A5C9078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0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CC88B-E90B-487D-912F-BA7F09C05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0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B8A91-A28F-4CC0-A500-D895F7B45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1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0999E-1643-44B2-8240-6F76AB52D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1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EFD136-F6BD-45E7-9805-35DC63E802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2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991292-F901-4C75-B578-B2061F28FE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2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AE0D38-8C84-4A04-A6BD-1DFD6EB8C9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3"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31447-366C-447F-8C60-450408448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05CAC-EA0D-46A4-A161-45E1EC6AD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C3BA6-68BA-4663-9B7E-7437ECDDD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8"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2D3B0-D07E-4D0D-9A8F-91DE80BB5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22"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59590-519B-4BED-872A-48DA121A9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26"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A9455-A43A-4895-A75B-ACB024AED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19280"/>
            <a:ext cx="10080720" cy="5940360"/>
          </a:xfrm>
          <a:prstGeom prst="roundRect">
            <a:avLst>
              <a:gd name="adj" fmla="val 23"/>
            </a:avLst>
          </a:prstGeom>
          <a:solidFill>
            <a:srgbClr val="be8c32">
              <a:alpha val="1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0" y="0"/>
            <a:ext cx="10080720" cy="1619280"/>
          </a:xfrm>
          <a:prstGeom prst="roundRect">
            <a:avLst>
              <a:gd name="adj" fmla="val 97"/>
            </a:avLst>
          </a:prstGeom>
          <a:solidFill>
            <a:srgbClr val="be8c32">
              <a:alpha val="2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e8c32"/>
                </a:solidFill>
                <a:latin typeface="Arial"/>
              </a:rPr>
              <a:t>Click to edit the title text format</a:t>
            </a:r>
            <a:endParaRPr b="1" lang="en-US" sz="4400" spc="-1" strike="noStrike">
              <a:solidFill>
                <a:srgbClr val="be8c32"/>
              </a:solidFill>
              <a:latin typeface="Arial"/>
            </a:endParaRPr>
          </a:p>
        </p:txBody>
      </p:sp>
      <p:pic>
        <p:nvPicPr>
          <p:cNvPr id="3" name="" descr=""/>
          <p:cNvPicPr/>
          <p:nvPr/>
        </p:nvPicPr>
        <p:blipFill>
          <a:blip r:embed="rId2"/>
          <a:stretch/>
        </p:blipFill>
        <p:spPr>
          <a:xfrm>
            <a:off x="2798640" y="1998720"/>
            <a:ext cx="4481640" cy="4481280"/>
          </a:xfrm>
          <a:prstGeom prst="rect">
            <a:avLst/>
          </a:prstGeom>
          <a:ln w="0">
            <a:noFill/>
          </a:ln>
        </p:spPr>
      </p:pic>
      <p:sp>
        <p:nvSpPr>
          <p:cNvPr id="4"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863C04-7D36-43E0-A23E-1A307E33AE1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rot="10800000">
            <a:off x="0" y="1620720"/>
            <a:ext cx="10080720" cy="5940720"/>
          </a:xfrm>
          <a:prstGeom prst="roundRect">
            <a:avLst>
              <a:gd name="adj" fmla="val 23"/>
            </a:avLst>
          </a:prstGeom>
          <a:solidFill>
            <a:srgbClr val="be8c32">
              <a:alpha val="1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8572680" y="6051600"/>
            <a:ext cx="1506240" cy="1506600"/>
          </a:xfrm>
          <a:prstGeom prst="rect">
            <a:avLst/>
          </a:prstGeom>
          <a:ln w="0">
            <a:noFill/>
          </a:ln>
        </p:spPr>
      </p:pic>
      <p:sp>
        <p:nvSpPr>
          <p:cNvPr id="46" name=""/>
          <p:cNvSpPr/>
          <p:nvPr/>
        </p:nvSpPr>
        <p:spPr>
          <a:xfrm>
            <a:off x="0" y="0"/>
            <a:ext cx="10080720" cy="1619280"/>
          </a:xfrm>
          <a:prstGeom prst="roundRect">
            <a:avLst>
              <a:gd name="adj" fmla="val 97"/>
            </a:avLst>
          </a:prstGeom>
          <a:solidFill>
            <a:srgbClr val="be8c32">
              <a:alpha val="2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e8c32"/>
                </a:solidFill>
                <a:latin typeface="Arial"/>
              </a:rPr>
              <a:t>Click to edit the title text format</a:t>
            </a:r>
            <a:endParaRPr b="1" lang="en-US" sz="4400" spc="-1" strike="noStrike">
              <a:solidFill>
                <a:srgbClr val="be8c32"/>
              </a:solidFill>
              <a:latin typeface="Arial"/>
            </a:endParaRPr>
          </a:p>
        </p:txBody>
      </p:sp>
      <p:sp>
        <p:nvSpPr>
          <p:cNvPr id="48"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0"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1" name="PlaceHolder 5"/>
          <p:cNvSpPr>
            <a:spLocks noGrp="1"/>
          </p:cNvSpPr>
          <p:nvPr>
            <p:ph type="sldNum" idx="6"/>
          </p:nvPr>
        </p:nvSpPr>
        <p:spPr>
          <a:xfrm>
            <a:off x="7227720" y="6886440"/>
            <a:ext cx="1230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400" spc="-1" strike="noStrike">
                <a:solidFill>
                  <a:srgbClr val="000000"/>
                </a:solidFill>
                <a:latin typeface="Times New Roman"/>
              </a:defRPr>
            </a:lvl1pPr>
          </a:lstStyle>
          <a:p>
            <a:pPr indent="0" algn="r">
              <a:lnSpc>
                <a:spcPct val="93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9FE5EA-84F4-4F8D-9F1B-0F11848ACBA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10080720" cy="1619280"/>
          </a:xfrm>
          <a:prstGeom prst="roundRect">
            <a:avLst>
              <a:gd name="adj" fmla="val 97"/>
            </a:avLst>
          </a:prstGeom>
          <a:solidFill>
            <a:srgbClr val="be8c32">
              <a:alpha val="2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e8c32"/>
                </a:solidFill>
                <a:latin typeface="Arial"/>
              </a:rPr>
              <a:t>Click to edit the title text format</a:t>
            </a:r>
            <a:endParaRPr b="1" lang="en-US" sz="4400" spc="-1" strike="noStrike">
              <a:solidFill>
                <a:srgbClr val="be8c32"/>
              </a:solidFill>
              <a:latin typeface="Arial"/>
            </a:endParaRPr>
          </a:p>
        </p:txBody>
      </p:sp>
      <p:sp>
        <p:nvSpPr>
          <p:cNvPr id="90"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2"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3" name="PlaceHolder 5"/>
          <p:cNvSpPr>
            <a:spLocks noGrp="1"/>
          </p:cNvSpPr>
          <p:nvPr>
            <p:ph type="sldNum" idx="9"/>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11C7D4-743B-43EF-9A17-4A8A4719FF9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4" name=""/>
          <p:cNvSpPr/>
          <p:nvPr/>
        </p:nvSpPr>
        <p:spPr>
          <a:xfrm>
            <a:off x="0" y="1619280"/>
            <a:ext cx="10080720" cy="5940360"/>
          </a:xfrm>
          <a:prstGeom prst="roundRect">
            <a:avLst>
              <a:gd name="adj" fmla="val 23"/>
            </a:avLst>
          </a:prstGeom>
          <a:solidFill>
            <a:srgbClr val="be8c32">
              <a:alpha val="1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503280" y="307800"/>
            <a:ext cx="9070920" cy="42642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Driver Mapped Memory</a:t>
            </a:r>
            <a:br>
              <a:rPr sz="4400"/>
            </a:br>
            <a:br>
              <a:rPr sz="4400"/>
            </a:br>
            <a:r>
              <a:rPr b="1" lang="en-GB" sz="4400" spc="-1" strike="noStrike">
                <a:solidFill>
                  <a:srgbClr val="be8c32"/>
                </a:solidFill>
                <a:latin typeface="Arial"/>
              </a:rPr>
              <a:t>Memory Pinning</a:t>
            </a:r>
            <a:br>
              <a:rPr sz="4400"/>
            </a:br>
            <a:r>
              <a:rPr b="1" lang="en-GB" sz="4400" spc="-1" strike="noStrike">
                <a:solidFill>
                  <a:srgbClr val="be8c32"/>
                </a:solidFill>
                <a:latin typeface="Arial"/>
              </a:rPr>
              <a:t>I/O to process address space</a:t>
            </a:r>
            <a:br>
              <a:rPr sz="4400"/>
            </a:br>
            <a:r>
              <a:rPr b="1" lang="en-GB" sz="4400" spc="-1" strike="noStrike">
                <a:solidFill>
                  <a:srgbClr val="be8c32"/>
                </a:solidFill>
                <a:latin typeface="Arial"/>
              </a:rPr>
              <a:t>Access of address spaces across Linux Instances</a:t>
            </a:r>
            <a:endParaRPr b="0" lang="en-US" sz="4400" spc="-1" strike="noStrike">
              <a:solidFill>
                <a:srgbClr val="000000"/>
              </a:solidFill>
              <a:latin typeface="Arial"/>
            </a:endParaRPr>
          </a:p>
        </p:txBody>
      </p:sp>
      <p:sp>
        <p:nvSpPr>
          <p:cNvPr id="132" name=""/>
          <p:cNvSpPr/>
          <p:nvPr/>
        </p:nvSpPr>
        <p:spPr>
          <a:xfrm>
            <a:off x="228600" y="6172200"/>
            <a:ext cx="4800600" cy="1116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Christoph Lameter, Ph.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Principal Engineer, Linux Kernel Softwar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Silicon Graphics, In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clameter@sgi.com</a:t>
            </a:r>
            <a:endParaRPr b="0" lang="en-US" sz="1800" spc="-1" strike="noStrike">
              <a:solidFill>
                <a:srgbClr val="000000"/>
              </a:solidFill>
              <a:latin typeface="Arial"/>
            </a:endParaRPr>
          </a:p>
        </p:txBody>
      </p:sp>
      <p:sp>
        <p:nvSpPr>
          <p:cNvPr id="133" name=""/>
          <p:cNvSpPr/>
          <p:nvPr/>
        </p:nvSpPr>
        <p:spPr>
          <a:xfrm>
            <a:off x="7543800" y="6629400"/>
            <a:ext cx="2286000" cy="6015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2008-04-07</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OpenFabrics Forum</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07440"/>
            <a:ext cx="907092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Notifier user that increments page refcount</a:t>
            </a:r>
            <a:endParaRPr b="1" lang="en-US" sz="4400" spc="-1" strike="noStrike">
              <a:solidFill>
                <a:srgbClr val="be8c32"/>
              </a:solidFill>
              <a:latin typeface="Arial"/>
            </a:endParaRPr>
          </a:p>
        </p:txBody>
      </p:sp>
      <p:sp>
        <p:nvSpPr>
          <p:cNvPr id="151" name="PlaceHolder 2"/>
          <p:cNvSpPr>
            <a:spLocks noGrp="1"/>
          </p:cNvSpPr>
          <p:nvPr>
            <p:ph/>
          </p:nvPr>
        </p:nvSpPr>
        <p:spPr>
          <a:xfrm>
            <a:off x="502920" y="1767960"/>
            <a:ext cx="9070920" cy="5327640"/>
          </a:xfrm>
          <a:prstGeom prst="rect">
            <a:avLst/>
          </a:prstGeom>
          <a:noFill/>
          <a:ln w="0">
            <a:noFill/>
          </a:ln>
        </p:spPr>
        <p:txBody>
          <a:bodyPr lIns="0" rIns="0" tIns="0" bIns="0" anchor="t">
            <a:normAutofit fontScale="99000"/>
          </a:bodyPr>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Driver does an additional or implied get_page() when the page is mapped to a process</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Requires the use of get_user_pages().</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Page can only be removed when the driver drops the refcount.</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emm_invalidate_start: Forbid new references (optionally drop references and page refcount).</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emm_invalidate_end: Drops reference of pages were refcount was taken which may free them.</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Pages may continue to exist even after VM has unmapped them from the process until the device driver drops refcount.</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Relevant Projects</a:t>
            </a:r>
            <a:endParaRPr b="1" lang="en-US" sz="4400" spc="-1" strike="noStrike">
              <a:solidFill>
                <a:srgbClr val="be8c32"/>
              </a:solidFill>
              <a:latin typeface="Arial"/>
            </a:endParaRPr>
          </a:p>
        </p:txBody>
      </p:sp>
      <p:sp>
        <p:nvSpPr>
          <p:cNvPr id="153"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MMU Notifier / EMM notifier</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Removal of Mlocked pages and unreclaimable pages from page reclaim (Nick Piggin, Lee Schermerhorn, Rik van Riel and m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Adding of support for pinned pages in the VM to recognize that they are not reclaimable (Lee Schermerhorn and m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Memory Pinning under Linux</a:t>
            </a:r>
            <a:endParaRPr b="1" lang="en-US" sz="4400" spc="-1" strike="noStrike">
              <a:solidFill>
                <a:srgbClr val="be8c32"/>
              </a:solidFill>
              <a:latin typeface="Arial"/>
            </a:endParaRPr>
          </a:p>
        </p:txBody>
      </p:sp>
      <p:sp>
        <p:nvSpPr>
          <p:cNvPr id="135" name="PlaceHolder 2"/>
          <p:cNvSpPr>
            <a:spLocks noGrp="1"/>
          </p:cNvSpPr>
          <p:nvPr>
            <p:ph/>
          </p:nvPr>
        </p:nvSpPr>
        <p:spPr>
          <a:xfrm>
            <a:off x="502920" y="1767960"/>
            <a:ext cx="9070920" cy="52246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Ensure that memory subject to device access does not go away.</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External References vs. Linux Native References</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OS looses control over memory</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Reclaim issues</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Users</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Device I/O directly to user mapped pages (RDMA).</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DMA engines (Intel, GRU, network).</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Virtualization (host &lt;-&gt; guest, guest &lt;-&gt; guest)</a:t>
            </a:r>
            <a:r>
              <a:rPr b="0" lang="en-GB" sz="2800" spc="-1" strike="noStrike">
                <a:solidFill>
                  <a:srgbClr val="000000"/>
                </a:solidFill>
                <a:latin typeface="Arial"/>
              </a:rPr>
              <a:t>‏</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Inter Linux Shared Memory (SHMEM, XPMEM..)</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The problem</a:t>
            </a:r>
            <a:endParaRPr b="1" lang="en-US" sz="4400" spc="-1" strike="noStrike">
              <a:solidFill>
                <a:srgbClr val="be8c32"/>
              </a:solidFill>
              <a:latin typeface="Arial"/>
            </a:endParaRPr>
          </a:p>
        </p:txBody>
      </p:sp>
      <p:sp>
        <p:nvSpPr>
          <p:cNvPr id="137" name="PlaceHolder 2"/>
          <p:cNvSpPr>
            <a:spLocks noGrp="1"/>
          </p:cNvSpPr>
          <p:nvPr>
            <p:ph/>
          </p:nvPr>
        </p:nvSpPr>
        <p:spPr>
          <a:xfrm>
            <a:off x="502920" y="1768320"/>
            <a:ext cx="9070920" cy="51818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Device Page tables not managed by the VM</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Device TLBs not managed by the processor</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Mappings by other Linux instan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Pages must not vanish while mapped by TLBs, Page tables, devices or other thing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VM assumes that it is in control of memory and that all of memory is reclaimabl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Problems for page reclaim, dirty throttling etc.</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Cycling through LRU lists may lead to livelock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Pinning using mlock()</a:t>
            </a:r>
            <a:r>
              <a:rPr b="1" lang="en-GB" sz="4400" spc="-1" strike="noStrike">
                <a:solidFill>
                  <a:srgbClr val="be8c32"/>
                </a:solidFill>
                <a:latin typeface="Arial"/>
              </a:rPr>
              <a:t>‏</a:t>
            </a:r>
            <a:endParaRPr b="1" lang="en-US" sz="4400" spc="-1" strike="noStrike">
              <a:solidFill>
                <a:srgbClr val="be8c32"/>
              </a:solidFill>
              <a:latin typeface="Arial"/>
            </a:endParaRPr>
          </a:p>
        </p:txBody>
      </p:sp>
      <p:sp>
        <p:nvSpPr>
          <p:cNvPr id="139" name="PlaceHolder 2"/>
          <p:cNvSpPr>
            <a:spLocks noGrp="1"/>
          </p:cNvSpPr>
          <p:nvPr>
            <p:ph/>
          </p:nvPr>
        </p:nvSpPr>
        <p:spPr>
          <a:xfrm>
            <a:off x="502920" y="1768320"/>
            <a:ext cx="9070920" cy="5391360"/>
          </a:xfrm>
          <a:prstGeom prst="rect">
            <a:avLst/>
          </a:prstGeom>
          <a:noFill/>
          <a:ln w="0">
            <a:noFill/>
          </a:ln>
        </p:spPr>
        <p:txBody>
          <a:bodyPr lIns="0" rIns="0" tIns="0" bIns="0" anchor="t">
            <a:normAutofit fontScale="99000"/>
          </a:bodyPr>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Available from user space. VM knows which address spaces have mlocked pages.</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Posix definition of mlock(): Pages must not be swapped out (this is the accepted meaning of mlock for Linux).</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But can be moved by</a:t>
            </a:r>
            <a:endParaRPr b="0" lang="en-US" sz="26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Memory Hotplug</a:t>
            </a:r>
            <a:endParaRPr b="0" lang="en-US" sz="26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Page migration (NUMA only)</a:t>
            </a:r>
            <a:r>
              <a:rPr b="0" lang="en-GB" sz="2600" spc="-1" strike="noStrike">
                <a:solidFill>
                  <a:srgbClr val="000000"/>
                </a:solidFill>
                <a:latin typeface="Arial"/>
              </a:rPr>
              <a:t>‏</a:t>
            </a:r>
            <a:endParaRPr b="0" lang="en-US" sz="26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Defragmentation (not implemented yet)</a:t>
            </a:r>
            <a:r>
              <a:rPr b="0" lang="en-GB" sz="2600" spc="-1" strike="noStrike">
                <a:solidFill>
                  <a:srgbClr val="000000"/>
                </a:solidFill>
                <a:latin typeface="Arial"/>
              </a:rPr>
              <a:t>‏</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Mlock is unlimited! Yay! </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Not inherited via exec.</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Pages may vanish when the mlock'ing process vanishes.</a:t>
            </a: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Pinning by increasing refcount</a:t>
            </a:r>
            <a:endParaRPr b="1" lang="en-US" sz="4400" spc="-1" strike="noStrike">
              <a:solidFill>
                <a:srgbClr val="be8c32"/>
              </a:solidFill>
              <a:latin typeface="Arial"/>
            </a:endParaRPr>
          </a:p>
        </p:txBody>
      </p:sp>
      <p:sp>
        <p:nvSpPr>
          <p:cNvPr id="141" name="PlaceHolder 2"/>
          <p:cNvSpPr>
            <a:spLocks noGrp="1"/>
          </p:cNvSpPr>
          <p:nvPr>
            <p:ph/>
          </p:nvPr>
        </p:nvSpPr>
        <p:spPr>
          <a:xfrm>
            <a:off x="502920" y="1767960"/>
            <a:ext cx="9070920" cy="54579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Refcount is obtained via get_page()</a:t>
            </a:r>
            <a:r>
              <a:rPr b="0" lang="en-GB" sz="3200" spc="-1" strike="noStrike">
                <a:solidFill>
                  <a:srgbClr val="000000"/>
                </a:solidFill>
                <a:latin typeface="Arial"/>
              </a:rPr>
              <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VM unable to unmap pag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VM does not </a:t>
            </a:r>
            <a:r>
              <a:rPr b="1" lang="en-GB" sz="3200" spc="-1" strike="noStrike">
                <a:solidFill>
                  <a:srgbClr val="000000"/>
                </a:solidFill>
                <a:latin typeface="Arial"/>
              </a:rPr>
              <a:t>know</a:t>
            </a:r>
            <a:r>
              <a:rPr b="0" lang="en-GB" sz="3200" spc="-1" strike="noStrike">
                <a:solidFill>
                  <a:srgbClr val="000000"/>
                </a:solidFill>
                <a:latin typeface="Arial"/>
              </a:rPr>
              <a:t> that the page is pinned(!)</a:t>
            </a:r>
            <a:r>
              <a:rPr b="0" lang="en-GB" sz="3200" spc="-1" strike="noStrike">
                <a:solidFill>
                  <a:srgbClr val="000000"/>
                </a:solidFill>
                <a:latin typeface="Arial"/>
              </a:rPr>
              <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Refcounts are taken temporarily or due to processes mapping pa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Pages survive even after all processes terminat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Device must actively decrement refcount and free page (put_page()). This means tracking the pinned page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Solutions</a:t>
            </a:r>
            <a:endParaRPr b="1" lang="en-US" sz="4400" spc="-1" strike="noStrike">
              <a:solidFill>
                <a:srgbClr val="be8c32"/>
              </a:solidFill>
              <a:latin typeface="Arial"/>
            </a:endParaRPr>
          </a:p>
        </p:txBody>
      </p:sp>
      <p:sp>
        <p:nvSpPr>
          <p:cNvPr id="143" name="PlaceHolder 2"/>
          <p:cNvSpPr>
            <a:spLocks noGrp="1"/>
          </p:cNvSpPr>
          <p:nvPr>
            <p:ph/>
          </p:nvPr>
        </p:nvSpPr>
        <p:spPr>
          <a:xfrm>
            <a:off x="502920" y="1768320"/>
            <a:ext cx="9070920" cy="53373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Make the VM account mlocked pages and adjust reclaim accordingly (creates new LRU list, more complex reclaim logic).</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Add a way to mark pinned pages. Then do the same as above.</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Solutions mean that VM looses control over memory. Drivers can arbitrarily reduce memory available to the OS.</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Another solution: Cooperation between drivers that want stable memory references and the OS. VM can evict memory if needed by making the device remove the references. VM can use facility to provide full support (reclaim, page migration, hotplug, remapping) for those areas.</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7440"/>
            <a:ext cx="907092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Externally Mapped Memory Notifier (EMM) or MMU notifier</a:t>
            </a:r>
            <a:endParaRPr b="1" lang="en-US" sz="4400" spc="-1" strike="noStrike">
              <a:solidFill>
                <a:srgbClr val="be8c32"/>
              </a:solidFill>
              <a:latin typeface="Arial"/>
            </a:endParaRPr>
          </a:p>
        </p:txBody>
      </p:sp>
      <p:sp>
        <p:nvSpPr>
          <p:cNvPr id="145"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A device driver subscribes to an address space for callbacks (emm_register())</a:t>
            </a:r>
            <a:r>
              <a:rPr b="0" lang="en-GB" sz="2600" spc="-1" strike="noStrike">
                <a:solidFill>
                  <a:srgbClr val="000000"/>
                </a:solidFill>
                <a:latin typeface="Arial"/>
              </a:rPr>
              <a:t>‏</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Device driver establishes references to pages as needed (may increment refcount or not).</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Callback emm_notify(struct mm_struct *, operation, from, to).</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VM will only remove references between emm_invalidate_start / emm_invalidate_end callbacks. The device can take appropriate actions.</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Subscription is terminated when the process terminates (emm_release).</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Notifier API</a:t>
            </a:r>
            <a:endParaRPr b="1" lang="en-US" sz="4400" spc="-1" strike="noStrike">
              <a:solidFill>
                <a:srgbClr val="be8c32"/>
              </a:solidFill>
              <a:latin typeface="Arial"/>
            </a:endParaRPr>
          </a:p>
        </p:txBody>
      </p:sp>
      <p:sp>
        <p:nvSpPr>
          <p:cNvPr id="147" name=""/>
          <p:cNvSpPr/>
          <p:nvPr/>
        </p:nvSpPr>
        <p:spPr>
          <a:xfrm>
            <a:off x="685800" y="1828800"/>
            <a:ext cx="8686800" cy="4800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enum emm_operation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mm_release,                     /* Process is exiting. Drop driver resource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mm_invalidate_start,         /* Before the VM unmaps pages. Forbid new ref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mm_invalidate_end,          /* After the VM unmapped pages. Allow new ref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mm_referenced,                /* Return number of times range was referenced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struct emm_notifier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int (*callback)(struct emm_notifier *e, struct mm_struct *m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num emm_operation op,  unsigned long start, unsigned long en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truct emm_notifier *nex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Register a notifier with an mm struct. Release occurs when the proces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terminates by calling the notifier function with emm_releas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extern void emm_notifier_register(struct emm_notifier *e, struct mm_struct *mm);</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07440"/>
            <a:ext cx="907092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Notifier user that does not increment the refcount</a:t>
            </a:r>
            <a:endParaRPr b="1" lang="en-US" sz="4400" spc="-1" strike="noStrike">
              <a:solidFill>
                <a:srgbClr val="be8c32"/>
              </a:solidFill>
              <a:latin typeface="Arial"/>
            </a:endParaRPr>
          </a:p>
        </p:txBody>
      </p:sp>
      <p:sp>
        <p:nvSpPr>
          <p:cNvPr id="149" name="PlaceHolder 2"/>
          <p:cNvSpPr>
            <a:spLocks noGrp="1"/>
          </p:cNvSpPr>
          <p:nvPr>
            <p:ph/>
          </p:nvPr>
        </p:nvSpPr>
        <p:spPr>
          <a:xfrm>
            <a:off x="529920" y="1809360"/>
            <a:ext cx="9070920" cy="53276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The page can be freed between emm_invalidate_start and emm_invalidate_end as soon as the VM unmaps the page.</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Driver does not need to keep state of which pages are mapped (important for TLB page references with simple shoot down semantics)</a:t>
            </a:r>
            <a:r>
              <a:rPr b="0" lang="en-GB" sz="2600" spc="-1" strike="noStrike">
                <a:solidFill>
                  <a:srgbClr val="000000"/>
                </a:solidFill>
                <a:latin typeface="Arial"/>
              </a:rPr>
              <a:t>‏</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Driver can use follow_page() from interrupt context.</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Hardware TLB synchronization can be used to avoid having to use locks in the driver.</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emm_invalidate_start simply zaps all the TLBs in a range and forbids new refs to be established.</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emm_invalidate_end re-enables new references.</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ristoph Lameter</dc:creator>
  <dc:description>1. Name: Gervásio da Silva Antônio
2. E-mail: gervasioantonio@openoffice.org
3. Address: Rua Wanda dos Santos Mullmann, 1266 - AP12 BL02
            Vila Tarumã
            Curitiba - PR
            ZIP 83323-400 - Brazil
4. License: PDL
5. Declaration:
 "I confirm that I am the sole author of this template or graphic. This work is created from my own ideas and materials. No third party license or materials are included that will affect licensing under the Public Document License (PDL) or GNU Lesser General Public License (LGPL). Furthermore I confirm that I am entitled to place the submitted template or graphic under this license."</dc:description>
  <cp:keywords>BrOffice.org template presentation globe earth map.</cp:keywords>
  <dc:language>en-US</dc:language>
  <cp:lastModifiedBy>Christoph Lameter</cp:lastModifiedBy>
  <cp:revision>0</cp:revision>
  <dc:subject/>
  <dc:title>Presentation - Globe</dc:title>
</cp:coreProperties>
</file>