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9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0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11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2428-70A7-4203-95BC-86214A9B7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CAAE-A03E-467B-9269-AC1331B1A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C761-9F17-4E75-8680-37F3A0E53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94CF-6E96-45F9-A334-67D25B25E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57AC-3F8E-45BA-AFAC-D034E69AD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37D2-C96D-4F01-B5D5-107263129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28EE-15A4-4890-924A-0ED190D7B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A85E-9AA5-44EF-8625-70A357258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4A12-8DCF-49C5-B190-1FB2E228B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FFE2-1E3D-4A93-AA51-5DD59B25C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447E-6B0E-45F8-AEF3-BD54A7681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56E5E-A95A-4582-9980-3BFF3DFAF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9A668-797B-419E-A202-B339460E3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F61A5-26E6-4278-8C94-A840E0F723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82B7-8EE7-467B-B3CE-2467465CE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8402A-D461-4D4C-A87B-7C1C23BF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D3E63-694A-499A-8827-628F337E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BE418-B31C-414C-8999-4F5D685C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4FAC0-1BE0-4A3C-B57E-FFE68B41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91511-468C-49A4-80D4-0C1BB405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2FB09-579B-489F-9B81-C06BB3C1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9A5B4-E75F-4CE1-9C43-CF9F3F30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1FE1B-A733-4802-875E-79FFD5674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DAEFD-82DA-4715-9D79-74CB0F90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EEA37-D8F3-440B-A1FE-FC8B6B5C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ADDFF-9B4F-420C-AF0F-40D79B65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EBA07-F63B-4DF2-AF1F-BEAF3BE7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64156-FF67-4301-BC08-6A9D7B68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81C79-2108-487C-80A4-1F66EDF886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49849-BBA3-4FB2-9416-12D89A471D4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CFCA4-9DA7-453B-BFF0-0535DE41DD4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B2DA2-250F-4309-BE20-941102667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DDF45-2EDB-4CE2-9CAF-CDF86F29A9A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FA476-D0E9-4456-B63B-82AB57E88F1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DB073-AD07-4FBB-9849-7E0AA8E469E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5E308-A23D-4354-8C01-545DA418D05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9BC25-703D-4E67-9859-F0D3964F08C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98B39-909F-4AF6-BAEE-4C9CF42D1E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49ACD-52B0-459A-BB3A-CA30160F4C1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BAA79-14FF-4B5E-A5CF-4DE05ECF351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FE2CB-AD36-44D2-B7E0-EFB39C56504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0C24F-4175-403E-ACD9-555357B1323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81D5-B762-487F-8DFD-AD0B229E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DD58F-6343-4E97-B9B4-6A622DA04E5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821D-FE4C-40D1-A3F6-E485F9DE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B397-1AE2-4A9B-9CB2-99A27AEA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3868-A0A3-4C0F-ACDF-04578CF6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62A0-D756-4535-AEAB-0F53EB1E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2558-0217-4FFD-B31E-55B18B8F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9C0E-FD71-4D0A-A492-18A70B85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3667-9263-4EE5-9CA2-7DC273F6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FF49-8FD3-4890-BE01-62248EE3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37AD-09DB-4487-B4CA-28EF53DA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2060-EE53-4B06-B273-509FBBDD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8447-517C-4230-BE5B-1B2731DE23C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72E6-95F9-4BEA-87BA-AD2B4D9B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79100-0FDF-4F08-A058-EB9D676B76F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84552-0461-48F0-8A51-4737963A9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AB0E-5377-4F7B-AA64-19FFE9338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003b4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b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b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b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b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b4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228600" y="6248160"/>
            <a:ext cx="99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4750-C521-4C89-B729-DF6BC29E5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PowwerPoint-Background-Slide2"/>
          <p:cNvPicPr/>
          <p:nvPr/>
        </p:nvPicPr>
        <p:blipFill>
          <a:blip r:embed="rId2"/>
          <a:stretch/>
        </p:blipFill>
        <p:spPr>
          <a:xfrm>
            <a:off x="0" y="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ED31-F688-40A5-9E76-3BFA6884E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CA42-998B-47DD-8500-29E01CFAB172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Logo1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003b4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b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b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b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b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b4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5"/>
          </p:nvPr>
        </p:nvSpPr>
        <p:spPr>
          <a:xfrm>
            <a:off x="0" y="5790960"/>
            <a:ext cx="99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929C-A4EF-4078-AE76-A58EE2102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PowerPoint-Background-v4"/>
          <p:cNvPicPr/>
          <p:nvPr/>
        </p:nvPicPr>
        <p:blipFill>
          <a:blip r:embed="rId2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5096-9732-4AB8-A03D-BC02ECE3F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OpenFabricLogo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lampreynetworks.com/xanstorm_demo" TargetMode="External"/><Relationship Id="rId2" Type="http://schemas.openxmlformats.org/officeDocument/2006/relationships/hyperlink" Target="http://www.lampreynetworks.com/Content/iWARP/iWARP_RDMAgenerator.html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Object 8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covering Performance and Interoperability Issues in the OFED Stac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37720" y="510516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nis Tolsten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oma Workshop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t Highligh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ized management and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bric Discovery &amp; RDMA Devic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define and generate RDMA Read, Write and S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performance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DMA Agent Sol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 interoperability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test RDMA Devices with the OFED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true performance at the Application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 mechanism to test IB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Compli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ANStorm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ANStorm is the first application to use the RDMA OFA Ag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 intuitive G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for both InfiniBand and iWAR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on Linux or Wind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ANStorm Key 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bric Discovery and Topology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ility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Meas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ed Regression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, Easy to Rea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dditional Hardware Need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2280" y="3276360"/>
            <a:ext cx="876312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 all nodes on the cluster (IB and iWAR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detailed information on each RDMA H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single or multiple connections between two or more nodes in the fa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control available for custom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7" name="Picture 4" descr="discovery_2.jpg"/>
          <p:cNvPicPr/>
          <p:nvPr/>
        </p:nvPicPr>
        <p:blipFill>
          <a:blip r:embed="rId3"/>
          <a:stretch/>
        </p:blipFill>
        <p:spPr>
          <a:xfrm>
            <a:off x="165240" y="1447920"/>
            <a:ext cx="8813520" cy="167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DMA 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952880" y="152388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Sequence of RDMA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of RDMA Operations to 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(traffic shaping) of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ion of traffic flow betwee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connections betwee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2" name="Picture 5" descr="seq.jpg"/>
          <p:cNvPicPr/>
          <p:nvPr/>
        </p:nvPicPr>
        <p:blipFill>
          <a:blip r:embed="rId3"/>
          <a:stretch/>
        </p:blipFill>
        <p:spPr>
          <a:xfrm>
            <a:off x="76320" y="1447920"/>
            <a:ext cx="480060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rehensive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298440" indent="-2984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from running the “Performance Seq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3"/>
          <p:cNvSpPr/>
          <p:nvPr/>
        </p:nvSpPr>
        <p:spPr>
          <a:xfrm>
            <a:off x="457200" y="5943600"/>
            <a:ext cx="8229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gathered &amp; presented in re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2" descr="results1.jpg"/>
          <p:cNvPicPr/>
          <p:nvPr/>
        </p:nvPicPr>
        <p:blipFill>
          <a:blip r:embed="rId3"/>
          <a:stretch/>
        </p:blipFill>
        <p:spPr>
          <a:xfrm>
            <a:off x="152280" y="1503360"/>
            <a:ext cx="8839440" cy="20019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4" descr="seq.jpg"/>
          <p:cNvPicPr/>
          <p:nvPr/>
        </p:nvPicPr>
        <p:blipFill>
          <a:blip r:embed="rId4"/>
          <a:stretch/>
        </p:blipFill>
        <p:spPr>
          <a:xfrm>
            <a:off x="152280" y="3505320"/>
            <a:ext cx="8839440" cy="195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t and XANStorm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an online presentation 24/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lampreynetworks.com/xanstorm_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 Demo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ampreynetworks.com/Content/iWARP/iWARP_RDMAgenerator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NI sales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603) 868-84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@lampreynet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11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t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DMA Agent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DMA Agent is a simple application that resides on a host running OF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no hardware and is installed via an r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as a daemon or can be manually started/sto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an out of band control interface which allows centralized management and control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y of RDMA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ing RDMA DATA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ng RDMA Reads, Writes, and S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ing Performance results, validating interoperability and detecting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DMA OFA Agent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6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8" name="Picture 18" descr=""/>
          <p:cNvPicPr/>
          <p:nvPr/>
        </p:nvPicPr>
        <p:blipFill>
          <a:blip r:embed="rId3"/>
          <a:stretch/>
        </p:blipFill>
        <p:spPr>
          <a:xfrm>
            <a:off x="1295280" y="3505320"/>
            <a:ext cx="6477120" cy="2390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"/>
          <p:cNvPicPr/>
          <p:nvPr/>
        </p:nvPicPr>
        <p:blipFill>
          <a:blip r:embed="rId4"/>
          <a:stretch/>
        </p:blipFill>
        <p:spPr>
          <a:xfrm>
            <a:off x="4830840" y="3133800"/>
            <a:ext cx="2289240" cy="6634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1" descr=""/>
          <p:cNvPicPr/>
          <p:nvPr/>
        </p:nvPicPr>
        <p:blipFill>
          <a:blip r:embed="rId5"/>
          <a:stretch/>
        </p:blipFill>
        <p:spPr>
          <a:xfrm>
            <a:off x="4830840" y="3909960"/>
            <a:ext cx="2289240" cy="6634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2" descr=""/>
          <p:cNvPicPr/>
          <p:nvPr/>
        </p:nvPicPr>
        <p:blipFill>
          <a:blip r:embed="rId6"/>
          <a:stretch/>
        </p:blipFill>
        <p:spPr>
          <a:xfrm>
            <a:off x="4830840" y="4697280"/>
            <a:ext cx="2289240" cy="9334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4" descr=""/>
          <p:cNvPicPr/>
          <p:nvPr/>
        </p:nvPicPr>
        <p:blipFill>
          <a:blip r:embed="rId7"/>
          <a:stretch/>
        </p:blipFill>
        <p:spPr>
          <a:xfrm>
            <a:off x="2166840" y="3133800"/>
            <a:ext cx="2287800" cy="663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5" descr=""/>
          <p:cNvPicPr/>
          <p:nvPr/>
        </p:nvPicPr>
        <p:blipFill>
          <a:blip r:embed="rId8"/>
          <a:stretch/>
        </p:blipFill>
        <p:spPr>
          <a:xfrm>
            <a:off x="2166840" y="3909960"/>
            <a:ext cx="2287800" cy="663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6" descr=""/>
          <p:cNvPicPr/>
          <p:nvPr/>
        </p:nvPicPr>
        <p:blipFill>
          <a:blip r:embed="rId9"/>
          <a:stretch/>
        </p:blipFill>
        <p:spPr>
          <a:xfrm>
            <a:off x="2166840" y="4697280"/>
            <a:ext cx="2287800" cy="9334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0" descr=""/>
          <p:cNvPicPr/>
          <p:nvPr/>
        </p:nvPicPr>
        <p:blipFill>
          <a:blip r:embed="rId10"/>
          <a:stretch/>
        </p:blipFill>
        <p:spPr>
          <a:xfrm>
            <a:off x="2944800" y="2577960"/>
            <a:ext cx="3213000" cy="5558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7" descr=""/>
          <p:cNvPicPr/>
          <p:nvPr/>
        </p:nvPicPr>
        <p:blipFill>
          <a:blip r:embed="rId11"/>
          <a:stretch/>
        </p:blipFill>
        <p:spPr>
          <a:xfrm>
            <a:off x="3332160" y="1523880"/>
            <a:ext cx="2625840" cy="1009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22"/>
          <p:cNvSpPr/>
          <p:nvPr/>
        </p:nvSpPr>
        <p:spPr>
          <a:xfrm>
            <a:off x="3737880" y="186372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2319480" y="329724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MA Test 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4"/>
          <p:cNvSpPr/>
          <p:nvPr/>
        </p:nvSpPr>
        <p:spPr>
          <a:xfrm>
            <a:off x="2227680" y="405936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A Softwar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5"/>
          <p:cNvSpPr/>
          <p:nvPr/>
        </p:nvSpPr>
        <p:spPr>
          <a:xfrm>
            <a:off x="2649960" y="49878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DMA 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6"/>
          <p:cNvSpPr/>
          <p:nvPr/>
        </p:nvSpPr>
        <p:spPr>
          <a:xfrm>
            <a:off x="4954680" y="329724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MA Test 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7"/>
          <p:cNvSpPr/>
          <p:nvPr/>
        </p:nvSpPr>
        <p:spPr>
          <a:xfrm>
            <a:off x="4862880" y="405936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A Softwar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8"/>
          <p:cNvSpPr/>
          <p:nvPr/>
        </p:nvSpPr>
        <p:spPr>
          <a:xfrm>
            <a:off x="5285160" y="49878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DMA 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9"/>
          <p:cNvSpPr/>
          <p:nvPr/>
        </p:nvSpPr>
        <p:spPr>
          <a:xfrm>
            <a:off x="3645720" y="58672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MA Data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0"/>
          <p:cNvSpPr/>
          <p:nvPr/>
        </p:nvSpPr>
        <p:spPr>
          <a:xfrm>
            <a:off x="308160" y="260496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/IP Control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1"/>
          <p:cNvSpPr/>
          <p:nvPr/>
        </p:nvSpPr>
        <p:spPr>
          <a:xfrm>
            <a:off x="6338160" y="260496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/IP Control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ut of band control interface is implemented using a simple protocol named PUL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P fills the role of the Application l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lows a client to define a set of operations which can be presented to the control component of the D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“command-response” protoc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ol Chan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Channel is the conduit for PULP requests and respo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rol Channel is instantiated via a TCP/IP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control channels can be established for parallel proces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pplication supports unsolicited message pas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t Dis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MA Agents are discoverable via a UDP broadcast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cover Response contains the following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Name and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OS and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ED 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st of RDMA Interfac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of the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dor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 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W 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DMA Traf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DMA Agent allows the user to define &amp; execute the following RDMA Oper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S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DMA Operation has the following fiel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– Number of bytes to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– Number of RDMA operations to s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 – ms between each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RDMA Operations serially (allows for orde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 RDMA Operations in parallel on one or more Data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shaping can be achieved through Size, Count and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thering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DMA Completions contai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MA Operation Type (Send, Read, Wr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bytes Transfe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RDMA exec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aken to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ion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dor Erro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d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40:46Z</dcterms:created>
  <dc:creator>Rupert Dance</dc:creator>
  <dc:description/>
  <dc:language>en-US</dc:language>
  <cp:lastModifiedBy>Dennis</cp:lastModifiedBy>
  <dcterms:modified xsi:type="dcterms:W3CDTF">2008-04-12T06:17:04Z</dcterms:modified>
  <cp:revision>176</cp:revision>
  <dc:subject/>
  <dc:title>OFA-IWG Interop Event</dc:title>
</cp:coreProperties>
</file>