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21E4-BCD6-47AD-87BA-C2C3A21334A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BM InfiniBand Updat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t Me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Sonoma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remains a strategic interconnect for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chair IB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nvolvement in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G, E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efforts targeted to establish InfiniBand as an industry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s cost of solution for ou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IBM Development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industry components,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, cables, HCAs, OFA develop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BM value added hardware, firmware &amp;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ing HCA, IBM Paralle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638680"/>
            <a:ext cx="7315200" cy="609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A accomplishments critical to IBM IB strate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focus on HPC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expanding support to commerci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on System x &amp; p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ndustry PCI &amp; HTX based H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s OFA’s OFED releases through vendor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n by Time-to-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er distro supported versio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 utilizes OFA OFED rel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BM GX HCA (eH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ing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eration s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supported only through Distros releas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 supported in A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IBM Parallel Environment &amp; GPFS over 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unique dis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support &amp; diagnostic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service &amp; suppor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Release 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ed to end users not Enterprise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r none” releas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for IB deployment in commerci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availability of protocols &amp; APIs that leverag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ity of cross-vendor IB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 in availability of OFED releases from Linux d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Cab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ose to support it, make it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collaboratively towards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vely embrace and enhan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B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, Diagnostic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or OFED activities to distro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ED release from “All or none” to “Available when ready” at function/component lev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OFA to influenc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eadership role in driving OFA’s releas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Chet. Mehta</cp:lastModifiedBy>
  <dcterms:modified xsi:type="dcterms:W3CDTF">2008-04-07T18:01:28Z</dcterms:modified>
  <cp:revision>120</cp:revision>
  <dc:subject/>
  <dc:title>Slide 1</dc:title>
</cp:coreProperties>
</file>