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9.png" ContentType="image/png"/>
  <Override PartName="/ppt/media/image7.png" ContentType="image/png"/>
  <Override PartName="/ppt/media/image22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8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19.png" ContentType="image/png"/>
  <Override PartName="/ppt/media/image23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png" ContentType="image/png"/>
  <Override PartName="/ppt/media/image15.png" ContentType="image/png"/>
  <Override PartName="/ppt/media/image14.jpeg" ContentType="image/jpe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ABB6-2B6F-489C-8E30-6CCD8F898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3A14-803C-4D11-B9E6-68B97A73F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064C-1DC5-4C74-95DD-1FA65AD23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F03D-B434-4AF0-AC26-55E238D15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A5F1-8185-4114-9514-DA301BAE9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243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ED63-B0DD-4C3B-BF56-F073FAC3D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37D7-79A1-4DD1-9C60-144EF38D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6D47-3856-4848-AE12-E3054644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002E-995B-4733-AE85-E1EAD298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5478-5EA0-4A61-AB25-B134751ED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0B67-B9FC-46A4-8181-C569A9823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D02E-3A41-4FA2-A39C-956BAD168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43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081160" y="1828800"/>
            <a:ext cx="4981680" cy="4933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8284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152280" y="304920"/>
            <a:ext cx="8839080" cy="1295280"/>
            <a:chOff x="152280" y="304920"/>
            <a:chExt cx="8839080" cy="1295280"/>
          </a:xfrm>
        </p:grpSpPr>
        <p:sp>
          <p:nvSpPr>
            <p:cNvPr id="3" name=""/>
            <p:cNvSpPr/>
            <p:nvPr/>
          </p:nvSpPr>
          <p:spPr>
            <a:xfrm>
              <a:off x="152280" y="304920"/>
              <a:ext cx="8839080" cy="1295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11f30"/>
                </a:gs>
                <a:gs pos="100000">
                  <a:srgbClr val="007cc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15171" dir="502314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99080" y="343080"/>
              <a:ext cx="873612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11f30"/>
                </a:gs>
                <a:gs pos="100000">
                  <a:srgbClr val="007cc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152280" y="2362320"/>
            <a:ext cx="8839080" cy="1295280"/>
            <a:chOff x="152280" y="2362320"/>
            <a:chExt cx="8839080" cy="1295280"/>
          </a:xfrm>
        </p:grpSpPr>
        <p:sp>
          <p:nvSpPr>
            <p:cNvPr id="43" name=""/>
            <p:cNvSpPr/>
            <p:nvPr/>
          </p:nvSpPr>
          <p:spPr>
            <a:xfrm>
              <a:off x="152280" y="2362320"/>
              <a:ext cx="8839080" cy="1295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11f30"/>
                </a:gs>
                <a:gs pos="100000">
                  <a:srgbClr val="007cc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15171" dir="502314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9080" y="2400480"/>
              <a:ext cx="873612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11f30"/>
                </a:gs>
                <a:gs pos="100000">
                  <a:srgbClr val="007cc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dt" idx="1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2"/>
          </p:nvPr>
        </p:nvSpPr>
        <p:spPr>
          <a:xfrm>
            <a:off x="2133720" y="624852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73174-C0FE-4332-8E13-0247C8104524}" type="slidenum">
              <a:rPr b="0" lang="en-US" sz="1400" spc="-1" strike="noStrike">
                <a:solidFill>
                  <a:srgbClr val="5b87f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560760" y="204840"/>
            <a:ext cx="2021040" cy="20048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bad41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bad41a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open-mpi.org/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open-mpi.org/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3.png"/><Relationship Id="rId12" Type="http://schemas.openxmlformats.org/officeDocument/2006/relationships/image" Target="../media/image14.jpeg"/><Relationship Id="rId13" Type="http://schemas.openxmlformats.org/officeDocument/2006/relationships/image" Target="../media/image15.png"/><Relationship Id="rId14" Type="http://schemas.openxmlformats.org/officeDocument/2006/relationships/image" Target="../media/image16.jpeg"/><Relationship Id="rId15" Type="http://schemas.openxmlformats.org/officeDocument/2006/relationships/image" Target="../media/image17.jpe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jpeg"/><Relationship Id="rId19" Type="http://schemas.openxmlformats.org/officeDocument/2006/relationships/image" Target="../media/image21.jpeg"/><Relationship Id="rId20" Type="http://schemas.openxmlformats.org/officeDocument/2006/relationships/image" Target="../media/image22.jpeg"/><Relationship Id="rId21" Type="http://schemas.openxmlformats.org/officeDocument/2006/relationships/image" Target="../media/image23.png"/><Relationship Id="rId22" Type="http://schemas.openxmlformats.org/officeDocument/2006/relationships/image" Target="../media/image24.png"/><Relationship Id="rId23" Type="http://schemas.openxmlformats.org/officeDocument/2006/relationships/image" Target="../media/image25.png"/><Relationship Id="rId24" Type="http://schemas.openxmlformats.org/officeDocument/2006/relationships/image" Target="../media/image26.jpeg"/><Relationship Id="rId25" Type="http://schemas.openxmlformats.org/officeDocument/2006/relationships/image" Target="../media/image27.jpeg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pen MPI OpenFabrics Upda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753000" y="5003640"/>
            <a:ext cx="1638000" cy="863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357360" y="3794760"/>
            <a:ext cx="244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ril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ff Squy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ther v1.3 Feat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core”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ewest Portable Linux Processor Affinity (PLPA) release (see </a:t>
            </a:r>
            <a:r>
              <a:rPr b="0" lang="en-US" sz="2800" spc="-1" strike="noStrike" u="sng">
                <a:solidFill>
                  <a:srgbClr val="5da31e"/>
                </a:solidFill>
                <a:uFillTx/>
                <a:latin typeface="Arial"/>
                <a:hlinkClick r:id="rId1"/>
              </a:rPr>
              <a:t>www.open-mpi.or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binding to specific socket/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ter” integration to resource managers to allow them to handle affinity (post 1.3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cut of “Carto”[graphy]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over and use topology of host, fab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 selection, collective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oadma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3 release taking too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decided 1.3 feature-driven, not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1.5 years since initial 1.2 rel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move to a shorter plan release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least once a ye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under deb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variety of features planned for “post 1.3” rel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e Join Us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da31e"/>
                </a:solidFill>
                <a:uFillTx/>
                <a:latin typeface="Arial"/>
                <a:hlinkClick r:id="rId1"/>
              </a:rPr>
              <a:t>http://www.open-mpi.org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idenote: MPI Foru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PI Forum re-conv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1: bug fixes, consolidate to one doc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2: “bigger” bug fi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0: addition of entirely new stu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Strong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ncourage all to partici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ware / MPI vend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Vs who use M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PI end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meeting: April 28-30, Chic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52280" y="1752480"/>
            <a:ext cx="883944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MPI Current Membershi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 members, 9 contributors, 1 part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research la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univers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vend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individ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410080" y="4191120"/>
            <a:ext cx="1443240" cy="357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759120" y="3479760"/>
            <a:ext cx="1638360" cy="8636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7010280" y="6095880"/>
            <a:ext cx="1828800" cy="4892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3809880" y="2666880"/>
            <a:ext cx="1524240" cy="5558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0" y="5181480"/>
            <a:ext cx="1671480" cy="1059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5791320" y="32767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0" y="4572000"/>
            <a:ext cx="1498680" cy="6984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8"/>
          <a:stretch/>
        </p:blipFill>
        <p:spPr>
          <a:xfrm>
            <a:off x="1752480" y="5791320"/>
            <a:ext cx="1227240" cy="941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9"/>
          <a:stretch/>
        </p:blipFill>
        <p:spPr>
          <a:xfrm>
            <a:off x="1600200" y="4495680"/>
            <a:ext cx="1398600" cy="384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0"/>
          <a:stretch/>
        </p:blipFill>
        <p:spPr>
          <a:xfrm>
            <a:off x="5334120" y="2362320"/>
            <a:ext cx="1765080" cy="901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1"/>
          <a:stretch/>
        </p:blipFill>
        <p:spPr>
          <a:xfrm>
            <a:off x="3505320" y="5410080"/>
            <a:ext cx="1388880" cy="8064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2"/>
          <a:stretch/>
        </p:blipFill>
        <p:spPr>
          <a:xfrm>
            <a:off x="4067280" y="4648320"/>
            <a:ext cx="1287360" cy="5014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3"/>
          <a:stretch/>
        </p:blipFill>
        <p:spPr>
          <a:xfrm>
            <a:off x="5257800" y="5257800"/>
            <a:ext cx="1523880" cy="762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4"/>
          <a:stretch/>
        </p:blipFill>
        <p:spPr>
          <a:xfrm>
            <a:off x="7162920" y="5029200"/>
            <a:ext cx="1523880" cy="426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5"/>
          <a:stretch/>
        </p:blipFill>
        <p:spPr>
          <a:xfrm>
            <a:off x="7149960" y="3238560"/>
            <a:ext cx="1841760" cy="1143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6"/>
          <a:stretch/>
        </p:blipFill>
        <p:spPr>
          <a:xfrm>
            <a:off x="7391520" y="2209680"/>
            <a:ext cx="1523880" cy="8985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7"/>
          <a:stretch/>
        </p:blipFill>
        <p:spPr>
          <a:xfrm>
            <a:off x="8064360" y="3962520"/>
            <a:ext cx="779760" cy="10303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8"/>
          <a:stretch/>
        </p:blipFill>
        <p:spPr>
          <a:xfrm>
            <a:off x="6616800" y="4038480"/>
            <a:ext cx="1504800" cy="8668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9"/>
          <a:stretch/>
        </p:blipFill>
        <p:spPr>
          <a:xfrm>
            <a:off x="1752480" y="5029200"/>
            <a:ext cx="1355760" cy="549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0"/>
          <a:stretch/>
        </p:blipFill>
        <p:spPr>
          <a:xfrm>
            <a:off x="5257800" y="6172200"/>
            <a:ext cx="1371600" cy="412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1"/>
          <a:stretch/>
        </p:blipFill>
        <p:spPr>
          <a:xfrm>
            <a:off x="3200400" y="4495680"/>
            <a:ext cx="609480" cy="611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2"/>
          <a:stretch/>
        </p:blipFill>
        <p:spPr>
          <a:xfrm>
            <a:off x="7238880" y="5638680"/>
            <a:ext cx="1246320" cy="438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3"/>
          <a:stretch/>
        </p:blipFill>
        <p:spPr>
          <a:xfrm>
            <a:off x="3352680" y="6324480"/>
            <a:ext cx="1727280" cy="385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4"/>
          <a:stretch/>
        </p:blipFill>
        <p:spPr>
          <a:xfrm>
            <a:off x="5105520" y="4572000"/>
            <a:ext cx="1676160" cy="404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5"/>
          <a:stretch/>
        </p:blipFill>
        <p:spPr>
          <a:xfrm>
            <a:off x="609480" y="6124680"/>
            <a:ext cx="5590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urrent Stat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ble release series: 1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community release: v1.2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ad41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eased yester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ad41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g fix rel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ED v1.3 includes: v1.2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ad41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include v1.2.6 in OFED v1.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ing towards next major series: 1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ct release date difficult to pred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ding the cat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1.3: OpenFabrics Feat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ion Manager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 CM (many thanks Sean Hefty), RDMA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RC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M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SRQ (including XRC integr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receive queues with different size buffers (i.e., send on Q with closest siz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efficient use of registere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use of UD [yet?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w iWARP Suppo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Grid Computing / Chels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RDMA CM, auditing verbs u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difficult than initially exp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CM support to OMPI was “har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firmware, driver, and OMPI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mostly complete; still to-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 parameter file ext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ports / devices striping set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WARP Challeng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lsio T3 does not support SR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v_post_recv() race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MPI uses multiple QPs per peer pair (BSR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all OMPI flow control goes on one Q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stered memory utilization will be p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issues fixed in “T4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ion “initiator-must-send-first”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ed by hiding 0 byte RDMA read in Chelsio firmware / driver (NetEffect has simil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general / NIC-independent solution coming in OFED 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WARP Lessons Learn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“huge” surpr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bs worked as exp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MPI and MVAPICH use the verbs stack very differ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ught out many, many latent vendor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Strong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courage other iWARP vendors to start testing / participating AS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PI Testing Tool (MTT) can help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ther v1.3 Feat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opping VAPI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job launch scalability impro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L RoadRunner (LANL, IB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CC Ranger (Su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guar (ORN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ghter integration with paralle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DT parallel debugger “understands” opaque MPI hand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mpirTrace integration (tracefile / post-mortem analy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8T20:49:25Z</dcterms:created>
  <dc:creator>Brian Barrett</dc:creator>
  <dc:description/>
  <dc:language>en-US</dc:language>
  <cp:lastModifiedBy>Jeff Squyres</cp:lastModifiedBy>
  <dcterms:modified xsi:type="dcterms:W3CDTF">2008-04-08T16:44:59Z</dcterms:modified>
  <cp:revision>106</cp:revision>
  <dc:subject/>
  <dc:title>Fun with Build Systems</dc:title>
</cp:coreProperties>
</file>