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1B20-9853-4780-AD07-857524414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CBD4-F24D-4E6B-A4F6-5F6F8AD9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EDCE-A07A-43B6-894B-61CCD348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36003"/>
                </a:solidFill>
                <a:latin typeface="Arial"/>
              </a:rPr>
              <a:t>We’ve seen that InfiniBand is the best fabric solution for Storage Area Networking. It is also the only fabric that fully enables I/O consolidation and allow customers to use a single wire for networking, clustering and storage traffic and allows the Quality of service for each traffic type to be determined and man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484-0030-4D5C-B14F-5E55FC760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70C3-F5C5-43EB-88AF-97FC7E4FFAA3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07T14:12:28Z</dcterms:modified>
  <cp:revision>134</cp:revision>
  <dc:subject/>
  <dc:title>FCoIB</dc:title>
</cp:coreProperties>
</file>