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CD79-51D8-4C21-9520-E3FA25098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35B2-9DEA-44C6-A6E1-A0E756652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1886-835B-4909-AD2F-E13E6C4529F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FED 1.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New Features - M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APICH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hronous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message coales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hanced mpirun_rsh for scalable laun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D-bas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ed and tuned coll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Connec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QLogic/P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MPI 1.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X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APICH2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-spot avo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-initiated systems-level checkpoi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rail support for iW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-demand connection management for iWARP and uDA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MA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3 OS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: kernel 2.6.23 and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 SP1 (up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4 (up4, up5, up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 (up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distros (partial support only; no Q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uSE 1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ore C6 &amp; C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untu 6.06 (with RPM package instal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Plan vs. 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529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sched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C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freeze: Oct 10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: Oct 15, 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: Nov 20, 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4-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1: Dec 4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2: Dec 18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3: Jan 8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4: Jan 22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:   Jan 29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33840" y="1294920"/>
            <a:ext cx="41529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freeze: Oct 10, 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not a real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: Oct 15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: Nov 22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4-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1: Dec 13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2: Jan 16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3: Jan 30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4: Feb 07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5: Feb 21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6: Feb 25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:   Feb 28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.x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1 is planed for May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bug fix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-bo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fai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 cra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 fixes for RDMA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driv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x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xg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h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dmacm 1.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o more maintenance releases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3.x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– General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on Feb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os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AS 4.7 and RHEL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S10 S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OFA interop on 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14680"/>
            <a:ext cx="4267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A/NIC Dri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: IBM, Mellanox, Q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WARP: Chelsio, Net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: verbs, mad, SMA, CMA, SA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_V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33840" y="1828800"/>
            <a:ext cx="4229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iSC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PI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AP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APIC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etary MPIs: Intel, HP, Sca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etary SMs: Cisco, Voltaire, Q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143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OFA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143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Ad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2952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73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Test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Benefits of OFED 1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performance, scalability and latency across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s and accelerates the deployment of InfiniBand and iWARP solutions, by ease on distros OFED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Service (QoS) management capabilities that enable unified LAN, IPC and SAN applications over the same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outing algorithms to help optimize network and system performance and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upper layer protocols for superior IP and sockets-based application performance, including databas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ments that enable MPI and applications to scale efficiently to large numbers of nodes while reducing the memory footprint required on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diagnostic tools to improve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additional Independent Hardware Vendor (IHV)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interoperability with OEM solutions, including network and storage equipment, to provide enterprise IT departments with more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ails on Main New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kernel: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integration effort into O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evel split into separately-installable RP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feedback from Novell and Re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arrangement for the en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he make-dist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compilation warnings of back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eatures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, CM &amp; CMA, ULPs: SRP, SDP, iSER, IPoIB, RDS,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S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with sa_query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SA events (GID up/down) to provide additional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space control for dynamic enable/disable and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C (XRC)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bs to enable X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 (NetEffect dri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Target: Based on Mellanox IBGD SRPT and interfaces with SCST scsi target middle level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New Features – UL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less offloads (checksum, scatter/gather, LSO) – for Datagra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message performance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RQ for the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K M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moderation (can be configured with etht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with Zero copy (API version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of Send copy (API version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Zero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 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uDAPL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7632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1887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Ser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implementation of the IBTA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policy parser and support for SA (PR, M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/stability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mprovements of the routing algorithms (min-hops, up/down,  l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 port and switch tables update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” daem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and stores performance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 integrated, work in any OpenSM state (standby, disab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-i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tool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IM – IB fabric simulator 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user_mad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OpenSM and management tools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8-04-07T19:00:26Z</dcterms:modified>
  <cp:revision>2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