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14-34C0-4169-8141-7D09B98B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506-8EED-4919-A9BC-CBC0FAF6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34D-57FB-46A6-AD8A-27E986AF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7E3-4510-49B1-AE84-EEAE86B5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60A-CAF2-4752-8611-5454F84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62D-9189-4D2E-A905-7650DC4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7A3-FB21-4091-85F1-5C02F97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E22-1E7F-4E79-BAFB-0132F89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9EE-9555-49BE-8A64-7803206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AAA-1CC5-4F77-9144-7ED1AD3F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181-0C00-4D1F-AEF3-ECB14052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79A-EAE3-4902-B572-F2C25EE0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81160" y="1828800"/>
            <a:ext cx="4981680" cy="493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2280" y="304920"/>
            <a:ext cx="8839080" cy="1295280"/>
            <a:chOff x="152280" y="304920"/>
            <a:chExt cx="8839080" cy="1295280"/>
          </a:xfrm>
        </p:grpSpPr>
        <p:sp>
          <p:nvSpPr>
            <p:cNvPr id="3" name=""/>
            <p:cNvSpPr/>
            <p:nvPr/>
          </p:nvSpPr>
          <p:spPr>
            <a:xfrm>
              <a:off x="152280" y="3049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9080" y="3430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2362320"/>
            <a:ext cx="8839080" cy="1295280"/>
            <a:chOff x="152280" y="2362320"/>
            <a:chExt cx="8839080" cy="1295280"/>
          </a:xfrm>
        </p:grpSpPr>
        <p:sp>
          <p:nvSpPr>
            <p:cNvPr id="43" name=""/>
            <p:cNvSpPr/>
            <p:nvPr/>
          </p:nvSpPr>
          <p:spPr>
            <a:xfrm>
              <a:off x="152280" y="2362320"/>
              <a:ext cx="883908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9080" y="2400480"/>
              <a:ext cx="873612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1f30"/>
                </a:gs>
                <a:gs pos="100000">
                  <a:srgbClr val="007c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8ECB-0C3B-4621-BABE-CD391BC8F4C3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60760" y="204840"/>
            <a:ext cx="2021040" cy="20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-mpi.org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jpeg"/><Relationship Id="rId25" Type="http://schemas.openxmlformats.org/officeDocument/2006/relationships/image" Target="../media/image27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MPI OpenFabric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53000" y="5003640"/>
            <a:ext cx="163800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7360" y="379476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Squy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core”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est Portable Linux Processor Affinity (PLPA) release (see 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www.open-mpi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inding to specific socket/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” integration to resource managers to allow them to handle affinity (post 1.3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ut of “Carto”[graphy]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and use topology of host,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selection, collectiv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release taking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decided 1.3 feature-driven,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years since initial 1.2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ove to a shorter plan releas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variety of features planned for “post 1.3”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 Join U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www.open-mpi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denote: MPI Fo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Forum re-con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: bug fixes, consolidate to on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: “bigger” bug 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: addition of entirely new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courage all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/ MPI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Vs who use M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: April 28-30,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PI Current Memb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embers, 9 contributors, 1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research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1443240" cy="357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59120" y="3479760"/>
            <a:ext cx="163836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010280" y="6095880"/>
            <a:ext cx="1828800" cy="48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1524240" cy="55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5181480"/>
            <a:ext cx="1671480" cy="1059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91320" y="3276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4986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752480" y="5791320"/>
            <a:ext cx="122724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600200" y="4495680"/>
            <a:ext cx="13986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5334120" y="2362320"/>
            <a:ext cx="1765080" cy="90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505320" y="5410080"/>
            <a:ext cx="1388880" cy="80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4067280" y="4648320"/>
            <a:ext cx="1287360" cy="501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5257800" y="525780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7162920" y="5029200"/>
            <a:ext cx="1523880" cy="42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7149960" y="3238560"/>
            <a:ext cx="184176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7391520" y="2209680"/>
            <a:ext cx="1523880" cy="898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/>
          <a:stretch/>
        </p:blipFill>
        <p:spPr>
          <a:xfrm>
            <a:off x="8064360" y="3962520"/>
            <a:ext cx="779760" cy="10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8"/>
          <a:stretch/>
        </p:blipFill>
        <p:spPr>
          <a:xfrm>
            <a:off x="6616800" y="4038480"/>
            <a:ext cx="1504800" cy="86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9"/>
          <a:stretch/>
        </p:blipFill>
        <p:spPr>
          <a:xfrm>
            <a:off x="1752480" y="5029200"/>
            <a:ext cx="1355760" cy="5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0"/>
          <a:stretch/>
        </p:blipFill>
        <p:spPr>
          <a:xfrm>
            <a:off x="5257800" y="6172200"/>
            <a:ext cx="1371600" cy="41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3200400" y="4495680"/>
            <a:ext cx="609480" cy="61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38880" y="5638680"/>
            <a:ext cx="12463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3"/>
          <a:stretch/>
        </p:blipFill>
        <p:spPr>
          <a:xfrm>
            <a:off x="3352680" y="6324480"/>
            <a:ext cx="1727280" cy="3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4"/>
          <a:stretch/>
        </p:blipFill>
        <p:spPr>
          <a:xfrm>
            <a:off x="5105520" y="4572000"/>
            <a:ext cx="1676160" cy="40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5"/>
          <a:stretch/>
        </p:blipFill>
        <p:spPr>
          <a:xfrm>
            <a:off x="609480" y="6124680"/>
            <a:ext cx="5590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release series: 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community release: v1.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3 includes: v1.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lude v1.2.6 in OFED v1.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towards next major series: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release date 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ing the ca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1.3: OpenFabrics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CM (many thanks Sean Hefty), RDMA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RC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RQ (including XRC integ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 queues with different size buffers (i.e., send on Q with closes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use of registe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UD [yet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iWARP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rid Computing / Chel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RDMA CM, auditing verbs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than initially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M support to OMPI was “h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ware, driver, and OMPI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mostly complete; still to-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 parameter 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orts / devices striping se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Challe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 T3 does not support S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v_post_recv() rac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 uses multiple QPs per peer pair (BS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l OMPI flow control goes on one 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ed memory utilization will b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ssues fixed in “T4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“initiator-must-send-first”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by hiding 0 byte RDMA read in Chelsio firmware / driver (NetEffect has simi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/ NIC-independent solution coming in OFED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WARP 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huge” 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 worked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PI and MVAPICH use the verbs stack very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out many, many latent vendor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rong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other iWARP vendors to start testing / participating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 Testing Tool (MTT) can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1.3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ping VA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job launch scalability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L RoadRunner (LANL, I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C Ranger (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guar (ORN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r integration with paralle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T parallel debugger “understands” opaque MPI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pirTrace integration (tracefile / post-mortem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0:49:25Z</dcterms:created>
  <dc:creator>Brian Barrett</dc:creator>
  <dc:description/>
  <dc:language>en-US</dc:language>
  <cp:lastModifiedBy>Jeff Squyres</cp:lastModifiedBy>
  <dcterms:modified xsi:type="dcterms:W3CDTF">2008-04-08T16:44:59Z</dcterms:modified>
  <cp:revision>106</cp:revision>
  <dc:subject/>
  <dc:title>Fun with Build Systems</dc:title>
</cp:coreProperties>
</file>