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229600" y="640080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85735-13DC-4DE8-B9BE-F258F712CE34}" type="slidenum">
              <a:rPr b="1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848720" y="152280"/>
            <a:ext cx="102240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741760" y="1903320"/>
            <a:ext cx="3354120" cy="33544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stgt.berlios.de/" TargetMode="External"/><Relationship Id="rId2" Type="http://schemas.openxmlformats.org/officeDocument/2006/relationships/hyperlink" Target="http://stgt.berlios.de/" TargetMode="External"/><Relationship Id="rId3" Type="http://schemas.openxmlformats.org/officeDocument/2006/relationships/hyperlink" Target="https://wiki.openfabrics.org/tiki-index.php?page=ISER-target" TargetMode="Externa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STGT/iSER Target Overview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676160" y="4952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Gerlit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t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gerlitz@voltair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TGT package (RPM)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gtd – servi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gt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- daem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gtad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admin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gt-setup-l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helper/simper admin too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uses tgtad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 pages to the admin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guring  STG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tgt-setup-lun -d /dev/sdy -n seed1-sdy 192.168.10.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liner setup which translates to the following sequence with tgtad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tgtadm --lld iscsi --op new --mode target --tid 1 -T iqn.2001…-seed1-sd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a logical unit to the targ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tgtadm --lld iscsi --op new --mode logicalunit --tid 1 --lun 1 -b /dev/sd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d initiators to this target inst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tgtadm --lld iscsi --op bind --mode target --tid 1 -I 192.168.10.8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guring  STGT  - cont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tgtadm --mode target --op s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rget 1: iqn.2001-04.com.onion-seed1-s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 inform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river: isc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s: ru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UN inform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UN: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: controller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this LUN is skipped he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UN: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: d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SI ID: deadbeaf1: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SI SN: beaf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ze: 82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ine: 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weron/Reset: 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cking store: /dev/s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L inform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2.168.10.8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ome performance number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ramdis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ingle initiator, source Voltai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W: READ – 1200 MB/sec WRITE – 870 MB/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PS (I/O per second): READ – 62K WRITE – 66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ramdis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ource Pete Wyckoff et 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ncy for some OSD ops:  ping 33us, getattr – 65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initiator BW : READ – 550 MB/sec WRITE – 500 MB/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initiators BW: both READ/WRITE reach 900 MB/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 variations between READ / WRI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message size gives the max BW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ead 200KB, write 500K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any initiators needed to get the aggregated BW under specific message size: READ – 2 WRITE – 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TGT  / communit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munity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eb site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tgt.berlios.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 pointers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it tree where tgt is maintained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velopers mailing list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ki @ open-fabrics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s://wiki.openfabrics.org/tiki-index.php?page=ISER-targ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 / example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packages for RH5 U1 and SLES10 S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gt: framework for storage target driv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jita Tomonori and Mike Christie. Ottawa Linux Symposium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ER Storage Target for Object-based Storage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nnis Dalessandro, Ananth Devulapalli, Pete Wyck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edings of MSST'07, SNAPI Workshop, San Diego, CA, Sep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tre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@ http://www.kernel.org/pub/scm/linux/kernel/git/tomo/tgt.g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me background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eneral structure / architec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arget driver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CSI target &amp; iSCSI RDMA (iSER)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CSI devic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sing / configuring STG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me performance number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TGT communit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mework for SCSI protocol independent tar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GT implemented / maintained by Fujita Tomonori &amp; Mike Chris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CSI RDMA (iSER) transport implemented by Ohio Supercomputer Center staff under the direction of Pete Wyck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general structure / architectur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rchitecture is made of three element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the SCSI state machine, I/O execution and management interface which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e in a SCSI protocol independent mann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shed to user space, executed by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gt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ser space daem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target drivers - network interf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: SCSI devices - storage interf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inux kernel was enhanc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.6.20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allow STGT use kernel target driv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rget dri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space – iSCSI, FC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space – FC, IBMV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get driver API to tgt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arget create / destroy / update / sh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u create / lun 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tify on end of command / manag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CSI target dri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iSCSI transport independent state-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zes iSCSI transport “librar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transports: TCP and RDMA (iS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CSI transport API to the iSCSI target d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“end-point” notation to describe a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-point read / write / rdma-read / rdma-w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-point (implicit accept) / close / release / s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ata buf alloc / f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Times New Roman"/>
              </a:rPr>
              <a:t>iSCSI RDMA (iSER) transpor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ed ov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ibibverb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librdma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 access to the RDMA HW dev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MA transport neutral*, adopted to the Linux initia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RC QP (Queue Pai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MA read (SCSI write), RDMA write (SCSI re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/Receive for the SCSI commands request / respons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ment (eg login, nops), iSCSI immediate data / unsolicited data-outs PDUs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SER transport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main design issu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reg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 memory in advance to avoid performance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arget doesn’t advertise rdma keys hence a pool can be used for multiple cl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pt to a design that relies on socket readability /  writeability (request notification, process completio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SI de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BC - block command processing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D - object storage device command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C - controller command process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MC - multimedia command process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C -  Medium Changer command proce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SI device API to stgt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 init / config /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vice op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eg TUR, INQ, SPACE, READ*, WRITE*, SEE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ow SCSI devices a “backing store” layer further ex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possible types: aio, mmap, sync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2T20:45:04Z</dcterms:created>
  <dc:creator>Gabriela</dc:creator>
  <dc:description/>
  <dc:language>en-US</dc:language>
  <cp:lastModifiedBy>ogerlitz</cp:lastModifiedBy>
  <dcterms:modified xsi:type="dcterms:W3CDTF">2008-04-08T20:53:54Z</dcterms:modified>
  <cp:revision>41</cp:revision>
  <dc:subject/>
  <dc:title>Slide 1</dc:title>
</cp:coreProperties>
</file>