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6031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0440" y="5373000"/>
            <a:ext cx="6031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0440" y="537300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641040" y="537300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89840" y="467208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29240" y="467208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0440" y="537300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589840" y="537300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629240" y="537300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50440" y="4672080"/>
            <a:ext cx="603108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SunSans-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603108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41080" y="3217680"/>
            <a:ext cx="498924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SunSans-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50440" y="537300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0440" y="4672080"/>
            <a:ext cx="603108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SunSans-Regula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641040" y="537300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0440" y="5373000"/>
            <a:ext cx="6031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6031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0440" y="5373000"/>
            <a:ext cx="6031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50440" y="537300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641040" y="537300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89840" y="467208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29240" y="467208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0440" y="537300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589840" y="537300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4629240" y="5373000"/>
            <a:ext cx="1941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603108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41080" y="3217680"/>
            <a:ext cx="498924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SunSans-Regula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0440" y="537300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41040" y="537300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04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040" y="4672080"/>
            <a:ext cx="29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0440" y="5373000"/>
            <a:ext cx="6031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8280" y="749160"/>
            <a:ext cx="8301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5382a1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5382a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3840" y="1568520"/>
            <a:ext cx="81468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14560" indent="-22860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727280" indent="-216000">
              <a:lnSpc>
                <a:spcPct val="82000"/>
              </a:lnSpc>
              <a:spcBef>
                <a:spcPts val="1301"/>
              </a:spcBef>
              <a:buClr>
                <a:srgbClr val="e166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158920" indent="-215640">
              <a:lnSpc>
                <a:spcPct val="82000"/>
              </a:lnSpc>
              <a:spcBef>
                <a:spcPts val="1301"/>
              </a:spcBef>
              <a:buClr>
                <a:srgbClr val="e166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158920" indent="-215640">
              <a:lnSpc>
                <a:spcPct val="82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158920" indent="-215640">
              <a:lnSpc>
                <a:spcPct val="82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1080" y="3217680"/>
            <a:ext cx="4989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50440" y="4672080"/>
            <a:ext cx="603108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lnSpc>
                <a:spcPct val="82000"/>
              </a:lnSpc>
              <a:spcAft>
                <a:spcPts val="575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>
              <a:lnSpc>
                <a:spcPct val="82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>
              <a:lnSpc>
                <a:spcPct val="8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3" marL="846360" indent="-105840">
              <a:lnSpc>
                <a:spcPct val="82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4" marL="1057680" indent="-105480">
              <a:lnSpc>
                <a:spcPct val="8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5" marL="1057680" indent="-105480">
              <a:lnSpc>
                <a:spcPct val="8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6" marL="1057680" indent="-105480">
              <a:lnSpc>
                <a:spcPct val="8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1440" y="2869920"/>
            <a:ext cx="49910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finiBand at Su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0440" y="4671720"/>
            <a:ext cx="6032520" cy="16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</a:rPr>
              <a:t>Carl Hensler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indent="0">
              <a:lnSpc>
                <a:spcPct val="87000"/>
              </a:lnSpc>
              <a:spcAft>
                <a:spcPts val="5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Distinguished Engineer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indent="0">
              <a:lnSpc>
                <a:spcPct val="87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olaris Engineer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indent="0">
              <a:lnSpc>
                <a:spcPct val="87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un Microsystem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8918640" y="5460840"/>
            <a:ext cx="3240" cy="1090800"/>
          </a:xfrm>
          <a:prstGeom prst="rect">
            <a:avLst/>
          </a:prstGeom>
          <a:solidFill>
            <a:srgbClr val="c5d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749160"/>
            <a:ext cx="8302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800" spc="-1" strike="noStrike">
                <a:solidFill>
                  <a:srgbClr val="5382a1"/>
                </a:solidFill>
                <a:latin typeface="Arial"/>
              </a:rPr>
              <a:t>Sun InfiniBand (IB) Commitment </a:t>
            </a:r>
            <a:endParaRPr b="1" lang="en-US" sz="3800" spc="-1" strike="noStrike">
              <a:solidFill>
                <a:srgbClr val="5382a1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3840" y="1568520"/>
            <a:ext cx="81486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NGIO, IBTA and OpenIB found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Exploit IB technology across entire product lin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HPC and datacenter applicatio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Develop industry-leading IB HW &amp; SW produc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IB product development in all divisio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Resell third-party IB HW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Support Open Fabrics SW on Linux and Window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Solaris IB SW support will match Open Fabrics portfolio in functionality and performanc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992240"/>
            <a:ext cx="14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"/>
          <p:cNvSpPr/>
          <p:nvPr/>
        </p:nvSpPr>
        <p:spPr>
          <a:xfrm>
            <a:off x="9142560" y="4975200"/>
            <a:ext cx="14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749160"/>
            <a:ext cx="8302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800" spc="-1" strike="noStrike">
                <a:solidFill>
                  <a:srgbClr val="5382a1"/>
                </a:solidFill>
                <a:latin typeface="Arial"/>
              </a:rPr>
              <a:t>Sun IB HW Products</a:t>
            </a:r>
            <a:endParaRPr b="1" lang="en-US" sz="3800" spc="-1" strike="noStrike">
              <a:solidFill>
                <a:srgbClr val="5382a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840" y="1430280"/>
            <a:ext cx="8148600" cy="50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HCAs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Mellanox silic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PCI-X (legacy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PCI-E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14560" indent="-228600">
              <a:lnSpc>
                <a:spcPct val="82000"/>
              </a:lnSpc>
              <a:spcBef>
                <a:spcPts val="862"/>
              </a:spcBef>
              <a:buClr>
                <a:srgbClr val="e76f00"/>
              </a:buClr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Low profile card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14560" indent="-228600">
              <a:lnSpc>
                <a:spcPct val="82000"/>
              </a:lnSpc>
              <a:spcBef>
                <a:spcPts val="862"/>
              </a:spcBef>
              <a:buClr>
                <a:srgbClr val="e76f00"/>
              </a:buClr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ExpressModules (SIOM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14560" indent="-228600">
              <a:lnSpc>
                <a:spcPct val="82000"/>
              </a:lnSpc>
              <a:spcBef>
                <a:spcPts val="862"/>
              </a:spcBef>
              <a:buClr>
                <a:srgbClr val="e76f00"/>
              </a:buClr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Network Express Modules (proprietary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Sun Datacenter Switch 3456 (Magnum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World's largest IB switch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Improved, high-density cabl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"/>
          <p:cNvSpPr/>
          <p:nvPr/>
        </p:nvSpPr>
        <p:spPr>
          <a:xfrm>
            <a:off x="-627120" y="1992240"/>
            <a:ext cx="1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9537840" y="4975200"/>
            <a:ext cx="14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749160"/>
            <a:ext cx="8302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800" spc="-1" strike="noStrike">
                <a:solidFill>
                  <a:srgbClr val="5382a1"/>
                </a:solidFill>
                <a:latin typeface="Arial"/>
              </a:rPr>
              <a:t>3</a:t>
            </a:r>
            <a:r>
              <a:rPr b="1" lang="en-GB" sz="3800" spc="-1" strike="noStrike" baseline="33000">
                <a:solidFill>
                  <a:srgbClr val="5382a1"/>
                </a:solidFill>
                <a:latin typeface="Arial"/>
              </a:rPr>
              <a:t>rd</a:t>
            </a:r>
            <a:r>
              <a:rPr b="1" lang="en-GB" sz="3800" spc="-1" strike="noStrike">
                <a:solidFill>
                  <a:srgbClr val="5382a1"/>
                </a:solidFill>
                <a:latin typeface="Arial"/>
              </a:rPr>
              <a:t> Party IB Products</a:t>
            </a:r>
            <a:endParaRPr b="1" lang="en-US" sz="3800" spc="-1" strike="noStrike">
              <a:solidFill>
                <a:srgbClr val="5382a1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3840" y="1568520"/>
            <a:ext cx="814860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3200" spc="-1" strike="noStrike" baseline="33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 party IB HW available in pre-assembled rack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Cisco, Voltaire &amp; Qlogic switches &amp; HCAs certified Solaris Read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992240"/>
            <a:ext cx="14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9142560" y="4975200"/>
            <a:ext cx="14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749160"/>
            <a:ext cx="8302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800" spc="-1" strike="noStrike">
                <a:solidFill>
                  <a:srgbClr val="5382a1"/>
                </a:solidFill>
                <a:latin typeface="Arial"/>
              </a:rPr>
              <a:t>Large HPC Deployments</a:t>
            </a:r>
            <a:endParaRPr b="1" lang="en-US" sz="3800" spc="-1" strike="noStrike">
              <a:solidFill>
                <a:srgbClr val="5382a1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3840" y="1568520"/>
            <a:ext cx="814860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Tokyo Institute of Technolog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Voltaire IB HW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Lustre CFS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Top500 - #9 11/06, #16 11/07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Texas Advanced Computing Center, Range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3456 port Magnum switch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Lustre CF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About 0.5 petaflo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Top500 – near the to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992240"/>
            <a:ext cx="14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9142560" y="4975200"/>
            <a:ext cx="14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8280" y="749160"/>
            <a:ext cx="8302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800" spc="-1" strike="noStrike">
                <a:solidFill>
                  <a:srgbClr val="5382a1"/>
                </a:solidFill>
                <a:latin typeface="Arial"/>
              </a:rPr>
              <a:t>IB in Solaris</a:t>
            </a:r>
            <a:endParaRPr b="1" lang="en-US" sz="3800" spc="-1" strike="noStrike">
              <a:solidFill>
                <a:srgbClr val="5382a1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3840" y="1568520"/>
            <a:ext cx="8148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Complete IB SW infrastructure in Solari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SPARC, x86 and x64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IPoIB, uDAPL, SRP, SRP boot, SDP, RD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MPI (MVAPICH, Open MPI, Scali)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Coming soon: NFS/RDMA, iSER, IP boot,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OFA User Verb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Funding NFS/RDMA and pNFS work on Solaris at Ohio State Univers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iWARP support in developmen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-627120" y="1992240"/>
            <a:ext cx="1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9537840" y="4975200"/>
            <a:ext cx="14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280" y="749160"/>
            <a:ext cx="8302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800" spc="-1" strike="noStrike">
                <a:solidFill>
                  <a:srgbClr val="5382a1"/>
                </a:solidFill>
                <a:latin typeface="Arial"/>
              </a:rPr>
              <a:t>What we want from OFA</a:t>
            </a:r>
            <a:endParaRPr b="1" lang="en-US" sz="3800" spc="-1" strike="noStrike">
              <a:solidFill>
                <a:srgbClr val="5382a1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3840" y="1568520"/>
            <a:ext cx="814860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1120" indent="-291960">
              <a:lnSpc>
                <a:spcPct val="82000"/>
              </a:lnSpc>
              <a:spcBef>
                <a:spcPts val="1301"/>
              </a:spcBef>
              <a:buClr>
                <a:srgbClr val="e76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IB &amp; iWARP SW support for Linux and Window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Complet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Reliabl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Stabl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Distributed and supported by major distr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Supported by solution providers, e.g. Cisco, QLogic &amp; Voltair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Supported by interface vendor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66800" indent="-301680">
              <a:lnSpc>
                <a:spcPct val="82000"/>
              </a:lnSpc>
              <a:spcBef>
                <a:spcPts val="726"/>
              </a:spcBef>
              <a:buClr>
                <a:srgbClr val="e76f00"/>
              </a:buClr>
              <a:buSzPct val="90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msmincho"/>
              </a:rPr>
              <a:t>No hassles in delivering solutions – it all just works!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992240"/>
            <a:ext cx="14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3727800" y="6435720"/>
            <a:ext cx="43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3000"/>
              </a:lnSpc>
              <a:spcBef>
                <a:spcPts val="72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9142560" y="4975200"/>
            <a:ext cx="14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50440" y="4672080"/>
            <a:ext cx="60325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5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</a:rPr>
              <a:t>Carl Hensler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indent="0">
              <a:lnSpc>
                <a:spcPct val="87000"/>
              </a:lnSpc>
              <a:spcAft>
                <a:spcPts val="5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arl.hensler@sun.com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