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643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152280"/>
            <a:ext cx="86868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39643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9643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8229600" y="643896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30EB6-7D82-4BEF-9721-208C925D09D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848720" y="152280"/>
            <a:ext cx="1022400" cy="947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454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870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741760" y="1903320"/>
            <a:ext cx="3354120" cy="335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7040" y="6400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openfabric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IBM InfiniBand Update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51051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t Meh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Sonoma Work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finiBand: Importance to IB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Band remains a strategic interconnect for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chair IB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involvement in O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WG, E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efforts targeted to establish InfiniBand as an industry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s cost of solution for our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IBM Development 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rage industry components, softw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, cables, HCAs, OFA develope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IBM value added hardware, firmware &amp;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izing HCA, IBM Paralle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5638680"/>
            <a:ext cx="7315200" cy="6098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A accomplishments critical to IBM IB strateg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nfiniBand Deploy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focus on HPC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n expanding support to commercial mar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on System x &amp; p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ndustry PCI &amp; HTX based H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ilizes OFA’s OFED releases through vendor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n by Time-to-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fer distro supported ver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 utilizes OFA OFED rele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IBM GX HCA (eH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roducing 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neration so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ustry IB swit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ux supported only through Distros release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B supported in A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IBM Parallel Environment &amp; GPFS over 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BM IB Deployment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 unique distributi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 support &amp; diagnostics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service &amp; support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ED Release mode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ed to end users not Enterprise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r none” release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for IB deployment in commerci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availability of protocols &amp; APIs that leverage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urity of cross-vendor IB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 in availability of OFED releases from Linux dis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 Cabl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terprise Customer Expec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chose to support it, make it work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nd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collaboratively towards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ressively embrace and enhan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B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, Diagnostic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ilor OFED activities to distro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ED release from “All or none” to “Available when ready” at function/component leve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 OFA to influenc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leadership role in driving OFA’s releas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45:04Z</dcterms:created>
  <dc:creator>Gabriela</dc:creator>
  <dc:description/>
  <dc:language>en-US</dc:language>
  <cp:lastModifiedBy>Chet. Mehta</cp:lastModifiedBy>
  <dcterms:modified xsi:type="dcterms:W3CDTF">2008-04-07T18:01:28Z</dcterms:modified>
  <cp:revision>120</cp:revision>
  <dc:subject/>
  <dc:title>Slide 1</dc:title>
</cp:coreProperties>
</file>