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1428B-54A2-40F4-A22C-1B0EA147DF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CAB23-5453-4172-862A-656E504FC2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A70F1-201F-49E1-843C-AE377ADDB8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03CC9-B807-495B-BB2C-F57951995E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A758C-45C8-4B56-BD7F-F8EF5F7CFC7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C6A83-F981-493A-BF6A-079A8CF547B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ED153-9ADA-42C6-8153-46EF772F33C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42A94-6D9A-4A8D-80E0-4FA342B5742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F7BF0-37D6-46B0-A2F0-9A5607AD030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A825C-9763-47AC-A4AC-4F742FF474E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885AC-A538-4F47-9496-DD6A0E1A1D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3CB1D-EC3C-4ABD-AC1F-753349AE86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05413-2552-465B-8020-985F51D1137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EA821-B913-4253-A70D-B1CCECF4D07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82129-7F92-4CBF-9912-D90B6706CB9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1D913-C48C-4EBA-8EFE-AFB540A54EF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40FB2-C03B-47C4-BF24-4B05B32D09F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16C6F8-5DA2-49AC-86F1-002A6AE46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28F268-76DE-4EEB-9396-26E098432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939311-A140-4E19-8B64-070F8265F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6C0236-6FC8-4ACB-A2DC-9402693EA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AC8448-71AA-4A5E-90B7-559E2ACF3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C4229-AA95-4E93-98F3-D56140E148D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E4B875-1526-47F5-957D-6F9477094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D52BEB-FDE0-4E43-B333-844607ED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8AA5B5-15B0-484B-A5EA-24F2CF8B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0AD06F-56BC-4874-A669-29AAD623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12223B-497F-475D-B37D-6FA9A6506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05709E-E4E8-4829-8EB1-21C2B1091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A04EF4-10C5-4E9B-A104-4F47783DE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76B4F-2405-4C74-AD25-B608E4461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BEEB6-9560-4180-A54A-50B076250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FB372-9CCB-4AD9-A8F6-366BC992E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49960-5555-4DF5-BD9F-F04161E591D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C7F0E-7A32-45B4-A409-975DBBF12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B0587-32C7-455B-A1DF-83E0182AF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25AC8-644C-43A1-A3CA-6ACDF5C05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45FB3-19B2-440C-96FB-2BA5F8C0A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32778-9148-4A5B-97EB-F75859AA8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46FB3-BA20-45EA-949A-F7DCBEB8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0EACB-7B66-4F3D-92D9-7F25F1004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71DA9-D8D2-467F-9087-EF1055186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17DF8-E1FC-4CCE-9A18-99187295F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E46A7-03DB-4C2D-98CC-C1E34549D4F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4CDB1-82BC-4EE5-97A7-3B7F8BCA22B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87AB6-93E3-4E00-94CE-3200EDC5C5B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10CE6-139D-40AE-905A-06133659F8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A2058-832F-4BF8-8AB0-F411BE7544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003b4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b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b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b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b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b4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228600" y="6248160"/>
            <a:ext cx="990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44461-231E-46BB-AD56-BF1F09D822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90560" y="1752480"/>
            <a:ext cx="59418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Num" idx="2"/>
          </p:nvPr>
        </p:nvSpPr>
        <p:spPr>
          <a:xfrm>
            <a:off x="0" y="5790960"/>
            <a:ext cx="990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05CAE-F3FC-4A47-9A6F-A02BC0ECC2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0480" cy="69040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5F041-6B2C-45C4-A36A-85E62D412F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994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043EC-9C23-42AA-A888-76F67B3BDD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0" y="15228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8229600" y="6400800"/>
            <a:ext cx="685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C6757-90E6-4640-8B0A-2BA050DF36E1}" type="slidenum">
              <a:rPr b="1" lang="en-US" sz="14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7848720" y="152280"/>
            <a:ext cx="102240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2741760" y="1903320"/>
            <a:ext cx="3354120" cy="335448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infinibandta.org/itinfo/IL" TargetMode="External"/><Relationship Id="rId2" Type="http://schemas.openxmlformats.org/officeDocument/2006/relationships/hyperlink" Target="http://www.infinibandta.org/itinfo/IL" TargetMode="External"/><Relationship Id="rId3" Type="http://schemas.openxmlformats.org/officeDocument/2006/relationships/slideLayout" Target="../slideLayouts/slideLayout5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iol.unh.edu/services/testing/ofa/" TargetMode="External"/><Relationship Id="rId2" Type="http://schemas.openxmlformats.org/officeDocument/2006/relationships/hyperlink" Target="http://www.iol.unh.edu/services/testing/ofa/interoplist/interoplist.php" TargetMode="External"/><Relationship Id="rId3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ol.unh.edu/services/testing/ofa/logo.pdf" TargetMode="External"/><Relationship Id="rId2" Type="http://schemas.openxmlformats.org/officeDocument/2006/relationships/hyperlink" Target="http://www.iol.unh.edu/services/testing/ofa/interoplist/interoplist.php" TargetMode="External"/><Relationship Id="rId3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OFA-IWG Interop Event</a:t>
            </a:r>
            <a:br>
              <a:rPr sz="3700"/>
            </a:b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March 2008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837720" y="5105160"/>
            <a:ext cx="7239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pert Dance, Arkady Kanevsky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an Phamdo, Mikkel H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noma Workshop 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sting Cove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iniB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 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bric 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o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P M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DMA inter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WAR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WARP Interop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DA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P M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DMA inter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hernet switch testing (limited participation limited execution abil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B Cluster Top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6421320" cy="500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blems No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o issues with OFED 1.3 GA see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Vendor specific SM stops when attempting to discover improperly identified device in the fabric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Vendor device had duplicate GUID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Vendors had a link problem because physical link was not achieved (this was remedied later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Vendors continue to have uDAPL problems (especially in iWARP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P MPI didn't work (in iWARP) due to uDAPL problem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sufficient time to run all of the Interop Test Suit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as partly because vendors were debugging Interop proble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ggestion: The week prior to the OFA Interop event should be reserved for debugging and resolving interop problems. OFA Interop week should be for Logo Validation on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require vendors to bring some additional equipment for the IBTA and iWARP compliance Plugfe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 &amp; Sugg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ew Logo Name has been adop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OFA Interoperability Log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 new feature is added to OFED or there is a major upgrade to a feature, a test should be created for OFA Interop Pl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uster Avai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PN access is granted to all OFILG Memb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ek long testing slots are avail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Event 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tember 2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26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IBTA Plugf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tember 2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26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iWARP Test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tember 29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October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OFA Interop 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an End User event at UNH I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n Invitation for Interop #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vell and Red 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hernet Switch Vend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astra, Force 10, Fujitsu, Fulcrum, Wov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 Vend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,  IBM, Obsidian, SGI, Sun, Xsi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WARP Vend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X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Vend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, Dell, SuperMic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st OFA Interoperability Event to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new tests added to the Interop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Scripts impr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execution went smooth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H-IOL staff performed very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datory testing was very success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device participation in some categories such as FC and Ethernet Gateway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more participation from Ethernet Switch Ven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more time to complete all of the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BTA Event 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BTA IL Compliance Testing 3/10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3/14/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7 vendors versus 11 at the last 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 devices versus 16 at last 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3 cables tested – versus 27 at the last 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was the 13th IBTA Plugf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TA integrators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list includes all products that have successfully completed the rigorous testing procedures at IBTA sponsored Plugfes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List of devices is available at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infinibandta.org/itinfo/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d List will be available end of April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ed by Lamprey Networks and University of NH Interoperability Lab (UNH-I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event scheduled for September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BTA Vendor Particip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iniBand De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sco, Flextronics, Mellanox, QLogic, Volt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ble Vend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henol, C&amp;M, Cinch, Fujikura, Intel, Luxtera, Mellanox, Meritec, Molex, Panduit, Tyco, W.L. Gore, Zarl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A-IWG Charter and Mi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penFabrics Alliance Interoperability Working Group (OFA-IWG) is responsible for defining and developing a comprehensive suite of tests for evaluating product interoperability within the OpenFabrics environment. Each year, the OFA-IWG hosts interoperability test events in conjunction with the University of New Hampshire’s InterOperability Lab (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UNH IOL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). At these events, Alliance members have an opportunity to validate the interoperability of their products using the OpenFabrics software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FA-IWG is responsible for defining and maintaining the OFA Logo Progr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each event, the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OFA Interoperability Log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s granted to those companies who pass all of the mandatory te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ent 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A IWG Interop Event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3/17 </a:t>
            </a:r>
            <a:r>
              <a:rPr b="0" lang="it-IT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3/21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 vendors and 23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the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ficial OFA-IWG Interop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ceded by IBTA and iWARP compliance testing ev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sted by University of NH Interoperability Lab (UNH-IO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all results very success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event scheduled for September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gram Detai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A Interoperability Logo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 vendors to claim and market interoperability by using the Logo on their products or in their product marketing collate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ails available a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iol.unh.edu/services/testing/ofa/logo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List of Logo Grants available at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iol.unh.edu/services/testing/ofa/interoplist/interoplist.php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d List of Logo Grants will be available end of April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ndor Participation - I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iniBand Vend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Data Direct Networks, Flextronics, LSI Logic, Mellanox, QLogic, Volt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iniBand Devices – using OFED 1.3 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 H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iSER 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RP Tar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st Based SMs: OpenSM, Cis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 Based SMs: Cisco, QLogic, Volt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ndor Participation - iWAR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WARP Vend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Chelsio, Fujitsu and Net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WARP Devices - using OFED 1.3 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GbE Swi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ls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RNICs – 2 CX4 and one S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RN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jit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GbE Swi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st Setup &amp; Enviro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7 servers provided by In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bles Do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phen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&amp;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it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nd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.L. G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r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HEL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ED 1.3 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st Category for March 2008 Interop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990720" y="1389240"/>
            <a:ext cx="7186320" cy="501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ests for March 20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 IPoIB Conn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hernet Link Initial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hernet Fabric Initial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hernet Fabric Reconverg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hernet Fabric Fail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 Reliable Datagram Sockets (RD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 MPI – H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 Basic RDMA Inter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 RDMA Operations over Interconnect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9T16:40:46Z</dcterms:created>
  <dc:creator>Rupert Dance</dc:creator>
  <dc:description/>
  <dc:language>en-US</dc:language>
  <cp:lastModifiedBy>Rupert Dance</cp:lastModifiedBy>
  <dcterms:modified xsi:type="dcterms:W3CDTF">2008-04-07T22:31:33Z</dcterms:modified>
  <cp:revision>31</cp:revision>
  <dc:subject/>
  <dc:title>OFA-IWG Interop Event</dc:title>
</cp:coreProperties>
</file>