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64880" y="140940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648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0076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2362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648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0076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2362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64880" y="1409400"/>
            <a:ext cx="8978760" cy="4970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152280"/>
            <a:ext cx="76201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64880" y="1409400"/>
            <a:ext cx="8978760" cy="4970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64880" y="140940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648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0076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2362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1648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0076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2362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2280"/>
            <a:ext cx="76201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B7B7-8E07-441E-9D39-B1D324C253D7}" type="slidenum">
              <a:rPr b="1" lang="en-US" sz="1400" spc="-1" strike="noStrike">
                <a:solidFill>
                  <a:srgbClr val="ffffff"/>
                </a:solidFill>
                <a:latin typeface="Garamond"/>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1870200"/>
          </a:xfrm>
          <a:prstGeom prst="rect">
            <a:avLst/>
          </a:prstGeom>
          <a:ln w="0">
            <a:noFill/>
          </a:ln>
        </p:spPr>
      </p:pic>
      <p:pic>
        <p:nvPicPr>
          <p:cNvPr id="44" name="" descr=""/>
          <p:cNvPicPr/>
          <p:nvPr/>
        </p:nvPicPr>
        <p:blipFill>
          <a:blip r:embed="rId3"/>
          <a:stretch/>
        </p:blipFill>
        <p:spPr>
          <a:xfrm>
            <a:off x="0" y="6400800"/>
            <a:ext cx="9144000" cy="457200"/>
          </a:xfrm>
          <a:prstGeom prst="rect">
            <a:avLst/>
          </a:prstGeom>
          <a:ln w="0">
            <a:noFill/>
          </a:ln>
        </p:spPr>
      </p:pic>
      <p:sp>
        <p:nvSpPr>
          <p:cNvPr id="45"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ick to edit the title text format</a:t>
            </a:r>
            <a:endParaRPr b="0" lang="en-US" sz="2900" spc="-1" strike="noStrike">
              <a:solidFill>
                <a:srgbClr val="ffffff"/>
              </a:solidFill>
              <a:latin typeface="Arial"/>
            </a:endParaRPr>
          </a:p>
        </p:txBody>
      </p:sp>
      <p:pic>
        <p:nvPicPr>
          <p:cNvPr id="46" name="" descr=""/>
          <p:cNvPicPr/>
          <p:nvPr/>
        </p:nvPicPr>
        <p:blipFill>
          <a:blip r:embed="rId4"/>
          <a:stretch/>
        </p:blipFill>
        <p:spPr>
          <a:xfrm>
            <a:off x="2741760" y="1903320"/>
            <a:ext cx="3354120" cy="3354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700"/>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algn="ctr">
              <a:spcBef>
                <a:spcPts val="700"/>
              </a:spcBef>
              <a:buClr>
                <a:srgbClr val="00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bboas@systemfabricworks.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noma Workshop 2008</a:t>
            </a:r>
            <a:endParaRPr b="0" lang="en-US" sz="3000" spc="-1" strike="noStrike">
              <a:solidFill>
                <a:srgbClr val="ffffff"/>
              </a:solidFill>
              <a:latin typeface="Arial"/>
            </a:endParaRPr>
          </a:p>
        </p:txBody>
      </p:sp>
      <p:sp>
        <p:nvSpPr>
          <p:cNvPr id="85" name="PlaceHolder 2"/>
          <p:cNvSpPr>
            <a:spLocks noGrp="1"/>
          </p:cNvSpPr>
          <p:nvPr>
            <p:ph type="subTitle"/>
          </p:nvPr>
        </p:nvSpPr>
        <p:spPr>
          <a:xfrm>
            <a:off x="367920" y="4800600"/>
            <a:ext cx="8458200" cy="165096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Fabrics at 40 and 100 Gigabits?</a:t>
            </a:r>
            <a:endParaRPr b="0" lang="en-US" sz="3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ill Boas, Vice-Chair</a:t>
            </a: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boas@systemfabricworks.co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0-375-884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ncient Chinese Proverbs”</a:t>
            </a:r>
            <a:endParaRPr b="0" lang="en-US" sz="3600" spc="-1" strike="noStrike">
              <a:solidFill>
                <a:srgbClr val="000000"/>
              </a:solidFill>
              <a:latin typeface="Arial"/>
            </a:endParaRPr>
          </a:p>
        </p:txBody>
      </p:sp>
      <p:sp>
        <p:nvSpPr>
          <p:cNvPr id="87"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ose who do not learn from history are doomed to repeat the mistakes of the past”</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on’t bet against Ethernet”</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value of a network scales as the square of the number of connections in that network”</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 GHz of processor = 1 Gbps of data transfer to/from memory”</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Bandwidth</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of 3GHz Cores</a:t>
            </a:r>
            <a:endParaRPr b="0" lang="en-US" sz="2000" spc="-1" strike="noStrike">
              <a:solidFill>
                <a:srgbClr val="000000"/>
              </a:solidFill>
              <a:latin typeface="Arial"/>
            </a:endParaRPr>
          </a:p>
          <a:p>
            <a:pPr lvl="3" marL="16002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endParaRPr b="0" lang="en-US" sz="2400" spc="-1" strike="noStrike">
              <a:solidFill>
                <a:srgbClr val="000000"/>
              </a:solidFill>
              <a:latin typeface="Arial"/>
            </a:endParaRPr>
          </a:p>
          <a:p>
            <a:pPr lvl="3" marL="16002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6</a:t>
            </a:r>
            <a:endParaRPr b="0" lang="en-US" sz="2400" spc="-1" strike="noStrike">
              <a:solidFill>
                <a:srgbClr val="000000"/>
              </a:solidFill>
              <a:latin typeface="Arial"/>
            </a:endParaRPr>
          </a:p>
          <a:p>
            <a:pPr lvl="3" marL="16002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0</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best form of defense, is offen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and 100 Gigabits?</a:t>
            </a:r>
            <a:endParaRPr b="0" lang="en-US" sz="2800" spc="-1" strike="noStrike">
              <a:solidFill>
                <a:srgbClr val="000000"/>
              </a:solidFill>
              <a:latin typeface="Arial"/>
            </a:endParaRPr>
          </a:p>
        </p:txBody>
      </p:sp>
      <p:sp>
        <p:nvSpPr>
          <p:cNvPr id="89"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y should the OpenFabrics think about its members’ mutual interest at these speed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3ba Task Force now approved to standardize the next generation of “Ethernet” (s), but it will take year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reates the need and opportunity for “Ethernet” to change – it has every time in 20 years that IEEE process has scaled up</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Ethernet Market size in 2006 according to Dell’Oro Group was 182,817,000 port shipment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C states 177,334 switch ports and 236 219 HCAs </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n Top 500 in Nov 2007 interconnects</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B - 24%, Eth.-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osed Commonality Initiatives </a:t>
            </a:r>
            <a:endParaRPr b="0" lang="en-US" sz="3600" spc="-1" strike="noStrike">
              <a:solidFill>
                <a:srgbClr val="000000"/>
              </a:solidFill>
              <a:latin typeface="Arial"/>
            </a:endParaRPr>
          </a:p>
        </p:txBody>
      </p:sp>
      <p:sp>
        <p:nvSpPr>
          <p:cNvPr id="91"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he IEEE 802.3ba</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us” participating in the work to create commonality</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the physical layer so a common set of physical components is needed for each market – server/application and aggregation</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ink layer options that allow the Openfabrics software stack to efficiently utilize the physical components and the higher layer network and transport layers and full interchangeability of traffic, management, etc.</a:t>
            </a:r>
            <a:endParaRPr b="0" lang="en-US" sz="24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IBTA</a:t>
            </a:r>
            <a:endParaRPr b="0" lang="en-US" sz="3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andards for payloads – not just signalling at 40 and 100G</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ernet Standards and Variants </a:t>
            </a:r>
            <a:endParaRPr b="0" lang="en-US" sz="2800" spc="-1" strike="noStrike">
              <a:solidFill>
                <a:srgbClr val="000000"/>
              </a:solidFill>
              <a:latin typeface="Arial"/>
            </a:endParaRPr>
          </a:p>
        </p:txBody>
      </p:sp>
      <p:sp>
        <p:nvSpPr>
          <p:cNvPr id="93"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 over copper, multi and single mode, fiber and wireles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Interest Groups – </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and Blade back and mid planes</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center</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o</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ier</a:t>
            </a:r>
            <a:endParaRPr b="0" lang="en-US" sz="20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EEE Task Force will only consider Physical and Link Layer standard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terest Groups that define Network Layer,Transport and above exist and set standards themselves or others like IETF, OIF, T10, T11, etc examples are iSCSI, or FCoE,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EEE 802.3ba Task Group considering</a:t>
            </a:r>
            <a:endParaRPr b="0" lang="en-US" sz="2800" spc="-1" strike="noStrike">
              <a:solidFill>
                <a:srgbClr val="000000"/>
              </a:solidFill>
              <a:latin typeface="Arial"/>
            </a:endParaRPr>
          </a:p>
        </p:txBody>
      </p:sp>
      <p:sp>
        <p:nvSpPr>
          <p:cNvPr id="95"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The Next Generation of Ethernet” by John D’Ambrosia, Chair, IEEE Communications – Feb 2008 ps 8-15</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G for </a:t>
            </a:r>
            <a:r>
              <a:rPr b="0" lang="en-US" sz="2400" spc="-1" strike="noStrike" u="sng">
                <a:solidFill>
                  <a:srgbClr val="000000"/>
                </a:solidFill>
                <a:uFillTx/>
                <a:latin typeface="Arial"/>
              </a:rPr>
              <a:t>computing, servers and storage</a:t>
            </a:r>
            <a:r>
              <a:rPr b="0" lang="en-US" sz="2400" spc="-1" strike="noStrike">
                <a:solidFill>
                  <a:srgbClr val="000000"/>
                </a:solidFill>
                <a:latin typeface="Arial"/>
              </a:rPr>
              <a:t> at distances of 1m backplane, 10m copper, 100m multi-mode fiber</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G for </a:t>
            </a:r>
            <a:r>
              <a:rPr b="0" lang="en-US" sz="2400" spc="-1" strike="noStrike" u="sng">
                <a:solidFill>
                  <a:srgbClr val="000000"/>
                </a:solidFill>
                <a:uFillTx/>
                <a:latin typeface="Arial"/>
              </a:rPr>
              <a:t>network aggregation</a:t>
            </a:r>
            <a:r>
              <a:rPr b="0" lang="en-US" sz="2400" spc="-1" strike="noStrike">
                <a:solidFill>
                  <a:srgbClr val="000000"/>
                </a:solidFill>
                <a:latin typeface="Arial"/>
              </a:rPr>
              <a:t> at 100m, 10km, 40km</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probability of identical Physical Layer implementations </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y of multiple architectures and implementation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ptions that are consistent with IB architecture – “quad channel bonding” “differential pairs at 10 gigabits, …. possibly even 25 gigabits”, “8B/10B encoding”</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 opportunity to gain acceptance for an “Ethernet” option that can deliver the beneficial features of I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and Customer Impacts</a:t>
            </a:r>
            <a:endParaRPr b="0" lang="en-US" sz="2800" spc="-1" strike="noStrike">
              <a:solidFill>
                <a:srgbClr val="000000"/>
              </a:solidFill>
              <a:latin typeface="Arial"/>
            </a:endParaRPr>
          </a:p>
        </p:txBody>
      </p:sp>
      <p:sp>
        <p:nvSpPr>
          <p:cNvPr id="97"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volume of components at physical layer</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help make optical more cost competitive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Component costs overall</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simplify range of different software implementation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the InfiniBand versus Ethernet versus Fibre Channel wars that analysts love and customers probably don’t like at all</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next step for OpenFabrics folling the single stack for IB and Ethern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304920"/>
            <a:ext cx="76201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osed Commonality Initiatives </a:t>
            </a:r>
            <a:endParaRPr b="0" lang="en-US" sz="3600" spc="-1" strike="noStrike">
              <a:solidFill>
                <a:srgbClr val="000000"/>
              </a:solidFill>
              <a:latin typeface="Arial"/>
            </a:endParaRPr>
          </a:p>
        </p:txBody>
      </p:sp>
      <p:sp>
        <p:nvSpPr>
          <p:cNvPr id="99" name=""/>
          <p:cNvSpPr/>
          <p:nvPr/>
        </p:nvSpPr>
        <p:spPr>
          <a:xfrm>
            <a:off x="76320" y="1460520"/>
            <a:ext cx="8978760" cy="497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he IEEE 802.3ba</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us” participating in the work to create commonality</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the physical layer so a common set of physical components is needed for each market – server/application and aggregation</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ink layer options that allow the Openfabrics software stack to efficiently utilize the physical components and the higher layer network and transport layers and full interchangeability of traffic, management, etc.</a:t>
            </a:r>
            <a:endParaRPr b="0" lang="en-US" sz="24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IBTA</a:t>
            </a:r>
            <a:endParaRPr b="0" lang="en-US" sz="3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andards for payloads – not just signalling at 40 and 100G</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20:45:04Z</dcterms:created>
  <dc:creator>Gabriela</dc:creator>
  <dc:description/>
  <dc:language>en-US</dc:language>
  <cp:lastModifiedBy>Owner</cp:lastModifiedBy>
  <dcterms:modified xsi:type="dcterms:W3CDTF">2008-04-18T05:37:04Z</dcterms:modified>
  <cp:revision>49</cp:revision>
  <dc:subject/>
  <dc:title>Slide 1</dc:title>
</cp:coreProperties>
</file>