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7044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0800" y="69660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29720"/>
            <a:ext cx="3036960" cy="463680"/>
          </a:xfrm>
          <a:prstGeom prst="rect">
            <a:avLst/>
          </a:prstGeom>
          <a:noFill/>
          <a:ln w="0">
            <a:noFill/>
          </a:ln>
        </p:spPr>
        <p:txBody>
          <a:bodyPr lIns="93240" rIns="9324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70440" y="882972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E2B96-C69A-4CB4-B465-AACA0E070703}" type="slidenum">
              <a:rPr b="0" lang="en-GB"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FDD0AF-B001-4917-964C-88678DE36689}" type="slidenum">
              <a:rPr b="1" lang="en-GB"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Jim.Ryan@intel.com" TargetMode="External"/><Relationship Id="rId2" Type="http://schemas.openxmlformats.org/officeDocument/2006/relationships/hyperlink" Target="mailto:bboas@systemfabricworks.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300" spc="-1" strike="noStrike">
                <a:solidFill>
                  <a:srgbClr val="ffffff"/>
                </a:solidFill>
                <a:latin typeface="Arial"/>
              </a:rPr>
              <a:t>Sonoma Workshop 2008</a:t>
            </a:r>
            <a:endParaRPr b="0" lang="en-US" sz="4300" spc="-1" strike="noStrike">
              <a:solidFill>
                <a:srgbClr val="000000"/>
              </a:solidFill>
              <a:latin typeface="Arial"/>
            </a:endParaRPr>
          </a:p>
        </p:txBody>
      </p:sp>
      <p:sp>
        <p:nvSpPr>
          <p:cNvPr id="93" name="PlaceHolder 2"/>
          <p:cNvSpPr>
            <a:spLocks noGrp="1"/>
          </p:cNvSpPr>
          <p:nvPr>
            <p:ph type="subTitle"/>
          </p:nvPr>
        </p:nvSpPr>
        <p:spPr>
          <a:xfrm>
            <a:off x="367920" y="4800240"/>
            <a:ext cx="8458200" cy="19256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Introduction</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Jim Ryan, Chai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Bill Boas, Vice-Chai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ccccff"/>
                </a:solidFill>
                <a:uFillTx/>
                <a:latin typeface="Arial"/>
                <a:hlinkClick r:id="rId1"/>
              </a:rPr>
              <a:t>Jim.Ryan@intel.co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u="sng">
                <a:solidFill>
                  <a:srgbClr val="ccccff"/>
                </a:solidFill>
                <a:uFillTx/>
                <a:latin typeface="Arial"/>
                <a:hlinkClick r:id="rId2"/>
              </a:rPr>
              <a:t>bboas@systemfabricworks.co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503-970-9246</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Logistics etc.</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genda – let’s stick to tim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ne track this year but 5 rooms available for other sess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This room – noisy door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utside – noise from side conversat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lides – get them to Jeff Becker</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Hotel, wireless issu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nyhting els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What is the OpenFabrics Alliance</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n Alliance of Companies, Institutions and Customers working together to produce, release support and promote Open Source software to take advantage of the highest performance standard interconnect technology on servers, workstations and storage systems with widely used operating systems to improve applications where the business solution is enhanced with higher performance, lower latency and more efficient energy use.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Mutual Benefit </a:t>
            </a:r>
            <a:r>
              <a:rPr b="0" lang="en-GB" sz="4000" spc="-1" strike="noStrike">
                <a:solidFill>
                  <a:srgbClr val="000000"/>
                </a:solidFill>
                <a:latin typeface="Wingdings"/>
                <a:ea typeface="Wingdings"/>
              </a:rPr>
              <a:t></a:t>
            </a:r>
            <a:r>
              <a:rPr b="0" lang="en-GB" sz="4000" spc="-1" strike="noStrike">
                <a:solidFill>
                  <a:srgbClr val="000000"/>
                </a:solidFill>
                <a:latin typeface="Arial"/>
              </a:rPr>
              <a:t> Self-Interest</a:t>
            </a:r>
            <a:endParaRPr b="0" lang="en-US" sz="4000" spc="-1" strike="noStrike">
              <a:solidFill>
                <a:srgbClr val="000000"/>
              </a:solidFill>
              <a:latin typeface="Arial"/>
            </a:endParaRPr>
          </a:p>
        </p:txBody>
      </p:sp>
      <p:sp>
        <p:nvSpPr>
          <p:cNvPr id="99"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urposes of the OFA Non-Profit, Mutual Benefit Corporation</a:t>
            </a:r>
            <a:endParaRPr b="0" lang="en-US" sz="24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Develop OpenFabrics open source software for Linux, Windows and other O/S as members decid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Available for download and support as part of companies’ products and institutions’ infrastructur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mote, educate and improve s/w’s capabilities</a:t>
            </a:r>
            <a:endParaRPr b="0" lang="en-US" sz="20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o the mutual benefits exceed the self interest normally pursued in the cause of competition amongst technologies, operating systems, middleware, applications, companies, etc.?</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No”, what do you recommend?</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Yes”, what does the Alliance to continue to build? More members? Improve functions? Ideas from you?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90360"/>
            <a:ext cx="7620120" cy="119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How does the Alliance get things done at the Moment</a:t>
            </a:r>
            <a:endParaRPr b="0" lang="en-US" sz="3600" spc="-1" strike="noStrike">
              <a:solidFill>
                <a:srgbClr val="000000"/>
              </a:solidFill>
              <a:latin typeface="Arial"/>
            </a:endParaRPr>
          </a:p>
        </p:txBody>
      </p:sp>
      <p:sp>
        <p:nvSpPr>
          <p:cNvPr id="101" name="PlaceHolder 2"/>
          <p:cNvSpPr>
            <a:spLocks noGrp="1"/>
          </p:cNvSpPr>
          <p:nvPr>
            <p:ph/>
          </p:nvPr>
        </p:nvSpPr>
        <p:spPr>
          <a:xfrm>
            <a:off x="0" y="1383840"/>
            <a:ext cx="9144000" cy="5302440"/>
          </a:xfrm>
          <a:prstGeom prst="rect">
            <a:avLst/>
          </a:prstGeom>
          <a:noFill/>
          <a:ln w="0">
            <a:noFill/>
          </a:ln>
        </p:spPr>
        <p:txBody>
          <a:bodyPr lIns="90000" rIns="90000" tIns="46800" bIns="46800" anchor="t">
            <a:normAutofit/>
          </a:bodyPr>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members are Board Members with a Vote</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The Board has delegated its functions to an Executive Working Group that any member can participate in  - Jim Ryan is Chair of the XWG, Johann George, Treasurer</a:t>
            </a:r>
            <a:endParaRPr b="0" lang="en-US" sz="2400" spc="-1" strike="noStrike">
              <a:solidFill>
                <a:srgbClr val="000000"/>
              </a:solidFill>
              <a:latin typeface="Arial"/>
            </a:endParaRPr>
          </a:p>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ing Groups so far, that anyone can join, for:</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velopment – Linux and Windows</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gration, Testing, Release and Support</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Linux – OFED </a:t>
            </a:r>
            <a:endParaRPr b="0" lang="en-US" sz="20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Windows WinOF</a:t>
            </a:r>
            <a:endParaRPr b="0" lang="en-US" sz="20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operability Testing and Logo with UNH-IOL</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Marketing – promotion, PR, events, recruiting, education</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Legal – IP, code hygiene, licensing, contribution, By-laws, web site</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Webmaster – Jeff Becker; Administrator – Daniela George</a:t>
            </a:r>
            <a:endParaRPr b="0" lang="en-US" sz="2400" spc="-1" strike="noStrike">
              <a:solidFill>
                <a:srgbClr val="000000"/>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urpose of the Workshop</a:t>
            </a:r>
            <a:endParaRPr b="0" lang="en-US" sz="4000" spc="-1" strike="noStrike">
              <a:solidFill>
                <a:srgbClr val="000000"/>
              </a:solidFill>
              <a:latin typeface="Arial"/>
            </a:endParaRPr>
          </a:p>
        </p:txBody>
      </p:sp>
      <p:sp>
        <p:nvSpPr>
          <p:cNvPr id="103" name="PlaceHolder 2"/>
          <p:cNvSpPr>
            <a:spLocks noGrp="1"/>
          </p:cNvSpPr>
          <p:nvPr>
            <p:ph/>
          </p:nvPr>
        </p:nvSpPr>
        <p:spPr>
          <a:xfrm>
            <a:off x="457200" y="1434600"/>
            <a:ext cx="8229600" cy="514188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 together to improve the Alliance’s software</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earn from customers and potential users what we’ve done right/wrong and need to do nex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ritically examine how we are doing things and how we can make improvements</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dentify steps that can be taken with other organizations and technologies to improve OpenFabrics value, market acceptance and perception</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portunity for any attendee to bring up any issue or subject they think is relevant</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Working Group Chair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XWG – Jim Ryan</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WG – Bob Woodruff</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WG – Gopal Hegde</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WG – Stan Smith</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WG – Tuan Phamdo</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LWG – Carl Hensler</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WG – Thad Omur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artners Organizations</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TA</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H-IOL</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thernet Allianc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52280"/>
            <a:ext cx="7848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If these are Issues, what shall we do?</a:t>
            </a:r>
            <a:endParaRPr b="0" lang="en-US" sz="3600" spc="-1" strike="noStrike">
              <a:solidFill>
                <a:srgbClr val="000000"/>
              </a:solidFill>
              <a:latin typeface="Arial"/>
            </a:endParaRPr>
          </a:p>
        </p:txBody>
      </p:sp>
      <p:sp>
        <p:nvSpPr>
          <p:cNvPr id="109" name="PlaceHolder 2"/>
          <p:cNvSpPr>
            <a:spLocks noGrp="1"/>
          </p:cNvSpPr>
          <p:nvPr>
            <p:ph/>
          </p:nvPr>
        </p:nvSpPr>
        <p:spPr>
          <a:xfrm>
            <a:off x="190080" y="1600200"/>
            <a:ext cx="8953560" cy="452592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t is the same small group of volunteers running things as an “avocation”, should we get more formal</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OFED” has become the Brand, and its not temporary as planned</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WinOF” ready for prime time how do we promote it? Should we be trying to recruit Microsof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IB” is still the dominant technology driv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iWARP” the only RDMA-over-Ethernet  for OFA</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a wider focus than HPC needed e.g Data Cent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ore promotion and evangelism/education?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briela</dc:creator>
  <dc:description/>
  <dc:language>en-US</dc:language>
  <cp:lastModifiedBy>Owner</cp:lastModifiedBy>
  <cp:revision>0</cp:revision>
  <dc:subject/>
  <dc:title>Slide 1</dc:title>
</cp:coreProperties>
</file>