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6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20.png" ContentType="image/png"/>
  <Override PartName="/ppt/media/image36.jpeg" ContentType="image/jpeg"/>
  <Override PartName="/ppt/media/image40.png" ContentType="image/png"/>
  <Override PartName="/ppt/media/image12.png" ContentType="image/png"/>
  <Override PartName="/ppt/media/image30.jpeg" ContentType="image/jpeg"/>
  <Override PartName="/ppt/media/image3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35.jpeg" ContentType="image/jpeg"/>
  <Override PartName="/ppt/media/image10.png" ContentType="image/png"/>
  <Override PartName="/ppt/media/image18.png" ContentType="image/png"/>
  <Override PartName="/ppt/media/image6.jpeg" ContentType="image/jpeg"/>
  <Override PartName="/ppt/media/image34.png" ContentType="image/png"/>
  <Override PartName="/ppt/media/image37.png" ContentType="image/png"/>
  <Override PartName="/ppt/media/image41.png" ContentType="image/png"/>
  <Override PartName="/ppt/media/image13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14.jpeg" ContentType="image/jpeg"/>
  <Override PartName="/ppt/media/image33.jpeg" ContentType="image/jpeg"/>
  <Override PartName="/ppt/media/image4.gif" ContentType="image/gif"/>
  <Override PartName="/ppt/media/image22.jpeg" ContentType="image/jpeg"/>
  <Override PartName="/ppt/media/image9.jpeg" ContentType="image/jpeg"/>
  <Override PartName="/ppt/media/image11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56FAA-BE3D-41FE-AC4A-128C933C8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3080" y="421956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E92A9-993B-4B60-B38E-3A7A7CA5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77524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20845-9F3C-4DE7-AB1F-4A5F350EE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97820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52368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3308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197820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352368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A88F9-CA5D-450D-9E70-C6F9F3F97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33080" y="374184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1000" y="274320"/>
            <a:ext cx="4551480" cy="141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33080" y="374184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E30E7-7FA6-47B8-B432-120DF13F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77524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3080" y="421956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77524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97820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2368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308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197820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352368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DF0C4-D798-4EB5-83A2-4983C18EC67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33080" y="374184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95DD6A-168E-445A-A2CD-07108A9EA6A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987BF-0A92-458B-8341-84899389B0C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3E9F5-1569-4B0A-BBCB-ED118F394F9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35EA53-2606-42D2-8E4E-EBEEF336CF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E4C40-D1F8-4D4D-BD9A-477346E3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41000" y="274320"/>
            <a:ext cx="4551480" cy="141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EF34D8-156B-4082-9F88-EBFE9E05EDC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A28729-3AA2-4C27-B305-76C3BFB7230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77524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7D99B-E1A5-40A1-A0EB-84E23CF0007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48202-F220-4993-9EDA-20D3FB726CE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3080" y="421956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C1664-6475-42B7-B4DD-8B1957E2598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277524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63E56-7F32-42EA-B1B4-F38314C349B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97820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52368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3308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197820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352368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03960C-C276-4585-8970-73D9AE8A837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33080" y="374184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77618-2BAD-4ECB-87A3-FE03C6D9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41000" y="274320"/>
            <a:ext cx="4551480" cy="141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77524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3080" y="421956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77524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197820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52368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3308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197820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352368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01FA6-04E8-446B-A1C1-36FC65D4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41000" y="274320"/>
            <a:ext cx="4551480" cy="141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932C7-5A09-4A35-BF74-98FE001C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2546B-895A-4276-ACC7-62F0814F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77524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531F4-9F72-49BC-9819-6B4CB0BA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5EE95-3CF1-4BA2-8344-350551C5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3" marL="125748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4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5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6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71440"/>
            <a:ext cx="257040" cy="5686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57040" cy="1114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350200" y="6261120"/>
            <a:ext cx="555840" cy="43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438120" y="6550200"/>
            <a:ext cx="387360" cy="2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6C94-0CEC-4359-877F-1018F4C1A9A8}" type="slidenum">
              <a:rPr b="0" lang="en-US" sz="900" spc="-1" strike="noStrike">
                <a:solidFill>
                  <a:srgbClr val="8485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836640" y="6550200"/>
            <a:ext cx="1114560" cy="2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AC72-B5BE-4E60-9111-ACFCBE51EFCD}" type="datetime3">
              <a:rPr b="0" lang="en-US" sz="900" spc="-1" strike="noStrike">
                <a:solidFill>
                  <a:srgbClr val="848589"/>
                </a:solidFill>
                <a:latin typeface="Times New Roman"/>
              </a:rPr>
              <a:t>July 30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1996920" y="6550200"/>
            <a:ext cx="5359680" cy="2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48589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1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45" name=""/>
          <p:cNvSpPr/>
          <p:nvPr/>
        </p:nvSpPr>
        <p:spPr>
          <a:xfrm>
            <a:off x="465120" y="637704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utura Bk"/>
              </a:rPr>
              <a:t>© 2006 Hewlett-Packard Development Company, L.P.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Futura Bk"/>
              </a:rPr>
              <a:t>The information contained herein is subject to change without notice 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4838760"/>
            <a:ext cx="9151920" cy="799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Hv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  <a:p>
            <a:pPr lvl="1" marL="343080" indent="0" algn="ctr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685800" algn="ctr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3" marL="1028880" algn="ctr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Font typeface="Futura Bk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4" marL="1371600" algn="ctr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Font typeface="Futura B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ftr" idx="4"/>
          </p:nvPr>
        </p:nvSpPr>
        <p:spPr>
          <a:xfrm>
            <a:off x="1996920" y="6638400"/>
            <a:ext cx="535968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7b7b7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b7b79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/>
          </a:bodyPr>
          <a:p>
            <a:pPr indent="0">
              <a:spcAft>
                <a:spcPts val="8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4"/>
                </a:solidFill>
                <a:latin typeface="Futura Bk"/>
              </a:rPr>
              <a:t>Click to edit the outline text format</a:t>
            </a:r>
            <a:endParaRPr b="0" lang="en-US" sz="2600" spc="-1" strike="noStrike">
              <a:solidFill>
                <a:srgbClr val="0071b4"/>
              </a:solidFill>
              <a:latin typeface="Futura Bk"/>
            </a:endParaRPr>
          </a:p>
          <a:p>
            <a:pPr lvl="1" marL="345960" indent="-231480">
              <a:spcAft>
                <a:spcPts val="814"/>
              </a:spcAft>
              <a:buClr>
                <a:srgbClr val="7b7b79"/>
              </a:buClr>
              <a:buSzPct val="90000"/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4"/>
                </a:solidFill>
                <a:latin typeface="Futura Bk"/>
              </a:rPr>
              <a:t>Second Outline Level</a:t>
            </a:r>
            <a:endParaRPr b="0" lang="en-US" sz="2600" spc="-1" strike="noStrike">
              <a:solidFill>
                <a:srgbClr val="0071b4"/>
              </a:solidFill>
              <a:latin typeface="Futura Bk"/>
            </a:endParaRPr>
          </a:p>
          <a:p>
            <a:pPr lvl="2" marL="692280" indent="-231840">
              <a:spcAft>
                <a:spcPts val="814"/>
              </a:spcAft>
              <a:buClr>
                <a:srgbClr val="7b7b79"/>
              </a:buClr>
              <a:buFont typeface="Futura B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4"/>
                </a:solidFill>
                <a:latin typeface="Futura Bk"/>
              </a:rPr>
              <a:t>Third Outline Level</a:t>
            </a:r>
            <a:endParaRPr b="0" lang="en-US" sz="2600" spc="-1" strike="noStrike">
              <a:solidFill>
                <a:srgbClr val="0071b4"/>
              </a:solidFill>
              <a:latin typeface="Futura Bk"/>
            </a:endParaRPr>
          </a:p>
          <a:p>
            <a:pPr lvl="3" marL="1025640" indent="-219240">
              <a:spcAft>
                <a:spcPts val="814"/>
              </a:spcAft>
              <a:buClr>
                <a:srgbClr val="7b7b79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4"/>
                </a:solidFill>
                <a:latin typeface="Futura Bk"/>
              </a:rPr>
              <a:t>Fourth Outline Level</a:t>
            </a:r>
            <a:endParaRPr b="0" lang="en-US" sz="2600" spc="-1" strike="noStrike">
              <a:solidFill>
                <a:srgbClr val="0071b4"/>
              </a:solidFill>
              <a:latin typeface="Futura Bk"/>
            </a:endParaRPr>
          </a:p>
          <a:p>
            <a:pPr lvl="4" marL="1149480" indent="-9720">
              <a:spcAft>
                <a:spcPts val="814"/>
              </a:spcAft>
              <a:buClr>
                <a:srgbClr val="b2b3b5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4"/>
                </a:solidFill>
                <a:latin typeface="Futura Bk"/>
              </a:rPr>
              <a:t>Fifth Outline Level</a:t>
            </a:r>
            <a:endParaRPr b="0" lang="en-US" sz="2600" spc="-1" strike="noStrike">
              <a:solidFill>
                <a:srgbClr val="0071b4"/>
              </a:solidFill>
              <a:latin typeface="Futura Bk"/>
            </a:endParaRPr>
          </a:p>
          <a:p>
            <a:pPr lvl="5" marL="1149480" indent="-9720">
              <a:spcAft>
                <a:spcPts val="814"/>
              </a:spcAft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4"/>
                </a:solidFill>
                <a:latin typeface="Futura Bk"/>
              </a:rPr>
              <a:t>Sixth Outline Level</a:t>
            </a:r>
            <a:endParaRPr b="0" lang="en-US" sz="2600" spc="-1" strike="noStrike">
              <a:solidFill>
                <a:srgbClr val="0071b4"/>
              </a:solidFill>
              <a:latin typeface="Futura Bk"/>
            </a:endParaRPr>
          </a:p>
          <a:p>
            <a:pPr lvl="6" marL="1149480" indent="-9720">
              <a:spcAft>
                <a:spcPts val="814"/>
              </a:spcAft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4"/>
                </a:solidFill>
                <a:latin typeface="Futura Bk"/>
              </a:rPr>
              <a:t>Seventh Outline Level</a:t>
            </a:r>
            <a:endParaRPr b="0" lang="en-US" sz="2600" spc="-1" strike="noStrike">
              <a:solidFill>
                <a:srgbClr val="0071b4"/>
              </a:solidFill>
              <a:latin typeface="Futura B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5"/>
          </p:nvPr>
        </p:nvSpPr>
        <p:spPr>
          <a:xfrm>
            <a:off x="401760" y="6638400"/>
            <a:ext cx="761760" cy="21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27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b7b79"/>
                </a:solidFill>
                <a:latin typeface="Futura Hv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85AD-FCBF-4961-9862-D959B64CC95A}" type="slidenum">
              <a:rPr b="0" lang="en-US" sz="1200" spc="-1" strike="noStrike">
                <a:solidFill>
                  <a:srgbClr val="7b7b79"/>
                </a:solidFill>
                <a:latin typeface="Futura Hv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914400"/>
            <a:ext cx="257040" cy="594360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257040" cy="84780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rcRect l="0" t="0" r="6854" b="0"/>
          <a:stretch/>
        </p:blipFill>
        <p:spPr>
          <a:xfrm>
            <a:off x="8575560" y="6454800"/>
            <a:ext cx="419040" cy="355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4"/>
          <p:cNvSpPr>
            <a:spLocks noGrp="1"/>
          </p:cNvSpPr>
          <p:nvPr>
            <p:ph type="title"/>
          </p:nvPr>
        </p:nvSpPr>
        <p:spPr>
          <a:xfrm>
            <a:off x="398160" y="0"/>
            <a:ext cx="85834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1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41360" y="274680"/>
            <a:ext cx="532296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28" name=""/>
          <p:cNvSpPr/>
          <p:nvPr/>
        </p:nvSpPr>
        <p:spPr>
          <a:xfrm>
            <a:off x="465120" y="637704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utura Bk"/>
              </a:rPr>
              <a:t>© 2006 Hewlett-Packard Development Company, L.P.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Futura Bk"/>
              </a:rPr>
              <a:t>The information contained herein is subject to change without notice 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9" name=""/>
          <p:cNvSpPr/>
          <p:nvPr/>
        </p:nvSpPr>
        <p:spPr>
          <a:xfrm>
            <a:off x="927000" y="4848120"/>
            <a:ext cx="8217000" cy="790560"/>
          </a:xfrm>
          <a:custGeom>
            <a:avLst/>
            <a:gdLst/>
            <a:ahLst/>
            <a:rect l="l" t="t" r="r" b="b"/>
            <a:pathLst>
              <a:path w="2578" h="249">
                <a:moveTo>
                  <a:pt x="6" y="231"/>
                </a:moveTo>
                <a:cubicBezTo>
                  <a:pt x="63" y="231"/>
                  <a:pt x="107" y="183"/>
                  <a:pt x="107" y="124"/>
                </a:cubicBezTo>
                <a:cubicBezTo>
                  <a:pt x="107" y="65"/>
                  <a:pt x="63" y="17"/>
                  <a:pt x="6" y="17"/>
                </a:cubicBezTo>
                <a:cubicBezTo>
                  <a:pt x="4" y="17"/>
                  <a:pt x="2" y="17"/>
                  <a:pt x="0" y="17"/>
                </a:cubicBezTo>
                <a:cubicBezTo>
                  <a:pt x="5" y="0"/>
                  <a:pt x="5" y="0"/>
                  <a:pt x="5" y="0"/>
                </a:cubicBezTo>
                <a:cubicBezTo>
                  <a:pt x="233" y="0"/>
                  <a:pt x="2578" y="0"/>
                  <a:pt x="2578" y="0"/>
                </a:cubicBezTo>
                <a:cubicBezTo>
                  <a:pt x="2578" y="249"/>
                  <a:pt x="2578" y="249"/>
                  <a:pt x="2578" y="249"/>
                </a:cubicBezTo>
                <a:cubicBezTo>
                  <a:pt x="2345" y="249"/>
                  <a:pt x="0" y="249"/>
                  <a:pt x="0" y="249"/>
                </a:cubicBezTo>
                <a:cubicBezTo>
                  <a:pt x="6" y="231"/>
                  <a:pt x="6" y="231"/>
                  <a:pt x="6" y="23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25320" y="4848120"/>
            <a:ext cx="568440" cy="790560"/>
            <a:chOff x="625320" y="4848120"/>
            <a:chExt cx="568440" cy="790560"/>
          </a:xfrm>
        </p:grpSpPr>
        <p:sp>
          <p:nvSpPr>
            <p:cNvPr id="131" name=""/>
            <p:cNvSpPr/>
            <p:nvPr/>
          </p:nvSpPr>
          <p:spPr>
            <a:xfrm>
              <a:off x="797040" y="5086440"/>
              <a:ext cx="396720" cy="552240"/>
            </a:xfrm>
            <a:custGeom>
              <a:avLst/>
              <a:gdLst/>
              <a:ahLst/>
              <a:rect l="l" t="t" r="r" b="b"/>
              <a:pathLst>
                <a:path w="125" h="174">
                  <a:moveTo>
                    <a:pt x="105" y="0"/>
                  </a:moveTo>
                  <a:cubicBezTo>
                    <a:pt x="62" y="0"/>
                    <a:pt x="62" y="0"/>
                    <a:pt x="62" y="0"/>
                  </a:cubicBezTo>
                  <a:cubicBezTo>
                    <a:pt x="0" y="174"/>
                    <a:pt x="0" y="174"/>
                    <a:pt x="0" y="174"/>
                  </a:cubicBezTo>
                  <a:cubicBezTo>
                    <a:pt x="27" y="174"/>
                    <a:pt x="27" y="174"/>
                    <a:pt x="27" y="174"/>
                  </a:cubicBezTo>
                  <a:cubicBezTo>
                    <a:pt x="53" y="100"/>
                    <a:pt x="53" y="100"/>
                    <a:pt x="53" y="100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85" y="100"/>
                    <a:pt x="93" y="98"/>
                    <a:pt x="96" y="89"/>
                  </a:cubicBezTo>
                  <a:cubicBezTo>
                    <a:pt x="99" y="80"/>
                    <a:pt x="116" y="34"/>
                    <a:pt x="120" y="20"/>
                  </a:cubicBezTo>
                  <a:cubicBezTo>
                    <a:pt x="125" y="6"/>
                    <a:pt x="114" y="0"/>
                    <a:pt x="105" y="0"/>
                  </a:cubicBezTo>
                  <a:close/>
                  <a:moveTo>
                    <a:pt x="71" y="86"/>
                  </a:moveTo>
                  <a:cubicBezTo>
                    <a:pt x="58" y="86"/>
                    <a:pt x="58" y="86"/>
                    <a:pt x="58" y="86"/>
                  </a:cubicBezTo>
                  <a:cubicBezTo>
                    <a:pt x="83" y="15"/>
                    <a:pt x="83" y="15"/>
                    <a:pt x="83" y="15"/>
                  </a:cubicBezTo>
                  <a:cubicBezTo>
                    <a:pt x="97" y="15"/>
                    <a:pt x="97" y="15"/>
                    <a:pt x="97" y="15"/>
                  </a:cubicBezTo>
                  <a:cubicBezTo>
                    <a:pt x="71" y="86"/>
                    <a:pt x="71" y="86"/>
                    <a:pt x="71" y="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5320" y="4848120"/>
              <a:ext cx="304920" cy="546120"/>
            </a:xfrm>
            <a:custGeom>
              <a:avLst/>
              <a:gdLst/>
              <a:ahLst/>
              <a:rect l="l" t="t" r="r" b="b"/>
              <a:pathLst>
                <a:path w="96" h="172">
                  <a:moveTo>
                    <a:pt x="92" y="97"/>
                  </a:moveTo>
                  <a:cubicBezTo>
                    <a:pt x="66" y="172"/>
                    <a:pt x="66" y="172"/>
                    <a:pt x="66" y="172"/>
                  </a:cubicBezTo>
                  <a:cubicBezTo>
                    <a:pt x="40" y="172"/>
                    <a:pt x="40" y="172"/>
                    <a:pt x="40" y="172"/>
                  </a:cubicBezTo>
                  <a:cubicBezTo>
                    <a:pt x="68" y="90"/>
                    <a:pt x="68" y="90"/>
                    <a:pt x="68" y="90"/>
                  </a:cubicBezTo>
                  <a:cubicBezTo>
                    <a:pt x="55" y="90"/>
                    <a:pt x="55" y="90"/>
                    <a:pt x="55" y="90"/>
                  </a:cubicBezTo>
                  <a:cubicBezTo>
                    <a:pt x="26" y="172"/>
                    <a:pt x="26" y="172"/>
                    <a:pt x="26" y="172"/>
                  </a:cubicBezTo>
                  <a:cubicBezTo>
                    <a:pt x="0" y="172"/>
                    <a:pt x="0" y="172"/>
                    <a:pt x="0" y="172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60" y="75"/>
                    <a:pt x="60" y="75"/>
                    <a:pt x="60" y="75"/>
                  </a:cubicBezTo>
                  <a:cubicBezTo>
                    <a:pt x="78" y="75"/>
                    <a:pt x="78" y="75"/>
                    <a:pt x="78" y="75"/>
                  </a:cubicBezTo>
                  <a:cubicBezTo>
                    <a:pt x="90" y="75"/>
                    <a:pt x="96" y="86"/>
                    <a:pt x="92" y="9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0" y="4848120"/>
            <a:ext cx="774720" cy="790560"/>
          </a:xfrm>
          <a:custGeom>
            <a:avLst/>
            <a:gdLst/>
            <a:ahLst/>
            <a:rect l="l" t="t" r="r" b="b"/>
            <a:pathLst>
              <a:path w="254" h="249">
                <a:moveTo>
                  <a:pt x="251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49"/>
                  <a:pt x="0" y="249"/>
                  <a:pt x="0" y="249"/>
                </a:cubicBezTo>
                <a:cubicBezTo>
                  <a:pt x="246" y="249"/>
                  <a:pt x="246" y="249"/>
                  <a:pt x="246" y="249"/>
                </a:cubicBezTo>
                <a:cubicBezTo>
                  <a:pt x="254" y="229"/>
                  <a:pt x="254" y="229"/>
                  <a:pt x="254" y="229"/>
                </a:cubicBezTo>
                <a:cubicBezTo>
                  <a:pt x="208" y="219"/>
                  <a:pt x="175" y="175"/>
                  <a:pt x="175" y="122"/>
                </a:cubicBezTo>
                <a:cubicBezTo>
                  <a:pt x="175" y="73"/>
                  <a:pt x="204" y="32"/>
                  <a:pt x="245" y="18"/>
                </a:cubicBezTo>
                <a:cubicBezTo>
                  <a:pt x="251" y="0"/>
                  <a:pt x="251" y="0"/>
                  <a:pt x="25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hyperlink" Target="http://www.esi-group.com/" TargetMode="External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jpe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hyperlink" Target="http://www.utexas.edu/" TargetMode="External"/><Relationship Id="rId17" Type="http://schemas.openxmlformats.org/officeDocument/2006/relationships/image" Target="../media/image17.png"/><Relationship Id="rId18" Type="http://schemas.openxmlformats.org/officeDocument/2006/relationships/hyperlink" Target="http://www.utexas.edu/" TargetMode="External"/><Relationship Id="rId19" Type="http://schemas.openxmlformats.org/officeDocument/2006/relationships/image" Target="../media/image17.png"/><Relationship Id="rId20" Type="http://schemas.openxmlformats.org/officeDocument/2006/relationships/image" Target="../media/image18.png"/><Relationship Id="rId21" Type="http://schemas.openxmlformats.org/officeDocument/2006/relationships/image" Target="../media/image19.png"/><Relationship Id="rId22" Type="http://schemas.openxmlformats.org/officeDocument/2006/relationships/image" Target="../media/image20.png"/><Relationship Id="rId23" Type="http://schemas.openxmlformats.org/officeDocument/2006/relationships/image" Target="../media/image21.png"/><Relationship Id="rId24" Type="http://schemas.openxmlformats.org/officeDocument/2006/relationships/image" Target="../media/image22.jpeg"/><Relationship Id="rId25" Type="http://schemas.openxmlformats.org/officeDocument/2006/relationships/image" Target="../media/image23.png"/><Relationship Id="rId26" Type="http://schemas.openxmlformats.org/officeDocument/2006/relationships/image" Target="../media/image24.png"/><Relationship Id="rId27" Type="http://schemas.openxmlformats.org/officeDocument/2006/relationships/image" Target="../media/image25.png"/><Relationship Id="rId28" Type="http://schemas.openxmlformats.org/officeDocument/2006/relationships/image" Target="../media/image26.png"/><Relationship Id="rId29" Type="http://schemas.openxmlformats.org/officeDocument/2006/relationships/image" Target="../media/image27.wmf"/><Relationship Id="rId30" Type="http://schemas.openxmlformats.org/officeDocument/2006/relationships/image" Target="../media/image28.png"/><Relationship Id="rId31" Type="http://schemas.openxmlformats.org/officeDocument/2006/relationships/hyperlink" Target="http://en.opensuse.org/Welcome_to_openSUSE.org" TargetMode="External"/><Relationship Id="rId32" Type="http://schemas.openxmlformats.org/officeDocument/2006/relationships/image" Target="../media/image29.png"/><Relationship Id="rId33" Type="http://schemas.openxmlformats.org/officeDocument/2006/relationships/image" Target="../media/image30.jpeg"/><Relationship Id="rId34" Type="http://schemas.openxmlformats.org/officeDocument/2006/relationships/image" Target="../media/image31.png"/><Relationship Id="rId35" Type="http://schemas.openxmlformats.org/officeDocument/2006/relationships/image" Target="../media/image32.png"/><Relationship Id="rId36" Type="http://schemas.openxmlformats.org/officeDocument/2006/relationships/image" Target="../media/image33.jpeg"/><Relationship Id="rId37" Type="http://schemas.openxmlformats.org/officeDocument/2006/relationships/image" Target="../media/image34.png"/><Relationship Id="rId38" Type="http://schemas.openxmlformats.org/officeDocument/2006/relationships/image" Target="../media/image35.jpeg"/><Relationship Id="rId39" Type="http://schemas.openxmlformats.org/officeDocument/2006/relationships/image" Target="../media/image36.jpeg"/><Relationship Id="rId40" Type="http://schemas.openxmlformats.org/officeDocument/2006/relationships/oleObject" Target="../embeddings/oleObject1.bin"/><Relationship Id="rId41" Type="http://schemas.openxmlformats.org/officeDocument/2006/relationships/image" Target="../media/image37.png"/><Relationship Id="rId42" Type="http://schemas.openxmlformats.org/officeDocument/2006/relationships/image" Target="../media/image38.png"/><Relationship Id="rId43" Type="http://schemas.openxmlformats.org/officeDocument/2006/relationships/image" Target="../media/image39.jpeg"/><Relationship Id="rId44" Type="http://schemas.openxmlformats.org/officeDocument/2006/relationships/image" Target="../media/image40.png"/><Relationship Id="rId45" Type="http://schemas.openxmlformats.org/officeDocument/2006/relationships/image" Target="../media/image41.png"/><Relationship Id="rId4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1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1000" y="297000"/>
            <a:ext cx="4551480" cy="22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HP-MPI 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71" name=""/>
          <p:cNvSpPr/>
          <p:nvPr/>
        </p:nvSpPr>
        <p:spPr>
          <a:xfrm>
            <a:off x="503280" y="2948040"/>
            <a:ext cx="187020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Changqing Tang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Senior Engineer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Apr. 8, 2008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Misc. Features (cont.)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Dynamic processes over OFED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ingleton MPI Process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HA HP-MPI, where no teardown if partial ranks exit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EC7DE-A63A-44CB-8293-BF189D9DD0C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E6BAA8D-FE77-49DA-8417-760BBC8947C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Features Available Soon in 2.3 Release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Anyway, OFED 1.4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iWARP support via rdma_cm + verbs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On-demand connection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IPV6 support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Multi-path IB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39283-2F5E-4920-8FB5-7DA0A1F0BF0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722833D-28C5-4C90-A7D0-A3DE66C21FB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Binary Compatible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HP-MPI is not open source, and always dlopen() libibverbs.so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We already have 1.0 and 1.1 code compiled against each version of header file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We detect the version on system and use the appropriate code version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79099-D7EC-45B8-8D21-A8FACF59F9D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4CF51E1-52E2-4811-8E0A-82638969EB3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Reliable Datagram (RD)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UD with complicated logic to implement on-demand connection.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RD will simplify MPI code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RDS can benefit from it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ure there are other wide-range usage.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5A418-D610-4358-B605-DB8E3AE1A46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58ECD55-BDD8-4A5D-89BB-322BAF7CD42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Reliable Multi-cast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implify MPI collective implementation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Improve MPI collective performance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95F82-8025-4D14-8CFE-38DE6503802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3DB971F-572F-449F-8452-096A8E67CB0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SA/OpenSM feature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A rank can query the port lid on remote node, with knowing the GUID of the remote HCA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Communication path query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Path Recovery Notification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Use to implement network recovery in MPI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D6EBF-C5B6-49BE-A124-97A6E402D73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F14A62E-DF7A-4F4F-947A-B2A834DC9AD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Multi-fabrics support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Used in non-stop system 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HP-MPI needs different subnets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IP-bonding not work on two subnets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1" name=""/>
          <p:cNvSpPr/>
          <p:nvPr/>
        </p:nvSpPr>
        <p:spPr>
          <a:xfrm>
            <a:off x="2108160" y="4829040"/>
            <a:ext cx="13892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2" name=""/>
          <p:cNvSpPr/>
          <p:nvPr/>
        </p:nvSpPr>
        <p:spPr>
          <a:xfrm>
            <a:off x="2563920" y="3591000"/>
            <a:ext cx="843840" cy="477000"/>
          </a:xfrm>
          <a:prstGeom prst="ellipse">
            <a:avLst/>
          </a:prstGeom>
          <a:solidFill>
            <a:srgbClr val="cbc9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SW1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3" name=""/>
          <p:cNvSpPr/>
          <p:nvPr/>
        </p:nvSpPr>
        <p:spPr>
          <a:xfrm>
            <a:off x="4910400" y="3560760"/>
            <a:ext cx="843840" cy="477000"/>
          </a:xfrm>
          <a:prstGeom prst="ellipse">
            <a:avLst/>
          </a:prstGeom>
          <a:solidFill>
            <a:srgbClr val="cbc9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SW2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4" name=""/>
          <p:cNvSpPr/>
          <p:nvPr/>
        </p:nvSpPr>
        <p:spPr>
          <a:xfrm>
            <a:off x="1558440" y="5655600"/>
            <a:ext cx="421560" cy="33732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n0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5" name=""/>
          <p:cNvSpPr/>
          <p:nvPr/>
        </p:nvSpPr>
        <p:spPr>
          <a:xfrm>
            <a:off x="2194920" y="5646240"/>
            <a:ext cx="421560" cy="33732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n1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6" name=""/>
          <p:cNvSpPr/>
          <p:nvPr/>
        </p:nvSpPr>
        <p:spPr>
          <a:xfrm>
            <a:off x="3187080" y="5616000"/>
            <a:ext cx="421560" cy="33732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n2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7" name=""/>
          <p:cNvSpPr/>
          <p:nvPr/>
        </p:nvSpPr>
        <p:spPr>
          <a:xfrm>
            <a:off x="3835080" y="5608080"/>
            <a:ext cx="421560" cy="33732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n3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8" name=""/>
          <p:cNvSpPr/>
          <p:nvPr/>
        </p:nvSpPr>
        <p:spPr>
          <a:xfrm>
            <a:off x="4654080" y="5609880"/>
            <a:ext cx="421560" cy="33732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n4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9" name=""/>
          <p:cNvSpPr/>
          <p:nvPr/>
        </p:nvSpPr>
        <p:spPr>
          <a:xfrm>
            <a:off x="5225400" y="5620680"/>
            <a:ext cx="421560" cy="33732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n5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0" name=""/>
          <p:cNvSpPr/>
          <p:nvPr/>
        </p:nvSpPr>
        <p:spPr>
          <a:xfrm>
            <a:off x="6260760" y="5601600"/>
            <a:ext cx="421560" cy="33732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n6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1" name=""/>
          <p:cNvSpPr/>
          <p:nvPr/>
        </p:nvSpPr>
        <p:spPr>
          <a:xfrm>
            <a:off x="7048080" y="5593680"/>
            <a:ext cx="421560" cy="33732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n7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1657440" y="4012920"/>
            <a:ext cx="1108080" cy="1623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2313000" y="4033440"/>
            <a:ext cx="569880" cy="159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3055680" y="4022640"/>
            <a:ext cx="245880" cy="157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3119040" y="4056120"/>
            <a:ext cx="817560" cy="1527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3216240" y="3990960"/>
            <a:ext cx="1549440" cy="1603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3259080" y="3936600"/>
            <a:ext cx="2076480" cy="166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3335040" y="3916440"/>
            <a:ext cx="3011400" cy="1666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3355920" y="3839760"/>
            <a:ext cx="3797280" cy="173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1846440" y="3957480"/>
            <a:ext cx="3236760" cy="1678320"/>
          </a:xfrm>
          <a:prstGeom prst="line">
            <a:avLst/>
          </a:prstGeom>
          <a:ln w="1908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506680" y="3970080"/>
            <a:ext cx="2657520" cy="1655640"/>
          </a:xfrm>
          <a:prstGeom prst="line">
            <a:avLst/>
          </a:prstGeom>
          <a:ln w="1908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506760" y="3970080"/>
            <a:ext cx="1808280" cy="1623960"/>
          </a:xfrm>
          <a:prstGeom prst="line">
            <a:avLst/>
          </a:prstGeom>
          <a:ln w="1908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4110120" y="3936960"/>
            <a:ext cx="1268280" cy="1657440"/>
          </a:xfrm>
          <a:prstGeom prst="line">
            <a:avLst/>
          </a:prstGeom>
          <a:ln w="1908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937040" y="3948120"/>
            <a:ext cx="463680" cy="1657440"/>
          </a:xfrm>
          <a:prstGeom prst="line">
            <a:avLst/>
          </a:prstGeom>
          <a:ln w="1908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5420880" y="3948120"/>
            <a:ext cx="96840" cy="1666800"/>
          </a:xfrm>
          <a:prstGeom prst="line">
            <a:avLst/>
          </a:prstGeom>
          <a:ln w="1908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5540040" y="3958920"/>
            <a:ext cx="1011240" cy="1623960"/>
          </a:xfrm>
          <a:prstGeom prst="line">
            <a:avLst/>
          </a:prstGeom>
          <a:ln w="1908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5605200" y="3916440"/>
            <a:ext cx="1741320" cy="1666800"/>
          </a:xfrm>
          <a:prstGeom prst="line">
            <a:avLst/>
          </a:prstGeom>
          <a:ln w="1908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8" name=""/>
          <p:cNvSpPr/>
          <p:nvPr/>
        </p:nvSpPr>
        <p:spPr>
          <a:xfrm>
            <a:off x="3056040" y="3321000"/>
            <a:ext cx="2139840" cy="282600"/>
          </a:xfrm>
          <a:custGeom>
            <a:avLst/>
            <a:gdLst/>
            <a:ahLst/>
            <a:rect l="l" t="t" r="r" b="b"/>
            <a:pathLst>
              <a:path w="1348" h="178">
                <a:moveTo>
                  <a:pt x="0" y="178"/>
                </a:moveTo>
                <a:cubicBezTo>
                  <a:pt x="192" y="91"/>
                  <a:pt x="384" y="4"/>
                  <a:pt x="609" y="2"/>
                </a:cubicBezTo>
                <a:cubicBezTo>
                  <a:pt x="834" y="0"/>
                  <a:pt x="1224" y="136"/>
                  <a:pt x="1348" y="165"/>
                </a:cubicBezTo>
              </a:path>
            </a:pathLst>
          </a:custGeom>
          <a:noFill/>
          <a:ln w="25560">
            <a:solidFill>
              <a:srgbClr val="0000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9" name=""/>
          <p:cNvSpPr/>
          <p:nvPr/>
        </p:nvSpPr>
        <p:spPr>
          <a:xfrm>
            <a:off x="3884760" y="293364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132B0-BBBF-43CD-9924-97DA036A1FB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6901CDE-5EF8-4797-9B45-8C9B3F311AC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Thank You !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http://www.hp.com/go/mpi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Question ?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06201-7355-497E-BCFA-F8C195C5956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8227BD4-E73D-439B-980E-DAB1118322C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1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Futura Lt"/>
              </a:rPr>
              <a:t>Back-up</a:t>
            </a:r>
            <a:endParaRPr b="0" lang="en-US" sz="4000" spc="-1" strike="noStrike">
              <a:solidFill>
                <a:srgbClr val="ffffff"/>
              </a:solidFill>
              <a:latin typeface="Futura 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HP-MPI in genera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OFED support and features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Wish list for OFED.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7647B-2D64-4B04-AC6D-2A0E51E29AD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09F498E-9BB0-4F35-9515-9E4560E4ACC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3224880" y="3884760"/>
            <a:ext cx="6015960" cy="2256840"/>
            <a:chOff x="3224880" y="3884760"/>
            <a:chExt cx="6015960" cy="2256840"/>
          </a:xfrm>
        </p:grpSpPr>
        <p:grpSp>
          <p:nvGrpSpPr>
            <p:cNvPr id="175" name=""/>
            <p:cNvGrpSpPr/>
            <p:nvPr/>
          </p:nvGrpSpPr>
          <p:grpSpPr>
            <a:xfrm>
              <a:off x="3436920" y="4216320"/>
              <a:ext cx="5716800" cy="1907640"/>
              <a:chOff x="3436920" y="4216320"/>
              <a:chExt cx="5716800" cy="1907640"/>
            </a:xfrm>
          </p:grpSpPr>
          <p:pic>
            <p:nvPicPr>
              <p:cNvPr id="17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005080" y="4654080"/>
                <a:ext cx="770400" cy="31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" descr="Powerful Solver Technology"/>
              <p:cNvPicPr/>
              <p:nvPr/>
            </p:nvPicPr>
            <p:blipFill>
              <a:blip r:embed="rId2"/>
              <a:stretch/>
            </p:blipFill>
            <p:spPr>
              <a:xfrm>
                <a:off x="5585040" y="4270680"/>
                <a:ext cx="1225440" cy="29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" descr="UGS, the PLM Company"/>
              <p:cNvPicPr/>
              <p:nvPr/>
            </p:nvPicPr>
            <p:blipFill>
              <a:blip r:embed="rId3"/>
              <a:stretch/>
            </p:blipFill>
            <p:spPr>
              <a:xfrm>
                <a:off x="7140600" y="5602320"/>
                <a:ext cx="552240" cy="51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385160" y="5226120"/>
                <a:ext cx="832680" cy="31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" name="" descr="">
                <a:hlinkClick r:id="rId5"/>
              </p:cNvPr>
              <p:cNvPicPr/>
              <p:nvPr/>
            </p:nvPicPr>
            <p:blipFill>
              <a:blip r:embed="rId6"/>
              <a:stretch/>
            </p:blipFill>
            <p:spPr>
              <a:xfrm>
                <a:off x="8044920" y="4613760"/>
                <a:ext cx="804960" cy="39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525120" y="4313880"/>
                <a:ext cx="1017000" cy="20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108920" y="4641480"/>
                <a:ext cx="743040" cy="34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" descr=""/>
              <p:cNvPicPr/>
              <p:nvPr/>
            </p:nvPicPr>
            <p:blipFill>
              <a:blip r:embed="rId9"/>
              <a:srcRect l="0" t="10663" r="0" b="21327"/>
              <a:stretch/>
            </p:blipFill>
            <p:spPr>
              <a:xfrm>
                <a:off x="6303600" y="4642920"/>
                <a:ext cx="733320" cy="337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471480" y="5259240"/>
                <a:ext cx="761760" cy="24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510240" y="5232600"/>
                <a:ext cx="636480" cy="30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682520" y="4216320"/>
                <a:ext cx="773640" cy="39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4264200" y="4859280"/>
                <a:ext cx="363600" cy="33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342920" y="5159520"/>
                <a:ext cx="777960" cy="446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066720" y="5597280"/>
                <a:ext cx="1000080" cy="526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90" name=""/>
              <p:cNvGrpSpPr/>
              <p:nvPr/>
            </p:nvGrpSpPr>
            <p:grpSpPr>
              <a:xfrm>
                <a:off x="7815240" y="5769360"/>
                <a:ext cx="1181520" cy="294480"/>
                <a:chOff x="7815240" y="5769360"/>
                <a:chExt cx="1181520" cy="294480"/>
              </a:xfrm>
            </p:grpSpPr>
            <p:pic>
              <p:nvPicPr>
                <p:cNvPr id="191" name="" descr="The University of Texas at Austin">
                  <a:hlinkClick r:id="rId16"/>
                </p:cNvPr>
                <p:cNvPicPr/>
                <p:nvPr/>
              </p:nvPicPr>
              <p:blipFill>
                <a:blip r:embed="rId17"/>
                <a:srcRect l="0" t="0" r="40160" b="0"/>
                <a:stretch/>
              </p:blipFill>
              <p:spPr>
                <a:xfrm>
                  <a:off x="7815240" y="5769360"/>
                  <a:ext cx="1181520" cy="184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2" name="" descr="The University of Texas at Austin">
                  <a:hlinkClick r:id="rId18"/>
                </p:cNvPr>
                <p:cNvPicPr/>
                <p:nvPr/>
              </p:nvPicPr>
              <p:blipFill>
                <a:blip r:embed="rId19"/>
                <a:srcRect l="59291" t="30976" r="0" b="0"/>
                <a:stretch/>
              </p:blipFill>
              <p:spPr>
                <a:xfrm>
                  <a:off x="8144280" y="5935680"/>
                  <a:ext cx="802800" cy="128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93" name=""/>
              <p:cNvGrpSpPr/>
              <p:nvPr/>
            </p:nvGrpSpPr>
            <p:grpSpPr>
              <a:xfrm>
                <a:off x="7907760" y="4988160"/>
                <a:ext cx="1245960" cy="871560"/>
                <a:chOff x="7907760" y="4988160"/>
                <a:chExt cx="1245960" cy="871560"/>
              </a:xfrm>
            </p:grpSpPr>
            <p:pic>
              <p:nvPicPr>
                <p:cNvPr id="194" name="" descr="Molpro logo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384400" y="4988160"/>
                  <a:ext cx="281160" cy="450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" name=""/>
                <p:cNvSpPr/>
                <p:nvPr/>
              </p:nvSpPr>
              <p:spPr>
                <a:xfrm>
                  <a:off x="7907760" y="5446080"/>
                  <a:ext cx="1245960" cy="41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Futura Bk"/>
                    </a:rPr>
                    <a:t>Molpro</a:t>
                  </a:r>
                  <a:endParaRPr b="0" lang="en-US" sz="1200" spc="-1" strike="noStrike">
                    <a:solidFill>
                      <a:srgbClr val="000000"/>
                    </a:solidFill>
                    <a:latin typeface="Futura Bk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Futura Bk"/>
                    </a:rPr>
                    <a:t>University of Cardiff</a:t>
                  </a:r>
                  <a:endParaRPr b="0" lang="en-US" sz="9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</p:grpSp>
          <p:pic>
            <p:nvPicPr>
              <p:cNvPr id="19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333040" y="4973040"/>
                <a:ext cx="739440" cy="24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4563360" y="5683320"/>
                <a:ext cx="446400" cy="354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5383440" y="5264280"/>
                <a:ext cx="922320" cy="23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9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5205240" y="5688360"/>
                <a:ext cx="737640" cy="34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0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3436920" y="5682240"/>
                <a:ext cx="1035000" cy="35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1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8085240" y="4248000"/>
                <a:ext cx="724680" cy="32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2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6936120" y="4280760"/>
                <a:ext cx="1061280" cy="232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3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3579120" y="4535280"/>
                <a:ext cx="734760" cy="552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4" name=""/>
            <p:cNvSpPr/>
            <p:nvPr/>
          </p:nvSpPr>
          <p:spPr>
            <a:xfrm>
              <a:off x="3416400" y="3890880"/>
              <a:ext cx="5700600" cy="2250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224880" y="3884760"/>
              <a:ext cx="601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Futura Bk"/>
                </a:rPr>
                <a:t>ISVs Distributing HP-MPI on Industry-Standard Linux Clusters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390960" y="3884760"/>
            <a:ext cx="3048840" cy="1156680"/>
            <a:chOff x="390960" y="3884760"/>
            <a:chExt cx="3048840" cy="1156680"/>
          </a:xfrm>
        </p:grpSpPr>
        <p:sp>
          <p:nvSpPr>
            <p:cNvPr id="207" name=""/>
            <p:cNvSpPr/>
            <p:nvPr/>
          </p:nvSpPr>
          <p:spPr>
            <a:xfrm>
              <a:off x="493560" y="3890880"/>
              <a:ext cx="2840040" cy="1150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0960" y="3884760"/>
              <a:ext cx="304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Futura Bk"/>
                </a:rPr>
                <a:t>Supported Operating Systems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pic>
          <p:nvPicPr>
            <p:cNvPr id="209" name="" descr=""/>
            <p:cNvPicPr/>
            <p:nvPr/>
          </p:nvPicPr>
          <p:blipFill>
            <a:blip r:embed="rId29"/>
            <a:srcRect l="0" t="0" r="37401" b="0"/>
            <a:stretch/>
          </p:blipFill>
          <p:spPr>
            <a:xfrm>
              <a:off x="2203200" y="4238640"/>
              <a:ext cx="912960" cy="40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Red Hat Home"/>
            <p:cNvPicPr/>
            <p:nvPr/>
          </p:nvPicPr>
          <p:blipFill>
            <a:blip r:embed="rId30"/>
            <a:stretch/>
          </p:blipFill>
          <p:spPr>
            <a:xfrm>
              <a:off x="674640" y="4295520"/>
              <a:ext cx="914400" cy="295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1" name=""/>
            <p:cNvGrpSpPr/>
            <p:nvPr/>
          </p:nvGrpSpPr>
          <p:grpSpPr>
            <a:xfrm>
              <a:off x="642960" y="4633920"/>
              <a:ext cx="666720" cy="362880"/>
              <a:chOff x="642960" y="4633920"/>
              <a:chExt cx="666720" cy="362880"/>
            </a:xfrm>
          </p:grpSpPr>
          <p:sp>
            <p:nvSpPr>
              <p:cNvPr id="212" name=""/>
              <p:cNvSpPr/>
              <p:nvPr/>
            </p:nvSpPr>
            <p:spPr>
              <a:xfrm>
                <a:off x="642960" y="4633920"/>
                <a:ext cx="666720" cy="36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213" name="" descr="Home">
                <a:hlinkClick r:id="rId31"/>
              </p:cNvPr>
              <p:cNvPicPr/>
              <p:nvPr/>
            </p:nvPicPr>
            <p:blipFill>
              <a:blip r:embed="rId32"/>
              <a:stretch/>
            </p:blipFill>
            <p:spPr>
              <a:xfrm>
                <a:off x="692280" y="4659120"/>
                <a:ext cx="525240" cy="33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4" name="" descr=""/>
            <p:cNvPicPr/>
            <p:nvPr/>
          </p:nvPicPr>
          <p:blipFill>
            <a:blip r:embed="rId33"/>
            <a:stretch/>
          </p:blipFill>
          <p:spPr>
            <a:xfrm>
              <a:off x="1728720" y="4597200"/>
              <a:ext cx="1368360" cy="43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5" name=""/>
          <p:cNvGrpSpPr/>
          <p:nvPr/>
        </p:nvGrpSpPr>
        <p:grpSpPr>
          <a:xfrm>
            <a:off x="492120" y="5126040"/>
            <a:ext cx="2838240" cy="1009440"/>
            <a:chOff x="492120" y="5126040"/>
            <a:chExt cx="2838240" cy="1009440"/>
          </a:xfrm>
        </p:grpSpPr>
        <p:sp>
          <p:nvSpPr>
            <p:cNvPr id="216" name=""/>
            <p:cNvSpPr/>
            <p:nvPr/>
          </p:nvSpPr>
          <p:spPr>
            <a:xfrm>
              <a:off x="492120" y="5132160"/>
              <a:ext cx="2838240" cy="1003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9600" y="5126040"/>
              <a:ext cx="250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Futura Bk"/>
                </a:rPr>
                <a:t>Supported Architectures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pic>
          <p:nvPicPr>
            <p:cNvPr id="218" name="" descr="Intel® Xeon™ Processor"/>
            <p:cNvPicPr/>
            <p:nvPr/>
          </p:nvPicPr>
          <p:blipFill>
            <a:blip r:embed="rId34"/>
            <a:stretch/>
          </p:blipFill>
          <p:spPr>
            <a:xfrm>
              <a:off x="2512800" y="5472000"/>
              <a:ext cx="466920" cy="57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35"/>
            <a:stretch/>
          </p:blipFill>
          <p:spPr>
            <a:xfrm>
              <a:off x="779400" y="5475240"/>
              <a:ext cx="460440" cy="5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36"/>
            <a:stretch/>
          </p:blipFill>
          <p:spPr>
            <a:xfrm>
              <a:off x="1590480" y="5475240"/>
              <a:ext cx="527040" cy="573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1" name=""/>
          <p:cNvGrpSpPr/>
          <p:nvPr/>
        </p:nvGrpSpPr>
        <p:grpSpPr>
          <a:xfrm>
            <a:off x="490680" y="6215040"/>
            <a:ext cx="7829280" cy="654120"/>
            <a:chOff x="490680" y="6215040"/>
            <a:chExt cx="7829280" cy="654120"/>
          </a:xfrm>
        </p:grpSpPr>
        <p:sp>
          <p:nvSpPr>
            <p:cNvPr id="222" name=""/>
            <p:cNvSpPr/>
            <p:nvPr/>
          </p:nvSpPr>
          <p:spPr>
            <a:xfrm>
              <a:off x="571320" y="6245280"/>
              <a:ext cx="1920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Futura Bk"/>
                </a:rPr>
                <a:t>Supported Switches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pic>
          <p:nvPicPr>
            <p:cNvPr id="223" name="" descr="Myricom logotype"/>
            <p:cNvPicPr/>
            <p:nvPr/>
          </p:nvPicPr>
          <p:blipFill>
            <a:blip r:embed="rId37"/>
            <a:stretch/>
          </p:blipFill>
          <p:spPr>
            <a:xfrm>
              <a:off x="6987960" y="6234120"/>
              <a:ext cx="1157040" cy="3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38"/>
            <a:stretch/>
          </p:blipFill>
          <p:spPr>
            <a:xfrm>
              <a:off x="2711160" y="6222960"/>
              <a:ext cx="48240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39"/>
            <a:stretch/>
          </p:blipFill>
          <p:spPr>
            <a:xfrm>
              <a:off x="5357520" y="6276960"/>
              <a:ext cx="1557000" cy="4284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26" name=""/>
            <p:cNvGraphicFramePr/>
            <p:nvPr/>
          </p:nvGraphicFramePr>
          <p:xfrm>
            <a:off x="6524640" y="6592680"/>
            <a:ext cx="1656720" cy="228600"/>
          </p:xfrm>
          <a:graphic>
            <a:graphicData uri="http://schemas.openxmlformats.org/presentationml/2006/ole">
              <p:oleObj r:id="rId40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41"/>
                    <a:stretch/>
                  </p:blipFill>
                  <p:spPr>
                    <a:xfrm>
                      <a:off x="6524640" y="6592680"/>
                      <a:ext cx="1656720" cy="228600"/>
                    </a:xfrm>
                    <a:prstGeom prst="rect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pic>
          <p:nvPicPr>
            <p:cNvPr id="228" name="" descr=""/>
            <p:cNvPicPr/>
            <p:nvPr/>
          </p:nvPicPr>
          <p:blipFill>
            <a:blip r:embed="rId42"/>
            <a:srcRect l="0" t="49330" r="66249" b="0"/>
            <a:stretch/>
          </p:blipFill>
          <p:spPr>
            <a:xfrm>
              <a:off x="1525320" y="6573600"/>
              <a:ext cx="977760" cy="26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43"/>
            <a:stretch/>
          </p:blipFill>
          <p:spPr>
            <a:xfrm>
              <a:off x="3286080" y="6472080"/>
              <a:ext cx="1031400" cy="35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44"/>
            <a:stretch/>
          </p:blipFill>
          <p:spPr>
            <a:xfrm>
              <a:off x="4829040" y="6368760"/>
              <a:ext cx="718920" cy="5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490680" y="6215040"/>
              <a:ext cx="7829280" cy="6458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pic>
          <p:nvPicPr>
            <p:cNvPr id="232" name="" descr=""/>
            <p:cNvPicPr/>
            <p:nvPr/>
          </p:nvPicPr>
          <p:blipFill>
            <a:blip r:embed="rId45"/>
            <a:stretch/>
          </p:blipFill>
          <p:spPr>
            <a:xfrm>
              <a:off x="3878280" y="6232320"/>
              <a:ext cx="1009080" cy="49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77720" y="472680"/>
            <a:ext cx="81979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HP-MPI: Industry’s Standard Commercial High Performance MPI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52240" y="1600200"/>
            <a:ext cx="8272440" cy="2255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utura Bk"/>
              </a:rPr>
              <a:t>Portable, Robust, Fast, Supported, Available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utura Bk"/>
              </a:rPr>
              <a:t>vendor independent MPI optimized for all leading architectures, OSs, switches, applications (see below)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utura Bk"/>
              </a:rPr>
              <a:t>Ideal for Customers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utura Bk"/>
              </a:rPr>
              <a:t>freely distributed by &gt;25 ISVs for industry-standard Linux clusters; for WindowCCS in 2007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utura Bk"/>
              </a:rPr>
              <a:t>for developers on in-house applications, HP-MPI licenses are included in XC operating environment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utura Bk"/>
              </a:rPr>
              <a:t>Ideal for Independent Software Vendors (ISVs)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utura Bk"/>
              </a:rPr>
              <a:t>reduces platform test matrix; reduces customer complaints; supported by HP experts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4D4F9-69D2-436D-B097-4240BD5D4DA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F6B7FE7-EB4A-4518-AAB2-9066B77C65E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Interconnect Hardware Supported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Quadrics QsNet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Myrinet  2G/10G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Infiniband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10 Gigabit Ethernet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1DB73-E475-43E4-BDB9-01A1DA16FF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74ECCE9-856B-49B4-B5D8-56DE9FCD0F2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Interconnect Protocol Supported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SHM – Shared-Memory Communication Within Node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TCP – TCP/IP On Every System, IPoIB, etc.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ELAN – Quadrics elan3 &amp; elan4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GM – legacy message-passing system for Myrinet networks 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MX – Myrinet Express 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PSM – Pathscale Message on Qlogic IB hardware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VAPI – Mellanox Infiniband Verbs API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IBV – OFED Infiniband Verbs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UDAPL – User Direct Access Programming Library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ITAPI – Interconnect Transport API (HP-UX only)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IBAL – Infiniband Access Layer (Windows only)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8113A-E141-4CE0-A2F7-F56437C8EC7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72A5DF4-450D-43A0-87B6-6CB2C6B0D80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HP-MPI Infiniband History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9600" y="1419120"/>
            <a:ext cx="827244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-21924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2.0  -- IT-API Infiniband on HP-UX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-21924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2.1  -- VAPI/uDAPL on Linux Infiniband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-21924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2.2.5 – OFED 1.0 and OFED 1.1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-21924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2.2.5.1 – OFED 1.2 plus 1.1 and 1.0, work with 1.2.5 and 1.3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-21924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2.2.7 – Come out this Apr., Support all OFED releases and all major features.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-21924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2.3 – sync with OFED 1.4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0">
              <a:lnSpc>
                <a:spcPct val="7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1" marL="548640" indent="0">
              <a:lnSpc>
                <a:spcPct val="7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60181-DC5C-40EE-9AA9-70F03C5FF69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0ADE0F8-09C6-4DD2-ABEE-F63067A292F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Message Transfer Protocols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RDMA Protoco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end/Receive Protoco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hared-Receiving-Queue (SRQ) Protoco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DB313-F0A6-42A0-A7DE-1A9C2ECC46F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8B8AA2E-F592-42FA-A979-14E579C75DB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Misc. Features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Connection Fail[over]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Automatic Path Migration (APM)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Message Striping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IB Partitioning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Message Coalescing in 2.2.7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HM/NIC/MIX mode within node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1A035-330D-4847-8DD2-0ED5205D203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8893AA3-0D8A-47CC-A4F3-8997AB3E2A1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Misc. Features (cont.)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CPU Binding – Rank, Cyclic, …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XRC support in 2.2.7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uDAPL 2.0 support in 2.2.7 (1.1 and 1.2 as well)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iWARP support via uDAPL protoco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One-side operation using RDMA write/read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Distributed lock/unlock using IB atomic operations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E2248-F8BA-4A40-977F-ACEDB507589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04509BA-7871-49D3-A84E-B2E88304A89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5T14:51:31Z</dcterms:created>
  <dc:creator> dave korf</dc:creator>
  <dc:description>This template was designed for users of PowerPoint 2000</dc:description>
  <cp:keywords>Template</cp:keywords>
  <dc:language>en-US</dc:language>
  <cp:lastModifiedBy>ctang</cp:lastModifiedBy>
  <dcterms:modified xsi:type="dcterms:W3CDTF">2008-04-08T18:24:47Z</dcterms:modified>
  <cp:revision>150</cp:revision>
  <dc:subject>HP Template</dc:subject>
  <dc:title>HP standard dark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