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CDBB1-DB05-43FE-BACD-FA06A1DF5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65040" y="165240"/>
            <a:ext cx="6951600" cy="77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d4243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66840" y="1191960"/>
            <a:ext cx="815328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66840" y="3833280"/>
            <a:ext cx="815328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4DA92-BC19-4031-BFFD-EC89C3C91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65040" y="165240"/>
            <a:ext cx="6951600" cy="77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d4243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66840" y="1191960"/>
            <a:ext cx="397872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45000" y="1191960"/>
            <a:ext cx="397872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66840" y="3833280"/>
            <a:ext cx="397872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45000" y="3833280"/>
            <a:ext cx="397872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33900-E9EE-479C-AAEE-2F07357E6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65040" y="165240"/>
            <a:ext cx="6951600" cy="77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d4243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66840" y="1191960"/>
            <a:ext cx="262512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23720" y="1191960"/>
            <a:ext cx="262512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80240" y="1191960"/>
            <a:ext cx="262512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66840" y="3833280"/>
            <a:ext cx="262512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23720" y="3833280"/>
            <a:ext cx="262512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80240" y="3833280"/>
            <a:ext cx="262512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FB714-5073-4984-A98E-F308A2030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65040" y="165240"/>
            <a:ext cx="6951600" cy="77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d4243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366840" y="1191960"/>
            <a:ext cx="8153280" cy="50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8485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65040" y="165240"/>
            <a:ext cx="6951600" cy="77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d4243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66840" y="1191960"/>
            <a:ext cx="8153280" cy="50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65040" y="165240"/>
            <a:ext cx="6951600" cy="77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d4243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66840" y="1191960"/>
            <a:ext cx="3978720" cy="50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45000" y="1191960"/>
            <a:ext cx="3978720" cy="50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5040" y="165240"/>
            <a:ext cx="6951600" cy="77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d4243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65040" y="165240"/>
            <a:ext cx="695160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7f8485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65040" y="165240"/>
            <a:ext cx="6951600" cy="77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d4243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66840" y="1191960"/>
            <a:ext cx="397872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45000" y="1191960"/>
            <a:ext cx="3978720" cy="50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366840" y="3833280"/>
            <a:ext cx="397872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5040" y="165240"/>
            <a:ext cx="6951600" cy="77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d4243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66840" y="1191960"/>
            <a:ext cx="8153280" cy="50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8485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AD668-2BA5-44A8-9416-9D0336D86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65040" y="165240"/>
            <a:ext cx="6951600" cy="77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d4243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66840" y="1191960"/>
            <a:ext cx="3978720" cy="50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45000" y="1191960"/>
            <a:ext cx="397872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45000" y="3833280"/>
            <a:ext cx="397872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65040" y="165240"/>
            <a:ext cx="6951600" cy="77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d4243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66840" y="1191960"/>
            <a:ext cx="397872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45000" y="1191960"/>
            <a:ext cx="397872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66840" y="3833280"/>
            <a:ext cx="815328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65040" y="165240"/>
            <a:ext cx="6951600" cy="77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d4243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66840" y="1191960"/>
            <a:ext cx="815328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66840" y="3833280"/>
            <a:ext cx="815328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65040" y="165240"/>
            <a:ext cx="6951600" cy="77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d4243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66840" y="1191960"/>
            <a:ext cx="397872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45000" y="1191960"/>
            <a:ext cx="397872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66840" y="3833280"/>
            <a:ext cx="397872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45000" y="3833280"/>
            <a:ext cx="397872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65040" y="165240"/>
            <a:ext cx="6951600" cy="77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d4243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66840" y="1191960"/>
            <a:ext cx="262512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123720" y="1191960"/>
            <a:ext cx="262512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880240" y="1191960"/>
            <a:ext cx="262512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66840" y="3833280"/>
            <a:ext cx="262512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123720" y="3833280"/>
            <a:ext cx="262512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880240" y="3833280"/>
            <a:ext cx="262512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5040" y="165240"/>
            <a:ext cx="6951600" cy="77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d4243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66840" y="1191960"/>
            <a:ext cx="8153280" cy="50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16529-C47C-401D-ABEB-7B47AC99D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65040" y="165240"/>
            <a:ext cx="6951600" cy="77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d4243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66840" y="1191960"/>
            <a:ext cx="3978720" cy="50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45000" y="1191960"/>
            <a:ext cx="3978720" cy="50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30850-D531-4131-B19C-D2F292853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5040" y="165240"/>
            <a:ext cx="6951600" cy="77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d4243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9491D-556B-4247-A61B-94989E12D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65040" y="165240"/>
            <a:ext cx="695160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7f8485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489C6-ECC2-43A4-B4CA-60B3D4BAF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65040" y="165240"/>
            <a:ext cx="6951600" cy="77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d4243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66840" y="1191960"/>
            <a:ext cx="397872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45000" y="1191960"/>
            <a:ext cx="3978720" cy="50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66840" y="3833280"/>
            <a:ext cx="397872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F9C03-DFE3-4BBC-8F54-43DC50C13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65040" y="165240"/>
            <a:ext cx="6951600" cy="77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d4243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66840" y="1191960"/>
            <a:ext cx="3978720" cy="50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45000" y="1191960"/>
            <a:ext cx="397872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45000" y="3833280"/>
            <a:ext cx="397872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133B6-AEAD-4849-A9C5-698A9C645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65040" y="165240"/>
            <a:ext cx="6951600" cy="77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d4243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66840" y="1191960"/>
            <a:ext cx="397872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45000" y="1191960"/>
            <a:ext cx="397872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66840" y="3833280"/>
            <a:ext cx="815328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E9732-6080-45AF-A10D-3C251FA43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5040" y="165240"/>
            <a:ext cx="6951600" cy="77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d4243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3d4243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66840" y="1191960"/>
            <a:ext cx="8153280" cy="50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5f5f5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5f5f5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 flipV="1">
            <a:off x="971640" y="7101000"/>
            <a:ext cx="8064360" cy="1440"/>
          </a:xfrm>
          <a:prstGeom prst="line">
            <a:avLst/>
          </a:prstGeom>
          <a:ln w="9360">
            <a:solidFill>
              <a:srgbClr val="7f84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rcRect l="26450" t="65987" r="810" b="214"/>
          <a:stretch/>
        </p:blipFill>
        <p:spPr>
          <a:xfrm>
            <a:off x="5562720" y="5549760"/>
            <a:ext cx="3581280" cy="1258920"/>
          </a:xfrm>
          <a:prstGeom prst="rect">
            <a:avLst/>
          </a:prstGeom>
          <a:ln w="0">
            <a:noFill/>
          </a:ln>
        </p:spPr>
      </p:pic>
      <p:pic>
        <p:nvPicPr>
          <p:cNvPr id="4" name="" descr=""/>
          <p:cNvPicPr/>
          <p:nvPr/>
        </p:nvPicPr>
        <p:blipFill>
          <a:blip r:embed="rId3"/>
          <a:srcRect l="0" t="0" r="0" b="26546"/>
          <a:stretch/>
        </p:blipFill>
        <p:spPr>
          <a:xfrm>
            <a:off x="7435800" y="157320"/>
            <a:ext cx="1538280" cy="32544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pril 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51814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FA Present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2971440" y="62290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A4A36-A461-454D-B60D-133257623E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rcRect l="4681" t="0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604600" y="3438360"/>
            <a:ext cx="5797800" cy="89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4e5e6"/>
                </a:solidFill>
                <a:latin typeface="Verdana"/>
              </a:rPr>
              <a:t>Click to edit the title text format</a:t>
            </a:r>
            <a:endParaRPr b="1" lang="en-US" sz="2200" spc="-1" strike="noStrike">
              <a:solidFill>
                <a:srgbClr val="e4e5e6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8485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7f8485"/>
              </a:solidFill>
              <a:latin typeface="Verdan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00"/>
              </a:spcBef>
              <a:buClr>
                <a:srgbClr val="5f5f5f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5f5f5f"/>
              </a:solidFill>
              <a:latin typeface="Verdana"/>
            </a:endParaRPr>
          </a:p>
          <a:p>
            <a:pPr lvl="4" marL="1828800" algn="ctr">
              <a:spcBef>
                <a:spcPts val="400"/>
              </a:spcBef>
              <a:buClr>
                <a:srgbClr val="5f5f5f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5f5f5f"/>
              </a:solidFill>
              <a:latin typeface="Verdan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5f5f5f"/>
              </a:solidFill>
              <a:latin typeface="Verdan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5f5f5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supercomputingonline.com/article.php?sid=15357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590920" y="2614680"/>
            <a:ext cx="5797440" cy="89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4e5e6"/>
                </a:solidFill>
                <a:latin typeface="Verdana"/>
              </a:rPr>
              <a:t>MPI and OFA</a:t>
            </a:r>
            <a:br>
              <a:rPr sz="2000"/>
            </a:br>
            <a:r>
              <a:rPr b="1" lang="en-US" sz="2000" spc="-1" strike="noStrike">
                <a:solidFill>
                  <a:srgbClr val="e4e5e6"/>
                </a:solidFill>
                <a:latin typeface="Verdana"/>
              </a:rPr>
              <a:t>Divergent interests?</a:t>
            </a:r>
            <a:endParaRPr b="1" lang="en-US" sz="2000" spc="-1" strike="noStrike">
              <a:solidFill>
                <a:srgbClr val="e4e5e6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590920" y="3962520"/>
            <a:ext cx="5184720" cy="6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8485"/>
                </a:solidFill>
                <a:latin typeface="Verdana"/>
              </a:rPr>
              <a:t>Dan Caldwell, VP WW Channel Sales</a:t>
            </a:r>
            <a:endParaRPr b="0" lang="en-US" sz="1800" spc="-1" strike="noStrike">
              <a:solidFill>
                <a:srgbClr val="7f8485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8485"/>
                </a:solidFill>
                <a:latin typeface="Verdana"/>
              </a:rPr>
              <a:t>Scali, Inc</a:t>
            </a:r>
            <a:endParaRPr b="0" lang="en-US" sz="1800" spc="-1" strike="noStrike">
              <a:solidFill>
                <a:srgbClr val="7f8485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65040" y="165240"/>
            <a:ext cx="6951600" cy="77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d4243"/>
                </a:solidFill>
                <a:latin typeface="Verdana"/>
              </a:rPr>
              <a:t>The role of OFA in HPC</a:t>
            </a:r>
            <a:endParaRPr b="1" lang="en-US" sz="2600" spc="-1" strike="noStrike">
              <a:solidFill>
                <a:srgbClr val="3d4243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66840" y="1192320"/>
            <a:ext cx="815328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traditional role of Open Fabrics focuses on cables that connect motherboards, switches, and storage in clust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rowth of processors in HPC expected to be 30% in 2010 (per IDC), and number of cores per processor is 55% (estimate) and increas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refore the bulk of the “HPC Interconnect Fabric” is moving from cables to the server motherboard and the various local bus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FA April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C1BE1-8A4A-430B-B087-25AB18D0CEF6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2008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65040" y="165240"/>
            <a:ext cx="6951600" cy="77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d4243"/>
                </a:solidFill>
                <a:latin typeface="Verdana"/>
              </a:rPr>
              <a:t>MPI Performance in HPC systems</a:t>
            </a:r>
            <a:endParaRPr b="1" lang="en-US" sz="2600" spc="-1" strike="noStrike">
              <a:solidFill>
                <a:srgbClr val="3d4243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15364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cali has always been the performance MPI lead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3b1"/>
                </a:solidFill>
                <a:uFillTx/>
                <a:latin typeface="Verdana"/>
                <a:hlinkClick r:id="rId1"/>
              </a:rPr>
              <a:t>http://www.supercomputingonline.com/article.php?sid=15357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owever, we suggest that OFA adopt a recommended performance measurement methodolog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ductivity, or ‘jobs per day’, on a clust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ow do you know how well OFA is doing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FA must examine the performance within a multi-core nod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16 core “Personal Supercomputer” will still run legacy MPI applica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FA April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5D19F-1E75-4ED8-8DBC-0A1B8EED0E8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2008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65040" y="165240"/>
            <a:ext cx="6951600" cy="77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600" spc="-1" strike="noStrike">
                <a:solidFill>
                  <a:srgbClr val="3d4243"/>
                </a:solidFill>
                <a:latin typeface="Verdana"/>
              </a:rPr>
              <a:t>Single Node, 8 cores, osu_bw, 8 byte, Intel Xeon 3.00GHz (X5365)</a:t>
            </a:r>
            <a:endParaRPr b="1" lang="en-US" sz="2600" spc="-1" strike="noStrike">
              <a:solidFill>
                <a:srgbClr val="3d4243"/>
              </a:solidFill>
              <a:latin typeface="Verdana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0" y="990720"/>
          <a:ext cx="9144000" cy="5565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90720"/>
                    <a:ext cx="9144000" cy="556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FA April 200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935F4-99C8-4CCC-A9A7-F8BDD7C1EBDB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2008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65040" y="165240"/>
            <a:ext cx="6951600" cy="77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d4243"/>
                </a:solidFill>
                <a:latin typeface="Verdana"/>
              </a:rPr>
              <a:t>MPI enables other HPC functionality</a:t>
            </a:r>
            <a:endParaRPr b="1" lang="en-US" sz="2600" spc="-1" strike="noStrike">
              <a:solidFill>
                <a:srgbClr val="3d4243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66840" y="1191960"/>
            <a:ext cx="8153280" cy="50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finiband Trunk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mbining IB channels for greater throughpu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one for Sun / Tsukuba University in Japa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spend / Resume and Checkpoint – Restar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eneric functionality  - not application specific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monstrated job migration with HPC4U in Brussels, February 11, 2008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d….  MPI based Power Manage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day – AMD / Barcelona onl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FA April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EAA72-B147-4F3C-B3BA-266FDF5A2DB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2008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64680" y="390240"/>
            <a:ext cx="801684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600" spc="-1" strike="noStrike">
                <a:solidFill>
                  <a:srgbClr val="3d4243"/>
                </a:solidFill>
                <a:latin typeface="Verdana"/>
              </a:rPr>
              <a:t>”</a:t>
            </a:r>
            <a:r>
              <a:rPr b="1" lang="nb-NO" sz="2600" spc="-1" strike="noStrike">
                <a:solidFill>
                  <a:srgbClr val="3d4243"/>
                </a:solidFill>
                <a:latin typeface="Verdana"/>
              </a:rPr>
              <a:t>Waiting as fast as it can” (CPU spinning) – examples (AMD Barcelona Quad Core):</a:t>
            </a:r>
            <a:endParaRPr b="1" lang="en-US" sz="2600" spc="-1" strike="noStrike">
              <a:solidFill>
                <a:srgbClr val="3d4243"/>
              </a:solidFill>
              <a:latin typeface="Verdan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1550880"/>
            <a:ext cx="4367160" cy="273384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4519440" y="1549440"/>
            <a:ext cx="4624560" cy="272556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1785960" y="2066760"/>
            <a:ext cx="2359080" cy="339840"/>
          </a:xfrm>
          <a:prstGeom prst="downArrowCallout">
            <a:avLst>
              <a:gd name="adj1" fmla="val 173559"/>
              <a:gd name="adj2" fmla="val 173543"/>
              <a:gd name="adj3" fmla="val 16667"/>
              <a:gd name="adj4" fmla="val 66667"/>
            </a:avLst>
          </a:prstGeom>
          <a:solidFill>
            <a:srgbClr val="e4e5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800" spc="-1" strike="noStrike">
                <a:solidFill>
                  <a:srgbClr val="000000"/>
                </a:solidFill>
                <a:latin typeface="Arial"/>
              </a:rPr>
              <a:t>Power Saving Potential Zo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284880" y="1862280"/>
            <a:ext cx="2359080" cy="347400"/>
          </a:xfrm>
          <a:prstGeom prst="downArrowCallout">
            <a:avLst>
              <a:gd name="adj1" fmla="val 169782"/>
              <a:gd name="adj2" fmla="val 169767"/>
              <a:gd name="adj3" fmla="val 16667"/>
              <a:gd name="adj4" fmla="val 66667"/>
            </a:avLst>
          </a:prstGeom>
          <a:solidFill>
            <a:srgbClr val="e4e5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800" spc="-1" strike="noStrike">
                <a:solidFill>
                  <a:srgbClr val="000000"/>
                </a:solidFill>
                <a:latin typeface="Arial"/>
              </a:rPr>
              <a:t>Power Saving Potential Zo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148760" y="4572000"/>
            <a:ext cx="73573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Arial"/>
              </a:rPr>
              <a:t>Considering 20 microseconds to change power states in an Quad co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Arial"/>
              </a:rPr>
              <a:t>Opteron, latency above 10 milliseconds in an MPI collective</a:t>
            </a:r>
            <a:br>
              <a:rPr sz="1800"/>
            </a:br>
            <a:r>
              <a:rPr b="0" lang="nb-NO" sz="1800" spc="-1" strike="noStrike">
                <a:solidFill>
                  <a:srgbClr val="000000"/>
                </a:solidFill>
                <a:latin typeface="Arial"/>
              </a:rPr>
              <a:t>can trigger a ”throttle down”.  In a call with a 10 millisecond</a:t>
            </a:r>
            <a:br>
              <a:rPr sz="1800"/>
            </a:br>
            <a:r>
              <a:rPr b="0" lang="nb-NO" sz="1800" spc="-1" strike="noStrike">
                <a:solidFill>
                  <a:srgbClr val="000000"/>
                </a:solidFill>
                <a:latin typeface="Arial"/>
              </a:rPr>
              <a:t>latency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 microseconds to throttle down plus 200 to re-establish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ll speed would use only 2.5% of the time of the cal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FA April 200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8C32E-9BDF-4689-86FD-06A60ACAC8EF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2008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64680" y="165240"/>
            <a:ext cx="80931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d4243"/>
                </a:solidFill>
                <a:latin typeface="Verdana"/>
              </a:rPr>
              <a:t>Real World Initial Tests - SPEC MPI2007</a:t>
            </a:r>
            <a:endParaRPr b="1" lang="en-US" sz="2600" spc="-1" strike="noStrike">
              <a:solidFill>
                <a:srgbClr val="3d4243"/>
              </a:solidFill>
              <a:latin typeface="Verdana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152280" y="1295280"/>
          <a:ext cx="8918640" cy="4280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295280"/>
                    <a:ext cx="8918640" cy="428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FA April 200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44ED9-1667-4171-9DD1-B210FE25D952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2008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65040" y="165240"/>
            <a:ext cx="6951600" cy="77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d4243"/>
                </a:solidFill>
                <a:latin typeface="Verdana"/>
              </a:rPr>
              <a:t>Conclusions</a:t>
            </a:r>
            <a:endParaRPr b="1" lang="en-US" sz="2600" spc="-1" strike="noStrike">
              <a:solidFill>
                <a:srgbClr val="3d4243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66840" y="1191960"/>
            <a:ext cx="8153280" cy="50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PI and OFA need to co-exist, but we both need to expand our reach in HPC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pen Fabrics needs to embrace new functionality, performance metrics, and definitions of ‘fabric’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ower savings, user-model (core affinity policies), best practices in interconnect design, and emphasis on continued performance across the entire HPC system is critical to the relevancy of OF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FA April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9EA94-5841-45CB-8A9F-3D0FCF47A22E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2008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7T21:27:35Z</dcterms:created>
  <dc:creator>Dan Caldwell</dc:creator>
  <dc:description/>
  <dc:language>en-US</dc:language>
  <cp:lastModifiedBy> Dan Caldwell</cp:lastModifiedBy>
  <dcterms:modified xsi:type="dcterms:W3CDTF">2008-04-09T00:21:58Z</dcterms:modified>
  <cp:revision>19</cp:revision>
  <dc:subject/>
  <dc:title>MPI and OFA Divergent interests?</dc:title>
</cp:coreProperties>
</file>