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308E-4737-4AA6-A256-C5468153886C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tgt.berlios.de/" TargetMode="External"/><Relationship Id="rId2" Type="http://schemas.openxmlformats.org/officeDocument/2006/relationships/hyperlink" Target="http://stgt.berlios.de/" TargetMode="External"/><Relationship Id="rId3" Type="http://schemas.openxmlformats.org/officeDocument/2006/relationships/hyperlink" Target="https://wiki.openfabrics.org/tiki-index.php?page=ISER-target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TGT/iSER Target Overview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4952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Gerl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erlitz@voltair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GT package (RPM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gtd –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gt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daem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gtad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dmin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gt-setup-l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elper/simper admin t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es tgta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 pages to the admi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ing  STG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gt-setup-lun -d /dev/sdy -n seed1-sdy 192.168.10.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liner setup which translates to the following sequence with tgta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gtadm --lld iscsi --op new --mode target --tid 1 -T iqn.2001…-seed1-s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logical unit to the tar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gtadm --lld iscsi --op new --mode logicalunit --tid 1 --lun 1 -b /dev/s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initiators to this target in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gtadm --lld iscsi --op bind --mode target --tid 1 -I 192.168.10.8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ing  STGT  - cont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gtadm --mode target --op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1: iqn.2001-04.com.onion-seed1-s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ver: isc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 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: controlle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this LUN is skipped h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: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SI ID: deadbeaf1: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SI SN: beaf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: 82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ine: 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on/Reset: 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ing store: /dev/s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L 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2.168.10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me performance number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ramdi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ingle initiator, source Volt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W: READ – 1200 MB/sec WRITE – 870 MB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PS (I/O per second): READ – 62K WRITE – 6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ramdis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urce Pete Wyckoff et 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ncy for some OSD ops:  ping 33us, getattr – 65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initiator BW : READ – 550 MB/sec WRITE – 500 MB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itiators BW: both READ/WRITE reach 900 MB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variations between READ / W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essage size gives the max B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d 200KB, write 500K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initiators needed to get the aggregated BW under specific message size: READ – 2 WRITE –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GT  / commun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munity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 sit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gt.berlios.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point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it tree where tgt is maintain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ers mailing lis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 @ open-fabric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wiki.openfabrics.org/tiki-index.php?page=ISER-targ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 / example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packages for RH5 U1 and SLES10 S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t: framework for storage target driv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jita Tomonori and Mike Christie. Ottawa Linux Symposium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ER Storage Target for Object-based Storag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nis Dalessandro, Ananth Devulapalli, Pete Wyck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s of MSST'07, SNAPI Workshop, San Diego, CA, Sep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t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http://www.kernel.org/pub/scm/linux/kernel/git/tomo/tgt.g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me background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 structure / archite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rget driv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SI target &amp; iSCSI RDMA (iSER)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SI dev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ing / configuring STG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me performance numb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GT commun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 for SCSI protocol independent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GT implemented / maintained by Fujita Tomonori &amp; Mike Chris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CSI RDMA (iSER) transport implemented by Ohio Supercomputer Center staff under the direction of Pete Wyck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eneral structure / architect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made of three el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he SCSI state machine, I/O execution and management interface which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 in a SCSI protocol independent mann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ed to user space, execut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g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r space daem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arget drivers - network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: SCSI devices - storage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ux kernel was enhanc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6.2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llow STGT use kernel target driv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space – iSCSI, FC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space – FC, IBMV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driver API to tgt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rget create / destroy / update / s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u create / lun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ify on end of command /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CSI target d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iSCSI transport independent state-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s iSCSI transport “libra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transports: TCP and RDMA (iS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SI transport API to the iSCSI target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“end-point” notation to describe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-point read / write / rdma-read / rdma-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-point (implicit accept) / close / release /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buf alloc /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iSCSI RDMA (iSER) transpo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ov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bibverb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librdma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access to the RDMA HW de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 transport neutral*, adopted to the Linux initi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RC QP (Queue P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 read (SCSI write), RDMA write (SCSI 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for the SCSI commands request / respons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(eg login, nops), iSCSI immediate data / unsolicited data-outs PDU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ER transpor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main design issu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 memory in advance to avoid performance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rget doesn’t advertise rdma keys hence a pool can be used for multiple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to a design that relies on socket readability /  writeability (request notification, process comple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SI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BC - block command process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D - object storage device comman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C - controller command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C - multimedia command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C -  Medium Changer command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SI device API to stgt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 init / config /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vice op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g TUR, INQ, SPACE, READ*, WRITE*, S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SCSI devices a “backing store” layer further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ossible types: aio, mmap, sync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ogerlitz</cp:lastModifiedBy>
  <dcterms:modified xsi:type="dcterms:W3CDTF">2008-04-08T20:53:54Z</dcterms:modified>
  <cp:revision>41</cp:revision>
  <dc:subject/>
  <dc:title>Slide 1</dc:title>
</cp:coreProperties>
</file>