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90E-5CEA-4AC8-903D-B9F247D7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126-164F-4AFF-8A1E-D8BDA7E8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E21-53D1-4C7C-8D97-21B383E3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C91-FAB5-4336-9448-CA088F02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BFE-50D9-49AE-A1D9-C1369180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8160-D73A-4996-8A41-06B7CE1C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571-F6AD-4274-A8ED-E6EE9AE1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543-E0EC-4564-A26F-03219563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F81-9B5C-4996-A592-919D0A22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0F9-E622-4CAF-B6FA-F397E202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CD31-AD98-49F6-8CEA-82BAB8A0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14F-D0C3-455C-8A06-0FA5EFB9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81160" y="1828800"/>
            <a:ext cx="4981680" cy="4933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52280" y="304920"/>
            <a:ext cx="8839080" cy="1295280"/>
            <a:chOff x="152280" y="304920"/>
            <a:chExt cx="8839080" cy="1295280"/>
          </a:xfrm>
        </p:grpSpPr>
        <p:sp>
          <p:nvSpPr>
            <p:cNvPr id="3" name=""/>
            <p:cNvSpPr/>
            <p:nvPr/>
          </p:nvSpPr>
          <p:spPr>
            <a:xfrm>
              <a:off x="152280" y="304920"/>
              <a:ext cx="883908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99080" y="343080"/>
              <a:ext cx="873612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52280" y="2362320"/>
            <a:ext cx="8839080" cy="1295280"/>
            <a:chOff x="152280" y="2362320"/>
            <a:chExt cx="8839080" cy="1295280"/>
          </a:xfrm>
        </p:grpSpPr>
        <p:sp>
          <p:nvSpPr>
            <p:cNvPr id="43" name=""/>
            <p:cNvSpPr/>
            <p:nvPr/>
          </p:nvSpPr>
          <p:spPr>
            <a:xfrm>
              <a:off x="152280" y="2362320"/>
              <a:ext cx="883908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9080" y="2400480"/>
              <a:ext cx="873612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558B-3090-4414-8B31-9D039ECC824A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60760" y="204840"/>
            <a:ext cx="2021040" cy="200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pen-mpi.org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open-mpi.org/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jpeg"/><Relationship Id="rId25" Type="http://schemas.openxmlformats.org/officeDocument/2006/relationships/image" Target="../media/image27.jpeg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en MPI OpenFabrics Upd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753000" y="5003640"/>
            <a:ext cx="1638000" cy="86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357360" y="3794760"/>
            <a:ext cx="244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ff Squy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v1.3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core”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ewest Portable Linux Processor Affinity (PLPA) release (see 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"/>
              </a:rPr>
              <a:t>www.open-mpi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binding to specific socket/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” integration to resource managers to allow them to handle affinity (post 1.3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cut of “Carto”[graphy]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 and use topology of host, fa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selection, collectiv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adm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release taking too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decided 1.3 feature-driven, no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.5 years since initial 1.2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move to a shorter plan releas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once a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under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variety of features planned for “post 1.3”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 Join U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da31e"/>
                </a:solidFill>
                <a:uFillTx/>
                <a:latin typeface="Arial"/>
                <a:hlinkClick r:id="rId1"/>
              </a:rPr>
              <a:t>http://www.open-mpi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denote: MPI For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 Forum re-conv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: bug fixes, consolidate to one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: “bigger” bug 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0: addition of entirely new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trong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courage all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/ MPI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Vs who use M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I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: April 28-30, Chic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1752480"/>
            <a:ext cx="88394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PI Current Membe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members, 9 contributors, 1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research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10080" y="4191120"/>
            <a:ext cx="1443240" cy="357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759120" y="3479760"/>
            <a:ext cx="163836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010280" y="6095880"/>
            <a:ext cx="1828800" cy="489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809880" y="2666880"/>
            <a:ext cx="1524240" cy="555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5181480"/>
            <a:ext cx="1671480" cy="1059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791320" y="3276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0" y="4572000"/>
            <a:ext cx="1498680" cy="698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1752480" y="5791320"/>
            <a:ext cx="1227240" cy="941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1600200" y="4495680"/>
            <a:ext cx="1398600" cy="384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5334120" y="2362320"/>
            <a:ext cx="1765080" cy="901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505320" y="5410080"/>
            <a:ext cx="1388880" cy="806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4067280" y="4648320"/>
            <a:ext cx="1287360" cy="501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3"/>
          <a:stretch/>
        </p:blipFill>
        <p:spPr>
          <a:xfrm>
            <a:off x="5257800" y="525780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4"/>
          <a:stretch/>
        </p:blipFill>
        <p:spPr>
          <a:xfrm>
            <a:off x="7162920" y="5029200"/>
            <a:ext cx="1523880" cy="42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5"/>
          <a:stretch/>
        </p:blipFill>
        <p:spPr>
          <a:xfrm>
            <a:off x="7149960" y="3238560"/>
            <a:ext cx="184176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6"/>
          <a:stretch/>
        </p:blipFill>
        <p:spPr>
          <a:xfrm>
            <a:off x="7391520" y="2209680"/>
            <a:ext cx="1523880" cy="898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7"/>
          <a:stretch/>
        </p:blipFill>
        <p:spPr>
          <a:xfrm>
            <a:off x="8064360" y="3962520"/>
            <a:ext cx="779760" cy="1030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8"/>
          <a:stretch/>
        </p:blipFill>
        <p:spPr>
          <a:xfrm>
            <a:off x="6616800" y="4038480"/>
            <a:ext cx="1504800" cy="866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9"/>
          <a:stretch/>
        </p:blipFill>
        <p:spPr>
          <a:xfrm>
            <a:off x="1752480" y="5029200"/>
            <a:ext cx="1355760" cy="549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0"/>
          <a:stretch/>
        </p:blipFill>
        <p:spPr>
          <a:xfrm>
            <a:off x="5257800" y="6172200"/>
            <a:ext cx="1371600" cy="412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1"/>
          <a:stretch/>
        </p:blipFill>
        <p:spPr>
          <a:xfrm>
            <a:off x="3200400" y="4495680"/>
            <a:ext cx="609480" cy="611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2"/>
          <a:stretch/>
        </p:blipFill>
        <p:spPr>
          <a:xfrm>
            <a:off x="7238880" y="5638680"/>
            <a:ext cx="1246320" cy="438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3"/>
          <a:stretch/>
        </p:blipFill>
        <p:spPr>
          <a:xfrm>
            <a:off x="3352680" y="6324480"/>
            <a:ext cx="1727280" cy="38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4"/>
          <a:stretch/>
        </p:blipFill>
        <p:spPr>
          <a:xfrm>
            <a:off x="5105520" y="4572000"/>
            <a:ext cx="1676160" cy="40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5"/>
          <a:stretch/>
        </p:blipFill>
        <p:spPr>
          <a:xfrm>
            <a:off x="609480" y="6124680"/>
            <a:ext cx="5590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release series: 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community release: v1.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d yeste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v1.3 includes: v1.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nclude v1.2.6 in OFED v1.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towards next major series: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 release date difficult to pred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ding the ca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1.3: OpenFabrics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Manage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CM (many thanks Sean Hefty), RDMA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RC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M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RQ (including XRC integ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 queues with different size buffers (i.e., send on Q with closest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fficient use of registe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se of UD [yet?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 iWARP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Grid Computing / Chel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RDMA CM, auditing verbs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fficult than initially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CM support to OMPI was “ha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irmware, driver, and OMPI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mostly complete; still to-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 parameter file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ports / devices striping set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WARP Challe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lsio T3 does not support S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v_post_recv() rac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I uses multiple QPs per peer pair (BSR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l OMPI flow control goes on one 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ed memory utilization will b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issues fixed in “T4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“initiator-must-send-first”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d by hiding 0 byte RDMA read in Chelsio firmware / driver (NetEffect has simi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general / NIC-independent solution coming in OFED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WARP 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huge” surp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s worked a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MPI and MVAPICH use the verbs stack very diff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ught out many, many latent vendor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rong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ourage other iWARP vendors to start testing / participating A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 Testing Tool (MTT) can hel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v1.3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ping VAPI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job launch scalability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L RoadRunner (LANL, IB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C Ranger (S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guar (ORN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hter integration with paralle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DT parallel debugger “understands” opaque MPI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mpirTrace integration (tracefile / post-mortem a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20:49:25Z</dcterms:created>
  <dc:creator>Brian Barrett</dc:creator>
  <dc:description/>
  <dc:language>en-US</dc:language>
  <cp:lastModifiedBy>Jeff Squyres</cp:lastModifiedBy>
  <dcterms:modified xsi:type="dcterms:W3CDTF">2008-04-08T16:44:59Z</dcterms:modified>
  <cp:revision>106</cp:revision>
  <dc:subject/>
  <dc:title>Fun with Build Systems</dc:title>
</cp:coreProperties>
</file>