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A1E-4698-4B38-91E3-0EBA6EF429E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counts – ipoib traffic to the SRP target port will be caught be SRP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must be defined – place doesn’t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add multiple range lists? Can we use hex/base10 fre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s in unicast IPoIB do not find their way to mcas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to asign SL to part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orts of traffic; different needs, need to provide these needs in a single fa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X: 8 + vl15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s can be configured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cast already support traffic class” !#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v4 TOS, IPv6 TC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ffserve cod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_service_type – before address resolution, only affects new connec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 class for IPoIB – good only for QoS based on connected nodes, not flow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Does IPoIB take the SL from the p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034-2EE0-48A0-910E-3D128CCE1A9B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Quality and Service in OFED 3.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onfiguring SL-to-VL and VL Arbi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ights are specified in 64 byte cred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multiples of MTU/64 (e.g., 32 for 2K MTU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Ls with 0 credits are never schedul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pecial high-limit values: 0 – single packet, 255 – no lim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ice specific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A (_ca_), router (_rtr_), switch port 0 (_sw0), switch external ports (_swe_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597960" y="3962520"/>
            <a:ext cx="8143560" cy="22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default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CA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Policy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e consists of the following optional sec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ul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rt-grou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match-ru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configuration mod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ifi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y qos-ulps section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anc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model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mple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s SLs according 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PoIB with default / specified pke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DP / iSER / RDS with (optional) port ran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 with target port gu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y application with specific ServiceId / pkey / target port guid rang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 rule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3956040"/>
            <a:ext cx="7159680" cy="228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, port-num 10000-20000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rp, target-port-guid 0x100000000000FFFF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, port-num 25000      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ser                                    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, pkey 0x0001                           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                                        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any, pkey 0x0ABC                            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default                                      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end-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port grou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level specifies requirements for SL, MTU, rate, et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matching rules that map PathRecord components to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port groups and partition names to facilitate synta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port grou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d based 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UID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de description/por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Key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ype (CA/Switch/etc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4440240" y="1476360"/>
            <a:ext cx="4295520" cy="483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RP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node desc and IB port 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name: ws1 HCA-1/P1, ws2 HCA-1/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: P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witches and 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-type: SWITCH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QoS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5276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l = subset of PathRecord attrib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, MTU, Rate, packet-lif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tandard PathRecord encod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5655240" y="1679400"/>
            <a:ext cx="3106800" cy="392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default QoS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Low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for the lowest p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tu-limit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-limi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et-lif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Matching Rul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676520"/>
            <a:ext cx="4419720" cy="447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by class 7-9 o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match by all parameters (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0F00-0x0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rule maps a 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urce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stination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rvice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a Qo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rst matched rule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1: HP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arate from I/O lo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7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Control (Lustre MD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lat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Data (Lustre OS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HPC QoS Adminis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827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run –sl 0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32000" y="3110040"/>
            <a:ext cx="6592680" cy="1315080"/>
            <a:chOff x="1332000" y="3110040"/>
            <a:chExt cx="6592680" cy="1315080"/>
          </a:xfrm>
        </p:grpSpPr>
        <p:sp>
          <p:nvSpPr>
            <p:cNvPr id="297" name=""/>
            <p:cNvSpPr/>
            <p:nvPr/>
          </p:nvSpPr>
          <p:spPr>
            <a:xfrm>
              <a:off x="1332000" y="3110040"/>
              <a:ext cx="6592680" cy="1071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2000" y="3110040"/>
              <a:ext cx="651996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0 # default SL 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for MP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OST1,OST2,OST3,OST4 :1 # SL for Lustre 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MDS1,MDS2           :2 # SL for Lustre 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32000" y="4862520"/>
            <a:ext cx="6592680" cy="1467000"/>
            <a:chOff x="1332000" y="4862520"/>
            <a:chExt cx="6592680" cy="1467000"/>
          </a:xfrm>
        </p:grpSpPr>
        <p:sp>
          <p:nvSpPr>
            <p:cNvPr id="300" name=""/>
            <p:cNvSpPr/>
            <p:nvPr/>
          </p:nvSpPr>
          <p:spPr>
            <a:xfrm>
              <a:off x="1332000" y="4862520"/>
              <a:ext cx="6592680" cy="101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2000" y="4862520"/>
              <a:ext cx="65199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2: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224,1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2: ED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nagement traffic (ssh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management VLAN (partition A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1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pplication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application VLAN (partition B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olated from storage and datab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atabase Cluster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ottle neck at storage nod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Band QoS over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st software sup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ming QoS levels 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ing a QoS poli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configu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DC QoS Administ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915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configura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2133720"/>
            <a:ext cx="6781320" cy="1649520"/>
            <a:chOff x="1219320" y="2133720"/>
            <a:chExt cx="6781320" cy="1649520"/>
          </a:xfrm>
        </p:grpSpPr>
        <p:sp>
          <p:nvSpPr>
            <p:cNvPr id="307" name=""/>
            <p:cNvSpPr/>
            <p:nvPr/>
          </p:nvSpPr>
          <p:spPr>
            <a:xfrm>
              <a:off x="1219320" y="2133720"/>
              <a:ext cx="6781320" cy="135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9320" y="2133720"/>
              <a:ext cx="670716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          :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1                      :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2                      :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ds                                     :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rp, target-port-guid SRP1, SRP2, SRP3  :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254240" y="3948120"/>
            <a:ext cx="6624360" cy="1467000"/>
            <a:chOff x="1254240" y="3948120"/>
            <a:chExt cx="6624360" cy="1467000"/>
          </a:xfrm>
        </p:grpSpPr>
        <p:sp>
          <p:nvSpPr>
            <p:cNvPr id="310" name=""/>
            <p:cNvSpPr/>
            <p:nvPr/>
          </p:nvSpPr>
          <p:spPr>
            <a:xfrm>
              <a:off x="1254240" y="3948120"/>
              <a:ext cx="6624360" cy="103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54240" y="3948120"/>
              <a:ext cx="655164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1:32,2:96,3:96,4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247760" y="5532480"/>
            <a:ext cx="6524640" cy="641520"/>
            <a:chOff x="1247760" y="5532480"/>
            <a:chExt cx="6524640" cy="641520"/>
          </a:xfrm>
        </p:grpSpPr>
        <p:sp>
          <p:nvSpPr>
            <p:cNvPr id="313" name=""/>
            <p:cNvSpPr/>
            <p:nvPr/>
          </p:nvSpPr>
          <p:spPr>
            <a:xfrm>
              <a:off x="1247760" y="5532480"/>
              <a:ext cx="6524640" cy="62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7760" y="5532480"/>
              <a:ext cx="645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=0x7fff,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A=0x8001, sl=1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B=0x8002, sl=2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ation file organiz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port groups to a different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d both by partition and QoS f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SL/VL configuration to Qo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 QoS options from parti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se will be obtained by IPoIB from MGID PathReco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wildcards for port-name ma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“user friendly” aliases to SA attribute encodings (e.g., MTU25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Traffic Class to matching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host-side Q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 limi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RR scheduling between QP groups sharing the same S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oS in Infiniband is simple and elega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ntrally managed, consistent throughout the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 functional in OFED1.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ULPs are QoS a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 integrated in opens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figuration is a piece of cak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ust assign each ULP the desired service level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267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data-center traffic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requires different service proper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aten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achieves these requirements on a unified wi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19720" y="1066680"/>
            <a:ext cx="4649760" cy="5374080"/>
            <a:chOff x="4419720" y="1066680"/>
            <a:chExt cx="4649760" cy="5374080"/>
          </a:xfrm>
        </p:grpSpPr>
        <p:sp>
          <p:nvSpPr>
            <p:cNvPr id="100" name=""/>
            <p:cNvSpPr/>
            <p:nvPr/>
          </p:nvSpPr>
          <p:spPr>
            <a:xfrm>
              <a:off x="4662360" y="2519280"/>
              <a:ext cx="3962520" cy="304812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8100000"/>
            </a:gra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329600" y="5186520"/>
              <a:ext cx="455400" cy="304560"/>
              <a:chOff x="7329600" y="5186520"/>
              <a:chExt cx="455400" cy="304560"/>
            </a:xfrm>
          </p:grpSpPr>
          <p:sp>
            <p:nvSpPr>
              <p:cNvPr id="102" name=""/>
              <p:cNvSpPr/>
              <p:nvPr/>
            </p:nvSpPr>
            <p:spPr>
              <a:xfrm>
                <a:off x="7329600" y="5186520"/>
                <a:ext cx="455400" cy="304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416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152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5784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869240" y="208584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dminist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481880" y="5338800"/>
              <a:ext cx="455760" cy="304920"/>
              <a:chOff x="7481880" y="5338800"/>
              <a:chExt cx="455760" cy="30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7481880" y="53388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8680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3416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048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10480" y="5491080"/>
              <a:ext cx="455760" cy="304920"/>
              <a:chOff x="7710480" y="5491080"/>
              <a:chExt cx="455760" cy="304920"/>
            </a:xfrm>
          </p:grpSpPr>
          <p:sp>
            <p:nvSpPr>
              <p:cNvPr id="113" name=""/>
              <p:cNvSpPr/>
              <p:nvPr/>
            </p:nvSpPr>
            <p:spPr>
              <a:xfrm>
                <a:off x="7710480" y="54910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1540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6276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3908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94120" y="526248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6948360" y="3052800"/>
              <a:ext cx="1143000" cy="1066680"/>
              <a:chOff x="6948360" y="3052800"/>
              <a:chExt cx="1143000" cy="1066680"/>
            </a:xfrm>
          </p:grpSpPr>
          <p:sp>
            <p:nvSpPr>
              <p:cNvPr id="119" name=""/>
              <p:cNvSpPr/>
              <p:nvPr/>
            </p:nvSpPr>
            <p:spPr>
              <a:xfrm>
                <a:off x="6948360" y="30528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61120" y="3417840"/>
                <a:ext cx="777960" cy="276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939080" y="3738600"/>
              <a:ext cx="457200" cy="83808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5200" y="2106720"/>
              <a:ext cx="1218960" cy="10983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3080" y="2335320"/>
              <a:ext cx="1600200" cy="8697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3600" y="2335320"/>
              <a:ext cx="2057400" cy="10224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8200" y="3967200"/>
              <a:ext cx="0" cy="121932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05360" y="3338640"/>
              <a:ext cx="1143000" cy="704880"/>
              <a:chOff x="5805360" y="3338640"/>
              <a:chExt cx="1143000" cy="704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805360" y="3338640"/>
                <a:ext cx="1143000" cy="7048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18120" y="357984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43600" y="2335320"/>
              <a:ext cx="990360" cy="1139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3080" y="2279520"/>
              <a:ext cx="685800" cy="1128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5200" y="2138400"/>
              <a:ext cx="152280" cy="1270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5000" y="5514840"/>
              <a:ext cx="98424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Ethernet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4160" y="2563920"/>
              <a:ext cx="1067040" cy="60948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10480" y="2563920"/>
              <a:ext cx="91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945560" y="147636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890960" y="10666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15400" y="50338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Fi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6800" y="5743440"/>
              <a:ext cx="1301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Block Stor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6040" y="4043520"/>
              <a:ext cx="189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nfiniBand Sub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7975440" y="4500720"/>
              <a:ext cx="95436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5043600" y="4119480"/>
              <a:ext cx="1143000" cy="762120"/>
              <a:chOff x="5043600" y="4119480"/>
              <a:chExt cx="1143000" cy="762120"/>
            </a:xfrm>
          </p:grpSpPr>
          <p:sp>
            <p:nvSpPr>
              <p:cNvPr id="142" name=""/>
              <p:cNvSpPr/>
              <p:nvPr/>
            </p:nvSpPr>
            <p:spPr>
              <a:xfrm>
                <a:off x="5043600" y="4119480"/>
                <a:ext cx="1143000" cy="76212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80008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6360" y="4380120"/>
                <a:ext cx="777960" cy="2764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5958000" y="2106720"/>
              <a:ext cx="457200" cy="20890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424120" y="2290680"/>
              <a:ext cx="228600" cy="19814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3600" y="2336760"/>
              <a:ext cx="152280" cy="20113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4480" y="4805280"/>
              <a:ext cx="152280" cy="533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24880" y="1986120"/>
              <a:ext cx="444600" cy="806400"/>
            </a:xfrm>
            <a:custGeom>
              <a:avLst/>
              <a:gdLst/>
              <a:ahLst/>
              <a:rect l="l" t="t" r="r" b="b"/>
              <a:pathLst>
                <a:path w="568" h="576">
                  <a:moveTo>
                    <a:pt x="240" y="0"/>
                  </a:moveTo>
                  <a:cubicBezTo>
                    <a:pt x="404" y="72"/>
                    <a:pt x="568" y="144"/>
                    <a:pt x="528" y="240"/>
                  </a:cubicBezTo>
                  <a:cubicBezTo>
                    <a:pt x="488" y="336"/>
                    <a:pt x="244" y="456"/>
                    <a:pt x="0" y="57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19400" y="3935520"/>
              <a:ext cx="685800" cy="16002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6186600" y="545940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62560" y="5764320"/>
              <a:ext cx="9842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Fibre Channel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890960" y="2030400"/>
              <a:ext cx="152280" cy="336600"/>
              <a:chOff x="4890960" y="2030400"/>
              <a:chExt cx="152280" cy="336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890960" y="206208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0960" y="203040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464080" y="1825560"/>
              <a:ext cx="182160" cy="525240"/>
              <a:chOff x="5464080" y="1825560"/>
              <a:chExt cx="182160" cy="525240"/>
            </a:xfrm>
          </p:grpSpPr>
          <p:sp>
            <p:nvSpPr>
              <p:cNvPr id="156" name=""/>
              <p:cNvSpPr/>
              <p:nvPr/>
            </p:nvSpPr>
            <p:spPr>
              <a:xfrm>
                <a:off x="5464080" y="187488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64080" y="182556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5127480" y="1414440"/>
              <a:ext cx="51444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4419720" y="1536840"/>
              <a:ext cx="568080" cy="64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6284880" y="1720800"/>
              <a:ext cx="131760" cy="441000"/>
              <a:chOff x="6284880" y="1720800"/>
              <a:chExt cx="131760" cy="44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284880" y="17622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84880" y="17208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524640" y="17542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Unified I/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423120" y="19065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5942160" y="1344600"/>
              <a:ext cx="49356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– Overview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finiband fabrics support up to 15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Virtual Lan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VLs) for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virtual lane has dedicate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rtual lanes are arbitrated at each host/switch using a dual-priority Weighted Round Robin (WRR) sche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ows are classifi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ervice Leve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SLs) at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nd n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packet sent is marked with the corresponding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are mapped to VLs in each link according to their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800600" y="1752480"/>
            <a:ext cx="3918240" cy="1372680"/>
            <a:chOff x="4800600" y="1752480"/>
            <a:chExt cx="3918240" cy="1372680"/>
          </a:xfrm>
        </p:grpSpPr>
        <p:sp>
          <p:nvSpPr>
            <p:cNvPr id="169" name=""/>
            <p:cNvSpPr/>
            <p:nvPr/>
          </p:nvSpPr>
          <p:spPr>
            <a:xfrm>
              <a:off x="4800600" y="1752480"/>
              <a:ext cx="3886200" cy="1143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5066280" y="197064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91544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500580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505296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509724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4332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961520" y="221220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5187600" y="221292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63040" y="17596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90500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499572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039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508608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5129640" y="200736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495108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174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5063040" y="219132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491220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500256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5049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509400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514008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95828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184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5066280" y="24022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491544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500580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505296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509724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514332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961520" y="264384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5187600" y="264456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1080" y="190512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High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31080" y="243216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Low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3320" y="2009880"/>
              <a:ext cx="61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3320" y="2220840"/>
              <a:ext cx="617760" cy="3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3320" y="2467080"/>
              <a:ext cx="617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3320" y="2712960"/>
              <a:ext cx="617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608880" y="2060640"/>
              <a:ext cx="2109960" cy="515160"/>
              <a:chOff x="6608880" y="2060640"/>
              <a:chExt cx="2109960" cy="515160"/>
            </a:xfrm>
          </p:grpSpPr>
          <p:sp>
            <p:nvSpPr>
              <p:cNvPr id="209" name=""/>
              <p:cNvSpPr/>
              <p:nvPr/>
            </p:nvSpPr>
            <p:spPr>
              <a:xfrm>
                <a:off x="7186680" y="2116080"/>
                <a:ext cx="536400" cy="38700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Prior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Selec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08880" y="2081160"/>
                <a:ext cx="57780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608880" y="2358720"/>
                <a:ext cx="57780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4480" y="2292120"/>
                <a:ext cx="288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10280" y="2060640"/>
                <a:ext cx="808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Packe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o 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ransmitt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20640" y="2878920"/>
              <a:ext cx="312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663300"/>
                  </a:solidFill>
                  <a:latin typeface="Arial"/>
                </a:rPr>
                <a:t>H/L Weighted Round Robin (WRR) VL Arbi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52880" y="3352680"/>
            <a:ext cx="3427560" cy="2438640"/>
            <a:chOff x="4952880" y="3352680"/>
            <a:chExt cx="3427560" cy="2438640"/>
          </a:xfrm>
        </p:grpSpPr>
        <p:grpSp>
          <p:nvGrpSpPr>
            <p:cNvPr id="216" name=""/>
            <p:cNvGrpSpPr/>
            <p:nvPr/>
          </p:nvGrpSpPr>
          <p:grpSpPr>
            <a:xfrm>
              <a:off x="7924680" y="5181480"/>
              <a:ext cx="455760" cy="304920"/>
              <a:chOff x="7924680" y="5181480"/>
              <a:chExt cx="455760" cy="304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924680" y="51814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960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696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5328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2720" y="33526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4952880" y="49528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7162920" y="342900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6935760" y="5486400"/>
              <a:ext cx="455760" cy="304920"/>
              <a:chOff x="6935760" y="5486400"/>
              <a:chExt cx="45576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6935760" y="54864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4068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8804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6436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V="1">
              <a:off x="5562720" y="4952520"/>
              <a:ext cx="761760" cy="381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24480" y="4723920"/>
              <a:ext cx="9907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724280"/>
              <a:ext cx="60948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4952880"/>
              <a:ext cx="60984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315200" y="4267080"/>
              <a:ext cx="7632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5867280" y="4191120"/>
              <a:ext cx="4572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5810400" y="4191120"/>
              <a:ext cx="457200" cy="761760"/>
            </a:xfrm>
            <a:prstGeom prst="line">
              <a:avLst/>
            </a:prstGeom>
            <a:ln w="57240">
              <a:solidFill>
                <a:srgbClr val="c5e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5924520" y="4191120"/>
              <a:ext cx="457200" cy="761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972040" y="4191120"/>
              <a:ext cx="4572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24480" y="4676400"/>
              <a:ext cx="990720" cy="228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4771800"/>
              <a:ext cx="99072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324480" y="4809600"/>
              <a:ext cx="99072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267680" y="4267080"/>
              <a:ext cx="75960" cy="45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372440" y="4267080"/>
              <a:ext cx="7596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419960" y="4267080"/>
              <a:ext cx="7632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62720" y="4896000"/>
              <a:ext cx="761760" cy="38088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562720" y="5010120"/>
              <a:ext cx="761760" cy="3808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2720" y="5057280"/>
              <a:ext cx="76176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4952880"/>
              <a:ext cx="609480" cy="53352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91440" y="4952880"/>
              <a:ext cx="609480" cy="533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8040" y="4952880"/>
              <a:ext cx="60948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8880" y="4724280"/>
              <a:ext cx="609840" cy="45720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600" y="4724280"/>
              <a:ext cx="60948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67480" y="4724280"/>
              <a:ext cx="6098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00640" y="4800600"/>
              <a:ext cx="38124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2000" y="4581360"/>
              <a:ext cx="38088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ent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1523880"/>
            <a:ext cx="1371600" cy="685800"/>
          </a:xfrm>
          <a:prstGeom prst="wedgeRoundRectCallout">
            <a:avLst>
              <a:gd name="adj1" fmla="val -49421"/>
              <a:gd name="adj2" fmla="val 24259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We will start with th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286000"/>
            <a:ext cx="1828800" cy="685800"/>
          </a:xfrm>
          <a:prstGeom prst="wedgeRoundRectCallout">
            <a:avLst>
              <a:gd name="adj1" fmla="val -57203"/>
              <a:gd name="adj2" fmla="val 77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…</a:t>
            </a: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o know how to d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B Stac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li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lls in QoS related compon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key, QoS-class, Traffic class, Service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pretation left to QoS manager (opensm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urns desired SL, MTU, rate, packet-life time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MA C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port neutral interf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erviceID, QoS class, and Traffic Class in path queri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 is port-space prefix + 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oS class used for IPv4 – ToS value from ‘rdma_set_service_type()’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ffic class used for IPv6 – taken from sockaddr_in6 add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UL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target port GUID (ServiceID is currently vendor specific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global multicast group setting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Pkey in each path resolu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D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urrently does not issue PathRecord queries (SM integration plann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s SL given at command line directly and exchanges LIDs via TC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M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vant configuration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s (/etc/ofa/opensm-partitions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/VL tables (/var/cache/opensm/opensm.opt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(/etc/ofa/opensm-qos-policy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42:36Z</dcterms:created>
  <dc:creator>Brian Sparks</dc:creator>
  <dc:description/>
  <dc:language>en-US</dc:language>
  <cp:lastModifiedBy>liranl</cp:lastModifiedBy>
  <dcterms:modified xsi:type="dcterms:W3CDTF">2008-04-13T10:40:23Z</dcterms:modified>
  <cp:revision>276</cp:revision>
  <dc:subject/>
  <dc:title>Mellanox Corporate Pit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57355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