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20.png" ContentType="image/png"/>
  <Override PartName="/ppt/media/image36.jpeg" ContentType="image/jpeg"/>
  <Override PartName="/ppt/media/image40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37.png" ContentType="image/png"/>
  <Override PartName="/ppt/media/image41.png" ContentType="image/png"/>
  <Override PartName="/ppt/media/image1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FA3A-FD0E-4740-A614-731AB4FA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B996-CEDA-4A40-ABB4-0E19018C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B83F-C923-4FF8-941C-C01AA964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9A7B-1C9D-47B8-8C50-E7170D1F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F60F-0ACF-4C5F-91B8-DD62190D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DF2F5-F0EC-44C7-9D43-D3F0A37398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2DE30-06DB-44B5-A88C-A0C729A3CD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67986-F247-4DF5-B6DE-5D327AE55A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E70C6-162D-4341-9487-AE7A2EC41E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E7A04-B046-4795-8953-EFE0C44AF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338D-946F-4933-BE9B-0CBDCF2F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C3CDD-9F31-4A8C-ADDF-985ED04744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2DEA0-9187-44A4-AF0C-A1732ACB33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81BC1-704B-4F78-828E-DF58908B3C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ACC4D-E96C-4EB9-ACE4-77BE942BAD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5B63A-E978-445F-A463-866F56D8F7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3ABC3-3096-4B64-9D31-D9171134A3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6D4AE-8290-4DB1-B89E-97F2881935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6BE6-A5DD-45CE-9A93-85C14DE9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345C-23F2-42B9-9297-D1F4001E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3A3D-BAAF-4B21-A145-4FE26D23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EA3D-052A-4B94-8399-D3577C32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794B-7BD5-46D3-8C15-7F0FB2E4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4BD8-203B-48A2-854B-3932169B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55840" cy="43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38120" y="6550200"/>
            <a:ext cx="387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B3FC-AC52-4ABF-9D55-E6E469E1A920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36640" y="6550200"/>
            <a:ext cx="1114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3804-0DED-436C-AB06-52D8C26ADE1B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996920" y="6550200"/>
            <a:ext cx="535968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5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838760"/>
            <a:ext cx="9151920" cy="799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ftr" idx="4"/>
          </p:nvPr>
        </p:nvSpPr>
        <p:spPr>
          <a:xfrm>
            <a:off x="1996920" y="6638400"/>
            <a:ext cx="53596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b7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b7b7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7b7b79"/>
              </a:buClr>
              <a:buSzPct val="90000"/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7b7b79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7b7b79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401760" y="6638400"/>
            <a:ext cx="761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27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b7b7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1444-62B1-418A-A5DF-A8E33D797947}" type="slidenum">
              <a:rPr b="0" lang="en-US" sz="1200" spc="-1" strike="noStrike">
                <a:solidFill>
                  <a:srgbClr val="7b7b7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0" r="6854" b="0"/>
          <a:stretch/>
        </p:blipFill>
        <p:spPr>
          <a:xfrm>
            <a:off x="8575560" y="6454800"/>
            <a:ext cx="419040" cy="35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85834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1360" y="274680"/>
            <a:ext cx="532296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28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4848120"/>
            <a:ext cx="8217000" cy="790560"/>
          </a:xfrm>
          <a:custGeom>
            <a:avLst/>
            <a:gdLst/>
            <a:ahLst/>
            <a:rect l="l" t="t" r="r" b="b"/>
            <a:pathLst>
              <a:path w="2578" h="249">
                <a:moveTo>
                  <a:pt x="6" y="231"/>
                </a:moveTo>
                <a:cubicBezTo>
                  <a:pt x="63" y="231"/>
                  <a:pt x="107" y="183"/>
                  <a:pt x="107" y="124"/>
                </a:cubicBezTo>
                <a:cubicBezTo>
                  <a:pt x="107" y="65"/>
                  <a:pt x="63" y="17"/>
                  <a:pt x="6" y="17"/>
                </a:cubicBezTo>
                <a:cubicBezTo>
                  <a:pt x="4" y="17"/>
                  <a:pt x="2" y="17"/>
                  <a:pt x="0" y="17"/>
                </a:cubicBezTo>
                <a:cubicBezTo>
                  <a:pt x="5" y="0"/>
                  <a:pt x="5" y="0"/>
                  <a:pt x="5" y="0"/>
                </a:cubicBezTo>
                <a:cubicBezTo>
                  <a:pt x="233" y="0"/>
                  <a:pt x="2578" y="0"/>
                  <a:pt x="2578" y="0"/>
                </a:cubicBezTo>
                <a:cubicBezTo>
                  <a:pt x="2578" y="249"/>
                  <a:pt x="2578" y="249"/>
                  <a:pt x="2578" y="249"/>
                </a:cubicBezTo>
                <a:cubicBezTo>
                  <a:pt x="2345" y="249"/>
                  <a:pt x="0" y="249"/>
                  <a:pt x="0" y="249"/>
                </a:cubicBezTo>
                <a:cubicBezTo>
                  <a:pt x="6" y="231"/>
                  <a:pt x="6" y="231"/>
                  <a:pt x="6" y="2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5320" y="4848120"/>
            <a:ext cx="568440" cy="790560"/>
            <a:chOff x="625320" y="4848120"/>
            <a:chExt cx="568440" cy="790560"/>
          </a:xfrm>
        </p:grpSpPr>
        <p:sp>
          <p:nvSpPr>
            <p:cNvPr id="131" name=""/>
            <p:cNvSpPr/>
            <p:nvPr/>
          </p:nvSpPr>
          <p:spPr>
            <a:xfrm>
              <a:off x="797040" y="5086440"/>
              <a:ext cx="396720" cy="552240"/>
            </a:xfrm>
            <a:custGeom>
              <a:avLst/>
              <a:gdLst/>
              <a:ahLst/>
              <a:rect l="l" t="t" r="r" b="b"/>
              <a:pathLst>
                <a:path w="125" h="174">
                  <a:moveTo>
                    <a:pt x="105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27" y="174"/>
                    <a:pt x="27" y="174"/>
                    <a:pt x="27" y="174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85" y="100"/>
                    <a:pt x="93" y="98"/>
                    <a:pt x="96" y="89"/>
                  </a:cubicBezTo>
                  <a:cubicBezTo>
                    <a:pt x="99" y="80"/>
                    <a:pt x="116" y="34"/>
                    <a:pt x="120" y="20"/>
                  </a:cubicBezTo>
                  <a:cubicBezTo>
                    <a:pt x="125" y="6"/>
                    <a:pt x="114" y="0"/>
                    <a:pt x="105" y="0"/>
                  </a:cubicBezTo>
                  <a:close/>
                  <a:moveTo>
                    <a:pt x="71" y="86"/>
                  </a:moveTo>
                  <a:cubicBezTo>
                    <a:pt x="58" y="86"/>
                    <a:pt x="58" y="86"/>
                    <a:pt x="58" y="86"/>
                  </a:cubicBezTo>
                  <a:cubicBezTo>
                    <a:pt x="83" y="15"/>
                    <a:pt x="83" y="15"/>
                    <a:pt x="83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1" y="86"/>
                    <a:pt x="71" y="86"/>
                    <a:pt x="7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5320" y="4848120"/>
              <a:ext cx="304920" cy="54612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92" y="97"/>
                  </a:moveTo>
                  <a:cubicBezTo>
                    <a:pt x="66" y="172"/>
                    <a:pt x="66" y="172"/>
                    <a:pt x="66" y="172"/>
                  </a:cubicBezTo>
                  <a:cubicBezTo>
                    <a:pt x="40" y="172"/>
                    <a:pt x="40" y="172"/>
                    <a:pt x="40" y="172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55" y="90"/>
                    <a:pt x="55" y="90"/>
                    <a:pt x="55" y="90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60" y="75"/>
                    <a:pt x="60" y="75"/>
                    <a:pt x="6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90" y="75"/>
                    <a:pt x="96" y="86"/>
                    <a:pt x="92" y="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0" y="4848120"/>
            <a:ext cx="774720" cy="790560"/>
          </a:xfrm>
          <a:custGeom>
            <a:avLst/>
            <a:gdLst/>
            <a:ahLst/>
            <a:rect l="l" t="t" r="r" b="b"/>
            <a:pathLst>
              <a:path w="254" h="249">
                <a:moveTo>
                  <a:pt x="25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49"/>
                  <a:pt x="0" y="249"/>
                  <a:pt x="0" y="249"/>
                </a:cubicBezTo>
                <a:cubicBezTo>
                  <a:pt x="246" y="249"/>
                  <a:pt x="246" y="249"/>
                  <a:pt x="246" y="249"/>
                </a:cubicBezTo>
                <a:cubicBezTo>
                  <a:pt x="254" y="229"/>
                  <a:pt x="254" y="229"/>
                  <a:pt x="254" y="229"/>
                </a:cubicBezTo>
                <a:cubicBezTo>
                  <a:pt x="208" y="219"/>
                  <a:pt x="175" y="175"/>
                  <a:pt x="175" y="122"/>
                </a:cubicBezTo>
                <a:cubicBezTo>
                  <a:pt x="175" y="73"/>
                  <a:pt x="204" y="32"/>
                  <a:pt x="245" y="18"/>
                </a:cubicBezTo>
                <a:cubicBezTo>
                  <a:pt x="251" y="0"/>
                  <a:pt x="251" y="0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http://www.esi-group.com/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hyperlink" Target="http://www.utexas.edu/" TargetMode="External"/><Relationship Id="rId17" Type="http://schemas.openxmlformats.org/officeDocument/2006/relationships/image" Target="../media/image17.png"/><Relationship Id="rId18" Type="http://schemas.openxmlformats.org/officeDocument/2006/relationships/hyperlink" Target="http://www.utexas.edu/" TargetMode="External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jpe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7.wmf"/><Relationship Id="rId30" Type="http://schemas.openxmlformats.org/officeDocument/2006/relationships/image" Target="../media/image28.png"/><Relationship Id="rId31" Type="http://schemas.openxmlformats.org/officeDocument/2006/relationships/hyperlink" Target="http://en.opensuse.org/Welcome_to_openSUSE.org" TargetMode="External"/><Relationship Id="rId32" Type="http://schemas.openxmlformats.org/officeDocument/2006/relationships/image" Target="../media/image29.png"/><Relationship Id="rId33" Type="http://schemas.openxmlformats.org/officeDocument/2006/relationships/image" Target="../media/image30.jpe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33.jpeg"/><Relationship Id="rId37" Type="http://schemas.openxmlformats.org/officeDocument/2006/relationships/image" Target="../media/image34.png"/><Relationship Id="rId38" Type="http://schemas.openxmlformats.org/officeDocument/2006/relationships/image" Target="../media/image35.jpeg"/><Relationship Id="rId39" Type="http://schemas.openxmlformats.org/officeDocument/2006/relationships/image" Target="../media/image36.jpeg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39.jpe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1000" y="297000"/>
            <a:ext cx="455148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HP-MPI 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71" name=""/>
          <p:cNvSpPr/>
          <p:nvPr/>
        </p:nvSpPr>
        <p:spPr>
          <a:xfrm>
            <a:off x="503280" y="2948040"/>
            <a:ext cx="18702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Changqing Tang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Senior Engineer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Apr. 8, 2008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 (cont.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ynamic processes over OFE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ngleton MPI Proces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A HP-MPI, where no teardown if partial ranks exi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A79B-073B-45D9-8FC4-A8945AF4F9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874A438-017F-4A71-B47E-BA3E8323BEE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Features Available Soon in 2.3 Releas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nyway, OFED 1.4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support via rdma_cm + verb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n-demand connec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PV6 suppor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ulti-path IB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4625-9F88-40DA-923F-90727AB72B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EACC343-74D9-402F-86B6-6413B33813E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Binary Compatibl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is not open source, and always dlopen() libibverbs.so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already have 1.0 and 1.1 code compiled against each version of header fil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detect the version on system and use the appropriate code vers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1B70-C92B-438B-B65F-1391F9CB30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0FD080F-016F-41E6-A5D3-A50A2FE6C41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Reliable Datagram (RD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D with complicated logic to implement on-demand connection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 will simplify MPI cod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S can benefit from i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ure there are other wide-range usage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5520-A8ED-4CE4-A292-CBD6982C67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CA153DD-4170-4CD8-9FC1-7F742951C4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Reliable Multi-cas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mplify MPI collective implement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mprove MPI collective performanc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5F86-4B4F-4DB7-83D5-6747E55350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CD356C7-A7A7-4AE8-8D6F-60EC2465B7F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SA/OpenSM featur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 rank can query the port lid on remote node, with knowing the GUID of the remote HCA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ommunication path query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ath Recovery Notific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e to implement network recovery in MPI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8A27-4F16-4B03-9390-EF22A7D38F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8CCE284-EB55-486C-955E-9B491297319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ulti-fabrics suppor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ed in non-stop system 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needs different subne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P-bonding not work on two subne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1" name=""/>
          <p:cNvSpPr/>
          <p:nvPr/>
        </p:nvSpPr>
        <p:spPr>
          <a:xfrm>
            <a:off x="2108160" y="4829040"/>
            <a:ext cx="1389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2" name=""/>
          <p:cNvSpPr/>
          <p:nvPr/>
        </p:nvSpPr>
        <p:spPr>
          <a:xfrm>
            <a:off x="2563920" y="3591000"/>
            <a:ext cx="843840" cy="477000"/>
          </a:xfrm>
          <a:prstGeom prst="ellipse">
            <a:avLst/>
          </a:prstGeom>
          <a:solidFill>
            <a:srgbClr val="cbc9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W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3" name=""/>
          <p:cNvSpPr/>
          <p:nvPr/>
        </p:nvSpPr>
        <p:spPr>
          <a:xfrm>
            <a:off x="4910400" y="3560760"/>
            <a:ext cx="843840" cy="477000"/>
          </a:xfrm>
          <a:prstGeom prst="ellipse">
            <a:avLst/>
          </a:prstGeom>
          <a:solidFill>
            <a:srgbClr val="cbc9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W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4" name=""/>
          <p:cNvSpPr/>
          <p:nvPr/>
        </p:nvSpPr>
        <p:spPr>
          <a:xfrm>
            <a:off x="1558440" y="56556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"/>
          <p:cNvSpPr/>
          <p:nvPr/>
        </p:nvSpPr>
        <p:spPr>
          <a:xfrm>
            <a:off x="2194920" y="564624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6" name=""/>
          <p:cNvSpPr/>
          <p:nvPr/>
        </p:nvSpPr>
        <p:spPr>
          <a:xfrm>
            <a:off x="3187080" y="56160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7" name=""/>
          <p:cNvSpPr/>
          <p:nvPr/>
        </p:nvSpPr>
        <p:spPr>
          <a:xfrm>
            <a:off x="3835080" y="56080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3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8" name=""/>
          <p:cNvSpPr/>
          <p:nvPr/>
        </p:nvSpPr>
        <p:spPr>
          <a:xfrm>
            <a:off x="4654080" y="56098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"/>
          <p:cNvSpPr/>
          <p:nvPr/>
        </p:nvSpPr>
        <p:spPr>
          <a:xfrm>
            <a:off x="5225400" y="56206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5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0" name=""/>
          <p:cNvSpPr/>
          <p:nvPr/>
        </p:nvSpPr>
        <p:spPr>
          <a:xfrm>
            <a:off x="6260760" y="56016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6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1" name=""/>
          <p:cNvSpPr/>
          <p:nvPr/>
        </p:nvSpPr>
        <p:spPr>
          <a:xfrm>
            <a:off x="7048080" y="55936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7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657440" y="4012920"/>
            <a:ext cx="1108080" cy="162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313000" y="4033440"/>
            <a:ext cx="569880" cy="159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055680" y="4022640"/>
            <a:ext cx="245880" cy="157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119040" y="4056120"/>
            <a:ext cx="817560" cy="15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216240" y="3990960"/>
            <a:ext cx="1549440" cy="160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3259080" y="3936600"/>
            <a:ext cx="2076480" cy="166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335040" y="3916440"/>
            <a:ext cx="3011400" cy="166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355920" y="3839760"/>
            <a:ext cx="379728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46440" y="3957480"/>
            <a:ext cx="3236760" cy="167832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06680" y="3970080"/>
            <a:ext cx="2657520" cy="16556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506760" y="3970080"/>
            <a:ext cx="1808280" cy="162396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110120" y="3936960"/>
            <a:ext cx="1268280" cy="16574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37040" y="3948120"/>
            <a:ext cx="463680" cy="16574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420880" y="3948120"/>
            <a:ext cx="96840" cy="166680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540040" y="3958920"/>
            <a:ext cx="1011240" cy="162396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605200" y="3916440"/>
            <a:ext cx="1741320" cy="166680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8" name=""/>
          <p:cNvSpPr/>
          <p:nvPr/>
        </p:nvSpPr>
        <p:spPr>
          <a:xfrm>
            <a:off x="3056040" y="3321000"/>
            <a:ext cx="2139840" cy="282600"/>
          </a:xfrm>
          <a:custGeom>
            <a:avLst/>
            <a:gdLst/>
            <a:ahLst/>
            <a:rect l="l" t="t" r="r" b="b"/>
            <a:pathLst>
              <a:path w="1348" h="178">
                <a:moveTo>
                  <a:pt x="0" y="178"/>
                </a:moveTo>
                <a:cubicBezTo>
                  <a:pt x="192" y="91"/>
                  <a:pt x="384" y="4"/>
                  <a:pt x="609" y="2"/>
                </a:cubicBezTo>
                <a:cubicBezTo>
                  <a:pt x="834" y="0"/>
                  <a:pt x="1224" y="136"/>
                  <a:pt x="1348" y="165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29336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B064-4073-4B83-8393-AA5A2D3ADA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21383A9-85E9-4C48-9695-4FB6D898B1F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ttp://www.hp.com/go/mpi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Question ?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E62F-CDDD-48A6-9FE6-7BE1FBB540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B145FEF-A55A-45CA-B8C1-76ADB8D91F9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utura Lt"/>
              </a:rPr>
              <a:t>Back-up</a:t>
            </a:r>
            <a:endParaRPr b="0" lang="en-US" sz="40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in genera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FED support and feature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ish list for OFED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7A21-373B-4BB3-956F-3295B06E7A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147FE5B-A3EF-4E60-90C4-D44F11B2F8C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3224880" y="3884760"/>
            <a:ext cx="6015960" cy="2256840"/>
            <a:chOff x="3224880" y="3884760"/>
            <a:chExt cx="6015960" cy="2256840"/>
          </a:xfrm>
        </p:grpSpPr>
        <p:grpSp>
          <p:nvGrpSpPr>
            <p:cNvPr id="175" name=""/>
            <p:cNvGrpSpPr/>
            <p:nvPr/>
          </p:nvGrpSpPr>
          <p:grpSpPr>
            <a:xfrm>
              <a:off x="3436920" y="4216320"/>
              <a:ext cx="5716800" cy="1907640"/>
              <a:chOff x="3436920" y="4216320"/>
              <a:chExt cx="5716800" cy="190764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5080" y="4654080"/>
                <a:ext cx="770400" cy="31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Powerful Solver Technology"/>
              <p:cNvPicPr/>
              <p:nvPr/>
            </p:nvPicPr>
            <p:blipFill>
              <a:blip r:embed="rId2"/>
              <a:stretch/>
            </p:blipFill>
            <p:spPr>
              <a:xfrm>
                <a:off x="5585040" y="4270680"/>
                <a:ext cx="1225440" cy="29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UGS, the PLM Company"/>
              <p:cNvPicPr/>
              <p:nvPr/>
            </p:nvPicPr>
            <p:blipFill>
              <a:blip r:embed="rId3"/>
              <a:stretch/>
            </p:blipFill>
            <p:spPr>
              <a:xfrm>
                <a:off x="7140600" y="5602320"/>
                <a:ext cx="552240" cy="51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85160" y="5226120"/>
                <a:ext cx="83268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8044920" y="4613760"/>
                <a:ext cx="804960" cy="39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525120" y="4313880"/>
                <a:ext cx="1017000" cy="20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108920" y="4641480"/>
                <a:ext cx="74304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9"/>
              <a:srcRect l="0" t="10663" r="0" b="21327"/>
              <a:stretch/>
            </p:blipFill>
            <p:spPr>
              <a:xfrm>
                <a:off x="6303600" y="4642920"/>
                <a:ext cx="733320" cy="33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71480" y="5259240"/>
                <a:ext cx="76176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10240" y="5232600"/>
                <a:ext cx="636480" cy="30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82520" y="4216320"/>
                <a:ext cx="773640" cy="39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64200" y="4859280"/>
                <a:ext cx="36360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42920" y="5159520"/>
                <a:ext cx="777960" cy="44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66720" y="5597280"/>
                <a:ext cx="1000080" cy="52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"/>
              <p:cNvGrpSpPr/>
              <p:nvPr/>
            </p:nvGrpSpPr>
            <p:grpSpPr>
              <a:xfrm>
                <a:off x="7815240" y="5769360"/>
                <a:ext cx="1181520" cy="294480"/>
                <a:chOff x="7815240" y="5769360"/>
                <a:chExt cx="1181520" cy="294480"/>
              </a:xfrm>
            </p:grpSpPr>
            <p:pic>
              <p:nvPicPr>
                <p:cNvPr id="191" name="" descr="The University of Texas at Austin">
                  <a:hlinkClick r:id="rId16"/>
                </p:cNvPr>
                <p:cNvPicPr/>
                <p:nvPr/>
              </p:nvPicPr>
              <p:blipFill>
                <a:blip r:embed="rId17"/>
                <a:srcRect l="0" t="0" r="40160" b="0"/>
                <a:stretch/>
              </p:blipFill>
              <p:spPr>
                <a:xfrm>
                  <a:off x="7815240" y="5769360"/>
                  <a:ext cx="1181520" cy="18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The University of Texas at Austin">
                  <a:hlinkClick r:id="rId18"/>
                </p:cNvPr>
                <p:cNvPicPr/>
                <p:nvPr/>
              </p:nvPicPr>
              <p:blipFill>
                <a:blip r:embed="rId19"/>
                <a:srcRect l="59291" t="30976" r="0" b="0"/>
                <a:stretch/>
              </p:blipFill>
              <p:spPr>
                <a:xfrm>
                  <a:off x="8144280" y="5935680"/>
                  <a:ext cx="802800" cy="12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3" name=""/>
              <p:cNvGrpSpPr/>
              <p:nvPr/>
            </p:nvGrpSpPr>
            <p:grpSpPr>
              <a:xfrm>
                <a:off x="7907760" y="4988160"/>
                <a:ext cx="1245960" cy="871560"/>
                <a:chOff x="7907760" y="4988160"/>
                <a:chExt cx="1245960" cy="871560"/>
              </a:xfrm>
            </p:grpSpPr>
            <p:pic>
              <p:nvPicPr>
                <p:cNvPr id="194" name="" descr="Molpro logo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384400" y="4988160"/>
                  <a:ext cx="28116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7907760" y="5446080"/>
                  <a:ext cx="1245960" cy="41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Futura Bk"/>
                    </a:rPr>
                    <a:t>Molpro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 Bk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Futura Bk"/>
                    </a:rPr>
                    <a:t>University of Cardiff</a:t>
                  </a:r>
                  <a:endParaRPr b="0" lang="en-US" sz="9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</p:grpSp>
          <p:pic>
            <p:nvPicPr>
              <p:cNvPr id="19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333040" y="4973040"/>
                <a:ext cx="739440" cy="24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563360" y="5683320"/>
                <a:ext cx="446400" cy="35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383440" y="5264280"/>
                <a:ext cx="92232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205240" y="5688360"/>
                <a:ext cx="737640" cy="34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436920" y="5682240"/>
                <a:ext cx="1035000" cy="35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8085240" y="4248000"/>
                <a:ext cx="724680" cy="32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936120" y="4280760"/>
                <a:ext cx="1061280" cy="23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3579120" y="4535280"/>
                <a:ext cx="734760" cy="55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" name=""/>
            <p:cNvSpPr/>
            <p:nvPr/>
          </p:nvSpPr>
          <p:spPr>
            <a:xfrm>
              <a:off x="3416400" y="3890880"/>
              <a:ext cx="5700600" cy="225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24880" y="3884760"/>
              <a:ext cx="601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ISVs Distributing HP-MPI on Industry-Standard Linux Cluster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90960" y="3884760"/>
            <a:ext cx="3048840" cy="1156680"/>
            <a:chOff x="390960" y="3884760"/>
            <a:chExt cx="3048840" cy="1156680"/>
          </a:xfrm>
        </p:grpSpPr>
        <p:sp>
          <p:nvSpPr>
            <p:cNvPr id="207" name=""/>
            <p:cNvSpPr/>
            <p:nvPr/>
          </p:nvSpPr>
          <p:spPr>
            <a:xfrm>
              <a:off x="493560" y="3890880"/>
              <a:ext cx="2840040" cy="11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960" y="3884760"/>
              <a:ext cx="304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Operating System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9"/>
            <a:srcRect l="0" t="0" r="37401" b="0"/>
            <a:stretch/>
          </p:blipFill>
          <p:spPr>
            <a:xfrm>
              <a:off x="2203200" y="4238640"/>
              <a:ext cx="912960" cy="4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Red Hat Home"/>
            <p:cNvPicPr/>
            <p:nvPr/>
          </p:nvPicPr>
          <p:blipFill>
            <a:blip r:embed="rId30"/>
            <a:stretch/>
          </p:blipFill>
          <p:spPr>
            <a:xfrm>
              <a:off x="674640" y="4295520"/>
              <a:ext cx="914400" cy="29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642960" y="4633920"/>
              <a:ext cx="666720" cy="362880"/>
              <a:chOff x="642960" y="4633920"/>
              <a:chExt cx="666720" cy="362880"/>
            </a:xfrm>
          </p:grpSpPr>
          <p:sp>
            <p:nvSpPr>
              <p:cNvPr id="212" name=""/>
              <p:cNvSpPr/>
              <p:nvPr/>
            </p:nvSpPr>
            <p:spPr>
              <a:xfrm>
                <a:off x="642960" y="4633920"/>
                <a:ext cx="666720" cy="36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13" name="" descr="Home">
                <a:hlinkClick r:id="rId31"/>
              </p:cNvPr>
              <p:cNvPicPr/>
              <p:nvPr/>
            </p:nvPicPr>
            <p:blipFill>
              <a:blip r:embed="rId32"/>
              <a:stretch/>
            </p:blipFill>
            <p:spPr>
              <a:xfrm>
                <a:off x="692280" y="4659120"/>
                <a:ext cx="525240" cy="33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4" name="" descr=""/>
            <p:cNvPicPr/>
            <p:nvPr/>
          </p:nvPicPr>
          <p:blipFill>
            <a:blip r:embed="rId33"/>
            <a:stretch/>
          </p:blipFill>
          <p:spPr>
            <a:xfrm>
              <a:off x="1728720" y="4597200"/>
              <a:ext cx="136836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492120" y="5126040"/>
            <a:ext cx="2838240" cy="1009440"/>
            <a:chOff x="492120" y="5126040"/>
            <a:chExt cx="2838240" cy="1009440"/>
          </a:xfrm>
        </p:grpSpPr>
        <p:sp>
          <p:nvSpPr>
            <p:cNvPr id="216" name=""/>
            <p:cNvSpPr/>
            <p:nvPr/>
          </p:nvSpPr>
          <p:spPr>
            <a:xfrm>
              <a:off x="492120" y="5132160"/>
              <a:ext cx="2838240" cy="1003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600" y="5126040"/>
              <a:ext cx="25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Architectur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18" name="" descr="Intel® Xeon™ Processor"/>
            <p:cNvPicPr/>
            <p:nvPr/>
          </p:nvPicPr>
          <p:blipFill>
            <a:blip r:embed="rId34"/>
            <a:stretch/>
          </p:blipFill>
          <p:spPr>
            <a:xfrm>
              <a:off x="2512800" y="5472000"/>
              <a:ext cx="46692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5"/>
            <a:stretch/>
          </p:blipFill>
          <p:spPr>
            <a:xfrm>
              <a:off x="779400" y="5475240"/>
              <a:ext cx="46044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36"/>
            <a:stretch/>
          </p:blipFill>
          <p:spPr>
            <a:xfrm>
              <a:off x="1590480" y="5475240"/>
              <a:ext cx="52704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490680" y="6215040"/>
            <a:ext cx="7829280" cy="654120"/>
            <a:chOff x="490680" y="6215040"/>
            <a:chExt cx="7829280" cy="654120"/>
          </a:xfrm>
        </p:grpSpPr>
        <p:sp>
          <p:nvSpPr>
            <p:cNvPr id="222" name=""/>
            <p:cNvSpPr/>
            <p:nvPr/>
          </p:nvSpPr>
          <p:spPr>
            <a:xfrm>
              <a:off x="571320" y="6245280"/>
              <a:ext cx="19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Switch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23" name="" descr="Myricom logotype"/>
            <p:cNvPicPr/>
            <p:nvPr/>
          </p:nvPicPr>
          <p:blipFill>
            <a:blip r:embed="rId37"/>
            <a:stretch/>
          </p:blipFill>
          <p:spPr>
            <a:xfrm>
              <a:off x="6987960" y="6234120"/>
              <a:ext cx="11570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8"/>
            <a:stretch/>
          </p:blipFill>
          <p:spPr>
            <a:xfrm>
              <a:off x="2711160" y="6222960"/>
              <a:ext cx="4824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9"/>
            <a:stretch/>
          </p:blipFill>
          <p:spPr>
            <a:xfrm>
              <a:off x="5357520" y="6276960"/>
              <a:ext cx="155700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6" name=""/>
            <p:cNvGraphicFramePr/>
            <p:nvPr/>
          </p:nvGraphicFramePr>
          <p:xfrm>
            <a:off x="6524640" y="6592680"/>
            <a:ext cx="1656720" cy="22860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6524640" y="6592680"/>
                      <a:ext cx="1656720" cy="228600"/>
                    </a:xfrm>
                    <a:prstGeom prst="rect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228" name="" descr=""/>
            <p:cNvPicPr/>
            <p:nvPr/>
          </p:nvPicPr>
          <p:blipFill>
            <a:blip r:embed="rId42"/>
            <a:srcRect l="0" t="49330" r="66249" b="0"/>
            <a:stretch/>
          </p:blipFill>
          <p:spPr>
            <a:xfrm>
              <a:off x="1525320" y="6573600"/>
              <a:ext cx="9777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3"/>
            <a:stretch/>
          </p:blipFill>
          <p:spPr>
            <a:xfrm>
              <a:off x="3286080" y="6472080"/>
              <a:ext cx="103140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4"/>
            <a:stretch/>
          </p:blipFill>
          <p:spPr>
            <a:xfrm>
              <a:off x="4829040" y="6368760"/>
              <a:ext cx="71892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90680" y="6215040"/>
              <a:ext cx="7829280" cy="645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45"/>
            <a:stretch/>
          </p:blipFill>
          <p:spPr>
            <a:xfrm>
              <a:off x="3878280" y="6232320"/>
              <a:ext cx="10090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7720" y="472680"/>
            <a:ext cx="8197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-MPI: Industry’s Standard Commercial High Performance MPI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52240" y="1600200"/>
            <a:ext cx="8272440" cy="225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Portable, Robust, Fast, Supported, Availabl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vendor independent MPI optimized for all leading architectures, OSs, switches, applications (see below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Ideal for Customer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freely distributed by &gt;25 ISVs for industry-standard Linux clusters; for WindowCCS in 2007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for developers on in-house applications, HP-MPI licenses are included in XC operating environmen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Ideal for Independent Software Vendors (ISVs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reduces platform test matrix; reduces customer complaints; supported by HP expert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7421-1C95-46D3-B358-DE972BDA5A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2B8D601-4FA4-4D85-9D58-4C90E1EBEEA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rconnect Hardware Supporte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Quadrics QsN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yrinet  2G/10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0 Gigabit Ethern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B3F2-D81D-4DC5-9A21-07B4019578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865907E-D16B-4D5F-B352-83357B4A19B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rconnect Protocol Supporte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HM – Shared-Memory Communication Within Nod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CP – TCP/IP On Every System, IPoIB, etc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ELAN – Quadrics elan3 &amp; elan4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GM – legacy message-passing system for Myrinet network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X – Myrinet Expres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SM – Pathscale Message on Qlogic IB hardwar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VAPI – Mellanox Infiniband Verbs API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BV – OFED Infiniband Verb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UDAPL – User Direct Access Programming Librar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TAPI – Interconnect Transport API (HP-UX only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BAL – Infiniband Access Layer (Windows only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D317-F520-468A-A58F-7B59552403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FFE2F33-8634-4F70-BBB0-E9EC2C0AC05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-MPI Infiniband History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9600" y="1419120"/>
            <a:ext cx="827244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0  -- IT-API Infiniband on HP-UX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1  -- VAPI/uDAPL on Linux 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5 – OFED 1.0 and OFED 1.1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5.1 – OFED 1.2 plus 1.1 and 1.0, work with 1.2.5 and 1.3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7 – Come out this Apr., Support all OFED releases and all major features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3 – sync with OFED 1.4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48640" indent="0">
              <a:lnSpc>
                <a:spcPct val="7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FE6F-3F54-40C1-9E97-27DC313B6A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653B632-CCD6-4A62-B450-B79817D9BB1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essage Transfer Protocol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MA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nd/Receive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hared-Receiving-Queue (SRQ)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A85D-DABF-4C2C-B805-89B749B337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1A6703F-C3B2-488A-BB8C-3E41BF2B4B9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onnection Fail[over]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utomatic Path Migration (APM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essage Stripin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B Partitionin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essage Coalescing in 2.2.7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HM/NIC/MIX mode within nod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5BCA-6313-48E1-83BE-2A0D3EBC52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74EE880-9110-47CB-9DBA-ECAD23E5372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 (cont.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PU Binding – Rank, Cyclic, …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XRC support in 2.2.7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DAPL 2.0 support in 2.2.7 (1.1 and 1.2 as well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support via uDAPL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ne-side operation using RDMA write/rea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istributed lock/unlock using IB atomic operation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369E-0FB4-455B-ADEE-266263E57B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1CAA73D-5291-4A32-B6BB-1E7C13DBC83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4:51:31Z</dcterms:created>
  <dc:creator> dave korf</dc:creator>
  <dc:description>This template was designed for users of PowerPoint 2000</dc:description>
  <cp:keywords>Template</cp:keywords>
  <dc:language>en-US</dc:language>
  <cp:lastModifiedBy>ctang</cp:lastModifiedBy>
  <dcterms:modified xsi:type="dcterms:W3CDTF">2008-04-08T18:24:47Z</dcterms:modified>
  <cp:revision>150</cp:revision>
  <dc:subject>HP Template</dc:subject>
  <dc:title>HP standard dark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