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20.png" ContentType="image/png"/>
  <Override PartName="/ppt/media/image36.jpeg" ContentType="image/jpeg"/>
  <Override PartName="/ppt/media/image40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37.png" ContentType="image/png"/>
  <Override PartName="/ppt/media/image41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5B7E-E5F0-4C3D-A218-A3485338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9D93-A7CF-4716-8F40-AA473770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B575-0958-4D01-ADFE-DA7EACC1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5385-AA31-4DA3-BDE5-231F94F2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95AB-368F-493D-B158-AF12E94C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E1B88-91C1-46B8-A0D2-C6958F832A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F3453-BF7A-4165-A13F-F29D5B6E6C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F235D-7780-4633-9446-AF43766CE6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B515B-3979-4F70-9E25-F9FAD1C1A5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219EE-15D3-4B6B-8FEF-0E9C2463C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B0D8-8C34-4B6E-BC48-3D5E5806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B23B0-6BED-4366-9C37-420D210E42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F049B-5FB4-45F8-94C3-26C87C3760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12111-F049-4B6C-8AF5-4C4503658D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7C34-74AB-4C7D-83E4-8A8312ADE1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98728-77D3-4A6B-8595-138B47F16A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792C0-EDF5-4309-8453-2D1BFCF6BC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2641C-9239-40A3-A908-D3BF0BF7A1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90FB-F150-436B-979E-4D9E8036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3516-6004-4A25-82E3-C36AA0F6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4D87-DF7D-49E8-AE43-D450C10C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7157-1FA2-40C7-83BF-13FDDC3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66A5-7D2F-407B-B1AE-9F6D7AB2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DB36-C0FC-43D7-83E5-DC73C05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9D39-B1F2-4BC6-96C5-0D972F9D1C74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36640" y="6550200"/>
            <a:ext cx="1114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41CD-3A9F-4E80-9026-DDEC751B8BFC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99692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5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838760"/>
            <a:ext cx="9151920" cy="79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ftr" idx="4"/>
          </p:nvPr>
        </p:nvSpPr>
        <p:spPr>
          <a:xfrm>
            <a:off x="1996920" y="6638400"/>
            <a:ext cx="53596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b7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b7b7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7b7b79"/>
              </a:buClr>
              <a:buSzPct val="90000"/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7b7b79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7b7b79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40176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27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b7b7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DA56-D923-43F0-9BEC-D66FC0D8C772}" type="slidenum">
              <a:rPr b="0" lang="en-US" sz="1200" spc="-1" strike="noStrike">
                <a:solidFill>
                  <a:srgbClr val="7b7b7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6854" b="0"/>
          <a:stretch/>
        </p:blipFill>
        <p:spPr>
          <a:xfrm>
            <a:off x="8575560" y="6454800"/>
            <a:ext cx="419040" cy="35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8583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1360" y="274680"/>
            <a:ext cx="532296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8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131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esi-group.com/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hyperlink" Target="http://www.utexas.edu/" TargetMode="External"/><Relationship Id="rId17" Type="http://schemas.openxmlformats.org/officeDocument/2006/relationships/image" Target="../media/image17.png"/><Relationship Id="rId18" Type="http://schemas.openxmlformats.org/officeDocument/2006/relationships/hyperlink" Target="http://www.utexas.edu/" TargetMode="External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jpe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wmf"/><Relationship Id="rId30" Type="http://schemas.openxmlformats.org/officeDocument/2006/relationships/image" Target="../media/image28.png"/><Relationship Id="rId31" Type="http://schemas.openxmlformats.org/officeDocument/2006/relationships/hyperlink" Target="http://en.opensuse.org/Welcome_to_openSUSE.org" TargetMode="External"/><Relationship Id="rId32" Type="http://schemas.openxmlformats.org/officeDocument/2006/relationships/image" Target="../media/image29.png"/><Relationship Id="rId33" Type="http://schemas.openxmlformats.org/officeDocument/2006/relationships/image" Target="../media/image30.jpe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jpeg"/><Relationship Id="rId37" Type="http://schemas.openxmlformats.org/officeDocument/2006/relationships/image" Target="../media/image34.png"/><Relationship Id="rId38" Type="http://schemas.openxmlformats.org/officeDocument/2006/relationships/image" Target="../media/image35.jpeg"/><Relationship Id="rId39" Type="http://schemas.openxmlformats.org/officeDocument/2006/relationships/image" Target="../media/image36.jpeg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jpe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000" y="297000"/>
            <a:ext cx="455148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HP-MPI 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1" name=""/>
          <p:cNvSpPr/>
          <p:nvPr/>
        </p:nvSpPr>
        <p:spPr>
          <a:xfrm>
            <a:off x="503280" y="2948040"/>
            <a:ext cx="18702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Changqing Tang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Senior Engineer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Apr. 8, 2008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ynamic processes over OFE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ngleton MPI Proces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A HP-MPI, where no teardown if partial ranks ex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F325-71C6-4DC8-B9F7-2FCF391F72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F0339A-3BEC-4BFA-9534-AC90CFD0DBD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Features Available Soon in 2.3 Releas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nyway,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rdma_cm + verb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-demand connec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V6 suppor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ulti-path IB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8433-68DA-4674-A701-4685F50E11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5632BCC-4948-4EAD-9DF3-EAA5D04126F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Binary Compatibl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s not open source, and always dlopen() libibverbs.so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already have 1.0 and 1.1 code compiled against each version of header fil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detect the version on system and use the appropriate code vers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A4E4-1B96-463D-A4BE-91204EF826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14A60A3-F974-44C6-9A73-D12FAB8AFD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Datagram (RD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 with complicated logic to implement on-demand connection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 will simplify MPI c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S can benefit from 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ure there are other wide-range usage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4C73-1ABC-43EA-9EDE-FD9DBED0F8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672CC03-02B4-4885-A6A7-1C4CC760DD5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Multi-cas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mplify MPI collective implement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mprove MPI collective performan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8BDC-6D04-42DA-A525-18C48C193D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9D8DF60-AB7C-4B2B-93F7-70CE0538575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SA/OpenSM featur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 rank can query the port lid on remote node, with knowing the GUID of the remote HCA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mmunication path query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ath Recovery Notific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 to implement network recovery in 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B006-B1BD-451F-B93B-1EC8EF80EF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50F1EE-491C-42B5-B94C-6BA3ECEB2B6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ulti-fabrics suppo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d in non-stop system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needs different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-bonding not work on two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2108160" y="4829040"/>
            <a:ext cx="1389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2563920" y="359100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"/>
          <p:cNvSpPr/>
          <p:nvPr/>
        </p:nvSpPr>
        <p:spPr>
          <a:xfrm>
            <a:off x="4910400" y="356076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4" name=""/>
          <p:cNvSpPr/>
          <p:nvPr/>
        </p:nvSpPr>
        <p:spPr>
          <a:xfrm>
            <a:off x="1558440" y="5655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2194920" y="564624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>
            <a:off x="3187080" y="56160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"/>
          <p:cNvSpPr/>
          <p:nvPr/>
        </p:nvSpPr>
        <p:spPr>
          <a:xfrm>
            <a:off x="3835080" y="56080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"/>
          <p:cNvSpPr/>
          <p:nvPr/>
        </p:nvSpPr>
        <p:spPr>
          <a:xfrm>
            <a:off x="4654080" y="56098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"/>
          <p:cNvSpPr/>
          <p:nvPr/>
        </p:nvSpPr>
        <p:spPr>
          <a:xfrm>
            <a:off x="5225400" y="5620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0" name=""/>
          <p:cNvSpPr/>
          <p:nvPr/>
        </p:nvSpPr>
        <p:spPr>
          <a:xfrm>
            <a:off x="6260760" y="5601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6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"/>
          <p:cNvSpPr/>
          <p:nvPr/>
        </p:nvSpPr>
        <p:spPr>
          <a:xfrm>
            <a:off x="7048080" y="5593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7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657440" y="4012920"/>
            <a:ext cx="1108080" cy="16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313000" y="4033440"/>
            <a:ext cx="569880" cy="159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055680" y="4022640"/>
            <a:ext cx="245880" cy="15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119040" y="4056120"/>
            <a:ext cx="81756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216240" y="3990960"/>
            <a:ext cx="1549440" cy="16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3259080" y="3936600"/>
            <a:ext cx="2076480" cy="166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335040" y="3916440"/>
            <a:ext cx="3011400" cy="166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355920" y="3839760"/>
            <a:ext cx="379728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46440" y="3957480"/>
            <a:ext cx="3236760" cy="167832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06680" y="3970080"/>
            <a:ext cx="2657520" cy="16556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506760" y="3970080"/>
            <a:ext cx="180828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110120" y="3936960"/>
            <a:ext cx="12682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37040" y="3948120"/>
            <a:ext cx="4636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420880" y="3948120"/>
            <a:ext cx="9684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540040" y="3958920"/>
            <a:ext cx="101124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605200" y="3916440"/>
            <a:ext cx="174132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"/>
          <p:cNvSpPr/>
          <p:nvPr/>
        </p:nvSpPr>
        <p:spPr>
          <a:xfrm>
            <a:off x="3056040" y="3321000"/>
            <a:ext cx="2139840" cy="282600"/>
          </a:xfrm>
          <a:custGeom>
            <a:avLst/>
            <a:gdLst/>
            <a:ahLst/>
            <a:rect l="l" t="t" r="r" b="b"/>
            <a:pathLst>
              <a:path w="1348" h="178">
                <a:moveTo>
                  <a:pt x="0" y="178"/>
                </a:moveTo>
                <a:cubicBezTo>
                  <a:pt x="192" y="91"/>
                  <a:pt x="384" y="4"/>
                  <a:pt x="609" y="2"/>
                </a:cubicBezTo>
                <a:cubicBezTo>
                  <a:pt x="834" y="0"/>
                  <a:pt x="1224" y="136"/>
                  <a:pt x="1348" y="165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29336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035C-D175-443B-A65F-FBA9EFBCD8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74FFC15-D19E-49CB-AC2C-8E7688B781E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ttp://www.hp.com/go/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estion ?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89B8-3B47-4A62-9D32-C78565C4E8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20F857E-1482-48FB-877D-7EB00EA94FC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utura Lt"/>
              </a:rPr>
              <a:t>Back-up</a:t>
            </a:r>
            <a:endParaRPr b="0" lang="en-US" sz="40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n gener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FED support and feature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ish list for OFED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F99A-B424-456E-89A1-7108CFD5E5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7672D1-4E84-4D4A-8489-46C1991CA8B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224880" y="3884760"/>
            <a:ext cx="6015960" cy="2256840"/>
            <a:chOff x="3224880" y="3884760"/>
            <a:chExt cx="6015960" cy="2256840"/>
          </a:xfrm>
        </p:grpSpPr>
        <p:grpSp>
          <p:nvGrpSpPr>
            <p:cNvPr id="175" name=""/>
            <p:cNvGrpSpPr/>
            <p:nvPr/>
          </p:nvGrpSpPr>
          <p:grpSpPr>
            <a:xfrm>
              <a:off x="3436920" y="4216320"/>
              <a:ext cx="5716800" cy="1907640"/>
              <a:chOff x="3436920" y="4216320"/>
              <a:chExt cx="5716800" cy="190764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5080" y="4654080"/>
                <a:ext cx="77040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Powerful Solver Technology"/>
              <p:cNvPicPr/>
              <p:nvPr/>
            </p:nvPicPr>
            <p:blipFill>
              <a:blip r:embed="rId2"/>
              <a:stretch/>
            </p:blipFill>
            <p:spPr>
              <a:xfrm>
                <a:off x="5585040" y="4270680"/>
                <a:ext cx="122544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UGS, the PLM Company"/>
              <p:cNvPicPr/>
              <p:nvPr/>
            </p:nvPicPr>
            <p:blipFill>
              <a:blip r:embed="rId3"/>
              <a:stretch/>
            </p:blipFill>
            <p:spPr>
              <a:xfrm>
                <a:off x="7140600" y="5602320"/>
                <a:ext cx="552240" cy="51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85160" y="5226120"/>
                <a:ext cx="83268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8044920" y="4613760"/>
                <a:ext cx="804960" cy="39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25120" y="4313880"/>
                <a:ext cx="1017000" cy="20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08920" y="4641480"/>
                <a:ext cx="74304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9"/>
              <a:srcRect l="0" t="10663" r="0" b="21327"/>
              <a:stretch/>
            </p:blipFill>
            <p:spPr>
              <a:xfrm>
                <a:off x="6303600" y="4642920"/>
                <a:ext cx="733320" cy="33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71480" y="5259240"/>
                <a:ext cx="76176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10240" y="5232600"/>
                <a:ext cx="636480" cy="30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82520" y="4216320"/>
                <a:ext cx="773640" cy="39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64200" y="4859280"/>
                <a:ext cx="3636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42920" y="5159520"/>
                <a:ext cx="777960" cy="44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66720" y="5597280"/>
                <a:ext cx="1000080" cy="52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"/>
              <p:cNvGrpSpPr/>
              <p:nvPr/>
            </p:nvGrpSpPr>
            <p:grpSpPr>
              <a:xfrm>
                <a:off x="7815240" y="5769360"/>
                <a:ext cx="1181520" cy="294480"/>
                <a:chOff x="7815240" y="5769360"/>
                <a:chExt cx="1181520" cy="294480"/>
              </a:xfrm>
            </p:grpSpPr>
            <p:pic>
              <p:nvPicPr>
                <p:cNvPr id="191" name="" descr="The University of Texas at Austin">
                  <a:hlinkClick r:id="rId16"/>
                </p:cNvPr>
                <p:cNvPicPr/>
                <p:nvPr/>
              </p:nvPicPr>
              <p:blipFill>
                <a:blip r:embed="rId17"/>
                <a:srcRect l="0" t="0" r="40160" b="0"/>
                <a:stretch/>
              </p:blipFill>
              <p:spPr>
                <a:xfrm>
                  <a:off x="7815240" y="5769360"/>
                  <a:ext cx="1181520" cy="18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The University of Texas at Austin">
                  <a:hlinkClick r:id="rId18"/>
                </p:cNvPr>
                <p:cNvPicPr/>
                <p:nvPr/>
              </p:nvPicPr>
              <p:blipFill>
                <a:blip r:embed="rId19"/>
                <a:srcRect l="59291" t="30976" r="0" b="0"/>
                <a:stretch/>
              </p:blipFill>
              <p:spPr>
                <a:xfrm>
                  <a:off x="8144280" y="5935680"/>
                  <a:ext cx="802800" cy="12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3" name=""/>
              <p:cNvGrpSpPr/>
              <p:nvPr/>
            </p:nvGrpSpPr>
            <p:grpSpPr>
              <a:xfrm>
                <a:off x="7907760" y="4988160"/>
                <a:ext cx="1245960" cy="871560"/>
                <a:chOff x="7907760" y="4988160"/>
                <a:chExt cx="1245960" cy="871560"/>
              </a:xfrm>
            </p:grpSpPr>
            <p:pic>
              <p:nvPicPr>
                <p:cNvPr id="194" name="" descr="Molpro logo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4400" y="4988160"/>
                  <a:ext cx="28116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7907760" y="5446080"/>
                  <a:ext cx="1245960" cy="41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Futura Bk"/>
                    </a:rPr>
                    <a:t>Molpro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 Bk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Futura Bk"/>
                    </a:rPr>
                    <a:t>University of Cardiff</a:t>
                  </a:r>
                  <a:endParaRPr b="0" lang="en-US" sz="9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</p:grpSp>
          <p:pic>
            <p:nvPicPr>
              <p:cNvPr id="19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333040" y="4973040"/>
                <a:ext cx="739440" cy="2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563360" y="5683320"/>
                <a:ext cx="446400" cy="35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383440" y="5264280"/>
                <a:ext cx="92232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205240" y="5688360"/>
                <a:ext cx="737640" cy="34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436920" y="5682240"/>
                <a:ext cx="1035000" cy="35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085240" y="4248000"/>
                <a:ext cx="724680" cy="32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36120" y="4280760"/>
                <a:ext cx="106128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579120" y="4535280"/>
                <a:ext cx="734760" cy="55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"/>
            <p:cNvSpPr/>
            <p:nvPr/>
          </p:nvSpPr>
          <p:spPr>
            <a:xfrm>
              <a:off x="3416400" y="3890880"/>
              <a:ext cx="5700600" cy="225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24880" y="3884760"/>
              <a:ext cx="60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ISVs Distributing HP-MPI on Industry-Standard Linux Cluster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0960" y="3884760"/>
            <a:ext cx="3048840" cy="1156680"/>
            <a:chOff x="390960" y="3884760"/>
            <a:chExt cx="3048840" cy="1156680"/>
          </a:xfrm>
        </p:grpSpPr>
        <p:sp>
          <p:nvSpPr>
            <p:cNvPr id="207" name=""/>
            <p:cNvSpPr/>
            <p:nvPr/>
          </p:nvSpPr>
          <p:spPr>
            <a:xfrm>
              <a:off x="493560" y="3890880"/>
              <a:ext cx="2840040" cy="11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960" y="3884760"/>
              <a:ext cx="30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Operating System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9"/>
            <a:srcRect l="0" t="0" r="37401" b="0"/>
            <a:stretch/>
          </p:blipFill>
          <p:spPr>
            <a:xfrm>
              <a:off x="2203200" y="4238640"/>
              <a:ext cx="91296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Red Hat Home"/>
            <p:cNvPicPr/>
            <p:nvPr/>
          </p:nvPicPr>
          <p:blipFill>
            <a:blip r:embed="rId30"/>
            <a:stretch/>
          </p:blipFill>
          <p:spPr>
            <a:xfrm>
              <a:off x="674640" y="4295520"/>
              <a:ext cx="914400" cy="2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642960" y="4633920"/>
              <a:ext cx="666720" cy="362880"/>
              <a:chOff x="642960" y="4633920"/>
              <a:chExt cx="666720" cy="3628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2960" y="4633920"/>
                <a:ext cx="666720" cy="36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13" name="" descr="Home">
                <a:hlinkClick r:id="rId31"/>
              </p:cNvPr>
              <p:cNvPicPr/>
              <p:nvPr/>
            </p:nvPicPr>
            <p:blipFill>
              <a:blip r:embed="rId32"/>
              <a:stretch/>
            </p:blipFill>
            <p:spPr>
              <a:xfrm>
                <a:off x="692280" y="4659120"/>
                <a:ext cx="525240" cy="33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4" name="" descr=""/>
            <p:cNvPicPr/>
            <p:nvPr/>
          </p:nvPicPr>
          <p:blipFill>
            <a:blip r:embed="rId33"/>
            <a:stretch/>
          </p:blipFill>
          <p:spPr>
            <a:xfrm>
              <a:off x="1728720" y="4597200"/>
              <a:ext cx="136836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492120" y="5126040"/>
            <a:ext cx="2838240" cy="1009440"/>
            <a:chOff x="492120" y="5126040"/>
            <a:chExt cx="2838240" cy="1009440"/>
          </a:xfrm>
        </p:grpSpPr>
        <p:sp>
          <p:nvSpPr>
            <p:cNvPr id="216" name=""/>
            <p:cNvSpPr/>
            <p:nvPr/>
          </p:nvSpPr>
          <p:spPr>
            <a:xfrm>
              <a:off x="492120" y="5132160"/>
              <a:ext cx="2838240" cy="1003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" y="5126040"/>
              <a:ext cx="25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Architectur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18" name="" descr="Intel® Xeon™ Processor"/>
            <p:cNvPicPr/>
            <p:nvPr/>
          </p:nvPicPr>
          <p:blipFill>
            <a:blip r:embed="rId34"/>
            <a:stretch/>
          </p:blipFill>
          <p:spPr>
            <a:xfrm>
              <a:off x="2512800" y="5472000"/>
              <a:ext cx="46692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5"/>
            <a:stretch/>
          </p:blipFill>
          <p:spPr>
            <a:xfrm>
              <a:off x="779400" y="5475240"/>
              <a:ext cx="46044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6"/>
            <a:stretch/>
          </p:blipFill>
          <p:spPr>
            <a:xfrm>
              <a:off x="1590480" y="5475240"/>
              <a:ext cx="52704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490680" y="6215040"/>
            <a:ext cx="7829280" cy="654120"/>
            <a:chOff x="490680" y="6215040"/>
            <a:chExt cx="7829280" cy="654120"/>
          </a:xfrm>
        </p:grpSpPr>
        <p:sp>
          <p:nvSpPr>
            <p:cNvPr id="222" name=""/>
            <p:cNvSpPr/>
            <p:nvPr/>
          </p:nvSpPr>
          <p:spPr>
            <a:xfrm>
              <a:off x="571320" y="6245280"/>
              <a:ext cx="19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Switch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23" name="" descr="Myricom logotype"/>
            <p:cNvPicPr/>
            <p:nvPr/>
          </p:nvPicPr>
          <p:blipFill>
            <a:blip r:embed="rId37"/>
            <a:stretch/>
          </p:blipFill>
          <p:spPr>
            <a:xfrm>
              <a:off x="6987960" y="6234120"/>
              <a:ext cx="11570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8"/>
            <a:stretch/>
          </p:blipFill>
          <p:spPr>
            <a:xfrm>
              <a:off x="2711160" y="6222960"/>
              <a:ext cx="4824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9"/>
            <a:stretch/>
          </p:blipFill>
          <p:spPr>
            <a:xfrm>
              <a:off x="5357520" y="6276960"/>
              <a:ext cx="155700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6" name=""/>
            <p:cNvGraphicFramePr/>
            <p:nvPr/>
          </p:nvGraphicFramePr>
          <p:xfrm>
            <a:off x="6524640" y="6592680"/>
            <a:ext cx="1656720" cy="22860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6524640" y="6592680"/>
                      <a:ext cx="1656720" cy="228600"/>
                    </a:xfrm>
                    <a:prstGeom prst="rect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228" name="" descr=""/>
            <p:cNvPicPr/>
            <p:nvPr/>
          </p:nvPicPr>
          <p:blipFill>
            <a:blip r:embed="rId42"/>
            <a:srcRect l="0" t="49330" r="66249" b="0"/>
            <a:stretch/>
          </p:blipFill>
          <p:spPr>
            <a:xfrm>
              <a:off x="1525320" y="6573600"/>
              <a:ext cx="9777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3"/>
            <a:stretch/>
          </p:blipFill>
          <p:spPr>
            <a:xfrm>
              <a:off x="3286080" y="6472080"/>
              <a:ext cx="103140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4"/>
            <a:stretch/>
          </p:blipFill>
          <p:spPr>
            <a:xfrm>
              <a:off x="4829040" y="6368760"/>
              <a:ext cx="71892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0680" y="6215040"/>
              <a:ext cx="7829280" cy="645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45"/>
            <a:stretch/>
          </p:blipFill>
          <p:spPr>
            <a:xfrm>
              <a:off x="3878280" y="6232320"/>
              <a:ext cx="10090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7720" y="472680"/>
            <a:ext cx="8197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: Industry’s Standard Commercial High Performance MPI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52240" y="1600200"/>
            <a:ext cx="8272440" cy="225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Portable, Robust, Fast, Supported, Availabl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vendor independent MPI optimized for all leading architectures, OSs, switches, applications (see below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Customer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reely distributed by &gt;25 ISVs for industry-standard Linux clusters; for WindowCCS in 2007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or developers on in-house applications, HP-MPI licenses are included in XC operating environmen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Independent Software Vendors (ISVs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reduces platform test matrix; reduces customer complaints; supported by HP expert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D0C8-F3BB-4897-BBF1-97B85F501B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1D6A41B-A53E-49D6-941B-D5B91132119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Hardware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adrics Qs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yrinet  2G/10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0 Gigabit Ether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950A-7F9C-4685-9C2A-1B4534D5DD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1FE36AA-43FD-4807-A778-548D491E370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Protocol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HM – Shared-Memory Communication Within Nod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CP – TCP/IP On Every System, IPoIB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ELAN – Quadrics elan3 &amp; elan4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GM – legacy message-passing system for Myrinet network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X – Myrinet Expres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SM – Pathscale Message on Qlogic IB hardwa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VAPI – Mellanox Infiniband Verbs API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V – OFED Infiniband Verb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DAPL – User Direct Access Programming Librar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TAPI – Interconnect Transport API (HP-UX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AL – Infiniband Access Layer (Windows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2023-4424-4564-B50E-C299BBE09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3D7A1F-C74C-4533-8CFC-0B43D68E948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 Infiniband History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9600" y="1419120"/>
            <a:ext cx="827244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0  -- IT-API Infiniband on HP-UX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1  -- VAPI/uDAPL on Linux 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 – OFED 1.0 and OFED 1.1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.1 – OFED 1.2 plus 1.1 and 1.0, work with 1.2.5 and 1.3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7 – Come out this Apr., Support all OFED releases and all major features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3 – sync with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486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9CD7-7215-4B1C-B9A9-728B0A291C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D62C90-73EA-4D37-8EBC-2A4E441E3D3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essage Transfer Protocol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MA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nd/Receive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ared-Receiving-Queue (SRQ)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8962-4E32-4837-8E7E-A86D29968F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2E70129-0893-46FC-B556-D45591F0488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nnection Fail[over]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utomatic Path Migration (APM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Strip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B Partition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Coalescing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M/NIC/MIX mode within n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B762-CDAD-4A49-B47F-D6DFB26505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40DFA49-2E5D-46D8-A32D-F698953A28F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PU Binding – Rank, Cyclic, …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XRC support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APL 2.0 support in 2.2.7 (1.1 and 1.2 as well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uDAPL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e-side operation using RDMA write/rea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istributed lock/unlock using IB atomic operation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51AE-A6DB-41DC-AF43-480F82B0C1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7E0A713-7D11-4D21-A4B3-C40392EE5A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4:51:31Z</dcterms:created>
  <dc:creator> dave korf</dc:creator>
  <dc:description>This template was designed for users of PowerPoint 2000</dc:description>
  <cp:keywords>Template</cp:keywords>
  <dc:language>en-US</dc:language>
  <cp:lastModifiedBy>ctang</cp:lastModifiedBy>
  <dcterms:modified xsi:type="dcterms:W3CDTF">2008-04-08T18:24:47Z</dcterms:modified>
  <cp:revision>150</cp:revision>
  <dc:subject>HP Template</dc:subject>
  <dc:title>HP standard dark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