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B4B-2452-4B9D-9397-494BAEBB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831-685C-4FE3-97C4-FF72D882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1F0-357B-496B-9D4E-112B0067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2372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02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68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2372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02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6FD-D496-464E-9894-C57B3D0D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5040" y="165240"/>
            <a:ext cx="69516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8E4-FA4F-4EBE-B980-023D2E1E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372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02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372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02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859-9A69-4065-882B-7C54113A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F66-6E42-49F5-8225-7BDA1DBC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ADC-05C2-447E-BFCA-4D2E49C8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5040" y="165240"/>
            <a:ext cx="69516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7CF3-295A-4F2C-AFC8-CF3FA3CD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962-364F-4427-8F80-6C464588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3D3-BB3C-4C7A-8D21-052D7E9F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FB3-2C97-4612-9229-6184C7DD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971640" y="7101000"/>
            <a:ext cx="8064360" cy="1440"/>
          </a:xfrm>
          <a:prstGeom prst="line">
            <a:avLst/>
          </a:prstGeom>
          <a:ln w="9360">
            <a:solidFill>
              <a:srgbClr val="7f8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26450" t="65987" r="810" b="214"/>
          <a:stretch/>
        </p:blipFill>
        <p:spPr>
          <a:xfrm>
            <a:off x="5562720" y="5549760"/>
            <a:ext cx="3581280" cy="1258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0" t="0" r="0" b="26546"/>
          <a:stretch/>
        </p:blipFill>
        <p:spPr>
          <a:xfrm>
            <a:off x="7435800" y="157320"/>
            <a:ext cx="1538280" cy="325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1814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A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9714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5217-D283-47D7-A84C-B50B15FDB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468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04600" y="3438360"/>
            <a:ext cx="579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e5e6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e4e5e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5f5f5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5f5f5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upercomputingonline.com/article.php?sid=15357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2614680"/>
            <a:ext cx="57974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e5e6"/>
                </a:solidFill>
                <a:latin typeface="Verdana"/>
              </a:rPr>
              <a:t>MPI and OFA</a:t>
            </a:r>
            <a:br>
              <a:rPr sz="2000"/>
            </a:br>
            <a:r>
              <a:rPr b="1" lang="en-US" sz="2000" spc="-1" strike="noStrike">
                <a:solidFill>
                  <a:srgbClr val="e4e5e6"/>
                </a:solidFill>
                <a:latin typeface="Verdana"/>
              </a:rPr>
              <a:t>Divergent interests?</a:t>
            </a:r>
            <a:endParaRPr b="1" lang="en-US" sz="2000" spc="-1" strike="noStrike">
              <a:solidFill>
                <a:srgbClr val="e4e5e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90920" y="3962520"/>
            <a:ext cx="5184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Dan Caldwell, VP WW Channel Sales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Scali, Inc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The role of OFA in HPC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6840" y="1192320"/>
            <a:ext cx="8153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ditional role of Open Fabrics focuses on cables that connect motherboards, switches, and storage in clu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of processors in HPC expected to be 30% in 2010 (per IDC), and number of cores per processor is 55% (estimate) and increa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 the bulk of the “HPC Interconnect Fabric” is moving from cables to the server motherboard and the various local b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878-8BDB-45DA-920C-3124BD5D01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MPI Performance in HPC systems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i has always been the performance MPI l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3b1"/>
                </a:solidFill>
                <a:uFillTx/>
                <a:latin typeface="Verdana"/>
                <a:hlinkClick r:id="rId1"/>
              </a:rPr>
              <a:t>http://www.supercomputingonline.com/article.php?sid=1535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we suggest that OFA adopt a recommended performance measurement method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vity, or ‘jobs per day’, on a clu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you know how well OFA is do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A must examine the performance within a multi-core n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16 core “Personal Supercomputer” will still run legacy MPI ap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1EDB-B747-47A1-8E76-582D058330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Single Node, 8 cores, osu_bw, 8 byte, Intel Xeon 3.00GHz (X5365)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990720"/>
          <a:ext cx="9144000" cy="556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0B2-6B33-45D0-9AE4-DCBE2D6FE8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MPI enables other HPC functionality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iniband Tru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bining IB channels for greater through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e for Sun / Tsukuba University in Jap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pend / Resume and Checkpoint – 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ic functionality  - not application speci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ed job migration with HPC4U in Brussels, February 11,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….  MPI based Power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y – AMD / Barcelona on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C48-5140-4383-802F-7FE165D483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390240"/>
            <a:ext cx="80168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”</a:t>
            </a: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Waiting as fast as it can” (CPU spinning) – examples (AMD Barcelona Quad Core):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550880"/>
            <a:ext cx="4367160" cy="273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19440" y="1549440"/>
            <a:ext cx="4624560" cy="2725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85960" y="2066760"/>
            <a:ext cx="2359080" cy="339840"/>
          </a:xfrm>
          <a:prstGeom prst="downArrowCallout">
            <a:avLst>
              <a:gd name="adj1" fmla="val 173559"/>
              <a:gd name="adj2" fmla="val 173543"/>
              <a:gd name="adj3" fmla="val 16667"/>
              <a:gd name="adj4" fmla="val 66667"/>
            </a:avLst>
          </a:prstGeom>
          <a:solidFill>
            <a:srgbClr val="e4e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</a:rPr>
              <a:t>Power Saving Potential Z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84880" y="1862280"/>
            <a:ext cx="2359080" cy="347400"/>
          </a:xfrm>
          <a:prstGeom prst="downArrowCallout">
            <a:avLst>
              <a:gd name="adj1" fmla="val 169782"/>
              <a:gd name="adj2" fmla="val 169767"/>
              <a:gd name="adj3" fmla="val 16667"/>
              <a:gd name="adj4" fmla="val 66667"/>
            </a:avLst>
          </a:prstGeom>
          <a:solidFill>
            <a:srgbClr val="e4e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</a:rPr>
              <a:t>Power Saving Potential Z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8760" y="4572000"/>
            <a:ext cx="735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onsidering 20 microseconds to change power states in an Quad 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Opteron, latency above 10 milliseconds in an MPI collective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an trigger a ”throttle down”.  In a call with a 10 millisecond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latenc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croseconds to throttle down plus 200 to re-establis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speed would use only 2.5% of the time of the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CD0-F763-4E12-A2ED-2C665B9BCB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165240"/>
            <a:ext cx="80931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Real World Initial Tests - SPEC MPI2007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295280"/>
          <a:ext cx="8918640" cy="428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91864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9D9-307E-4043-A362-F387B75A0F4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Conclusions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I and OFA need to co-exist, but we both need to expand our reach in HP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Fabrics needs to embrace new functionality, performance metrics, and definitions of ‘fabric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wer savings, user-model (core affinity policies), best practices in interconnect design, and emphasis on continued performance across the entire HPC system is critical to the relevancy of OF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E92-DF69-4D71-911B-2EBCA2CF45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21:27:35Z</dcterms:created>
  <dc:creator>Dan Caldwell</dc:creator>
  <dc:description/>
  <dc:language>en-US</dc:language>
  <cp:lastModifiedBy> Dan Caldwell</cp:lastModifiedBy>
  <dcterms:modified xsi:type="dcterms:W3CDTF">2008-04-09T00:21:58Z</dcterms:modified>
  <cp:revision>19</cp:revision>
  <dc:subject/>
  <dc:title>MPI and OFA Divergent interests?</dc:title>
</cp:coreProperties>
</file>