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4C3CB13-9E09-464B-BF2D-04DD4880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InfiniBand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node, e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 dual core/dual socket, 2.6-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S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etEffect Cluster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node, e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 dual core/dual socket, 2.6 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Effect 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-node 10Gb Ethernet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dual-processor, quad-core 2.6-GHz C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-node DDR InfiniBand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dual-processor, quad-core 2.6-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GbE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6-n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luster / HP Lab Houston, each nod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 DL360 dual-core, 1.8-GHz server (data normalized to clock speed of BL4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3-MHz, NetEffect 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 1.0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system: RHEL4 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jitsu 20-port 10GbE CX4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b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-n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luster / HP Lab Richardson, each n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460 quad-core, 2.6 GHz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ire Infiniband mezzanine card an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DBD8-9CCF-48EB-A3B1-F9137D133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14F8-7255-48B4-983C-A92D7397F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B5F8-52E1-40DD-9A13-00BBD16E3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832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004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832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0E87-B342-4DBE-B456-6D449FE1D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9AF17-0094-4C89-9C92-3E84C4B7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A74AF-186F-4328-8878-7A0F4FCE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2FBDE-2019-41E7-B107-383BBF7F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D0B7-A019-4E92-AE87-A6F0639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1880B-B3B5-4CF0-9346-5C6B650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66720" y="3865680"/>
            <a:ext cx="77724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9CEF1-EB89-4FB0-BA02-F4C605D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843F4-CF99-4C4C-B35E-1A26E6E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B2AF-F7C3-4973-A054-823D18C6C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F575F-CD44-4AE6-9DC3-48B73EB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86B13-6076-4568-B900-8E03721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DEC63-6ABF-4696-A4DD-E8BD2EA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BEE6E-71DA-4DAA-8FB6-3AC16087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400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2832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0004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400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2832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FC390-8B34-4ECB-BA44-E82590B1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33CD-FD95-4FCB-AADB-B36D12C2D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1AB4-A173-4CC3-833B-8FC541CA2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A6A5-B566-4ED3-A885-1DEEDEE64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6720" y="3865680"/>
            <a:ext cx="77724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E225-5916-4043-A90C-AF3C06AB8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E300-18D6-48B9-8E2A-A90C113A8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0B18-4B42-4A74-9BB0-F455AD936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ACF2-8E38-433C-906B-C7487026A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336320"/>
            <a:ext cx="8534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3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C930-DA59-4556-9156-632D5B507DA4}" type="slidenum"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372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016c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0080" y="22320"/>
            <a:ext cx="1562040" cy="31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NetEffect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14D9-8077-4249-BAA5-F179D666B44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95560" y="2243160"/>
            <a:ext cx="6419520" cy="1292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907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4907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4907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19040" y="566064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 in Next Generation Ethern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29040" y="3583080"/>
          <a:ext cx="30826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3583080"/>
                    <a:ext cx="30826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6720" y="41338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ARP has moved “from benchmarks to application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6720" y="41338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neteffect.co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36320"/>
            <a:ext cx="8534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is iWARP To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oof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DB4D-05E6-4813-867C-E629BBD247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456400" cy="5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in Multi-Processor/Multi-Cor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4800" y="1336680"/>
            <a:ext cx="793440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54D2-769C-468A-B1EE-6D379CA652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Leading Multiple Connectio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6480" y="5979960"/>
            <a:ext cx="74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ominant RDMA Command for; Intel MPI, MVAPICH2, HP MPI, Scali MPI, OpenMPI, MPICH2 and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4800" y="995400"/>
            <a:ext cx="7934400" cy="486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BBAB-23FD-458D-A0A6-4DDE2FE39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39760" y="2187720"/>
            <a:ext cx="6846840" cy="4414680"/>
            <a:chOff x="1139760" y="2187720"/>
            <a:chExt cx="6846840" cy="4414680"/>
          </a:xfrm>
        </p:grpSpPr>
        <p:graphicFrame>
          <p:nvGraphicFramePr>
            <p:cNvPr id="108" name=""/>
            <p:cNvGraphicFramePr/>
            <p:nvPr/>
          </p:nvGraphicFramePr>
          <p:xfrm>
            <a:off x="1139760" y="2187720"/>
            <a:ext cx="6846840" cy="4414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187720"/>
                      <a:ext cx="6846840" cy="44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984680" y="236700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4680" y="41601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4680" y="459000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4680" y="52779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4680" y="50439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4680" y="396432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50040" y="2771640"/>
            <a:ext cx="12985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7421"/>
                </a:solidFill>
                <a:latin typeface="Arial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NetEffect 10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4720" y="1762200"/>
            <a:ext cx="694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Abaqus/Explicit: finite element analysis test suite (E1-E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1546-BF6D-4438-A347-CB0EB7204C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336320"/>
            <a:ext cx="4187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 scaled across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l-clock times equal to or better than 20-Gbps Infini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22440" y="3870360"/>
          <a:ext cx="3832200" cy="27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870360"/>
                    <a:ext cx="38322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1566720"/>
          <a:ext cx="3845160" cy="241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66720"/>
                    <a:ext cx="384516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24280" y="4116240"/>
          <a:ext cx="3835440" cy="246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116240"/>
                    <a:ext cx="383544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78320" y="3665520"/>
            <a:ext cx="2016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7421"/>
                </a:solidFill>
                <a:latin typeface="Arial"/>
              </a:rPr>
              <a:t>DDR Infiniband (20Gb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NetEffect NE020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10GbE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755720"/>
            <a:ext cx="402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PAM-CRASH crash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A987-991C-486D-A042-AB5F74B7D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16200000">
            <a:off x="3173400" y="118800"/>
            <a:ext cx="2428920" cy="8775720"/>
          </a:xfrm>
          <a:prstGeom prst="rect">
            <a:avLst/>
          </a:prstGeom>
          <a:gradFill rotWithShape="0">
            <a:gsLst>
              <a:gs pos="0">
                <a:srgbClr val="7399c6"/>
              </a:gs>
              <a:gs pos="100000">
                <a:srgbClr val="edef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Autofit/>
          </a:bodyPr>
          <a:p>
            <a:pPr marL="287280" indent="-2872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uent 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553680"/>
            <a:ext cx="8318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1120" y="1339920"/>
            <a:ext cx="28828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3117960"/>
          <a:ext cx="262584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17960"/>
                    <a:ext cx="262584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946160" y="2260440"/>
            <a:ext cx="816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3840" y="2260440"/>
            <a:ext cx="816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83520" y="2260440"/>
            <a:ext cx="815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26120" y="3265560"/>
          <a:ext cx="2712960" cy="2803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6120" y="3265560"/>
                    <a:ext cx="27129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68600" y="3129120"/>
          <a:ext cx="2703600" cy="301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129120"/>
                    <a:ext cx="2703600" cy="30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9240" y="2498760"/>
          <a:ext cx="3200400" cy="676080"/>
        </p:xfrm>
        <a:graphic>
          <a:graphicData uri="http://schemas.openxmlformats.org/drawingml/2006/table">
            <a:tbl>
              <a:tblPr/>
              <a:tblGrid>
                <a:gridCol w="979920"/>
                <a:gridCol w="109440"/>
                <a:gridCol w="528120"/>
                <a:gridCol w="527760"/>
                <a:gridCol w="528120"/>
                <a:gridCol w="527040"/>
              </a:tblGrid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fini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 w="5760">
                      <a:solidFill>
                        <a:srgbClr val="edefe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8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8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43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NE020 10G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 w="5760">
                      <a:solidFill>
                        <a:srgbClr val="edefe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8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2498760"/>
          <a:ext cx="2286000" cy="628560"/>
        </p:xfrm>
        <a:graphic>
          <a:graphicData uri="http://schemas.openxmlformats.org/drawingml/2006/table">
            <a:tbl>
              <a:tblPr/>
              <a:tblGrid>
                <a:gridCol w="109440"/>
                <a:gridCol w="527760"/>
                <a:gridCol w="524880"/>
                <a:gridCol w="524520"/>
                <a:gridCol w="599400"/>
              </a:tblGrid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521400" y="2498760"/>
          <a:ext cx="2241720" cy="628560"/>
        </p:xfrm>
        <a:graphic>
          <a:graphicData uri="http://schemas.openxmlformats.org/drawingml/2006/table">
            <a:tbl>
              <a:tblPr/>
              <a:tblGrid>
                <a:gridCol w="109440"/>
                <a:gridCol w="532440"/>
                <a:gridCol w="533880"/>
                <a:gridCol w="533880"/>
                <a:gridCol w="532080"/>
              </a:tblGrid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380880" y="5330880"/>
            <a:ext cx="8001000" cy="1197000"/>
            <a:chOff x="380880" y="5330880"/>
            <a:chExt cx="8001000" cy="1197000"/>
          </a:xfrm>
        </p:grpSpPr>
        <p:sp>
          <p:nvSpPr>
            <p:cNvPr id="144" name=""/>
            <p:cNvSpPr/>
            <p:nvPr/>
          </p:nvSpPr>
          <p:spPr>
            <a:xfrm>
              <a:off x="380880" y="533088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6299280"/>
              <a:ext cx="152640" cy="0"/>
            </a:xfrm>
            <a:prstGeom prst="line">
              <a:avLst/>
            </a:prstGeom>
            <a:ln w="9360">
              <a:solidFill>
                <a:srgbClr val="7399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147000"/>
              <a:ext cx="7924680" cy="38088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Fluent ‘rating’: the number of benchmarks that can be run (in sequence) in a 24 hour period. A higher rating means faster performanc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5721480"/>
              <a:ext cx="0" cy="577800"/>
            </a:xfrm>
            <a:prstGeom prst="line">
              <a:avLst/>
            </a:prstGeom>
            <a:ln w="9360">
              <a:solidFill>
                <a:srgbClr val="7399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97040" y="1762200"/>
            <a:ext cx="78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95"/>
                </a:solidFill>
                <a:latin typeface="Arial"/>
                <a:ea typeface="Arial Unicode MS"/>
              </a:rPr>
              <a:t>Fluent FL5Lx Benchmarks:  Computational Fluid Dynamics (CF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84A2-2033-4110-994D-C29E7A6CAD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54160" y="2435400"/>
            <a:ext cx="701496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41280" y="2550960"/>
            <a:ext cx="6861240" cy="3668400"/>
            <a:chOff x="1241280" y="2550960"/>
            <a:chExt cx="6861240" cy="3668400"/>
          </a:xfrm>
        </p:grpSpPr>
        <p:sp>
          <p:nvSpPr>
            <p:cNvPr id="151" name=""/>
            <p:cNvSpPr/>
            <p:nvPr/>
          </p:nvSpPr>
          <p:spPr>
            <a:xfrm>
              <a:off x="2001960" y="53542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01960" y="48924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01960" y="44398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01960" y="397656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1960" y="352404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01960" y="307152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1960" y="58068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01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702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4652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61340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48964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357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234200" y="5806800"/>
              <a:ext cx="180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1010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0560" y="2550960"/>
              <a:ext cx="3377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dmark Nexus Performance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41280" y="574020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00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1280" y="52876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28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41280" y="48243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57: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41280" y="43718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26: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41280" y="39099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55: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1280" y="34574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24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1280" y="30034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52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21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840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528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929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5984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82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748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45640" y="6097320"/>
              <a:ext cx="307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configuration (processors-nod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285840" y="4306680"/>
              <a:ext cx="212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ll-clock time (h:mm: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4160" y="2435040"/>
            <a:ext cx="7014960" cy="3970440"/>
            <a:chOff x="1154160" y="2435040"/>
            <a:chExt cx="7014960" cy="3970440"/>
          </a:xfrm>
        </p:grpSpPr>
        <p:sp>
          <p:nvSpPr>
            <p:cNvPr id="184" name=""/>
            <p:cNvSpPr/>
            <p:nvPr/>
          </p:nvSpPr>
          <p:spPr>
            <a:xfrm>
              <a:off x="1154160" y="2435040"/>
              <a:ext cx="7014960" cy="397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1960" y="53542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01960" y="48924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01960" y="44398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01960" y="397656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1960" y="352404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01960" y="307152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58068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001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8702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74652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61340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964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57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234200" y="5806800"/>
              <a:ext cx="180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1010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6840" y="3784320"/>
              <a:ext cx="5230800" cy="1551240"/>
            </a:xfrm>
            <a:custGeom>
              <a:avLst/>
              <a:gdLst/>
              <a:ahLst/>
              <a:rect l="l" t="t" r="r" b="b"/>
              <a:pathLst>
                <a:path w="543" h="161">
                  <a:moveTo>
                    <a:pt x="0" y="0"/>
                  </a:moveTo>
                  <a:lnTo>
                    <a:pt x="91" y="38"/>
                  </a:lnTo>
                  <a:lnTo>
                    <a:pt x="181" y="96"/>
                  </a:lnTo>
                  <a:lnTo>
                    <a:pt x="272" y="119"/>
                  </a:lnTo>
                  <a:lnTo>
                    <a:pt x="362" y="147"/>
                  </a:lnTo>
                  <a:lnTo>
                    <a:pt x="452" y="158"/>
                  </a:lnTo>
                  <a:lnTo>
                    <a:pt x="543" y="16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6840" y="3678120"/>
              <a:ext cx="5230800" cy="1704960"/>
            </a:xfrm>
            <a:custGeom>
              <a:avLst/>
              <a:gdLst/>
              <a:ahLst/>
              <a:rect l="l" t="t" r="r" b="b"/>
              <a:pathLst>
                <a:path w="543" h="177">
                  <a:moveTo>
                    <a:pt x="0" y="0"/>
                  </a:moveTo>
                  <a:lnTo>
                    <a:pt x="91" y="47"/>
                  </a:lnTo>
                  <a:lnTo>
                    <a:pt x="181" y="103"/>
                  </a:lnTo>
                  <a:lnTo>
                    <a:pt x="272" y="129"/>
                  </a:lnTo>
                  <a:lnTo>
                    <a:pt x="362" y="157"/>
                  </a:lnTo>
                  <a:lnTo>
                    <a:pt x="452" y="170"/>
                  </a:lnTo>
                  <a:lnTo>
                    <a:pt x="543" y="177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4680" y="2550960"/>
              <a:ext cx="1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41280" y="574020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00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41280" y="52876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28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41280" y="48243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57: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41280" y="43718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26: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41280" y="39099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55: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1280" y="34574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24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1280" y="30034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52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21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4840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528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29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5984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982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748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45640" y="6097320"/>
              <a:ext cx="307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configuration (processors-nod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285840" y="4306680"/>
              <a:ext cx="212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ll-clock time (h:mm: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3185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en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1Gb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iWARP Ethernet achieves results on par with InfiniBand in som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9320" y="1798560"/>
            <a:ext cx="5123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6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95"/>
                </a:solidFill>
                <a:latin typeface="Arial"/>
              </a:rPr>
              <a:t>Landmark Nexus reservoir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dominated by latency and message rate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6840" y="3784680"/>
            <a:ext cx="5230800" cy="1550880"/>
          </a:xfrm>
          <a:custGeom>
            <a:avLst/>
            <a:gdLst/>
            <a:ahLst/>
            <a:rect l="l" t="t" r="r" b="b"/>
            <a:pathLst>
              <a:path w="543" h="161">
                <a:moveTo>
                  <a:pt x="0" y="0"/>
                </a:moveTo>
                <a:lnTo>
                  <a:pt x="91" y="38"/>
                </a:lnTo>
                <a:lnTo>
                  <a:pt x="181" y="96"/>
                </a:lnTo>
                <a:lnTo>
                  <a:pt x="272" y="119"/>
                </a:lnTo>
                <a:lnTo>
                  <a:pt x="362" y="147"/>
                </a:lnTo>
                <a:lnTo>
                  <a:pt x="452" y="158"/>
                </a:lnTo>
                <a:lnTo>
                  <a:pt x="543" y="161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3621240"/>
            <a:ext cx="5230800" cy="1733400"/>
          </a:xfrm>
          <a:custGeom>
            <a:avLst/>
            <a:gdLst/>
            <a:ahLst/>
            <a:rect l="l" t="t" r="r" b="b"/>
            <a:pathLst>
              <a:path w="543" h="180">
                <a:moveTo>
                  <a:pt x="0" y="0"/>
                </a:moveTo>
                <a:lnTo>
                  <a:pt x="91" y="52"/>
                </a:lnTo>
                <a:lnTo>
                  <a:pt x="181" y="102"/>
                </a:lnTo>
                <a:lnTo>
                  <a:pt x="272" y="128"/>
                </a:lnTo>
                <a:lnTo>
                  <a:pt x="362" y="158"/>
                </a:lnTo>
                <a:lnTo>
                  <a:pt x="452" y="173"/>
                </a:lnTo>
                <a:lnTo>
                  <a:pt x="543" y="180"/>
                </a:lnTo>
              </a:path>
            </a:pathLst>
          </a:custGeom>
          <a:noFill/>
          <a:ln w="1908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86280" y="4581360"/>
            <a:ext cx="2519280" cy="275760"/>
            <a:chOff x="4886280" y="4581360"/>
            <a:chExt cx="2519280" cy="275760"/>
          </a:xfrm>
        </p:grpSpPr>
        <p:sp>
          <p:nvSpPr>
            <p:cNvPr id="224" name=""/>
            <p:cNvSpPr/>
            <p:nvPr/>
          </p:nvSpPr>
          <p:spPr>
            <a:xfrm>
              <a:off x="5235840" y="4581360"/>
              <a:ext cx="21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b6b2"/>
                  </a:solidFill>
                  <a:latin typeface="Arial"/>
                </a:rPr>
                <a:t>NetEffect 1GbE adap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886280" y="4673520"/>
              <a:ext cx="663480" cy="183600"/>
              <a:chOff x="4886280" y="4673520"/>
              <a:chExt cx="663480" cy="1836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4940280" y="4673520"/>
                <a:ext cx="609480" cy="97200"/>
                <a:chOff x="4940280" y="4673520"/>
                <a:chExt cx="609480" cy="9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940280" y="4673520"/>
                  <a:ext cx="0" cy="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40280" y="46735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4886280" y="4770720"/>
                <a:ext cx="101520" cy="86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5356080" y="3441600"/>
            <a:ext cx="1127160" cy="648720"/>
            <a:chOff x="5356080" y="3441600"/>
            <a:chExt cx="1127160" cy="648720"/>
          </a:xfrm>
        </p:grpSpPr>
        <p:sp>
          <p:nvSpPr>
            <p:cNvPr id="231" name=""/>
            <p:cNvSpPr/>
            <p:nvPr/>
          </p:nvSpPr>
          <p:spPr>
            <a:xfrm>
              <a:off x="5356080" y="3606480"/>
              <a:ext cx="1127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 Cor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ndard 1Gb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:27: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0800" y="3441600"/>
              <a:ext cx="114480" cy="1141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227640" y="2954160"/>
            <a:ext cx="1127160" cy="636480"/>
            <a:chOff x="6227640" y="2954160"/>
            <a:chExt cx="1127160" cy="636480"/>
          </a:xfrm>
        </p:grpSpPr>
        <p:sp>
          <p:nvSpPr>
            <p:cNvPr id="234" name=""/>
            <p:cNvSpPr/>
            <p:nvPr/>
          </p:nvSpPr>
          <p:spPr>
            <a:xfrm>
              <a:off x="6227640" y="3106800"/>
              <a:ext cx="1127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 Cor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ndard 1Gb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:58: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9120" y="2954160"/>
              <a:ext cx="114480" cy="1144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340360" y="4737240"/>
            <a:ext cx="2301480" cy="604080"/>
            <a:chOff x="2340360" y="4737240"/>
            <a:chExt cx="2301480" cy="604080"/>
          </a:xfrm>
        </p:grpSpPr>
        <p:sp>
          <p:nvSpPr>
            <p:cNvPr id="237" name=""/>
            <p:cNvSpPr/>
            <p:nvPr/>
          </p:nvSpPr>
          <p:spPr>
            <a:xfrm>
              <a:off x="2340360" y="5125680"/>
              <a:ext cx="22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NetEffect 10GbE adap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91080" y="483840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285800" y="523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0320" y="4737240"/>
              <a:ext cx="101520" cy="101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845800" y="4724280"/>
            <a:ext cx="1713960" cy="406080"/>
            <a:chOff x="2845800" y="4724280"/>
            <a:chExt cx="1713960" cy="406080"/>
          </a:xfrm>
        </p:grpSpPr>
        <p:sp>
          <p:nvSpPr>
            <p:cNvPr id="242" name=""/>
            <p:cNvSpPr/>
            <p:nvPr/>
          </p:nvSpPr>
          <p:spPr>
            <a:xfrm>
              <a:off x="2845800" y="4914720"/>
              <a:ext cx="171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37421"/>
                  </a:solidFill>
                  <a:latin typeface="Arial"/>
                </a:rPr>
                <a:t>10Gb Infinib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271760" y="4825800"/>
              <a:ext cx="123840" cy="206280"/>
              <a:chOff x="4271760" y="4825800"/>
              <a:chExt cx="123840" cy="206280"/>
            </a:xfrm>
          </p:grpSpPr>
          <p:sp>
            <p:nvSpPr>
              <p:cNvPr id="244" name=""/>
              <p:cNvSpPr/>
              <p:nvPr/>
            </p:nvSpPr>
            <p:spPr>
              <a:xfrm>
                <a:off x="4395600" y="4825800"/>
                <a:ext cx="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271760" y="5032080"/>
                <a:ext cx="12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344840" y="4724280"/>
              <a:ext cx="101520" cy="10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123A-0536-4B53-9071-5C423DC3B6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64008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oined forces 2.5 years ago to make the concept of a single RDMA API work on multiple fabrics from multiple vendors and be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&amp; Ethernet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B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WARP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w a Rea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2A12-C6CE-40C6-9E2A-CB7B1C325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1:27:23Z</dcterms:created>
  <dc:creator/>
  <dc:description/>
  <dc:language>en-US</dc:language>
  <cp:lastModifiedBy> </cp:lastModifiedBy>
  <dcterms:modified xsi:type="dcterms:W3CDTF">2008-04-09T21:27:52Z</dcterms:modified>
  <cp:revision>280</cp:revision>
  <dc:subject>Overview</dc:subject>
  <dc:title>NetEff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