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67EE-C8A5-4FEA-987A-9FD3B3E9B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hap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B2F3-DC60-4EEC-B52B-3DC2C1DCE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4E47-0517-4F27-A124-766680573590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hape 4"/>
          <p:cNvSpPr/>
          <p:nvPr/>
        </p:nvSpPr>
        <p:spPr>
          <a:xfrm>
            <a:off x="2133720" y="646740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llanox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OFED 1.4 Pla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4830840"/>
            <a:ext cx="5639040" cy="1342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ziporet K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tangle 10" descr=""/>
          <p:cNvPicPr/>
          <p:nvPr/>
        </p:nvPicPr>
        <p:blipFill>
          <a:blip r:embed="rId1"/>
          <a:stretch/>
        </p:blipFill>
        <p:spPr>
          <a:xfrm>
            <a:off x="7467480" y="5173560"/>
            <a:ext cx="130824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I New Features –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MPI – version 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Manager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 CM, RDMA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RC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M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coales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RQ (including XRC integ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ARP verb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Grid Computing / Chels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job launch scalability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r integration with parallel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4 OS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.org: kernel 2.6.26 and 2.6.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compilation checks from 2.6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S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S 10 SP1 (up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S 10 S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HEL 4 (up5, up6, up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HEL 5 (up1, up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L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dis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uSE 1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ora C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dure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ntinue with the OFE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presented in SC07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openfabrics.org/archives/nov2007sc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follow any decision from the development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pace: Tarball based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t will be used for development and daily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balls will be used for rel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 will be published in the coming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4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: Oct 06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 freeze: Jun 25, 0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 2.6.26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 9, 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 30, 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 2.6.27-rcX (assuming it will be avail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 13, 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 27, 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3-RC5/6 – every 5-1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st RC to be used in OFA interop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: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 06 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o Start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kernel master tree based on 2.6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ready nex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space: Development should be done using the master git tree of each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 and Procedure 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ease Features - Ker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base: 2.6.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start with 2.6.25 and rebase as kernel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EQs to best fit multi-cor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Protocol support for low level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– ConnectX can support Eth and IB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MA CM to support IPv6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amount of changes between kernel.org and OFED ker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S-RD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igo's host drivers: Virtual NIC and H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ER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Ver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WARP Verbs (some applicable to IB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e L_Key/STa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Fast register" memory through send que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invalidate send work reques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with invali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-2-peer support in IWCM/Driv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B verb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L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 - More performance improv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 with RDMA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atomic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MA zero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AP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 between Linux and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agement – Open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al routing – for fast routing when one switch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dow SA DB – to answer queries during a heavy s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M - disjoint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Key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ID to MLID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balancing for LMC + console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M configuration un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ID compression (MGID to NLID map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engines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A 1.2.1 ad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over/Handov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agement –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tic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netdiscover library - accelerate another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I New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VAPICH 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RC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 UD-XRC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Asynchronous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coll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VAPICH2 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able Job star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sided Operations with Passive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point-Restart with Shared Memo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core optimized Coll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PA Support for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9:13:54Z</dcterms:created>
  <dc:creator>tziporet</dc:creator>
  <dc:description/>
  <dc:language>en-US</dc:language>
  <cp:lastModifiedBy>tziporet</cp:lastModifiedBy>
  <dcterms:modified xsi:type="dcterms:W3CDTF">2008-04-09T20:37:27Z</dcterms:modified>
  <cp:revision>2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