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9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0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11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891A-8806-4636-8745-36A4E6B60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923C-9FEB-45B6-B7B3-8EB3B956F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A6A0-D6FA-403B-A41A-F48C9440F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F64C-75A5-4BA5-8DAC-0EC772F01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2961-89AD-4849-8F14-626AF3255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27A7-1D29-40C0-9D3D-A87DBAF22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978E-CFA2-4295-B28D-914499B20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38BF-6BAC-4C05-AFE5-4D974E285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AE39-480E-4DB3-ACD3-3E142E1F5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997A-3417-4795-AA80-E296A0F9C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7CA1-0A97-4770-B5B3-54210196D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E484-E945-468D-AF14-9EC168724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F046-F06C-40FD-83E0-499F3FDB6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49FB-780E-4981-9445-BDA1E286F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89B3-1DCA-41A6-A6C5-46406F832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1D83A-FE4B-448E-B782-9D3848FC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6DFEB-0228-4DA4-B6FE-D0D21F64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70B74-8051-4B00-AA44-D22075FE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702FD-18FD-4D52-82D4-496FC7ED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590E8-482A-4553-8529-D7C01E50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4E303-6AC3-4E85-B83D-FF714BC9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C4C3C-41E7-4BC3-9CC2-638421E7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1C71-998E-4F35-B94D-DC8874563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517DD-0E63-4596-AFD7-1AFF1435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C5B1E-4C29-40C2-9128-A833903B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E0CA9-9E42-4068-9685-0A80C86D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3A8C1-BFD4-421A-840A-31D152D1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C0D21-A9BA-4C45-88DF-47FA7CE2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D6C8-0602-4B33-9EB5-C963E15CFE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BF0DD-68CF-496D-BEF3-19D04EC747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C8AC1-CC7B-4426-A7DA-0D13B00CAE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E295A-F023-484C-88E3-6B052E01D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CF50-D69D-4E13-BDF3-6D622958B9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9167B-145C-4065-AC86-283C58BE76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E3E2B-044C-4328-9872-68D45C9C1B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A142C-FBF3-4888-8E5C-1B541CDB05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A87BE-0429-4DA6-B30D-0CFEDA70AB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723A9-89BE-4C44-ABDE-02A1FE2CCA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8D9E8-4AB9-48BD-B3A2-ABDC206CE9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B0594-5BED-4FA0-B918-9A8B57115F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3DA7C-DCEB-40DB-99C0-8F0D0DADB5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7B6AA-1B9E-4CBC-B862-53E263F1A4B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8D10-402E-47AF-B073-CE5F63C8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1BD5-D2AD-42EA-AC5E-263F7820218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67FC-7654-44C4-8E0F-1D0D2663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E7B2-1C0E-4D5D-BAC5-780CD770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6F38-EB51-4325-A47B-48C08ED7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8954-E1F3-48E7-8C3A-D14E9035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3856-CA59-48F0-A47E-721BABB7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489E-8E01-412D-ADBE-F7FB117E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885E-097C-4F27-9A99-BB68C162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3B49-B836-467F-A8E6-D979E99B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22A6-99CE-4636-AD27-D0244A1C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993F-B743-4B9B-9B6D-264233CE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DB3D-2D32-4A56-B52D-036983EC726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C9F7-1F67-4A4D-846B-4D36A51C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015B-D80A-4FBE-901F-B1310FE14D0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E4CE-5DA4-4B8B-84A7-97606F543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C768-E344-493D-8B39-8735A6F5F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003b4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b4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28600" y="6248160"/>
            <a:ext cx="99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B75E-EE72-4204-B76D-F52845FFC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PowwerPoint-Background-Slide2"/>
          <p:cNvPicPr/>
          <p:nvPr/>
        </p:nvPicPr>
        <p:blipFill>
          <a:blip r:embed="rId2"/>
          <a:stretch/>
        </p:blipFill>
        <p:spPr>
          <a:xfrm>
            <a:off x="0" y="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A41E-C410-4BEC-92DD-059B66C78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4FA0-DDA6-4768-9EE3-AEDABF24D6A5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Logo1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003b4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b4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5"/>
          </p:nvPr>
        </p:nvSpPr>
        <p:spPr>
          <a:xfrm>
            <a:off x="0" y="5790960"/>
            <a:ext cx="99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F9F6-BB6B-4501-9287-113F4B51F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PowerPoint-Background-v4"/>
          <p:cNvPicPr/>
          <p:nvPr/>
        </p:nvPicPr>
        <p:blipFill>
          <a:blip r:embed="rId2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64FA-7AE5-4718-A209-003C8D355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OpenFabricLogo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lampreynetworks.com/xanstorm_demo" TargetMode="External"/><Relationship Id="rId2" Type="http://schemas.openxmlformats.org/officeDocument/2006/relationships/hyperlink" Target="http://www.lampreynetworks.com/Content/iWARP/iWARP_RDMAgenerator.html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Object 8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covering Performance and Interoperability Issues in the OFED Stac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7720" y="51051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nis Tolsten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oma Workshop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t Highligh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zed management and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bric Discovery &amp; RDMA Devic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define and generate RDMA Read, Write and S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performance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MA Agent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interoperabil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test RDMA Devices with the OFED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true performance at the Application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 mechanism to test IB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Compli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ANStorm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ANStorm is the first application to use the RDMA OFA Ag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 intuitive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for both InfiniBand and iWAR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on Linux or 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ANStorm Key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bric Discovery and Topology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il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Meas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d Regression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, Easy to Rea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dditional Hardware Need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3276360"/>
            <a:ext cx="876312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 all nodes on the cluster (IB and iWA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detailed information on each RDMA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single or multiple connections between two or more nodes in the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control available for custom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7" name="Picture 4" descr="discovery_2.jpg"/>
          <p:cNvPicPr/>
          <p:nvPr/>
        </p:nvPicPr>
        <p:blipFill>
          <a:blip r:embed="rId3"/>
          <a:stretch/>
        </p:blipFill>
        <p:spPr>
          <a:xfrm>
            <a:off x="165240" y="1447920"/>
            <a:ext cx="881352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MA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52880" y="152388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Sequence of RDMA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RDMA Operations to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(traffic shaping) of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 of traffic flow betwee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connections betwee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2" name="Picture 5" descr="seq.jpg"/>
          <p:cNvPicPr/>
          <p:nvPr/>
        </p:nvPicPr>
        <p:blipFill>
          <a:blip r:embed="rId3"/>
          <a:stretch/>
        </p:blipFill>
        <p:spPr>
          <a:xfrm>
            <a:off x="76320" y="1447920"/>
            <a:ext cx="480060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rehensiv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298440" indent="-2984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from running the “Performance Seq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3"/>
          <p:cNvSpPr/>
          <p:nvPr/>
        </p:nvSpPr>
        <p:spPr>
          <a:xfrm>
            <a:off x="457200" y="594360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gathered &amp; presented in re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2" descr="results1.jpg"/>
          <p:cNvPicPr/>
          <p:nvPr/>
        </p:nvPicPr>
        <p:blipFill>
          <a:blip r:embed="rId3"/>
          <a:stretch/>
        </p:blipFill>
        <p:spPr>
          <a:xfrm>
            <a:off x="152280" y="1503360"/>
            <a:ext cx="8839440" cy="20019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4" descr="seq.jpg"/>
          <p:cNvPicPr/>
          <p:nvPr/>
        </p:nvPicPr>
        <p:blipFill>
          <a:blip r:embed="rId4"/>
          <a:stretch/>
        </p:blipFill>
        <p:spPr>
          <a:xfrm>
            <a:off x="152280" y="3505320"/>
            <a:ext cx="8839440" cy="195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t and XANStorm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n online presentation 24/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lampreynetworks.com/xanstorm_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Demo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ampreynetworks.com/Content/iWARP/iWARP_RDMAgenerato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NI sales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03) 868-84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@lampreynet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11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MA Agen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DMA Agent is a simple application that resides on a host running OF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no hardware and is installed via an r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as a daemon or can be manually started/sto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n out of band control interface which allows centralized management and control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 of RDMA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ing RDMA DATA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ng RDMA Reads, Writes, and S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ing Performance results, validating interoperability and detecting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MA OFA Agent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8" name="Picture 18" descr=""/>
          <p:cNvPicPr/>
          <p:nvPr/>
        </p:nvPicPr>
        <p:blipFill>
          <a:blip r:embed="rId3"/>
          <a:stretch/>
        </p:blipFill>
        <p:spPr>
          <a:xfrm>
            <a:off x="1295280" y="3505320"/>
            <a:ext cx="6477120" cy="2390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"/>
          <p:cNvPicPr/>
          <p:nvPr/>
        </p:nvPicPr>
        <p:blipFill>
          <a:blip r:embed="rId4"/>
          <a:stretch/>
        </p:blipFill>
        <p:spPr>
          <a:xfrm>
            <a:off x="4830840" y="3133800"/>
            <a:ext cx="2289240" cy="663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1" descr=""/>
          <p:cNvPicPr/>
          <p:nvPr/>
        </p:nvPicPr>
        <p:blipFill>
          <a:blip r:embed="rId5"/>
          <a:stretch/>
        </p:blipFill>
        <p:spPr>
          <a:xfrm>
            <a:off x="4830840" y="3909960"/>
            <a:ext cx="2289240" cy="663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"/>
          <p:cNvPicPr/>
          <p:nvPr/>
        </p:nvPicPr>
        <p:blipFill>
          <a:blip r:embed="rId6"/>
          <a:stretch/>
        </p:blipFill>
        <p:spPr>
          <a:xfrm>
            <a:off x="4830840" y="4697280"/>
            <a:ext cx="2289240" cy="933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4" descr=""/>
          <p:cNvPicPr/>
          <p:nvPr/>
        </p:nvPicPr>
        <p:blipFill>
          <a:blip r:embed="rId7"/>
          <a:stretch/>
        </p:blipFill>
        <p:spPr>
          <a:xfrm>
            <a:off x="2166840" y="3133800"/>
            <a:ext cx="2287800" cy="663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"/>
          <p:cNvPicPr/>
          <p:nvPr/>
        </p:nvPicPr>
        <p:blipFill>
          <a:blip r:embed="rId8"/>
          <a:stretch/>
        </p:blipFill>
        <p:spPr>
          <a:xfrm>
            <a:off x="2166840" y="3909960"/>
            <a:ext cx="2287800" cy="663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6" descr=""/>
          <p:cNvPicPr/>
          <p:nvPr/>
        </p:nvPicPr>
        <p:blipFill>
          <a:blip r:embed="rId9"/>
          <a:stretch/>
        </p:blipFill>
        <p:spPr>
          <a:xfrm>
            <a:off x="2166840" y="4697280"/>
            <a:ext cx="2287800" cy="933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0" descr=""/>
          <p:cNvPicPr/>
          <p:nvPr/>
        </p:nvPicPr>
        <p:blipFill>
          <a:blip r:embed="rId10"/>
          <a:stretch/>
        </p:blipFill>
        <p:spPr>
          <a:xfrm>
            <a:off x="2944800" y="2577960"/>
            <a:ext cx="3213000" cy="5558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7" descr=""/>
          <p:cNvPicPr/>
          <p:nvPr/>
        </p:nvPicPr>
        <p:blipFill>
          <a:blip r:embed="rId11"/>
          <a:stretch/>
        </p:blipFill>
        <p:spPr>
          <a:xfrm>
            <a:off x="3332160" y="1523880"/>
            <a:ext cx="2625840" cy="1009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22"/>
          <p:cNvSpPr/>
          <p:nvPr/>
        </p:nvSpPr>
        <p:spPr>
          <a:xfrm>
            <a:off x="3737880" y="18637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2319480" y="329724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Test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2227680" y="40593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A Softwar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5"/>
          <p:cNvSpPr/>
          <p:nvPr/>
        </p:nvSpPr>
        <p:spPr>
          <a:xfrm>
            <a:off x="2649960" y="49878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DMA 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6"/>
          <p:cNvSpPr/>
          <p:nvPr/>
        </p:nvSpPr>
        <p:spPr>
          <a:xfrm>
            <a:off x="4954680" y="329724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Test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7"/>
          <p:cNvSpPr/>
          <p:nvPr/>
        </p:nvSpPr>
        <p:spPr>
          <a:xfrm>
            <a:off x="4862880" y="40593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A Softwar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"/>
          <p:cNvSpPr/>
          <p:nvPr/>
        </p:nvSpPr>
        <p:spPr>
          <a:xfrm>
            <a:off x="5285160" y="49878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DMA 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9"/>
          <p:cNvSpPr/>
          <p:nvPr/>
        </p:nvSpPr>
        <p:spPr>
          <a:xfrm>
            <a:off x="3645720" y="5867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Data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0"/>
          <p:cNvSpPr/>
          <p:nvPr/>
        </p:nvSpPr>
        <p:spPr>
          <a:xfrm>
            <a:off x="308160" y="260496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/IP Control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1"/>
          <p:cNvSpPr/>
          <p:nvPr/>
        </p:nvSpPr>
        <p:spPr>
          <a:xfrm>
            <a:off x="6338160" y="260496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/IP Control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ut of band control interface is implemented using a simple protocol named PU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P fills the role of the Application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lows a client to define a set of operations which can be presented to the control component of the D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“command-response” protoc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 Chan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Channel is the conduit for PULP requests and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rol Channel is instantiated via a TCP/IP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control channels can be established for parallel proces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plication supports unsolicited message pas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t Dis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MA Agents are discoverable via a UDP broadcast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cover Response contains the following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Name and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OS and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ED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st of RDMA Interfac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of the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dor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W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MA 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DMA Agent allows the user to define &amp; execute the following RDMA Oper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S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DMA Operation has the following f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– Number of bytes to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– Number of RDMA operations to s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– ms between each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RDMA Operations serially (allows for ord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 RDMA Operations in parallel on one or more Data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shaping can be achieved through Size, Count and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thering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DMA Completions contai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Operation Type (Send, Read, Wr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bytes Trans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RDMA exec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aken to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 Erro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5"/>
          <p:cNvGraphicFramePr/>
          <p:nvPr/>
        </p:nvGraphicFramePr>
        <p:xfrm>
          <a:off x="0" y="6405480"/>
          <a:ext cx="16765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05480"/>
                    <a:ext cx="1676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40:46Z</dcterms:created>
  <dc:creator>Rupert Dance</dc:creator>
  <dc:description/>
  <dc:language>en-US</dc:language>
  <cp:lastModifiedBy>Dennis</cp:lastModifiedBy>
  <dcterms:modified xsi:type="dcterms:W3CDTF">2008-04-12T06:17:04Z</dcterms:modified>
  <cp:revision>176</cp:revision>
  <dc:subject/>
  <dc:title>OFA-IWG Interop Event</dc:title>
</cp:coreProperties>
</file>