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A3A-D928-4323-8600-0E3240F5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12BD-2827-4B28-A445-97C47A72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EC9-0CEC-40C8-A2A4-BED30A7A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AFF8-FC4A-4ACB-B6F4-13B1A8D9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0D85-F5A2-44AF-9911-DBD59074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211A-85DF-4818-83EE-77CF27D4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BF95-C5F6-4A13-89D4-D4F94CE3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809E-16CD-46BA-B216-C650DFA8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3D14-05AF-4A4E-A89F-231ABEFD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76E7-1C88-482B-B6BD-61E6661C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7AA8-5800-4450-A94B-8518FFEA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DB6-CE71-46F6-AB41-6EF59892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0F8A-E01C-4988-AD89-18B84F27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55EC-7570-4015-B3D1-E5A54A8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AED6-F164-46D4-8D2C-9025629B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1263-291D-4C59-8C71-4D679BCE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7B16-5BDE-4F58-9AD7-3B447FFC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C5C5-4328-4783-95B2-D9A0F0B0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A22-6C90-47B3-8C4E-FCBA4C4E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EF0-7981-47DF-9CF0-3E942E09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955-47F6-4A39-BD83-FD71678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9CF-1C9B-4423-8571-2B62C5C9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F53-7F8E-4644-BFB1-EC323A0C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A27-BC77-4EE8-8482-9732673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C8270-DFEB-4D9D-A7FA-F55197522A90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480E3-0F3E-459A-9028-70356338F42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86098-35F9-4BB7-B74F-D3929A241B2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F3744-D40F-4014-90C4-3374DEF4CF7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nfiniband and RoCEE Virtualization with SR-IOV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A2BDF-D5BA-4D17-ABA5-26B694604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Liran Liss, Mellanox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VM Migr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vice hot-plug/unpl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emulator for IB H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 para-virtual interface for IB (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 is all about direct HW access anyw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port: no actual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witch: vHCA port goes down on one (virtual) switch and reappears o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port: one IB device goes away, another takes it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 lid, different g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witch: same IB device re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lid+g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: shadow sw device to hold state during migra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LP Migration Suppor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device unregsitered and then reregis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IP obtained by DHCP based on client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 hosts will learn new lid/gid using 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e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connections will close – application fail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ing remains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MACM applications / U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/ ULP failover (using same addr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handle RDMA_CM_EVENT_DEVICE_REM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ConnectX2 Multi-function Support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Fs and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ly unlimited HW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s, CQs, SRQs, Memory regions, Protection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assigned to VFs upo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communication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VF, the PF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contro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 to/from guest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visor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5840" indent="-17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56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ode for Linux/KVM/X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onnectX2 Driver Architectu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/VF partitioning at mlx4_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driver for PF/VF, but different 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driver “personality” determined by Dev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wns its UARs, PDs, EQs, and MSI-X vecto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nds off FW commands and resource allocation to P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VF commands in a secur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-virtualizes shar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drivers (mlx4_ib/en/fc)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es IB, RoCEE, vHBA (FCoIB / FCoE) and vNIC (EoI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4648320"/>
            <a:ext cx="6553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IOM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Xen SRIOV</a:t>
            </a:r>
            <a:r>
              <a:rPr b="0" lang="he-IL" sz="4000" spc="-1" strike="noStrike">
                <a:solidFill>
                  <a:srgbClr val="005195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Arial"/>
              </a:rPr>
              <a:t>SW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4038480"/>
            <a:ext cx="6553080" cy="45720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Hyperv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447920"/>
            <a:ext cx="3047760" cy="243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24280" y="1447920"/>
            <a:ext cx="3048120" cy="243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5867280"/>
            <a:ext cx="65530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Connec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3276720"/>
            <a:ext cx="2362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05520" y="3276720"/>
            <a:ext cx="236196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67280" y="1600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Do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1600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Dom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35812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35812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5943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8168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b_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s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52578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518148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nterrupts and dma from/to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1320" y="53341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Doorb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7652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536400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HW comm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800600"/>
            <a:ext cx="1905120" cy="152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4114800"/>
            <a:ext cx="1676520" cy="762120"/>
          </a:xfrm>
          <a:prstGeom prst="wedgeRoundRectCallout">
            <a:avLst>
              <a:gd name="adj1" fmla="val -64203"/>
              <a:gd name="adj2" fmla="val 437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guest-physical to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ress 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2895480"/>
            <a:ext cx="6858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lx4_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b_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s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mid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2438280"/>
            <a:ext cx="6858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tcp/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35812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518148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nterrupts and dma from/to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5334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Doorb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219320" y="4800600"/>
            <a:ext cx="6553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IOM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KVM SRIOV</a:t>
            </a:r>
            <a:r>
              <a:rPr b="0" lang="he-IL" sz="4000" spc="-1" strike="noStrike">
                <a:solidFill>
                  <a:srgbClr val="005195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  <a:ea typeface="Arial"/>
              </a:rPr>
              <a:t>SW Stac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1447920"/>
            <a:ext cx="6553080" cy="3200400"/>
          </a:xfrm>
          <a:prstGeom prst="rect">
            <a:avLst/>
          </a:prstGeom>
          <a:solidFill>
            <a:srgbClr val="3c6fb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52880" y="1600200"/>
            <a:ext cx="2667240" cy="18288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6019920"/>
            <a:ext cx="65530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Connec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156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41172"/>
                </a:solidFill>
                <a:latin typeface="Arial Narrow"/>
              </a:rPr>
              <a:t>Gues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5812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1172"/>
                </a:solidFill>
                <a:latin typeface="Arial Narrow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86200" y="449568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3276720"/>
            <a:ext cx="0" cy="2819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541008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32767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327672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53341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nterrupts and dma from/to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91320" y="5486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Doorb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44956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5516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HW comm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105520" y="2590920"/>
            <a:ext cx="2361960" cy="685800"/>
            <a:chOff x="5105520" y="2590920"/>
            <a:chExt cx="2361960" cy="685800"/>
          </a:xfrm>
        </p:grpSpPr>
        <p:sp>
          <p:nvSpPr>
            <p:cNvPr id="276" name=""/>
            <p:cNvSpPr/>
            <p:nvPr/>
          </p:nvSpPr>
          <p:spPr>
            <a:xfrm>
              <a:off x="5105520" y="3048120"/>
              <a:ext cx="23619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5720" y="2819520"/>
              <a:ext cx="7617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i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2819520"/>
              <a:ext cx="7617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67280" y="2819520"/>
              <a:ext cx="8384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05720" y="2590920"/>
              <a:ext cx="76176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ib_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2590920"/>
              <a:ext cx="83844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scsi mid-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05520" y="2590920"/>
              <a:ext cx="76176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257800" y="4952880"/>
            <a:ext cx="1905120" cy="152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4267080"/>
            <a:ext cx="1676520" cy="762120"/>
          </a:xfrm>
          <a:prstGeom prst="wedgeRoundRectCallout">
            <a:avLst>
              <a:gd name="adj1" fmla="val -64203"/>
              <a:gd name="adj2" fmla="val 437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guest-physical to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address 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44956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14600" y="44956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19520" y="533412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Interrupts and dma from/to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5486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Doorb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00200" y="3809880"/>
            <a:ext cx="2361960" cy="685800"/>
            <a:chOff x="1600200" y="3809880"/>
            <a:chExt cx="2361960" cy="685800"/>
          </a:xfrm>
        </p:grpSpPr>
        <p:sp>
          <p:nvSpPr>
            <p:cNvPr id="290" name=""/>
            <p:cNvSpPr/>
            <p:nvPr/>
          </p:nvSpPr>
          <p:spPr>
            <a:xfrm>
              <a:off x="1600200" y="4267080"/>
              <a:ext cx="23619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00400" y="4038480"/>
              <a:ext cx="7617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i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00200" y="4038480"/>
              <a:ext cx="76176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61960" y="4038480"/>
              <a:ext cx="8384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mlx4_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3809880"/>
              <a:ext cx="76176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ib_c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1960" y="3809880"/>
              <a:ext cx="83844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scsi mid-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00200" y="3809880"/>
              <a:ext cx="761760" cy="228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41172"/>
                  </a:solidFill>
                  <a:latin typeface="Arial Narrow"/>
                </a:rPr>
                <a:t>tcp/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219320" y="358128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267080" y="3200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41172"/>
                </a:solidFill>
                <a:latin typeface="Arial Narrow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2362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9436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2362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41172"/>
                </a:solidFill>
                <a:latin typeface="Arial Narrow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95280" y="1523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1172"/>
                </a:solidFill>
                <a:latin typeface="Arial Narrow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creen Shot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666880"/>
            <a:ext cx="7620120" cy="3581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# ifconfig -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ib0       Link encap:InfiniBand  HWaddr 80:00:00:4A:FE:80:00:00:00:00:00:00:00:00:00:00:00:00:0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ROADCAST MULTICAST  MTU:2044  Metric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packets:0 errors:0 dropped:0 overruns:0 frame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packets:0 errors:0 dropped:0 overruns:0 carrier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isions:0 txqueuelen: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bytes:0 (0.0 b)  TX bytes:0 (0.0 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ib1       Link encap:InfiniBand  HWaddr 80:00:00:4B:FE:80:00:00:00:00:00:00:00:00:00:00:00:00:0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ROADCAST MULTICAST  MTU:2044  Metric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packets:0 errors:0 dropped:0 overruns:0 frame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packets:0 errors:0 dropped:0 overruns:0 carrier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isions:0 txqueuelen: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bytes:0 (0.0 b)  TX bytes:0 (0.0 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ib2       Link encap:InfiniBand  HWaddr 80:00:00:4C:FE:80:00:00:00:00:00:00:00:00:00:00:00:00:0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ROADCAST MULTICAST  MTU:2044  Metric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packets:0 errors:0 dropped:0 overruns:0 frame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packets:0 errors:0 dropped:0 overruns:0 carrier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isions:0 txqueuelen: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bytes:0 (0.0 b)  TX bytes:0 (0.0 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ib3       Link encap:InfiniBand  HWaddr 80:00:00:4D:FE:80:00:00:00:00:00:00:00:00:00:00:00:00:00: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BROADCAST MULTICAST  MTU:2044  Metric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packets:0 errors:0 dropped:0 overruns:0 frame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TX packets:0 errors:0 dropped:0 overruns:0 carrier: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lisions:0 txqueuelen:2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X bytes:0 (0.0 b)  TX bytes:0 (0.0 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523880"/>
            <a:ext cx="6629400" cy="1981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# lsp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0 InfiniBand: Mellanox Technologies MT26428 [ConnectX VPI PCIe 2.0 5GT/s - IB QDR / 10GigE]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1 InfiniBand: Mellanox Technologies Unknown device 673d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2 InfiniBand: Mellanox Technologies Unknown device 673d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3 InfiniBand: Mellanox Technologies Unknown device 673d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03:00.4 InfiniBand: Mellanox Technologies Unknown device 673d (rev b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# ibv_de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device                 node GU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              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0              00000112c900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1              00000112c901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2              00000112c902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3              00000112c903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mlx4_4              00000112c90401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nitial Testing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Verbs benchmarks, rdmacm apps, ULPs (e.g., ipoib, RDS) are 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-to-VF BW essentially the same as PF-to-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polling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latency considerably larger for VF-to-V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virt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OFED or under OF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ree of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S? To middleware? To ap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 GIDs? LIDs? VM 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, Pkeys, G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-I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Virtualization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E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the shared-por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/ULP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IOV with Connect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ere Does SR-IOV Fit In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28480" y="1828800"/>
          <a:ext cx="7942320" cy="3646440"/>
        </p:xfrm>
        <a:graphic>
          <a:graphicData uri="http://schemas.openxmlformats.org/drawingml/2006/table">
            <a:tbl>
              <a:tblPr/>
              <a:tblGrid>
                <a:gridCol w="1589400"/>
                <a:gridCol w="1587240"/>
                <a:gridCol w="1589040"/>
                <a:gridCol w="1587600"/>
                <a:gridCol w="15890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que \ character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est SW Transparen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vice cla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-virtual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– requires installing para-virtual drivers on the gu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ck,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t to ap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require device-specific accelerat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only, hypervisor depend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 (for accelerated interfac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 device Pass-th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it device plug/unpl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ice specific driv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705720" y="4419720"/>
            <a:ext cx="761760" cy="5331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5943600"/>
            <a:ext cx="2210040" cy="380880"/>
          </a:xfrm>
          <a:prstGeom prst="wedgeRoundRectCallout">
            <a:avLst>
              <a:gd name="adj1" fmla="val 50217"/>
              <a:gd name="adj2" fmla="val -336250"/>
              <a:gd name="adj3" fmla="val 16667"/>
            </a:avLst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-IOV fixes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029200" y="3048120"/>
            <a:ext cx="350532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7800" y="4191120"/>
            <a:ext cx="3048120" cy="380880"/>
          </a:xfrm>
          <a:prstGeom prst="roundRect">
            <a:avLst>
              <a:gd name="adj" fmla="val 16667"/>
            </a:avLst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ingle-Root IO Virtualiz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40435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I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IOV extended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W controlled by privileged SW via 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resources replicated for V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confi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IO for direct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D to tag DMA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724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2057400"/>
            <a:ext cx="1066680" cy="9144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057400"/>
            <a:ext cx="1066680" cy="9144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2057400"/>
            <a:ext cx="1067040" cy="9144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4952880"/>
            <a:ext cx="380880" cy="3049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29400" y="4952880"/>
            <a:ext cx="380880" cy="3049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4952880"/>
            <a:ext cx="381240" cy="3049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057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48520" y="2057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057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4800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3809880"/>
            <a:ext cx="68580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F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581280"/>
            <a:ext cx="6858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2666880"/>
            <a:ext cx="6858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2438280"/>
            <a:ext cx="6858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77120" y="2666880"/>
            <a:ext cx="6858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438280"/>
            <a:ext cx="6858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2666880"/>
            <a:ext cx="6858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2438280"/>
            <a:ext cx="6858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40384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2895480"/>
            <a:ext cx="8380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289548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619760" y="2895480"/>
            <a:ext cx="53316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4952880"/>
            <a:ext cx="380880" cy="3049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41911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CI sub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6292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4038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895480"/>
            <a:ext cx="5335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543800" y="28954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2895480"/>
            <a:ext cx="9144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nfiniband Virtualization Model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F is a complete H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port (lid, gid table, lmc bi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 QP0 + Q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ees multiple HCAs behind a (virtual)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ransparent virtualization, but bloats LI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ort (lid, lmc) shared by all 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F uses unique 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ees a single H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scalable at the expense of para-virtualizing shared objects (po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752480"/>
            <a:ext cx="3429000" cy="2133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76760" y="1828800"/>
            <a:ext cx="6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13372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220968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2590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24480" y="2362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2514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971800"/>
            <a:ext cx="15264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6668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13372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20968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2590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67480" y="2362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2514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2971800"/>
            <a:ext cx="15264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67480" y="26668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213372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220968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590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610480" y="2362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10480" y="25146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1880" y="2971800"/>
            <a:ext cx="15264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26668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58200" y="213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3429000"/>
            <a:ext cx="9144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 v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3352680"/>
            <a:ext cx="15228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3352680"/>
            <a:ext cx="15228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3352680"/>
            <a:ext cx="15264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733920"/>
            <a:ext cx="152640" cy="7596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30481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20120" y="3048120"/>
            <a:ext cx="83808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15200" y="3809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24640" y="4191120"/>
            <a:ext cx="3429000" cy="1981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26708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00600" y="480060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76920" y="4876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76920" y="525780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10440" y="50292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81840" y="5638680"/>
            <a:ext cx="152280" cy="76320"/>
          </a:xfrm>
          <a:prstGeom prst="rect">
            <a:avLst/>
          </a:prstGeom>
          <a:solidFill>
            <a:srgbClr val="3c6f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57800" y="4800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1520" y="60958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480060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4876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525780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5029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4800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1000" y="4800600"/>
            <a:ext cx="91440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77320" y="4876920"/>
            <a:ext cx="38088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77320" y="5257800"/>
            <a:ext cx="38088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610480" y="5029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4800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4572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4572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29600" y="4572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5715000"/>
            <a:ext cx="12193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8280600">
            <a:off x="5921280" y="4328640"/>
            <a:ext cx="15228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7719600">
            <a:off x="5704560" y="2971080"/>
            <a:ext cx="2399040" cy="313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oCEE Not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rivially by reducing IB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P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2 attributes (LID, LMC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, no difference between the virtual-switch and shared-port mode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hared-Port Basic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1280"/>
            <a:ext cx="82296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nicast G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by PF driver before port is initial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vered by 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VF sees only a unique subset assigned to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eys managed by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s which Pkeys are visible to which V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forced during QP tran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P0 owned by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Fs have a QP0, but it is a “black ho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ies that only PF can run 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P1 managed by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Fs have a QP1, but all MAD traffic is tunneled through the 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F para-virtualizes GSI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QPN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ffic multiplexed by qpn as us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715000"/>
            <a:ext cx="5562360" cy="398880"/>
          </a:xfrm>
          <a:prstGeom prst="rect">
            <a:avLst/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 transparency provided to guest ib_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QP1 Para-virtualiz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unique transaction ID among 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function ID in TransactionID MSBs on 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ore original TransactionID on in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-multiplex incoming M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ADs are demux’ed according to Transaction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according to GID (see CM notes be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 maintains a single state-machine per &lt;MGID, por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 treats VFs just as ib_core treats multicast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es membership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s membership changes to the 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 join/leave mads are answered directly by the 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QP1 Para-virtualization – cont.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_REQ demux’ed according to encapsulated G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ing session messages demux’d according to comm_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s state (+timeout?) in 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M messages include G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ux according to GRH G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F CM management remains sta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nection is established, traffic demux’ed by Q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GRH if connected QPs reside on the same sub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Info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 maintains single state machine per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 aggregates VF sub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F broadcasts reports to all interested 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liranl</cp:lastModifiedBy>
  <dcterms:modified xsi:type="dcterms:W3CDTF">2010-03-15T20:29:02Z</dcterms:modified>
  <cp:revision>34</cp:revision>
  <dc:subject/>
  <dc:title>Slide 1</dc:title>
</cp:coreProperties>
</file>