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B394-9348-40A1-9539-67CAE0BEE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2143-0944-4BAF-AE8B-EB204CA7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6618-7B15-4494-AC5A-0B7004782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7718-0427-42D4-8653-74FEE3ECE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57C4-C032-4E7B-9595-AFE181D45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EA80-CDF4-45D6-90FB-DB3031D5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8BB8-D522-4BC5-8DBE-B16E48D7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181E-5498-4BD8-991C-0BE6D8D4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B772-F46E-4EE1-A1C4-85587BFE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AABF-82B2-4CE7-86FD-D800D729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9363-0D01-4704-A6D5-350A34DD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44EE-0AC5-4603-9F55-2968033D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DEFE-EECE-4F79-8BF5-4656FFD6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77BC-B9F0-4610-B6E0-B0871879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5E16-BE88-4171-9A01-97345554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41DF-D711-42BF-BD98-4E51D2517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71BF-4670-44E9-B669-17F69740D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7374-0EED-4212-8FD4-713D5B3A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4642-AB2B-415A-8DC5-411D1050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E715-69CD-431E-9E3B-EE7575E1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A62E-3BCF-4515-B733-5CE224A9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2CA0-98A5-4814-AD07-E6156B22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E068-50CE-467C-BAC3-2517D679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CB64-8FF5-4E7D-B630-69D62CBC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0E92C0-F59D-4430-A779-7F8121BD0355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568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9CA09F-5A82-4679-AB63-85031FAF285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ribbon_ppt_title.jpg"/>
          <p:cNvPicPr/>
          <p:nvPr/>
        </p:nvPicPr>
        <p:blipFill>
          <a:blip r:embed="rId4"/>
          <a:srcRect l="0" t="5783" r="0" b="0"/>
          <a:stretch/>
        </p:blipFill>
        <p:spPr>
          <a:xfrm>
            <a:off x="0" y="0"/>
            <a:ext cx="9144000" cy="2481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OpenFabric_Alliance_Logo_ppt.jpg"/>
          <p:cNvPicPr/>
          <p:nvPr/>
        </p:nvPicPr>
        <p:blipFill>
          <a:blip r:embed="rId5"/>
          <a:stretch/>
        </p:blipFill>
        <p:spPr>
          <a:xfrm>
            <a:off x="380880" y="23241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425596-7FDB-4C1D-AFC5-93E693EA2280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8BF700-E4AF-483B-9046-F783E7A64EF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040" y="2666520"/>
            <a:ext cx="66294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Appro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057040" y="4267080"/>
            <a:ext cx="6629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d6e71"/>
                </a:solidFill>
                <a:latin typeface="Arial"/>
              </a:rPr>
              <a:t>Integrated Next Generation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d6e71"/>
                </a:solidFill>
                <a:latin typeface="Arial"/>
              </a:rPr>
              <a:t>Always Available, Always 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EC34FB-FC4D-47CC-9588-13BCFE43B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2057400" y="52974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Dr. David 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16 Marc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uster Integration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 integrated into current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trem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G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manage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IB for key topology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 segregation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scalabl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E0A27F-C943-46A2-B143-CA398C687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Future Challenge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multi-cor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in queue efficiency with more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larger queues with higher IB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low power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options for power usage vs bandwidth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0341EB-3A4C-4B29-80C8-83787DE08D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0:09:16Z</dcterms:created>
  <dc:creator>apple admin</dc:creator>
  <dc:description/>
  <dc:language>en-US</dc:language>
  <cp:lastModifiedBy>wtr</cp:lastModifiedBy>
  <dcterms:modified xsi:type="dcterms:W3CDTF">2010-03-15T16:03:01Z</dcterms:modified>
  <cp:revision>27</cp:revision>
  <dc:subject/>
  <dc:title>Slide 1</dc:title>
</cp:coreProperties>
</file>