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B151D3-4E35-493A-80C2-5F330EA81E9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0EDEA2-2373-413E-B965-6969CC478F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9A6ACB6E-6C20-4831-A650-67F878FAE2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459ACBED-89FE-4AC4-BD80-ADE2B84BC3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BA66CD17-1434-4252-825B-AF5C18F5BA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7A5FCC14-5867-4244-9653-EF62B067D7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3983CFB9-FFFB-45E6-9470-6375EEAECC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E92B76AF-519A-48F9-9F46-F128F7D285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3729B8E6-98BD-4E1D-AB6F-735D45DE75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FB3F47-F987-4DF5-8E88-1EC14CD3E3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7D3F-D648-481D-A91A-B314AB702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A212-06FE-45CB-8707-9983714CA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087B-D36B-481C-8481-0A2DE21F3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78A2-E329-48D0-802F-E82E7DE2D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F0E8A-DAB2-461B-8098-0F88493AB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169CF-4EC9-4885-B3D5-FE57B3D44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11E37-2EEE-4C50-B81A-19BDFE18F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5B386-C4BA-4288-908F-04E6FDC6C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97403-211E-4371-855F-D8D8E463A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9DF93-B621-4710-A0DF-636AF4EB1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74DC0-F5D4-4F82-9DA1-CF1A26BD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78BB-58B0-47B0-88FF-73FB4A2AF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6C36E-CEB8-487D-A0DB-E93A5CD0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C5E55-463B-42F5-B78A-25C612F1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4AFBD-057C-459F-B2DF-46ECC835A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68857-A3DA-4476-895E-4606A7FFF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7CF39-438B-4529-A71B-0A7C30F78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523D-1B5F-47BB-BF5E-653F5285E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BDCF-AEF6-442F-867A-2CBC6FEDD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BCB2-00BB-471A-86A9-810407557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4C9E-BE28-4D8C-B7B5-2CFAC2ABB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8321-46B2-448A-837D-A2ECF23E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1B0C-6ED2-4375-91AB-45A9739F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6E91-DCEE-4375-A30D-32ED09CC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ribbon_small_rgb.jpg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1508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1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6989C4-8C9C-420C-BE58-41A9F1BB8314}" type="datetime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4568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D7C7F4-E97D-4742-929D-46E406CE43E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6" descr="OpenFabric_Alliance_Logo_ppt.jpg"/>
          <p:cNvPicPr/>
          <p:nvPr/>
        </p:nvPicPr>
        <p:blipFill>
          <a:blip r:embed="rId3"/>
          <a:stretch/>
        </p:blipFill>
        <p:spPr>
          <a:xfrm>
            <a:off x="8001000" y="228600"/>
            <a:ext cx="1104840" cy="1104840"/>
          </a:xfrm>
          <a:prstGeom prst="rect">
            <a:avLst/>
          </a:prstGeom>
          <a:ln w="0">
            <a:noFill/>
          </a:ln>
        </p:spPr>
      </p:pic>
      <p:sp>
        <p:nvSpPr>
          <p:cNvPr id="8" name="Straight Connector 20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12600">
            <a:solidFill>
              <a:srgbClr val="e553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" descr="ribbon_small_rgb.jpg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1508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OpenFabric_Alliance_Logo_ppt.jpg"/>
          <p:cNvPicPr/>
          <p:nvPr/>
        </p:nvPicPr>
        <p:blipFill>
          <a:blip r:embed="rId3"/>
          <a:stretch/>
        </p:blipFill>
        <p:spPr>
          <a:xfrm>
            <a:off x="8001000" y="228600"/>
            <a:ext cx="1104840" cy="1104840"/>
          </a:xfrm>
          <a:prstGeom prst="rect">
            <a:avLst/>
          </a:prstGeom>
          <a:ln w="0">
            <a:noFill/>
          </a:ln>
        </p:spPr>
      </p:pic>
      <p:sp>
        <p:nvSpPr>
          <p:cNvPr id="48" name="Straight Connector 20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12600">
            <a:solidFill>
              <a:srgbClr val="e553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ribbon_ppt_title.jpg"/>
          <p:cNvPicPr/>
          <p:nvPr/>
        </p:nvPicPr>
        <p:blipFill>
          <a:blip r:embed="rId4"/>
          <a:srcRect l="0" t="5783" r="0" b="0"/>
          <a:stretch/>
        </p:blipFill>
        <p:spPr>
          <a:xfrm>
            <a:off x="0" y="0"/>
            <a:ext cx="9144000" cy="2481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OpenFabric_Alliance_Logo_ppt.jpg"/>
          <p:cNvPicPr/>
          <p:nvPr/>
        </p:nvPicPr>
        <p:blipFill>
          <a:blip r:embed="rId5"/>
          <a:stretch/>
        </p:blipFill>
        <p:spPr>
          <a:xfrm>
            <a:off x="380880" y="232416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6F9B04-F5BB-4237-BD22-4E9695202872}" type="datetime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808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C1E7FE-F11D-4DAE-BCFB-7655CD7B21B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57040" y="2666520"/>
            <a:ext cx="6629400" cy="15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Server OEM Panel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3808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84D947-28F5-4CD3-9FD5-24D16759CC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2057400" y="529740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d6e71"/>
                </a:solidFill>
                <a:latin typeface="Calibri"/>
              </a:rPr>
              <a:t>Bob Souza, HP</a:t>
            </a:r>
            <a:r>
              <a:rPr b="0" lang="en-US" sz="1800" spc="-1" strike="noStrike">
                <a:solidFill>
                  <a:srgbClr val="6d6e71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d6e71"/>
                </a:solidFill>
                <a:latin typeface="Calibri"/>
              </a:rPr>
              <a:t>15 March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2057400" y="44956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d6e71"/>
                </a:solidFill>
                <a:latin typeface="Arial"/>
              </a:rPr>
              <a:t>OFA Sonoma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Usual Talk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we use OF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-Performance Clu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big to small. Mostly Linux. Multiple kernels, distributions, interconnect vend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ed use in HP-UX (SRP, R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SI market data, mess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age (HP SFSg3, X9000 N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ne ab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ndor-specific rel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Last Year 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GbE on motherbo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, flat 10 GbE swi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E/DCB enab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ged Eth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GbE RDMA altern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RDMA Choice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ch RDMA ecosystem -  customer cho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WA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CEE,  aka ((IBx?)|R|RDMA)o(CE)?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y the performance you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Nurturing the RDMA Ecosystem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PC becoming mainstr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s, Eth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grate 1 GbE community to 10G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50% of TOP500 on 1G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oi polloi who get 10GbE LOM for ‘free’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10 GbE performance data helps every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it ea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it ea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Nurturing the RDMA Ecosystem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raging C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G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C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RD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C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WAR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What’s Important</a:t>
            </a: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of large fabrics can be an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t-tree alternatives for cost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uned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What’s important</a:t>
            </a: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er Ch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oper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than 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dor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ified customer interactions,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s ad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code downstream hel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ould ‘just work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1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2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38CB84-04FF-4334-8B84-864DC2CA55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00:09:16Z</dcterms:created>
  <dc:creator>apple admin</dc:creator>
  <dc:description/>
  <dc:language>en-US</dc:language>
  <cp:lastModifiedBy>Souza, Bob</cp:lastModifiedBy>
  <dcterms:modified xsi:type="dcterms:W3CDTF">2010-03-12T22:30:03Z</dcterms:modified>
  <cp:revision>20</cp:revision>
  <dc:subject/>
  <dc:title>Slide 1</dc:title>
</cp:coreProperties>
</file>