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453-8913-4F96-93D4-EF9E8D5F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DEC-6AEF-4A06-965F-3278539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27F-D518-453B-ABB6-13F60C4C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194-CAD4-4399-90B2-782EDE13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75CB-6547-423B-A3EC-7684BC30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C525-95FB-4B98-8094-D6972B1B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72C5-89FA-4C51-8D71-ECA073A7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C335-DEE5-4A82-9A04-88A81E98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F8B7-DC69-4FC5-AA7C-DEE961A5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B68B-EFBD-4002-9B8A-F08E296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989F-4C3E-4D9B-A54F-E711BC5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1E53-5B52-4550-91A3-3FDF32B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3C00-B759-4745-ABE1-AA04B860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B8A8-0411-4DCB-82BC-F32004C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4BF5-BC28-4FD3-B4BF-3E9C594A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63F2-81C4-4129-8C92-A8420ACE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3F2F-5050-43C7-9C2C-ECC0422B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31F-C2D1-42BA-8232-05AA5D72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5D2-CDF8-449E-8987-B4D30F28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73C-A47F-4619-95BE-FBCC4B79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F05-6812-4678-86B5-420CC3EB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198-0DD3-458C-995F-B8038C93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CEC-A036-4677-B5B2-FD04E9A2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56E-551A-4345-AB50-ABA7A5CC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93244-C56F-412B-89DF-A7F1085F5402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7DE02-93A6-4B8E-AF88-A37C642F441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23EBB-D62C-4698-9BF1-47AE7F2EA48F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23A9F-BDC1-41C2-8068-2CC15BB2F1B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666520"/>
            <a:ext cx="7086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IBM and OpenFabrics Allianc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OEM Server Pa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EBF4C-32AF-442B-84E2-9A12F9B1E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Brad Be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9984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’s use of OpenFabrics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2A6E7-5323-45F0-AEA8-DEDBF3B76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5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E3F6A-71BF-4055-A6CC-A17EA6B7E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1840" y="4495680"/>
            <a:ext cx="1825560" cy="143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0306viralcomputer_b"/>
          <p:cNvPicPr/>
          <p:nvPr/>
        </p:nvPicPr>
        <p:blipFill>
          <a:blip r:embed="rId2"/>
          <a:stretch/>
        </p:blipFill>
        <p:spPr>
          <a:xfrm>
            <a:off x="76320" y="1601640"/>
            <a:ext cx="1218960" cy="1202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6960" y="5291280"/>
            <a:ext cx="19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/Analy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61360" y="301140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tif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erformanc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7" descr="corel084"/>
          <p:cNvPicPr/>
          <p:nvPr/>
        </p:nvPicPr>
        <p:blipFill>
          <a:blip r:embed="rId3"/>
          <a:stretch/>
        </p:blipFill>
        <p:spPr>
          <a:xfrm>
            <a:off x="1444680" y="1601640"/>
            <a:ext cx="1066680" cy="1175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78520" y="1735200"/>
            <a:ext cx="1808280" cy="2135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608000" y="2135160"/>
            <a:ext cx="22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cente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See full size image"/>
          <p:cNvPicPr/>
          <p:nvPr/>
        </p:nvPicPr>
        <p:blipFill>
          <a:blip r:embed="rId5"/>
          <a:stretch/>
        </p:blipFill>
        <p:spPr>
          <a:xfrm>
            <a:off x="6553080" y="4678200"/>
            <a:ext cx="2357640" cy="1397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73760" y="4678200"/>
            <a:ext cx="231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F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integrates OFA components into both AIX and Linux product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nux, we rely on major Linux distros (Red Hat, Novell) to package, test and support OFA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95911-7431-4F3E-809C-54C577EE7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ni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WA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RoC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s, uDA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(IBM MPI, Open MPI, MVAP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7E219-E58D-4937-80DA-39F07084F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prise Data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nvironment (IBM MPI, LoadLeve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pure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Use of OpenFabrics Softwar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11DAD-9E56-4C3D-B81B-6CAFD498C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InfiniBand fabric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re in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ation can be hard to s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s can be hard to isol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knowledge at Verbs and uDAPL-leve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good exampl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good tutorials, how-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p 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28953-CB39-4A96-8AD1-DFD3FF04F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ED is moving beyond the HPC field and into the Enterprise Data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 is using multiple OFA-developed technologies in an increasing range of products &amp;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E1492-D00C-4CD3-8A37-E14018335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49528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self</cp:lastModifiedBy>
  <dcterms:modified xsi:type="dcterms:W3CDTF">2010-03-15T15:42:05Z</dcterms:modified>
  <cp:revision>32</cp:revision>
  <dc:subject/>
  <dc:title>Slide 1</dc:title>
</cp:coreProperties>
</file>