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EF1-0475-486E-9A71-939ACCB7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E0AF-A7D0-425C-AB3E-F8B6CEBC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3BBB-C015-4590-ACA4-D40DE121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9D5-88FA-408D-8D8C-00B67B3A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DA78-C643-4954-837A-1E890BEC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58EE-0ED4-4429-AE49-96012B16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66D7-C5C4-416C-B004-E5DD7BF7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B4B5-4C56-48F0-A9B5-19D3A794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F5B8-1A1E-478D-8148-5B3897F9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BACB-9E59-4FA1-9026-6199306A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D4CF-0B74-46F5-AC72-D0211A7E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72C-C3C0-4D21-9CAA-2CDC5C11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A90F-60F2-4B77-A3F6-C23CE3FE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CCDE-ADFE-4C70-ABB3-7411B878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3EDB-94AE-4D71-B263-B599A4AB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85B7-BEBF-4D2F-9451-DF32E72F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A8D3-ACEC-4557-B2CE-CAB8E42D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EF3D-D914-4AC7-AF42-9B86CED3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BB66-0972-4140-BDFF-5417CDD6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3277-089E-451A-870E-EB5C1339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FD4-D3D7-42FB-9B2E-0E971570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5B94-F9AC-4D08-B41B-39539A8A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BC2-3529-4E59-A226-71551B04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DB93-5DC1-435E-B5D6-99A5432D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20821-8718-4E9B-85BE-3F427CDEFC69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16B8FC-20E8-4A48-AF2A-AEF6D0BA895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021A4-08A3-44EE-AF0C-E91D2E1465FB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7FD01-820E-47E0-A4F1-A4C0C24AD69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OFA Workshop Goals, Agenda and Logistic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Welcome, contribute and enj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84C7D-A84B-4054-98B8-2B2B3F2E3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Jim Ryan, Chairman, O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arch 15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orkshop Goals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exchange of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ure to new concepts and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ways to improve OFA/OF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go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of company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itive threats or compar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69979-34B6-42AC-A6CE-C62867FD7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genda and Logistics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the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nual Workshop! We have a different focus area for each 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FA tradition is for high content value ses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ay: Enterprise and Cloud Data Center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 the importance of RDMA-based technologies to each of these specific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esday: HPC and Exascale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 the demands of HPC generally and the scale requirements of Exascale specifically, and see how well our RDMA solutions measure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dnesday: OFED Feedback, Components and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panel session on Cables and Connectors and vendors’ exhi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6342E-4BAD-438F-ABF0-D72FF8D3E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More on Agenda and Logistics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going to videotape each session, pending speaker’s authorization, and put the presentations on our web 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topic at the OFA Board meeting end of day Tuesday: an analysis of OFA’s strengths, weaknesses, opportunities and threats by Steve Crumb of Global Inven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ill be an objective evaluation of where OFA is today and a prelude for future analysis of possible changes OFA should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is a 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1D6FE-8046-4313-A316-3CF68AAFB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t-A-Glance Findings – Objective Analysi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240" y="1447920"/>
            <a:ext cx="4267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ED stacks are valuable to indus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laborative nature of the alli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A’s flexibility to expand and embrace related 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noma Workshop, Interop WG/Logo Program, Linux WG are strongest current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onghold in HPC suggests a beachhead from which expansion can be launc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7960" y="1447560"/>
            <a:ext cx="4267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ea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tter documentation, training, equipping of program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erational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ck of awareness, marketing, and industry eng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itional resources for essential alliance delive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eak external collaborations (IBTA, Dist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eed for expansion (cloud, enterpri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ontent Placeholder 3"/>
          <p:cNvSpPr/>
          <p:nvPr/>
        </p:nvSpPr>
        <p:spPr>
          <a:xfrm>
            <a:off x="228600" y="373392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ansion of scope into: enterprise data center, cloud, financial apps, virtualization and eth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rketing/awar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op WG/Logo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MA is the “golden thread” woven through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ontent Placeholder 3"/>
          <p:cNvSpPr/>
          <p:nvPr/>
        </p:nvSpPr>
        <p:spPr>
          <a:xfrm>
            <a:off x="4648320" y="373392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hr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 clear ROI for invol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ck of documentation 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ta center technologies (cloud, virtualization, ethernet, messaging) seen as greatest g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ck of 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gacy familiarity (enet; f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s on scal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st issues with IB and iWA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8"/>
          <p:cNvSpPr/>
          <p:nvPr/>
        </p:nvSpPr>
        <p:spPr>
          <a:xfrm>
            <a:off x="152280" y="3809880"/>
            <a:ext cx="8763120" cy="0"/>
          </a:xfrm>
          <a:prstGeom prst="line">
            <a:avLst/>
          </a:prstGeom>
          <a:ln w="25560">
            <a:solidFill>
              <a:srgbClr val="3c6f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10"/>
          <p:cNvSpPr/>
          <p:nvPr/>
        </p:nvSpPr>
        <p:spPr>
          <a:xfrm>
            <a:off x="4267080" y="1600200"/>
            <a:ext cx="0" cy="4724280"/>
          </a:xfrm>
          <a:prstGeom prst="line">
            <a:avLst/>
          </a:prstGeom>
          <a:ln w="25560">
            <a:solidFill>
              <a:srgbClr val="3c6f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n Insider’s View of OFA  -- Note: some of this overlaps SW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447560"/>
            <a:ext cx="84582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there’s much to be proud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A continues to offer a robust SW stack, OFED, with increasing quality and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lcome Microsoft and increased Windows support, and additional new members Endace and C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the dominant interconnect technology in HPC and getting stronger every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same time, there are serious concer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face a large funding gap for our interop/logo program resulting from much less than expected participation. We have been unable to solv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ion in our working groups is poor – some are almost to the point of colla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membership is far less than it should be – many companies that clearly benefit from OFED do not feel the need to join and con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your help to find answers to these important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7FCC9-03CA-465A-A917-E5E82CD85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pecific Strategies: Branding and Trademark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51920" y="1371240"/>
            <a:ext cx="89917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applied for graphical trademarks of the Alliance Software and Interoperability with I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applied to trademark of “OFED” and “OFED RDMA” and wish to brand “OF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s “OFED” for any O/S and “Open RDMA” over any fabric or physical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use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FED with Linu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FED 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ndows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FED RDMA with iWAR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usage guidelines are being developed and will be propagated by the MWG for members and licens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E2045-F309-4EF3-9492-B0EC0D386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Final Thoughts: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601640"/>
            <a:ext cx="84582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orksh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means discussions should be open, direct, creative and constru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and analysts will be here, but this should not be a constraint on frank discussions on technologies, what’s good and bad about OFA and OFED,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collect and feed back to you suggestions for improvements as the very last session. I will drive creation of an action plan to address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ECCDD-2CA4-4040-9911-E536CB3FC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Thank you Sponsors: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0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FDE5B-0957-42E6-8BFD-56007B22F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2228760" cy="1038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1981080" y="3200400"/>
            <a:ext cx="2219400" cy="1000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3"/>
          <a:stretch/>
        </p:blipFill>
        <p:spPr>
          <a:xfrm>
            <a:off x="1981080" y="4203720"/>
            <a:ext cx="1828800" cy="1587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4"/>
          <a:stretch/>
        </p:blipFill>
        <p:spPr>
          <a:xfrm>
            <a:off x="4734000" y="1981080"/>
            <a:ext cx="1819080" cy="1276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"/>
          <p:cNvPicPr/>
          <p:nvPr/>
        </p:nvPicPr>
        <p:blipFill>
          <a:blip r:embed="rId5"/>
          <a:stretch/>
        </p:blipFill>
        <p:spPr>
          <a:xfrm>
            <a:off x="4714920" y="3352680"/>
            <a:ext cx="1914480" cy="122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"/>
          <p:cNvPicPr/>
          <p:nvPr/>
        </p:nvPicPr>
        <p:blipFill>
          <a:blip r:embed="rId6"/>
          <a:stretch/>
        </p:blipFill>
        <p:spPr>
          <a:xfrm>
            <a:off x="4419720" y="4724280"/>
            <a:ext cx="26096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Ryan, Jim</cp:lastModifiedBy>
  <dcterms:modified xsi:type="dcterms:W3CDTF">2010-03-15T14:48:41Z</dcterms:modified>
  <cp:revision>21</cp:revision>
  <dc:subject/>
  <dc:title>Slide 1</dc:title>
</cp:coreProperties>
</file>