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483E-1777-4B71-849F-604DC3A2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27F2-6707-4E21-9B0A-9DAFF40E8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B5A6-74BB-4E86-90AD-98C7E9F5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5460-1532-48F8-A34D-D82FB5855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8204-7E95-405B-BD07-8446F084D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tore - Flat file databa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cache - In-memory hash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L Fetch - Works fine, basically a curl / w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 - Prints to standard out / error instead of sending mai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PP (IM) - Same as Mai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- Works fine once python-imaging library is installed (otherwis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s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gle Accounts - Allows you to log in as anyone with no passwo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Queues - Puts tasks on the admin console for later exec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n - Same as Task Que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store - Uses URL Fetch to post large files to a URL which th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it in the flat-file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D7CB-BCA8-44B8-B8D3-3CB84E350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B8DF-A767-4D0F-AB01-B8A39BE6C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82E1-0D03-4431-83F9-698D5EA7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ests are accepted and resources granted via 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bility is e-commerce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6D3-A74B-420F-AC61-C9B45798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PIs: JDO/J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E20-DC3D-453A-A3B4-0F7C16618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services: mapreduce, relational db, VM management, job queue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uptake in the commercial s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2E1-A06A-4275-B48B-3F3BC632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5B13-47F2-4D5A-8A27-4C9E47844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5360" y="391572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004D0-1BDC-4A57-BFA1-515DD8B6A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44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50690-3F9E-4F6A-9102-1BA2093D4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972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080" y="111456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536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972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4080" y="3915720"/>
            <a:ext cx="279432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28B0-278C-4B75-AE68-3F53E1584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A6EAF-2CD7-4854-8647-E3A1E2683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9227-55AC-49DA-93DB-1B0EE8998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6063-B893-4EA6-8AE5-577A3E92A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9098-9DAE-4500-9577-93CECE8C9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9760" y="323640"/>
            <a:ext cx="8678880" cy="34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F2D3-7A85-4CD5-B153-F2BED13CA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0817-58FC-41ED-9DD4-6E885E32D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440" y="391572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DDA4-CA2D-42EE-B3A2-38681029A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536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114560"/>
            <a:ext cx="423504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5360" y="3915720"/>
            <a:ext cx="8678880" cy="25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3BD1-31E3-4683-87F4-85D2715C8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239760" y="239760"/>
            <a:ext cx="8678880" cy="628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40404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5A90-E626-42EF-81ED-28643C2D0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2" descr=""/>
          <p:cNvPicPr/>
          <p:nvPr/>
        </p:nvPicPr>
        <p:blipFill>
          <a:blip r:embed="rId2"/>
          <a:stretch/>
        </p:blipFill>
        <p:spPr>
          <a:xfrm>
            <a:off x="0" y="6472080"/>
            <a:ext cx="776160" cy="414360"/>
          </a:xfrm>
          <a:prstGeom prst="rect">
            <a:avLst/>
          </a:prstGeom>
          <a:ln w="0">
            <a:noFill/>
          </a:ln>
        </p:spPr>
      </p:pic>
      <p:sp>
        <p:nvSpPr>
          <p:cNvPr id="6" name="TextBox 13"/>
          <p:cNvSpPr/>
          <p:nvPr/>
        </p:nvSpPr>
        <p:spPr>
          <a:xfrm>
            <a:off x="7992720" y="6488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06f42"/>
                </a:solidFill>
                <a:latin typeface="Trebuchet MS"/>
                <a:ea typeface="Trebuchet MS"/>
              </a:rPr>
              <a:t>appsca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5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5.pn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10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560" y="1028520"/>
            <a:ext cx="8839080" cy="114300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ppscale: open-source platform-level 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91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dra Krin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r Science Dep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v. of California, Santa Barba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Fabrics Alliance, Sonoma Worksh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ch 15, 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0" y="6472080"/>
            <a:ext cx="776160" cy="4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669168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reparation 22"/>
          <p:cNvSpPr/>
          <p:nvPr/>
        </p:nvSpPr>
        <p:spPr>
          <a:xfrm>
            <a:off x="2314440" y="4303800"/>
            <a:ext cx="803520" cy="40932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ag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reparation 23"/>
          <p:cNvSpPr/>
          <p:nvPr/>
        </p:nvSpPr>
        <p:spPr>
          <a:xfrm>
            <a:off x="4681440" y="4950000"/>
            <a:ext cx="455760" cy="44100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reparation 24"/>
          <p:cNvSpPr/>
          <p:nvPr/>
        </p:nvSpPr>
        <p:spPr>
          <a:xfrm>
            <a:off x="2227320" y="5587920"/>
            <a:ext cx="114444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reparation 25"/>
          <p:cNvSpPr/>
          <p:nvPr/>
        </p:nvSpPr>
        <p:spPr>
          <a:xfrm>
            <a:off x="4397400" y="5599080"/>
            <a:ext cx="795240" cy="39204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Straight Arrow Connector 33"/>
          <p:cNvCxnSpPr>
            <a:endCxn id="81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2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reparation 29"/>
          <p:cNvSpPr/>
          <p:nvPr/>
        </p:nvSpPr>
        <p:spPr>
          <a:xfrm>
            <a:off x="3222720" y="4361040"/>
            <a:ext cx="757080" cy="52200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R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etc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9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9"/>
          <p:cNvSpPr/>
          <p:nvPr/>
        </p:nvSpPr>
        <p:spPr>
          <a:xfrm>
            <a:off x="99828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0"/>
          <p:cNvSpPr/>
          <p:nvPr/>
        </p:nvSpPr>
        <p:spPr>
          <a:xfrm>
            <a:off x="2980080" y="496584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reparation 41"/>
          <p:cNvSpPr/>
          <p:nvPr/>
        </p:nvSpPr>
        <p:spPr>
          <a:xfrm>
            <a:off x="2228760" y="5060880"/>
            <a:ext cx="633600" cy="39204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reparation 42"/>
          <p:cNvSpPr/>
          <p:nvPr/>
        </p:nvSpPr>
        <p:spPr>
          <a:xfrm>
            <a:off x="3483000" y="5551560"/>
            <a:ext cx="77796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0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105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" name="Rectangle 48"/>
          <p:cNvSpPr/>
          <p:nvPr/>
        </p:nvSpPr>
        <p:spPr>
          <a:xfrm>
            <a:off x="3112920" y="32162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reparation 52"/>
          <p:cNvSpPr/>
          <p:nvPr/>
        </p:nvSpPr>
        <p:spPr>
          <a:xfrm>
            <a:off x="3933720" y="4741920"/>
            <a:ext cx="674640" cy="552240"/>
          </a:xfrm>
          <a:prstGeom prst="flowChartPreparation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o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box restri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339920" y="3048120"/>
            <a:ext cx="609588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622520" y="3344760"/>
            <a:ext cx="5376600" cy="71928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9"/>
          <p:cNvSpPr/>
          <p:nvPr/>
        </p:nvSpPr>
        <p:spPr>
          <a:xfrm>
            <a:off x="1224720" y="297324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8"/>
          <p:cNvSpPr/>
          <p:nvPr/>
        </p:nvSpPr>
        <p:spPr>
          <a:xfrm>
            <a:off x="3338280" y="32860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0" y="4292640"/>
            <a:ext cx="8918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re Python or Java only, white list of library calls to framewor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 thread/subprocess spawning, system cal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No writes to file system, reads only to static files uploaded w/a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orage using key-value, schema-free datastore (Bigtable-base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HTTP/S communication only, CGI to handle page reque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imit on number of datastore elements accessed per requ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Limit on response duration, task frequency, request r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nforced quotas  (BW, CPU, requests/s, files, app size, …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: upload to goog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481040" y="2978280"/>
            <a:ext cx="6096240" cy="10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763640" y="3273480"/>
            <a:ext cx="537696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Python, Java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136584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4" descr=""/>
          <p:cNvPicPr/>
          <p:nvPr/>
        </p:nvPicPr>
        <p:blipFill>
          <a:blip r:embed="rId2"/>
          <a:stretch/>
        </p:blipFill>
        <p:spPr>
          <a:xfrm>
            <a:off x="3616200" y="1708200"/>
            <a:ext cx="1346400" cy="127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slide2pic"/>
          <p:cNvPicPr/>
          <p:nvPr/>
        </p:nvPicPr>
        <p:blipFill>
          <a:blip r:embed="rId3"/>
          <a:stretch/>
        </p:blipFill>
        <p:spPr>
          <a:xfrm>
            <a:off x="2884320" y="5029200"/>
            <a:ext cx="3353040" cy="1622520"/>
          </a:xfrm>
          <a:prstGeom prst="rect">
            <a:avLst/>
          </a:prstGeom>
          <a:ln w="0">
            <a:noFill/>
          </a:ln>
        </p:spPr>
      </p:pic>
      <p:sp>
        <p:nvSpPr>
          <p:cNvPr id="124" name="Lightning Bolt 32"/>
          <p:cNvSpPr/>
          <p:nvPr/>
        </p:nvSpPr>
        <p:spPr>
          <a:xfrm>
            <a:off x="1735200" y="4260960"/>
            <a:ext cx="1270080" cy="98892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ghtning Bolt 33"/>
          <p:cNvSpPr/>
          <p:nvPr/>
        </p:nvSpPr>
        <p:spPr>
          <a:xfrm rot="1360800">
            <a:off x="3290400" y="4300560"/>
            <a:ext cx="652680" cy="5619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ghtning Bolt 34"/>
          <p:cNvSpPr/>
          <p:nvPr/>
        </p:nvSpPr>
        <p:spPr>
          <a:xfrm rot="4665600">
            <a:off x="4912560" y="4325040"/>
            <a:ext cx="650880" cy="5637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ghtning Bolt 36"/>
          <p:cNvSpPr/>
          <p:nvPr/>
        </p:nvSpPr>
        <p:spPr>
          <a:xfrm rot="4665600">
            <a:off x="6271560" y="4122720"/>
            <a:ext cx="897120" cy="1299960"/>
          </a:xfrm>
          <a:prstGeom prst="lightningBolt">
            <a:avLst/>
          </a:prstGeom>
          <a:solidFill>
            <a:srgbClr val="6cb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an 43"/>
          <p:cNvSpPr/>
          <p:nvPr/>
        </p:nvSpPr>
        <p:spPr>
          <a:xfrm>
            <a:off x="614376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an 45"/>
          <p:cNvSpPr/>
          <p:nvPr/>
        </p:nvSpPr>
        <p:spPr>
          <a:xfrm>
            <a:off x="6299280" y="1273320"/>
            <a:ext cx="73008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an 48"/>
          <p:cNvSpPr/>
          <p:nvPr/>
        </p:nvSpPr>
        <p:spPr>
          <a:xfrm>
            <a:off x="5715000" y="123840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an 50"/>
          <p:cNvSpPr/>
          <p:nvPr/>
        </p:nvSpPr>
        <p:spPr>
          <a:xfrm>
            <a:off x="5867280" y="139068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Can 51"/>
          <p:cNvSpPr/>
          <p:nvPr/>
        </p:nvSpPr>
        <p:spPr>
          <a:xfrm>
            <a:off x="601992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Straight Arrow Connector 60"/>
          <p:cNvCxnSpPr/>
          <p:nvPr/>
        </p:nvCxnSpPr>
        <p:spPr>
          <a:xfrm>
            <a:off x="637416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Rectangle 61"/>
          <p:cNvSpPr/>
          <p:nvPr/>
        </p:nvSpPr>
        <p:spPr>
          <a:xfrm>
            <a:off x="5940360" y="2463840"/>
            <a:ext cx="889200" cy="272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5400000">
            <a:off x="4238640" y="4492440"/>
            <a:ext cx="355680" cy="95904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5"/>
          <p:cNvSpPr/>
          <p:nvPr/>
        </p:nvSpPr>
        <p:spPr>
          <a:xfrm>
            <a:off x="3815280" y="4724280"/>
            <a:ext cx="117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6213240" y="5157720"/>
            <a:ext cx="244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ree w/ quota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Pay for additional scal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PU, BW, emails, dat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igTabl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utomatic scal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High availabilit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Straight Arrow Connector 78"/>
          <p:cNvCxnSpPr/>
          <p:nvPr/>
        </p:nvCxnSpPr>
        <p:spPr>
          <a:xfrm>
            <a:off x="1114200" y="3076560"/>
            <a:ext cx="678600" cy="22608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Straight Arrow Connector 81"/>
          <p:cNvCxnSpPr/>
          <p:nvPr/>
        </p:nvCxnSpPr>
        <p:spPr>
          <a:xfrm>
            <a:off x="1139760" y="3400560"/>
            <a:ext cx="650160" cy="115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Rectangle 83"/>
          <p:cNvSpPr/>
          <p:nvPr/>
        </p:nvSpPr>
        <p:spPr>
          <a:xfrm>
            <a:off x="1139760" y="3243240"/>
            <a:ext cx="3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Straight Arrow Connector 84"/>
          <p:cNvCxnSpPr>
            <a:endCxn id="119" idx="1"/>
          </p:cNvCxnSpPr>
          <p:nvPr/>
        </p:nvCxnSpPr>
        <p:spPr>
          <a:xfrm flipV="1">
            <a:off x="1143000" y="3633120"/>
            <a:ext cx="621000" cy="500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Rectangle 99"/>
          <p:cNvSpPr/>
          <p:nvPr/>
        </p:nvSpPr>
        <p:spPr>
          <a:xfrm>
            <a:off x="223200" y="2835360"/>
            <a:ext cx="988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AE ap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ia t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terne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103"/>
          <p:cNvGrpSpPr/>
          <p:nvPr/>
        </p:nvGrpSpPr>
        <p:grpSpPr>
          <a:xfrm>
            <a:off x="1397160" y="3795840"/>
            <a:ext cx="6273720" cy="479160"/>
            <a:chOff x="1397160" y="3795840"/>
            <a:chExt cx="6273720" cy="479160"/>
          </a:xfrm>
        </p:grpSpPr>
        <p:sp>
          <p:nvSpPr>
            <p:cNvPr id="144" name="Preparation 104"/>
            <p:cNvSpPr/>
            <p:nvPr/>
          </p:nvSpPr>
          <p:spPr>
            <a:xfrm>
              <a:off x="1397160" y="3823920"/>
              <a:ext cx="804240" cy="408960"/>
            </a:xfrm>
            <a:prstGeom prst="flowChartPrepa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ag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Preparation 105"/>
            <p:cNvSpPr/>
            <p:nvPr/>
          </p:nvSpPr>
          <p:spPr>
            <a:xfrm>
              <a:off x="4738680" y="3807000"/>
              <a:ext cx="454320" cy="439920"/>
            </a:xfrm>
            <a:prstGeom prst="flowChartPreparation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Preparation 106"/>
            <p:cNvSpPr/>
            <p:nvPr/>
          </p:nvSpPr>
          <p:spPr>
            <a:xfrm>
              <a:off x="6321960" y="3795840"/>
              <a:ext cx="775800" cy="462240"/>
            </a:xfrm>
            <a:prstGeom prst="flowChartPreparation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e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ac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Preparation 107"/>
            <p:cNvSpPr/>
            <p:nvPr/>
          </p:nvSpPr>
          <p:spPr>
            <a:xfrm>
              <a:off x="4143240" y="3835080"/>
              <a:ext cx="640440" cy="392040"/>
            </a:xfrm>
            <a:prstGeom prst="flowChartPreparation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i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Preparation 108"/>
            <p:cNvSpPr/>
            <p:nvPr/>
          </p:nvSpPr>
          <p:spPr>
            <a:xfrm>
              <a:off x="3542040" y="3832200"/>
              <a:ext cx="660240" cy="392040"/>
            </a:xfrm>
            <a:prstGeom prst="flowChartPreparation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ser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Preparation 109"/>
            <p:cNvSpPr/>
            <p:nvPr/>
          </p:nvSpPr>
          <p:spPr>
            <a:xfrm>
              <a:off x="2178720" y="3837960"/>
              <a:ext cx="685800" cy="414360"/>
            </a:xfrm>
            <a:prstGeom prst="flowChartPreparation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etc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Preparation 110"/>
            <p:cNvSpPr/>
            <p:nvPr/>
          </p:nvSpPr>
          <p:spPr>
            <a:xfrm>
              <a:off x="5828040" y="3846600"/>
              <a:ext cx="632160" cy="392040"/>
            </a:xfrm>
            <a:prstGeom prst="flowChartPreparation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r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Preparation 111"/>
            <p:cNvSpPr/>
            <p:nvPr/>
          </p:nvSpPr>
          <p:spPr>
            <a:xfrm>
              <a:off x="5133600" y="3837960"/>
              <a:ext cx="778680" cy="437040"/>
            </a:xfrm>
            <a:prstGeom prst="flowChartPreparation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ask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Preparation 112"/>
            <p:cNvSpPr/>
            <p:nvPr/>
          </p:nvSpPr>
          <p:spPr>
            <a:xfrm>
              <a:off x="7038720" y="3815280"/>
              <a:ext cx="632160" cy="459720"/>
            </a:xfrm>
            <a:prstGeom prst="flowChartPreparation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Preparation 113"/>
            <p:cNvSpPr/>
            <p:nvPr/>
          </p:nvSpPr>
          <p:spPr>
            <a:xfrm>
              <a:off x="2819520" y="3807000"/>
              <a:ext cx="775800" cy="462240"/>
            </a:xfrm>
            <a:prstGeom prst="flowChartPreparation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lob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Straight Arrow Connector 66"/>
          <p:cNvCxnSpPr/>
          <p:nvPr/>
        </p:nvCxnSpPr>
        <p:spPr>
          <a:xfrm>
            <a:off x="4021200" y="2935440"/>
            <a:ext cx="381600" cy="1862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5" name="Rectangle 41"/>
          <p:cNvSpPr/>
          <p:nvPr/>
        </p:nvSpPr>
        <p:spPr>
          <a:xfrm>
            <a:off x="3479760" y="526248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2"/>
          <p:cNvSpPr/>
          <p:nvPr/>
        </p:nvSpPr>
        <p:spPr>
          <a:xfrm>
            <a:off x="705852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7"/>
          <p:cNvSpPr/>
          <p:nvPr/>
        </p:nvSpPr>
        <p:spPr>
          <a:xfrm>
            <a:off x="1284120" y="4049640"/>
            <a:ext cx="6491520" cy="889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gae to 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481040" y="2978280"/>
            <a:ext cx="6096240" cy="10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763640" y="3273480"/>
            <a:ext cx="537696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1332720" y="4606920"/>
            <a:ext cx="63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pen-source Google App Engine Software Development Kit (SDK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4" descr=""/>
          <p:cNvPicPr/>
          <p:nvPr/>
        </p:nvPicPr>
        <p:blipFill>
          <a:blip r:embed="rId1"/>
          <a:stretch/>
        </p:blipFill>
        <p:spPr>
          <a:xfrm>
            <a:off x="3616200" y="1708200"/>
            <a:ext cx="1346400" cy="12700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75"/>
          <p:cNvGrpSpPr/>
          <p:nvPr/>
        </p:nvGrpSpPr>
        <p:grpSpPr>
          <a:xfrm>
            <a:off x="1397160" y="3795840"/>
            <a:ext cx="6273720" cy="479160"/>
            <a:chOff x="1397160" y="3795840"/>
            <a:chExt cx="6273720" cy="479160"/>
          </a:xfrm>
        </p:grpSpPr>
        <p:sp>
          <p:nvSpPr>
            <p:cNvPr id="164" name="Preparation 22"/>
            <p:cNvSpPr/>
            <p:nvPr/>
          </p:nvSpPr>
          <p:spPr>
            <a:xfrm>
              <a:off x="1397160" y="3823920"/>
              <a:ext cx="804240" cy="408960"/>
            </a:xfrm>
            <a:prstGeom prst="flowChartPreparation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ag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Preparation 23"/>
            <p:cNvSpPr/>
            <p:nvPr/>
          </p:nvSpPr>
          <p:spPr>
            <a:xfrm>
              <a:off x="4738680" y="3807000"/>
              <a:ext cx="454320" cy="439920"/>
            </a:xfrm>
            <a:prstGeom prst="flowChartPreparation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Preparation 24"/>
            <p:cNvSpPr/>
            <p:nvPr/>
          </p:nvSpPr>
          <p:spPr>
            <a:xfrm>
              <a:off x="6321960" y="3795840"/>
              <a:ext cx="775800" cy="462240"/>
            </a:xfrm>
            <a:prstGeom prst="flowChartPreparation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e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ach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Preparation 25"/>
            <p:cNvSpPr/>
            <p:nvPr/>
          </p:nvSpPr>
          <p:spPr>
            <a:xfrm>
              <a:off x="4143240" y="3835080"/>
              <a:ext cx="640440" cy="392040"/>
            </a:xfrm>
            <a:prstGeom prst="flowChartPreparation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i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Preparation 28"/>
            <p:cNvSpPr/>
            <p:nvPr/>
          </p:nvSpPr>
          <p:spPr>
            <a:xfrm>
              <a:off x="3542040" y="3832200"/>
              <a:ext cx="660240" cy="392040"/>
            </a:xfrm>
            <a:prstGeom prst="flowChartPreparation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ser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Preparation 29"/>
            <p:cNvSpPr/>
            <p:nvPr/>
          </p:nvSpPr>
          <p:spPr>
            <a:xfrm>
              <a:off x="2178720" y="3837960"/>
              <a:ext cx="685800" cy="414360"/>
            </a:xfrm>
            <a:prstGeom prst="flowChartPreparation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Fetc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Preparation 41"/>
            <p:cNvSpPr/>
            <p:nvPr/>
          </p:nvSpPr>
          <p:spPr>
            <a:xfrm>
              <a:off x="5828040" y="3846600"/>
              <a:ext cx="632160" cy="392040"/>
            </a:xfrm>
            <a:prstGeom prst="flowChartPreparation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Cr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Preparation 42"/>
            <p:cNvSpPr/>
            <p:nvPr/>
          </p:nvSpPr>
          <p:spPr>
            <a:xfrm>
              <a:off x="5133600" y="3837960"/>
              <a:ext cx="778680" cy="437040"/>
            </a:xfrm>
            <a:prstGeom prst="flowChartPreparation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Task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Preparation 35"/>
            <p:cNvSpPr/>
            <p:nvPr/>
          </p:nvSpPr>
          <p:spPr>
            <a:xfrm>
              <a:off x="7038720" y="3815280"/>
              <a:ext cx="632160" cy="459720"/>
            </a:xfrm>
            <a:prstGeom prst="flowChartPreparation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at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Preparation 73"/>
            <p:cNvSpPr/>
            <p:nvPr/>
          </p:nvSpPr>
          <p:spPr>
            <a:xfrm>
              <a:off x="2819520" y="3807000"/>
              <a:ext cx="775800" cy="462240"/>
            </a:xfrm>
            <a:prstGeom prst="flowChartPreparation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lob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to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Picture 4" descr=""/>
          <p:cNvPicPr/>
          <p:nvPr/>
        </p:nvPicPr>
        <p:blipFill>
          <a:blip r:embed="rId12"/>
          <a:stretch/>
        </p:blipFill>
        <p:spPr>
          <a:xfrm>
            <a:off x="6237360" y="458640"/>
            <a:ext cx="6332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36"/>
          <p:cNvCxnSpPr/>
          <p:nvPr/>
        </p:nvCxnSpPr>
        <p:spPr>
          <a:xfrm flipV="1">
            <a:off x="6870600" y="704160"/>
            <a:ext cx="665640" cy="54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176" name="Picture 5" descr=""/>
          <p:cNvPicPr/>
          <p:nvPr/>
        </p:nvPicPr>
        <p:blipFill>
          <a:blip r:embed="rId13"/>
          <a:stretch/>
        </p:blipFill>
        <p:spPr>
          <a:xfrm>
            <a:off x="7550280" y="438120"/>
            <a:ext cx="606240" cy="50796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46"/>
          <p:cNvCxnSpPr>
            <a:stCxn id="164" idx="2"/>
          </p:cNvCxnSpPr>
          <p:nvPr/>
        </p:nvCxnSpPr>
        <p:spPr>
          <a:xfrm flipH="1">
            <a:off x="1777680" y="4233960"/>
            <a:ext cx="208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Straight Arrow Connector 47"/>
          <p:cNvCxnSpPr/>
          <p:nvPr/>
        </p:nvCxnSpPr>
        <p:spPr>
          <a:xfrm flipH="1">
            <a:off x="2466720" y="4245120"/>
            <a:ext cx="208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Straight Arrow Connector 48"/>
          <p:cNvCxnSpPr/>
          <p:nvPr/>
        </p:nvCxnSpPr>
        <p:spPr>
          <a:xfrm flipH="1">
            <a:off x="3214440" y="423036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Straight Arrow Connector 49"/>
          <p:cNvCxnSpPr/>
          <p:nvPr/>
        </p:nvCxnSpPr>
        <p:spPr>
          <a:xfrm flipH="1">
            <a:off x="3863520" y="4245120"/>
            <a:ext cx="2160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Straight Arrow Connector 50"/>
          <p:cNvCxnSpPr/>
          <p:nvPr/>
        </p:nvCxnSpPr>
        <p:spPr>
          <a:xfrm flipH="1">
            <a:off x="4426920" y="4245120"/>
            <a:ext cx="2268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Straight Arrow Connector 51"/>
          <p:cNvCxnSpPr/>
          <p:nvPr/>
        </p:nvCxnSpPr>
        <p:spPr>
          <a:xfrm flipH="1">
            <a:off x="4935240" y="4245120"/>
            <a:ext cx="23040" cy="11574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Straight Arrow Connector 52"/>
          <p:cNvCxnSpPr/>
          <p:nvPr/>
        </p:nvCxnSpPr>
        <p:spPr>
          <a:xfrm flipH="1">
            <a:off x="5500440" y="425880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/>
          <p:nvPr/>
        </p:nvCxnSpPr>
        <p:spPr>
          <a:xfrm flipH="1">
            <a:off x="6163920" y="4258800"/>
            <a:ext cx="2088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Straight Arrow Connector 54"/>
          <p:cNvCxnSpPr/>
          <p:nvPr/>
        </p:nvCxnSpPr>
        <p:spPr>
          <a:xfrm flipH="1">
            <a:off x="6727320" y="4273560"/>
            <a:ext cx="23040" cy="1156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Straight Arrow Connector 59"/>
          <p:cNvCxnSpPr/>
          <p:nvPr/>
        </p:nvCxnSpPr>
        <p:spPr>
          <a:xfrm flipH="1">
            <a:off x="7333920" y="4258800"/>
            <a:ext cx="23040" cy="11577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60"/>
          <p:cNvSpPr/>
          <p:nvPr/>
        </p:nvSpPr>
        <p:spPr>
          <a:xfrm>
            <a:off x="942840" y="5133960"/>
            <a:ext cx="7340760" cy="888840"/>
          </a:xfrm>
          <a:prstGeom prst="rect">
            <a:avLst/>
          </a:prstGeom>
          <a:blipFill rotWithShape="0">
            <a:blip r:embed="rId14">
              <a:alphaModFix amt="69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5"/>
          <a:stretch/>
        </p:blipFill>
        <p:spPr>
          <a:xfrm>
            <a:off x="3400560" y="5380200"/>
            <a:ext cx="1960560" cy="634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4"/>
          <p:cNvSpPr/>
          <p:nvPr/>
        </p:nvSpPr>
        <p:spPr>
          <a:xfrm>
            <a:off x="1405800" y="2903400"/>
            <a:ext cx="10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ppSca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gae to 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5360" y="1114560"/>
            <a:ext cx="89186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E SDK ext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 using open-source distributed database technolog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Base, Hypertable, Cassandra, Voldemort, MongoDB, MemcacheDB, MySQ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mcacheD libr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ole or as background thread (automaticall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 to Hadoop (MapRedu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-language support: Python, Java, Ruby, Perl, soon: X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spcAft>
                <a:spcPts val="1800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lator to Linux Cron job, similar to Tas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spcAft>
                <a:spcPts val="1199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: built-in cloud-wide authentication via Rails, support for Eucalyptus and EC2 credenti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237360" y="458640"/>
            <a:ext cx="633240" cy="500040"/>
          </a:xfrm>
          <a:prstGeom prst="rect">
            <a:avLst/>
          </a:prstGeom>
          <a:ln w="0">
            <a:noFill/>
          </a:ln>
        </p:spPr>
      </p:pic>
      <p:cxnSp>
        <p:nvCxnSpPr>
          <p:cNvPr id="193" name="Straight Arrow Connector 59"/>
          <p:cNvCxnSpPr/>
          <p:nvPr/>
        </p:nvCxnSpPr>
        <p:spPr>
          <a:xfrm flipV="1">
            <a:off x="6870600" y="704160"/>
            <a:ext cx="665640" cy="54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tailEnd len="med" type="triangle" w="med"/>
          </a:ln>
        </p:spPr>
      </p:cxn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7550280" y="438120"/>
            <a:ext cx="606240" cy="507960"/>
          </a:xfrm>
          <a:prstGeom prst="rect">
            <a:avLst/>
          </a:prstGeom>
          <a:ln w="0">
            <a:noFill/>
          </a:ln>
        </p:spPr>
      </p:pic>
      <p:sp>
        <p:nvSpPr>
          <p:cNvPr id="195" name="Preparation 45"/>
          <p:cNvSpPr/>
          <p:nvPr/>
        </p:nvSpPr>
        <p:spPr>
          <a:xfrm>
            <a:off x="239760" y="2540160"/>
            <a:ext cx="776160" cy="5918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reparation 47"/>
          <p:cNvSpPr/>
          <p:nvPr/>
        </p:nvSpPr>
        <p:spPr>
          <a:xfrm>
            <a:off x="324000" y="5595840"/>
            <a:ext cx="660240" cy="47160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reparation 49"/>
          <p:cNvSpPr/>
          <p:nvPr/>
        </p:nvSpPr>
        <p:spPr>
          <a:xfrm>
            <a:off x="352440" y="4869000"/>
            <a:ext cx="631800" cy="4712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reparation 50"/>
          <p:cNvSpPr/>
          <p:nvPr/>
        </p:nvSpPr>
        <p:spPr>
          <a:xfrm>
            <a:off x="264960" y="3556080"/>
            <a:ext cx="779760" cy="52236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reparation 51"/>
          <p:cNvSpPr/>
          <p:nvPr/>
        </p:nvSpPr>
        <p:spPr>
          <a:xfrm>
            <a:off x="322200" y="1670040"/>
            <a:ext cx="636480" cy="546120"/>
          </a:xfrm>
          <a:prstGeom prst="flowChartPreparation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’s offer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5360" y="1114560"/>
            <a:ext cx="91296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of the Google APIs as a unifying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store/database backends,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grow this to include other standard AP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framework that executes extant GA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arate API implementations automatically deploy/comp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strictions on resource usage, library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high-level language front-ends and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library support in the back-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’s offer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Use of the Google APIs as a unifying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Datastore/database backends,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Can grow this to include other standard AP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Single framework that executes extant GA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Disparate API implementations automatically deploy/comp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</a:rPr>
              <a:t>No restrictions on resource usage, library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Multiple high-level language front-ends and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ahoma"/>
              </a:rPr>
              <a:t>Optimized library support in the back-e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-source international user commun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integration with infrastructure level (I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aptive SLA re-nego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owth/Shrinkage of the clou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 or workload specific customization of the platfo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206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Straight Arrow Connector 16"/>
          <p:cNvCxnSpPr>
            <a:endCxn id="218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21" name="Straight Arrow Connector 20"/>
          <p:cNvCxnSpPr>
            <a:endCxn id="211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22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Straight Arrow Connector 23"/>
          <p:cNvCxnSpPr>
            <a:endCxn id="224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25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229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38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0960" y="1072800"/>
            <a:ext cx="891864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system with four key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pLoadBalancer (ALB)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base Master/Peer (DB M/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AppServer (AS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Database Slave/Peer (DB S/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utomatic deployment over Eucalyptus and E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eleased as a single Xen or KVM image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daptive role configu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team fo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250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Straight Arrow Connector 16"/>
          <p:cNvCxnSpPr>
            <a:endCxn id="262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65" name="Straight Arrow Connector 20"/>
          <p:cNvCxnSpPr>
            <a:endCxn id="255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66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Straight Arrow Connector 23"/>
          <p:cNvCxnSpPr>
            <a:endCxn id="268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69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1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273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74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82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0960" y="1073160"/>
            <a:ext cx="891864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system monitoring (low-overhead HPM/OS &amp; profi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Feedback driven adaptation, grow/shrink the clou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Online workload characterization, behavior pattern recog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Identify critical tasks, applications,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hared-memory support for co-loca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aS customization, PaaS-IaaS coordination,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gle app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 Application (your code her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6691680" y="1141560"/>
            <a:ext cx="15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oogle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reparation 22"/>
          <p:cNvSpPr/>
          <p:nvPr/>
        </p:nvSpPr>
        <p:spPr>
          <a:xfrm>
            <a:off x="2314440" y="4303800"/>
            <a:ext cx="803520" cy="40932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ag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reparation 23"/>
          <p:cNvSpPr/>
          <p:nvPr/>
        </p:nvSpPr>
        <p:spPr>
          <a:xfrm>
            <a:off x="4681440" y="4950000"/>
            <a:ext cx="455760" cy="44100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reparation 24"/>
          <p:cNvSpPr/>
          <p:nvPr/>
        </p:nvSpPr>
        <p:spPr>
          <a:xfrm>
            <a:off x="2227320" y="5587920"/>
            <a:ext cx="114444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mcach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reparation 25"/>
          <p:cNvSpPr/>
          <p:nvPr/>
        </p:nvSpPr>
        <p:spPr>
          <a:xfrm>
            <a:off x="4397400" y="5599080"/>
            <a:ext cx="795240" cy="39204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i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8" name="Straight Arrow Connector 33"/>
          <p:cNvCxnSpPr>
            <a:endCxn id="298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9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s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reparation 29"/>
          <p:cNvSpPr/>
          <p:nvPr/>
        </p:nvSpPr>
        <p:spPr>
          <a:xfrm>
            <a:off x="3222720" y="4361040"/>
            <a:ext cx="757080" cy="52200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UR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Fetc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6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9"/>
          <p:cNvSpPr/>
          <p:nvPr/>
        </p:nvSpPr>
        <p:spPr>
          <a:xfrm>
            <a:off x="998280" y="2903400"/>
            <a:ext cx="25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oogle App Engine (GA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0"/>
          <p:cNvSpPr/>
          <p:nvPr/>
        </p:nvSpPr>
        <p:spPr>
          <a:xfrm>
            <a:off x="2980080" y="496584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reparation 41"/>
          <p:cNvSpPr/>
          <p:nvPr/>
        </p:nvSpPr>
        <p:spPr>
          <a:xfrm>
            <a:off x="2228760" y="5060880"/>
            <a:ext cx="633600" cy="39204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r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reparation 42"/>
          <p:cNvSpPr/>
          <p:nvPr/>
        </p:nvSpPr>
        <p:spPr>
          <a:xfrm>
            <a:off x="3483000" y="5551560"/>
            <a:ext cx="77796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0"/>
          <a:stretch/>
        </p:blipFill>
        <p:spPr>
          <a:xfrm>
            <a:off x="8142120" y="473040"/>
            <a:ext cx="633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322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3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4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5" name="Rectangle 48"/>
          <p:cNvSpPr/>
          <p:nvPr/>
        </p:nvSpPr>
        <p:spPr>
          <a:xfrm>
            <a:off x="3112920" y="32162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appspot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reparation 52"/>
          <p:cNvSpPr/>
          <p:nvPr/>
        </p:nvSpPr>
        <p:spPr>
          <a:xfrm>
            <a:off x="3933720" y="4741920"/>
            <a:ext cx="674640" cy="552240"/>
          </a:xfrm>
          <a:prstGeom prst="flowChartPreparation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o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o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0960" y="1029960"/>
            <a:ext cx="893304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oftware systems for accessing easily and transparently scalable CPU/storage/network resources via a network connection or web interface –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-a-servi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Culmination of grid/cluster/utility/elastic compu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Advances in processor, virtualization, systems technolog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access to distributed and shared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as experienced a rapid uptake in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ublic clouds –your software/apps on others’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User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ren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a small fraction of vast resource p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ed service-level-agreements (SLA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s are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aqu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ol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ffer high availability, fault tolerance, and extreme sca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Can 13"/>
          <p:cNvSpPr/>
          <p:nvPr/>
        </p:nvSpPr>
        <p:spPr>
          <a:xfrm>
            <a:off x="5776920" y="1117440"/>
            <a:ext cx="731880" cy="66708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an 14"/>
          <p:cNvSpPr/>
          <p:nvPr/>
        </p:nvSpPr>
        <p:spPr>
          <a:xfrm>
            <a:off x="5932440" y="1273320"/>
            <a:ext cx="730440" cy="6649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stomized platform-as-a-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1114560" y="2978280"/>
            <a:ext cx="6095880" cy="33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2173320" y="4191120"/>
            <a:ext cx="3132000" cy="1876320"/>
          </a:xfrm>
          <a:prstGeom prst="rect">
            <a:avLst/>
          </a:prstGeom>
          <a:gradFill rotWithShape="0">
            <a:gsLst>
              <a:gs pos="0">
                <a:srgbClr val="feb77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d06f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1397160" y="3273480"/>
            <a:ext cx="5376600" cy="720720"/>
          </a:xfrm>
          <a:prstGeom prst="rect">
            <a:avLst/>
          </a:prstGeom>
          <a:gradFill rotWithShape="0">
            <a:gsLst>
              <a:gs pos="0">
                <a:srgbClr val="6cb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cb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AE, HPC, Data Intensive Applica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Can 7"/>
          <p:cNvSpPr/>
          <p:nvPr/>
        </p:nvSpPr>
        <p:spPr>
          <a:xfrm>
            <a:off x="5616720" y="4924440"/>
            <a:ext cx="1198440" cy="1270080"/>
          </a:xfrm>
          <a:prstGeom prst="can">
            <a:avLst>
              <a:gd name="adj" fmla="val 23611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1309680" y="4286160"/>
            <a:ext cx="525600" cy="182412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Can 10"/>
          <p:cNvSpPr/>
          <p:nvPr/>
        </p:nvSpPr>
        <p:spPr>
          <a:xfrm>
            <a:off x="5348160" y="1238400"/>
            <a:ext cx="73044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Can 11"/>
          <p:cNvSpPr/>
          <p:nvPr/>
        </p:nvSpPr>
        <p:spPr>
          <a:xfrm>
            <a:off x="5500800" y="139068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Can 12"/>
          <p:cNvSpPr/>
          <p:nvPr/>
        </p:nvSpPr>
        <p:spPr>
          <a:xfrm>
            <a:off x="5653080" y="1542960"/>
            <a:ext cx="730080" cy="66672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670440" y="1141560"/>
            <a:ext cx="226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ivate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nterpris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ther ap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ublic cloud fabric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reparation 22"/>
          <p:cNvSpPr/>
          <p:nvPr/>
        </p:nvSpPr>
        <p:spPr>
          <a:xfrm>
            <a:off x="2314440" y="4684680"/>
            <a:ext cx="803520" cy="325440"/>
          </a:xfrm>
          <a:prstGeom prst="flowChartPreparation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GP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reparation 23"/>
          <p:cNvSpPr/>
          <p:nvPr/>
        </p:nvSpPr>
        <p:spPr>
          <a:xfrm>
            <a:off x="4361040" y="5108400"/>
            <a:ext cx="888840" cy="395640"/>
          </a:xfrm>
          <a:prstGeom prst="flowChartPreparation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a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educ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reparation 24"/>
          <p:cNvSpPr/>
          <p:nvPr/>
        </p:nvSpPr>
        <p:spPr>
          <a:xfrm>
            <a:off x="2212920" y="5630760"/>
            <a:ext cx="1300320" cy="392040"/>
          </a:xfrm>
          <a:prstGeom prst="flowChartPreparation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llabor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reparation 25"/>
          <p:cNvSpPr/>
          <p:nvPr/>
        </p:nvSpPr>
        <p:spPr>
          <a:xfrm>
            <a:off x="4402080" y="5570640"/>
            <a:ext cx="847800" cy="455400"/>
          </a:xfrm>
          <a:prstGeom prst="flowChartPreparation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Vec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Straight Arrow Connector 33"/>
          <p:cNvCxnSpPr>
            <a:endCxn id="333" idx="1"/>
          </p:cNvCxnSpPr>
          <p:nvPr/>
        </p:nvCxnSpPr>
        <p:spPr>
          <a:xfrm flipH="1">
            <a:off x="6216120" y="3994200"/>
            <a:ext cx="7200" cy="93096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4" name="Preparation 28"/>
          <p:cNvSpPr/>
          <p:nvPr/>
        </p:nvSpPr>
        <p:spPr>
          <a:xfrm>
            <a:off x="4514760" y="4270320"/>
            <a:ext cx="674640" cy="392040"/>
          </a:xfrm>
          <a:prstGeom prst="flowChartPreparation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uth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reparation 29"/>
          <p:cNvSpPr/>
          <p:nvPr/>
        </p:nvSpPr>
        <p:spPr>
          <a:xfrm>
            <a:off x="3294000" y="4416480"/>
            <a:ext cx="755640" cy="296640"/>
          </a:xfrm>
          <a:prstGeom prst="flowChartPreparation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0"/>
          <p:cNvSpPr/>
          <p:nvPr/>
        </p:nvSpPr>
        <p:spPr>
          <a:xfrm rot="16200000">
            <a:off x="813240" y="489528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dministrato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onso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1"/>
          <p:cNvSpPr/>
          <p:nvPr/>
        </p:nvSpPr>
        <p:spPr>
          <a:xfrm>
            <a:off x="5565240" y="54878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ata Stor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827680" y="4286160"/>
            <a:ext cx="816120" cy="355680"/>
          </a:xfrm>
          <a:prstGeom prst="rect">
            <a:avLst/>
          </a:prstGeom>
          <a:solidFill>
            <a:srgbClr val="dbe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34"/>
          <p:cNvSpPr/>
          <p:nvPr/>
        </p:nvSpPr>
        <p:spPr>
          <a:xfrm>
            <a:off x="5824440" y="4219560"/>
            <a:ext cx="8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rotobuf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Data API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Straight Arrow Connector 36"/>
          <p:cNvCxnSpPr/>
          <p:nvPr/>
        </p:nvCxnSpPr>
        <p:spPr>
          <a:xfrm>
            <a:off x="6007680" y="2100240"/>
            <a:ext cx="3960" cy="128664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1" name="Rectangle 15"/>
          <p:cNvSpPr/>
          <p:nvPr/>
        </p:nvSpPr>
        <p:spPr>
          <a:xfrm>
            <a:off x="5573880" y="2463840"/>
            <a:ext cx="888840" cy="272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D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1028880" y="2014560"/>
            <a:ext cx="465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pecialized platform access to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tandard API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atforms for other app domai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0"/>
          <p:cNvSpPr/>
          <p:nvPr/>
        </p:nvSpPr>
        <p:spPr>
          <a:xfrm>
            <a:off x="3219840" y="503712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ervic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reparation 41"/>
          <p:cNvSpPr/>
          <p:nvPr/>
        </p:nvSpPr>
        <p:spPr>
          <a:xfrm>
            <a:off x="2173320" y="5060880"/>
            <a:ext cx="1030320" cy="457200"/>
          </a:xfrm>
          <a:prstGeom prst="flowChartPreparation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trea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reparation 42"/>
          <p:cNvSpPr/>
          <p:nvPr/>
        </p:nvSpPr>
        <p:spPr>
          <a:xfrm>
            <a:off x="3538440" y="5522760"/>
            <a:ext cx="779400" cy="333360"/>
          </a:xfrm>
          <a:prstGeom prst="flowChartPreparation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Tas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Straight Arrow Connector 44"/>
          <p:cNvCxnSpPr/>
          <p:nvPr/>
        </p:nvCxnSpPr>
        <p:spPr>
          <a:xfrm flipH="1">
            <a:off x="1593000" y="3852360"/>
            <a:ext cx="453240" cy="60732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7" name="Straight Arrow Connector 45"/>
          <p:cNvCxnSpPr/>
          <p:nvPr/>
        </p:nvCxnSpPr>
        <p:spPr>
          <a:xfrm flipH="1" flipV="1">
            <a:off x="1719000" y="4709880"/>
            <a:ext cx="567360" cy="3600"/>
          </a:xfrm>
          <a:prstGeom prst="straightConnector1">
            <a:avLst/>
          </a:prstGeom>
          <a:ln w="5076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Straight Arrow Connector 46"/>
          <p:cNvCxnSpPr/>
          <p:nvPr/>
        </p:nvCxnSpPr>
        <p:spPr>
          <a:xfrm>
            <a:off x="3819960" y="3849840"/>
            <a:ext cx="3960" cy="538560"/>
          </a:xfrm>
          <a:prstGeom prst="straightConnector1">
            <a:avLst/>
          </a:prstGeom>
          <a:ln w="5724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59" name="Rectangle 48"/>
          <p:cNvSpPr/>
          <p:nvPr/>
        </p:nvSpPr>
        <p:spPr>
          <a:xfrm>
            <a:off x="3136680" y="3216240"/>
            <a:ext cx="168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yApp.your.url.gov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reparation 52"/>
          <p:cNvSpPr/>
          <p:nvPr/>
        </p:nvSpPr>
        <p:spPr>
          <a:xfrm>
            <a:off x="3879720" y="4629240"/>
            <a:ext cx="827280" cy="450720"/>
          </a:xfrm>
          <a:prstGeom prst="flowChartPreparation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ust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Lib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1"/>
          <a:stretch/>
        </p:blipFill>
        <p:spPr>
          <a:xfrm>
            <a:off x="7550280" y="450720"/>
            <a:ext cx="606240" cy="507960"/>
          </a:xfrm>
          <a:prstGeom prst="rect">
            <a:avLst/>
          </a:prstGeom>
          <a:ln w="0">
            <a:noFill/>
          </a:ln>
        </p:spPr>
      </p:pic>
      <p:sp>
        <p:nvSpPr>
          <p:cNvPr id="362" name="Preparation 38"/>
          <p:cNvSpPr/>
          <p:nvPr/>
        </p:nvSpPr>
        <p:spPr>
          <a:xfrm>
            <a:off x="2227320" y="4289400"/>
            <a:ext cx="1031760" cy="293760"/>
          </a:xfrm>
          <a:prstGeom prst="flowChartPreparation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Messa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and RD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8031240" y="324000"/>
            <a:ext cx="873000" cy="733320"/>
          </a:xfrm>
          <a:prstGeom prst="rect">
            <a:avLst/>
          </a:prstGeom>
          <a:ln w="0">
            <a:noFill/>
          </a:ln>
        </p:spPr>
      </p:pic>
      <p:sp>
        <p:nvSpPr>
          <p:cNvPr id="365" name="Cloud 4"/>
          <p:cNvSpPr/>
          <p:nvPr/>
        </p:nvSpPr>
        <p:spPr>
          <a:xfrm>
            <a:off x="2540160" y="3962520"/>
            <a:ext cx="5029200" cy="2895480"/>
          </a:xfrm>
          <a:prstGeom prst="pie">
            <a:avLst/>
          </a:prstGeom>
          <a:noFill/>
          <a:ln w="9360">
            <a:solidFill>
              <a:srgbClr val="a6e4f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Hexagon 5"/>
          <p:cNvSpPr/>
          <p:nvPr/>
        </p:nvSpPr>
        <p:spPr>
          <a:xfrm>
            <a:off x="3111480" y="4381560"/>
            <a:ext cx="1143000" cy="990720"/>
          </a:xfrm>
          <a:prstGeom prst="hexagon">
            <a:avLst>
              <a:gd name="adj" fmla="val 2499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ctagon 7"/>
          <p:cNvSpPr/>
          <p:nvPr/>
        </p:nvSpPr>
        <p:spPr>
          <a:xfrm>
            <a:off x="5740560" y="5486400"/>
            <a:ext cx="1143000" cy="6858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ctagon 8"/>
          <p:cNvSpPr/>
          <p:nvPr/>
        </p:nvSpPr>
        <p:spPr>
          <a:xfrm>
            <a:off x="5740560" y="5334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ctagon 9"/>
          <p:cNvSpPr/>
          <p:nvPr/>
        </p:nvSpPr>
        <p:spPr>
          <a:xfrm>
            <a:off x="5740560" y="51436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Octagon 10"/>
          <p:cNvSpPr/>
          <p:nvPr/>
        </p:nvSpPr>
        <p:spPr>
          <a:xfrm>
            <a:off x="5740560" y="495288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an 11"/>
          <p:cNvSpPr/>
          <p:nvPr/>
        </p:nvSpPr>
        <p:spPr>
          <a:xfrm>
            <a:off x="5911920" y="4800600"/>
            <a:ext cx="266760" cy="228600"/>
          </a:xfrm>
          <a:prstGeom prst="can">
            <a:avLst>
              <a:gd name="adj" fmla="val 25000"/>
            </a:avLst>
          </a:prstGeom>
          <a:solidFill>
            <a:srgbClr val="dbe9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rapezoid 12"/>
          <p:cNvSpPr/>
          <p:nvPr/>
        </p:nvSpPr>
        <p:spPr>
          <a:xfrm>
            <a:off x="3911760" y="56386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rapezoid 13"/>
          <p:cNvSpPr/>
          <p:nvPr/>
        </p:nvSpPr>
        <p:spPr>
          <a:xfrm>
            <a:off x="3987720" y="5562720"/>
            <a:ext cx="1143000" cy="7617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rapezoid 14"/>
          <p:cNvSpPr/>
          <p:nvPr/>
        </p:nvSpPr>
        <p:spPr>
          <a:xfrm>
            <a:off x="4064040" y="548640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rapezoid 15"/>
          <p:cNvSpPr/>
          <p:nvPr/>
        </p:nvSpPr>
        <p:spPr>
          <a:xfrm>
            <a:off x="4140360" y="5410080"/>
            <a:ext cx="11430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Straight Arrow Connector 16"/>
          <p:cNvCxnSpPr>
            <a:endCxn id="377" idx="2"/>
          </p:cNvCxnSpPr>
          <p:nvPr/>
        </p:nvCxnSpPr>
        <p:spPr>
          <a:xfrm flipV="1">
            <a:off x="4063680" y="4392000"/>
            <a:ext cx="1143720" cy="408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8" name="Straight Arrow Connector 18"/>
          <p:cNvCxnSpPr/>
          <p:nvPr/>
        </p:nvCxnSpPr>
        <p:spPr>
          <a:xfrm>
            <a:off x="4064040" y="5143680"/>
            <a:ext cx="381600" cy="419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9" name="Straight Arrow Connector 19"/>
          <p:cNvCxnSpPr/>
          <p:nvPr/>
        </p:nvCxnSpPr>
        <p:spPr>
          <a:xfrm flipV="1">
            <a:off x="5053680" y="4876200"/>
            <a:ext cx="533880" cy="610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380" name="Straight Arrow Connector 20"/>
          <p:cNvCxnSpPr>
            <a:endCxn id="370" idx="2"/>
          </p:cNvCxnSpPr>
          <p:nvPr/>
        </p:nvCxnSpPr>
        <p:spPr>
          <a:xfrm flipV="1">
            <a:off x="5054400" y="5436360"/>
            <a:ext cx="686520" cy="12636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381" name="Straight Arrow Connector 22"/>
          <p:cNvCxnSpPr/>
          <p:nvPr/>
        </p:nvCxnSpPr>
        <p:spPr>
          <a:xfrm>
            <a:off x="7578360" y="5087520"/>
            <a:ext cx="305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Straight Arrow Connector 23"/>
          <p:cNvCxnSpPr>
            <a:endCxn id="383" idx="1"/>
          </p:cNvCxnSpPr>
          <p:nvPr/>
        </p:nvCxnSpPr>
        <p:spPr>
          <a:xfrm flipV="1">
            <a:off x="7535880" y="5633640"/>
            <a:ext cx="389520" cy="244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84" name="Rectangle 24"/>
          <p:cNvSpPr/>
          <p:nvPr/>
        </p:nvSpPr>
        <p:spPr>
          <a:xfrm>
            <a:off x="254160" y="4361040"/>
            <a:ext cx="1981080" cy="973080"/>
          </a:xfrm>
          <a:prstGeom prst="rect">
            <a:avLst/>
          </a:prstGeom>
          <a:solidFill>
            <a:srgbClr val="a6e4ff"/>
          </a:solidFill>
          <a:ln w="9360">
            <a:solidFill>
              <a:srgbClr val="00999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ppScale Admi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Straight Arrow Connector 25"/>
          <p:cNvCxnSpPr/>
          <p:nvPr/>
        </p:nvCxnSpPr>
        <p:spPr>
          <a:xfrm>
            <a:off x="1929960" y="4878360"/>
            <a:ext cx="129636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6" name="Rectangle 26"/>
          <p:cNvSpPr/>
          <p:nvPr/>
        </p:nvSpPr>
        <p:spPr>
          <a:xfrm>
            <a:off x="254160" y="5524560"/>
            <a:ext cx="19810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Group 47"/>
          <p:cNvGrpSpPr/>
          <p:nvPr/>
        </p:nvGrpSpPr>
        <p:grpSpPr>
          <a:xfrm>
            <a:off x="7578720" y="5954760"/>
            <a:ext cx="1351440" cy="642600"/>
            <a:chOff x="7578720" y="5954760"/>
            <a:chExt cx="1351440" cy="642600"/>
          </a:xfrm>
        </p:grpSpPr>
        <p:cxnSp>
          <p:nvCxnSpPr>
            <p:cNvPr id="388" name="Straight Arrow Connector 21"/>
            <p:cNvCxnSpPr/>
            <p:nvPr/>
          </p:nvCxnSpPr>
          <p:spPr>
            <a:xfrm>
              <a:off x="7578720" y="6157800"/>
              <a:ext cx="305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89" name="Rectangle 46"/>
            <p:cNvSpPr/>
            <p:nvPr/>
          </p:nvSpPr>
          <p:spPr>
            <a:xfrm>
              <a:off x="7877880" y="5954760"/>
              <a:ext cx="105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Scal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ool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Rectangle 47"/>
          <p:cNvSpPr/>
          <p:nvPr/>
        </p:nvSpPr>
        <p:spPr>
          <a:xfrm>
            <a:off x="7924680" y="54500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8"/>
          <p:cNvSpPr/>
          <p:nvPr/>
        </p:nvSpPr>
        <p:spPr>
          <a:xfrm>
            <a:off x="7887600" y="4859280"/>
            <a:ext cx="11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roll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8"/>
          <p:cNvSpPr/>
          <p:nvPr/>
        </p:nvSpPr>
        <p:spPr>
          <a:xfrm>
            <a:off x="3392640" y="4659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L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0"/>
          <p:cNvSpPr/>
          <p:nvPr/>
        </p:nvSpPr>
        <p:spPr>
          <a:xfrm>
            <a:off x="5816520" y="5192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S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61"/>
          <p:cNvSpPr/>
          <p:nvPr/>
        </p:nvSpPr>
        <p:spPr>
          <a:xfrm>
            <a:off x="4302000" y="564984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A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4"/>
          <p:cNvSpPr/>
          <p:nvPr/>
        </p:nvSpPr>
        <p:spPr>
          <a:xfrm>
            <a:off x="330120" y="5600880"/>
            <a:ext cx="198144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5"/>
          <p:cNvSpPr/>
          <p:nvPr/>
        </p:nvSpPr>
        <p:spPr>
          <a:xfrm>
            <a:off x="439560" y="5676840"/>
            <a:ext cx="1903680" cy="647640"/>
          </a:xfrm>
          <a:prstGeom prst="rect">
            <a:avLst/>
          </a:prstGeom>
          <a:solidFill>
            <a:srgbClr val="a6e4ff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E Ap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Straight Arrow Connector 36"/>
          <p:cNvCxnSpPr/>
          <p:nvPr/>
        </p:nvCxnSpPr>
        <p:spPr>
          <a:xfrm flipH="1" flipV="1">
            <a:off x="1929960" y="5828760"/>
            <a:ext cx="2363040" cy="108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397" name="Rectangle 64"/>
          <p:cNvSpPr/>
          <p:nvPr/>
        </p:nvSpPr>
        <p:spPr>
          <a:xfrm>
            <a:off x="2752560" y="376560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mic Sans MS"/>
              </a:rPr>
              <a:t>AppScale Clou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0960" y="1073160"/>
            <a:ext cx="891864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Shared-memory support for co-loca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ahoma"/>
                <a:ea typeface="Tahoma"/>
              </a:rPr>
              <a:t>PaaS-IaaS coordination, adaptation,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mpute/data intensive workloads (HPC, messages, stre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atabase system support for different work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rogrammatic interface and tools for applications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Improve ease of use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499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Oval 41"/>
          <p:cNvSpPr/>
          <p:nvPr/>
        </p:nvSpPr>
        <p:spPr>
          <a:xfrm>
            <a:off x="6470640" y="434016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42"/>
          <p:cNvSpPr/>
          <p:nvPr/>
        </p:nvSpPr>
        <p:spPr>
          <a:xfrm>
            <a:off x="6622920" y="4481640"/>
            <a:ext cx="30492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43"/>
          <p:cNvSpPr/>
          <p:nvPr/>
        </p:nvSpPr>
        <p:spPr>
          <a:xfrm>
            <a:off x="6775560" y="4645080"/>
            <a:ext cx="304560" cy="31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43"/>
          <p:cNvSpPr/>
          <p:nvPr/>
        </p:nvSpPr>
        <p:spPr>
          <a:xfrm>
            <a:off x="7873920" y="3740040"/>
            <a:ext cx="13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Comput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tas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mic Sans MS"/>
              </a:rPr>
              <a:t>(e.g. Map Reduc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45"/>
          <p:cNvSpPr/>
          <p:nvPr/>
        </p:nvSpPr>
        <p:spPr>
          <a:xfrm>
            <a:off x="6927840" y="4786200"/>
            <a:ext cx="304920" cy="31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46"/>
          <p:cNvSpPr/>
          <p:nvPr/>
        </p:nvSpPr>
        <p:spPr>
          <a:xfrm>
            <a:off x="7634160" y="4248000"/>
            <a:ext cx="203400" cy="203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ctagon 6"/>
          <p:cNvSpPr/>
          <p:nvPr/>
        </p:nvSpPr>
        <p:spPr>
          <a:xfrm>
            <a:off x="5207040" y="4191120"/>
            <a:ext cx="1143000" cy="685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59"/>
          <p:cNvSpPr/>
          <p:nvPr/>
        </p:nvSpPr>
        <p:spPr>
          <a:xfrm>
            <a:off x="5283360" y="4343400"/>
            <a:ext cx="11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Comic Sans MS"/>
              </a:rPr>
              <a:t>DB M/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Straight Arrow Connector 17"/>
          <p:cNvCxnSpPr/>
          <p:nvPr/>
        </p:nvCxnSpPr>
        <p:spPr>
          <a:xfrm flipV="1">
            <a:off x="4902120" y="4799880"/>
            <a:ext cx="53424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sca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http://appscale.cs.ucsb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Leads: Chris Bunch, Navraj Choh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 and research team: Jovan Chohan, Nupur Garg, Matt Hubert, Jonathan Kupferman, Puneet Lakhina, Yiming Li, Nagy Mostafa, Yoshihide Nomura (Fujitsu), Michal Weig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Google, IBM Research, National Science Found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Fabrics Allianc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912000" y="1044720"/>
            <a:ext cx="1979640" cy="77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2"/>
          <a:stretch/>
        </p:blipFill>
        <p:spPr>
          <a:xfrm>
            <a:off x="4684680" y="5208480"/>
            <a:ext cx="1511280" cy="11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3"/>
          <a:stretch/>
        </p:blipFill>
        <p:spPr>
          <a:xfrm>
            <a:off x="7972560" y="3584520"/>
            <a:ext cx="550800" cy="54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7027920" y="3605040"/>
            <a:ext cx="633240" cy="501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ypes: as-a-Service (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rastructure: Amazon Web Services (EC2, S3, EB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ized, isolated (CPU, Network, Storage) systems on which users execute entire runtime s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y customer self-ser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n APIs (IaaS standard), scalabl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tform: Google App Engine, Microsoft Az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le program-level abstractions via well-defined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 construction of network-accessibl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-level (sandbox) isolation, complete software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: Salesforce.c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s provided to thin clients over 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iz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cale, performance and resource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Vendor “lock-in”, pay-per-use, and availability rel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Privacy of code and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Resource constraints: storage, CPU/memory, commun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tential for hybrid and customized appro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ne size may not fit 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icult to test / try things out in public-only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ers visualize the system  / have an intellectu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support other application domains: scale/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PC, data-inten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ouds are op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 APIs, closed implement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What is your application/workload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ublic cloud features useful on-prem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ase of use – of local cluster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ment, configuration, deploy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Broaden particip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fficult to test / try things out in public-only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Developers visualize the system  / have an intellectu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ow to support other application domains: scale/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HPC, data-inten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louds are opa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pen APIs, closed implement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spcAft>
                <a:spcPts val="601"/>
              </a:spcAft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What is your application/workload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043720" y="5996160"/>
            <a:ext cx="4972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everyone does their own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200000"/>
              <a:buFont typeface="Wingdings" charset="2"/>
              <a:buChar char="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any non-standard APIs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facilitate investigation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-generation distributed / cloud computing soft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, underlying device technology, support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stomization (availability, performance, application behavi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 cloud solutions (public and on-premise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06f42"/>
                </a:solidFill>
                <a:latin typeface="Tahoma"/>
              </a:rPr>
              <a:t>No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placement technology for any Public Cloud serv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9760" y="323640"/>
            <a:ext cx="8678880" cy="749160"/>
          </a:xfrm>
          <a:prstGeom prst="rect">
            <a:avLst/>
          </a:prstGeom>
          <a:solidFill>
            <a:srgbClr val="d06f42"/>
          </a:solidFill>
          <a:ln w="9360">
            <a:solidFill>
              <a:srgbClr val="d06f4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ud computing fabrics from UCS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5360" y="1114560"/>
            <a:ext cx="867888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ring popular cloud fabrics to “on-premise” clusters that are easy to use and are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emulating key cloud layers from the commercial s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gender user community, access to real applications/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595959"/>
              </a:buClr>
              <a:buSzPct val="200000"/>
              <a:buFont typeface="Lucida Grande"/>
              <a:buChar char="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” APIs  (Amazon AWS, Google App Engine, MapReduc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2401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extant software technolo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form-as-a-service (Pa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n-source implementation of Google App Engine A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uggable (services), scalable, fault tolera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over virtualization or IaaS layer: AWS, Eucalyp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26262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scale.cs.ucsb.ed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spcAft>
                <a:spcPts val="1800"/>
              </a:spcAft>
              <a:buClr>
                <a:srgbClr val="40404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6546960" y="3544920"/>
            <a:ext cx="18842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02:49Z</dcterms:created>
  <dc:creator/>
  <dc:description/>
  <dc:language>en-US</dc:language>
  <cp:lastModifiedBy>Chandra Krintz</cp:lastModifiedBy>
  <cp:lastPrinted>2010-03-12T17:05:18Z</cp:lastPrinted>
  <dcterms:modified xsi:type="dcterms:W3CDTF">2010-03-15T18:18:34Z</dcterms:modified>
  <cp:revision>461</cp:revision>
  <dc:subject/>
  <dc:title>Exploiting Phase Behavior for Efficient Program Sampling and VEE Specialization</dc:title>
</cp:coreProperties>
</file>