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7B41E-8539-447D-8B6E-14F53DB36F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B1B39E-32D1-4D27-9DBA-DBC29C81A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or to Data Fabric RDMA Opra required 24 cores. With DF RDMA requires 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8AEF6-664C-491E-8635-5FA8D61D7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364D5-FCB7-4DF1-A24B-AA3699EC9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ket data moves from exchange to participants including banks, hedge funds, and market mak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ipants send trades to the excah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CB4FA9-5D91-4AC5-8C94-641F160BF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YSE Technologies is the world’s leading provider of end-to-end electronic trading solu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d hosted infra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 life cyc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er or trading application receives market data (through Data Fabric through superfeed or colocated F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s orderby sending message to MA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 process message and forwards to matching eng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ching engine executes order generating and publishes trade as market da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saging Central to entire exchange busi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10BA5-3BCA-4652-96E7-E680A889B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ed platform for enterprise ticker plants, high frequency trading, co-location and other performance oriented ap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cally improved latency over earlier ticker plant techno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stically reduced server footprint means lower cost and complex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on ultra low latency Data Fabric; supports LDMA, RDMA (10 GigE or Infiniband) and other transport o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geted for high volume and latency sensitive mar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77D30-18E8-4E2A-9F2C-121BEB6D8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performance messaging needed to keep up with these r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CP solutions are not sufficient. Too much CPU overhea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3A17F-DAD0-40C9-8568-90AF461BC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Data Fabric is primarily deployed as a market data delivery platform, it is a full featured messaging middlew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D0FA5-F30E-4C02-BA65-313C385040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242-24DE-4456-8238-FB7FDE91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301-FEC9-4F4D-85BD-FD94FBD8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1CC1-6603-4FDB-A0F9-ABF0B274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93DF-B7C3-41EC-9E5A-D409C56A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ECF3-97C7-471E-9249-048D9A81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A87B-020F-4B43-9E88-0F48FF74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E711-DE20-4CD0-8948-1827818E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B215-D04D-439C-BD9A-B3C9706E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C48D-E31A-4832-BC8C-ABA34CFC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6E98-5298-4300-B3F6-A118CB70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615B-F8DC-41C1-87A5-00D87CEC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EA6D-49D0-4D6F-B105-DA7D8160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25EE-4F5F-4781-BB25-F2D16C4E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80CF-B021-487D-BE87-09BDD32F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EE32-B9C0-4707-AE03-2980B2E2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D519-5C88-4CB4-BDDE-980DB177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164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0F85-29D0-44BA-A6F2-97C9A0BD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5376-3C16-48D2-9555-30CA310B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60BA-F804-4079-B520-9D433316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90C5-0340-4709-A889-8FDB52BE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53F-A197-4C1A-960F-1F4C42AA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D39B-75C5-467D-A061-90EC05DA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D77-18D9-412A-ACC8-C354C471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1640"/>
            <a:ext cx="40158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6A34-75BF-4CD8-BB8C-38C06B92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55DDEF-5246-4C50-8E07-2D871F7CEF6D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568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CE1E9-F148-4702-B8D4-D596BD1B71F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4" descr="nyse_tech_sm_4cp"/>
          <p:cNvPicPr/>
          <p:nvPr/>
        </p:nvPicPr>
        <p:blipFill>
          <a:blip r:embed="rId4"/>
          <a:stretch/>
        </p:blipFill>
        <p:spPr>
          <a:xfrm>
            <a:off x="6999120" y="6127920"/>
            <a:ext cx="200376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ribbon_small_rgb.jpg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508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OpenFabric_Alliance_Logo_ppt.jpg"/>
          <p:cNvPicPr/>
          <p:nvPr/>
        </p:nvPicPr>
        <p:blipFill>
          <a:blip r:embed="rId3"/>
          <a:stretch/>
        </p:blipFill>
        <p:spPr>
          <a:xfrm>
            <a:off x="8001000" y="228600"/>
            <a:ext cx="1104840" cy="1104840"/>
          </a:xfrm>
          <a:prstGeom prst="rect">
            <a:avLst/>
          </a:prstGeom>
          <a:ln w="0">
            <a:noFill/>
          </a:ln>
        </p:spPr>
      </p:pic>
      <p:sp>
        <p:nvSpPr>
          <p:cNvPr id="49" name="Straight Connector 20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12600">
            <a:solidFill>
              <a:srgbClr val="e553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4" descr="nyse_tech_sm_4cp"/>
          <p:cNvPicPr/>
          <p:nvPr/>
        </p:nvPicPr>
        <p:blipFill>
          <a:blip r:embed="rId4"/>
          <a:stretch/>
        </p:blipFill>
        <p:spPr>
          <a:xfrm>
            <a:off x="6999120" y="6127920"/>
            <a:ext cx="2003760" cy="3650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"/>
          <p:cNvSpPr/>
          <p:nvPr/>
        </p:nvSpPr>
        <p:spPr>
          <a:xfrm>
            <a:off x="0" y="6492960"/>
            <a:ext cx="9144000" cy="212760"/>
          </a:xfrm>
          <a:prstGeom prst="rect">
            <a:avLst/>
          </a:prstGeom>
          <a:solidFill>
            <a:srgbClr val="e5530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ribbon_ppt_title.jpg"/>
          <p:cNvPicPr/>
          <p:nvPr/>
        </p:nvPicPr>
        <p:blipFill>
          <a:blip r:embed="rId5"/>
          <a:srcRect l="0" t="5783" r="0" b="0"/>
          <a:stretch/>
        </p:blipFill>
        <p:spPr>
          <a:xfrm>
            <a:off x="0" y="0"/>
            <a:ext cx="9144000" cy="2481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OpenFabric_Alliance_Logo_ppt.jpg"/>
          <p:cNvPicPr/>
          <p:nvPr/>
        </p:nvPicPr>
        <p:blipFill>
          <a:blip r:embed="rId6"/>
          <a:stretch/>
        </p:blipFill>
        <p:spPr>
          <a:xfrm>
            <a:off x="380880" y="23241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57913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5B11B-0F98-441D-AF81-F5CD063E2BB4}" type="datetime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5CD32-833E-4C38-9A58-86C9FAF9502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yse.com/technologies" TargetMode="External"/><Relationship Id="rId2" Type="http://schemas.openxmlformats.org/officeDocument/2006/relationships/hyperlink" Target="mailto:mschonberg@nyx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2666520"/>
            <a:ext cx="66294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High Throughput </a:t>
            </a:r>
            <a:br>
              <a:rPr sz="4000"/>
            </a:b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Application Messaging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040" y="4267080"/>
            <a:ext cx="6629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6d6e71"/>
                </a:solidFill>
                <a:latin typeface="Arial"/>
              </a:rPr>
              <a:t>NYSE Technologies Data Fabric: Enterprise High Performance Mess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3808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309C7-A5BB-405B-B8F8-701505405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057400" y="5297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ichael Schon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d6e71"/>
                </a:solidFill>
                <a:latin typeface="Calibri"/>
              </a:rPr>
              <a:t>March 15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195"/>
                </a:solidFill>
                <a:latin typeface="Arial"/>
              </a:rPr>
              <a:t>Data Fabric</a:t>
            </a:r>
            <a:endParaRPr b="0" lang="en-US" sz="2000" spc="-1" strike="noStrike">
              <a:solidFill>
                <a:srgbClr val="005195"/>
              </a:solidFill>
              <a:latin typeface="Arial"/>
            </a:endParaRPr>
          </a:p>
        </p:txBody>
      </p:sp>
      <p:pic>
        <p:nvPicPr>
          <p:cNvPr id="145" name="Content Placeholder 12" descr="df.png"/>
          <p:cNvPicPr/>
          <p:nvPr/>
        </p:nvPicPr>
        <p:blipFill>
          <a:blip r:embed="rId1"/>
          <a:srcRect l="0" t="-32695" r="0" b="-32695"/>
          <a:stretch/>
        </p:blipFill>
        <p:spPr>
          <a:xfrm>
            <a:off x="3575160" y="27288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abric T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1 GigE and fan-out to less latency sensitive app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abric LD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shared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-low latency between applications on a single mach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abric RD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digit microsecond latency between mach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GigE and Infini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A2994-DE34-458F-B662-AEB91DDE9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Data Fabric RDMA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lem With S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to kernel context switches and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 sp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 retrans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mise of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by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by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-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 connection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CED2C-72E5-40FF-89EC-51CDFAA8A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Data Fabric RDMA 2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With R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ppre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foot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and cost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EC4AE-C175-45E9-ABB7-2DAEE4461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195"/>
                </a:solidFill>
                <a:latin typeface="Arial"/>
              </a:rPr>
              <a:t>Transport Latency Comparison</a:t>
            </a:r>
            <a:r>
              <a:rPr b="1" lang="en-US" sz="2000" spc="-1" strike="noStrike">
                <a:solidFill>
                  <a:srgbClr val="005195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publisher, 1 subscriber, 1 Million 200 byte messages/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924C8-B621-4A4E-B9A5-6FEAC2736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Placeholder 8" descr=""/>
          <p:cNvPicPr/>
          <p:nvPr/>
        </p:nvPicPr>
        <p:blipFill>
          <a:blip r:embed="rId1"/>
          <a:stretch/>
        </p:blipFill>
        <p:spPr>
          <a:xfrm>
            <a:off x="1785960" y="609480"/>
            <a:ext cx="549900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Q&amp;A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nyse.com/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mschonberg@nyx.com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69B8A-9420-48A1-9201-50B2A9095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erformance Messaging in Financ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SE Technologies’ Messaging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Fabric: A closer look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Fabric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335425-6443-4A05-8CB7-9F0C1D76F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195"/>
                </a:solidFill>
                <a:latin typeface="Arial"/>
              </a:rPr>
              <a:t>Market Data Flow</a:t>
            </a:r>
            <a:endParaRPr b="0" lang="en-US" sz="2000" spc="-1" strike="noStrike">
              <a:solidFill>
                <a:srgbClr val="005195"/>
              </a:solidFill>
              <a:latin typeface="Arial"/>
            </a:endParaRPr>
          </a:p>
        </p:txBody>
      </p:sp>
      <p:pic>
        <p:nvPicPr>
          <p:cNvPr id="112" name="Picture Placeholder 45" descr="basic dataflow.png"/>
          <p:cNvPicPr/>
          <p:nvPr/>
        </p:nvPicPr>
        <p:blipFill>
          <a:blip r:embed="rId1"/>
          <a:srcRect l="0" t="-10771" r="0" b="-1077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path between participants and ex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19F33-4F54-4EC2-B2BB-F12392746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Market Data Messaging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receive messages from exchan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s, quotes, updates, new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from multiple ex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send requests as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s, canc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processes the requ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s passing through the exchange using mess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 generate market data messages that get sent to the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9527C-F5F9-48F9-9268-66AFAB980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195"/>
                </a:solidFill>
                <a:latin typeface="Arial"/>
              </a:rPr>
              <a:t>Data Fabric in the Exchange</a:t>
            </a:r>
            <a:endParaRPr b="0" lang="en-US" sz="2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entral role of messaging in exchange 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C0018C-6C9D-432D-BBE5-13D0C355B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27501" t="26741" r="26875" b="11540"/>
          <a:stretch/>
        </p:blipFill>
        <p:spPr>
          <a:xfrm>
            <a:off x="1828800" y="22860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195"/>
                </a:solidFill>
                <a:latin typeface="Arial"/>
              </a:rPr>
              <a:t>Messaging in the Market Data Enterprise</a:t>
            </a:r>
            <a:endParaRPr b="0" lang="en-US" sz="2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cally improved lat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volume/through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uced server foot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DE0BF4-B9AA-4A57-B0B0-D48FD82DD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9" descr="V5_20090127"/>
          <p:cNvPicPr/>
          <p:nvPr/>
        </p:nvPicPr>
        <p:blipFill>
          <a:blip r:embed="rId1"/>
          <a:srcRect l="13572" t="0" r="3302" b="0"/>
          <a:stretch/>
        </p:blipFill>
        <p:spPr>
          <a:xfrm>
            <a:off x="1676520" y="453960"/>
            <a:ext cx="583092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195"/>
                </a:solidFill>
                <a:latin typeface="Arial"/>
              </a:rPr>
              <a:t>Projected Opra 1 Second Peak Rates</a:t>
            </a:r>
            <a:endParaRPr b="0" lang="en-US" sz="2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ra rates projected to increase 34% over next 6 months and 85% over the next y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54115E-A2EF-41F3-9371-929BB0EB5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"/>
          <p:cNvPicPr/>
          <p:nvPr/>
        </p:nvPicPr>
        <p:blipFill>
          <a:blip r:embed="rId1"/>
          <a:stretch/>
        </p:blipFill>
        <p:spPr>
          <a:xfrm>
            <a:off x="0" y="419040"/>
            <a:ext cx="78994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5195"/>
                </a:solidFill>
                <a:latin typeface="Arial"/>
              </a:rPr>
              <a:t>Other Applications</a:t>
            </a:r>
            <a:endParaRPr b="0" lang="en-US" sz="4000" spc="-1" strike="noStrike">
              <a:solidFill>
                <a:srgbClr val="005195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1640"/>
            <a:ext cx="822960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messaging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/subsc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/r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 in many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s and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P and other enterpris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8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5BF7A-FBFE-4D32-B571-D31A03A7D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29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38095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5195"/>
                </a:solidFill>
                <a:latin typeface="Arial"/>
              </a:rPr>
              <a:t>Middleware Agnostic Messaging API (MAMA)</a:t>
            </a:r>
            <a:endParaRPr b="0" lang="en-US" sz="2000" spc="-1" strike="noStrike">
              <a:solidFill>
                <a:srgbClr val="005195"/>
              </a:solidFill>
              <a:latin typeface="Arial"/>
            </a:endParaRPr>
          </a:p>
        </p:txBody>
      </p:sp>
      <p:pic>
        <p:nvPicPr>
          <p:cNvPr id="140" name="Picture Placeholder 9" descr="mama.png"/>
          <p:cNvPicPr/>
          <p:nvPr/>
        </p:nvPicPr>
        <p:blipFill>
          <a:blip r:embed="rId1"/>
          <a:srcRect l="-767" t="0" r="-767" b="0"/>
          <a:stretch/>
        </p:blipFill>
        <p:spPr>
          <a:xfrm>
            <a:off x="2401920" y="457200"/>
            <a:ext cx="4151160" cy="3112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00200" y="4190760"/>
            <a:ext cx="5867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 general purpose messaging 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imultaneous middleware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ion without the c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 high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second LDMA latency and ultra low RDMA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s vendor lock-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I adheres to well known idioms and conven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4572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ww.openfabric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27251-5AD2-4B24-9DB9-F1EF18E8B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02:33:10Z</dcterms:created>
  <dc:creator>apple admin</dc:creator>
  <dc:description/>
  <dc:language>en-US</dc:language>
  <cp:lastModifiedBy>Michael Schonberg</cp:lastModifiedBy>
  <dcterms:modified xsi:type="dcterms:W3CDTF">2010-03-15T15:34:30Z</dcterms:modified>
  <cp:revision>27</cp:revision>
  <dc:subject/>
  <dc:title>Slide 1</dc:title>
</cp:coreProperties>
</file>