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34C-CE88-4E7F-9E9C-205444B3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75E-5D7A-4C8C-AB18-0CA00EB3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1A9-798F-4F58-8C5B-1917C1AE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F22-DE52-456B-BF67-513B9F8F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DDF8-7A21-4DE4-9CD0-1B2BFE5E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89E3-130E-4C11-9C93-2E68570D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098C-3C22-4A2A-968E-CFC5D236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BAFA-151E-447B-BA9B-6DE90F50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8DF8-06F0-4FFC-BC10-E9A93105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B9B1-9B78-4CC6-87D7-2406DF36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8558-B6FB-49BF-970E-932B748C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3F3-AF80-4556-A122-1B79ABC9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A192-AB9F-4B1B-968F-498A4755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3457-1EB2-4FA6-AD45-2270E0E4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5E8F-9D06-476C-8DB6-9324B9E0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1B16-B7A1-49A6-AF11-08A48F13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C2F1-826A-43A7-A793-594935C5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CBD-9D0C-47D8-8DA1-7E112C43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CBA-CFE9-4C89-8692-F05FF46A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3E8-4BE6-400A-8E39-9BDBF6E5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D1C-0555-4EB2-81D1-34812815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E27-7A41-4615-9A14-419230B7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6EF-C9A7-4FFD-9B94-0A5EF572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2C4-4972-435A-9E71-E4C34A64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24A8E-972E-4471-9E02-C4D6B0176220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D45A1-11A4-41CE-BBCF-8EB2FB93FC9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A7395-AE16-49E4-8062-8F1403A2A678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81A37-9B6E-4A8D-9D3E-291E9438AB3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ppro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Integrated Next Generation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Always Available, Always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A22C5-A589-4232-904E-679F1108C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Dr. David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16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uster Integration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integrated into current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trem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manage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IB for key topolog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 segrega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calabl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8434B-C38A-478D-98B5-0741F3084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uture Challeng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multi-cor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in queue efficiency with mor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larger queues with higher IB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low power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ptions for power usage vs bandwidth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9002C-A579-4059-8ABD-3A37D7191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wtr</cp:lastModifiedBy>
  <dcterms:modified xsi:type="dcterms:W3CDTF">2010-03-15T16:03:01Z</dcterms:modified>
  <cp:revision>27</cp:revision>
  <dc:subject/>
  <dc:title>Slide 1</dc:title>
</cp:coreProperties>
</file>