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73F-1812-402B-AAF1-D57436CA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739-278B-4AD2-A851-2875CBB6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19B-74D3-470F-A4C9-20591525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049-79AA-49A8-8BAF-94455522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DB20-51E4-4BA0-9C16-5E97BD7D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3EFA-03BD-40FD-83AC-C2523BBB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962C-8514-4628-8103-279054D7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23FF-201C-4D60-A22C-ECB30277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AAEB-6620-433D-B99B-F376D6A8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5213-8FD9-4B9B-B17A-A4F46B3B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F221-112C-4643-B111-DE18BD59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2F0-313B-4261-8B24-7AE792E2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DC26-3BF1-47D0-A516-2D0EE6C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0C6B-1369-4A40-8E49-936BF67D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D6EA-4D97-4698-826B-63164E2C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61C6-D937-4EFC-B919-F4793A9B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BDFF-C43A-4680-A845-188FFA1C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115-BE50-45D3-8683-90572000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EE0-5C41-48D2-80A9-77F63085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72E-2952-4BA6-B266-85EA7EBE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FDA-DA42-4A62-BC78-83C4B99F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57B-EFF8-408A-A209-4382E336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DBD-A16A-4851-97AD-CB96E716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9C0-9CE5-44EF-BDF5-1B2D315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EC0EB-8894-42C4-92DB-FEE3C1EAE194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7C099-CB94-4F59-B11B-C0669DCF908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D45A2-ABE8-40A8-A4C7-BFCCD679EDD9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344E0-A18A-4BDA-9BF3-9125716B32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666520"/>
            <a:ext cx="70866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BM and OpenFabrics Allianc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OEM Server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B4A3F-C7C1-43CB-A56C-8146DA270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Brad Be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59984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’s use of OpenFabrics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030F2-CB42-4027-95A9-E49E4F845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5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CD045-01E7-4CEA-B8EC-21B039B79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1840" y="4495680"/>
            <a:ext cx="1825560" cy="143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0306viralcomputer_b"/>
          <p:cNvPicPr/>
          <p:nvPr/>
        </p:nvPicPr>
        <p:blipFill>
          <a:blip r:embed="rId2"/>
          <a:stretch/>
        </p:blipFill>
        <p:spPr>
          <a:xfrm>
            <a:off x="76320" y="1601640"/>
            <a:ext cx="1218960" cy="1202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6960" y="529128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/Analy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61360" y="3011400"/>
            <a:ext cx="29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tif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erformance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7" descr="corel084"/>
          <p:cNvPicPr/>
          <p:nvPr/>
        </p:nvPicPr>
        <p:blipFill>
          <a:blip r:embed="rId3"/>
          <a:stretch/>
        </p:blipFill>
        <p:spPr>
          <a:xfrm>
            <a:off x="1444680" y="1601640"/>
            <a:ext cx="1066680" cy="1175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78520" y="1735200"/>
            <a:ext cx="1808280" cy="2135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08000" y="2135160"/>
            <a:ext cx="22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cente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See full size image"/>
          <p:cNvPicPr/>
          <p:nvPr/>
        </p:nvPicPr>
        <p:blipFill>
          <a:blip r:embed="rId5"/>
          <a:stretch/>
        </p:blipFill>
        <p:spPr>
          <a:xfrm>
            <a:off x="6553080" y="4678200"/>
            <a:ext cx="2357640" cy="1397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073760" y="467820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F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integrates OFA components into both AIX and Linux product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nux, we rely on major Linux distros (Red Hat, Novell) to package, test and support OFA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E623E-449C-40E0-BC33-9193C19F2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RoC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, uD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(IBM MPI, Open MPI, MVAP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852C8-ADA6-42C8-A0BF-907D1FB5C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erformance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Dat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nvironment (IBM MPI, LoadLeve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pure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47CA3-4BF5-46F8-A407-A0745B041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InfiniBand fabric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re 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ation can be hard to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s can be hard to isol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knowledge at Verbs and uDAPL-leve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good examp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good tutorials, how-t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p 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63133-185C-437B-B2E3-6131F6F92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is moving beyond the HPC field and into the Enterprise Data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is using multiple OFA-developed technologies in an increasing range of products &amp;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bserv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63DB7-2988-4364-9DDA-CE5115277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self</cp:lastModifiedBy>
  <dcterms:modified xsi:type="dcterms:W3CDTF">2010-03-15T15:42:05Z</dcterms:modified>
  <cp:revision>32</cp:revision>
  <dc:subject/>
  <dc:title>Slide 1</dc:title>
</cp:coreProperties>
</file>