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051DC-C503-4006-A965-46299618B3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BFA2E-2330-4508-8574-715C7A806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C421DAD-D894-44A3-8FC8-491ED3557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35F6EB-31B3-40CD-8425-0E3E4C915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36949E-52A7-4EE4-8970-0B5E4E0FD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980998E-2A9D-480E-AEFA-99FDD0DFA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727FD98-6380-4681-A045-6C9487D99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0BF1864-3014-4819-A07D-EBC67F19E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2EAE1F-9442-483B-8B26-E4C6B8141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1755A-97D7-49FB-BC57-445A3CDE5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400-3492-4754-A4F7-C62044B9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64B-3DB5-4598-A475-A6EFA5B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DC7-7BFB-450E-93FA-B1D19E09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628-E98E-4F1C-AD68-89F24D51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78A3-EB25-4FDE-A48B-73B15626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730A-B45F-4F76-BD89-E0A30E7B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7C73-B692-4C89-A5B7-58806DBA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E7CF-5DD5-42CA-88A0-2FDA7D40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13E-EFAB-4D72-B24B-E5D1B211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E7FD-8989-4C93-B216-839157F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C4E7-FE09-472D-9EB4-66EFE366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708-6F39-42F1-9AC2-F90D185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8B9-E18F-4CF3-9675-BDC87323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B2E-744C-4A90-83A3-B09333B5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AB65-FCAA-4682-B61D-0F07BE98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4D45-E6BA-4354-BB1A-21CDC469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062A-46F2-4071-AA51-4DD7B5EB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B35-8037-46DC-878C-9AFA2DF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E54-152F-4C2A-91C8-F5CFA23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5AA-0682-4E19-B6F2-81CBFBB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AA2-47FA-4CFD-A4FB-A1331BA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135-7E9B-4F2D-932B-DB987773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724-A877-408B-BBEC-9210F868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D89-CB41-4D6E-87AF-7B0CA65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856A5-C3D5-44B1-B263-6D92FAB024C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769DC-9B5A-4F6D-B997-F20ADE29C9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00928-79CE-442F-8A7B-A685EBB6123A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9B8D6-F2D6-49C0-A1E0-AF9991A7EA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erver OEM Panel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5EA7C-D6A6-47AE-88A2-7FC543EA7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Bob Souza, HP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5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7400" y="44956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OFA Sonoma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ual Tal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use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Performanc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ig to small. Mostly Linux. Multiple kernels, distributions, interconnect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use in HP-UX (SRP, 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I market data,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(HP SFSg3, X9000 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ne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-specific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ast Year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bE on mother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, flat 10 Gb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E/DCB en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d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E RDMA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DMA Choic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RDMA ecosystem -  customer cho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E,  aka ((IBx?)|R|RDMA)o(CE)?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the performance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Nurturing the RDMA Ecosystem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C becoming main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s,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1 GbE community to 10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50% of TOP500 on 1G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i polloi who get 10GbE LOM for ‘free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10 GbE performance data helps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Nurturing the RDMA Ecosystem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ing C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’s Important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large fabrics can be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-tree alternatives for cost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ned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’s important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customer interactions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de downstream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‘just wor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02C78-F2DD-4BCE-A737-4EE69CA05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Souza, Bob</cp:lastModifiedBy>
  <dcterms:modified xsi:type="dcterms:W3CDTF">2010-03-12T22:30:03Z</dcterms:modified>
  <cp:revision>20</cp:revision>
  <dc:subject/>
  <dc:title>Slide 1</dc:title>
</cp:coreProperties>
</file>