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864-CD7A-4B2B-AFC8-031B0AC5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225-BAB7-42DB-99C3-7FB4556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51F-76D1-4D93-9F0E-6DCBC1B9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DF2-9F98-4BAF-A47B-D043491E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D732-E671-45C1-ADD9-7C1B04B4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B89-AE92-4570-8D1B-816868FD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3001-8805-4103-8244-C7B4F778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DC71-BEE9-487E-97FE-5C513281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20A6-D76A-4BA5-8969-39A3DCFF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FAD3-BBCF-4DF5-BB70-AE0EC50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F540-CEE6-4CAF-A25B-7648480C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2F7-E921-4E6D-AF42-A0E9AEC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8230-F6AA-44F0-B1D9-FC30506A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8566-5E80-4B68-B62F-058AB13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0458-55C8-4904-958E-0EB02F18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759D-9B28-403C-A663-8EA57E42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5CA4-ADF2-4B6C-BCD6-060CAB8F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D9C-2F74-4890-A1BC-BECA2CF1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D07-FDE8-4F98-8EF0-198FB82B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AA4-75AD-4356-A701-3144E25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7BE-CBEB-4F12-AD58-57F4520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974-5EF0-4651-B228-7A7F71B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309-C5A9-43F5-8E60-57C3128F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6B9-2487-4D0D-9325-F5B82A5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A8E96-C94F-4C5D-BF5F-5CD753A64455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184E6-71F5-4D18-BEE2-58F4E47028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EF390-C15B-493B-A9E9-9402341077FE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3C759-4100-400E-9409-4DC747A8F7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thernetalliance.org/files/static_page_files/281AD8C4-1D09-3519-AD7AD835AD525E36/SC09 white paper.pd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g7ZebT_BbA&amp;feature=player_embedded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WARP Market Updat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EA326-84C1-439C-888F-32985DC94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avid Fair,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Chair, Ethernet Alliance iWARP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7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arket Trends Favorable To RDMA Over Etherne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904760"/>
            <a:ext cx="8686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tic decline in the cost of 10GbE, enabling, for example, 10GbE 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e of dense, cost-effective 10Gb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traction with the vision of “Unified Fabri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B showed Ethernet could supply the QoS required for F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B8406-F64C-4FFD-B5C4-03E4675B8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thernet Alliance Engages To Support iWARP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v09, the Ethernet Alliance formed an iWARP Working Group as part of the Ethernet-in-the-Datacenter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ing companies Broadcom, Chelsio Communication, Cisco, Intel, and Q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d by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Alliance showed iWARP in its Super Computing ‘09 b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“Ethernet: THE Converged Network”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thernetalliance.org/files/static_page_files/281AD8C4-1D09-3519-AD7AD835AD525E36/SC09%20white%20paper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E9CC3-5890-477B-BF99-7F0B5EEEA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dfair\My Documents\Graphics &amp; Images\Logos\EA Logos\ea-logo-3a.gif"/>
          <p:cNvPicPr/>
          <p:nvPr/>
        </p:nvPicPr>
        <p:blipFill>
          <a:blip r:embed="rId2"/>
          <a:stretch/>
        </p:blipFill>
        <p:spPr>
          <a:xfrm>
            <a:off x="6985080" y="2664000"/>
            <a:ext cx="1879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thernet Alliance iWARP Activiti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 iWARP Working Group is currently developing an educational video showing end-user value, explaining iWARP, and describing the maturity of its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 iWARP WG will continue to focus on market development but could also become a forum for developing proposed advancements to IETF’s iWARP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84DAA-DB98-414D-A3E9-C3E3C0DAD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ecent Notable iWARP Deployments And Development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SE market data system video “SC09: Data Distribution at iWARP Speed”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youtube.com/watch?v=Pg7ZebT_BbA&amp;feature=player_embed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dical research application described by Tom Stachura prior to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due University installation described in Chelsio’s flyer in the 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Research contributes “soft iWARP” to 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5441A-1077-4327-9449-10DF8D7FB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dditional Applications Deploying iWARP Toda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49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l &amp;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oir simulation and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smic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uto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al Fluid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sh Simulation, Pam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ata Feed (M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F2D5B-D5CD-4C3A-8954-C9A4016B9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dfair</cp:lastModifiedBy>
  <dcterms:modified xsi:type="dcterms:W3CDTF">2010-03-17T15:51:50Z</dcterms:modified>
  <cp:revision>48</cp:revision>
  <dc:subject/>
  <dc:title>Slide 1</dc:title>
</cp:coreProperties>
</file>