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F9C-4FE4-4DD5-ADED-E4DDFB7F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FA1-11A6-4510-8055-295EB1C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742-5A7A-450A-B129-138B8B3B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D25-FEA9-4854-B8B7-7B96727F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8F68-87B1-4B54-AD51-0940996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310A-ED4E-4DC9-A4E7-9976551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50B-6C8C-4EF9-8F99-10D9FA4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8F8-FF2B-45DD-A131-BA6182EC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9F8-D07D-46D4-B7A5-68F71A6F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1CE-F8B2-4785-96CA-1A10575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16D-EFCD-481A-8B62-97A4508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2A4-27BE-4D33-8D11-48B7CA2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D36-467E-4D61-9BEA-00892B1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5091-20C5-475B-B232-D5B52E3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4A6A-AE84-4C6E-B485-3BAB53B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57CF-E5EC-4DE9-89EC-464A6274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202-FBAC-4C20-8397-40C67127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26D-C264-4E7F-8E51-B779174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B75-A400-4C43-8103-7AEE248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862-0037-47AD-AA2D-9CB3DA3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CA8-9C31-4AFF-96E9-21927FD3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CC4-7931-465B-BE21-3527D58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8C0-C830-4038-9EDF-622596F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774-7331-40BC-85F7-EBE3E53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22D34-65F2-403C-9762-8F6EE584B79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C1B75-FF0A-4275-95AE-EE3C76FFB1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756C4-85D4-43FF-8247-9082C2CDE26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49DF5-BF64-448A-A136-D3F1C781A7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ILG Funding Updat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pen Fabrics Interoperability Funding Proposal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E3C37-B78E-4998-A7C8-03485AF09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Author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Rupert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te: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3/16/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- 2010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embership renewal fo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io, Flextronics, Intel, LSI, Mellanox, Obsidian, QLogic and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LG Membership fu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embers at $14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1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requested for the OFILG Program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UNH-IOL request - $16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UNH-IOL proposal - $12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 to the OFA Board of Dir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A IWG is requesting that the OFA fund the shortfall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0K - $112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457B6-B13D-497C-AD77-F8F99F78D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– 2010 - continued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to be provided with updated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mplete Interop Validat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terop Debug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GA Logo Validation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availability 90 days surrounding eac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test development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for Windows will be reviewed independently with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is program is very important and will act in such a way the program evolves to reflect thei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13386-AA5E-4095-BD55-B35429E0B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2 - 2011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9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commits to the importance of the program and finding some sort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I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OFILP model that encourages greater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vendors to develop a program to test OFED for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M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value of the Log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OFA IWG to increase membership in OFI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X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embership structure and consider increa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trademarks to increase general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OFED software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75EEA-DE9D-4B94-BE17-68DD28337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upert Dance</cp:lastModifiedBy>
  <dcterms:modified xsi:type="dcterms:W3CDTF">2010-03-16T23:58:11Z</dcterms:modified>
  <cp:revision>30</cp:revision>
  <dc:subject/>
  <dc:title>Slide 1</dc:title>
</cp:coreProperties>
</file>