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CF326-2E0F-4F00-844B-79FCD225A1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54EA1-62FD-4EE3-83C8-59423390E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b makes software wonks joke: “speak for yoursel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24AFE-B5CC-4BB3-ABDF-D03D44090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E291D-3425-4485-B5FF-432E81EEC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D999-9CA9-4E4D-9452-C02DD64D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84B2-360D-4632-A56D-194E5636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A2F-1C7A-4678-BEF9-362BD9C5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8AF-E43D-4D20-B2C5-26628F12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C015-CF33-4BBF-ADB0-32661568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C5B7-2106-4779-9948-9D014464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C891-6D87-448E-87C0-95C3DC67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B34E-F434-46A7-87D0-C074D918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DCA0-2C7B-4BCA-88AF-E3B81159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B5A2-0489-4F7C-8DED-CE029DD4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D84F-6F85-47E5-8C01-3E2CA327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9E2F-77FD-4906-9D6B-6B60F509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1E17-6A9C-4DBA-B800-895B741D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FC2E-13B7-4D31-AC8C-7C245F2D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C1A0-E187-48F0-91E7-C4E3AC47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758F-D67E-404B-8D01-48AD51E1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7F54-63CC-4E66-AC2D-764F2876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8C01-776A-4DE7-A375-03CAC944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9F5-F381-4196-BE1B-E493C110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526F-5BB9-4F39-A7FB-7885428B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E38-3B82-47A6-B510-22812B21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092-9C41-4E41-A095-6D1E02DE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EA13-9822-4CF0-AD1A-15D91FB9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FB49-E02C-451E-9162-749E8CD8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5D709-D4F4-4687-A94C-EE7233F40137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EAA20-8CC5-41BF-9D0B-9303633B017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87DFE-72DE-40FC-AE13-CCA5435ECF6B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DF59B-D619-44E2-BDA5-78A9DB9D140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MPI and the Exascal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Jeffrey M. Squyres, Cisco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Fabian Tillier, Micro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6B1B0-636A-4FBB-823D-EEDB3E95C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057400" y="52974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16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Our scope: MPI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1640"/>
            <a:ext cx="86868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hardware, power, runtime systems, filesystems, etc. to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re MPI + software wo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: we know little about what a lottaflops system will look like (y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let’s make further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’re looking at these slides in 5 years, please try not to laugh if we ended up being dreadfully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2F81F-F4FD-4F32-8B5F-36C440AC3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ssumption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1640"/>
            <a:ext cx="86868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: MPI will be used in som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this panel would be meaningl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ly in applications a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lying transport for something else (PGA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 has spent 15+ years optimizing parallel communications; it would be silly to throw it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: system will be a hierarchy of some k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, processors,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 will need to understand the topology – particularly for collective operations (broadcast, reduction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C97D5-580D-48A9-8DAC-B1F765677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ssumption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1640"/>
            <a:ext cx="86868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: limited resources for each MPI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, network buffe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store O(N)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may therefore need to be “smart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: there will be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 needs to get at least as reliable as s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ing: MPI implementation has to survive network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3 standard effort is examining such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clude what this means to MPI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72EEF-7187-441E-A1DA-77135DFB9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Thin” MPI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1640"/>
            <a:ext cx="86868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must be reliable and connectio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 should not handle tracking and retrans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time system must support M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ly tell MPI location/topology, peer, and network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stdin/out/err, stage fil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better systems today behave like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dedicated to MPI collectiv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: network hardware, cores, memory, 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progress seems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just multicast: think about MPI_Allto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0C931-41D8-43CE-AD30-5951FC737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ill it run OFED (verbs)?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1640"/>
            <a:ext cx="86868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on’t know what the network hardware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runs verbs, there is much work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t reliable connectionless will b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: connection setup complexity dis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registration must dis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et much better (no software reg cache, no dereg interce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orm of MPI collective assist must b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 from Intel, Cray, Quadrics, Voltaire, Mellanox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 network / processor / memory / etc. topology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ology-aware algorithms will be 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header and data on comple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header matching different than data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93824-0789-4DFD-90A7-59457B008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5C46B-B69B-4247-A535-18132835C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cisco-logo.png"/>
          <p:cNvPicPr/>
          <p:nvPr/>
        </p:nvPicPr>
        <p:blipFill>
          <a:blip r:embed="rId1"/>
          <a:stretch/>
        </p:blipFill>
        <p:spPr>
          <a:xfrm>
            <a:off x="2751120" y="1981080"/>
            <a:ext cx="3641760" cy="192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mslogo-1.tiff"/>
          <p:cNvPicPr/>
          <p:nvPr/>
        </p:nvPicPr>
        <p:blipFill>
          <a:blip r:embed="rId2"/>
          <a:stretch/>
        </p:blipFill>
        <p:spPr>
          <a:xfrm>
            <a:off x="1433520" y="4695840"/>
            <a:ext cx="62834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5:15:59Z</dcterms:created>
  <dc:creator>apple admin</dc:creator>
  <dc:description/>
  <dc:language>en-US</dc:language>
  <cp:lastModifiedBy>Jeff Squyres</cp:lastModifiedBy>
  <dcterms:modified xsi:type="dcterms:W3CDTF">2010-03-16T20:40:37Z</dcterms:modified>
  <cp:revision>41</cp:revision>
  <dc:subject/>
  <dc:title>Slide 1</dc:title>
</cp:coreProperties>
</file>