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2A6FB-8497-4F5A-B950-ECA0F752AA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07088-E849-4F29-B6F6-3111B7252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or to Data Fabric RDMA Opra required 24 cores. With DF RDMA requires 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F98A2-DFAD-419C-8B93-B2DCBF7E0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3EB1F-28C2-42D1-9A43-9F54054E9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ket data moves from exchange to participants including banks, hedge funds, and market mak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ipants send trades to the excah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43616F-2DF2-4A27-880B-9F94CC9AB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YSE Technologies is the world’s leading provider of end-to-end electronic trading solu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d hosted infra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 life cyc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r or trading application receives market data (through Data Fabric through superfeed or colocated F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s orderby sending message to MA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 process message and forwards to matching eng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ching engine executes order generating and publishes trade as market da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saging Central to entire exchange busi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0A5BA-A8F8-4632-9BF6-D22D779FE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ed platform for enterprise ticker plants, high frequency trading, co-location and other performance oriented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cally improved latency over earlier ticker plant techno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stically reduced server footprint means lower cost and complex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on ultra low latency Data Fabric; supports LDMA, RDMA (10 GigE or Infiniband) and other transport o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geted for high volume and latency sensitive mar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80B14-CBA7-4B40-8CAC-BC92196EA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performance messaging needed to keep up with these r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CP solutions are not sufficient. Too much CPU overhea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9DC54-68E1-47CA-B615-B11F76ACD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Data Fabric is primarily deployed as a market data delivery platform, it is a full featured messaging middlew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A57E8-F705-4872-B7A8-558404D07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202-A3D1-4C5C-9365-54BFBB33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CA69-2C83-4EB6-9A84-F6683812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221C-249E-4E66-BBD2-B26376E9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2321-0C4C-4845-B722-C5C4858B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667F-B3C2-47B8-B4C1-0D530A89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00DB-A243-4151-AF33-3037AD1D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14A4-C917-4DAF-945A-9D65CD3D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E974-5F4D-4D9C-B30B-4E481613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239B-8752-4968-8661-4D2E861B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086D-8354-45F3-ABE6-3692B79F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55AF-2E79-4A20-9C79-B5BCFA19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38C-07C9-4C46-A80F-747870C0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62FE-BC44-4943-9E28-C9161E7F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6290-AB50-4CB8-B3BD-37E13064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6968-F545-4847-A0C7-5CD15BDE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610E-EF31-4B76-95A7-73783C08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F6BC-B963-42D8-92FA-599F631C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E28-F766-47F1-B52F-E9E6ABE6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27F-BE9D-4E60-BCC0-8ACFFC5C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C6E-D245-4274-AB18-15FADD4E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01A1-29E1-40D7-8C45-26CE9EBD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897-CD75-4027-B6BA-F066F327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346-9A23-4AA5-A7BC-0017445A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D22-38BA-413E-A07B-FE04FFC6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9B5ED-ABD3-493B-8C3D-354159595B59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90A67-94D5-4CD5-AF87-FCE106FAE1D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4" descr="nyse_tech_sm_4cp"/>
          <p:cNvPicPr/>
          <p:nvPr/>
        </p:nvPicPr>
        <p:blipFill>
          <a:blip r:embed="rId4"/>
          <a:stretch/>
        </p:blipFill>
        <p:spPr>
          <a:xfrm>
            <a:off x="6999120" y="6127920"/>
            <a:ext cx="200376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9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nyse_tech_sm_4cp"/>
          <p:cNvPicPr/>
          <p:nvPr/>
        </p:nvPicPr>
        <p:blipFill>
          <a:blip r:embed="rId4"/>
          <a:stretch/>
        </p:blipFill>
        <p:spPr>
          <a:xfrm>
            <a:off x="6999120" y="6127920"/>
            <a:ext cx="2003760" cy="3650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ribbon_ppt_title.jpg"/>
          <p:cNvPicPr/>
          <p:nvPr/>
        </p:nvPicPr>
        <p:blipFill>
          <a:blip r:embed="rId5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OpenFabric_Alliance_Logo_ppt.jpg"/>
          <p:cNvPicPr/>
          <p:nvPr/>
        </p:nvPicPr>
        <p:blipFill>
          <a:blip r:embed="rId6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F7A73-D7CF-4CCE-B8CF-8AF0695F3918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D1FE5-3EB7-4AB1-B0DB-8C9C1D20546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yse.com/technologies" TargetMode="External"/><Relationship Id="rId2" Type="http://schemas.openxmlformats.org/officeDocument/2006/relationships/hyperlink" Target="mailto:mschonberg@nyx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High Throughput </a:t>
            </a:r>
            <a:br>
              <a:rPr sz="4000"/>
            </a:b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pplication Messaging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NYSE Technologies Data Fabric: Enterprise High Performance Mess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650D4-00F1-422C-A971-BE81C465E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ichael Schon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arch 15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195"/>
                </a:solidFill>
                <a:latin typeface="Arial"/>
              </a:rPr>
              <a:t>Data Fabric</a:t>
            </a:r>
            <a:endParaRPr b="0" lang="en-US" sz="2000" spc="-1" strike="noStrike">
              <a:solidFill>
                <a:srgbClr val="005195"/>
              </a:solidFill>
              <a:latin typeface="Arial"/>
            </a:endParaRPr>
          </a:p>
        </p:txBody>
      </p:sp>
      <p:pic>
        <p:nvPicPr>
          <p:cNvPr id="145" name="Content Placeholder 12" descr="df.png"/>
          <p:cNvPicPr/>
          <p:nvPr/>
        </p:nvPicPr>
        <p:blipFill>
          <a:blip r:embed="rId1"/>
          <a:srcRect l="0" t="-32695" r="0" b="-32695"/>
          <a:stretch/>
        </p:blipFill>
        <p:spPr>
          <a:xfrm>
            <a:off x="3575160" y="27288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abric T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1 GigE and fan-out to less latency sensitive app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abric LD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shared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-low latency between applications on a single mach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abric RD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digit microsecond latency between mach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GigE and Infini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A0735-C50D-4B0B-9F01-B9B10C244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Data Fabric RDMA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lem With S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to kernel context switches and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 sp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retrans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mise of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by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by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-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 connection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9C929-24A3-4343-A93E-A0EC4E1E9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Data Fabric RDMA 2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With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re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foot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and cost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7D354-5238-4F81-8B54-5CB4AAC70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195"/>
                </a:solidFill>
                <a:latin typeface="Arial"/>
              </a:rPr>
              <a:t>Transport Latency Comparison</a:t>
            </a:r>
            <a:r>
              <a:rPr b="1" lang="en-US" sz="2000" spc="-1" strike="noStrike">
                <a:solidFill>
                  <a:srgbClr val="00519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publisher, 1 subscriber, 1 Million 200 byte messages/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DF9D8-67DD-4BA4-8558-3EAB7A669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Placeholder 8" descr=""/>
          <p:cNvPicPr/>
          <p:nvPr/>
        </p:nvPicPr>
        <p:blipFill>
          <a:blip r:embed="rId1"/>
          <a:stretch/>
        </p:blipFill>
        <p:spPr>
          <a:xfrm>
            <a:off x="1785960" y="609480"/>
            <a:ext cx="549900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Q&amp;A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nyse.com/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schonberg@nyx.co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0EB8E-CC6E-48FB-A467-AD994583F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erformance Messaging in Financ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SE Technologies’ Messaging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Fabric: A closer look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Fabric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49436-8E85-4997-873A-EE1679EF6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195"/>
                </a:solidFill>
                <a:latin typeface="Arial"/>
              </a:rPr>
              <a:t>Market Data Flow</a:t>
            </a:r>
            <a:endParaRPr b="0" lang="en-US" sz="2000" spc="-1" strike="noStrike">
              <a:solidFill>
                <a:srgbClr val="005195"/>
              </a:solidFill>
              <a:latin typeface="Arial"/>
            </a:endParaRPr>
          </a:p>
        </p:txBody>
      </p:sp>
      <p:pic>
        <p:nvPicPr>
          <p:cNvPr id="112" name="Picture Placeholder 45" descr="basic dataflow.png"/>
          <p:cNvPicPr/>
          <p:nvPr/>
        </p:nvPicPr>
        <p:blipFill>
          <a:blip r:embed="rId1"/>
          <a:srcRect l="0" t="-10771" r="0" b="-1077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path between participants and ex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0DB5F-3E72-4E3D-877D-723025B6C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Market Data Messaging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receive messages from exchan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s, quotes, updates, new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from multiple ex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send requests as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s, canc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processes the requ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s passing through the exchange using mess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 generate market data messages that get sent to the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01619-B92C-4ECA-AB81-06346FDF6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195"/>
                </a:solidFill>
                <a:latin typeface="Arial"/>
              </a:rPr>
              <a:t>Data Fabric in the Exchange</a:t>
            </a:r>
            <a:endParaRPr b="0" lang="en-US" sz="2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entral role of messaging in exchange 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D9C6E-2B39-45DD-AC8A-9EEEEF331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27501" t="26741" r="26875" b="11540"/>
          <a:stretch/>
        </p:blipFill>
        <p:spPr>
          <a:xfrm>
            <a:off x="1828800" y="22860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195"/>
                </a:solidFill>
                <a:latin typeface="Arial"/>
              </a:rPr>
              <a:t>Messaging in the Market Data Enterprise</a:t>
            </a:r>
            <a:endParaRPr b="0" lang="en-US" sz="2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cally improved lat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volume/through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d server foot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E7C1D-5ACB-4646-82AB-FFBEAA4A0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9" descr="V5_20090127"/>
          <p:cNvPicPr/>
          <p:nvPr/>
        </p:nvPicPr>
        <p:blipFill>
          <a:blip r:embed="rId1"/>
          <a:srcRect l="13572" t="0" r="3302" b="0"/>
          <a:stretch/>
        </p:blipFill>
        <p:spPr>
          <a:xfrm>
            <a:off x="1676520" y="453960"/>
            <a:ext cx="583092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195"/>
                </a:solidFill>
                <a:latin typeface="Arial"/>
              </a:rPr>
              <a:t>Projected Opra 1 Second Peak Rates</a:t>
            </a:r>
            <a:endParaRPr b="0" lang="en-US" sz="2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ra rates projected to increase 34% over next 6 months and 85% over the next y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16D71-B531-4E89-B59E-E52B7DCB4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"/>
          <p:cNvPicPr/>
          <p:nvPr/>
        </p:nvPicPr>
        <p:blipFill>
          <a:blip r:embed="rId1"/>
          <a:stretch/>
        </p:blipFill>
        <p:spPr>
          <a:xfrm>
            <a:off x="0" y="419040"/>
            <a:ext cx="78994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Other Application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messaging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/subsc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/r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in many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s and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P and other enterpris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1E306-F0E9-4727-94BF-3CCBD707E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38095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195"/>
                </a:solidFill>
                <a:latin typeface="Arial"/>
              </a:rPr>
              <a:t>Middleware Agnostic Messaging API (MAMA)</a:t>
            </a:r>
            <a:endParaRPr b="0" lang="en-US" sz="2000" spc="-1" strike="noStrike">
              <a:solidFill>
                <a:srgbClr val="005195"/>
              </a:solidFill>
              <a:latin typeface="Arial"/>
            </a:endParaRPr>
          </a:p>
        </p:txBody>
      </p:sp>
      <p:pic>
        <p:nvPicPr>
          <p:cNvPr id="140" name="Picture Placeholder 9" descr="mama.png"/>
          <p:cNvPicPr/>
          <p:nvPr/>
        </p:nvPicPr>
        <p:blipFill>
          <a:blip r:embed="rId1"/>
          <a:srcRect l="-767" t="0" r="-767" b="0"/>
          <a:stretch/>
        </p:blipFill>
        <p:spPr>
          <a:xfrm>
            <a:off x="2401920" y="457200"/>
            <a:ext cx="4151160" cy="3112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00200" y="4190760"/>
            <a:ext cx="5867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 general purpose messaging 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imultaneous middleware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ion without the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 high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second LDMA latency and ultra low RDMA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s vendor lock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I adheres to well known idioms and conven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2F290-713F-4FD5-A67E-56B1B8095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02:33:10Z</dcterms:created>
  <dc:creator>apple admin</dc:creator>
  <dc:description/>
  <dc:language>en-US</dc:language>
  <cp:lastModifiedBy>Michael Schonberg</cp:lastModifiedBy>
  <dcterms:modified xsi:type="dcterms:W3CDTF">2010-03-15T15:34:30Z</dcterms:modified>
  <cp:revision>27</cp:revision>
  <dc:subject/>
  <dc:title>Slide 1</dc:title>
</cp:coreProperties>
</file>