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D9D0-644C-4D52-8858-2463D08CB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0698-46E4-4659-94E2-1A3523D7E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APIs: JDO/J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118A-69A4-483A-8E3B-6E3C34038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9F88-566B-4CBF-A7D4-6E637B824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2689-4C47-4AF1-86AD-6AB92FFC6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store - Flat file databa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cache - In-memory hash ta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L Fetch - Works fine, basically a curl / wg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 - Prints to standard out / error instead of sending mai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PP (IM) - Same as Mai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- Works fine once python-imaging library is installed (otherwi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s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gle Accounts - Allows you to log in as anyone with no passwor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Queues - Puts tasks on the admin console for later exec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n - Same as Task Queu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store - Uses URL Fetch to post large files to a URL which the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s it in the flat-file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C62B-0559-4EDD-B7A2-298CEC108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8ECA-C247-4C30-A5E0-C15DFB045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APIs: JDO/J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0312-2A9E-48B8-B99B-41B74E678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quests are accepted and resources granted via 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ability is e-commerce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2833-B9B9-44E3-816D-B5A887E9D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APIs: JDO/J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8552-5812-4EFD-A987-323DFAD8B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able services: mapreduce, relational db, VM management, job queue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uptake in the commercial s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0EAE-20B1-4AAE-8C72-7C2806DF2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45E13-845B-44FE-BA60-28380423E2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5360" y="1114560"/>
            <a:ext cx="867888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5360" y="3915720"/>
            <a:ext cx="867888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72643-13B4-4267-95DF-0904764CE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5360" y="1114560"/>
            <a:ext cx="423504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114560"/>
            <a:ext cx="423504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5360" y="3915720"/>
            <a:ext cx="423504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440" y="3915720"/>
            <a:ext cx="423504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3A956-4330-493C-8A66-E64739B38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5360" y="1114560"/>
            <a:ext cx="279432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9720" y="1114560"/>
            <a:ext cx="279432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080" y="1114560"/>
            <a:ext cx="279432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5360" y="3915720"/>
            <a:ext cx="279432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9720" y="3915720"/>
            <a:ext cx="279432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4080" y="3915720"/>
            <a:ext cx="279432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A7471-A551-4749-B363-E9E9FA3543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5360" y="1114560"/>
            <a:ext cx="8678880" cy="53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C915B-2349-4E9A-9D28-4E47FF41A9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5360" y="1114560"/>
            <a:ext cx="867888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0A700-7374-45D7-8B41-6372CD009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5360" y="1114560"/>
            <a:ext cx="423504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114560"/>
            <a:ext cx="423504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5020E-4D8C-4D4F-85B6-9CE6414C1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19D26-8700-4BB0-9E5D-DAA874459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9760" y="323640"/>
            <a:ext cx="867888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853B7-F6F0-4836-9D21-FEFA716B1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5360" y="1114560"/>
            <a:ext cx="423504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114560"/>
            <a:ext cx="423504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5360" y="3915720"/>
            <a:ext cx="423504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94DBE-F430-4EE0-96C7-DEC405D46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5360" y="1114560"/>
            <a:ext cx="423504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114560"/>
            <a:ext cx="423504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440" y="3915720"/>
            <a:ext cx="423504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CD837-BB25-4BF7-B836-58A8C8118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5360" y="1114560"/>
            <a:ext cx="423504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114560"/>
            <a:ext cx="423504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5360" y="3915720"/>
            <a:ext cx="867888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E14A2-232C-4A26-853B-D5EC25F8D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239760" y="239760"/>
            <a:ext cx="8678880" cy="628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5360" y="1114560"/>
            <a:ext cx="867888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40404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AB38-0FCC-421F-AEAA-220AE3307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0" y="6472080"/>
            <a:ext cx="776160" cy="414360"/>
          </a:xfrm>
          <a:prstGeom prst="rect">
            <a:avLst/>
          </a:prstGeom>
          <a:ln w="0">
            <a:noFill/>
          </a:ln>
        </p:spPr>
      </p:pic>
      <p:sp>
        <p:nvSpPr>
          <p:cNvPr id="6" name="TextBox 13"/>
          <p:cNvSpPr/>
          <p:nvPr/>
        </p:nvSpPr>
        <p:spPr>
          <a:xfrm>
            <a:off x="7992720" y="64882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06f42"/>
                </a:solidFill>
                <a:latin typeface="Trebuchet MS"/>
                <a:ea typeface="Trebuchet MS"/>
              </a:rPr>
              <a:t>appsca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5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5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5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10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560" y="1028520"/>
            <a:ext cx="8839080" cy="114300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ppscale: open-source platform-level cloud compu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918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dra Krin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r Science Dep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iv. of California, Santa Barbar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nFabrics Alliance, Sonoma Worksh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ch 15,  20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10" descr=""/>
          <p:cNvPicPr/>
          <p:nvPr/>
        </p:nvPicPr>
        <p:blipFill>
          <a:blip r:embed="rId1"/>
          <a:stretch/>
        </p:blipFill>
        <p:spPr>
          <a:xfrm>
            <a:off x="0" y="6472080"/>
            <a:ext cx="776160" cy="4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Can 13"/>
          <p:cNvSpPr/>
          <p:nvPr/>
        </p:nvSpPr>
        <p:spPr>
          <a:xfrm>
            <a:off x="5776920" y="1117440"/>
            <a:ext cx="731880" cy="66708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Can 14"/>
          <p:cNvSpPr/>
          <p:nvPr/>
        </p:nvSpPr>
        <p:spPr>
          <a:xfrm>
            <a:off x="5932440" y="1273320"/>
            <a:ext cx="730440" cy="66492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gle app eng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114560" y="2978280"/>
            <a:ext cx="6095880" cy="330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2173320" y="4191120"/>
            <a:ext cx="3132000" cy="1876320"/>
          </a:xfrm>
          <a:prstGeom prst="rect">
            <a:avLst/>
          </a:prstGeom>
          <a:gradFill rotWithShape="0">
            <a:gsLst>
              <a:gs pos="0">
                <a:srgbClr val="feb77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d06f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1397160" y="3273480"/>
            <a:ext cx="5376600" cy="720720"/>
          </a:xfrm>
          <a:prstGeom prst="rect">
            <a:avLst/>
          </a:prstGeom>
          <a:gradFill rotWithShape="0">
            <a:gsLst>
              <a:gs pos="0">
                <a:srgbClr val="6cb3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cb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AE Application (your code here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Can 7"/>
          <p:cNvSpPr/>
          <p:nvPr/>
        </p:nvSpPr>
        <p:spPr>
          <a:xfrm>
            <a:off x="5616720" y="4924440"/>
            <a:ext cx="1198440" cy="1270080"/>
          </a:xfrm>
          <a:prstGeom prst="can">
            <a:avLst>
              <a:gd name="adj" fmla="val 23611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09680" y="4286160"/>
            <a:ext cx="525600" cy="1824120"/>
          </a:xfrm>
          <a:prstGeom prst="rect">
            <a:avLst/>
          </a:prstGeom>
          <a:solidFill>
            <a:srgbClr val="dbe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Can 10"/>
          <p:cNvSpPr/>
          <p:nvPr/>
        </p:nvSpPr>
        <p:spPr>
          <a:xfrm>
            <a:off x="5348160" y="1238400"/>
            <a:ext cx="730440" cy="66672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Can 11"/>
          <p:cNvSpPr/>
          <p:nvPr/>
        </p:nvSpPr>
        <p:spPr>
          <a:xfrm>
            <a:off x="5500800" y="1390680"/>
            <a:ext cx="730080" cy="66672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Can 12"/>
          <p:cNvSpPr/>
          <p:nvPr/>
        </p:nvSpPr>
        <p:spPr>
          <a:xfrm>
            <a:off x="5653080" y="1542960"/>
            <a:ext cx="730080" cy="66672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0"/>
          <p:cNvSpPr/>
          <p:nvPr/>
        </p:nvSpPr>
        <p:spPr>
          <a:xfrm>
            <a:off x="6691680" y="1141560"/>
            <a:ext cx="153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rivate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nterpr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ata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oogle app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reparation 22"/>
          <p:cNvSpPr/>
          <p:nvPr/>
        </p:nvSpPr>
        <p:spPr>
          <a:xfrm>
            <a:off x="2314440" y="4303800"/>
            <a:ext cx="803520" cy="409320"/>
          </a:xfrm>
          <a:prstGeom prst="flowChartPreparation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mage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reparation 23"/>
          <p:cNvSpPr/>
          <p:nvPr/>
        </p:nvSpPr>
        <p:spPr>
          <a:xfrm>
            <a:off x="4681440" y="4950000"/>
            <a:ext cx="455760" cy="441000"/>
          </a:xfrm>
          <a:prstGeom prst="flowChartPreparation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reparation 24"/>
          <p:cNvSpPr/>
          <p:nvPr/>
        </p:nvSpPr>
        <p:spPr>
          <a:xfrm>
            <a:off x="2227320" y="5587920"/>
            <a:ext cx="1144440" cy="392040"/>
          </a:xfrm>
          <a:prstGeom prst="flowChartPreparation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emcach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reparation 25"/>
          <p:cNvSpPr/>
          <p:nvPr/>
        </p:nvSpPr>
        <p:spPr>
          <a:xfrm>
            <a:off x="4397400" y="5599080"/>
            <a:ext cx="795240" cy="392040"/>
          </a:xfrm>
          <a:prstGeom prst="flowChartPreparation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ai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Straight Arrow Connector 33"/>
          <p:cNvCxnSpPr>
            <a:endCxn id="81" idx="1"/>
          </p:cNvCxnSpPr>
          <p:nvPr/>
        </p:nvCxnSpPr>
        <p:spPr>
          <a:xfrm flipH="1">
            <a:off x="6216120" y="3994200"/>
            <a:ext cx="7200" cy="93096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2" name="Preparation 28"/>
          <p:cNvSpPr/>
          <p:nvPr/>
        </p:nvSpPr>
        <p:spPr>
          <a:xfrm>
            <a:off x="4514760" y="4270320"/>
            <a:ext cx="674640" cy="392040"/>
          </a:xfrm>
          <a:prstGeom prst="flowChartPreparation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ser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reparation 29"/>
          <p:cNvSpPr/>
          <p:nvPr/>
        </p:nvSpPr>
        <p:spPr>
          <a:xfrm>
            <a:off x="3222720" y="4361040"/>
            <a:ext cx="757080" cy="522000"/>
          </a:xfrm>
          <a:prstGeom prst="flowChartPreparation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RL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etch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0"/>
          <p:cNvSpPr/>
          <p:nvPr/>
        </p:nvSpPr>
        <p:spPr>
          <a:xfrm rot="16200000">
            <a:off x="813240" y="489528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ministrato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sol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1"/>
          <p:cNvSpPr/>
          <p:nvPr/>
        </p:nvSpPr>
        <p:spPr>
          <a:xfrm>
            <a:off x="5565240" y="548784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ata Stor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5827680" y="4286160"/>
            <a:ext cx="816120" cy="355680"/>
          </a:xfrm>
          <a:prstGeom prst="rect">
            <a:avLst/>
          </a:prstGeom>
          <a:solidFill>
            <a:srgbClr val="dbe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4"/>
          <p:cNvSpPr/>
          <p:nvPr/>
        </p:nvSpPr>
        <p:spPr>
          <a:xfrm>
            <a:off x="5824440" y="4219560"/>
            <a:ext cx="8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rotobu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ata AP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Straight Arrow Connector 36"/>
          <p:cNvCxnSpPr/>
          <p:nvPr/>
        </p:nvCxnSpPr>
        <p:spPr>
          <a:xfrm>
            <a:off x="6007680" y="2100240"/>
            <a:ext cx="3960" cy="128664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9" name="Rectangle 15"/>
          <p:cNvSpPr/>
          <p:nvPr/>
        </p:nvSpPr>
        <p:spPr>
          <a:xfrm>
            <a:off x="5573880" y="2463840"/>
            <a:ext cx="888840" cy="272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DC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9"/>
          <p:cNvSpPr/>
          <p:nvPr/>
        </p:nvSpPr>
        <p:spPr>
          <a:xfrm>
            <a:off x="998280" y="2903400"/>
            <a:ext cx="25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Google App Engine (GAE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0"/>
          <p:cNvSpPr/>
          <p:nvPr/>
        </p:nvSpPr>
        <p:spPr>
          <a:xfrm>
            <a:off x="2980080" y="4965840"/>
            <a:ext cx="95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ervice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reparation 41"/>
          <p:cNvSpPr/>
          <p:nvPr/>
        </p:nvSpPr>
        <p:spPr>
          <a:xfrm>
            <a:off x="2228760" y="5060880"/>
            <a:ext cx="633600" cy="392040"/>
          </a:xfrm>
          <a:prstGeom prst="flowChartPreparation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r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reparation 42"/>
          <p:cNvSpPr/>
          <p:nvPr/>
        </p:nvSpPr>
        <p:spPr>
          <a:xfrm>
            <a:off x="3483000" y="5551560"/>
            <a:ext cx="777960" cy="333360"/>
          </a:xfrm>
          <a:prstGeom prst="flowChartPreparation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as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0"/>
          <a:stretch/>
        </p:blipFill>
        <p:spPr>
          <a:xfrm>
            <a:off x="8142120" y="473040"/>
            <a:ext cx="633600" cy="500040"/>
          </a:xfrm>
          <a:prstGeom prst="rect">
            <a:avLst/>
          </a:prstGeom>
          <a:ln w="0">
            <a:noFill/>
          </a:ln>
        </p:spPr>
      </p:pic>
      <p:cxnSp>
        <p:nvCxnSpPr>
          <p:cNvPr id="105" name="Straight Arrow Connector 44"/>
          <p:cNvCxnSpPr/>
          <p:nvPr/>
        </p:nvCxnSpPr>
        <p:spPr>
          <a:xfrm flipH="1">
            <a:off x="1593000" y="3852360"/>
            <a:ext cx="453240" cy="60732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Straight Arrow Connector 45"/>
          <p:cNvCxnSpPr/>
          <p:nvPr/>
        </p:nvCxnSpPr>
        <p:spPr>
          <a:xfrm flipH="1" flipV="1">
            <a:off x="1719000" y="4709880"/>
            <a:ext cx="567360" cy="360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7" name="Straight Arrow Connector 46"/>
          <p:cNvCxnSpPr/>
          <p:nvPr/>
        </p:nvCxnSpPr>
        <p:spPr>
          <a:xfrm>
            <a:off x="3819960" y="3849840"/>
            <a:ext cx="3960" cy="538560"/>
          </a:xfrm>
          <a:prstGeom prst="straightConnector1">
            <a:avLst/>
          </a:prstGeom>
          <a:ln w="5724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8" name="Rectangle 48"/>
          <p:cNvSpPr/>
          <p:nvPr/>
        </p:nvSpPr>
        <p:spPr>
          <a:xfrm>
            <a:off x="3112920" y="3216240"/>
            <a:ext cx="173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MyApp.appspot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reparation 52"/>
          <p:cNvSpPr/>
          <p:nvPr/>
        </p:nvSpPr>
        <p:spPr>
          <a:xfrm>
            <a:off x="3933720" y="4741920"/>
            <a:ext cx="674640" cy="552240"/>
          </a:xfrm>
          <a:prstGeom prst="flowChartPreparation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lob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tor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ndbox restri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339920" y="3048120"/>
            <a:ext cx="609588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622520" y="3344760"/>
            <a:ext cx="5376600" cy="719280"/>
          </a:xfrm>
          <a:prstGeom prst="rect">
            <a:avLst/>
          </a:prstGeom>
          <a:gradFill rotWithShape="0">
            <a:gsLst>
              <a:gs pos="0">
                <a:srgbClr val="6cb3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cb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AE Application (your code here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9"/>
          <p:cNvSpPr/>
          <p:nvPr/>
        </p:nvSpPr>
        <p:spPr>
          <a:xfrm>
            <a:off x="1224720" y="2973240"/>
            <a:ext cx="25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Google App Engine (GAE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8142120" y="473040"/>
            <a:ext cx="633600" cy="5000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8"/>
          <p:cNvSpPr/>
          <p:nvPr/>
        </p:nvSpPr>
        <p:spPr>
          <a:xfrm>
            <a:off x="3338280" y="3286080"/>
            <a:ext cx="173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MyApp.appspot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5"/>
          <p:cNvSpPr/>
          <p:nvPr/>
        </p:nvSpPr>
        <p:spPr>
          <a:xfrm>
            <a:off x="0" y="4292640"/>
            <a:ext cx="8918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ure Python or Java only, white list of library calls to framewor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No thread/subprocess spawning, system call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No writes to file system, reads only to static files uploaded w/a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torage using key-value, schema-free datastore (Bigtable-base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HTTP/S communication only, CGI to handle page reques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Limit on number of datastore elements accessed per reques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Limit on response duration, task frequency, request r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nforced quotas  (BW, CPU, requests/s, files, app size, …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gle app engine: upload to goog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481040" y="2978280"/>
            <a:ext cx="6096240" cy="10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1763640" y="3273480"/>
            <a:ext cx="5376960" cy="720720"/>
          </a:xfrm>
          <a:prstGeom prst="rect">
            <a:avLst/>
          </a:prstGeom>
          <a:gradFill rotWithShape="0">
            <a:gsLst>
              <a:gs pos="0">
                <a:srgbClr val="6cb3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cb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AE Application (Python, Java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9"/>
          <p:cNvSpPr/>
          <p:nvPr/>
        </p:nvSpPr>
        <p:spPr>
          <a:xfrm>
            <a:off x="1365840" y="2903400"/>
            <a:ext cx="25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Google App Engine (GAE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8142120" y="473040"/>
            <a:ext cx="633600" cy="500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4" descr=""/>
          <p:cNvPicPr/>
          <p:nvPr/>
        </p:nvPicPr>
        <p:blipFill>
          <a:blip r:embed="rId2"/>
          <a:stretch/>
        </p:blipFill>
        <p:spPr>
          <a:xfrm>
            <a:off x="3616200" y="1708200"/>
            <a:ext cx="1346400" cy="1270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slide2pic"/>
          <p:cNvPicPr/>
          <p:nvPr/>
        </p:nvPicPr>
        <p:blipFill>
          <a:blip r:embed="rId3"/>
          <a:stretch/>
        </p:blipFill>
        <p:spPr>
          <a:xfrm>
            <a:off x="2884320" y="5029200"/>
            <a:ext cx="3353040" cy="1622520"/>
          </a:xfrm>
          <a:prstGeom prst="rect">
            <a:avLst/>
          </a:prstGeom>
          <a:ln w="0">
            <a:noFill/>
          </a:ln>
        </p:spPr>
      </p:pic>
      <p:sp>
        <p:nvSpPr>
          <p:cNvPr id="124" name="Lightning Bolt 32"/>
          <p:cNvSpPr/>
          <p:nvPr/>
        </p:nvSpPr>
        <p:spPr>
          <a:xfrm>
            <a:off x="1735200" y="4260960"/>
            <a:ext cx="1270080" cy="988920"/>
          </a:xfrm>
          <a:prstGeom prst="lightningBolt">
            <a:avLst/>
          </a:prstGeom>
          <a:solidFill>
            <a:srgbClr val="6cb3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ghtning Bolt 33"/>
          <p:cNvSpPr/>
          <p:nvPr/>
        </p:nvSpPr>
        <p:spPr>
          <a:xfrm rot="1360800">
            <a:off x="3290400" y="4300560"/>
            <a:ext cx="652680" cy="561960"/>
          </a:xfrm>
          <a:prstGeom prst="lightningBolt">
            <a:avLst/>
          </a:prstGeom>
          <a:solidFill>
            <a:srgbClr val="6cb3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ghtning Bolt 34"/>
          <p:cNvSpPr/>
          <p:nvPr/>
        </p:nvSpPr>
        <p:spPr>
          <a:xfrm rot="4665600">
            <a:off x="4912560" y="4325040"/>
            <a:ext cx="650880" cy="563760"/>
          </a:xfrm>
          <a:prstGeom prst="lightningBolt">
            <a:avLst/>
          </a:prstGeom>
          <a:solidFill>
            <a:srgbClr val="6cb3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ghtning Bolt 36"/>
          <p:cNvSpPr/>
          <p:nvPr/>
        </p:nvSpPr>
        <p:spPr>
          <a:xfrm rot="4665600">
            <a:off x="6271560" y="4122720"/>
            <a:ext cx="897120" cy="1299960"/>
          </a:xfrm>
          <a:prstGeom prst="lightningBolt">
            <a:avLst/>
          </a:prstGeom>
          <a:solidFill>
            <a:srgbClr val="6cb3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Can 43"/>
          <p:cNvSpPr/>
          <p:nvPr/>
        </p:nvSpPr>
        <p:spPr>
          <a:xfrm>
            <a:off x="6143760" y="1117440"/>
            <a:ext cx="731880" cy="66708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Can 45"/>
          <p:cNvSpPr/>
          <p:nvPr/>
        </p:nvSpPr>
        <p:spPr>
          <a:xfrm>
            <a:off x="6299280" y="1273320"/>
            <a:ext cx="730080" cy="66492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Can 48"/>
          <p:cNvSpPr/>
          <p:nvPr/>
        </p:nvSpPr>
        <p:spPr>
          <a:xfrm>
            <a:off x="5715000" y="1238400"/>
            <a:ext cx="730080" cy="66672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Can 50"/>
          <p:cNvSpPr/>
          <p:nvPr/>
        </p:nvSpPr>
        <p:spPr>
          <a:xfrm>
            <a:off x="5867280" y="1390680"/>
            <a:ext cx="730440" cy="66672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Can 51"/>
          <p:cNvSpPr/>
          <p:nvPr/>
        </p:nvSpPr>
        <p:spPr>
          <a:xfrm>
            <a:off x="6019920" y="1542960"/>
            <a:ext cx="730080" cy="66672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Straight Arrow Connector 60"/>
          <p:cNvCxnSpPr/>
          <p:nvPr/>
        </p:nvCxnSpPr>
        <p:spPr>
          <a:xfrm>
            <a:off x="6374160" y="2100240"/>
            <a:ext cx="3960" cy="128664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4" name="Rectangle 61"/>
          <p:cNvSpPr/>
          <p:nvPr/>
        </p:nvSpPr>
        <p:spPr>
          <a:xfrm>
            <a:off x="5940360" y="2463840"/>
            <a:ext cx="889200" cy="272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DC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2"/>
          <p:cNvSpPr/>
          <p:nvPr/>
        </p:nvSpPr>
        <p:spPr>
          <a:xfrm rot="5400000">
            <a:off x="4238640" y="4492440"/>
            <a:ext cx="355680" cy="959040"/>
          </a:xfrm>
          <a:prstGeom prst="rect">
            <a:avLst/>
          </a:prstGeom>
          <a:solidFill>
            <a:srgbClr val="dbe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5"/>
          <p:cNvSpPr/>
          <p:nvPr/>
        </p:nvSpPr>
        <p:spPr>
          <a:xfrm>
            <a:off x="3815280" y="4724280"/>
            <a:ext cx="117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dministrato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onso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3"/>
          <p:cNvSpPr/>
          <p:nvPr/>
        </p:nvSpPr>
        <p:spPr>
          <a:xfrm>
            <a:off x="6213240" y="5157720"/>
            <a:ext cx="2440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ree w/ quota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Pay for additional scale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, BW, emails, dat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igTable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utomatic scali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High availability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Straight Arrow Connector 78"/>
          <p:cNvCxnSpPr/>
          <p:nvPr/>
        </p:nvCxnSpPr>
        <p:spPr>
          <a:xfrm>
            <a:off x="1114200" y="3076560"/>
            <a:ext cx="678600" cy="22608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9" name="Straight Arrow Connector 81"/>
          <p:cNvCxnSpPr/>
          <p:nvPr/>
        </p:nvCxnSpPr>
        <p:spPr>
          <a:xfrm>
            <a:off x="1139760" y="3400560"/>
            <a:ext cx="650160" cy="1152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0" name="Rectangle 83"/>
          <p:cNvSpPr/>
          <p:nvPr/>
        </p:nvSpPr>
        <p:spPr>
          <a:xfrm>
            <a:off x="1139760" y="3243240"/>
            <a:ext cx="37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Straight Arrow Connector 84"/>
          <p:cNvCxnSpPr>
            <a:endCxn id="119" idx="1"/>
          </p:cNvCxnSpPr>
          <p:nvPr/>
        </p:nvCxnSpPr>
        <p:spPr>
          <a:xfrm flipV="1">
            <a:off x="1143000" y="3633120"/>
            <a:ext cx="621000" cy="5004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2" name="Rectangle 99"/>
          <p:cNvSpPr/>
          <p:nvPr/>
        </p:nvSpPr>
        <p:spPr>
          <a:xfrm>
            <a:off x="223200" y="2835360"/>
            <a:ext cx="988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GAE ap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ser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via th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e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103"/>
          <p:cNvGrpSpPr/>
          <p:nvPr/>
        </p:nvGrpSpPr>
        <p:grpSpPr>
          <a:xfrm>
            <a:off x="1397160" y="3795840"/>
            <a:ext cx="6273720" cy="479160"/>
            <a:chOff x="1397160" y="3795840"/>
            <a:chExt cx="6273720" cy="479160"/>
          </a:xfrm>
        </p:grpSpPr>
        <p:sp>
          <p:nvSpPr>
            <p:cNvPr id="144" name="Preparation 104"/>
            <p:cNvSpPr/>
            <p:nvPr/>
          </p:nvSpPr>
          <p:spPr>
            <a:xfrm>
              <a:off x="1397160" y="3823920"/>
              <a:ext cx="804240" cy="408960"/>
            </a:xfrm>
            <a:prstGeom prst="flowChartPreparation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mages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Preparation 105"/>
            <p:cNvSpPr/>
            <p:nvPr/>
          </p:nvSpPr>
          <p:spPr>
            <a:xfrm>
              <a:off x="4738680" y="3807000"/>
              <a:ext cx="454320" cy="439920"/>
            </a:xfrm>
            <a:prstGeom prst="flowChartPreparation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M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Preparation 106"/>
            <p:cNvSpPr/>
            <p:nvPr/>
          </p:nvSpPr>
          <p:spPr>
            <a:xfrm>
              <a:off x="6321960" y="3795840"/>
              <a:ext cx="775800" cy="462240"/>
            </a:xfrm>
            <a:prstGeom prst="flowChartPreparation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em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Cache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Preparation 107"/>
            <p:cNvSpPr/>
            <p:nvPr/>
          </p:nvSpPr>
          <p:spPr>
            <a:xfrm>
              <a:off x="4143240" y="3835080"/>
              <a:ext cx="640440" cy="392040"/>
            </a:xfrm>
            <a:prstGeom prst="flowChartPreparation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ail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Preparation 108"/>
            <p:cNvSpPr/>
            <p:nvPr/>
          </p:nvSpPr>
          <p:spPr>
            <a:xfrm>
              <a:off x="3542040" y="3832200"/>
              <a:ext cx="660240" cy="392040"/>
            </a:xfrm>
            <a:prstGeom prst="flowChartPreparation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Users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Preparation 109"/>
            <p:cNvSpPr/>
            <p:nvPr/>
          </p:nvSpPr>
          <p:spPr>
            <a:xfrm>
              <a:off x="2178720" y="3837960"/>
              <a:ext cx="685800" cy="414360"/>
            </a:xfrm>
            <a:prstGeom prst="flowChartPreparation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URL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etc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Preparation 110"/>
            <p:cNvSpPr/>
            <p:nvPr/>
          </p:nvSpPr>
          <p:spPr>
            <a:xfrm>
              <a:off x="5828040" y="3846600"/>
              <a:ext cx="632160" cy="392040"/>
            </a:xfrm>
            <a:prstGeom prst="flowChartPreparation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Cron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Preparation 111"/>
            <p:cNvSpPr/>
            <p:nvPr/>
          </p:nvSpPr>
          <p:spPr>
            <a:xfrm>
              <a:off x="5133600" y="3837960"/>
              <a:ext cx="778680" cy="437040"/>
            </a:xfrm>
            <a:prstGeom prst="flowChartPreparation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asks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Preparation 112"/>
            <p:cNvSpPr/>
            <p:nvPr/>
          </p:nvSpPr>
          <p:spPr>
            <a:xfrm>
              <a:off x="7038720" y="3815280"/>
              <a:ext cx="632160" cy="459720"/>
            </a:xfrm>
            <a:prstGeom prst="flowChartPreparation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at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tore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Preparation 113"/>
            <p:cNvSpPr/>
            <p:nvPr/>
          </p:nvSpPr>
          <p:spPr>
            <a:xfrm>
              <a:off x="2819520" y="3807000"/>
              <a:ext cx="775800" cy="462240"/>
            </a:xfrm>
            <a:prstGeom prst="flowChartPreparation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Blob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tore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4" name="Straight Arrow Connector 66"/>
          <p:cNvCxnSpPr/>
          <p:nvPr/>
        </p:nvCxnSpPr>
        <p:spPr>
          <a:xfrm>
            <a:off x="4021200" y="2935440"/>
            <a:ext cx="381600" cy="186264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5" name="Rectangle 41"/>
          <p:cNvSpPr/>
          <p:nvPr/>
        </p:nvSpPr>
        <p:spPr>
          <a:xfrm>
            <a:off x="3479760" y="5262480"/>
            <a:ext cx="173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MyApp.appspot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2"/>
          <p:cNvSpPr/>
          <p:nvPr/>
        </p:nvSpPr>
        <p:spPr>
          <a:xfrm>
            <a:off x="7058520" y="1141560"/>
            <a:ext cx="153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rivate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nterpr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ata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oogle app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7"/>
          <p:cNvSpPr/>
          <p:nvPr/>
        </p:nvSpPr>
        <p:spPr>
          <a:xfrm>
            <a:off x="1284120" y="4049640"/>
            <a:ext cx="6491520" cy="889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gae to appsca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481040" y="2978280"/>
            <a:ext cx="6096240" cy="10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763640" y="3273480"/>
            <a:ext cx="5376960" cy="720720"/>
          </a:xfrm>
          <a:prstGeom prst="rect">
            <a:avLst/>
          </a:prstGeom>
          <a:gradFill rotWithShape="0">
            <a:gsLst>
              <a:gs pos="0">
                <a:srgbClr val="6cb3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cb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AE Application (your code here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8"/>
          <p:cNvSpPr/>
          <p:nvPr/>
        </p:nvSpPr>
        <p:spPr>
          <a:xfrm>
            <a:off x="1332720" y="4606920"/>
            <a:ext cx="638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pen-source Google App Engine Software Development Kit (SDK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64" descr=""/>
          <p:cNvPicPr/>
          <p:nvPr/>
        </p:nvPicPr>
        <p:blipFill>
          <a:blip r:embed="rId1"/>
          <a:stretch/>
        </p:blipFill>
        <p:spPr>
          <a:xfrm>
            <a:off x="3616200" y="1708200"/>
            <a:ext cx="1346400" cy="127008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75"/>
          <p:cNvGrpSpPr/>
          <p:nvPr/>
        </p:nvGrpSpPr>
        <p:grpSpPr>
          <a:xfrm>
            <a:off x="1397160" y="3795840"/>
            <a:ext cx="6273720" cy="479160"/>
            <a:chOff x="1397160" y="3795840"/>
            <a:chExt cx="6273720" cy="479160"/>
          </a:xfrm>
        </p:grpSpPr>
        <p:sp>
          <p:nvSpPr>
            <p:cNvPr id="164" name="Preparation 22"/>
            <p:cNvSpPr/>
            <p:nvPr/>
          </p:nvSpPr>
          <p:spPr>
            <a:xfrm>
              <a:off x="1397160" y="3823920"/>
              <a:ext cx="804240" cy="408960"/>
            </a:xfrm>
            <a:prstGeom prst="flowChartPreparation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mages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Preparation 23"/>
            <p:cNvSpPr/>
            <p:nvPr/>
          </p:nvSpPr>
          <p:spPr>
            <a:xfrm>
              <a:off x="4738680" y="3807000"/>
              <a:ext cx="454320" cy="439920"/>
            </a:xfrm>
            <a:prstGeom prst="flowChartPreparation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M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Preparation 24"/>
            <p:cNvSpPr/>
            <p:nvPr/>
          </p:nvSpPr>
          <p:spPr>
            <a:xfrm>
              <a:off x="6321960" y="3795840"/>
              <a:ext cx="775800" cy="462240"/>
            </a:xfrm>
            <a:prstGeom prst="flowChartPreparation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em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Cache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Preparation 25"/>
            <p:cNvSpPr/>
            <p:nvPr/>
          </p:nvSpPr>
          <p:spPr>
            <a:xfrm>
              <a:off x="4143240" y="3835080"/>
              <a:ext cx="640440" cy="392040"/>
            </a:xfrm>
            <a:prstGeom prst="flowChartPreparation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ail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Preparation 28"/>
            <p:cNvSpPr/>
            <p:nvPr/>
          </p:nvSpPr>
          <p:spPr>
            <a:xfrm>
              <a:off x="3542040" y="3832200"/>
              <a:ext cx="660240" cy="392040"/>
            </a:xfrm>
            <a:prstGeom prst="flowChartPreparation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Users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Preparation 29"/>
            <p:cNvSpPr/>
            <p:nvPr/>
          </p:nvSpPr>
          <p:spPr>
            <a:xfrm>
              <a:off x="2178720" y="3837960"/>
              <a:ext cx="685800" cy="414360"/>
            </a:xfrm>
            <a:prstGeom prst="flowChartPreparation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URL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etc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Preparation 41"/>
            <p:cNvSpPr/>
            <p:nvPr/>
          </p:nvSpPr>
          <p:spPr>
            <a:xfrm>
              <a:off x="5828040" y="3846600"/>
              <a:ext cx="632160" cy="392040"/>
            </a:xfrm>
            <a:prstGeom prst="flowChartPreparation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Cron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Preparation 42"/>
            <p:cNvSpPr/>
            <p:nvPr/>
          </p:nvSpPr>
          <p:spPr>
            <a:xfrm>
              <a:off x="5133600" y="3837960"/>
              <a:ext cx="778680" cy="437040"/>
            </a:xfrm>
            <a:prstGeom prst="flowChartPreparation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asks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Preparation 35"/>
            <p:cNvSpPr/>
            <p:nvPr/>
          </p:nvSpPr>
          <p:spPr>
            <a:xfrm>
              <a:off x="7038720" y="3815280"/>
              <a:ext cx="632160" cy="459720"/>
            </a:xfrm>
            <a:prstGeom prst="flowChartPreparation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at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tore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Preparation 73"/>
            <p:cNvSpPr/>
            <p:nvPr/>
          </p:nvSpPr>
          <p:spPr>
            <a:xfrm>
              <a:off x="2819520" y="3807000"/>
              <a:ext cx="775800" cy="462240"/>
            </a:xfrm>
            <a:prstGeom prst="flowChartPreparation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Blob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tore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4" name="Picture 4" descr=""/>
          <p:cNvPicPr/>
          <p:nvPr/>
        </p:nvPicPr>
        <p:blipFill>
          <a:blip r:embed="rId12"/>
          <a:stretch/>
        </p:blipFill>
        <p:spPr>
          <a:xfrm>
            <a:off x="6237360" y="458640"/>
            <a:ext cx="633240" cy="500040"/>
          </a:xfrm>
          <a:prstGeom prst="rect">
            <a:avLst/>
          </a:prstGeom>
          <a:ln w="0">
            <a:noFill/>
          </a:ln>
        </p:spPr>
      </p:pic>
      <p:cxnSp>
        <p:nvCxnSpPr>
          <p:cNvPr id="175" name="Straight Arrow Connector 36"/>
          <p:cNvCxnSpPr/>
          <p:nvPr/>
        </p:nvCxnSpPr>
        <p:spPr>
          <a:xfrm flipV="1">
            <a:off x="6870600" y="704160"/>
            <a:ext cx="665640" cy="5400"/>
          </a:xfrm>
          <a:prstGeom prst="straightConnector1">
            <a:avLst/>
          </a:prstGeom>
          <a:ln w="50760">
            <a:solidFill>
              <a:srgbClr val="404040"/>
            </a:solidFill>
            <a:miter/>
            <a:tailEnd len="med" type="triangle" w="med"/>
          </a:ln>
        </p:spPr>
      </p:cxnSp>
      <p:pic>
        <p:nvPicPr>
          <p:cNvPr id="176" name="Picture 5" descr=""/>
          <p:cNvPicPr/>
          <p:nvPr/>
        </p:nvPicPr>
        <p:blipFill>
          <a:blip r:embed="rId13"/>
          <a:stretch/>
        </p:blipFill>
        <p:spPr>
          <a:xfrm>
            <a:off x="7550280" y="438120"/>
            <a:ext cx="606240" cy="507960"/>
          </a:xfrm>
          <a:prstGeom prst="rect">
            <a:avLst/>
          </a:prstGeom>
          <a:ln w="0">
            <a:noFill/>
          </a:ln>
        </p:spPr>
      </p:pic>
      <p:cxnSp>
        <p:nvCxnSpPr>
          <p:cNvPr id="177" name="Straight Arrow Connector 46"/>
          <p:cNvCxnSpPr>
            <a:stCxn id="164" idx="2"/>
          </p:cNvCxnSpPr>
          <p:nvPr/>
        </p:nvCxnSpPr>
        <p:spPr>
          <a:xfrm flipH="1">
            <a:off x="1777680" y="4233960"/>
            <a:ext cx="20880" cy="115740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Straight Arrow Connector 47"/>
          <p:cNvCxnSpPr/>
          <p:nvPr/>
        </p:nvCxnSpPr>
        <p:spPr>
          <a:xfrm flipH="1">
            <a:off x="2466720" y="4245120"/>
            <a:ext cx="20880" cy="115740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Straight Arrow Connector 48"/>
          <p:cNvCxnSpPr/>
          <p:nvPr/>
        </p:nvCxnSpPr>
        <p:spPr>
          <a:xfrm flipH="1">
            <a:off x="3214440" y="4230360"/>
            <a:ext cx="20880" cy="11577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Straight Arrow Connector 49"/>
          <p:cNvCxnSpPr/>
          <p:nvPr/>
        </p:nvCxnSpPr>
        <p:spPr>
          <a:xfrm flipH="1">
            <a:off x="3863520" y="4245120"/>
            <a:ext cx="21600" cy="115740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Straight Arrow Connector 50"/>
          <p:cNvCxnSpPr/>
          <p:nvPr/>
        </p:nvCxnSpPr>
        <p:spPr>
          <a:xfrm flipH="1">
            <a:off x="4426920" y="4245120"/>
            <a:ext cx="22680" cy="115740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Straight Arrow Connector 51"/>
          <p:cNvCxnSpPr/>
          <p:nvPr/>
        </p:nvCxnSpPr>
        <p:spPr>
          <a:xfrm flipH="1">
            <a:off x="4935240" y="4245120"/>
            <a:ext cx="23040" cy="115740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Straight Arrow Connector 52"/>
          <p:cNvCxnSpPr/>
          <p:nvPr/>
        </p:nvCxnSpPr>
        <p:spPr>
          <a:xfrm flipH="1">
            <a:off x="5500440" y="4258800"/>
            <a:ext cx="20880" cy="11577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Straight Arrow Connector 53"/>
          <p:cNvCxnSpPr/>
          <p:nvPr/>
        </p:nvCxnSpPr>
        <p:spPr>
          <a:xfrm flipH="1">
            <a:off x="6163920" y="4258800"/>
            <a:ext cx="20880" cy="11577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Straight Arrow Connector 54"/>
          <p:cNvCxnSpPr/>
          <p:nvPr/>
        </p:nvCxnSpPr>
        <p:spPr>
          <a:xfrm flipH="1">
            <a:off x="6727320" y="4273560"/>
            <a:ext cx="23040" cy="115632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Straight Arrow Connector 59"/>
          <p:cNvCxnSpPr/>
          <p:nvPr/>
        </p:nvCxnSpPr>
        <p:spPr>
          <a:xfrm flipH="1">
            <a:off x="7333920" y="4258800"/>
            <a:ext cx="23040" cy="11577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60"/>
          <p:cNvSpPr/>
          <p:nvPr/>
        </p:nvSpPr>
        <p:spPr>
          <a:xfrm>
            <a:off x="942840" y="5133960"/>
            <a:ext cx="7340760" cy="888840"/>
          </a:xfrm>
          <a:prstGeom prst="rect">
            <a:avLst/>
          </a:prstGeom>
          <a:blipFill rotWithShape="0">
            <a:blip r:embed="rId14">
              <a:alphaModFix amt="69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5"/>
          <a:stretch/>
        </p:blipFill>
        <p:spPr>
          <a:xfrm>
            <a:off x="3400560" y="5380200"/>
            <a:ext cx="1960560" cy="6346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4"/>
          <p:cNvSpPr/>
          <p:nvPr/>
        </p:nvSpPr>
        <p:spPr>
          <a:xfrm>
            <a:off x="1405800" y="290340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ppScal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gae to appsca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25360" y="1114560"/>
            <a:ext cx="891864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E SDK ext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uggable using open-source distributed database technolog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Base, Hypertable, Cassandra, Voldemort, MongoDB, MemcacheDB, MySQ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mcacheD libra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console or as background thread (automaticall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face to Hadoop (MapRedu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59595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-language support: Python, Java, Ruby, Perl, soon: X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spcAft>
                <a:spcPts val="1800"/>
              </a:spcAft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nslator to Linux Cron job, similar to Tas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spcAft>
                <a:spcPts val="1199"/>
              </a:spcAft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uggable: built-in cloud-wide authentication via Rails, support for Eucalyptus and EC2 credentia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6237360" y="458640"/>
            <a:ext cx="633240" cy="500040"/>
          </a:xfrm>
          <a:prstGeom prst="rect">
            <a:avLst/>
          </a:prstGeom>
          <a:ln w="0">
            <a:noFill/>
          </a:ln>
        </p:spPr>
      </p:pic>
      <p:cxnSp>
        <p:nvCxnSpPr>
          <p:cNvPr id="193" name="Straight Arrow Connector 59"/>
          <p:cNvCxnSpPr/>
          <p:nvPr/>
        </p:nvCxnSpPr>
        <p:spPr>
          <a:xfrm flipV="1">
            <a:off x="6870600" y="704160"/>
            <a:ext cx="665640" cy="5400"/>
          </a:xfrm>
          <a:prstGeom prst="straightConnector1">
            <a:avLst/>
          </a:prstGeom>
          <a:ln w="50760">
            <a:solidFill>
              <a:srgbClr val="404040"/>
            </a:solidFill>
            <a:miter/>
            <a:tailEnd len="med" type="triangle" w="med"/>
          </a:ln>
        </p:spPr>
      </p:cxnSp>
      <p:pic>
        <p:nvPicPr>
          <p:cNvPr id="194" name="Picture 5" descr=""/>
          <p:cNvPicPr/>
          <p:nvPr/>
        </p:nvPicPr>
        <p:blipFill>
          <a:blip r:embed="rId2"/>
          <a:stretch/>
        </p:blipFill>
        <p:spPr>
          <a:xfrm>
            <a:off x="7550280" y="438120"/>
            <a:ext cx="606240" cy="507960"/>
          </a:xfrm>
          <a:prstGeom prst="rect">
            <a:avLst/>
          </a:prstGeom>
          <a:ln w="0">
            <a:noFill/>
          </a:ln>
        </p:spPr>
      </p:pic>
      <p:sp>
        <p:nvSpPr>
          <p:cNvPr id="195" name="Preparation 45"/>
          <p:cNvSpPr/>
          <p:nvPr/>
        </p:nvSpPr>
        <p:spPr>
          <a:xfrm>
            <a:off x="239760" y="2540160"/>
            <a:ext cx="776160" cy="591840"/>
          </a:xfrm>
          <a:prstGeom prst="flowChartPreparation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e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ach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reparation 47"/>
          <p:cNvSpPr/>
          <p:nvPr/>
        </p:nvSpPr>
        <p:spPr>
          <a:xfrm>
            <a:off x="324000" y="5595840"/>
            <a:ext cx="660240" cy="471600"/>
          </a:xfrm>
          <a:prstGeom prst="flowChartPreparation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ser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reparation 49"/>
          <p:cNvSpPr/>
          <p:nvPr/>
        </p:nvSpPr>
        <p:spPr>
          <a:xfrm>
            <a:off x="352440" y="4869000"/>
            <a:ext cx="631800" cy="471240"/>
          </a:xfrm>
          <a:prstGeom prst="flowChartPreparation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r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reparation 50"/>
          <p:cNvSpPr/>
          <p:nvPr/>
        </p:nvSpPr>
        <p:spPr>
          <a:xfrm>
            <a:off x="264960" y="3556080"/>
            <a:ext cx="779760" cy="522360"/>
          </a:xfrm>
          <a:prstGeom prst="flowChartPreparation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as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reparation 51"/>
          <p:cNvSpPr/>
          <p:nvPr/>
        </p:nvSpPr>
        <p:spPr>
          <a:xfrm>
            <a:off x="322200" y="1670040"/>
            <a:ext cx="636480" cy="546120"/>
          </a:xfrm>
          <a:prstGeom prst="flowChartPreparation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tor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scale’s offer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25360" y="1114560"/>
            <a:ext cx="912960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of the Google APIs as a unifying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store/database backends, servi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grow this to include other standard AP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framework that executes extant GAE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parate API implementations automatically deploy/comp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strictions on resource usage, library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tiple high-level language front-ends and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timized library support in the back-e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scale’s offer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25360" y="1114560"/>
            <a:ext cx="867888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Use of the Google APIs as a unifying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ahoma"/>
              </a:rPr>
              <a:t>Datastore/database backends, servi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ahoma"/>
              </a:rPr>
              <a:t>Can grow this to include other standard AP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Single framework that executes extant GAE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ahoma"/>
              </a:rPr>
              <a:t>Disparate API implementations automatically deploy/comp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No restrictions on resource usage, library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ahoma"/>
              </a:rPr>
              <a:t>Multiple high-level language front-ends and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ahoma"/>
              </a:rPr>
              <a:t>Optimized library support in the back-e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-source international user commun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tential for integration with infrastructure level (Ia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aptive SLA re-nego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rowth/Shrinkage of the clou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plication or workload specific customization of the platfor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sca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8031240" y="324000"/>
            <a:ext cx="873000" cy="733320"/>
          </a:xfrm>
          <a:prstGeom prst="rect">
            <a:avLst/>
          </a:prstGeom>
          <a:ln w="0">
            <a:noFill/>
          </a:ln>
        </p:spPr>
      </p:pic>
      <p:sp>
        <p:nvSpPr>
          <p:cNvPr id="206" name="Cloud 4"/>
          <p:cNvSpPr/>
          <p:nvPr/>
        </p:nvSpPr>
        <p:spPr>
          <a:xfrm>
            <a:off x="2540160" y="3962520"/>
            <a:ext cx="5029200" cy="2895480"/>
          </a:xfrm>
          <a:prstGeom prst="pie">
            <a:avLst/>
          </a:prstGeom>
          <a:noFill/>
          <a:ln w="9360">
            <a:solidFill>
              <a:srgbClr val="a6e4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Hexagon 5"/>
          <p:cNvSpPr/>
          <p:nvPr/>
        </p:nvSpPr>
        <p:spPr>
          <a:xfrm>
            <a:off x="3111480" y="4381560"/>
            <a:ext cx="1143000" cy="990720"/>
          </a:xfrm>
          <a:prstGeom prst="hexagon">
            <a:avLst>
              <a:gd name="adj" fmla="val 2499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ctagon 7"/>
          <p:cNvSpPr/>
          <p:nvPr/>
        </p:nvSpPr>
        <p:spPr>
          <a:xfrm>
            <a:off x="5740560" y="5486400"/>
            <a:ext cx="1143000" cy="6858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ctagon 8"/>
          <p:cNvSpPr/>
          <p:nvPr/>
        </p:nvSpPr>
        <p:spPr>
          <a:xfrm>
            <a:off x="5740560" y="5334120"/>
            <a:ext cx="1143000" cy="6858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ctagon 9"/>
          <p:cNvSpPr/>
          <p:nvPr/>
        </p:nvSpPr>
        <p:spPr>
          <a:xfrm>
            <a:off x="5740560" y="5143680"/>
            <a:ext cx="1143000" cy="6858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ctagon 10"/>
          <p:cNvSpPr/>
          <p:nvPr/>
        </p:nvSpPr>
        <p:spPr>
          <a:xfrm>
            <a:off x="5740560" y="4952880"/>
            <a:ext cx="1143000" cy="6858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Can 11"/>
          <p:cNvSpPr/>
          <p:nvPr/>
        </p:nvSpPr>
        <p:spPr>
          <a:xfrm>
            <a:off x="5911920" y="4800600"/>
            <a:ext cx="266760" cy="22860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rapezoid 12"/>
          <p:cNvSpPr/>
          <p:nvPr/>
        </p:nvSpPr>
        <p:spPr>
          <a:xfrm>
            <a:off x="3911760" y="5638680"/>
            <a:ext cx="1143000" cy="762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rapezoid 13"/>
          <p:cNvSpPr/>
          <p:nvPr/>
        </p:nvSpPr>
        <p:spPr>
          <a:xfrm>
            <a:off x="3987720" y="5562720"/>
            <a:ext cx="1143000" cy="7617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rapezoid 14"/>
          <p:cNvSpPr/>
          <p:nvPr/>
        </p:nvSpPr>
        <p:spPr>
          <a:xfrm>
            <a:off x="4064040" y="5486400"/>
            <a:ext cx="1143000" cy="762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rapezoid 15"/>
          <p:cNvSpPr/>
          <p:nvPr/>
        </p:nvSpPr>
        <p:spPr>
          <a:xfrm>
            <a:off x="4140360" y="5410080"/>
            <a:ext cx="1143000" cy="762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Straight Arrow Connector 16"/>
          <p:cNvCxnSpPr>
            <a:endCxn id="218" idx="2"/>
          </p:cNvCxnSpPr>
          <p:nvPr/>
        </p:nvCxnSpPr>
        <p:spPr>
          <a:xfrm flipV="1">
            <a:off x="4063680" y="4392000"/>
            <a:ext cx="1143720" cy="408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9" name="Straight Arrow Connector 18"/>
          <p:cNvCxnSpPr/>
          <p:nvPr/>
        </p:nvCxnSpPr>
        <p:spPr>
          <a:xfrm>
            <a:off x="4064040" y="5143680"/>
            <a:ext cx="381600" cy="419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0" name="Straight Arrow Connector 19"/>
          <p:cNvCxnSpPr/>
          <p:nvPr/>
        </p:nvCxnSpPr>
        <p:spPr>
          <a:xfrm flipV="1">
            <a:off x="5053680" y="4876200"/>
            <a:ext cx="533880" cy="61020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21" name="Straight Arrow Connector 20"/>
          <p:cNvCxnSpPr>
            <a:endCxn id="211" idx="2"/>
          </p:cNvCxnSpPr>
          <p:nvPr/>
        </p:nvCxnSpPr>
        <p:spPr>
          <a:xfrm flipV="1">
            <a:off x="5054400" y="5436360"/>
            <a:ext cx="686520" cy="12636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22" name="Straight Arrow Connector 22"/>
          <p:cNvCxnSpPr/>
          <p:nvPr/>
        </p:nvCxnSpPr>
        <p:spPr>
          <a:xfrm>
            <a:off x="7578360" y="5087520"/>
            <a:ext cx="30564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Straight Arrow Connector 23"/>
          <p:cNvCxnSpPr>
            <a:endCxn id="224" idx="1"/>
          </p:cNvCxnSpPr>
          <p:nvPr/>
        </p:nvCxnSpPr>
        <p:spPr>
          <a:xfrm flipV="1">
            <a:off x="7535880" y="5633640"/>
            <a:ext cx="389520" cy="2448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25" name="Rectangle 24"/>
          <p:cNvSpPr/>
          <p:nvPr/>
        </p:nvSpPr>
        <p:spPr>
          <a:xfrm>
            <a:off x="254160" y="4361040"/>
            <a:ext cx="1981080" cy="973080"/>
          </a:xfrm>
          <a:prstGeom prst="rect">
            <a:avLst/>
          </a:prstGeom>
          <a:solidFill>
            <a:srgbClr val="a6e4ff"/>
          </a:solidFill>
          <a:ln w="9360">
            <a:solidFill>
              <a:srgbClr val="0099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E A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ppScale Admin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Straight Arrow Connector 25"/>
          <p:cNvCxnSpPr/>
          <p:nvPr/>
        </p:nvCxnSpPr>
        <p:spPr>
          <a:xfrm>
            <a:off x="1929960" y="4878360"/>
            <a:ext cx="12963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7" name="Rectangle 26"/>
          <p:cNvSpPr/>
          <p:nvPr/>
        </p:nvSpPr>
        <p:spPr>
          <a:xfrm>
            <a:off x="254160" y="5524560"/>
            <a:ext cx="1981080" cy="647640"/>
          </a:xfrm>
          <a:prstGeom prst="rect">
            <a:avLst/>
          </a:prstGeom>
          <a:solidFill>
            <a:srgbClr val="a6e4ff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E A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Group 47"/>
          <p:cNvGrpSpPr/>
          <p:nvPr/>
        </p:nvGrpSpPr>
        <p:grpSpPr>
          <a:xfrm>
            <a:off x="7578720" y="5954760"/>
            <a:ext cx="1351440" cy="642600"/>
            <a:chOff x="7578720" y="5954760"/>
            <a:chExt cx="1351440" cy="642600"/>
          </a:xfrm>
        </p:grpSpPr>
        <p:cxnSp>
          <p:nvCxnSpPr>
            <p:cNvPr id="229" name="Straight Arrow Connector 21"/>
            <p:cNvCxnSpPr/>
            <p:nvPr/>
          </p:nvCxnSpPr>
          <p:spPr>
            <a:xfrm>
              <a:off x="7578720" y="615780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Rectangle 46"/>
            <p:cNvSpPr/>
            <p:nvPr/>
          </p:nvSpPr>
          <p:spPr>
            <a:xfrm>
              <a:off x="7877880" y="5954760"/>
              <a:ext cx="105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ppScal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ool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Rectangle 47"/>
          <p:cNvSpPr/>
          <p:nvPr/>
        </p:nvSpPr>
        <p:spPr>
          <a:xfrm>
            <a:off x="7924680" y="545004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8"/>
          <p:cNvSpPr/>
          <p:nvPr/>
        </p:nvSpPr>
        <p:spPr>
          <a:xfrm>
            <a:off x="7887600" y="4859280"/>
            <a:ext cx="113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troll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8"/>
          <p:cNvSpPr/>
          <p:nvPr/>
        </p:nvSpPr>
        <p:spPr>
          <a:xfrm>
            <a:off x="3392640" y="465948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mic Sans MS"/>
              </a:rPr>
              <a:t>AL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0"/>
          <p:cNvSpPr/>
          <p:nvPr/>
        </p:nvSpPr>
        <p:spPr>
          <a:xfrm>
            <a:off x="5816520" y="5192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mic Sans MS"/>
              </a:rPr>
              <a:t>DB S/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1"/>
          <p:cNvSpPr/>
          <p:nvPr/>
        </p:nvSpPr>
        <p:spPr>
          <a:xfrm>
            <a:off x="4302000" y="564984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mic Sans MS"/>
              </a:rPr>
              <a:t>A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4"/>
          <p:cNvSpPr/>
          <p:nvPr/>
        </p:nvSpPr>
        <p:spPr>
          <a:xfrm>
            <a:off x="330120" y="5600880"/>
            <a:ext cx="1981440" cy="647640"/>
          </a:xfrm>
          <a:prstGeom prst="rect">
            <a:avLst/>
          </a:prstGeom>
          <a:solidFill>
            <a:srgbClr val="a6e4ff"/>
          </a:solidFill>
          <a:ln w="936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E A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439560" y="5676840"/>
            <a:ext cx="1903680" cy="647640"/>
          </a:xfrm>
          <a:prstGeom prst="rect">
            <a:avLst/>
          </a:prstGeom>
          <a:solidFill>
            <a:srgbClr val="a6e4ff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E A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Straight Arrow Connector 36"/>
          <p:cNvCxnSpPr/>
          <p:nvPr/>
        </p:nvCxnSpPr>
        <p:spPr>
          <a:xfrm flipH="1" flipV="1">
            <a:off x="1929960" y="5828760"/>
            <a:ext cx="2363040" cy="108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38" name="Rectangle 64"/>
          <p:cNvSpPr/>
          <p:nvPr/>
        </p:nvSpPr>
        <p:spPr>
          <a:xfrm>
            <a:off x="2752560" y="3765600"/>
            <a:ext cx="24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mic Sans MS"/>
              </a:rPr>
              <a:t>AppScale Clou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10960" y="1072800"/>
            <a:ext cx="891864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system with four key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ppLoadBalancer (ALB)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Database Master/Peer (DB M/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ppServer (AS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Database Slave/Peer (DB S/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utomatic deployment over Eucalyptus and E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Released as a single Xen or KVM image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Adaptive role configur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499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499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Oval 41"/>
          <p:cNvSpPr/>
          <p:nvPr/>
        </p:nvSpPr>
        <p:spPr>
          <a:xfrm>
            <a:off x="6470640" y="4340160"/>
            <a:ext cx="304920" cy="31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42"/>
          <p:cNvSpPr/>
          <p:nvPr/>
        </p:nvSpPr>
        <p:spPr>
          <a:xfrm>
            <a:off x="6622920" y="4481640"/>
            <a:ext cx="304920" cy="315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43"/>
          <p:cNvSpPr/>
          <p:nvPr/>
        </p:nvSpPr>
        <p:spPr>
          <a:xfrm>
            <a:off x="6775560" y="4645080"/>
            <a:ext cx="304560" cy="315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43"/>
          <p:cNvSpPr/>
          <p:nvPr/>
        </p:nvSpPr>
        <p:spPr>
          <a:xfrm>
            <a:off x="7873920" y="3740040"/>
            <a:ext cx="13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mic Sans MS"/>
              </a:rPr>
              <a:t>Compu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mic Sans MS"/>
              </a:rPr>
              <a:t>task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mic Sans MS"/>
              </a:rPr>
              <a:t>(e.g. Map Reduce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6927840" y="4786200"/>
            <a:ext cx="304920" cy="31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634160" y="4248000"/>
            <a:ext cx="203400" cy="203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ctagon 6"/>
          <p:cNvSpPr/>
          <p:nvPr/>
        </p:nvSpPr>
        <p:spPr>
          <a:xfrm>
            <a:off x="5207040" y="4191120"/>
            <a:ext cx="1143000" cy="6858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59"/>
          <p:cNvSpPr/>
          <p:nvPr/>
        </p:nvSpPr>
        <p:spPr>
          <a:xfrm>
            <a:off x="5283360" y="434340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mic Sans MS"/>
              </a:rPr>
              <a:t>DB M/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Straight Arrow Connector 17"/>
          <p:cNvCxnSpPr/>
          <p:nvPr/>
        </p:nvCxnSpPr>
        <p:spPr>
          <a:xfrm flipV="1">
            <a:off x="4902120" y="4799880"/>
            <a:ext cx="53424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scale team fo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8031240" y="324000"/>
            <a:ext cx="873000" cy="733320"/>
          </a:xfrm>
          <a:prstGeom prst="rect">
            <a:avLst/>
          </a:prstGeom>
          <a:ln w="0">
            <a:noFill/>
          </a:ln>
        </p:spPr>
      </p:pic>
      <p:sp>
        <p:nvSpPr>
          <p:cNvPr id="250" name="Cloud 4"/>
          <p:cNvSpPr/>
          <p:nvPr/>
        </p:nvSpPr>
        <p:spPr>
          <a:xfrm>
            <a:off x="2540160" y="3962520"/>
            <a:ext cx="5029200" cy="2895480"/>
          </a:xfrm>
          <a:prstGeom prst="pie">
            <a:avLst/>
          </a:prstGeom>
          <a:noFill/>
          <a:ln w="9360">
            <a:solidFill>
              <a:srgbClr val="a6e4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Hexagon 5"/>
          <p:cNvSpPr/>
          <p:nvPr/>
        </p:nvSpPr>
        <p:spPr>
          <a:xfrm>
            <a:off x="3111480" y="4381560"/>
            <a:ext cx="1143000" cy="990720"/>
          </a:xfrm>
          <a:prstGeom prst="hexagon">
            <a:avLst>
              <a:gd name="adj" fmla="val 2499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ctagon 7"/>
          <p:cNvSpPr/>
          <p:nvPr/>
        </p:nvSpPr>
        <p:spPr>
          <a:xfrm>
            <a:off x="5740560" y="5486400"/>
            <a:ext cx="1143000" cy="6858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Octagon 8"/>
          <p:cNvSpPr/>
          <p:nvPr/>
        </p:nvSpPr>
        <p:spPr>
          <a:xfrm>
            <a:off x="5740560" y="5334120"/>
            <a:ext cx="1143000" cy="6858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Octagon 9"/>
          <p:cNvSpPr/>
          <p:nvPr/>
        </p:nvSpPr>
        <p:spPr>
          <a:xfrm>
            <a:off x="5740560" y="5143680"/>
            <a:ext cx="1143000" cy="6858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ctagon 10"/>
          <p:cNvSpPr/>
          <p:nvPr/>
        </p:nvSpPr>
        <p:spPr>
          <a:xfrm>
            <a:off x="5740560" y="4952880"/>
            <a:ext cx="1143000" cy="6858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Can 11"/>
          <p:cNvSpPr/>
          <p:nvPr/>
        </p:nvSpPr>
        <p:spPr>
          <a:xfrm>
            <a:off x="5911920" y="4800600"/>
            <a:ext cx="266760" cy="22860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rapezoid 12"/>
          <p:cNvSpPr/>
          <p:nvPr/>
        </p:nvSpPr>
        <p:spPr>
          <a:xfrm>
            <a:off x="3911760" y="5638680"/>
            <a:ext cx="1143000" cy="762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rapezoid 13"/>
          <p:cNvSpPr/>
          <p:nvPr/>
        </p:nvSpPr>
        <p:spPr>
          <a:xfrm>
            <a:off x="3987720" y="5562720"/>
            <a:ext cx="1143000" cy="7617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rapezoid 14"/>
          <p:cNvSpPr/>
          <p:nvPr/>
        </p:nvSpPr>
        <p:spPr>
          <a:xfrm>
            <a:off x="4064040" y="5486400"/>
            <a:ext cx="1143000" cy="762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rapezoid 15"/>
          <p:cNvSpPr/>
          <p:nvPr/>
        </p:nvSpPr>
        <p:spPr>
          <a:xfrm>
            <a:off x="4140360" y="5410080"/>
            <a:ext cx="1143000" cy="762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1" name="Straight Arrow Connector 16"/>
          <p:cNvCxnSpPr>
            <a:endCxn id="262" idx="2"/>
          </p:cNvCxnSpPr>
          <p:nvPr/>
        </p:nvCxnSpPr>
        <p:spPr>
          <a:xfrm flipV="1">
            <a:off x="4063680" y="4392000"/>
            <a:ext cx="1143720" cy="408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3" name="Straight Arrow Connector 18"/>
          <p:cNvCxnSpPr/>
          <p:nvPr/>
        </p:nvCxnSpPr>
        <p:spPr>
          <a:xfrm>
            <a:off x="4064040" y="5143680"/>
            <a:ext cx="381600" cy="419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Straight Arrow Connector 19"/>
          <p:cNvCxnSpPr/>
          <p:nvPr/>
        </p:nvCxnSpPr>
        <p:spPr>
          <a:xfrm flipV="1">
            <a:off x="5053680" y="4876200"/>
            <a:ext cx="533880" cy="61020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65" name="Straight Arrow Connector 20"/>
          <p:cNvCxnSpPr>
            <a:endCxn id="255" idx="2"/>
          </p:cNvCxnSpPr>
          <p:nvPr/>
        </p:nvCxnSpPr>
        <p:spPr>
          <a:xfrm flipV="1">
            <a:off x="5054400" y="5436360"/>
            <a:ext cx="686520" cy="12636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66" name="Straight Arrow Connector 22"/>
          <p:cNvCxnSpPr/>
          <p:nvPr/>
        </p:nvCxnSpPr>
        <p:spPr>
          <a:xfrm>
            <a:off x="7578360" y="5087520"/>
            <a:ext cx="30564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Straight Arrow Connector 23"/>
          <p:cNvCxnSpPr>
            <a:endCxn id="268" idx="1"/>
          </p:cNvCxnSpPr>
          <p:nvPr/>
        </p:nvCxnSpPr>
        <p:spPr>
          <a:xfrm flipV="1">
            <a:off x="7535880" y="5633640"/>
            <a:ext cx="389520" cy="2448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69" name="Rectangle 24"/>
          <p:cNvSpPr/>
          <p:nvPr/>
        </p:nvSpPr>
        <p:spPr>
          <a:xfrm>
            <a:off x="254160" y="4361040"/>
            <a:ext cx="1981080" cy="973080"/>
          </a:xfrm>
          <a:prstGeom prst="rect">
            <a:avLst/>
          </a:prstGeom>
          <a:solidFill>
            <a:srgbClr val="a6e4ff"/>
          </a:solidFill>
          <a:ln w="9360">
            <a:solidFill>
              <a:srgbClr val="0099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E A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ppScale Admin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Straight Arrow Connector 25"/>
          <p:cNvCxnSpPr/>
          <p:nvPr/>
        </p:nvCxnSpPr>
        <p:spPr>
          <a:xfrm>
            <a:off x="1929960" y="4878360"/>
            <a:ext cx="12963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1" name="Rectangle 26"/>
          <p:cNvSpPr/>
          <p:nvPr/>
        </p:nvSpPr>
        <p:spPr>
          <a:xfrm>
            <a:off x="254160" y="5524560"/>
            <a:ext cx="1981080" cy="647640"/>
          </a:xfrm>
          <a:prstGeom prst="rect">
            <a:avLst/>
          </a:prstGeom>
          <a:solidFill>
            <a:srgbClr val="a6e4ff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E A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47"/>
          <p:cNvGrpSpPr/>
          <p:nvPr/>
        </p:nvGrpSpPr>
        <p:grpSpPr>
          <a:xfrm>
            <a:off x="7578720" y="5954760"/>
            <a:ext cx="1351440" cy="642600"/>
            <a:chOff x="7578720" y="5954760"/>
            <a:chExt cx="1351440" cy="642600"/>
          </a:xfrm>
        </p:grpSpPr>
        <p:cxnSp>
          <p:nvCxnSpPr>
            <p:cNvPr id="273" name="Straight Arrow Connector 21"/>
            <p:cNvCxnSpPr/>
            <p:nvPr/>
          </p:nvCxnSpPr>
          <p:spPr>
            <a:xfrm>
              <a:off x="7578720" y="615780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74" name="Rectangle 46"/>
            <p:cNvSpPr/>
            <p:nvPr/>
          </p:nvSpPr>
          <p:spPr>
            <a:xfrm>
              <a:off x="7877880" y="5954760"/>
              <a:ext cx="105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ppScal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ool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Rectangle 47"/>
          <p:cNvSpPr/>
          <p:nvPr/>
        </p:nvSpPr>
        <p:spPr>
          <a:xfrm>
            <a:off x="7924680" y="545004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48"/>
          <p:cNvSpPr/>
          <p:nvPr/>
        </p:nvSpPr>
        <p:spPr>
          <a:xfrm>
            <a:off x="7887600" y="4859280"/>
            <a:ext cx="113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troll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8"/>
          <p:cNvSpPr/>
          <p:nvPr/>
        </p:nvSpPr>
        <p:spPr>
          <a:xfrm>
            <a:off x="3392640" y="465948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mic Sans MS"/>
              </a:rPr>
              <a:t>AL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60"/>
          <p:cNvSpPr/>
          <p:nvPr/>
        </p:nvSpPr>
        <p:spPr>
          <a:xfrm>
            <a:off x="5816520" y="5192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mic Sans MS"/>
              </a:rPr>
              <a:t>DB S/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61"/>
          <p:cNvSpPr/>
          <p:nvPr/>
        </p:nvSpPr>
        <p:spPr>
          <a:xfrm>
            <a:off x="4302000" y="564984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mic Sans MS"/>
              </a:rPr>
              <a:t>A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34"/>
          <p:cNvSpPr/>
          <p:nvPr/>
        </p:nvSpPr>
        <p:spPr>
          <a:xfrm>
            <a:off x="330120" y="5600880"/>
            <a:ext cx="1981440" cy="647640"/>
          </a:xfrm>
          <a:prstGeom prst="rect">
            <a:avLst/>
          </a:prstGeom>
          <a:solidFill>
            <a:srgbClr val="a6e4ff"/>
          </a:solidFill>
          <a:ln w="936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E A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5"/>
          <p:cNvSpPr/>
          <p:nvPr/>
        </p:nvSpPr>
        <p:spPr>
          <a:xfrm>
            <a:off x="439560" y="5676840"/>
            <a:ext cx="1903680" cy="647640"/>
          </a:xfrm>
          <a:prstGeom prst="rect">
            <a:avLst/>
          </a:prstGeom>
          <a:solidFill>
            <a:srgbClr val="a6e4ff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E A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Straight Arrow Connector 36"/>
          <p:cNvCxnSpPr/>
          <p:nvPr/>
        </p:nvCxnSpPr>
        <p:spPr>
          <a:xfrm flipH="1" flipV="1">
            <a:off x="1929960" y="5828760"/>
            <a:ext cx="2363040" cy="108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82" name="Rectangle 64"/>
          <p:cNvSpPr/>
          <p:nvPr/>
        </p:nvSpPr>
        <p:spPr>
          <a:xfrm>
            <a:off x="2752560" y="3765600"/>
            <a:ext cx="24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mic Sans MS"/>
              </a:rPr>
              <a:t>AppScale Clou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0960" y="1073160"/>
            <a:ext cx="8918640" cy="19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system monitoring (low-overhead HPM/OS &amp; profi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Feedback driven adaptation, grow/shrink the clou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nline workload characterization, behavior pattern recogn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dentify critical tasks, applications,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hared-memory support for co-loca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aaS customization, PaaS-IaaS coordination,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499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499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Oval 41"/>
          <p:cNvSpPr/>
          <p:nvPr/>
        </p:nvSpPr>
        <p:spPr>
          <a:xfrm>
            <a:off x="6470640" y="4340160"/>
            <a:ext cx="304920" cy="31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42"/>
          <p:cNvSpPr/>
          <p:nvPr/>
        </p:nvSpPr>
        <p:spPr>
          <a:xfrm>
            <a:off x="6622920" y="4481640"/>
            <a:ext cx="304920" cy="315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43"/>
          <p:cNvSpPr/>
          <p:nvPr/>
        </p:nvSpPr>
        <p:spPr>
          <a:xfrm>
            <a:off x="6775560" y="4645080"/>
            <a:ext cx="304560" cy="315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43"/>
          <p:cNvSpPr/>
          <p:nvPr/>
        </p:nvSpPr>
        <p:spPr>
          <a:xfrm>
            <a:off x="7873920" y="3740040"/>
            <a:ext cx="13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mic Sans MS"/>
              </a:rPr>
              <a:t>Compu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mic Sans MS"/>
              </a:rPr>
              <a:t>task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mic Sans MS"/>
              </a:rPr>
              <a:t>(e.g. Map Reduce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45"/>
          <p:cNvSpPr/>
          <p:nvPr/>
        </p:nvSpPr>
        <p:spPr>
          <a:xfrm>
            <a:off x="6927840" y="4786200"/>
            <a:ext cx="304920" cy="31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46"/>
          <p:cNvSpPr/>
          <p:nvPr/>
        </p:nvSpPr>
        <p:spPr>
          <a:xfrm>
            <a:off x="7634160" y="4248000"/>
            <a:ext cx="203400" cy="203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ctagon 6"/>
          <p:cNvSpPr/>
          <p:nvPr/>
        </p:nvSpPr>
        <p:spPr>
          <a:xfrm>
            <a:off x="5207040" y="4191120"/>
            <a:ext cx="1143000" cy="6858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59"/>
          <p:cNvSpPr/>
          <p:nvPr/>
        </p:nvSpPr>
        <p:spPr>
          <a:xfrm>
            <a:off x="5283360" y="434340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mic Sans MS"/>
              </a:rPr>
              <a:t>DB M/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" name="Straight Arrow Connector 17"/>
          <p:cNvCxnSpPr/>
          <p:nvPr/>
        </p:nvCxnSpPr>
        <p:spPr>
          <a:xfrm flipV="1">
            <a:off x="4902120" y="4799880"/>
            <a:ext cx="53424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Can 13"/>
          <p:cNvSpPr/>
          <p:nvPr/>
        </p:nvSpPr>
        <p:spPr>
          <a:xfrm>
            <a:off x="5776920" y="1117440"/>
            <a:ext cx="731880" cy="66708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Can 14"/>
          <p:cNvSpPr/>
          <p:nvPr/>
        </p:nvSpPr>
        <p:spPr>
          <a:xfrm>
            <a:off x="5932440" y="1273320"/>
            <a:ext cx="730440" cy="66492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gle app eng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1114560" y="2978280"/>
            <a:ext cx="6095880" cy="330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2173320" y="4191120"/>
            <a:ext cx="3132000" cy="1876320"/>
          </a:xfrm>
          <a:prstGeom prst="rect">
            <a:avLst/>
          </a:prstGeom>
          <a:gradFill rotWithShape="0">
            <a:gsLst>
              <a:gs pos="0">
                <a:srgbClr val="feb77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d06f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1397160" y="3273480"/>
            <a:ext cx="5376600" cy="720720"/>
          </a:xfrm>
          <a:prstGeom prst="rect">
            <a:avLst/>
          </a:prstGeom>
          <a:gradFill rotWithShape="0">
            <a:gsLst>
              <a:gs pos="0">
                <a:srgbClr val="6cb3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cb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AE Application (your code here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Can 7"/>
          <p:cNvSpPr/>
          <p:nvPr/>
        </p:nvSpPr>
        <p:spPr>
          <a:xfrm>
            <a:off x="5616720" y="4924440"/>
            <a:ext cx="1198440" cy="1270080"/>
          </a:xfrm>
          <a:prstGeom prst="can">
            <a:avLst>
              <a:gd name="adj" fmla="val 23611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1309680" y="4286160"/>
            <a:ext cx="525600" cy="1824120"/>
          </a:xfrm>
          <a:prstGeom prst="rect">
            <a:avLst/>
          </a:prstGeom>
          <a:solidFill>
            <a:srgbClr val="dbe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Can 10"/>
          <p:cNvSpPr/>
          <p:nvPr/>
        </p:nvSpPr>
        <p:spPr>
          <a:xfrm>
            <a:off x="5348160" y="1238400"/>
            <a:ext cx="730440" cy="66672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Can 11"/>
          <p:cNvSpPr/>
          <p:nvPr/>
        </p:nvSpPr>
        <p:spPr>
          <a:xfrm>
            <a:off x="5500800" y="1390680"/>
            <a:ext cx="730080" cy="66672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Can 12"/>
          <p:cNvSpPr/>
          <p:nvPr/>
        </p:nvSpPr>
        <p:spPr>
          <a:xfrm>
            <a:off x="5653080" y="1542960"/>
            <a:ext cx="730080" cy="66672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0"/>
          <p:cNvSpPr/>
          <p:nvPr/>
        </p:nvSpPr>
        <p:spPr>
          <a:xfrm>
            <a:off x="6691680" y="1141560"/>
            <a:ext cx="153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rivate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nterpr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ata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oogle app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reparation 22"/>
          <p:cNvSpPr/>
          <p:nvPr/>
        </p:nvSpPr>
        <p:spPr>
          <a:xfrm>
            <a:off x="2314440" y="4303800"/>
            <a:ext cx="803520" cy="409320"/>
          </a:xfrm>
          <a:prstGeom prst="flowChartPreparation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mage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reparation 23"/>
          <p:cNvSpPr/>
          <p:nvPr/>
        </p:nvSpPr>
        <p:spPr>
          <a:xfrm>
            <a:off x="4681440" y="4950000"/>
            <a:ext cx="455760" cy="441000"/>
          </a:xfrm>
          <a:prstGeom prst="flowChartPreparation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reparation 24"/>
          <p:cNvSpPr/>
          <p:nvPr/>
        </p:nvSpPr>
        <p:spPr>
          <a:xfrm>
            <a:off x="2227320" y="5587920"/>
            <a:ext cx="1144440" cy="392040"/>
          </a:xfrm>
          <a:prstGeom prst="flowChartPreparation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emcach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reparation 25"/>
          <p:cNvSpPr/>
          <p:nvPr/>
        </p:nvSpPr>
        <p:spPr>
          <a:xfrm>
            <a:off x="4397400" y="5599080"/>
            <a:ext cx="795240" cy="392040"/>
          </a:xfrm>
          <a:prstGeom prst="flowChartPreparation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ai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8" name="Straight Arrow Connector 33"/>
          <p:cNvCxnSpPr>
            <a:endCxn id="298" idx="1"/>
          </p:cNvCxnSpPr>
          <p:nvPr/>
        </p:nvCxnSpPr>
        <p:spPr>
          <a:xfrm flipH="1">
            <a:off x="6216120" y="3994200"/>
            <a:ext cx="7200" cy="93096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9" name="Preparation 28"/>
          <p:cNvSpPr/>
          <p:nvPr/>
        </p:nvSpPr>
        <p:spPr>
          <a:xfrm>
            <a:off x="4514760" y="4270320"/>
            <a:ext cx="674640" cy="392040"/>
          </a:xfrm>
          <a:prstGeom prst="flowChartPreparation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ser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reparation 29"/>
          <p:cNvSpPr/>
          <p:nvPr/>
        </p:nvSpPr>
        <p:spPr>
          <a:xfrm>
            <a:off x="3222720" y="4361040"/>
            <a:ext cx="757080" cy="522000"/>
          </a:xfrm>
          <a:prstGeom prst="flowChartPreparation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RL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etch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30"/>
          <p:cNvSpPr/>
          <p:nvPr/>
        </p:nvSpPr>
        <p:spPr>
          <a:xfrm rot="16200000">
            <a:off x="813240" y="489528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ministrato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sol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1"/>
          <p:cNvSpPr/>
          <p:nvPr/>
        </p:nvSpPr>
        <p:spPr>
          <a:xfrm>
            <a:off x="5565240" y="548784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ata Stor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5827680" y="4286160"/>
            <a:ext cx="816120" cy="355680"/>
          </a:xfrm>
          <a:prstGeom prst="rect">
            <a:avLst/>
          </a:prstGeom>
          <a:solidFill>
            <a:srgbClr val="dbe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34"/>
          <p:cNvSpPr/>
          <p:nvPr/>
        </p:nvSpPr>
        <p:spPr>
          <a:xfrm>
            <a:off x="5824440" y="4219560"/>
            <a:ext cx="8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rotobu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ata AP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Straight Arrow Connector 36"/>
          <p:cNvCxnSpPr/>
          <p:nvPr/>
        </p:nvCxnSpPr>
        <p:spPr>
          <a:xfrm>
            <a:off x="6007680" y="2100240"/>
            <a:ext cx="3960" cy="128664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6" name="Rectangle 15"/>
          <p:cNvSpPr/>
          <p:nvPr/>
        </p:nvSpPr>
        <p:spPr>
          <a:xfrm>
            <a:off x="5573880" y="2463840"/>
            <a:ext cx="888840" cy="272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DC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39"/>
          <p:cNvSpPr/>
          <p:nvPr/>
        </p:nvSpPr>
        <p:spPr>
          <a:xfrm>
            <a:off x="998280" y="2903400"/>
            <a:ext cx="25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Google App Engine (GAE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40"/>
          <p:cNvSpPr/>
          <p:nvPr/>
        </p:nvSpPr>
        <p:spPr>
          <a:xfrm>
            <a:off x="2980080" y="4965840"/>
            <a:ext cx="95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ervice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reparation 41"/>
          <p:cNvSpPr/>
          <p:nvPr/>
        </p:nvSpPr>
        <p:spPr>
          <a:xfrm>
            <a:off x="2228760" y="5060880"/>
            <a:ext cx="633600" cy="392040"/>
          </a:xfrm>
          <a:prstGeom prst="flowChartPreparation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r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reparation 42"/>
          <p:cNvSpPr/>
          <p:nvPr/>
        </p:nvSpPr>
        <p:spPr>
          <a:xfrm>
            <a:off x="3483000" y="5551560"/>
            <a:ext cx="777960" cy="333360"/>
          </a:xfrm>
          <a:prstGeom prst="flowChartPreparation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as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0"/>
          <a:stretch/>
        </p:blipFill>
        <p:spPr>
          <a:xfrm>
            <a:off x="8142120" y="473040"/>
            <a:ext cx="633600" cy="500040"/>
          </a:xfrm>
          <a:prstGeom prst="rect">
            <a:avLst/>
          </a:prstGeom>
          <a:ln w="0">
            <a:noFill/>
          </a:ln>
        </p:spPr>
      </p:pic>
      <p:cxnSp>
        <p:nvCxnSpPr>
          <p:cNvPr id="322" name="Straight Arrow Connector 44"/>
          <p:cNvCxnSpPr/>
          <p:nvPr/>
        </p:nvCxnSpPr>
        <p:spPr>
          <a:xfrm flipH="1">
            <a:off x="1593000" y="3852360"/>
            <a:ext cx="453240" cy="60732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3" name="Straight Arrow Connector 45"/>
          <p:cNvCxnSpPr/>
          <p:nvPr/>
        </p:nvCxnSpPr>
        <p:spPr>
          <a:xfrm flipH="1" flipV="1">
            <a:off x="1719000" y="4709880"/>
            <a:ext cx="567360" cy="360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4" name="Straight Arrow Connector 46"/>
          <p:cNvCxnSpPr/>
          <p:nvPr/>
        </p:nvCxnSpPr>
        <p:spPr>
          <a:xfrm>
            <a:off x="3819960" y="3849840"/>
            <a:ext cx="3960" cy="538560"/>
          </a:xfrm>
          <a:prstGeom prst="straightConnector1">
            <a:avLst/>
          </a:prstGeom>
          <a:ln w="5724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25" name="Rectangle 48"/>
          <p:cNvSpPr/>
          <p:nvPr/>
        </p:nvSpPr>
        <p:spPr>
          <a:xfrm>
            <a:off x="3112920" y="3216240"/>
            <a:ext cx="173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MyApp.appspot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reparation 52"/>
          <p:cNvSpPr/>
          <p:nvPr/>
        </p:nvSpPr>
        <p:spPr>
          <a:xfrm>
            <a:off x="3933720" y="4741920"/>
            <a:ext cx="674640" cy="552240"/>
          </a:xfrm>
          <a:prstGeom prst="flowChartPreparation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lob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tor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ud compu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0960" y="1029960"/>
            <a:ext cx="893304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oftware systems for accessing easily and transparently scalable CPU/storage/network resources via a network connection or web interface – 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s-a-servic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Culmination of grid/cluster/utility/elastic comput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Advances in processor, virtualization, systems technolog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access to distributed and shared cluster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Has experienced a rapid uptake in the commercial sec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ublic clouds –your software/apps on others’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User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ren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a small fraction of vast resource p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59595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vertised service-level-agreements (SLA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59595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ources are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paque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sol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Offer high availability, fault tolerance, and extreme sca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Can 13"/>
          <p:cNvSpPr/>
          <p:nvPr/>
        </p:nvSpPr>
        <p:spPr>
          <a:xfrm>
            <a:off x="5776920" y="1117440"/>
            <a:ext cx="731880" cy="66708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Can 14"/>
          <p:cNvSpPr/>
          <p:nvPr/>
        </p:nvSpPr>
        <p:spPr>
          <a:xfrm>
            <a:off x="5932440" y="1273320"/>
            <a:ext cx="730440" cy="66492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stomized platform-as-a-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1114560" y="2978280"/>
            <a:ext cx="6095880" cy="330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2173320" y="4191120"/>
            <a:ext cx="3132000" cy="1876320"/>
          </a:xfrm>
          <a:prstGeom prst="rect">
            <a:avLst/>
          </a:prstGeom>
          <a:gradFill rotWithShape="0">
            <a:gsLst>
              <a:gs pos="0">
                <a:srgbClr val="feb77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d06f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1397160" y="3273480"/>
            <a:ext cx="5376600" cy="720720"/>
          </a:xfrm>
          <a:prstGeom prst="rect">
            <a:avLst/>
          </a:prstGeom>
          <a:gradFill rotWithShape="0">
            <a:gsLst>
              <a:gs pos="0">
                <a:srgbClr val="6cb3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cb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AE, HPC, Data Intensive Applica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Can 7"/>
          <p:cNvSpPr/>
          <p:nvPr/>
        </p:nvSpPr>
        <p:spPr>
          <a:xfrm>
            <a:off x="5616720" y="4924440"/>
            <a:ext cx="1198440" cy="1270080"/>
          </a:xfrm>
          <a:prstGeom prst="can">
            <a:avLst>
              <a:gd name="adj" fmla="val 23611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1309680" y="4286160"/>
            <a:ext cx="525600" cy="1824120"/>
          </a:xfrm>
          <a:prstGeom prst="rect">
            <a:avLst/>
          </a:prstGeom>
          <a:solidFill>
            <a:srgbClr val="dbe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Can 10"/>
          <p:cNvSpPr/>
          <p:nvPr/>
        </p:nvSpPr>
        <p:spPr>
          <a:xfrm>
            <a:off x="5348160" y="1238400"/>
            <a:ext cx="730440" cy="66672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Can 11"/>
          <p:cNvSpPr/>
          <p:nvPr/>
        </p:nvSpPr>
        <p:spPr>
          <a:xfrm>
            <a:off x="5500800" y="1390680"/>
            <a:ext cx="730080" cy="66672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Can 12"/>
          <p:cNvSpPr/>
          <p:nvPr/>
        </p:nvSpPr>
        <p:spPr>
          <a:xfrm>
            <a:off x="5653080" y="1542960"/>
            <a:ext cx="730080" cy="66672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6670440" y="1141560"/>
            <a:ext cx="226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rivate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nterpr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ata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other app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ublic cloud fabric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reparation 22"/>
          <p:cNvSpPr/>
          <p:nvPr/>
        </p:nvSpPr>
        <p:spPr>
          <a:xfrm>
            <a:off x="2314440" y="4684680"/>
            <a:ext cx="803520" cy="325440"/>
          </a:xfrm>
          <a:prstGeom prst="flowChartPreparation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GPU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reparation 23"/>
          <p:cNvSpPr/>
          <p:nvPr/>
        </p:nvSpPr>
        <p:spPr>
          <a:xfrm>
            <a:off x="4361040" y="5108400"/>
            <a:ext cx="888840" cy="395640"/>
          </a:xfrm>
          <a:prstGeom prst="flowChartPreparation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a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educ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reparation 24"/>
          <p:cNvSpPr/>
          <p:nvPr/>
        </p:nvSpPr>
        <p:spPr>
          <a:xfrm>
            <a:off x="2212920" y="5630760"/>
            <a:ext cx="1300320" cy="392040"/>
          </a:xfrm>
          <a:prstGeom prst="flowChartPreparation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llaborat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reparation 25"/>
          <p:cNvSpPr/>
          <p:nvPr/>
        </p:nvSpPr>
        <p:spPr>
          <a:xfrm>
            <a:off x="4402080" y="5570640"/>
            <a:ext cx="847800" cy="455400"/>
          </a:xfrm>
          <a:prstGeom prst="flowChartPreparation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Vecto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uppor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Straight Arrow Connector 33"/>
          <p:cNvCxnSpPr>
            <a:endCxn id="333" idx="1"/>
          </p:cNvCxnSpPr>
          <p:nvPr/>
        </p:nvCxnSpPr>
        <p:spPr>
          <a:xfrm flipH="1">
            <a:off x="6216120" y="3994200"/>
            <a:ext cx="7200" cy="93096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4" name="Preparation 28"/>
          <p:cNvSpPr/>
          <p:nvPr/>
        </p:nvSpPr>
        <p:spPr>
          <a:xfrm>
            <a:off x="4514760" y="4270320"/>
            <a:ext cx="674640" cy="392040"/>
          </a:xfrm>
          <a:prstGeom prst="flowChartPreparation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uth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reparation 29"/>
          <p:cNvSpPr/>
          <p:nvPr/>
        </p:nvSpPr>
        <p:spPr>
          <a:xfrm>
            <a:off x="3294000" y="4416480"/>
            <a:ext cx="755640" cy="296640"/>
          </a:xfrm>
          <a:prstGeom prst="flowChartPreparation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30"/>
          <p:cNvSpPr/>
          <p:nvPr/>
        </p:nvSpPr>
        <p:spPr>
          <a:xfrm rot="16200000">
            <a:off x="813240" y="489528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ministrato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sol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31"/>
          <p:cNvSpPr/>
          <p:nvPr/>
        </p:nvSpPr>
        <p:spPr>
          <a:xfrm>
            <a:off x="5565240" y="548784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ata Stor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5827680" y="4286160"/>
            <a:ext cx="816120" cy="355680"/>
          </a:xfrm>
          <a:prstGeom prst="rect">
            <a:avLst/>
          </a:prstGeom>
          <a:solidFill>
            <a:srgbClr val="dbe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34"/>
          <p:cNvSpPr/>
          <p:nvPr/>
        </p:nvSpPr>
        <p:spPr>
          <a:xfrm>
            <a:off x="5824440" y="4219560"/>
            <a:ext cx="8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rotobu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ata AP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Straight Arrow Connector 36"/>
          <p:cNvCxnSpPr/>
          <p:nvPr/>
        </p:nvCxnSpPr>
        <p:spPr>
          <a:xfrm>
            <a:off x="6007680" y="2100240"/>
            <a:ext cx="3960" cy="128664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51" name="Rectangle 15"/>
          <p:cNvSpPr/>
          <p:nvPr/>
        </p:nvSpPr>
        <p:spPr>
          <a:xfrm>
            <a:off x="5573880" y="2463840"/>
            <a:ext cx="888840" cy="272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DC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39"/>
          <p:cNvSpPr/>
          <p:nvPr/>
        </p:nvSpPr>
        <p:spPr>
          <a:xfrm>
            <a:off x="1028880" y="2014560"/>
            <a:ext cx="465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pecialized platform access to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tandard API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latforms for other app domai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40"/>
          <p:cNvSpPr/>
          <p:nvPr/>
        </p:nvSpPr>
        <p:spPr>
          <a:xfrm>
            <a:off x="3219840" y="5037120"/>
            <a:ext cx="95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ervice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reparation 41"/>
          <p:cNvSpPr/>
          <p:nvPr/>
        </p:nvSpPr>
        <p:spPr>
          <a:xfrm>
            <a:off x="2173320" y="5060880"/>
            <a:ext cx="1030320" cy="457200"/>
          </a:xfrm>
          <a:prstGeom prst="flowChartPreparation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trea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uppor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reparation 42"/>
          <p:cNvSpPr/>
          <p:nvPr/>
        </p:nvSpPr>
        <p:spPr>
          <a:xfrm>
            <a:off x="3538440" y="5522760"/>
            <a:ext cx="779400" cy="333360"/>
          </a:xfrm>
          <a:prstGeom prst="flowChartPreparation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as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Straight Arrow Connector 44"/>
          <p:cNvCxnSpPr/>
          <p:nvPr/>
        </p:nvCxnSpPr>
        <p:spPr>
          <a:xfrm flipH="1">
            <a:off x="1593000" y="3852360"/>
            <a:ext cx="453240" cy="60732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7" name="Straight Arrow Connector 45"/>
          <p:cNvCxnSpPr/>
          <p:nvPr/>
        </p:nvCxnSpPr>
        <p:spPr>
          <a:xfrm flipH="1" flipV="1">
            <a:off x="1719000" y="4709880"/>
            <a:ext cx="567360" cy="360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8" name="Straight Arrow Connector 46"/>
          <p:cNvCxnSpPr/>
          <p:nvPr/>
        </p:nvCxnSpPr>
        <p:spPr>
          <a:xfrm>
            <a:off x="3819960" y="3849840"/>
            <a:ext cx="3960" cy="538560"/>
          </a:xfrm>
          <a:prstGeom prst="straightConnector1">
            <a:avLst/>
          </a:prstGeom>
          <a:ln w="5724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59" name="Rectangle 48"/>
          <p:cNvSpPr/>
          <p:nvPr/>
        </p:nvSpPr>
        <p:spPr>
          <a:xfrm>
            <a:off x="3136680" y="3216240"/>
            <a:ext cx="168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MyApp.your.url.gov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reparation 52"/>
          <p:cNvSpPr/>
          <p:nvPr/>
        </p:nvSpPr>
        <p:spPr>
          <a:xfrm>
            <a:off x="3879720" y="4629240"/>
            <a:ext cx="827280" cy="450720"/>
          </a:xfrm>
          <a:prstGeom prst="flowChartPreparation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ust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ib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11"/>
          <a:stretch/>
        </p:blipFill>
        <p:spPr>
          <a:xfrm>
            <a:off x="7550280" y="450720"/>
            <a:ext cx="606240" cy="507960"/>
          </a:xfrm>
          <a:prstGeom prst="rect">
            <a:avLst/>
          </a:prstGeom>
          <a:ln w="0">
            <a:noFill/>
          </a:ln>
        </p:spPr>
      </p:pic>
      <p:sp>
        <p:nvSpPr>
          <p:cNvPr id="362" name="Preparation 38"/>
          <p:cNvSpPr/>
          <p:nvPr/>
        </p:nvSpPr>
        <p:spPr>
          <a:xfrm>
            <a:off x="2227320" y="4289400"/>
            <a:ext cx="1031760" cy="293760"/>
          </a:xfrm>
          <a:prstGeom prst="flowChartPreparation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essagi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scale and RD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4" name="Picture 5" descr=""/>
          <p:cNvPicPr/>
          <p:nvPr/>
        </p:nvPicPr>
        <p:blipFill>
          <a:blip r:embed="rId1"/>
          <a:stretch/>
        </p:blipFill>
        <p:spPr>
          <a:xfrm>
            <a:off x="8031240" y="324000"/>
            <a:ext cx="873000" cy="733320"/>
          </a:xfrm>
          <a:prstGeom prst="rect">
            <a:avLst/>
          </a:prstGeom>
          <a:ln w="0">
            <a:noFill/>
          </a:ln>
        </p:spPr>
      </p:pic>
      <p:sp>
        <p:nvSpPr>
          <p:cNvPr id="365" name="Cloud 4"/>
          <p:cNvSpPr/>
          <p:nvPr/>
        </p:nvSpPr>
        <p:spPr>
          <a:xfrm>
            <a:off x="2540160" y="3962520"/>
            <a:ext cx="5029200" cy="2895480"/>
          </a:xfrm>
          <a:prstGeom prst="pie">
            <a:avLst/>
          </a:prstGeom>
          <a:noFill/>
          <a:ln w="9360">
            <a:solidFill>
              <a:srgbClr val="a6e4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Hexagon 5"/>
          <p:cNvSpPr/>
          <p:nvPr/>
        </p:nvSpPr>
        <p:spPr>
          <a:xfrm>
            <a:off x="3111480" y="4381560"/>
            <a:ext cx="1143000" cy="990720"/>
          </a:xfrm>
          <a:prstGeom prst="hexagon">
            <a:avLst>
              <a:gd name="adj" fmla="val 2499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ctagon 7"/>
          <p:cNvSpPr/>
          <p:nvPr/>
        </p:nvSpPr>
        <p:spPr>
          <a:xfrm>
            <a:off x="5740560" y="5486400"/>
            <a:ext cx="1143000" cy="6858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ctagon 8"/>
          <p:cNvSpPr/>
          <p:nvPr/>
        </p:nvSpPr>
        <p:spPr>
          <a:xfrm>
            <a:off x="5740560" y="5334120"/>
            <a:ext cx="1143000" cy="6858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ctagon 9"/>
          <p:cNvSpPr/>
          <p:nvPr/>
        </p:nvSpPr>
        <p:spPr>
          <a:xfrm>
            <a:off x="5740560" y="5143680"/>
            <a:ext cx="1143000" cy="6858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ctagon 10"/>
          <p:cNvSpPr/>
          <p:nvPr/>
        </p:nvSpPr>
        <p:spPr>
          <a:xfrm>
            <a:off x="5740560" y="4952880"/>
            <a:ext cx="1143000" cy="6858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Can 11"/>
          <p:cNvSpPr/>
          <p:nvPr/>
        </p:nvSpPr>
        <p:spPr>
          <a:xfrm>
            <a:off x="5911920" y="4800600"/>
            <a:ext cx="266760" cy="22860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rapezoid 12"/>
          <p:cNvSpPr/>
          <p:nvPr/>
        </p:nvSpPr>
        <p:spPr>
          <a:xfrm>
            <a:off x="3911760" y="5638680"/>
            <a:ext cx="1143000" cy="762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rapezoid 13"/>
          <p:cNvSpPr/>
          <p:nvPr/>
        </p:nvSpPr>
        <p:spPr>
          <a:xfrm>
            <a:off x="3987720" y="5562720"/>
            <a:ext cx="1143000" cy="7617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rapezoid 14"/>
          <p:cNvSpPr/>
          <p:nvPr/>
        </p:nvSpPr>
        <p:spPr>
          <a:xfrm>
            <a:off x="4064040" y="5486400"/>
            <a:ext cx="1143000" cy="762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rapezoid 15"/>
          <p:cNvSpPr/>
          <p:nvPr/>
        </p:nvSpPr>
        <p:spPr>
          <a:xfrm>
            <a:off x="4140360" y="5410080"/>
            <a:ext cx="1143000" cy="762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Straight Arrow Connector 16"/>
          <p:cNvCxnSpPr>
            <a:endCxn id="377" idx="2"/>
          </p:cNvCxnSpPr>
          <p:nvPr/>
        </p:nvCxnSpPr>
        <p:spPr>
          <a:xfrm flipV="1">
            <a:off x="4063680" y="4392000"/>
            <a:ext cx="1143720" cy="408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78" name="Straight Arrow Connector 18"/>
          <p:cNvCxnSpPr/>
          <p:nvPr/>
        </p:nvCxnSpPr>
        <p:spPr>
          <a:xfrm>
            <a:off x="4064040" y="5143680"/>
            <a:ext cx="381600" cy="419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79" name="Straight Arrow Connector 19"/>
          <p:cNvCxnSpPr/>
          <p:nvPr/>
        </p:nvCxnSpPr>
        <p:spPr>
          <a:xfrm flipV="1">
            <a:off x="5053680" y="4876200"/>
            <a:ext cx="533880" cy="61020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380" name="Straight Arrow Connector 20"/>
          <p:cNvCxnSpPr>
            <a:endCxn id="370" idx="2"/>
          </p:cNvCxnSpPr>
          <p:nvPr/>
        </p:nvCxnSpPr>
        <p:spPr>
          <a:xfrm flipV="1">
            <a:off x="5054400" y="5436360"/>
            <a:ext cx="686520" cy="12636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381" name="Straight Arrow Connector 22"/>
          <p:cNvCxnSpPr/>
          <p:nvPr/>
        </p:nvCxnSpPr>
        <p:spPr>
          <a:xfrm>
            <a:off x="7578360" y="5087520"/>
            <a:ext cx="30564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2" name="Straight Arrow Connector 23"/>
          <p:cNvCxnSpPr>
            <a:endCxn id="383" idx="1"/>
          </p:cNvCxnSpPr>
          <p:nvPr/>
        </p:nvCxnSpPr>
        <p:spPr>
          <a:xfrm flipV="1">
            <a:off x="7535880" y="5633640"/>
            <a:ext cx="389520" cy="2448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384" name="Rectangle 24"/>
          <p:cNvSpPr/>
          <p:nvPr/>
        </p:nvSpPr>
        <p:spPr>
          <a:xfrm>
            <a:off x="254160" y="4361040"/>
            <a:ext cx="1981080" cy="973080"/>
          </a:xfrm>
          <a:prstGeom prst="rect">
            <a:avLst/>
          </a:prstGeom>
          <a:solidFill>
            <a:srgbClr val="a6e4ff"/>
          </a:solidFill>
          <a:ln w="9360">
            <a:solidFill>
              <a:srgbClr val="0099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E A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ppScale Admin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Straight Arrow Connector 25"/>
          <p:cNvCxnSpPr/>
          <p:nvPr/>
        </p:nvCxnSpPr>
        <p:spPr>
          <a:xfrm>
            <a:off x="1929960" y="4878360"/>
            <a:ext cx="12963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6" name="Rectangle 26"/>
          <p:cNvSpPr/>
          <p:nvPr/>
        </p:nvSpPr>
        <p:spPr>
          <a:xfrm>
            <a:off x="254160" y="5524560"/>
            <a:ext cx="1981080" cy="647640"/>
          </a:xfrm>
          <a:prstGeom prst="rect">
            <a:avLst/>
          </a:prstGeom>
          <a:solidFill>
            <a:srgbClr val="a6e4ff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E A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Group 47"/>
          <p:cNvGrpSpPr/>
          <p:nvPr/>
        </p:nvGrpSpPr>
        <p:grpSpPr>
          <a:xfrm>
            <a:off x="7578720" y="5954760"/>
            <a:ext cx="1351440" cy="642600"/>
            <a:chOff x="7578720" y="5954760"/>
            <a:chExt cx="1351440" cy="642600"/>
          </a:xfrm>
        </p:grpSpPr>
        <p:cxnSp>
          <p:nvCxnSpPr>
            <p:cNvPr id="388" name="Straight Arrow Connector 21"/>
            <p:cNvCxnSpPr/>
            <p:nvPr/>
          </p:nvCxnSpPr>
          <p:spPr>
            <a:xfrm>
              <a:off x="7578720" y="615780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89" name="Rectangle 46"/>
            <p:cNvSpPr/>
            <p:nvPr/>
          </p:nvSpPr>
          <p:spPr>
            <a:xfrm>
              <a:off x="7877880" y="5954760"/>
              <a:ext cx="105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ppScal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ool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Rectangle 47"/>
          <p:cNvSpPr/>
          <p:nvPr/>
        </p:nvSpPr>
        <p:spPr>
          <a:xfrm>
            <a:off x="7924680" y="545004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48"/>
          <p:cNvSpPr/>
          <p:nvPr/>
        </p:nvSpPr>
        <p:spPr>
          <a:xfrm>
            <a:off x="7887600" y="4859280"/>
            <a:ext cx="113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troll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58"/>
          <p:cNvSpPr/>
          <p:nvPr/>
        </p:nvSpPr>
        <p:spPr>
          <a:xfrm>
            <a:off x="3392640" y="465948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mic Sans MS"/>
              </a:rPr>
              <a:t>AL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60"/>
          <p:cNvSpPr/>
          <p:nvPr/>
        </p:nvSpPr>
        <p:spPr>
          <a:xfrm>
            <a:off x="5816520" y="5192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mic Sans MS"/>
              </a:rPr>
              <a:t>DB S/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61"/>
          <p:cNvSpPr/>
          <p:nvPr/>
        </p:nvSpPr>
        <p:spPr>
          <a:xfrm>
            <a:off x="4302000" y="564984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mic Sans MS"/>
              </a:rPr>
              <a:t>A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330120" y="5600880"/>
            <a:ext cx="1981440" cy="647640"/>
          </a:xfrm>
          <a:prstGeom prst="rect">
            <a:avLst/>
          </a:prstGeom>
          <a:solidFill>
            <a:srgbClr val="a6e4ff"/>
          </a:solidFill>
          <a:ln w="936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E A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35"/>
          <p:cNvSpPr/>
          <p:nvPr/>
        </p:nvSpPr>
        <p:spPr>
          <a:xfrm>
            <a:off x="439560" y="5676840"/>
            <a:ext cx="1903680" cy="647640"/>
          </a:xfrm>
          <a:prstGeom prst="rect">
            <a:avLst/>
          </a:prstGeom>
          <a:solidFill>
            <a:srgbClr val="a6e4ff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E A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Straight Arrow Connector 36"/>
          <p:cNvCxnSpPr/>
          <p:nvPr/>
        </p:nvCxnSpPr>
        <p:spPr>
          <a:xfrm flipH="1" flipV="1">
            <a:off x="1929960" y="5828760"/>
            <a:ext cx="2363040" cy="108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397" name="Rectangle 64"/>
          <p:cNvSpPr/>
          <p:nvPr/>
        </p:nvSpPr>
        <p:spPr>
          <a:xfrm>
            <a:off x="2752560" y="3765600"/>
            <a:ext cx="24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mic Sans MS"/>
              </a:rPr>
              <a:t>AppScale Clou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210960" y="1073160"/>
            <a:ext cx="8918640" cy="19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ahoma"/>
                <a:ea typeface="Tahoma"/>
              </a:rPr>
              <a:t>Shared-memory support for co-loca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ahoma"/>
                <a:ea typeface="Tahoma"/>
              </a:rPr>
              <a:t>PaaS-IaaS coordination, adaptation, schedu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ompute/data intensive workloads (HPC, messages, strea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atabase system support for different work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rogrammatic interface and tools for applications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-21132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Improve ease of use ac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spcBef>
                <a:spcPts val="499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spcBef>
                <a:spcPts val="499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Oval 41"/>
          <p:cNvSpPr/>
          <p:nvPr/>
        </p:nvSpPr>
        <p:spPr>
          <a:xfrm>
            <a:off x="6470640" y="4340160"/>
            <a:ext cx="304920" cy="31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42"/>
          <p:cNvSpPr/>
          <p:nvPr/>
        </p:nvSpPr>
        <p:spPr>
          <a:xfrm>
            <a:off x="6622920" y="4481640"/>
            <a:ext cx="304920" cy="315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43"/>
          <p:cNvSpPr/>
          <p:nvPr/>
        </p:nvSpPr>
        <p:spPr>
          <a:xfrm>
            <a:off x="6775560" y="4645080"/>
            <a:ext cx="304560" cy="315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43"/>
          <p:cNvSpPr/>
          <p:nvPr/>
        </p:nvSpPr>
        <p:spPr>
          <a:xfrm>
            <a:off x="7873920" y="3740040"/>
            <a:ext cx="13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mic Sans MS"/>
              </a:rPr>
              <a:t>Compu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mic Sans MS"/>
              </a:rPr>
              <a:t>task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mic Sans MS"/>
              </a:rPr>
              <a:t>(e.g. Map Reduce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45"/>
          <p:cNvSpPr/>
          <p:nvPr/>
        </p:nvSpPr>
        <p:spPr>
          <a:xfrm>
            <a:off x="6927840" y="4786200"/>
            <a:ext cx="304920" cy="31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46"/>
          <p:cNvSpPr/>
          <p:nvPr/>
        </p:nvSpPr>
        <p:spPr>
          <a:xfrm>
            <a:off x="7634160" y="4248000"/>
            <a:ext cx="203400" cy="203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Octagon 6"/>
          <p:cNvSpPr/>
          <p:nvPr/>
        </p:nvSpPr>
        <p:spPr>
          <a:xfrm>
            <a:off x="5207040" y="4191120"/>
            <a:ext cx="1143000" cy="6858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59"/>
          <p:cNvSpPr/>
          <p:nvPr/>
        </p:nvSpPr>
        <p:spPr>
          <a:xfrm>
            <a:off x="5283360" y="434340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mic Sans MS"/>
              </a:rPr>
              <a:t>DB M/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Straight Arrow Connector 17"/>
          <p:cNvCxnSpPr/>
          <p:nvPr/>
        </p:nvCxnSpPr>
        <p:spPr>
          <a:xfrm flipV="1">
            <a:off x="4902120" y="4799880"/>
            <a:ext cx="53424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sca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http://appscale.cs.ucsb.e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225360" y="1114560"/>
            <a:ext cx="867888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hank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Leads: Chris Bunch, Navraj Choh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evelopment and research team: Jovan Chohan, Nupur Garg, Matt Hubert, Jonathan Kupferman, Puneet Lakhina, Yiming Li, Nagy Mostafa, Yoshihide Nomura (Fujitsu), Michal Weig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Supp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Google, IBM Research, National Science Found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OpenFabrics Allianc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6912000" y="1044720"/>
            <a:ext cx="1979640" cy="771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2"/>
          <a:stretch/>
        </p:blipFill>
        <p:spPr>
          <a:xfrm>
            <a:off x="4684680" y="5208480"/>
            <a:ext cx="1511280" cy="1135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3"/>
          <a:stretch/>
        </p:blipFill>
        <p:spPr>
          <a:xfrm>
            <a:off x="7972560" y="3584520"/>
            <a:ext cx="550800" cy="54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4"/>
          <a:stretch/>
        </p:blipFill>
        <p:spPr>
          <a:xfrm>
            <a:off x="7027920" y="3605040"/>
            <a:ext cx="633240" cy="5018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ud compu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5360" y="1114560"/>
            <a:ext cx="867888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ypes: as-a-Service (a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frastructure: Amazon Web Services (EC2, S3, EB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rtualized, isolated (CPU, Network, Storage) systems on which users execute entire runtime st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-200880">
              <a:spcBef>
                <a:spcPts val="451"/>
              </a:spcBef>
              <a:buClr>
                <a:srgbClr val="59595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lly customer self-ser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n APIs (IaaS standard), scalabl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tform: Google App Engine, Microsoft Az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alable program-level abstractions via well-defined interf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able construction of network-accessible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-level (sandbox) isolation, complete software st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ftware: Salesforce.co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s provided to thin clients over 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stomiz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public cloud features useful on-prem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5360" y="1114560"/>
            <a:ext cx="867888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ase of use – of local cluster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evelopment, configuration, deploy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Broaden particip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cale, performance and resource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onc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Vendor “lock-in”, pay-per-use, and availability reli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Privacy of code and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Resource constraints: storage, CPU/memory, commun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tential for hybrid and customized approa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One size may not fit a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public cloud features useful on-prem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5360" y="1114560"/>
            <a:ext cx="867888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ase of use – of local cluster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evelopment, configuration, deploy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Broaden particip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ifficult to test / try things out in public-only se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spcAft>
                <a:spcPts val="601"/>
              </a:spcAft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evelopers visualize the system  / have an intellectual mod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How to support other application domains: scale/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HPC, data-intensi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louds are opa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Open APIs, closed implement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spcAft>
                <a:spcPts val="601"/>
              </a:spcAft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What is your application/workload do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public cloud features useful on-prem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5360" y="1114560"/>
            <a:ext cx="867888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ase of use – of local cluster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evelopment, configuration, deploy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Broaden particip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ifficult to test / try things out in public-only se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spcAft>
                <a:spcPts val="601"/>
              </a:spcAft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evelopers visualize the system  / have an intellectual mod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How to support other application domains: scale/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HPC, data-intensi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louds are opa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Open APIs, closed implement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spcAft>
                <a:spcPts val="601"/>
              </a:spcAft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What is your application/workload do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043720" y="5996160"/>
            <a:ext cx="4972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f everyone does their own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200000"/>
              <a:buFont typeface="Wingdings" charset="2"/>
              <a:buChar char="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any non-standard APIs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ud computing fabrics from UCS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5360" y="1114560"/>
            <a:ext cx="867888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ring popular cloud fabrics to “on-premise” clusters that are easy to use and are transpa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emulating key cloud layers from the commercial sec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gender user community, access to real applications/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595959"/>
              </a:buClr>
              <a:buSzPct val="200000"/>
              <a:buFont typeface="Lucida Grande"/>
              <a:buChar char="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ard” APIs  (Amazon AWS, Google App Engine, MapReduc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verage extant software technolog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spcAft>
                <a:spcPts val="1800"/>
              </a:spcAft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ud computing fabrics from UCS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25360" y="1114560"/>
            <a:ext cx="867888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ring popular cloud fabrics to “on-premise” clusters that are easy to use and are transpa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emulating key cloud layers from the commercial sec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gender user community, access to real applications/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595959"/>
              </a:buClr>
              <a:buSzPct val="200000"/>
              <a:buFont typeface="Lucida Grande"/>
              <a:buChar char="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ard” APIs  (Amazon AWS, Google App Engine, MapReduc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verage extant software technolog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facilitate investigation o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-generation distributed / cloud computing softw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59595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ices, underlying device technology, support technolog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59595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stomization (availability, performance, application behavi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spcAft>
                <a:spcPts val="1199"/>
              </a:spcAft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ybrid cloud solutions (public and on-premise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06f42"/>
                </a:solidFill>
                <a:latin typeface="Tahoma"/>
              </a:rPr>
              <a:t>No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eplacement technology for any Public Cloud servi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spcAft>
                <a:spcPts val="1800"/>
              </a:spcAft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ud computing fabrics from UCS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25360" y="1114560"/>
            <a:ext cx="867888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ring popular cloud fabrics to “on-premise” clusters that are easy to use and are transpa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emulating key cloud layers from the commercial sec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gender user community, access to real applications/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595959"/>
              </a:buClr>
              <a:buSzPct val="200000"/>
              <a:buFont typeface="Lucida Grande"/>
              <a:buChar char="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ard” APIs  (Amazon AWS, Google App Engine, MapReduc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spcAft>
                <a:spcPts val="2401"/>
              </a:spcAft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verage extant software technolog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tform-as-a-service (Pa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n-source implementation of Google App Engine AP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uggable (services), scalable, fault tolera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ns over virtualization or IaaS layer: AWS, Eucalypt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pscale.cs.ucsb.ed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spcAft>
                <a:spcPts val="1800"/>
              </a:spcAft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6546960" y="3544920"/>
            <a:ext cx="188424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8:02:49Z</dcterms:created>
  <dc:creator/>
  <dc:description/>
  <dc:language>en-US</dc:language>
  <cp:lastModifiedBy>Chandra Krintz</cp:lastModifiedBy>
  <cp:lastPrinted>2010-03-12T17:05:18Z</cp:lastPrinted>
  <dcterms:modified xsi:type="dcterms:W3CDTF">2010-03-15T18:18:34Z</dcterms:modified>
  <cp:revision>461</cp:revision>
  <dc:subject/>
  <dc:title>Exploiting Phase Behavior for Efficient Program Sampling and VEE Specialization</dc:title>
</cp:coreProperties>
</file>