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03A-CAAD-448E-9131-2CA8210F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16B-4792-4C57-9066-60BFC5F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DC3-0DB7-4B8F-9091-252CFC78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F47-AA2D-490A-950D-D98C5CF3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13D1-EDCC-42F2-BC65-BE469619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4069-90B1-4F19-8434-A48C7FED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DD18-DA4D-4AD6-938A-A2FCAB0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773-937B-4551-8E73-5D78F7EE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163-B44D-47EE-B839-CC276FF1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4F82-68C9-4428-99BB-D5565AB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C02D-C904-4A20-8B2F-1987C5C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5FA-E06D-4FA9-BF4E-FB6C0354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B9F7-6606-46F5-A433-5EED5E9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63CC-5F8C-4AC3-9B1C-C4CF8869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FAF7-9A55-4935-870F-E6D42732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7FE-188F-4629-AFDF-DD51C267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F6D2-99E4-4338-953D-CCB80629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0C9-6F94-4A34-A95A-8618324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C95-1233-49B7-A7E8-661FF48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287-F15B-4FB0-8FF7-A24C4ED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C56-C1CA-4AF3-8219-46779CAE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EBA-AAC6-4D0F-A8E2-1471D83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F56-EA0B-48CC-A7A1-CBD5510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30B-713B-4171-B6DA-F580506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B24F9-9441-4967-98E2-D1EE5B60C146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F2CD0-4744-49E9-B0C4-B41890795E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DDFE1-7470-45B4-B10E-20C434558AAA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21CEF-E685-4D81-A845-F8646F743F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nfiniband and RoCEE Virtualization with SR-IOV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2C4FD-D8AC-4E97-97FD-AC83F68B0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M Mig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vice hot-plug/unpl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emulator for IB 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ara-virtual interface for IB (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is all about direct HW access anyw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port: no actual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witch: vHCA port goes down on one (virtual) switch and reappears o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port: one IB device goes away, another takes it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lid, different g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witch: same IB device re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lid+g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 shadow sw device to hold state during migr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LP Migration Suppor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device unregsitered and then reregis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P obtained by DHCP based on clien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hosts will learn new lid/gid using 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connections will close – application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remain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CM applications / U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/ ULP failover (using same addr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ndle RDMA_CM_EVENT_DEVICE_REM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onnectX2 Multi-function Suppor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Fs and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ly unlimited HW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s, CQs, SRQs, Memory regions, Protect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assigned to VFs up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communicat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VF, the PF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contr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 to/from guest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visor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ode for Linux/KVM/X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X2 Driver Architectu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/VF partitioning at mlx4_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river for PF/VF, but different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driver “personality” determined by De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wns its UARs, PDs, EQs, and MSI-X ve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nds off FW commands and resource allocation to P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VF commands in a secur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-virtualizes shar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drivers (mlx4_ib/en/fc)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IB, RoCEE, vHBA (FCoIB / FCoE) and vNIC (Eo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4648320"/>
            <a:ext cx="6553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OM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Xen SRIOV</a:t>
            </a:r>
            <a:r>
              <a:rPr b="0" lang="he-IL" sz="4000" spc="-1" strike="noStrike">
                <a:solidFill>
                  <a:srgbClr val="005195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Arial"/>
              </a:rPr>
              <a:t>SW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038480"/>
            <a:ext cx="6553080" cy="45720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Hy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447920"/>
            <a:ext cx="3047760" cy="243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1447920"/>
            <a:ext cx="3048120" cy="243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5867280"/>
            <a:ext cx="65530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276720"/>
            <a:ext cx="2362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3276720"/>
            <a:ext cx="236196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600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Do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600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Dom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5812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5812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5943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8168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52578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518148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5334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64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HW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800600"/>
            <a:ext cx="19051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4114800"/>
            <a:ext cx="1676520" cy="762120"/>
          </a:xfrm>
          <a:prstGeom prst="wedgeRoundRectCallout">
            <a:avLst>
              <a:gd name="adj1" fmla="val -64203"/>
              <a:gd name="adj2" fmla="val 43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guest-physical to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518148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5334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19320" y="4800600"/>
            <a:ext cx="6553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OM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KVM SRIOV</a:t>
            </a:r>
            <a:r>
              <a:rPr b="0" lang="he-IL" sz="4000" spc="-1" strike="noStrike">
                <a:solidFill>
                  <a:srgbClr val="005195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Arial"/>
              </a:rPr>
              <a:t>SW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447920"/>
            <a:ext cx="6553080" cy="3200400"/>
          </a:xfrm>
          <a:prstGeom prst="rect">
            <a:avLst/>
          </a:prstGeom>
          <a:solidFill>
            <a:srgbClr val="3c6f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1600200"/>
            <a:ext cx="2667240" cy="18288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6019920"/>
            <a:ext cx="65530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56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Gues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581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1172"/>
                </a:solidFill>
                <a:latin typeface="Arial Narrow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44956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32767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41008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2767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32767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53341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5486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4956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516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HW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05520" y="2590920"/>
            <a:ext cx="2361960" cy="685800"/>
            <a:chOff x="5105520" y="2590920"/>
            <a:chExt cx="2361960" cy="685800"/>
          </a:xfrm>
        </p:grpSpPr>
        <p:sp>
          <p:nvSpPr>
            <p:cNvPr id="276" name=""/>
            <p:cNvSpPr/>
            <p:nvPr/>
          </p:nvSpPr>
          <p:spPr>
            <a:xfrm>
              <a:off x="5105520" y="3048120"/>
              <a:ext cx="23619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5720" y="281952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281952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2819520"/>
              <a:ext cx="8384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05720" y="259092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ib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2590920"/>
              <a:ext cx="83844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scsi mid-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05520" y="259092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257800" y="4952880"/>
            <a:ext cx="190512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4267080"/>
            <a:ext cx="1676520" cy="762120"/>
          </a:xfrm>
          <a:prstGeom prst="wedgeRoundRectCallout">
            <a:avLst>
              <a:gd name="adj1" fmla="val -64203"/>
              <a:gd name="adj2" fmla="val 43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guest-physical to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44956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4956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53341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5486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00200" y="3809880"/>
            <a:ext cx="2361960" cy="685800"/>
            <a:chOff x="1600200" y="3809880"/>
            <a:chExt cx="2361960" cy="685800"/>
          </a:xfrm>
        </p:grpSpPr>
        <p:sp>
          <p:nvSpPr>
            <p:cNvPr id="290" name=""/>
            <p:cNvSpPr/>
            <p:nvPr/>
          </p:nvSpPr>
          <p:spPr>
            <a:xfrm>
              <a:off x="1600200" y="4267080"/>
              <a:ext cx="23619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403848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00200" y="403848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1960" y="4038480"/>
              <a:ext cx="8384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380988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ib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1960" y="3809880"/>
              <a:ext cx="83844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scsi mid-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00200" y="380988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219320" y="358128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1172"/>
                </a:solidFill>
                <a:latin typeface="Arial Narrow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2362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523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1172"/>
                </a:solidFill>
                <a:latin typeface="Arial Narrow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creen Shot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666880"/>
            <a:ext cx="7620120" cy="358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# ifconfig -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0       Link encap:InfiniBand  HWaddr 80:00:00:4A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1       Link encap:InfiniBand  HWaddr 80:00:00:4B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2       Link encap:InfiniBand  HWaddr 80:00:00:4C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3       Link encap:InfiniBand  HWaddr 80:00:00:4D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523880"/>
            <a:ext cx="662940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# lsp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0 InfiniBand: Mellanox Technologies MT26428 [ConnectX VPI PCIe 2.0 5GT/s - IB QDR / 10GigE]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1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2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3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4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# ibv_de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                 node G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              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0              00000112c900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1              00000112c901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2              00000112c902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3              00000112c903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4              00000112c904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nitial Test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Verbs benchmarks, rdmacm apps, ULPs (e.g., ipoib, RDS) ar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-to-VF BW essentially the same as PF-to-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polling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latency considerably larger for VF-to-V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irt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OFED or under OF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S? To middleware? To ap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GIDs? LIDs? VM 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, Pkeys, 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-I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Virtualiz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e shared-por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/ULP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IOV with Connect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ere Does SR-IOV Fit In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28480" y="1828800"/>
          <a:ext cx="7942320" cy="3646440"/>
        </p:xfrm>
        <a:graphic>
          <a:graphicData uri="http://schemas.openxmlformats.org/drawingml/2006/table">
            <a:tbl>
              <a:tblPr/>
              <a:tblGrid>
                <a:gridCol w="1589400"/>
                <a:gridCol w="1587240"/>
                <a:gridCol w="1589040"/>
                <a:gridCol w="1587600"/>
                <a:gridCol w="15890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que \ character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t SW Transpar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vice cla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-virtu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– requires installing para-virtual drivers on the gu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,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t to ap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require device-specific accel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only, hypervisor 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(for accelerated interfa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 device Pass-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device plug/unpl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specific driv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705720" y="4419720"/>
            <a:ext cx="76176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943600"/>
            <a:ext cx="2210040" cy="380880"/>
          </a:xfrm>
          <a:prstGeom prst="wedgeRoundRectCallout">
            <a:avLst>
              <a:gd name="adj1" fmla="val 50217"/>
              <a:gd name="adj2" fmla="val -336250"/>
              <a:gd name="adj3" fmla="val 16667"/>
            </a:avLst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-IOV fixe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29200" y="3048120"/>
            <a:ext cx="350532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4191120"/>
            <a:ext cx="3048120" cy="380880"/>
          </a:xfrm>
          <a:prstGeom prst="roundRect">
            <a:avLst>
              <a:gd name="adj" fmla="val 16667"/>
            </a:avLst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ingle-Root IO Virtualiz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435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OV extended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W controlled by privileged SW via 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resources replicated for V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confi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IO for direct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 to tag DMA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724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2057400"/>
            <a:ext cx="1066680" cy="91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057400"/>
            <a:ext cx="1066680" cy="91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205740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4952880"/>
            <a:ext cx="38088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4952880"/>
            <a:ext cx="38088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952880"/>
            <a:ext cx="38124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4800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809880"/>
            <a:ext cx="6858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581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666880"/>
            <a:ext cx="6858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438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666880"/>
            <a:ext cx="6858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438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2666880"/>
            <a:ext cx="6858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438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0384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89548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289548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619760" y="2895480"/>
            <a:ext cx="5331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4952880"/>
            <a:ext cx="38088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911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I sub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4038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954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54380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28954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nfiniband Virtualization Model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F is a complete H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port (lid, gid table, lmc bi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 QP0 + Q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es multiple HCAs behind a (virtual)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ransparent virtualization, but bloats LI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ort (lid, lmc) shared by all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F uses unique 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es a single H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scalable at the expense of para-virtualizing shared objects (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752480"/>
            <a:ext cx="3429000" cy="2133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76760" y="1828800"/>
            <a:ext cx="6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13372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220968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590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362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514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97180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6668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13372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20968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2590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362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2514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297180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26668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213372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220968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590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2362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2514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297180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26668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429000"/>
            <a:ext cx="9144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v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3352680"/>
            <a:ext cx="15228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3352680"/>
            <a:ext cx="15228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35268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733920"/>
            <a:ext cx="152640" cy="759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30481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20120" y="30481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24640" y="4191120"/>
            <a:ext cx="3429000" cy="1981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26708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00600" y="480060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76920" y="4876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6920" y="525780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10440" y="50292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1840" y="5638680"/>
            <a:ext cx="15228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780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6095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80060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876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525780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029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80060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4876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525780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10480" y="5029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4572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4572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4572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5715000"/>
            <a:ext cx="12193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8280600">
            <a:off x="5921280" y="4328640"/>
            <a:ext cx="1522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7719600">
            <a:off x="5704560" y="2971080"/>
            <a:ext cx="2399040" cy="31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Not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rivially by reducing IB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P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2 attributes (LID, LM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, no difference between the virtual-switch and shared-port mode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hared-Port Basic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nicast G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by PF driver before port is initi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ed by 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VF sees only a unique subset assigned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s managed by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s which Pkeys are visible to which V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forced during QP tran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0 owned by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Fs have a QP0, but it is a “black ho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es that only PF can run 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1 managed by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Fs have a QP1, but all MAD traffic is tunneled through the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 para-virtualizes GSI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QP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ffic multiplexed by qpn as u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715000"/>
            <a:ext cx="5562360" cy="3988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 transparency provided to guest ib_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QP1 Para-virtualiz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unique transaction ID among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function ID in TransactionID MSBs on 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ore original TransactionID on in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-multiplex incoming M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ADs are demux’ed according to Transaction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ccording to GID (see CM notes be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 maintains a single state-machine per &lt;MGID, por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treats VFs just as ib_core treats multicast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es membership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s membership changes to the 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 join/leave mads are answered directly by the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QP1 Para-virtualization – cont.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_REQ demux’ed according to encapsulated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ing session messages demux’d according to comm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state (+timeout?) in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M messages include G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ux according to GRH 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 CM management remains sta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nection is established, traffic demux’ed by Q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GRH if connected QPs reside on the same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Info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 maintains single state machine p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aggregates VF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broadcasts reports to all interested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5T20:29:02Z</dcterms:modified>
  <cp:revision>34</cp:revision>
  <dc:subject/>
  <dc:title>Slide 1</dc:title>
</cp:coreProperties>
</file>