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7F07-7762-45AB-97FD-0C238CB8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2CD-4508-4BDA-999D-21277525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9BE-B083-4EA0-A93F-690AED21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CEB7-9FD7-4C55-A608-537C912B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3678-2819-44B3-A8D8-DAF9EDD3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ACC0-88AC-411F-9067-212D7335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E817-FA31-4CB0-9AE3-E1CF2722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85A4-48F0-41FB-BDF3-ED205649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8DD3-B26B-4A88-B4B5-3095BB79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A5C0-51B4-4F0C-B9F5-9F82930B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ED91-3776-4D68-B34E-9FE69B1A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521-9E42-4E15-9235-49AF9346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0313-F81B-40E3-97FC-D61BCCD9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11BD-C8F3-4450-9208-DE296184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AD3B-6143-4ACD-94DA-8C718E79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C0ED-77DE-48AA-8978-481420C5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A7B6-6A43-4944-8120-CD0DE504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508-A524-4337-AD24-A3D1EB78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61F-1A44-4576-AA39-0638A22F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294F-C49A-4B3A-AD18-27E5CEF4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443-44E5-44C0-80EE-D8DE3915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BDC4-D821-42B2-823B-4626B3EE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4265-A312-4781-80A9-0E3909C3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1CBA-BBEF-46C1-BB9E-6E8D077F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AD7FD-EB59-4800-9366-774BBAD8E4E9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D49AF-F6AA-45F4-A5E3-A7AF1ECB7CA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122ED-5DB3-402C-A0BD-7AD1A9E172C9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3D02E-F5EE-4C3F-B372-0C9CB20BB51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OFA Workshop Wrap-up, feedback and action item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Hope you had a good time – how did we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0D3DA-6165-4C23-B441-8EE7696F1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Jim Ryan, Chairman, O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arch 17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Feedback on the Workshop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echnical content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Steve, this will only happen if the technical community gets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suggestion to use the second half of the last day to do a BoF instead of SC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oint was they weren’t panels, for the most part, in that speakers didn’t interact. They just offered thoughts on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same time, panelists couldn’t be open in their remarks, in some cases, because they were competitors in addressing the subject, e.g., Exa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7A07F-CB3C-46D8-AEB5-B13B0EA51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Feedback on the Workshop (cont’d)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lanyards for name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names on the tags la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he interne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o a Tuesday-Wednesday-Thursday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ility of a move to Monter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nough young people – look into some sort of student internships. Possibly approach DK for ideas or direct participation on the part of some of his grad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89461-9BA6-4E92-9204-24B87C447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Feedback on OFA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4756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ing thoughts from Carl on promoting IBA-based storage. I’d like to understand how to support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d the interop/logo program, at least for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dopted the SWOT results and agreed to the next stage of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gate some sort of “Technology Advisory Board”, akin to what the Linux Foundation and some other groups have. Ask Lloyd Dickman to provide some initial thoughts. Purpose: investigate competing and future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A90DD-ACA4-4712-9157-2EA707921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Feedback on ExaScale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take-away was that it will require profound changes to virtually all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urprised me was there may be challenges to RDMA in the “PetaScale era”, per Lloyd’s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2F2E55-02D8-4FE1-88BB-CBD8D857F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Feedback on New/Competing Technologies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EE i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 a survey should be completed. Candidat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calyp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46810-3E76-4FB4-9B0B-309D5ABAE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Thank you Sponsors: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9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00ED9-F514-48CB-AFFE-4312110C5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2228760" cy="1038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1981080" y="3200400"/>
            <a:ext cx="2219400" cy="1000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3"/>
          <a:stretch/>
        </p:blipFill>
        <p:spPr>
          <a:xfrm>
            <a:off x="1981080" y="4203720"/>
            <a:ext cx="1828800" cy="1587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"/>
          <p:cNvPicPr/>
          <p:nvPr/>
        </p:nvPicPr>
        <p:blipFill>
          <a:blip r:embed="rId4"/>
          <a:stretch/>
        </p:blipFill>
        <p:spPr>
          <a:xfrm>
            <a:off x="4734000" y="1981080"/>
            <a:ext cx="1819080" cy="1276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5"/>
          <a:stretch/>
        </p:blipFill>
        <p:spPr>
          <a:xfrm>
            <a:off x="4714920" y="3352680"/>
            <a:ext cx="1914480" cy="1228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"/>
          <p:cNvPicPr/>
          <p:nvPr/>
        </p:nvPicPr>
        <p:blipFill>
          <a:blip r:embed="rId6"/>
          <a:stretch/>
        </p:blipFill>
        <p:spPr>
          <a:xfrm>
            <a:off x="4419720" y="4724280"/>
            <a:ext cx="26096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Ryan, Jim</cp:lastModifiedBy>
  <dcterms:modified xsi:type="dcterms:W3CDTF">2010-03-19T14:25:22Z</dcterms:modified>
  <cp:revision>23</cp:revision>
  <dc:subject/>
  <dc:title>Slide 1</dc:title>
</cp:coreProperties>
</file>