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4D200-373D-4774-B6D7-17634202B9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FEED3-D243-4706-A995-A1D1E9EAE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B202-09D7-40BD-A6F6-03E678A644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ADA-4B90-49C9-B781-E25AAB20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708-78B9-44E0-B3F9-D0B642A1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C1B-D2FF-4C06-B4FC-1E59A468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0EA-B21B-4A23-8448-1FE88FB1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D5AC-820B-436C-9F38-E8506742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8191-5403-4539-9444-46EBC3B5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0E02-4810-4B9F-86A1-3E19483E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A411-705E-4F18-97C6-EB944332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9DC7-5271-493E-81BA-6BABACF9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038E-726C-4F8E-8942-422BC9C2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DE89-2DFE-4C8F-BA7E-17F8A4C6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155-8258-4D1D-8018-E8B7BB1E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10A6-1B0C-4F1F-A7D8-33E7E08B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0214-EE58-423E-BB65-BA87F59C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0BD9-50B2-41B3-AD08-EE1B1660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8CE3-C93C-4690-8CDB-97CE9DDF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6E5E-F2B3-41CC-81BC-F416EA88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882-F2B1-4EFF-BC8B-A82B6C22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33D-6C54-4AF7-BF78-ECE4B0C6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5FB-14FF-4C46-9BDE-CD3A35CE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771-B6F7-4E51-8A48-5D8D6967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F6D-FE79-44A9-B830-48A8B8DD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8DF-E26D-4747-9FF8-5E4571EA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50A-8EEA-4335-A184-2F89C846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A4FA5-15D0-44B0-9099-AADF7DA67DC1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9C6FA-576C-4D4D-88DF-2633699BC33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62282-AA49-438B-A410-2494EFE1D39F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D6132-C7B8-4EAC-8DF6-2E9B4D5E2DA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caling to next level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1F5E8-CFF4-4583-8C12-845B87D09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iftah Shahar, Vol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7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5195"/>
                </a:solidFill>
                <a:latin typeface="Arial"/>
              </a:rPr>
              <a:t>FCA address the collective problems </a:t>
            </a:r>
            <a:endParaRPr b="0" lang="en-US" sz="32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52568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j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d in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con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matically reduced by lowering the number of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control on message flow – single message per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effective multicast for collective operation resul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application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ed by isolating collective traffic on a private virtual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Blocking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loaded into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616F6-B975-413E-805B-C57C4AA9B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9C728-B15E-4AF2-8D06-76E171792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4760" y="5689440"/>
            <a:ext cx="8383320" cy="635040"/>
          </a:xfrm>
          <a:prstGeom prst="roundRect">
            <a:avLst>
              <a:gd name="adj" fmla="val 16667"/>
            </a:avLst>
          </a:prstGeom>
          <a:solidFill>
            <a:srgbClr val="226e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7X Faster on a Small Cluster; More than 10X Expected on Large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1360" y="122400"/>
            <a:ext cx="76233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5195"/>
                </a:solidFill>
                <a:latin typeface="Arial"/>
              </a:rPr>
              <a:t>FCA - Collective performanc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195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Trends: Computation 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he number of cores per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ors &amp; PGGP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popular as PCI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the motherboard/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672F4-C31D-4470-B70F-BC0ED53FB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Trends: Networking 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/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“NIC” in a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ive bandwidth &amp;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top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us, Mash 2/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36891-E66B-4E2D-852F-C88D4F8F2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Trends: Communication interface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AS (Partitioned Global Address 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programm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779D9-17EB-4B24-B376-355FE2F18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MPI can we “afford” to replace it ? 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AS communication nee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access local and remote “shm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ided put/get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&amp; non Blocking col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 &amp; Atomic operations (F&amp;A,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n we run it over “Thin MPI” ?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FEC0B-F98A-40B4-AB04-3847EE188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5195"/>
                </a:solidFill>
                <a:latin typeface="Arial"/>
              </a:rPr>
              <a:t>Collective - Scalable collective needs </a:t>
            </a:r>
            <a:endParaRPr b="0" lang="en-US" sz="32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7616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module &amp; Collectiv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load from the node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blocking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network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network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 network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D-Torus &amp; M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08C0F-AC76-4E0A-8AAE-EC5C69714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olutions…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progress will be done by Evolution (linear/parallel) only some by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” are important but problems need to be address in a “system”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ut of the box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84B7F-51F6-406F-91A3-CFDC38A65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5195"/>
                </a:solidFill>
                <a:latin typeface="Arial"/>
              </a:rPr>
              <a:t>QDR Architecture</a:t>
            </a:r>
            <a:endParaRPr b="0" lang="en-US" sz="37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at is FCA 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074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fully integrated solution to offload coll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76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bines intelligence on server, switches, and manag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67080" y="2598840"/>
            <a:ext cx="4648320" cy="3492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320" y="2362320"/>
            <a:ext cx="3962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FM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utomates fabric collective offload/monitoring and integrates with schedu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ire “smart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CPUs perform reduction and messaging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pen MPI plug-in) - Addresses hos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yiftahs</cp:lastModifiedBy>
  <dcterms:modified xsi:type="dcterms:W3CDTF">2010-03-16T16:27:46Z</dcterms:modified>
  <cp:revision>62</cp:revision>
  <dc:subject/>
  <dc:title>Slide 1</dc:title>
</cp:coreProperties>
</file>