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76817-BEF8-45DB-9263-27DF5D378E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5B53C-9EAE-42AA-8E68-CF3A4F49E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rder of trends in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 demand for exa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77728-52A8-4521-8979-739C6B706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6F4F5-2FDA-4C22-AF66-FEA156DE6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A31-EBF0-4696-8CE5-A45B9E0F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6FE-3A64-4740-93A7-2777A26B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838-CCF3-4FB6-90CA-0A6C790B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42F-3173-476A-909A-D2D075DC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9A5A-4D80-4808-B853-F47F1800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EAE5-FCA1-435F-A125-E3DEBC64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7269-3820-42DB-A4FD-0ACFA363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7715-36BC-45DE-A446-D9B0999C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FC8-1BD5-457C-9B53-C961F495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CB7B-7F5E-4978-BCB8-2D432004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8990-53B8-4F6F-B650-4672114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8E2-8E89-485B-B4BD-59170D6C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365C-7FC5-45F4-A8BC-CD4E718E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ED90-16C5-4203-B910-191BF9A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ED0-6218-442E-8FD5-0E0CDA6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438C-74A3-485C-8C8E-94BD1BC7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A102-43BD-43B0-BBAA-FE92D006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CD9-49D6-4790-8593-9F6FCDE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C83-07A6-42B7-9DFE-59E0F8B3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40F-C3F7-4A59-BA2B-BE797998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C6C-37C3-4F68-86F3-3455D5FA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001-CD2F-4005-AFEE-642C551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59E-5DE2-431F-A2C2-63163D4E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849-1D92-49F8-8B8E-C8DC3E9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20DC6-785C-46AC-93A1-A57C41D52F33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FE3BC-786A-48C2-928D-D8749A4AEA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20CB1-47C9-4FDB-85EB-2786AE35DD63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D01E8-0E11-4659-8D89-FEFFA5FA6C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2096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ybrid and Manycore Architectur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040" y="4114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Jeff Brough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Systems Department Head, NER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Lawrence Berkeley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jbroughton@lbl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March 16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A33B0-ED33-4970-A4D9-86CF7C57B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6" descr=""/>
          <p:cNvPicPr/>
          <p:nvPr/>
        </p:nvPicPr>
        <p:blipFill>
          <a:blip r:embed="rId1"/>
          <a:srcRect l="8056" t="0" r="0" b="0"/>
          <a:stretch/>
        </p:blipFill>
        <p:spPr>
          <a:xfrm>
            <a:off x="6966000" y="3759120"/>
            <a:ext cx="1720800" cy="96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8" descr=""/>
          <p:cNvPicPr/>
          <p:nvPr/>
        </p:nvPicPr>
        <p:blipFill>
          <a:blip r:embed="rId2"/>
          <a:stretch/>
        </p:blipFill>
        <p:spPr>
          <a:xfrm>
            <a:off x="7278840" y="4648320"/>
            <a:ext cx="1103040" cy="66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OE-LogoWide.jpg"/>
          <p:cNvPicPr/>
          <p:nvPr/>
        </p:nvPicPr>
        <p:blipFill>
          <a:blip r:embed="rId3"/>
          <a:srcRect l="0" t="0" r="32727" b="0"/>
          <a:stretch/>
        </p:blipFill>
        <p:spPr>
          <a:xfrm>
            <a:off x="6934320" y="5530680"/>
            <a:ext cx="170820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Why Multicore/Manycore?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1523880"/>
            <a:ext cx="45496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clock speeds have hit a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years of exponential improvement has 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s per chip growing per Moor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ing every 18 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power is the new limiting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EC551-5DEE-4C0D-8319-B4442F9E6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Chart 5" descr=""/>
          <p:cNvPicPr/>
          <p:nvPr/>
        </p:nvPicPr>
        <p:blipFill>
          <a:blip r:embed="rId1"/>
          <a:stretch/>
        </p:blipFill>
        <p:spPr>
          <a:xfrm>
            <a:off x="4767120" y="1365120"/>
            <a:ext cx="43833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nergy Cost Challenge for Computing Faciliti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pSp>
        <p:nvGrpSpPr>
          <p:cNvPr id="182" name="Group 12"/>
          <p:cNvGrpSpPr/>
          <p:nvPr/>
        </p:nvGrpSpPr>
        <p:grpSpPr>
          <a:xfrm>
            <a:off x="1206360" y="1509840"/>
            <a:ext cx="7472520" cy="3900240"/>
            <a:chOff x="1206360" y="1509840"/>
            <a:chExt cx="7472520" cy="3900240"/>
          </a:xfrm>
        </p:grpSpPr>
        <p:grpSp>
          <p:nvGrpSpPr>
            <p:cNvPr id="183" name="Group 8"/>
            <p:cNvGrpSpPr/>
            <p:nvPr/>
          </p:nvGrpSpPr>
          <p:grpSpPr>
            <a:xfrm>
              <a:off x="1206360" y="1509840"/>
              <a:ext cx="6615360" cy="3900240"/>
              <a:chOff x="1206360" y="1509840"/>
              <a:chExt cx="6615360" cy="3900240"/>
            </a:xfrm>
          </p:grpSpPr>
          <p:pic>
            <p:nvPicPr>
              <p:cNvPr id="18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6360" y="1509840"/>
                <a:ext cx="6615360" cy="39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Straight Connector 7"/>
              <p:cNvSpPr/>
              <p:nvPr/>
            </p:nvSpPr>
            <p:spPr>
              <a:xfrm flipV="1">
                <a:off x="3038400" y="3479400"/>
                <a:ext cx="4611960" cy="687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9"/>
            <p:cNvSpPr/>
            <p:nvPr/>
          </p:nvSpPr>
          <p:spPr>
            <a:xfrm>
              <a:off x="7697880" y="325404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7724160" y="2347920"/>
              <a:ext cx="95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1"/>
            <p:cNvSpPr/>
            <p:nvPr/>
          </p:nvSpPr>
          <p:spPr>
            <a:xfrm>
              <a:off x="1617840" y="4797360"/>
              <a:ext cx="6365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5                                      2010                                     2015                                      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Slide Number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ED6F4-52A1-4DFF-9CFC-94E04A3E4F8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5105520"/>
            <a:ext cx="8912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etaflop in 2010 will use 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aflop in 2018 possible with 200 MW with “usual”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aflop in 2018 at 20 MW is DO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emory Technology –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   Bandwidth costs power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ff-chip Data Movement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  Costs More than FLOP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87497-643C-4E6C-B829-47268FC59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Content Placeholder 3" descr=""/>
          <p:cNvPicPr/>
          <p:nvPr/>
        </p:nvPicPr>
        <p:blipFill>
          <a:blip r:embed="rId1"/>
          <a:stretch/>
        </p:blipFill>
        <p:spPr>
          <a:xfrm>
            <a:off x="450720" y="19447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97" name="Oval 8"/>
          <p:cNvSpPr/>
          <p:nvPr/>
        </p:nvSpPr>
        <p:spPr>
          <a:xfrm>
            <a:off x="6019920" y="2332080"/>
            <a:ext cx="380880" cy="76212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029200" y="2408400"/>
            <a:ext cx="380880" cy="83808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191120" y="3755880"/>
            <a:ext cx="380880" cy="45720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5"/>
          <p:cNvSpPr/>
          <p:nvPr/>
        </p:nvSpPr>
        <p:spPr>
          <a:xfrm>
            <a:off x="1676520" y="3581280"/>
            <a:ext cx="60195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5943600" y="1773360"/>
            <a:ext cx="12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3352680" y="326700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4246920" y="177336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6320" y="32050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m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601640"/>
            <a:ext cx="84582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lock increa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undreds of simple “cores” per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memory and bandwid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es are not MPI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multicore systems too energy intensiv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technology diversity (GPUs, SoC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 controlled memory hierarchie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85CD5-AC55-465F-B715-440E820BB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-66600" y="5334120"/>
            <a:ext cx="93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Applications, Algorithms, System Software will all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“Swim Lanes”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15960" y="4876920"/>
            <a:ext cx="67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 rot="20910000">
            <a:off x="-161640" y="3271680"/>
            <a:ext cx="1631880" cy="14684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-291960" y="3173400"/>
            <a:ext cx="812520" cy="17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115920" y="1828800"/>
            <a:ext cx="1712880" cy="13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828800" y="1744560"/>
          <a:ext cx="7010280" cy="4427640"/>
        </p:xfrm>
        <a:graphic>
          <a:graphicData uri="http://schemas.openxmlformats.org/drawingml/2006/table">
            <a:tbl>
              <a:tblPr/>
              <a:tblGrid>
                <a:gridCol w="2438280"/>
                <a:gridCol w="2459160"/>
                <a:gridCol w="2112840"/>
              </a:tblGrid>
              <a:tr h="14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 Multi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complex cores, and replic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U / Acceler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highly specialized processors adapted from ga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vidia Fer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  /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bed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many simpler, lower power cores from embedded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G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Fl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llision or Convergence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1235160" y="2087640"/>
            <a:ext cx="5397480" cy="0"/>
          </a:xfrm>
          <a:prstGeom prst="line">
            <a:avLst/>
          </a:prstGeom>
          <a:ln w="76320">
            <a:solidFill>
              <a:srgbClr val="29cc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7480" y="1838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9cc22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 flipV="1">
            <a:off x="1235160" y="1447560"/>
            <a:ext cx="22320" cy="4492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166880" y="6122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851cc"/>
                </a:solidFill>
                <a:latin typeface="Arial"/>
              </a:rPr>
              <a:t>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6802560" y="1469880"/>
            <a:ext cx="1363680" cy="1282680"/>
          </a:xfrm>
          <a:prstGeom prst="ellipse">
            <a:avLst/>
          </a:prstGeom>
          <a:gradFill rotWithShape="0">
            <a:gsLst>
              <a:gs pos="0">
                <a:srgbClr val="29cc22"/>
              </a:gs>
              <a:gs pos="50000">
                <a:srgbClr val="1851cc"/>
              </a:gs>
              <a:gs pos="100000">
                <a:srgbClr val="29cc2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308240" y="233208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9cc22"/>
                </a:solidFill>
                <a:latin typeface="Arial"/>
              </a:rPr>
              <a:t>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206160" y="23367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9cc22"/>
                </a:solidFill>
                <a:latin typeface="Arial"/>
              </a:rPr>
              <a:t>multi-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25440" y="23414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9cc22"/>
                </a:solidFill>
                <a:latin typeface="Arial"/>
              </a:rPr>
              <a:t>many-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853600" y="541656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851cc"/>
                </a:solidFill>
                <a:latin typeface="Arial"/>
              </a:rPr>
              <a:t>fixed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103360" y="4473720"/>
            <a:ext cx="22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851cc"/>
                </a:solidFill>
                <a:latin typeface="Arial"/>
              </a:rPr>
              <a:t>partially programm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420160" y="34956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851cc"/>
                </a:solidFill>
                <a:latin typeface="Arial"/>
              </a:rPr>
              <a:t>fully programm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 flipH="1" flipV="1">
            <a:off x="7481520" y="2820960"/>
            <a:ext cx="12600" cy="3068640"/>
          </a:xfrm>
          <a:prstGeom prst="line">
            <a:avLst/>
          </a:prstGeom>
          <a:ln w="76320">
            <a:solidFill>
              <a:srgbClr val="1851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6"/>
          <p:cNvSpPr/>
          <p:nvPr/>
        </p:nvSpPr>
        <p:spPr>
          <a:xfrm flipV="1">
            <a:off x="1290600" y="5889240"/>
            <a:ext cx="6799320" cy="11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7237080" y="17208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1350000" y="3706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405600" y="54514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298440" y="6095880"/>
            <a:ext cx="36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Justin Rattner, Intel, ISC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SoC/Embedded Swim Lan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FFB06-9949-404F-AD7A-5742530E9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14720" y="1676160"/>
            <a:ext cx="51292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bic power improvement with lower clock rate due to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er clock rates enable use of simpler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r cores use less area (lower leakage) and reduc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ilor design to application t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DUCE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28" descr=""/>
          <p:cNvPicPr/>
          <p:nvPr/>
        </p:nvPicPr>
        <p:blipFill>
          <a:blip r:embed="rId1"/>
          <a:srcRect l="0" t="0" r="0" b="27551"/>
          <a:stretch/>
        </p:blipFill>
        <p:spPr>
          <a:xfrm>
            <a:off x="404640" y="1925640"/>
            <a:ext cx="3532320" cy="36576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29"/>
          <p:cNvSpPr/>
          <p:nvPr/>
        </p:nvSpPr>
        <p:spPr>
          <a:xfrm>
            <a:off x="407880" y="1919160"/>
            <a:ext cx="1660680" cy="158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 Cor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30"/>
          <p:cNvSpPr/>
          <p:nvPr/>
        </p:nvSpPr>
        <p:spPr>
          <a:xfrm>
            <a:off x="417600" y="1919160"/>
            <a:ext cx="342720" cy="35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31"/>
          <p:cNvSpPr/>
          <p:nvPr/>
        </p:nvSpPr>
        <p:spPr>
          <a:xfrm>
            <a:off x="407880" y="1919160"/>
            <a:ext cx="114480" cy="12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32"/>
          <p:cNvSpPr/>
          <p:nvPr/>
        </p:nvSpPr>
        <p:spPr>
          <a:xfrm>
            <a:off x="1905120" y="2100240"/>
            <a:ext cx="1257120" cy="337320"/>
          </a:xfrm>
          <a:prstGeom prst="borderCallout1">
            <a:avLst>
              <a:gd name="adj1" fmla="val 18750"/>
              <a:gd name="adj2" fmla="val -8333"/>
              <a:gd name="adj3" fmla="val -3087"/>
              <a:gd name="adj4" fmla="val -101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33"/>
          <p:cNvSpPr/>
          <p:nvPr/>
        </p:nvSpPr>
        <p:spPr>
          <a:xfrm>
            <a:off x="25560" y="2930400"/>
            <a:ext cx="1636560" cy="337320"/>
          </a:xfrm>
          <a:prstGeom prst="borderCallout1">
            <a:avLst>
              <a:gd name="adj1" fmla="val 18750"/>
              <a:gd name="adj2" fmla="val -8333"/>
              <a:gd name="adj3" fmla="val -276754"/>
              <a:gd name="adj4" fmla="val 2713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silica XT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34"/>
          <p:cNvSpPr/>
          <p:nvPr/>
        </p:nvSpPr>
        <p:spPr>
          <a:xfrm>
            <a:off x="1789920" y="4033800"/>
            <a:ext cx="9367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35"/>
          <p:cNvSpPr/>
          <p:nvPr/>
        </p:nvSpPr>
        <p:spPr>
          <a:xfrm>
            <a:off x="5981760" y="2262240"/>
            <a:ext cx="681120" cy="438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36"/>
          <p:cNvSpPr/>
          <p:nvPr/>
        </p:nvSpPr>
        <p:spPr>
          <a:xfrm>
            <a:off x="5981760" y="3276720"/>
            <a:ext cx="681120" cy="444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37"/>
          <p:cNvSpPr/>
          <p:nvPr/>
        </p:nvSpPr>
        <p:spPr>
          <a:xfrm>
            <a:off x="5981760" y="4572000"/>
            <a:ext cx="681120" cy="368280"/>
          </a:xfrm>
          <a:prstGeom prst="downArrow">
            <a:avLst>
              <a:gd name="adj1" fmla="val 50000"/>
              <a:gd name="adj2" fmla="val 265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38"/>
          <p:cNvSpPr/>
          <p:nvPr/>
        </p:nvSpPr>
        <p:spPr>
          <a:xfrm>
            <a:off x="673200" y="5802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Arial"/>
              </a:rPr>
              <a:t>This is how iPhones and MP3 players are designed to maximize battery life and minimiz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SoC/Embedded Swim Lan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299FA-B302-4393-98E8-ACF8BE124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28" descr=""/>
          <p:cNvPicPr/>
          <p:nvPr/>
        </p:nvPicPr>
        <p:blipFill>
          <a:blip r:embed="rId1"/>
          <a:srcRect l="0" t="0" r="0" b="27551"/>
          <a:stretch/>
        </p:blipFill>
        <p:spPr>
          <a:xfrm>
            <a:off x="404640" y="1925640"/>
            <a:ext cx="3532320" cy="3657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029"/>
          <p:cNvSpPr/>
          <p:nvPr/>
        </p:nvSpPr>
        <p:spPr>
          <a:xfrm>
            <a:off x="407880" y="1919160"/>
            <a:ext cx="1660680" cy="158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 Cor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30"/>
          <p:cNvSpPr/>
          <p:nvPr/>
        </p:nvSpPr>
        <p:spPr>
          <a:xfrm>
            <a:off x="417600" y="1919160"/>
            <a:ext cx="342720" cy="35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31"/>
          <p:cNvSpPr/>
          <p:nvPr/>
        </p:nvSpPr>
        <p:spPr>
          <a:xfrm>
            <a:off x="407880" y="1919160"/>
            <a:ext cx="114480" cy="12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32"/>
          <p:cNvSpPr/>
          <p:nvPr/>
        </p:nvSpPr>
        <p:spPr>
          <a:xfrm>
            <a:off x="1905120" y="2100240"/>
            <a:ext cx="1257120" cy="337320"/>
          </a:xfrm>
          <a:prstGeom prst="borderCallout1">
            <a:avLst>
              <a:gd name="adj1" fmla="val 18750"/>
              <a:gd name="adj2" fmla="val -8333"/>
              <a:gd name="adj3" fmla="val -3087"/>
              <a:gd name="adj4" fmla="val -101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33"/>
          <p:cNvSpPr/>
          <p:nvPr/>
        </p:nvSpPr>
        <p:spPr>
          <a:xfrm>
            <a:off x="25560" y="2930400"/>
            <a:ext cx="1636560" cy="337320"/>
          </a:xfrm>
          <a:prstGeom prst="borderCallout1">
            <a:avLst>
              <a:gd name="adj1" fmla="val 18750"/>
              <a:gd name="adj2" fmla="val -8333"/>
              <a:gd name="adj3" fmla="val -276754"/>
              <a:gd name="adj4" fmla="val 2713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silica XT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34"/>
          <p:cNvSpPr/>
          <p:nvPr/>
        </p:nvSpPr>
        <p:spPr>
          <a:xfrm>
            <a:off x="1789920" y="4033800"/>
            <a:ext cx="9367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014720" y="1714680"/>
            <a:ext cx="5006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ower5 (ser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W@19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Intel Core2 sc (laptop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W@10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4x more FLOPs/watt than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Intel Atom (handh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.625W@8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80x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nsilica XTensa DP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(Moto Razor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.09W@6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400x more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ＭＳ Ｐゴシック"/>
              </a:rPr>
              <a:t>(80x-100x susta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ybrid Cluster Architecture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ith GPU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41D70-B820-45A4-95AE-D20D2004C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Rectangle 6"/>
          <p:cNvGrpSpPr/>
          <p:nvPr/>
        </p:nvGrpSpPr>
        <p:grpSpPr>
          <a:xfrm>
            <a:off x="1920960" y="2633760"/>
            <a:ext cx="1944720" cy="1023840"/>
            <a:chOff x="1920960" y="2633760"/>
            <a:chExt cx="1944720" cy="1023840"/>
          </a:xfrm>
        </p:grpSpPr>
        <p:pic>
          <p:nvPicPr>
            <p:cNvPr id="262" name="Rectangle 6" descr=""/>
            <p:cNvPicPr/>
            <p:nvPr/>
          </p:nvPicPr>
          <p:blipFill>
            <a:blip r:embed="rId1"/>
            <a:stretch/>
          </p:blipFill>
          <p:spPr>
            <a:xfrm>
              <a:off x="1920960" y="2633760"/>
              <a:ext cx="1944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981080" y="2666880"/>
              <a:ext cx="1828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7"/>
          <p:cNvGrpSpPr/>
          <p:nvPr/>
        </p:nvGrpSpPr>
        <p:grpSpPr>
          <a:xfrm>
            <a:off x="1920960" y="1719360"/>
            <a:ext cx="1944720" cy="718920"/>
            <a:chOff x="1920960" y="1719360"/>
            <a:chExt cx="1944720" cy="718920"/>
          </a:xfrm>
        </p:grpSpPr>
        <p:pic>
          <p:nvPicPr>
            <p:cNvPr id="265" name="Rectangle 7" descr=""/>
            <p:cNvPicPr/>
            <p:nvPr/>
          </p:nvPicPr>
          <p:blipFill>
            <a:blip r:embed="rId2"/>
            <a:stretch/>
          </p:blipFill>
          <p:spPr>
            <a:xfrm>
              <a:off x="1920960" y="1719360"/>
              <a:ext cx="1944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981080" y="175248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Rectangle 8"/>
          <p:cNvGrpSpPr/>
          <p:nvPr/>
        </p:nvGrpSpPr>
        <p:grpSpPr>
          <a:xfrm>
            <a:off x="3067200" y="5224320"/>
            <a:ext cx="1938240" cy="792360"/>
            <a:chOff x="3067200" y="5224320"/>
            <a:chExt cx="1938240" cy="79236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3067200" y="5224320"/>
              <a:ext cx="19382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124080" y="52578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Rectangle 9"/>
          <p:cNvGrpSpPr/>
          <p:nvPr/>
        </p:nvGrpSpPr>
        <p:grpSpPr>
          <a:xfrm>
            <a:off x="701640" y="5224320"/>
            <a:ext cx="1944720" cy="792360"/>
            <a:chOff x="701640" y="5224320"/>
            <a:chExt cx="1944720" cy="792360"/>
          </a:xfrm>
        </p:grpSpPr>
        <p:pic>
          <p:nvPicPr>
            <p:cNvPr id="271" name="Rectangle 9" descr=""/>
            <p:cNvPicPr/>
            <p:nvPr/>
          </p:nvPicPr>
          <p:blipFill>
            <a:blip r:embed="rId4"/>
            <a:stretch/>
          </p:blipFill>
          <p:spPr>
            <a:xfrm>
              <a:off x="701640" y="5224320"/>
              <a:ext cx="1944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62120" y="52578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finiBa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Straight Connector 11"/>
          <p:cNvSpPr/>
          <p:nvPr/>
        </p:nvSpPr>
        <p:spPr>
          <a:xfrm flipH="1">
            <a:off x="2893680" y="2363760"/>
            <a:ext cx="3240" cy="304920"/>
          </a:xfrm>
          <a:prstGeom prst="line">
            <a:avLst/>
          </a:prstGeom>
          <a:ln w="25560">
            <a:solidFill>
              <a:srgbClr val="3c6fb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2"/>
          <p:cNvSpPr/>
          <p:nvPr/>
        </p:nvSpPr>
        <p:spPr>
          <a:xfrm>
            <a:off x="2217240" y="48117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PCI B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45" descr=""/>
          <p:cNvPicPr/>
          <p:nvPr/>
        </p:nvPicPr>
        <p:blipFill>
          <a:blip r:embed="rId5"/>
          <a:stretch/>
        </p:blipFill>
        <p:spPr>
          <a:xfrm>
            <a:off x="5310360" y="2070000"/>
            <a:ext cx="3833640" cy="34164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1"/>
          <p:cNvSpPr/>
          <p:nvPr/>
        </p:nvSpPr>
        <p:spPr>
          <a:xfrm>
            <a:off x="1979640" y="3962520"/>
            <a:ext cx="1828800" cy="609480"/>
          </a:xfrm>
          <a:prstGeom prst="rect">
            <a:avLst/>
          </a:pr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rth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33"/>
          <p:cNvCxnSpPr>
            <a:endCxn id="276" idx="0"/>
          </p:cNvCxnSpPr>
          <p:nvPr/>
        </p:nvCxnSpPr>
        <p:spPr>
          <a:xfrm flipH="1">
            <a:off x="2893680" y="3580920"/>
            <a:ext cx="2160" cy="38196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8" name="Elbow Connector 35"/>
          <p:cNvCxnSpPr/>
          <p:nvPr/>
        </p:nvCxnSpPr>
        <p:spPr>
          <a:xfrm flipH="1" flipV="1" rot="5400000">
            <a:off x="1599120" y="4647600"/>
            <a:ext cx="686520" cy="533880"/>
          </a:xfrm>
          <a:prstGeom prst="bentConnector3">
            <a:avLst>
              <a:gd name="adj1" fmla="val 50000"/>
            </a:avLst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Elbow Connector 37"/>
          <p:cNvCxnSpPr/>
          <p:nvPr/>
        </p:nvCxnSpPr>
        <p:spPr>
          <a:xfrm flipV="1" rot="16200000">
            <a:off x="3417840" y="4637160"/>
            <a:ext cx="686520" cy="554760"/>
          </a:xfrm>
          <a:prstGeom prst="bentConnector3">
            <a:avLst>
              <a:gd name="adj1" fmla="val 50000"/>
            </a:avLst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505880" y="304812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1000 × U.S. national debt in pen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297800" y="372744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100 × number of atoms in a huma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1495080" y="4408560"/>
            <a:ext cx="59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1 × number of insects living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me alternative solutions providing unified memo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293F2-6C91-47B9-B8E2-036F63ABE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Rectangle 7"/>
          <p:cNvGrpSpPr/>
          <p:nvPr/>
        </p:nvGrpSpPr>
        <p:grpSpPr>
          <a:xfrm>
            <a:off x="5535720" y="1719360"/>
            <a:ext cx="1938240" cy="718920"/>
            <a:chOff x="5535720" y="1719360"/>
            <a:chExt cx="1938240" cy="718920"/>
          </a:xfrm>
        </p:grpSpPr>
        <p:pic>
          <p:nvPicPr>
            <p:cNvPr id="284" name="Rectangle 7" descr=""/>
            <p:cNvPicPr/>
            <p:nvPr/>
          </p:nvPicPr>
          <p:blipFill>
            <a:blip r:embed="rId1"/>
            <a:stretch/>
          </p:blipFill>
          <p:spPr>
            <a:xfrm>
              <a:off x="5535720" y="1719360"/>
              <a:ext cx="19382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594400" y="175248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ectangle 9"/>
          <p:cNvGrpSpPr/>
          <p:nvPr/>
        </p:nvGrpSpPr>
        <p:grpSpPr>
          <a:xfrm>
            <a:off x="5535720" y="4992840"/>
            <a:ext cx="1938240" cy="798480"/>
            <a:chOff x="5535720" y="4992840"/>
            <a:chExt cx="1938240" cy="798480"/>
          </a:xfrm>
        </p:grpSpPr>
        <p:pic>
          <p:nvPicPr>
            <p:cNvPr id="287" name="Rectangle 9" descr=""/>
            <p:cNvPicPr/>
            <p:nvPr/>
          </p:nvPicPr>
          <p:blipFill>
            <a:blip r:embed="rId2"/>
            <a:stretch/>
          </p:blipFill>
          <p:spPr>
            <a:xfrm>
              <a:off x="5535720" y="4992840"/>
              <a:ext cx="1938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594400" y="50292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finiBa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ectangle 18"/>
          <p:cNvGrpSpPr/>
          <p:nvPr/>
        </p:nvGrpSpPr>
        <p:grpSpPr>
          <a:xfrm>
            <a:off x="1768320" y="2633760"/>
            <a:ext cx="1944720" cy="2090520"/>
            <a:chOff x="1768320" y="2633760"/>
            <a:chExt cx="1944720" cy="2090520"/>
          </a:xfrm>
        </p:grpSpPr>
        <p:pic>
          <p:nvPicPr>
            <p:cNvPr id="290" name="Rectangle 18" descr=""/>
            <p:cNvPicPr/>
            <p:nvPr/>
          </p:nvPicPr>
          <p:blipFill>
            <a:blip r:embed="rId3"/>
            <a:stretch/>
          </p:blipFill>
          <p:spPr>
            <a:xfrm>
              <a:off x="1768320" y="2633760"/>
              <a:ext cx="194472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828800" y="2668680"/>
              <a:ext cx="182880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ectangle 19"/>
          <p:cNvGrpSpPr/>
          <p:nvPr/>
        </p:nvGrpSpPr>
        <p:grpSpPr>
          <a:xfrm>
            <a:off x="1768320" y="1719360"/>
            <a:ext cx="1944720" cy="718920"/>
            <a:chOff x="1768320" y="1719360"/>
            <a:chExt cx="1944720" cy="718920"/>
          </a:xfrm>
        </p:grpSpPr>
        <p:pic>
          <p:nvPicPr>
            <p:cNvPr id="293" name="Rectangle 19" descr=""/>
            <p:cNvPicPr/>
            <p:nvPr/>
          </p:nvPicPr>
          <p:blipFill>
            <a:blip r:embed="rId4"/>
            <a:stretch/>
          </p:blipFill>
          <p:spPr>
            <a:xfrm>
              <a:off x="1768320" y="1719360"/>
              <a:ext cx="1944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828800" y="175428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20"/>
          <p:cNvGrpSpPr/>
          <p:nvPr/>
        </p:nvGrpSpPr>
        <p:grpSpPr>
          <a:xfrm>
            <a:off x="1920960" y="3468600"/>
            <a:ext cx="1633320" cy="1024200"/>
            <a:chOff x="1920960" y="3468600"/>
            <a:chExt cx="1633320" cy="1024200"/>
          </a:xfrm>
        </p:grpSpPr>
        <p:pic>
          <p:nvPicPr>
            <p:cNvPr id="296" name="Rectangle 20" descr=""/>
            <p:cNvPicPr/>
            <p:nvPr/>
          </p:nvPicPr>
          <p:blipFill>
            <a:blip r:embed="rId5"/>
            <a:stretch/>
          </p:blipFill>
          <p:spPr>
            <a:xfrm>
              <a:off x="1920960" y="3468600"/>
              <a:ext cx="16333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981080" y="3505320"/>
              <a:ext cx="1522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21"/>
          <p:cNvGrpSpPr/>
          <p:nvPr/>
        </p:nvGrpSpPr>
        <p:grpSpPr>
          <a:xfrm>
            <a:off x="1768320" y="4992840"/>
            <a:ext cx="1938600" cy="798480"/>
            <a:chOff x="1768320" y="4992840"/>
            <a:chExt cx="1938600" cy="798480"/>
          </a:xfrm>
        </p:grpSpPr>
        <p:pic>
          <p:nvPicPr>
            <p:cNvPr id="299" name="Rectangle 21" descr=""/>
            <p:cNvPicPr/>
            <p:nvPr/>
          </p:nvPicPr>
          <p:blipFill>
            <a:blip r:embed="rId6"/>
            <a:stretch/>
          </p:blipFill>
          <p:spPr>
            <a:xfrm>
              <a:off x="1768320" y="4992840"/>
              <a:ext cx="19386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827360" y="503064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finiBa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Straight Connector 24"/>
          <p:cNvSpPr/>
          <p:nvPr/>
        </p:nvSpPr>
        <p:spPr>
          <a:xfrm flipH="1">
            <a:off x="2741760" y="2363760"/>
            <a:ext cx="2880" cy="304920"/>
          </a:xfrm>
          <a:prstGeom prst="line">
            <a:avLst/>
          </a:prstGeom>
          <a:ln w="25560">
            <a:solidFill>
              <a:srgbClr val="3c6fb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36"/>
          <p:cNvCxnSpPr/>
          <p:nvPr/>
        </p:nvCxnSpPr>
        <p:spPr>
          <a:xfrm flipH="1">
            <a:off x="2741400" y="4648320"/>
            <a:ext cx="3600" cy="38304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303" name="Group 38"/>
          <p:cNvGrpSpPr/>
          <p:nvPr/>
        </p:nvGrpSpPr>
        <p:grpSpPr>
          <a:xfrm>
            <a:off x="4724280" y="2971800"/>
            <a:ext cx="3567240" cy="1447920"/>
            <a:chOff x="4724280" y="2971800"/>
            <a:chExt cx="3567240" cy="1447920"/>
          </a:xfrm>
        </p:grpSpPr>
        <p:grpSp>
          <p:nvGrpSpPr>
            <p:cNvPr id="304" name="Rectangle 6"/>
            <p:cNvGrpSpPr/>
            <p:nvPr/>
          </p:nvGrpSpPr>
          <p:grpSpPr>
            <a:xfrm>
              <a:off x="4852080" y="3163680"/>
              <a:ext cx="1585080" cy="1024200"/>
              <a:chOff x="4852080" y="3163680"/>
              <a:chExt cx="1585080" cy="1024200"/>
            </a:xfrm>
          </p:grpSpPr>
          <p:pic>
            <p:nvPicPr>
              <p:cNvPr id="305" name="Rectangle 6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2080" y="3163680"/>
                <a:ext cx="1585080" cy="10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908240" y="3200040"/>
                <a:ext cx="14763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GP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Rectangle 8"/>
            <p:cNvGrpSpPr/>
            <p:nvPr/>
          </p:nvGrpSpPr>
          <p:grpSpPr>
            <a:xfrm>
              <a:off x="6644520" y="3163680"/>
              <a:ext cx="1517760" cy="1024200"/>
              <a:chOff x="6644520" y="3163680"/>
              <a:chExt cx="1517760" cy="1024200"/>
            </a:xfrm>
          </p:grpSpPr>
          <p:pic>
            <p:nvPicPr>
              <p:cNvPr id="308" name="Rectangl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4520" y="3163680"/>
                <a:ext cx="1517760" cy="10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705000" y="3201840"/>
                <a:ext cx="140256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P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Rounded Rectangle 25"/>
            <p:cNvSpPr/>
            <p:nvPr/>
          </p:nvSpPr>
          <p:spPr>
            <a:xfrm>
              <a:off x="4724280" y="2971800"/>
              <a:ext cx="3567240" cy="1447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Straight Arrow Connector 26"/>
            <p:cNvCxnSpPr/>
            <p:nvPr/>
          </p:nvCxnSpPr>
          <p:spPr>
            <a:xfrm>
              <a:off x="6384960" y="3659400"/>
              <a:ext cx="321120" cy="2160"/>
            </a:xfrm>
            <a:prstGeom prst="straightConnector1">
              <a:avLst/>
            </a:prstGeom>
            <a:ln w="25560">
              <a:solidFill>
                <a:srgbClr val="3c6fbd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312" name="TextBox 27"/>
          <p:cNvSpPr/>
          <p:nvPr/>
        </p:nvSpPr>
        <p:spPr>
          <a:xfrm>
            <a:off x="4952880" y="2602080"/>
            <a:ext cx="14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QPI/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44"/>
          <p:cNvCxnSpPr/>
          <p:nvPr/>
        </p:nvCxnSpPr>
        <p:spPr>
          <a:xfrm flipH="1">
            <a:off x="6508080" y="2363400"/>
            <a:ext cx="1080" cy="60876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4" name="Straight Arrow Connector 52"/>
          <p:cNvCxnSpPr/>
          <p:nvPr/>
        </p:nvCxnSpPr>
        <p:spPr>
          <a:xfrm flipH="1">
            <a:off x="6508080" y="4419360"/>
            <a:ext cx="1080" cy="61020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ere does OpenFabrics/RDMA fit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ore-to-Core?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chine is not fl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pretend every core is a pe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scaling on chip; weak scaling between chi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weight messaging requi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maller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sided ops / Global addr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onles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r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and complexity of an HCA is &gt;&gt; a single 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20-40X di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30-50X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AB945-BC14-4A1C-899D-F2450EA50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ere does OpenFabrics/RDMA fit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1640"/>
            <a:ext cx="853452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de-to-Node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s: MPI likely present at this level between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: Extending core-to-core network may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: I/O must be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BW: 200-400GB/s p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ta rate will we have in 201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Photon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 design argues for NIC on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 many simple cores to processing pack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hare the TLB -&gt; smaller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B1873-95A0-4916-B4D2-3873C011E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xascale will transform computing at every sca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61760" y="43430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advantages even at smaller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fford Exascale to be a 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echnology &amp; software continuity across scales to get sufficient market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0" descr="VivekContinuity.pdf"/>
          <p:cNvPicPr/>
          <p:nvPr/>
        </p:nvPicPr>
        <p:blipFill>
          <a:blip r:embed="rId1"/>
          <a:stretch/>
        </p:blipFill>
        <p:spPr>
          <a:xfrm>
            <a:off x="177840" y="1523880"/>
            <a:ext cx="91440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Looking into the Futu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C7458-2B73-4416-9E63-65842451C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1"/>
          <a:srcRect l="0" t="0" r="0" b="14508"/>
          <a:stretch/>
        </p:blipFill>
        <p:spPr>
          <a:xfrm>
            <a:off x="2743200" y="1676520"/>
            <a:ext cx="3962520" cy="46242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7"/>
          <p:cNvSpPr/>
          <p:nvPr/>
        </p:nvSpPr>
        <p:spPr>
          <a:xfrm>
            <a:off x="3565440" y="3124080"/>
            <a:ext cx="22258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195"/>
                </a:solidFill>
                <a:latin typeface="Arial"/>
                <a:ea typeface="Arial"/>
              </a:rPr>
              <a:t>1 Zettaf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195"/>
                </a:solidFill>
                <a:latin typeface="Arial"/>
                <a:ea typeface="Arial"/>
              </a:rPr>
              <a:t>in 20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251424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893AB-20DA-48A9-B8D1-222D17B33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510600" y="17827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eft Arrow 6"/>
          <p:cNvSpPr/>
          <p:nvPr/>
        </p:nvSpPr>
        <p:spPr>
          <a:xfrm>
            <a:off x="6424560" y="2514600"/>
            <a:ext cx="2185920" cy="83808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eft Arrow 6"/>
          <p:cNvSpPr/>
          <p:nvPr/>
        </p:nvSpPr>
        <p:spPr>
          <a:xfrm>
            <a:off x="5486400" y="2514600"/>
            <a:ext cx="3124080" cy="8380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eft Arrow 6"/>
          <p:cNvSpPr/>
          <p:nvPr/>
        </p:nvSpPr>
        <p:spPr>
          <a:xfrm>
            <a:off x="4572000" y="2514600"/>
            <a:ext cx="4038480" cy="83808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ft Arrow 6"/>
          <p:cNvSpPr/>
          <p:nvPr/>
        </p:nvSpPr>
        <p:spPr>
          <a:xfrm>
            <a:off x="3733920" y="2514600"/>
            <a:ext cx="4876560" cy="83808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Arrow 6"/>
          <p:cNvSpPr/>
          <p:nvPr/>
        </p:nvSpPr>
        <p:spPr>
          <a:xfrm>
            <a:off x="2895480" y="2514600"/>
            <a:ext cx="57150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289548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– ASCI 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 rot="2764200">
            <a:off x="2022840" y="39488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uster/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eft Arrow 6"/>
          <p:cNvSpPr/>
          <p:nvPr/>
        </p:nvSpPr>
        <p:spPr>
          <a:xfrm>
            <a:off x="1971720" y="2514600"/>
            <a:ext cx="6638760" cy="83808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9548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– ASCI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05740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8 – Road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 rot="2764200">
            <a:off x="2022840" y="39488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uster/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6"/>
          <p:cNvSpPr/>
          <p:nvPr/>
        </p:nvSpPr>
        <p:spPr>
          <a:xfrm>
            <a:off x="1143000" y="2514600"/>
            <a:ext cx="7467480" cy="8380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289548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– ASCI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205740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8 – Road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1219320" y="564984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8? – Exa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 rot="2764200">
            <a:off x="308880" y="472860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Hybrid/Many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 rot="2764200">
            <a:off x="2022840" y="39488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uster/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7:04:10Z</dcterms:created>
  <dc:creator>apple admin</dc:creator>
  <dc:description/>
  <dc:language>en-US</dc:language>
  <cp:lastModifiedBy>Jeff Broughton</cp:lastModifiedBy>
  <dcterms:modified xsi:type="dcterms:W3CDTF">2010-03-16T14:05:08Z</dcterms:modified>
  <cp:revision>52</cp:revision>
  <dc:subject/>
  <dc:title>Slide 1</dc:title>
</cp:coreProperties>
</file>