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F51-164B-46CA-B14A-95E888A4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A4A-20D3-4661-93FC-2AE9EB96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4C6-F16F-4F3F-B739-D93309A9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CA1-9CF5-49A5-AD07-8263DDC2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B9C-9AED-42F1-A54A-00559C44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970A-6510-4CF1-90FA-6FF56C1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34A-CF36-4FAE-AE3C-CB2D293A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C5D-0147-4E8E-A96D-F11FE0E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09D8-9564-43B9-B13C-5B7096F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EF8-1D4B-472F-83D3-720ED5F3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033-E0C9-4987-B8FE-AD4AB63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1E9-921B-4BCF-B2A7-A2C269C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97E-233C-4BD8-890E-E7F7838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C833-A39E-422B-BB69-468A627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3D9-15D0-45C2-992E-7BC15E4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4832-66DA-4A7D-8B89-DB8A75CA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0728-5D5E-46AD-897D-9E1300EC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2D0-D4F8-424B-87EC-CD984EB5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B09-913E-4760-BAAD-1DA8D87D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C15-68CC-47E0-9016-63EEE69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020-9BD4-4216-B553-274ACE3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1C5-8690-4EC1-A7FB-886DA4F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82D-464D-458F-93F2-1899129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E9B-80F8-474A-B947-922C77F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7BCD0-9C93-481B-972A-358A60EEB00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32830-D9FD-4F2D-8AE7-48974857E7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BC339-BF60-4E29-BC56-FE4F924F089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678B8-E463-4E09-A3B8-1B2CEC4321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irtual NICs and HBA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Implementation update and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BEF94-26BE-406C-BA64-D4DBD1DF6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</a:t>
            </a:r>
            <a:r>
              <a:rPr b="0" lang="en-US" sz="1800" spc="-1" strike="noStrike" baseline="30000">
                <a:solidFill>
                  <a:srgbClr val="6d6e71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u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look and feel as normal FC H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FCoE and FCoIB in Be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 + kernel submission in a couple of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in alp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E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over IB (EoIB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4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xternal port is associated with one or more Virtual Hubs (vHu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s an Ethernet broadcast domain within the internal network (V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a context table containing a record for each v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he context table is distributed to all v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d with 3 IB multicast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 table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 table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14800" y="1523880"/>
            <a:ext cx="4901040" cy="4834440"/>
            <a:chOff x="4114800" y="1523880"/>
            <a:chExt cx="4901040" cy="4834440"/>
          </a:xfrm>
        </p:grpSpPr>
        <p:grpSp>
          <p:nvGrpSpPr>
            <p:cNvPr id="188" name=""/>
            <p:cNvGrpSpPr/>
            <p:nvPr/>
          </p:nvGrpSpPr>
          <p:grpSpPr>
            <a:xfrm>
              <a:off x="5349600" y="2474280"/>
              <a:ext cx="3666240" cy="2543760"/>
              <a:chOff x="5349600" y="2474280"/>
              <a:chExt cx="3666240" cy="2543760"/>
            </a:xfrm>
          </p:grpSpPr>
          <p:sp>
            <p:nvSpPr>
              <p:cNvPr id="189" name=""/>
              <p:cNvSpPr/>
              <p:nvPr/>
            </p:nvSpPr>
            <p:spPr>
              <a:xfrm>
                <a:off x="5349600" y="2474280"/>
                <a:ext cx="3666240" cy="2543760"/>
              </a:xfrm>
              <a:custGeom>
                <a:avLst/>
                <a:gdLst/>
                <a:ahLst/>
                <a:rect l="l" t="t" r="r" b="b"/>
                <a:pathLst>
                  <a:path w="3258" h="2062">
                    <a:moveTo>
                      <a:pt x="294" y="686"/>
                    </a:moveTo>
                    <a:cubicBezTo>
                      <a:pt x="127" y="701"/>
                      <a:pt x="0" y="823"/>
                      <a:pt x="0" y="968"/>
                    </a:cubicBezTo>
                    <a:cubicBezTo>
                      <a:pt x="0" y="1069"/>
                      <a:pt x="62" y="1162"/>
                      <a:pt x="162" y="1213"/>
                    </a:cubicBezTo>
                    <a:lnTo>
                      <a:pt x="160" y="1210"/>
                    </a:lnTo>
                    <a:cubicBezTo>
                      <a:pt x="103" y="1262"/>
                      <a:pt x="72" y="1331"/>
                      <a:pt x="72" y="1403"/>
                    </a:cubicBezTo>
                    <a:cubicBezTo>
                      <a:pt x="72" y="1559"/>
                      <a:pt x="219" y="1686"/>
                      <a:pt x="401" y="1686"/>
                    </a:cubicBezTo>
                    <a:cubicBezTo>
                      <a:pt x="413" y="1686"/>
                      <a:pt x="426" y="1685"/>
                      <a:pt x="439" y="1684"/>
                    </a:cubicBezTo>
                    <a:lnTo>
                      <a:pt x="437" y="1686"/>
                    </a:lnTo>
                    <a:cubicBezTo>
                      <a:pt x="541" y="1842"/>
                      <a:pt x="734" y="1939"/>
                      <a:pt x="942" y="1939"/>
                    </a:cubicBezTo>
                    <a:cubicBezTo>
                      <a:pt x="1048" y="1939"/>
                      <a:pt x="1152" y="1914"/>
                      <a:pt x="1242" y="1867"/>
                    </a:cubicBezTo>
                    <a:lnTo>
                      <a:pt x="1241" y="1867"/>
                    </a:lnTo>
                    <a:cubicBezTo>
                      <a:pt x="1336" y="1989"/>
                      <a:pt x="1495" y="2062"/>
                      <a:pt x="1665" y="2062"/>
                    </a:cubicBezTo>
                    <a:cubicBezTo>
                      <a:pt x="1889" y="2062"/>
                      <a:pt x="2087" y="1936"/>
                      <a:pt x="2152" y="1750"/>
                    </a:cubicBezTo>
                    <a:lnTo>
                      <a:pt x="2153" y="1752"/>
                    </a:lnTo>
                    <a:cubicBezTo>
                      <a:pt x="2222" y="1790"/>
                      <a:pt x="2302" y="1809"/>
                      <a:pt x="2384" y="1809"/>
                    </a:cubicBezTo>
                    <a:cubicBezTo>
                      <a:pt x="2623" y="1809"/>
                      <a:pt x="2818" y="1643"/>
                      <a:pt x="2820" y="1437"/>
                    </a:cubicBezTo>
                    <a:lnTo>
                      <a:pt x="2819" y="1436"/>
                    </a:lnTo>
                    <a:cubicBezTo>
                      <a:pt x="3071" y="1405"/>
                      <a:pt x="3258" y="1219"/>
                      <a:pt x="3258" y="1000"/>
                    </a:cubicBezTo>
                    <a:cubicBezTo>
                      <a:pt x="3258" y="903"/>
                      <a:pt x="3221" y="809"/>
                      <a:pt x="3152" y="732"/>
                    </a:cubicBezTo>
                    <a:lnTo>
                      <a:pt x="3151" y="732"/>
                    </a:lnTo>
                    <a:cubicBezTo>
                      <a:pt x="3173" y="689"/>
                      <a:pt x="3184" y="642"/>
                      <a:pt x="3184" y="595"/>
                    </a:cubicBezTo>
                    <a:cubicBezTo>
                      <a:pt x="3184" y="438"/>
                      <a:pt x="3062" y="301"/>
                      <a:pt x="2887" y="260"/>
                    </a:cubicBezTo>
                    <a:lnTo>
                      <a:pt x="2889" y="259"/>
                    </a:lnTo>
                    <a:cubicBezTo>
                      <a:pt x="2857" y="109"/>
                      <a:pt x="2705" y="0"/>
                      <a:pt x="2528" y="0"/>
                    </a:cubicBezTo>
                    <a:cubicBezTo>
                      <a:pt x="2420" y="0"/>
                      <a:pt x="2318" y="41"/>
                      <a:pt x="2249" y="112"/>
                    </a:cubicBezTo>
                    <a:lnTo>
                      <a:pt x="2249" y="112"/>
                    </a:lnTo>
                    <a:cubicBezTo>
                      <a:pt x="2187" y="42"/>
                      <a:pt x="2090" y="0"/>
                      <a:pt x="1987" y="0"/>
                    </a:cubicBezTo>
                    <a:cubicBezTo>
                      <a:pt x="1863" y="0"/>
                      <a:pt x="1748" y="61"/>
                      <a:pt x="1693" y="157"/>
                    </a:cubicBezTo>
                    <a:lnTo>
                      <a:pt x="1694" y="162"/>
                    </a:lnTo>
                    <a:cubicBezTo>
                      <a:pt x="1619" y="98"/>
                      <a:pt x="1517" y="62"/>
                      <a:pt x="1412" y="62"/>
                    </a:cubicBezTo>
                    <a:cubicBezTo>
                      <a:pt x="1263" y="62"/>
                      <a:pt x="1126" y="133"/>
                      <a:pt x="1057" y="246"/>
                    </a:cubicBezTo>
                    <a:lnTo>
                      <a:pt x="1055" y="249"/>
                    </a:lnTo>
                    <a:cubicBezTo>
                      <a:pt x="977" y="209"/>
                      <a:pt x="888" y="189"/>
                      <a:pt x="798" y="189"/>
                    </a:cubicBezTo>
                    <a:cubicBezTo>
                      <a:pt x="516" y="189"/>
                      <a:pt x="289" y="385"/>
                      <a:pt x="289" y="627"/>
                    </a:cubicBezTo>
                    <a:cubicBezTo>
                      <a:pt x="288" y="647"/>
                      <a:pt x="290" y="667"/>
                      <a:pt x="293" y="686"/>
                    </a:cubicBezTo>
                    <a:lnTo>
                      <a:pt x="294" y="686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49600" y="2474280"/>
                <a:ext cx="3666240" cy="2543760"/>
              </a:xfrm>
              <a:custGeom>
                <a:avLst/>
                <a:gdLst/>
                <a:ahLst/>
                <a:rect l="l" t="t" r="r" b="b"/>
                <a:pathLst>
                  <a:path w="3258" h="2062">
                    <a:moveTo>
                      <a:pt x="294" y="686"/>
                    </a:moveTo>
                    <a:cubicBezTo>
                      <a:pt x="127" y="701"/>
                      <a:pt x="0" y="823"/>
                      <a:pt x="0" y="968"/>
                    </a:cubicBezTo>
                    <a:cubicBezTo>
                      <a:pt x="0" y="1069"/>
                      <a:pt x="62" y="1162"/>
                      <a:pt x="162" y="1213"/>
                    </a:cubicBezTo>
                    <a:lnTo>
                      <a:pt x="160" y="1210"/>
                    </a:lnTo>
                    <a:cubicBezTo>
                      <a:pt x="103" y="1262"/>
                      <a:pt x="72" y="1331"/>
                      <a:pt x="72" y="1403"/>
                    </a:cubicBezTo>
                    <a:cubicBezTo>
                      <a:pt x="72" y="1559"/>
                      <a:pt x="219" y="1686"/>
                      <a:pt x="401" y="1686"/>
                    </a:cubicBezTo>
                    <a:cubicBezTo>
                      <a:pt x="413" y="1686"/>
                      <a:pt x="426" y="1685"/>
                      <a:pt x="439" y="1684"/>
                    </a:cubicBezTo>
                    <a:lnTo>
                      <a:pt x="437" y="1686"/>
                    </a:lnTo>
                    <a:cubicBezTo>
                      <a:pt x="541" y="1842"/>
                      <a:pt x="734" y="1939"/>
                      <a:pt x="942" y="1939"/>
                    </a:cubicBezTo>
                    <a:cubicBezTo>
                      <a:pt x="1048" y="1939"/>
                      <a:pt x="1152" y="1914"/>
                      <a:pt x="1242" y="1867"/>
                    </a:cubicBezTo>
                    <a:lnTo>
                      <a:pt x="1241" y="1867"/>
                    </a:lnTo>
                    <a:cubicBezTo>
                      <a:pt x="1336" y="1989"/>
                      <a:pt x="1495" y="2062"/>
                      <a:pt x="1665" y="2062"/>
                    </a:cubicBezTo>
                    <a:cubicBezTo>
                      <a:pt x="1889" y="2062"/>
                      <a:pt x="2087" y="1936"/>
                      <a:pt x="2152" y="1750"/>
                    </a:cubicBezTo>
                    <a:lnTo>
                      <a:pt x="2153" y="1752"/>
                    </a:lnTo>
                    <a:cubicBezTo>
                      <a:pt x="2222" y="1790"/>
                      <a:pt x="2302" y="1809"/>
                      <a:pt x="2384" y="1809"/>
                    </a:cubicBezTo>
                    <a:cubicBezTo>
                      <a:pt x="2623" y="1809"/>
                      <a:pt x="2818" y="1643"/>
                      <a:pt x="2820" y="1437"/>
                    </a:cubicBezTo>
                    <a:lnTo>
                      <a:pt x="2819" y="1436"/>
                    </a:lnTo>
                    <a:cubicBezTo>
                      <a:pt x="3071" y="1405"/>
                      <a:pt x="3258" y="1219"/>
                      <a:pt x="3258" y="1000"/>
                    </a:cubicBezTo>
                    <a:cubicBezTo>
                      <a:pt x="3258" y="903"/>
                      <a:pt x="3221" y="809"/>
                      <a:pt x="3152" y="732"/>
                    </a:cubicBezTo>
                    <a:lnTo>
                      <a:pt x="3151" y="732"/>
                    </a:lnTo>
                    <a:cubicBezTo>
                      <a:pt x="3173" y="689"/>
                      <a:pt x="3184" y="642"/>
                      <a:pt x="3184" y="595"/>
                    </a:cubicBezTo>
                    <a:cubicBezTo>
                      <a:pt x="3184" y="438"/>
                      <a:pt x="3062" y="301"/>
                      <a:pt x="2887" y="260"/>
                    </a:cubicBezTo>
                    <a:lnTo>
                      <a:pt x="2889" y="259"/>
                    </a:lnTo>
                    <a:cubicBezTo>
                      <a:pt x="2857" y="109"/>
                      <a:pt x="2705" y="0"/>
                      <a:pt x="2528" y="0"/>
                    </a:cubicBezTo>
                    <a:cubicBezTo>
                      <a:pt x="2420" y="0"/>
                      <a:pt x="2318" y="41"/>
                      <a:pt x="2249" y="112"/>
                    </a:cubicBezTo>
                    <a:lnTo>
                      <a:pt x="2249" y="112"/>
                    </a:lnTo>
                    <a:cubicBezTo>
                      <a:pt x="2187" y="42"/>
                      <a:pt x="2090" y="0"/>
                      <a:pt x="1987" y="0"/>
                    </a:cubicBezTo>
                    <a:cubicBezTo>
                      <a:pt x="1863" y="0"/>
                      <a:pt x="1748" y="61"/>
                      <a:pt x="1693" y="157"/>
                    </a:cubicBezTo>
                    <a:lnTo>
                      <a:pt x="1694" y="162"/>
                    </a:lnTo>
                    <a:cubicBezTo>
                      <a:pt x="1619" y="98"/>
                      <a:pt x="1517" y="62"/>
                      <a:pt x="1412" y="62"/>
                    </a:cubicBezTo>
                    <a:cubicBezTo>
                      <a:pt x="1263" y="62"/>
                      <a:pt x="1126" y="133"/>
                      <a:pt x="1057" y="246"/>
                    </a:cubicBezTo>
                    <a:lnTo>
                      <a:pt x="1055" y="249"/>
                    </a:lnTo>
                    <a:cubicBezTo>
                      <a:pt x="977" y="209"/>
                      <a:pt x="888" y="189"/>
                      <a:pt x="798" y="189"/>
                    </a:cubicBezTo>
                    <a:cubicBezTo>
                      <a:pt x="516" y="189"/>
                      <a:pt x="289" y="385"/>
                      <a:pt x="289" y="627"/>
                    </a:cubicBezTo>
                    <a:cubicBezTo>
                      <a:pt x="288" y="647"/>
                      <a:pt x="290" y="667"/>
                      <a:pt x="293" y="686"/>
                    </a:cubicBezTo>
                    <a:lnTo>
                      <a:pt x="294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>
                      <a:alpha val="40000"/>
                    </a:srgbClr>
                  </a:gs>
                  <a:gs pos="100000">
                    <a:srgbClr val="dbecfe">
                      <a:alpha val="40000"/>
                    </a:srgbClr>
                  </a:gs>
                </a:gsLst>
                <a:lin ang="5400000"/>
              </a:gradFill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31400" y="3967920"/>
                <a:ext cx="219240" cy="4752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0" y="0"/>
                    </a:moveTo>
                    <a:cubicBezTo>
                      <a:pt x="11" y="5"/>
                      <a:pt x="23" y="8"/>
                      <a:pt x="35" y="8"/>
                    </a:cubicBezTo>
                    <a:cubicBezTo>
                      <a:pt x="37" y="8"/>
                      <a:pt x="39" y="8"/>
                      <a:pt x="41" y="8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46400" y="4524840"/>
                <a:ext cx="90720" cy="237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4"/>
                    </a:moveTo>
                    <a:cubicBezTo>
                      <a:pt x="6" y="3"/>
                      <a:pt x="12" y="2"/>
                      <a:pt x="17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91320" y="4671000"/>
                <a:ext cx="57960" cy="1062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cubicBezTo>
                      <a:pt x="3" y="6"/>
                      <a:pt x="6" y="12"/>
                      <a:pt x="11" y="18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70960" y="4519440"/>
                <a:ext cx="26640" cy="11160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19"/>
                    </a:moveTo>
                    <a:cubicBezTo>
                      <a:pt x="3" y="13"/>
                      <a:pt x="4" y="6"/>
                      <a:pt x="5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46160" y="3821760"/>
                <a:ext cx="277560" cy="42264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2" y="72"/>
                    </a:moveTo>
                    <a:cubicBezTo>
                      <a:pt x="52" y="72"/>
                      <a:pt x="52" y="72"/>
                      <a:pt x="52" y="71"/>
                    </a:cubicBezTo>
                    <a:cubicBezTo>
                      <a:pt x="52" y="41"/>
                      <a:pt x="32" y="1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76080" y="3376440"/>
                <a:ext cx="122400" cy="1580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cubicBezTo>
                      <a:pt x="10" y="19"/>
                      <a:pt x="18" y="10"/>
                      <a:pt x="23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05080" y="2790360"/>
                <a:ext cx="4680" cy="7560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1" y="13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8"/>
                      <a:pt x="0" y="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18480" y="2608200"/>
                <a:ext cx="64080" cy="94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0"/>
                    </a:moveTo>
                    <a:cubicBezTo>
                      <a:pt x="7" y="5"/>
                      <a:pt x="3" y="10"/>
                      <a:pt x="0" y="16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25560" y="2666880"/>
                <a:ext cx="31320" cy="8208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cubicBezTo>
                      <a:pt x="3" y="4"/>
                      <a:pt x="1" y="9"/>
                      <a:pt x="0" y="14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36160" y="2778480"/>
                <a:ext cx="112680" cy="7560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13"/>
                    </a:moveTo>
                    <a:cubicBezTo>
                      <a:pt x="15" y="8"/>
                      <a:pt x="8" y="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80440" y="3318120"/>
                <a:ext cx="16920" cy="8208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0"/>
                    </a:moveTo>
                    <a:cubicBezTo>
                      <a:pt x="1" y="5"/>
                      <a:pt x="2" y="10"/>
                      <a:pt x="3" y="14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217"/>
            <p:cNvSpPr/>
            <p:nvPr/>
          </p:nvSpPr>
          <p:spPr>
            <a:xfrm>
              <a:off x="4952880" y="180288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18"/>
            <p:cNvSpPr/>
            <p:nvPr/>
          </p:nvSpPr>
          <p:spPr>
            <a:xfrm>
              <a:off x="4952880" y="152388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9"/>
            <p:cNvSpPr/>
            <p:nvPr/>
          </p:nvSpPr>
          <p:spPr>
            <a:xfrm>
              <a:off x="4114800" y="1523880"/>
              <a:ext cx="83808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0"/>
            <p:cNvSpPr/>
            <p:nvPr/>
          </p:nvSpPr>
          <p:spPr>
            <a:xfrm>
              <a:off x="4114800" y="1802880"/>
              <a:ext cx="83808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21"/>
            <p:cNvSpPr/>
            <p:nvPr/>
          </p:nvSpPr>
          <p:spPr>
            <a:xfrm>
              <a:off x="4952880" y="1663200"/>
              <a:ext cx="914400" cy="13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2"/>
            <p:cNvSpPr/>
            <p:nvPr/>
          </p:nvSpPr>
          <p:spPr>
            <a:xfrm>
              <a:off x="4114800" y="1663200"/>
              <a:ext cx="914400" cy="13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8381880" y="5639400"/>
              <a:ext cx="0" cy="3488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16"/>
            <p:cNvSpPr/>
            <p:nvPr/>
          </p:nvSpPr>
          <p:spPr>
            <a:xfrm>
              <a:off x="8153280" y="5151600"/>
              <a:ext cx="457200" cy="487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GW 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6"/>
            <p:cNvSpPr/>
            <p:nvPr/>
          </p:nvSpPr>
          <p:spPr>
            <a:xfrm flipV="1">
              <a:off x="7696080" y="5639760"/>
              <a:ext cx="0" cy="3355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15"/>
            <p:cNvSpPr/>
            <p:nvPr/>
          </p:nvSpPr>
          <p:spPr>
            <a:xfrm>
              <a:off x="7315200" y="5151600"/>
              <a:ext cx="761760" cy="487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GW 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65"/>
            <p:cNvSpPr/>
            <p:nvPr/>
          </p:nvSpPr>
          <p:spPr>
            <a:xfrm>
              <a:off x="6956280" y="1802880"/>
              <a:ext cx="30492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66"/>
            <p:cNvSpPr/>
            <p:nvPr/>
          </p:nvSpPr>
          <p:spPr>
            <a:xfrm>
              <a:off x="7299360" y="1802880"/>
              <a:ext cx="30456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4"/>
            <p:cNvSpPr/>
            <p:nvPr/>
          </p:nvSpPr>
          <p:spPr>
            <a:xfrm>
              <a:off x="6613560" y="1802880"/>
              <a:ext cx="30456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62"/>
            <p:cNvSpPr/>
            <p:nvPr/>
          </p:nvSpPr>
          <p:spPr>
            <a:xfrm>
              <a:off x="5898960" y="1802880"/>
              <a:ext cx="68580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63"/>
            <p:cNvSpPr/>
            <p:nvPr/>
          </p:nvSpPr>
          <p:spPr>
            <a:xfrm>
              <a:off x="7656480" y="1802880"/>
              <a:ext cx="96192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0"/>
            <p:cNvSpPr/>
            <p:nvPr/>
          </p:nvSpPr>
          <p:spPr>
            <a:xfrm>
              <a:off x="59040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1"/>
            <p:cNvSpPr/>
            <p:nvPr/>
          </p:nvSpPr>
          <p:spPr>
            <a:xfrm>
              <a:off x="5940360" y="2090520"/>
              <a:ext cx="2667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3"/>
            <p:cNvSpPr/>
            <p:nvPr/>
          </p:nvSpPr>
          <p:spPr>
            <a:xfrm>
              <a:off x="62532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2895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6"/>
            <p:cNvSpPr/>
            <p:nvPr/>
          </p:nvSpPr>
          <p:spPr>
            <a:xfrm>
              <a:off x="65898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7"/>
            <p:cNvSpPr/>
            <p:nvPr/>
          </p:nvSpPr>
          <p:spPr>
            <a:xfrm>
              <a:off x="6626160" y="2090520"/>
              <a:ext cx="266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9"/>
            <p:cNvSpPr/>
            <p:nvPr/>
          </p:nvSpPr>
          <p:spPr>
            <a:xfrm>
              <a:off x="69390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0"/>
            <p:cNvSpPr/>
            <p:nvPr/>
          </p:nvSpPr>
          <p:spPr>
            <a:xfrm>
              <a:off x="69753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2"/>
            <p:cNvSpPr/>
            <p:nvPr/>
          </p:nvSpPr>
          <p:spPr>
            <a:xfrm>
              <a:off x="72756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3"/>
            <p:cNvSpPr/>
            <p:nvPr/>
          </p:nvSpPr>
          <p:spPr>
            <a:xfrm>
              <a:off x="7311960" y="2090520"/>
              <a:ext cx="2667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5"/>
            <p:cNvSpPr/>
            <p:nvPr/>
          </p:nvSpPr>
          <p:spPr>
            <a:xfrm>
              <a:off x="76248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6"/>
            <p:cNvSpPr/>
            <p:nvPr/>
          </p:nvSpPr>
          <p:spPr>
            <a:xfrm>
              <a:off x="76611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8"/>
            <p:cNvSpPr/>
            <p:nvPr/>
          </p:nvSpPr>
          <p:spPr>
            <a:xfrm>
              <a:off x="79614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9"/>
            <p:cNvSpPr/>
            <p:nvPr/>
          </p:nvSpPr>
          <p:spPr>
            <a:xfrm>
              <a:off x="7997760" y="2090520"/>
              <a:ext cx="266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41"/>
            <p:cNvSpPr/>
            <p:nvPr/>
          </p:nvSpPr>
          <p:spPr>
            <a:xfrm>
              <a:off x="83106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2"/>
            <p:cNvSpPr/>
            <p:nvPr/>
          </p:nvSpPr>
          <p:spPr>
            <a:xfrm>
              <a:off x="83469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7391160" y="5151600"/>
              <a:ext cx="304920" cy="209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3"/>
            <p:cNvSpPr/>
            <p:nvPr/>
          </p:nvSpPr>
          <p:spPr>
            <a:xfrm>
              <a:off x="7696080" y="5151600"/>
              <a:ext cx="304920" cy="2091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4"/>
            <p:cNvSpPr/>
            <p:nvPr/>
          </p:nvSpPr>
          <p:spPr>
            <a:xfrm>
              <a:off x="8237520" y="5151600"/>
              <a:ext cx="304560" cy="2091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5"/>
            <p:cNvSpPr/>
            <p:nvPr/>
          </p:nvSpPr>
          <p:spPr>
            <a:xfrm>
              <a:off x="7319160" y="599004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thernet w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8"/>
            <p:cNvSpPr/>
            <p:nvPr/>
          </p:nvSpPr>
          <p:spPr>
            <a:xfrm flipH="1">
              <a:off x="7848360" y="2779560"/>
              <a:ext cx="7920" cy="237204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9"/>
            <p:cNvSpPr/>
            <p:nvPr/>
          </p:nvSpPr>
          <p:spPr>
            <a:xfrm flipH="1">
              <a:off x="8381880" y="3058560"/>
              <a:ext cx="7920" cy="2092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0"/>
            <p:cNvSpPr/>
            <p:nvPr/>
          </p:nvSpPr>
          <p:spPr>
            <a:xfrm flipH="1">
              <a:off x="7543800" y="2570040"/>
              <a:ext cx="7920" cy="2581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1"/>
            <p:cNvSpPr/>
            <p:nvPr/>
          </p:nvSpPr>
          <p:spPr>
            <a:xfrm>
              <a:off x="6027480" y="2081880"/>
              <a:ext cx="0" cy="976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2"/>
            <p:cNvSpPr/>
            <p:nvPr/>
          </p:nvSpPr>
          <p:spPr>
            <a:xfrm>
              <a:off x="6027480" y="3058560"/>
              <a:ext cx="2362320" cy="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3"/>
            <p:cNvSpPr/>
            <p:nvPr/>
          </p:nvSpPr>
          <p:spPr>
            <a:xfrm>
              <a:off x="7399080" y="2081880"/>
              <a:ext cx="0" cy="976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54"/>
            <p:cNvSpPr/>
            <p:nvPr/>
          </p:nvSpPr>
          <p:spPr>
            <a:xfrm>
              <a:off x="64087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5"/>
            <p:cNvSpPr/>
            <p:nvPr/>
          </p:nvSpPr>
          <p:spPr>
            <a:xfrm>
              <a:off x="6408720" y="257004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6"/>
            <p:cNvSpPr/>
            <p:nvPr/>
          </p:nvSpPr>
          <p:spPr>
            <a:xfrm>
              <a:off x="84661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7"/>
            <p:cNvSpPr/>
            <p:nvPr/>
          </p:nvSpPr>
          <p:spPr>
            <a:xfrm>
              <a:off x="77803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58"/>
            <p:cNvSpPr/>
            <p:nvPr/>
          </p:nvSpPr>
          <p:spPr>
            <a:xfrm>
              <a:off x="6713280" y="2081880"/>
              <a:ext cx="0" cy="69768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9"/>
            <p:cNvSpPr/>
            <p:nvPr/>
          </p:nvSpPr>
          <p:spPr>
            <a:xfrm>
              <a:off x="6713280" y="2779560"/>
              <a:ext cx="1371600" cy="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0"/>
            <p:cNvSpPr/>
            <p:nvPr/>
          </p:nvSpPr>
          <p:spPr>
            <a:xfrm>
              <a:off x="8084880" y="2081880"/>
              <a:ext cx="0" cy="69768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1"/>
            <p:cNvSpPr/>
            <p:nvPr/>
          </p:nvSpPr>
          <p:spPr>
            <a:xfrm>
              <a:off x="70945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1"/>
            <p:cNvSpPr/>
            <p:nvPr/>
          </p:nvSpPr>
          <p:spPr>
            <a:xfrm>
              <a:off x="8054280" y="2570040"/>
              <a:ext cx="72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 Narrow"/>
                  <a:ea typeface="Arial"/>
                </a:rPr>
                <a:t>vHUB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3"/>
            <p:cNvSpPr/>
            <p:nvPr/>
          </p:nvSpPr>
          <p:spPr>
            <a:xfrm flipH="1">
              <a:off x="6139800" y="396540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74"/>
            <p:cNvSpPr/>
            <p:nvPr/>
          </p:nvSpPr>
          <p:spPr>
            <a:xfrm flipH="1">
              <a:off x="6652440" y="3965400"/>
              <a:ext cx="6382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5"/>
            <p:cNvSpPr/>
            <p:nvPr/>
          </p:nvSpPr>
          <p:spPr>
            <a:xfrm flipH="1">
              <a:off x="7289640" y="396540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76"/>
            <p:cNvSpPr/>
            <p:nvPr/>
          </p:nvSpPr>
          <p:spPr>
            <a:xfrm flipH="1">
              <a:off x="5738760" y="397008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7"/>
            <p:cNvSpPr/>
            <p:nvPr/>
          </p:nvSpPr>
          <p:spPr>
            <a:xfrm flipH="1">
              <a:off x="5815080" y="3965400"/>
              <a:ext cx="218880" cy="13968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8"/>
            <p:cNvSpPr/>
            <p:nvPr/>
          </p:nvSpPr>
          <p:spPr>
            <a:xfrm flipH="1">
              <a:off x="6397560" y="3965400"/>
              <a:ext cx="255600" cy="13968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9"/>
            <p:cNvSpPr/>
            <p:nvPr/>
          </p:nvSpPr>
          <p:spPr>
            <a:xfrm flipH="1">
              <a:off x="6139800" y="417456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80"/>
            <p:cNvSpPr/>
            <p:nvPr/>
          </p:nvSpPr>
          <p:spPr>
            <a:xfrm flipH="1">
              <a:off x="6652440" y="4174560"/>
              <a:ext cx="6382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81"/>
            <p:cNvSpPr/>
            <p:nvPr/>
          </p:nvSpPr>
          <p:spPr>
            <a:xfrm flipH="1">
              <a:off x="7289640" y="417456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82"/>
            <p:cNvSpPr/>
            <p:nvPr/>
          </p:nvSpPr>
          <p:spPr>
            <a:xfrm flipH="1">
              <a:off x="5738760" y="417924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83"/>
            <p:cNvSpPr/>
            <p:nvPr/>
          </p:nvSpPr>
          <p:spPr>
            <a:xfrm flipH="1">
              <a:off x="5815080" y="4174560"/>
              <a:ext cx="218880" cy="1396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4"/>
            <p:cNvSpPr/>
            <p:nvPr/>
          </p:nvSpPr>
          <p:spPr>
            <a:xfrm flipH="1">
              <a:off x="6397560" y="4174560"/>
              <a:ext cx="255600" cy="1396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5"/>
            <p:cNvSpPr/>
            <p:nvPr/>
          </p:nvSpPr>
          <p:spPr>
            <a:xfrm flipH="1">
              <a:off x="6139800" y="438408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6"/>
            <p:cNvSpPr/>
            <p:nvPr/>
          </p:nvSpPr>
          <p:spPr>
            <a:xfrm flipH="1">
              <a:off x="6377040" y="4384080"/>
              <a:ext cx="91440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7"/>
            <p:cNvSpPr/>
            <p:nvPr/>
          </p:nvSpPr>
          <p:spPr>
            <a:xfrm flipH="1">
              <a:off x="7289640" y="438876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8"/>
            <p:cNvSpPr/>
            <p:nvPr/>
          </p:nvSpPr>
          <p:spPr>
            <a:xfrm flipH="1">
              <a:off x="5738760" y="438876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9"/>
            <p:cNvSpPr/>
            <p:nvPr/>
          </p:nvSpPr>
          <p:spPr>
            <a:xfrm flipH="1">
              <a:off x="5815080" y="4384080"/>
              <a:ext cx="218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>
              <a:off x="5767200" y="3895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91"/>
            <p:cNvSpPr/>
            <p:nvPr/>
          </p:nvSpPr>
          <p:spPr>
            <a:xfrm>
              <a:off x="6148440" y="3895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>
              <a:off x="7291440" y="3895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93"/>
            <p:cNvSpPr/>
            <p:nvPr/>
          </p:nvSpPr>
          <p:spPr>
            <a:xfrm>
              <a:off x="6323040" y="36442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  <a:ea typeface="Arial"/>
                </a:rPr>
                <a:t>Eth. fr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4"/>
            <p:cNvSpPr/>
            <p:nvPr/>
          </p:nvSpPr>
          <p:spPr>
            <a:xfrm>
              <a:off x="5920920" y="3268080"/>
              <a:ext cx="141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  <a:ea typeface="Arial"/>
                </a:rPr>
                <a:t>IB encapsulation h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95"/>
            <p:cNvSpPr/>
            <p:nvPr/>
          </p:nvSpPr>
          <p:spPr>
            <a:xfrm flipH="1">
              <a:off x="5919840" y="3477240"/>
              <a:ext cx="4572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>
              <a:off x="6910200" y="3477240"/>
              <a:ext cx="4572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01"/>
            <p:cNvSpPr/>
            <p:nvPr/>
          </p:nvSpPr>
          <p:spPr>
            <a:xfrm>
              <a:off x="4114800" y="1942200"/>
              <a:ext cx="838080" cy="1393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fau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2"/>
            <p:cNvSpPr/>
            <p:nvPr/>
          </p:nvSpPr>
          <p:spPr>
            <a:xfrm>
              <a:off x="4952880" y="1942200"/>
              <a:ext cx="914400" cy="139320"/>
            </a:xfrm>
            <a:prstGeom prst="rect">
              <a:avLst/>
            </a:prstGeom>
            <a:solidFill>
              <a:srgbClr val="7defe4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atew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05"/>
            <p:cNvSpPr/>
            <p:nvPr/>
          </p:nvSpPr>
          <p:spPr>
            <a:xfrm>
              <a:off x="4114800" y="1523880"/>
              <a:ext cx="1752480" cy="5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06"/>
            <p:cNvSpPr/>
            <p:nvPr/>
          </p:nvSpPr>
          <p:spPr>
            <a:xfrm>
              <a:off x="6172200" y="5430600"/>
              <a:ext cx="914400" cy="13968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07"/>
            <p:cNvSpPr/>
            <p:nvPr/>
          </p:nvSpPr>
          <p:spPr>
            <a:xfrm>
              <a:off x="6172200" y="515160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08"/>
            <p:cNvSpPr/>
            <p:nvPr/>
          </p:nvSpPr>
          <p:spPr>
            <a:xfrm>
              <a:off x="5333760" y="5151600"/>
              <a:ext cx="83844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09"/>
            <p:cNvSpPr/>
            <p:nvPr/>
          </p:nvSpPr>
          <p:spPr>
            <a:xfrm>
              <a:off x="5333760" y="5430600"/>
              <a:ext cx="838440" cy="139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10"/>
            <p:cNvSpPr/>
            <p:nvPr/>
          </p:nvSpPr>
          <p:spPr>
            <a:xfrm>
              <a:off x="5333760" y="5570280"/>
              <a:ext cx="838440" cy="1393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fau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11"/>
            <p:cNvSpPr/>
            <p:nvPr/>
          </p:nvSpPr>
          <p:spPr>
            <a:xfrm>
              <a:off x="6172200" y="5570280"/>
              <a:ext cx="914400" cy="139320"/>
            </a:xfrm>
            <a:prstGeom prst="rect">
              <a:avLst/>
            </a:prstGeom>
            <a:solidFill>
              <a:srgbClr val="7defe4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rop or Promiscuo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12"/>
            <p:cNvSpPr/>
            <p:nvPr/>
          </p:nvSpPr>
          <p:spPr>
            <a:xfrm>
              <a:off x="6172200" y="5290920"/>
              <a:ext cx="914400" cy="1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13"/>
            <p:cNvSpPr/>
            <p:nvPr/>
          </p:nvSpPr>
          <p:spPr>
            <a:xfrm>
              <a:off x="5333760" y="5290920"/>
              <a:ext cx="914400" cy="1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14"/>
            <p:cNvSpPr/>
            <p:nvPr/>
          </p:nvSpPr>
          <p:spPr>
            <a:xfrm>
              <a:off x="5333760" y="5151600"/>
              <a:ext cx="1752840" cy="5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9840" y="3695040"/>
              <a:ext cx="103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InfiniBand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ata-path Ope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78692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: driver looks up the destination address {DMAC, VLAN} on the vHub contex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hit: forward to host using matching I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iss: forward to gate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: deliver encapsulated Ethernet frames to net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packets are de-capsulated and delivered to the corresponding Etherne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packets are associated to a vHub based on VLAN ID, and then sent to the correspond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riv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object: drivers/net/mlx4_vnic/ib_ml4_vnic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_core for InfiniBand services (e.g., 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x4_core for data path HW off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&amp; logon based on F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 normal Ethernet net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standard off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/Rx TCP/UDP check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/L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S/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o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ftware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4" name="Rectangle 51"/>
          <p:cNvSpPr/>
          <p:nvPr/>
        </p:nvSpPr>
        <p:spPr>
          <a:xfrm>
            <a:off x="830160" y="153828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2"/>
          <p:cNvSpPr/>
          <p:nvPr/>
        </p:nvSpPr>
        <p:spPr>
          <a:xfrm>
            <a:off x="830160" y="3200400"/>
            <a:ext cx="7086600" cy="18781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6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3"/>
          <p:cNvSpPr/>
          <p:nvPr/>
        </p:nvSpPr>
        <p:spPr>
          <a:xfrm>
            <a:off x="1820880" y="6095880"/>
            <a:ext cx="892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B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4"/>
          <p:cNvSpPr/>
          <p:nvPr/>
        </p:nvSpPr>
        <p:spPr>
          <a:xfrm>
            <a:off x="2816280" y="6095880"/>
            <a:ext cx="5223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5"/>
          <p:cNvSpPr/>
          <p:nvPr/>
        </p:nvSpPr>
        <p:spPr>
          <a:xfrm>
            <a:off x="3629160" y="6095880"/>
            <a:ext cx="3848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9"/>
          <p:cNvSpPr/>
          <p:nvPr/>
        </p:nvSpPr>
        <p:spPr>
          <a:xfrm>
            <a:off x="1820880" y="5562720"/>
            <a:ext cx="865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1"/>
          <p:cNvSpPr/>
          <p:nvPr/>
        </p:nvSpPr>
        <p:spPr>
          <a:xfrm>
            <a:off x="3614760" y="5746680"/>
            <a:ext cx="3867120" cy="21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2"/>
          <p:cNvSpPr/>
          <p:nvPr/>
        </p:nvSpPr>
        <p:spPr>
          <a:xfrm>
            <a:off x="2797200" y="5562720"/>
            <a:ext cx="533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TH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0"/>
          <p:cNvSpPr/>
          <p:nvPr/>
        </p:nvSpPr>
        <p:spPr>
          <a:xfrm>
            <a:off x="3619440" y="4390920"/>
            <a:ext cx="390600" cy="22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1"/>
          <p:cNvSpPr/>
          <p:nvPr/>
        </p:nvSpPr>
        <p:spPr>
          <a:xfrm>
            <a:off x="1820880" y="4686480"/>
            <a:ext cx="27432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2"/>
          <p:cNvSpPr/>
          <p:nvPr/>
        </p:nvSpPr>
        <p:spPr>
          <a:xfrm>
            <a:off x="4100400" y="4381560"/>
            <a:ext cx="457200" cy="23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5"/>
          <p:cNvSpPr/>
          <p:nvPr/>
        </p:nvSpPr>
        <p:spPr>
          <a:xfrm>
            <a:off x="4335480" y="2757600"/>
            <a:ext cx="762120" cy="304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c6fb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6"/>
          <p:cNvSpPr/>
          <p:nvPr/>
        </p:nvSpPr>
        <p:spPr>
          <a:xfrm>
            <a:off x="3801960" y="34434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7"/>
          <p:cNvSpPr/>
          <p:nvPr/>
        </p:nvSpPr>
        <p:spPr>
          <a:xfrm>
            <a:off x="3268800" y="3443400"/>
            <a:ext cx="4572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8"/>
          <p:cNvSpPr/>
          <p:nvPr/>
        </p:nvSpPr>
        <p:spPr>
          <a:xfrm>
            <a:off x="4640400" y="344340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9"/>
          <p:cNvSpPr/>
          <p:nvPr/>
        </p:nvSpPr>
        <p:spPr>
          <a:xfrm>
            <a:off x="5097600" y="34434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1"/>
          <p:cNvSpPr/>
          <p:nvPr/>
        </p:nvSpPr>
        <p:spPr>
          <a:xfrm>
            <a:off x="4335480" y="237636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2"/>
          <p:cNvSpPr/>
          <p:nvPr/>
        </p:nvSpPr>
        <p:spPr>
          <a:xfrm>
            <a:off x="3726000" y="275760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3"/>
          <p:cNvSpPr/>
          <p:nvPr/>
        </p:nvSpPr>
        <p:spPr>
          <a:xfrm>
            <a:off x="1973160" y="2757600"/>
            <a:ext cx="1219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4"/>
          <p:cNvSpPr/>
          <p:nvPr/>
        </p:nvSpPr>
        <p:spPr>
          <a:xfrm>
            <a:off x="2506680" y="2376360"/>
            <a:ext cx="685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5"/>
          <p:cNvSpPr/>
          <p:nvPr/>
        </p:nvSpPr>
        <p:spPr>
          <a:xfrm>
            <a:off x="1973160" y="237636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6"/>
          <p:cNvSpPr/>
          <p:nvPr/>
        </p:nvSpPr>
        <p:spPr>
          <a:xfrm>
            <a:off x="830160" y="60199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7"/>
          <p:cNvSpPr/>
          <p:nvPr/>
        </p:nvSpPr>
        <p:spPr>
          <a:xfrm>
            <a:off x="830160" y="50673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8"/>
          <p:cNvSpPr/>
          <p:nvPr/>
        </p:nvSpPr>
        <p:spPr>
          <a:xfrm>
            <a:off x="830160" y="39243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9"/>
          <p:cNvSpPr/>
          <p:nvPr/>
        </p:nvSpPr>
        <p:spPr>
          <a:xfrm>
            <a:off x="830160" y="31669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0"/>
          <p:cNvSpPr/>
          <p:nvPr/>
        </p:nvSpPr>
        <p:spPr>
          <a:xfrm>
            <a:off x="830160" y="6095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1"/>
          <p:cNvSpPr/>
          <p:nvPr/>
        </p:nvSpPr>
        <p:spPr>
          <a:xfrm>
            <a:off x="830160" y="5562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2"/>
          <p:cNvSpPr/>
          <p:nvPr/>
        </p:nvSpPr>
        <p:spPr>
          <a:xfrm>
            <a:off x="830160" y="4419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3"/>
          <p:cNvSpPr/>
          <p:nvPr/>
        </p:nvSpPr>
        <p:spPr>
          <a:xfrm>
            <a:off x="830160" y="32464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4"/>
          <p:cNvSpPr/>
          <p:nvPr/>
        </p:nvSpPr>
        <p:spPr>
          <a:xfrm>
            <a:off x="906480" y="26049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5"/>
          <p:cNvSpPr/>
          <p:nvPr/>
        </p:nvSpPr>
        <p:spPr>
          <a:xfrm>
            <a:off x="6926400" y="31240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6"/>
          <p:cNvSpPr/>
          <p:nvPr/>
        </p:nvSpPr>
        <p:spPr>
          <a:xfrm>
            <a:off x="6973920" y="2911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9"/>
          <p:cNvSpPr/>
          <p:nvPr/>
        </p:nvSpPr>
        <p:spPr>
          <a:xfrm>
            <a:off x="4030560" y="20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0"/>
          <p:cNvSpPr/>
          <p:nvPr/>
        </p:nvSpPr>
        <p:spPr>
          <a:xfrm>
            <a:off x="4716360" y="2071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2"/>
          <p:cNvSpPr/>
          <p:nvPr/>
        </p:nvSpPr>
        <p:spPr>
          <a:xfrm>
            <a:off x="5021280" y="20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3"/>
          <p:cNvSpPr/>
          <p:nvPr/>
        </p:nvSpPr>
        <p:spPr>
          <a:xfrm>
            <a:off x="906480" y="163044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6"/>
          <p:cNvSpPr/>
          <p:nvPr/>
        </p:nvSpPr>
        <p:spPr>
          <a:xfrm>
            <a:off x="5326200" y="20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7"/>
          <p:cNvSpPr/>
          <p:nvPr/>
        </p:nvSpPr>
        <p:spPr>
          <a:xfrm>
            <a:off x="4792680" y="3290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8"/>
          <p:cNvSpPr/>
          <p:nvPr/>
        </p:nvSpPr>
        <p:spPr>
          <a:xfrm>
            <a:off x="4792680" y="3290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9"/>
          <p:cNvSpPr/>
          <p:nvPr/>
        </p:nvSpPr>
        <p:spPr>
          <a:xfrm>
            <a:off x="3954600" y="3290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0"/>
          <p:cNvSpPr/>
          <p:nvPr/>
        </p:nvSpPr>
        <p:spPr>
          <a:xfrm>
            <a:off x="3497400" y="329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"/>
          <p:cNvSpPr/>
          <p:nvPr/>
        </p:nvSpPr>
        <p:spPr>
          <a:xfrm>
            <a:off x="3497400" y="20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2"/>
          <p:cNvSpPr/>
          <p:nvPr/>
        </p:nvSpPr>
        <p:spPr>
          <a:xfrm>
            <a:off x="4716360" y="26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3"/>
          <p:cNvSpPr/>
          <p:nvPr/>
        </p:nvSpPr>
        <p:spPr>
          <a:xfrm>
            <a:off x="3143160" y="4390920"/>
            <a:ext cx="38124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8"/>
          <p:cNvSpPr/>
          <p:nvPr/>
        </p:nvSpPr>
        <p:spPr>
          <a:xfrm>
            <a:off x="387828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9"/>
          <p:cNvSpPr/>
          <p:nvPr/>
        </p:nvSpPr>
        <p:spPr>
          <a:xfrm>
            <a:off x="4564080" y="161460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1"/>
          <p:cNvSpPr/>
          <p:nvPr/>
        </p:nvSpPr>
        <p:spPr>
          <a:xfrm>
            <a:off x="5173560" y="161460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2"/>
          <p:cNvSpPr/>
          <p:nvPr/>
        </p:nvSpPr>
        <p:spPr>
          <a:xfrm>
            <a:off x="319248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3"/>
          <p:cNvSpPr/>
          <p:nvPr/>
        </p:nvSpPr>
        <p:spPr>
          <a:xfrm>
            <a:off x="830160" y="1523880"/>
            <a:ext cx="7086600" cy="495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4"/>
          <p:cNvSpPr/>
          <p:nvPr/>
        </p:nvSpPr>
        <p:spPr>
          <a:xfrm>
            <a:off x="830160" y="23004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635280" y="5411880"/>
            <a:ext cx="83196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1"/>
          <p:cNvSpPr/>
          <p:nvPr/>
        </p:nvSpPr>
        <p:spPr>
          <a:xfrm>
            <a:off x="4560840" y="5411880"/>
            <a:ext cx="83196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97560" y="5167440"/>
            <a:ext cx="1977840" cy="50616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1"/>
          <p:cNvSpPr/>
          <p:nvPr/>
        </p:nvSpPr>
        <p:spPr>
          <a:xfrm>
            <a:off x="6296040" y="5230800"/>
            <a:ext cx="669960" cy="3762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et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1"/>
          <p:cNvSpPr/>
          <p:nvPr/>
        </p:nvSpPr>
        <p:spPr>
          <a:xfrm>
            <a:off x="5587920" y="5230800"/>
            <a:ext cx="646200" cy="3729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173400" y="4316400"/>
            <a:ext cx="13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122720"/>
            <a:ext cx="0" cy="11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414324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840120" y="4122360"/>
            <a:ext cx="21034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5840" y="5208480"/>
            <a:ext cx="50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Gateway Discove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68120" y="190620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30520" y="1806480"/>
            <a:ext cx="5508360" cy="2111400"/>
            <a:chOff x="1730520" y="1806480"/>
            <a:chExt cx="5508360" cy="2111400"/>
          </a:xfrm>
        </p:grpSpPr>
        <p:graphicFrame>
          <p:nvGraphicFramePr>
            <p:cNvPr id="357" name="Text Placeholder 2"/>
            <p:cNvGraphicFramePr/>
            <p:nvPr/>
          </p:nvGraphicFramePr>
          <p:xfrm>
            <a:off x="1730520" y="2044440"/>
            <a:ext cx="5508360" cy="187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8" name="Text Placeholder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0520" y="2044440"/>
                      <a:ext cx="5508360" cy="187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3522600" y="1806480"/>
              <a:ext cx="2437920" cy="30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e Initiated 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192400" y="4216320"/>
            <a:ext cx="4817880" cy="2036880"/>
            <a:chOff x="2192400" y="4216320"/>
            <a:chExt cx="4817880" cy="2036880"/>
          </a:xfrm>
        </p:grpSpPr>
        <p:graphicFrame>
          <p:nvGraphicFramePr>
            <p:cNvPr id="361" name="Text Placeholder 2"/>
            <p:cNvGraphicFramePr/>
            <p:nvPr/>
          </p:nvGraphicFramePr>
          <p:xfrm>
            <a:off x="2192400" y="4554720"/>
            <a:ext cx="4817880" cy="169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2" name="Text Placeholder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2400" y="4554720"/>
                      <a:ext cx="48178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3483000" y="4216320"/>
              <a:ext cx="2556720" cy="30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citation Initiated 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ogin and Context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25640" y="1066680"/>
            <a:ext cx="6950880" cy="5400720"/>
            <a:chOff x="1025640" y="1066680"/>
            <a:chExt cx="6950880" cy="5400720"/>
          </a:xfrm>
        </p:grpSpPr>
        <p:grpSp>
          <p:nvGrpSpPr>
            <p:cNvPr id="366" name=""/>
            <p:cNvGrpSpPr/>
            <p:nvPr/>
          </p:nvGrpSpPr>
          <p:grpSpPr>
            <a:xfrm>
              <a:off x="1025640" y="1676160"/>
              <a:ext cx="6950880" cy="4503600"/>
              <a:chOff x="1025640" y="1676160"/>
              <a:chExt cx="6950880" cy="4503600"/>
            </a:xfrm>
          </p:grpSpPr>
          <p:graphicFrame>
            <p:nvGraphicFramePr>
              <p:cNvPr id="367" name="Text Placeholder 2"/>
              <p:cNvGraphicFramePr/>
              <p:nvPr/>
            </p:nvGraphicFramePr>
            <p:xfrm>
              <a:off x="1025640" y="1676160"/>
              <a:ext cx="6950880" cy="7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8" name="Text Placeholder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25640" y="1676160"/>
                        <a:ext cx="6950880" cy="7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9" name="Text Placeholder 2"/>
              <p:cNvGraphicFramePr/>
              <p:nvPr/>
            </p:nvGraphicFramePr>
            <p:xfrm>
              <a:off x="1042560" y="2395440"/>
              <a:ext cx="6872040" cy="3784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0" name="Text Placeholder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42560" y="2395440"/>
                        <a:ext cx="6872040" cy="378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1" name=""/>
            <p:cNvSpPr/>
            <p:nvPr/>
          </p:nvSpPr>
          <p:spPr>
            <a:xfrm>
              <a:off x="3725640" y="6107040"/>
              <a:ext cx="1171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90000" y="1066680"/>
              <a:ext cx="327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838080" y="1676520"/>
            <a:ext cx="7315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5943600"/>
            <a:ext cx="7315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ata P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8640" y="4365720"/>
            <a:ext cx="381636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94120" y="2657520"/>
            <a:ext cx="41403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666880"/>
            <a:ext cx="42674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133720" y="20570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124080" y="2057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06668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03848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09320" y="2057040"/>
            <a:ext cx="2971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3200400" y="2057040"/>
            <a:ext cx="29764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4203720" y="2080800"/>
            <a:ext cx="2959200" cy="73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5257440" y="2057040"/>
            <a:ext cx="2971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port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por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18040" y="61992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vnic0 (netdev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03500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810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7784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6856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4964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8195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7196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82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6268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5472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3900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34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4544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2936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4376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3580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200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843360" y="3580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440" y="447516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469584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67000" y="4479840"/>
            <a:ext cx="86328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470052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03360" y="447984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6708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0080" y="447048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09920" y="469116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336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30360" y="509436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70320" y="509112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1360" y="5084640"/>
            <a:ext cx="38124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365720"/>
            <a:ext cx="381636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72280" y="61992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vnic1 (netde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02160" y="447516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6680" y="469584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27720" y="447984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9288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64440" y="4479840"/>
            <a:ext cx="86328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3896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00800" y="447048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75680" y="469116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6408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91080" y="5094360"/>
            <a:ext cx="38124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31040" y="509112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7244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854080" y="3580920"/>
            <a:ext cx="3660840" cy="89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068200" y="3581280"/>
            <a:ext cx="3646440" cy="89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927240" y="3581280"/>
            <a:ext cx="3524040" cy="8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1130040" y="3581280"/>
            <a:ext cx="3663720" cy="8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2880" y="544500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468760"/>
            <a:ext cx="351000" cy="41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6700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3360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0336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7032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4008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0668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9100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5760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2772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9432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6444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3104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9936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6596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76880" y="1219320"/>
            <a:ext cx="2860920" cy="1431720"/>
          </a:xfrm>
          <a:prstGeom prst="cloudCallout">
            <a:avLst>
              <a:gd name="adj1" fmla="val -61319"/>
              <a:gd name="adj2" fmla="val 34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2 IB 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4 c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2 vnics on IB port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RSS_size =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#TX rings = #cores per vnic</a:t>
            </a:r>
            <a:br>
              <a:rPr sz="900"/>
            </a:b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- #RX rings= #cores per 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2160" y="525312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1772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5444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0800" y="524844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525312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78440" y="525780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1516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751880" y="524844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NIC Typ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minister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Cs are created / destroyed / enabled / disabled by the network 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host is disconnected its vNICs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Administer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Cs managed by hos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host is disconnected its vNICs bring down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ost Administered Usag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Cs managed via standard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/etc/sysconfig/network-script/ifcfg-et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ervice reads the configuration file and creates / destroys corresponding v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s a standard init.d script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init.d/network-vnic {start | stop | restart | reload | stat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uns on 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consistency between host reb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admin can modify the configuration file and restart service at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less bri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figuration File Examp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121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 /etc/sysconfig/network-scripts/ifcfg-et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llanox Technologies Virtual NIC 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=eth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PROTO=n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WADDR=00:30:48:7d:de:e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BOOT=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PADDR=11.20.1.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TMASK=255.255.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Eth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ADDR=00:00:02:c9:03:11:03:0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EPORT=A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VLAN=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IBPORT=mlx4_0:1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 /etc/sysconfig/network-scripts/ifcfg-et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llanox Technologies Virtual NIC 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=eth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PROTO=n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WADDR=00:30:48:7d:de:e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BOOT=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PADDR=11.20.1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TMASK=255.255.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Eth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ADDR=00:00:02:c9:03:11:03:0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EPORT=A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VLAN=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IBPORT=mlx4_0:1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2720" y="2057400"/>
            <a:ext cx="289080" cy="1008000"/>
          </a:xfrm>
          <a:custGeom>
            <a:avLst/>
            <a:gdLst>
              <a:gd name="textAreaLeft" fmla="*/ 0 w 289080"/>
              <a:gd name="textAreaRight" fmla="*/ 104400 w 289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22720" y="3138480"/>
            <a:ext cx="289080" cy="719280"/>
          </a:xfrm>
          <a:custGeom>
            <a:avLst/>
            <a:gdLst>
              <a:gd name="textAreaLeft" fmla="*/ 0 w 289080"/>
              <a:gd name="textAreaRight" fmla="*/ 104400 w 289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311800" y="2130480"/>
            <a:ext cx="2232000" cy="863640"/>
          </a:xfrm>
          <a:prstGeom prst="wedgeRoundRectCallout">
            <a:avLst>
              <a:gd name="adj1" fmla="val 38689"/>
              <a:gd name="adj2" fmla="val 11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network settings as supported by the Operating System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11800" y="3065400"/>
            <a:ext cx="2087640" cy="863640"/>
          </a:xfrm>
          <a:prstGeom prst="wedgeRoundRectCallout">
            <a:avLst>
              <a:gd name="adj1" fmla="val 71597"/>
              <a:gd name="adj2" fmla="val -6452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 configuration supported by network-vnic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48320" y="3505320"/>
            <a:ext cx="2667240" cy="1447560"/>
          </a:xfrm>
          <a:prstGeom prst="cloudCallout">
            <a:avLst>
              <a:gd name="adj1" fmla="val -26847"/>
              <a:gd name="adj2" fmla="val -100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C is provided, the service will generate one; auto-generated macs are cached for consis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figuration Service Examp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305920" cy="41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-vnic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2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3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4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0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1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2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3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4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5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6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7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-vnic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 Admin-Mode  IB-Port   BX-Address               BX-Eport  MAC-Address               V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  ----------  --------  -----------------------  --------  ------------------------  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2  Host        mlx4_0:1  00:00:02:c9:03:11:03:0f  A10       00:30:48:7d:de:e4       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3  Host        mlx4_0:1  00:00:02:c9:03:11:03:0f  A11       00:30:48:7d:de:e5       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4  Host        mlx4_0:2  BX002_QA_LAB             A12       00:25:8b:01:00:01 (auto)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5  Network     mlx4_0:1  BX001_QA_LAB             A10       00:25:8b:00:0c:02 (auto)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6  Network     mlx4_1:1  BX001_QA_LAB             A11       00:25:8b:00:0c:03 (auto)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7  Network     mlx4_1:2  BX001_QA_LAB             B11       00:25:8b:00:0c:04 (auto)  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181480" y="2590920"/>
            <a:ext cx="2484360" cy="533160"/>
            <a:chOff x="5181480" y="2590920"/>
            <a:chExt cx="2484360" cy="533160"/>
          </a:xfrm>
        </p:grpSpPr>
        <p:sp>
          <p:nvSpPr>
            <p:cNvPr id="491" name=""/>
            <p:cNvSpPr/>
            <p:nvPr/>
          </p:nvSpPr>
          <p:spPr>
            <a:xfrm>
              <a:off x="5360760" y="2590920"/>
              <a:ext cx="2305080" cy="533160"/>
            </a:xfrm>
            <a:prstGeom prst="wedgeRoundRectCallout">
              <a:avLst>
                <a:gd name="adj1" fmla="val -59847"/>
                <a:gd name="adj2" fmla="val -14527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Courier New"/>
                  <a:ea typeface="Courier New"/>
                </a:rPr>
                <a:t>eth0/eth1 are standard physic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2639880"/>
              <a:ext cx="144360" cy="24156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6120 h 241560"/>
                <a:gd name="textAreaBottom" fmla="*/ 235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81480" y="2933640"/>
            <a:ext cx="2125440" cy="647640"/>
            <a:chOff x="5181480" y="2933640"/>
            <a:chExt cx="2125440" cy="647640"/>
          </a:xfrm>
        </p:grpSpPr>
        <p:sp>
          <p:nvSpPr>
            <p:cNvPr id="494" name=""/>
            <p:cNvSpPr/>
            <p:nvPr/>
          </p:nvSpPr>
          <p:spPr>
            <a:xfrm>
              <a:off x="5398920" y="2933640"/>
              <a:ext cx="1908000" cy="647640"/>
            </a:xfrm>
            <a:prstGeom prst="wedgeRoundRectCallout">
              <a:avLst>
                <a:gd name="adj1" fmla="val -66638"/>
                <a:gd name="adj2" fmla="val -15259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0000"/>
                  </a:solidFill>
                  <a:latin typeface="Courier New"/>
                  <a:ea typeface="Courier New"/>
                </a:rPr>
                <a:t>eth2/eth3/eth4 are Mellanox Host Admin Virtu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81480" y="2933640"/>
              <a:ext cx="144360" cy="43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181480" y="3403440"/>
            <a:ext cx="1946160" cy="711360"/>
            <a:chOff x="5181480" y="3403440"/>
            <a:chExt cx="1946160" cy="711360"/>
          </a:xfrm>
        </p:grpSpPr>
        <p:sp>
          <p:nvSpPr>
            <p:cNvPr id="497" name=""/>
            <p:cNvSpPr/>
            <p:nvPr/>
          </p:nvSpPr>
          <p:spPr>
            <a:xfrm>
              <a:off x="5398920" y="3403440"/>
              <a:ext cx="1728720" cy="711360"/>
            </a:xfrm>
            <a:prstGeom prst="wedgeRoundRectCallout">
              <a:avLst>
                <a:gd name="adj1" fmla="val -65518"/>
                <a:gd name="adj2" fmla="val -40990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d4d4d"/>
                  </a:solidFill>
                  <a:latin typeface="Courier New"/>
                  <a:ea typeface="Courier New"/>
                </a:rPr>
                <a:t>eth5/eth6/eth7 are Mellanox Network Admin Virtu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81480" y="3403440"/>
              <a:ext cx="144360" cy="47448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2240 h 474480"/>
                <a:gd name="textAreaBottom" fmla="*/ 4622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Fu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vH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availab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submission in a few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integration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ware: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und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: und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tateless Brid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384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does not hold any state beyond a singl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“speak” the targe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d network is only a conduit between the host and the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protocol PDUs are carried (encapsulated) over the converged fabric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5105520"/>
            <a:ext cx="2743200" cy="1295280"/>
          </a:xfrm>
          <a:prstGeom prst="cloudCallout">
            <a:avLst>
              <a:gd name="adj1" fmla="val -28703"/>
              <a:gd name="adj2" fmla="val 3112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network (Eth/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6764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Text Placeholder 2" descr=""/>
          <p:cNvPicPr/>
          <p:nvPr/>
        </p:nvPicPr>
        <p:blipFill>
          <a:blip r:embed="rId2"/>
          <a:srcRect l="2778" t="7763" r="2778" b="14757"/>
          <a:stretch/>
        </p:blipFill>
        <p:spPr>
          <a:xfrm>
            <a:off x="5029200" y="4014720"/>
            <a:ext cx="4038480" cy="1014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467560" y="1600200"/>
            <a:ext cx="67644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248520" y="1523880"/>
            <a:ext cx="67608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629480" y="1523880"/>
            <a:ext cx="676440" cy="99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0920" y="3809880"/>
            <a:ext cx="162000" cy="304920"/>
          </a:xfrm>
          <a:prstGeom prst="upDownArrow">
            <a:avLst>
              <a:gd name="adj1" fmla="val 50000"/>
              <a:gd name="adj2" fmla="val 3747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952880"/>
            <a:ext cx="162000" cy="304920"/>
          </a:xfrm>
          <a:prstGeom prst="upDownArrow">
            <a:avLst>
              <a:gd name="adj1" fmla="val 50000"/>
              <a:gd name="adj2" fmla="val 3747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57920" y="2286000"/>
            <a:ext cx="237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2286000"/>
            <a:ext cx="238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629120" y="2362320"/>
            <a:ext cx="142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818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53000" y="2514600"/>
            <a:ext cx="3362400" cy="1295280"/>
          </a:xfrm>
          <a:prstGeom prst="cloudCallout">
            <a:avLst>
              <a:gd name="adj1" fmla="val -27810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converg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th/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ibre Channel over Ethernet/IB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380988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xternal port is associated with a Virtual NPIV (vNPIV)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FC connectivity within the intern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as a normal NPIV port to 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a context table containing a record for each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 logs in to SAN and translates host FLOGI packets to FDI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 Placeholder 2" descr=""/>
          <p:cNvPicPr/>
          <p:nvPr/>
        </p:nvPicPr>
        <p:blipFill>
          <a:blip r:embed="rId1"/>
          <a:stretch/>
        </p:blipFill>
        <p:spPr>
          <a:xfrm>
            <a:off x="4267080" y="1935000"/>
            <a:ext cx="4648320" cy="248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4343400"/>
            <a:ext cx="3200400" cy="762120"/>
          </a:xfrm>
          <a:prstGeom prst="cloudCallout">
            <a:avLst>
              <a:gd name="adj1" fmla="val -37101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CoXX – Data Path Ope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– destination address is always the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– FC Frame extracted from payload and processed by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C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s up D_ID and send encapsulated frame to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lookup fails, packet is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frames: sent out on the FC port after source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rames: gateway executes the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CoXX Driv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scsi/mlx4_fc/ml4x_fc.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scsi/mlx4_fc/ml4x_fcoib.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_core for InfiniBand services (FCo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device subsystem for FIP (FC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x4_core for data path HW off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 &amp; 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 for FC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-based for FC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normal SCSI device to SCSI mid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SCSI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 exchanges completely offloaded in 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ftware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304920" y="1538280"/>
            <a:ext cx="853416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304920" y="3200400"/>
            <a:ext cx="8534160" cy="17413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6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295280" y="6095880"/>
            <a:ext cx="8924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B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300400" y="6095880"/>
            <a:ext cx="53956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1295280" y="5562720"/>
            <a:ext cx="8654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2286000" y="5746680"/>
            <a:ext cx="5410080" cy="21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2762280" y="4265640"/>
            <a:ext cx="390600" cy="22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1"/>
          <p:cNvSpPr/>
          <p:nvPr/>
        </p:nvSpPr>
        <p:spPr>
          <a:xfrm>
            <a:off x="2286000" y="4560840"/>
            <a:ext cx="14209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3243240" y="4255920"/>
            <a:ext cx="45720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9"/>
          <p:cNvSpPr/>
          <p:nvPr/>
        </p:nvSpPr>
        <p:spPr>
          <a:xfrm>
            <a:off x="6095880" y="3581280"/>
            <a:ext cx="129564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SI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1"/>
          <p:cNvSpPr/>
          <p:nvPr/>
        </p:nvSpPr>
        <p:spPr>
          <a:xfrm>
            <a:off x="7620120" y="237636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bhba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2"/>
          <p:cNvSpPr/>
          <p:nvPr/>
        </p:nvSpPr>
        <p:spPr>
          <a:xfrm>
            <a:off x="7620120" y="2666880"/>
            <a:ext cx="10666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co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6"/>
          <p:cNvSpPr/>
          <p:nvPr/>
        </p:nvSpPr>
        <p:spPr>
          <a:xfrm>
            <a:off x="304920" y="6019920"/>
            <a:ext cx="853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7"/>
          <p:cNvSpPr/>
          <p:nvPr/>
        </p:nvSpPr>
        <p:spPr>
          <a:xfrm>
            <a:off x="304920" y="4941720"/>
            <a:ext cx="8534160" cy="1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8"/>
          <p:cNvSpPr/>
          <p:nvPr/>
        </p:nvSpPr>
        <p:spPr>
          <a:xfrm>
            <a:off x="304920" y="392436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9"/>
          <p:cNvSpPr/>
          <p:nvPr/>
        </p:nvSpPr>
        <p:spPr>
          <a:xfrm>
            <a:off x="304920" y="3166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0"/>
          <p:cNvSpPr/>
          <p:nvPr/>
        </p:nvSpPr>
        <p:spPr>
          <a:xfrm>
            <a:off x="304920" y="6095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1"/>
          <p:cNvSpPr/>
          <p:nvPr/>
        </p:nvSpPr>
        <p:spPr>
          <a:xfrm>
            <a:off x="304920" y="5562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2"/>
          <p:cNvSpPr/>
          <p:nvPr/>
        </p:nvSpPr>
        <p:spPr>
          <a:xfrm>
            <a:off x="304920" y="42940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3"/>
          <p:cNvSpPr/>
          <p:nvPr/>
        </p:nvSpPr>
        <p:spPr>
          <a:xfrm>
            <a:off x="304920" y="324648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4"/>
          <p:cNvSpPr/>
          <p:nvPr/>
        </p:nvSpPr>
        <p:spPr>
          <a:xfrm>
            <a:off x="380880" y="26049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5"/>
          <p:cNvSpPr/>
          <p:nvPr/>
        </p:nvSpPr>
        <p:spPr>
          <a:xfrm>
            <a:off x="411480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6"/>
          <p:cNvSpPr/>
          <p:nvPr/>
        </p:nvSpPr>
        <p:spPr>
          <a:xfrm>
            <a:off x="4162320" y="2911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3"/>
          <p:cNvSpPr/>
          <p:nvPr/>
        </p:nvSpPr>
        <p:spPr>
          <a:xfrm>
            <a:off x="380880" y="1630440"/>
            <a:ext cx="110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3"/>
          <p:cNvSpPr/>
          <p:nvPr/>
        </p:nvSpPr>
        <p:spPr>
          <a:xfrm>
            <a:off x="2286000" y="4265640"/>
            <a:ext cx="38088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9"/>
          <p:cNvSpPr/>
          <p:nvPr/>
        </p:nvSpPr>
        <p:spPr>
          <a:xfrm>
            <a:off x="6097680" y="1614600"/>
            <a:ext cx="6080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1"/>
          <p:cNvSpPr/>
          <p:nvPr/>
        </p:nvSpPr>
        <p:spPr>
          <a:xfrm>
            <a:off x="685800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304920" y="1523880"/>
            <a:ext cx="8534160" cy="495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4"/>
          <p:cNvSpPr/>
          <p:nvPr/>
        </p:nvSpPr>
        <p:spPr>
          <a:xfrm>
            <a:off x="304920" y="23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1"/>
          <p:cNvSpPr/>
          <p:nvPr/>
        </p:nvSpPr>
        <p:spPr>
          <a:xfrm>
            <a:off x="3816360" y="5410080"/>
            <a:ext cx="831960" cy="257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1"/>
          <p:cNvSpPr/>
          <p:nvPr/>
        </p:nvSpPr>
        <p:spPr>
          <a:xfrm>
            <a:off x="2286000" y="5411880"/>
            <a:ext cx="141444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08600" y="5326200"/>
            <a:ext cx="1887480" cy="3474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lx4_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5808600" y="4952880"/>
            <a:ext cx="646200" cy="3733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_fci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16240" y="4191120"/>
            <a:ext cx="13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997440"/>
            <a:ext cx="0" cy="9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94120" y="401796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2960" y="4006800"/>
            <a:ext cx="2960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1"/>
          <p:cNvSpPr/>
          <p:nvPr/>
        </p:nvSpPr>
        <p:spPr>
          <a:xfrm>
            <a:off x="6097680" y="4218120"/>
            <a:ext cx="1293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si mid-la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326200"/>
            <a:ext cx="609480" cy="35244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fc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5326200"/>
            <a:ext cx="609480" cy="35244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1"/>
          <p:cNvSpPr/>
          <p:nvPr/>
        </p:nvSpPr>
        <p:spPr>
          <a:xfrm>
            <a:off x="7621560" y="4218120"/>
            <a:ext cx="1065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c_scsi_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9"/>
          <p:cNvSpPr/>
          <p:nvPr/>
        </p:nvSpPr>
        <p:spPr>
          <a:xfrm>
            <a:off x="7620120" y="1600200"/>
            <a:ext cx="10666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9"/>
          <p:cNvSpPr/>
          <p:nvPr/>
        </p:nvSpPr>
        <p:spPr>
          <a:xfrm>
            <a:off x="6095880" y="3276720"/>
            <a:ext cx="804960" cy="24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3836880" y="4599000"/>
            <a:ext cx="8114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294080"/>
            <a:ext cx="0" cy="103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66720" y="42940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4295880"/>
            <a:ext cx="0" cy="30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4864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96080" y="54849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629400" y="45226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381880" y="45226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2"/>
          <p:cNvSpPr/>
          <p:nvPr/>
        </p:nvSpPr>
        <p:spPr>
          <a:xfrm>
            <a:off x="6574680" y="4506840"/>
            <a:ext cx="112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queuecomma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don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54800" y="222408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222408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FD8B-DF9F-44A9-83EC-61B8A1D9A9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1709640"/>
          <a:ext cx="8382240" cy="44640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oE (open-fcoe.org mod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6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o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6fbd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 stack affects FCoE st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config up/down, mtu change,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C stack depends on IB, but I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tions don’t influence FC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vHBA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o eth3.200 &gt; /sys/…/cre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ic vHBA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 vHBA per {port,vlan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y vHBAs per {port,pkey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embedded in vH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controls creation/destruction of vH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selects a single GW (highest prio) on each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can create mul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le vHBAs (e.g.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per G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policy o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LANs discovery implemented in user-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emon should create the vlan interface and then vH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Key discovery from kernel-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the same FIP mo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ag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th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probe mlx4_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i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 /dev/sda2 /my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7T17:22:29Z</dcterms:modified>
  <cp:revision>100</cp:revision>
  <dc:subject/>
  <dc:title>Slide 1</dc:title>
</cp:coreProperties>
</file>