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D25-2CCF-4B4E-928B-A98411D4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0D8-B56E-477D-A0AA-F889CECD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A8D-2409-4E0F-AC9A-9C42DFB7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DB3-DDF0-40CC-8C84-99B03CB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F7B1-1C49-4F0D-BB40-AA572D1B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BA85-1704-4669-B9B7-E7610D6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7FA-570E-432E-8DA5-4A5CDEF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B7C9-6D8C-4839-B6E0-470901B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CFA2-B8D7-4442-B47F-EE73B63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367D-FCFA-4147-8A87-9216AE4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3F2-634F-4A7B-9158-A27657F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EA8-645A-4D88-978C-50773464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B6E9-3381-438B-ABC5-21978EE7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D2E5-A28C-4CD2-AFDB-361D563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5A4-FEEB-4B2D-B1D8-C0E635D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4F4B-6542-4F9C-98A5-6B655874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86D7-BA9F-49F2-8F4E-3B5724CB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D49-2EFD-44A6-97F0-8B55B29E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8E1-7545-4801-B785-49CEE83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192-63E2-4BBA-900C-7F1895A7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A7F-655C-4777-987A-3C45B991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206-003D-4C38-9075-033808F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E7F-2346-4D29-88A3-25C6093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59E-3DB7-42B2-9F84-9295DC2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72CC8-6D0C-4659-873A-FB3D8EB7C31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EBD60-4251-4BBB-B717-6F8BD9428D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A48A-7F43-4E5E-8EF3-9AB231C7EAB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0E08B-246C-4B9A-A06C-2F21D90A8E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ppro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Integrated Next Generatio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Always Available, Always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4E7CD-B451-436A-AD1F-2BD777E3B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r. David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uster Integ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ntegrated into curr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em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B for key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segreg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calabl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818E4-0BF3-4E3F-BF8A-0A8FAA8DE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uture 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multi-cor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queue efficiency with mor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larger queues with higher IB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ow power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tions for power usage vs bandwid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A2712-15B6-41E3-ADCC-CB444F00A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wtr</cp:lastModifiedBy>
  <dcterms:modified xsi:type="dcterms:W3CDTF">2010-03-15T16:03:01Z</dcterms:modified>
  <cp:revision>27</cp:revision>
  <dc:subject/>
  <dc:title>Slide 1</dc:title>
</cp:coreProperties>
</file>