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5A3-3A4D-4BA4-B86D-2A716B0B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EEC-4C00-4A26-99D4-51A31422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6CE-D6DA-48A0-BB34-383A95A7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D53-53B6-4DFE-A586-1602DCDB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A9E7-7E49-4631-AECC-F3646F3A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E10A-F081-4590-B076-ED69771C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AEF0-4E8F-4D77-8C46-DBD0C2F6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4680-32F9-432F-A8BD-95873106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5ED1-B9B9-4931-97A3-CD9FA408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ED51-D554-467B-A522-0A99508E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66EE-8081-4FEB-A56E-98C225B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F07-5A00-4CDC-897C-AEDCD131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E478-86D2-4103-BD61-77967C1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C3F6-4114-4922-BECB-8352F2E1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2174-4829-4100-A5FB-5437DB0C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4B94-16D4-4531-A019-D14CCFE8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80AC-3D2F-43F8-930E-3B414A52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339-2AC8-4209-B25D-16B3AF87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F03-A883-4DA8-BFDF-F5F3062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EE2-19E7-44A2-BD5E-84788A38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DEF-5DCB-4FE4-9E09-8252179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4F0-54EB-4504-8CED-24363F5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794-345E-480C-9399-8C8C6BE5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482-6953-4C2E-85AD-166264E1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FEC80-52F0-45C1-A165-2001F07F2DD3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940FB-58DD-49A9-9A3B-EB47F1E72D0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C645D-B03E-4682-99DA-4151D3D4F85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E9B9B-67EF-4E2F-8D04-9FA0B410112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OFED Updat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DEFD9-579E-4CAF-8FDF-87844AF0E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Liran Liss, Mellanox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1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1523880"/>
            <a:ext cx="8229600" cy="49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/OFED-1.5.1-20100316-0817 # ibv_devinf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a_id: mlx4_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transport:                      InfiniBand (0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fw_ver:                         2.7.8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node_guid:                      0002:c903:0008:e79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sys_image_guid:                 0002:c903:0008:e79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id:                      0x02c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part_id:                 2642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hw_ver:                         0xB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board_id:                       MT_0DD012000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phys_port_cnt:               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port:  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INIT (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: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ACTIVE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1024 (3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Ethern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4800600" y="609588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2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vconfig add eth2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ed VLAN with VID == 7 to IF -:eth2: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.7 20.4.3.21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ff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f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00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0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0004f, PSN 0xef4670, GID fe80::202:c9ff:fe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0004f, PSN 0xd454d5, GID fe80::202:c9ff:fe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07.51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63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4004f, PSN 0xe10208, GID fe80::202:c900:7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4004f, PSN 0x9b281b, GID fe80::202:c900:7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57.40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49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2209680" y="411480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3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09480" y="2057400"/>
            <a:ext cx="8229600" cy="3505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root@mtlsqt124 ~]# rds-stress -s 11.4.5.125 -q 4096 -t 2 -d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ing to 11.4.5.125:40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gotiated options, tasks will start in 2 secon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ing up..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sks   tx/s   rx/s  tx+rx K/s    mbi K/s    mbo K/s tx us/c   rtt us cpu %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137  40126  322928.84       0.00       0.00   10.91   156.89 -0.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971  39987  324128.14       0.00       0.00   10.03   157.00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488  37575  304354.64       0.00       0.00   10.59   168.45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581  38604  312945.17       0.00       0.00   10.88   161.3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429  38473  311815.57       0.00       0.00   10.54   163.2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010  38856  315703.93       0.00       0.00   10.50   163.2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104  37167  300838.65       0.00       0.00   10.27   170.9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761  39826  322698.14       0.00       0.00   10.78   159.9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787  38704  314205.64       0.00       0.00   10.69   161.8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924  41002  332171.96       0.00       0.00   11.09   153.1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844  39012  315659.80       0.00       0.00   10.53   162.44 -1.00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4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700280"/>
          <a:ext cx="4648320" cy="31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64832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886200" y="2965320"/>
          <a:ext cx="4800600" cy="328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65320"/>
                    <a:ext cx="480060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8"/>
          <p:cNvSpPr/>
          <p:nvPr/>
        </p:nvSpPr>
        <p:spPr>
          <a:xfrm>
            <a:off x="1295280" y="4343400"/>
            <a:ext cx="3810240" cy="2133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EE really rock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is RoCE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cke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rbs implic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nabling RoCEE in OF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ment and Avail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oCEE in a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 is RoCEE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transport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light-weight transport, layered directly over Ethernet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oE equivalent for high-performance IPC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advantage of DCB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C, ETS, and Q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communic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/unreliable connected/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and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rotocol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666880" y="5900760"/>
            <a:ext cx="914400" cy="45720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/D/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7339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5627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M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666880" y="4724280"/>
            <a:ext cx="914400" cy="99072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733920" y="4724280"/>
            <a:ext cx="2666880" cy="9907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743200" y="40384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562720" y="40384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743200" y="33526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2743200" y="1523880"/>
            <a:ext cx="106668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2057400" y="5791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057400" y="4648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195280" y="6043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193840" y="5052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211120" y="421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1120" y="34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057400" y="39625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2057400" y="32767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2666880" y="3301920"/>
            <a:ext cx="0" cy="13464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2666880" y="327672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5486400" y="327672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86400" y="394956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>
            <a:off x="647712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3657600" y="640080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365760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266688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5562720" y="33526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72428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3962520" y="1523880"/>
            <a:ext cx="251460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4"/>
          <p:cNvSpPr/>
          <p:nvPr/>
        </p:nvSpPr>
        <p:spPr>
          <a:xfrm>
            <a:off x="2057400" y="213372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2135160" y="2286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396252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7"/>
          <p:cNvSpPr/>
          <p:nvPr/>
        </p:nvSpPr>
        <p:spPr>
          <a:xfrm>
            <a:off x="274320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o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8"/>
          <p:cNvSpPr/>
          <p:nvPr/>
        </p:nvSpPr>
        <p:spPr>
          <a:xfrm>
            <a:off x="3581280" y="2514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2743200" y="2843280"/>
            <a:ext cx="266688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acke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66880" y="2133720"/>
            <a:ext cx="1432080" cy="6858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2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475240" y="2133720"/>
            <a:ext cx="1617840" cy="685800"/>
          </a:xfrm>
          <a:prstGeom prst="rect">
            <a:avLst/>
          </a:prstGeom>
          <a:gradFill rotWithShape="0">
            <a:gsLst>
              <a:gs pos="0">
                <a:srgbClr val="762f76"/>
              </a:gs>
              <a:gs pos="50000">
                <a:srgbClr val="ff66ff"/>
              </a:gs>
              <a:gs pos="100000">
                <a:srgbClr val="76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98960" y="2133720"/>
            <a:ext cx="12207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3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924680" y="2133720"/>
            <a:ext cx="762120" cy="6858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086600" y="21337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408560" y="2133720"/>
            <a:ext cx="1066680" cy="68580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4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499000" y="3867120"/>
            <a:ext cx="1617840" cy="685800"/>
          </a:xfrm>
          <a:prstGeom prst="rect">
            <a:avLst/>
          </a:prstGeom>
          <a:gradFill rotWithShape="0">
            <a:gsLst>
              <a:gs pos="0">
                <a:srgbClr val="762f76"/>
              </a:gs>
              <a:gs pos="50000">
                <a:srgbClr val="ff66ff"/>
              </a:gs>
              <a:gs pos="100000">
                <a:srgbClr val="76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149640" y="3867120"/>
            <a:ext cx="129384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7110360" y="38671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432320" y="3867120"/>
            <a:ext cx="1066680" cy="68580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7948440" y="3867120"/>
            <a:ext cx="762120" cy="68580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1714680" y="3867120"/>
            <a:ext cx="799920" cy="68580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2514600" y="3879720"/>
            <a:ext cx="646200" cy="68292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27520" y="222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449280" y="3952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320040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792468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erbs Implic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complian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D-based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 field i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ed with link-local address corresponding to port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Q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0 i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1 is used for conn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other mad services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nection Managemen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i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DMA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P stack used to resolve remote IP to DMAC and bind to outgoing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 determined according to bound net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 device selected accordi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parameters (MTU, SL, timeout) obtained locally according to kerne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proceeds with CM as in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ly with Verbs also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533520" y="1828800"/>
            <a:ext cx="6248160" cy="4038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934320" y="1828800"/>
            <a:ext cx="1447560" cy="40384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62120" y="2362320"/>
            <a:ext cx="27432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nabling RoCEE in OFED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286000" y="5029200"/>
            <a:ext cx="419112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505320" y="2362320"/>
            <a:ext cx="29718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343400" y="3886200"/>
            <a:ext cx="21337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733920" y="4267080"/>
            <a:ext cx="2743200" cy="38124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286000" y="4648320"/>
            <a:ext cx="41911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Ib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762120" y="2743200"/>
            <a:ext cx="190476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libmlx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57400" y="2390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762120" y="6095880"/>
            <a:ext cx="723888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Ethernet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124080" y="3429000"/>
            <a:ext cx="27432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 UL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762120" y="1981080"/>
            <a:ext cx="723888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09480" y="32767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09480" y="59436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676520" y="31240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97180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6248520" y="3124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2286000" y="5410080"/>
            <a:ext cx="571500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7086600" y="5029200"/>
            <a:ext cx="91440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7086600" y="3429000"/>
            <a:ext cx="914400" cy="160020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77120" y="5181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7543800" y="2390760"/>
            <a:ext cx="0" cy="103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6"/>
          <p:cNvSpPr/>
          <p:nvPr/>
        </p:nvSpPr>
        <p:spPr>
          <a:xfrm>
            <a:off x="24382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243828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8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9"/>
          <p:cNvSpPr/>
          <p:nvPr/>
        </p:nvSpPr>
        <p:spPr>
          <a:xfrm>
            <a:off x="609480" y="5181480"/>
            <a:ext cx="1219320" cy="609840"/>
          </a:xfrm>
          <a:prstGeom prst="wedgeRoundRectCallout">
            <a:avLst>
              <a:gd name="adj1" fmla="val 108462"/>
              <a:gd name="adj2" fmla="val -5078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Synch state with Eth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0"/>
          <p:cNvSpPr/>
          <p:nvPr/>
        </p:nvSpPr>
        <p:spPr>
          <a:xfrm>
            <a:off x="609480" y="3657600"/>
            <a:ext cx="1524240" cy="457200"/>
          </a:xfrm>
          <a:prstGeom prst="wedgeRoundRectCallout">
            <a:avLst>
              <a:gd name="adj1" fmla="val 75208"/>
              <a:gd name="adj2" fmla="val 20381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itional RoCEE port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1"/>
          <p:cNvSpPr/>
          <p:nvPr/>
        </p:nvSpPr>
        <p:spPr>
          <a:xfrm>
            <a:off x="5562720" y="2133720"/>
            <a:ext cx="1143000" cy="914400"/>
          </a:xfrm>
          <a:prstGeom prst="wedgeRoundRectCallout">
            <a:avLst>
              <a:gd name="adj1" fmla="val -137361"/>
              <a:gd name="adj2" fmla="val 152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RoCEE device binding + 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518148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7162920" y="1554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TCP/IP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3124080" y="1554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OFED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5"/>
          <p:cNvSpPr/>
          <p:nvPr/>
        </p:nvSpPr>
        <p:spPr>
          <a:xfrm>
            <a:off x="236232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6"/>
          <p:cNvSpPr/>
          <p:nvPr/>
        </p:nvSpPr>
        <p:spPr>
          <a:xfrm>
            <a:off x="304920" y="2133720"/>
            <a:ext cx="1523880" cy="457200"/>
          </a:xfrm>
          <a:prstGeom prst="wedgeRoundRectCallout">
            <a:avLst>
              <a:gd name="adj1" fmla="val 85208"/>
              <a:gd name="adj2" fmla="val 12048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243828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evelopment and Availabilit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762012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0: Initial version, RoCEE flows in SA handled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3: Separate RoCEE SA emulation code from 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4: Removed all SA emulation code altogether; CMA enhanced to support RoCE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: code simplifications; remove user-space MA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7: loopback support; introduce ‘link-layer’ port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8: add VLAN support; rebase to 2.6.33-r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in separat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part of OFED-1.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qual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tes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Bill Boas</cp:lastModifiedBy>
  <dcterms:modified xsi:type="dcterms:W3CDTF">2010-03-27T17:35:55Z</dcterms:modified>
  <cp:revision>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