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2467-7CBE-4234-8431-507746AA6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FE59-13E4-4ABB-8505-BA0B7BF0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4BAE-7AA1-4E7A-9896-8A19ADC20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38F6-9FEF-47D0-9D5D-7BEB74D56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244C8-E614-43FC-858D-75E6E3F11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F826-72EA-4CE3-9774-F710500E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3DA3-144A-4CF3-AD6E-74DBCC0F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F356-4363-47B7-9C1D-1490AF06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FECC2-EBD7-42DE-BA39-C9F85318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C604-89CF-4398-BBC1-CD64BEDA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1D6F-4763-4F66-8E86-D141FA94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75FD-1913-4A31-9F84-79F680AF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40F6-3BB9-4C29-8E2A-AE4F5182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2FFF-2D43-47EC-B844-20B46008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7770-3DE4-40D7-9BBC-49CD0B5B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72F5-CC21-412F-9F74-892C109A0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43C1-9798-41F8-BCFF-5F7920589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FD4C-9972-45CE-ADC3-1D327030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63EA-31C5-4B0F-9C1E-689D87E5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8C80-41E3-4034-AD89-E324B13D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BC4C-34F6-4577-AB1A-9195666E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6E25-A47C-4890-85D1-B22C53DD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F3C7-C823-42C2-9C74-5CF7A88B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5CFF-5C71-4591-8D0D-E86D00A2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714FE1-ACD3-42BD-9BD8-62D49CB1661A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568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C305B2-D9C6-4EE3-8724-B35007A0F11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4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ribbon_ppt_title.jpg"/>
          <p:cNvPicPr/>
          <p:nvPr/>
        </p:nvPicPr>
        <p:blipFill>
          <a:blip r:embed="rId4"/>
          <a:srcRect l="0" t="5783" r="0" b="0"/>
          <a:stretch/>
        </p:blipFill>
        <p:spPr>
          <a:xfrm>
            <a:off x="0" y="0"/>
            <a:ext cx="9144000" cy="2481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OpenFabric_Alliance_Logo_ppt.jpg"/>
          <p:cNvPicPr/>
          <p:nvPr/>
        </p:nvPicPr>
        <p:blipFill>
          <a:blip r:embed="rId5"/>
          <a:stretch/>
        </p:blipFill>
        <p:spPr>
          <a:xfrm>
            <a:off x="380880" y="23241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039E59-C633-45C4-8A8F-72168A5FEB1E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BBF470-DE55-457E-9853-4CDD746B37B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2666520"/>
            <a:ext cx="708660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IBM and OpenFabrics Allianc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057040" y="4267080"/>
            <a:ext cx="6629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6d6e71"/>
                </a:solidFill>
                <a:latin typeface="Arial"/>
              </a:rPr>
              <a:t>OEM Server Pa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D6D43B-E021-466A-B969-DFCF147E26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2057400" y="52974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Brad Ben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March 15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159984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M’s use of OpenFabrics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0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8710EE-1CBB-4849-B269-3CB80F56C7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4952880"/>
            <a:ext cx="230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Use of OpenFabrics Softwar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5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D25D07-9031-4C8E-AF46-57F4FEEA6B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31840" y="4495680"/>
            <a:ext cx="1825560" cy="1436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0306viralcomputer_b"/>
          <p:cNvPicPr/>
          <p:nvPr/>
        </p:nvPicPr>
        <p:blipFill>
          <a:blip r:embed="rId2"/>
          <a:stretch/>
        </p:blipFill>
        <p:spPr>
          <a:xfrm>
            <a:off x="76320" y="1601640"/>
            <a:ext cx="1218960" cy="1202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666880" y="4952880"/>
            <a:ext cx="230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6960" y="5291280"/>
            <a:ext cx="193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ing/Analy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61360" y="3011400"/>
            <a:ext cx="291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tif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Performance Clu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7" descr="corel084"/>
          <p:cNvPicPr/>
          <p:nvPr/>
        </p:nvPicPr>
        <p:blipFill>
          <a:blip r:embed="rId3"/>
          <a:stretch/>
        </p:blipFill>
        <p:spPr>
          <a:xfrm>
            <a:off x="1444680" y="1601640"/>
            <a:ext cx="1066680" cy="11750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6878520" y="1735200"/>
            <a:ext cx="1808280" cy="2135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608000" y="2135160"/>
            <a:ext cx="220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center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able 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See full size image"/>
          <p:cNvPicPr/>
          <p:nvPr/>
        </p:nvPicPr>
        <p:blipFill>
          <a:blip r:embed="rId5"/>
          <a:stretch/>
        </p:blipFill>
        <p:spPr>
          <a:xfrm>
            <a:off x="6553080" y="4678200"/>
            <a:ext cx="2357640" cy="13971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073760" y="4678200"/>
            <a:ext cx="231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PFS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llel 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M integrates OFA components into both AIX and Linux product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Linux, we rely on major Linux distros (Red Hat, Novell) to package, test and support OFA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Use of OpenFabrics Softwar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19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EB2DEB-DD76-4DDD-9A3B-0ABFC25B46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66880" y="4952880"/>
            <a:ext cx="230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ini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WA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king RoC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s, uDA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 (IBM MPI, Open MPI, MVAPI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o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Use of OpenFabrics Softwar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4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1611B4-F150-4382-8FB2-1B5C3DAD56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4952880"/>
            <a:ext cx="230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Performance Comp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Clu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prise Data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Environment (IBM MPI, LoadLevel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2 pure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Use of OpenFabrics Softwar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9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B50733-F53D-45D3-923A-A0154DFB36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4952880"/>
            <a:ext cx="230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of InfiniBand fabrics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il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 are in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adation can be hard to sp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ures can be hard to isol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ing knowledge at Verbs and uDAPL-level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il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 to ma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good exampl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good tutorials, how-to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ep learning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hallenges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34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CB6FDA-E5E6-49B4-B5AF-E5E20526DF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666880" y="4952880"/>
            <a:ext cx="230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ED is moving beyond the HPC field and into the Enterprise Data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M is using multiple OFA-developed technologies in an increasing range of products &amp;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Observations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39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B366FC-EFD8-4527-A13E-50A8262ADE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4952880"/>
            <a:ext cx="230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00:09:16Z</dcterms:created>
  <dc:creator>apple admin</dc:creator>
  <dc:description/>
  <dc:language>en-US</dc:language>
  <cp:lastModifiedBy>self</cp:lastModifiedBy>
  <dcterms:modified xsi:type="dcterms:W3CDTF">2010-03-15T15:42:05Z</dcterms:modified>
  <cp:revision>32</cp:revision>
  <dc:subject/>
  <dc:title>Slide 1</dc:title>
</cp:coreProperties>
</file>