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8CA7A-7F8E-4F98-9A97-E015AE500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822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4029120"/>
            <a:ext cx="822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544E6-5A2C-4950-A176-B88F08E33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2912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402912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26BA3-C943-476C-81A5-59614DDD2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264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1640"/>
            <a:ext cx="264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1640"/>
            <a:ext cx="264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4029120"/>
            <a:ext cx="264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4029120"/>
            <a:ext cx="264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4029120"/>
            <a:ext cx="264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2D1DD-C9E7-49AC-9F92-0356D81DD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086AF-0A2C-4054-9236-ACE3EC751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7200" y="1601640"/>
            <a:ext cx="8229600" cy="464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49729-3142-4FDA-895F-6086C9646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82296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CB49C-FAFD-4A64-9622-3B234549F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40FF1-8BB2-43B7-B059-1409002DA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8E441-89ED-44FC-B8FD-481FACF43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56840" y="22824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B0477-05DF-4022-AD92-900AF8DEB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02912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3C462-435D-4FB8-A2DE-150A1E56A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1640"/>
            <a:ext cx="8229600" cy="464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33A0F-10EB-48C2-BEBF-7A5A30FC1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74240" y="402912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B39B4-712E-4013-BDBC-2681D2B2F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029120"/>
            <a:ext cx="822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F0BE3-A791-47CE-96B1-2FB626F49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822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7200" y="4029120"/>
            <a:ext cx="822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A983B-510E-43B9-80EF-FCF742119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2912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74240" y="402912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2D72F-8B43-4872-8F94-730218D14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264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39640" y="1601640"/>
            <a:ext cx="264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22080" y="1601640"/>
            <a:ext cx="264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7200" y="4029120"/>
            <a:ext cx="264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39640" y="4029120"/>
            <a:ext cx="264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22080" y="4029120"/>
            <a:ext cx="264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12B30-B523-4FF0-82C9-58138ECF1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82296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C30A4-0198-43A7-9402-71E8E0166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558F2-15AA-4C9D-9933-E4640C052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2B951-E4B8-4CA4-A827-0330156CD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6840" y="22824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1E169-7F9D-47E0-9F3C-F8A87EE7A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402912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3A3CF-510D-4A21-99B8-248256A4D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402912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BDE50-FDE6-48B6-B59B-4AA20B373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029120"/>
            <a:ext cx="822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1F788-2E3B-4265-A7AC-54DFCB970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ribbon_small_rgb.jpg"/>
          <p:cNvPicPr/>
          <p:nvPr/>
        </p:nvPicPr>
        <p:blipFill>
          <a:blip r:embed="rId2"/>
          <a:stretch/>
        </p:blipFill>
        <p:spPr>
          <a:xfrm>
            <a:off x="0" y="1371600"/>
            <a:ext cx="9144000" cy="150840"/>
          </a:xfrm>
          <a:prstGeom prst="rect">
            <a:avLst/>
          </a:prstGeom>
          <a:ln w="0">
            <a:noFill/>
          </a:ln>
        </p:spPr>
      </p:pic>
      <p:sp>
        <p:nvSpPr>
          <p:cNvPr id="1" name="Rectangle 11"/>
          <p:cNvSpPr/>
          <p:nvPr/>
        </p:nvSpPr>
        <p:spPr>
          <a:xfrm>
            <a:off x="0" y="6492960"/>
            <a:ext cx="9144000" cy="212760"/>
          </a:xfrm>
          <a:prstGeom prst="rect">
            <a:avLst/>
          </a:prstGeom>
          <a:solidFill>
            <a:srgbClr val="e55302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5195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1640"/>
            <a:ext cx="82296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57913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F4A901-2919-43DE-8513-52A90AB5D3F6}" type="datetime">
              <a:rPr b="0" lang="en-US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45684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www.openfabrics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106033-85E6-435A-9E05-6394C2F8189C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6" descr="OpenFabric_Alliance_Logo_ppt.jpg"/>
          <p:cNvPicPr/>
          <p:nvPr/>
        </p:nvPicPr>
        <p:blipFill>
          <a:blip r:embed="rId3"/>
          <a:stretch/>
        </p:blipFill>
        <p:spPr>
          <a:xfrm>
            <a:off x="8001000" y="228600"/>
            <a:ext cx="1104840" cy="1104840"/>
          </a:xfrm>
          <a:prstGeom prst="rect">
            <a:avLst/>
          </a:prstGeom>
          <a:ln w="0">
            <a:noFill/>
          </a:ln>
        </p:spPr>
      </p:pic>
      <p:sp>
        <p:nvSpPr>
          <p:cNvPr id="8" name="Straight Connector 20"/>
          <p:cNvSpPr/>
          <p:nvPr/>
        </p:nvSpPr>
        <p:spPr>
          <a:xfrm>
            <a:off x="0" y="1447920"/>
            <a:ext cx="9144000" cy="1440"/>
          </a:xfrm>
          <a:prstGeom prst="line">
            <a:avLst/>
          </a:prstGeom>
          <a:ln w="12600">
            <a:solidFill>
              <a:srgbClr val="e553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9" descr="ribbon_small_rgb.jpg"/>
          <p:cNvPicPr/>
          <p:nvPr/>
        </p:nvPicPr>
        <p:blipFill>
          <a:blip r:embed="rId2"/>
          <a:stretch/>
        </p:blipFill>
        <p:spPr>
          <a:xfrm>
            <a:off x="0" y="1371600"/>
            <a:ext cx="9144000" cy="15084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1"/>
          <p:cNvSpPr/>
          <p:nvPr/>
        </p:nvSpPr>
        <p:spPr>
          <a:xfrm>
            <a:off x="0" y="6492960"/>
            <a:ext cx="9144000" cy="212760"/>
          </a:xfrm>
          <a:prstGeom prst="rect">
            <a:avLst/>
          </a:prstGeom>
          <a:solidFill>
            <a:srgbClr val="e55302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6" descr="OpenFabric_Alliance_Logo_ppt.jpg"/>
          <p:cNvPicPr/>
          <p:nvPr/>
        </p:nvPicPr>
        <p:blipFill>
          <a:blip r:embed="rId3"/>
          <a:stretch/>
        </p:blipFill>
        <p:spPr>
          <a:xfrm>
            <a:off x="8001000" y="228600"/>
            <a:ext cx="1104840" cy="1104840"/>
          </a:xfrm>
          <a:prstGeom prst="rect">
            <a:avLst/>
          </a:prstGeom>
          <a:ln w="0">
            <a:noFill/>
          </a:ln>
        </p:spPr>
      </p:pic>
      <p:sp>
        <p:nvSpPr>
          <p:cNvPr id="48" name="Straight Connector 20"/>
          <p:cNvSpPr/>
          <p:nvPr/>
        </p:nvSpPr>
        <p:spPr>
          <a:xfrm>
            <a:off x="0" y="1447920"/>
            <a:ext cx="9144000" cy="1440"/>
          </a:xfrm>
          <a:prstGeom prst="line">
            <a:avLst/>
          </a:prstGeom>
          <a:ln w="12600">
            <a:solidFill>
              <a:srgbClr val="e553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0"/>
          <p:cNvSpPr/>
          <p:nvPr/>
        </p:nvSpPr>
        <p:spPr>
          <a:xfrm>
            <a:off x="0" y="6492960"/>
            <a:ext cx="9144000" cy="212760"/>
          </a:xfrm>
          <a:prstGeom prst="rect">
            <a:avLst/>
          </a:prstGeom>
          <a:solidFill>
            <a:srgbClr val="e55302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0" descr="ribbon_ppt_title.jpg"/>
          <p:cNvPicPr/>
          <p:nvPr/>
        </p:nvPicPr>
        <p:blipFill>
          <a:blip r:embed="rId4"/>
          <a:srcRect l="0" t="5783" r="0" b="0"/>
          <a:stretch/>
        </p:blipFill>
        <p:spPr>
          <a:xfrm>
            <a:off x="0" y="0"/>
            <a:ext cx="9144000" cy="24811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2" descr="OpenFabric_Alliance_Logo_ppt.jpg"/>
          <p:cNvPicPr/>
          <p:nvPr/>
        </p:nvPicPr>
        <p:blipFill>
          <a:blip r:embed="rId5"/>
          <a:stretch/>
        </p:blipFill>
        <p:spPr>
          <a:xfrm>
            <a:off x="380880" y="232416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5195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1640"/>
            <a:ext cx="82296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57913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E9A6714-98FC-4489-BA0F-ADB7B425132F}" type="datetime">
              <a:rPr b="0" lang="en-US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3808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www.openfabrics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655272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B5781A-700E-476D-AD0D-7977AABEC8A7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057040" y="2666520"/>
            <a:ext cx="6629400" cy="15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5195"/>
                </a:solidFill>
                <a:latin typeface="Arial"/>
              </a:rPr>
              <a:t>OFA Workshop Goals, Agenda and Logistics</a:t>
            </a: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2057040" y="4267080"/>
            <a:ext cx="662940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6d6e71"/>
                </a:solidFill>
                <a:latin typeface="Arial"/>
              </a:rPr>
              <a:t>Welcome, contribute and enjo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Footer Placeholder 4"/>
          <p:cNvSpPr/>
          <p:nvPr/>
        </p:nvSpPr>
        <p:spPr>
          <a:xfrm>
            <a:off x="3808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www.openfabrics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lide Number Placeholder 3"/>
          <p:cNvSpPr/>
          <p:nvPr/>
        </p:nvSpPr>
        <p:spPr>
          <a:xfrm>
            <a:off x="655308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75E012-BCBD-447D-8FA7-FD314BB605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5"/>
          <p:cNvSpPr/>
          <p:nvPr/>
        </p:nvSpPr>
        <p:spPr>
          <a:xfrm>
            <a:off x="2057400" y="5297400"/>
            <a:ext cx="66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6d6e71"/>
                </a:solidFill>
                <a:latin typeface="Calibri"/>
              </a:rPr>
              <a:t>Jim Ryan, Chairman, OF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6d6e71"/>
                </a:solidFill>
                <a:latin typeface="Calibri"/>
              </a:rPr>
              <a:t>March 15,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5195"/>
                </a:solidFill>
                <a:latin typeface="Arial"/>
              </a:rPr>
              <a:t>Workshop Goals </a:t>
            </a: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1640"/>
            <a:ext cx="8229600" cy="464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ee exchange of id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osure to new concepts and technolo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ing ways to improve OFA/OF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-goal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keting of company produ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etitive threats or comparis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lide Number Placeholder 28"/>
          <p:cNvSpPr/>
          <p:nvPr/>
        </p:nvSpPr>
        <p:spPr>
          <a:xfrm>
            <a:off x="655308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2D53981-E8F9-4541-AA8A-AF32DC41F3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ooter Placeholder 29"/>
          <p:cNvSpPr/>
          <p:nvPr/>
        </p:nvSpPr>
        <p:spPr>
          <a:xfrm>
            <a:off x="45720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www.openfabrics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5195"/>
                </a:solidFill>
                <a:latin typeface="Arial"/>
              </a:rPr>
              <a:t>Agenda and Logistics </a:t>
            </a: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1640"/>
            <a:ext cx="8229600" cy="464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lcome to the 6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nual Workshop! We have a different focus area for each da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OFA tradition is for high content value ses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nday: Enterprise and Cloud Data Center Nee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lore the importance of RDMA-based technologies to each of these specific ar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uesday: HPC and Exascale Nee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alyze the demands of HPC generally and the scale requirements of Exascale specifically, and see how well our RDMA solutions measure 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dnesday: OFED Feedback, Components and Dir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panel session on Cables and Connectors and vendors’ exhib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lide Number Placeholder 28"/>
          <p:cNvSpPr/>
          <p:nvPr/>
        </p:nvSpPr>
        <p:spPr>
          <a:xfrm>
            <a:off x="655308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C5B8CC-EE31-4FCC-A7C7-706E8BA504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Footer Placeholder 29"/>
          <p:cNvSpPr/>
          <p:nvPr/>
        </p:nvSpPr>
        <p:spPr>
          <a:xfrm>
            <a:off x="45720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www.openfabrics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5195"/>
                </a:solidFill>
                <a:latin typeface="Arial"/>
              </a:rPr>
              <a:t>More on Agenda and Logistics </a:t>
            </a: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1640"/>
            <a:ext cx="8229600" cy="464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are going to videotape each session, pending speaker’s authorization, and put the presentations on our web si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al topic at the OFA Board meeting end of day Tuesday: an analysis of OFA’s strengths, weaknesses, opportunities and threats by Steve Crumb of Global Inven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will be an objective evaluation of where OFA is today and a prelude for future analysis of possible changes OFA should cons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llowing is a p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lide Number Placeholder 28"/>
          <p:cNvSpPr/>
          <p:nvPr/>
        </p:nvSpPr>
        <p:spPr>
          <a:xfrm>
            <a:off x="655308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933D7A-9889-4105-B6FC-3375944217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Footer Placeholder 29"/>
          <p:cNvSpPr/>
          <p:nvPr/>
        </p:nvSpPr>
        <p:spPr>
          <a:xfrm>
            <a:off x="45720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www.openfabrics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5195"/>
                </a:solidFill>
                <a:latin typeface="Arial"/>
              </a:rPr>
              <a:t>At-A-Glance Findings – Objective Analysis</a:t>
            </a: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228240" y="1447920"/>
            <a:ext cx="426708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Streng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OFED stacks are valuable to indust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ollaborative nature of the alli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OFA’s flexibility to expand and embrace related technolog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onoma Workshop, Interop WG/Logo Program, Linux WG are strongest current progra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tronghold in HPC suggests a beachhead from which expansion can be launch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647960" y="1447560"/>
            <a:ext cx="426708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Weakn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Better documentation, training, equipping of programm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Operational man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Lack of awareness, marketing, and industry eng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Additional resources for essential alliance deliver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eak external collaborations (IBTA, Distro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Need for expansion (cloud, enterpris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Content Placeholder 3"/>
          <p:cNvSpPr/>
          <p:nvPr/>
        </p:nvSpPr>
        <p:spPr>
          <a:xfrm>
            <a:off x="228600" y="3733920"/>
            <a:ext cx="426708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88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Opportun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rai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Expansion of scope into: enterprise data center, cloud, financial apps, virtualization and ether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Marketing/awaren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Interop WG/Logo Progr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RDMA is the “golden thread” woven through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Content Placeholder 3"/>
          <p:cNvSpPr/>
          <p:nvPr/>
        </p:nvSpPr>
        <p:spPr>
          <a:xfrm>
            <a:off x="4648320" y="3733920"/>
            <a:ext cx="426708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88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Threa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No clear ROI for involv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Lack of documentation &amp; trai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Data center technologies (cloud, virtualization, ethernet, messaging) seen as greatest ga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Lack of marke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Legacy familiarity (enet; f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Questions on scalabil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ost issues with IB and iWAR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traight Connector 8"/>
          <p:cNvSpPr/>
          <p:nvPr/>
        </p:nvSpPr>
        <p:spPr>
          <a:xfrm>
            <a:off x="152280" y="3809880"/>
            <a:ext cx="8763120" cy="0"/>
          </a:xfrm>
          <a:prstGeom prst="line">
            <a:avLst/>
          </a:prstGeom>
          <a:ln w="25560">
            <a:solidFill>
              <a:srgbClr val="3c6f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traight Connector 10"/>
          <p:cNvSpPr/>
          <p:nvPr/>
        </p:nvSpPr>
        <p:spPr>
          <a:xfrm>
            <a:off x="4267080" y="1600200"/>
            <a:ext cx="0" cy="4724280"/>
          </a:xfrm>
          <a:prstGeom prst="line">
            <a:avLst/>
          </a:prstGeom>
          <a:ln w="25560">
            <a:solidFill>
              <a:srgbClr val="3c6f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-360" y="759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5195"/>
                </a:solidFill>
                <a:latin typeface="Arial"/>
              </a:rPr>
              <a:t>An Insider’s View of OFA  -- Note: some of this overlaps SWAT</a:t>
            </a: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6840" y="1447560"/>
            <a:ext cx="8458200" cy="46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rst, there’s much to be proud of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A continues to offer a robust SW stack, OFED, with increasing quality and cap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welcome Microsoft and increased Windows support, and additional new members Endace and Cr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are the dominant interconnect technology in HPC and getting stronger every y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the same time, there are serious concer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face a large funding gap for our interop/logo program resulting from much less than expected participation. We have been unable to solve th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icipation in our working groups is poor – some are almost to the point of colla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r membership is far less than it should be – many companies that clearly benefit from OFED do not feel the need to join and contribu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need your help to find answers to these important ques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lide Number Placeholder 28"/>
          <p:cNvSpPr/>
          <p:nvPr/>
        </p:nvSpPr>
        <p:spPr>
          <a:xfrm>
            <a:off x="655308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24E50C-3CA9-4930-9D95-415A5C38A2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Footer Placeholder 29"/>
          <p:cNvSpPr/>
          <p:nvPr/>
        </p:nvSpPr>
        <p:spPr>
          <a:xfrm>
            <a:off x="45720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www.openfabrics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5195"/>
                </a:solidFill>
                <a:latin typeface="Arial"/>
              </a:rPr>
              <a:t>Specific Strategies: Branding and Trademarks</a:t>
            </a: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51920" y="1371240"/>
            <a:ext cx="8991720" cy="46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have applied for graphical trademarks of the Alliance Software and Interoperability with IO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have applied to trademark of “OFED” and “OFED RDMA” and wish to brand “OFED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allows “OFED” for any O/S and “Open RDMA” over any fabric or physical lay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uses ar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OFED with Linu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or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OFED wi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Windows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OFED RDMA with iWAR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fic usage guidelines are being developed and will be propagated by the MWG for members and license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lide Number Placeholder 28"/>
          <p:cNvSpPr/>
          <p:nvPr/>
        </p:nvSpPr>
        <p:spPr>
          <a:xfrm>
            <a:off x="655308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6274EC-B914-4369-A46E-E4D412F033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Footer Placeholder 29"/>
          <p:cNvSpPr/>
          <p:nvPr/>
        </p:nvSpPr>
        <p:spPr>
          <a:xfrm>
            <a:off x="45720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www.openfabrics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5195"/>
                </a:solidFill>
                <a:latin typeface="Arial"/>
              </a:rPr>
              <a:t>Final Thoughts: </a:t>
            </a: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6840" y="1601640"/>
            <a:ext cx="8458200" cy="464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is a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worksho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which means discussions should be open, direct, creative and constru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s and analysts will be here, but this should not be a constraint on frank discussions on technologies, what’s good and bad about OFA and OFED, and so 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will collect and feed back to you suggestions for improvements as the very last session. I will drive creation of an action plan to address th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28"/>
          <p:cNvSpPr/>
          <p:nvPr/>
        </p:nvSpPr>
        <p:spPr>
          <a:xfrm>
            <a:off x="655308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2DD8B69-82CB-470B-AB9D-54867F60BF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Footer Placeholder 29"/>
          <p:cNvSpPr/>
          <p:nvPr/>
        </p:nvSpPr>
        <p:spPr>
          <a:xfrm>
            <a:off x="45720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www.openfabrics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5195"/>
                </a:solidFill>
                <a:latin typeface="Arial"/>
              </a:rPr>
              <a:t>Thank you Sponsors: </a:t>
            </a: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130" name="Slide Number Placeholder 28"/>
          <p:cNvSpPr/>
          <p:nvPr/>
        </p:nvSpPr>
        <p:spPr>
          <a:xfrm>
            <a:off x="655308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BCB33A6-DA64-4280-9013-41F9F9EC39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Footer Placeholder 29"/>
          <p:cNvSpPr/>
          <p:nvPr/>
        </p:nvSpPr>
        <p:spPr>
          <a:xfrm>
            <a:off x="45720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www.openfabrics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7" descr=""/>
          <p:cNvPicPr/>
          <p:nvPr/>
        </p:nvPicPr>
        <p:blipFill>
          <a:blip r:embed="rId1"/>
          <a:stretch/>
        </p:blipFill>
        <p:spPr>
          <a:xfrm>
            <a:off x="1828800" y="1981080"/>
            <a:ext cx="2228760" cy="10382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8" descr=""/>
          <p:cNvPicPr/>
          <p:nvPr/>
        </p:nvPicPr>
        <p:blipFill>
          <a:blip r:embed="rId2"/>
          <a:stretch/>
        </p:blipFill>
        <p:spPr>
          <a:xfrm>
            <a:off x="1981080" y="3200400"/>
            <a:ext cx="2219400" cy="10000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9" descr=""/>
          <p:cNvPicPr/>
          <p:nvPr/>
        </p:nvPicPr>
        <p:blipFill>
          <a:blip r:embed="rId3"/>
          <a:stretch/>
        </p:blipFill>
        <p:spPr>
          <a:xfrm>
            <a:off x="1981080" y="4203720"/>
            <a:ext cx="1828800" cy="15876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0" descr=""/>
          <p:cNvPicPr/>
          <p:nvPr/>
        </p:nvPicPr>
        <p:blipFill>
          <a:blip r:embed="rId4"/>
          <a:stretch/>
        </p:blipFill>
        <p:spPr>
          <a:xfrm>
            <a:off x="4734000" y="1981080"/>
            <a:ext cx="1819080" cy="12765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1" descr=""/>
          <p:cNvPicPr/>
          <p:nvPr/>
        </p:nvPicPr>
        <p:blipFill>
          <a:blip r:embed="rId5"/>
          <a:stretch/>
        </p:blipFill>
        <p:spPr>
          <a:xfrm>
            <a:off x="4714920" y="3352680"/>
            <a:ext cx="1914480" cy="12286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2" descr=""/>
          <p:cNvPicPr/>
          <p:nvPr/>
        </p:nvPicPr>
        <p:blipFill>
          <a:blip r:embed="rId6"/>
          <a:stretch/>
        </p:blipFill>
        <p:spPr>
          <a:xfrm>
            <a:off x="4419720" y="4724280"/>
            <a:ext cx="2609640" cy="10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5T00:09:16Z</dcterms:created>
  <dc:creator>apple admin</dc:creator>
  <dc:description/>
  <dc:language>en-US</dc:language>
  <cp:lastModifiedBy>Ryan, Jim</cp:lastModifiedBy>
  <dcterms:modified xsi:type="dcterms:W3CDTF">2010-03-15T14:48:41Z</dcterms:modified>
  <cp:revision>21</cp:revision>
  <dc:subject/>
  <dc:title>Slide 1</dc:title>
</cp:coreProperties>
</file>