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FE8-07FA-45FA-AA16-8BDCCAF2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F20-72CA-4E4E-9C7A-DCBA6FA9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D99-B2C8-48FF-9C57-F97CEA05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E37-891F-4402-AF17-20DFF905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0708-83DD-4B98-9454-B3982FA0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6E6E-9FF4-46FE-A771-2E60CD19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2FF6-BCD2-4CD0-B1F1-03E8F6D8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5A8B-3D5D-41EB-AF77-831BA11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380A-357A-42BB-917C-3E969443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1A25-3464-48D6-B316-743734CC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5B52-9361-424D-B6C2-5102C2A8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2AC-EEE1-447A-A5E6-E2C1BC70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5D3A-AEED-44CF-BBE2-42D2D147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3A39-3078-48E3-8EF4-D1CFEDE9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D86C-F1AD-45E0-B473-C1EB6EC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51CA-B7AD-4A8D-B933-1C0B8635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32AD-CB39-40C3-BAE7-C821B0CF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05F-9BA7-4C92-B85B-D2E72AC1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7B9-AD5B-4E1C-95F7-7BEC7FC0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DD1-A348-49AA-A454-B9B44DC1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76C-6F63-4E77-9AE7-1AA73AD8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052-7292-4E53-ABF1-C0E1859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6C5-7880-48FB-9C76-28F73A12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BCB-4678-4E83-87B6-C1D74D87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60A-A108-434D-8F2D-6529167EC3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6294-C896-45F7-A8CE-13FEDB41484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ol.unh.edu/services/testing/ofa/" TargetMode="External"/><Relationship Id="rId2" Type="http://schemas.openxmlformats.org/officeDocument/2006/relationships/hyperlink" Target="http://www.iol.unh.edu/services/testing/ofa/interoplist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ol.unh.edu/ofilp" TargetMode="External"/><Relationship Id="rId2" Type="http://schemas.openxmlformats.org/officeDocument/2006/relationships/hyperlink" Target="http://iol.unh.edu/ofilglis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OFA-IWG - March 2010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d6e71"/>
                </a:solidFill>
                <a:latin typeface="Arial"/>
              </a:rPr>
              <a:t>OFA Interoperability Working Group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Authors: 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ikkel Hagen, Rupert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ate: 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3/1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IB Tests – May 2010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16B7-5D57-472F-9587-00A600EC7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1541520"/>
          <a:ext cx="6403680" cy="4859280"/>
        </p:xfrm>
        <a:graphic>
          <a:graphicData uri="http://schemas.openxmlformats.org/drawingml/2006/table">
            <a:tbl>
              <a:tblPr/>
              <a:tblGrid>
                <a:gridCol w="3682800"/>
                <a:gridCol w="1325520"/>
                <a:gridCol w="1395360"/>
              </a:tblGrid>
              <a:tr h="203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finiBand Transpor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st Status for May 2010 Interop 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Proced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Fabric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IPoIB Connected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IPoIB Datagram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M Failover/Handover - Open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M Failover/Handover - Vendor 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Ethernet Gate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Fibre Channel Gate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 Independent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NFS over RD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MA Inter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MA Stress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H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pen MPI - Homogen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pen MPI - Heter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SU - MVAPICH 1 &amp; 2 - Hom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SU - MVAPICH 1 &amp; 2 - Heter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iWARP Tests – May 2010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8E76-31E9-4EC4-AE1E-2A0F9BE64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8080" y="1600200"/>
          <a:ext cx="5708520" cy="4610160"/>
        </p:xfrm>
        <a:graphic>
          <a:graphicData uri="http://schemas.openxmlformats.org/drawingml/2006/table">
            <a:tbl>
              <a:tblPr/>
              <a:tblGrid>
                <a:gridCol w="4197240"/>
                <a:gridCol w="1511280"/>
              </a:tblGrid>
              <a:tr h="230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thernet Transport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Test Status for May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201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terop 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8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Proced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 Fabric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 Fabric Fail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 Fabric Reconverg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ARP Conne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 Independent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NFS over RD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MA Inter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MA Stress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H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pen MPI - Homogen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pen MPI - Heter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SU - MVAPICH 1 &amp; 2 - Hom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SU - MVAPICH 1 &amp; 2 - Heter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IB Cluster Topology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A15F-C3E8-4DA1-88ED-E81FD926E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Content Placeholder 7" descr="OFA-2009-10-InteropEvent-Diagram-v2-Nick-2009-11-03.jpg"/>
          <p:cNvPicPr/>
          <p:nvPr/>
        </p:nvPicPr>
        <p:blipFill>
          <a:blip r:embed="rId1"/>
          <a:stretch/>
        </p:blipFill>
        <p:spPr>
          <a:xfrm>
            <a:off x="1558800" y="1601640"/>
            <a:ext cx="6026400" cy="46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Problems Noted – October 2009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k Init Iss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ssues were discovered when doing heterogeneous tes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ssues were discovered between legacy DDR devices and new QDR produ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ices not supporting 1X lin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op Te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st must be limited to 4 outstanding instructions or legacy cards fai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cket loss when running IPoIB in datagram mo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PI fails when running in heterogeneous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updated and more scalable job launch scheme - 'mpirun_rsh'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ED Ut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bdiagnet –r segmentation fa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gnal Integrity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 degradation during MPI testing and high traffic cou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29B8-6497-454D-B73A-0DD4C11EB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2010 Program Highlights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Test Su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ILP test scripts can now be run over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access is granted to all OFILG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long testing slot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heterogeneous cluste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vendors to test against competitors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able MPI ring available for iWARP and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C89B-FF76-447E-9060-7391D425B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UNH-IOL OFA – Moving Forward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 Program needs more marketing &amp;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Interop Events for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Interop Debug events based on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Logo Validation events based on 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interest for 2010/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S over R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vendor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-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Sockets Protocol (EXS) contributed to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interface to  tests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1E19-497E-4FE7-A6A8-A7C708BFE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Invitation to join OFILG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vell and Red 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Switch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sta Networks, Cisco, Force 10, Fujitsu, Fulcrum, H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num, HP,  IBM, SGI, Oracle and Xsi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BM, Neterion, ServerEng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, Dell, HP, Sun/Oracle, SuperMicro, Ver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8209-1545-4E1F-93B6-F1E799CBB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195"/>
                </a:solidFill>
                <a:latin typeface="Arial"/>
              </a:rPr>
              <a:t>Open Fabrics Interoperability Logo Group</a:t>
            </a:r>
            <a:endParaRPr b="0" lang="en-US" sz="32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72" name="Content Placeholder 6" descr="OSI logo small.jpg"/>
          <p:cNvPicPr/>
          <p:nvPr/>
        </p:nvPicPr>
        <p:blipFill>
          <a:blip r:embed="rId1"/>
          <a:stretch/>
        </p:blipFill>
        <p:spPr>
          <a:xfrm>
            <a:off x="6553080" y="3187800"/>
            <a:ext cx="1600200" cy="1003320"/>
          </a:xfrm>
          <a:prstGeom prst="rect">
            <a:avLst/>
          </a:prstGeom>
          <a:ln w="0">
            <a:noFill/>
          </a:ln>
        </p:spPr>
      </p:pic>
      <p:sp>
        <p:nvSpPr>
          <p:cNvPr id="17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2F5-ACA8-48C5-AD46-FC7BC039D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Mellanox_logoCMYK_hor copy.eps"/>
          <p:cNvPicPr/>
          <p:nvPr/>
        </p:nvPicPr>
        <p:blipFill>
          <a:blip r:embed="rId2"/>
          <a:stretch/>
        </p:blipFill>
        <p:spPr>
          <a:xfrm>
            <a:off x="304920" y="5257800"/>
            <a:ext cx="2671560" cy="5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helsio-logo.eps"/>
          <p:cNvPicPr/>
          <p:nvPr/>
        </p:nvPicPr>
        <p:blipFill>
          <a:blip r:embed="rId3"/>
          <a:stretch/>
        </p:blipFill>
        <p:spPr>
          <a:xfrm>
            <a:off x="380880" y="1676520"/>
            <a:ext cx="2286000" cy="1238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0951402_logo.jpg"/>
          <p:cNvPicPr/>
          <p:nvPr/>
        </p:nvPicPr>
        <p:blipFill>
          <a:blip r:embed="rId4"/>
          <a:stretch/>
        </p:blipFill>
        <p:spPr>
          <a:xfrm>
            <a:off x="3886200" y="4800600"/>
            <a:ext cx="1467000" cy="146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logo_ddn.gif"/>
          <p:cNvPicPr/>
          <p:nvPr/>
        </p:nvPicPr>
        <p:blipFill>
          <a:blip r:embed="rId5"/>
          <a:stretch/>
        </p:blipFill>
        <p:spPr>
          <a:xfrm>
            <a:off x="3600360" y="1828800"/>
            <a:ext cx="1657440" cy="790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intel-logo-blue.jpg"/>
          <p:cNvPicPr/>
          <p:nvPr/>
        </p:nvPicPr>
        <p:blipFill>
          <a:blip r:embed="rId6"/>
          <a:stretch/>
        </p:blipFill>
        <p:spPr>
          <a:xfrm>
            <a:off x="533520" y="2971800"/>
            <a:ext cx="1676160" cy="155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PR08Voltaire-Logo.jpg"/>
          <p:cNvPicPr/>
          <p:nvPr/>
        </p:nvPicPr>
        <p:blipFill>
          <a:blip r:embed="rId7"/>
          <a:stretch/>
        </p:blipFill>
        <p:spPr>
          <a:xfrm>
            <a:off x="6934320" y="4800600"/>
            <a:ext cx="965160" cy="124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flextronics-RSD.jpg"/>
          <p:cNvPicPr/>
          <p:nvPr/>
        </p:nvPicPr>
        <p:blipFill>
          <a:blip r:embed="rId8"/>
          <a:stretch/>
        </p:blipFill>
        <p:spPr>
          <a:xfrm>
            <a:off x="6181560" y="2052720"/>
            <a:ext cx="2581560" cy="385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iol.jpg"/>
          <p:cNvPicPr/>
          <p:nvPr/>
        </p:nvPicPr>
        <p:blipFill>
          <a:blip r:embed="rId9"/>
          <a:stretch/>
        </p:blipFill>
        <p:spPr>
          <a:xfrm>
            <a:off x="3505320" y="3048120"/>
            <a:ext cx="19429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OFA-IWG Charter and Mission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Fabrics Alliance Interoperability Working Group (OFA-IW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ible for defining and maintaining the OFA Logo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nd develop a comprehensive suite of tests for evaluating product interoperability within the OpenFabrics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tests when features are added to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OFED Release Candidates before the GA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nteroperability events in conjunction with the University of New Hampshire Interoperability Lab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UNH-I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the interoperability of products using the OpenFabrics software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FA Interoperability Log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ranted to those products which pass all of the mandatory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1B65-F92E-401E-96CF-8CC18358A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Event Overview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A IWG Interop Events - 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upcom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y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ay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010 – Interop Debug Event - OFED 1.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une 2010 –Validation Event - OFED 1.5.2 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will be the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FA-IWG Interop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nticipated particip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ndors and 32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iance Tes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0 –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sted by University of NH Interoperability Lab (UNH-IO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A1D2-3ED3-4D7F-B739-C67E3408B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Hosted by UNH-IOL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07" name="Content Placeholder 6" descr="IMG_0730.JPG"/>
          <p:cNvPicPr/>
          <p:nvPr/>
        </p:nvPicPr>
        <p:blipFill>
          <a:blip r:embed="rId1"/>
          <a:stretch/>
        </p:blipFill>
        <p:spPr>
          <a:xfrm>
            <a:off x="1143000" y="1581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0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55E7-12BB-464E-96BB-185D9D3EB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OFA Interoperability Logo Program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601640"/>
            <a:ext cx="853416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customers and users to choose products and versions that are intero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vendors to demonstrate interoperability by using the Logo on their products and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available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ol.unh.edu/ofi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ist of Logo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ol.unh.edu/ofilg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DCFF-D1D1-4FB2-8E27-F543A299A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Vendor Participation - IB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irect Networks, Flextronics, LSI Logic, Mellanox, Obsidian Research, QLogic, 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H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InfiniBand Range Exte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RP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C/Ethernet 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ED Open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lanox Switch Based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Logic Switch Based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ire Switch Based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AF2C-9098-4734-BFD9-B4DEF8C96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Vendor Participation - iWARP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 and 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Devices - using OFED 1.5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RNICs used for MPI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RNICs used for MPI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Gb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5E89-55FE-4FE2-B47D-803B299B4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est Setup &amp; Environmen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servers donated by 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servers donated by 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servers donated by A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s Donated to OF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enol, C&amp;M, Cinch, FCI, Intel, Mellanox, Meritec, Molex, Panduit, Tyco, Volex, W.L. Gore and Zar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.4 (CentOS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bit x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BE35-88EE-4E5D-8767-FE4C449D2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est Coverage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Init &amp; Fabric 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oIB CM and 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ER &amp; S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MPI &amp; MVAPICH 1 &amp;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S &amp; NFS/R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Init &amp; Fabric 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WARP Conn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MPI &amp; MVAPICH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S &amp; NFS/R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C8B9-721A-42EE-9D68-BF3F92F50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Rupert Dance</cp:lastModifiedBy>
  <dcterms:modified xsi:type="dcterms:W3CDTF">2010-03-16T21:38:37Z</dcterms:modified>
  <cp:revision>137</cp:revision>
  <dc:subject/>
  <dc:title>OFA-IWG Interop Event</dc:title>
</cp:coreProperties>
</file>