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8F9A7-59B0-4A92-9CDE-23D467221F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3D71F-02F3-4075-843A-4014E787E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71D5995-82D3-4AB6-AB1B-403551791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57BC59-9066-49FE-9440-4C587D82F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DB55DBF-2E04-498C-8B38-0E9F9F3AD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E419FA-4287-49C5-B8B0-4AF452CC5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E5AF4B6-B730-4F23-B7A5-EB49FE78A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87E7FB-2651-4D65-97B9-8B994D7C0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984E7EA-66AE-46E9-BE9A-AD98FBC06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11485-83FD-4D93-8683-A14A9C131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418-DE0F-4D39-92F0-0AF2FBF4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6BB-4BE8-46C2-B0DA-9516857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191-EEF4-4678-9D32-E11AEEE8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8FD-ABAE-45CC-A613-176EDF50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CFB-E1DF-4D88-A96D-27155576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370A-4C7B-4067-BF90-EEA61F16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F79-8EF7-4AB1-A3DE-EB5C6007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F013-93F0-4096-80F6-FE7F3FB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D757-FEEC-478D-9861-4BCBEE38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55F0-DAFD-4C43-9C37-516F30F5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63F9-35B7-43C2-B9DD-1B3A638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F72-10D9-4A0D-9809-62088B1F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763-B897-42F8-92CB-06D8C62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AE39-18CA-49C4-93EB-A4B30D2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600D-CC77-4E7A-804F-7ECBD43D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9E1-EB20-4B5F-BA71-3E34AA11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6929-81F9-4CEC-8ACB-C939705F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A15-C6CF-49D4-900E-09993AA6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263-F2F6-4CDD-9A47-D4D08C8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144-C2E0-4935-A574-1549DD2B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7BC-ED13-448C-924F-5612458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C4D-51EA-433A-B503-D6FCC17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A56-FDF7-46A6-9847-8904CA2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2DA-D079-40DB-BD88-B2E4F84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1C556-24C1-45CA-A4C4-B581F09E1315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279C2-0939-4440-B9F5-1FCB1D70A5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179A0-CFC1-4C33-8132-1F4010AD9E3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01E03-F17F-4B25-8638-484CF5E3A7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erver OEM Pan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4DDEB-A593-42B4-B548-BDE56796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ob Souza, HP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5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44956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OFA Sonoma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ual Tal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use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Performanc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ig to small. Mostly Linux. Multiple kernels, distributions, interconnect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use in HP-UX (SRP, 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I market data,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(HP SFSg3, X9000 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n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-specific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ast Year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E on mother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, flat 10 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E/DC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d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 RDMA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DMA Choi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RDMA ecosystem -  customer cho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E,  aka ((IBx?)|R|RDMA)o(CE)?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the performance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becoming main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s,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1 GbE community to 10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0% of TOP500 on 1G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i polloi who get 10GbE LOM for ‘free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10 GbE performance data help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C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large fabrics can be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-tree alternatives for cost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ned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customer interactions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de downstream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‘just wor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82577-DDCE-46D5-912F-64C46DED1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ouza, Bob</cp:lastModifiedBy>
  <dcterms:modified xsi:type="dcterms:W3CDTF">2010-03-12T22:30:03Z</dcterms:modified>
  <cp:revision>20</cp:revision>
  <dc:subject/>
  <dc:title>Slide 1</dc:title>
</cp:coreProperties>
</file>