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4F4A-B758-442E-A2C0-95132F6DE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9DCF-B86E-4E98-9969-EDD40640F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FDF2-C01A-4683-B6AB-90CA4CF68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33AB-A5DD-42DB-9903-1D5693372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AD30A-6A5F-40AD-B34F-4B880480E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7D00B-E7B5-4578-AF4E-C88FB5640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E2A13-F1C0-4DF3-AAF1-3F7A5532C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2B119-CC9F-4FD1-A868-9F816F0E3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7EE48-4E50-45F7-A4FF-BB0BB22C4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C8096-CA0D-4259-B44A-511D3F343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66EB7-2AE7-48CB-A4D3-C73FB4CF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BEDA-91A8-45C2-A3B2-C5C89B7F3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CF2A9-14EF-4C6F-BE53-4A31ED61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D4A00-375A-48A5-8F25-A5CF1D19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52B70-6C16-4495-9314-0A8087D54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54BE2-0323-46F5-86C5-8BB0278A4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0DD40-583F-4740-B3EF-C904348CC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6BC4-F2D7-4E8B-93B7-C20B031D9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E5CE-43CE-4E2C-B3DC-A69D6071C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EA54-DE3A-469E-9F8A-CD686EF2F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BF47-B4D8-47F5-BF59-B7960A52C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F3F2-7EB7-402A-BAE0-64B2F14E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B9D0-9528-44BD-92D4-38A474AE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8BD7-E3F4-4625-9EE2-001FA85A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ribbon_small_rgb.jpg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1508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1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1C9484-30AA-4D27-8213-74005136B581}" type="datetime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4568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2EF0B1-C784-4856-86F4-3763E167C74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6" descr="OpenFabric_Alliance_Logo_ppt.jpg"/>
          <p:cNvPicPr/>
          <p:nvPr/>
        </p:nvPicPr>
        <p:blipFill>
          <a:blip r:embed="rId3"/>
          <a:stretch/>
        </p:blipFill>
        <p:spPr>
          <a:xfrm>
            <a:off x="8001000" y="228600"/>
            <a:ext cx="1104840" cy="1104840"/>
          </a:xfrm>
          <a:prstGeom prst="rect">
            <a:avLst/>
          </a:prstGeom>
          <a:ln w="0">
            <a:noFill/>
          </a:ln>
        </p:spPr>
      </p:pic>
      <p:sp>
        <p:nvSpPr>
          <p:cNvPr id="8" name="Straight Connector 20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12600">
            <a:solidFill>
              <a:srgbClr val="e553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" descr="ribbon_small_rgb.jpg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1508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OpenFabric_Alliance_Logo_ppt.jpg"/>
          <p:cNvPicPr/>
          <p:nvPr/>
        </p:nvPicPr>
        <p:blipFill>
          <a:blip r:embed="rId3"/>
          <a:stretch/>
        </p:blipFill>
        <p:spPr>
          <a:xfrm>
            <a:off x="8001000" y="228600"/>
            <a:ext cx="1104840" cy="1104840"/>
          </a:xfrm>
          <a:prstGeom prst="rect">
            <a:avLst/>
          </a:prstGeom>
          <a:ln w="0">
            <a:noFill/>
          </a:ln>
        </p:spPr>
      </p:pic>
      <p:sp>
        <p:nvSpPr>
          <p:cNvPr id="48" name="Straight Connector 20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12600">
            <a:solidFill>
              <a:srgbClr val="e553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ribbon_ppt_title.jpg"/>
          <p:cNvPicPr/>
          <p:nvPr/>
        </p:nvPicPr>
        <p:blipFill>
          <a:blip r:embed="rId4"/>
          <a:srcRect l="0" t="5783" r="0" b="0"/>
          <a:stretch/>
        </p:blipFill>
        <p:spPr>
          <a:xfrm>
            <a:off x="0" y="0"/>
            <a:ext cx="9144000" cy="2481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OpenFabric_Alliance_Logo_ppt.jpg"/>
          <p:cNvPicPr/>
          <p:nvPr/>
        </p:nvPicPr>
        <p:blipFill>
          <a:blip r:embed="rId5"/>
          <a:stretch/>
        </p:blipFill>
        <p:spPr>
          <a:xfrm>
            <a:off x="380880" y="232416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784DE6-5FEE-4E95-96B2-49E2E9444B5C}" type="datetime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808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A68F48-4339-45C5-A1BC-F0C37C4CDF6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7040" y="2666520"/>
            <a:ext cx="6629400" cy="15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RoCEE in OFED Update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94" name="Footer Placeholder 4"/>
          <p:cNvSpPr/>
          <p:nvPr/>
        </p:nvSpPr>
        <p:spPr>
          <a:xfrm>
            <a:off x="3808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D0CA1D-6D7E-4EA4-AC5F-1690FC9F56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2057400" y="529740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d6e71"/>
                </a:solidFill>
                <a:latin typeface="Calibri"/>
              </a:rPr>
              <a:t>Liran Liss, Mellanox Techn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d6e71"/>
                </a:solidFill>
                <a:latin typeface="Calibri"/>
              </a:rPr>
              <a:t>March 15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RoCEE in Action (1)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1523880"/>
            <a:ext cx="8229600" cy="4953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w419:~/OFED-1.5.1-20100316-0817 # ibv_devinf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ca_id: mlx4_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 transport:                      InfiniBand (0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 fw_ver:                         2.7.80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 node_guid:                      0002:c903:0008:e798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 sys_image_guid:                 0002:c903:0008:e79b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 vendor_id:                      0x02c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 vendor_part_id:                 26428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 hw_ver:                         0xB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 board_id:                       MT_0DD012000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 phys_port_cnt:                  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 port:   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         state:                  PORT_INIT (2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         max_mtu:                2048 (4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         active_mtu:             2048 (4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         sm_lid:                 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         port_lid:               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         port_lmc:               0x0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         link_layer:             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rt:   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         state:                  PORT_ACTIVE (4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         max_mtu:                2048 (4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         active_mtu:             1024 (3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         sm_lid:                 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         port_lid:               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         port_lmc:               0x0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         link_layer:             Etherne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800600" y="6095880"/>
            <a:ext cx="1219320" cy="45720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RoCEE in Action (2)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9480" y="1752480"/>
            <a:ext cx="8229600" cy="457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w419:~ # ifconfig eth2 20.4.3.2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w419:~ # vconfig add eth2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ed VLAN with VID == 7 to IF -:eth2: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w419:~ # ifconfig eth2.7 20.4.3.219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w419:~ # cat /sys/class/infiniband/mlx4_0/ports/2/gids/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e80:0000:0000:0000:0202:c9ff:</a:t>
            </a:r>
            <a:r>
              <a:rPr b="1" lang="en-US" sz="1200" spc="-1" strike="noStrike">
                <a:solidFill>
                  <a:srgbClr val="800080"/>
                </a:solidFill>
                <a:latin typeface="Courier New"/>
                <a:ea typeface="Courier New"/>
              </a:rPr>
              <a:t>f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8:e79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w419:~ # cat /sys/class/infiniband/mlx4_0/ports/2/gids/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e80:0000:0000:0000:0202:c900:</a:t>
            </a:r>
            <a:r>
              <a:rPr b="1" lang="en-US" sz="1200" spc="-1" strike="noStrike">
                <a:solidFill>
                  <a:srgbClr val="800080"/>
                </a:solidFill>
                <a:latin typeface="Courier New"/>
                <a:ea typeface="Courier New"/>
              </a:rPr>
              <a:t>07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8:e799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w419:~ # ibv_rc_pingpong </a:t>
            </a:r>
            <a:r>
              <a:rPr b="1" lang="en-US" sz="1200" spc="-1" strike="noStrike">
                <a:solidFill>
                  <a:srgbClr val="3c6fbd"/>
                </a:solidFill>
                <a:latin typeface="Courier New"/>
                <a:ea typeface="Courier New"/>
              </a:rPr>
              <a:t>-g 0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-i 2 sw42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 local address:  LID 0x0000, QPN 0x00004f, PSN 0xef4670, GID fe80::202:c9ff:fe08:e79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 remote address: LID 0x0000, QPN 0x00004f, PSN 0xd454d5, GID fe80::202:c9ff:fe08:e81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192000 bytes in 0.01 seconds = 4807.51 Mbit/se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00 iters in 0.01 seconds = 13.63 usec/ite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w419:~ # ibv_rc_pingpong </a:t>
            </a:r>
            <a:r>
              <a:rPr b="1" lang="en-US" sz="1200" spc="-1" strike="noStrike">
                <a:solidFill>
                  <a:srgbClr val="3c6fbd"/>
                </a:solidFill>
                <a:latin typeface="Courier New"/>
                <a:ea typeface="Courier New"/>
              </a:rPr>
              <a:t>-g 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-i 2 sw42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 local address:  LID 0x0000, QPN 0x04004f, PSN 0xe10208, GID fe80::202:c900:708:e79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 remote address: LID 0x0000, QPN 0x04004f, PSN 0x9b281b, GID fe80::202:c900:708:e81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192000 bytes in 0.01 seconds = 4857.40 Mbit/se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00 iters in 0.01 seconds = 13.49 usec/ite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209680" y="4114800"/>
            <a:ext cx="1219320" cy="45720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RoCEE in Action (3)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2057400"/>
            <a:ext cx="8229600" cy="3505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w419:~ # ifconfig eth2 20.4.3.2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root@mtlsqt124 ~]# rds-stress -s 11.4.5.125 -q 4096 -t 2 -d 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necting to 11.4.5.125:400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gotiated options, tasks will start in 2 second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arting up...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sks   tx/s   rx/s  tx+rx K/s    mbi K/s    mbo K/s tx us/c   rtt us cpu %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 2  40137  40126  322928.84       0.00       0.00   10.91   156.89 -0.9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 2  39971  39987  324128.14       0.00       0.00   10.03   157.00 -1.0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 2  37488  37575  304354.64       0.00       0.00   10.59   168.45 -1.0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 2  38581  38604  312945.17       0.00       0.00   10.88   161.39 -1.0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 2  38429  38473  311815.57       0.00       0.00   10.54   163.22 -1.0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 2  39010  38856  315703.93       0.00       0.00   10.50   163.27 -1.0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 2  37104  37167  300838.65       0.00       0.00   10.27   170.97 -1.0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 2  39761  39826  322698.14       0.00       0.00   10.78   159.99 -1.0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 2  38787  38704  314205.64       0.00       0.00   10.69   161.82 -1.0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 2  40924  41002  332171.96       0.00       0.00   11.09   153.17 -1.0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 2  38844  39012  315659.80       0.00       0.00   10.53   162.44 -1.00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RoCEE in Action (4)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graphicFrame>
        <p:nvGraphicFramePr>
          <p:cNvPr id="207" name="Text Placeholder 2"/>
          <p:cNvGraphicFramePr/>
          <p:nvPr/>
        </p:nvGraphicFramePr>
        <p:xfrm>
          <a:off x="457200" y="1700280"/>
          <a:ext cx="4648320" cy="317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8" name="Text Placeholder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0280"/>
                    <a:ext cx="4648320" cy="31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Text Placeholder 2"/>
          <p:cNvGraphicFramePr/>
          <p:nvPr/>
        </p:nvGraphicFramePr>
        <p:xfrm>
          <a:off x="3886200" y="2965320"/>
          <a:ext cx="4800600" cy="3283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10" name="Text Placeholder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2965320"/>
                    <a:ext cx="4800600" cy="32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295280" y="4343400"/>
            <a:ext cx="3810240" cy="213372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CEE really rocks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hat is RoCEE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tocol stac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acke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Verbs implica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nnection manageme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nabling RoCEE in OFE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evelopment and Availabilit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RoCEE in ac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What is RoCEE?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82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iniband transport over Eth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light-weight transport, layered directly over Ethernet L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5840" indent="-172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6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oE equivalent for high-performance IPC traf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s advantage of DCB Eth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5840" indent="-172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6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FC, ETS, and Q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h communication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/unreliable connected/dat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cast and multi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om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Protocol Stack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666880" y="5900760"/>
            <a:ext cx="914400" cy="457200"/>
          </a:xfrm>
          <a:prstGeom prst="rect">
            <a:avLst/>
          </a:prstGeom>
          <a:solidFill>
            <a:srgbClr val="3c6fb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/D/Q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33920" y="5900760"/>
            <a:ext cx="83808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AU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48320" y="5900760"/>
            <a:ext cx="83808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F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562720" y="5900760"/>
            <a:ext cx="83808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M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4724280"/>
            <a:ext cx="914400" cy="990720"/>
          </a:xfrm>
          <a:prstGeom prst="rect">
            <a:avLst/>
          </a:prstGeom>
          <a:solidFill>
            <a:srgbClr val="3c6fb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4724280"/>
            <a:ext cx="2666880" cy="99072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43200" y="4038480"/>
            <a:ext cx="266688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 L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562720" y="4038480"/>
            <a:ext cx="914400" cy="53352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v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43200" y="3352680"/>
            <a:ext cx="266688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 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1523880"/>
            <a:ext cx="1066680" cy="5335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D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57400" y="5791320"/>
            <a:ext cx="44956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4648320"/>
            <a:ext cx="44956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95280" y="60436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93840" y="50529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11120" y="42148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11120" y="34527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057400" y="3962520"/>
            <a:ext cx="44956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57400" y="3276720"/>
            <a:ext cx="44956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666880" y="3301920"/>
            <a:ext cx="0" cy="1346400"/>
          </a:xfrm>
          <a:prstGeom prst="line">
            <a:avLst/>
          </a:prstGeom>
          <a:ln w="57240">
            <a:solidFill>
              <a:srgbClr val="f145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666880" y="3276720"/>
            <a:ext cx="2819520" cy="0"/>
          </a:xfrm>
          <a:prstGeom prst="line">
            <a:avLst/>
          </a:prstGeom>
          <a:ln w="57240">
            <a:solidFill>
              <a:srgbClr val="f145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3276720"/>
            <a:ext cx="0" cy="685800"/>
          </a:xfrm>
          <a:prstGeom prst="line">
            <a:avLst/>
          </a:prstGeom>
          <a:ln w="57240">
            <a:solidFill>
              <a:srgbClr val="f145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86400" y="3949560"/>
            <a:ext cx="0" cy="685800"/>
          </a:xfrm>
          <a:prstGeom prst="line">
            <a:avLst/>
          </a:prstGeom>
          <a:ln w="57240">
            <a:solidFill>
              <a:srgbClr val="f145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86400" y="4648320"/>
            <a:ext cx="990720" cy="0"/>
          </a:xfrm>
          <a:prstGeom prst="line">
            <a:avLst/>
          </a:prstGeom>
          <a:ln w="57240">
            <a:solidFill>
              <a:srgbClr val="f145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77120" y="4648320"/>
            <a:ext cx="0" cy="1752480"/>
          </a:xfrm>
          <a:prstGeom prst="line">
            <a:avLst/>
          </a:prstGeom>
          <a:ln w="57240">
            <a:solidFill>
              <a:srgbClr val="f145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57600" y="6400800"/>
            <a:ext cx="2819520" cy="0"/>
          </a:xfrm>
          <a:prstGeom prst="line">
            <a:avLst/>
          </a:prstGeom>
          <a:ln w="57240">
            <a:solidFill>
              <a:srgbClr val="f145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657600" y="4648320"/>
            <a:ext cx="0" cy="1752480"/>
          </a:xfrm>
          <a:prstGeom prst="line">
            <a:avLst/>
          </a:prstGeom>
          <a:ln w="57240">
            <a:solidFill>
              <a:srgbClr val="f145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66880" y="4648320"/>
            <a:ext cx="990720" cy="0"/>
          </a:xfrm>
          <a:prstGeom prst="line">
            <a:avLst/>
          </a:prstGeom>
          <a:ln w="57240">
            <a:solidFill>
              <a:srgbClr val="f145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3352680"/>
            <a:ext cx="914400" cy="53352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24280" y="2209680"/>
            <a:ext cx="68580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62520" y="1523880"/>
            <a:ext cx="2514600" cy="5335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57400" y="2133720"/>
            <a:ext cx="46483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35160" y="228600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L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62520" y="2209680"/>
            <a:ext cx="68580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743200" y="2209680"/>
            <a:ext cx="68580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oI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81280" y="2514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2843280"/>
            <a:ext cx="2666880" cy="3045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Packet Format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66880" y="2133720"/>
            <a:ext cx="1432080" cy="68580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R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2 Hd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475240" y="2133720"/>
            <a:ext cx="1617840" cy="685800"/>
          </a:xfrm>
          <a:prstGeom prst="rect">
            <a:avLst/>
          </a:prstGeom>
          <a:gradFill rotWithShape="0">
            <a:gsLst>
              <a:gs pos="0">
                <a:srgbClr val="752f75"/>
              </a:gs>
              <a:gs pos="50000">
                <a:srgbClr val="ff66ff"/>
              </a:gs>
              <a:gs pos="100000">
                <a:srgbClr val="752f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B Pay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98960" y="2133720"/>
            <a:ext cx="122076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3 Hd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4680" y="2133720"/>
            <a:ext cx="762120" cy="68580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R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86600" y="2133720"/>
            <a:ext cx="83808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R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408560" y="2133720"/>
            <a:ext cx="1066680" cy="685800"/>
          </a:xfrm>
          <a:prstGeom prst="rect">
            <a:avLst/>
          </a:prstGeom>
          <a:gradFill rotWithShape="0">
            <a:gsLst>
              <a:gs pos="0">
                <a:srgbClr val="172f75"/>
              </a:gs>
              <a:gs pos="50000">
                <a:srgbClr val="3366ff"/>
              </a:gs>
              <a:gs pos="100000">
                <a:srgbClr val="172f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TH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4 Hd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499000" y="3867120"/>
            <a:ext cx="1617840" cy="685800"/>
          </a:xfrm>
          <a:prstGeom prst="rect">
            <a:avLst/>
          </a:prstGeom>
          <a:gradFill rotWithShape="0">
            <a:gsLst>
              <a:gs pos="0">
                <a:srgbClr val="752f75"/>
              </a:gs>
              <a:gs pos="50000">
                <a:srgbClr val="ff66ff"/>
              </a:gs>
              <a:gs pos="100000">
                <a:srgbClr val="752f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B Pay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9640" y="3867120"/>
            <a:ext cx="129384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110360" y="3867120"/>
            <a:ext cx="83808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R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432320" y="3867120"/>
            <a:ext cx="1066680" cy="685800"/>
          </a:xfrm>
          <a:prstGeom prst="rect">
            <a:avLst/>
          </a:prstGeom>
          <a:gradFill rotWithShape="0">
            <a:gsLst>
              <a:gs pos="0">
                <a:srgbClr val="172f75"/>
              </a:gs>
              <a:gs pos="50000">
                <a:srgbClr val="3366ff"/>
              </a:gs>
              <a:gs pos="100000">
                <a:srgbClr val="172f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TH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948440" y="3867120"/>
            <a:ext cx="762120" cy="68580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50000">
                <a:srgbClr val="00ff00"/>
              </a:gs>
              <a:gs pos="100000">
                <a:srgbClr val="00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714680" y="3867120"/>
            <a:ext cx="799920" cy="68580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50000">
                <a:srgbClr val="00ff00"/>
              </a:gs>
              <a:gs pos="100000">
                <a:srgbClr val="00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14600" y="3879720"/>
            <a:ext cx="646200" cy="68292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50000">
                <a:srgbClr val="00ff00"/>
              </a:gs>
              <a:gs pos="100000">
                <a:srgbClr val="007500"/>
              </a:gs>
            </a:gsLst>
            <a:lin ang="54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oC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7520" y="222264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finib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9280" y="395280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oC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00400" y="2886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924680" y="2886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Verbs Implications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1280"/>
            <a:ext cx="822960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V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 compliant syn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D-based addr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D field is reser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pulated with link-local address corresponding to port M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Q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P0 is reser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P1 is used for connection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ly other mad services in the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Connection Management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 is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RDMA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P stack used to resolve remote IP to DMAC and bind to outgoing Ether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LAN determined according to bound netd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CEE device selected according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parameters (MTU, SL, timeout) obtained locally according to kernel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on proceeds with CM as in 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ing only with Verbs also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33520" y="1828800"/>
            <a:ext cx="6248160" cy="4038480"/>
          </a:xfrm>
          <a:prstGeom prst="rect">
            <a:avLst/>
          </a:prstGeom>
          <a:solidFill>
            <a:srgbClr val="ff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934320" y="1828800"/>
            <a:ext cx="1447560" cy="4038480"/>
          </a:xfrm>
          <a:prstGeom prst="rect">
            <a:avLst/>
          </a:prstGeom>
          <a:solidFill>
            <a:srgbClr val="ccffcc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2362320"/>
            <a:ext cx="2743200" cy="761760"/>
          </a:xfrm>
          <a:prstGeom prst="rect">
            <a:avLst/>
          </a:prstGeom>
          <a:solidFill>
            <a:srgbClr val="e553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Enabling RoCEE in OFED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0" y="5029200"/>
            <a:ext cx="4191120" cy="380880"/>
          </a:xfrm>
          <a:prstGeom prst="rect">
            <a:avLst/>
          </a:prstGeom>
          <a:solidFill>
            <a:srgbClr val="3c6f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1172"/>
                </a:solidFill>
                <a:latin typeface="Arial Narrow"/>
              </a:rPr>
              <a:t>mlx4_i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505320" y="2362320"/>
            <a:ext cx="2971800" cy="761760"/>
          </a:xfrm>
          <a:prstGeom prst="rect">
            <a:avLst/>
          </a:prstGeom>
          <a:solidFill>
            <a:srgbClr val="e553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1172"/>
                </a:solidFill>
                <a:latin typeface="Arial Narrow"/>
              </a:rPr>
              <a:t>uRDMA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343400" y="3886200"/>
            <a:ext cx="2133720" cy="380880"/>
          </a:xfrm>
          <a:prstGeom prst="rect">
            <a:avLst/>
          </a:prstGeom>
          <a:solidFill>
            <a:srgbClr val="e553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1172"/>
                </a:solidFill>
                <a:latin typeface="Arial Narrow"/>
              </a:rPr>
              <a:t>RDMA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733920" y="4267080"/>
            <a:ext cx="2743200" cy="381240"/>
          </a:xfrm>
          <a:prstGeom prst="rect">
            <a:avLst/>
          </a:prstGeom>
          <a:solidFill>
            <a:srgbClr val="e553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1172"/>
                </a:solidFill>
                <a:latin typeface="Arial Narrow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0" y="4648320"/>
            <a:ext cx="4191120" cy="380880"/>
          </a:xfrm>
          <a:prstGeom prst="rect">
            <a:avLst/>
          </a:prstGeom>
          <a:solidFill>
            <a:srgbClr val="e553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1172"/>
                </a:solidFill>
                <a:latin typeface="Arial Narrow"/>
              </a:rPr>
              <a:t>Ib_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62120" y="2743200"/>
            <a:ext cx="1904760" cy="380880"/>
          </a:xfrm>
          <a:prstGeom prst="rect">
            <a:avLst/>
          </a:prstGeom>
          <a:solidFill>
            <a:srgbClr val="3c6f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1172"/>
                </a:solidFill>
                <a:latin typeface="Arial Narrow"/>
              </a:rPr>
              <a:t>libmlx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057400" y="239076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1172"/>
                </a:solidFill>
                <a:latin typeface="Arial Narrow"/>
              </a:rPr>
              <a:t>uVer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6095880"/>
            <a:ext cx="7238880" cy="381240"/>
          </a:xfrm>
          <a:prstGeom prst="rect">
            <a:avLst/>
          </a:prstGeom>
          <a:solidFill>
            <a:srgbClr val="3c6f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1172"/>
                </a:solidFill>
                <a:latin typeface="Arial Narrow"/>
              </a:rPr>
              <a:t>Hard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124080" y="3429000"/>
            <a:ext cx="274320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1172"/>
                </a:solidFill>
                <a:latin typeface="Arial Narrow"/>
              </a:rPr>
              <a:t>RDMA UL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1981080"/>
            <a:ext cx="7238880" cy="3812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1172"/>
                </a:solidFill>
                <a:latin typeface="Arial Narrow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3276720"/>
            <a:ext cx="74678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5943600"/>
            <a:ext cx="73915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676520" y="3124080"/>
            <a:ext cx="0" cy="297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71800" y="3124080"/>
            <a:ext cx="0" cy="1524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48520" y="31240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0" y="5410080"/>
            <a:ext cx="5715000" cy="381240"/>
          </a:xfrm>
          <a:prstGeom prst="rect">
            <a:avLst/>
          </a:prstGeom>
          <a:solidFill>
            <a:srgbClr val="3c6f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1172"/>
                </a:solidFill>
                <a:latin typeface="Arial Narrow"/>
              </a:rPr>
              <a:t>mlx4_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086600" y="5029200"/>
            <a:ext cx="914400" cy="380880"/>
          </a:xfrm>
          <a:prstGeom prst="rect">
            <a:avLst/>
          </a:prstGeom>
          <a:solidFill>
            <a:srgbClr val="3c6f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1172"/>
                </a:solidFill>
                <a:latin typeface="Arial Narrow"/>
              </a:rPr>
              <a:t>mlx4_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086600" y="3429000"/>
            <a:ext cx="914400" cy="1600200"/>
          </a:xfrm>
          <a:prstGeom prst="rect">
            <a:avLst/>
          </a:prstGeom>
          <a:solidFill>
            <a:srgbClr val="e553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1172"/>
                </a:solidFill>
                <a:latin typeface="Arial Narrow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51814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543800" y="2390760"/>
            <a:ext cx="0" cy="1038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438280" y="5105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438280" y="47242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419720" y="3962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5181480"/>
            <a:ext cx="1219320" cy="609840"/>
          </a:xfrm>
          <a:prstGeom prst="wedgeRoundRectCallout">
            <a:avLst>
              <a:gd name="adj1" fmla="val 108462"/>
              <a:gd name="adj2" fmla="val -50782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</a:rPr>
              <a:t>Synch state with Eth 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3657600"/>
            <a:ext cx="1524240" cy="457200"/>
          </a:xfrm>
          <a:prstGeom prst="wedgeRoundRectCallout">
            <a:avLst>
              <a:gd name="adj1" fmla="val 75208"/>
              <a:gd name="adj2" fmla="val 203819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</a:rPr>
              <a:t>Additional RoCEE port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133720"/>
            <a:ext cx="1143000" cy="914400"/>
          </a:xfrm>
          <a:prstGeom prst="wedgeRoundRectCallout">
            <a:avLst>
              <a:gd name="adj1" fmla="val -137361"/>
              <a:gd name="adj2" fmla="val 152606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</a:rPr>
              <a:t>RoCEE device binding + address re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181480" y="57913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162920" y="1554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</a:rPr>
              <a:t>TCP/IP st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124080" y="15541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</a:rPr>
              <a:t>OFED st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362320" y="2819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2133720"/>
            <a:ext cx="1523880" cy="457200"/>
          </a:xfrm>
          <a:prstGeom prst="wedgeRoundRectCallout">
            <a:avLst>
              <a:gd name="adj1" fmla="val 85208"/>
              <a:gd name="adj2" fmla="val 120486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</a:rPr>
              <a:t>Address re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38280" y="3124080"/>
            <a:ext cx="0" cy="1524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Development and Availability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762012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 p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0: Initial version, RoCEE flows in SA handled lo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3: Separate RoCEE SA emulation code from 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4: Removed all SA emulation code altogether; CMA enhanced to support RoCEE 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: code simplifications; remove user-space MAD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7: loopback support; introduce ‘link-layer’ port attrib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8: add VLAN support; rebase to 2.6.33-rc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ly in separate bra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w part of OFED-1.5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 qualit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l test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00:09:16Z</dcterms:created>
  <dc:creator>apple admin</dc:creator>
  <dc:description/>
  <dc:language>en-US</dc:language>
  <cp:lastModifiedBy>liranl</cp:lastModifiedBy>
  <dcterms:modified xsi:type="dcterms:W3CDTF">2010-03-17T15:42:44Z</dcterms:modified>
  <cp:revision>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