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BA9-CE0A-421D-9382-5C933458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8E9-DF6F-4BFA-A4D2-0A44FA3A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157-DB6F-4EF5-BF55-D235F31F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203E-941F-4B16-99ED-BF5DF806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FDF8-1931-4251-810D-3D1E8FC6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6430-FDF0-43B4-8BB0-4C507C8A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1B8A-538F-4A0C-B189-5E00690C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9220-54C3-4BDA-BB88-548CB8B9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CACF-47F4-47B8-A0C9-5FC52586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9D16-4264-4BA7-B51C-8B705DD3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2A39-1341-4081-8D06-E4E5F57A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CBEE-A4EE-4D9A-A716-338D5A51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5712-82EF-4E0D-8CBA-ED791E88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9B50-DD49-407D-886A-F7751930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7533-25C8-4D02-A476-592D45F4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1AB6-0262-48CA-9D9C-65A875F7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F437-A416-46A9-86FB-704EDDD0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00D-315E-42F5-A6D1-D36AA60A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8681-936A-4289-A6C4-7A0B7274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A93-BF4B-4A0F-AE08-13F68220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35B7-FCC3-4451-AE33-D347F267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A778-A2AB-44FA-8828-81825458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ECA-CF27-4429-BD7C-3DBFDB75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025D-4873-48D9-9A5C-B1A33F58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273FF-58CF-4634-8034-4F357EADC290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F9FF9-9772-47B6-82E2-DC6C36921FD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FA9AC-86B3-4A2B-94E8-B99ACF6C0EE9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E44854-97F0-402D-B52D-19E4B9FC82F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OFILG Funding Update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Open Fabrics Interoperability Funding Proposal for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3D8696-555C-414D-82BE-A2E484663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Author: 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Rupert 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Date: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3/16/1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5195"/>
                </a:solidFill>
                <a:latin typeface="Arial"/>
              </a:rPr>
              <a:t>OFILG – Phase 1 - 2010</a:t>
            </a:r>
            <a:endParaRPr b="0" lang="en-US" sz="34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Membership renewal for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lsio, Flextronics, Intel, LSI, Mellanox, Obsidian, QLogic and Vol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ILG Membership fun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members at $14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$1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 requested for the OFILG Program in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UNH-IOL request - $16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UNH-IOL proposal - $12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est to the OFA Board of Dir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FA IWG is requesting that the OFA fund the shortfall fo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20K - $112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$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66901-1318-4971-BA11-3E0A34AC3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5195"/>
                </a:solidFill>
                <a:latin typeface="Arial"/>
              </a:rPr>
              <a:t>OFILG – Phase 1 – 2010 - continued</a:t>
            </a:r>
            <a:endParaRPr b="0" lang="en-US" sz="34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to be provided with updated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complete Interop Validation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Interop Debug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GA Logo Validation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 availability 90 days surrounding each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w test development fo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ED for Windows will be reviewed independently with Micro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know this program is very important and will act in such a way the program evolves to reflect thei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A731E-36DD-444F-ADB7-ED879682C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5195"/>
                </a:solidFill>
                <a:latin typeface="Arial"/>
              </a:rPr>
              <a:t>OFILG – Phase 2 - 2011</a:t>
            </a:r>
            <a:endParaRPr b="0" lang="en-US" sz="34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4792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 commits to the importance of the program and finding some sort of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 IWG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n OFILP model that encourages greater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Integ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with vendors to develop a program to test OFED for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 MWG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 the value of the Logo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with OFA IWG to increase membership in OFI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 XWG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membership structure and consider increasing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rage trademarks to increase general f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OFED software produ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C739EE-03E0-484E-AB59-47EE22C5D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Rupert Dance</cp:lastModifiedBy>
  <dcterms:modified xsi:type="dcterms:W3CDTF">2010-03-16T23:58:11Z</dcterms:modified>
  <cp:revision>30</cp:revision>
  <dc:subject/>
  <dc:title>Slide 1</dc:title>
</cp:coreProperties>
</file>