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4134-897A-4088-B71F-BA0346AA720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Open Fabrics </a:t>
            </a:r>
            <a:br>
              <a:rPr sz="3700"/>
            </a:b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Workshop 2010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b Woodru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for Exascale, Scalability, and Resil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79132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scale 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day night…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llion 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00s of Million nodes and MPI r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bits of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s to 1000’s of PFs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do that!!! I can do that !!! I can do tha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1055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ing Further than ever bef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al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ay morning…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ck to Real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320" y="4952880"/>
            <a:ext cx="86104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going to do that?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2489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enhancements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 can do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 node count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LID space in the InfiniBand protoco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the router specification and build full speed router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o back to Ethernet that does not have these limit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connections (RC) do not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footprint too big, SA queries do no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e use a dynamic connection schem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nd tear down connections for each I/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P transitions would have to be really fas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registration needs to be really fas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e use unreliable datagram's instea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S/W retries for lost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data cop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gram's with D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have the connection scaling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mething like tag-matching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linear search when matching tags may be a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nvent something like tag-matching without the scaling limit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haps relax some of the MPI message ordering restrictions ? (for MPI 3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registra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make memory registration a speed path oper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registration costs are too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s big of a problem with disk storage (since seek times are hig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be more of an issue for storage when low latency SSDs hit the mark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l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able to tolerate H/W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and redundancy a must in the fab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able to tolerate nod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detection of hardware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 end data protection and failur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/W handling of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just checkpoint/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Exascale, MTBF is so low that checkpoint/restart in MPI will not be adequ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woody</cp:lastModifiedBy>
  <dcterms:modified xsi:type="dcterms:W3CDTF">2010-03-16T15:22:43Z</dcterms:modified>
  <cp:revision>2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