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wmf" ContentType="image/x-wmf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8DD2-D75C-49E5-81EB-634B19BAD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3119-8B2E-4658-9A25-32411BE2B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A367-288F-4130-ADE9-36766AF2B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DA19-1DD4-4C8A-8BCE-D8357AF28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1BF07-05E1-47BC-81E5-62E072D00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B07AD-9768-4D28-AED0-7F9AEE723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7C26E-79C4-4167-B951-1D6EB51D2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DC373-2E62-4676-8B5D-7AE36BB2E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AF096-725D-4031-83DE-FCBFE237B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8F0C4-1421-4DD0-9B66-C36D1815D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22407-3FB4-45F5-A6B7-7DE084F5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2CF3-A927-4600-979C-D1CB8AC8C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69DCA-958E-43CC-8D79-B31D945A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63476-B3B0-4606-BEB7-0B6B9494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F7560-DCFE-47FB-B248-B2B50255A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2B10C-41AF-4D48-9D17-47AF707B4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383FC-B3CC-4CBF-B7B1-6A03D7CA4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1CF7-8DD3-4C40-BF5A-E359309BA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F44F-8556-462E-9510-1BB6DB6C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E42D-B978-42EE-897A-AF8C9ACDF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00A9-CAF1-4DE3-9A8F-B8083A4EA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82B7-C1CA-484C-951D-1529EB77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1D0D-9EBB-49AC-835B-BE516B37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9C7B-20CA-4991-9B1C-CD06C8C0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ribbon_small_rgb.jpg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1508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1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195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3/15/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4568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5C563-925F-4215-B5D6-B0248AA6EE4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6" descr="OpenFabric_Alliance_Logo_ppt.jpg"/>
          <p:cNvPicPr/>
          <p:nvPr/>
        </p:nvPicPr>
        <p:blipFill>
          <a:blip r:embed="rId3"/>
          <a:stretch/>
        </p:blipFill>
        <p:spPr>
          <a:xfrm>
            <a:off x="8001000" y="228600"/>
            <a:ext cx="1104840" cy="1104840"/>
          </a:xfrm>
          <a:prstGeom prst="rect">
            <a:avLst/>
          </a:prstGeom>
          <a:ln w="0">
            <a:noFill/>
          </a:ln>
        </p:spPr>
      </p:pic>
      <p:sp>
        <p:nvSpPr>
          <p:cNvPr id="8" name="Straight Connector 20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12600">
            <a:solidFill>
              <a:srgbClr val="e553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" descr="ribbon_small_rgb.jpg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1508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OpenFabric_Alliance_Logo_ppt.jpg"/>
          <p:cNvPicPr/>
          <p:nvPr/>
        </p:nvPicPr>
        <p:blipFill>
          <a:blip r:embed="rId3"/>
          <a:stretch/>
        </p:blipFill>
        <p:spPr>
          <a:xfrm>
            <a:off x="8001000" y="228600"/>
            <a:ext cx="1104840" cy="1104840"/>
          </a:xfrm>
          <a:prstGeom prst="rect">
            <a:avLst/>
          </a:prstGeom>
          <a:ln w="0">
            <a:noFill/>
          </a:ln>
        </p:spPr>
      </p:pic>
      <p:sp>
        <p:nvSpPr>
          <p:cNvPr id="48" name="Straight Connector 20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12600">
            <a:solidFill>
              <a:srgbClr val="e553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ribbon_ppt_title.jpg"/>
          <p:cNvPicPr/>
          <p:nvPr/>
        </p:nvPicPr>
        <p:blipFill>
          <a:blip r:embed="rId4"/>
          <a:srcRect l="0" t="5783" r="0" b="0"/>
          <a:stretch/>
        </p:blipFill>
        <p:spPr>
          <a:xfrm>
            <a:off x="0" y="0"/>
            <a:ext cx="9144000" cy="2481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OpenFabric_Alliance_Logo_ppt.jpg"/>
          <p:cNvPicPr/>
          <p:nvPr/>
        </p:nvPicPr>
        <p:blipFill>
          <a:blip r:embed="rId5"/>
          <a:stretch/>
        </p:blipFill>
        <p:spPr>
          <a:xfrm>
            <a:off x="380880" y="232416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195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3/15/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808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85655-268A-4A03-89EF-9D039D3AF43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iol.unh.edu/services/testing/ofa/" TargetMode="External"/><Relationship Id="rId2" Type="http://schemas.openxmlformats.org/officeDocument/2006/relationships/hyperlink" Target="http://www.iol.unh.edu/services/testing/ofa/interoplist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ol.unh.edu/ofilp" TargetMode="External"/><Relationship Id="rId2" Type="http://schemas.openxmlformats.org/officeDocument/2006/relationships/hyperlink" Target="http://iol.unh.edu/ofilglist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7040" y="2666520"/>
            <a:ext cx="6629400" cy="15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195"/>
                </a:solidFill>
                <a:latin typeface="Arial"/>
              </a:rPr>
              <a:t>OFA-IWG - March 2010</a:t>
            </a: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057040" y="4267080"/>
            <a:ext cx="6629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d6e71"/>
                </a:solidFill>
                <a:latin typeface="Arial"/>
              </a:rPr>
              <a:t>OFA Interoperability Working Group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2057400" y="529740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d6e71"/>
                </a:solidFill>
                <a:latin typeface="Calibri"/>
              </a:rPr>
              <a:t>Authors: </a:t>
            </a:r>
            <a:r>
              <a:rPr b="0" lang="en-US" sz="1800" spc="-1" strike="noStrike">
                <a:solidFill>
                  <a:srgbClr val="6d6e71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6d6e71"/>
                </a:solidFill>
                <a:latin typeface="Calibri"/>
              </a:rPr>
              <a:t>Mikkel Hagen, Rupert D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d6e71"/>
                </a:solidFill>
                <a:latin typeface="Calibri"/>
              </a:rPr>
              <a:t>Date: </a:t>
            </a:r>
            <a:r>
              <a:rPr b="0" lang="en-US" sz="1800" spc="-1" strike="noStrike">
                <a:solidFill>
                  <a:srgbClr val="6d6e71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6d6e71"/>
                </a:solidFill>
                <a:latin typeface="Calibri"/>
              </a:rPr>
              <a:t>3/15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195"/>
                </a:solidFill>
                <a:latin typeface="Arial"/>
              </a:rPr>
              <a:t>IB Tests – May 2010</a:t>
            </a: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37" name="Date Placeholder 3"/>
          <p:cNvSpPr/>
          <p:nvPr/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3/15/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6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44485-24BF-47BA-BCC4-E9A66026CA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990720" y="1541520"/>
          <a:ext cx="6403680" cy="4859280"/>
        </p:xfrm>
        <a:graphic>
          <a:graphicData uri="http://schemas.openxmlformats.org/drawingml/2006/table">
            <a:tbl>
              <a:tblPr/>
              <a:tblGrid>
                <a:gridCol w="3682800"/>
                <a:gridCol w="1325520"/>
                <a:gridCol w="1395360"/>
              </a:tblGrid>
              <a:tr h="20304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InfiniBand Transport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Test Status for May 2010 Interop Ev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24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Procedu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u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</a:tr>
              <a:tr h="193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 Link Initializ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anda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anda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 Fabric Initializ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anda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anda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 IPoIB Connected M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anda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Cambria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 IPoIB Datagram M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anda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B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 SM Failover/Handover - OpenS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anda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B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 SM Failover/Handover - Vendor S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 SR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anda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B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 Ethernet Gatew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B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Cambria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 Fibre Channel Gatew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B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Cambria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04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ort Independent T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u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 iS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anda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Cambria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 NFS over RD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B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Cambria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 R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anda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Cambria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 SD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anda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Cambria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 uDAP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anda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B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 RDMA Intero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anda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B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 RDMA Stress T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anda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B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 MPI - H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B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Cambria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 MPI - Int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B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B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 MPI - Open MPI - Homogeno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anda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Cambria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 MPI - Open MPI - Heterogeneo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B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Cambria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 MPI - OSU - MVAPICH 1 &amp; 2 - Homogeneo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anda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Cambria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 MPI - OSU - MVAPICH 1 &amp; 2 - Heterogeneo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B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Cambria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195"/>
                </a:solidFill>
                <a:latin typeface="Arial"/>
              </a:rPr>
              <a:t>iWARP Tests – May 2010</a:t>
            </a: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42" name="Date Placeholder 3"/>
          <p:cNvSpPr/>
          <p:nvPr/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3/15/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6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F9620-17F7-431F-9E60-FF79C31F60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378080" y="1600200"/>
          <a:ext cx="5708520" cy="4610160"/>
        </p:xfrm>
        <a:graphic>
          <a:graphicData uri="http://schemas.openxmlformats.org/drawingml/2006/table">
            <a:tbl>
              <a:tblPr/>
              <a:tblGrid>
                <a:gridCol w="4197240"/>
                <a:gridCol w="1511280"/>
              </a:tblGrid>
              <a:tr h="230040"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thernet Transport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Test Status for May</a:t>
                      </a: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2010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terop Ev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780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Procedu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u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</a:tr>
              <a:tr h="217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ernet Link Initializ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anda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ernet Fabric Initializ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anda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ernet Fabric Failo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B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ernet Fabric Reconverge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B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WARP Connectiv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anda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44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ort Independent T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u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217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 iS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B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 NFS over RD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B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 R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B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 SD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B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 uDAP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anda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 RDMA Intero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B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 RDMA Stress T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B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 MPI - H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B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 MPI - Int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B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 MPI - Open MPI - Homogeno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anda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 MPI - Open MPI - Heterogeneo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B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 MPI - OSU - MVAPICH 1 &amp; 2 - Homogeneo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anda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 MPI - OSU - MVAPICH 1 &amp; 2 - Heterogeneo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Be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195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5195"/>
                </a:solidFill>
                <a:latin typeface="Arial"/>
              </a:rPr>
              <a:t>IB Cluster Topology</a:t>
            </a: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47" name="Date Placeholder 3"/>
          <p:cNvSpPr/>
          <p:nvPr/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3/15/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ooter Placeholder 4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5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71471-1AA7-496C-90AA-709706CB42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Content Placeholder 7" descr="OFA-2009-10-InteropEvent-Diagram-v2-Nick-2009-11-03.jpg"/>
          <p:cNvPicPr/>
          <p:nvPr/>
        </p:nvPicPr>
        <p:blipFill>
          <a:blip r:embed="rId1"/>
          <a:stretch/>
        </p:blipFill>
        <p:spPr>
          <a:xfrm>
            <a:off x="1558800" y="1601640"/>
            <a:ext cx="6026400" cy="464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195"/>
                </a:solidFill>
                <a:latin typeface="Arial"/>
              </a:rPr>
              <a:t>Problems Noted – October 2009</a:t>
            </a: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60020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ink Init Issu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ssues were discovered when doing heterogeneous test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ssues were discovered between legacy DDR devices and new QDR produc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vices not supporting 1X link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terop Tes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est must be limited to 4 outstanding instructions or legacy cards fail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PoI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acket loss when running IPoIB in datagram mod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P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PI fails when running in heterogeneous mod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 of updated and more scalable job launch scheme - 'mpirun_rsh'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FED Utilit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bdiagnet –r segmentation faul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gnal Integrity Issu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k degradation during MPI testing and high traffic cou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Date Placeholder 3"/>
          <p:cNvSpPr/>
          <p:nvPr/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3/15/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oter Placeholder 4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5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8B1AE-55B4-4DB4-A24D-167A99C57F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195"/>
                </a:solidFill>
                <a:latin typeface="Arial"/>
              </a:rPr>
              <a:t>2010 Program Highlights</a:t>
            </a: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ed Test Su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OFILP test scripts can now be run over VP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uster Avai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PN access is granted to all OFILG Memb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ek long testing slots are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heterogeneous cluster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vendors to test against competitors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able MPI ring available for iWARP and 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Date Placeholder 3"/>
          <p:cNvSpPr/>
          <p:nvPr/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3/15/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ooter Placeholder 4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5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8A357-D230-4C69-A7B3-2BC7CBA7C6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195"/>
                </a:solidFill>
                <a:latin typeface="Arial"/>
              </a:rPr>
              <a:t>UNH-IOL OFA – Moving Forward</a:t>
            </a: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o Program needs more marketing &amp; pro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ed Interop Events for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Interop Debug events based on R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Logo Validation events based on 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interest for 2010/201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ED for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C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FS over RD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v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s on vendor de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H-I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ed Sockets Protocol (EXS) contributed to OF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interface to  tests scri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Date Placeholder 3"/>
          <p:cNvSpPr/>
          <p:nvPr/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3/15/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ooter Placeholder 4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5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44F04-7C3F-43A0-8CD2-12CE79B2B2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195"/>
                </a:solidFill>
                <a:latin typeface="Arial"/>
              </a:rPr>
              <a:t>Invitation to join OFILG</a:t>
            </a: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vell and Red H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hernet Switch Vend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ista Networks, Cisco, Force 10, Fujitsu, Fulcrum, H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 Vend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num, HP,  IBM, SGI, Oracle and Xsig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WARP Vend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BM, Neterion, ServerEngi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Vend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ro, Dell, HP, Sun/Oracle, SuperMicro, Verar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Date Placeholder 3"/>
          <p:cNvSpPr/>
          <p:nvPr/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3/15/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ooter Placeholder 4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5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D935D-46C6-4DE0-A495-7026C69871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5195"/>
                </a:solidFill>
                <a:latin typeface="Arial"/>
              </a:rPr>
              <a:t>Open Fabrics Interoperability Logo Group</a:t>
            </a:r>
            <a:endParaRPr b="0" lang="en-US" sz="3200" spc="-1" strike="noStrike">
              <a:solidFill>
                <a:srgbClr val="005195"/>
              </a:solidFill>
              <a:latin typeface="Arial"/>
            </a:endParaRPr>
          </a:p>
        </p:txBody>
      </p:sp>
      <p:pic>
        <p:nvPicPr>
          <p:cNvPr id="172" name="Content Placeholder 6" descr="OSI logo small.jpg"/>
          <p:cNvPicPr/>
          <p:nvPr/>
        </p:nvPicPr>
        <p:blipFill>
          <a:blip r:embed="rId1"/>
          <a:stretch/>
        </p:blipFill>
        <p:spPr>
          <a:xfrm>
            <a:off x="6553080" y="3187800"/>
            <a:ext cx="1600200" cy="1003320"/>
          </a:xfrm>
          <a:prstGeom prst="rect">
            <a:avLst/>
          </a:prstGeom>
          <a:ln w="0">
            <a:noFill/>
          </a:ln>
        </p:spPr>
      </p:pic>
      <p:sp>
        <p:nvSpPr>
          <p:cNvPr id="173" name="Date Placeholder 3"/>
          <p:cNvSpPr/>
          <p:nvPr/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3/15/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ooter Placeholder 4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5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B96A3-0412-4F05-96C7-2361DF09E8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7" descr="Mellanox_logoCMYK_hor copy.eps"/>
          <p:cNvPicPr/>
          <p:nvPr/>
        </p:nvPicPr>
        <p:blipFill>
          <a:blip r:embed="rId2"/>
          <a:stretch/>
        </p:blipFill>
        <p:spPr>
          <a:xfrm>
            <a:off x="304920" y="5257800"/>
            <a:ext cx="2671560" cy="5508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chelsio-logo.eps"/>
          <p:cNvPicPr/>
          <p:nvPr/>
        </p:nvPicPr>
        <p:blipFill>
          <a:blip r:embed="rId3"/>
          <a:stretch/>
        </p:blipFill>
        <p:spPr>
          <a:xfrm>
            <a:off x="380880" y="1676520"/>
            <a:ext cx="2286000" cy="12380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a0951402_logo.jpg"/>
          <p:cNvPicPr/>
          <p:nvPr/>
        </p:nvPicPr>
        <p:blipFill>
          <a:blip r:embed="rId4"/>
          <a:stretch/>
        </p:blipFill>
        <p:spPr>
          <a:xfrm>
            <a:off x="3886200" y="4800600"/>
            <a:ext cx="1467000" cy="1467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1" descr="logo_ddn.gif"/>
          <p:cNvPicPr/>
          <p:nvPr/>
        </p:nvPicPr>
        <p:blipFill>
          <a:blip r:embed="rId5"/>
          <a:stretch/>
        </p:blipFill>
        <p:spPr>
          <a:xfrm>
            <a:off x="3600360" y="1828800"/>
            <a:ext cx="1657440" cy="7905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3" descr="intel-logo-blue.jpg"/>
          <p:cNvPicPr/>
          <p:nvPr/>
        </p:nvPicPr>
        <p:blipFill>
          <a:blip r:embed="rId6"/>
          <a:stretch/>
        </p:blipFill>
        <p:spPr>
          <a:xfrm>
            <a:off x="533520" y="2971800"/>
            <a:ext cx="1676160" cy="1557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4" descr="PR08Voltaire-Logo.jpg"/>
          <p:cNvPicPr/>
          <p:nvPr/>
        </p:nvPicPr>
        <p:blipFill>
          <a:blip r:embed="rId7"/>
          <a:stretch/>
        </p:blipFill>
        <p:spPr>
          <a:xfrm>
            <a:off x="6934320" y="4800600"/>
            <a:ext cx="965160" cy="1241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5" descr="flextronics-RSD.jpg"/>
          <p:cNvPicPr/>
          <p:nvPr/>
        </p:nvPicPr>
        <p:blipFill>
          <a:blip r:embed="rId8"/>
          <a:stretch/>
        </p:blipFill>
        <p:spPr>
          <a:xfrm>
            <a:off x="6181560" y="2052720"/>
            <a:ext cx="2581560" cy="3855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6" descr="iol.jpg"/>
          <p:cNvPicPr/>
          <p:nvPr/>
        </p:nvPicPr>
        <p:blipFill>
          <a:blip r:embed="rId9"/>
          <a:stretch/>
        </p:blipFill>
        <p:spPr>
          <a:xfrm>
            <a:off x="3505320" y="3048120"/>
            <a:ext cx="1942920" cy="12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195"/>
                </a:solidFill>
                <a:latin typeface="Arial"/>
              </a:rPr>
              <a:t>OFA-IWG Charter and Mission</a:t>
            </a: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Fabrics Alliance Interoperability Working Group (OFA-IW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ible for defining and maintaining the OFA Logo Progra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and develop a comprehensive suite of tests for evaluating product interoperability within the OpenFabrics environ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new tests when features are added to OF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idate OFED Release Candidates before the GA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st interoperability events in conjunction with the University of New Hampshire Interoperability Lab (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UNH-IO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e the interoperability of products using the OpenFabrics software sta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OFA Interoperability Log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granted to those products which pass all of the mandatory te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Date Placeholder 3"/>
          <p:cNvSpPr/>
          <p:nvPr/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3/15/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ooter Placeholder 4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A7F26-A913-425D-9A27-89C0AD86E9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195"/>
                </a:solidFill>
                <a:latin typeface="Arial"/>
              </a:rPr>
              <a:t>Event Overview</a:t>
            </a: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FA IWG Interop Events - </a:t>
            </a:r>
            <a:r>
              <a:rPr b="0" lang="en-US" sz="2300" spc="-1" strike="noStrike">
                <a:solidFill>
                  <a:srgbClr val="0000ff"/>
                </a:solidFill>
                <a:latin typeface="Arial"/>
              </a:rPr>
              <a:t>upcom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ay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May 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2010 – Interop Debug Event - OFED 1.5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June 2010 –Validation Event - OFED 1.5.2 G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s will be the 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OFA-IWG Interop ev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Anticipated particip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endors and 32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mpliance Test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ril 2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3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010 – IBTA Plugf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osted by University of NH Interoperability Lab (UNH-IOL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Date Placeholder 3"/>
          <p:cNvSpPr/>
          <p:nvPr/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3/15/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ooter Placeholder 4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A355B-4971-41AC-8A29-1DBE04557A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195"/>
                </a:solidFill>
                <a:latin typeface="Arial"/>
              </a:rPr>
              <a:t>Hosted by UNH-IOL</a:t>
            </a: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pic>
        <p:nvPicPr>
          <p:cNvPr id="107" name="Content Placeholder 6" descr="IMG_0730.JPG"/>
          <p:cNvPicPr/>
          <p:nvPr/>
        </p:nvPicPr>
        <p:blipFill>
          <a:blip r:embed="rId1"/>
          <a:stretch/>
        </p:blipFill>
        <p:spPr>
          <a:xfrm>
            <a:off x="1143000" y="1581120"/>
            <a:ext cx="6324480" cy="4743360"/>
          </a:xfrm>
          <a:prstGeom prst="rect">
            <a:avLst/>
          </a:prstGeom>
          <a:ln w="0">
            <a:noFill/>
          </a:ln>
        </p:spPr>
      </p:pic>
      <p:sp>
        <p:nvSpPr>
          <p:cNvPr id="108" name="Date Placeholder 3"/>
          <p:cNvSpPr/>
          <p:nvPr/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3/15/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ooter Placeholder 4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12C52-F651-4F91-B8B0-BF75D5A8C1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195"/>
                </a:solidFill>
                <a:latin typeface="Arial"/>
              </a:rPr>
              <a:t>OFA Interoperability Logo Program</a:t>
            </a: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601640"/>
            <a:ext cx="853416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e customers and users to choose products and versions that are interoper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e vendors to demonstrate interoperability by using the Logo on their products and marke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ails available 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iol.unh.edu/ofil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List of Logo Gr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iol.unh.edu/ofilg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ate Placeholder 3"/>
          <p:cNvSpPr/>
          <p:nvPr/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3/15/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4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30608-69E2-4715-8A92-CC6AE54F6A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195"/>
                </a:solidFill>
                <a:latin typeface="Arial"/>
              </a:rPr>
              <a:t>Vendor Participation - IB</a:t>
            </a: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iniBand Ven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Direct Networks, Flextronics, LSI Logic, Mellanox, Obsidian Research, QLogic, Volt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iniBand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 H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InfiniBand Range Exten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SRP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FC/Ethernet Gate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ED Open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llanox Switch Based 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Logic Switch Based 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ire Switch Based 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Date Placeholder 3"/>
          <p:cNvSpPr/>
          <p:nvPr/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3/15/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ooter Placeholder 4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5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3F4D7-C96E-4EE1-B258-776D16DA30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195"/>
                </a:solidFill>
                <a:latin typeface="Arial"/>
              </a:rPr>
              <a:t>Vendor Participation - iWARP</a:t>
            </a: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WARP Vend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lsio and In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WARP Devices - using OFED 1.5 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ls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RNICs used for MPI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RNICs used for MPI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jit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GbE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Date Placeholder 3"/>
          <p:cNvSpPr/>
          <p:nvPr/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3/15/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ooter Placeholder 4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5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8AFFD-CDE6-4C87-BA2B-94AC74ED4C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195"/>
                </a:solidFill>
                <a:latin typeface="Arial"/>
              </a:rPr>
              <a:t>Test Setup &amp; Environment</a:t>
            </a: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 servers donated by In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servers donated by H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servers donated by A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bles Donated to OFA Clu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phenol, C&amp;M, Cinch, FCI, Intel, Mellanox, Meritec, Molex, Panduit, Tyco, Volex, W.L. Gore and Zar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HEL 5.4 (CentOS 5.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4 bit x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ED 1.5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Date Placeholder 3"/>
          <p:cNvSpPr/>
          <p:nvPr/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3/15/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ooter Placeholder 4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FFA67-14B0-4136-B264-241D951166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195"/>
                </a:solidFill>
                <a:latin typeface="Arial"/>
              </a:rPr>
              <a:t>Test Coverage</a:t>
            </a: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iniB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Init &amp; Fabric I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oIB CM and U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ER &amp; SR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MPI &amp; MVAPICH 1 &amp;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S &amp; NFS/RD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MA Inte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A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WA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Init &amp; Fabric I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WARP Conne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MPI &amp; MVAPICH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MA Inte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S &amp; NFS/RD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A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Date Placeholder 3"/>
          <p:cNvSpPr/>
          <p:nvPr/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3/15/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5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14ABB-429A-4244-A621-857B20A7D0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16:40:46Z</dcterms:created>
  <dc:creator>Rupert Dance</dc:creator>
  <dc:description/>
  <dc:language>en-US</dc:language>
  <cp:lastModifiedBy>Rupert Dance</cp:lastModifiedBy>
  <dcterms:modified xsi:type="dcterms:W3CDTF">2010-03-16T21:38:37Z</dcterms:modified>
  <cp:revision>137</cp:revision>
  <dc:subject/>
  <dc:title>OFA-IWG Interop Event</dc:title>
</cp:coreProperties>
</file>