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A818BD-5A80-4126-9976-80B05E36AF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02CE5-3328-41FB-B7AB-EBF5C92F4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b makes software wonks joke: “speak for yoursel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8CCF6-772B-4EBA-B051-D4F774039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AB9F2-0293-4236-921B-C240C7735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71F-8949-4468-8E76-1FF81E7C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1F7-EFF8-4A05-BDE3-142B4D67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FFE-4FD6-4E86-8BB7-56261377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5E1-C339-4369-8EB4-739CF647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518C-9B53-4019-8FC6-F481E497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3032-6468-4C08-8E2F-B02BFCF9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C877-FAEA-4B77-BC7C-47547591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CEA1-22CB-4468-B7AE-BF212C42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E0E5-93E1-42D9-B5BF-DE896433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92B8-2D04-4CC3-9CFC-D744F80F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D03D-05C3-4593-B125-8DEF0656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432-7130-4F68-91EC-8CCF26A2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46D9-7458-4A71-813B-ECAD469E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CA18-A367-41BB-AC7C-3C220851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5000-D92F-4194-B691-8BA56CDE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277F-45FD-4108-AEFE-5D0E961E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BB17-C16F-44E9-9230-678DF0ED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412-2DE3-4D8E-84C6-6344E11B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9B7-9045-4377-8B8A-595D1692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D26-29BE-43FB-9EB3-1E4ACE93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1AE-5746-4FFA-B9F2-AD3662D1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5512-8ACA-4266-9D0F-1C39FA14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2B7-7E89-4DBB-AF78-51B195E5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4C4-6FD4-4B55-8BB5-26415E81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BDE43-8501-4333-8390-A5D84C3FB2E3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3E6F5-96AB-45FF-9432-47204D3C5FB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ribbon_ppt_title.jpg"/>
          <p:cNvPicPr/>
          <p:nvPr/>
        </p:nvPicPr>
        <p:blipFill>
          <a:blip r:embed="rId4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penFabric_Alliance_Logo_ppt.jpg"/>
          <p:cNvPicPr/>
          <p:nvPr/>
        </p:nvPicPr>
        <p:blipFill>
          <a:blip r:embed="rId5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9823B-0F0E-4A31-89A6-3F46DE5B277A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5F1EA-67B0-4A23-B6AD-FA90AAEC229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MPI and the Exascal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Jeffrey M. Squyres, Cisco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Fabian Tillier, 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44281-5E6A-4DFE-AD4F-3797FB906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057400" y="52974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16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Our scope: MPI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1640"/>
            <a:ext cx="86868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hardware, power, runtime systems, filesystems, etc. to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re MPI + software wo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we know little about what a lottaflops system will look like (y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let’s make further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’re looking at these slides in 5 years, please try not to laugh if we ended up being dreadfully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EA9AC-76B4-42CF-9278-5BB8759E9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ssump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1640"/>
            <a:ext cx="86868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MPI will be used in som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this panel would be meaningl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ly in applications a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lying transport for something else (PGA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has spent 15+ years optimizing parallel communications; it would be silly to throw it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system will be a hierarchy of some k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, processors,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will need to understand the topology – particularly for collective operations (broadcast, reduction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BC075-49CE-4700-B727-88BABC416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ssump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1640"/>
            <a:ext cx="86868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limited resources for each MPI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, network buffe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store O(N)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may therefore need to be “smart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: there will be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needs to get at least as reliable as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: MPI implementation has to survive network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3 standard effort is examining such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clude what this means to MPI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56EFF-E04A-498A-9A8E-C3C4EC229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Thin” MPI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1640"/>
            <a:ext cx="86868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must be reliable and connectio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 should not handle tracking and retrans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time system must support M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ly tell MPI location/topology, peer, and network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stdin/out/err, stage fil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better systems today behave lik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dedicated to MPI collectiv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: network hardware, cores, memory,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progress seems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just multicast: think about MPI_Allto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ED2A5-795F-4FDF-B2EF-E18C6175F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Will it run OFED (verbs)?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1640"/>
            <a:ext cx="86868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n’t know what the network hardware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 runs verbs, there is much work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t reliable connectionless will b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: connection setup complexity dis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registration must dis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et much better (no software reg cache, no dereg interce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orm of MPI collective assist must b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from Intel, Cray, Quadrics, Voltaire, Mellanox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network / processor / memory / etc. topology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ology-aware algorithms will be cri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header and data on comple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header matching different than data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0F7E8-280A-4A86-9B23-52120F880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33DB4-FF6B-42F3-9429-9CE138F0C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cisco-logo.png"/>
          <p:cNvPicPr/>
          <p:nvPr/>
        </p:nvPicPr>
        <p:blipFill>
          <a:blip r:embed="rId1"/>
          <a:stretch/>
        </p:blipFill>
        <p:spPr>
          <a:xfrm>
            <a:off x="2751120" y="1981080"/>
            <a:ext cx="3641760" cy="192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mslogo-1.tiff"/>
          <p:cNvPicPr/>
          <p:nvPr/>
        </p:nvPicPr>
        <p:blipFill>
          <a:blip r:embed="rId2"/>
          <a:stretch/>
        </p:blipFill>
        <p:spPr>
          <a:xfrm>
            <a:off x="1433520" y="4695840"/>
            <a:ext cx="62834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5:15:59Z</dcterms:created>
  <dc:creator>apple admin</dc:creator>
  <dc:description/>
  <dc:language>en-US</dc:language>
  <cp:lastModifiedBy>Jeff Squyres</cp:lastModifiedBy>
  <dcterms:modified xsi:type="dcterms:W3CDTF">2010-03-16T20:40:37Z</dcterms:modified>
  <cp:revision>41</cp:revision>
  <dc:subject/>
  <dc:title>Slide 1</dc:title>
</cp:coreProperties>
</file>