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8DD12-AE05-4E30-BE56-C9139109EE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9595D-8666-437C-A4AF-58EB66FC6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BFA2-79B1-4ECB-BADC-207D51BC7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947-8CF8-427F-B988-B7E8A4F9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A94-2B6B-4E25-9529-26B6E150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501-2412-4C8C-9462-C26F07A1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2D6-3B57-4688-9CE6-7DD36C92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23FB-6F84-4B75-ADEF-E60734CE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993B-A083-4B2F-A722-2F28F130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9A32-798A-44D4-AAFB-13CA388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E7F8-29C9-4DC3-8F1A-198A8D76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B353-CAD6-415B-B760-51DA2C75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2F9B-3A28-463D-AE92-AB02705B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A5D7-5E6D-4FEA-ADAF-CCB1A13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ACE-EF44-4F70-8E81-F3BBEB84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559A-5B78-4379-9162-454A70B8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BCA1-64EB-4EC4-A414-B90D603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E730-185C-46C1-9BE4-99B4FED9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A77E-CB4E-47D1-89D2-88AA8197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8D4B-636B-490E-8A6D-ABEA162A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9B2-6B42-4CF8-8D21-CA17EEEC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C70-600F-4044-A420-BDAC54E7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A8F-4464-467B-89BE-90C55E5D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FED-4F33-42FA-942D-8C451A14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3CD-38F4-40F2-BB4E-0A3ECD2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D38-CD0A-42F6-9DD1-A5D2B9F2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F73-0158-43EB-BAA4-47E77B3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4D8CAA-FCB8-48D4-B25E-03D0C55349AA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A6682-2AAF-4553-AF35-446AE7B0B53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D5683-2B67-4E7E-A645-0ABBA1204FE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A0765-C212-442C-B1D1-879D4DAC8C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caling to next level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DFB0E-5A0D-4C05-A110-B329124FC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iftah Shahar, Vol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7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FCA address the collective problems 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525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d in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con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matically reduced by lowering the number of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ontrol on message flow – single message per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ffective multicast for collective operation resul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applicatio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ed by isolating collective traffic on a private virtual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Block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loaded in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85C18-4873-49DB-9E82-D6902DA5E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65FB6-E0F7-48B0-BF04-F76C8D8DE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4760" y="5689440"/>
            <a:ext cx="8383320" cy="635040"/>
          </a:xfrm>
          <a:prstGeom prst="roundRect">
            <a:avLst>
              <a:gd name="adj" fmla="val 16667"/>
            </a:avLst>
          </a:prstGeom>
          <a:solidFill>
            <a:srgbClr val="226e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7X Faster on a Small Cluster; More than 10X Expected on Large Cl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360" y="122400"/>
            <a:ext cx="762336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5195"/>
                </a:solidFill>
                <a:latin typeface="Arial"/>
              </a:rPr>
              <a:t>FCA - Collective performanc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1956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Computation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number of cores pe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ors &amp; PGGP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popular as PCI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the motherboard/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8CB88-E75F-4D10-98EC-A60F973A4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Networking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/ Net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“NIC” in a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ive bandwidth &amp;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us, Mash 2/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C7F54-4A32-4B72-B4FD-BC206567F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Trends: Communication interface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AS (Partitioned Global Address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F89FC-19EA-409F-8997-5FAC75772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5195"/>
                </a:solidFill>
                <a:latin typeface="Arial"/>
              </a:rPr>
              <a:t>MPI can we “afford” to replace it ? </a:t>
            </a:r>
            <a:endParaRPr b="0" lang="en-US" sz="36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AS communication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local and remote “shm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ded put/get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&amp; non Blocking col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&amp; Atomic operations (F&amp;A,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n we run it over “Thin MPI” ?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9C2A0A-D8C7-4D12-B31F-EFA1B6ACD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5195"/>
                </a:solidFill>
                <a:latin typeface="Arial"/>
              </a:rPr>
              <a:t>Collective - Scalable collective needs </a:t>
            </a:r>
            <a:endParaRPr b="0" lang="en-US" sz="32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7616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odule &amp; Collectiv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load from the node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blocking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network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network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ing network top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D-Torus &amp; M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AF847-849B-41B8-964B-A48687D30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olutions… 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progress will be done by Evolution (linear/parallel) only some by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” are important but problems need to be address in a “system”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ut of the box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A08BC3-94B0-472E-999C-E6A31B241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5195"/>
                </a:solidFill>
                <a:latin typeface="Arial"/>
              </a:rPr>
              <a:t>QDR Architecture</a:t>
            </a:r>
            <a:endParaRPr b="0" lang="en-US" sz="37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hat is FCA 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074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ully integrated solution to offload col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76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es intelligence on server, switches, and 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67080" y="2598840"/>
            <a:ext cx="4648320" cy="3492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320" y="2362320"/>
            <a:ext cx="396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M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utomates fabric collective offload/monitoring and integrates with schedu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ire “smart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CPUs perform reduction and messaging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pen MPI plug-in) - Addresses hos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0:09:16Z</dcterms:created>
  <dc:creator>apple admin</dc:creator>
  <dc:description/>
  <dc:language>en-US</dc:language>
  <cp:lastModifiedBy>yiftahs</cp:lastModifiedBy>
  <dcterms:modified xsi:type="dcterms:W3CDTF">2010-03-16T16:27:46Z</dcterms:modified>
  <cp:revision>62</cp:revision>
  <dc:subject/>
  <dc:title>Slide 1</dc:title>
</cp:coreProperties>
</file>