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9.png" ContentType="image/png"/>
  <Override PartName="/ppt/media/image17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C7FD8-843A-48F2-AAEF-9DB14F573C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41A3D-98C6-4015-B2CF-A95B6D0F5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order of trends in over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 demand for exa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BE1FB-1B7F-4E3C-8FF6-966F8924A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6C31C-CA00-438A-AA2E-21B57E4C2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D31-91AA-46EC-8882-B8F66549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F06F-1985-427D-80A1-FE557A7E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7E6-F791-4226-BC2D-B1378BB1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0ED9-CE9A-40E6-A220-97CAF276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74FC-E060-4BA0-BAB9-F739196B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FE3C-20E1-4092-8313-826DEFDB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44AE-B9D4-414B-AE16-2F3F97B4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2D46-5EC8-4F25-A877-E6ABA3DE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A9A6-88C9-429A-B09A-D257BCDB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74F8-3FE5-42D5-AF63-B4B28A41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5FCA-D8A0-4D4B-A1F3-C6AA4FF2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5E7-C325-4870-A1BF-5CB517BE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9304-7C64-4F98-902B-FFBCF3F9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1A6E-FA6C-480E-A867-23C61EBF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51B3-AC2E-48DF-B195-C9CD6B4B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0C26-0568-4512-B3B1-1159EA0A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F9EC-2E80-4F5F-8696-C16E7B18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D989-E129-42A8-82CC-FAF07992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BEE-1A9C-4481-87E1-9C37F9AF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BF9F-664B-4FE2-A5E8-4E5E6C89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4BD-D8DF-4240-AA47-FDBFD8DE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6D6-6E55-483F-B576-AF4F7245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48D-3D2C-4CE5-A858-0B7E3FBA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C10-0157-4B8E-9084-04036A6E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A4C85F-7FB6-4A54-8EC5-17AEA8F33C99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F5C78-1AB3-4561-90F2-3BEB1A7B0B7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ECF26-11AE-459B-BAD2-964C3DB12DB3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05C4B-06FA-4D21-8021-F9142B71D72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2209680"/>
            <a:ext cx="6629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Hybrid and Manycore Architectur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57040" y="41144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d6e71"/>
                </a:solidFill>
                <a:latin typeface="Arial"/>
              </a:rPr>
              <a:t>Jeff Brough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d6e71"/>
                </a:solidFill>
                <a:latin typeface="Arial"/>
              </a:rPr>
              <a:t>Systems Department Head, NER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d6e71"/>
                </a:solidFill>
                <a:latin typeface="Arial"/>
              </a:rPr>
              <a:t>Lawrence Berkeley National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d6e71"/>
                </a:solidFill>
                <a:latin typeface="Arial"/>
              </a:rPr>
              <a:t>jbroughton@lbl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d6e71"/>
                </a:solidFill>
                <a:latin typeface="Arial"/>
              </a:rPr>
              <a:t>March 16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E1DF3-41F8-40B6-8BCA-DD36A8A9D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6" descr=""/>
          <p:cNvPicPr/>
          <p:nvPr/>
        </p:nvPicPr>
        <p:blipFill>
          <a:blip r:embed="rId1"/>
          <a:srcRect l="8056" t="0" r="0" b="0"/>
          <a:stretch/>
        </p:blipFill>
        <p:spPr>
          <a:xfrm>
            <a:off x="6966000" y="3759120"/>
            <a:ext cx="1720800" cy="965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8" descr=""/>
          <p:cNvPicPr/>
          <p:nvPr/>
        </p:nvPicPr>
        <p:blipFill>
          <a:blip r:embed="rId2"/>
          <a:stretch/>
        </p:blipFill>
        <p:spPr>
          <a:xfrm>
            <a:off x="7278840" y="4648320"/>
            <a:ext cx="1103040" cy="668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OE-LogoWide.jpg"/>
          <p:cNvPicPr/>
          <p:nvPr/>
        </p:nvPicPr>
        <p:blipFill>
          <a:blip r:embed="rId3"/>
          <a:srcRect l="0" t="0" r="32727" b="0"/>
          <a:stretch/>
        </p:blipFill>
        <p:spPr>
          <a:xfrm>
            <a:off x="6934320" y="5530680"/>
            <a:ext cx="1708200" cy="7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Why Multicore/Manycore? 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1523880"/>
            <a:ext cx="45496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clock speeds have hit a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years of exponential improvement has e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s per chip growing per Moore’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ing every 18 m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, power is the new limiting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B41FB-B3F7-4C64-BEEB-6037066D2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Chart 5" descr=""/>
          <p:cNvPicPr/>
          <p:nvPr/>
        </p:nvPicPr>
        <p:blipFill>
          <a:blip r:embed="rId1"/>
          <a:stretch/>
        </p:blipFill>
        <p:spPr>
          <a:xfrm>
            <a:off x="4767120" y="1365120"/>
            <a:ext cx="438336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nergy Cost Challenge for Computing Faciliti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grpSp>
        <p:nvGrpSpPr>
          <p:cNvPr id="182" name="Group 12"/>
          <p:cNvGrpSpPr/>
          <p:nvPr/>
        </p:nvGrpSpPr>
        <p:grpSpPr>
          <a:xfrm>
            <a:off x="1206360" y="1509840"/>
            <a:ext cx="7472520" cy="3900240"/>
            <a:chOff x="1206360" y="1509840"/>
            <a:chExt cx="7472520" cy="3900240"/>
          </a:xfrm>
        </p:grpSpPr>
        <p:grpSp>
          <p:nvGrpSpPr>
            <p:cNvPr id="183" name="Group 8"/>
            <p:cNvGrpSpPr/>
            <p:nvPr/>
          </p:nvGrpSpPr>
          <p:grpSpPr>
            <a:xfrm>
              <a:off x="1206360" y="1509840"/>
              <a:ext cx="6615360" cy="3900240"/>
              <a:chOff x="1206360" y="1509840"/>
              <a:chExt cx="6615360" cy="3900240"/>
            </a:xfrm>
          </p:grpSpPr>
          <p:pic>
            <p:nvPicPr>
              <p:cNvPr id="18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6360" y="1509840"/>
                <a:ext cx="6615360" cy="39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Straight Connector 7"/>
              <p:cNvSpPr/>
              <p:nvPr/>
            </p:nvSpPr>
            <p:spPr>
              <a:xfrm flipV="1">
                <a:off x="3038400" y="3479400"/>
                <a:ext cx="4611960" cy="68724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Box 9"/>
            <p:cNvSpPr/>
            <p:nvPr/>
          </p:nvSpPr>
          <p:spPr>
            <a:xfrm>
              <a:off x="7697880" y="3254040"/>
              <a:ext cx="61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>
              <a:off x="7724160" y="2347920"/>
              <a:ext cx="95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sca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1"/>
            <p:cNvSpPr/>
            <p:nvPr/>
          </p:nvSpPr>
          <p:spPr>
            <a:xfrm>
              <a:off x="1617840" y="4797360"/>
              <a:ext cx="63655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5                                      2010                                     2015                                      20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Slide Number Placeholder 3"/>
          <p:cNvSpPr/>
          <p:nvPr/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1CBA5-8243-4B3B-A535-55756C02AD8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5105520"/>
            <a:ext cx="8912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etaflop in 2010 will use 3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aflop in 2018 possible with 200 MW with “usual”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aflop in 2018 at 20 MW is DOE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Memory Technology –</a:t>
            </a:r>
            <a:br>
              <a:rPr sz="4000"/>
            </a:b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    Bandwidth costs power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192" name="Content Placeholder 4" descr=""/>
          <p:cNvPicPr/>
          <p:nvPr/>
        </p:nvPicPr>
        <p:blipFill>
          <a:blip r:embed="rId1"/>
          <a:stretch/>
        </p:blipFill>
        <p:spPr>
          <a:xfrm>
            <a:off x="0" y="0"/>
            <a:ext cx="8693280" cy="65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Off-chip Data Movement</a:t>
            </a:r>
            <a:br>
              <a:rPr sz="4000"/>
            </a:b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   Costs More than FLOP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4" name="Footer Placeholder 2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E73FE-2929-4B1A-BA75-DA22AB0C6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Content Placeholder 3" descr=""/>
          <p:cNvPicPr/>
          <p:nvPr/>
        </p:nvPicPr>
        <p:blipFill>
          <a:blip r:embed="rId1"/>
          <a:stretch/>
        </p:blipFill>
        <p:spPr>
          <a:xfrm>
            <a:off x="450720" y="1944720"/>
            <a:ext cx="8242560" cy="4535280"/>
          </a:xfrm>
          <a:prstGeom prst="rect">
            <a:avLst/>
          </a:prstGeom>
          <a:ln w="0">
            <a:noFill/>
          </a:ln>
        </p:spPr>
      </p:pic>
      <p:sp>
        <p:nvSpPr>
          <p:cNvPr id="197" name="Oval 8"/>
          <p:cNvSpPr/>
          <p:nvPr/>
        </p:nvSpPr>
        <p:spPr>
          <a:xfrm>
            <a:off x="6019920" y="2332080"/>
            <a:ext cx="380880" cy="762120"/>
          </a:xfrm>
          <a:prstGeom prst="ellipse">
            <a:avLst/>
          </a:prstGeom>
          <a:noFill/>
          <a:ln w="63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5029200" y="2408400"/>
            <a:ext cx="380880" cy="838080"/>
          </a:xfrm>
          <a:prstGeom prst="ellipse">
            <a:avLst/>
          </a:prstGeom>
          <a:noFill/>
          <a:ln w="63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4191120" y="3755880"/>
            <a:ext cx="380880" cy="457200"/>
          </a:xfrm>
          <a:prstGeom prst="ellipse">
            <a:avLst/>
          </a:prstGeom>
          <a:noFill/>
          <a:ln w="63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15"/>
          <p:cNvSpPr/>
          <p:nvPr/>
        </p:nvSpPr>
        <p:spPr>
          <a:xfrm>
            <a:off x="1676520" y="3581280"/>
            <a:ext cx="601956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5943600" y="1773360"/>
            <a:ext cx="123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a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3352680" y="3267000"/>
            <a:ext cx="105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4246920" y="177336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a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6320" y="320508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Implica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601640"/>
            <a:ext cx="84582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lock increas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undreds of simple “cores” per c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memory and bandwidt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es are not MPI 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multicore systems too energy intensiv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re technology diversity (GPUs, SoC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 controlled memory hierarchie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C2884-91CF-4159-B68D-4DB98258C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-66600" y="5334120"/>
            <a:ext cx="93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Arial"/>
                <a:ea typeface="ＭＳ Ｐゴシック"/>
              </a:rPr>
              <a:t>Applications, Algorithms, System Software will all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“Swim Lanes”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15960" y="4876920"/>
            <a:ext cx="679320" cy="1218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 rot="20910000">
            <a:off x="-161640" y="3271680"/>
            <a:ext cx="1631880" cy="14684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-291960" y="3173400"/>
            <a:ext cx="812520" cy="17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115920" y="1828800"/>
            <a:ext cx="1712880" cy="133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1828800" y="1744560"/>
          <a:ext cx="7010280" cy="4427640"/>
        </p:xfrm>
        <a:graphic>
          <a:graphicData uri="http://schemas.openxmlformats.org/drawingml/2006/table">
            <a:tbl>
              <a:tblPr/>
              <a:tblGrid>
                <a:gridCol w="2438280"/>
                <a:gridCol w="2459160"/>
                <a:gridCol w="2112840"/>
              </a:tblGrid>
              <a:tr h="14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x Multi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ain complex cores, and replic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PU / Accelera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highly specialized processors adapted from gam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vidia Fer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  /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bed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 many simpler, lower power cores from embedded 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eG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nFla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ollision or Convergence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1235160" y="2087640"/>
            <a:ext cx="5397480" cy="0"/>
          </a:xfrm>
          <a:prstGeom prst="line">
            <a:avLst/>
          </a:prstGeom>
          <a:ln w="76320">
            <a:solidFill>
              <a:srgbClr val="29cc2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7480" y="1838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9cc22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 flipH="1" flipV="1">
            <a:off x="1235160" y="1447560"/>
            <a:ext cx="22320" cy="4492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7166880" y="61228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851cc"/>
                </a:solidFill>
                <a:latin typeface="Arial"/>
              </a:rPr>
              <a:t>G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6802560" y="1469880"/>
            <a:ext cx="1363680" cy="1282680"/>
          </a:xfrm>
          <a:prstGeom prst="ellipse">
            <a:avLst/>
          </a:prstGeom>
          <a:gradFill rotWithShape="0">
            <a:gsLst>
              <a:gs pos="0">
                <a:srgbClr val="29cc22"/>
              </a:gs>
              <a:gs pos="50000">
                <a:srgbClr val="1851cc"/>
              </a:gs>
              <a:gs pos="100000">
                <a:srgbClr val="29cc22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308240" y="233208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9cc22"/>
                </a:solidFill>
                <a:latin typeface="Arial"/>
              </a:rPr>
              <a:t>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3206160" y="233676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9cc22"/>
                </a:solidFill>
                <a:latin typeface="Arial"/>
              </a:rPr>
              <a:t>multi-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825440" y="23414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29cc22"/>
                </a:solidFill>
                <a:latin typeface="Arial"/>
              </a:rPr>
              <a:t>many-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5853600" y="541656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1851cc"/>
                </a:solidFill>
                <a:latin typeface="Arial"/>
              </a:rPr>
              <a:t>fixed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5103360" y="4473720"/>
            <a:ext cx="224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1851cc"/>
                </a:solidFill>
                <a:latin typeface="Arial"/>
              </a:rPr>
              <a:t>partially programm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5420160" y="349560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1851cc"/>
                </a:solidFill>
                <a:latin typeface="Arial"/>
              </a:rPr>
              <a:t>fully programm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5"/>
          <p:cNvSpPr/>
          <p:nvPr/>
        </p:nvSpPr>
        <p:spPr>
          <a:xfrm flipH="1" flipV="1">
            <a:off x="7481520" y="2820960"/>
            <a:ext cx="12600" cy="3068640"/>
          </a:xfrm>
          <a:prstGeom prst="line">
            <a:avLst/>
          </a:prstGeom>
          <a:ln w="76320">
            <a:solidFill>
              <a:srgbClr val="1851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6"/>
          <p:cNvSpPr/>
          <p:nvPr/>
        </p:nvSpPr>
        <p:spPr>
          <a:xfrm flipV="1">
            <a:off x="1290600" y="5889240"/>
            <a:ext cx="6799320" cy="11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7237080" y="17208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1350000" y="3706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3405600" y="54514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298440" y="6095880"/>
            <a:ext cx="36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Justin Rattner, Intel, ISC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SoC/Embedded Swim Lan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1BC41-E75A-41F3-9174-B3C560AEC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014720" y="1676160"/>
            <a:ext cx="512928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bic power improvement with lower clock rate due to 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ower clock rates enable use of simpler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r cores use less area (lower leakage) and reduc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ilor design to application to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EDUCE WA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28" descr=""/>
          <p:cNvPicPr/>
          <p:nvPr/>
        </p:nvPicPr>
        <p:blipFill>
          <a:blip r:embed="rId1"/>
          <a:srcRect l="0" t="0" r="0" b="27551"/>
          <a:stretch/>
        </p:blipFill>
        <p:spPr>
          <a:xfrm>
            <a:off x="404640" y="1925640"/>
            <a:ext cx="3532320" cy="36576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029"/>
          <p:cNvSpPr/>
          <p:nvPr/>
        </p:nvSpPr>
        <p:spPr>
          <a:xfrm>
            <a:off x="407880" y="1919160"/>
            <a:ext cx="1660680" cy="158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 Cor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30"/>
          <p:cNvSpPr/>
          <p:nvPr/>
        </p:nvSpPr>
        <p:spPr>
          <a:xfrm>
            <a:off x="417600" y="1919160"/>
            <a:ext cx="342720" cy="35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31"/>
          <p:cNvSpPr/>
          <p:nvPr/>
        </p:nvSpPr>
        <p:spPr>
          <a:xfrm>
            <a:off x="407880" y="1919160"/>
            <a:ext cx="114480" cy="12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032"/>
          <p:cNvSpPr/>
          <p:nvPr/>
        </p:nvSpPr>
        <p:spPr>
          <a:xfrm>
            <a:off x="1905120" y="2100240"/>
            <a:ext cx="1257120" cy="337320"/>
          </a:xfrm>
          <a:prstGeom prst="borderCallout1">
            <a:avLst>
              <a:gd name="adj1" fmla="val 18750"/>
              <a:gd name="adj2" fmla="val -8333"/>
              <a:gd name="adj3" fmla="val -3087"/>
              <a:gd name="adj4" fmla="val -101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 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033"/>
          <p:cNvSpPr/>
          <p:nvPr/>
        </p:nvSpPr>
        <p:spPr>
          <a:xfrm>
            <a:off x="25560" y="2930400"/>
            <a:ext cx="1636560" cy="337320"/>
          </a:xfrm>
          <a:prstGeom prst="borderCallout1">
            <a:avLst>
              <a:gd name="adj1" fmla="val 18750"/>
              <a:gd name="adj2" fmla="val -8333"/>
              <a:gd name="adj3" fmla="val -276754"/>
              <a:gd name="adj4" fmla="val 2713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nsilica XTen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34"/>
          <p:cNvSpPr/>
          <p:nvPr/>
        </p:nvSpPr>
        <p:spPr>
          <a:xfrm>
            <a:off x="1789920" y="4033800"/>
            <a:ext cx="93672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35"/>
          <p:cNvSpPr/>
          <p:nvPr/>
        </p:nvSpPr>
        <p:spPr>
          <a:xfrm>
            <a:off x="5981760" y="2262240"/>
            <a:ext cx="681120" cy="438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36"/>
          <p:cNvSpPr/>
          <p:nvPr/>
        </p:nvSpPr>
        <p:spPr>
          <a:xfrm>
            <a:off x="5981760" y="3276720"/>
            <a:ext cx="681120" cy="444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37"/>
          <p:cNvSpPr/>
          <p:nvPr/>
        </p:nvSpPr>
        <p:spPr>
          <a:xfrm>
            <a:off x="5981760" y="4572000"/>
            <a:ext cx="681120" cy="368280"/>
          </a:xfrm>
          <a:prstGeom prst="downArrow">
            <a:avLst>
              <a:gd name="adj1" fmla="val 50000"/>
              <a:gd name="adj2" fmla="val 265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38"/>
          <p:cNvSpPr/>
          <p:nvPr/>
        </p:nvSpPr>
        <p:spPr>
          <a:xfrm>
            <a:off x="673200" y="5802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90"/>
                </a:solidFill>
                <a:latin typeface="Arial"/>
              </a:rPr>
              <a:t>This is how iPhones and MP3 players are designed to maximize battery life and minimiz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SoC/Embedded Swim Lan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768A6-5EA9-4401-9C15-92519D30D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028" descr=""/>
          <p:cNvPicPr/>
          <p:nvPr/>
        </p:nvPicPr>
        <p:blipFill>
          <a:blip r:embed="rId1"/>
          <a:srcRect l="0" t="0" r="0" b="27551"/>
          <a:stretch/>
        </p:blipFill>
        <p:spPr>
          <a:xfrm>
            <a:off x="404640" y="1925640"/>
            <a:ext cx="3532320" cy="36576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029"/>
          <p:cNvSpPr/>
          <p:nvPr/>
        </p:nvSpPr>
        <p:spPr>
          <a:xfrm>
            <a:off x="407880" y="1919160"/>
            <a:ext cx="1660680" cy="158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 Cor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30"/>
          <p:cNvSpPr/>
          <p:nvPr/>
        </p:nvSpPr>
        <p:spPr>
          <a:xfrm>
            <a:off x="417600" y="1919160"/>
            <a:ext cx="342720" cy="35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31"/>
          <p:cNvSpPr/>
          <p:nvPr/>
        </p:nvSpPr>
        <p:spPr>
          <a:xfrm>
            <a:off x="407880" y="1919160"/>
            <a:ext cx="114480" cy="12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032"/>
          <p:cNvSpPr/>
          <p:nvPr/>
        </p:nvSpPr>
        <p:spPr>
          <a:xfrm>
            <a:off x="1905120" y="2100240"/>
            <a:ext cx="1257120" cy="337320"/>
          </a:xfrm>
          <a:prstGeom prst="borderCallout1">
            <a:avLst>
              <a:gd name="adj1" fmla="val 18750"/>
              <a:gd name="adj2" fmla="val -8333"/>
              <a:gd name="adj3" fmla="val -3087"/>
              <a:gd name="adj4" fmla="val -101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 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33"/>
          <p:cNvSpPr/>
          <p:nvPr/>
        </p:nvSpPr>
        <p:spPr>
          <a:xfrm>
            <a:off x="25560" y="2930400"/>
            <a:ext cx="1636560" cy="337320"/>
          </a:xfrm>
          <a:prstGeom prst="borderCallout1">
            <a:avLst>
              <a:gd name="adj1" fmla="val 18750"/>
              <a:gd name="adj2" fmla="val -8333"/>
              <a:gd name="adj3" fmla="val -276754"/>
              <a:gd name="adj4" fmla="val 2713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nsilica XTen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34"/>
          <p:cNvSpPr/>
          <p:nvPr/>
        </p:nvSpPr>
        <p:spPr>
          <a:xfrm>
            <a:off x="1789920" y="4033800"/>
            <a:ext cx="93672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014720" y="1714680"/>
            <a:ext cx="500688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Power5 (serv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0W@1900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Intel Core2 sc (laptop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W@1000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4x more FLOPs/watt than 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Intel Atom (handh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.625W@800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80x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Tensilica XTensa DP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(Moto Razor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0.09W@600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400x more </a:t>
            </a:r>
            <a:r>
              <a:rPr b="1" lang="en-US" sz="2000" spc="-1" strike="noStrike">
                <a:solidFill>
                  <a:srgbClr val="008000"/>
                </a:solidFill>
                <a:latin typeface="Calibri"/>
                <a:ea typeface="ＭＳ Ｐゴシック"/>
              </a:rPr>
              <a:t>(80x-100x susta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Hybrid Cluster Architecture</a:t>
            </a:r>
            <a:br>
              <a:rPr sz="4000"/>
            </a:b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ith GPU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6A4DB-89B5-4477-AAEC-64ADC23FB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Rectangle 6"/>
          <p:cNvGrpSpPr/>
          <p:nvPr/>
        </p:nvGrpSpPr>
        <p:grpSpPr>
          <a:xfrm>
            <a:off x="1920960" y="2633760"/>
            <a:ext cx="1944720" cy="1023840"/>
            <a:chOff x="1920960" y="2633760"/>
            <a:chExt cx="1944720" cy="1023840"/>
          </a:xfrm>
        </p:grpSpPr>
        <p:pic>
          <p:nvPicPr>
            <p:cNvPr id="262" name="Rectangle 6" descr=""/>
            <p:cNvPicPr/>
            <p:nvPr/>
          </p:nvPicPr>
          <p:blipFill>
            <a:blip r:embed="rId1"/>
            <a:stretch/>
          </p:blipFill>
          <p:spPr>
            <a:xfrm>
              <a:off x="1920960" y="2633760"/>
              <a:ext cx="19447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981080" y="2666880"/>
              <a:ext cx="18288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Rectangle 7"/>
          <p:cNvGrpSpPr/>
          <p:nvPr/>
        </p:nvGrpSpPr>
        <p:grpSpPr>
          <a:xfrm>
            <a:off x="1920960" y="1719360"/>
            <a:ext cx="1944720" cy="718920"/>
            <a:chOff x="1920960" y="1719360"/>
            <a:chExt cx="1944720" cy="718920"/>
          </a:xfrm>
        </p:grpSpPr>
        <p:pic>
          <p:nvPicPr>
            <p:cNvPr id="265" name="Rectangle 7" descr=""/>
            <p:cNvPicPr/>
            <p:nvPr/>
          </p:nvPicPr>
          <p:blipFill>
            <a:blip r:embed="rId2"/>
            <a:stretch/>
          </p:blipFill>
          <p:spPr>
            <a:xfrm>
              <a:off x="1920960" y="1719360"/>
              <a:ext cx="1944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981080" y="1752480"/>
              <a:ext cx="1828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Rectangle 8"/>
          <p:cNvGrpSpPr/>
          <p:nvPr/>
        </p:nvGrpSpPr>
        <p:grpSpPr>
          <a:xfrm>
            <a:off x="3067200" y="5224320"/>
            <a:ext cx="1938240" cy="792360"/>
            <a:chOff x="3067200" y="5224320"/>
            <a:chExt cx="1938240" cy="792360"/>
          </a:xfrm>
        </p:grpSpPr>
        <p:pic>
          <p:nvPicPr>
            <p:cNvPr id="268" name="Rectangle 8" descr=""/>
            <p:cNvPicPr/>
            <p:nvPr/>
          </p:nvPicPr>
          <p:blipFill>
            <a:blip r:embed="rId3"/>
            <a:stretch/>
          </p:blipFill>
          <p:spPr>
            <a:xfrm>
              <a:off x="3067200" y="5224320"/>
              <a:ext cx="193824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124080" y="5257800"/>
              <a:ext cx="1828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Rectangle 9"/>
          <p:cNvGrpSpPr/>
          <p:nvPr/>
        </p:nvGrpSpPr>
        <p:grpSpPr>
          <a:xfrm>
            <a:off x="701640" y="5224320"/>
            <a:ext cx="1944720" cy="792360"/>
            <a:chOff x="701640" y="5224320"/>
            <a:chExt cx="1944720" cy="792360"/>
          </a:xfrm>
        </p:grpSpPr>
        <p:pic>
          <p:nvPicPr>
            <p:cNvPr id="271" name="Rectangle 9" descr=""/>
            <p:cNvPicPr/>
            <p:nvPr/>
          </p:nvPicPr>
          <p:blipFill>
            <a:blip r:embed="rId4"/>
            <a:stretch/>
          </p:blipFill>
          <p:spPr>
            <a:xfrm>
              <a:off x="701640" y="5224320"/>
              <a:ext cx="19447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62120" y="5257800"/>
              <a:ext cx="1828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nfiniBand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Straight Connector 11"/>
          <p:cNvSpPr/>
          <p:nvPr/>
        </p:nvSpPr>
        <p:spPr>
          <a:xfrm flipH="1">
            <a:off x="2893680" y="2363760"/>
            <a:ext cx="3240" cy="304920"/>
          </a:xfrm>
          <a:prstGeom prst="line">
            <a:avLst/>
          </a:prstGeom>
          <a:ln w="25560">
            <a:solidFill>
              <a:srgbClr val="3c6fb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2"/>
          <p:cNvSpPr/>
          <p:nvPr/>
        </p:nvSpPr>
        <p:spPr>
          <a:xfrm>
            <a:off x="2217240" y="48117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Arial"/>
              </a:rPr>
              <a:t>PCI B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45" descr=""/>
          <p:cNvPicPr/>
          <p:nvPr/>
        </p:nvPicPr>
        <p:blipFill>
          <a:blip r:embed="rId5"/>
          <a:stretch/>
        </p:blipFill>
        <p:spPr>
          <a:xfrm>
            <a:off x="5310360" y="2070000"/>
            <a:ext cx="3833640" cy="34164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1"/>
          <p:cNvSpPr/>
          <p:nvPr/>
        </p:nvSpPr>
        <p:spPr>
          <a:xfrm>
            <a:off x="1979640" y="3962520"/>
            <a:ext cx="1828800" cy="609480"/>
          </a:xfrm>
          <a:prstGeom prst="rect">
            <a:avLst/>
          </a:prstGeom>
          <a:gradFill rotWithShape="0">
            <a:gsLst>
              <a:gs pos="0">
                <a:srgbClr val="95eeff"/>
              </a:gs>
              <a:gs pos="100000">
                <a:srgbClr val="39b7d8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rth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Straight Arrow Connector 33"/>
          <p:cNvCxnSpPr>
            <a:endCxn id="276" idx="0"/>
          </p:cNvCxnSpPr>
          <p:nvPr/>
        </p:nvCxnSpPr>
        <p:spPr>
          <a:xfrm flipH="1">
            <a:off x="2893680" y="3580920"/>
            <a:ext cx="2160" cy="381960"/>
          </a:xfrm>
          <a:prstGeom prst="straightConnector1">
            <a:avLst/>
          </a:prstGeom>
          <a:ln w="25560">
            <a:solidFill>
              <a:srgbClr val="3c6f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8" name="Elbow Connector 35"/>
          <p:cNvCxnSpPr/>
          <p:nvPr/>
        </p:nvCxnSpPr>
        <p:spPr>
          <a:xfrm flipH="1" flipV="1" rot="5400000">
            <a:off x="1599120" y="4647600"/>
            <a:ext cx="686520" cy="533880"/>
          </a:xfrm>
          <a:prstGeom prst="bentConnector3">
            <a:avLst>
              <a:gd name="adj1" fmla="val 50000"/>
            </a:avLst>
          </a:prstGeom>
          <a:ln w="25560">
            <a:solidFill>
              <a:srgbClr val="3c6f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9" name="Elbow Connector 37"/>
          <p:cNvCxnSpPr/>
          <p:nvPr/>
        </p:nvCxnSpPr>
        <p:spPr>
          <a:xfrm flipV="1" rot="16200000">
            <a:off x="3417840" y="4637160"/>
            <a:ext cx="686520" cy="554760"/>
          </a:xfrm>
          <a:prstGeom prst="bentConnector3">
            <a:avLst>
              <a:gd name="adj1" fmla="val 50000"/>
            </a:avLst>
          </a:prstGeom>
          <a:ln w="25560">
            <a:solidFill>
              <a:srgbClr val="3c6fb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in Perspectiv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66840" y="178272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,000,000,000,000,0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6525000" y="17827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ps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1505880" y="304812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1000 × U.S. national debt in pen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1297800" y="3727440"/>
            <a:ext cx="63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100 × number of atoms in a human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1495080" y="4408560"/>
            <a:ext cx="59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1 × number of insects living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ome alternative solutions providing unified memory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50E87-6D27-4F2E-A9BF-445C24A45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Rectangle 7"/>
          <p:cNvGrpSpPr/>
          <p:nvPr/>
        </p:nvGrpSpPr>
        <p:grpSpPr>
          <a:xfrm>
            <a:off x="5535720" y="1719360"/>
            <a:ext cx="1938240" cy="718920"/>
            <a:chOff x="5535720" y="1719360"/>
            <a:chExt cx="1938240" cy="718920"/>
          </a:xfrm>
        </p:grpSpPr>
        <p:pic>
          <p:nvPicPr>
            <p:cNvPr id="284" name="Rectangle 7" descr=""/>
            <p:cNvPicPr/>
            <p:nvPr/>
          </p:nvPicPr>
          <p:blipFill>
            <a:blip r:embed="rId1"/>
            <a:stretch/>
          </p:blipFill>
          <p:spPr>
            <a:xfrm>
              <a:off x="5535720" y="1719360"/>
              <a:ext cx="19382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5594400" y="1752480"/>
              <a:ext cx="1828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ectangle 9"/>
          <p:cNvGrpSpPr/>
          <p:nvPr/>
        </p:nvGrpSpPr>
        <p:grpSpPr>
          <a:xfrm>
            <a:off x="5535720" y="4992840"/>
            <a:ext cx="1938240" cy="798480"/>
            <a:chOff x="5535720" y="4992840"/>
            <a:chExt cx="1938240" cy="798480"/>
          </a:xfrm>
        </p:grpSpPr>
        <p:pic>
          <p:nvPicPr>
            <p:cNvPr id="287" name="Rectangle 9" descr=""/>
            <p:cNvPicPr/>
            <p:nvPr/>
          </p:nvPicPr>
          <p:blipFill>
            <a:blip r:embed="rId2"/>
            <a:stretch/>
          </p:blipFill>
          <p:spPr>
            <a:xfrm>
              <a:off x="5535720" y="4992840"/>
              <a:ext cx="19382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594400" y="5029200"/>
              <a:ext cx="1828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nfiniBand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ectangle 18"/>
          <p:cNvGrpSpPr/>
          <p:nvPr/>
        </p:nvGrpSpPr>
        <p:grpSpPr>
          <a:xfrm>
            <a:off x="1768320" y="2633760"/>
            <a:ext cx="1944720" cy="2090520"/>
            <a:chOff x="1768320" y="2633760"/>
            <a:chExt cx="1944720" cy="2090520"/>
          </a:xfrm>
        </p:grpSpPr>
        <p:pic>
          <p:nvPicPr>
            <p:cNvPr id="290" name="Rectangle 18" descr=""/>
            <p:cNvPicPr/>
            <p:nvPr/>
          </p:nvPicPr>
          <p:blipFill>
            <a:blip r:embed="rId3"/>
            <a:stretch/>
          </p:blipFill>
          <p:spPr>
            <a:xfrm>
              <a:off x="1768320" y="2633760"/>
              <a:ext cx="194472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828800" y="2668680"/>
              <a:ext cx="1828800" cy="19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ectangle 19"/>
          <p:cNvGrpSpPr/>
          <p:nvPr/>
        </p:nvGrpSpPr>
        <p:grpSpPr>
          <a:xfrm>
            <a:off x="1768320" y="1719360"/>
            <a:ext cx="1944720" cy="718920"/>
            <a:chOff x="1768320" y="1719360"/>
            <a:chExt cx="1944720" cy="718920"/>
          </a:xfrm>
        </p:grpSpPr>
        <p:pic>
          <p:nvPicPr>
            <p:cNvPr id="293" name="Rectangle 19" descr=""/>
            <p:cNvPicPr/>
            <p:nvPr/>
          </p:nvPicPr>
          <p:blipFill>
            <a:blip r:embed="rId4"/>
            <a:stretch/>
          </p:blipFill>
          <p:spPr>
            <a:xfrm>
              <a:off x="1768320" y="1719360"/>
              <a:ext cx="1944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828800" y="1754280"/>
              <a:ext cx="1828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ectangle 20"/>
          <p:cNvGrpSpPr/>
          <p:nvPr/>
        </p:nvGrpSpPr>
        <p:grpSpPr>
          <a:xfrm>
            <a:off x="1920960" y="3468600"/>
            <a:ext cx="1633320" cy="1024200"/>
            <a:chOff x="1920960" y="3468600"/>
            <a:chExt cx="1633320" cy="1024200"/>
          </a:xfrm>
        </p:grpSpPr>
        <p:pic>
          <p:nvPicPr>
            <p:cNvPr id="296" name="Rectangle 20" descr=""/>
            <p:cNvPicPr/>
            <p:nvPr/>
          </p:nvPicPr>
          <p:blipFill>
            <a:blip r:embed="rId5"/>
            <a:stretch/>
          </p:blipFill>
          <p:spPr>
            <a:xfrm>
              <a:off x="1920960" y="3468600"/>
              <a:ext cx="16333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1981080" y="3505320"/>
              <a:ext cx="15224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GP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Rectangle 21"/>
          <p:cNvGrpSpPr/>
          <p:nvPr/>
        </p:nvGrpSpPr>
        <p:grpSpPr>
          <a:xfrm>
            <a:off x="1768320" y="4992840"/>
            <a:ext cx="1938600" cy="798480"/>
            <a:chOff x="1768320" y="4992840"/>
            <a:chExt cx="1938600" cy="798480"/>
          </a:xfrm>
        </p:grpSpPr>
        <p:pic>
          <p:nvPicPr>
            <p:cNvPr id="299" name="Rectangle 21" descr=""/>
            <p:cNvPicPr/>
            <p:nvPr/>
          </p:nvPicPr>
          <p:blipFill>
            <a:blip r:embed="rId6"/>
            <a:stretch/>
          </p:blipFill>
          <p:spPr>
            <a:xfrm>
              <a:off x="1768320" y="4992840"/>
              <a:ext cx="19386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827360" y="5030640"/>
              <a:ext cx="1828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nfiniBand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Straight Connector 24"/>
          <p:cNvSpPr/>
          <p:nvPr/>
        </p:nvSpPr>
        <p:spPr>
          <a:xfrm flipH="1">
            <a:off x="2741760" y="2363760"/>
            <a:ext cx="2880" cy="304920"/>
          </a:xfrm>
          <a:prstGeom prst="line">
            <a:avLst/>
          </a:prstGeom>
          <a:ln w="25560">
            <a:solidFill>
              <a:srgbClr val="3c6fb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36"/>
          <p:cNvCxnSpPr/>
          <p:nvPr/>
        </p:nvCxnSpPr>
        <p:spPr>
          <a:xfrm flipH="1">
            <a:off x="2741400" y="4648320"/>
            <a:ext cx="3600" cy="383040"/>
          </a:xfrm>
          <a:prstGeom prst="straightConnector1">
            <a:avLst/>
          </a:prstGeom>
          <a:ln w="25560">
            <a:solidFill>
              <a:srgbClr val="3c6fbd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303" name="Group 38"/>
          <p:cNvGrpSpPr/>
          <p:nvPr/>
        </p:nvGrpSpPr>
        <p:grpSpPr>
          <a:xfrm>
            <a:off x="4724280" y="2971800"/>
            <a:ext cx="3567240" cy="1447920"/>
            <a:chOff x="4724280" y="2971800"/>
            <a:chExt cx="3567240" cy="1447920"/>
          </a:xfrm>
        </p:grpSpPr>
        <p:grpSp>
          <p:nvGrpSpPr>
            <p:cNvPr id="304" name="Rectangle 6"/>
            <p:cNvGrpSpPr/>
            <p:nvPr/>
          </p:nvGrpSpPr>
          <p:grpSpPr>
            <a:xfrm>
              <a:off x="4852080" y="3163680"/>
              <a:ext cx="1585080" cy="1024200"/>
              <a:chOff x="4852080" y="3163680"/>
              <a:chExt cx="1585080" cy="1024200"/>
            </a:xfrm>
          </p:grpSpPr>
          <p:pic>
            <p:nvPicPr>
              <p:cNvPr id="305" name="Rectangle 6" descr=""/>
              <p:cNvPicPr/>
              <p:nvPr/>
            </p:nvPicPr>
            <p:blipFill>
              <a:blip r:embed="rId7"/>
              <a:stretch/>
            </p:blipFill>
            <p:spPr>
              <a:xfrm>
                <a:off x="4852080" y="3163680"/>
                <a:ext cx="1585080" cy="102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4908240" y="3200040"/>
                <a:ext cx="1476360" cy="91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GP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Rectangle 8"/>
            <p:cNvGrpSpPr/>
            <p:nvPr/>
          </p:nvGrpSpPr>
          <p:grpSpPr>
            <a:xfrm>
              <a:off x="6644520" y="3163680"/>
              <a:ext cx="1517760" cy="1024200"/>
              <a:chOff x="6644520" y="3163680"/>
              <a:chExt cx="1517760" cy="1024200"/>
            </a:xfrm>
          </p:grpSpPr>
          <p:pic>
            <p:nvPicPr>
              <p:cNvPr id="308" name="Rectangle 8" descr=""/>
              <p:cNvPicPr/>
              <p:nvPr/>
            </p:nvPicPr>
            <p:blipFill>
              <a:blip r:embed="rId8"/>
              <a:stretch/>
            </p:blipFill>
            <p:spPr>
              <a:xfrm>
                <a:off x="6644520" y="3163680"/>
                <a:ext cx="1517760" cy="102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6705000" y="3201840"/>
                <a:ext cx="140256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P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Rounded Rectangle 25"/>
            <p:cNvSpPr/>
            <p:nvPr/>
          </p:nvSpPr>
          <p:spPr>
            <a:xfrm>
              <a:off x="4724280" y="2971800"/>
              <a:ext cx="3567240" cy="14479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Straight Arrow Connector 26"/>
            <p:cNvCxnSpPr/>
            <p:nvPr/>
          </p:nvCxnSpPr>
          <p:spPr>
            <a:xfrm>
              <a:off x="6384960" y="3659400"/>
              <a:ext cx="321120" cy="2160"/>
            </a:xfrm>
            <a:prstGeom prst="straightConnector1">
              <a:avLst/>
            </a:prstGeom>
            <a:ln w="25560">
              <a:solidFill>
                <a:srgbClr val="3c6fbd"/>
              </a:solidFill>
              <a:miter/>
              <a:headEnd len="med" type="arrow" w="med"/>
              <a:tailEnd len="med" type="arrow" w="med"/>
            </a:ln>
          </p:spPr>
        </p:cxnSp>
      </p:grpSp>
      <p:sp>
        <p:nvSpPr>
          <p:cNvPr id="312" name="TextBox 27"/>
          <p:cNvSpPr/>
          <p:nvPr/>
        </p:nvSpPr>
        <p:spPr>
          <a:xfrm>
            <a:off x="4952880" y="2602080"/>
            <a:ext cx="14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QPI/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Straight Arrow Connector 44"/>
          <p:cNvCxnSpPr/>
          <p:nvPr/>
        </p:nvCxnSpPr>
        <p:spPr>
          <a:xfrm flipH="1">
            <a:off x="6508080" y="2363400"/>
            <a:ext cx="1080" cy="608760"/>
          </a:xfrm>
          <a:prstGeom prst="straightConnector1">
            <a:avLst/>
          </a:prstGeom>
          <a:ln w="25560">
            <a:solidFill>
              <a:srgbClr val="3c6f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14" name="Straight Arrow Connector 52"/>
          <p:cNvCxnSpPr/>
          <p:nvPr/>
        </p:nvCxnSpPr>
        <p:spPr>
          <a:xfrm flipH="1">
            <a:off x="6508080" y="4419360"/>
            <a:ext cx="1080" cy="610200"/>
          </a:xfrm>
          <a:prstGeom prst="straightConnector1">
            <a:avLst/>
          </a:prstGeom>
          <a:ln w="25560">
            <a:solidFill>
              <a:srgbClr val="3c6fbd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ere does OpenFabrics/RDMA fit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Core-to-Core?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chine is not fl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’t pretend every core is a pe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scaling on chip; weak scaling between chi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weight messaging requi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smaller mess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sided ops / Global addr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ionles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der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 and complexity of an HCA is &gt;&gt; a single c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20-40X die a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30-50X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4F0CD-5AA0-4274-BB70-0CAACA922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ere does OpenFabrics/RDMA fit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601640"/>
            <a:ext cx="853452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ode-to-Node?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Us: MPI likely present at this level between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: Extending core-to-core network may mak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: I/O must be suppo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BW: 200-400GB/s per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ata rate will we have in 2018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Photon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 design argues for NIC on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icate many simple cores to processing packe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hare the TLB -&gt; smaller foot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94655-86B5-4348-AB86-903193217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Exascale will transform computing at every scal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61760" y="43430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advantages even at smaller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fford Exascale to be a n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technology &amp; software continuity across scales to get sufficient market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0" descr="VivekContinuity.pdf"/>
          <p:cNvPicPr/>
          <p:nvPr/>
        </p:nvPicPr>
        <p:blipFill>
          <a:blip r:embed="rId1"/>
          <a:stretch/>
        </p:blipFill>
        <p:spPr>
          <a:xfrm>
            <a:off x="177840" y="1523880"/>
            <a:ext cx="9144000" cy="28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Looking into the Futur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777AC-C0D1-4C45-90B0-8BE2D64AA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" descr=""/>
          <p:cNvPicPr/>
          <p:nvPr/>
        </p:nvPicPr>
        <p:blipFill>
          <a:blip r:embed="rId1"/>
          <a:srcRect l="0" t="0" r="0" b="14508"/>
          <a:stretch/>
        </p:blipFill>
        <p:spPr>
          <a:xfrm>
            <a:off x="2743200" y="1676520"/>
            <a:ext cx="3962520" cy="46242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7"/>
          <p:cNvSpPr/>
          <p:nvPr/>
        </p:nvSpPr>
        <p:spPr>
          <a:xfrm>
            <a:off x="3565440" y="3124080"/>
            <a:ext cx="22258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5195"/>
                </a:solidFill>
                <a:latin typeface="Arial"/>
                <a:ea typeface="Arial"/>
              </a:rPr>
              <a:t>1 Zettafl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5195"/>
                </a:solidFill>
                <a:latin typeface="Arial"/>
                <a:ea typeface="Arial"/>
              </a:rPr>
              <a:t>in 20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057040" y="251424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d6e71"/>
              </a:solidFill>
              <a:latin typeface="Arial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42F93-1B87-4562-8AFE-F708131D3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in Perspectiv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366840" y="178272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6510600" y="178272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p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eft Arrow 6"/>
          <p:cNvSpPr/>
          <p:nvPr/>
        </p:nvSpPr>
        <p:spPr>
          <a:xfrm>
            <a:off x="6424560" y="2514600"/>
            <a:ext cx="2185920" cy="83808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3c6f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63244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38 – Zeus Z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in Perspectiv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366840" y="178272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6525000" y="17827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ps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eft Arrow 6"/>
          <p:cNvSpPr/>
          <p:nvPr/>
        </p:nvSpPr>
        <p:spPr>
          <a:xfrm>
            <a:off x="5486400" y="2514600"/>
            <a:ext cx="3124080" cy="83808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3c6f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63244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38 – Zeus Z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486400" y="3733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6 – EN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in Perspectiv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366840" y="178272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,0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6525000" y="17827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ps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eft Arrow 6"/>
          <p:cNvSpPr/>
          <p:nvPr/>
        </p:nvSpPr>
        <p:spPr>
          <a:xfrm>
            <a:off x="4572000" y="2514600"/>
            <a:ext cx="4038480" cy="83808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3c6f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3244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38 – Zeus Z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5486400" y="3733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6 – EN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4572000" y="4114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61 – IBM 7030 “Stret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in Perspectiv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366840" y="178272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,000,0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525000" y="17827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ps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eft Arrow 6"/>
          <p:cNvSpPr/>
          <p:nvPr/>
        </p:nvSpPr>
        <p:spPr>
          <a:xfrm>
            <a:off x="3733920" y="2514600"/>
            <a:ext cx="4876560" cy="83808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3c6f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63244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38 – Zeus Z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5486400" y="3733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6 – EN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4572000" y="4114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61 – IBM 7030 “Stret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3733920" y="4495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3 – Cray X-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 rot="2764200">
            <a:off x="3551040" y="38998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in Perspectiv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366840" y="178272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,000,000,0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525000" y="17827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ps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Arrow 6"/>
          <p:cNvSpPr/>
          <p:nvPr/>
        </p:nvSpPr>
        <p:spPr>
          <a:xfrm>
            <a:off x="2895480" y="2514600"/>
            <a:ext cx="5715000" cy="83808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3c6f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63244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38 – Zeus Z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"/>
          <p:cNvSpPr/>
          <p:nvPr/>
        </p:nvSpPr>
        <p:spPr>
          <a:xfrm>
            <a:off x="5486400" y="3733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6 – EN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4572000" y="4114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61 – IBM 7030 “Stret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3733920" y="4495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3 – Cray X-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2895480" y="4876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– ASCI 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 rot="2764200">
            <a:off x="2022840" y="394884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Cluster/M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 rot="2764200">
            <a:off x="3551040" y="38998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in Perspectiv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366840" y="178272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,000,000,000,0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525000" y="17827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ps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eft Arrow 6"/>
          <p:cNvSpPr/>
          <p:nvPr/>
        </p:nvSpPr>
        <p:spPr>
          <a:xfrm>
            <a:off x="1971720" y="2514600"/>
            <a:ext cx="6638760" cy="838080"/>
          </a:xfrm>
          <a:prstGeom prst="leftArrow">
            <a:avLst>
              <a:gd name="adj1" fmla="val 50000"/>
              <a:gd name="adj2" fmla="val 50022"/>
            </a:avLst>
          </a:prstGeom>
          <a:solidFill>
            <a:srgbClr val="3c6f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63244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38 – Zeus Z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5486400" y="3733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6 – EN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4572000" y="4114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61 – IBM 7030 “Stret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3733920" y="4495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3 – Cray X-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895480" y="4876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– ASCI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2057400" y="5257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8 – Roadru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 rot="2764200">
            <a:off x="2022840" y="394884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Cluster/M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5"/>
          <p:cNvSpPr/>
          <p:nvPr/>
        </p:nvSpPr>
        <p:spPr>
          <a:xfrm rot="2764200">
            <a:off x="3551040" y="38998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ＭＳ Ｐゴシック"/>
              </a:rPr>
              <a:t>Exascale in Perspectiv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366840" y="1782720"/>
            <a:ext cx="61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,000,000,000,000,0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6525000" y="17827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ps/s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6"/>
          <p:cNvSpPr/>
          <p:nvPr/>
        </p:nvSpPr>
        <p:spPr>
          <a:xfrm>
            <a:off x="1143000" y="2514600"/>
            <a:ext cx="7467480" cy="83808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3c6f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63244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38 – Zeus Z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5486400" y="3733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46 – ENI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4572000" y="4114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61 – IBM 7030 “Stretc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3733920" y="4495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3 – Cray X-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2895480" y="4876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– ASCI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2057400" y="5257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8 – Roadru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1219320" y="564984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18? – Exasc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4"/>
          <p:cNvSpPr/>
          <p:nvPr/>
        </p:nvSpPr>
        <p:spPr>
          <a:xfrm rot="2764200">
            <a:off x="308880" y="4728600"/>
            <a:ext cx="182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Arial"/>
              </a:rPr>
              <a:t>Hybrid/Many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 rot="2764200">
            <a:off x="2022840" y="394884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Cluster/M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6"/>
          <p:cNvSpPr/>
          <p:nvPr/>
        </p:nvSpPr>
        <p:spPr>
          <a:xfrm rot="2764200">
            <a:off x="3551040" y="389988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7:04:10Z</dcterms:created>
  <dc:creator>apple admin</dc:creator>
  <dc:description/>
  <dc:language>en-US</dc:language>
  <cp:lastModifiedBy>Jeff Broughton</cp:lastModifiedBy>
  <dcterms:modified xsi:type="dcterms:W3CDTF">2010-03-16T14:05:08Z</dcterms:modified>
  <cp:revision>52</cp:revision>
  <dc:subject/>
  <dc:title>Slide 1</dc:title>
</cp:coreProperties>
</file>