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C97-66AB-49DE-A1DA-22A40DF299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pen Fabrics 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Workshop 2010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Woodr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for Exascale, Scalability, and Resil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7913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scale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day night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llion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00s of Million nodes and MPI r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bits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to 1000’s of PFs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o that!!! I can do that !!! I can do tha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105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urther than ever bef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k to Real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4952880"/>
            <a:ext cx="86104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going to do that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2489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can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node count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LID space in the InfiniBand protoco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the router specification and build full speed route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o back to Ethernet that does not have these limit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connections (RC) do not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footprint too big, SA queries do no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a dynamic connection sche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nd tear down connections for each I/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P transitions would have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registration needs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use unreliable datagram's instea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/W retries for lost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data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gram's with D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the connection scaling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mething like tag-match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linear search when matching tags may be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nvent something like tag-matching without the scaling limi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relax some of the MPI message ordering restrictions ? (for MPI 3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registr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make memory registration a speed path oper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costs are too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big of a problem with disk storage (since seek times are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more of an issue for storage when low latency SSDs hit the mar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l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ble to tolerate H/W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and redundancy a must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ble to tolerate nod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detection of hardwar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end data protection and failur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/W handling of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just checkpoint/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xascale, MTBF is so low that checkpoint/restart in MPI will not be adequ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woody</cp:lastModifiedBy>
  <dcterms:modified xsi:type="dcterms:W3CDTF">2010-03-16T15:22:43Z</dcterms:modified>
  <cp:revision>2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