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243-9FFB-49C2-915E-1A2D8DDB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872-D43A-477A-BB29-F7424426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B6C-7646-4E02-ABC5-A53961F5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427-9897-4DAF-85C0-F0612C5F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DBDB-8F33-49FC-A46D-884DBDB4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9590-F73F-4F89-8ABD-F2257437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4FA6-9B50-48E0-9D9D-F7B4B39B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5B97-37E7-4E79-BE2C-736B00B6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6C65-62BA-445E-946E-18542172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344A-068A-4451-824D-C142D140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5D93-47A5-492B-8DB0-228324E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5F0-6E4E-4AFB-A912-E9CB17BC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7459-2FF6-440A-B738-0B42845C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06F4-FB7D-4AEC-A35C-EE206D31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174D-396B-4152-A4C5-9F4FD1E7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87AC-EE51-4205-BC1B-D8506661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3DB6-095A-40DF-98DB-F7E8C848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C98-167F-47B4-91BF-8C2FD59A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A199-B4C1-47AA-BD2F-1164F7F8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289-2397-4CA4-9464-0BEC7F64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DF6-C769-4A59-856E-17DC890A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877-CAA1-4BF6-9660-13344DCB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E9D-0B9B-443C-9973-BA7AC112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8E7-436E-4E96-9CF6-DDDDD956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2AECD-F22A-4828-8F1F-1DA6CB9DE11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18DE7-0B7E-401B-B6F4-70F123E4790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058B3-C833-4880-9CAD-BB9E791026E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A652E-AFDB-418D-8C78-E0C9B3A9816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OFILG Funding Update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Open Fabrics Interoperability Funding Proposal fo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C4E59-6BB4-4ADF-A5B2-E9E1EF885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Author: 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Rupert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ate: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3/16/1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5195"/>
                </a:solidFill>
                <a:latin typeface="Arial"/>
              </a:rPr>
              <a:t>OFILG – Phase 1 - 2010</a:t>
            </a:r>
            <a:endParaRPr b="0" lang="en-US" sz="34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Membership renewal for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lsio, Flextronics, Intel, LSI, Mellanox, Obsidian, QLogic and Vol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ILG Membership fun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members at $14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112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 requested for the OFILG Program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UNH-IOL request - $16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UNH-IOL proposal - $12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est to the OFA Board of Dir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FA IWG is requesting that the OFA fund the shortfall fo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120K - $112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F01A0-797E-42D4-9627-44AF403FD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5195"/>
                </a:solidFill>
                <a:latin typeface="Arial"/>
              </a:rPr>
              <a:t>OFILG – Phase 1 – 2010 - continued</a:t>
            </a:r>
            <a:endParaRPr b="0" lang="en-US" sz="34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to be provided with updated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omplete Interop Validation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Interop Debug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GA Logo Validation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 availability 90 days surrounding each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w test development fo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ED for Windows will be reviewed independently with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this program is very important and will act in such a way the program evolves to reflect thei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8EC93-745C-44D3-9E6A-C348596DC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5195"/>
                </a:solidFill>
                <a:latin typeface="Arial"/>
              </a:rPr>
              <a:t>OFILG – Phase 2 - 2011</a:t>
            </a:r>
            <a:endParaRPr b="0" lang="en-US" sz="34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92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commits to the importance of the program and finding some sort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IWG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n OFILP model that encourages greater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vendors to develop a program to test OFED for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MWG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the value of the Log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ith OFA IWG to increase membership in OFI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A XWG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membership structure and consider increasing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e trademarks to increase general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OFED software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ADAE5-3E33-4DEF-82DB-3473F5B04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Rupert Dance</cp:lastModifiedBy>
  <dcterms:modified xsi:type="dcterms:W3CDTF">2010-03-16T23:58:11Z</dcterms:modified>
  <cp:revision>30</cp:revision>
  <dc:subject/>
  <dc:title>Slide 1</dc:title>
</cp:coreProperties>
</file>