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975A43-01B9-4827-A5FE-91F5433423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A1BB3C-7CAC-4256-9F89-21FE724C95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b makes software wonks joke: “speak for yourself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0F9768-580B-4199-B7EE-3A8D6F2060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BFDDEE-7EBD-4988-AEBC-BEF88CC40E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7BF8-E48E-4BDF-8A0A-B89D1F5E2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8A08-576E-4076-BB70-75E4C64B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1D75-F060-44A1-9EC4-07EFAB688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9F07-4314-4907-BB27-8C3921CF6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1C5E-A27E-4659-9569-24D08E08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07E0-97AF-4ED2-90E2-1DB1D5C6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E9CA-2A19-4D08-AD83-C002FB59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FB5C-C6CE-4929-B69F-BB365682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AA3F-2FC2-4B02-A371-35AFA169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B639-899A-4134-BA26-FD001F11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D232-4C56-4F34-AD5C-A1BC07A2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CB43-3B80-4E60-9491-F6380DD2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7457-D218-48BD-87CD-E44B28CD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0D85-2085-4289-AB6A-B395B8A7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BA18-22DC-4E09-8CC6-0D6AA5A7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9094-FC83-44F8-AD4D-1BA0CC009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4280-4062-458B-93FF-A91EE4297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1AF4-879E-424B-8600-38312A8F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6218-ADB7-4E3F-BF84-3BE23F90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4915-AFEE-42A2-8341-3BCC44E1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0517-5465-4692-97E3-E0D8E1A6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96E3-9280-4A97-9FD9-27F7184D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56CB-9E88-43E9-B5DB-324A6B89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1EB6-155A-4269-9D89-BA8CEAB5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C7DE72-11E3-4CEA-9F6F-6CD69D2E544B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568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EF7D0D-226E-4034-A530-7B6768F1CF4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4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ribbon_ppt_title.jpg"/>
          <p:cNvPicPr/>
          <p:nvPr/>
        </p:nvPicPr>
        <p:blipFill>
          <a:blip r:embed="rId4"/>
          <a:srcRect l="0" t="5783" r="0" b="0"/>
          <a:stretch/>
        </p:blipFill>
        <p:spPr>
          <a:xfrm>
            <a:off x="0" y="0"/>
            <a:ext cx="9144000" cy="2481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OpenFabric_Alliance_Logo_ppt.jpg"/>
          <p:cNvPicPr/>
          <p:nvPr/>
        </p:nvPicPr>
        <p:blipFill>
          <a:blip r:embed="rId5"/>
          <a:stretch/>
        </p:blipFill>
        <p:spPr>
          <a:xfrm>
            <a:off x="380880" y="23241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128D9B-9F6F-4ACD-A6EE-B7317FB08B6C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060237-4CF4-4E31-8281-095C862F179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7040" y="2666520"/>
            <a:ext cx="662940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MPI and the Exascal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057040" y="4267080"/>
            <a:ext cx="6629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d6e71"/>
                </a:solidFill>
                <a:latin typeface="Arial"/>
              </a:rPr>
              <a:t>Jeffrey M. Squyres, Cisco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d6e71"/>
                </a:solidFill>
                <a:latin typeface="Arial"/>
              </a:rPr>
              <a:t>Fabian Tillier, Micros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6343FA-F72F-4ACB-AAD1-810BE3AB6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2057400" y="52974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16 Marc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Our scope: MPI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1640"/>
            <a:ext cx="86868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e hardware, power, runtime systems, filesystems, etc. to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’re MPI + software wo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: we know little about what a lottaflops system will look like (y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let’s make further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’re looking at these slides in 5 years, please try not to laugh if we ended up being dreadfully w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2101EB-3579-4DB4-BE23-9EAA5E9C3E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Assumption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1640"/>
            <a:ext cx="86868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: MPI will be used in some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 this panel would be meaningles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ly in applications a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lying transport for something else (PGA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 has spent 15+ years optimizing parallel communications; it would be silly to throw it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: system will be a hierarchy of some k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, processors,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 will need to understand the topology – particularly for collective operations (broadcast, reduction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F4C7D5-A2CA-4BC9-A6E1-C90B21B144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Assumption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1640"/>
            <a:ext cx="86868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: limited resources for each MPI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, network buffer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store O(N)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may therefore need to be “smart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: there will be fail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 needs to get at least as reliable as so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ing: MPI implementation has to survive network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3 standard effort is examining such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nclude what this means to MPI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0BB630-B342-4523-8072-43145E934B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Thin” MPI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1640"/>
            <a:ext cx="86868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must be reliable and connection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 should not handle tracking and retrans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time system must support M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ly tell MPI location/topology, peer, and network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stdin/out/err, stage fil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better systems today behave like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dedicated to MPI collective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: network hardware, cores, memory, 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progress seems 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than just multicast: think about MPI_Allto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2FF71E-04AE-4C38-A683-8EA3401BCE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Will it run OFED (verbs)?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1640"/>
            <a:ext cx="86868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on’t know what the network hardware will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t runs verbs, there is much work to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t reliable connectionless will be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: connection setup complexity dis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registration must disapp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get much better (no software reg cache, no dereg intercep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form of MPI collective assist must b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 from Intel, Cray, Quadrics, Voltaire, Mellanox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rt network / processor / memory / etc. topology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ology-aware algorithms will be cri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header and data on comple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header matching different than data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3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7DC994-AEC0-4844-84DD-CDECB6F77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Thank You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A92FAE-22E9-46B3-9C7F-D25CEA86E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cisco-logo.png"/>
          <p:cNvPicPr/>
          <p:nvPr/>
        </p:nvPicPr>
        <p:blipFill>
          <a:blip r:embed="rId1"/>
          <a:stretch/>
        </p:blipFill>
        <p:spPr>
          <a:xfrm>
            <a:off x="2751120" y="1981080"/>
            <a:ext cx="3641760" cy="1924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mslogo-1.tiff"/>
          <p:cNvPicPr/>
          <p:nvPr/>
        </p:nvPicPr>
        <p:blipFill>
          <a:blip r:embed="rId2"/>
          <a:stretch/>
        </p:blipFill>
        <p:spPr>
          <a:xfrm>
            <a:off x="1433520" y="4695840"/>
            <a:ext cx="628344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5:15:59Z</dcterms:created>
  <dc:creator>apple admin</dc:creator>
  <dc:description/>
  <dc:language>en-US</dc:language>
  <cp:lastModifiedBy>Jeff Squyres</cp:lastModifiedBy>
  <dcterms:modified xsi:type="dcterms:W3CDTF">2010-03-16T20:40:37Z</dcterms:modified>
  <cp:revision>41</cp:revision>
  <dc:subject/>
  <dc:title>Slide 1</dc:title>
</cp:coreProperties>
</file>