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414C2-530F-4357-93BC-C7B32824D0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738AF-07C0-4824-B37D-AE5BCBAF0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A75-290F-4BF0-B57A-A937990B3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CDC-05E1-47F0-A7B5-6A5ECB2F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664-6672-4719-A16C-4ACBAFF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F75-5436-4268-A83E-420E3712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2C8-C714-41BC-8D7A-4E94AFA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498-F4C7-4C05-A27F-A1EAC13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3EE-74F8-40D3-9A41-F57164F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8E08-72B0-4B02-97DF-A1004C3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824F-2EAD-4102-99F7-68735B1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AA3-0FAC-4486-A3BF-BC48FE9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D91-062A-4DE9-9687-C96F29DF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D76B-2FCD-4476-881B-8BA591E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641-7B66-4A93-8717-00E11AD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C0C-38F8-4FDC-A95E-8E053C0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15F-7F3E-431D-812C-56CC006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2B88-7572-4BAC-8F71-B1BDA69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8F9A-35D5-4304-80DE-D7BCE50C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DDF5-98DC-462B-803C-29A422B3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E37-8F67-49B4-9634-309EABB2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960-1DCC-4BD7-9D8E-56FAF04D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F1F-876D-4F1F-A3A4-AD6911F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5C3-3A9F-4CFB-A3DE-691F0C72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E57-4339-4592-A7BA-B150AE5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EFF-12B9-451A-8FC4-63CBED0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716-3E4F-417B-B021-CAF1468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1D6AC-979F-4CCB-910A-7EDBE10CCC7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1FC3-102E-402B-A4BC-B178893894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08B9D-D289-4451-B0A2-0E4CDF4B20E2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D474D-3A0F-4F94-811D-1F12D54375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caling to next lev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0BE46-7EC4-4BB6-A4FB-36E5ABF5A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iftah Shahar,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FCA address the collective problem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525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d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ally reduced by lowering the number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ntrol on message flow – single message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ffective multicast for collective operation resul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applicatio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ed by isolating collective traffic on a private virtu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loaded in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25239-5AF5-473A-9CB4-AA453246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7380E-FC92-45FA-8289-9B9CB9E85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760" y="5689440"/>
            <a:ext cx="8383320" cy="635040"/>
          </a:xfrm>
          <a:prstGeom prst="roundRect">
            <a:avLst>
              <a:gd name="adj" fmla="val 16667"/>
            </a:avLst>
          </a:prstGeom>
          <a:solidFill>
            <a:srgbClr val="226e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X Faster on a Small Cluster; More than 10X Expected on Larg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360" y="122400"/>
            <a:ext cx="7623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FCA - Collective performanc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putation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cores pe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ors &amp; PGGP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opular as PCI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motherboard/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C3C6D-2F1A-4374-8188-8397732A8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Networking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/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“NIC” in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ive bandwidth &amp;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us, Mash 2/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4DB93-9C29-45B6-90A9-E9DB03F81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munication interfac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AS (Partitioned Global Addres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004EF-9E36-47F4-AE4C-33D7565EB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MPI can we “afford” to replace it ?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AS communication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local and remote “shm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ded put/g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&amp; non Blocking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&amp; Atomic operations (F&amp;A,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we run it over “Thin MPI” ?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51882-F857-4CDF-A47E-C34F9BFB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Collective - Scalable collective need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odule &amp; Collect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oad from the nod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network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network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D-Torus &amp; M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5C5E2-33CA-4CA4-9CD1-AF377DB4A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lutions…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progress will be done by Evolution (linear/parallel) only some by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” are important but problems need to be address in a “system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ut of the box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E314B-5C5A-4FB1-BD53-09900AC87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QDR Architecture</a:t>
            </a:r>
            <a:endParaRPr b="0" lang="en-US" sz="37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FCA 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07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ully integrated solution to offloa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76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es intelligence on server, switches, and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2598840"/>
            <a:ext cx="4648320" cy="349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2362320"/>
            <a:ext cx="396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M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es fabric collective offload/monitoring and integrates with schedu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ire “smart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CPUs perform reduction and messaging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en MPI plug-in) - Addresses hos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yiftahs</cp:lastModifiedBy>
  <dcterms:modified xsi:type="dcterms:W3CDTF">2010-03-16T16:27:46Z</dcterms:modified>
  <cp:revision>62</cp:revision>
  <dc:subject/>
  <dc:title>Slide 1</dc:title>
</cp:coreProperties>
</file>