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C83-2438-4D6F-8FD5-6447C721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220-D46E-4C70-AF41-EA3CEC7B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F9A-732D-46E2-89CA-3FFFE43F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E7E-D6CF-400D-8AFC-AAC344D8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C381-0F93-4197-A850-A2D6E71C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90E9-F895-4B65-8F96-B4B18CC3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4F6A-C73C-4961-8493-C452E3E7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376B-F54F-4F9A-A194-D9203EEA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9251-174C-4012-9DDC-3396DD35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54B0-8944-4A30-AE71-5663BCA0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D327-1655-49EF-A792-5970367C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9B7-867F-4FCE-B9EB-08BF3E10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467B-64BF-44E5-B55D-9818CFC7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0C63-5712-4851-8999-65023F15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65B7-C9C8-4EFA-B23E-42EDF5EA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FEE7-4BFC-4D30-86E2-E23ECA4B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2F92-2CD2-4630-A382-8FF2BB4E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C5E-D61D-457A-8621-7D729DDA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2F7-869F-4521-8AFF-2CAEC256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887-7F53-46E9-AB58-4B570097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609-C300-4AE3-BA48-16106418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534-96E7-494E-9E3C-9F30EDF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F78-FBC4-496A-BDEB-20886D4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0B79-BB90-4619-8FE9-1EBA05A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D8CF2-93F3-4921-A50B-ED4A633C1820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AB2B6-CE6F-4060-80E3-5A493A4AFD0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43A7A-5A48-4FAE-B862-9905E379BA43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D57B3-8C54-43F7-A029-A52D08FF239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OFED Updat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4EA2C-15F3-4BD9-B50C-85E78BEC6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Liran Liss, Mellanox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1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523880"/>
            <a:ext cx="8229600" cy="49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/OFED-1.5.1-20100316-0817 # ibv_devinf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a_id: mlx4_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transport:                      InfiniBand (0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fw_ver:                         2.7.80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node_guid:                      0002:c903:0008:e79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sys_image_guid:                 0002:c903:0008:e79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id:                      0x02c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vendor_part_id:                 2642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hw_ver:                         0xB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board_id:                       MT_0DD012000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 phys_port_cnt:               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port:  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INIT (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:  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tate:                  PORT_ACTIVE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max_mtu:                2048 (4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active_mtu:             1024 (3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sm_lid:  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id:              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port_lmc:               0x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                      link_layer:             Ethern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609588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2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752480"/>
            <a:ext cx="8229600" cy="457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vconfig add eth2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ed VLAN with VID == 7 to IF -:eth2: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.7 20.4.3.21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ff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f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cat /sys/class/infiniband/mlx4_0/ports/2/gids/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80:0000:0000:0000:0202:c900:</a:t>
            </a:r>
            <a:r>
              <a:rPr b="1" lang="en-US" sz="1200" spc="-1" strike="noStrike">
                <a:solidFill>
                  <a:srgbClr val="800080"/>
                </a:solidFill>
                <a:latin typeface="Courier New"/>
                <a:ea typeface="Courier New"/>
              </a:rPr>
              <a:t>0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8:e79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0004f, PSN 0xef4670, GID fe80::202:c9ff:fe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0004f, PSN 0xd454d5, GID fe80::202:c9ff:fe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07.51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63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bv_rc_pingpong </a:t>
            </a:r>
            <a:r>
              <a:rPr b="1" lang="en-US" sz="1200" spc="-1" strike="noStrike">
                <a:solidFill>
                  <a:srgbClr val="3c6fbd"/>
                </a:solidFill>
                <a:latin typeface="Courier New"/>
                <a:ea typeface="Courier New"/>
              </a:rPr>
              <a:t>-g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i 2 sw42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local address:  LID 0x0000, QPN 0x04004f, PSN 0xe10208, GID fe80::202:c900:708:e7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remote address: LID 0x0000, QPN 0x04004f, PSN 0x9b281b, GID fe80::202:c900:708:e81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192000 bytes in 0.01 seconds = 4857.40 Mbit/se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iters in 0.01 seconds = 13.49 usec/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4114800"/>
            <a:ext cx="1219320" cy="4572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3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2057400"/>
            <a:ext cx="8229600" cy="3505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w419:~ # ifconfig eth2 20.4.3.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root@mtlsqt124 ~]# rds-stress -s 11.4.5.125 -q 4096 -t 2 -d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necting to 11.4.5.125:40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gotiated options, tasks will start in 2 secon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ing up..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sks   tx/s   rx/s  tx+rx K/s    mbi K/s    mbo K/s tx us/c   rtt us cpu %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137  40126  322928.84       0.00       0.00   10.91   156.89 -0.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971  39987  324128.14       0.00       0.00   10.03   157.00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488  37575  304354.64       0.00       0.00   10.59   168.45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581  38604  312945.17       0.00       0.00   10.88   161.3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429  38473  311815.57       0.00       0.00   10.54   163.2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010  38856  315703.93       0.00       0.00   10.50   163.2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7104  37167  300838.65       0.00       0.00   10.27   170.9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9761  39826  322698.14       0.00       0.00   10.78   159.99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787  38704  314205.64       0.00       0.00   10.69   161.82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40924  41002  332171.96       0.00       0.00   11.09   153.17 -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 2  38844  39012  315659.80       0.00       0.00   10.53   162.44 -1.00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in Action (4)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aphicFrame>
        <p:nvGraphicFramePr>
          <p:cNvPr id="207" name="Text Placeholder 2"/>
          <p:cNvGraphicFramePr/>
          <p:nvPr/>
        </p:nvGraphicFramePr>
        <p:xfrm>
          <a:off x="457200" y="1700280"/>
          <a:ext cx="4648320" cy="31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0280"/>
                    <a:ext cx="464832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Text Placeholder 2"/>
          <p:cNvGraphicFramePr/>
          <p:nvPr/>
        </p:nvGraphicFramePr>
        <p:xfrm>
          <a:off x="3886200" y="2965320"/>
          <a:ext cx="4800600" cy="328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0" name="Text Placeholder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2965320"/>
                    <a:ext cx="480060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295280" y="4343400"/>
            <a:ext cx="3810240" cy="21337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EE really rock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at is RoCEE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cke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rbs implica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nabling RoCEE in OF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ment and Availabil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oCEE in a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 is RoCEE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 transport ove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, light-weight transport, layered directly over Ethernet 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oE equivalent for high-performance IPC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advantage of DCB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C, ETS, and Q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communica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/unreliable connected/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and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rotocol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5900760"/>
            <a:ext cx="914400" cy="45720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/D/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F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5900760"/>
            <a:ext cx="8380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M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724280"/>
            <a:ext cx="914400" cy="990720"/>
          </a:xfrm>
          <a:prstGeom prst="rect">
            <a:avLst/>
          </a:prstGeom>
          <a:solidFill>
            <a:srgbClr val="3c6f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724280"/>
            <a:ext cx="2666880" cy="9907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0384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0384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352680"/>
            <a:ext cx="266688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1523880"/>
            <a:ext cx="106668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5791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6483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5280" y="6043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3840" y="50529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11120" y="4214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11120" y="3452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9625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3276720"/>
            <a:ext cx="4495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301920"/>
            <a:ext cx="0" cy="13464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327672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327672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3949560"/>
            <a:ext cx="0" cy="68580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6400800"/>
            <a:ext cx="28195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4648320"/>
            <a:ext cx="0" cy="175248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4648320"/>
            <a:ext cx="990720" cy="0"/>
          </a:xfrm>
          <a:prstGeom prst="line">
            <a:avLst/>
          </a:prstGeom>
          <a:ln w="57240">
            <a:solidFill>
              <a:srgbClr val="f14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3352680"/>
            <a:ext cx="914400" cy="5335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1523880"/>
            <a:ext cx="251460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213372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5160" y="2286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2209680"/>
            <a:ext cx="685800" cy="5335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o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2514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2843280"/>
            <a:ext cx="2666880" cy="304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Packe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66880" y="2133720"/>
            <a:ext cx="143208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2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75240" y="2133720"/>
            <a:ext cx="16178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98960" y="2133720"/>
            <a:ext cx="12207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3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2133720"/>
            <a:ext cx="762120" cy="6858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21337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08560" y="2133720"/>
            <a:ext cx="1066680" cy="6858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4 H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99000" y="3867120"/>
            <a:ext cx="1617840" cy="685800"/>
          </a:xfrm>
          <a:prstGeom prst="rect">
            <a:avLst/>
          </a:prstGeom>
          <a:gradFill rotWithShape="0">
            <a:gsLst>
              <a:gs pos="0">
                <a:srgbClr val="752f75"/>
              </a:gs>
              <a:gs pos="50000">
                <a:srgbClr val="ff66ff"/>
              </a:gs>
              <a:gs pos="100000">
                <a:srgbClr val="75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3867120"/>
            <a:ext cx="129384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10360" y="3867120"/>
            <a:ext cx="83808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32320" y="3867120"/>
            <a:ext cx="1066680" cy="685800"/>
          </a:xfrm>
          <a:prstGeom prst="rect">
            <a:avLst/>
          </a:prstGeom>
          <a:gradFill rotWithShape="0">
            <a:gsLst>
              <a:gs pos="0">
                <a:srgbClr val="172f75"/>
              </a:gs>
              <a:gs pos="50000">
                <a:srgbClr val="3366ff"/>
              </a:gs>
              <a:gs pos="100000">
                <a:srgbClr val="17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TH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48440" y="3867120"/>
            <a:ext cx="7621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14680" y="3867120"/>
            <a:ext cx="799920" cy="6858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879720"/>
            <a:ext cx="646200" cy="68292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520" y="222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280" y="39528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2468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erbs Implic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 complian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D-based addr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D field i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ed with link-local address corresponding to port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Q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0 is 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1 is used for conn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other mad services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nection Managemen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i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DMA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P stack used to resolve remote IP to DMAC and bind to outgoing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N determined according to bound net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 device selected according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parameters (MTU, SL, timeout) obtained locally according to kerne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proceeds with CM as in 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only with Verbs also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1828800"/>
            <a:ext cx="6248160" cy="4038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1828800"/>
            <a:ext cx="1447560" cy="40384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362320"/>
            <a:ext cx="27432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nabling RoCEE in OFED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029200"/>
            <a:ext cx="419112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362320"/>
            <a:ext cx="2971800" cy="76176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3886200"/>
            <a:ext cx="21337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4267080"/>
            <a:ext cx="2743200" cy="38124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648320"/>
            <a:ext cx="4191120" cy="38088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Ib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743200"/>
            <a:ext cx="190476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libmlx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2390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uVer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6095880"/>
            <a:ext cx="723888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429000"/>
            <a:ext cx="274320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RDMA UL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81080"/>
            <a:ext cx="723888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2767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94360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312408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3124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5410080"/>
            <a:ext cx="5715000" cy="38124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5029200"/>
            <a:ext cx="914400" cy="38088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mlx4_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429000"/>
            <a:ext cx="914400" cy="1600200"/>
          </a:xfrm>
          <a:prstGeom prst="rect">
            <a:avLst/>
          </a:prstGeom>
          <a:solidFill>
            <a:srgbClr val="e55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181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2390760"/>
            <a:ext cx="0" cy="103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3962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181480"/>
            <a:ext cx="1219320" cy="609840"/>
          </a:xfrm>
          <a:prstGeom prst="wedgeRoundRectCallout">
            <a:avLst>
              <a:gd name="adj1" fmla="val 108462"/>
              <a:gd name="adj2" fmla="val -5078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Synch state with Eth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3657600"/>
            <a:ext cx="1524240" cy="457200"/>
          </a:xfrm>
          <a:prstGeom prst="wedgeRoundRectCallout">
            <a:avLst>
              <a:gd name="adj1" fmla="val 75208"/>
              <a:gd name="adj2" fmla="val 20381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itional RoCEE port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133720"/>
            <a:ext cx="1143000" cy="914400"/>
          </a:xfrm>
          <a:prstGeom prst="wedgeRoundRectCallout">
            <a:avLst>
              <a:gd name="adj1" fmla="val -137361"/>
              <a:gd name="adj2" fmla="val 152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RoCEE device binding + 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5791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15541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TCP/IP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1554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OFED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2133720"/>
            <a:ext cx="1523880" cy="457200"/>
          </a:xfrm>
          <a:prstGeom prst="wedgeRoundRectCallout">
            <a:avLst>
              <a:gd name="adj1" fmla="val 85208"/>
              <a:gd name="adj2" fmla="val 12048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ress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31240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evelopment and Availabilit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1640"/>
            <a:ext cx="762012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0: Initial version, RoCEE flows in SA handled lo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3: Separate RoCEE SA emulation code from 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4: Removed all SA emulation code altogether; CMA enhanced to support RoCEE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: code simplifications; remove user-space MA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7: loopback support; introduce ‘link-layer’ port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8: add VLAN support; rebase to 2.6.33-r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in separat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part of OFED-1.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 qual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tes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liranl</cp:lastModifiedBy>
  <dcterms:modified xsi:type="dcterms:W3CDTF">2010-03-17T15:42:44Z</dcterms:modified>
  <cp:revision>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