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380-E9A1-4936-A9AD-87032D08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8C4B-928D-4228-8500-2B04EE50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C4A1-E98E-44FC-8065-0378BB0D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44A-67A2-4FB8-BD3F-CCAF439F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E3DB-5D7B-4566-8EA8-20DFF7E6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1E28-AECB-45F0-9E9E-1046164C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4FB2-B643-4E80-952E-557815E5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11ED-7CB1-4662-9714-34691394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1953-175B-4FDC-A28F-6B9D1E20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0C4E-575E-4404-8ED1-BE4C01CB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3A24-8835-4CC3-8E76-A664E486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188-FC92-4E8E-9871-779104F3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0750-FB81-4588-A23C-C5FDB1B1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DCFC-7C22-40A9-9DE7-D46A059E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4C73-4DA6-427B-AAA9-3BF18559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150C-98CE-43E7-8D35-461D58A2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ED8A-A763-4037-BA58-47BFD63B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7C96-A4F0-48C6-9778-17CE51C2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AE1-C260-4924-B9CC-89E8483D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301-76DD-4A66-B89A-7F0E8BCA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00FA-E851-4DA5-A11E-EE4202DE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053C-4168-467C-B482-74F1AC74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C3A-00B9-42C2-B475-B945B701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E1AC-381A-4A9A-9C53-6ED98933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CE30E-F20D-447A-8D1C-8575432AB584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F72A7-DE4B-48A3-94E2-B0B11ECD285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05C83-875D-4769-BF5E-66CF6ABD7C4F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00CAF-C3C5-4B4D-B968-F6C02A2BFBF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OFED Updat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FF67E6-52B7-466C-A1B4-8D682B52F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Liran Liss, Mellanox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arch 15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Action (1)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1523880"/>
            <a:ext cx="8229600" cy="4953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/OFED-1.5.1-20100316-0817 # ibv_devinf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ca_id: mlx4_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transport:                      InfiniBand (0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fw_ver:                         2.7.8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node_guid:                      0002:c903:0008:e79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sys_image_guid:                 0002:c903:0008:e79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vendor_id:                      0x02c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vendor_part_id:                 2642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hw_ver:                         0xB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board_id:                       MT_0DD012000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phys_port_cnt:                 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 port:  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state:                  PORT_INIT (2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max_mtu:                2048 (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active_mtu:             2048 (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sm_lid:                 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port_lid:               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port_lmc:               0x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link_layer:             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:  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state:                  PORT_ACTIVE (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max_mtu:                2048 (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active_mtu:             1024 (3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sm_lid:                 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port_lid:               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port_lmc:               0x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link_layer:             Etherne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6"/>
          <p:cNvSpPr/>
          <p:nvPr/>
        </p:nvSpPr>
        <p:spPr>
          <a:xfrm>
            <a:off x="4800600" y="6095880"/>
            <a:ext cx="1219320" cy="4572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Action (2)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609480" y="1752480"/>
            <a:ext cx="8229600" cy="457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fconfig eth2 20.4.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vconfig add eth2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ed VLAN with VID == 7 to IF -:eth2: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fconfig eth2.7 20.4.3.21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cat /sys/class/infiniband/mlx4_0/ports/2/gids/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80:0000:0000:0000:0202:c9ff:</a:t>
            </a:r>
            <a:r>
              <a:rPr b="1" lang="en-US" sz="1200" spc="-1" strike="noStrike">
                <a:solidFill>
                  <a:srgbClr val="800080"/>
                </a:solidFill>
                <a:latin typeface="Courier New"/>
                <a:ea typeface="Courier New"/>
              </a:rPr>
              <a:t>f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8:e79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cat /sys/class/infiniband/mlx4_0/ports/2/gids/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80:0000:0000:0000:0202:c900:</a:t>
            </a:r>
            <a:r>
              <a:rPr b="1" lang="en-US" sz="1200" spc="-1" strike="noStrike">
                <a:solidFill>
                  <a:srgbClr val="800080"/>
                </a:solidFill>
                <a:latin typeface="Courier New"/>
                <a:ea typeface="Courier New"/>
              </a:rPr>
              <a:t>0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8:e79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bv_rc_pingpong </a:t>
            </a:r>
            <a:r>
              <a:rPr b="1" lang="en-US" sz="1200" spc="-1" strike="noStrike">
                <a:solidFill>
                  <a:srgbClr val="3c6fbd"/>
                </a:solidFill>
                <a:latin typeface="Courier New"/>
                <a:ea typeface="Courier New"/>
              </a:rPr>
              <a:t>-g 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i 2 sw42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 local address:  LID 0x0000, QPN 0x00004f, PSN 0xef4670, GID fe80::202:c9ff:fe08:e79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 remote address: LID 0x0000, QPN 0x00004f, PSN 0xd454d5, GID fe80::202:c9ff:fe08:e81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192000 bytes in 0.01 seconds = 4807.51 Mbit/se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iters in 0.01 seconds = 13.63 usec/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bv_rc_pingpong </a:t>
            </a:r>
            <a:r>
              <a:rPr b="1" lang="en-US" sz="1200" spc="-1" strike="noStrike">
                <a:solidFill>
                  <a:srgbClr val="3c6fbd"/>
                </a:solidFill>
                <a:latin typeface="Courier New"/>
                <a:ea typeface="Courier New"/>
              </a:rPr>
              <a:t>-g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i 2 sw42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 local address:  LID 0x0000, QPN 0x04004f, PSN 0xe10208, GID fe80::202:c900:708:e79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 remote address: LID 0x0000, QPN 0x04004f, PSN 0x9b281b, GID fe80::202:c900:708:e81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192000 bytes in 0.01 seconds = 4857.40 Mbit/se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iters in 0.01 seconds = 13.49 usec/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2209680" y="4114800"/>
            <a:ext cx="1219320" cy="4572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Action (3)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609480" y="2057400"/>
            <a:ext cx="8229600" cy="3505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fconfig eth2 20.4.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root@mtlsqt124 ~]# rds-stress -s 11.4.5.125 -q 4096 -t 2 -d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ecting to 11.4.5.125:40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gotiated options, tasks will start in 2 secon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ing up...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sks   tx/s   rx/s  tx+rx K/s    mbi K/s    mbo K/s tx us/c   rtt us cpu %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40137  40126  322928.84       0.00       0.00   10.91   156.89 -0.9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9971  39987  324128.14       0.00       0.00   10.03   157.00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7488  37575  304354.64       0.00       0.00   10.59   168.45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8581  38604  312945.17       0.00       0.00   10.88   161.39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8429  38473  311815.57       0.00       0.00   10.54   163.22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9010  38856  315703.93       0.00       0.00   10.50   163.27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7104  37167  300838.65       0.00       0.00   10.27   170.97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9761  39826  322698.14       0.00       0.00   10.78   159.99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8787  38704  314205.64       0.00       0.00   10.69   161.82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40924  41002  332171.96       0.00       0.00   11.09   153.17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8844  39012  315659.80       0.00       0.00   10.53   162.44 -1.00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Action (4)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700280"/>
          <a:ext cx="4648320" cy="31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0280"/>
                    <a:ext cx="464832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886200" y="2965320"/>
          <a:ext cx="4800600" cy="328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65320"/>
                    <a:ext cx="480060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AutoShape 8"/>
          <p:cNvSpPr/>
          <p:nvPr/>
        </p:nvSpPr>
        <p:spPr>
          <a:xfrm>
            <a:off x="1295280" y="4343400"/>
            <a:ext cx="3810240" cy="21337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EE really rock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at is RoCEE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ocol stac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cke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erbs implic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nabling RoCEE in OF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velopment and Availabil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oCEE in a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hat is RoCEE?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band transport ove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light-weight transport, layered directly over Ethernet 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oE equivalent for high-performance IPC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s advantage of DCB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FC, ETS, and Q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 communica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/unreliable connected/dat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 and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Protocol Stack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666880" y="5900760"/>
            <a:ext cx="914400" cy="457200"/>
          </a:xfrm>
          <a:prstGeom prst="rect">
            <a:avLst/>
          </a:prstGeom>
          <a:solidFill>
            <a:srgbClr val="3c6f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/D/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733920" y="5900760"/>
            <a:ext cx="8380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648320" y="5900760"/>
            <a:ext cx="8380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5562720" y="5900760"/>
            <a:ext cx="8380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M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666880" y="4724280"/>
            <a:ext cx="914400" cy="990720"/>
          </a:xfrm>
          <a:prstGeom prst="rect">
            <a:avLst/>
          </a:prstGeom>
          <a:solidFill>
            <a:srgbClr val="3c6f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3733920" y="4724280"/>
            <a:ext cx="2666880" cy="99072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743200" y="4038480"/>
            <a:ext cx="266688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5562720" y="4038480"/>
            <a:ext cx="914400" cy="53352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2743200" y="3352680"/>
            <a:ext cx="266688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2743200" y="1523880"/>
            <a:ext cx="106668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2057400" y="57913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2057400" y="46483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195280" y="6043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193840" y="50529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211120" y="4214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211120" y="3452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2057400" y="39625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2057400" y="32767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2666880" y="3301920"/>
            <a:ext cx="0" cy="134640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2"/>
          <p:cNvSpPr/>
          <p:nvPr/>
        </p:nvSpPr>
        <p:spPr>
          <a:xfrm>
            <a:off x="2666880" y="3276720"/>
            <a:ext cx="2819520" cy="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5486400" y="3276720"/>
            <a:ext cx="0" cy="68580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4"/>
          <p:cNvSpPr/>
          <p:nvPr/>
        </p:nvSpPr>
        <p:spPr>
          <a:xfrm>
            <a:off x="5486400" y="3949560"/>
            <a:ext cx="0" cy="68580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5486400" y="4648320"/>
            <a:ext cx="990720" cy="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6"/>
          <p:cNvSpPr/>
          <p:nvPr/>
        </p:nvSpPr>
        <p:spPr>
          <a:xfrm>
            <a:off x="6477120" y="4648320"/>
            <a:ext cx="0" cy="175248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>
            <a:off x="3657600" y="6400800"/>
            <a:ext cx="2819520" cy="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3657600" y="4648320"/>
            <a:ext cx="0" cy="175248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>
            <a:off x="2666880" y="4648320"/>
            <a:ext cx="990720" cy="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0"/>
          <p:cNvSpPr/>
          <p:nvPr/>
        </p:nvSpPr>
        <p:spPr>
          <a:xfrm>
            <a:off x="5562720" y="3352680"/>
            <a:ext cx="914400" cy="53352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4724280" y="2209680"/>
            <a:ext cx="68580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3962520" y="1523880"/>
            <a:ext cx="251460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4"/>
          <p:cNvSpPr/>
          <p:nvPr/>
        </p:nvSpPr>
        <p:spPr>
          <a:xfrm>
            <a:off x="2057400" y="213372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5"/>
          <p:cNvSpPr/>
          <p:nvPr/>
        </p:nvSpPr>
        <p:spPr>
          <a:xfrm>
            <a:off x="2135160" y="22860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6"/>
          <p:cNvSpPr/>
          <p:nvPr/>
        </p:nvSpPr>
        <p:spPr>
          <a:xfrm>
            <a:off x="3962520" y="2209680"/>
            <a:ext cx="68580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7"/>
          <p:cNvSpPr/>
          <p:nvPr/>
        </p:nvSpPr>
        <p:spPr>
          <a:xfrm>
            <a:off x="2743200" y="2209680"/>
            <a:ext cx="68580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o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8"/>
          <p:cNvSpPr/>
          <p:nvPr/>
        </p:nvSpPr>
        <p:spPr>
          <a:xfrm>
            <a:off x="3581280" y="2514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9"/>
          <p:cNvSpPr/>
          <p:nvPr/>
        </p:nvSpPr>
        <p:spPr>
          <a:xfrm>
            <a:off x="2743200" y="2843280"/>
            <a:ext cx="266688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Packe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66880" y="2133720"/>
            <a:ext cx="1432080" cy="68580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2 H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5475240" y="2133720"/>
            <a:ext cx="1617840" cy="685800"/>
          </a:xfrm>
          <a:prstGeom prst="rect">
            <a:avLst/>
          </a:prstGeom>
          <a:gradFill rotWithShape="0">
            <a:gsLst>
              <a:gs pos="0">
                <a:srgbClr val="762f76"/>
              </a:gs>
              <a:gs pos="50000">
                <a:srgbClr val="ff66ff"/>
              </a:gs>
              <a:gs pos="100000">
                <a:srgbClr val="762f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198960" y="2133720"/>
            <a:ext cx="12207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3 H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7924680" y="2133720"/>
            <a:ext cx="762120" cy="685800"/>
          </a:xfrm>
          <a:prstGeom prst="rect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086600" y="2133720"/>
            <a:ext cx="83808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4408560" y="2133720"/>
            <a:ext cx="1066680" cy="68580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H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4 H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5499000" y="3867120"/>
            <a:ext cx="1617840" cy="685800"/>
          </a:xfrm>
          <a:prstGeom prst="rect">
            <a:avLst/>
          </a:prstGeom>
          <a:gradFill rotWithShape="0">
            <a:gsLst>
              <a:gs pos="0">
                <a:srgbClr val="762f76"/>
              </a:gs>
              <a:gs pos="50000">
                <a:srgbClr val="ff66ff"/>
              </a:gs>
              <a:gs pos="100000">
                <a:srgbClr val="762f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149640" y="3867120"/>
            <a:ext cx="129384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7110360" y="3867120"/>
            <a:ext cx="83808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432320" y="3867120"/>
            <a:ext cx="1066680" cy="68580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50000">
                <a:srgbClr val="3366ff"/>
              </a:gs>
              <a:gs pos="100000">
                <a:srgbClr val="182f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H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7948440" y="3867120"/>
            <a:ext cx="762120" cy="685800"/>
          </a:xfrm>
          <a:prstGeom prst="rect">
            <a:avLst/>
          </a:pr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1714680" y="3867120"/>
            <a:ext cx="799920" cy="685800"/>
          </a:xfrm>
          <a:prstGeom prst="rect">
            <a:avLst/>
          </a:pr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2514600" y="3879720"/>
            <a:ext cx="646200" cy="682920"/>
          </a:xfrm>
          <a:prstGeom prst="rect">
            <a:avLst/>
          </a:pr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C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227520" y="22226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ini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449280" y="39528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8"/>
          <p:cNvSpPr/>
          <p:nvPr/>
        </p:nvSpPr>
        <p:spPr>
          <a:xfrm>
            <a:off x="3200400" y="2886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>
            <a:off x="7924680" y="2886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Verbs Implication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822960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 compliant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D-based addr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D field i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ed with link-local address corresponding to port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Q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P0 i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P1 is used for connec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y other mad services in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onnection Managemen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 i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DMA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P stack used to resolve remote IP to DMAC and bind to outgoing Ether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N determined according to bound net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EE device selected according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parameters (MTU, SL, timeout) obtained locally according to kerne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proceeds with CM as in 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only with Verbs also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533520" y="1828800"/>
            <a:ext cx="6248160" cy="403848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934320" y="1828800"/>
            <a:ext cx="1447560" cy="403848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762120" y="2362320"/>
            <a:ext cx="2743200" cy="76176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nabling RoCEE in OFED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286000" y="5029200"/>
            <a:ext cx="4191120" cy="38088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mlx4_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505320" y="2362320"/>
            <a:ext cx="2971800" cy="76176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uRDMA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4343400" y="3886200"/>
            <a:ext cx="2133720" cy="38088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RDMA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3733920" y="4267080"/>
            <a:ext cx="2743200" cy="38124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2286000" y="4648320"/>
            <a:ext cx="4191120" cy="38088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Ib_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762120" y="2743200"/>
            <a:ext cx="1904760" cy="38088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libmlx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057400" y="23907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uVer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762120" y="6095880"/>
            <a:ext cx="7238880" cy="38124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Ethernet 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3124080" y="3429000"/>
            <a:ext cx="27432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RDMA UL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762120" y="1981080"/>
            <a:ext cx="7238880" cy="381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609480" y="3276720"/>
            <a:ext cx="74678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609480" y="594360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1676520" y="312408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971800" y="31240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6248520" y="3124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2286000" y="5410080"/>
            <a:ext cx="5715000" cy="38124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mlx4_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7086600" y="5029200"/>
            <a:ext cx="914400" cy="38088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mlx4_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7086600" y="3429000"/>
            <a:ext cx="914400" cy="160020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6477120" y="5181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>
            <a:off x="7543800" y="2390760"/>
            <a:ext cx="0" cy="1038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6"/>
          <p:cNvSpPr/>
          <p:nvPr/>
        </p:nvSpPr>
        <p:spPr>
          <a:xfrm>
            <a:off x="24382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7"/>
          <p:cNvSpPr/>
          <p:nvPr/>
        </p:nvSpPr>
        <p:spPr>
          <a:xfrm>
            <a:off x="243828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8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9"/>
          <p:cNvSpPr/>
          <p:nvPr/>
        </p:nvSpPr>
        <p:spPr>
          <a:xfrm>
            <a:off x="609480" y="5181480"/>
            <a:ext cx="1219320" cy="609840"/>
          </a:xfrm>
          <a:prstGeom prst="wedgeRoundRectCallout">
            <a:avLst>
              <a:gd name="adj1" fmla="val 108462"/>
              <a:gd name="adj2" fmla="val -5078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Synch state with Eth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0"/>
          <p:cNvSpPr/>
          <p:nvPr/>
        </p:nvSpPr>
        <p:spPr>
          <a:xfrm>
            <a:off x="609480" y="3657600"/>
            <a:ext cx="1524240" cy="457200"/>
          </a:xfrm>
          <a:prstGeom prst="wedgeRoundRectCallout">
            <a:avLst>
              <a:gd name="adj1" fmla="val 75208"/>
              <a:gd name="adj2" fmla="val 20381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Additional RoCEE port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1"/>
          <p:cNvSpPr/>
          <p:nvPr/>
        </p:nvSpPr>
        <p:spPr>
          <a:xfrm>
            <a:off x="5562720" y="2133720"/>
            <a:ext cx="1143000" cy="914400"/>
          </a:xfrm>
          <a:prstGeom prst="wedgeRoundRectCallout">
            <a:avLst>
              <a:gd name="adj1" fmla="val -137361"/>
              <a:gd name="adj2" fmla="val 152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RoCEE device binding + address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518148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3"/>
          <p:cNvSpPr/>
          <p:nvPr/>
        </p:nvSpPr>
        <p:spPr>
          <a:xfrm>
            <a:off x="7162920" y="1554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TCP/IP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4"/>
          <p:cNvSpPr/>
          <p:nvPr/>
        </p:nvSpPr>
        <p:spPr>
          <a:xfrm>
            <a:off x="3124080" y="1554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OFED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35"/>
          <p:cNvSpPr/>
          <p:nvPr/>
        </p:nvSpPr>
        <p:spPr>
          <a:xfrm>
            <a:off x="236232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6"/>
          <p:cNvSpPr/>
          <p:nvPr/>
        </p:nvSpPr>
        <p:spPr>
          <a:xfrm>
            <a:off x="304920" y="2133720"/>
            <a:ext cx="1523880" cy="457200"/>
          </a:xfrm>
          <a:prstGeom prst="wedgeRoundRectCallout">
            <a:avLst>
              <a:gd name="adj1" fmla="val 85208"/>
              <a:gd name="adj2" fmla="val 12048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Address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7"/>
          <p:cNvSpPr/>
          <p:nvPr/>
        </p:nvSpPr>
        <p:spPr>
          <a:xfrm>
            <a:off x="2438280" y="31240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Development and Availability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762012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 p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0: Initial version, RoCEE flows in SA handled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3: Separate RoCEE SA emulation code from 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4: Removed all SA emulation code altogether; CMA enhanced to support RoCEE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: code simplifications; remove user-space MAD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7: loopback support; introduce ‘link-layer’ port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8: add VLAN support; rebase to 2.6.33-r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 in separate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part of OFED-1.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 quali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tes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Bill Boas</cp:lastModifiedBy>
  <dcterms:modified xsi:type="dcterms:W3CDTF">2010-03-27T17:35:55Z</dcterms:modified>
  <cp:revision>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