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1FDF-BB9D-477E-8647-81BBF221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813-68D9-4883-9A33-C6814DF5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76A-4B35-4899-B3BC-3814C726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6C8-6E54-49CE-AA3E-B2E8C73D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141F-C359-4C90-A25E-9DE55603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4839-BC9A-47EE-B7B1-2AC1A1F8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CC67-6AA7-49BB-B7E7-B1D5E358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AB8E-A268-40D9-802B-C8D6ADAE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F673-38A8-486B-BE84-6BBDEF7C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31AC-805C-4B5C-A025-152573A3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1D40-C083-4CD1-BE4E-06E576D2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B04-D791-4D85-8AFA-CC1192F6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A3BA-5117-40EE-818A-8D714365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8DAD-5C4E-430E-939B-9B16636F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14A4-1AD4-4D0C-882D-4FB2DFEA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1EC8-DE99-4C02-A9C3-D8A3FFE2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763F-DC97-4588-8B2D-C757BFF9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956-9752-42E9-A2AD-193E85EF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A8B-F39A-4E7A-8A67-71241805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92A-2EE6-4670-9586-15A233C9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988-F234-4771-9C09-909E1081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823-7DB1-4C52-8413-2D8DECA8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D81-40A4-408B-9C73-7ABC406D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F8F-3C9F-48FA-AB5F-F864E426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E27BC-3DD5-4A67-AEDF-3EC68D52EB58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1D7E00-5341-4EE1-828D-C7013E2FA84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293BF-52AD-491A-8051-BC67AAEA2C52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2DB77-990D-44FB-964A-9ED3E5B9D9E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Virtual NICs and HBA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Implementation update and u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4EDC2-8109-4325-B0D7-41740E05E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Liran Liss, Mellanox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7</a:t>
            </a:r>
            <a:r>
              <a:rPr b="0" lang="en-US" sz="1800" spc="-1" strike="noStrike" baseline="30000">
                <a:solidFill>
                  <a:srgbClr val="6d6e71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utur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look and feel as normal FC H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u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: FCoE and FCoIB in Beta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 + kernel submission in a couple of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M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oIB in alp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oE in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thernet over IB (EoIB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4343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xternal port is associated with one or more Virtual Hubs (vHu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resents an Ethernet broadcast domain within the internal network (VL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s a context table containing a record for each v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The context table is distributed to all vN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ed with 3 IB multicast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xt table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xt table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114800" y="1523880"/>
            <a:ext cx="4901040" cy="4834440"/>
            <a:chOff x="4114800" y="1523880"/>
            <a:chExt cx="4901040" cy="4834440"/>
          </a:xfrm>
        </p:grpSpPr>
        <p:grpSp>
          <p:nvGrpSpPr>
            <p:cNvPr id="188" name=""/>
            <p:cNvGrpSpPr/>
            <p:nvPr/>
          </p:nvGrpSpPr>
          <p:grpSpPr>
            <a:xfrm>
              <a:off x="5349600" y="2474280"/>
              <a:ext cx="3666240" cy="2543760"/>
              <a:chOff x="5349600" y="2474280"/>
              <a:chExt cx="3666240" cy="2543760"/>
            </a:xfrm>
          </p:grpSpPr>
          <p:sp>
            <p:nvSpPr>
              <p:cNvPr id="189" name=""/>
              <p:cNvSpPr/>
              <p:nvPr/>
            </p:nvSpPr>
            <p:spPr>
              <a:xfrm>
                <a:off x="5349600" y="2474280"/>
                <a:ext cx="3666240" cy="2543760"/>
              </a:xfrm>
              <a:custGeom>
                <a:avLst/>
                <a:gdLst/>
                <a:ahLst/>
                <a:rect l="l" t="t" r="r" b="b"/>
                <a:pathLst>
                  <a:path w="3258" h="2062">
                    <a:moveTo>
                      <a:pt x="294" y="686"/>
                    </a:moveTo>
                    <a:cubicBezTo>
                      <a:pt x="127" y="701"/>
                      <a:pt x="0" y="823"/>
                      <a:pt x="0" y="968"/>
                    </a:cubicBezTo>
                    <a:cubicBezTo>
                      <a:pt x="0" y="1069"/>
                      <a:pt x="62" y="1162"/>
                      <a:pt x="162" y="1213"/>
                    </a:cubicBezTo>
                    <a:lnTo>
                      <a:pt x="160" y="1210"/>
                    </a:lnTo>
                    <a:cubicBezTo>
                      <a:pt x="103" y="1262"/>
                      <a:pt x="72" y="1331"/>
                      <a:pt x="72" y="1403"/>
                    </a:cubicBezTo>
                    <a:cubicBezTo>
                      <a:pt x="72" y="1559"/>
                      <a:pt x="219" y="1686"/>
                      <a:pt x="401" y="1686"/>
                    </a:cubicBezTo>
                    <a:cubicBezTo>
                      <a:pt x="413" y="1686"/>
                      <a:pt x="426" y="1685"/>
                      <a:pt x="439" y="1684"/>
                    </a:cubicBezTo>
                    <a:lnTo>
                      <a:pt x="437" y="1686"/>
                    </a:lnTo>
                    <a:cubicBezTo>
                      <a:pt x="541" y="1842"/>
                      <a:pt x="734" y="1939"/>
                      <a:pt x="942" y="1939"/>
                    </a:cubicBezTo>
                    <a:cubicBezTo>
                      <a:pt x="1048" y="1939"/>
                      <a:pt x="1152" y="1914"/>
                      <a:pt x="1242" y="1867"/>
                    </a:cubicBezTo>
                    <a:lnTo>
                      <a:pt x="1241" y="1867"/>
                    </a:lnTo>
                    <a:cubicBezTo>
                      <a:pt x="1336" y="1989"/>
                      <a:pt x="1495" y="2062"/>
                      <a:pt x="1665" y="2062"/>
                    </a:cubicBezTo>
                    <a:cubicBezTo>
                      <a:pt x="1889" y="2062"/>
                      <a:pt x="2087" y="1936"/>
                      <a:pt x="2152" y="1750"/>
                    </a:cubicBezTo>
                    <a:lnTo>
                      <a:pt x="2153" y="1752"/>
                    </a:lnTo>
                    <a:cubicBezTo>
                      <a:pt x="2222" y="1790"/>
                      <a:pt x="2302" y="1809"/>
                      <a:pt x="2384" y="1809"/>
                    </a:cubicBezTo>
                    <a:cubicBezTo>
                      <a:pt x="2623" y="1809"/>
                      <a:pt x="2818" y="1643"/>
                      <a:pt x="2820" y="1437"/>
                    </a:cubicBezTo>
                    <a:lnTo>
                      <a:pt x="2819" y="1436"/>
                    </a:lnTo>
                    <a:cubicBezTo>
                      <a:pt x="3071" y="1405"/>
                      <a:pt x="3258" y="1219"/>
                      <a:pt x="3258" y="1000"/>
                    </a:cubicBezTo>
                    <a:cubicBezTo>
                      <a:pt x="3258" y="903"/>
                      <a:pt x="3221" y="809"/>
                      <a:pt x="3152" y="732"/>
                    </a:cubicBezTo>
                    <a:lnTo>
                      <a:pt x="3151" y="732"/>
                    </a:lnTo>
                    <a:cubicBezTo>
                      <a:pt x="3173" y="689"/>
                      <a:pt x="3184" y="642"/>
                      <a:pt x="3184" y="595"/>
                    </a:cubicBezTo>
                    <a:cubicBezTo>
                      <a:pt x="3184" y="438"/>
                      <a:pt x="3062" y="301"/>
                      <a:pt x="2887" y="260"/>
                    </a:cubicBezTo>
                    <a:lnTo>
                      <a:pt x="2889" y="259"/>
                    </a:lnTo>
                    <a:cubicBezTo>
                      <a:pt x="2857" y="109"/>
                      <a:pt x="2705" y="0"/>
                      <a:pt x="2528" y="0"/>
                    </a:cubicBezTo>
                    <a:cubicBezTo>
                      <a:pt x="2420" y="0"/>
                      <a:pt x="2318" y="41"/>
                      <a:pt x="2249" y="112"/>
                    </a:cubicBezTo>
                    <a:lnTo>
                      <a:pt x="2249" y="112"/>
                    </a:lnTo>
                    <a:cubicBezTo>
                      <a:pt x="2187" y="42"/>
                      <a:pt x="2090" y="0"/>
                      <a:pt x="1987" y="0"/>
                    </a:cubicBezTo>
                    <a:cubicBezTo>
                      <a:pt x="1863" y="0"/>
                      <a:pt x="1748" y="61"/>
                      <a:pt x="1693" y="157"/>
                    </a:cubicBezTo>
                    <a:lnTo>
                      <a:pt x="1694" y="162"/>
                    </a:lnTo>
                    <a:cubicBezTo>
                      <a:pt x="1619" y="98"/>
                      <a:pt x="1517" y="62"/>
                      <a:pt x="1412" y="62"/>
                    </a:cubicBezTo>
                    <a:cubicBezTo>
                      <a:pt x="1263" y="62"/>
                      <a:pt x="1126" y="133"/>
                      <a:pt x="1057" y="246"/>
                    </a:cubicBezTo>
                    <a:lnTo>
                      <a:pt x="1055" y="249"/>
                    </a:lnTo>
                    <a:cubicBezTo>
                      <a:pt x="977" y="209"/>
                      <a:pt x="888" y="189"/>
                      <a:pt x="798" y="189"/>
                    </a:cubicBezTo>
                    <a:cubicBezTo>
                      <a:pt x="516" y="189"/>
                      <a:pt x="289" y="385"/>
                      <a:pt x="289" y="627"/>
                    </a:cubicBezTo>
                    <a:cubicBezTo>
                      <a:pt x="288" y="647"/>
                      <a:pt x="290" y="667"/>
                      <a:pt x="293" y="686"/>
                    </a:cubicBezTo>
                    <a:lnTo>
                      <a:pt x="294" y="686"/>
                    </a:lnTo>
                    <a:close/>
                  </a:path>
                </a:pathLst>
              </a:custGeom>
              <a:solidFill>
                <a:srgbClr val="3399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49600" y="2474280"/>
                <a:ext cx="3666240" cy="2543760"/>
              </a:xfrm>
              <a:custGeom>
                <a:avLst/>
                <a:gdLst/>
                <a:ahLst/>
                <a:rect l="l" t="t" r="r" b="b"/>
                <a:pathLst>
                  <a:path w="3258" h="2062">
                    <a:moveTo>
                      <a:pt x="294" y="686"/>
                    </a:moveTo>
                    <a:cubicBezTo>
                      <a:pt x="127" y="701"/>
                      <a:pt x="0" y="823"/>
                      <a:pt x="0" y="968"/>
                    </a:cubicBezTo>
                    <a:cubicBezTo>
                      <a:pt x="0" y="1069"/>
                      <a:pt x="62" y="1162"/>
                      <a:pt x="162" y="1213"/>
                    </a:cubicBezTo>
                    <a:lnTo>
                      <a:pt x="160" y="1210"/>
                    </a:lnTo>
                    <a:cubicBezTo>
                      <a:pt x="103" y="1262"/>
                      <a:pt x="72" y="1331"/>
                      <a:pt x="72" y="1403"/>
                    </a:cubicBezTo>
                    <a:cubicBezTo>
                      <a:pt x="72" y="1559"/>
                      <a:pt x="219" y="1686"/>
                      <a:pt x="401" y="1686"/>
                    </a:cubicBezTo>
                    <a:cubicBezTo>
                      <a:pt x="413" y="1686"/>
                      <a:pt x="426" y="1685"/>
                      <a:pt x="439" y="1684"/>
                    </a:cubicBezTo>
                    <a:lnTo>
                      <a:pt x="437" y="1686"/>
                    </a:lnTo>
                    <a:cubicBezTo>
                      <a:pt x="541" y="1842"/>
                      <a:pt x="734" y="1939"/>
                      <a:pt x="942" y="1939"/>
                    </a:cubicBezTo>
                    <a:cubicBezTo>
                      <a:pt x="1048" y="1939"/>
                      <a:pt x="1152" y="1914"/>
                      <a:pt x="1242" y="1867"/>
                    </a:cubicBezTo>
                    <a:lnTo>
                      <a:pt x="1241" y="1867"/>
                    </a:lnTo>
                    <a:cubicBezTo>
                      <a:pt x="1336" y="1989"/>
                      <a:pt x="1495" y="2062"/>
                      <a:pt x="1665" y="2062"/>
                    </a:cubicBezTo>
                    <a:cubicBezTo>
                      <a:pt x="1889" y="2062"/>
                      <a:pt x="2087" y="1936"/>
                      <a:pt x="2152" y="1750"/>
                    </a:cubicBezTo>
                    <a:lnTo>
                      <a:pt x="2153" y="1752"/>
                    </a:lnTo>
                    <a:cubicBezTo>
                      <a:pt x="2222" y="1790"/>
                      <a:pt x="2302" y="1809"/>
                      <a:pt x="2384" y="1809"/>
                    </a:cubicBezTo>
                    <a:cubicBezTo>
                      <a:pt x="2623" y="1809"/>
                      <a:pt x="2818" y="1643"/>
                      <a:pt x="2820" y="1437"/>
                    </a:cubicBezTo>
                    <a:lnTo>
                      <a:pt x="2819" y="1436"/>
                    </a:lnTo>
                    <a:cubicBezTo>
                      <a:pt x="3071" y="1405"/>
                      <a:pt x="3258" y="1219"/>
                      <a:pt x="3258" y="1000"/>
                    </a:cubicBezTo>
                    <a:cubicBezTo>
                      <a:pt x="3258" y="903"/>
                      <a:pt x="3221" y="809"/>
                      <a:pt x="3152" y="732"/>
                    </a:cubicBezTo>
                    <a:lnTo>
                      <a:pt x="3151" y="732"/>
                    </a:lnTo>
                    <a:cubicBezTo>
                      <a:pt x="3173" y="689"/>
                      <a:pt x="3184" y="642"/>
                      <a:pt x="3184" y="595"/>
                    </a:cubicBezTo>
                    <a:cubicBezTo>
                      <a:pt x="3184" y="438"/>
                      <a:pt x="3062" y="301"/>
                      <a:pt x="2887" y="260"/>
                    </a:cubicBezTo>
                    <a:lnTo>
                      <a:pt x="2889" y="259"/>
                    </a:lnTo>
                    <a:cubicBezTo>
                      <a:pt x="2857" y="109"/>
                      <a:pt x="2705" y="0"/>
                      <a:pt x="2528" y="0"/>
                    </a:cubicBezTo>
                    <a:cubicBezTo>
                      <a:pt x="2420" y="0"/>
                      <a:pt x="2318" y="41"/>
                      <a:pt x="2249" y="112"/>
                    </a:cubicBezTo>
                    <a:lnTo>
                      <a:pt x="2249" y="112"/>
                    </a:lnTo>
                    <a:cubicBezTo>
                      <a:pt x="2187" y="42"/>
                      <a:pt x="2090" y="0"/>
                      <a:pt x="1987" y="0"/>
                    </a:cubicBezTo>
                    <a:cubicBezTo>
                      <a:pt x="1863" y="0"/>
                      <a:pt x="1748" y="61"/>
                      <a:pt x="1693" y="157"/>
                    </a:cubicBezTo>
                    <a:lnTo>
                      <a:pt x="1694" y="162"/>
                    </a:lnTo>
                    <a:cubicBezTo>
                      <a:pt x="1619" y="98"/>
                      <a:pt x="1517" y="62"/>
                      <a:pt x="1412" y="62"/>
                    </a:cubicBezTo>
                    <a:cubicBezTo>
                      <a:pt x="1263" y="62"/>
                      <a:pt x="1126" y="133"/>
                      <a:pt x="1057" y="246"/>
                    </a:cubicBezTo>
                    <a:lnTo>
                      <a:pt x="1055" y="249"/>
                    </a:lnTo>
                    <a:cubicBezTo>
                      <a:pt x="977" y="209"/>
                      <a:pt x="888" y="189"/>
                      <a:pt x="798" y="189"/>
                    </a:cubicBezTo>
                    <a:cubicBezTo>
                      <a:pt x="516" y="189"/>
                      <a:pt x="289" y="385"/>
                      <a:pt x="289" y="627"/>
                    </a:cubicBezTo>
                    <a:cubicBezTo>
                      <a:pt x="288" y="647"/>
                      <a:pt x="290" y="667"/>
                      <a:pt x="293" y="686"/>
                    </a:cubicBezTo>
                    <a:lnTo>
                      <a:pt x="294" y="6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>
                      <a:alpha val="40000"/>
                    </a:srgbClr>
                  </a:gs>
                  <a:gs pos="100000">
                    <a:srgbClr val="dbecfe">
                      <a:alpha val="40000"/>
                    </a:srgbClr>
                  </a:gs>
                </a:gsLst>
                <a:lin ang="5400000"/>
              </a:gradFill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531400" y="3967920"/>
                <a:ext cx="219240" cy="47520"/>
              </a:xfrm>
              <a:custGeom>
                <a:avLst/>
                <a:gdLst/>
                <a:ahLst/>
                <a:rect l="l" t="t" r="r" b="b"/>
                <a:pathLst>
                  <a:path w="41" h="8">
                    <a:moveTo>
                      <a:pt x="0" y="0"/>
                    </a:moveTo>
                    <a:cubicBezTo>
                      <a:pt x="11" y="5"/>
                      <a:pt x="23" y="8"/>
                      <a:pt x="35" y="8"/>
                    </a:cubicBezTo>
                    <a:cubicBezTo>
                      <a:pt x="37" y="8"/>
                      <a:pt x="39" y="8"/>
                      <a:pt x="41" y="8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846400" y="4524840"/>
                <a:ext cx="90720" cy="2376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4"/>
                    </a:moveTo>
                    <a:cubicBezTo>
                      <a:pt x="6" y="3"/>
                      <a:pt x="12" y="2"/>
                      <a:pt x="17" y="0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691320" y="4671000"/>
                <a:ext cx="57960" cy="1062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0"/>
                    </a:moveTo>
                    <a:cubicBezTo>
                      <a:pt x="3" y="6"/>
                      <a:pt x="6" y="12"/>
                      <a:pt x="11" y="18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70960" y="4519440"/>
                <a:ext cx="26640" cy="11160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19"/>
                    </a:moveTo>
                    <a:cubicBezTo>
                      <a:pt x="3" y="13"/>
                      <a:pt x="4" y="6"/>
                      <a:pt x="5" y="0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246160" y="3821760"/>
                <a:ext cx="277560" cy="422640"/>
              </a:xfrm>
              <a:custGeom>
                <a:avLst/>
                <a:gdLst/>
                <a:ahLst/>
                <a:rect l="l" t="t" r="r" b="b"/>
                <a:pathLst>
                  <a:path w="52" h="72">
                    <a:moveTo>
                      <a:pt x="52" y="72"/>
                    </a:moveTo>
                    <a:cubicBezTo>
                      <a:pt x="52" y="72"/>
                      <a:pt x="52" y="72"/>
                      <a:pt x="52" y="71"/>
                    </a:cubicBezTo>
                    <a:cubicBezTo>
                      <a:pt x="52" y="41"/>
                      <a:pt x="32" y="14"/>
                      <a:pt x="0" y="0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76080" y="3376440"/>
                <a:ext cx="122400" cy="1580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27"/>
                    </a:moveTo>
                    <a:cubicBezTo>
                      <a:pt x="10" y="19"/>
                      <a:pt x="18" y="10"/>
                      <a:pt x="23" y="0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605080" y="2790360"/>
                <a:ext cx="4680" cy="75600"/>
              </a:xfrm>
              <a:custGeom>
                <a:avLst/>
                <a:gdLst/>
                <a:ahLst/>
                <a:rect l="l" t="t" r="r" b="b"/>
                <a:pathLst>
                  <a:path w="1" h="13">
                    <a:moveTo>
                      <a:pt x="1" y="13"/>
                    </a:moveTo>
                    <a:cubicBezTo>
                      <a:pt x="1" y="12"/>
                      <a:pt x="1" y="12"/>
                      <a:pt x="1" y="12"/>
                    </a:cubicBezTo>
                    <a:cubicBezTo>
                      <a:pt x="1" y="8"/>
                      <a:pt x="0" y="4"/>
                      <a:pt x="0" y="0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818480" y="2608200"/>
                <a:ext cx="64080" cy="943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0"/>
                    </a:moveTo>
                    <a:cubicBezTo>
                      <a:pt x="7" y="5"/>
                      <a:pt x="3" y="10"/>
                      <a:pt x="0" y="16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225560" y="2666880"/>
                <a:ext cx="31320" cy="8208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0"/>
                    </a:moveTo>
                    <a:cubicBezTo>
                      <a:pt x="3" y="4"/>
                      <a:pt x="1" y="9"/>
                      <a:pt x="0" y="14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536160" y="2778480"/>
                <a:ext cx="112680" cy="7560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21" y="13"/>
                    </a:moveTo>
                    <a:cubicBezTo>
                      <a:pt x="15" y="8"/>
                      <a:pt x="8" y="4"/>
                      <a:pt x="0" y="0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680440" y="3318120"/>
                <a:ext cx="16920" cy="82080"/>
              </a:xfrm>
              <a:custGeom>
                <a:avLst/>
                <a:gdLst/>
                <a:ahLst/>
                <a:rect l="l" t="t" r="r" b="b"/>
                <a:pathLst>
                  <a:path w="3" h="14">
                    <a:moveTo>
                      <a:pt x="0" y="0"/>
                    </a:moveTo>
                    <a:cubicBezTo>
                      <a:pt x="1" y="5"/>
                      <a:pt x="2" y="10"/>
                      <a:pt x="3" y="14"/>
                    </a:cubicBezTo>
                  </a:path>
                </a:pathLst>
              </a:custGeom>
              <a:noFill/>
              <a:ln w="11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Rectangle 217"/>
            <p:cNvSpPr/>
            <p:nvPr/>
          </p:nvSpPr>
          <p:spPr>
            <a:xfrm>
              <a:off x="4952880" y="1802880"/>
              <a:ext cx="914400" cy="13932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B_path, myQP, dQ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18"/>
            <p:cNvSpPr/>
            <p:nvPr/>
          </p:nvSpPr>
          <p:spPr>
            <a:xfrm>
              <a:off x="4952880" y="1523880"/>
              <a:ext cx="914400" cy="13932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B_path, myQP, dQ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19"/>
            <p:cNvSpPr/>
            <p:nvPr/>
          </p:nvSpPr>
          <p:spPr>
            <a:xfrm>
              <a:off x="4114800" y="1523880"/>
              <a:ext cx="838080" cy="1393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MAC/VL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20"/>
            <p:cNvSpPr/>
            <p:nvPr/>
          </p:nvSpPr>
          <p:spPr>
            <a:xfrm>
              <a:off x="4114800" y="1802880"/>
              <a:ext cx="838080" cy="1393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MAC/VL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21"/>
            <p:cNvSpPr/>
            <p:nvPr/>
          </p:nvSpPr>
          <p:spPr>
            <a:xfrm>
              <a:off x="4952880" y="1663200"/>
              <a:ext cx="914400" cy="139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22"/>
            <p:cNvSpPr/>
            <p:nvPr/>
          </p:nvSpPr>
          <p:spPr>
            <a:xfrm>
              <a:off x="4114800" y="1663200"/>
              <a:ext cx="914400" cy="1396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4"/>
            <p:cNvSpPr/>
            <p:nvPr/>
          </p:nvSpPr>
          <p:spPr>
            <a:xfrm flipV="1">
              <a:off x="8381880" y="5639400"/>
              <a:ext cx="0" cy="3488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16"/>
            <p:cNvSpPr/>
            <p:nvPr/>
          </p:nvSpPr>
          <p:spPr>
            <a:xfrm>
              <a:off x="8153280" y="5151600"/>
              <a:ext cx="457200" cy="487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GW 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6"/>
            <p:cNvSpPr/>
            <p:nvPr/>
          </p:nvSpPr>
          <p:spPr>
            <a:xfrm flipV="1">
              <a:off x="7696080" y="5639760"/>
              <a:ext cx="0" cy="3355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215"/>
            <p:cNvSpPr/>
            <p:nvPr/>
          </p:nvSpPr>
          <p:spPr>
            <a:xfrm>
              <a:off x="7315200" y="5151600"/>
              <a:ext cx="761760" cy="487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GW 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65"/>
            <p:cNvSpPr/>
            <p:nvPr/>
          </p:nvSpPr>
          <p:spPr>
            <a:xfrm>
              <a:off x="6956280" y="1802880"/>
              <a:ext cx="304920" cy="55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66"/>
            <p:cNvSpPr/>
            <p:nvPr/>
          </p:nvSpPr>
          <p:spPr>
            <a:xfrm>
              <a:off x="7299360" y="1802880"/>
              <a:ext cx="304560" cy="55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4"/>
            <p:cNvSpPr/>
            <p:nvPr/>
          </p:nvSpPr>
          <p:spPr>
            <a:xfrm>
              <a:off x="6613560" y="1802880"/>
              <a:ext cx="304560" cy="55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62"/>
            <p:cNvSpPr/>
            <p:nvPr/>
          </p:nvSpPr>
          <p:spPr>
            <a:xfrm>
              <a:off x="5898960" y="1802880"/>
              <a:ext cx="685800" cy="55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63"/>
            <p:cNvSpPr/>
            <p:nvPr/>
          </p:nvSpPr>
          <p:spPr>
            <a:xfrm>
              <a:off x="7656480" y="1802880"/>
              <a:ext cx="961920" cy="55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0"/>
            <p:cNvSpPr/>
            <p:nvPr/>
          </p:nvSpPr>
          <p:spPr>
            <a:xfrm>
              <a:off x="5904000" y="187236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21"/>
            <p:cNvSpPr/>
            <p:nvPr/>
          </p:nvSpPr>
          <p:spPr>
            <a:xfrm>
              <a:off x="5940360" y="2090520"/>
              <a:ext cx="2667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23"/>
            <p:cNvSpPr/>
            <p:nvPr/>
          </p:nvSpPr>
          <p:spPr>
            <a:xfrm>
              <a:off x="6253200" y="187236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289560" y="2090520"/>
              <a:ext cx="266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26"/>
            <p:cNvSpPr/>
            <p:nvPr/>
          </p:nvSpPr>
          <p:spPr>
            <a:xfrm>
              <a:off x="6589800" y="187236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27"/>
            <p:cNvSpPr/>
            <p:nvPr/>
          </p:nvSpPr>
          <p:spPr>
            <a:xfrm>
              <a:off x="6626160" y="2090520"/>
              <a:ext cx="2667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29"/>
            <p:cNvSpPr/>
            <p:nvPr/>
          </p:nvSpPr>
          <p:spPr>
            <a:xfrm>
              <a:off x="6939000" y="187236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0"/>
            <p:cNvSpPr/>
            <p:nvPr/>
          </p:nvSpPr>
          <p:spPr>
            <a:xfrm>
              <a:off x="6975360" y="2090520"/>
              <a:ext cx="266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32"/>
            <p:cNvSpPr/>
            <p:nvPr/>
          </p:nvSpPr>
          <p:spPr>
            <a:xfrm>
              <a:off x="7275600" y="187236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33"/>
            <p:cNvSpPr/>
            <p:nvPr/>
          </p:nvSpPr>
          <p:spPr>
            <a:xfrm>
              <a:off x="7311960" y="2090520"/>
              <a:ext cx="2667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35"/>
            <p:cNvSpPr/>
            <p:nvPr/>
          </p:nvSpPr>
          <p:spPr>
            <a:xfrm>
              <a:off x="7624800" y="187236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36"/>
            <p:cNvSpPr/>
            <p:nvPr/>
          </p:nvSpPr>
          <p:spPr>
            <a:xfrm>
              <a:off x="7661160" y="2090520"/>
              <a:ext cx="266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8"/>
            <p:cNvSpPr/>
            <p:nvPr/>
          </p:nvSpPr>
          <p:spPr>
            <a:xfrm>
              <a:off x="7961400" y="187236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39"/>
            <p:cNvSpPr/>
            <p:nvPr/>
          </p:nvSpPr>
          <p:spPr>
            <a:xfrm>
              <a:off x="7997760" y="2090520"/>
              <a:ext cx="2667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41"/>
            <p:cNvSpPr/>
            <p:nvPr/>
          </p:nvSpPr>
          <p:spPr>
            <a:xfrm>
              <a:off x="8310600" y="187236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E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42"/>
            <p:cNvSpPr/>
            <p:nvPr/>
          </p:nvSpPr>
          <p:spPr>
            <a:xfrm>
              <a:off x="8346960" y="2090520"/>
              <a:ext cx="266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8"/>
            <p:cNvSpPr/>
            <p:nvPr/>
          </p:nvSpPr>
          <p:spPr>
            <a:xfrm>
              <a:off x="7391160" y="5151600"/>
              <a:ext cx="304920" cy="209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3"/>
            <p:cNvSpPr/>
            <p:nvPr/>
          </p:nvSpPr>
          <p:spPr>
            <a:xfrm>
              <a:off x="7696080" y="5151600"/>
              <a:ext cx="304920" cy="20916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44"/>
            <p:cNvSpPr/>
            <p:nvPr/>
          </p:nvSpPr>
          <p:spPr>
            <a:xfrm>
              <a:off x="8237520" y="5151600"/>
              <a:ext cx="304560" cy="20916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45"/>
            <p:cNvSpPr/>
            <p:nvPr/>
          </p:nvSpPr>
          <p:spPr>
            <a:xfrm>
              <a:off x="7319160" y="599004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Ethernet wi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48"/>
            <p:cNvSpPr/>
            <p:nvPr/>
          </p:nvSpPr>
          <p:spPr>
            <a:xfrm flipH="1">
              <a:off x="7848360" y="2779560"/>
              <a:ext cx="7920" cy="2372040"/>
            </a:xfrm>
            <a:prstGeom prst="line">
              <a:avLst/>
            </a:prstGeom>
            <a:ln w="1260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49"/>
            <p:cNvSpPr/>
            <p:nvPr/>
          </p:nvSpPr>
          <p:spPr>
            <a:xfrm flipH="1">
              <a:off x="8381880" y="3058560"/>
              <a:ext cx="7920" cy="209268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50"/>
            <p:cNvSpPr/>
            <p:nvPr/>
          </p:nvSpPr>
          <p:spPr>
            <a:xfrm flipH="1">
              <a:off x="7543800" y="2570040"/>
              <a:ext cx="7920" cy="258120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51"/>
            <p:cNvSpPr/>
            <p:nvPr/>
          </p:nvSpPr>
          <p:spPr>
            <a:xfrm>
              <a:off x="6027480" y="2081880"/>
              <a:ext cx="0" cy="97668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52"/>
            <p:cNvSpPr/>
            <p:nvPr/>
          </p:nvSpPr>
          <p:spPr>
            <a:xfrm>
              <a:off x="6027480" y="3058560"/>
              <a:ext cx="2362320" cy="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53"/>
            <p:cNvSpPr/>
            <p:nvPr/>
          </p:nvSpPr>
          <p:spPr>
            <a:xfrm>
              <a:off x="7399080" y="2081880"/>
              <a:ext cx="0" cy="976680"/>
            </a:xfrm>
            <a:prstGeom prst="line">
              <a:avLst/>
            </a:prstGeom>
            <a:ln w="1908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54"/>
            <p:cNvSpPr/>
            <p:nvPr/>
          </p:nvSpPr>
          <p:spPr>
            <a:xfrm>
              <a:off x="6408720" y="2081880"/>
              <a:ext cx="0" cy="48816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55"/>
            <p:cNvSpPr/>
            <p:nvPr/>
          </p:nvSpPr>
          <p:spPr>
            <a:xfrm>
              <a:off x="6408720" y="257004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56"/>
            <p:cNvSpPr/>
            <p:nvPr/>
          </p:nvSpPr>
          <p:spPr>
            <a:xfrm>
              <a:off x="8466120" y="2081880"/>
              <a:ext cx="0" cy="48816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57"/>
            <p:cNvSpPr/>
            <p:nvPr/>
          </p:nvSpPr>
          <p:spPr>
            <a:xfrm>
              <a:off x="7780320" y="2081880"/>
              <a:ext cx="0" cy="48816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58"/>
            <p:cNvSpPr/>
            <p:nvPr/>
          </p:nvSpPr>
          <p:spPr>
            <a:xfrm>
              <a:off x="6713280" y="2081880"/>
              <a:ext cx="0" cy="697680"/>
            </a:xfrm>
            <a:prstGeom prst="line">
              <a:avLst/>
            </a:prstGeom>
            <a:ln w="1260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59"/>
            <p:cNvSpPr/>
            <p:nvPr/>
          </p:nvSpPr>
          <p:spPr>
            <a:xfrm>
              <a:off x="6713280" y="2779560"/>
              <a:ext cx="1371600" cy="0"/>
            </a:xfrm>
            <a:prstGeom prst="line">
              <a:avLst/>
            </a:prstGeom>
            <a:ln w="1260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60"/>
            <p:cNvSpPr/>
            <p:nvPr/>
          </p:nvSpPr>
          <p:spPr>
            <a:xfrm>
              <a:off x="8084880" y="2081880"/>
              <a:ext cx="0" cy="697680"/>
            </a:xfrm>
            <a:prstGeom prst="line">
              <a:avLst/>
            </a:prstGeom>
            <a:ln w="1260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61"/>
            <p:cNvSpPr/>
            <p:nvPr/>
          </p:nvSpPr>
          <p:spPr>
            <a:xfrm>
              <a:off x="7094520" y="2081880"/>
              <a:ext cx="0" cy="48816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71"/>
            <p:cNvSpPr/>
            <p:nvPr/>
          </p:nvSpPr>
          <p:spPr>
            <a:xfrm>
              <a:off x="8054280" y="2570040"/>
              <a:ext cx="72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 Narrow"/>
                  <a:ea typeface="Arial"/>
                </a:rPr>
                <a:t>vHUB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73"/>
            <p:cNvSpPr/>
            <p:nvPr/>
          </p:nvSpPr>
          <p:spPr>
            <a:xfrm flipH="1">
              <a:off x="6139800" y="3965400"/>
              <a:ext cx="255240" cy="13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74"/>
            <p:cNvSpPr/>
            <p:nvPr/>
          </p:nvSpPr>
          <p:spPr>
            <a:xfrm flipH="1">
              <a:off x="6652440" y="3965400"/>
              <a:ext cx="63828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yloa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75"/>
            <p:cNvSpPr/>
            <p:nvPr/>
          </p:nvSpPr>
          <p:spPr>
            <a:xfrm flipH="1">
              <a:off x="7289640" y="3965400"/>
              <a:ext cx="154080" cy="13500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76"/>
            <p:cNvSpPr/>
            <p:nvPr/>
          </p:nvSpPr>
          <p:spPr>
            <a:xfrm flipH="1">
              <a:off x="5738760" y="3970080"/>
              <a:ext cx="401760" cy="13500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77"/>
            <p:cNvSpPr/>
            <p:nvPr/>
          </p:nvSpPr>
          <p:spPr>
            <a:xfrm flipH="1">
              <a:off x="5815080" y="3965400"/>
              <a:ext cx="218880" cy="13968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ke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78"/>
            <p:cNvSpPr/>
            <p:nvPr/>
          </p:nvSpPr>
          <p:spPr>
            <a:xfrm flipH="1">
              <a:off x="6397560" y="3965400"/>
              <a:ext cx="255600" cy="13968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L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79"/>
            <p:cNvSpPr/>
            <p:nvPr/>
          </p:nvSpPr>
          <p:spPr>
            <a:xfrm flipH="1">
              <a:off x="6139800" y="4174560"/>
              <a:ext cx="255240" cy="13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80"/>
            <p:cNvSpPr/>
            <p:nvPr/>
          </p:nvSpPr>
          <p:spPr>
            <a:xfrm flipH="1">
              <a:off x="6652440" y="4174560"/>
              <a:ext cx="63828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yloa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81"/>
            <p:cNvSpPr/>
            <p:nvPr/>
          </p:nvSpPr>
          <p:spPr>
            <a:xfrm flipH="1">
              <a:off x="7289640" y="4174560"/>
              <a:ext cx="154080" cy="13500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82"/>
            <p:cNvSpPr/>
            <p:nvPr/>
          </p:nvSpPr>
          <p:spPr>
            <a:xfrm flipH="1">
              <a:off x="5738760" y="4179240"/>
              <a:ext cx="401760" cy="13500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83"/>
            <p:cNvSpPr/>
            <p:nvPr/>
          </p:nvSpPr>
          <p:spPr>
            <a:xfrm flipH="1">
              <a:off x="5815080" y="4174560"/>
              <a:ext cx="218880" cy="1396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ke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84"/>
            <p:cNvSpPr/>
            <p:nvPr/>
          </p:nvSpPr>
          <p:spPr>
            <a:xfrm flipH="1">
              <a:off x="6397560" y="4174560"/>
              <a:ext cx="255600" cy="1396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L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85"/>
            <p:cNvSpPr/>
            <p:nvPr/>
          </p:nvSpPr>
          <p:spPr>
            <a:xfrm flipH="1">
              <a:off x="6139800" y="4384080"/>
              <a:ext cx="255240" cy="139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86"/>
            <p:cNvSpPr/>
            <p:nvPr/>
          </p:nvSpPr>
          <p:spPr>
            <a:xfrm flipH="1">
              <a:off x="6377040" y="4384080"/>
              <a:ext cx="91440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yloa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87"/>
            <p:cNvSpPr/>
            <p:nvPr/>
          </p:nvSpPr>
          <p:spPr>
            <a:xfrm flipH="1">
              <a:off x="7289640" y="4388760"/>
              <a:ext cx="154080" cy="13500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88"/>
            <p:cNvSpPr/>
            <p:nvPr/>
          </p:nvSpPr>
          <p:spPr>
            <a:xfrm flipH="1">
              <a:off x="5738760" y="4388760"/>
              <a:ext cx="401760" cy="13500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89"/>
            <p:cNvSpPr/>
            <p:nvPr/>
          </p:nvSpPr>
          <p:spPr>
            <a:xfrm flipH="1">
              <a:off x="5815080" y="4384080"/>
              <a:ext cx="218880" cy="139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ke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90"/>
            <p:cNvSpPr/>
            <p:nvPr/>
          </p:nvSpPr>
          <p:spPr>
            <a:xfrm>
              <a:off x="5767200" y="3895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91"/>
            <p:cNvSpPr/>
            <p:nvPr/>
          </p:nvSpPr>
          <p:spPr>
            <a:xfrm>
              <a:off x="6148440" y="3895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92"/>
            <p:cNvSpPr/>
            <p:nvPr/>
          </p:nvSpPr>
          <p:spPr>
            <a:xfrm>
              <a:off x="7291440" y="3895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93"/>
            <p:cNvSpPr/>
            <p:nvPr/>
          </p:nvSpPr>
          <p:spPr>
            <a:xfrm>
              <a:off x="6323040" y="3644280"/>
              <a:ext cx="79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  <a:ea typeface="Arial"/>
                </a:rPr>
                <a:t>Eth. fr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94"/>
            <p:cNvSpPr/>
            <p:nvPr/>
          </p:nvSpPr>
          <p:spPr>
            <a:xfrm>
              <a:off x="5920920" y="3268080"/>
              <a:ext cx="141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  <a:ea typeface="Arial"/>
                </a:rPr>
                <a:t>IB encapsulation hd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95"/>
            <p:cNvSpPr/>
            <p:nvPr/>
          </p:nvSpPr>
          <p:spPr>
            <a:xfrm flipH="1">
              <a:off x="5919840" y="3477240"/>
              <a:ext cx="45720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96"/>
            <p:cNvSpPr/>
            <p:nvPr/>
          </p:nvSpPr>
          <p:spPr>
            <a:xfrm>
              <a:off x="6910200" y="3477240"/>
              <a:ext cx="45720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01"/>
            <p:cNvSpPr/>
            <p:nvPr/>
          </p:nvSpPr>
          <p:spPr>
            <a:xfrm>
              <a:off x="4114800" y="1942200"/>
              <a:ext cx="838080" cy="139320"/>
            </a:xfrm>
            <a:prstGeom prst="rect">
              <a:avLst/>
            </a:prstGeom>
            <a:solidFill>
              <a:srgbClr val="008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Defau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02"/>
            <p:cNvSpPr/>
            <p:nvPr/>
          </p:nvSpPr>
          <p:spPr>
            <a:xfrm>
              <a:off x="4952880" y="1942200"/>
              <a:ext cx="914400" cy="139320"/>
            </a:xfrm>
            <a:prstGeom prst="rect">
              <a:avLst/>
            </a:prstGeom>
            <a:solidFill>
              <a:srgbClr val="7defe4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Gatew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05"/>
            <p:cNvSpPr/>
            <p:nvPr/>
          </p:nvSpPr>
          <p:spPr>
            <a:xfrm>
              <a:off x="4114800" y="1523880"/>
              <a:ext cx="1752480" cy="5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06"/>
            <p:cNvSpPr/>
            <p:nvPr/>
          </p:nvSpPr>
          <p:spPr>
            <a:xfrm>
              <a:off x="6172200" y="5430600"/>
              <a:ext cx="914400" cy="13968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B_path, myQP, dQ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07"/>
            <p:cNvSpPr/>
            <p:nvPr/>
          </p:nvSpPr>
          <p:spPr>
            <a:xfrm>
              <a:off x="6172200" y="5151600"/>
              <a:ext cx="914400" cy="139320"/>
            </a:xfrm>
            <a:prstGeom prst="rect">
              <a:avLst/>
            </a:prstGeom>
            <a:solidFill>
              <a:srgbClr val="7defe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IB_path, myQP, dQ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08"/>
            <p:cNvSpPr/>
            <p:nvPr/>
          </p:nvSpPr>
          <p:spPr>
            <a:xfrm>
              <a:off x="5333760" y="5151600"/>
              <a:ext cx="838440" cy="1393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MAC/VL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09"/>
            <p:cNvSpPr/>
            <p:nvPr/>
          </p:nvSpPr>
          <p:spPr>
            <a:xfrm>
              <a:off x="5333760" y="5430600"/>
              <a:ext cx="838440" cy="1396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MAC/VL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10"/>
            <p:cNvSpPr/>
            <p:nvPr/>
          </p:nvSpPr>
          <p:spPr>
            <a:xfrm>
              <a:off x="5333760" y="5570280"/>
              <a:ext cx="838440" cy="139320"/>
            </a:xfrm>
            <a:prstGeom prst="rect">
              <a:avLst/>
            </a:prstGeom>
            <a:solidFill>
              <a:srgbClr val="008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  <a:ea typeface="Times New Roman"/>
                </a:rPr>
                <a:t>Defaul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11"/>
            <p:cNvSpPr/>
            <p:nvPr/>
          </p:nvSpPr>
          <p:spPr>
            <a:xfrm>
              <a:off x="6172200" y="5570280"/>
              <a:ext cx="914400" cy="139320"/>
            </a:xfrm>
            <a:prstGeom prst="rect">
              <a:avLst/>
            </a:prstGeom>
            <a:solidFill>
              <a:srgbClr val="7defe4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Drop or Promiscuou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12"/>
            <p:cNvSpPr/>
            <p:nvPr/>
          </p:nvSpPr>
          <p:spPr>
            <a:xfrm>
              <a:off x="6172200" y="5290920"/>
              <a:ext cx="914400" cy="13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13"/>
            <p:cNvSpPr/>
            <p:nvPr/>
          </p:nvSpPr>
          <p:spPr>
            <a:xfrm>
              <a:off x="5333760" y="5290920"/>
              <a:ext cx="914400" cy="1393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14"/>
            <p:cNvSpPr/>
            <p:nvPr/>
          </p:nvSpPr>
          <p:spPr>
            <a:xfrm>
              <a:off x="5333760" y="5151600"/>
              <a:ext cx="1752840" cy="5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19840" y="3695040"/>
              <a:ext cx="1033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InfiniBand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Fabr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oIB Data-path Operation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1280"/>
            <a:ext cx="78692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: driver looks up the destination address {DMAC, VLAN} on the vHub contex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hit: forward to host using matching IB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miss: forward to gate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: deliver encapsulated Ethernet frames to net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packets are de-capsulated and delivered to the corresponding Ethernet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ress packets are associated to a vHub based on VLAN ID, and then sent to the correspond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oIB Driver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object: drivers/net/mlx4_vnic/ib_ml4_vnic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_core for InfiniBand services (e.g., multic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x4_core for data path HW off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y &amp; logon based on F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xt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 normal Ethernet net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s standard off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/Rx TCP/UDP check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/L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S/R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mo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oftware Stack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94" name="Rectangle 51"/>
          <p:cNvSpPr/>
          <p:nvPr/>
        </p:nvSpPr>
        <p:spPr>
          <a:xfrm>
            <a:off x="830160" y="1538280"/>
            <a:ext cx="7086600" cy="1628640"/>
          </a:xfrm>
          <a:prstGeom prst="rect">
            <a:avLst/>
          </a:prstGeom>
          <a:gradFill rotWithShape="0">
            <a:gsLst>
              <a:gs pos="0">
                <a:srgbClr val="6600cc">
                  <a:alpha val="20000"/>
                </a:srgbClr>
              </a:gs>
              <a:gs pos="100000">
                <a:srgbClr val="2f00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2"/>
          <p:cNvSpPr/>
          <p:nvPr/>
        </p:nvSpPr>
        <p:spPr>
          <a:xfrm>
            <a:off x="830160" y="3200400"/>
            <a:ext cx="7086600" cy="1878120"/>
          </a:xfrm>
          <a:prstGeom prst="rect">
            <a:avLst/>
          </a:prstGeom>
          <a:gradFill rotWithShape="0">
            <a:gsLst>
              <a:gs pos="0">
                <a:srgbClr val="ccffcc">
                  <a:alpha val="20000"/>
                </a:srgbClr>
              </a:gs>
              <a:gs pos="100000">
                <a:srgbClr val="5e76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3"/>
          <p:cNvSpPr/>
          <p:nvPr/>
        </p:nvSpPr>
        <p:spPr>
          <a:xfrm>
            <a:off x="1820880" y="6095880"/>
            <a:ext cx="892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B H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4"/>
          <p:cNvSpPr/>
          <p:nvPr/>
        </p:nvSpPr>
        <p:spPr>
          <a:xfrm>
            <a:off x="2816280" y="6095880"/>
            <a:ext cx="5223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5"/>
          <p:cNvSpPr/>
          <p:nvPr/>
        </p:nvSpPr>
        <p:spPr>
          <a:xfrm>
            <a:off x="3629160" y="6095880"/>
            <a:ext cx="38480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Connec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9"/>
          <p:cNvSpPr/>
          <p:nvPr/>
        </p:nvSpPr>
        <p:spPr>
          <a:xfrm>
            <a:off x="1820880" y="5562720"/>
            <a:ext cx="8650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1"/>
          <p:cNvSpPr/>
          <p:nvPr/>
        </p:nvSpPr>
        <p:spPr>
          <a:xfrm>
            <a:off x="3614760" y="5746680"/>
            <a:ext cx="3867120" cy="21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LX4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2"/>
          <p:cNvSpPr/>
          <p:nvPr/>
        </p:nvSpPr>
        <p:spPr>
          <a:xfrm>
            <a:off x="2797200" y="5562720"/>
            <a:ext cx="5335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TH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0"/>
          <p:cNvSpPr/>
          <p:nvPr/>
        </p:nvSpPr>
        <p:spPr>
          <a:xfrm>
            <a:off x="3619440" y="4390920"/>
            <a:ext cx="390600" cy="22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1"/>
          <p:cNvSpPr/>
          <p:nvPr/>
        </p:nvSpPr>
        <p:spPr>
          <a:xfrm>
            <a:off x="1820880" y="4686480"/>
            <a:ext cx="274320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Verbs /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2"/>
          <p:cNvSpPr/>
          <p:nvPr/>
        </p:nvSpPr>
        <p:spPr>
          <a:xfrm>
            <a:off x="4100400" y="4381560"/>
            <a:ext cx="457200" cy="23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5"/>
          <p:cNvSpPr/>
          <p:nvPr/>
        </p:nvSpPr>
        <p:spPr>
          <a:xfrm>
            <a:off x="4335480" y="2757600"/>
            <a:ext cx="762120" cy="3045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3c6fb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Level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erbs /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6"/>
          <p:cNvSpPr/>
          <p:nvPr/>
        </p:nvSpPr>
        <p:spPr>
          <a:xfrm>
            <a:off x="3801960" y="34434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7"/>
          <p:cNvSpPr/>
          <p:nvPr/>
        </p:nvSpPr>
        <p:spPr>
          <a:xfrm>
            <a:off x="3268800" y="3443400"/>
            <a:ext cx="45720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PoI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8"/>
          <p:cNvSpPr/>
          <p:nvPr/>
        </p:nvSpPr>
        <p:spPr>
          <a:xfrm>
            <a:off x="4640400" y="3443400"/>
            <a:ext cx="380880" cy="380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9"/>
          <p:cNvSpPr/>
          <p:nvPr/>
        </p:nvSpPr>
        <p:spPr>
          <a:xfrm>
            <a:off x="5097600" y="34434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1"/>
          <p:cNvSpPr/>
          <p:nvPr/>
        </p:nvSpPr>
        <p:spPr>
          <a:xfrm>
            <a:off x="4335480" y="237636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DAP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82"/>
          <p:cNvSpPr/>
          <p:nvPr/>
        </p:nvSpPr>
        <p:spPr>
          <a:xfrm>
            <a:off x="3726000" y="275760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P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3"/>
          <p:cNvSpPr/>
          <p:nvPr/>
        </p:nvSpPr>
        <p:spPr>
          <a:xfrm>
            <a:off x="1973160" y="2757600"/>
            <a:ext cx="121932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Level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4"/>
          <p:cNvSpPr/>
          <p:nvPr/>
        </p:nvSpPr>
        <p:spPr>
          <a:xfrm>
            <a:off x="2506680" y="2376360"/>
            <a:ext cx="685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85"/>
          <p:cNvSpPr/>
          <p:nvPr/>
        </p:nvSpPr>
        <p:spPr>
          <a:xfrm>
            <a:off x="1973160" y="2376360"/>
            <a:ext cx="4572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86"/>
          <p:cNvSpPr/>
          <p:nvPr/>
        </p:nvSpPr>
        <p:spPr>
          <a:xfrm>
            <a:off x="830160" y="601992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7"/>
          <p:cNvSpPr/>
          <p:nvPr/>
        </p:nvSpPr>
        <p:spPr>
          <a:xfrm>
            <a:off x="830160" y="50673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88"/>
          <p:cNvSpPr/>
          <p:nvPr/>
        </p:nvSpPr>
        <p:spPr>
          <a:xfrm>
            <a:off x="830160" y="392436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89"/>
          <p:cNvSpPr/>
          <p:nvPr/>
        </p:nvSpPr>
        <p:spPr>
          <a:xfrm>
            <a:off x="830160" y="316692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0"/>
          <p:cNvSpPr/>
          <p:nvPr/>
        </p:nvSpPr>
        <p:spPr>
          <a:xfrm>
            <a:off x="830160" y="6095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1"/>
          <p:cNvSpPr/>
          <p:nvPr/>
        </p:nvSpPr>
        <p:spPr>
          <a:xfrm>
            <a:off x="830160" y="55627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2"/>
          <p:cNvSpPr/>
          <p:nvPr/>
        </p:nvSpPr>
        <p:spPr>
          <a:xfrm>
            <a:off x="830160" y="44197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d-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3"/>
          <p:cNvSpPr/>
          <p:nvPr/>
        </p:nvSpPr>
        <p:spPr>
          <a:xfrm>
            <a:off x="830160" y="324648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per Layer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4"/>
          <p:cNvSpPr/>
          <p:nvPr/>
        </p:nvSpPr>
        <p:spPr>
          <a:xfrm>
            <a:off x="906480" y="260496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95"/>
          <p:cNvSpPr/>
          <p:nvPr/>
        </p:nvSpPr>
        <p:spPr>
          <a:xfrm>
            <a:off x="6926400" y="31240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Kerne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6"/>
          <p:cNvSpPr/>
          <p:nvPr/>
        </p:nvSpPr>
        <p:spPr>
          <a:xfrm>
            <a:off x="6973920" y="2911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User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99"/>
          <p:cNvSpPr/>
          <p:nvPr/>
        </p:nvSpPr>
        <p:spPr>
          <a:xfrm>
            <a:off x="4030560" y="20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00"/>
          <p:cNvSpPr/>
          <p:nvPr/>
        </p:nvSpPr>
        <p:spPr>
          <a:xfrm>
            <a:off x="4716360" y="2071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02"/>
          <p:cNvSpPr/>
          <p:nvPr/>
        </p:nvSpPr>
        <p:spPr>
          <a:xfrm>
            <a:off x="5021280" y="20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3"/>
          <p:cNvSpPr/>
          <p:nvPr/>
        </p:nvSpPr>
        <p:spPr>
          <a:xfrm>
            <a:off x="906480" y="1630440"/>
            <a:ext cx="110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06"/>
          <p:cNvSpPr/>
          <p:nvPr/>
        </p:nvSpPr>
        <p:spPr>
          <a:xfrm>
            <a:off x="5326200" y="2071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07"/>
          <p:cNvSpPr/>
          <p:nvPr/>
        </p:nvSpPr>
        <p:spPr>
          <a:xfrm>
            <a:off x="4792680" y="32907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08"/>
          <p:cNvSpPr/>
          <p:nvPr/>
        </p:nvSpPr>
        <p:spPr>
          <a:xfrm>
            <a:off x="4792680" y="32907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09"/>
          <p:cNvSpPr/>
          <p:nvPr/>
        </p:nvSpPr>
        <p:spPr>
          <a:xfrm>
            <a:off x="3954600" y="32907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10"/>
          <p:cNvSpPr/>
          <p:nvPr/>
        </p:nvSpPr>
        <p:spPr>
          <a:xfrm>
            <a:off x="3497400" y="3290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11"/>
          <p:cNvSpPr/>
          <p:nvPr/>
        </p:nvSpPr>
        <p:spPr>
          <a:xfrm>
            <a:off x="3497400" y="2071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12"/>
          <p:cNvSpPr/>
          <p:nvPr/>
        </p:nvSpPr>
        <p:spPr>
          <a:xfrm>
            <a:off x="4716360" y="26812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13"/>
          <p:cNvSpPr/>
          <p:nvPr/>
        </p:nvSpPr>
        <p:spPr>
          <a:xfrm>
            <a:off x="3143160" y="4390920"/>
            <a:ext cx="381240" cy="23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8"/>
          <p:cNvSpPr/>
          <p:nvPr/>
        </p:nvSpPr>
        <p:spPr>
          <a:xfrm>
            <a:off x="3878280" y="161460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ck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ased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9"/>
          <p:cNvSpPr/>
          <p:nvPr/>
        </p:nvSpPr>
        <p:spPr>
          <a:xfrm>
            <a:off x="4564080" y="1614600"/>
            <a:ext cx="53352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Vario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P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1"/>
          <p:cNvSpPr/>
          <p:nvPr/>
        </p:nvSpPr>
        <p:spPr>
          <a:xfrm>
            <a:off x="5173560" y="1614600"/>
            <a:ext cx="60984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lo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22"/>
          <p:cNvSpPr/>
          <p:nvPr/>
        </p:nvSpPr>
        <p:spPr>
          <a:xfrm>
            <a:off x="3192480" y="161460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P Bas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23"/>
          <p:cNvSpPr/>
          <p:nvPr/>
        </p:nvSpPr>
        <p:spPr>
          <a:xfrm>
            <a:off x="830160" y="1523880"/>
            <a:ext cx="7086600" cy="495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24"/>
          <p:cNvSpPr/>
          <p:nvPr/>
        </p:nvSpPr>
        <p:spPr>
          <a:xfrm>
            <a:off x="830160" y="23004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1"/>
          <p:cNvSpPr/>
          <p:nvPr/>
        </p:nvSpPr>
        <p:spPr>
          <a:xfrm>
            <a:off x="3635280" y="5411880"/>
            <a:ext cx="831960" cy="25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LX4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1"/>
          <p:cNvSpPr/>
          <p:nvPr/>
        </p:nvSpPr>
        <p:spPr>
          <a:xfrm>
            <a:off x="4560840" y="5411880"/>
            <a:ext cx="831960" cy="25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LX4 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97560" y="5167440"/>
            <a:ext cx="1977840" cy="506160"/>
          </a:xfrm>
          <a:prstGeom prst="rect">
            <a:avLst/>
          </a:prstGeom>
          <a:solidFill>
            <a:srgbClr val="cc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1"/>
          <p:cNvSpPr/>
          <p:nvPr/>
        </p:nvSpPr>
        <p:spPr>
          <a:xfrm>
            <a:off x="6296040" y="5230800"/>
            <a:ext cx="669960" cy="37620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v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net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1"/>
          <p:cNvSpPr/>
          <p:nvPr/>
        </p:nvSpPr>
        <p:spPr>
          <a:xfrm>
            <a:off x="5587920" y="5230800"/>
            <a:ext cx="646200" cy="37296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v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dis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173400" y="4316400"/>
            <a:ext cx="138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122720"/>
            <a:ext cx="0" cy="11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4143240"/>
            <a:ext cx="0" cy="150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840120" y="4122360"/>
            <a:ext cx="21034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45840" y="5208480"/>
            <a:ext cx="50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LX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v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Gateway Discovery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68120" y="1906200"/>
            <a:ext cx="40417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30520" y="1806480"/>
            <a:ext cx="5508360" cy="2111400"/>
            <a:chOff x="1730520" y="1806480"/>
            <a:chExt cx="5508360" cy="2111400"/>
          </a:xfrm>
        </p:grpSpPr>
        <p:graphicFrame>
          <p:nvGraphicFramePr>
            <p:cNvPr id="357" name="Text Placeholder 2"/>
            <p:cNvGraphicFramePr/>
            <p:nvPr/>
          </p:nvGraphicFramePr>
          <p:xfrm>
            <a:off x="1730520" y="2044440"/>
            <a:ext cx="5508360" cy="1873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8" name="Text Placeholder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0520" y="2044440"/>
                      <a:ext cx="5508360" cy="187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"/>
            <p:cNvSpPr/>
            <p:nvPr/>
          </p:nvSpPr>
          <p:spPr>
            <a:xfrm>
              <a:off x="3522600" y="1806480"/>
              <a:ext cx="2437920" cy="30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ertise Initiated Dis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192400" y="4216320"/>
            <a:ext cx="4817880" cy="2036880"/>
            <a:chOff x="2192400" y="4216320"/>
            <a:chExt cx="4817880" cy="2036880"/>
          </a:xfrm>
        </p:grpSpPr>
        <p:graphicFrame>
          <p:nvGraphicFramePr>
            <p:cNvPr id="361" name="Text Placeholder 2"/>
            <p:cNvGraphicFramePr/>
            <p:nvPr/>
          </p:nvGraphicFramePr>
          <p:xfrm>
            <a:off x="2192400" y="4554720"/>
            <a:ext cx="4817880" cy="1698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2" name="Text Placeholder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92400" y="4554720"/>
                      <a:ext cx="4817880" cy="16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3483000" y="4216320"/>
              <a:ext cx="2556720" cy="307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icitation Initiated Dis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Login and Context Managemen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025640" y="1066680"/>
            <a:ext cx="6950880" cy="5400720"/>
            <a:chOff x="1025640" y="1066680"/>
            <a:chExt cx="6950880" cy="5400720"/>
          </a:xfrm>
        </p:grpSpPr>
        <p:grpSp>
          <p:nvGrpSpPr>
            <p:cNvPr id="366" name=""/>
            <p:cNvGrpSpPr/>
            <p:nvPr/>
          </p:nvGrpSpPr>
          <p:grpSpPr>
            <a:xfrm>
              <a:off x="1025640" y="1676160"/>
              <a:ext cx="6950880" cy="4503600"/>
              <a:chOff x="1025640" y="1676160"/>
              <a:chExt cx="6950880" cy="4503600"/>
            </a:xfrm>
          </p:grpSpPr>
          <p:graphicFrame>
            <p:nvGraphicFramePr>
              <p:cNvPr id="367" name="Text Placeholder 2"/>
              <p:cNvGraphicFramePr/>
              <p:nvPr/>
            </p:nvGraphicFramePr>
            <p:xfrm>
              <a:off x="1025640" y="1676160"/>
              <a:ext cx="6950880" cy="7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68" name="Text Placeholder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25640" y="1676160"/>
                        <a:ext cx="6950880" cy="7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9" name="Text Placeholder 2"/>
              <p:cNvGraphicFramePr/>
              <p:nvPr/>
            </p:nvGraphicFramePr>
            <p:xfrm>
              <a:off x="1042560" y="2395440"/>
              <a:ext cx="6872040" cy="3784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70" name="Text Placeholder 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042560" y="2395440"/>
                        <a:ext cx="6872040" cy="3784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71" name=""/>
            <p:cNvSpPr/>
            <p:nvPr/>
          </p:nvSpPr>
          <p:spPr>
            <a:xfrm>
              <a:off x="3725640" y="6107040"/>
              <a:ext cx="117108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90000" y="1066680"/>
              <a:ext cx="3276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838080" y="1676520"/>
            <a:ext cx="7315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5943600"/>
            <a:ext cx="7315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oIB Data Plan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8640" y="4365720"/>
            <a:ext cx="3816360" cy="208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94120" y="2657520"/>
            <a:ext cx="414036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2666880"/>
            <a:ext cx="426744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1676520"/>
            <a:ext cx="9144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or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1676520"/>
            <a:ext cx="9144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or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09880" y="1676520"/>
            <a:ext cx="9144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or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1676520"/>
            <a:ext cx="9144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or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28195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133720" y="2057040"/>
            <a:ext cx="9903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124080" y="20570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06668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03848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2209320" y="2057040"/>
            <a:ext cx="297180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3200400" y="2057040"/>
            <a:ext cx="297648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4203720" y="2080800"/>
            <a:ext cx="2959200" cy="73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5257440" y="2057040"/>
            <a:ext cx="297180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9480" y="2438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port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2438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por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18040" y="619920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vnic0 (netdev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03500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98108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77840" y="2895480"/>
            <a:ext cx="38124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2895480"/>
            <a:ext cx="22860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 Narrow"/>
                <a:ea typeface="Arial"/>
              </a:rPr>
              <a:t>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28195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68560" y="2895480"/>
            <a:ext cx="38088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52480" y="2895480"/>
            <a:ext cx="22860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 Narrow"/>
                <a:ea typeface="Arial"/>
              </a:rPr>
              <a:t>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66880" y="28195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59280" y="2895480"/>
            <a:ext cx="38088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743200" y="2895480"/>
            <a:ext cx="22860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 Narrow"/>
                <a:ea typeface="Arial"/>
              </a:rPr>
              <a:t>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28195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049640" y="2895480"/>
            <a:ext cx="38124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33920" y="2895480"/>
            <a:ext cx="22860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 Narrow"/>
                <a:ea typeface="Arial"/>
              </a:rPr>
              <a:t>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81952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971960" y="28195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64000" y="2895480"/>
            <a:ext cx="38124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48280" y="2895480"/>
            <a:ext cx="22860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 Narrow"/>
                <a:ea typeface="Arial"/>
              </a:rPr>
              <a:t>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962680" y="28195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354720" y="2895480"/>
            <a:ext cx="38088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39000" y="2895480"/>
            <a:ext cx="22860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 Narrow"/>
                <a:ea typeface="Arial"/>
              </a:rPr>
              <a:t>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3400" y="28195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345440" y="2895480"/>
            <a:ext cx="38088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29360" y="2895480"/>
            <a:ext cx="22860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 Narrow"/>
                <a:ea typeface="Arial"/>
              </a:rPr>
              <a:t>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943760" y="2819520"/>
            <a:ext cx="91440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35800" y="2895480"/>
            <a:ext cx="38124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20080" y="2895480"/>
            <a:ext cx="228600" cy="49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 Narrow"/>
                <a:ea typeface="Arial"/>
              </a:rPr>
              <a:t>S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843360" y="3580920"/>
            <a:ext cx="0" cy="100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41440" y="4475160"/>
            <a:ext cx="863640" cy="8985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469584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67000" y="4479840"/>
            <a:ext cx="863280" cy="8985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23880" y="4700520"/>
            <a:ext cx="3812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403360" y="4479840"/>
            <a:ext cx="863640" cy="8985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467080" y="470052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340080" y="4470480"/>
            <a:ext cx="863640" cy="8985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09920" y="469116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3360" y="5084640"/>
            <a:ext cx="380880" cy="26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LRO</a:t>
            </a:r>
            <a:br>
              <a:rPr sz="800"/>
            </a:b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N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30360" y="5094360"/>
            <a:ext cx="380880" cy="26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LRO</a:t>
            </a:r>
            <a:br>
              <a:rPr sz="800"/>
            </a:b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N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470320" y="5091120"/>
            <a:ext cx="380880" cy="26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LRO</a:t>
            </a:r>
            <a:br>
              <a:rPr sz="800"/>
            </a:b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N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11360" y="5084640"/>
            <a:ext cx="381240" cy="26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LRO</a:t>
            </a:r>
            <a:br>
              <a:rPr sz="800"/>
            </a:b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N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19720" y="4365720"/>
            <a:ext cx="3816360" cy="208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172280" y="619920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vnic1 (netdev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02160" y="4475160"/>
            <a:ext cx="863640" cy="8985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6680" y="4695840"/>
            <a:ext cx="3812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27720" y="4479840"/>
            <a:ext cx="863640" cy="8985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492880" y="470052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364440" y="4479840"/>
            <a:ext cx="863280" cy="8985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38960" y="4700520"/>
            <a:ext cx="380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00800" y="4470480"/>
            <a:ext cx="863640" cy="8985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375680" y="4691160"/>
            <a:ext cx="38088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564080" y="5084640"/>
            <a:ext cx="380880" cy="26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LRO</a:t>
            </a:r>
            <a:br>
              <a:rPr sz="800"/>
            </a:b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N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91080" y="5094360"/>
            <a:ext cx="381240" cy="26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LRO</a:t>
            </a:r>
            <a:br>
              <a:rPr sz="800"/>
            </a:b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N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431040" y="5091120"/>
            <a:ext cx="380880" cy="26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LRO</a:t>
            </a:r>
            <a:br>
              <a:rPr sz="800"/>
            </a:b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N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372440" y="5084640"/>
            <a:ext cx="380880" cy="26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LRO</a:t>
            </a:r>
            <a:br>
              <a:rPr sz="800"/>
            </a:br>
            <a:r>
              <a:rPr b="1" lang="en-US" sz="800" spc="-1" strike="noStrike">
                <a:solidFill>
                  <a:srgbClr val="241172"/>
                </a:solidFill>
                <a:latin typeface="Arial Narrow"/>
                <a:ea typeface="Arial"/>
              </a:rPr>
              <a:t>N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2854080" y="3580920"/>
            <a:ext cx="3660840" cy="89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068200" y="3581280"/>
            <a:ext cx="3646440" cy="898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3927240" y="3581280"/>
            <a:ext cx="3524040" cy="88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1130040" y="3581280"/>
            <a:ext cx="3663720" cy="88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42880" y="5445000"/>
            <a:ext cx="8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5468760"/>
            <a:ext cx="351000" cy="41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</a:t>
            </a:r>
            <a:br>
              <a:rPr sz="1200"/>
            </a:b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467000" y="5443560"/>
            <a:ext cx="8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33600" y="5467320"/>
            <a:ext cx="35064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</a:t>
            </a:r>
            <a:br>
              <a:rPr sz="1200"/>
            </a:b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03360" y="5443560"/>
            <a:ext cx="8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70320" y="5467320"/>
            <a:ext cx="35064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</a:t>
            </a:r>
            <a:br>
              <a:rPr sz="1200"/>
            </a:b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340080" y="5443560"/>
            <a:ext cx="8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06680" y="5467320"/>
            <a:ext cx="35100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</a:t>
            </a:r>
            <a:br>
              <a:rPr sz="1200"/>
            </a:b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491000" y="5443560"/>
            <a:ext cx="8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57600" y="5467320"/>
            <a:ext cx="35100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</a:t>
            </a:r>
            <a:br>
              <a:rPr sz="1200"/>
            </a:b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27720" y="5443560"/>
            <a:ext cx="8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494320" y="5467320"/>
            <a:ext cx="35100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</a:t>
            </a:r>
            <a:br>
              <a:rPr sz="1200"/>
            </a:b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364440" y="5443560"/>
            <a:ext cx="8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31040" y="5467320"/>
            <a:ext cx="35064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</a:t>
            </a:r>
            <a:br>
              <a:rPr sz="1200"/>
            </a:b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299360" y="5443560"/>
            <a:ext cx="8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365960" y="5467320"/>
            <a:ext cx="351000" cy="419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TX</a:t>
            </a:r>
            <a:br>
              <a:rPr sz="1200"/>
            </a:b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C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76880" y="1219320"/>
            <a:ext cx="2860920" cy="1431720"/>
          </a:xfrm>
          <a:prstGeom prst="cloudCallout">
            <a:avLst>
              <a:gd name="adj1" fmla="val -61319"/>
              <a:gd name="adj2" fmla="val 349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2 IB por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4 co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2 vnics on IB port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RSS_size =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#TX rings = #cores per vnic</a:t>
            </a:r>
            <a:br>
              <a:rPr sz="900"/>
            </a:br>
            <a:r>
              <a:rPr b="1" lang="en-US" sz="900" spc="-1" strike="noStrike">
                <a:solidFill>
                  <a:srgbClr val="241172"/>
                </a:solidFill>
                <a:latin typeface="Arial"/>
              </a:rPr>
              <a:t>- #RX rings= #cores per 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92160" y="525312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Q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917720" y="525780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Q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854440" y="525780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Q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790800" y="524844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QP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952880" y="525312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Q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878440" y="5257800"/>
            <a:ext cx="38124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Q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15160" y="525780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Q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751880" y="5248440"/>
            <a:ext cx="380880" cy="380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  <a:ea typeface="Arial"/>
              </a:rPr>
              <a:t>QP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vNIC Typ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dministered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NICs are created / destroyed / enabled / disabled by the network admin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host is disconnected its vNICs dis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Administered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NICs managed by host admini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host is disconnected its vNICs bring down the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Host Administered Usag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NICs managed via standard configuration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/etc/sysconfig/network-script/ifcfg-et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service reads the configuration file and creates / destroys corresponding v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is a standard init.d script in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etc/init.d/network-vnic {start | stop | restart | reload | status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runs on b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s consistency between host reb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admin can modify the configuration file and restart service at any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less brid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o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o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onfiguration File Exampl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6121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 /etc/sysconfig/network-scripts/ifcfg-et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llanox Technologies Virtual NIC #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DEVICE=eth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BOOTPROTO=no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HWADDR=00:30:48:7d:de:e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NBOOT=y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PADDR=11.20.1.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NETMASK=255.255.0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Eth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Courier New"/>
                <a:ea typeface="Courier New"/>
              </a:rPr>
              <a:t>BXADDR=00:00:02:c9:03:11:03:0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Courier New"/>
                <a:ea typeface="Courier New"/>
              </a:rPr>
              <a:t>BXEPORT=A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Courier New"/>
                <a:ea typeface="Courier New"/>
              </a:rPr>
              <a:t>VNICVLAN=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Courier New"/>
                <a:ea typeface="Courier New"/>
              </a:rPr>
              <a:t>VNICIBPORT=mlx4_0:1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 /etc/sysconfig/network-scripts/ifcfg-et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llanox Technologies Virtual NIC #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DEVICE=eth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BOOTPROTO=no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HWADDR=00:30:48:7d:de:e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ONBOOT=y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PADDR=11.20.1.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NETMASK=255.255.0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Eth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Courier New"/>
                <a:ea typeface="Courier New"/>
              </a:rPr>
              <a:t>BXADDR=00:00:02:c9:03:11:03:0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Courier New"/>
                <a:ea typeface="Courier New"/>
              </a:rPr>
              <a:t>BXEPORT=A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Courier New"/>
                <a:ea typeface="Courier New"/>
              </a:rPr>
              <a:t>VNICVLAN=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00"/>
                </a:solidFill>
                <a:latin typeface="Courier New"/>
                <a:ea typeface="Courier New"/>
              </a:rPr>
              <a:t>VNICIBPORT=mlx4_0:1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022720" y="2057400"/>
            <a:ext cx="289080" cy="1008000"/>
          </a:xfrm>
          <a:custGeom>
            <a:avLst/>
            <a:gdLst>
              <a:gd name="textAreaLeft" fmla="*/ 0 w 289080"/>
              <a:gd name="textAreaRight" fmla="*/ 104400 w 289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22720" y="3138480"/>
            <a:ext cx="289080" cy="719280"/>
          </a:xfrm>
          <a:custGeom>
            <a:avLst/>
            <a:gdLst>
              <a:gd name="textAreaLeft" fmla="*/ 0 w 289080"/>
              <a:gd name="textAreaRight" fmla="*/ 104400 w 289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311800" y="2130480"/>
            <a:ext cx="2232000" cy="863640"/>
          </a:xfrm>
          <a:prstGeom prst="wedgeRoundRectCallout">
            <a:avLst>
              <a:gd name="adj1" fmla="val 38689"/>
              <a:gd name="adj2" fmla="val 1176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ndard network settings as supported by the Operating System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11800" y="3065400"/>
            <a:ext cx="2087640" cy="863640"/>
          </a:xfrm>
          <a:prstGeom prst="wedgeRoundRectCallout">
            <a:avLst>
              <a:gd name="adj1" fmla="val 71597"/>
              <a:gd name="adj2" fmla="val -64523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Courier New"/>
                <a:ea typeface="Courier New"/>
              </a:rPr>
              <a:t>vNIC configuration supported by network-vnic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448320" y="3505320"/>
            <a:ext cx="2667240" cy="1447560"/>
          </a:xfrm>
          <a:prstGeom prst="cloudCallout">
            <a:avLst>
              <a:gd name="adj1" fmla="val -26847"/>
              <a:gd name="adj2" fmla="val -10011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 MAC is provided, the service will generate one; auto-generated macs are cached for consis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onfiguration Service Exampl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305920" cy="41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it.d/network-vnic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Virtual NIC interface eth2: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Virtual NIC interface eth3: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Virtual NIC interface eth4: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it.d/network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inging up interface eth0:         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inging up interface eth1:         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inging up interface eth2:         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inging up interface eth3:         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inging up interface eth4:         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inging up interface eth5:         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inging up interface eth6:         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ringing up interface eth7:                        [  </a:t>
            </a:r>
            <a:r>
              <a:rPr b="0" lang="en-US" sz="1000" spc="-1" strike="noStrike">
                <a:solidFill>
                  <a:srgbClr val="33cc33"/>
                </a:solidFill>
                <a:latin typeface="Courier New"/>
                <a:ea typeface="Courier New"/>
              </a:rPr>
              <a:t>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it.d/network-vnic 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 Admin-Mode  IB-Port   BX-Address               BX-Eport  MAC-Address               V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  ----------  --------  -----------------------  --------  ------------------------  -----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th2  Host        mlx4_0:1  00:00:02:c9:03:11:03:0f  A10       00:30:48:7d:de:e4         0 (disab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th3  Host        mlx4_0:1  00:00:02:c9:03:11:03:0f  A11       00:30:48:7d:de:e5       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th4  Host        mlx4_0:2  BX002_QA_LAB             A12       00:25:8b:01:00:01 (auto)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th5  Network     mlx4_0:1  BX001_QA_LAB             A10       00:25:8b:00:0c:02 (auto)  0 (disab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th6  Network     mlx4_1:1  BX001_QA_LAB             A11       00:25:8b:00:0c:03 (auto)  0 (disab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th7  Network     mlx4_1:2  BX001_QA_LAB             B11       00:25:8b:00:0c:04 (auto)  13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181480" y="2590920"/>
            <a:ext cx="2484360" cy="533160"/>
            <a:chOff x="5181480" y="2590920"/>
            <a:chExt cx="2484360" cy="533160"/>
          </a:xfrm>
        </p:grpSpPr>
        <p:sp>
          <p:nvSpPr>
            <p:cNvPr id="491" name=""/>
            <p:cNvSpPr/>
            <p:nvPr/>
          </p:nvSpPr>
          <p:spPr>
            <a:xfrm>
              <a:off x="5360760" y="2590920"/>
              <a:ext cx="2305080" cy="533160"/>
            </a:xfrm>
            <a:prstGeom prst="wedgeRoundRectCallout">
              <a:avLst>
                <a:gd name="adj1" fmla="val -59847"/>
                <a:gd name="adj2" fmla="val -14527"/>
                <a:gd name="adj3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Courier New"/>
                  <a:ea typeface="Courier New"/>
                </a:rPr>
                <a:t>eth0/eth1 are standard physical N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81480" y="2639880"/>
              <a:ext cx="144360" cy="24156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6120 h 241560"/>
                <a:gd name="textAreaBottom" fmla="*/ 235440 h 24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181480" y="2933640"/>
            <a:ext cx="2125440" cy="647640"/>
            <a:chOff x="5181480" y="2933640"/>
            <a:chExt cx="2125440" cy="647640"/>
          </a:xfrm>
        </p:grpSpPr>
        <p:sp>
          <p:nvSpPr>
            <p:cNvPr id="494" name=""/>
            <p:cNvSpPr/>
            <p:nvPr/>
          </p:nvSpPr>
          <p:spPr>
            <a:xfrm>
              <a:off x="5398920" y="2933640"/>
              <a:ext cx="1908000" cy="647640"/>
            </a:xfrm>
            <a:prstGeom prst="wedgeRoundRectCallout">
              <a:avLst>
                <a:gd name="adj1" fmla="val -66638"/>
                <a:gd name="adj2" fmla="val -15259"/>
                <a:gd name="adj3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0000"/>
                  </a:solidFill>
                  <a:latin typeface="Courier New"/>
                  <a:ea typeface="Courier New"/>
                </a:rPr>
                <a:t>eth2/eth3/eth4 are Mellanox Host Admin Virtual N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81480" y="2933640"/>
              <a:ext cx="144360" cy="43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11160 h 432000"/>
                <a:gd name="textAreaBottom" fmla="*/ 42084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181480" y="3403440"/>
            <a:ext cx="1946160" cy="711360"/>
            <a:chOff x="5181480" y="3403440"/>
            <a:chExt cx="1946160" cy="711360"/>
          </a:xfrm>
        </p:grpSpPr>
        <p:sp>
          <p:nvSpPr>
            <p:cNvPr id="497" name=""/>
            <p:cNvSpPr/>
            <p:nvPr/>
          </p:nvSpPr>
          <p:spPr>
            <a:xfrm>
              <a:off x="5398920" y="3403440"/>
              <a:ext cx="1728720" cy="711360"/>
            </a:xfrm>
            <a:prstGeom prst="wedgeRoundRectCallout">
              <a:avLst>
                <a:gd name="adj1" fmla="val -65518"/>
                <a:gd name="adj2" fmla="val -40990"/>
                <a:gd name="adj3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d4d4d"/>
                  </a:solidFill>
                  <a:latin typeface="Courier New"/>
                  <a:ea typeface="Courier New"/>
                </a:rPr>
                <a:t>eth5/eth6/eth7 are Mellanox Network Admin Virtual N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81480" y="3403440"/>
              <a:ext cx="144360" cy="47448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12240 h 474480"/>
                <a:gd name="textAreaBottom" fmla="*/ 4622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oIB Futur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vH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: availabl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submission in a few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ED integration will fo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Mware: 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und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: und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tateless Bridging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384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 does not hold any state beyond a single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 “speak” the targe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ed network is only a conduit between the host and the bri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protocol PDUs are carried (encapsulated) over the converged fabric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5105520"/>
            <a:ext cx="2743200" cy="1295280"/>
          </a:xfrm>
          <a:prstGeom prst="cloudCallout">
            <a:avLst>
              <a:gd name="adj1" fmla="val -28703"/>
              <a:gd name="adj2" fmla="val 3112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network (Eth/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Text Placeholder 2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676440" cy="990720"/>
          </a:xfrm>
          <a:prstGeom prst="rect">
            <a:avLst/>
          </a:prstGeom>
          <a:ln w="0">
            <a:noFill/>
          </a:ln>
        </p:spPr>
      </p:pic>
      <p:pic>
        <p:nvPicPr>
          <p:cNvPr id="104" name="Text Placeholder 2" descr=""/>
          <p:cNvPicPr/>
          <p:nvPr/>
        </p:nvPicPr>
        <p:blipFill>
          <a:blip r:embed="rId2"/>
          <a:srcRect l="2778" t="7763" r="2778" b="14757"/>
          <a:stretch/>
        </p:blipFill>
        <p:spPr>
          <a:xfrm>
            <a:off x="5029200" y="4014720"/>
            <a:ext cx="4038480" cy="1014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467560" y="1600200"/>
            <a:ext cx="676440" cy="99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248520" y="1523880"/>
            <a:ext cx="676080" cy="99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7629480" y="1523880"/>
            <a:ext cx="676440" cy="99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0920" y="3809880"/>
            <a:ext cx="162000" cy="304920"/>
          </a:xfrm>
          <a:prstGeom prst="upDownArrow">
            <a:avLst>
              <a:gd name="adj1" fmla="val 50000"/>
              <a:gd name="adj2" fmla="val 3747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4952880"/>
            <a:ext cx="162000" cy="304920"/>
          </a:xfrm>
          <a:prstGeom prst="upDownArrow">
            <a:avLst>
              <a:gd name="adj1" fmla="val 50000"/>
              <a:gd name="adj2" fmla="val 3747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57920" y="2286000"/>
            <a:ext cx="237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2286000"/>
            <a:ext cx="238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629120" y="2362320"/>
            <a:ext cx="142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381880" y="2438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53000" y="2514600"/>
            <a:ext cx="3362400" cy="1295280"/>
          </a:xfrm>
          <a:prstGeom prst="cloudCallout">
            <a:avLst>
              <a:gd name="adj1" fmla="val -27810"/>
              <a:gd name="adj2" fmla="val 311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converged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th/I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ibre Channel over Ethernet/IB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3809880" cy="32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xternal port is associated with a Virtual NPIV (vNPIV)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s FC connectivity within the intern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s as a normal NPIV port to 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a context table containing a record for each vH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W logs in to SAN and translates host FLOGI packets to FDIS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Text Placeholder 2" descr=""/>
          <p:cNvPicPr/>
          <p:nvPr/>
        </p:nvPicPr>
        <p:blipFill>
          <a:blip r:embed="rId1"/>
          <a:stretch/>
        </p:blipFill>
        <p:spPr>
          <a:xfrm>
            <a:off x="4267080" y="1935000"/>
            <a:ext cx="4648320" cy="2484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52880" y="4343400"/>
            <a:ext cx="3200400" cy="762120"/>
          </a:xfrm>
          <a:prstGeom prst="cloudCallout">
            <a:avLst>
              <a:gd name="adj1" fmla="val -37101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 S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CoXX – Data Path Operation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– destination address is always the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ress – FC Frame extracted from payload and processed by vH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FC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s up D_ID and send encapsulated frame to 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lookup fails, packet is dro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vH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frames: sent out on the FC port after source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frames: gateway executes the lo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CoXX Driver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/scsi/mlx4_fc/ml4x_fc.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/scsi/mlx4_fc/ml4x_fcoib.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_core for InfiniBand services (FCoI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device subsystem for FIP (FCo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x4_core for data path HW off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y &amp; lo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P for FCo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P-based for FCo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normal SCSI device to SCSI mid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SCSI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 exchanges completely offloaded in H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oftware Stack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304920" y="1538280"/>
            <a:ext cx="8534160" cy="1628640"/>
          </a:xfrm>
          <a:prstGeom prst="rect">
            <a:avLst/>
          </a:prstGeom>
          <a:gradFill rotWithShape="0">
            <a:gsLst>
              <a:gs pos="0">
                <a:srgbClr val="6600cc">
                  <a:alpha val="20000"/>
                </a:srgbClr>
              </a:gs>
              <a:gs pos="100000">
                <a:srgbClr val="2f00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2"/>
          <p:cNvSpPr/>
          <p:nvPr/>
        </p:nvSpPr>
        <p:spPr>
          <a:xfrm>
            <a:off x="304920" y="3200400"/>
            <a:ext cx="8534160" cy="1741320"/>
          </a:xfrm>
          <a:prstGeom prst="rect">
            <a:avLst/>
          </a:prstGeom>
          <a:gradFill rotWithShape="0">
            <a:gsLst>
              <a:gs pos="0">
                <a:srgbClr val="ccffcc">
                  <a:alpha val="20000"/>
                </a:srgbClr>
              </a:gs>
              <a:gs pos="100000">
                <a:srgbClr val="5e765e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1295280" y="6095880"/>
            <a:ext cx="8924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B H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2300400" y="6095880"/>
            <a:ext cx="53956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Connec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1295280" y="5562720"/>
            <a:ext cx="86544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pecific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1"/>
          <p:cNvSpPr/>
          <p:nvPr/>
        </p:nvSpPr>
        <p:spPr>
          <a:xfrm>
            <a:off x="2286000" y="5746680"/>
            <a:ext cx="5410080" cy="21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LX4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0"/>
          <p:cNvSpPr/>
          <p:nvPr/>
        </p:nvSpPr>
        <p:spPr>
          <a:xfrm>
            <a:off x="2762280" y="4265640"/>
            <a:ext cx="390600" cy="227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1"/>
          <p:cNvSpPr/>
          <p:nvPr/>
        </p:nvSpPr>
        <p:spPr>
          <a:xfrm>
            <a:off x="2286000" y="4560840"/>
            <a:ext cx="142092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iniBand Verbs /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2"/>
          <p:cNvSpPr/>
          <p:nvPr/>
        </p:nvSpPr>
        <p:spPr>
          <a:xfrm>
            <a:off x="3243240" y="4255920"/>
            <a:ext cx="457200" cy="23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9"/>
          <p:cNvSpPr/>
          <p:nvPr/>
        </p:nvSpPr>
        <p:spPr>
          <a:xfrm>
            <a:off x="6095880" y="3581280"/>
            <a:ext cx="129564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SI Di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1"/>
          <p:cNvSpPr/>
          <p:nvPr/>
        </p:nvSpPr>
        <p:spPr>
          <a:xfrm>
            <a:off x="7620120" y="237636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bhba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2"/>
          <p:cNvSpPr/>
          <p:nvPr/>
        </p:nvSpPr>
        <p:spPr>
          <a:xfrm>
            <a:off x="7620120" y="2666880"/>
            <a:ext cx="106668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fco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6"/>
          <p:cNvSpPr/>
          <p:nvPr/>
        </p:nvSpPr>
        <p:spPr>
          <a:xfrm>
            <a:off x="304920" y="6019920"/>
            <a:ext cx="853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7"/>
          <p:cNvSpPr/>
          <p:nvPr/>
        </p:nvSpPr>
        <p:spPr>
          <a:xfrm>
            <a:off x="304920" y="4941720"/>
            <a:ext cx="8534160" cy="11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8"/>
          <p:cNvSpPr/>
          <p:nvPr/>
        </p:nvSpPr>
        <p:spPr>
          <a:xfrm>
            <a:off x="304920" y="392436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89"/>
          <p:cNvSpPr/>
          <p:nvPr/>
        </p:nvSpPr>
        <p:spPr>
          <a:xfrm>
            <a:off x="304920" y="3166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0"/>
          <p:cNvSpPr/>
          <p:nvPr/>
        </p:nvSpPr>
        <p:spPr>
          <a:xfrm>
            <a:off x="304920" y="60958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1"/>
          <p:cNvSpPr/>
          <p:nvPr/>
        </p:nvSpPr>
        <p:spPr>
          <a:xfrm>
            <a:off x="304920" y="55627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2"/>
          <p:cNvSpPr/>
          <p:nvPr/>
        </p:nvSpPr>
        <p:spPr>
          <a:xfrm>
            <a:off x="304920" y="42940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d-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3"/>
          <p:cNvSpPr/>
          <p:nvPr/>
        </p:nvSpPr>
        <p:spPr>
          <a:xfrm>
            <a:off x="304920" y="324648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pper Layer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4"/>
          <p:cNvSpPr/>
          <p:nvPr/>
        </p:nvSpPr>
        <p:spPr>
          <a:xfrm>
            <a:off x="380880" y="260496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5"/>
          <p:cNvSpPr/>
          <p:nvPr/>
        </p:nvSpPr>
        <p:spPr>
          <a:xfrm>
            <a:off x="4114800" y="31240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Kerne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6"/>
          <p:cNvSpPr/>
          <p:nvPr/>
        </p:nvSpPr>
        <p:spPr>
          <a:xfrm>
            <a:off x="4162320" y="29113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User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3"/>
          <p:cNvSpPr/>
          <p:nvPr/>
        </p:nvSpPr>
        <p:spPr>
          <a:xfrm>
            <a:off x="380880" y="1630440"/>
            <a:ext cx="110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3"/>
          <p:cNvSpPr/>
          <p:nvPr/>
        </p:nvSpPr>
        <p:spPr>
          <a:xfrm>
            <a:off x="2286000" y="4265640"/>
            <a:ext cx="380880" cy="23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9"/>
          <p:cNvSpPr/>
          <p:nvPr/>
        </p:nvSpPr>
        <p:spPr>
          <a:xfrm>
            <a:off x="6097680" y="1614600"/>
            <a:ext cx="60804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1"/>
          <p:cNvSpPr/>
          <p:nvPr/>
        </p:nvSpPr>
        <p:spPr>
          <a:xfrm>
            <a:off x="6858000" y="1614600"/>
            <a:ext cx="6094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Blo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tor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3"/>
          <p:cNvSpPr/>
          <p:nvPr/>
        </p:nvSpPr>
        <p:spPr>
          <a:xfrm>
            <a:off x="304920" y="1523880"/>
            <a:ext cx="8534160" cy="495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2411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24"/>
          <p:cNvSpPr/>
          <p:nvPr/>
        </p:nvSpPr>
        <p:spPr>
          <a:xfrm>
            <a:off x="304920" y="23004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1"/>
          <p:cNvSpPr/>
          <p:nvPr/>
        </p:nvSpPr>
        <p:spPr>
          <a:xfrm>
            <a:off x="3816360" y="5410080"/>
            <a:ext cx="831960" cy="257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LX4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1"/>
          <p:cNvSpPr/>
          <p:nvPr/>
        </p:nvSpPr>
        <p:spPr>
          <a:xfrm>
            <a:off x="2286000" y="5411880"/>
            <a:ext cx="1414440" cy="257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LX4 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08600" y="5326200"/>
            <a:ext cx="1887480" cy="34740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lx4_f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1"/>
          <p:cNvSpPr/>
          <p:nvPr/>
        </p:nvSpPr>
        <p:spPr>
          <a:xfrm>
            <a:off x="5808600" y="4952880"/>
            <a:ext cx="646200" cy="3733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mlx4_fci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316240" y="4191120"/>
            <a:ext cx="138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3997440"/>
            <a:ext cx="0" cy="9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94120" y="4017960"/>
            <a:ext cx="0" cy="150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2960" y="4006800"/>
            <a:ext cx="2960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1"/>
          <p:cNvSpPr/>
          <p:nvPr/>
        </p:nvSpPr>
        <p:spPr>
          <a:xfrm>
            <a:off x="6097680" y="4218120"/>
            <a:ext cx="1293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si mid-la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5326200"/>
            <a:ext cx="609480" cy="352440"/>
          </a:xfrm>
          <a:prstGeom prst="rect">
            <a:avLst/>
          </a:prstGeom>
          <a:solidFill>
            <a:srgbClr val="cc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fc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5326200"/>
            <a:ext cx="609480" cy="352440"/>
          </a:xfrm>
          <a:prstGeom prst="rect">
            <a:avLst/>
          </a:prstGeom>
          <a:solidFill>
            <a:srgbClr val="cc9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1"/>
          <p:cNvSpPr/>
          <p:nvPr/>
        </p:nvSpPr>
        <p:spPr>
          <a:xfrm>
            <a:off x="7621560" y="4218120"/>
            <a:ext cx="10652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c_scsi_trans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9"/>
          <p:cNvSpPr/>
          <p:nvPr/>
        </p:nvSpPr>
        <p:spPr>
          <a:xfrm>
            <a:off x="7620120" y="1600200"/>
            <a:ext cx="106668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9"/>
          <p:cNvSpPr/>
          <p:nvPr/>
        </p:nvSpPr>
        <p:spPr>
          <a:xfrm>
            <a:off x="6095880" y="3276720"/>
            <a:ext cx="804960" cy="24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1"/>
          <p:cNvSpPr/>
          <p:nvPr/>
        </p:nvSpPr>
        <p:spPr>
          <a:xfrm>
            <a:off x="3836880" y="4599000"/>
            <a:ext cx="81144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 de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294080"/>
            <a:ext cx="0" cy="103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266720" y="429408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4295880"/>
            <a:ext cx="0" cy="303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548640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696080" y="548496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629400" y="452268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381880" y="4522680"/>
            <a:ext cx="0" cy="80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2"/>
          <p:cNvSpPr/>
          <p:nvPr/>
        </p:nvSpPr>
        <p:spPr>
          <a:xfrm>
            <a:off x="6574680" y="4506840"/>
            <a:ext cx="112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queuecomma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don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54800" y="2224080"/>
            <a:ext cx="0" cy="10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64360" y="2224080"/>
            <a:ext cx="0" cy="13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Discovery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39E5-3E35-4A75-8940-702E63824DC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0880" y="1709640"/>
          <a:ext cx="8382240" cy="446400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CoE (open-fcoe.org mode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6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Co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c6fbd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 stack affects FCoE st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config up/down, mtu change, 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C stack depends on IB, but IB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actions don’t influence FC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al vHBA cre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ho eth3.200 &gt; /sys/…/cre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matic vHBA cre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le vHBA per {port,vlan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y vHBAs per {port,pkey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P embedded in vH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P controls creation/destruction of vH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P selects a single GW (highest prio) on each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P can create mul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le vHBAs (e.g.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e per G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d on policy o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LANs discovery implemented in user-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emon should create the vlan interface and then vH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Key discovery from kernel-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the same FIP modu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ag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the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probe mlx4_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is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 /dev/sda2 /my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liranl</cp:lastModifiedBy>
  <dcterms:modified xsi:type="dcterms:W3CDTF">2010-03-17T17:22:29Z</dcterms:modified>
  <cp:revision>100</cp:revision>
  <dc:subject/>
  <dc:title>Slide 1</dc:title>
</cp:coreProperties>
</file>