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AF2-1DBF-4D08-BF7A-61FD93F6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37E-B993-4039-8BC2-5212C5E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E20-CBDF-48FD-9CE4-C5DE68F9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8C9-2780-4429-85C1-8D0D4115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3EA8-EE3A-430F-9FB9-A90EDE73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A78D-B1C8-44BE-BE58-4BAD5049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5FB7-19C5-422A-BFFB-501813C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F656-0F7A-4C4C-AFF0-82AB7B2A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ED82-EA36-42E0-BF0C-3B1508AC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0F72-26D8-45CE-A7E1-C2B1F06B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99A-6227-4D1B-BA3E-6BEBBEF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2B15-F9F0-4125-9D1C-34164D55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649B-1D73-4F79-9075-EA9458B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325F-6C25-408D-8B47-B62C17E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1D4C-138F-479E-B706-9FE34A17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D4C6-EF74-44CB-88C8-209654DE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B2CD-D7D6-456A-9B76-CF1C7F68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8EA-0EB6-4CEB-80A4-099870BF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2F3-20ED-47EE-8D05-126B8CF7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0857-4B2B-4DD0-9507-AEDF5625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A94-591F-4C10-A351-5F7B9EF7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E42-8585-4BC5-B42F-6AA680E0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390-AD74-455D-B3D2-2BFC2E94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C07-29ED-4C7B-B42E-8BAC538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70A72-3086-48A6-BA3C-D5A0E8F7B385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EC292-7A14-4E5D-AF93-569F702EFFF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479D8-DBBF-4518-95CA-9089B0EA6FA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A5162-39DD-4169-983A-9E02A80852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thernetalliance.org/files/static_page_files/281AD8C4-1D09-3519-AD7AD835AD525E36/SC09 white paper.pd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g7ZebT_BbA&amp;feature=player_embedded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WARP Market Updat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C123B-52F8-4896-8D6C-E015F973C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vid Fair, 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Chair, Ethernet Alliance iWARP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7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arket Trends Favorable To RDMA Over Etherne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1904760"/>
            <a:ext cx="8686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atic decline in the cost of 10GbE, enabling, for example, 10GbE 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e of dense, cost-effective 10Gb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 traction with the vision of “Unified Fabri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B showed Ethernet could supply the QoS required for F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64B0F-9EB8-441B-8C59-7A794182D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Alliance Engages To Support iWARP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v09, the Ethernet Alliance formed an iWARP Working Group as part of the Ethernet-in-the-Datacenter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ing companies Broadcom, Chelsio Communication, Cisco, Intel, and Q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by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Alliance showed iWARP in its Super Computing ‘09 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“Ethernet: THE Converged Network”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thernetalliance.org/files/static_page_files/281AD8C4-1D09-3519-AD7AD835AD525E36/SC09%20white%20paper.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05E494-D0B8-4FD9-B11C-305848ECF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dfair\My Documents\Graphics &amp; Images\Logos\EA Logos\ea-logo-3a.gif"/>
          <p:cNvPicPr/>
          <p:nvPr/>
        </p:nvPicPr>
        <p:blipFill>
          <a:blip r:embed="rId2"/>
          <a:stretch/>
        </p:blipFill>
        <p:spPr>
          <a:xfrm>
            <a:off x="6985080" y="2664000"/>
            <a:ext cx="1879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thernet Alliance iWARP Activiti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iWARP Working Group is currently developing an educational video showing end-user value, explaining iWARP, and describing the maturity of its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 iWARP WG will continue to focus on market development but could also become a forum for developing proposed advancements to IETF’s iWARP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E8910-FF14-445C-BBB3-EBBD9C7D5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ecent Notable iWARP Deployments And Development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SE market data system video “SC09: Data Distribution at iWARP Speed”: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youtube.com/watch?v=Pg7ZebT_BbA&amp;feature=player_embed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dical research application described by Tom Stachura prior to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due University installation described in Chelsio’s flyer in the lob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Research contributes “soft iWARP” to 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F5A4D-4565-4A2B-8477-CE4E5D1C8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dditional Applications Deploying iWARP Toda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l &amp; G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oir simulation an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smic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uto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al Fluid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sh Simulation, Pam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re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Data Feed (MD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2B369-BF79-43E3-B268-3F6A13BB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dfair</cp:lastModifiedBy>
  <dcterms:modified xsi:type="dcterms:W3CDTF">2010-03-17T15:51:50Z</dcterms:modified>
  <cp:revision>48</cp:revision>
  <dc:subject/>
  <dc:title>Slide 1</dc:title>
</cp:coreProperties>
</file>