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DED-8AFC-48A6-AA35-A2890EBA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6FC-C274-4E9E-9A08-8F5582EA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C907-526B-4998-BBE3-F03AA824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BB3-AA7E-4756-83A9-97FDC5A8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D0CF-F720-4993-AB00-2E8BF498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024-8572-44FE-BACA-51E5A1A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93B-07F4-45C3-B9C0-A8174B6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C27D-0CD6-4C45-BC57-E646F56B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38FA-4990-4C29-AB87-BFD46E14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F83A-F75D-4B01-9922-2D440A07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7C0-818E-4D72-953E-C6E0715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27E-6145-4561-A98F-443BA7F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D982-58E7-41B4-A430-7C23AE8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8169-DB1D-4CCE-B78E-031B07E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110-9433-4DF0-A642-6DCD642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061C-CFE5-4839-ADE4-A66C1255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3BCD-092A-4615-B640-CB1B7B6A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CA7-2640-42CD-BFDB-710F9CE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BC7-808C-430D-A19C-636257B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49D-0D9B-46C8-B337-B106DF11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F7C-5367-4CB8-B1D9-0A70E461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4E3-0EED-4E41-84D2-02894FC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B7A-3BD4-487D-ADE5-8DED492D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B82-8C44-4655-85F4-948E511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AB75E-7494-495F-A92D-71840DBF8E3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E359C-5361-46D9-8B83-4A02D490E93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01869-A8C4-489D-BBFD-FCF4A7007FCD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9C6E8-9B87-487A-B1E6-E77E8716141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A Workshop Wrap-up, feedback and action item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Hope you had a good time – how did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BF97D-5FFD-43DB-955B-DCE9D83E1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Jim Ryan, Chairman,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the Workshop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echnical conten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Steve, this will only happen if the technical community gets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suggestion to use the second half of the last day to do a BoF instead of SC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int was they weren’t panels, for the most part, in that speakers didn’t interact. They just offered thoughts 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ame time, panelists couldn’t be open in their remarks, in some cases, because they were competitors in addressing the subject, e.g., Exa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571FDE-1D6E-4C0D-99E2-F87E45879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the Workshop (cont’d)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lanyards for name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names on the tags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intern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to a Tuesday-Wednesday-Thursday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y of a move to Monter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young people – look into some sort of student internships. Possibly approach DK for ideas or direct participation on the part of some of his gra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9A07E-E048-422B-8E4F-93C7DFB35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OFA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thoughts from Carl on promoting IBA-based storage. I’d like to understand how to support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d the interop/logo program, at least for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dopted the SWOT results and agreed to the next stage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 some sort of “Technology Advisory Board”, akin to what the Linux Foundation and some other groups have. Ask Lloyd Dickman to provide some initial thoughts. Purpose: investigate competing and futur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8A342E-E61B-48C8-9651-678C1A9F8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ExaScale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ake-away was that it will require profound changes to virtually al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urprised me was there may be challenges to RDMA in the “PetaScale era”, per Lloyd’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78526-9B2D-4C7B-B98C-67C57DB4E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eedback on New/Competing Technologie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EE i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 a survey should be completed. Candidat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Q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alyp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21C65-412A-4E4B-B72A-44B4613FE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 Sponsor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12758-D178-46E3-9C2A-376C45FDD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228760" cy="1038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1981080" y="4203720"/>
            <a:ext cx="1828800" cy="158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"/>
          <p:cNvPicPr/>
          <p:nvPr/>
        </p:nvPicPr>
        <p:blipFill>
          <a:blip r:embed="rId4"/>
          <a:stretch/>
        </p:blipFill>
        <p:spPr>
          <a:xfrm>
            <a:off x="4734000" y="1981080"/>
            <a:ext cx="1819080" cy="1276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5"/>
          <a:stretch/>
        </p:blipFill>
        <p:spPr>
          <a:xfrm>
            <a:off x="4714920" y="3352680"/>
            <a:ext cx="1914480" cy="122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6"/>
          <a:stretch/>
        </p:blipFill>
        <p:spPr>
          <a:xfrm>
            <a:off x="4419720" y="4724280"/>
            <a:ext cx="260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yan, Jim</cp:lastModifiedBy>
  <dcterms:modified xsi:type="dcterms:W3CDTF">2010-03-19T14:25:22Z</dcterms:modified>
  <cp:revision>23</cp:revision>
  <dc:subject/>
  <dc:title>Slide 1</dc:title>
</cp:coreProperties>
</file>