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48A-3BB3-45F4-AC00-486AECC4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651-43C8-4477-BDB9-40156457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2E5-10D1-4C3E-AC6C-C9A753F2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0B3-5772-410D-9171-9DFF54C0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F6FC-6483-4229-80A4-B4D651F5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FFEC-4A89-4BFD-A201-CCC32129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B0B3-D4DF-472E-9375-E4C21733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2BD8-BC6F-4EDB-AEA3-5426099C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B35F-6B90-46F4-8470-DD483B32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80C1-71CF-4537-9FD8-01918FD9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AFEA-C1DE-4AD9-B749-03CDB82B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735-26F8-47C7-9406-2AA8D904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1B38-E43F-4F83-B5CC-E774A5EC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F38C-650C-46FB-9511-7C88D56A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107B-BCF5-4FA7-8F61-DBF1FE73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BCFD-3DF6-405C-B6EC-56F02C0B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108B-5B60-42F7-8010-5ECBCE9F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4D6-CFD4-4EF7-9467-D31DE57D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D32-2FE2-409A-B616-CCE23449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11D-1DF6-49AE-BD4D-B98542DC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32A-A0CF-4031-983F-F4DF8F5C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50D-989D-4046-9029-00ADACFC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04B-A695-408D-8106-A52F7B95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0F1-59A2-47F1-A059-9D2F06F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28B95-6934-438C-812D-8AA0AC33C9ED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5433F-9BF6-4796-805B-7E13CDD24BE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F5FB5-A44F-4A5B-AAA7-260D4F0A7467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A4256-6A03-4DBE-A50E-88E6EAD7EAD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thernetalliance.org/files/static_page_files/281AD8C4-1D09-3519-AD7AD835AD525E36/SC09 white paper.pd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g7ZebT_BbA&amp;feature=player_embedded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WARP Market Updat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85BA7-9621-4471-9D2A-2AA415CA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avid Fair,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Chair, Ethernet Alliance iWARP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7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arket Trends Favorable To RDMA Over Etherne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904760"/>
            <a:ext cx="8686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atic decline in the cost of 10GbE, enabling, for example, 10GbE 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e of dense, cost-effective 10Gb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traction with the vision of “Unified Fabri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B showed Ethernet could supply the QoS required for F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C10A2-5A3F-4DFB-A869-30DABAB3E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thernet Alliance Engages To Support iWARP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v09, the Ethernet Alliance formed an iWARP Working Group as part of the Ethernet-in-the-Datacenter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ing companies Broadcom, Chelsio Communication, Cisco, Intel, and Q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d by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Alliance showed iWARP in its Super Computing ‘09 b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“Ethernet: THE Converged Network”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thernetalliance.org/files/static_page_files/281AD8C4-1D09-3519-AD7AD835AD525E36/SC09%20white%20paper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DBB3E-12F3-4421-B5F4-CC2BDD4D1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dfair\My Documents\Graphics &amp; Images\Logos\EA Logos\ea-logo-3a.gif"/>
          <p:cNvPicPr/>
          <p:nvPr/>
        </p:nvPicPr>
        <p:blipFill>
          <a:blip r:embed="rId2"/>
          <a:stretch/>
        </p:blipFill>
        <p:spPr>
          <a:xfrm>
            <a:off x="6985080" y="2664000"/>
            <a:ext cx="1879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thernet Alliance iWARP Activiti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 iWARP Working Group is currently developing an educational video showing end-user value, explaining iWARP, and describing the maturity of its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 iWARP WG will continue to focus on market development but could also become a forum for developing proposed advancements to IETF’s iWARP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213BA-2A60-49BF-956C-037A0BB67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ecent Notable iWARP Deployments And Development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SE market data system video “SC09: Data Distribution at iWARP Speed”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youtube.com/watch?v=Pg7ZebT_BbA&amp;feature=player_embed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edical research application described by Tom Stachura prior to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due University installation described in Chelsio’s flyer in the 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Research contributes “soft iWARP” to 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C094A-07E6-43F6-9F2E-DA471326B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dditional Applications Deploying iWARP Toda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49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l &amp;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oir simulation and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smic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uto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al Fluid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sh Simulation, Pam Cr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Data Feed (M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B4449-B1E2-482A-A58D-E39614FE9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dfair</cp:lastModifiedBy>
  <dcterms:modified xsi:type="dcterms:W3CDTF">2010-03-17T15:51:50Z</dcterms:modified>
  <cp:revision>48</cp:revision>
  <dc:subject/>
  <dc:title>Slide 1</dc:title>
</cp:coreProperties>
</file>