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777-FED8-4706-AD5A-FB06D8DB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3E2-06CE-40E3-B47E-8F508EED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254-90EF-4336-AE44-F9E86EDB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A25-02D5-4CC2-A558-70EAD9F1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C443-58C6-4BA3-AC94-D3F98A74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711F-2DBD-4830-8097-E2B089AD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6DE7-0912-4315-BAD3-23531693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129E-5907-49C2-93EB-7EE0086F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BCBD-0529-41F4-AD18-A85EF756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F6AB-DBCA-45B8-8D92-6DA1B68C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06BF-B29A-4D5B-85AB-6AFE08B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643-657A-447A-AF90-C5D0848E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06AE-4035-4BD9-9E73-00883233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B986-E91B-46B7-BCA7-F705021E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73D5-1760-44E7-8FDA-A5330B7D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442B-3A07-42A7-A67F-B7BDF257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A03B-9E83-443A-A3BA-8F06F7AA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1DF-36D5-44D4-BAA8-DC8E60E1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0B9-B366-4C81-98AF-DD165FB0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A8B-D274-41A8-87A5-3B972CBD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D52-1817-4421-A5A0-F31F0563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C94-0165-4290-8CEA-F0E507B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466-F5ED-47F5-BAD7-E26FB7A7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113-6495-40DF-B364-F9141EAE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C8FDE-9EC5-430A-9E35-651EF884D749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D3B32-DBF9-4F2E-BBBD-6438178BFF2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DC0BF-3909-4177-90AA-ED704B308A48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D8BC4-614F-42BD-B02E-3680293CFF5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OFED Updat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3B303-3C0B-4CA8-AEB9-D3DEB3F70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Liran Liss, Mellanox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1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523880"/>
            <a:ext cx="8229600" cy="49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/OFED-1.5.1-20100316-0817 # ibv_devinf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ca_id: mlx4_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transport:                      InfiniBand (0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fw_ver:                         2.7.8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node_guid:                      0002:c903:0008:e79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sys_image_guid:                 0002:c903:0008:e79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vendor_id:                      0x02c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vendor_part_id:                 2642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hw_ver:                         0xB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board_id:                       MT_0DD012000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phys_port_cnt:                 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 port:  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tate:                  PORT_INIT (2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max_mtu:   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active_mtu: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m_lid:  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id: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mc:               0x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link_layer:             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:  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tate:                  PORT_ACTIVE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max_mtu:   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active_mtu:             1024 (3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m_lid:  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id: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mc:               0x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link_layer:             Ethern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6095880"/>
            <a:ext cx="121932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2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752480"/>
            <a:ext cx="8229600" cy="457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 20.4.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vconfig add eth2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ed VLAN with VID == 7 to IF -:eth2: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.7 20.4.3.21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cat /sys/class/infiniband/mlx4_0/ports/2/gids/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0000:0000:0000:0202:c9ff:</a:t>
            </a:r>
            <a:r>
              <a:rPr b="1" lang="en-US" sz="1200" spc="-1" strike="noStrike">
                <a:solidFill>
                  <a:srgbClr val="800080"/>
                </a:solidFill>
                <a:latin typeface="Courier New"/>
                <a:ea typeface="Courier New"/>
              </a:rPr>
              <a:t>f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cat /sys/class/infiniband/mlx4_0/ports/2/gids/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0000:0000:0000:0202:c900:</a:t>
            </a:r>
            <a:r>
              <a:rPr b="1" lang="en-US" sz="1200" spc="-1" strike="noStrike">
                <a:solidFill>
                  <a:srgbClr val="800080"/>
                </a:solidFill>
                <a:latin typeface="Courier New"/>
                <a:ea typeface="Courier New"/>
              </a:rPr>
              <a:t>0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8:e79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bv_rc_pingpong </a:t>
            </a:r>
            <a:r>
              <a:rPr b="1" lang="en-US" sz="1200" spc="-1" strike="noStrike">
                <a:solidFill>
                  <a:srgbClr val="3c6fbd"/>
                </a:solidFill>
                <a:latin typeface="Courier New"/>
                <a:ea typeface="Courier New"/>
              </a:rPr>
              <a:t>-g 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i 2 sw4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local address:  LID 0x0000, QPN 0x00004f, PSN 0xef4670, GID fe80::202:c9ff:fe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remote address: LID 0x0000, QPN 0x00004f, PSN 0xd454d5, GID fe80::202:c9ff:fe08:e81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92000 bytes in 0.01 seconds = 4807.51 Mbit/se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iters in 0.01 seconds = 13.63 usec/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bv_rc_pingpong </a:t>
            </a:r>
            <a:r>
              <a:rPr b="1" lang="en-US" sz="1200" spc="-1" strike="noStrike">
                <a:solidFill>
                  <a:srgbClr val="3c6fbd"/>
                </a:solidFill>
                <a:latin typeface="Courier New"/>
                <a:ea typeface="Courier New"/>
              </a:rPr>
              <a:t>-g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i 2 sw4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local address:  LID 0x0000, QPN 0x04004f, PSN 0xe10208, GID fe80::202:c900:7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remote address: LID 0x0000, QPN 0x04004f, PSN 0x9b281b, GID fe80::202:c900:708:e81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92000 bytes in 0.01 seconds = 4857.40 Mbit/se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iters in 0.01 seconds = 13.49 usec/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4114800"/>
            <a:ext cx="121932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3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2057400"/>
            <a:ext cx="8229600" cy="3505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 20.4.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root@mtlsqt124 ~]# rds-stress -s 11.4.5.125 -q 4096 -t 2 -d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ecting to 11.4.5.125:40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gotiated options, tasks will start in 2 secon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ing up..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sks   tx/s   rx/s  tx+rx K/s    mbi K/s    mbo K/s tx us/c   rtt us cpu %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40137  40126  322928.84       0.00       0.00   10.91   156.89 -0.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971  39987  324128.14       0.00       0.00   10.03   157.00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7488  37575  304354.64       0.00       0.00   10.59   168.45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581  38604  312945.17       0.00       0.00   10.88   161.39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429  38473  311815.57       0.00       0.00   10.54   163.22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010  38856  315703.93       0.00       0.00   10.50   163.2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7104  37167  300838.65       0.00       0.00   10.27   170.9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761  39826  322698.14       0.00       0.00   10.78   159.99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787  38704  314205.64       0.00       0.00   10.69   161.82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40924  41002  332171.96       0.00       0.00   11.09   153.1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844  39012  315659.80       0.00       0.00   10.53   162.44 -1.00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4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graphicFrame>
        <p:nvGraphicFramePr>
          <p:cNvPr id="207" name="Text Placeholder 2"/>
          <p:cNvGraphicFramePr/>
          <p:nvPr/>
        </p:nvGraphicFramePr>
        <p:xfrm>
          <a:off x="457200" y="1700280"/>
          <a:ext cx="4648320" cy="31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0280"/>
                    <a:ext cx="464832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Text Placeholder 2"/>
          <p:cNvGraphicFramePr/>
          <p:nvPr/>
        </p:nvGraphicFramePr>
        <p:xfrm>
          <a:off x="3886200" y="2965320"/>
          <a:ext cx="4800600" cy="328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0" name="Text Placeholder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65320"/>
                    <a:ext cx="480060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295280" y="4343400"/>
            <a:ext cx="3810240" cy="2133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EE really rock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is RoCE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cke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rbs implic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nabling RoCEE in OF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velopment and Avail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oCEE in a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 is RoCEE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transport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light-weight transport, layered directly over Ethernet 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oE equivalent for high-performance IPC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advantage of DCB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C, ETS, and Q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communic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/unreliable connected/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and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Protocol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5900760"/>
            <a:ext cx="914400" cy="457200"/>
          </a:xfrm>
          <a:prstGeom prst="rect">
            <a:avLst/>
          </a:prstGeom>
          <a:solidFill>
            <a:srgbClr val="3c6f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/D/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M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724280"/>
            <a:ext cx="914400" cy="990720"/>
          </a:xfrm>
          <a:prstGeom prst="rect">
            <a:avLst/>
          </a:prstGeom>
          <a:solidFill>
            <a:srgbClr val="3c6f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724280"/>
            <a:ext cx="2666880" cy="9907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4038480"/>
            <a:ext cx="266688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038480"/>
            <a:ext cx="914400" cy="5335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352680"/>
            <a:ext cx="266688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523880"/>
            <a:ext cx="106668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57913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6483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280" y="6043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3840" y="5052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11120" y="4214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11120" y="34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39625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32767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301920"/>
            <a:ext cx="0" cy="13464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3276720"/>
            <a:ext cx="28195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0" cy="6858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3949560"/>
            <a:ext cx="0" cy="6858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648320"/>
            <a:ext cx="9907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648320"/>
            <a:ext cx="0" cy="175248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6400800"/>
            <a:ext cx="28195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4648320"/>
            <a:ext cx="0" cy="175248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4648320"/>
            <a:ext cx="9907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352680"/>
            <a:ext cx="914400" cy="5335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1523880"/>
            <a:ext cx="251460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13372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5160" y="2286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o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2514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2843280"/>
            <a:ext cx="266688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Packe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6880" y="2133720"/>
            <a:ext cx="143208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2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75240" y="2133720"/>
            <a:ext cx="16178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98960" y="2133720"/>
            <a:ext cx="12207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3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2133720"/>
            <a:ext cx="76212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2133720"/>
            <a:ext cx="8380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08560" y="2133720"/>
            <a:ext cx="1066680" cy="6858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4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99000" y="3867120"/>
            <a:ext cx="16178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3867120"/>
            <a:ext cx="129384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10360" y="3867120"/>
            <a:ext cx="8380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32320" y="3867120"/>
            <a:ext cx="1066680" cy="6858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48440" y="3867120"/>
            <a:ext cx="762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14680" y="3867120"/>
            <a:ext cx="7999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879720"/>
            <a:ext cx="646200" cy="6829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C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520" y="2222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280" y="3952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886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4680" y="2886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Verbs Implic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complian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D-based ad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 field i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ed with link-local address corresponding to port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Q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0 i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1 is used for conn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other mad services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nnection Managemen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i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DMA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P stack used to resolve remote IP to DMAC and bind to outgoing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N determined according to bound net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EE device selected according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parameters (MTU, SL, timeout) obtained locally according to kerne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proceeds with CM as in 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only with Verbs also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1828800"/>
            <a:ext cx="6248160" cy="4038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1828800"/>
            <a:ext cx="1447560" cy="403848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362320"/>
            <a:ext cx="2743200" cy="76176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nabling RoCEE in OFED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029200"/>
            <a:ext cx="419112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362320"/>
            <a:ext cx="2971800" cy="76176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uRDMA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3886200"/>
            <a:ext cx="2133720" cy="38088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RDMA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4267080"/>
            <a:ext cx="2743200" cy="38124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4648320"/>
            <a:ext cx="4191120" cy="38088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Ib_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743200"/>
            <a:ext cx="190476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libmlx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390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u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6095880"/>
            <a:ext cx="7238880" cy="38124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429000"/>
            <a:ext cx="27432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RDMA UL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981080"/>
            <a:ext cx="723888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27672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94360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312408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31240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3124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5410080"/>
            <a:ext cx="5715000" cy="38124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5029200"/>
            <a:ext cx="91440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429000"/>
            <a:ext cx="914400" cy="160020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5181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2390760"/>
            <a:ext cx="0" cy="103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181480"/>
            <a:ext cx="1219320" cy="609840"/>
          </a:xfrm>
          <a:prstGeom prst="wedgeRoundRectCallout">
            <a:avLst>
              <a:gd name="adj1" fmla="val 108462"/>
              <a:gd name="adj2" fmla="val -5078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Synch state with Eth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657600"/>
            <a:ext cx="1524240" cy="457200"/>
          </a:xfrm>
          <a:prstGeom prst="wedgeRoundRectCallout">
            <a:avLst>
              <a:gd name="adj1" fmla="val 75208"/>
              <a:gd name="adj2" fmla="val 20381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itional RoCEE port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133720"/>
            <a:ext cx="1143000" cy="914400"/>
          </a:xfrm>
          <a:prstGeom prst="wedgeRoundRectCallout">
            <a:avLst>
              <a:gd name="adj1" fmla="val -137361"/>
              <a:gd name="adj2" fmla="val 152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RoCEE device binding + address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1554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TCP/IP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1554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OFED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133720"/>
            <a:ext cx="1523880" cy="457200"/>
          </a:xfrm>
          <a:prstGeom prst="wedgeRoundRectCallout">
            <a:avLst>
              <a:gd name="adj1" fmla="val 85208"/>
              <a:gd name="adj2" fmla="val 12048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ress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31240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evelopment and Availabilit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762012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0: Initial version, RoCEE flows in SA handled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3: Separate RoCEE SA emulation code from 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4: Removed all SA emulation code altogether; CMA enhanced to support RoCEE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: code simplifications; remove user-space MA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7: loopback support; introduce ‘link-layer’ port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8: add VLAN support; rebase to 2.6.33-r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in separat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part of OFED-1.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qual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tes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liranl</cp:lastModifiedBy>
  <dcterms:modified xsi:type="dcterms:W3CDTF">2010-03-17T15:42:44Z</dcterms:modified>
  <cp:revision>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